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E616-AA02-4EA0-8806-CE9678DBD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7502-0F59-4CD3-AE45-C6C6051A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6BE4-359D-45C2-8F3D-3358CAE03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6ADA-319C-4581-9665-838F148E9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A167-AA7E-4CD8-ACC3-4CB97D64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AA5A-DFE3-4DC5-A411-A477B1C0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9DD7-F84D-4830-9F2A-49A67251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FD04-2F35-4B89-87DF-03A4F9CE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B8EE-6EB2-4D7B-85F8-BB7B8B27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E3AE-48B9-44A1-8EF9-1ACB8EAC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16F0-E489-4CEE-B457-C7A1E460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56C3-176D-4AB9-92EE-740FC242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3FA1-D9F6-457C-B183-9D3343E4A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52680" y="2743200"/>
            <a:ext cx="5715000" cy="380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320" y="6400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36440" y="38088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可爱的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429000" y="1362240"/>
            <a:ext cx="57150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3F6C-C25B-4998-8E71-2C35FD5D02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81280" y="2075040"/>
            <a:ext cx="556272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429000" y="2790720"/>
            <a:ext cx="57150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29000" y="2895480"/>
            <a:ext cx="5715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29000" y="2867040"/>
            <a:ext cx="571500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094360" y="1938240"/>
            <a:ext cx="404964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29000" y="2371680"/>
            <a:ext cx="57150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429000" y="2171880"/>
            <a:ext cx="571500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379760" y="1752480"/>
            <a:ext cx="4764240" cy="5105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55640" y="162864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6T08:42:1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0:11:31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