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2FB-9C2C-415A-9F68-ECB38AC6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434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46240"/>
            <a:ext cx="75434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888-DF08-4C9A-89B5-BC44F718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4624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7440" y="384624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C2C-D36A-4265-B3D9-3BF23C21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72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368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72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368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4C7-9E75-437B-95DD-5C0B6534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93A7-3372-4960-981B-1D8D3808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75434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A89B-1F73-4195-8B18-7AAB924A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434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2469-8C01-4F9B-870D-A44724FF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2D2C-4D8A-47B9-B4BC-22DEDDD1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ADBA-625F-495B-B71D-6A179E52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63241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8430-2E59-4D50-8D1A-5B1D56BA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84624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02F2-4BB4-4DE0-898E-ACDFF50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75434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FF0-8291-4034-8DA7-3B683C5B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7440" y="384624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30DA-37C2-4244-A90A-02EA0FDC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846240"/>
            <a:ext cx="75434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D2FD-A61E-4726-AC8C-2F24C7ED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434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846240"/>
            <a:ext cx="75434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51E6-BA7B-471F-AABB-54FAB481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84624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7440" y="384624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450C-2415-4688-9FC2-1E7D8D0B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272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6368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272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6368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C255-B524-4CB7-BB61-4A7942DD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38153-F513-4B69-A796-AFF501FB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75434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9AD3-A85F-43FA-9D83-811AE88F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434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EA36-AF52-44A3-BB9E-81E3B006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A7E6-651B-41AB-974B-7AAD8E03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B9317-B90F-4854-90F2-D4A5457A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434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6DD-7821-4DD6-8BEF-4CC5175A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63241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AA1F-A6EB-4FAC-A278-EAD4FA7F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384624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E7FB-3436-49AB-A603-03CB3981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27440" y="384624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1F979-57CD-475B-B48F-86794685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846240"/>
            <a:ext cx="75434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B019A-F058-4955-836F-C04AFC0E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434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3846240"/>
            <a:ext cx="75434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31AF-97B6-4653-BBDB-DD1D1322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384624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27440" y="384624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4EB7-1A2C-464E-B81F-32BFFA63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272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6368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272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86368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84CD-BBD7-40B7-BB2F-43624BB2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1FB-FBB4-4A3A-9424-0D4DDB66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0A5-C51A-4788-A039-15CDBA63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63241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A9C-C448-4CE0-83E4-4BC47231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4624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0EA-45CB-4D80-9A80-00AD5DD6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7440" y="384624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B7B-0D8B-4327-8C66-491B564D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7440" y="1219320"/>
            <a:ext cx="3681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46240"/>
            <a:ext cx="75434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6BD-78F4-4BAA-A878-A67E518E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480024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zh-CN" sz="3600" spc="-1" strike="noStrike">
                <a:solidFill>
                  <a:srgbClr val="000000"/>
                </a:solidFill>
                <a:latin typeface="Arial Black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6320" y="6629400"/>
            <a:ext cx="2133360" cy="15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629400"/>
            <a:ext cx="2895120" cy="15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34320" y="6629400"/>
            <a:ext cx="2133360" cy="15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34CAB0-1275-4C68-B2D3-8EDBE78DDB9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5f5f5f"/>
                </a:solidFill>
                <a:latin typeface="Arial Black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219320"/>
            <a:ext cx="3695400" cy="5028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Char char="»"/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10160" y="1219320"/>
            <a:ext cx="3695400" cy="5028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Char char="»"/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76320" y="6626160"/>
            <a:ext cx="2133360" cy="15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626160"/>
            <a:ext cx="2895120" cy="15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934320" y="6626160"/>
            <a:ext cx="2133360" cy="15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7E20E0-B4FA-4B41-91BC-3FDF6FED044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5f5f5f"/>
                </a:solidFill>
                <a:latin typeface="Arial Black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62120" y="1219320"/>
            <a:ext cx="7543440" cy="5028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Char char="»"/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76320" y="6626160"/>
            <a:ext cx="2133360" cy="15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626160"/>
            <a:ext cx="2895120" cy="15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934320" y="6626160"/>
            <a:ext cx="2133360" cy="15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B88D38-D48E-47AD-824A-5EABC5838FE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480024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FROG TARG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666880" y="990720"/>
            <a:ext cx="426672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1777320" y="157824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昆虫类背景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Your Main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6476760" cy="5028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fly"/>
          <p:cNvPicPr/>
          <p:nvPr/>
        </p:nvPicPr>
        <p:blipFill>
          <a:blip r:embed="rId1"/>
          <a:stretch/>
        </p:blipFill>
        <p:spPr>
          <a:xfrm>
            <a:off x="843120" y="1219320"/>
            <a:ext cx="52812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43440" cy="5028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-24120" y="63439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rog_target">
  <a:themeElements>
    <a:clrScheme name="frog_targe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rog_target">
  <a:themeElements>
    <a:clrScheme name="frog_targe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frog_target">
  <a:themeElements>
    <a:clrScheme name="frog_target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rog_target</Template>
  <TotalTime>0</TotalTime>
  <Application>LibreOffice/7.4.7.2$Linux_X86_64 LibreOffice_project/40$Build-2</Application>
  <AppVersion>15.0000</AppVersion>
  <Words>44</Words>
  <Paragraphs>7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02:04:08Z</dcterms:created>
  <dc:creator>微软中国</dc:creator>
  <dc:description/>
  <dc:language>en-US</dc:language>
  <cp:lastModifiedBy>王玉清</cp:lastModifiedBy>
  <dcterms:modified xsi:type="dcterms:W3CDTF">2016-03-02T10:28:00Z</dcterms:modified>
  <cp:revision>3</cp:revision>
  <dc:subject/>
  <dc:title>FROG TARG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