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12BD-D33C-4BDF-860B-264CDAFA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E28-DBE7-4582-9E4E-BAF9D457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838-7E89-4689-ABB5-01F24BA4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868D-B7DE-4BB0-B89F-BAC6E14E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604C-1709-46E9-A9B6-D8559A99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1D7-DCD8-49E9-842E-1E81F166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3A69-BC9E-4057-A9B3-49BCFB4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01E-364E-4A76-9138-4AE6DF0E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704-0D4E-4A70-892C-AA2E2331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1E6-21AD-4235-A4B8-E78D7C6F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2F5E-7C7C-4F3B-9255-F0E24AD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B00-2378-4DA6-87DA-D98E3CFC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BAC7-B964-409A-944E-849E001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A8D-60AB-4A6A-9022-C12832AC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42FE-CAB3-4101-BF1C-FF5293C7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426B-55F4-4268-A118-28F9F4D0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1F81-586D-4F29-9F47-F737D245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00C-A522-4938-B67C-B4746B47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54A-9536-4C43-B0E4-EA362283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7F3-8AD3-427A-B30D-5A65687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2F9-2E02-4118-BE75-1AB555B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D47-3FD8-4AFF-9918-B2B985D1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75C-F761-4473-8EA1-1FFF97C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628A-A734-4A76-A2C6-4830D8C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b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AF80-66FC-46B4-9560-47D4582807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4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403848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0" descr="232_a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069-4F5A-4968-A03B-25EE436679CA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2356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科幻电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5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1652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11"/>
            <p:cNvSpPr/>
            <p:nvPr/>
          </p:nvSpPr>
          <p:spPr>
            <a:xfrm>
              <a:off x="2438280" y="23619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Group 7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01" name="AutoShape 8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9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14"/>
            <p:cNvSpPr/>
            <p:nvPr/>
          </p:nvSpPr>
          <p:spPr>
            <a:xfrm>
              <a:off x="2438280" y="327636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19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20"/>
              <p:cNvSpPr/>
              <p:nvPr/>
            </p:nvSpPr>
            <p:spPr>
              <a:xfrm>
                <a:off x="1873080" y="35989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1652d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Line 25"/>
            <p:cNvSpPr/>
            <p:nvPr/>
          </p:nvSpPr>
          <p:spPr>
            <a:xfrm>
              <a:off x="2438280" y="41684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26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7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34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Group 21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17" name="AutoShape 22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23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>
                <a:off x="1873080" y="4513320"/>
                <a:ext cx="663840" cy="574200"/>
              </a:xfrm>
              <a:prstGeom prst="hexagon">
                <a:avLst>
                  <a:gd name="adj" fmla="val 28897"/>
                  <a:gd name="vf" fmla="val 115470"/>
                </a:avLst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a4016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Line 28"/>
            <p:cNvSpPr/>
            <p:nvPr/>
          </p:nvSpPr>
          <p:spPr>
            <a:xfrm>
              <a:off x="2438280" y="508284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9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849320"/>
          <a:ext cx="7620120" cy="372096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9260"/>
            </a:gs>
            <a:gs pos="100000">
              <a:srgbClr val="0f3c2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23"/>
          <p:cNvGrpSpPr/>
          <p:nvPr/>
        </p:nvGrpSpPr>
        <p:grpSpPr>
          <a:xfrm>
            <a:off x="1086120" y="1420200"/>
            <a:ext cx="6667920" cy="4675320"/>
            <a:chOff x="1086120" y="1420200"/>
            <a:chExt cx="6667920" cy="4675320"/>
          </a:xfrm>
        </p:grpSpPr>
        <p:sp>
          <p:nvSpPr>
            <p:cNvPr id="128" name="Oval 4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rc 6"/>
            <p:cNvSpPr/>
            <p:nvPr/>
          </p:nvSpPr>
          <p:spPr>
            <a:xfrm rot="20601600">
              <a:off x="4101840" y="223308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rc 7"/>
            <p:cNvSpPr/>
            <p:nvPr/>
          </p:nvSpPr>
          <p:spPr>
            <a:xfrm flipH="1" rot="20602200">
              <a:off x="1508040" y="354600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rc 8"/>
            <p:cNvSpPr/>
            <p:nvPr/>
          </p:nvSpPr>
          <p:spPr>
            <a:xfrm rot="20601600">
              <a:off x="3346560" y="196164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rc 9"/>
            <p:cNvSpPr/>
            <p:nvPr/>
          </p:nvSpPr>
          <p:spPr>
            <a:xfrm flipH="1" rot="20602200">
              <a:off x="1307880" y="261396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 rot="20601600">
              <a:off x="2914920" y="286992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413532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13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6237360" y="316836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rc 15"/>
            <p:cNvSpPr/>
            <p:nvPr/>
          </p:nvSpPr>
          <p:spPr>
            <a:xfrm rot="20539200">
              <a:off x="4635360" y="317448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7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8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19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20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249260"/>
                </a:gs>
                <a:gs pos="100000">
                  <a:srgbClr val="11442c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1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3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b8f2b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5E9C-DCB0-427B-A394-8305862272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8:19:4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09:4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