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68F-4605-425C-94E4-CB7F33CB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F70-785A-4929-8528-D20600C5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C2A29-E08A-4953-84C8-4DD48A85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0C0BA-76DA-4BE6-8F2F-DA5A32E8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F26A3-9B68-4D70-89E5-7F1A4A47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6785B-5AEC-4D01-B5E7-B84BC66E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45BB9-A6D4-4EC2-85BB-B906827D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CDF85-8C67-40B1-A530-E7816630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4B8ED-E7CA-421D-A60F-29FBC4CE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08800-D0EE-4301-B993-545DF86D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DE862-B18C-4BD8-A857-2C08DF75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1320A-FFAE-4E20-A629-0E9AFB96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EF4-BDD4-4598-809C-0C7C9934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E6D8B-A0FA-4722-A408-67A1DB21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8840B-FB02-41C8-BCFD-AF70B3C3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7799A-EE50-4E3F-A605-9B68DB77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D8B83-0343-4148-9D68-1878A0C7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685C2-01B3-4BB3-8A6F-C2965000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B3331-82B6-4A35-8FF8-1A4A20C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7D7A1-EFD9-44D7-A83D-974BEE92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19854-5B57-4B8E-A0C3-1DF24729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27026-8C54-4319-8986-AA177A00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AFD65-5E4C-42C7-810F-5E3DC021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C2F-4974-4653-8CD0-DD01D2AB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ACFDB-42F8-40D0-A0AA-12D95AA3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835C4-DC55-4998-90F9-C1C66622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2FA50-BBA5-462D-8BF7-F7368335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9FC6A-4DAE-447D-AE6A-3CA2F8AB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F4229-B230-4A5D-9F1B-28F31946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975E1-2F8D-4FBB-8EB5-C5E0D62D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EB6EE-8C8D-4F46-9A50-89B16B87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33DAC-CF76-4881-BCFB-4C59790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ABBE5-9058-46FB-A73A-918DFA43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D35CF-7089-4C5A-97E8-3959A30F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6DD5-EF29-4FB5-A049-CA091E86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C6DF4-B425-4F3C-AFA3-92DD60C7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CF359-C3D4-4BDE-86A5-83BBB105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D977F-EFF6-4E7B-8B68-685A3561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4BB67-150B-48D1-AA50-7E9EAF73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CF3B0-165D-4160-997D-D4CBB223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708AA-17EA-4E62-93B6-538A2E1E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2FEDD-ED04-472F-8EC1-3335B3C4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79F09-19B3-4449-8D17-F4B81B76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2C5ED-CECF-4B3A-B191-DEB6CD20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4D1FE-FAB8-4F99-9E34-5271F07E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2F54-CA54-4875-8AFA-8B3A424A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E4F2C-1668-4881-93AC-23FFF430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DC286-A93E-4AEE-BCC7-911CAB56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BB232-6745-4716-B967-6EA41683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1292A-7FC6-45EB-9CB2-D9AC5479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B5926-2C38-44AD-B741-62775EB8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E5C5-A740-403E-9EF3-713B3E25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5F79-702F-4184-8058-8B125522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C737-D431-43CF-9E22-4068BBC9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C7A5-130E-4ACB-A8CC-C5F3D030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1386-8596-411C-B1F1-38F46C2C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23D-2F69-4717-8A78-8E8C056D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AD21-E55D-46C5-9AF7-6CA3303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BDFE-A86A-4A64-B957-ED227C1A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3CF4-C997-430E-AA5D-84F73F65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4B17-E2AA-43A1-B7B8-9DC684A2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B509-57C7-4CF4-ABB9-20C45BBF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93FC-EE20-43D1-999D-F9F7E52C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3BD1-39D8-4A46-998D-35226822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BD4B9-5592-40CB-BE33-550A37C4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878C-015C-4F52-9185-E278FF0F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19A9-83A5-40DE-8F1A-36C13878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640-3222-48AE-812F-A7038BAA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50AA-6E28-4DA5-8ED5-009A10F1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C035-DAAE-40DC-BE50-6632C29D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D5FA-7F93-44A6-A77E-4EF3EA3C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0F93-D878-40AF-BCE1-6B384FE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AC02-DB4E-44DC-BFC5-8785D14A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4F2F2-29F5-4BC6-9546-929BFB14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C796-7C1E-4CCA-8920-8F504B06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8820D-26AE-45EC-9209-DAA54D04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F685E-DCD3-462E-91F1-303BE0AD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47AC2-DD53-40DB-ABB9-61BBC7CD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027-DE16-4494-AD9C-64F32913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684B5-B450-49D5-BCA8-2C20BFB2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CD73-4607-42EA-8B1A-AC2A1CB5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99A33-EAD1-41FB-967D-40D94E1C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32483-1A5F-41D8-BBB2-9A21BDF8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7ED91-A630-49F9-9868-479E4ADD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82643-62E2-4A7C-8AC0-CEB0004B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C8BF2-6C78-4A43-A411-A48A1060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0D71-E4AD-47B1-BEA7-136B8272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5DE2-C090-48DB-BA8F-A83AD4F0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A6B9A-9A85-492E-8379-F92C54EA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EAC-A8F2-4EB6-B85C-074DA035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8CAFD-E496-42E4-9C55-A0FECB25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5681-127E-472B-8C26-CC2B0D6E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7D682-C182-413C-8AAD-3C4CA967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46312-F865-4DF4-AD2D-21BA49B9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FC98F-2F35-44A7-9736-7054617D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D7A4F-CE2E-4491-B9A7-39ED4E05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ECD8F-E372-46EF-9B4B-C7BE482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35D6E-B802-4997-B084-65C09FD5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E1EB1-44B5-44CD-8D2A-D16B34F6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9E3F-A9F2-47E6-9862-7781310A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C2D-9BAD-4440-ACE7-F85A51E7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DCACD-A8ED-4E31-BBE8-AF529950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62116-9EFC-4392-ACAF-985F2706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09625-BD0F-4061-9355-C66EE2ED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B38D3-8156-45C9-BFB7-6B9D1445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813D7-0750-47F4-94F3-BA59C903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D0334-34EA-4C5F-9CB8-2C9A2420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81222-0BFF-4EF5-AB2F-E85B6493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F4D0D-4BAF-410B-BBDB-BAC6ED6F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5BB68-E733-4B06-A84D-FA8E223F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74EA5-F0B2-456A-9DD1-093E105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53F-D52A-469A-9A4C-B21FA8E5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F6942-DAAC-4A2E-BD81-5421EE4B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3B472-3129-4423-8973-DC170F3F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A863D-9D24-4F98-B1A0-66C57621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DA209-ACCF-4190-BAC8-C90DE321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29E48-34F9-44EA-B074-887EFB6E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5754F-EBE9-4033-9213-7207600A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29EBE-06A0-467E-B643-195B1128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B0E1C-EAF4-4796-96B0-BF593A02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678C6-083B-43C6-9C9E-37A24AF4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28061-9867-4593-AFC5-4656552C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A4E-A406-4307-BBA4-9C83388E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E8334-0991-44D7-B039-83592EB9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0466F-6F2E-4A3F-9CF2-479D012E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0576A-C9AE-46F8-9173-6A5A5D48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DA208-009E-4A89-AD91-DCDE0E1A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33A2C-9D2C-4F0D-A536-5C96A7C5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EC474-98F2-4174-B2AA-F196671C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24CC8-E6CD-41BC-AAE7-8991AF44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79CF8-2831-4D7B-A986-6E4E301D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38D61-E8A7-4F2E-A145-E22A5BC2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9852-587D-4825-9B26-9926A0AF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7EC-705A-4898-A608-6FFAD68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69935-D497-4E6B-AD6C-3B5AA840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ED6C7-0B01-4B59-BCBA-5243F3D9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981E0-68F5-4A30-9144-ECB2095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04CB2-9DDB-483D-9F49-4A86BEFA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8A9D9-BC35-4BB7-B30C-53151A84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5DEF4-5E55-4F1E-A04C-F9592E64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44BAE-99D2-4AE0-8500-C72AE31B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7252A-641D-4912-931C-E2FB21A5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E5503-DE92-4E3F-B12C-46C4DFB0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D6840-5775-4AAF-845D-E9C3AB9E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853C-5E55-49C9-8886-C10861EA26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9288-AEAA-4A31-8432-ABB0ED3A59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4DB6-A648-42DA-9BDD-4DF0D4FF4D6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D5BE-890A-4E56-8E7E-190A100DBC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EC27-0098-478C-B794-1020697BA91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A25A-D502-49D7-82ED-7F41A86788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34FC-A049-47D9-A71A-770B23DFD3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03FB-FD76-4B46-BAC2-0A75953F7E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45E4-2364-47EA-9D13-30115FDB703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27EE-CC42-465A-9033-35B0CC2610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2381-58DE-4747-90E8-618ACFD0AE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6071-0D63-4E86-892D-CAB8D1F7CB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A0ED-42C9-4E7C-97BA-729E0B402D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41AB-4A5C-4962-BE6B-5DB469D0BC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2117-9887-4E06-A1D4-FDD0C3A12F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F32E-BEB3-4153-9090-5F582A4026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6750-89BA-464F-9ECF-21E6CD1867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E1CC-5317-4732-9D27-F936E0C15C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62A-CBBC-481F-AE54-F25C9FA0C02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3315-FFFF-4404-A48B-593F43982B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FED2-2C13-4D06-91CD-19FDB0D000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582A-FC5F-48FB-81EC-CF34B3D55D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7063-E195-4663-AE68-A09EE6DBC9E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081E-EF95-4840-B735-24AC29778E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915480" y="906480"/>
            <a:ext cx="3855600" cy="4865760"/>
            <a:chOff x="915480" y="906480"/>
            <a:chExt cx="3855600" cy="4865760"/>
          </a:xfrm>
        </p:grpSpPr>
        <p:grpSp>
          <p:nvGrpSpPr>
            <p:cNvPr id="493" name="Group 3"/>
            <p:cNvGrpSpPr/>
            <p:nvPr/>
          </p:nvGrpSpPr>
          <p:grpSpPr>
            <a:xfrm>
              <a:off x="3854520" y="5098320"/>
              <a:ext cx="347760" cy="284040"/>
              <a:chOff x="3854520" y="5098320"/>
              <a:chExt cx="347760" cy="284040"/>
            </a:xfrm>
          </p:grpSpPr>
          <p:sp>
            <p:nvSpPr>
              <p:cNvPr id="494" name="椭圆 7"/>
              <p:cNvSpPr/>
              <p:nvPr/>
            </p:nvSpPr>
            <p:spPr>
              <a:xfrm rot="837600">
                <a:off x="4011480" y="5115600"/>
                <a:ext cx="169560" cy="1947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直接连接符 9"/>
              <p:cNvSpPr/>
              <p:nvPr/>
            </p:nvSpPr>
            <p:spPr>
              <a:xfrm flipH="1">
                <a:off x="3854520" y="5265720"/>
                <a:ext cx="166680" cy="1166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椭圆 25"/>
            <p:cNvSpPr/>
            <p:nvPr/>
          </p:nvSpPr>
          <p:spPr>
            <a:xfrm>
              <a:off x="1941120" y="3599640"/>
              <a:ext cx="1783440" cy="217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Group 10"/>
            <p:cNvGrpSpPr/>
            <p:nvPr/>
          </p:nvGrpSpPr>
          <p:grpSpPr>
            <a:xfrm>
              <a:off x="915480" y="906480"/>
              <a:ext cx="3855600" cy="2956680"/>
              <a:chOff x="915480" y="906480"/>
              <a:chExt cx="3855600" cy="2956680"/>
            </a:xfrm>
          </p:grpSpPr>
          <p:sp>
            <p:nvSpPr>
              <p:cNvPr id="498" name="椭圆 55"/>
              <p:cNvSpPr/>
              <p:nvPr/>
            </p:nvSpPr>
            <p:spPr>
              <a:xfrm>
                <a:off x="2216520" y="928080"/>
                <a:ext cx="652320" cy="1060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椭圆 56"/>
              <p:cNvSpPr/>
              <p:nvPr/>
            </p:nvSpPr>
            <p:spPr>
              <a:xfrm>
                <a:off x="2869200" y="906480"/>
                <a:ext cx="652320" cy="1060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椭圆 57"/>
              <p:cNvSpPr/>
              <p:nvPr/>
            </p:nvSpPr>
            <p:spPr>
              <a:xfrm>
                <a:off x="2660400" y="1687320"/>
                <a:ext cx="417600" cy="5601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1" name="Group 16"/>
              <p:cNvGrpSpPr/>
              <p:nvPr/>
            </p:nvGrpSpPr>
            <p:grpSpPr>
              <a:xfrm>
                <a:off x="915480" y="1786320"/>
                <a:ext cx="1246680" cy="1202760"/>
                <a:chOff x="915480" y="1786320"/>
                <a:chExt cx="1246680" cy="1202760"/>
              </a:xfrm>
            </p:grpSpPr>
            <p:sp>
              <p:nvSpPr>
                <p:cNvPr id="502" name="直接连接符 58"/>
                <p:cNvSpPr/>
                <p:nvPr/>
              </p:nvSpPr>
              <p:spPr>
                <a:xfrm flipH="1" flipV="1">
                  <a:off x="978120" y="1786320"/>
                  <a:ext cx="1184040" cy="36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直接连接符 61"/>
                <p:cNvSpPr/>
                <p:nvPr/>
              </p:nvSpPr>
              <p:spPr>
                <a:xfrm flipH="1" flipV="1">
                  <a:off x="915480" y="2372040"/>
                  <a:ext cx="1184040" cy="10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直接连接符 63"/>
                <p:cNvSpPr/>
                <p:nvPr/>
              </p:nvSpPr>
              <p:spPr>
                <a:xfrm flipH="1">
                  <a:off x="994320" y="2801520"/>
                  <a:ext cx="1095840" cy="187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20"/>
              <p:cNvGrpSpPr/>
              <p:nvPr/>
            </p:nvGrpSpPr>
            <p:grpSpPr>
              <a:xfrm>
                <a:off x="3508920" y="1746000"/>
                <a:ext cx="1262160" cy="1184400"/>
                <a:chOff x="3508920" y="1746000"/>
                <a:chExt cx="1262160" cy="1184400"/>
              </a:xfrm>
            </p:grpSpPr>
            <p:sp>
              <p:nvSpPr>
                <p:cNvPr id="506" name="直接连接符 68"/>
                <p:cNvSpPr/>
                <p:nvPr/>
              </p:nvSpPr>
              <p:spPr>
                <a:xfrm>
                  <a:off x="3543840" y="2765160"/>
                  <a:ext cx="1227240" cy="165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直接连接符 69"/>
                <p:cNvSpPr/>
                <p:nvPr/>
              </p:nvSpPr>
              <p:spPr>
                <a:xfrm flipV="1">
                  <a:off x="3551760" y="2342160"/>
                  <a:ext cx="1185840" cy="84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直接连接符 70"/>
                <p:cNvSpPr/>
                <p:nvPr/>
              </p:nvSpPr>
              <p:spPr>
                <a:xfrm flipV="1">
                  <a:off x="3508920" y="1746000"/>
                  <a:ext cx="1050480" cy="36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直接连接符 72"/>
              <p:cNvSpPr/>
              <p:nvPr/>
            </p:nvSpPr>
            <p:spPr>
              <a:xfrm>
                <a:off x="2876400" y="2247480"/>
                <a:ext cx="6840" cy="106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直接连接符 81"/>
              <p:cNvSpPr/>
              <p:nvPr/>
            </p:nvSpPr>
            <p:spPr>
              <a:xfrm flipH="1">
                <a:off x="2625120" y="3306960"/>
                <a:ext cx="71280" cy="55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29"/>
            <p:cNvGrpSpPr/>
            <p:nvPr/>
          </p:nvGrpSpPr>
          <p:grpSpPr>
            <a:xfrm>
              <a:off x="2716200" y="3858840"/>
              <a:ext cx="265320" cy="369720"/>
              <a:chOff x="2716200" y="3858840"/>
              <a:chExt cx="265320" cy="369720"/>
            </a:xfrm>
          </p:grpSpPr>
          <p:sp>
            <p:nvSpPr>
              <p:cNvPr id="512" name="椭圆 42"/>
              <p:cNvSpPr/>
              <p:nvPr/>
            </p:nvSpPr>
            <p:spPr>
              <a:xfrm>
                <a:off x="2716200" y="3858840"/>
                <a:ext cx="265320" cy="369720"/>
              </a:xfrm>
              <a:prstGeom prst="ellipse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直接连接符 43"/>
              <p:cNvSpPr/>
              <p:nvPr/>
            </p:nvSpPr>
            <p:spPr>
              <a:xfrm>
                <a:off x="2716200" y="4043520"/>
                <a:ext cx="2653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直接连接符 44"/>
              <p:cNvSpPr/>
              <p:nvPr/>
            </p:nvSpPr>
            <p:spPr>
              <a:xfrm flipV="1">
                <a:off x="2849040" y="4112640"/>
                <a:ext cx="0" cy="115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椭圆 45"/>
              <p:cNvSpPr/>
              <p:nvPr/>
            </p:nvSpPr>
            <p:spPr>
              <a:xfrm>
                <a:off x="2818800" y="4061520"/>
                <a:ext cx="60480" cy="69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34"/>
            <p:cNvGrpSpPr/>
            <p:nvPr/>
          </p:nvGrpSpPr>
          <p:grpSpPr>
            <a:xfrm>
              <a:off x="1630440" y="3976200"/>
              <a:ext cx="1487160" cy="1554120"/>
              <a:chOff x="1630440" y="3976200"/>
              <a:chExt cx="1487160" cy="1554120"/>
            </a:xfrm>
          </p:grpSpPr>
          <p:sp>
            <p:nvSpPr>
              <p:cNvPr id="517" name="椭圆 5"/>
              <p:cNvSpPr/>
              <p:nvPr/>
            </p:nvSpPr>
            <p:spPr>
              <a:xfrm rot="8281800">
                <a:off x="2060280" y="3989880"/>
                <a:ext cx="627120" cy="15264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7"/>
            <p:cNvGrpSpPr/>
            <p:nvPr/>
          </p:nvGrpSpPr>
          <p:grpSpPr>
            <a:xfrm>
              <a:off x="2604240" y="4029480"/>
              <a:ext cx="1419120" cy="1419120"/>
              <a:chOff x="2604240" y="4029480"/>
              <a:chExt cx="1419120" cy="1419120"/>
            </a:xfrm>
          </p:grpSpPr>
          <p:sp>
            <p:nvSpPr>
              <p:cNvPr id="519" name="椭圆 90"/>
              <p:cNvSpPr/>
              <p:nvPr/>
            </p:nvSpPr>
            <p:spPr>
              <a:xfrm rot="13500000">
                <a:off x="2984760" y="4064040"/>
                <a:ext cx="657720" cy="134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椭圆 91"/>
            <p:cNvSpPr/>
            <p:nvPr/>
          </p:nvSpPr>
          <p:spPr>
            <a:xfrm>
              <a:off x="2683800" y="1760760"/>
              <a:ext cx="185400" cy="2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椭圆 92"/>
            <p:cNvSpPr/>
            <p:nvPr/>
          </p:nvSpPr>
          <p:spPr>
            <a:xfrm>
              <a:off x="2542680" y="1278360"/>
              <a:ext cx="186480" cy="29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椭圆 94"/>
            <p:cNvSpPr/>
            <p:nvPr/>
          </p:nvSpPr>
          <p:spPr>
            <a:xfrm>
              <a:off x="3012120" y="1278360"/>
              <a:ext cx="186480" cy="29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椭圆 95"/>
            <p:cNvSpPr/>
            <p:nvPr/>
          </p:nvSpPr>
          <p:spPr>
            <a:xfrm>
              <a:off x="2596320" y="1397880"/>
              <a:ext cx="79560" cy="91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椭圆 96"/>
            <p:cNvSpPr/>
            <p:nvPr/>
          </p:nvSpPr>
          <p:spPr>
            <a:xfrm>
              <a:off x="3044880" y="1379520"/>
              <a:ext cx="79560" cy="91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Box 98"/>
          <p:cNvSpPr/>
          <p:nvPr/>
        </p:nvSpPr>
        <p:spPr>
          <a:xfrm>
            <a:off x="5488560" y="2844720"/>
            <a:ext cx="249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找看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该送你们什么呢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"/>
          <p:cNvSpPr/>
          <p:nvPr/>
        </p:nvSpPr>
        <p:spPr>
          <a:xfrm>
            <a:off x="2399040" y="1224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卡通创意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2752200" y="1500120"/>
            <a:ext cx="3623040" cy="3308400"/>
            <a:chOff x="2752200" y="1500120"/>
            <a:chExt cx="3623040" cy="3308400"/>
          </a:xfrm>
        </p:grpSpPr>
        <p:sp>
          <p:nvSpPr>
            <p:cNvPr id="631" name="椭圆 15"/>
            <p:cNvSpPr/>
            <p:nvPr/>
          </p:nvSpPr>
          <p:spPr>
            <a:xfrm>
              <a:off x="2774880" y="2182320"/>
              <a:ext cx="1713600" cy="2582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16"/>
            <p:cNvSpPr/>
            <p:nvPr/>
          </p:nvSpPr>
          <p:spPr>
            <a:xfrm>
              <a:off x="4661640" y="2138400"/>
              <a:ext cx="1713600" cy="267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椭圆 18"/>
            <p:cNvSpPr/>
            <p:nvPr/>
          </p:nvSpPr>
          <p:spPr>
            <a:xfrm>
              <a:off x="3349080" y="3561840"/>
              <a:ext cx="565200" cy="55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椭圆 19"/>
            <p:cNvSpPr/>
            <p:nvPr/>
          </p:nvSpPr>
          <p:spPr>
            <a:xfrm>
              <a:off x="5235840" y="3561840"/>
              <a:ext cx="565200" cy="55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新月形 20"/>
            <p:cNvSpPr/>
            <p:nvPr/>
          </p:nvSpPr>
          <p:spPr>
            <a:xfrm rot="5400000">
              <a:off x="3282480" y="969480"/>
              <a:ext cx="555840" cy="161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新月形 21"/>
            <p:cNvSpPr/>
            <p:nvPr/>
          </p:nvSpPr>
          <p:spPr>
            <a:xfrm rot="5400000">
              <a:off x="5258880" y="969480"/>
              <a:ext cx="555840" cy="161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矩形 3"/>
          <p:cNvSpPr/>
          <p:nvPr/>
        </p:nvSpPr>
        <p:spPr>
          <a:xfrm>
            <a:off x="-12600" y="514836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4"/>
          <p:cNvSpPr/>
          <p:nvPr/>
        </p:nvSpPr>
        <p:spPr>
          <a:xfrm>
            <a:off x="-12600" y="600228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5"/>
          <p:cNvSpPr/>
          <p:nvPr/>
        </p:nvSpPr>
        <p:spPr>
          <a:xfrm>
            <a:off x="-12600" y="3421080"/>
            <a:ext cx="9156600" cy="871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6"/>
          <p:cNvSpPr/>
          <p:nvPr/>
        </p:nvSpPr>
        <p:spPr>
          <a:xfrm>
            <a:off x="-12600" y="429264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7"/>
          <p:cNvSpPr/>
          <p:nvPr/>
        </p:nvSpPr>
        <p:spPr>
          <a:xfrm>
            <a:off x="-12600" y="170964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8"/>
          <p:cNvSpPr/>
          <p:nvPr/>
        </p:nvSpPr>
        <p:spPr>
          <a:xfrm>
            <a:off x="-12600" y="256536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9"/>
          <p:cNvSpPr/>
          <p:nvPr/>
        </p:nvSpPr>
        <p:spPr>
          <a:xfrm>
            <a:off x="-12600" y="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0"/>
          <p:cNvSpPr/>
          <p:nvPr/>
        </p:nvSpPr>
        <p:spPr>
          <a:xfrm>
            <a:off x="-12600" y="85572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4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4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4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4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4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4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4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" presetSubtype="2">
                                  <p:stCondLst>
                                    <p:cond delay="36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4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爆炸形 2 15"/>
          <p:cNvSpPr/>
          <p:nvPr/>
        </p:nvSpPr>
        <p:spPr>
          <a:xfrm>
            <a:off x="-509760" y="-1909800"/>
            <a:ext cx="10653840" cy="1065384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爆炸形 2 14"/>
          <p:cNvSpPr/>
          <p:nvPr/>
        </p:nvSpPr>
        <p:spPr>
          <a:xfrm>
            <a:off x="-536400" y="-1895400"/>
            <a:ext cx="10653480" cy="1065348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爆炸形 2 13"/>
          <p:cNvSpPr/>
          <p:nvPr/>
        </p:nvSpPr>
        <p:spPr>
          <a:xfrm>
            <a:off x="-509760" y="-1909800"/>
            <a:ext cx="10653840" cy="1065384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5"/>
          <p:cNvGrpSpPr/>
          <p:nvPr/>
        </p:nvGrpSpPr>
        <p:grpSpPr>
          <a:xfrm>
            <a:off x="1475640" y="1413000"/>
            <a:ext cx="5112360" cy="4156560"/>
            <a:chOff x="1475640" y="1413000"/>
            <a:chExt cx="5112360" cy="4156560"/>
          </a:xfrm>
        </p:grpSpPr>
        <p:grpSp>
          <p:nvGrpSpPr>
            <p:cNvPr id="532" name="Group 6"/>
            <p:cNvGrpSpPr/>
            <p:nvPr/>
          </p:nvGrpSpPr>
          <p:grpSpPr>
            <a:xfrm>
              <a:off x="1475640" y="2157120"/>
              <a:ext cx="2755440" cy="3412440"/>
              <a:chOff x="1475640" y="2157120"/>
              <a:chExt cx="2755440" cy="3412440"/>
            </a:xfrm>
          </p:grpSpPr>
          <p:sp>
            <p:nvSpPr>
              <p:cNvPr id="533" name="椭圆 5"/>
              <p:cNvSpPr/>
              <p:nvPr/>
            </p:nvSpPr>
            <p:spPr>
              <a:xfrm rot="716400">
                <a:off x="1765080" y="2349360"/>
                <a:ext cx="2176200" cy="302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流程图: 过程 8"/>
            <p:cNvSpPr/>
            <p:nvPr/>
          </p:nvSpPr>
          <p:spPr>
            <a:xfrm>
              <a:off x="3636000" y="1413000"/>
              <a:ext cx="2952000" cy="1800360"/>
            </a:xfrm>
            <a:prstGeom prst="flowChartProcess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9"/>
            <p:cNvSpPr/>
            <p:nvPr/>
          </p:nvSpPr>
          <p:spPr>
            <a:xfrm>
              <a:off x="5624640" y="2515680"/>
              <a:ext cx="957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2f2f2"/>
                  </a:solidFill>
                  <a:latin typeface="Calibri"/>
                </a:rPr>
                <a:t>VIP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0"/>
            <p:cNvSpPr/>
            <p:nvPr/>
          </p:nvSpPr>
          <p:spPr>
            <a:xfrm>
              <a:off x="4674960" y="2925360"/>
              <a:ext cx="120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2f2f2"/>
                  </a:solidFill>
                  <a:latin typeface="Calibri"/>
                </a:rPr>
                <a:t>No</a:t>
              </a:r>
              <a:r>
                <a:rPr b="0" lang="zh-CN" sz="1000" spc="-1" strike="noStrike">
                  <a:solidFill>
                    <a:srgbClr val="f2f2f2"/>
                  </a:solidFill>
                  <a:latin typeface="Calibri"/>
                </a:rPr>
                <a:t>：</a:t>
              </a:r>
              <a:r>
                <a:rPr b="0" lang="en-US" sz="1000" spc="-1" strike="noStrike">
                  <a:solidFill>
                    <a:srgbClr val="f2f2f2"/>
                  </a:solidFill>
                  <a:latin typeface="Calibri"/>
                </a:rPr>
                <a:t>1234560AAA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11"/>
            <p:cNvSpPr/>
            <p:nvPr/>
          </p:nvSpPr>
          <p:spPr>
            <a:xfrm>
              <a:off x="4236120" y="17283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末日方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0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5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17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18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7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29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30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9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4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9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3"/>
          <p:cNvSpPr/>
          <p:nvPr/>
        </p:nvSpPr>
        <p:spPr>
          <a:xfrm>
            <a:off x="2376360" y="1940040"/>
            <a:ext cx="43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带的换页方式不好玩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咱自己做呗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4"/>
          <p:cNvSpPr/>
          <p:nvPr/>
        </p:nvSpPr>
        <p:spPr>
          <a:xfrm>
            <a:off x="-974880" y="-730080"/>
            <a:ext cx="11096640" cy="8321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"/>
          <p:cNvSpPr/>
          <p:nvPr/>
        </p:nvSpPr>
        <p:spPr>
          <a:xfrm>
            <a:off x="2931120" y="1870200"/>
            <a:ext cx="34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无阿弥陀佛 变变变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~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椭圆 5"/>
          <p:cNvSpPr/>
          <p:nvPr/>
        </p:nvSpPr>
        <p:spPr>
          <a:xfrm>
            <a:off x="3419640" y="1339920"/>
            <a:ext cx="2520720" cy="2520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6"/>
          <p:cNvSpPr/>
          <p:nvPr/>
        </p:nvSpPr>
        <p:spPr>
          <a:xfrm>
            <a:off x="3060720" y="496800"/>
            <a:ext cx="1368360" cy="136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椭圆 7"/>
          <p:cNvSpPr/>
          <p:nvPr/>
        </p:nvSpPr>
        <p:spPr>
          <a:xfrm>
            <a:off x="5256360" y="657360"/>
            <a:ext cx="1368360" cy="136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3624120" y="4371840"/>
            <a:ext cx="21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当当当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~~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老鼠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3"/>
          <p:cNvSpPr/>
          <p:nvPr/>
        </p:nvSpPr>
        <p:spPr>
          <a:xfrm>
            <a:off x="-955800" y="-730080"/>
            <a:ext cx="11096640" cy="8321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椭圆 1"/>
          <p:cNvSpPr/>
          <p:nvPr/>
        </p:nvSpPr>
        <p:spPr>
          <a:xfrm>
            <a:off x="1403280" y="907920"/>
            <a:ext cx="504720" cy="505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2"/>
          <p:cNvSpPr/>
          <p:nvPr/>
        </p:nvSpPr>
        <p:spPr>
          <a:xfrm>
            <a:off x="5292720" y="765000"/>
            <a:ext cx="503280" cy="50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新月形 10"/>
          <p:cNvSpPr/>
          <p:nvPr/>
        </p:nvSpPr>
        <p:spPr>
          <a:xfrm rot="16200000">
            <a:off x="3394080" y="4800600"/>
            <a:ext cx="666720" cy="13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1"/>
          <p:cNvSpPr/>
          <p:nvPr/>
        </p:nvSpPr>
        <p:spPr>
          <a:xfrm>
            <a:off x="287280" y="15840"/>
            <a:ext cx="2232000" cy="2232000"/>
          </a:xfrm>
          <a:prstGeom prst="ellipse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12"/>
          <p:cNvSpPr/>
          <p:nvPr/>
        </p:nvSpPr>
        <p:spPr>
          <a:xfrm>
            <a:off x="3995640" y="-95400"/>
            <a:ext cx="2232000" cy="2229120"/>
          </a:xfrm>
          <a:prstGeom prst="ellipse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9"/>
          <p:cNvSpPr/>
          <p:nvPr/>
        </p:nvSpPr>
        <p:spPr>
          <a:xfrm>
            <a:off x="3438360" y="2313000"/>
            <a:ext cx="2232360" cy="22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552"/>
                                        </p:tgtEl>
                                      </p:cBhvr>
                                      <p:to x="3000000" y="3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等腰三角形 4"/>
          <p:cNvSpPr/>
          <p:nvPr/>
        </p:nvSpPr>
        <p:spPr>
          <a:xfrm>
            <a:off x="1260360" y="1484280"/>
            <a:ext cx="1252800" cy="1081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等腰三角形 5"/>
          <p:cNvSpPr/>
          <p:nvPr/>
        </p:nvSpPr>
        <p:spPr>
          <a:xfrm>
            <a:off x="6732720" y="1484280"/>
            <a:ext cx="1252440" cy="1081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新月形 6"/>
          <p:cNvSpPr/>
          <p:nvPr/>
        </p:nvSpPr>
        <p:spPr>
          <a:xfrm rot="16200000">
            <a:off x="3931560" y="4245480"/>
            <a:ext cx="124596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3"/>
          <p:cNvSpPr/>
          <p:nvPr/>
        </p:nvSpPr>
        <p:spPr>
          <a:xfrm>
            <a:off x="-3181320" y="-4308480"/>
            <a:ext cx="15478200" cy="15479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1000" fill="hold"/>
                                        <p:tgtEl>
                                          <p:spTgt spid="55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椭圆 4"/>
          <p:cNvSpPr/>
          <p:nvPr/>
        </p:nvSpPr>
        <p:spPr>
          <a:xfrm>
            <a:off x="1763640" y="1700280"/>
            <a:ext cx="1079640" cy="1081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"/>
          <p:cNvSpPr/>
          <p:nvPr/>
        </p:nvSpPr>
        <p:spPr>
          <a:xfrm>
            <a:off x="5364000" y="1339920"/>
            <a:ext cx="2735280" cy="392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接连接符 7"/>
          <p:cNvSpPr/>
          <p:nvPr/>
        </p:nvSpPr>
        <p:spPr>
          <a:xfrm>
            <a:off x="1476360" y="3139920"/>
            <a:ext cx="2951280" cy="1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直接连接符 8"/>
          <p:cNvSpPr/>
          <p:nvPr/>
        </p:nvSpPr>
        <p:spPr>
          <a:xfrm>
            <a:off x="1368360" y="3718080"/>
            <a:ext cx="2951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直接连接符 9"/>
          <p:cNvSpPr/>
          <p:nvPr/>
        </p:nvSpPr>
        <p:spPr>
          <a:xfrm>
            <a:off x="1368360" y="4365720"/>
            <a:ext cx="2951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接连接符 10"/>
          <p:cNvSpPr/>
          <p:nvPr/>
        </p:nvSpPr>
        <p:spPr>
          <a:xfrm>
            <a:off x="1368360" y="5210280"/>
            <a:ext cx="295128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右箭头 53"/>
          <p:cNvSpPr/>
          <p:nvPr/>
        </p:nvSpPr>
        <p:spPr>
          <a:xfrm>
            <a:off x="4432320" y="1184400"/>
            <a:ext cx="3044880" cy="25876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2"/>
          <p:cNvSpPr/>
          <p:nvPr/>
        </p:nvSpPr>
        <p:spPr>
          <a:xfrm>
            <a:off x="4392720" y="3772080"/>
            <a:ext cx="2681280" cy="268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51"/>
          <p:cNvSpPr/>
          <p:nvPr/>
        </p:nvSpPr>
        <p:spPr>
          <a:xfrm>
            <a:off x="990720" y="833400"/>
            <a:ext cx="2938320" cy="2938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椭圆 3"/>
          <p:cNvSpPr/>
          <p:nvPr/>
        </p:nvSpPr>
        <p:spPr>
          <a:xfrm>
            <a:off x="-870120" y="4667400"/>
            <a:ext cx="1895760" cy="19000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4"/>
          <p:cNvSpPr/>
          <p:nvPr/>
        </p:nvSpPr>
        <p:spPr>
          <a:xfrm>
            <a:off x="5940360" y="1860480"/>
            <a:ext cx="936720" cy="936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椭圆 5"/>
          <p:cNvSpPr/>
          <p:nvPr/>
        </p:nvSpPr>
        <p:spPr>
          <a:xfrm>
            <a:off x="5356080" y="2465280"/>
            <a:ext cx="3322800" cy="33228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椭圆 6"/>
          <p:cNvSpPr/>
          <p:nvPr/>
        </p:nvSpPr>
        <p:spPr>
          <a:xfrm>
            <a:off x="822240" y="4924440"/>
            <a:ext cx="2243160" cy="2243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椭圆 7"/>
          <p:cNvSpPr/>
          <p:nvPr/>
        </p:nvSpPr>
        <p:spPr>
          <a:xfrm>
            <a:off x="1249200" y="2514600"/>
            <a:ext cx="3322800" cy="332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椭圆 8"/>
          <p:cNvSpPr/>
          <p:nvPr/>
        </p:nvSpPr>
        <p:spPr>
          <a:xfrm>
            <a:off x="96840" y="394344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椭圆 9"/>
          <p:cNvSpPr/>
          <p:nvPr/>
        </p:nvSpPr>
        <p:spPr>
          <a:xfrm>
            <a:off x="-2438280" y="3435480"/>
            <a:ext cx="2243160" cy="2243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0"/>
          <p:cNvSpPr/>
          <p:nvPr/>
        </p:nvSpPr>
        <p:spPr>
          <a:xfrm>
            <a:off x="-436680" y="3368520"/>
            <a:ext cx="158112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1"/>
          <p:cNvSpPr/>
          <p:nvPr/>
        </p:nvSpPr>
        <p:spPr>
          <a:xfrm>
            <a:off x="611280" y="273996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12"/>
          <p:cNvSpPr/>
          <p:nvPr/>
        </p:nvSpPr>
        <p:spPr>
          <a:xfrm>
            <a:off x="-939960" y="511200"/>
            <a:ext cx="3321360" cy="332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13"/>
          <p:cNvSpPr/>
          <p:nvPr/>
        </p:nvSpPr>
        <p:spPr>
          <a:xfrm>
            <a:off x="2892600" y="1244520"/>
            <a:ext cx="1841400" cy="18417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14"/>
          <p:cNvSpPr/>
          <p:nvPr/>
        </p:nvSpPr>
        <p:spPr>
          <a:xfrm>
            <a:off x="-471600" y="5591160"/>
            <a:ext cx="1987560" cy="1989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15"/>
          <p:cNvSpPr/>
          <p:nvPr/>
        </p:nvSpPr>
        <p:spPr>
          <a:xfrm>
            <a:off x="-1084320" y="5908680"/>
            <a:ext cx="1033560" cy="10335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16"/>
          <p:cNvSpPr/>
          <p:nvPr/>
        </p:nvSpPr>
        <p:spPr>
          <a:xfrm>
            <a:off x="4432320" y="2602080"/>
            <a:ext cx="1584360" cy="1584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17"/>
          <p:cNvSpPr/>
          <p:nvPr/>
        </p:nvSpPr>
        <p:spPr>
          <a:xfrm>
            <a:off x="1917720" y="151128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18"/>
          <p:cNvSpPr/>
          <p:nvPr/>
        </p:nvSpPr>
        <p:spPr>
          <a:xfrm>
            <a:off x="2514600" y="4384800"/>
            <a:ext cx="3322800" cy="33224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19"/>
          <p:cNvSpPr/>
          <p:nvPr/>
        </p:nvSpPr>
        <p:spPr>
          <a:xfrm>
            <a:off x="5505480" y="5772240"/>
            <a:ext cx="1511280" cy="1511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椭圆 20"/>
          <p:cNvSpPr/>
          <p:nvPr/>
        </p:nvSpPr>
        <p:spPr>
          <a:xfrm>
            <a:off x="4033800" y="3394080"/>
            <a:ext cx="15130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21"/>
          <p:cNvSpPr/>
          <p:nvPr/>
        </p:nvSpPr>
        <p:spPr>
          <a:xfrm>
            <a:off x="6748560" y="5678640"/>
            <a:ext cx="53640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22"/>
          <p:cNvSpPr/>
          <p:nvPr/>
        </p:nvSpPr>
        <p:spPr>
          <a:xfrm>
            <a:off x="6556320" y="6046920"/>
            <a:ext cx="920880" cy="9205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23"/>
          <p:cNvSpPr/>
          <p:nvPr/>
        </p:nvSpPr>
        <p:spPr>
          <a:xfrm>
            <a:off x="4143240" y="151128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24"/>
          <p:cNvSpPr/>
          <p:nvPr/>
        </p:nvSpPr>
        <p:spPr>
          <a:xfrm>
            <a:off x="5257800" y="555480"/>
            <a:ext cx="1617840" cy="16178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25"/>
          <p:cNvSpPr/>
          <p:nvPr/>
        </p:nvSpPr>
        <p:spPr>
          <a:xfrm>
            <a:off x="6477120" y="1343160"/>
            <a:ext cx="12571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26"/>
          <p:cNvSpPr/>
          <p:nvPr/>
        </p:nvSpPr>
        <p:spPr>
          <a:xfrm>
            <a:off x="5546880" y="1860480"/>
            <a:ext cx="674640" cy="674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椭圆 27"/>
          <p:cNvSpPr/>
          <p:nvPr/>
        </p:nvSpPr>
        <p:spPr>
          <a:xfrm>
            <a:off x="1539720" y="0"/>
            <a:ext cx="1839960" cy="1838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28"/>
          <p:cNvSpPr/>
          <p:nvPr/>
        </p:nvSpPr>
        <p:spPr>
          <a:xfrm>
            <a:off x="-471600" y="-915840"/>
            <a:ext cx="2668680" cy="26668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椭圆 29"/>
          <p:cNvSpPr/>
          <p:nvPr/>
        </p:nvSpPr>
        <p:spPr>
          <a:xfrm>
            <a:off x="2727360" y="-231840"/>
            <a:ext cx="2208240" cy="2205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椭圆 30"/>
          <p:cNvSpPr/>
          <p:nvPr/>
        </p:nvSpPr>
        <p:spPr>
          <a:xfrm>
            <a:off x="1943280" y="-625320"/>
            <a:ext cx="1258560" cy="12556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31"/>
          <p:cNvSpPr/>
          <p:nvPr/>
        </p:nvSpPr>
        <p:spPr>
          <a:xfrm>
            <a:off x="8142120" y="213840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32"/>
          <p:cNvSpPr/>
          <p:nvPr/>
        </p:nvSpPr>
        <p:spPr>
          <a:xfrm>
            <a:off x="7858080" y="82872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33"/>
          <p:cNvSpPr/>
          <p:nvPr/>
        </p:nvSpPr>
        <p:spPr>
          <a:xfrm>
            <a:off x="4092480" y="2898720"/>
            <a:ext cx="536760" cy="5367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椭圆 34"/>
          <p:cNvSpPr/>
          <p:nvPr/>
        </p:nvSpPr>
        <p:spPr>
          <a:xfrm>
            <a:off x="3808440" y="1587600"/>
            <a:ext cx="53640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椭圆 35"/>
          <p:cNvSpPr/>
          <p:nvPr/>
        </p:nvSpPr>
        <p:spPr>
          <a:xfrm>
            <a:off x="5614920" y="251460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椭圆 36"/>
          <p:cNvSpPr/>
          <p:nvPr/>
        </p:nvSpPr>
        <p:spPr>
          <a:xfrm>
            <a:off x="5332320" y="120492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椭圆 37"/>
          <p:cNvSpPr/>
          <p:nvPr/>
        </p:nvSpPr>
        <p:spPr>
          <a:xfrm>
            <a:off x="5045040" y="2004840"/>
            <a:ext cx="920880" cy="9208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椭圆 38"/>
          <p:cNvSpPr/>
          <p:nvPr/>
        </p:nvSpPr>
        <p:spPr>
          <a:xfrm>
            <a:off x="4896000" y="3978360"/>
            <a:ext cx="15112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椭圆 39"/>
          <p:cNvSpPr/>
          <p:nvPr/>
        </p:nvSpPr>
        <p:spPr>
          <a:xfrm>
            <a:off x="5702400" y="5130720"/>
            <a:ext cx="920520" cy="9208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椭圆 40"/>
          <p:cNvSpPr/>
          <p:nvPr/>
        </p:nvSpPr>
        <p:spPr>
          <a:xfrm>
            <a:off x="3881520" y="2430360"/>
            <a:ext cx="1512720" cy="15130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椭圆 41"/>
          <p:cNvSpPr/>
          <p:nvPr/>
        </p:nvSpPr>
        <p:spPr>
          <a:xfrm>
            <a:off x="6016680" y="5194440"/>
            <a:ext cx="15112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椭圆 42"/>
          <p:cNvSpPr/>
          <p:nvPr/>
        </p:nvSpPr>
        <p:spPr>
          <a:xfrm>
            <a:off x="4392720" y="1854360"/>
            <a:ext cx="1511280" cy="1511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椭圆 43"/>
          <p:cNvSpPr/>
          <p:nvPr/>
        </p:nvSpPr>
        <p:spPr>
          <a:xfrm>
            <a:off x="7074000" y="4740120"/>
            <a:ext cx="2609640" cy="2610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椭圆 44"/>
          <p:cNvSpPr/>
          <p:nvPr/>
        </p:nvSpPr>
        <p:spPr>
          <a:xfrm>
            <a:off x="7734240" y="3095640"/>
            <a:ext cx="2611440" cy="2610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椭圆 45"/>
          <p:cNvSpPr/>
          <p:nvPr/>
        </p:nvSpPr>
        <p:spPr>
          <a:xfrm>
            <a:off x="8077320" y="762120"/>
            <a:ext cx="12589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椭圆 46"/>
          <p:cNvSpPr/>
          <p:nvPr/>
        </p:nvSpPr>
        <p:spPr>
          <a:xfrm>
            <a:off x="6556320" y="401760"/>
            <a:ext cx="12589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椭圆 47"/>
          <p:cNvSpPr/>
          <p:nvPr/>
        </p:nvSpPr>
        <p:spPr>
          <a:xfrm>
            <a:off x="8172360" y="-158760"/>
            <a:ext cx="1258920" cy="12556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椭圆 48"/>
          <p:cNvSpPr/>
          <p:nvPr/>
        </p:nvSpPr>
        <p:spPr>
          <a:xfrm>
            <a:off x="4848120" y="-69840"/>
            <a:ext cx="1258920" cy="125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椭圆 49"/>
          <p:cNvSpPr/>
          <p:nvPr/>
        </p:nvSpPr>
        <p:spPr>
          <a:xfrm>
            <a:off x="7149960" y="1433520"/>
            <a:ext cx="2610000" cy="26114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椭圆 50"/>
          <p:cNvSpPr/>
          <p:nvPr/>
        </p:nvSpPr>
        <p:spPr>
          <a:xfrm>
            <a:off x="4414680" y="-1747800"/>
            <a:ext cx="4267440" cy="42638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xit" presetID="23" presetSubtype="3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3" presetSubtype="32">
                                  <p:stCondLst>
                                    <p:cond delay="16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3" presetSubtype="32">
                                  <p:stCondLst>
                                    <p:cond delay="13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3270240" y="1836720"/>
            <a:ext cx="2589120" cy="1941480"/>
            <a:chOff x="3270240" y="1836720"/>
            <a:chExt cx="2589120" cy="1941480"/>
          </a:xfrm>
        </p:grpSpPr>
        <p:sp>
          <p:nvSpPr>
            <p:cNvPr id="616" name="椭圆 15"/>
            <p:cNvSpPr/>
            <p:nvPr/>
          </p:nvSpPr>
          <p:spPr>
            <a:xfrm>
              <a:off x="3270240" y="2438640"/>
              <a:ext cx="2589120" cy="133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8"/>
            <p:cNvSpPr/>
            <p:nvPr/>
          </p:nvSpPr>
          <p:spPr>
            <a:xfrm>
              <a:off x="3365640" y="1836720"/>
              <a:ext cx="1029960" cy="101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9"/>
            <p:cNvSpPr/>
            <p:nvPr/>
          </p:nvSpPr>
          <p:spPr>
            <a:xfrm>
              <a:off x="4757400" y="1836720"/>
              <a:ext cx="1029960" cy="101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直接连接符 21"/>
            <p:cNvSpPr/>
            <p:nvPr/>
          </p:nvSpPr>
          <p:spPr>
            <a:xfrm>
              <a:off x="3365640" y="2346120"/>
              <a:ext cx="10299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直接连接符 22"/>
            <p:cNvSpPr/>
            <p:nvPr/>
          </p:nvSpPr>
          <p:spPr>
            <a:xfrm>
              <a:off x="4757400" y="2332440"/>
              <a:ext cx="10299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矩形 5"/>
          <p:cNvSpPr/>
          <p:nvPr/>
        </p:nvSpPr>
        <p:spPr>
          <a:xfrm>
            <a:off x="-12600" y="514836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6"/>
          <p:cNvSpPr/>
          <p:nvPr/>
        </p:nvSpPr>
        <p:spPr>
          <a:xfrm>
            <a:off x="-12600" y="600228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7"/>
          <p:cNvSpPr/>
          <p:nvPr/>
        </p:nvSpPr>
        <p:spPr>
          <a:xfrm>
            <a:off x="-12600" y="3421080"/>
            <a:ext cx="9156600" cy="871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8"/>
          <p:cNvSpPr/>
          <p:nvPr/>
        </p:nvSpPr>
        <p:spPr>
          <a:xfrm>
            <a:off x="-12600" y="429264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9"/>
          <p:cNvSpPr/>
          <p:nvPr/>
        </p:nvSpPr>
        <p:spPr>
          <a:xfrm>
            <a:off x="-12600" y="170964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0"/>
          <p:cNvSpPr/>
          <p:nvPr/>
        </p:nvSpPr>
        <p:spPr>
          <a:xfrm>
            <a:off x="-12600" y="256536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1"/>
          <p:cNvSpPr/>
          <p:nvPr/>
        </p:nvSpPr>
        <p:spPr>
          <a:xfrm>
            <a:off x="-12600" y="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2"/>
          <p:cNvSpPr/>
          <p:nvPr/>
        </p:nvSpPr>
        <p:spPr>
          <a:xfrm>
            <a:off x="-12600" y="855720"/>
            <a:ext cx="915660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1:53:00Z</dcterms:created>
  <dc:creator>www.pptbz.com</dc:creator>
  <dc:description/>
  <cp:keywords>ppt宝藏</cp:keywords>
  <dc:language>en-US</dc:language>
  <cp:lastModifiedBy>王玉清</cp:lastModifiedBy>
  <dcterms:modified xsi:type="dcterms:W3CDTF">2016-02-16T07:19:45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