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581-BAAB-4ACD-AC7E-F11DCAC7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5A8-E2FD-48FC-878E-6B38E2F2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395-59B3-46A8-86F9-0D1BC0A5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39E-39C0-4DF7-8EAE-5023F454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F65A-BE98-4D3B-B197-9A2705CA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4D75-BB09-4DC2-8C4A-0A18D638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48F3-81EB-4748-B451-C2972608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E87D-9F50-48E9-8815-911369F5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1711-A4D7-4529-9055-1C361732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0920-6BA1-495D-8871-C6D4C3FF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6627-9E92-420D-B73E-80648BA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081-DF70-446A-B9FE-F0507305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C3F3-86D5-409E-868E-0F1F9920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B3DB-7304-4D94-8C91-F44FBACF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969F-02CE-4A24-AA12-89DADD7E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62B3-F6B8-4311-8A8B-79DE6758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EB5A-B188-4436-A46F-72ED77BC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615-F2A8-44A3-B591-BE267A3F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57E-90E0-456A-8AEE-881D4EBA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449-61C2-4662-8D56-8687824A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398-9400-47FD-B274-8763DECE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181-2608-456E-81CE-BFE36C04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7A0-3A16-48F5-A2B0-21EDEF91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528-8CF5-44FD-AD1E-6B914455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FEF6AC-F883-41DA-88AC-AA49FA4C938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BB5DFD-BC80-4915-9621-F04E961F26E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卡通风车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547640" y="3069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indmil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indmil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ndmill</Template>
  <TotalTime>1</TotalTime>
  <Application>LibreOffice/7.4.7.2$Linux_X86_64 LibreOffice_project/40$Build-2</Application>
  <AppVersion>15.0000</AppVersion>
  <Words>12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41:37Z</dcterms:created>
  <dc:creator>admin</dc:creator>
  <dc:description/>
  <dc:language>en-US</dc:language>
  <cp:lastModifiedBy>王玉清</cp:lastModifiedBy>
  <dcterms:modified xsi:type="dcterms:W3CDTF">2016-02-24T03:38:17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