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836-59BE-4596-9C5D-EE4FF39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992-835A-4BBA-8FDD-7A62083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BFA4-32AE-4F58-811F-9D2CA69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3EDD0-0C81-4291-A655-4C5D0A1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D105D-D974-405A-A1C3-6F895B3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D6AFE-93BA-49AC-A6DC-D923CF1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3C80C-2B68-4329-954C-B927C95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B02CC-CF2D-4AC4-8927-BA70411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F570F-DB23-4757-82CD-9C8717A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610CA-2868-4097-B28C-5C552C45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0BAE0-25AF-47FE-9F1E-28ECA0A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7F937-A06B-4FCA-9DF7-0BABEF98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94B-CC9B-4B66-8A7C-730E7E1F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1EB5D-7D81-4719-81F3-BE2D3B81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29F18-4CA7-404E-B862-845008F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A25BF-3251-4819-A869-EF30A9C5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C9CC-C451-4F0B-966A-F69028FC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26B69-7501-4991-A6A5-29361B24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0F94C-70DC-44E7-9759-748D946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CD23-E7BC-48A5-A11E-4EB844E5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9E5ED-8F56-424D-8FC4-A40D9FF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B8A48-F01B-48AD-A10E-BA0E39A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74726-CCC0-4EB5-937F-C88D2AAC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44D-ED31-49F8-8ED8-18AF52BA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685D1-FE0E-49EE-BD03-33FB43DC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F98E-87EF-4BF6-BC08-2D8CC39B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C17DE-577F-4344-AD40-875FE14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CF844-AC8F-4F32-808F-29C054B7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9A4C-6DF2-4F9C-95B0-AE74653B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9F6D5-E058-4CD2-9736-B1545DC0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23AF2-9D41-440B-8CB9-860AA927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4909B-0B5D-4AE0-909B-00BCE29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69196-F211-4177-AEA7-9E0BF1C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FDB48-DD08-4E25-A4F6-F96DE7C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FC87-13B9-4214-BB3E-EC6FE972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080F-3E5C-458C-A427-1C8472F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BB4E-2E22-44C0-B0B8-708637CF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71426-A561-438F-9CD3-04BC7698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6B943-7BC5-453D-AC44-DE8BB3BB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E2410-6EC8-47D7-927C-0428ACF5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727A-5B9C-4F89-9A78-D07DA3B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5F3E7-CAF5-44E6-B0BB-4F2F1EA8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345D3-79E6-490E-9A4E-C140297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1C9B4-ECC6-497E-B83C-2FDFEB82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E0B01-FCAB-423A-9CB4-6DD0C4B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BB2-C7D6-4E71-B67E-86F7DF00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3798C-944D-4ADA-9DD0-E6C7A4B2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5E1C0-52F0-4506-A557-B7EA508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CE892-245D-48ED-8600-366258E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BF69-D869-4329-B189-3D58E7E5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4E53A-12C8-4F3D-AAFB-189F7DB2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9EE-AA08-4631-98E5-837A5023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0478-D727-411A-A5E2-1102368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FC28-80D5-4681-8076-E9A24B91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907F-0A7E-48AF-B71B-9D993D8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DB40-6BD9-4183-9C7C-793FE89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24F-1383-4C64-BE32-DECFBC5A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680-7F23-429A-95A6-5F88213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5D2D-D463-4B63-92D8-FE01B9A9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9AEB-1216-4A2D-8D95-B9F517BB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3851-63ED-4C03-9AA5-981364E0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2BB5-739A-4556-A65B-C809A7CD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5851-C24A-42B6-B609-01790FBB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A996-D5C8-4D99-A850-A69B64EF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A2B3-589E-4048-A503-65F72E33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9DD4-A8AE-46FA-98FC-3F7A20F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D63B-D0C4-40F4-92C6-201C4E3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D61-FEDE-453B-A9B4-5874B50F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A66C-C793-433F-B7B6-AB061C5A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BCAB-972E-49BD-9660-BABA4EF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D478-2E62-4F1C-9AD7-6EE92BB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35F1-D860-4485-BC54-B86B2C2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671A-DA88-4F96-ABC9-AAA2CD1A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CF23-CDB7-448A-96B6-E7120D33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CD4F-CE12-4C79-AA4F-B5409B7E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8179-BF19-4C5A-ABA7-F2E2B099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10B8-46A0-4298-8FC4-642AD39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46489-F231-4211-B2FF-8A3241C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D93-2A15-4251-BBA0-79E1126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7CF8-8837-4C1E-B17C-ED83A370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5226A-7B63-47D6-8DE1-3DDA91C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4D94-FDAE-4AD5-8317-583335B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A3D2-6DAC-4E21-8601-40C184B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4986-690C-4044-B685-E278D61E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AD3BF-BF21-469D-B22C-93FD6F0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ACF4-5A3D-4CF5-B390-74A39143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D1F5-4395-40D1-B329-9F6ED932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1D67-080B-4A5E-B8AE-1B012F4A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9EF6-CECE-49CA-BAFF-44D5B33B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3BC-484A-4B35-8C5D-18E44A24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F961-00A3-45AC-95B9-EDBE4727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CCAE-D991-48E2-9808-60AB4A7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BCCF-956B-4433-916C-438D8370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C923-0541-4DAC-9DC6-75E1700A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9339-77E8-4540-99F0-951BEC0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D0A8-9709-49D7-8E5D-19782B8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4999-9103-4F63-B10B-44E63A70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79E7D-F37E-4B1F-9F0D-CB88B66B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57A8-5581-4698-A747-75A0BCFC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11B3-56FB-4CBF-97FF-D0E8F541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A6B-EF7D-4724-A605-21002E5E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34A10-4733-4A4F-8398-85B4D79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CB2F-8F74-434F-B433-56BC8AE8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D2099-5F24-481B-B598-4D9F494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567A-A11D-40F9-9594-37999ED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B591-8BE0-41FC-B59F-59320A3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80737-BA7A-4D89-8854-1CAC851C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5019B-A864-4B32-B6D2-8E80E6D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70222-D1B8-4743-8C76-DC8F5D4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97A7-3B6A-44F8-B2FB-709C805C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7FD62-5E3F-4131-AC40-1056041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2B4-63B5-4E60-87F7-36A9D34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95CA-3E79-46E9-A17D-48D3F226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3FC8-2805-4CCB-88FA-13EF356E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6274-DCCE-4403-A27E-7C0B016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F3588-0643-473F-B016-6B276F68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1787-04C9-4A4C-A3C4-0DC704E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8497-F70E-4D35-B6EA-21155A5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7B7B-9669-4E91-9A40-1FE9076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FD202-8B2E-4098-A284-01BB57A9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A4009-438B-47FC-8818-FA48BED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EA8F-EE1D-4C4F-B7AB-DE59FB0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0AC-76EE-4920-BDA0-BE883E7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CD6E-E7FB-4B23-AF1E-6C8A28E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827EB-0E8A-4076-9C5A-7F3D77D3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3A5BD-39BD-4D51-ACCF-7C9CB32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6211-E9E3-4112-B468-FA8A6FCB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6204-3769-4C55-BE8A-6EF6E172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1F74-FDDA-4119-97F8-5B6BDAF7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7CD73-C780-40B6-95DE-FB9BAC38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E9947-D101-47B1-A2EC-2147FB2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3127A-BC2E-410A-B239-6416328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8395A-A86D-47D0-AB6C-C404BE57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FE9-8921-4480-8691-4FD32589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CA71B-4B30-4CB3-85DD-37BDCD61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35CD-11AA-404E-8D0D-BD533B9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4E50B-09D7-47A6-B725-1E003EF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D74F-32CC-47B5-BF86-984B0261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D87C7-4374-40BD-AA52-E8D9929A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A7E5-830A-4862-847A-DF6FE6E7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F6CB-B173-420A-B8ED-8753BD11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870A-B0F9-41B7-B129-77E24073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3E68A-BAB4-4FFE-92EE-AD0FF6CC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1BA5F-69C8-4A4E-993D-2307A60B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8CFF-6FE8-48F8-AFC1-A9DA916ACC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6175-75DE-497D-AC0E-E098972E45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4155-9A16-4E33-ACA4-E4E460361D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614-AF88-4C0A-BE40-D02AAEFBB8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63E-05BF-4FD1-98AA-80428C81F4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3ED7-FDD1-45DA-8E81-BD7CC28F86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2986-A39A-47E5-B11A-AB55B8D5BC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5F19-FF2F-4471-BCB6-5A15253185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70A-91B7-43D7-A58E-C466485B6A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6F5F-2CA8-44E6-AF40-D7AB147D74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716-77AF-42AF-8C02-8A109DE996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534C-AC06-466E-8E7F-064D0110D1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2E1E-47CA-4CD9-8F3D-5FF0E2D2A3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3F5-1434-49C6-88E9-B3BF47888E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613-4884-4606-99B5-89A8949CE5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56E-0F74-4C2D-91EE-4F0946034B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8AE-7F9F-47B9-B3E7-DC4BE7BB45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451E-CCFD-41F0-A4B9-08AB715D12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AE1-C03D-4AD8-B0F2-62B49EFFFF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DAE-AF0F-47D9-B1BA-A5C4BCC92C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AD9-DA7F-4A44-9678-B53FF7296F4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F6F-224B-4DDF-A6B1-746E45C55F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939-F760-4686-B180-503437A4E1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9A7E-B17D-4096-ABD3-0832E8DDD8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8"/>
          <p:cNvSpPr/>
          <p:nvPr/>
        </p:nvSpPr>
        <p:spPr>
          <a:xfrm>
            <a:off x="8531280" y="0"/>
            <a:ext cx="61272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风暴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S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矢量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AE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视频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图片素材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PS</a:t>
            </a:r>
            <a:r>
              <a:rPr b="0" lang="zh-CN" sz="100" spc="-1" strike="noStrike">
                <a:solidFill>
                  <a:srgbClr val="000000"/>
                </a:solidFill>
                <a:latin typeface="Verdana"/>
              </a:rPr>
              <a:t>插件：</a:t>
            </a:r>
            <a:r>
              <a:rPr b="0" lang="en-US" sz="100" spc="-1" strike="noStrike">
                <a:solidFill>
                  <a:srgbClr val="000000"/>
                </a:solidFill>
                <a:latin typeface="Verdana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1136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卡通雪人创意动态</a:t>
            </a:r>
            <a:r>
              <a:rPr b="0" lang="en-US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5640" y="414288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23:36:00Z</dcterms:created>
  <dc:creator>for_yang@qq.com</dc:creator>
  <dc:description>Made by Moyea Software. To find more free PowerPoint templates, please visit http://www.dvd-ppt-slideshow.com/powerpoint-knowledge/powerpoint-templates.html</dc:description>
  <cp:keywords>Christmas free PowerPoint template download PPT template PowerPoint templates slideshow template POT POTX Power Point template slide show template</cp:keywords>
  <dc:language>en-US</dc:language>
  <cp:lastModifiedBy>王玉清</cp:lastModifiedBy>
  <dcterms:modified xsi:type="dcterms:W3CDTF">2016-02-16T08:52:34Z</dcterms:modified>
  <cp:revision>11</cp:revision>
  <dc:subject>Christmas PowerPoint Template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