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348683-BDB8-4BAE-A7F0-C05787107B28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3B5AD7-15F7-46EF-A0F9-EC22E7656AE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31E2831-54D9-47CE-9A9D-DC157306A5D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C92E53-877B-4205-A924-88F757EFEDC5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753AA6-B955-4C30-87DE-88F9ACB93B7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FE04D23-F3CB-4623-AA1B-1935E072F6D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F3D3138-DFC1-4E1B-B0B1-0844D58A8A7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2182CFE-1498-4747-A4A5-8E878DFB8F46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61B83F-226E-4323-AE03-BD726DB28ED7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B561CD-700E-454C-9ED1-947347120F3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8C5D73A-E2F7-4849-8AF5-758E1A8214F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112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40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86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112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40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4280" y="622440"/>
            <a:ext cx="851544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112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4000" y="187956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86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112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4000" y="3984120"/>
            <a:ext cx="274500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622440"/>
            <a:ext cx="851544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7200" y="398412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86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200" y="1879560"/>
            <a:ext cx="4160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8600" y="3984120"/>
            <a:ext cx="8525160" cy="192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576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  Page </a:t>
            </a:r>
            <a:fld id="{44DC30EB-58B8-445C-A4DD-2C49EAC1D37A}" type="slidenum">
              <a:rPr b="0" lang="de-DE" sz="1200" spc="-1" strike="noStrike">
                <a:solidFill>
                  <a:srgbClr val="0d3d65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7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6361200" y="6350040"/>
            <a:ext cx="2463840" cy="3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Unbenannt-2"/>
          <p:cNvPicPr/>
          <p:nvPr/>
        </p:nvPicPr>
        <p:blipFill>
          <a:blip r:embed="rId3"/>
          <a:stretch/>
        </p:blipFill>
        <p:spPr>
          <a:xfrm>
            <a:off x="7097760" y="2887560"/>
            <a:ext cx="1380960" cy="21369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3" descr="PP small"/>
          <p:cNvPicPr/>
          <p:nvPr/>
        </p:nvPicPr>
        <p:blipFill>
          <a:blip r:embed="rId4"/>
          <a:srcRect l="0" t="0" r="0" b="34534"/>
          <a:stretch/>
        </p:blipFill>
        <p:spPr>
          <a:xfrm>
            <a:off x="5516640" y="6005520"/>
            <a:ext cx="3225600" cy="40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6d92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18600" y="1879560"/>
            <a:ext cx="85251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1001"/>
              </a:spcBef>
              <a:buClr>
                <a:srgbClr val="1c4c7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639440"/>
            <a:ext cx="752004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白风格箭头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80840" y="2547720"/>
            <a:ext cx="608796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B1BBFDB0-C5B7-4269-9EA2-2F0B7BFC44C8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4546440" y="1790640"/>
          <a:ext cx="4280040" cy="40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6440" y="1790640"/>
                    <a:ext cx="4280040" cy="40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5"/>
          <p:cNvSpPr/>
          <p:nvPr/>
        </p:nvSpPr>
        <p:spPr>
          <a:xfrm>
            <a:off x="33660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3840" y="65325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4797b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3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C48B0704-00F3-46F5-8435-E3BCDF86E0ED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879560"/>
            <a:ext cx="8515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1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ABDE5821-B477-4C5E-ADC3-B18EC7172A74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blue"/>
          <p:cNvPicPr/>
          <p:nvPr/>
        </p:nvPicPr>
        <p:blipFill>
          <a:blip r:embed="rId1"/>
          <a:srcRect l="0" t="0" r="0" b="10303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223920" y="1919160"/>
            <a:ext cx="86770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„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est thing about the future is that it comes only one day at a time</a:t>
            </a:r>
            <a:r>
              <a:rPr b="1" lang="de-DE" sz="3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5400" y="386244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braham Lincoln (1809-18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Unbenannt-2"/>
          <p:cNvPicPr/>
          <p:nvPr/>
        </p:nvPicPr>
        <p:blipFill>
          <a:blip r:embed="rId2"/>
          <a:stretch/>
        </p:blipFill>
        <p:spPr>
          <a:xfrm>
            <a:off x="7612200" y="4487760"/>
            <a:ext cx="88560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800360" y="828720"/>
            <a:ext cx="46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w.51pptmoban.com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DBADB6B9-67D6-4FF2-8786-286FE5BF4960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.</a:t>
            </a:r>
            <a:br>
              <a:rPr sz="2400"/>
            </a:b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It is also possible to have 2 lines of text.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600" y="2060640"/>
            <a:ext cx="4186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7320" y="2060640"/>
            <a:ext cx="41864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6880" y="14796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3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2D9BE179-A244-440E-91EF-5CCBB36D9203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5960" y="1871640"/>
            <a:ext cx="8488440" cy="376200"/>
          </a:xfrm>
          <a:prstGeom prst="rect">
            <a:avLst/>
          </a:prstGeom>
          <a:gradFill rotWithShape="0">
            <a:gsLst>
              <a:gs pos="0">
                <a:srgbClr val="2c6d92"/>
              </a:gs>
              <a:gs pos="100000">
                <a:srgbClr val="65c3e3"/>
              </a:gs>
            </a:gsLst>
            <a:lin ang="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3080" y="2311560"/>
            <a:ext cx="8480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5960" y="3868560"/>
            <a:ext cx="8488440" cy="376560"/>
          </a:xfrm>
          <a:prstGeom prst="rect">
            <a:avLst/>
          </a:prstGeom>
          <a:gradFill rotWithShape="0">
            <a:gsLst>
              <a:gs pos="0">
                <a:srgbClr val="2c6d92"/>
              </a:gs>
              <a:gs pos="100000">
                <a:srgbClr val="65c3e3"/>
              </a:gs>
            </a:gsLst>
            <a:lin ang="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43080" y="4321080"/>
            <a:ext cx="8480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23840" y="65325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4797b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D8221B32-0384-44CF-B583-98ED5D0A0333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490392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0d3d65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5165640" y="411624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1c4c74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5165640" y="1789200"/>
            <a:ext cx="1557360" cy="136044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e000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6780240" y="1789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65c3e3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7558200" y="2733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4797b9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6780240" y="411624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2c6d92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5991120" y="2867040"/>
            <a:ext cx="1533600" cy="1533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055560" y="3427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26880" y="1903320"/>
            <a:ext cx="430560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0D81FDAA-4A63-40DF-936E-AB9DAEF54627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pic>
        <p:nvPicPr>
          <p:cNvPr id="127" name="Picture 3" descr="Schach"/>
          <p:cNvPicPr/>
          <p:nvPr/>
        </p:nvPicPr>
        <p:blipFill>
          <a:blip r:embed="rId1">
            <a:grayscl/>
          </a:blip>
          <a:srcRect l="0" t="0" r="26025" b="0"/>
          <a:stretch/>
        </p:blipFill>
        <p:spPr>
          <a:xfrm>
            <a:off x="338040" y="1860480"/>
            <a:ext cx="3997440" cy="3603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28" name="Rectangle 5"/>
          <p:cNvSpPr/>
          <p:nvPr/>
        </p:nvSpPr>
        <p:spPr>
          <a:xfrm>
            <a:off x="4710240" y="1843200"/>
            <a:ext cx="412416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D60555FF-DC61-4A35-BD20-37AA8CC75D0C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pic>
        <p:nvPicPr>
          <p:cNvPr id="132" name="Picture 3" descr="Schach"/>
          <p:cNvPicPr/>
          <p:nvPr/>
        </p:nvPicPr>
        <p:blipFill>
          <a:blip r:embed="rId1">
            <a:grayscl/>
          </a:blip>
          <a:srcRect l="0" t="0" r="5497" b="0"/>
          <a:stretch/>
        </p:blipFill>
        <p:spPr>
          <a:xfrm>
            <a:off x="349200" y="1881360"/>
            <a:ext cx="233856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33" name="Picture 4" descr="Schach"/>
          <p:cNvPicPr/>
          <p:nvPr/>
        </p:nvPicPr>
        <p:blipFill>
          <a:blip r:embed="rId2">
            <a:grayscl/>
          </a:blip>
          <a:srcRect l="0" t="0" r="5497" b="0"/>
          <a:stretch/>
        </p:blipFill>
        <p:spPr>
          <a:xfrm>
            <a:off x="349200" y="3862440"/>
            <a:ext cx="2338560" cy="16509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34" name="Rectangle 6"/>
          <p:cNvSpPr/>
          <p:nvPr/>
        </p:nvSpPr>
        <p:spPr>
          <a:xfrm>
            <a:off x="2935440" y="1779480"/>
            <a:ext cx="587052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935440" y="3795840"/>
            <a:ext cx="587052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276120" y="6408720"/>
            <a:ext cx="27622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0d3d65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  Page </a:t>
            </a:r>
            <a:fld id="{45D8EC07-DE8C-47A1-AA71-3E6C07FBE080}" type="slidenum">
              <a:rPr b="0" lang="de-DE" sz="1200" spc="-1" strike="noStrike">
                <a:solidFill>
                  <a:srgbClr val="0d3d6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4280" y="622440"/>
            <a:ext cx="851544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c6d92"/>
                </a:solidFill>
                <a:latin typeface="Arial"/>
                <a:ea typeface="宋体"/>
              </a:rPr>
              <a:t>Enter your title here</a:t>
            </a:r>
            <a:endParaRPr b="1" lang="en-US" sz="2400" spc="-1" strike="noStrike">
              <a:solidFill>
                <a:srgbClr val="2c6d92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155520" y="1741320"/>
          <a:ext cx="4749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1741320"/>
                    <a:ext cx="4749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5"/>
          <p:cNvSpPr/>
          <p:nvPr/>
        </p:nvSpPr>
        <p:spPr>
          <a:xfrm>
            <a:off x="4998960" y="2036880"/>
            <a:ext cx="386388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 dummy text. 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901"/>
              </a:spcBef>
              <a:buClr>
                <a:srgbClr val="1c4c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4000" y="1117440"/>
            <a:ext cx="5752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王玉清</cp:lastModifiedBy>
  <cp:lastPrinted>2005-03-15T07:48:11Z</cp:lastPrinted>
  <dcterms:modified xsi:type="dcterms:W3CDTF">2016-02-29T07:49:22Z</dcterms:modified>
  <cp:revision>506</cp:revision>
  <dc:subject/>
  <dc:title>Blue screen</dc:title>
</cp:coreProperties>
</file>