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CBCF-650A-4A2E-91A1-709BC205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3C1E-E384-4374-8F9E-7FE61801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6380-16E8-4C55-A847-48219CA2C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3C8A-E003-44B7-B4FF-F96CCE734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CB34-44BD-454D-AB8D-1A790221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4A14-9E93-473A-AA8E-61B135F7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34A4-6075-480A-A8CC-0FCAA89E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97DE-B009-4135-A74B-AC839D83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7CD9-B7CD-4534-867A-D13488C6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14FA-F4C2-4705-B837-2FEC5CB1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C43C-6A24-4EA4-A5A1-E5C8EFBC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4B01-6D6C-49E9-AD98-DA0E44C5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A54A-4AF3-4699-AD11-E5E8E9028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361960"/>
            <a:ext cx="7969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Times New Roman"/>
              </a:rPr>
              <a:t>蓝白灰背景商务</a:t>
            </a:r>
            <a:r>
              <a:rPr b="1" lang="en-US" sz="4000" spc="-1" strike="noStrike">
                <a:solidFill>
                  <a:srgbClr val="0066cc"/>
                </a:solidFill>
                <a:latin typeface="Times New Roman"/>
              </a:rPr>
              <a:t>PPT</a:t>
            </a:r>
            <a:r>
              <a:rPr b="1" lang="zh-CN" sz="4000" spc="-1" strike="noStrike">
                <a:solidFill>
                  <a:srgbClr val="0066cc"/>
                </a:solidFill>
                <a:latin typeface="Times New Roman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1600200" y="3505320"/>
            <a:ext cx="64008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cc"/>
                </a:solidFill>
                <a:latin typeface="Times New Roman"/>
              </a:rPr>
              <a:t>Business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7317000" y="6172200"/>
            <a:ext cx="15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579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add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add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add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add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add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add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9T07:40:05Z</dcterms:created>
  <dc:creator>ppt宝藏</dc:creator>
  <dc:description/>
  <dc:language>en-US</dc:language>
  <cp:lastModifiedBy>a</cp:lastModifiedBy>
  <dcterms:modified xsi:type="dcterms:W3CDTF">2015-07-25T06:56:27Z</dcterms:modified>
  <cp:revision>4</cp:revision>
  <dc:subject/>
  <dc:title>www.pptbz.com</dc:title>
</cp:coreProperties>
</file>