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556-6BE2-4287-BDD7-BA9E8746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264-C92A-4860-884D-C4271756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323-B989-4A12-91B9-DBDB6EE1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96D-E8B6-434A-99ED-A6501511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AB3-CDB3-47B6-8C29-EA9BD50B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CA5-92FC-4FAE-8121-45459781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168-5A08-45C9-8509-A62A2B38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8EA-EB85-4A94-92CA-E80860DA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BF7-D419-4F59-B8DA-9B674569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D48-7A64-43F3-AB39-42104086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D3C-6158-49E5-ABC2-6D501472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667-15EE-4021-8D8F-E2D13C56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0565-1897-430F-B813-398A60AAE14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4246-9312-4394-BBAD-CD0F54156B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ULL" descr=""/>
          <p:cNvPicPr/>
          <p:nvPr/>
        </p:nvPicPr>
        <p:blipFill>
          <a:blip r:embed="rId1"/>
          <a:stretch/>
        </p:blipFill>
        <p:spPr>
          <a:xfrm>
            <a:off x="-1106640" y="44830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4141800" y="8143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方正清刻本悦宋简体"/>
                <a:ea typeface="方正清刻本悦宋简体"/>
              </a:rPr>
              <a:t>浪漫心形线动态幻灯片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表 6" descr=""/>
          <p:cNvPicPr/>
          <p:nvPr/>
        </p:nvPicPr>
        <p:blipFill>
          <a:blip r:embed="rId1"/>
          <a:stretch/>
        </p:blipFill>
        <p:spPr>
          <a:xfrm>
            <a:off x="1595520" y="-345960"/>
            <a:ext cx="8999280" cy="75517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9"/>
          <p:cNvSpPr/>
          <p:nvPr/>
        </p:nvSpPr>
        <p:spPr>
          <a:xfrm>
            <a:off x="2781000" y="7373880"/>
            <a:ext cx="66297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L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V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e7e6e6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4472c4"/>
                </a:solidFill>
                <a:latin typeface="Eras Light ITC"/>
                <a:ea typeface="张海山锐线体2.0"/>
              </a:rPr>
              <a:t>S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J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U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ST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A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W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R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U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T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L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Y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U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F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D 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SOM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W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H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O GI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V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S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IT 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T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H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4472c4"/>
                </a:solidFill>
                <a:latin typeface="Eras Light ITC"/>
                <a:ea typeface="张海山锐线体2.0"/>
              </a:rPr>
              <a:t>D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F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T</a:t>
            </a:r>
            <a:r>
              <a:rPr b="0" lang="en-US" sz="1800" spc="-1" strike="noStrike">
                <a:solidFill>
                  <a:srgbClr val="4472c4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"/>
          <p:cNvSpPr/>
          <p:nvPr/>
        </p:nvSpPr>
        <p:spPr>
          <a:xfrm>
            <a:off x="3141000" y="5645160"/>
            <a:ext cx="59101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Trajan"/>
                <a:ea typeface="张海山锐线体2.0"/>
              </a:rPr>
              <a:t>L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V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J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U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A </a:t>
            </a:r>
            <a:r>
              <a:rPr b="0" lang="en-US" sz="1600" spc="-1" strike="noStrike">
                <a:solidFill>
                  <a:srgbClr val="00b0f0"/>
                </a:solidFill>
                <a:latin typeface="Trajan"/>
                <a:ea typeface="张海山锐线体2.0"/>
              </a:rPr>
              <a:t>W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R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U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L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Trajan"/>
                <a:ea typeface="张海山锐线体2.0"/>
              </a:rPr>
              <a:t>Y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U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F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D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92d050"/>
                </a:solidFill>
                <a:latin typeface="Trajan"/>
                <a:ea typeface="张海山锐线体2.0"/>
              </a:rPr>
              <a:t>M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W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H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G</a:t>
            </a:r>
            <a:r>
              <a:rPr b="0" lang="en-US" sz="1600" spc="-1" strike="noStrike">
                <a:solidFill>
                  <a:srgbClr val="92d050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00b050"/>
                </a:solidFill>
                <a:latin typeface="Trajan"/>
                <a:ea typeface="张海山锐线体2.0"/>
              </a:rPr>
              <a:t>V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H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D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F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00b0f0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0070c0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2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表 6" descr=""/>
          <p:cNvPicPr/>
          <p:nvPr/>
        </p:nvPicPr>
        <p:blipFill>
          <a:blip r:embed="rId1"/>
          <a:stretch/>
        </p:blipFill>
        <p:spPr>
          <a:xfrm>
            <a:off x="2666880" y="15840"/>
            <a:ext cx="6858000" cy="6789600"/>
          </a:xfrm>
          <a:prstGeom prst="rect">
            <a:avLst/>
          </a:prstGeom>
          <a:ln w="0">
            <a:noFill/>
          </a:ln>
        </p:spPr>
      </p:pic>
      <p:sp>
        <p:nvSpPr>
          <p:cNvPr id="48" name="任意多边形 5"/>
          <p:cNvSpPr/>
          <p:nvPr/>
        </p:nvSpPr>
        <p:spPr>
          <a:xfrm>
            <a:off x="2622600" y="5997600"/>
            <a:ext cx="6946920" cy="183960"/>
          </a:xfrm>
          <a:custGeom>
            <a:avLst/>
            <a:gdLst>
              <a:gd name="textAreaLeft" fmla="*/ 0 w 6946920"/>
              <a:gd name="textAreaRight" fmla="*/ 6947280 w 69469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295381" h="167448">
                <a:moveTo>
                  <a:pt x="6283191" y="139618"/>
                </a:moveTo>
                <a:cubicBezTo>
                  <a:pt x="6286671" y="139663"/>
                  <a:pt x="6289553" y="140721"/>
                  <a:pt x="6291833" y="142790"/>
                </a:cubicBezTo>
                <a:cubicBezTo>
                  <a:pt x="6294115" y="144859"/>
                  <a:pt x="6295297" y="147665"/>
                  <a:pt x="6295381" y="151207"/>
                </a:cubicBezTo>
                <a:cubicBezTo>
                  <a:pt x="6295339" y="154800"/>
                  <a:pt x="6294223" y="157805"/>
                  <a:pt x="6292034" y="160224"/>
                </a:cubicBezTo>
                <a:cubicBezTo>
                  <a:pt x="6289844" y="162643"/>
                  <a:pt x="6286829" y="163900"/>
                  <a:pt x="6282991" y="163996"/>
                </a:cubicBezTo>
                <a:cubicBezTo>
                  <a:pt x="6278820" y="163838"/>
                  <a:pt x="6275773" y="162505"/>
                  <a:pt x="6273849" y="159999"/>
                </a:cubicBezTo>
                <a:cubicBezTo>
                  <a:pt x="6271927" y="157493"/>
                  <a:pt x="6270977" y="154762"/>
                  <a:pt x="6271003" y="151807"/>
                </a:cubicBezTo>
                <a:cubicBezTo>
                  <a:pt x="6270973" y="149113"/>
                  <a:pt x="6271931" y="146457"/>
                  <a:pt x="6273875" y="143839"/>
                </a:cubicBezTo>
                <a:cubicBezTo>
                  <a:pt x="6275819" y="141220"/>
                  <a:pt x="6278925" y="139813"/>
                  <a:pt x="6283191" y="139618"/>
                </a:cubicBezTo>
                <a:close/>
                <a:moveTo>
                  <a:pt x="4202917" y="22778"/>
                </a:moveTo>
                <a:cubicBezTo>
                  <a:pt x="4200411" y="22774"/>
                  <a:pt x="4198268" y="22832"/>
                  <a:pt x="4196487" y="22953"/>
                </a:cubicBezTo>
                <a:cubicBezTo>
                  <a:pt x="4194707" y="23074"/>
                  <a:pt x="4193315" y="23283"/>
                  <a:pt x="4192310" y="23579"/>
                </a:cubicBezTo>
                <a:cubicBezTo>
                  <a:pt x="4191622" y="23771"/>
                  <a:pt x="4191146" y="24087"/>
                  <a:pt x="4190884" y="24529"/>
                </a:cubicBezTo>
                <a:cubicBezTo>
                  <a:pt x="4190621" y="24971"/>
                  <a:pt x="4190496" y="25588"/>
                  <a:pt x="4190508" y="26380"/>
                </a:cubicBezTo>
                <a:lnTo>
                  <a:pt x="4190508" y="87209"/>
                </a:lnTo>
                <a:cubicBezTo>
                  <a:pt x="4190496" y="88285"/>
                  <a:pt x="4190621" y="89085"/>
                  <a:pt x="4190884" y="89610"/>
                </a:cubicBezTo>
                <a:cubicBezTo>
                  <a:pt x="4191146" y="90136"/>
                  <a:pt x="4191622" y="90536"/>
                  <a:pt x="4192310" y="90811"/>
                </a:cubicBezTo>
                <a:cubicBezTo>
                  <a:pt x="4194470" y="91507"/>
                  <a:pt x="4196905" y="92016"/>
                  <a:pt x="4199615" y="92337"/>
                </a:cubicBezTo>
                <a:cubicBezTo>
                  <a:pt x="4202325" y="92658"/>
                  <a:pt x="4204960" y="92816"/>
                  <a:pt x="4207520" y="92812"/>
                </a:cubicBezTo>
                <a:cubicBezTo>
                  <a:pt x="4211390" y="92833"/>
                  <a:pt x="4214308" y="92591"/>
                  <a:pt x="4216277" y="92086"/>
                </a:cubicBezTo>
                <a:cubicBezTo>
                  <a:pt x="4218244" y="91582"/>
                  <a:pt x="4220063" y="90690"/>
                  <a:pt x="4221731" y="89410"/>
                </a:cubicBezTo>
                <a:cubicBezTo>
                  <a:pt x="4224849" y="87259"/>
                  <a:pt x="4227568" y="83758"/>
                  <a:pt x="4229886" y="78905"/>
                </a:cubicBezTo>
                <a:cubicBezTo>
                  <a:pt x="4232204" y="74053"/>
                  <a:pt x="4233422" y="67550"/>
                  <a:pt x="4233539" y="59396"/>
                </a:cubicBezTo>
                <a:cubicBezTo>
                  <a:pt x="4233379" y="49999"/>
                  <a:pt x="4231608" y="42625"/>
                  <a:pt x="4228224" y="37274"/>
                </a:cubicBezTo>
                <a:cubicBezTo>
                  <a:pt x="4224840" y="31923"/>
                  <a:pt x="4220800" y="28151"/>
                  <a:pt x="4216104" y="25957"/>
                </a:cubicBezTo>
                <a:cubicBezTo>
                  <a:pt x="4211408" y="23764"/>
                  <a:pt x="4207013" y="22704"/>
                  <a:pt x="4202917" y="22778"/>
                </a:cubicBezTo>
                <a:close/>
                <a:moveTo>
                  <a:pt x="3926692" y="22778"/>
                </a:moveTo>
                <a:cubicBezTo>
                  <a:pt x="3924186" y="22774"/>
                  <a:pt x="3922043" y="22832"/>
                  <a:pt x="3920262" y="22953"/>
                </a:cubicBezTo>
                <a:cubicBezTo>
                  <a:pt x="3918482" y="23074"/>
                  <a:pt x="3917089" y="23283"/>
                  <a:pt x="3916084" y="23579"/>
                </a:cubicBezTo>
                <a:cubicBezTo>
                  <a:pt x="3915396" y="23771"/>
                  <a:pt x="3914921" y="24087"/>
                  <a:pt x="3914658" y="24529"/>
                </a:cubicBezTo>
                <a:cubicBezTo>
                  <a:pt x="3914396" y="24971"/>
                  <a:pt x="3914271" y="25588"/>
                  <a:pt x="3914283" y="26380"/>
                </a:cubicBezTo>
                <a:lnTo>
                  <a:pt x="3914283" y="87209"/>
                </a:lnTo>
                <a:cubicBezTo>
                  <a:pt x="3914271" y="88285"/>
                  <a:pt x="3914396" y="89085"/>
                  <a:pt x="3914658" y="89610"/>
                </a:cubicBezTo>
                <a:cubicBezTo>
                  <a:pt x="3914921" y="90136"/>
                  <a:pt x="3915396" y="90536"/>
                  <a:pt x="3916084" y="90811"/>
                </a:cubicBezTo>
                <a:cubicBezTo>
                  <a:pt x="3918244" y="91507"/>
                  <a:pt x="3920679" y="92016"/>
                  <a:pt x="3923390" y="92337"/>
                </a:cubicBezTo>
                <a:cubicBezTo>
                  <a:pt x="3926100" y="92658"/>
                  <a:pt x="3928735" y="92816"/>
                  <a:pt x="3931295" y="92812"/>
                </a:cubicBezTo>
                <a:cubicBezTo>
                  <a:pt x="3935164" y="92833"/>
                  <a:pt x="3938083" y="92591"/>
                  <a:pt x="3940051" y="92086"/>
                </a:cubicBezTo>
                <a:cubicBezTo>
                  <a:pt x="3942020" y="91582"/>
                  <a:pt x="3943837" y="90690"/>
                  <a:pt x="3945505" y="89410"/>
                </a:cubicBezTo>
                <a:cubicBezTo>
                  <a:pt x="3948624" y="87259"/>
                  <a:pt x="3951343" y="83758"/>
                  <a:pt x="3953661" y="78905"/>
                </a:cubicBezTo>
                <a:cubicBezTo>
                  <a:pt x="3955979" y="74053"/>
                  <a:pt x="3957197" y="67550"/>
                  <a:pt x="3957314" y="59396"/>
                </a:cubicBezTo>
                <a:cubicBezTo>
                  <a:pt x="3957154" y="49999"/>
                  <a:pt x="3955383" y="42625"/>
                  <a:pt x="3951999" y="37274"/>
                </a:cubicBezTo>
                <a:cubicBezTo>
                  <a:pt x="3948615" y="31923"/>
                  <a:pt x="3944575" y="28151"/>
                  <a:pt x="3939879" y="25957"/>
                </a:cubicBezTo>
                <a:cubicBezTo>
                  <a:pt x="3935183" y="23764"/>
                  <a:pt x="3930787" y="22704"/>
                  <a:pt x="3926692" y="22778"/>
                </a:cubicBezTo>
                <a:close/>
                <a:moveTo>
                  <a:pt x="3650467" y="22778"/>
                </a:moveTo>
                <a:cubicBezTo>
                  <a:pt x="3647961" y="22774"/>
                  <a:pt x="3645818" y="22832"/>
                  <a:pt x="3644037" y="22953"/>
                </a:cubicBezTo>
                <a:cubicBezTo>
                  <a:pt x="3642257" y="23074"/>
                  <a:pt x="3640864" y="23283"/>
                  <a:pt x="3639860" y="23579"/>
                </a:cubicBezTo>
                <a:cubicBezTo>
                  <a:pt x="3639171" y="23771"/>
                  <a:pt x="3638696" y="24087"/>
                  <a:pt x="3638433" y="24529"/>
                </a:cubicBezTo>
                <a:cubicBezTo>
                  <a:pt x="3638171" y="24971"/>
                  <a:pt x="3638046" y="25588"/>
                  <a:pt x="3638058" y="26380"/>
                </a:cubicBezTo>
                <a:lnTo>
                  <a:pt x="3638058" y="87209"/>
                </a:lnTo>
                <a:cubicBezTo>
                  <a:pt x="3638046" y="88285"/>
                  <a:pt x="3638171" y="89085"/>
                  <a:pt x="3638433" y="89610"/>
                </a:cubicBezTo>
                <a:cubicBezTo>
                  <a:pt x="3638696" y="90136"/>
                  <a:pt x="3639171" y="90536"/>
                  <a:pt x="3639860" y="90811"/>
                </a:cubicBezTo>
                <a:cubicBezTo>
                  <a:pt x="3642019" y="91507"/>
                  <a:pt x="3644454" y="92016"/>
                  <a:pt x="3647165" y="92337"/>
                </a:cubicBezTo>
                <a:cubicBezTo>
                  <a:pt x="3649875" y="92658"/>
                  <a:pt x="3652510" y="92816"/>
                  <a:pt x="3655070" y="92812"/>
                </a:cubicBezTo>
                <a:cubicBezTo>
                  <a:pt x="3658940" y="92833"/>
                  <a:pt x="3661858" y="92591"/>
                  <a:pt x="3663826" y="92086"/>
                </a:cubicBezTo>
                <a:cubicBezTo>
                  <a:pt x="3665795" y="91582"/>
                  <a:pt x="3667612" y="90690"/>
                  <a:pt x="3669280" y="89410"/>
                </a:cubicBezTo>
                <a:cubicBezTo>
                  <a:pt x="3672399" y="87259"/>
                  <a:pt x="3675118" y="83758"/>
                  <a:pt x="3677436" y="78905"/>
                </a:cubicBezTo>
                <a:cubicBezTo>
                  <a:pt x="3679754" y="74053"/>
                  <a:pt x="3680972" y="67550"/>
                  <a:pt x="3681088" y="59396"/>
                </a:cubicBezTo>
                <a:cubicBezTo>
                  <a:pt x="3680929" y="49999"/>
                  <a:pt x="3679157" y="42625"/>
                  <a:pt x="3675774" y="37274"/>
                </a:cubicBezTo>
                <a:cubicBezTo>
                  <a:pt x="3672390" y="31923"/>
                  <a:pt x="3668350" y="28151"/>
                  <a:pt x="3663654" y="25957"/>
                </a:cubicBezTo>
                <a:cubicBezTo>
                  <a:pt x="3658958" y="23764"/>
                  <a:pt x="3654563" y="22704"/>
                  <a:pt x="3650467" y="22778"/>
                </a:cubicBezTo>
                <a:close/>
                <a:moveTo>
                  <a:pt x="5622098" y="20178"/>
                </a:moveTo>
                <a:cubicBezTo>
                  <a:pt x="5614247" y="20028"/>
                  <a:pt x="5606585" y="21750"/>
                  <a:pt x="5599112" y="25342"/>
                </a:cubicBezTo>
                <a:cubicBezTo>
                  <a:pt x="5591639" y="28935"/>
                  <a:pt x="5585444" y="35295"/>
                  <a:pt x="5580528" y="44422"/>
                </a:cubicBezTo>
                <a:cubicBezTo>
                  <a:pt x="5575612" y="53550"/>
                  <a:pt x="5573062" y="66341"/>
                  <a:pt x="5572881" y="82797"/>
                </a:cubicBezTo>
                <a:cubicBezTo>
                  <a:pt x="5572927" y="96819"/>
                  <a:pt x="5575391" y="109432"/>
                  <a:pt x="5580269" y="120638"/>
                </a:cubicBezTo>
                <a:cubicBezTo>
                  <a:pt x="5585147" y="131844"/>
                  <a:pt x="5592159" y="140738"/>
                  <a:pt x="5601306" y="147321"/>
                </a:cubicBezTo>
                <a:cubicBezTo>
                  <a:pt x="5610452" y="153903"/>
                  <a:pt x="5621451" y="157269"/>
                  <a:pt x="5634302" y="157420"/>
                </a:cubicBezTo>
                <a:cubicBezTo>
                  <a:pt x="5639284" y="157693"/>
                  <a:pt x="5645371" y="156391"/>
                  <a:pt x="5652561" y="153515"/>
                </a:cubicBezTo>
                <a:cubicBezTo>
                  <a:pt x="5659751" y="150639"/>
                  <a:pt x="5666164" y="144551"/>
                  <a:pt x="5671798" y="135250"/>
                </a:cubicBezTo>
                <a:cubicBezTo>
                  <a:pt x="5677432" y="125950"/>
                  <a:pt x="5680405" y="111800"/>
                  <a:pt x="5680719" y="92800"/>
                </a:cubicBezTo>
                <a:cubicBezTo>
                  <a:pt x="5680603" y="77795"/>
                  <a:pt x="5677968" y="64880"/>
                  <a:pt x="5672813" y="54055"/>
                </a:cubicBezTo>
                <a:cubicBezTo>
                  <a:pt x="5667658" y="43229"/>
                  <a:pt x="5660680" y="34893"/>
                  <a:pt x="5651879" y="29047"/>
                </a:cubicBezTo>
                <a:cubicBezTo>
                  <a:pt x="5643078" y="23201"/>
                  <a:pt x="5633152" y="20244"/>
                  <a:pt x="5622098" y="20178"/>
                </a:cubicBezTo>
                <a:close/>
                <a:moveTo>
                  <a:pt x="4917248" y="20178"/>
                </a:moveTo>
                <a:cubicBezTo>
                  <a:pt x="4909398" y="20028"/>
                  <a:pt x="4901735" y="21750"/>
                  <a:pt x="4894262" y="25342"/>
                </a:cubicBezTo>
                <a:cubicBezTo>
                  <a:pt x="4886790" y="28935"/>
                  <a:pt x="4880595" y="35295"/>
                  <a:pt x="4875678" y="44422"/>
                </a:cubicBezTo>
                <a:cubicBezTo>
                  <a:pt x="4870762" y="53550"/>
                  <a:pt x="4868213" y="66341"/>
                  <a:pt x="4868031" y="82797"/>
                </a:cubicBezTo>
                <a:cubicBezTo>
                  <a:pt x="4868078" y="96819"/>
                  <a:pt x="4870540" y="109432"/>
                  <a:pt x="4875419" y="120638"/>
                </a:cubicBezTo>
                <a:cubicBezTo>
                  <a:pt x="4880297" y="131844"/>
                  <a:pt x="4887309" y="140738"/>
                  <a:pt x="4896455" y="147321"/>
                </a:cubicBezTo>
                <a:cubicBezTo>
                  <a:pt x="4905602" y="153903"/>
                  <a:pt x="4916601" y="157269"/>
                  <a:pt x="4929453" y="157420"/>
                </a:cubicBezTo>
                <a:cubicBezTo>
                  <a:pt x="4934434" y="157693"/>
                  <a:pt x="4940521" y="156391"/>
                  <a:pt x="4947711" y="153515"/>
                </a:cubicBezTo>
                <a:cubicBezTo>
                  <a:pt x="4954901" y="150639"/>
                  <a:pt x="4961313" y="144551"/>
                  <a:pt x="4966948" y="135250"/>
                </a:cubicBezTo>
                <a:cubicBezTo>
                  <a:pt x="4972582" y="125950"/>
                  <a:pt x="4975556" y="111800"/>
                  <a:pt x="4975869" y="92800"/>
                </a:cubicBezTo>
                <a:cubicBezTo>
                  <a:pt x="4975753" y="77795"/>
                  <a:pt x="4973118" y="64880"/>
                  <a:pt x="4967963" y="54055"/>
                </a:cubicBezTo>
                <a:cubicBezTo>
                  <a:pt x="4962808" y="43229"/>
                  <a:pt x="4955830" y="34893"/>
                  <a:pt x="4947030" y="29047"/>
                </a:cubicBezTo>
                <a:cubicBezTo>
                  <a:pt x="4938229" y="23201"/>
                  <a:pt x="4928302" y="20244"/>
                  <a:pt x="4917248" y="20178"/>
                </a:cubicBezTo>
                <a:close/>
                <a:moveTo>
                  <a:pt x="3488498" y="20178"/>
                </a:moveTo>
                <a:cubicBezTo>
                  <a:pt x="3480647" y="20028"/>
                  <a:pt x="3472986" y="21750"/>
                  <a:pt x="3465512" y="25342"/>
                </a:cubicBezTo>
                <a:cubicBezTo>
                  <a:pt x="3458040" y="28935"/>
                  <a:pt x="3451845" y="35295"/>
                  <a:pt x="3446928" y="44422"/>
                </a:cubicBezTo>
                <a:cubicBezTo>
                  <a:pt x="3442012" y="53550"/>
                  <a:pt x="3439463" y="66341"/>
                  <a:pt x="3439281" y="82797"/>
                </a:cubicBezTo>
                <a:cubicBezTo>
                  <a:pt x="3439328" y="96819"/>
                  <a:pt x="3441791" y="109432"/>
                  <a:pt x="3446669" y="120638"/>
                </a:cubicBezTo>
                <a:cubicBezTo>
                  <a:pt x="3451547" y="131844"/>
                  <a:pt x="3458560" y="140738"/>
                  <a:pt x="3467706" y="147321"/>
                </a:cubicBezTo>
                <a:cubicBezTo>
                  <a:pt x="3476852" y="153903"/>
                  <a:pt x="3487851" y="157269"/>
                  <a:pt x="3500703" y="157420"/>
                </a:cubicBezTo>
                <a:cubicBezTo>
                  <a:pt x="3505685" y="157693"/>
                  <a:pt x="3511771" y="156391"/>
                  <a:pt x="3518961" y="153515"/>
                </a:cubicBezTo>
                <a:cubicBezTo>
                  <a:pt x="3526151" y="150639"/>
                  <a:pt x="3532564" y="144551"/>
                  <a:pt x="3538198" y="135250"/>
                </a:cubicBezTo>
                <a:cubicBezTo>
                  <a:pt x="3543832" y="125950"/>
                  <a:pt x="3546806" y="111800"/>
                  <a:pt x="3547120" y="92800"/>
                </a:cubicBezTo>
                <a:cubicBezTo>
                  <a:pt x="3547003" y="77795"/>
                  <a:pt x="3544368" y="64880"/>
                  <a:pt x="3539213" y="54055"/>
                </a:cubicBezTo>
                <a:cubicBezTo>
                  <a:pt x="3534058" y="43229"/>
                  <a:pt x="3527080" y="34893"/>
                  <a:pt x="3518279" y="29047"/>
                </a:cubicBezTo>
                <a:cubicBezTo>
                  <a:pt x="3509479" y="23201"/>
                  <a:pt x="3499552" y="20244"/>
                  <a:pt x="3488498" y="20178"/>
                </a:cubicBezTo>
                <a:close/>
                <a:moveTo>
                  <a:pt x="2040698" y="20178"/>
                </a:moveTo>
                <a:cubicBezTo>
                  <a:pt x="2032848" y="20028"/>
                  <a:pt x="2025185" y="21750"/>
                  <a:pt x="2017713" y="25342"/>
                </a:cubicBezTo>
                <a:cubicBezTo>
                  <a:pt x="2010240" y="28935"/>
                  <a:pt x="2004045" y="35295"/>
                  <a:pt x="1999128" y="44422"/>
                </a:cubicBezTo>
                <a:cubicBezTo>
                  <a:pt x="1994211" y="53550"/>
                  <a:pt x="1991663" y="66341"/>
                  <a:pt x="1991481" y="82797"/>
                </a:cubicBezTo>
                <a:cubicBezTo>
                  <a:pt x="1991528" y="96819"/>
                  <a:pt x="1993991" y="109432"/>
                  <a:pt x="1998869" y="120638"/>
                </a:cubicBezTo>
                <a:cubicBezTo>
                  <a:pt x="2003747" y="131844"/>
                  <a:pt x="2010760" y="140738"/>
                  <a:pt x="2019906" y="147321"/>
                </a:cubicBezTo>
                <a:cubicBezTo>
                  <a:pt x="2029052" y="153903"/>
                  <a:pt x="2040051" y="157269"/>
                  <a:pt x="2052903" y="157420"/>
                </a:cubicBezTo>
                <a:cubicBezTo>
                  <a:pt x="2057885" y="157693"/>
                  <a:pt x="2063971" y="156391"/>
                  <a:pt x="2071161" y="153515"/>
                </a:cubicBezTo>
                <a:cubicBezTo>
                  <a:pt x="2078351" y="150639"/>
                  <a:pt x="2084764" y="144551"/>
                  <a:pt x="2090398" y="135250"/>
                </a:cubicBezTo>
                <a:cubicBezTo>
                  <a:pt x="2096032" y="125950"/>
                  <a:pt x="2099006" y="111800"/>
                  <a:pt x="2099320" y="92800"/>
                </a:cubicBezTo>
                <a:cubicBezTo>
                  <a:pt x="2099203" y="77795"/>
                  <a:pt x="2096568" y="64880"/>
                  <a:pt x="2091413" y="54055"/>
                </a:cubicBezTo>
                <a:cubicBezTo>
                  <a:pt x="2086258" y="43229"/>
                  <a:pt x="2079280" y="34893"/>
                  <a:pt x="2070480" y="29047"/>
                </a:cubicBezTo>
                <a:cubicBezTo>
                  <a:pt x="2061679" y="23201"/>
                  <a:pt x="2051752" y="20244"/>
                  <a:pt x="2040698" y="20178"/>
                </a:cubicBezTo>
                <a:close/>
                <a:moveTo>
                  <a:pt x="992949" y="20178"/>
                </a:moveTo>
                <a:cubicBezTo>
                  <a:pt x="985098" y="20028"/>
                  <a:pt x="977436" y="21750"/>
                  <a:pt x="969963" y="25342"/>
                </a:cubicBezTo>
                <a:cubicBezTo>
                  <a:pt x="962490" y="28935"/>
                  <a:pt x="956295" y="35295"/>
                  <a:pt x="951378" y="44422"/>
                </a:cubicBezTo>
                <a:cubicBezTo>
                  <a:pt x="946462" y="53550"/>
                  <a:pt x="943913" y="66341"/>
                  <a:pt x="943731" y="82797"/>
                </a:cubicBezTo>
                <a:cubicBezTo>
                  <a:pt x="943778" y="96819"/>
                  <a:pt x="946241" y="109432"/>
                  <a:pt x="951119" y="120638"/>
                </a:cubicBezTo>
                <a:cubicBezTo>
                  <a:pt x="955997" y="131844"/>
                  <a:pt x="963009" y="140738"/>
                  <a:pt x="972156" y="147321"/>
                </a:cubicBezTo>
                <a:cubicBezTo>
                  <a:pt x="981303" y="153903"/>
                  <a:pt x="992301" y="157269"/>
                  <a:pt x="1005153" y="157420"/>
                </a:cubicBezTo>
                <a:cubicBezTo>
                  <a:pt x="1010135" y="157693"/>
                  <a:pt x="1016221" y="156391"/>
                  <a:pt x="1023411" y="153515"/>
                </a:cubicBezTo>
                <a:cubicBezTo>
                  <a:pt x="1030601" y="150639"/>
                  <a:pt x="1037014" y="144551"/>
                  <a:pt x="1042648" y="135250"/>
                </a:cubicBezTo>
                <a:cubicBezTo>
                  <a:pt x="1048282" y="125950"/>
                  <a:pt x="1051256" y="111800"/>
                  <a:pt x="1051570" y="92800"/>
                </a:cubicBezTo>
                <a:cubicBezTo>
                  <a:pt x="1051453" y="77795"/>
                  <a:pt x="1048818" y="64880"/>
                  <a:pt x="1043663" y="54055"/>
                </a:cubicBezTo>
                <a:cubicBezTo>
                  <a:pt x="1038508" y="43229"/>
                  <a:pt x="1031530" y="34893"/>
                  <a:pt x="1022730" y="29047"/>
                </a:cubicBezTo>
                <a:cubicBezTo>
                  <a:pt x="1013929" y="23201"/>
                  <a:pt x="1004002" y="20244"/>
                  <a:pt x="992949" y="20178"/>
                </a:cubicBezTo>
                <a:close/>
                <a:moveTo>
                  <a:pt x="230949" y="20178"/>
                </a:moveTo>
                <a:cubicBezTo>
                  <a:pt x="223098" y="20028"/>
                  <a:pt x="215436" y="21750"/>
                  <a:pt x="207963" y="25342"/>
                </a:cubicBezTo>
                <a:cubicBezTo>
                  <a:pt x="200490" y="28935"/>
                  <a:pt x="194295" y="35295"/>
                  <a:pt x="189378" y="44422"/>
                </a:cubicBezTo>
                <a:cubicBezTo>
                  <a:pt x="184462" y="53550"/>
                  <a:pt x="181913" y="66341"/>
                  <a:pt x="181731" y="82797"/>
                </a:cubicBezTo>
                <a:cubicBezTo>
                  <a:pt x="181778" y="96819"/>
                  <a:pt x="184241" y="109432"/>
                  <a:pt x="189119" y="120638"/>
                </a:cubicBezTo>
                <a:cubicBezTo>
                  <a:pt x="193997" y="131844"/>
                  <a:pt x="201009" y="140738"/>
                  <a:pt x="210156" y="147321"/>
                </a:cubicBezTo>
                <a:cubicBezTo>
                  <a:pt x="219303" y="153903"/>
                  <a:pt x="230301" y="157269"/>
                  <a:pt x="243153" y="157420"/>
                </a:cubicBezTo>
                <a:cubicBezTo>
                  <a:pt x="248135" y="157693"/>
                  <a:pt x="254221" y="156391"/>
                  <a:pt x="261411" y="153515"/>
                </a:cubicBezTo>
                <a:cubicBezTo>
                  <a:pt x="268602" y="150639"/>
                  <a:pt x="275014" y="144551"/>
                  <a:pt x="280648" y="135250"/>
                </a:cubicBezTo>
                <a:cubicBezTo>
                  <a:pt x="286282" y="125950"/>
                  <a:pt x="289256" y="111800"/>
                  <a:pt x="289570" y="92800"/>
                </a:cubicBezTo>
                <a:cubicBezTo>
                  <a:pt x="289454" y="77795"/>
                  <a:pt x="286818" y="64880"/>
                  <a:pt x="281663" y="54055"/>
                </a:cubicBezTo>
                <a:cubicBezTo>
                  <a:pt x="276508" y="43229"/>
                  <a:pt x="269530" y="34893"/>
                  <a:pt x="260730" y="29047"/>
                </a:cubicBezTo>
                <a:cubicBezTo>
                  <a:pt x="251929" y="23201"/>
                  <a:pt x="242002" y="20244"/>
                  <a:pt x="230949" y="20178"/>
                </a:cubicBezTo>
                <a:close/>
                <a:moveTo>
                  <a:pt x="6084503" y="13402"/>
                </a:moveTo>
                <a:cubicBezTo>
                  <a:pt x="6090091" y="13426"/>
                  <a:pt x="6095565" y="13522"/>
                  <a:pt x="6100925" y="13689"/>
                </a:cubicBezTo>
                <a:cubicBezTo>
                  <a:pt x="6106286" y="13857"/>
                  <a:pt x="6110409" y="13953"/>
                  <a:pt x="6113293" y="13977"/>
                </a:cubicBezTo>
                <a:cubicBezTo>
                  <a:pt x="6115954" y="13953"/>
                  <a:pt x="6119777" y="13857"/>
                  <a:pt x="6124763" y="13689"/>
                </a:cubicBezTo>
                <a:cubicBezTo>
                  <a:pt x="6129749" y="13522"/>
                  <a:pt x="6134325" y="13426"/>
                  <a:pt x="6138489" y="13402"/>
                </a:cubicBezTo>
                <a:cubicBezTo>
                  <a:pt x="6139889" y="13390"/>
                  <a:pt x="6140939" y="13514"/>
                  <a:pt x="6141640" y="13774"/>
                </a:cubicBezTo>
                <a:cubicBezTo>
                  <a:pt x="6142341" y="14035"/>
                  <a:pt x="6142691" y="14507"/>
                  <a:pt x="6142691" y="15190"/>
                </a:cubicBezTo>
                <a:cubicBezTo>
                  <a:pt x="6142691" y="15872"/>
                  <a:pt x="6142391" y="16344"/>
                  <a:pt x="6141790" y="16605"/>
                </a:cubicBezTo>
                <a:cubicBezTo>
                  <a:pt x="6141190" y="16866"/>
                  <a:pt x="6140289" y="16990"/>
                  <a:pt x="6139089" y="16977"/>
                </a:cubicBezTo>
                <a:cubicBezTo>
                  <a:pt x="6138297" y="16977"/>
                  <a:pt x="6137430" y="17027"/>
                  <a:pt x="6136488" y="17128"/>
                </a:cubicBezTo>
                <a:cubicBezTo>
                  <a:pt x="6135545" y="17228"/>
                  <a:pt x="6134479" y="17378"/>
                  <a:pt x="6133287" y="17578"/>
                </a:cubicBezTo>
                <a:cubicBezTo>
                  <a:pt x="6130639" y="18053"/>
                  <a:pt x="6128781" y="19204"/>
                  <a:pt x="6127709" y="21030"/>
                </a:cubicBezTo>
                <a:cubicBezTo>
                  <a:pt x="6126637" y="22856"/>
                  <a:pt x="6126029" y="25507"/>
                  <a:pt x="6125883" y="28984"/>
                </a:cubicBezTo>
                <a:cubicBezTo>
                  <a:pt x="6125752" y="30960"/>
                  <a:pt x="6125659" y="33322"/>
                  <a:pt x="6125601" y="36069"/>
                </a:cubicBezTo>
                <a:cubicBezTo>
                  <a:pt x="6125545" y="38817"/>
                  <a:pt x="6125511" y="42898"/>
                  <a:pt x="6125498" y="48313"/>
                </a:cubicBezTo>
                <a:cubicBezTo>
                  <a:pt x="6125485" y="53728"/>
                  <a:pt x="6125480" y="61426"/>
                  <a:pt x="6125483" y="71407"/>
                </a:cubicBezTo>
                <a:lnTo>
                  <a:pt x="6125483" y="75609"/>
                </a:lnTo>
                <a:cubicBezTo>
                  <a:pt x="6125496" y="76105"/>
                  <a:pt x="6125621" y="76464"/>
                  <a:pt x="6125858" y="76685"/>
                </a:cubicBezTo>
                <a:cubicBezTo>
                  <a:pt x="6126095" y="76906"/>
                  <a:pt x="6126371" y="77014"/>
                  <a:pt x="6126683" y="77010"/>
                </a:cubicBezTo>
                <a:lnTo>
                  <a:pt x="6203117" y="77010"/>
                </a:lnTo>
                <a:cubicBezTo>
                  <a:pt x="6203431" y="77014"/>
                  <a:pt x="6203705" y="76906"/>
                  <a:pt x="6203943" y="76685"/>
                </a:cubicBezTo>
                <a:cubicBezTo>
                  <a:pt x="6204181" y="76464"/>
                  <a:pt x="6204305" y="76105"/>
                  <a:pt x="6204317" y="75609"/>
                </a:cubicBezTo>
                <a:lnTo>
                  <a:pt x="6204317" y="71407"/>
                </a:lnTo>
                <a:cubicBezTo>
                  <a:pt x="6204320" y="61426"/>
                  <a:pt x="6204315" y="53728"/>
                  <a:pt x="6204303" y="48313"/>
                </a:cubicBezTo>
                <a:cubicBezTo>
                  <a:pt x="6204291" y="42898"/>
                  <a:pt x="6204256" y="38817"/>
                  <a:pt x="6204199" y="36069"/>
                </a:cubicBezTo>
                <a:cubicBezTo>
                  <a:pt x="6204143" y="33322"/>
                  <a:pt x="6204049" y="30960"/>
                  <a:pt x="6203917" y="28984"/>
                </a:cubicBezTo>
                <a:cubicBezTo>
                  <a:pt x="6203797" y="25620"/>
                  <a:pt x="6203139" y="23043"/>
                  <a:pt x="6201941" y="21255"/>
                </a:cubicBezTo>
                <a:cubicBezTo>
                  <a:pt x="6200746" y="19466"/>
                  <a:pt x="6198536" y="18241"/>
                  <a:pt x="6195314" y="17578"/>
                </a:cubicBezTo>
                <a:cubicBezTo>
                  <a:pt x="6194463" y="17378"/>
                  <a:pt x="6193313" y="17228"/>
                  <a:pt x="6191863" y="17128"/>
                </a:cubicBezTo>
                <a:cubicBezTo>
                  <a:pt x="6190412" y="17027"/>
                  <a:pt x="6188961" y="16977"/>
                  <a:pt x="6187511" y="16977"/>
                </a:cubicBezTo>
                <a:cubicBezTo>
                  <a:pt x="6186406" y="16990"/>
                  <a:pt x="6185564" y="16866"/>
                  <a:pt x="6184984" y="16605"/>
                </a:cubicBezTo>
                <a:cubicBezTo>
                  <a:pt x="6184405" y="16344"/>
                  <a:pt x="6184113" y="15872"/>
                  <a:pt x="6184109" y="15190"/>
                </a:cubicBezTo>
                <a:cubicBezTo>
                  <a:pt x="6184109" y="14507"/>
                  <a:pt x="6184459" y="14035"/>
                  <a:pt x="6185159" y="13774"/>
                </a:cubicBezTo>
                <a:cubicBezTo>
                  <a:pt x="6185859" y="13514"/>
                  <a:pt x="6186910" y="13390"/>
                  <a:pt x="6188311" y="13402"/>
                </a:cubicBezTo>
                <a:cubicBezTo>
                  <a:pt x="6193901" y="13426"/>
                  <a:pt x="6199376" y="13522"/>
                  <a:pt x="6204737" y="13689"/>
                </a:cubicBezTo>
                <a:cubicBezTo>
                  <a:pt x="6210098" y="13857"/>
                  <a:pt x="6214221" y="13953"/>
                  <a:pt x="6217107" y="13977"/>
                </a:cubicBezTo>
                <a:cubicBezTo>
                  <a:pt x="6219767" y="13953"/>
                  <a:pt x="6223589" y="13857"/>
                  <a:pt x="6228575" y="13689"/>
                </a:cubicBezTo>
                <a:cubicBezTo>
                  <a:pt x="6233561" y="13522"/>
                  <a:pt x="6238135" y="13426"/>
                  <a:pt x="6242298" y="13402"/>
                </a:cubicBezTo>
                <a:cubicBezTo>
                  <a:pt x="6243698" y="13390"/>
                  <a:pt x="6244748" y="13514"/>
                  <a:pt x="6245449" y="13774"/>
                </a:cubicBezTo>
                <a:cubicBezTo>
                  <a:pt x="6246149" y="14035"/>
                  <a:pt x="6246499" y="14507"/>
                  <a:pt x="6246499" y="15190"/>
                </a:cubicBezTo>
                <a:cubicBezTo>
                  <a:pt x="6246499" y="15872"/>
                  <a:pt x="6246199" y="16344"/>
                  <a:pt x="6245599" y="16605"/>
                </a:cubicBezTo>
                <a:cubicBezTo>
                  <a:pt x="6244998" y="16866"/>
                  <a:pt x="6244098" y="16990"/>
                  <a:pt x="6242898" y="16977"/>
                </a:cubicBezTo>
                <a:cubicBezTo>
                  <a:pt x="6242106" y="16977"/>
                  <a:pt x="6241239" y="17027"/>
                  <a:pt x="6240297" y="17128"/>
                </a:cubicBezTo>
                <a:cubicBezTo>
                  <a:pt x="6239355" y="17228"/>
                  <a:pt x="6238289" y="17378"/>
                  <a:pt x="6237097" y="17578"/>
                </a:cubicBezTo>
                <a:cubicBezTo>
                  <a:pt x="6234451" y="18053"/>
                  <a:pt x="6232592" y="19204"/>
                  <a:pt x="6231521" y="21030"/>
                </a:cubicBezTo>
                <a:cubicBezTo>
                  <a:pt x="6230450" y="22856"/>
                  <a:pt x="6229841" y="25507"/>
                  <a:pt x="6229697" y="28984"/>
                </a:cubicBezTo>
                <a:cubicBezTo>
                  <a:pt x="6229565" y="30960"/>
                  <a:pt x="6229471" y="33322"/>
                  <a:pt x="6229415" y="36069"/>
                </a:cubicBezTo>
                <a:cubicBezTo>
                  <a:pt x="6229358" y="38817"/>
                  <a:pt x="6229323" y="42898"/>
                  <a:pt x="6229311" y="48313"/>
                </a:cubicBezTo>
                <a:cubicBezTo>
                  <a:pt x="6229298" y="53728"/>
                  <a:pt x="6229293" y="61426"/>
                  <a:pt x="6229296" y="71407"/>
                </a:cubicBezTo>
                <a:lnTo>
                  <a:pt x="6229296" y="106595"/>
                </a:lnTo>
                <a:cubicBezTo>
                  <a:pt x="6229275" y="115895"/>
                  <a:pt x="6229317" y="124258"/>
                  <a:pt x="6229421" y="131682"/>
                </a:cubicBezTo>
                <a:cubicBezTo>
                  <a:pt x="6229525" y="139106"/>
                  <a:pt x="6229817" y="145017"/>
                  <a:pt x="6230297" y="149415"/>
                </a:cubicBezTo>
                <a:cubicBezTo>
                  <a:pt x="6230509" y="152266"/>
                  <a:pt x="6231133" y="154667"/>
                  <a:pt x="6232171" y="156618"/>
                </a:cubicBezTo>
                <a:cubicBezTo>
                  <a:pt x="6233209" y="158569"/>
                  <a:pt x="6235185" y="159770"/>
                  <a:pt x="6238097" y="160220"/>
                </a:cubicBezTo>
                <a:cubicBezTo>
                  <a:pt x="6239559" y="160428"/>
                  <a:pt x="6241235" y="160612"/>
                  <a:pt x="6243123" y="160770"/>
                </a:cubicBezTo>
                <a:cubicBezTo>
                  <a:pt x="6245011" y="160929"/>
                  <a:pt x="6246735" y="161012"/>
                  <a:pt x="6248298" y="161020"/>
                </a:cubicBezTo>
                <a:cubicBezTo>
                  <a:pt x="6250465" y="161053"/>
                  <a:pt x="6251533" y="161583"/>
                  <a:pt x="6251499" y="162609"/>
                </a:cubicBezTo>
                <a:cubicBezTo>
                  <a:pt x="6251483" y="163301"/>
                  <a:pt x="6251115" y="163805"/>
                  <a:pt x="6250399" y="164124"/>
                </a:cubicBezTo>
                <a:cubicBezTo>
                  <a:pt x="6249682" y="164443"/>
                  <a:pt x="6248715" y="164600"/>
                  <a:pt x="6247498" y="164596"/>
                </a:cubicBezTo>
                <a:cubicBezTo>
                  <a:pt x="6240860" y="164572"/>
                  <a:pt x="6234735" y="164476"/>
                  <a:pt x="6229125" y="164308"/>
                </a:cubicBezTo>
                <a:cubicBezTo>
                  <a:pt x="6223515" y="164141"/>
                  <a:pt x="6219242" y="164045"/>
                  <a:pt x="6216307" y="164021"/>
                </a:cubicBezTo>
                <a:cubicBezTo>
                  <a:pt x="6213743" y="164045"/>
                  <a:pt x="6209978" y="164141"/>
                  <a:pt x="6205013" y="164308"/>
                </a:cubicBezTo>
                <a:cubicBezTo>
                  <a:pt x="6200047" y="164476"/>
                  <a:pt x="6195481" y="164572"/>
                  <a:pt x="6191313" y="164596"/>
                </a:cubicBezTo>
                <a:cubicBezTo>
                  <a:pt x="6188511" y="164629"/>
                  <a:pt x="6187110" y="163967"/>
                  <a:pt x="6187110" y="162609"/>
                </a:cubicBezTo>
                <a:cubicBezTo>
                  <a:pt x="6187093" y="162109"/>
                  <a:pt x="6187327" y="161720"/>
                  <a:pt x="6187811" y="161442"/>
                </a:cubicBezTo>
                <a:cubicBezTo>
                  <a:pt x="6188295" y="161165"/>
                  <a:pt x="6189128" y="161025"/>
                  <a:pt x="6190312" y="161020"/>
                </a:cubicBezTo>
                <a:cubicBezTo>
                  <a:pt x="6191813" y="161012"/>
                  <a:pt x="6193163" y="160929"/>
                  <a:pt x="6194363" y="160770"/>
                </a:cubicBezTo>
                <a:cubicBezTo>
                  <a:pt x="6195564" y="160612"/>
                  <a:pt x="6196615" y="160428"/>
                  <a:pt x="6197515" y="160220"/>
                </a:cubicBezTo>
                <a:cubicBezTo>
                  <a:pt x="6199457" y="159774"/>
                  <a:pt x="6200825" y="158565"/>
                  <a:pt x="6201617" y="156593"/>
                </a:cubicBezTo>
                <a:cubicBezTo>
                  <a:pt x="6202409" y="154622"/>
                  <a:pt x="6202976" y="152162"/>
                  <a:pt x="6203318" y="149215"/>
                </a:cubicBezTo>
                <a:cubicBezTo>
                  <a:pt x="6203797" y="144913"/>
                  <a:pt x="6204089" y="139060"/>
                  <a:pt x="6204193" y="131657"/>
                </a:cubicBezTo>
                <a:cubicBezTo>
                  <a:pt x="6204297" y="124253"/>
                  <a:pt x="6204339" y="115900"/>
                  <a:pt x="6204317" y="106595"/>
                </a:cubicBezTo>
                <a:lnTo>
                  <a:pt x="6204317" y="88987"/>
                </a:lnTo>
                <a:cubicBezTo>
                  <a:pt x="6204305" y="88587"/>
                  <a:pt x="6204181" y="88287"/>
                  <a:pt x="6203943" y="88087"/>
                </a:cubicBezTo>
                <a:cubicBezTo>
                  <a:pt x="6203705" y="87886"/>
                  <a:pt x="6203431" y="87786"/>
                  <a:pt x="6203117" y="87786"/>
                </a:cubicBezTo>
                <a:lnTo>
                  <a:pt x="6126683" y="87786"/>
                </a:lnTo>
                <a:cubicBezTo>
                  <a:pt x="6126371" y="87774"/>
                  <a:pt x="6126095" y="87849"/>
                  <a:pt x="6125858" y="88012"/>
                </a:cubicBezTo>
                <a:cubicBezTo>
                  <a:pt x="6125621" y="88174"/>
                  <a:pt x="6125496" y="88499"/>
                  <a:pt x="6125483" y="88987"/>
                </a:cubicBezTo>
                <a:lnTo>
                  <a:pt x="6125483" y="106595"/>
                </a:lnTo>
                <a:cubicBezTo>
                  <a:pt x="6125462" y="115895"/>
                  <a:pt x="6125504" y="124258"/>
                  <a:pt x="6125608" y="131682"/>
                </a:cubicBezTo>
                <a:cubicBezTo>
                  <a:pt x="6125713" y="139106"/>
                  <a:pt x="6126004" y="145017"/>
                  <a:pt x="6126483" y="149415"/>
                </a:cubicBezTo>
                <a:cubicBezTo>
                  <a:pt x="6126697" y="152266"/>
                  <a:pt x="6127321" y="154667"/>
                  <a:pt x="6128359" y="156618"/>
                </a:cubicBezTo>
                <a:cubicBezTo>
                  <a:pt x="6129397" y="158569"/>
                  <a:pt x="6131373" y="159770"/>
                  <a:pt x="6134287" y="160220"/>
                </a:cubicBezTo>
                <a:cubicBezTo>
                  <a:pt x="6135750" y="160428"/>
                  <a:pt x="6137426" y="160612"/>
                  <a:pt x="6139314" y="160770"/>
                </a:cubicBezTo>
                <a:cubicBezTo>
                  <a:pt x="6141203" y="160929"/>
                  <a:pt x="6142929" y="161012"/>
                  <a:pt x="6144491" y="161020"/>
                </a:cubicBezTo>
                <a:cubicBezTo>
                  <a:pt x="6145588" y="161024"/>
                  <a:pt x="6146397" y="161165"/>
                  <a:pt x="6146917" y="161442"/>
                </a:cubicBezTo>
                <a:cubicBezTo>
                  <a:pt x="6147439" y="161720"/>
                  <a:pt x="6147697" y="162109"/>
                  <a:pt x="6147693" y="162609"/>
                </a:cubicBezTo>
                <a:cubicBezTo>
                  <a:pt x="6147676" y="163301"/>
                  <a:pt x="6147309" y="163805"/>
                  <a:pt x="6146592" y="164124"/>
                </a:cubicBezTo>
                <a:cubicBezTo>
                  <a:pt x="6145875" y="164443"/>
                  <a:pt x="6144908" y="164600"/>
                  <a:pt x="6143691" y="164596"/>
                </a:cubicBezTo>
                <a:cubicBezTo>
                  <a:pt x="6137051" y="164572"/>
                  <a:pt x="6130925" y="164476"/>
                  <a:pt x="6125314" y="164308"/>
                </a:cubicBezTo>
                <a:cubicBezTo>
                  <a:pt x="6119703" y="164141"/>
                  <a:pt x="6115429" y="164045"/>
                  <a:pt x="6112494" y="164021"/>
                </a:cubicBezTo>
                <a:cubicBezTo>
                  <a:pt x="6109934" y="164045"/>
                  <a:pt x="6106161" y="164141"/>
                  <a:pt x="6101175" y="164308"/>
                </a:cubicBezTo>
                <a:cubicBezTo>
                  <a:pt x="6096190" y="164476"/>
                  <a:pt x="6091566" y="164572"/>
                  <a:pt x="6087303" y="164596"/>
                </a:cubicBezTo>
                <a:cubicBezTo>
                  <a:pt x="6084669" y="164629"/>
                  <a:pt x="6083336" y="163967"/>
                  <a:pt x="6083303" y="162609"/>
                </a:cubicBezTo>
                <a:cubicBezTo>
                  <a:pt x="6083286" y="162109"/>
                  <a:pt x="6083519" y="161720"/>
                  <a:pt x="6084003" y="161442"/>
                </a:cubicBezTo>
                <a:cubicBezTo>
                  <a:pt x="6084486" y="161165"/>
                  <a:pt x="6085319" y="161025"/>
                  <a:pt x="6086503" y="161020"/>
                </a:cubicBezTo>
                <a:cubicBezTo>
                  <a:pt x="6088003" y="161012"/>
                  <a:pt x="6089354" y="160929"/>
                  <a:pt x="6090553" y="160770"/>
                </a:cubicBezTo>
                <a:cubicBezTo>
                  <a:pt x="6091753" y="160612"/>
                  <a:pt x="6092804" y="160428"/>
                  <a:pt x="6093704" y="160220"/>
                </a:cubicBezTo>
                <a:cubicBezTo>
                  <a:pt x="6095646" y="159774"/>
                  <a:pt x="6097013" y="158565"/>
                  <a:pt x="6097805" y="156593"/>
                </a:cubicBezTo>
                <a:cubicBezTo>
                  <a:pt x="6098596" y="154622"/>
                  <a:pt x="6099163" y="152162"/>
                  <a:pt x="6099505" y="149215"/>
                </a:cubicBezTo>
                <a:cubicBezTo>
                  <a:pt x="6099984" y="144913"/>
                  <a:pt x="6100276" y="139060"/>
                  <a:pt x="6100380" y="131657"/>
                </a:cubicBezTo>
                <a:cubicBezTo>
                  <a:pt x="6100484" y="124253"/>
                  <a:pt x="6100526" y="115900"/>
                  <a:pt x="6100505" y="106595"/>
                </a:cubicBezTo>
                <a:lnTo>
                  <a:pt x="6100505" y="71407"/>
                </a:lnTo>
                <a:cubicBezTo>
                  <a:pt x="6100507" y="61426"/>
                  <a:pt x="6100502" y="53728"/>
                  <a:pt x="6100491" y="48313"/>
                </a:cubicBezTo>
                <a:cubicBezTo>
                  <a:pt x="6100477" y="42898"/>
                  <a:pt x="6100443" y="38817"/>
                  <a:pt x="6100386" y="36069"/>
                </a:cubicBezTo>
                <a:cubicBezTo>
                  <a:pt x="6100329" y="33322"/>
                  <a:pt x="6100235" y="30960"/>
                  <a:pt x="6100105" y="28984"/>
                </a:cubicBezTo>
                <a:cubicBezTo>
                  <a:pt x="6099984" y="25620"/>
                  <a:pt x="6099325" y="23043"/>
                  <a:pt x="6098129" y="21255"/>
                </a:cubicBezTo>
                <a:cubicBezTo>
                  <a:pt x="6096933" y="19466"/>
                  <a:pt x="6094725" y="18241"/>
                  <a:pt x="6091503" y="17578"/>
                </a:cubicBezTo>
                <a:cubicBezTo>
                  <a:pt x="6090653" y="17378"/>
                  <a:pt x="6089504" y="17228"/>
                  <a:pt x="6088053" y="17128"/>
                </a:cubicBezTo>
                <a:cubicBezTo>
                  <a:pt x="6086603" y="17027"/>
                  <a:pt x="6085153" y="16977"/>
                  <a:pt x="6083703" y="16977"/>
                </a:cubicBezTo>
                <a:cubicBezTo>
                  <a:pt x="6082599" y="16990"/>
                  <a:pt x="6081757" y="16866"/>
                  <a:pt x="6081177" y="16605"/>
                </a:cubicBezTo>
                <a:cubicBezTo>
                  <a:pt x="6080598" y="16344"/>
                  <a:pt x="6080306" y="15872"/>
                  <a:pt x="6080303" y="15190"/>
                </a:cubicBezTo>
                <a:cubicBezTo>
                  <a:pt x="6080303" y="14507"/>
                  <a:pt x="6080653" y="14035"/>
                  <a:pt x="6081353" y="13774"/>
                </a:cubicBezTo>
                <a:cubicBezTo>
                  <a:pt x="6082053" y="13514"/>
                  <a:pt x="6083103" y="13390"/>
                  <a:pt x="6084503" y="13402"/>
                </a:cubicBezTo>
                <a:close/>
                <a:moveTo>
                  <a:pt x="5723677" y="13402"/>
                </a:moveTo>
                <a:cubicBezTo>
                  <a:pt x="5729157" y="13426"/>
                  <a:pt x="5734598" y="13522"/>
                  <a:pt x="5740000" y="13689"/>
                </a:cubicBezTo>
                <a:cubicBezTo>
                  <a:pt x="5745402" y="13857"/>
                  <a:pt x="5749691" y="13953"/>
                  <a:pt x="5752868" y="13977"/>
                </a:cubicBezTo>
                <a:cubicBezTo>
                  <a:pt x="5755540" y="13953"/>
                  <a:pt x="5759339" y="13857"/>
                  <a:pt x="5764262" y="13689"/>
                </a:cubicBezTo>
                <a:cubicBezTo>
                  <a:pt x="5769186" y="13522"/>
                  <a:pt x="5773586" y="13426"/>
                  <a:pt x="5777463" y="13402"/>
                </a:cubicBezTo>
                <a:cubicBezTo>
                  <a:pt x="5778959" y="13390"/>
                  <a:pt x="5780068" y="13514"/>
                  <a:pt x="5780789" y="13774"/>
                </a:cubicBezTo>
                <a:cubicBezTo>
                  <a:pt x="5781510" y="14035"/>
                  <a:pt x="5781869" y="14507"/>
                  <a:pt x="5781865" y="15190"/>
                </a:cubicBezTo>
                <a:cubicBezTo>
                  <a:pt x="5781857" y="15872"/>
                  <a:pt x="5781573" y="16344"/>
                  <a:pt x="5781015" y="16605"/>
                </a:cubicBezTo>
                <a:cubicBezTo>
                  <a:pt x="5780456" y="16866"/>
                  <a:pt x="5779672" y="16990"/>
                  <a:pt x="5778664" y="16977"/>
                </a:cubicBezTo>
                <a:cubicBezTo>
                  <a:pt x="5777609" y="16977"/>
                  <a:pt x="5776667" y="17027"/>
                  <a:pt x="5775837" y="17127"/>
                </a:cubicBezTo>
                <a:cubicBezTo>
                  <a:pt x="5775008" y="17227"/>
                  <a:pt x="5774015" y="17377"/>
                  <a:pt x="5772861" y="17577"/>
                </a:cubicBezTo>
                <a:cubicBezTo>
                  <a:pt x="5770214" y="18052"/>
                  <a:pt x="5768354" y="19202"/>
                  <a:pt x="5767283" y="21028"/>
                </a:cubicBezTo>
                <a:cubicBezTo>
                  <a:pt x="5766212" y="22854"/>
                  <a:pt x="5765603" y="25504"/>
                  <a:pt x="5765458" y="28980"/>
                </a:cubicBezTo>
                <a:cubicBezTo>
                  <a:pt x="5765327" y="30956"/>
                  <a:pt x="5765233" y="33318"/>
                  <a:pt x="5765176" y="36064"/>
                </a:cubicBezTo>
                <a:cubicBezTo>
                  <a:pt x="5765119" y="38811"/>
                  <a:pt x="5765084" y="42891"/>
                  <a:pt x="5765072" y="48305"/>
                </a:cubicBezTo>
                <a:cubicBezTo>
                  <a:pt x="5765060" y="53719"/>
                  <a:pt x="5765055" y="61415"/>
                  <a:pt x="5765057" y="71394"/>
                </a:cubicBezTo>
                <a:lnTo>
                  <a:pt x="5765057" y="99402"/>
                </a:lnTo>
                <a:cubicBezTo>
                  <a:pt x="5765095" y="113644"/>
                  <a:pt x="5766470" y="124472"/>
                  <a:pt x="5769184" y="131887"/>
                </a:cubicBezTo>
                <a:cubicBezTo>
                  <a:pt x="5771898" y="139302"/>
                  <a:pt x="5775724" y="144879"/>
                  <a:pt x="5780664" y="148617"/>
                </a:cubicBezTo>
                <a:cubicBezTo>
                  <a:pt x="5785220" y="152198"/>
                  <a:pt x="5789664" y="154490"/>
                  <a:pt x="5793995" y="155494"/>
                </a:cubicBezTo>
                <a:cubicBezTo>
                  <a:pt x="5798326" y="156499"/>
                  <a:pt x="5802219" y="156941"/>
                  <a:pt x="5805675" y="156820"/>
                </a:cubicBezTo>
                <a:cubicBezTo>
                  <a:pt x="5810177" y="156870"/>
                  <a:pt x="5814880" y="156070"/>
                  <a:pt x="5819782" y="154419"/>
                </a:cubicBezTo>
                <a:cubicBezTo>
                  <a:pt x="5824684" y="152769"/>
                  <a:pt x="5829186" y="149968"/>
                  <a:pt x="5833288" y="146017"/>
                </a:cubicBezTo>
                <a:cubicBezTo>
                  <a:pt x="5838586" y="140423"/>
                  <a:pt x="5841895" y="133354"/>
                  <a:pt x="5843217" y="124810"/>
                </a:cubicBezTo>
                <a:cubicBezTo>
                  <a:pt x="5844538" y="116266"/>
                  <a:pt x="5845096" y="106796"/>
                  <a:pt x="5844892" y="96401"/>
                </a:cubicBezTo>
                <a:lnTo>
                  <a:pt x="5844892" y="71394"/>
                </a:lnTo>
                <a:cubicBezTo>
                  <a:pt x="5844895" y="61415"/>
                  <a:pt x="5844890" y="53719"/>
                  <a:pt x="5844878" y="48305"/>
                </a:cubicBezTo>
                <a:cubicBezTo>
                  <a:pt x="5844865" y="42891"/>
                  <a:pt x="5844831" y="38811"/>
                  <a:pt x="5844774" y="36064"/>
                </a:cubicBezTo>
                <a:cubicBezTo>
                  <a:pt x="5844717" y="33318"/>
                  <a:pt x="5844623" y="30956"/>
                  <a:pt x="5844493" y="28980"/>
                </a:cubicBezTo>
                <a:cubicBezTo>
                  <a:pt x="5844372" y="25617"/>
                  <a:pt x="5843713" y="23041"/>
                  <a:pt x="5842517" y="21253"/>
                </a:cubicBezTo>
                <a:cubicBezTo>
                  <a:pt x="5841320" y="19465"/>
                  <a:pt x="5839111" y="18240"/>
                  <a:pt x="5835889" y="17577"/>
                </a:cubicBezTo>
                <a:cubicBezTo>
                  <a:pt x="5835026" y="17377"/>
                  <a:pt x="5833900" y="17227"/>
                  <a:pt x="5832512" y="17127"/>
                </a:cubicBezTo>
                <a:cubicBezTo>
                  <a:pt x="5831124" y="17027"/>
                  <a:pt x="5829849" y="16977"/>
                  <a:pt x="5828686" y="16977"/>
                </a:cubicBezTo>
                <a:cubicBezTo>
                  <a:pt x="5827581" y="16990"/>
                  <a:pt x="5826739" y="16866"/>
                  <a:pt x="5826160" y="16605"/>
                </a:cubicBezTo>
                <a:cubicBezTo>
                  <a:pt x="5825580" y="16344"/>
                  <a:pt x="5825288" y="15872"/>
                  <a:pt x="5825284" y="15190"/>
                </a:cubicBezTo>
                <a:cubicBezTo>
                  <a:pt x="5825284" y="14507"/>
                  <a:pt x="5825634" y="14035"/>
                  <a:pt x="5826335" y="13774"/>
                </a:cubicBezTo>
                <a:cubicBezTo>
                  <a:pt x="5827035" y="13514"/>
                  <a:pt x="5828085" y="13390"/>
                  <a:pt x="5829486" y="13402"/>
                </a:cubicBezTo>
                <a:cubicBezTo>
                  <a:pt x="5834896" y="13426"/>
                  <a:pt x="5839979" y="13522"/>
                  <a:pt x="5844736" y="13689"/>
                </a:cubicBezTo>
                <a:cubicBezTo>
                  <a:pt x="5849492" y="13857"/>
                  <a:pt x="5852074" y="13953"/>
                  <a:pt x="5852482" y="13977"/>
                </a:cubicBezTo>
                <a:cubicBezTo>
                  <a:pt x="5853993" y="13953"/>
                  <a:pt x="5857115" y="13857"/>
                  <a:pt x="5861850" y="13689"/>
                </a:cubicBezTo>
                <a:cubicBezTo>
                  <a:pt x="5866584" y="13522"/>
                  <a:pt x="5871058" y="13426"/>
                  <a:pt x="5875271" y="13402"/>
                </a:cubicBezTo>
                <a:cubicBezTo>
                  <a:pt x="5876671" y="13390"/>
                  <a:pt x="5877721" y="13514"/>
                  <a:pt x="5878421" y="13774"/>
                </a:cubicBezTo>
                <a:cubicBezTo>
                  <a:pt x="5879121" y="14035"/>
                  <a:pt x="5879471" y="14507"/>
                  <a:pt x="5879471" y="15190"/>
                </a:cubicBezTo>
                <a:cubicBezTo>
                  <a:pt x="5879471" y="15872"/>
                  <a:pt x="5879171" y="16344"/>
                  <a:pt x="5878571" y="16605"/>
                </a:cubicBezTo>
                <a:cubicBezTo>
                  <a:pt x="5877971" y="16866"/>
                  <a:pt x="5877071" y="16990"/>
                  <a:pt x="5875871" y="16977"/>
                </a:cubicBezTo>
                <a:cubicBezTo>
                  <a:pt x="5874817" y="16977"/>
                  <a:pt x="5873875" y="17027"/>
                  <a:pt x="5873046" y="17127"/>
                </a:cubicBezTo>
                <a:cubicBezTo>
                  <a:pt x="5872217" y="17227"/>
                  <a:pt x="5871224" y="17377"/>
                  <a:pt x="5870070" y="17577"/>
                </a:cubicBezTo>
                <a:cubicBezTo>
                  <a:pt x="5867424" y="18052"/>
                  <a:pt x="5865566" y="19202"/>
                  <a:pt x="5864495" y="21028"/>
                </a:cubicBezTo>
                <a:cubicBezTo>
                  <a:pt x="5863424" y="22854"/>
                  <a:pt x="5862816" y="25504"/>
                  <a:pt x="5862669" y="28980"/>
                </a:cubicBezTo>
                <a:cubicBezTo>
                  <a:pt x="5862538" y="30956"/>
                  <a:pt x="5862445" y="33318"/>
                  <a:pt x="5862388" y="36064"/>
                </a:cubicBezTo>
                <a:cubicBezTo>
                  <a:pt x="5862331" y="38811"/>
                  <a:pt x="5862296" y="42891"/>
                  <a:pt x="5862284" y="48305"/>
                </a:cubicBezTo>
                <a:cubicBezTo>
                  <a:pt x="5862272" y="53719"/>
                  <a:pt x="5862267" y="61415"/>
                  <a:pt x="5862269" y="71394"/>
                </a:cubicBezTo>
                <a:lnTo>
                  <a:pt x="5862269" y="92800"/>
                </a:lnTo>
                <a:cubicBezTo>
                  <a:pt x="5862527" y="104124"/>
                  <a:pt x="5861462" y="115136"/>
                  <a:pt x="5859073" y="125835"/>
                </a:cubicBezTo>
                <a:cubicBezTo>
                  <a:pt x="5856685" y="136534"/>
                  <a:pt x="5851424" y="145596"/>
                  <a:pt x="5843292" y="153019"/>
                </a:cubicBezTo>
                <a:cubicBezTo>
                  <a:pt x="5836156" y="158948"/>
                  <a:pt x="5829069" y="162867"/>
                  <a:pt x="5822033" y="164776"/>
                </a:cubicBezTo>
                <a:cubicBezTo>
                  <a:pt x="5814996" y="166685"/>
                  <a:pt x="5808210" y="167559"/>
                  <a:pt x="5801674" y="167396"/>
                </a:cubicBezTo>
                <a:cubicBezTo>
                  <a:pt x="5796096" y="167646"/>
                  <a:pt x="5789193" y="166997"/>
                  <a:pt x="5780966" y="165449"/>
                </a:cubicBezTo>
                <a:cubicBezTo>
                  <a:pt x="5772738" y="163902"/>
                  <a:pt x="5764837" y="159959"/>
                  <a:pt x="5757264" y="153619"/>
                </a:cubicBezTo>
                <a:cubicBezTo>
                  <a:pt x="5752064" y="149197"/>
                  <a:pt x="5747826" y="142836"/>
                  <a:pt x="5744549" y="134538"/>
                </a:cubicBezTo>
                <a:cubicBezTo>
                  <a:pt x="5741273" y="126240"/>
                  <a:pt x="5739583" y="114928"/>
                  <a:pt x="5739479" y="100603"/>
                </a:cubicBezTo>
                <a:lnTo>
                  <a:pt x="5739479" y="71394"/>
                </a:lnTo>
                <a:cubicBezTo>
                  <a:pt x="5739482" y="61415"/>
                  <a:pt x="5739477" y="53719"/>
                  <a:pt x="5739464" y="48305"/>
                </a:cubicBezTo>
                <a:cubicBezTo>
                  <a:pt x="5739452" y="42891"/>
                  <a:pt x="5739417" y="38811"/>
                  <a:pt x="5739360" y="36064"/>
                </a:cubicBezTo>
                <a:cubicBezTo>
                  <a:pt x="5739304" y="33318"/>
                  <a:pt x="5739210" y="30956"/>
                  <a:pt x="5739079" y="28980"/>
                </a:cubicBezTo>
                <a:cubicBezTo>
                  <a:pt x="5738958" y="25617"/>
                  <a:pt x="5738300" y="23041"/>
                  <a:pt x="5737103" y="21253"/>
                </a:cubicBezTo>
                <a:cubicBezTo>
                  <a:pt x="5735908" y="19465"/>
                  <a:pt x="5733699" y="18240"/>
                  <a:pt x="5730478" y="17577"/>
                </a:cubicBezTo>
                <a:cubicBezTo>
                  <a:pt x="5729628" y="17377"/>
                  <a:pt x="5728477" y="17227"/>
                  <a:pt x="5727027" y="17127"/>
                </a:cubicBezTo>
                <a:cubicBezTo>
                  <a:pt x="5725577" y="17027"/>
                  <a:pt x="5724127" y="16977"/>
                  <a:pt x="5722677" y="16977"/>
                </a:cubicBezTo>
                <a:cubicBezTo>
                  <a:pt x="5721572" y="16990"/>
                  <a:pt x="5720731" y="16866"/>
                  <a:pt x="5720152" y="16605"/>
                </a:cubicBezTo>
                <a:cubicBezTo>
                  <a:pt x="5719573" y="16344"/>
                  <a:pt x="5719281" y="15872"/>
                  <a:pt x="5719276" y="15190"/>
                </a:cubicBezTo>
                <a:cubicBezTo>
                  <a:pt x="5719273" y="14507"/>
                  <a:pt x="5719631" y="14035"/>
                  <a:pt x="5720352" y="13774"/>
                </a:cubicBezTo>
                <a:cubicBezTo>
                  <a:pt x="5721072" y="13514"/>
                  <a:pt x="5722181" y="13390"/>
                  <a:pt x="5723677" y="13402"/>
                </a:cubicBezTo>
                <a:close/>
                <a:moveTo>
                  <a:pt x="4392254" y="13402"/>
                </a:moveTo>
                <a:cubicBezTo>
                  <a:pt x="4396300" y="13426"/>
                  <a:pt x="4400857" y="13522"/>
                  <a:pt x="4405926" y="13689"/>
                </a:cubicBezTo>
                <a:cubicBezTo>
                  <a:pt x="4410995" y="13857"/>
                  <a:pt x="4415101" y="13953"/>
                  <a:pt x="4418244" y="13977"/>
                </a:cubicBezTo>
                <a:cubicBezTo>
                  <a:pt x="4420971" y="13953"/>
                  <a:pt x="4424710" y="13857"/>
                  <a:pt x="4429462" y="13689"/>
                </a:cubicBezTo>
                <a:cubicBezTo>
                  <a:pt x="4434215" y="13522"/>
                  <a:pt x="4438606" y="13426"/>
                  <a:pt x="4442635" y="13402"/>
                </a:cubicBezTo>
                <a:cubicBezTo>
                  <a:pt x="4443948" y="13394"/>
                  <a:pt x="4444973" y="13510"/>
                  <a:pt x="4445710" y="13750"/>
                </a:cubicBezTo>
                <a:cubicBezTo>
                  <a:pt x="4446448" y="13990"/>
                  <a:pt x="4446823" y="14403"/>
                  <a:pt x="4446835" y="14991"/>
                </a:cubicBezTo>
                <a:cubicBezTo>
                  <a:pt x="4446827" y="15769"/>
                  <a:pt x="4446544" y="16299"/>
                  <a:pt x="4445985" y="16580"/>
                </a:cubicBezTo>
                <a:cubicBezTo>
                  <a:pt x="4445427" y="16861"/>
                  <a:pt x="4444644" y="16994"/>
                  <a:pt x="4443635" y="16977"/>
                </a:cubicBezTo>
                <a:cubicBezTo>
                  <a:pt x="4442660" y="16977"/>
                  <a:pt x="4441710" y="17028"/>
                  <a:pt x="4440785" y="17128"/>
                </a:cubicBezTo>
                <a:cubicBezTo>
                  <a:pt x="4439860" y="17228"/>
                  <a:pt x="4438809" y="17378"/>
                  <a:pt x="4437635" y="17578"/>
                </a:cubicBezTo>
                <a:cubicBezTo>
                  <a:pt x="4434988" y="18054"/>
                  <a:pt x="4433130" y="19204"/>
                  <a:pt x="4432059" y="21029"/>
                </a:cubicBezTo>
                <a:cubicBezTo>
                  <a:pt x="4430988" y="22855"/>
                  <a:pt x="4430380" y="25506"/>
                  <a:pt x="4430234" y="28982"/>
                </a:cubicBezTo>
                <a:cubicBezTo>
                  <a:pt x="4430103" y="30958"/>
                  <a:pt x="4430009" y="33319"/>
                  <a:pt x="4429952" y="36065"/>
                </a:cubicBezTo>
                <a:cubicBezTo>
                  <a:pt x="4429895" y="38812"/>
                  <a:pt x="4429861" y="42892"/>
                  <a:pt x="4429848" y="48306"/>
                </a:cubicBezTo>
                <a:cubicBezTo>
                  <a:pt x="4429836" y="53720"/>
                  <a:pt x="4429831" y="61416"/>
                  <a:pt x="4429834" y="71394"/>
                </a:cubicBezTo>
                <a:lnTo>
                  <a:pt x="4429834" y="106604"/>
                </a:lnTo>
                <a:cubicBezTo>
                  <a:pt x="4429817" y="116382"/>
                  <a:pt x="4429850" y="125035"/>
                  <a:pt x="4429934" y="132562"/>
                </a:cubicBezTo>
                <a:cubicBezTo>
                  <a:pt x="4430017" y="140089"/>
                  <a:pt x="4430250" y="146041"/>
                  <a:pt x="4430633" y="150417"/>
                </a:cubicBezTo>
                <a:cubicBezTo>
                  <a:pt x="4430855" y="153139"/>
                  <a:pt x="4431513" y="155348"/>
                  <a:pt x="4432609" y="157044"/>
                </a:cubicBezTo>
                <a:cubicBezTo>
                  <a:pt x="4433705" y="158741"/>
                  <a:pt x="4435713" y="159799"/>
                  <a:pt x="4438634" y="160220"/>
                </a:cubicBezTo>
                <a:cubicBezTo>
                  <a:pt x="4440097" y="160429"/>
                  <a:pt x="4441772" y="160612"/>
                  <a:pt x="4443660" y="160770"/>
                </a:cubicBezTo>
                <a:cubicBezTo>
                  <a:pt x="4445548" y="160929"/>
                  <a:pt x="4447273" y="161012"/>
                  <a:pt x="4448836" y="161020"/>
                </a:cubicBezTo>
                <a:cubicBezTo>
                  <a:pt x="4451003" y="161053"/>
                  <a:pt x="4452070" y="161583"/>
                  <a:pt x="4452036" y="162609"/>
                </a:cubicBezTo>
                <a:cubicBezTo>
                  <a:pt x="4452016" y="163301"/>
                  <a:pt x="4451657" y="163805"/>
                  <a:pt x="4450961" y="164124"/>
                </a:cubicBezTo>
                <a:cubicBezTo>
                  <a:pt x="4450265" y="164443"/>
                  <a:pt x="4449357" y="164600"/>
                  <a:pt x="4448236" y="164596"/>
                </a:cubicBezTo>
                <a:cubicBezTo>
                  <a:pt x="4441498" y="164572"/>
                  <a:pt x="4435323" y="164476"/>
                  <a:pt x="4429713" y="164308"/>
                </a:cubicBezTo>
                <a:cubicBezTo>
                  <a:pt x="4424102" y="164141"/>
                  <a:pt x="4419880" y="164045"/>
                  <a:pt x="4417045" y="164021"/>
                </a:cubicBezTo>
                <a:cubicBezTo>
                  <a:pt x="4414485" y="164045"/>
                  <a:pt x="4410711" y="164141"/>
                  <a:pt x="4405726" y="164308"/>
                </a:cubicBezTo>
                <a:cubicBezTo>
                  <a:pt x="4400741" y="164476"/>
                  <a:pt x="4396117" y="164572"/>
                  <a:pt x="4391854" y="164596"/>
                </a:cubicBezTo>
                <a:cubicBezTo>
                  <a:pt x="4389220" y="164629"/>
                  <a:pt x="4387887" y="163967"/>
                  <a:pt x="4387853" y="162609"/>
                </a:cubicBezTo>
                <a:cubicBezTo>
                  <a:pt x="4387837" y="162109"/>
                  <a:pt x="4388070" y="161720"/>
                  <a:pt x="4388553" y="161442"/>
                </a:cubicBezTo>
                <a:cubicBezTo>
                  <a:pt x="4389037" y="161165"/>
                  <a:pt x="4389870" y="161025"/>
                  <a:pt x="4391054" y="161020"/>
                </a:cubicBezTo>
                <a:cubicBezTo>
                  <a:pt x="4392554" y="161012"/>
                  <a:pt x="4393904" y="160929"/>
                  <a:pt x="4395104" y="160770"/>
                </a:cubicBezTo>
                <a:cubicBezTo>
                  <a:pt x="4396304" y="160612"/>
                  <a:pt x="4397354" y="160429"/>
                  <a:pt x="4398254" y="160220"/>
                </a:cubicBezTo>
                <a:cubicBezTo>
                  <a:pt x="4400209" y="159816"/>
                  <a:pt x="4401601" y="158774"/>
                  <a:pt x="4402430" y="157094"/>
                </a:cubicBezTo>
                <a:cubicBezTo>
                  <a:pt x="4403259" y="155415"/>
                  <a:pt x="4403801" y="153122"/>
                  <a:pt x="4404055" y="150217"/>
                </a:cubicBezTo>
                <a:cubicBezTo>
                  <a:pt x="4404534" y="145937"/>
                  <a:pt x="4404826" y="140043"/>
                  <a:pt x="4404930" y="132537"/>
                </a:cubicBezTo>
                <a:cubicBezTo>
                  <a:pt x="4405035" y="125031"/>
                  <a:pt x="4405076" y="116386"/>
                  <a:pt x="4405055" y="106604"/>
                </a:cubicBezTo>
                <a:lnTo>
                  <a:pt x="4405055" y="71394"/>
                </a:lnTo>
                <a:cubicBezTo>
                  <a:pt x="4405058" y="61416"/>
                  <a:pt x="4405053" y="53720"/>
                  <a:pt x="4405041" y="48306"/>
                </a:cubicBezTo>
                <a:cubicBezTo>
                  <a:pt x="4405028" y="42892"/>
                  <a:pt x="4404993" y="38812"/>
                  <a:pt x="4404937" y="36065"/>
                </a:cubicBezTo>
                <a:cubicBezTo>
                  <a:pt x="4404880" y="33319"/>
                  <a:pt x="4404786" y="30958"/>
                  <a:pt x="4404655" y="28982"/>
                </a:cubicBezTo>
                <a:cubicBezTo>
                  <a:pt x="4404472" y="25602"/>
                  <a:pt x="4403839" y="23009"/>
                  <a:pt x="4402755" y="21204"/>
                </a:cubicBezTo>
                <a:cubicBezTo>
                  <a:pt x="4401672" y="19400"/>
                  <a:pt x="4400038" y="18258"/>
                  <a:pt x="4397854" y="17778"/>
                </a:cubicBezTo>
                <a:cubicBezTo>
                  <a:pt x="4396742" y="17482"/>
                  <a:pt x="4395567" y="17274"/>
                  <a:pt x="4394329" y="17153"/>
                </a:cubicBezTo>
                <a:cubicBezTo>
                  <a:pt x="4393091" y="17032"/>
                  <a:pt x="4391866" y="16973"/>
                  <a:pt x="4390654" y="16977"/>
                </a:cubicBezTo>
                <a:cubicBezTo>
                  <a:pt x="4389645" y="16994"/>
                  <a:pt x="4388862" y="16861"/>
                  <a:pt x="4388303" y="16580"/>
                </a:cubicBezTo>
                <a:cubicBezTo>
                  <a:pt x="4387745" y="16299"/>
                  <a:pt x="4387462" y="15769"/>
                  <a:pt x="4387453" y="14991"/>
                </a:cubicBezTo>
                <a:cubicBezTo>
                  <a:pt x="4387453" y="14403"/>
                  <a:pt x="4387853" y="13990"/>
                  <a:pt x="4388653" y="13750"/>
                </a:cubicBezTo>
                <a:cubicBezTo>
                  <a:pt x="4389453" y="13510"/>
                  <a:pt x="4390654" y="13394"/>
                  <a:pt x="4392254" y="13402"/>
                </a:cubicBezTo>
                <a:close/>
                <a:moveTo>
                  <a:pt x="4151128" y="13402"/>
                </a:moveTo>
                <a:cubicBezTo>
                  <a:pt x="4156645" y="13426"/>
                  <a:pt x="4162011" y="13522"/>
                  <a:pt x="4167226" y="13689"/>
                </a:cubicBezTo>
                <a:cubicBezTo>
                  <a:pt x="4172441" y="13857"/>
                  <a:pt x="4176205" y="13953"/>
                  <a:pt x="4178520" y="13977"/>
                </a:cubicBezTo>
                <a:cubicBezTo>
                  <a:pt x="4180892" y="13970"/>
                  <a:pt x="4183876" y="13920"/>
                  <a:pt x="4187472" y="13828"/>
                </a:cubicBezTo>
                <a:cubicBezTo>
                  <a:pt x="4191067" y="13736"/>
                  <a:pt x="4194630" y="13643"/>
                  <a:pt x="4198161" y="13551"/>
                </a:cubicBezTo>
                <a:cubicBezTo>
                  <a:pt x="4201691" y="13459"/>
                  <a:pt x="4204544" y="13409"/>
                  <a:pt x="4206720" y="13402"/>
                </a:cubicBezTo>
                <a:cubicBezTo>
                  <a:pt x="4213095" y="13298"/>
                  <a:pt x="4219457" y="13804"/>
                  <a:pt x="4225806" y="14921"/>
                </a:cubicBezTo>
                <a:cubicBezTo>
                  <a:pt x="4232155" y="16038"/>
                  <a:pt x="4238063" y="18391"/>
                  <a:pt x="4243529" y="21979"/>
                </a:cubicBezTo>
                <a:cubicBezTo>
                  <a:pt x="4246543" y="23947"/>
                  <a:pt x="4249507" y="27315"/>
                  <a:pt x="4252421" y="32084"/>
                </a:cubicBezTo>
                <a:cubicBezTo>
                  <a:pt x="4255335" y="36853"/>
                  <a:pt x="4256900" y="42622"/>
                  <a:pt x="4257116" y="49392"/>
                </a:cubicBezTo>
                <a:cubicBezTo>
                  <a:pt x="4257279" y="56712"/>
                  <a:pt x="4255406" y="63982"/>
                  <a:pt x="4251496" y="71201"/>
                </a:cubicBezTo>
                <a:cubicBezTo>
                  <a:pt x="4247587" y="78421"/>
                  <a:pt x="4240667" y="86090"/>
                  <a:pt x="4230737" y="94208"/>
                </a:cubicBezTo>
                <a:cubicBezTo>
                  <a:pt x="4239589" y="105419"/>
                  <a:pt x="4247568" y="115434"/>
                  <a:pt x="4254673" y="124253"/>
                </a:cubicBezTo>
                <a:cubicBezTo>
                  <a:pt x="4261778" y="133072"/>
                  <a:pt x="4268260" y="140592"/>
                  <a:pt x="4274119" y="146813"/>
                </a:cubicBezTo>
                <a:cubicBezTo>
                  <a:pt x="4279765" y="152420"/>
                  <a:pt x="4284524" y="156063"/>
                  <a:pt x="4288395" y="157744"/>
                </a:cubicBezTo>
                <a:cubicBezTo>
                  <a:pt x="4292267" y="159424"/>
                  <a:pt x="4294975" y="160316"/>
                  <a:pt x="4296521" y="160420"/>
                </a:cubicBezTo>
                <a:cubicBezTo>
                  <a:pt x="4298689" y="160820"/>
                  <a:pt x="4300556" y="161020"/>
                  <a:pt x="4302122" y="161020"/>
                </a:cubicBezTo>
                <a:cubicBezTo>
                  <a:pt x="4303722" y="161053"/>
                  <a:pt x="4304523" y="161583"/>
                  <a:pt x="4304523" y="162609"/>
                </a:cubicBezTo>
                <a:cubicBezTo>
                  <a:pt x="4304514" y="163387"/>
                  <a:pt x="4304181" y="163917"/>
                  <a:pt x="4303522" y="164199"/>
                </a:cubicBezTo>
                <a:cubicBezTo>
                  <a:pt x="4302864" y="164480"/>
                  <a:pt x="4301931" y="164612"/>
                  <a:pt x="4300722" y="164596"/>
                </a:cubicBezTo>
                <a:lnTo>
                  <a:pt x="4281720" y="164596"/>
                </a:lnTo>
                <a:cubicBezTo>
                  <a:pt x="4276252" y="164612"/>
                  <a:pt x="4271935" y="164331"/>
                  <a:pt x="4268768" y="163751"/>
                </a:cubicBezTo>
                <a:cubicBezTo>
                  <a:pt x="4265601" y="163172"/>
                  <a:pt x="4262784" y="162195"/>
                  <a:pt x="4260317" y="160820"/>
                </a:cubicBezTo>
                <a:cubicBezTo>
                  <a:pt x="4256115" y="158544"/>
                  <a:pt x="4251876" y="154992"/>
                  <a:pt x="4247601" y="150164"/>
                </a:cubicBezTo>
                <a:cubicBezTo>
                  <a:pt x="4243325" y="145337"/>
                  <a:pt x="4238438" y="139083"/>
                  <a:pt x="4232938" y="131404"/>
                </a:cubicBezTo>
                <a:cubicBezTo>
                  <a:pt x="4228773" y="125626"/>
                  <a:pt x="4224795" y="120023"/>
                  <a:pt x="4221005" y="114595"/>
                </a:cubicBezTo>
                <a:cubicBezTo>
                  <a:pt x="4217215" y="109167"/>
                  <a:pt x="4214588" y="105565"/>
                  <a:pt x="4213124" y="103789"/>
                </a:cubicBezTo>
                <a:cubicBezTo>
                  <a:pt x="4212624" y="103205"/>
                  <a:pt x="4212073" y="102822"/>
                  <a:pt x="4211473" y="102638"/>
                </a:cubicBezTo>
                <a:cubicBezTo>
                  <a:pt x="4210873" y="102455"/>
                  <a:pt x="4210223" y="102371"/>
                  <a:pt x="4209522" y="102388"/>
                </a:cubicBezTo>
                <a:lnTo>
                  <a:pt x="4192110" y="101989"/>
                </a:lnTo>
                <a:cubicBezTo>
                  <a:pt x="4191605" y="101981"/>
                  <a:pt x="4191213" y="102097"/>
                  <a:pt x="4190934" y="102339"/>
                </a:cubicBezTo>
                <a:cubicBezTo>
                  <a:pt x="4190654" y="102580"/>
                  <a:pt x="4190512" y="102997"/>
                  <a:pt x="4190508" y="103589"/>
                </a:cubicBezTo>
                <a:lnTo>
                  <a:pt x="4190508" y="106390"/>
                </a:lnTo>
                <a:cubicBezTo>
                  <a:pt x="4190487" y="115791"/>
                  <a:pt x="4190529" y="124204"/>
                  <a:pt x="4190634" y="131629"/>
                </a:cubicBezTo>
                <a:cubicBezTo>
                  <a:pt x="4190738" y="139054"/>
                  <a:pt x="4191029" y="144916"/>
                  <a:pt x="4191509" y="149214"/>
                </a:cubicBezTo>
                <a:cubicBezTo>
                  <a:pt x="4191722" y="152161"/>
                  <a:pt x="4192347" y="154621"/>
                  <a:pt x="4193385" y="156593"/>
                </a:cubicBezTo>
                <a:cubicBezTo>
                  <a:pt x="4194423" y="158565"/>
                  <a:pt x="4196400" y="159774"/>
                  <a:pt x="4199314" y="160220"/>
                </a:cubicBezTo>
                <a:cubicBezTo>
                  <a:pt x="4200886" y="160428"/>
                  <a:pt x="4202596" y="160612"/>
                  <a:pt x="4204443" y="160770"/>
                </a:cubicBezTo>
                <a:cubicBezTo>
                  <a:pt x="4206290" y="160929"/>
                  <a:pt x="4207850" y="161012"/>
                  <a:pt x="4209121" y="161020"/>
                </a:cubicBezTo>
                <a:cubicBezTo>
                  <a:pt x="4210722" y="161053"/>
                  <a:pt x="4211523" y="161583"/>
                  <a:pt x="4211523" y="162609"/>
                </a:cubicBezTo>
                <a:cubicBezTo>
                  <a:pt x="4211519" y="163301"/>
                  <a:pt x="4211177" y="163805"/>
                  <a:pt x="4210497" y="164124"/>
                </a:cubicBezTo>
                <a:cubicBezTo>
                  <a:pt x="4209818" y="164443"/>
                  <a:pt x="4208825" y="164600"/>
                  <a:pt x="4207520" y="164596"/>
                </a:cubicBezTo>
                <a:cubicBezTo>
                  <a:pt x="4201404" y="164572"/>
                  <a:pt x="4195427" y="164476"/>
                  <a:pt x="4189591" y="164308"/>
                </a:cubicBezTo>
                <a:cubicBezTo>
                  <a:pt x="4183755" y="164141"/>
                  <a:pt x="4179931" y="164045"/>
                  <a:pt x="4178120" y="164021"/>
                </a:cubicBezTo>
                <a:cubicBezTo>
                  <a:pt x="4175943" y="164045"/>
                  <a:pt x="4172403" y="164141"/>
                  <a:pt x="4167501" y="164308"/>
                </a:cubicBezTo>
                <a:cubicBezTo>
                  <a:pt x="4162599" y="164476"/>
                  <a:pt x="4158008" y="164572"/>
                  <a:pt x="4153729" y="164596"/>
                </a:cubicBezTo>
                <a:cubicBezTo>
                  <a:pt x="4151095" y="164629"/>
                  <a:pt x="4149762" y="163967"/>
                  <a:pt x="4149728" y="162609"/>
                </a:cubicBezTo>
                <a:cubicBezTo>
                  <a:pt x="4149712" y="162109"/>
                  <a:pt x="4149945" y="161720"/>
                  <a:pt x="4150428" y="161442"/>
                </a:cubicBezTo>
                <a:cubicBezTo>
                  <a:pt x="4150912" y="161165"/>
                  <a:pt x="4151745" y="161025"/>
                  <a:pt x="4152929" y="161020"/>
                </a:cubicBezTo>
                <a:cubicBezTo>
                  <a:pt x="4154429" y="161012"/>
                  <a:pt x="4155779" y="160929"/>
                  <a:pt x="4156979" y="160770"/>
                </a:cubicBezTo>
                <a:cubicBezTo>
                  <a:pt x="4158179" y="160612"/>
                  <a:pt x="4159229" y="160428"/>
                  <a:pt x="4160129" y="160220"/>
                </a:cubicBezTo>
                <a:cubicBezTo>
                  <a:pt x="4162071" y="159774"/>
                  <a:pt x="4163438" y="158565"/>
                  <a:pt x="4164230" y="156593"/>
                </a:cubicBezTo>
                <a:cubicBezTo>
                  <a:pt x="4165022" y="154621"/>
                  <a:pt x="4165589" y="152161"/>
                  <a:pt x="4165930" y="149214"/>
                </a:cubicBezTo>
                <a:cubicBezTo>
                  <a:pt x="4166409" y="144911"/>
                  <a:pt x="4166701" y="139058"/>
                  <a:pt x="4166805" y="131654"/>
                </a:cubicBezTo>
                <a:cubicBezTo>
                  <a:pt x="4166909" y="124250"/>
                  <a:pt x="4166951" y="115895"/>
                  <a:pt x="4166930" y="106590"/>
                </a:cubicBezTo>
                <a:lnTo>
                  <a:pt x="4166930" y="71402"/>
                </a:lnTo>
                <a:cubicBezTo>
                  <a:pt x="4166933" y="61422"/>
                  <a:pt x="4166928" y="53725"/>
                  <a:pt x="4166915" y="48310"/>
                </a:cubicBezTo>
                <a:cubicBezTo>
                  <a:pt x="4166903" y="42895"/>
                  <a:pt x="4166868" y="38814"/>
                  <a:pt x="4166812" y="36067"/>
                </a:cubicBezTo>
                <a:cubicBezTo>
                  <a:pt x="4166755" y="33320"/>
                  <a:pt x="4166661" y="30959"/>
                  <a:pt x="4166530" y="28982"/>
                </a:cubicBezTo>
                <a:cubicBezTo>
                  <a:pt x="4166409" y="25618"/>
                  <a:pt x="4165751" y="23042"/>
                  <a:pt x="4164555" y="21254"/>
                </a:cubicBezTo>
                <a:cubicBezTo>
                  <a:pt x="4163359" y="19466"/>
                  <a:pt x="4161151" y="18240"/>
                  <a:pt x="4157929" y="17577"/>
                </a:cubicBezTo>
                <a:cubicBezTo>
                  <a:pt x="4157079" y="17377"/>
                  <a:pt x="4155929" y="17227"/>
                  <a:pt x="4154479" y="17127"/>
                </a:cubicBezTo>
                <a:cubicBezTo>
                  <a:pt x="4153029" y="17027"/>
                  <a:pt x="4151578" y="16977"/>
                  <a:pt x="4150128" y="16977"/>
                </a:cubicBezTo>
                <a:cubicBezTo>
                  <a:pt x="4149024" y="16990"/>
                  <a:pt x="4148182" y="16866"/>
                  <a:pt x="4147603" y="16605"/>
                </a:cubicBezTo>
                <a:cubicBezTo>
                  <a:pt x="4147024" y="16344"/>
                  <a:pt x="4146732" y="15872"/>
                  <a:pt x="4146728" y="15190"/>
                </a:cubicBezTo>
                <a:cubicBezTo>
                  <a:pt x="4146724" y="14507"/>
                  <a:pt x="4147082" y="14035"/>
                  <a:pt x="4147803" y="13774"/>
                </a:cubicBezTo>
                <a:cubicBezTo>
                  <a:pt x="4148524" y="13514"/>
                  <a:pt x="4149632" y="13390"/>
                  <a:pt x="4151128" y="13402"/>
                </a:cubicBezTo>
                <a:close/>
                <a:moveTo>
                  <a:pt x="2712653" y="13402"/>
                </a:moveTo>
                <a:cubicBezTo>
                  <a:pt x="2718241" y="13426"/>
                  <a:pt x="2723715" y="13522"/>
                  <a:pt x="2729076" y="13689"/>
                </a:cubicBezTo>
                <a:cubicBezTo>
                  <a:pt x="2734436" y="13857"/>
                  <a:pt x="2738559" y="13953"/>
                  <a:pt x="2741444" y="13977"/>
                </a:cubicBezTo>
                <a:cubicBezTo>
                  <a:pt x="2744104" y="13953"/>
                  <a:pt x="2747927" y="13857"/>
                  <a:pt x="2752914" y="13689"/>
                </a:cubicBezTo>
                <a:cubicBezTo>
                  <a:pt x="2757900" y="13522"/>
                  <a:pt x="2762475" y="13426"/>
                  <a:pt x="2766639" y="13402"/>
                </a:cubicBezTo>
                <a:cubicBezTo>
                  <a:pt x="2768040" y="13390"/>
                  <a:pt x="2769090" y="13514"/>
                  <a:pt x="2769791" y="13774"/>
                </a:cubicBezTo>
                <a:cubicBezTo>
                  <a:pt x="2770491" y="14035"/>
                  <a:pt x="2770841" y="14507"/>
                  <a:pt x="2770841" y="15190"/>
                </a:cubicBezTo>
                <a:cubicBezTo>
                  <a:pt x="2770841" y="15872"/>
                  <a:pt x="2770541" y="16344"/>
                  <a:pt x="2769941" y="16605"/>
                </a:cubicBezTo>
                <a:cubicBezTo>
                  <a:pt x="2769340" y="16866"/>
                  <a:pt x="2768440" y="16990"/>
                  <a:pt x="2767239" y="16977"/>
                </a:cubicBezTo>
                <a:cubicBezTo>
                  <a:pt x="2766447" y="16977"/>
                  <a:pt x="2765580" y="17027"/>
                  <a:pt x="2764638" y="17128"/>
                </a:cubicBezTo>
                <a:cubicBezTo>
                  <a:pt x="2763696" y="17228"/>
                  <a:pt x="2762629" y="17378"/>
                  <a:pt x="2761437" y="17578"/>
                </a:cubicBezTo>
                <a:cubicBezTo>
                  <a:pt x="2758790" y="18053"/>
                  <a:pt x="2756931" y="19204"/>
                  <a:pt x="2755859" y="21030"/>
                </a:cubicBezTo>
                <a:cubicBezTo>
                  <a:pt x="2754788" y="22856"/>
                  <a:pt x="2754180" y="25507"/>
                  <a:pt x="2754034" y="28984"/>
                </a:cubicBezTo>
                <a:cubicBezTo>
                  <a:pt x="2753903" y="30960"/>
                  <a:pt x="2753809" y="33322"/>
                  <a:pt x="2753752" y="36069"/>
                </a:cubicBezTo>
                <a:cubicBezTo>
                  <a:pt x="2753695" y="38817"/>
                  <a:pt x="2753660" y="42898"/>
                  <a:pt x="2753648" y="48313"/>
                </a:cubicBezTo>
                <a:cubicBezTo>
                  <a:pt x="2753636" y="53728"/>
                  <a:pt x="2753631" y="61426"/>
                  <a:pt x="2753633" y="71407"/>
                </a:cubicBezTo>
                <a:lnTo>
                  <a:pt x="2753633" y="75609"/>
                </a:lnTo>
                <a:cubicBezTo>
                  <a:pt x="2753646" y="76105"/>
                  <a:pt x="2753771" y="76464"/>
                  <a:pt x="2754009" y="76685"/>
                </a:cubicBezTo>
                <a:cubicBezTo>
                  <a:pt x="2754246" y="76906"/>
                  <a:pt x="2754521" y="77014"/>
                  <a:pt x="2754834" y="77010"/>
                </a:cubicBezTo>
                <a:lnTo>
                  <a:pt x="2831268" y="77010"/>
                </a:lnTo>
                <a:cubicBezTo>
                  <a:pt x="2831581" y="77014"/>
                  <a:pt x="2831856" y="76906"/>
                  <a:pt x="2832093" y="76685"/>
                </a:cubicBezTo>
                <a:cubicBezTo>
                  <a:pt x="2832331" y="76464"/>
                  <a:pt x="2832456" y="76105"/>
                  <a:pt x="2832468" y="75609"/>
                </a:cubicBezTo>
                <a:lnTo>
                  <a:pt x="2832468" y="71407"/>
                </a:lnTo>
                <a:cubicBezTo>
                  <a:pt x="2832471" y="61426"/>
                  <a:pt x="2832466" y="53728"/>
                  <a:pt x="2832453" y="48313"/>
                </a:cubicBezTo>
                <a:cubicBezTo>
                  <a:pt x="2832441" y="42898"/>
                  <a:pt x="2832406" y="38817"/>
                  <a:pt x="2832350" y="36069"/>
                </a:cubicBezTo>
                <a:cubicBezTo>
                  <a:pt x="2832293" y="33322"/>
                  <a:pt x="2832199" y="30960"/>
                  <a:pt x="2832068" y="28984"/>
                </a:cubicBezTo>
                <a:cubicBezTo>
                  <a:pt x="2831948" y="25620"/>
                  <a:pt x="2831289" y="23043"/>
                  <a:pt x="2830092" y="21255"/>
                </a:cubicBezTo>
                <a:cubicBezTo>
                  <a:pt x="2828896" y="19466"/>
                  <a:pt x="2826687" y="18241"/>
                  <a:pt x="2823465" y="17578"/>
                </a:cubicBezTo>
                <a:cubicBezTo>
                  <a:pt x="2822614" y="17378"/>
                  <a:pt x="2821464" y="17228"/>
                  <a:pt x="2820013" y="17128"/>
                </a:cubicBezTo>
                <a:cubicBezTo>
                  <a:pt x="2818562" y="17027"/>
                  <a:pt x="2817111" y="16977"/>
                  <a:pt x="2815661" y="16977"/>
                </a:cubicBezTo>
                <a:cubicBezTo>
                  <a:pt x="2814556" y="16990"/>
                  <a:pt x="2813714" y="16866"/>
                  <a:pt x="2813135" y="16605"/>
                </a:cubicBezTo>
                <a:cubicBezTo>
                  <a:pt x="2812555" y="16344"/>
                  <a:pt x="2812264" y="15872"/>
                  <a:pt x="2812259" y="15190"/>
                </a:cubicBezTo>
                <a:cubicBezTo>
                  <a:pt x="2812259" y="14507"/>
                  <a:pt x="2812610" y="14035"/>
                  <a:pt x="2813310" y="13774"/>
                </a:cubicBezTo>
                <a:cubicBezTo>
                  <a:pt x="2814010" y="13514"/>
                  <a:pt x="2815061" y="13390"/>
                  <a:pt x="2816461" y="13402"/>
                </a:cubicBezTo>
                <a:cubicBezTo>
                  <a:pt x="2822051" y="13426"/>
                  <a:pt x="2827527" y="13522"/>
                  <a:pt x="2832888" y="13689"/>
                </a:cubicBezTo>
                <a:cubicBezTo>
                  <a:pt x="2838249" y="13857"/>
                  <a:pt x="2842372" y="13953"/>
                  <a:pt x="2845257" y="13977"/>
                </a:cubicBezTo>
                <a:cubicBezTo>
                  <a:pt x="2847917" y="13953"/>
                  <a:pt x="2851740" y="13857"/>
                  <a:pt x="2856726" y="13689"/>
                </a:cubicBezTo>
                <a:cubicBezTo>
                  <a:pt x="2861711" y="13522"/>
                  <a:pt x="2866285" y="13426"/>
                  <a:pt x="2870448" y="13402"/>
                </a:cubicBezTo>
                <a:cubicBezTo>
                  <a:pt x="2871848" y="13390"/>
                  <a:pt x="2872898" y="13514"/>
                  <a:pt x="2873598" y="13774"/>
                </a:cubicBezTo>
                <a:cubicBezTo>
                  <a:pt x="2874298" y="14035"/>
                  <a:pt x="2874648" y="14507"/>
                  <a:pt x="2874648" y="15190"/>
                </a:cubicBezTo>
                <a:cubicBezTo>
                  <a:pt x="2874648" y="15872"/>
                  <a:pt x="2874348" y="16344"/>
                  <a:pt x="2873748" y="16605"/>
                </a:cubicBezTo>
                <a:cubicBezTo>
                  <a:pt x="2873148" y="16866"/>
                  <a:pt x="2872248" y="16990"/>
                  <a:pt x="2871048" y="16977"/>
                </a:cubicBezTo>
                <a:cubicBezTo>
                  <a:pt x="2870256" y="16977"/>
                  <a:pt x="2869389" y="17027"/>
                  <a:pt x="2868448" y="17128"/>
                </a:cubicBezTo>
                <a:cubicBezTo>
                  <a:pt x="2867506" y="17228"/>
                  <a:pt x="2866439" y="17378"/>
                  <a:pt x="2865247" y="17578"/>
                </a:cubicBezTo>
                <a:cubicBezTo>
                  <a:pt x="2862601" y="18053"/>
                  <a:pt x="2860743" y="19204"/>
                  <a:pt x="2859672" y="21030"/>
                </a:cubicBezTo>
                <a:cubicBezTo>
                  <a:pt x="2858601" y="22856"/>
                  <a:pt x="2857992" y="25507"/>
                  <a:pt x="2857847" y="28984"/>
                </a:cubicBezTo>
                <a:cubicBezTo>
                  <a:pt x="2857715" y="30960"/>
                  <a:pt x="2857622" y="33322"/>
                  <a:pt x="2857565" y="36069"/>
                </a:cubicBezTo>
                <a:cubicBezTo>
                  <a:pt x="2857508" y="38817"/>
                  <a:pt x="2857474" y="42898"/>
                  <a:pt x="2857461" y="48313"/>
                </a:cubicBezTo>
                <a:cubicBezTo>
                  <a:pt x="2857449" y="53728"/>
                  <a:pt x="2857444" y="61426"/>
                  <a:pt x="2857446" y="71407"/>
                </a:cubicBezTo>
                <a:lnTo>
                  <a:pt x="2857446" y="106595"/>
                </a:lnTo>
                <a:cubicBezTo>
                  <a:pt x="2857425" y="115895"/>
                  <a:pt x="2857467" y="124258"/>
                  <a:pt x="2857571" y="131682"/>
                </a:cubicBezTo>
                <a:cubicBezTo>
                  <a:pt x="2857676" y="139106"/>
                  <a:pt x="2857967" y="145017"/>
                  <a:pt x="2858446" y="149415"/>
                </a:cubicBezTo>
                <a:cubicBezTo>
                  <a:pt x="2858659" y="152266"/>
                  <a:pt x="2859284" y="154667"/>
                  <a:pt x="2860322" y="156618"/>
                </a:cubicBezTo>
                <a:cubicBezTo>
                  <a:pt x="2861359" y="158569"/>
                  <a:pt x="2863335" y="159770"/>
                  <a:pt x="2866247" y="160220"/>
                </a:cubicBezTo>
                <a:cubicBezTo>
                  <a:pt x="2867710" y="160428"/>
                  <a:pt x="2869385" y="160612"/>
                  <a:pt x="2871273" y="160770"/>
                </a:cubicBezTo>
                <a:cubicBezTo>
                  <a:pt x="2873161" y="160929"/>
                  <a:pt x="2874886" y="161012"/>
                  <a:pt x="2876449" y="161020"/>
                </a:cubicBezTo>
                <a:cubicBezTo>
                  <a:pt x="2878616" y="161053"/>
                  <a:pt x="2879682" y="161583"/>
                  <a:pt x="2879649" y="162609"/>
                </a:cubicBezTo>
                <a:cubicBezTo>
                  <a:pt x="2879632" y="163301"/>
                  <a:pt x="2879266" y="163805"/>
                  <a:pt x="2878549" y="164124"/>
                </a:cubicBezTo>
                <a:cubicBezTo>
                  <a:pt x="2877832" y="164443"/>
                  <a:pt x="2876865" y="164600"/>
                  <a:pt x="2875649" y="164596"/>
                </a:cubicBezTo>
                <a:cubicBezTo>
                  <a:pt x="2869010" y="164572"/>
                  <a:pt x="2862886" y="164476"/>
                  <a:pt x="2857276" y="164308"/>
                </a:cubicBezTo>
                <a:cubicBezTo>
                  <a:pt x="2851665" y="164141"/>
                  <a:pt x="2847392" y="164045"/>
                  <a:pt x="2844457" y="164021"/>
                </a:cubicBezTo>
                <a:cubicBezTo>
                  <a:pt x="2841893" y="164045"/>
                  <a:pt x="2838128" y="164141"/>
                  <a:pt x="2833163" y="164308"/>
                </a:cubicBezTo>
                <a:cubicBezTo>
                  <a:pt x="2828198" y="164476"/>
                  <a:pt x="2823631" y="164572"/>
                  <a:pt x="2819463" y="164596"/>
                </a:cubicBezTo>
                <a:cubicBezTo>
                  <a:pt x="2816662" y="164629"/>
                  <a:pt x="2815261" y="163967"/>
                  <a:pt x="2815261" y="162609"/>
                </a:cubicBezTo>
                <a:cubicBezTo>
                  <a:pt x="2815244" y="162109"/>
                  <a:pt x="2815478" y="161720"/>
                  <a:pt x="2815961" y="161442"/>
                </a:cubicBezTo>
                <a:cubicBezTo>
                  <a:pt x="2816445" y="161165"/>
                  <a:pt x="2817278" y="161025"/>
                  <a:pt x="2818462" y="161020"/>
                </a:cubicBezTo>
                <a:cubicBezTo>
                  <a:pt x="2819963" y="161012"/>
                  <a:pt x="2821314" y="160929"/>
                  <a:pt x="2822514" y="160770"/>
                </a:cubicBezTo>
                <a:cubicBezTo>
                  <a:pt x="2823715" y="160612"/>
                  <a:pt x="2824765" y="160428"/>
                  <a:pt x="2825665" y="160220"/>
                </a:cubicBezTo>
                <a:cubicBezTo>
                  <a:pt x="2827608" y="159774"/>
                  <a:pt x="2828975" y="158565"/>
                  <a:pt x="2829767" y="156593"/>
                </a:cubicBezTo>
                <a:cubicBezTo>
                  <a:pt x="2830560" y="154622"/>
                  <a:pt x="2831126" y="152162"/>
                  <a:pt x="2831468" y="149215"/>
                </a:cubicBezTo>
                <a:cubicBezTo>
                  <a:pt x="2831947" y="144913"/>
                  <a:pt x="2832239" y="139060"/>
                  <a:pt x="2832343" y="131657"/>
                </a:cubicBezTo>
                <a:cubicBezTo>
                  <a:pt x="2832447" y="124253"/>
                  <a:pt x="2832489" y="115900"/>
                  <a:pt x="2832468" y="106595"/>
                </a:cubicBezTo>
                <a:lnTo>
                  <a:pt x="2832468" y="88987"/>
                </a:lnTo>
                <a:cubicBezTo>
                  <a:pt x="2832456" y="88587"/>
                  <a:pt x="2832331" y="88287"/>
                  <a:pt x="2832093" y="88087"/>
                </a:cubicBezTo>
                <a:cubicBezTo>
                  <a:pt x="2831856" y="87886"/>
                  <a:pt x="2831581" y="87786"/>
                  <a:pt x="2831268" y="87786"/>
                </a:cubicBezTo>
                <a:lnTo>
                  <a:pt x="2754834" y="87786"/>
                </a:lnTo>
                <a:cubicBezTo>
                  <a:pt x="2754521" y="87774"/>
                  <a:pt x="2754246" y="87849"/>
                  <a:pt x="2754009" y="88012"/>
                </a:cubicBezTo>
                <a:cubicBezTo>
                  <a:pt x="2753771" y="88174"/>
                  <a:pt x="2753646" y="88499"/>
                  <a:pt x="2753633" y="88987"/>
                </a:cubicBezTo>
                <a:lnTo>
                  <a:pt x="2753633" y="106595"/>
                </a:lnTo>
                <a:cubicBezTo>
                  <a:pt x="2753612" y="115895"/>
                  <a:pt x="2753654" y="124258"/>
                  <a:pt x="2753758" y="131682"/>
                </a:cubicBezTo>
                <a:cubicBezTo>
                  <a:pt x="2753863" y="139106"/>
                  <a:pt x="2754155" y="145017"/>
                  <a:pt x="2754634" y="149415"/>
                </a:cubicBezTo>
                <a:cubicBezTo>
                  <a:pt x="2754846" y="152266"/>
                  <a:pt x="2755472" y="154667"/>
                  <a:pt x="2756510" y="156618"/>
                </a:cubicBezTo>
                <a:cubicBezTo>
                  <a:pt x="2757548" y="158569"/>
                  <a:pt x="2759523" y="159770"/>
                  <a:pt x="2762438" y="160220"/>
                </a:cubicBezTo>
                <a:cubicBezTo>
                  <a:pt x="2763900" y="160428"/>
                  <a:pt x="2765576" y="160612"/>
                  <a:pt x="2767465" y="160770"/>
                </a:cubicBezTo>
                <a:cubicBezTo>
                  <a:pt x="2769353" y="160929"/>
                  <a:pt x="2771079" y="161012"/>
                  <a:pt x="2772642" y="161020"/>
                </a:cubicBezTo>
                <a:cubicBezTo>
                  <a:pt x="2773738" y="161024"/>
                  <a:pt x="2774547" y="161165"/>
                  <a:pt x="2775068" y="161442"/>
                </a:cubicBezTo>
                <a:cubicBezTo>
                  <a:pt x="2775589" y="161720"/>
                  <a:pt x="2775847" y="162109"/>
                  <a:pt x="2775843" y="162609"/>
                </a:cubicBezTo>
                <a:cubicBezTo>
                  <a:pt x="2775827" y="163301"/>
                  <a:pt x="2775460" y="163805"/>
                  <a:pt x="2774743" y="164124"/>
                </a:cubicBezTo>
                <a:cubicBezTo>
                  <a:pt x="2774026" y="164443"/>
                  <a:pt x="2773059" y="164600"/>
                  <a:pt x="2771842" y="164596"/>
                </a:cubicBezTo>
                <a:cubicBezTo>
                  <a:pt x="2765201" y="164572"/>
                  <a:pt x="2759075" y="164476"/>
                  <a:pt x="2753464" y="164308"/>
                </a:cubicBezTo>
                <a:cubicBezTo>
                  <a:pt x="2747853" y="164141"/>
                  <a:pt x="2743580" y="164045"/>
                  <a:pt x="2740645" y="164021"/>
                </a:cubicBezTo>
                <a:cubicBezTo>
                  <a:pt x="2738084" y="164045"/>
                  <a:pt x="2734312" y="164141"/>
                  <a:pt x="2729326" y="164308"/>
                </a:cubicBezTo>
                <a:cubicBezTo>
                  <a:pt x="2724341" y="164476"/>
                  <a:pt x="2719717" y="164572"/>
                  <a:pt x="2715453" y="164596"/>
                </a:cubicBezTo>
                <a:cubicBezTo>
                  <a:pt x="2712820" y="164629"/>
                  <a:pt x="2711487" y="163967"/>
                  <a:pt x="2711453" y="162609"/>
                </a:cubicBezTo>
                <a:cubicBezTo>
                  <a:pt x="2711437" y="162109"/>
                  <a:pt x="2711670" y="161720"/>
                  <a:pt x="2712153" y="161442"/>
                </a:cubicBezTo>
                <a:cubicBezTo>
                  <a:pt x="2712637" y="161165"/>
                  <a:pt x="2713470" y="161025"/>
                  <a:pt x="2714654" y="161020"/>
                </a:cubicBezTo>
                <a:cubicBezTo>
                  <a:pt x="2716154" y="161012"/>
                  <a:pt x="2717504" y="160929"/>
                  <a:pt x="2718704" y="160770"/>
                </a:cubicBezTo>
                <a:cubicBezTo>
                  <a:pt x="2719904" y="160612"/>
                  <a:pt x="2720954" y="160428"/>
                  <a:pt x="2721855" y="160220"/>
                </a:cubicBezTo>
                <a:cubicBezTo>
                  <a:pt x="2723796" y="159774"/>
                  <a:pt x="2725163" y="158565"/>
                  <a:pt x="2725955" y="156593"/>
                </a:cubicBezTo>
                <a:cubicBezTo>
                  <a:pt x="2726747" y="154622"/>
                  <a:pt x="2727313" y="152162"/>
                  <a:pt x="2727655" y="149215"/>
                </a:cubicBezTo>
                <a:cubicBezTo>
                  <a:pt x="2728134" y="144913"/>
                  <a:pt x="2728426" y="139060"/>
                  <a:pt x="2728530" y="131657"/>
                </a:cubicBezTo>
                <a:cubicBezTo>
                  <a:pt x="2728634" y="124253"/>
                  <a:pt x="2728676" y="115900"/>
                  <a:pt x="2728655" y="106595"/>
                </a:cubicBezTo>
                <a:lnTo>
                  <a:pt x="2728655" y="71407"/>
                </a:lnTo>
                <a:cubicBezTo>
                  <a:pt x="2728658" y="61426"/>
                  <a:pt x="2728653" y="53728"/>
                  <a:pt x="2728640" y="48313"/>
                </a:cubicBezTo>
                <a:cubicBezTo>
                  <a:pt x="2728628" y="42898"/>
                  <a:pt x="2728594" y="38817"/>
                  <a:pt x="2728537" y="36069"/>
                </a:cubicBezTo>
                <a:cubicBezTo>
                  <a:pt x="2728480" y="33322"/>
                  <a:pt x="2728386" y="30960"/>
                  <a:pt x="2728255" y="28984"/>
                </a:cubicBezTo>
                <a:cubicBezTo>
                  <a:pt x="2728134" y="25620"/>
                  <a:pt x="2727476" y="23043"/>
                  <a:pt x="2726280" y="21255"/>
                </a:cubicBezTo>
                <a:cubicBezTo>
                  <a:pt x="2725084" y="19466"/>
                  <a:pt x="2722875" y="18241"/>
                  <a:pt x="2719654" y="17578"/>
                </a:cubicBezTo>
                <a:cubicBezTo>
                  <a:pt x="2718804" y="17378"/>
                  <a:pt x="2717654" y="17228"/>
                  <a:pt x="2716204" y="17128"/>
                </a:cubicBezTo>
                <a:cubicBezTo>
                  <a:pt x="2714753" y="17027"/>
                  <a:pt x="2713303" y="16977"/>
                  <a:pt x="2711853" y="16977"/>
                </a:cubicBezTo>
                <a:cubicBezTo>
                  <a:pt x="2710749" y="16990"/>
                  <a:pt x="2709907" y="16866"/>
                  <a:pt x="2709328" y="16605"/>
                </a:cubicBezTo>
                <a:cubicBezTo>
                  <a:pt x="2708749" y="16344"/>
                  <a:pt x="2708457" y="15872"/>
                  <a:pt x="2708453" y="15190"/>
                </a:cubicBezTo>
                <a:cubicBezTo>
                  <a:pt x="2708453" y="14507"/>
                  <a:pt x="2708803" y="14035"/>
                  <a:pt x="2709503" y="13774"/>
                </a:cubicBezTo>
                <a:cubicBezTo>
                  <a:pt x="2710203" y="13514"/>
                  <a:pt x="2711253" y="13390"/>
                  <a:pt x="2712653" y="13402"/>
                </a:cubicBezTo>
                <a:close/>
                <a:moveTo>
                  <a:pt x="2477576" y="13402"/>
                </a:moveTo>
                <a:cubicBezTo>
                  <a:pt x="2482980" y="13426"/>
                  <a:pt x="2487922" y="13522"/>
                  <a:pt x="2492401" y="13689"/>
                </a:cubicBezTo>
                <a:cubicBezTo>
                  <a:pt x="2496880" y="13857"/>
                  <a:pt x="2499672" y="13953"/>
                  <a:pt x="2500776" y="13977"/>
                </a:cubicBezTo>
                <a:cubicBezTo>
                  <a:pt x="2501764" y="13953"/>
                  <a:pt x="2504239" y="13857"/>
                  <a:pt x="2508201" y="13689"/>
                </a:cubicBezTo>
                <a:cubicBezTo>
                  <a:pt x="2512164" y="13522"/>
                  <a:pt x="2517089" y="13426"/>
                  <a:pt x="2522977" y="13402"/>
                </a:cubicBezTo>
                <a:cubicBezTo>
                  <a:pt x="2525777" y="13402"/>
                  <a:pt x="2527177" y="13998"/>
                  <a:pt x="2527177" y="15190"/>
                </a:cubicBezTo>
                <a:cubicBezTo>
                  <a:pt x="2527152" y="15959"/>
                  <a:pt x="2526802" y="16456"/>
                  <a:pt x="2526127" y="16679"/>
                </a:cubicBezTo>
                <a:cubicBezTo>
                  <a:pt x="2525452" y="16903"/>
                  <a:pt x="2524602" y="17002"/>
                  <a:pt x="2523577" y="16977"/>
                </a:cubicBezTo>
                <a:cubicBezTo>
                  <a:pt x="2522756" y="16961"/>
                  <a:pt x="2521897" y="16994"/>
                  <a:pt x="2521002" y="17077"/>
                </a:cubicBezTo>
                <a:cubicBezTo>
                  <a:pt x="2520106" y="17161"/>
                  <a:pt x="2519297" y="17394"/>
                  <a:pt x="2518577" y="17777"/>
                </a:cubicBezTo>
                <a:cubicBezTo>
                  <a:pt x="2517697" y="18173"/>
                  <a:pt x="2517106" y="18732"/>
                  <a:pt x="2516801" y="19453"/>
                </a:cubicBezTo>
                <a:cubicBezTo>
                  <a:pt x="2516497" y="20174"/>
                  <a:pt x="2516356" y="21082"/>
                  <a:pt x="2516377" y="22178"/>
                </a:cubicBezTo>
                <a:cubicBezTo>
                  <a:pt x="2516410" y="23523"/>
                  <a:pt x="2516843" y="25784"/>
                  <a:pt x="2517677" y="28961"/>
                </a:cubicBezTo>
                <a:cubicBezTo>
                  <a:pt x="2518510" y="32138"/>
                  <a:pt x="2519543" y="35963"/>
                  <a:pt x="2520776" y="40435"/>
                </a:cubicBezTo>
                <a:cubicBezTo>
                  <a:pt x="2521705" y="43992"/>
                  <a:pt x="2523348" y="49757"/>
                  <a:pt x="2525705" y="57732"/>
                </a:cubicBezTo>
                <a:cubicBezTo>
                  <a:pt x="2528062" y="65707"/>
                  <a:pt x="2530661" y="74376"/>
                  <a:pt x="2533502" y="83740"/>
                </a:cubicBezTo>
                <a:cubicBezTo>
                  <a:pt x="2536343" y="93104"/>
                  <a:pt x="2538955" y="101648"/>
                  <a:pt x="2541336" y="109373"/>
                </a:cubicBezTo>
                <a:cubicBezTo>
                  <a:pt x="2543718" y="117097"/>
                  <a:pt x="2545398" y="122487"/>
                  <a:pt x="2546377" y="125543"/>
                </a:cubicBezTo>
                <a:lnTo>
                  <a:pt x="2546977" y="125543"/>
                </a:lnTo>
                <a:lnTo>
                  <a:pt x="2585778" y="21211"/>
                </a:lnTo>
                <a:cubicBezTo>
                  <a:pt x="2586761" y="18457"/>
                  <a:pt x="2587644" y="16555"/>
                  <a:pt x="2588428" y="15504"/>
                </a:cubicBezTo>
                <a:cubicBezTo>
                  <a:pt x="2589211" y="14452"/>
                  <a:pt x="2589995" y="13952"/>
                  <a:pt x="2590778" y="14002"/>
                </a:cubicBezTo>
                <a:cubicBezTo>
                  <a:pt x="2591820" y="13994"/>
                  <a:pt x="2592736" y="14761"/>
                  <a:pt x="2593528" y="16305"/>
                </a:cubicBezTo>
                <a:cubicBezTo>
                  <a:pt x="2594320" y="17848"/>
                  <a:pt x="2595336" y="20218"/>
                  <a:pt x="2596578" y="23414"/>
                </a:cubicBezTo>
                <a:lnTo>
                  <a:pt x="2638179" y="124191"/>
                </a:lnTo>
                <a:lnTo>
                  <a:pt x="2638779" y="124191"/>
                </a:lnTo>
                <a:cubicBezTo>
                  <a:pt x="2639735" y="120661"/>
                  <a:pt x="2641298" y="115206"/>
                  <a:pt x="2643469" y="107826"/>
                </a:cubicBezTo>
                <a:cubicBezTo>
                  <a:pt x="2645641" y="100446"/>
                  <a:pt x="2648085" y="92216"/>
                  <a:pt x="2650804" y="83136"/>
                </a:cubicBezTo>
                <a:cubicBezTo>
                  <a:pt x="2653522" y="74055"/>
                  <a:pt x="2656179" y="65200"/>
                  <a:pt x="2658776" y="56570"/>
                </a:cubicBezTo>
                <a:cubicBezTo>
                  <a:pt x="2661372" y="47940"/>
                  <a:pt x="2663573" y="40609"/>
                  <a:pt x="2665379" y="34580"/>
                </a:cubicBezTo>
                <a:cubicBezTo>
                  <a:pt x="2666075" y="32258"/>
                  <a:pt x="2666583" y="30100"/>
                  <a:pt x="2666904" y="28104"/>
                </a:cubicBezTo>
                <a:cubicBezTo>
                  <a:pt x="2667225" y="26108"/>
                  <a:pt x="2667383" y="24399"/>
                  <a:pt x="2667379" y="22978"/>
                </a:cubicBezTo>
                <a:cubicBezTo>
                  <a:pt x="2667467" y="21328"/>
                  <a:pt x="2666842" y="19928"/>
                  <a:pt x="2665504" y="18778"/>
                </a:cubicBezTo>
                <a:cubicBezTo>
                  <a:pt x="2664167" y="17627"/>
                  <a:pt x="2661592" y="17027"/>
                  <a:pt x="2657779" y="16977"/>
                </a:cubicBezTo>
                <a:cubicBezTo>
                  <a:pt x="2656763" y="16977"/>
                  <a:pt x="2655946" y="16828"/>
                  <a:pt x="2655329" y="16530"/>
                </a:cubicBezTo>
                <a:cubicBezTo>
                  <a:pt x="2654712" y="16232"/>
                  <a:pt x="2654396" y="15786"/>
                  <a:pt x="2654379" y="15190"/>
                </a:cubicBezTo>
                <a:cubicBezTo>
                  <a:pt x="2654383" y="14507"/>
                  <a:pt x="2654775" y="14035"/>
                  <a:pt x="2655554" y="13774"/>
                </a:cubicBezTo>
                <a:cubicBezTo>
                  <a:pt x="2656333" y="13514"/>
                  <a:pt x="2657475" y="13390"/>
                  <a:pt x="2658979" y="13402"/>
                </a:cubicBezTo>
                <a:cubicBezTo>
                  <a:pt x="2664371" y="13426"/>
                  <a:pt x="2668938" y="13522"/>
                  <a:pt x="2672679" y="13689"/>
                </a:cubicBezTo>
                <a:cubicBezTo>
                  <a:pt x="2676421" y="13857"/>
                  <a:pt x="2678788" y="13953"/>
                  <a:pt x="2679779" y="13977"/>
                </a:cubicBezTo>
                <a:cubicBezTo>
                  <a:pt x="2680671" y="13953"/>
                  <a:pt x="2682788" y="13857"/>
                  <a:pt x="2686130" y="13689"/>
                </a:cubicBezTo>
                <a:cubicBezTo>
                  <a:pt x="2689471" y="13522"/>
                  <a:pt x="2692888" y="13426"/>
                  <a:pt x="2696380" y="13402"/>
                </a:cubicBezTo>
                <a:cubicBezTo>
                  <a:pt x="2697492" y="13394"/>
                  <a:pt x="2698367" y="13510"/>
                  <a:pt x="2699004" y="13750"/>
                </a:cubicBezTo>
                <a:cubicBezTo>
                  <a:pt x="2699642" y="13990"/>
                  <a:pt x="2699967" y="14403"/>
                  <a:pt x="2699979" y="14991"/>
                </a:cubicBezTo>
                <a:cubicBezTo>
                  <a:pt x="2699946" y="16348"/>
                  <a:pt x="2699013" y="17010"/>
                  <a:pt x="2697180" y="16977"/>
                </a:cubicBezTo>
                <a:cubicBezTo>
                  <a:pt x="2696151" y="16969"/>
                  <a:pt x="2695009" y="17036"/>
                  <a:pt x="2693755" y="17177"/>
                </a:cubicBezTo>
                <a:cubicBezTo>
                  <a:pt x="2692500" y="17319"/>
                  <a:pt x="2691309" y="17586"/>
                  <a:pt x="2690180" y="17977"/>
                </a:cubicBezTo>
                <a:cubicBezTo>
                  <a:pt x="2687875" y="18936"/>
                  <a:pt x="2685934" y="21270"/>
                  <a:pt x="2684354" y="24978"/>
                </a:cubicBezTo>
                <a:cubicBezTo>
                  <a:pt x="2682775" y="28687"/>
                  <a:pt x="2680984" y="33421"/>
                  <a:pt x="2678980" y="39180"/>
                </a:cubicBezTo>
                <a:cubicBezTo>
                  <a:pt x="2676619" y="45668"/>
                  <a:pt x="2673702" y="53994"/>
                  <a:pt x="2670226" y="64158"/>
                </a:cubicBezTo>
                <a:cubicBezTo>
                  <a:pt x="2666751" y="74322"/>
                  <a:pt x="2663076" y="85198"/>
                  <a:pt x="2659204" y="96787"/>
                </a:cubicBezTo>
                <a:cubicBezTo>
                  <a:pt x="2655332" y="108376"/>
                  <a:pt x="2651620" y="119553"/>
                  <a:pt x="2648069" y="130317"/>
                </a:cubicBezTo>
                <a:cubicBezTo>
                  <a:pt x="2644519" y="141080"/>
                  <a:pt x="2641489" y="150307"/>
                  <a:pt x="2638979" y="157995"/>
                </a:cubicBezTo>
                <a:cubicBezTo>
                  <a:pt x="2637937" y="161450"/>
                  <a:pt x="2637020" y="163892"/>
                  <a:pt x="2636229" y="165321"/>
                </a:cubicBezTo>
                <a:cubicBezTo>
                  <a:pt x="2635437" y="166750"/>
                  <a:pt x="2634420" y="167442"/>
                  <a:pt x="2633179" y="167396"/>
                </a:cubicBezTo>
                <a:cubicBezTo>
                  <a:pt x="2632233" y="167450"/>
                  <a:pt x="2631325" y="166742"/>
                  <a:pt x="2630453" y="165271"/>
                </a:cubicBezTo>
                <a:cubicBezTo>
                  <a:pt x="2629583" y="163800"/>
                  <a:pt x="2628424" y="161241"/>
                  <a:pt x="2626978" y="157595"/>
                </a:cubicBezTo>
                <a:lnTo>
                  <a:pt x="2585378" y="57382"/>
                </a:lnTo>
                <a:lnTo>
                  <a:pt x="2584978" y="57382"/>
                </a:lnTo>
                <a:cubicBezTo>
                  <a:pt x="2583922" y="60227"/>
                  <a:pt x="2581759" y="65977"/>
                  <a:pt x="2578490" y="74631"/>
                </a:cubicBezTo>
                <a:cubicBezTo>
                  <a:pt x="2575221" y="83286"/>
                  <a:pt x="2571484" y="93080"/>
                  <a:pt x="2567277" y="104013"/>
                </a:cubicBezTo>
                <a:cubicBezTo>
                  <a:pt x="2563071" y="114946"/>
                  <a:pt x="2559033" y="125253"/>
                  <a:pt x="2555165" y="134933"/>
                </a:cubicBezTo>
                <a:cubicBezTo>
                  <a:pt x="2551296" y="144613"/>
                  <a:pt x="2548233" y="151900"/>
                  <a:pt x="2545977" y="156795"/>
                </a:cubicBezTo>
                <a:cubicBezTo>
                  <a:pt x="2544164" y="160825"/>
                  <a:pt x="2542789" y="163617"/>
                  <a:pt x="2541852" y="165171"/>
                </a:cubicBezTo>
                <a:cubicBezTo>
                  <a:pt x="2540914" y="166725"/>
                  <a:pt x="2539889" y="167467"/>
                  <a:pt x="2538777" y="167396"/>
                </a:cubicBezTo>
                <a:cubicBezTo>
                  <a:pt x="2537823" y="167413"/>
                  <a:pt x="2537031" y="166829"/>
                  <a:pt x="2536402" y="165646"/>
                </a:cubicBezTo>
                <a:cubicBezTo>
                  <a:pt x="2535773" y="164462"/>
                  <a:pt x="2535031" y="162579"/>
                  <a:pt x="2534177" y="159995"/>
                </a:cubicBezTo>
                <a:lnTo>
                  <a:pt x="2491776" y="32979"/>
                </a:lnTo>
                <a:cubicBezTo>
                  <a:pt x="2490593" y="29275"/>
                  <a:pt x="2489409" y="26233"/>
                  <a:pt x="2488226" y="23853"/>
                </a:cubicBezTo>
                <a:cubicBezTo>
                  <a:pt x="2487043" y="21474"/>
                  <a:pt x="2485759" y="19782"/>
                  <a:pt x="2484376" y="18778"/>
                </a:cubicBezTo>
                <a:cubicBezTo>
                  <a:pt x="2483193" y="18090"/>
                  <a:pt x="2481809" y="17615"/>
                  <a:pt x="2480226" y="17352"/>
                </a:cubicBezTo>
                <a:cubicBezTo>
                  <a:pt x="2478643" y="17090"/>
                  <a:pt x="2477359" y="16965"/>
                  <a:pt x="2476376" y="16977"/>
                </a:cubicBezTo>
                <a:cubicBezTo>
                  <a:pt x="2475367" y="17002"/>
                  <a:pt x="2474584" y="16903"/>
                  <a:pt x="2474026" y="16679"/>
                </a:cubicBezTo>
                <a:cubicBezTo>
                  <a:pt x="2473467" y="16456"/>
                  <a:pt x="2473184" y="15959"/>
                  <a:pt x="2473176" y="15190"/>
                </a:cubicBezTo>
                <a:cubicBezTo>
                  <a:pt x="2473184" y="14507"/>
                  <a:pt x="2473567" y="14035"/>
                  <a:pt x="2474326" y="13774"/>
                </a:cubicBezTo>
                <a:cubicBezTo>
                  <a:pt x="2475084" y="13514"/>
                  <a:pt x="2476167" y="13390"/>
                  <a:pt x="2477576" y="13402"/>
                </a:cubicBezTo>
                <a:close/>
                <a:moveTo>
                  <a:pt x="1847279" y="13402"/>
                </a:moveTo>
                <a:cubicBezTo>
                  <a:pt x="1852196" y="13426"/>
                  <a:pt x="1857261" y="13522"/>
                  <a:pt x="1862476" y="13689"/>
                </a:cubicBezTo>
                <a:cubicBezTo>
                  <a:pt x="1867691" y="13857"/>
                  <a:pt x="1871755" y="13953"/>
                  <a:pt x="1874669" y="13977"/>
                </a:cubicBezTo>
                <a:cubicBezTo>
                  <a:pt x="1876370" y="13970"/>
                  <a:pt x="1878853" y="13920"/>
                  <a:pt x="1882116" y="13828"/>
                </a:cubicBezTo>
                <a:cubicBezTo>
                  <a:pt x="1885381" y="13736"/>
                  <a:pt x="1888812" y="13643"/>
                  <a:pt x="1892410" y="13551"/>
                </a:cubicBezTo>
                <a:cubicBezTo>
                  <a:pt x="1896007" y="13459"/>
                  <a:pt x="1899157" y="13409"/>
                  <a:pt x="1901860" y="13402"/>
                </a:cubicBezTo>
                <a:cubicBezTo>
                  <a:pt x="1903261" y="13390"/>
                  <a:pt x="1904311" y="13514"/>
                  <a:pt x="1905011" y="13774"/>
                </a:cubicBezTo>
                <a:cubicBezTo>
                  <a:pt x="1905711" y="14035"/>
                  <a:pt x="1906061" y="14507"/>
                  <a:pt x="1906061" y="15190"/>
                </a:cubicBezTo>
                <a:cubicBezTo>
                  <a:pt x="1906061" y="15872"/>
                  <a:pt x="1905761" y="16344"/>
                  <a:pt x="1905161" y="16605"/>
                </a:cubicBezTo>
                <a:cubicBezTo>
                  <a:pt x="1904561" y="16866"/>
                  <a:pt x="1903661" y="16990"/>
                  <a:pt x="1902460" y="16977"/>
                </a:cubicBezTo>
                <a:cubicBezTo>
                  <a:pt x="1901323" y="16977"/>
                  <a:pt x="1900048" y="17027"/>
                  <a:pt x="1898635" y="17127"/>
                </a:cubicBezTo>
                <a:cubicBezTo>
                  <a:pt x="1897222" y="17227"/>
                  <a:pt x="1895897" y="17377"/>
                  <a:pt x="1894660" y="17577"/>
                </a:cubicBezTo>
                <a:cubicBezTo>
                  <a:pt x="1892013" y="18053"/>
                  <a:pt x="1890155" y="19203"/>
                  <a:pt x="1889084" y="21029"/>
                </a:cubicBezTo>
                <a:cubicBezTo>
                  <a:pt x="1888013" y="22854"/>
                  <a:pt x="1887404" y="25505"/>
                  <a:pt x="1887259" y="28981"/>
                </a:cubicBezTo>
                <a:cubicBezTo>
                  <a:pt x="1887128" y="30957"/>
                  <a:pt x="1887034" y="33318"/>
                  <a:pt x="1886977" y="36065"/>
                </a:cubicBezTo>
                <a:cubicBezTo>
                  <a:pt x="1886920" y="38811"/>
                  <a:pt x="1886886" y="42891"/>
                  <a:pt x="1886873" y="48305"/>
                </a:cubicBezTo>
                <a:cubicBezTo>
                  <a:pt x="1886861" y="53719"/>
                  <a:pt x="1886856" y="61416"/>
                  <a:pt x="1886859" y="71394"/>
                </a:cubicBezTo>
                <a:lnTo>
                  <a:pt x="1886859" y="106605"/>
                </a:lnTo>
                <a:cubicBezTo>
                  <a:pt x="1886771" y="119375"/>
                  <a:pt x="1886946" y="129295"/>
                  <a:pt x="1887384" y="136364"/>
                </a:cubicBezTo>
                <a:cubicBezTo>
                  <a:pt x="1887821" y="143433"/>
                  <a:pt x="1889046" y="147851"/>
                  <a:pt x="1891059" y="149618"/>
                </a:cubicBezTo>
                <a:cubicBezTo>
                  <a:pt x="1892580" y="151114"/>
                  <a:pt x="1895089" y="152223"/>
                  <a:pt x="1898585" y="152944"/>
                </a:cubicBezTo>
                <a:cubicBezTo>
                  <a:pt x="1902081" y="153665"/>
                  <a:pt x="1907640" y="154024"/>
                  <a:pt x="1915262" y="154019"/>
                </a:cubicBezTo>
                <a:cubicBezTo>
                  <a:pt x="1920563" y="154124"/>
                  <a:pt x="1925163" y="153865"/>
                  <a:pt x="1929064" y="153244"/>
                </a:cubicBezTo>
                <a:cubicBezTo>
                  <a:pt x="1932964" y="152623"/>
                  <a:pt x="1936165" y="151014"/>
                  <a:pt x="1938665" y="148418"/>
                </a:cubicBezTo>
                <a:cubicBezTo>
                  <a:pt x="1939907" y="147017"/>
                  <a:pt x="1941024" y="145167"/>
                  <a:pt x="1942016" y="142866"/>
                </a:cubicBezTo>
                <a:cubicBezTo>
                  <a:pt x="1943007" y="140565"/>
                  <a:pt x="1943624" y="138415"/>
                  <a:pt x="1943866" y="136414"/>
                </a:cubicBezTo>
                <a:cubicBezTo>
                  <a:pt x="1943945" y="135501"/>
                  <a:pt x="1944136" y="134776"/>
                  <a:pt x="1944441" y="134238"/>
                </a:cubicBezTo>
                <a:cubicBezTo>
                  <a:pt x="1944745" y="133701"/>
                  <a:pt x="1945286" y="133426"/>
                  <a:pt x="1946066" y="133413"/>
                </a:cubicBezTo>
                <a:cubicBezTo>
                  <a:pt x="1946745" y="133405"/>
                  <a:pt x="1947187" y="133672"/>
                  <a:pt x="1947391" y="134213"/>
                </a:cubicBezTo>
                <a:cubicBezTo>
                  <a:pt x="1947595" y="134755"/>
                  <a:pt x="1947687" y="135622"/>
                  <a:pt x="1947666" y="136814"/>
                </a:cubicBezTo>
                <a:cubicBezTo>
                  <a:pt x="1947659" y="137684"/>
                  <a:pt x="1947518" y="139568"/>
                  <a:pt x="1947244" y="142467"/>
                </a:cubicBezTo>
                <a:cubicBezTo>
                  <a:pt x="1946970" y="145366"/>
                  <a:pt x="1946607" y="148465"/>
                  <a:pt x="1946155" y="151763"/>
                </a:cubicBezTo>
                <a:cubicBezTo>
                  <a:pt x="1945703" y="155061"/>
                  <a:pt x="1945206" y="157742"/>
                  <a:pt x="1944666" y="159807"/>
                </a:cubicBezTo>
                <a:cubicBezTo>
                  <a:pt x="1944266" y="161953"/>
                  <a:pt x="1943316" y="163400"/>
                  <a:pt x="1941815" y="164148"/>
                </a:cubicBezTo>
                <a:cubicBezTo>
                  <a:pt x="1940315" y="164897"/>
                  <a:pt x="1937065" y="165246"/>
                  <a:pt x="1932064" y="165196"/>
                </a:cubicBezTo>
                <a:cubicBezTo>
                  <a:pt x="1924917" y="165183"/>
                  <a:pt x="1918608" y="165109"/>
                  <a:pt x="1913137" y="164971"/>
                </a:cubicBezTo>
                <a:cubicBezTo>
                  <a:pt x="1907665" y="164834"/>
                  <a:pt x="1902706" y="164709"/>
                  <a:pt x="1898260" y="164596"/>
                </a:cubicBezTo>
                <a:cubicBezTo>
                  <a:pt x="1893818" y="164396"/>
                  <a:pt x="1889652" y="164246"/>
                  <a:pt x="1885762" y="164146"/>
                </a:cubicBezTo>
                <a:cubicBezTo>
                  <a:pt x="1881872" y="164046"/>
                  <a:pt x="1877908" y="163996"/>
                  <a:pt x="1873870" y="163996"/>
                </a:cubicBezTo>
                <a:cubicBezTo>
                  <a:pt x="1872733" y="163992"/>
                  <a:pt x="1871160" y="164000"/>
                  <a:pt x="1869149" y="164021"/>
                </a:cubicBezTo>
                <a:cubicBezTo>
                  <a:pt x="1867138" y="164042"/>
                  <a:pt x="1864915" y="164101"/>
                  <a:pt x="1862480" y="164199"/>
                </a:cubicBezTo>
                <a:cubicBezTo>
                  <a:pt x="1860142" y="164215"/>
                  <a:pt x="1857767" y="164281"/>
                  <a:pt x="1855355" y="164397"/>
                </a:cubicBezTo>
                <a:cubicBezTo>
                  <a:pt x="1852942" y="164513"/>
                  <a:pt x="1850717" y="164579"/>
                  <a:pt x="1848679" y="164596"/>
                </a:cubicBezTo>
                <a:cubicBezTo>
                  <a:pt x="1846045" y="164629"/>
                  <a:pt x="1844712" y="163967"/>
                  <a:pt x="1844678" y="162609"/>
                </a:cubicBezTo>
                <a:cubicBezTo>
                  <a:pt x="1844662" y="162109"/>
                  <a:pt x="1844895" y="161720"/>
                  <a:pt x="1845378" y="161442"/>
                </a:cubicBezTo>
                <a:cubicBezTo>
                  <a:pt x="1845862" y="161165"/>
                  <a:pt x="1846695" y="161025"/>
                  <a:pt x="1847879" y="161020"/>
                </a:cubicBezTo>
                <a:cubicBezTo>
                  <a:pt x="1849379" y="161013"/>
                  <a:pt x="1850729" y="160928"/>
                  <a:pt x="1851929" y="160767"/>
                </a:cubicBezTo>
                <a:cubicBezTo>
                  <a:pt x="1853129" y="160606"/>
                  <a:pt x="1854179" y="160416"/>
                  <a:pt x="1855080" y="160195"/>
                </a:cubicBezTo>
                <a:cubicBezTo>
                  <a:pt x="1857021" y="159749"/>
                  <a:pt x="1858388" y="158541"/>
                  <a:pt x="1859180" y="156570"/>
                </a:cubicBezTo>
                <a:cubicBezTo>
                  <a:pt x="1859972" y="154599"/>
                  <a:pt x="1860539" y="152140"/>
                  <a:pt x="1860880" y="149194"/>
                </a:cubicBezTo>
                <a:cubicBezTo>
                  <a:pt x="1861360" y="144893"/>
                  <a:pt x="1861651" y="139043"/>
                  <a:pt x="1861755" y="131644"/>
                </a:cubicBezTo>
                <a:cubicBezTo>
                  <a:pt x="1861860" y="124245"/>
                  <a:pt x="1861901" y="115898"/>
                  <a:pt x="1861880" y="106605"/>
                </a:cubicBezTo>
                <a:lnTo>
                  <a:pt x="1861880" y="71394"/>
                </a:lnTo>
                <a:cubicBezTo>
                  <a:pt x="1861883" y="61416"/>
                  <a:pt x="1861878" y="53719"/>
                  <a:pt x="1861866" y="48305"/>
                </a:cubicBezTo>
                <a:cubicBezTo>
                  <a:pt x="1861853" y="42891"/>
                  <a:pt x="1861819" y="38811"/>
                  <a:pt x="1861762" y="36065"/>
                </a:cubicBezTo>
                <a:cubicBezTo>
                  <a:pt x="1861705" y="33318"/>
                  <a:pt x="1861611" y="30957"/>
                  <a:pt x="1861480" y="28981"/>
                </a:cubicBezTo>
                <a:cubicBezTo>
                  <a:pt x="1861360" y="25617"/>
                  <a:pt x="1860701" y="23042"/>
                  <a:pt x="1859505" y="21254"/>
                </a:cubicBezTo>
                <a:cubicBezTo>
                  <a:pt x="1858309" y="19466"/>
                  <a:pt x="1856100" y="18240"/>
                  <a:pt x="1852879" y="17577"/>
                </a:cubicBezTo>
                <a:cubicBezTo>
                  <a:pt x="1852067" y="17377"/>
                  <a:pt x="1851091" y="17227"/>
                  <a:pt x="1849954" y="17127"/>
                </a:cubicBezTo>
                <a:cubicBezTo>
                  <a:pt x="1848816" y="17027"/>
                  <a:pt x="1847591" y="16977"/>
                  <a:pt x="1846279" y="16977"/>
                </a:cubicBezTo>
                <a:cubicBezTo>
                  <a:pt x="1845174" y="16990"/>
                  <a:pt x="1844332" y="16866"/>
                  <a:pt x="1843753" y="16605"/>
                </a:cubicBezTo>
                <a:cubicBezTo>
                  <a:pt x="1843174" y="16344"/>
                  <a:pt x="1842882" y="15872"/>
                  <a:pt x="1842878" y="15190"/>
                </a:cubicBezTo>
                <a:cubicBezTo>
                  <a:pt x="1842874" y="14507"/>
                  <a:pt x="1843232" y="14035"/>
                  <a:pt x="1843953" y="13774"/>
                </a:cubicBezTo>
                <a:cubicBezTo>
                  <a:pt x="1844674" y="13514"/>
                  <a:pt x="1845783" y="13390"/>
                  <a:pt x="1847279" y="13402"/>
                </a:cubicBezTo>
                <a:close/>
                <a:moveTo>
                  <a:pt x="1401404" y="13402"/>
                </a:moveTo>
                <a:cubicBezTo>
                  <a:pt x="1405450" y="13426"/>
                  <a:pt x="1410007" y="13522"/>
                  <a:pt x="1415076" y="13689"/>
                </a:cubicBezTo>
                <a:cubicBezTo>
                  <a:pt x="1420145" y="13857"/>
                  <a:pt x="1424251" y="13953"/>
                  <a:pt x="1427394" y="13977"/>
                </a:cubicBezTo>
                <a:cubicBezTo>
                  <a:pt x="1430121" y="13953"/>
                  <a:pt x="1433860" y="13857"/>
                  <a:pt x="1438613" y="13689"/>
                </a:cubicBezTo>
                <a:cubicBezTo>
                  <a:pt x="1443365" y="13522"/>
                  <a:pt x="1447756" y="13426"/>
                  <a:pt x="1451785" y="13402"/>
                </a:cubicBezTo>
                <a:cubicBezTo>
                  <a:pt x="1453098" y="13394"/>
                  <a:pt x="1454123" y="13510"/>
                  <a:pt x="1454861" y="13750"/>
                </a:cubicBezTo>
                <a:cubicBezTo>
                  <a:pt x="1455598" y="13990"/>
                  <a:pt x="1455973" y="14403"/>
                  <a:pt x="1455986" y="14991"/>
                </a:cubicBezTo>
                <a:cubicBezTo>
                  <a:pt x="1455977" y="15769"/>
                  <a:pt x="1455694" y="16299"/>
                  <a:pt x="1455136" y="16580"/>
                </a:cubicBezTo>
                <a:cubicBezTo>
                  <a:pt x="1454577" y="16861"/>
                  <a:pt x="1453794" y="16994"/>
                  <a:pt x="1452786" y="16977"/>
                </a:cubicBezTo>
                <a:cubicBezTo>
                  <a:pt x="1451810" y="16977"/>
                  <a:pt x="1450860" y="17028"/>
                  <a:pt x="1449935" y="17128"/>
                </a:cubicBezTo>
                <a:cubicBezTo>
                  <a:pt x="1449010" y="17228"/>
                  <a:pt x="1447960" y="17378"/>
                  <a:pt x="1446785" y="17578"/>
                </a:cubicBezTo>
                <a:cubicBezTo>
                  <a:pt x="1444138" y="18054"/>
                  <a:pt x="1442280" y="19204"/>
                  <a:pt x="1441209" y="21029"/>
                </a:cubicBezTo>
                <a:cubicBezTo>
                  <a:pt x="1440138" y="22855"/>
                  <a:pt x="1439530" y="25506"/>
                  <a:pt x="1439384" y="28982"/>
                </a:cubicBezTo>
                <a:cubicBezTo>
                  <a:pt x="1439253" y="30958"/>
                  <a:pt x="1439159" y="33319"/>
                  <a:pt x="1439102" y="36065"/>
                </a:cubicBezTo>
                <a:cubicBezTo>
                  <a:pt x="1439045" y="38812"/>
                  <a:pt x="1439011" y="42892"/>
                  <a:pt x="1438998" y="48306"/>
                </a:cubicBezTo>
                <a:cubicBezTo>
                  <a:pt x="1438986" y="53720"/>
                  <a:pt x="1438981" y="61416"/>
                  <a:pt x="1438984" y="71394"/>
                </a:cubicBezTo>
                <a:lnTo>
                  <a:pt x="1438984" y="106604"/>
                </a:lnTo>
                <a:cubicBezTo>
                  <a:pt x="1438967" y="116382"/>
                  <a:pt x="1439000" y="125035"/>
                  <a:pt x="1439084" y="132562"/>
                </a:cubicBezTo>
                <a:cubicBezTo>
                  <a:pt x="1439167" y="140089"/>
                  <a:pt x="1439400" y="146041"/>
                  <a:pt x="1439784" y="150417"/>
                </a:cubicBezTo>
                <a:cubicBezTo>
                  <a:pt x="1440005" y="153139"/>
                  <a:pt x="1440663" y="155348"/>
                  <a:pt x="1441759" y="157044"/>
                </a:cubicBezTo>
                <a:cubicBezTo>
                  <a:pt x="1442855" y="158741"/>
                  <a:pt x="1444863" y="159799"/>
                  <a:pt x="1447785" y="160220"/>
                </a:cubicBezTo>
                <a:cubicBezTo>
                  <a:pt x="1449247" y="160429"/>
                  <a:pt x="1450923" y="160612"/>
                  <a:pt x="1452810" y="160770"/>
                </a:cubicBezTo>
                <a:cubicBezTo>
                  <a:pt x="1454698" y="160929"/>
                  <a:pt x="1456423" y="161012"/>
                  <a:pt x="1457986" y="161020"/>
                </a:cubicBezTo>
                <a:cubicBezTo>
                  <a:pt x="1460153" y="161053"/>
                  <a:pt x="1461220" y="161583"/>
                  <a:pt x="1461186" y="162609"/>
                </a:cubicBezTo>
                <a:cubicBezTo>
                  <a:pt x="1461166" y="163301"/>
                  <a:pt x="1460807" y="163805"/>
                  <a:pt x="1460111" y="164124"/>
                </a:cubicBezTo>
                <a:cubicBezTo>
                  <a:pt x="1459415" y="164443"/>
                  <a:pt x="1458507" y="164600"/>
                  <a:pt x="1457386" y="164596"/>
                </a:cubicBezTo>
                <a:cubicBezTo>
                  <a:pt x="1450648" y="164572"/>
                  <a:pt x="1444473" y="164476"/>
                  <a:pt x="1438863" y="164308"/>
                </a:cubicBezTo>
                <a:cubicBezTo>
                  <a:pt x="1433253" y="164141"/>
                  <a:pt x="1429030" y="164045"/>
                  <a:pt x="1426195" y="164021"/>
                </a:cubicBezTo>
                <a:cubicBezTo>
                  <a:pt x="1423635" y="164045"/>
                  <a:pt x="1419862" y="164141"/>
                  <a:pt x="1414876" y="164308"/>
                </a:cubicBezTo>
                <a:cubicBezTo>
                  <a:pt x="1409891" y="164476"/>
                  <a:pt x="1405267" y="164572"/>
                  <a:pt x="1401004" y="164596"/>
                </a:cubicBezTo>
                <a:cubicBezTo>
                  <a:pt x="1398370" y="164629"/>
                  <a:pt x="1397037" y="163967"/>
                  <a:pt x="1397003" y="162609"/>
                </a:cubicBezTo>
                <a:cubicBezTo>
                  <a:pt x="1396987" y="162109"/>
                  <a:pt x="1397220" y="161720"/>
                  <a:pt x="1397703" y="161442"/>
                </a:cubicBezTo>
                <a:cubicBezTo>
                  <a:pt x="1398187" y="161165"/>
                  <a:pt x="1399020" y="161025"/>
                  <a:pt x="1400204" y="161020"/>
                </a:cubicBezTo>
                <a:cubicBezTo>
                  <a:pt x="1401704" y="161012"/>
                  <a:pt x="1403054" y="160929"/>
                  <a:pt x="1404254" y="160770"/>
                </a:cubicBezTo>
                <a:cubicBezTo>
                  <a:pt x="1405455" y="160612"/>
                  <a:pt x="1406505" y="160429"/>
                  <a:pt x="1407405" y="160220"/>
                </a:cubicBezTo>
                <a:cubicBezTo>
                  <a:pt x="1409359" y="159816"/>
                  <a:pt x="1410751" y="158774"/>
                  <a:pt x="1411580" y="157094"/>
                </a:cubicBezTo>
                <a:cubicBezTo>
                  <a:pt x="1412409" y="155415"/>
                  <a:pt x="1412951" y="153122"/>
                  <a:pt x="1413205" y="150217"/>
                </a:cubicBezTo>
                <a:cubicBezTo>
                  <a:pt x="1413685" y="145937"/>
                  <a:pt x="1413976" y="140043"/>
                  <a:pt x="1414080" y="132537"/>
                </a:cubicBezTo>
                <a:cubicBezTo>
                  <a:pt x="1414185" y="125031"/>
                  <a:pt x="1414226" y="116386"/>
                  <a:pt x="1414205" y="106604"/>
                </a:cubicBezTo>
                <a:lnTo>
                  <a:pt x="1414205" y="71394"/>
                </a:lnTo>
                <a:cubicBezTo>
                  <a:pt x="1414208" y="61416"/>
                  <a:pt x="1414203" y="53720"/>
                  <a:pt x="1414190" y="48306"/>
                </a:cubicBezTo>
                <a:cubicBezTo>
                  <a:pt x="1414178" y="42892"/>
                  <a:pt x="1414144" y="38812"/>
                  <a:pt x="1414087" y="36065"/>
                </a:cubicBezTo>
                <a:cubicBezTo>
                  <a:pt x="1414030" y="33319"/>
                  <a:pt x="1413936" y="30958"/>
                  <a:pt x="1413805" y="28982"/>
                </a:cubicBezTo>
                <a:cubicBezTo>
                  <a:pt x="1413622" y="25602"/>
                  <a:pt x="1412989" y="23009"/>
                  <a:pt x="1411905" y="21204"/>
                </a:cubicBezTo>
                <a:cubicBezTo>
                  <a:pt x="1410822" y="19400"/>
                  <a:pt x="1409188" y="18258"/>
                  <a:pt x="1407005" y="17778"/>
                </a:cubicBezTo>
                <a:cubicBezTo>
                  <a:pt x="1405892" y="17482"/>
                  <a:pt x="1404717" y="17274"/>
                  <a:pt x="1403479" y="17153"/>
                </a:cubicBezTo>
                <a:cubicBezTo>
                  <a:pt x="1402241" y="17032"/>
                  <a:pt x="1401016" y="16973"/>
                  <a:pt x="1399804" y="16977"/>
                </a:cubicBezTo>
                <a:cubicBezTo>
                  <a:pt x="1398795" y="16994"/>
                  <a:pt x="1398012" y="16861"/>
                  <a:pt x="1397453" y="16580"/>
                </a:cubicBezTo>
                <a:cubicBezTo>
                  <a:pt x="1396895" y="16299"/>
                  <a:pt x="1396612" y="15769"/>
                  <a:pt x="1396603" y="14991"/>
                </a:cubicBezTo>
                <a:cubicBezTo>
                  <a:pt x="1396603" y="14403"/>
                  <a:pt x="1397003" y="13990"/>
                  <a:pt x="1397803" y="13750"/>
                </a:cubicBezTo>
                <a:cubicBezTo>
                  <a:pt x="1398603" y="13510"/>
                  <a:pt x="1399804" y="13394"/>
                  <a:pt x="1401404" y="13402"/>
                </a:cubicBezTo>
                <a:close/>
                <a:moveTo>
                  <a:pt x="1086926" y="13402"/>
                </a:moveTo>
                <a:cubicBezTo>
                  <a:pt x="1092330" y="13426"/>
                  <a:pt x="1097272" y="13522"/>
                  <a:pt x="1101751" y="13689"/>
                </a:cubicBezTo>
                <a:cubicBezTo>
                  <a:pt x="1106230" y="13857"/>
                  <a:pt x="1109022" y="13953"/>
                  <a:pt x="1110126" y="13977"/>
                </a:cubicBezTo>
                <a:cubicBezTo>
                  <a:pt x="1111114" y="13953"/>
                  <a:pt x="1113589" y="13857"/>
                  <a:pt x="1117551" y="13689"/>
                </a:cubicBezTo>
                <a:cubicBezTo>
                  <a:pt x="1121514" y="13522"/>
                  <a:pt x="1126439" y="13426"/>
                  <a:pt x="1132327" y="13402"/>
                </a:cubicBezTo>
                <a:cubicBezTo>
                  <a:pt x="1135127" y="13402"/>
                  <a:pt x="1136527" y="13998"/>
                  <a:pt x="1136527" y="15190"/>
                </a:cubicBezTo>
                <a:cubicBezTo>
                  <a:pt x="1136502" y="15959"/>
                  <a:pt x="1136152" y="16456"/>
                  <a:pt x="1135477" y="16679"/>
                </a:cubicBezTo>
                <a:cubicBezTo>
                  <a:pt x="1134802" y="16903"/>
                  <a:pt x="1133952" y="17002"/>
                  <a:pt x="1132927" y="16977"/>
                </a:cubicBezTo>
                <a:cubicBezTo>
                  <a:pt x="1132106" y="16961"/>
                  <a:pt x="1131248" y="16994"/>
                  <a:pt x="1130352" y="17077"/>
                </a:cubicBezTo>
                <a:cubicBezTo>
                  <a:pt x="1129456" y="17161"/>
                  <a:pt x="1128648" y="17394"/>
                  <a:pt x="1127927" y="17777"/>
                </a:cubicBezTo>
                <a:cubicBezTo>
                  <a:pt x="1127048" y="18173"/>
                  <a:pt x="1126456" y="18732"/>
                  <a:pt x="1126152" y="19453"/>
                </a:cubicBezTo>
                <a:cubicBezTo>
                  <a:pt x="1125848" y="20174"/>
                  <a:pt x="1125706" y="21082"/>
                  <a:pt x="1125727" y="22178"/>
                </a:cubicBezTo>
                <a:cubicBezTo>
                  <a:pt x="1125760" y="23523"/>
                  <a:pt x="1126193" y="25784"/>
                  <a:pt x="1127027" y="28961"/>
                </a:cubicBezTo>
                <a:cubicBezTo>
                  <a:pt x="1127860" y="32138"/>
                  <a:pt x="1128893" y="35963"/>
                  <a:pt x="1130127" y="40435"/>
                </a:cubicBezTo>
                <a:cubicBezTo>
                  <a:pt x="1131055" y="43992"/>
                  <a:pt x="1132698" y="49757"/>
                  <a:pt x="1135055" y="57732"/>
                </a:cubicBezTo>
                <a:cubicBezTo>
                  <a:pt x="1137412" y="65707"/>
                  <a:pt x="1140011" y="74376"/>
                  <a:pt x="1142852" y="83740"/>
                </a:cubicBezTo>
                <a:cubicBezTo>
                  <a:pt x="1145693" y="93104"/>
                  <a:pt x="1148305" y="101648"/>
                  <a:pt x="1150687" y="109373"/>
                </a:cubicBezTo>
                <a:cubicBezTo>
                  <a:pt x="1153068" y="117097"/>
                  <a:pt x="1154748" y="122487"/>
                  <a:pt x="1155727" y="125543"/>
                </a:cubicBezTo>
                <a:lnTo>
                  <a:pt x="1156327" y="125543"/>
                </a:lnTo>
                <a:lnTo>
                  <a:pt x="1195128" y="21211"/>
                </a:lnTo>
                <a:cubicBezTo>
                  <a:pt x="1196111" y="18457"/>
                  <a:pt x="1196995" y="16555"/>
                  <a:pt x="1197778" y="15504"/>
                </a:cubicBezTo>
                <a:cubicBezTo>
                  <a:pt x="1198561" y="14452"/>
                  <a:pt x="1199345" y="13952"/>
                  <a:pt x="1200128" y="14002"/>
                </a:cubicBezTo>
                <a:cubicBezTo>
                  <a:pt x="1201170" y="13994"/>
                  <a:pt x="1202086" y="14761"/>
                  <a:pt x="1202878" y="16305"/>
                </a:cubicBezTo>
                <a:cubicBezTo>
                  <a:pt x="1203670" y="17848"/>
                  <a:pt x="1204686" y="20218"/>
                  <a:pt x="1205928" y="23414"/>
                </a:cubicBezTo>
                <a:lnTo>
                  <a:pt x="1247529" y="124191"/>
                </a:lnTo>
                <a:lnTo>
                  <a:pt x="1248129" y="124191"/>
                </a:lnTo>
                <a:cubicBezTo>
                  <a:pt x="1249085" y="120661"/>
                  <a:pt x="1250648" y="115206"/>
                  <a:pt x="1252820" y="107826"/>
                </a:cubicBezTo>
                <a:cubicBezTo>
                  <a:pt x="1254991" y="100446"/>
                  <a:pt x="1257436" y="92216"/>
                  <a:pt x="1260154" y="83136"/>
                </a:cubicBezTo>
                <a:cubicBezTo>
                  <a:pt x="1262872" y="74055"/>
                  <a:pt x="1265530" y="65200"/>
                  <a:pt x="1268126" y="56570"/>
                </a:cubicBezTo>
                <a:cubicBezTo>
                  <a:pt x="1270723" y="47940"/>
                  <a:pt x="1272924" y="40609"/>
                  <a:pt x="1274729" y="34580"/>
                </a:cubicBezTo>
                <a:cubicBezTo>
                  <a:pt x="1275425" y="32258"/>
                  <a:pt x="1275934" y="30100"/>
                  <a:pt x="1276254" y="28104"/>
                </a:cubicBezTo>
                <a:cubicBezTo>
                  <a:pt x="1276575" y="26108"/>
                  <a:pt x="1276734" y="24399"/>
                  <a:pt x="1276729" y="22978"/>
                </a:cubicBezTo>
                <a:cubicBezTo>
                  <a:pt x="1276817" y="21328"/>
                  <a:pt x="1276192" y="19928"/>
                  <a:pt x="1274855" y="18778"/>
                </a:cubicBezTo>
                <a:cubicBezTo>
                  <a:pt x="1273517" y="17627"/>
                  <a:pt x="1270942" y="17027"/>
                  <a:pt x="1267129" y="16977"/>
                </a:cubicBezTo>
                <a:cubicBezTo>
                  <a:pt x="1266113" y="16977"/>
                  <a:pt x="1265296" y="16828"/>
                  <a:pt x="1264679" y="16530"/>
                </a:cubicBezTo>
                <a:cubicBezTo>
                  <a:pt x="1264063" y="16232"/>
                  <a:pt x="1263746" y="15786"/>
                  <a:pt x="1263729" y="15190"/>
                </a:cubicBezTo>
                <a:cubicBezTo>
                  <a:pt x="1263733" y="14507"/>
                  <a:pt x="1264125" y="14035"/>
                  <a:pt x="1264904" y="13774"/>
                </a:cubicBezTo>
                <a:cubicBezTo>
                  <a:pt x="1265683" y="13514"/>
                  <a:pt x="1266825" y="13390"/>
                  <a:pt x="1268329" y="13402"/>
                </a:cubicBezTo>
                <a:cubicBezTo>
                  <a:pt x="1273721" y="13426"/>
                  <a:pt x="1278288" y="13522"/>
                  <a:pt x="1282030" y="13689"/>
                </a:cubicBezTo>
                <a:cubicBezTo>
                  <a:pt x="1285771" y="13857"/>
                  <a:pt x="1288138" y="13953"/>
                  <a:pt x="1289130" y="13977"/>
                </a:cubicBezTo>
                <a:cubicBezTo>
                  <a:pt x="1290021" y="13953"/>
                  <a:pt x="1292138" y="13857"/>
                  <a:pt x="1295480" y="13689"/>
                </a:cubicBezTo>
                <a:cubicBezTo>
                  <a:pt x="1298822" y="13522"/>
                  <a:pt x="1302238" y="13426"/>
                  <a:pt x="1305730" y="13402"/>
                </a:cubicBezTo>
                <a:cubicBezTo>
                  <a:pt x="1306843" y="13394"/>
                  <a:pt x="1307717" y="13510"/>
                  <a:pt x="1308354" y="13750"/>
                </a:cubicBezTo>
                <a:cubicBezTo>
                  <a:pt x="1308992" y="13990"/>
                  <a:pt x="1309317" y="14403"/>
                  <a:pt x="1309329" y="14991"/>
                </a:cubicBezTo>
                <a:cubicBezTo>
                  <a:pt x="1309296" y="16348"/>
                  <a:pt x="1308363" y="17010"/>
                  <a:pt x="1306530" y="16977"/>
                </a:cubicBezTo>
                <a:cubicBezTo>
                  <a:pt x="1305501" y="16969"/>
                  <a:pt x="1304359" y="17036"/>
                  <a:pt x="1303105" y="17177"/>
                </a:cubicBezTo>
                <a:cubicBezTo>
                  <a:pt x="1301851" y="17319"/>
                  <a:pt x="1300659" y="17586"/>
                  <a:pt x="1299530" y="17977"/>
                </a:cubicBezTo>
                <a:cubicBezTo>
                  <a:pt x="1297226" y="18936"/>
                  <a:pt x="1295284" y="21270"/>
                  <a:pt x="1293705" y="24978"/>
                </a:cubicBezTo>
                <a:cubicBezTo>
                  <a:pt x="1292126" y="28687"/>
                  <a:pt x="1290334" y="33421"/>
                  <a:pt x="1288329" y="39180"/>
                </a:cubicBezTo>
                <a:cubicBezTo>
                  <a:pt x="1285970" y="45668"/>
                  <a:pt x="1283052" y="53994"/>
                  <a:pt x="1279576" y="64158"/>
                </a:cubicBezTo>
                <a:cubicBezTo>
                  <a:pt x="1276101" y="74322"/>
                  <a:pt x="1272427" y="85198"/>
                  <a:pt x="1268554" y="96787"/>
                </a:cubicBezTo>
                <a:cubicBezTo>
                  <a:pt x="1264682" y="108376"/>
                  <a:pt x="1260970" y="119553"/>
                  <a:pt x="1257420" y="130317"/>
                </a:cubicBezTo>
                <a:cubicBezTo>
                  <a:pt x="1253869" y="141080"/>
                  <a:pt x="1250839" y="150307"/>
                  <a:pt x="1248329" y="157995"/>
                </a:cubicBezTo>
                <a:cubicBezTo>
                  <a:pt x="1247287" y="161450"/>
                  <a:pt x="1246371" y="163892"/>
                  <a:pt x="1245579" y="165321"/>
                </a:cubicBezTo>
                <a:cubicBezTo>
                  <a:pt x="1244787" y="166750"/>
                  <a:pt x="1243771" y="167442"/>
                  <a:pt x="1242529" y="167396"/>
                </a:cubicBezTo>
                <a:cubicBezTo>
                  <a:pt x="1241583" y="167450"/>
                  <a:pt x="1240675" y="166742"/>
                  <a:pt x="1239804" y="165271"/>
                </a:cubicBezTo>
                <a:cubicBezTo>
                  <a:pt x="1238933" y="163800"/>
                  <a:pt x="1237775" y="161241"/>
                  <a:pt x="1236329" y="157595"/>
                </a:cubicBezTo>
                <a:lnTo>
                  <a:pt x="1194728" y="57382"/>
                </a:lnTo>
                <a:lnTo>
                  <a:pt x="1194328" y="57382"/>
                </a:lnTo>
                <a:cubicBezTo>
                  <a:pt x="1193272" y="60227"/>
                  <a:pt x="1191109" y="65977"/>
                  <a:pt x="1187840" y="74631"/>
                </a:cubicBezTo>
                <a:cubicBezTo>
                  <a:pt x="1184572" y="83286"/>
                  <a:pt x="1180834" y="93080"/>
                  <a:pt x="1176628" y="104013"/>
                </a:cubicBezTo>
                <a:cubicBezTo>
                  <a:pt x="1172421" y="114946"/>
                  <a:pt x="1168384" y="125253"/>
                  <a:pt x="1164515" y="134933"/>
                </a:cubicBezTo>
                <a:cubicBezTo>
                  <a:pt x="1160646" y="144613"/>
                  <a:pt x="1157583" y="151900"/>
                  <a:pt x="1155327" y="156795"/>
                </a:cubicBezTo>
                <a:cubicBezTo>
                  <a:pt x="1153515" y="160825"/>
                  <a:pt x="1152140" y="163617"/>
                  <a:pt x="1151202" y="165171"/>
                </a:cubicBezTo>
                <a:cubicBezTo>
                  <a:pt x="1150265" y="166725"/>
                  <a:pt x="1149240" y="167467"/>
                  <a:pt x="1148127" y="167396"/>
                </a:cubicBezTo>
                <a:cubicBezTo>
                  <a:pt x="1147173" y="167413"/>
                  <a:pt x="1146381" y="166829"/>
                  <a:pt x="1145752" y="165646"/>
                </a:cubicBezTo>
                <a:cubicBezTo>
                  <a:pt x="1145123" y="164462"/>
                  <a:pt x="1144381" y="162579"/>
                  <a:pt x="1143527" y="159995"/>
                </a:cubicBezTo>
                <a:lnTo>
                  <a:pt x="1101126" y="32979"/>
                </a:lnTo>
                <a:cubicBezTo>
                  <a:pt x="1099943" y="29275"/>
                  <a:pt x="1098760" y="26233"/>
                  <a:pt x="1097576" y="23853"/>
                </a:cubicBezTo>
                <a:cubicBezTo>
                  <a:pt x="1096393" y="21474"/>
                  <a:pt x="1095109" y="19782"/>
                  <a:pt x="1093726" y="18778"/>
                </a:cubicBezTo>
                <a:cubicBezTo>
                  <a:pt x="1092543" y="18090"/>
                  <a:pt x="1091159" y="17615"/>
                  <a:pt x="1089576" y="17352"/>
                </a:cubicBezTo>
                <a:cubicBezTo>
                  <a:pt x="1087993" y="17090"/>
                  <a:pt x="1086709" y="16965"/>
                  <a:pt x="1085726" y="16977"/>
                </a:cubicBezTo>
                <a:cubicBezTo>
                  <a:pt x="1084718" y="17002"/>
                  <a:pt x="1083934" y="16903"/>
                  <a:pt x="1083376" y="16679"/>
                </a:cubicBezTo>
                <a:cubicBezTo>
                  <a:pt x="1082818" y="16456"/>
                  <a:pt x="1082534" y="15959"/>
                  <a:pt x="1082526" y="15190"/>
                </a:cubicBezTo>
                <a:cubicBezTo>
                  <a:pt x="1082534" y="14507"/>
                  <a:pt x="1082918" y="14035"/>
                  <a:pt x="1083676" y="13774"/>
                </a:cubicBezTo>
                <a:cubicBezTo>
                  <a:pt x="1084434" y="13514"/>
                  <a:pt x="1085518" y="13390"/>
                  <a:pt x="1086926" y="13402"/>
                </a:cubicBezTo>
                <a:close/>
                <a:moveTo>
                  <a:pt x="332527" y="13402"/>
                </a:moveTo>
                <a:cubicBezTo>
                  <a:pt x="338007" y="13426"/>
                  <a:pt x="343448" y="13522"/>
                  <a:pt x="348850" y="13689"/>
                </a:cubicBezTo>
                <a:cubicBezTo>
                  <a:pt x="354252" y="13857"/>
                  <a:pt x="358542" y="13953"/>
                  <a:pt x="361718" y="13977"/>
                </a:cubicBezTo>
                <a:cubicBezTo>
                  <a:pt x="364391" y="13953"/>
                  <a:pt x="368189" y="13857"/>
                  <a:pt x="373113" y="13689"/>
                </a:cubicBezTo>
                <a:cubicBezTo>
                  <a:pt x="378037" y="13522"/>
                  <a:pt x="382436" y="13426"/>
                  <a:pt x="386313" y="13402"/>
                </a:cubicBezTo>
                <a:cubicBezTo>
                  <a:pt x="387810" y="13390"/>
                  <a:pt x="388918" y="13514"/>
                  <a:pt x="389639" y="13774"/>
                </a:cubicBezTo>
                <a:cubicBezTo>
                  <a:pt x="390361" y="14035"/>
                  <a:pt x="390719" y="14507"/>
                  <a:pt x="390715" y="15190"/>
                </a:cubicBezTo>
                <a:cubicBezTo>
                  <a:pt x="390707" y="15872"/>
                  <a:pt x="390423" y="16344"/>
                  <a:pt x="389865" y="16605"/>
                </a:cubicBezTo>
                <a:cubicBezTo>
                  <a:pt x="389306" y="16866"/>
                  <a:pt x="388522" y="16990"/>
                  <a:pt x="387514" y="16977"/>
                </a:cubicBezTo>
                <a:cubicBezTo>
                  <a:pt x="386459" y="16977"/>
                  <a:pt x="385517" y="17027"/>
                  <a:pt x="384687" y="17127"/>
                </a:cubicBezTo>
                <a:cubicBezTo>
                  <a:pt x="383858" y="17227"/>
                  <a:pt x="382866" y="17377"/>
                  <a:pt x="381711" y="17577"/>
                </a:cubicBezTo>
                <a:cubicBezTo>
                  <a:pt x="379064" y="18052"/>
                  <a:pt x="377205" y="19202"/>
                  <a:pt x="376134" y="21028"/>
                </a:cubicBezTo>
                <a:cubicBezTo>
                  <a:pt x="375062" y="22854"/>
                  <a:pt x="374454" y="25504"/>
                  <a:pt x="374308" y="28980"/>
                </a:cubicBezTo>
                <a:cubicBezTo>
                  <a:pt x="374177" y="30956"/>
                  <a:pt x="374083" y="33318"/>
                  <a:pt x="374026" y="36064"/>
                </a:cubicBezTo>
                <a:cubicBezTo>
                  <a:pt x="373969" y="38811"/>
                  <a:pt x="373935" y="42891"/>
                  <a:pt x="373922" y="48305"/>
                </a:cubicBezTo>
                <a:cubicBezTo>
                  <a:pt x="373910" y="53719"/>
                  <a:pt x="373905" y="61415"/>
                  <a:pt x="373908" y="71394"/>
                </a:cubicBezTo>
                <a:lnTo>
                  <a:pt x="373908" y="99402"/>
                </a:lnTo>
                <a:cubicBezTo>
                  <a:pt x="373945" y="113644"/>
                  <a:pt x="375321" y="124472"/>
                  <a:pt x="378034" y="131887"/>
                </a:cubicBezTo>
                <a:cubicBezTo>
                  <a:pt x="380748" y="139302"/>
                  <a:pt x="384575" y="144879"/>
                  <a:pt x="389514" y="148617"/>
                </a:cubicBezTo>
                <a:cubicBezTo>
                  <a:pt x="394071" y="152198"/>
                  <a:pt x="398514" y="154490"/>
                  <a:pt x="402846" y="155494"/>
                </a:cubicBezTo>
                <a:cubicBezTo>
                  <a:pt x="407176" y="156499"/>
                  <a:pt x="411070" y="156941"/>
                  <a:pt x="414526" y="156820"/>
                </a:cubicBezTo>
                <a:cubicBezTo>
                  <a:pt x="419028" y="156870"/>
                  <a:pt x="423730" y="156070"/>
                  <a:pt x="428632" y="154419"/>
                </a:cubicBezTo>
                <a:cubicBezTo>
                  <a:pt x="433534" y="152769"/>
                  <a:pt x="438036" y="149968"/>
                  <a:pt x="442138" y="146017"/>
                </a:cubicBezTo>
                <a:cubicBezTo>
                  <a:pt x="447436" y="140423"/>
                  <a:pt x="450746" y="133354"/>
                  <a:pt x="452067" y="124810"/>
                </a:cubicBezTo>
                <a:cubicBezTo>
                  <a:pt x="453388" y="116266"/>
                  <a:pt x="453947" y="106796"/>
                  <a:pt x="453742" y="96401"/>
                </a:cubicBezTo>
                <a:lnTo>
                  <a:pt x="453742" y="71394"/>
                </a:lnTo>
                <a:cubicBezTo>
                  <a:pt x="453745" y="61415"/>
                  <a:pt x="453740" y="53719"/>
                  <a:pt x="453728" y="48305"/>
                </a:cubicBezTo>
                <a:cubicBezTo>
                  <a:pt x="453715" y="42891"/>
                  <a:pt x="453681" y="38811"/>
                  <a:pt x="453624" y="36064"/>
                </a:cubicBezTo>
                <a:cubicBezTo>
                  <a:pt x="453567" y="33318"/>
                  <a:pt x="453474" y="30956"/>
                  <a:pt x="453343" y="28980"/>
                </a:cubicBezTo>
                <a:cubicBezTo>
                  <a:pt x="453222" y="25617"/>
                  <a:pt x="452564" y="23041"/>
                  <a:pt x="451367" y="21253"/>
                </a:cubicBezTo>
                <a:cubicBezTo>
                  <a:pt x="450171" y="19465"/>
                  <a:pt x="447961" y="18240"/>
                  <a:pt x="444739" y="17577"/>
                </a:cubicBezTo>
                <a:cubicBezTo>
                  <a:pt x="443876" y="17377"/>
                  <a:pt x="442751" y="17227"/>
                  <a:pt x="441362" y="17127"/>
                </a:cubicBezTo>
                <a:cubicBezTo>
                  <a:pt x="439975" y="17027"/>
                  <a:pt x="438699" y="16977"/>
                  <a:pt x="437536" y="16977"/>
                </a:cubicBezTo>
                <a:cubicBezTo>
                  <a:pt x="436431" y="16990"/>
                  <a:pt x="435589" y="16866"/>
                  <a:pt x="435010" y="16605"/>
                </a:cubicBezTo>
                <a:cubicBezTo>
                  <a:pt x="434430" y="16344"/>
                  <a:pt x="434139" y="15872"/>
                  <a:pt x="434134" y="15190"/>
                </a:cubicBezTo>
                <a:cubicBezTo>
                  <a:pt x="434134" y="14507"/>
                  <a:pt x="434484" y="14035"/>
                  <a:pt x="435185" y="13774"/>
                </a:cubicBezTo>
                <a:cubicBezTo>
                  <a:pt x="435885" y="13514"/>
                  <a:pt x="436936" y="13390"/>
                  <a:pt x="438336" y="13402"/>
                </a:cubicBezTo>
                <a:cubicBezTo>
                  <a:pt x="443747" y="13426"/>
                  <a:pt x="448830" y="13522"/>
                  <a:pt x="453586" y="13689"/>
                </a:cubicBezTo>
                <a:cubicBezTo>
                  <a:pt x="458343" y="13857"/>
                  <a:pt x="460925" y="13953"/>
                  <a:pt x="461333" y="13977"/>
                </a:cubicBezTo>
                <a:cubicBezTo>
                  <a:pt x="462843" y="13953"/>
                  <a:pt x="465966" y="13857"/>
                  <a:pt x="470700" y="13689"/>
                </a:cubicBezTo>
                <a:cubicBezTo>
                  <a:pt x="475435" y="13522"/>
                  <a:pt x="479909" y="13426"/>
                  <a:pt x="484121" y="13402"/>
                </a:cubicBezTo>
                <a:cubicBezTo>
                  <a:pt x="485521" y="13390"/>
                  <a:pt x="486572" y="13514"/>
                  <a:pt x="487272" y="13774"/>
                </a:cubicBezTo>
                <a:cubicBezTo>
                  <a:pt x="487972" y="14035"/>
                  <a:pt x="488322" y="14507"/>
                  <a:pt x="488322" y="15190"/>
                </a:cubicBezTo>
                <a:cubicBezTo>
                  <a:pt x="488322" y="15872"/>
                  <a:pt x="488022" y="16344"/>
                  <a:pt x="487422" y="16605"/>
                </a:cubicBezTo>
                <a:cubicBezTo>
                  <a:pt x="486822" y="16866"/>
                  <a:pt x="485921" y="16990"/>
                  <a:pt x="484722" y="16977"/>
                </a:cubicBezTo>
                <a:cubicBezTo>
                  <a:pt x="483667" y="16977"/>
                  <a:pt x="482725" y="17027"/>
                  <a:pt x="481896" y="17127"/>
                </a:cubicBezTo>
                <a:cubicBezTo>
                  <a:pt x="481067" y="17227"/>
                  <a:pt x="480075" y="17377"/>
                  <a:pt x="478921" y="17577"/>
                </a:cubicBezTo>
                <a:cubicBezTo>
                  <a:pt x="476274" y="18052"/>
                  <a:pt x="474416" y="19202"/>
                  <a:pt x="473345" y="21028"/>
                </a:cubicBezTo>
                <a:cubicBezTo>
                  <a:pt x="472274" y="22854"/>
                  <a:pt x="471666" y="25504"/>
                  <a:pt x="471520" y="28980"/>
                </a:cubicBezTo>
                <a:cubicBezTo>
                  <a:pt x="471389" y="30956"/>
                  <a:pt x="471295" y="33318"/>
                  <a:pt x="471238" y="36064"/>
                </a:cubicBezTo>
                <a:cubicBezTo>
                  <a:pt x="471181" y="38811"/>
                  <a:pt x="471147" y="42891"/>
                  <a:pt x="471135" y="48305"/>
                </a:cubicBezTo>
                <a:cubicBezTo>
                  <a:pt x="471122" y="53719"/>
                  <a:pt x="471117" y="61415"/>
                  <a:pt x="471120" y="71394"/>
                </a:cubicBezTo>
                <a:lnTo>
                  <a:pt x="471120" y="92800"/>
                </a:lnTo>
                <a:cubicBezTo>
                  <a:pt x="471378" y="104124"/>
                  <a:pt x="470312" y="115136"/>
                  <a:pt x="467924" y="125835"/>
                </a:cubicBezTo>
                <a:cubicBezTo>
                  <a:pt x="465535" y="136534"/>
                  <a:pt x="460275" y="145596"/>
                  <a:pt x="452142" y="153019"/>
                </a:cubicBezTo>
                <a:cubicBezTo>
                  <a:pt x="445006" y="158948"/>
                  <a:pt x="437919" y="162867"/>
                  <a:pt x="430883" y="164776"/>
                </a:cubicBezTo>
                <a:cubicBezTo>
                  <a:pt x="423846" y="166685"/>
                  <a:pt x="417060" y="167559"/>
                  <a:pt x="410524" y="167396"/>
                </a:cubicBezTo>
                <a:cubicBezTo>
                  <a:pt x="404946" y="167646"/>
                  <a:pt x="398044" y="166997"/>
                  <a:pt x="389816" y="165449"/>
                </a:cubicBezTo>
                <a:cubicBezTo>
                  <a:pt x="381588" y="163902"/>
                  <a:pt x="373688" y="159959"/>
                  <a:pt x="366114" y="153619"/>
                </a:cubicBezTo>
                <a:cubicBezTo>
                  <a:pt x="360915" y="149197"/>
                  <a:pt x="356677" y="142836"/>
                  <a:pt x="353400" y="134538"/>
                </a:cubicBezTo>
                <a:cubicBezTo>
                  <a:pt x="350124" y="126240"/>
                  <a:pt x="348434" y="114928"/>
                  <a:pt x="348329" y="100603"/>
                </a:cubicBezTo>
                <a:lnTo>
                  <a:pt x="348329" y="71394"/>
                </a:lnTo>
                <a:cubicBezTo>
                  <a:pt x="348332" y="61415"/>
                  <a:pt x="348327" y="53719"/>
                  <a:pt x="348314" y="48305"/>
                </a:cubicBezTo>
                <a:cubicBezTo>
                  <a:pt x="348302" y="42891"/>
                  <a:pt x="348268" y="38811"/>
                  <a:pt x="348211" y="36064"/>
                </a:cubicBezTo>
                <a:cubicBezTo>
                  <a:pt x="348154" y="33318"/>
                  <a:pt x="348060" y="30956"/>
                  <a:pt x="347929" y="28980"/>
                </a:cubicBezTo>
                <a:cubicBezTo>
                  <a:pt x="347808" y="25617"/>
                  <a:pt x="347150" y="23041"/>
                  <a:pt x="345954" y="21253"/>
                </a:cubicBezTo>
                <a:cubicBezTo>
                  <a:pt x="344758" y="19465"/>
                  <a:pt x="342550" y="18240"/>
                  <a:pt x="339328" y="17577"/>
                </a:cubicBezTo>
                <a:cubicBezTo>
                  <a:pt x="338478" y="17377"/>
                  <a:pt x="337328" y="17227"/>
                  <a:pt x="335878" y="17127"/>
                </a:cubicBezTo>
                <a:cubicBezTo>
                  <a:pt x="334428" y="17027"/>
                  <a:pt x="332977" y="16977"/>
                  <a:pt x="331527" y="16977"/>
                </a:cubicBezTo>
                <a:cubicBezTo>
                  <a:pt x="330423" y="16990"/>
                  <a:pt x="329581" y="16866"/>
                  <a:pt x="329002" y="16605"/>
                </a:cubicBezTo>
                <a:cubicBezTo>
                  <a:pt x="328423" y="16344"/>
                  <a:pt x="328131" y="15872"/>
                  <a:pt x="328127" y="15190"/>
                </a:cubicBezTo>
                <a:cubicBezTo>
                  <a:pt x="328123" y="14507"/>
                  <a:pt x="328481" y="14035"/>
                  <a:pt x="329202" y="13774"/>
                </a:cubicBezTo>
                <a:cubicBezTo>
                  <a:pt x="329923" y="13514"/>
                  <a:pt x="331031" y="13390"/>
                  <a:pt x="332527" y="13402"/>
                </a:cubicBezTo>
                <a:close/>
                <a:moveTo>
                  <a:pt x="3800" y="13402"/>
                </a:moveTo>
                <a:cubicBezTo>
                  <a:pt x="5123" y="13409"/>
                  <a:pt x="7345" y="13459"/>
                  <a:pt x="10468" y="13551"/>
                </a:cubicBezTo>
                <a:cubicBezTo>
                  <a:pt x="13591" y="13643"/>
                  <a:pt x="16880" y="13736"/>
                  <a:pt x="20336" y="13828"/>
                </a:cubicBezTo>
                <a:cubicBezTo>
                  <a:pt x="23792" y="13920"/>
                  <a:pt x="26681" y="13970"/>
                  <a:pt x="29004" y="13977"/>
                </a:cubicBezTo>
                <a:cubicBezTo>
                  <a:pt x="31171" y="13953"/>
                  <a:pt x="34138" y="13857"/>
                  <a:pt x="37905" y="13689"/>
                </a:cubicBezTo>
                <a:cubicBezTo>
                  <a:pt x="41672" y="13522"/>
                  <a:pt x="45839" y="13426"/>
                  <a:pt x="50406" y="13402"/>
                </a:cubicBezTo>
                <a:cubicBezTo>
                  <a:pt x="52407" y="13402"/>
                  <a:pt x="53407" y="13998"/>
                  <a:pt x="53407" y="15190"/>
                </a:cubicBezTo>
                <a:cubicBezTo>
                  <a:pt x="53411" y="15752"/>
                  <a:pt x="53052" y="16166"/>
                  <a:pt x="52332" y="16432"/>
                </a:cubicBezTo>
                <a:cubicBezTo>
                  <a:pt x="51611" y="16697"/>
                  <a:pt x="50502" y="17012"/>
                  <a:pt x="49006" y="17378"/>
                </a:cubicBezTo>
                <a:cubicBezTo>
                  <a:pt x="48102" y="17603"/>
                  <a:pt x="47410" y="18054"/>
                  <a:pt x="46931" y="18729"/>
                </a:cubicBezTo>
                <a:cubicBezTo>
                  <a:pt x="46452" y="19404"/>
                  <a:pt x="46210" y="20154"/>
                  <a:pt x="46206" y="20979"/>
                </a:cubicBezTo>
                <a:cubicBezTo>
                  <a:pt x="46218" y="21788"/>
                  <a:pt x="46443" y="22772"/>
                  <a:pt x="46881" y="23930"/>
                </a:cubicBezTo>
                <a:cubicBezTo>
                  <a:pt x="47318" y="25089"/>
                  <a:pt x="47894" y="26373"/>
                  <a:pt x="48606" y="27781"/>
                </a:cubicBezTo>
                <a:cubicBezTo>
                  <a:pt x="49436" y="29503"/>
                  <a:pt x="51450" y="33200"/>
                  <a:pt x="54648" y="38872"/>
                </a:cubicBezTo>
                <a:cubicBezTo>
                  <a:pt x="57846" y="44545"/>
                  <a:pt x="61447" y="50867"/>
                  <a:pt x="65451" y="57840"/>
                </a:cubicBezTo>
                <a:cubicBezTo>
                  <a:pt x="69455" y="64813"/>
                  <a:pt x="73080" y="71111"/>
                  <a:pt x="76327" y="76733"/>
                </a:cubicBezTo>
                <a:cubicBezTo>
                  <a:pt x="79575" y="82356"/>
                  <a:pt x="81663" y="85978"/>
                  <a:pt x="82593" y="87599"/>
                </a:cubicBezTo>
                <a:cubicBezTo>
                  <a:pt x="83211" y="86198"/>
                  <a:pt x="84923" y="82948"/>
                  <a:pt x="87729" y="77849"/>
                </a:cubicBezTo>
                <a:cubicBezTo>
                  <a:pt x="90535" y="72750"/>
                  <a:pt x="93722" y="67006"/>
                  <a:pt x="97290" y="60616"/>
                </a:cubicBezTo>
                <a:cubicBezTo>
                  <a:pt x="100859" y="54226"/>
                  <a:pt x="104096" y="48394"/>
                  <a:pt x="107002" y="43120"/>
                </a:cubicBezTo>
                <a:cubicBezTo>
                  <a:pt x="109908" y="37846"/>
                  <a:pt x="111771" y="34334"/>
                  <a:pt x="112589" y="32583"/>
                </a:cubicBezTo>
                <a:cubicBezTo>
                  <a:pt x="113581" y="30386"/>
                  <a:pt x="114298" y="28427"/>
                  <a:pt x="114740" y="26706"/>
                </a:cubicBezTo>
                <a:cubicBezTo>
                  <a:pt x="115181" y="24985"/>
                  <a:pt x="115398" y="23476"/>
                  <a:pt x="115389" y="22180"/>
                </a:cubicBezTo>
                <a:cubicBezTo>
                  <a:pt x="115427" y="21146"/>
                  <a:pt x="115152" y="20162"/>
                  <a:pt x="114564" y="19229"/>
                </a:cubicBezTo>
                <a:cubicBezTo>
                  <a:pt x="113977" y="18295"/>
                  <a:pt x="112852" y="17612"/>
                  <a:pt x="111189" y="17178"/>
                </a:cubicBezTo>
                <a:cubicBezTo>
                  <a:pt x="110251" y="16995"/>
                  <a:pt x="109426" y="16763"/>
                  <a:pt x="108714" y="16481"/>
                </a:cubicBezTo>
                <a:cubicBezTo>
                  <a:pt x="108001" y="16199"/>
                  <a:pt x="107626" y="15769"/>
                  <a:pt x="107588" y="15190"/>
                </a:cubicBezTo>
                <a:cubicBezTo>
                  <a:pt x="107580" y="14507"/>
                  <a:pt x="107847" y="14035"/>
                  <a:pt x="108389" y="13774"/>
                </a:cubicBezTo>
                <a:cubicBezTo>
                  <a:pt x="108931" y="13514"/>
                  <a:pt x="109797" y="13390"/>
                  <a:pt x="110989" y="13402"/>
                </a:cubicBezTo>
                <a:cubicBezTo>
                  <a:pt x="114298" y="13426"/>
                  <a:pt x="117531" y="13522"/>
                  <a:pt x="120690" y="13689"/>
                </a:cubicBezTo>
                <a:cubicBezTo>
                  <a:pt x="123849" y="13857"/>
                  <a:pt x="126883" y="13953"/>
                  <a:pt x="129791" y="13977"/>
                </a:cubicBezTo>
                <a:cubicBezTo>
                  <a:pt x="131371" y="13970"/>
                  <a:pt x="133591" y="13920"/>
                  <a:pt x="136452" y="13828"/>
                </a:cubicBezTo>
                <a:cubicBezTo>
                  <a:pt x="139312" y="13736"/>
                  <a:pt x="142140" y="13643"/>
                  <a:pt x="144934" y="13551"/>
                </a:cubicBezTo>
                <a:cubicBezTo>
                  <a:pt x="147728" y="13459"/>
                  <a:pt x="149815" y="13409"/>
                  <a:pt x="151194" y="13402"/>
                </a:cubicBezTo>
                <a:cubicBezTo>
                  <a:pt x="152307" y="13394"/>
                  <a:pt x="153182" y="13510"/>
                  <a:pt x="153819" y="13750"/>
                </a:cubicBezTo>
                <a:cubicBezTo>
                  <a:pt x="154457" y="13990"/>
                  <a:pt x="154782" y="14403"/>
                  <a:pt x="154794" y="14991"/>
                </a:cubicBezTo>
                <a:cubicBezTo>
                  <a:pt x="154774" y="15682"/>
                  <a:pt x="154415" y="16187"/>
                  <a:pt x="153719" y="16506"/>
                </a:cubicBezTo>
                <a:cubicBezTo>
                  <a:pt x="153023" y="16824"/>
                  <a:pt x="152115" y="16982"/>
                  <a:pt x="150994" y="16977"/>
                </a:cubicBezTo>
                <a:cubicBezTo>
                  <a:pt x="149940" y="16977"/>
                  <a:pt x="148598" y="17178"/>
                  <a:pt x="146969" y="17578"/>
                </a:cubicBezTo>
                <a:cubicBezTo>
                  <a:pt x="145339" y="17978"/>
                  <a:pt x="143747" y="18579"/>
                  <a:pt x="142193" y="19379"/>
                </a:cubicBezTo>
                <a:cubicBezTo>
                  <a:pt x="140180" y="20325"/>
                  <a:pt x="138405" y="21534"/>
                  <a:pt x="136867" y="23005"/>
                </a:cubicBezTo>
                <a:cubicBezTo>
                  <a:pt x="135329" y="24476"/>
                  <a:pt x="133504" y="26535"/>
                  <a:pt x="131391" y="29182"/>
                </a:cubicBezTo>
                <a:cubicBezTo>
                  <a:pt x="129622" y="31384"/>
                  <a:pt x="126873" y="35420"/>
                  <a:pt x="123144" y="41288"/>
                </a:cubicBezTo>
                <a:cubicBezTo>
                  <a:pt x="119414" y="47157"/>
                  <a:pt x="115421" y="53650"/>
                  <a:pt x="111164" y="60766"/>
                </a:cubicBezTo>
                <a:cubicBezTo>
                  <a:pt x="106907" y="67882"/>
                  <a:pt x="103101" y="74412"/>
                  <a:pt x="99747" y="80356"/>
                </a:cubicBezTo>
                <a:cubicBezTo>
                  <a:pt x="96393" y="86300"/>
                  <a:pt x="94206" y="90448"/>
                  <a:pt x="93187" y="92800"/>
                </a:cubicBezTo>
                <a:cubicBezTo>
                  <a:pt x="91749" y="96372"/>
                  <a:pt x="90874" y="99782"/>
                  <a:pt x="90562" y="103028"/>
                </a:cubicBezTo>
                <a:cubicBezTo>
                  <a:pt x="90249" y="106275"/>
                  <a:pt x="90124" y="109534"/>
                  <a:pt x="90186" y="112806"/>
                </a:cubicBezTo>
                <a:lnTo>
                  <a:pt x="90186" y="129211"/>
                </a:lnTo>
                <a:cubicBezTo>
                  <a:pt x="90174" y="130920"/>
                  <a:pt x="90199" y="133604"/>
                  <a:pt x="90261" y="137263"/>
                </a:cubicBezTo>
                <a:cubicBezTo>
                  <a:pt x="90324" y="140923"/>
                  <a:pt x="90499" y="144907"/>
                  <a:pt x="90787" y="149217"/>
                </a:cubicBezTo>
                <a:cubicBezTo>
                  <a:pt x="90928" y="152164"/>
                  <a:pt x="91595" y="154623"/>
                  <a:pt x="92787" y="156594"/>
                </a:cubicBezTo>
                <a:cubicBezTo>
                  <a:pt x="93979" y="158565"/>
                  <a:pt x="96045" y="159774"/>
                  <a:pt x="98987" y="160220"/>
                </a:cubicBezTo>
                <a:cubicBezTo>
                  <a:pt x="100454" y="160429"/>
                  <a:pt x="102121" y="160612"/>
                  <a:pt x="103988" y="160770"/>
                </a:cubicBezTo>
                <a:cubicBezTo>
                  <a:pt x="105855" y="160929"/>
                  <a:pt x="107522" y="161012"/>
                  <a:pt x="108989" y="161020"/>
                </a:cubicBezTo>
                <a:cubicBezTo>
                  <a:pt x="111156" y="161053"/>
                  <a:pt x="112223" y="161583"/>
                  <a:pt x="112189" y="162609"/>
                </a:cubicBezTo>
                <a:cubicBezTo>
                  <a:pt x="112177" y="163301"/>
                  <a:pt x="111802" y="163805"/>
                  <a:pt x="111064" y="164124"/>
                </a:cubicBezTo>
                <a:cubicBezTo>
                  <a:pt x="110326" y="164443"/>
                  <a:pt x="109301" y="164600"/>
                  <a:pt x="107989" y="164596"/>
                </a:cubicBezTo>
                <a:cubicBezTo>
                  <a:pt x="101538" y="164572"/>
                  <a:pt x="95539" y="164476"/>
                  <a:pt x="89991" y="164308"/>
                </a:cubicBezTo>
                <a:cubicBezTo>
                  <a:pt x="84443" y="164141"/>
                  <a:pt x="80245" y="164045"/>
                  <a:pt x="77397" y="164021"/>
                </a:cubicBezTo>
                <a:cubicBezTo>
                  <a:pt x="74633" y="164045"/>
                  <a:pt x="70769" y="164141"/>
                  <a:pt x="65804" y="164308"/>
                </a:cubicBezTo>
                <a:cubicBezTo>
                  <a:pt x="60839" y="164476"/>
                  <a:pt x="56374" y="164572"/>
                  <a:pt x="52407" y="164596"/>
                </a:cubicBezTo>
                <a:cubicBezTo>
                  <a:pt x="50998" y="164612"/>
                  <a:pt x="49915" y="164480"/>
                  <a:pt x="49156" y="164199"/>
                </a:cubicBezTo>
                <a:cubicBezTo>
                  <a:pt x="48398" y="163917"/>
                  <a:pt x="48015" y="163387"/>
                  <a:pt x="48006" y="162609"/>
                </a:cubicBezTo>
                <a:cubicBezTo>
                  <a:pt x="47973" y="161583"/>
                  <a:pt x="49039" y="161053"/>
                  <a:pt x="51207" y="161020"/>
                </a:cubicBezTo>
                <a:cubicBezTo>
                  <a:pt x="52611" y="161012"/>
                  <a:pt x="53903" y="160929"/>
                  <a:pt x="55082" y="160770"/>
                </a:cubicBezTo>
                <a:cubicBezTo>
                  <a:pt x="56261" y="160612"/>
                  <a:pt x="57303" y="160429"/>
                  <a:pt x="58207" y="160220"/>
                </a:cubicBezTo>
                <a:cubicBezTo>
                  <a:pt x="60191" y="159774"/>
                  <a:pt x="61674" y="158565"/>
                  <a:pt x="62658" y="156594"/>
                </a:cubicBezTo>
                <a:cubicBezTo>
                  <a:pt x="63641" y="154623"/>
                  <a:pt x="64225" y="152164"/>
                  <a:pt x="64408" y="149217"/>
                </a:cubicBezTo>
                <a:cubicBezTo>
                  <a:pt x="64696" y="144907"/>
                  <a:pt x="64871" y="140923"/>
                  <a:pt x="64933" y="137263"/>
                </a:cubicBezTo>
                <a:cubicBezTo>
                  <a:pt x="64996" y="133604"/>
                  <a:pt x="65021" y="130920"/>
                  <a:pt x="65008" y="129211"/>
                </a:cubicBezTo>
                <a:lnTo>
                  <a:pt x="65008" y="112806"/>
                </a:lnTo>
                <a:cubicBezTo>
                  <a:pt x="64979" y="107567"/>
                  <a:pt x="64537" y="103441"/>
                  <a:pt x="63683" y="100428"/>
                </a:cubicBezTo>
                <a:cubicBezTo>
                  <a:pt x="62829" y="97414"/>
                  <a:pt x="61737" y="94538"/>
                  <a:pt x="60408" y="91800"/>
                </a:cubicBezTo>
                <a:cubicBezTo>
                  <a:pt x="59940" y="90806"/>
                  <a:pt x="58238" y="87843"/>
                  <a:pt x="55301" y="82910"/>
                </a:cubicBezTo>
                <a:cubicBezTo>
                  <a:pt x="52364" y="77977"/>
                  <a:pt x="48899" y="72238"/>
                  <a:pt x="44906" y="65692"/>
                </a:cubicBezTo>
                <a:cubicBezTo>
                  <a:pt x="40912" y="59147"/>
                  <a:pt x="37098" y="52957"/>
                  <a:pt x="33460" y="47125"/>
                </a:cubicBezTo>
                <a:cubicBezTo>
                  <a:pt x="29824" y="41292"/>
                  <a:pt x="27071" y="36978"/>
                  <a:pt x="25203" y="34183"/>
                </a:cubicBezTo>
                <a:cubicBezTo>
                  <a:pt x="22678" y="30474"/>
                  <a:pt x="20228" y="27390"/>
                  <a:pt x="17852" y="24931"/>
                </a:cubicBezTo>
                <a:cubicBezTo>
                  <a:pt x="15477" y="22471"/>
                  <a:pt x="13327" y="20688"/>
                  <a:pt x="11402" y="19579"/>
                </a:cubicBezTo>
                <a:cubicBezTo>
                  <a:pt x="10064" y="18858"/>
                  <a:pt x="8639" y="18249"/>
                  <a:pt x="7126" y="17753"/>
                </a:cubicBezTo>
                <a:cubicBezTo>
                  <a:pt x="5613" y="17257"/>
                  <a:pt x="4238" y="16998"/>
                  <a:pt x="3000" y="16977"/>
                </a:cubicBezTo>
                <a:cubicBezTo>
                  <a:pt x="2175" y="16990"/>
                  <a:pt x="1475" y="16866"/>
                  <a:pt x="900" y="16605"/>
                </a:cubicBezTo>
                <a:cubicBezTo>
                  <a:pt x="325" y="16344"/>
                  <a:pt x="25" y="15872"/>
                  <a:pt x="0" y="15190"/>
                </a:cubicBezTo>
                <a:cubicBezTo>
                  <a:pt x="9" y="14594"/>
                  <a:pt x="342" y="14147"/>
                  <a:pt x="1000" y="13849"/>
                </a:cubicBezTo>
                <a:cubicBezTo>
                  <a:pt x="1659" y="13551"/>
                  <a:pt x="2592" y="13402"/>
                  <a:pt x="3800" y="13402"/>
                </a:cubicBezTo>
                <a:close/>
                <a:moveTo>
                  <a:pt x="5327564" y="11802"/>
                </a:moveTo>
                <a:cubicBezTo>
                  <a:pt x="5328052" y="11814"/>
                  <a:pt x="5328377" y="11989"/>
                  <a:pt x="5328539" y="12327"/>
                </a:cubicBezTo>
                <a:cubicBezTo>
                  <a:pt x="5328702" y="12664"/>
                  <a:pt x="5328777" y="13089"/>
                  <a:pt x="5328764" y="13602"/>
                </a:cubicBezTo>
                <a:cubicBezTo>
                  <a:pt x="5328735" y="14181"/>
                  <a:pt x="5328544" y="15373"/>
                  <a:pt x="5328189" y="17177"/>
                </a:cubicBezTo>
                <a:cubicBezTo>
                  <a:pt x="5327835" y="18982"/>
                  <a:pt x="5327494" y="22124"/>
                  <a:pt x="5327165" y="26604"/>
                </a:cubicBezTo>
                <a:cubicBezTo>
                  <a:pt x="5327060" y="27879"/>
                  <a:pt x="5326919" y="30029"/>
                  <a:pt x="5326740" y="33052"/>
                </a:cubicBezTo>
                <a:cubicBezTo>
                  <a:pt x="5326560" y="36076"/>
                  <a:pt x="5326369" y="38321"/>
                  <a:pt x="5326165" y="39787"/>
                </a:cubicBezTo>
                <a:cubicBezTo>
                  <a:pt x="5326081" y="40317"/>
                  <a:pt x="5325899" y="40809"/>
                  <a:pt x="5325618" y="41263"/>
                </a:cubicBezTo>
                <a:cubicBezTo>
                  <a:pt x="5325337" y="41718"/>
                  <a:pt x="5324856" y="41959"/>
                  <a:pt x="5324177" y="41989"/>
                </a:cubicBezTo>
                <a:cubicBezTo>
                  <a:pt x="5323494" y="41984"/>
                  <a:pt x="5323022" y="41743"/>
                  <a:pt x="5322761" y="41263"/>
                </a:cubicBezTo>
                <a:cubicBezTo>
                  <a:pt x="5322500" y="40784"/>
                  <a:pt x="5322376" y="40092"/>
                  <a:pt x="5322389" y="39187"/>
                </a:cubicBezTo>
                <a:cubicBezTo>
                  <a:pt x="5322401" y="38424"/>
                  <a:pt x="5322326" y="37348"/>
                  <a:pt x="5322164" y="35960"/>
                </a:cubicBezTo>
                <a:cubicBezTo>
                  <a:pt x="5322001" y="34572"/>
                  <a:pt x="5321676" y="33246"/>
                  <a:pt x="5321188" y="31983"/>
                </a:cubicBezTo>
                <a:cubicBezTo>
                  <a:pt x="5320642" y="30182"/>
                  <a:pt x="5319482" y="28681"/>
                  <a:pt x="5317710" y="27480"/>
                </a:cubicBezTo>
                <a:cubicBezTo>
                  <a:pt x="5315938" y="26279"/>
                  <a:pt x="5312628" y="25379"/>
                  <a:pt x="5307779" y="24779"/>
                </a:cubicBezTo>
                <a:cubicBezTo>
                  <a:pt x="5306431" y="24643"/>
                  <a:pt x="5303767" y="24514"/>
                  <a:pt x="5299788" y="24393"/>
                </a:cubicBezTo>
                <a:cubicBezTo>
                  <a:pt x="5295809" y="24272"/>
                  <a:pt x="5291796" y="24173"/>
                  <a:pt x="5287750" y="24097"/>
                </a:cubicBezTo>
                <a:cubicBezTo>
                  <a:pt x="5283704" y="24020"/>
                  <a:pt x="5280907" y="23981"/>
                  <a:pt x="5279359" y="23978"/>
                </a:cubicBezTo>
                <a:cubicBezTo>
                  <a:pt x="5278863" y="23974"/>
                  <a:pt x="5278505" y="24132"/>
                  <a:pt x="5278283" y="24453"/>
                </a:cubicBezTo>
                <a:cubicBezTo>
                  <a:pt x="5278063" y="24774"/>
                  <a:pt x="5277954" y="25283"/>
                  <a:pt x="5277958" y="25979"/>
                </a:cubicBezTo>
                <a:lnTo>
                  <a:pt x="5277958" y="76609"/>
                </a:lnTo>
                <a:cubicBezTo>
                  <a:pt x="5277941" y="77313"/>
                  <a:pt x="5278025" y="77855"/>
                  <a:pt x="5278208" y="78235"/>
                </a:cubicBezTo>
                <a:cubicBezTo>
                  <a:pt x="5278392" y="78614"/>
                  <a:pt x="5278776" y="78806"/>
                  <a:pt x="5279359" y="78810"/>
                </a:cubicBezTo>
                <a:cubicBezTo>
                  <a:pt x="5281056" y="78813"/>
                  <a:pt x="5284135" y="78808"/>
                  <a:pt x="5288595" y="78795"/>
                </a:cubicBezTo>
                <a:cubicBezTo>
                  <a:pt x="5293057" y="78783"/>
                  <a:pt x="5297530" y="78748"/>
                  <a:pt x="5302013" y="78691"/>
                </a:cubicBezTo>
                <a:cubicBezTo>
                  <a:pt x="5306497" y="78635"/>
                  <a:pt x="5309620" y="78541"/>
                  <a:pt x="5311383" y="78410"/>
                </a:cubicBezTo>
                <a:cubicBezTo>
                  <a:pt x="5313772" y="78235"/>
                  <a:pt x="5315748" y="77935"/>
                  <a:pt x="5317310" y="77509"/>
                </a:cubicBezTo>
                <a:cubicBezTo>
                  <a:pt x="5318871" y="77084"/>
                  <a:pt x="5320093" y="76384"/>
                  <a:pt x="5320976" y="75408"/>
                </a:cubicBezTo>
                <a:cubicBezTo>
                  <a:pt x="5321656" y="74599"/>
                  <a:pt x="5322236" y="73966"/>
                  <a:pt x="5322717" y="73507"/>
                </a:cubicBezTo>
                <a:cubicBezTo>
                  <a:pt x="5323198" y="73048"/>
                  <a:pt x="5323681" y="72815"/>
                  <a:pt x="5324164" y="72807"/>
                </a:cubicBezTo>
                <a:cubicBezTo>
                  <a:pt x="5324572" y="72798"/>
                  <a:pt x="5324906" y="72915"/>
                  <a:pt x="5325164" y="73157"/>
                </a:cubicBezTo>
                <a:cubicBezTo>
                  <a:pt x="5325422" y="73399"/>
                  <a:pt x="5325556" y="73816"/>
                  <a:pt x="5325564" y="74408"/>
                </a:cubicBezTo>
                <a:cubicBezTo>
                  <a:pt x="5325547" y="74904"/>
                  <a:pt x="5325381" y="76212"/>
                  <a:pt x="5325064" y="78331"/>
                </a:cubicBezTo>
                <a:cubicBezTo>
                  <a:pt x="5324747" y="80450"/>
                  <a:pt x="5324381" y="84002"/>
                  <a:pt x="5323964" y="88986"/>
                </a:cubicBezTo>
                <a:cubicBezTo>
                  <a:pt x="5323843" y="91208"/>
                  <a:pt x="5323684" y="93768"/>
                  <a:pt x="5323489" y="96665"/>
                </a:cubicBezTo>
                <a:cubicBezTo>
                  <a:pt x="5323293" y="99563"/>
                  <a:pt x="5323185" y="101472"/>
                  <a:pt x="5323164" y="102393"/>
                </a:cubicBezTo>
                <a:cubicBezTo>
                  <a:pt x="5323201" y="103252"/>
                  <a:pt x="5323127" y="104086"/>
                  <a:pt x="5322940" y="104894"/>
                </a:cubicBezTo>
                <a:cubicBezTo>
                  <a:pt x="5322754" y="105703"/>
                  <a:pt x="5322232" y="106137"/>
                  <a:pt x="5321374" y="106195"/>
                </a:cubicBezTo>
                <a:cubicBezTo>
                  <a:pt x="5320690" y="106183"/>
                  <a:pt x="5320218" y="106008"/>
                  <a:pt x="5319957" y="105670"/>
                </a:cubicBezTo>
                <a:cubicBezTo>
                  <a:pt x="5319696" y="105332"/>
                  <a:pt x="5319572" y="104907"/>
                  <a:pt x="5319584" y="104394"/>
                </a:cubicBezTo>
                <a:cubicBezTo>
                  <a:pt x="5319501" y="103381"/>
                  <a:pt x="5319418" y="102256"/>
                  <a:pt x="5319335" y="101018"/>
                </a:cubicBezTo>
                <a:cubicBezTo>
                  <a:pt x="5319252" y="99779"/>
                  <a:pt x="5319070" y="98504"/>
                  <a:pt x="5318788" y="97191"/>
                </a:cubicBezTo>
                <a:cubicBezTo>
                  <a:pt x="5318346" y="95165"/>
                  <a:pt x="5317279" y="93464"/>
                  <a:pt x="5315586" y="92088"/>
                </a:cubicBezTo>
                <a:cubicBezTo>
                  <a:pt x="5313893" y="90712"/>
                  <a:pt x="5311225" y="89812"/>
                  <a:pt x="5307580" y="89387"/>
                </a:cubicBezTo>
                <a:cubicBezTo>
                  <a:pt x="5306121" y="89253"/>
                  <a:pt x="5303457" y="89142"/>
                  <a:pt x="5299589" y="89053"/>
                </a:cubicBezTo>
                <a:cubicBezTo>
                  <a:pt x="5295720" y="88964"/>
                  <a:pt x="5291797" y="88898"/>
                  <a:pt x="5287817" y="88853"/>
                </a:cubicBezTo>
                <a:cubicBezTo>
                  <a:pt x="5283838" y="88809"/>
                  <a:pt x="5280952" y="88786"/>
                  <a:pt x="5279159" y="88786"/>
                </a:cubicBezTo>
                <a:cubicBezTo>
                  <a:pt x="5278671" y="88795"/>
                  <a:pt x="5278346" y="88978"/>
                  <a:pt x="5278183" y="89337"/>
                </a:cubicBezTo>
                <a:cubicBezTo>
                  <a:pt x="5278021" y="89695"/>
                  <a:pt x="5277946" y="90179"/>
                  <a:pt x="5277958" y="90787"/>
                </a:cubicBezTo>
                <a:lnTo>
                  <a:pt x="5277958" y="106595"/>
                </a:lnTo>
                <a:cubicBezTo>
                  <a:pt x="5277954" y="109013"/>
                  <a:pt x="5277940" y="112271"/>
                  <a:pt x="5277913" y="116371"/>
                </a:cubicBezTo>
                <a:cubicBezTo>
                  <a:pt x="5277888" y="120470"/>
                  <a:pt x="5277873" y="124514"/>
                  <a:pt x="5277870" y="128503"/>
                </a:cubicBezTo>
                <a:cubicBezTo>
                  <a:pt x="5277866" y="132491"/>
                  <a:pt x="5277895" y="135527"/>
                  <a:pt x="5277958" y="137611"/>
                </a:cubicBezTo>
                <a:cubicBezTo>
                  <a:pt x="5277858" y="144352"/>
                  <a:pt x="5279359" y="148879"/>
                  <a:pt x="5282461" y="151193"/>
                </a:cubicBezTo>
                <a:cubicBezTo>
                  <a:pt x="5285564" y="153507"/>
                  <a:pt x="5292068" y="154582"/>
                  <a:pt x="5301976" y="154420"/>
                </a:cubicBezTo>
                <a:cubicBezTo>
                  <a:pt x="5304712" y="154470"/>
                  <a:pt x="5307847" y="154370"/>
                  <a:pt x="5311381" y="154119"/>
                </a:cubicBezTo>
                <a:cubicBezTo>
                  <a:pt x="5314916" y="153869"/>
                  <a:pt x="5318048" y="153169"/>
                  <a:pt x="5320777" y="152018"/>
                </a:cubicBezTo>
                <a:cubicBezTo>
                  <a:pt x="5323333" y="150864"/>
                  <a:pt x="5325305" y="149121"/>
                  <a:pt x="5326691" y="146791"/>
                </a:cubicBezTo>
                <a:cubicBezTo>
                  <a:pt x="5328077" y="144460"/>
                  <a:pt x="5329102" y="141267"/>
                  <a:pt x="5329765" y="137211"/>
                </a:cubicBezTo>
                <a:cubicBezTo>
                  <a:pt x="5329944" y="136123"/>
                  <a:pt x="5330185" y="135347"/>
                  <a:pt x="5330490" y="134885"/>
                </a:cubicBezTo>
                <a:cubicBezTo>
                  <a:pt x="5330794" y="134422"/>
                  <a:pt x="5331286" y="134197"/>
                  <a:pt x="5331965" y="134209"/>
                </a:cubicBezTo>
                <a:cubicBezTo>
                  <a:pt x="5332732" y="134234"/>
                  <a:pt x="5333198" y="134585"/>
                  <a:pt x="5333365" y="135260"/>
                </a:cubicBezTo>
                <a:cubicBezTo>
                  <a:pt x="5333532" y="135935"/>
                  <a:pt x="5333598" y="136786"/>
                  <a:pt x="5333565" y="137811"/>
                </a:cubicBezTo>
                <a:cubicBezTo>
                  <a:pt x="5333551" y="139460"/>
                  <a:pt x="5333401" y="141764"/>
                  <a:pt x="5333113" y="144724"/>
                </a:cubicBezTo>
                <a:cubicBezTo>
                  <a:pt x="5332826" y="147684"/>
                  <a:pt x="5332482" y="150610"/>
                  <a:pt x="5332083" y="153502"/>
                </a:cubicBezTo>
                <a:cubicBezTo>
                  <a:pt x="5331685" y="156393"/>
                  <a:pt x="5331312" y="158562"/>
                  <a:pt x="5330965" y="160007"/>
                </a:cubicBezTo>
                <a:cubicBezTo>
                  <a:pt x="5330377" y="162493"/>
                  <a:pt x="5329353" y="164007"/>
                  <a:pt x="5327891" y="164547"/>
                </a:cubicBezTo>
                <a:cubicBezTo>
                  <a:pt x="5326431" y="165088"/>
                  <a:pt x="5323861" y="165304"/>
                  <a:pt x="5320181" y="165196"/>
                </a:cubicBezTo>
                <a:cubicBezTo>
                  <a:pt x="5312712" y="165183"/>
                  <a:pt x="5306144" y="165109"/>
                  <a:pt x="5300474" y="164971"/>
                </a:cubicBezTo>
                <a:cubicBezTo>
                  <a:pt x="5294804" y="164834"/>
                  <a:pt x="5289834" y="164709"/>
                  <a:pt x="5285564" y="164596"/>
                </a:cubicBezTo>
                <a:cubicBezTo>
                  <a:pt x="5281307" y="164396"/>
                  <a:pt x="5277516" y="164246"/>
                  <a:pt x="5274188" y="164146"/>
                </a:cubicBezTo>
                <a:cubicBezTo>
                  <a:pt x="5270860" y="164046"/>
                  <a:pt x="5267721" y="163996"/>
                  <a:pt x="5264769" y="163996"/>
                </a:cubicBezTo>
                <a:cubicBezTo>
                  <a:pt x="5263633" y="163992"/>
                  <a:pt x="5262059" y="164000"/>
                  <a:pt x="5260049" y="164021"/>
                </a:cubicBezTo>
                <a:cubicBezTo>
                  <a:pt x="5258038" y="164042"/>
                  <a:pt x="5255815" y="164101"/>
                  <a:pt x="5253379" y="164199"/>
                </a:cubicBezTo>
                <a:cubicBezTo>
                  <a:pt x="5251042" y="164215"/>
                  <a:pt x="5248667" y="164281"/>
                  <a:pt x="5246254" y="164397"/>
                </a:cubicBezTo>
                <a:cubicBezTo>
                  <a:pt x="5243842" y="164513"/>
                  <a:pt x="5241616" y="164579"/>
                  <a:pt x="5239579" y="164596"/>
                </a:cubicBezTo>
                <a:cubicBezTo>
                  <a:pt x="5236945" y="164629"/>
                  <a:pt x="5235611" y="163967"/>
                  <a:pt x="5235578" y="162609"/>
                </a:cubicBezTo>
                <a:cubicBezTo>
                  <a:pt x="5235561" y="162109"/>
                  <a:pt x="5235795" y="161720"/>
                  <a:pt x="5236278" y="161442"/>
                </a:cubicBezTo>
                <a:cubicBezTo>
                  <a:pt x="5236761" y="161165"/>
                  <a:pt x="5237595" y="161025"/>
                  <a:pt x="5238779" y="161020"/>
                </a:cubicBezTo>
                <a:cubicBezTo>
                  <a:pt x="5240279" y="161013"/>
                  <a:pt x="5241628" y="160928"/>
                  <a:pt x="5242829" y="160767"/>
                </a:cubicBezTo>
                <a:cubicBezTo>
                  <a:pt x="5244029" y="160606"/>
                  <a:pt x="5245079" y="160416"/>
                  <a:pt x="5245979" y="160195"/>
                </a:cubicBezTo>
                <a:cubicBezTo>
                  <a:pt x="5247921" y="159749"/>
                  <a:pt x="5249288" y="158541"/>
                  <a:pt x="5250080" y="156570"/>
                </a:cubicBezTo>
                <a:cubicBezTo>
                  <a:pt x="5250871" y="154599"/>
                  <a:pt x="5251438" y="152140"/>
                  <a:pt x="5251780" y="149194"/>
                </a:cubicBezTo>
                <a:cubicBezTo>
                  <a:pt x="5252259" y="144893"/>
                  <a:pt x="5252551" y="139043"/>
                  <a:pt x="5252655" y="131643"/>
                </a:cubicBezTo>
                <a:cubicBezTo>
                  <a:pt x="5252759" y="124242"/>
                  <a:pt x="5252801" y="115893"/>
                  <a:pt x="5252780" y="106595"/>
                </a:cubicBezTo>
                <a:lnTo>
                  <a:pt x="5252780" y="71409"/>
                </a:lnTo>
                <a:cubicBezTo>
                  <a:pt x="5252782" y="61433"/>
                  <a:pt x="5252778" y="53738"/>
                  <a:pt x="5252765" y="48325"/>
                </a:cubicBezTo>
                <a:cubicBezTo>
                  <a:pt x="5252753" y="42912"/>
                  <a:pt x="5252718" y="38832"/>
                  <a:pt x="5252661" y="36086"/>
                </a:cubicBezTo>
                <a:cubicBezTo>
                  <a:pt x="5252605" y="33340"/>
                  <a:pt x="5252511" y="30979"/>
                  <a:pt x="5252380" y="29004"/>
                </a:cubicBezTo>
                <a:cubicBezTo>
                  <a:pt x="5252259" y="25641"/>
                  <a:pt x="5251601" y="23065"/>
                  <a:pt x="5250405" y="21275"/>
                </a:cubicBezTo>
                <a:cubicBezTo>
                  <a:pt x="5249209" y="19484"/>
                  <a:pt x="5247000" y="18252"/>
                  <a:pt x="5243779" y="17577"/>
                </a:cubicBezTo>
                <a:cubicBezTo>
                  <a:pt x="5242929" y="17377"/>
                  <a:pt x="5241779" y="17227"/>
                  <a:pt x="5240329" y="17127"/>
                </a:cubicBezTo>
                <a:cubicBezTo>
                  <a:pt x="5238879" y="17027"/>
                  <a:pt x="5237428" y="16977"/>
                  <a:pt x="5235978" y="16977"/>
                </a:cubicBezTo>
                <a:cubicBezTo>
                  <a:pt x="5234874" y="16990"/>
                  <a:pt x="5234032" y="16866"/>
                  <a:pt x="5233453" y="16605"/>
                </a:cubicBezTo>
                <a:cubicBezTo>
                  <a:pt x="5232873" y="16344"/>
                  <a:pt x="5232582" y="15872"/>
                  <a:pt x="5232578" y="15190"/>
                </a:cubicBezTo>
                <a:cubicBezTo>
                  <a:pt x="5232573" y="14507"/>
                  <a:pt x="5232932" y="14035"/>
                  <a:pt x="5233653" y="13774"/>
                </a:cubicBezTo>
                <a:cubicBezTo>
                  <a:pt x="5234374" y="13514"/>
                  <a:pt x="5235482" y="13390"/>
                  <a:pt x="5236978" y="13402"/>
                </a:cubicBezTo>
                <a:cubicBezTo>
                  <a:pt x="5239704" y="13410"/>
                  <a:pt x="5242454" y="13443"/>
                  <a:pt x="5245229" y="13501"/>
                </a:cubicBezTo>
                <a:cubicBezTo>
                  <a:pt x="5248005" y="13559"/>
                  <a:pt x="5250655" y="13593"/>
                  <a:pt x="5253179" y="13602"/>
                </a:cubicBezTo>
                <a:cubicBezTo>
                  <a:pt x="5255803" y="13706"/>
                  <a:pt x="5258200" y="13798"/>
                  <a:pt x="5260374" y="13877"/>
                </a:cubicBezTo>
                <a:cubicBezTo>
                  <a:pt x="5262546" y="13956"/>
                  <a:pt x="5264345" y="13998"/>
                  <a:pt x="5265769" y="14002"/>
                </a:cubicBezTo>
                <a:cubicBezTo>
                  <a:pt x="5267548" y="14003"/>
                  <a:pt x="5270874" y="14001"/>
                  <a:pt x="5275747" y="13999"/>
                </a:cubicBezTo>
                <a:cubicBezTo>
                  <a:pt x="5280619" y="13996"/>
                  <a:pt x="5285953" y="13989"/>
                  <a:pt x="5291749" y="13977"/>
                </a:cubicBezTo>
                <a:cubicBezTo>
                  <a:pt x="5297544" y="13965"/>
                  <a:pt x="5302716" y="13945"/>
                  <a:pt x="5307264" y="13918"/>
                </a:cubicBezTo>
                <a:cubicBezTo>
                  <a:pt x="5311813" y="13890"/>
                  <a:pt x="5314652" y="13851"/>
                  <a:pt x="5315784" y="13802"/>
                </a:cubicBezTo>
                <a:cubicBezTo>
                  <a:pt x="5317706" y="13602"/>
                  <a:pt x="5319415" y="13402"/>
                  <a:pt x="5320910" y="13202"/>
                </a:cubicBezTo>
                <a:cubicBezTo>
                  <a:pt x="5322405" y="13002"/>
                  <a:pt x="5323560" y="12802"/>
                  <a:pt x="5324376" y="12602"/>
                </a:cubicBezTo>
                <a:cubicBezTo>
                  <a:pt x="5324881" y="12481"/>
                  <a:pt x="5325412" y="12323"/>
                  <a:pt x="5325967" y="12127"/>
                </a:cubicBezTo>
                <a:cubicBezTo>
                  <a:pt x="5326524" y="11931"/>
                  <a:pt x="5327056" y="11823"/>
                  <a:pt x="5327564" y="11802"/>
                </a:cubicBezTo>
                <a:close/>
                <a:moveTo>
                  <a:pt x="4117890" y="11802"/>
                </a:moveTo>
                <a:cubicBezTo>
                  <a:pt x="4118377" y="11814"/>
                  <a:pt x="4118702" y="11989"/>
                  <a:pt x="4118865" y="12327"/>
                </a:cubicBezTo>
                <a:cubicBezTo>
                  <a:pt x="4119027" y="12664"/>
                  <a:pt x="4119102" y="13089"/>
                  <a:pt x="4119090" y="13602"/>
                </a:cubicBezTo>
                <a:cubicBezTo>
                  <a:pt x="4119061" y="14181"/>
                  <a:pt x="4118869" y="15373"/>
                  <a:pt x="4118515" y="17177"/>
                </a:cubicBezTo>
                <a:cubicBezTo>
                  <a:pt x="4118160" y="18982"/>
                  <a:pt x="4117819" y="22124"/>
                  <a:pt x="4117490" y="26604"/>
                </a:cubicBezTo>
                <a:cubicBezTo>
                  <a:pt x="4117385" y="27879"/>
                  <a:pt x="4117244" y="30029"/>
                  <a:pt x="4117065" y="33052"/>
                </a:cubicBezTo>
                <a:cubicBezTo>
                  <a:pt x="4116885" y="36076"/>
                  <a:pt x="4116694" y="38321"/>
                  <a:pt x="4116490" y="39787"/>
                </a:cubicBezTo>
                <a:cubicBezTo>
                  <a:pt x="4116407" y="40317"/>
                  <a:pt x="4116225" y="40809"/>
                  <a:pt x="4115943" y="41263"/>
                </a:cubicBezTo>
                <a:cubicBezTo>
                  <a:pt x="4115662" y="41718"/>
                  <a:pt x="4115182" y="41959"/>
                  <a:pt x="4114502" y="41989"/>
                </a:cubicBezTo>
                <a:cubicBezTo>
                  <a:pt x="4113819" y="41984"/>
                  <a:pt x="4113347" y="41743"/>
                  <a:pt x="4113087" y="41263"/>
                </a:cubicBezTo>
                <a:cubicBezTo>
                  <a:pt x="4112826" y="40784"/>
                  <a:pt x="4112702" y="40092"/>
                  <a:pt x="4112714" y="39187"/>
                </a:cubicBezTo>
                <a:cubicBezTo>
                  <a:pt x="4112727" y="38424"/>
                  <a:pt x="4112652" y="37348"/>
                  <a:pt x="4112489" y="35960"/>
                </a:cubicBezTo>
                <a:cubicBezTo>
                  <a:pt x="4112326" y="34572"/>
                  <a:pt x="4112001" y="33246"/>
                  <a:pt x="4111513" y="31983"/>
                </a:cubicBezTo>
                <a:cubicBezTo>
                  <a:pt x="4110967" y="30182"/>
                  <a:pt x="4109808" y="28681"/>
                  <a:pt x="4108036" y="27480"/>
                </a:cubicBezTo>
                <a:cubicBezTo>
                  <a:pt x="4106264" y="26279"/>
                  <a:pt x="4102953" y="25379"/>
                  <a:pt x="4098104" y="24779"/>
                </a:cubicBezTo>
                <a:cubicBezTo>
                  <a:pt x="4096756" y="24643"/>
                  <a:pt x="4094093" y="24514"/>
                  <a:pt x="4090113" y="24393"/>
                </a:cubicBezTo>
                <a:cubicBezTo>
                  <a:pt x="4086134" y="24272"/>
                  <a:pt x="4082122" y="24173"/>
                  <a:pt x="4078075" y="24097"/>
                </a:cubicBezTo>
                <a:cubicBezTo>
                  <a:pt x="4074030" y="24020"/>
                  <a:pt x="4071232" y="23981"/>
                  <a:pt x="4069684" y="23978"/>
                </a:cubicBezTo>
                <a:cubicBezTo>
                  <a:pt x="4069188" y="23974"/>
                  <a:pt x="4068830" y="24132"/>
                  <a:pt x="4068608" y="24453"/>
                </a:cubicBezTo>
                <a:cubicBezTo>
                  <a:pt x="4068388" y="24774"/>
                  <a:pt x="4068279" y="25283"/>
                  <a:pt x="4068283" y="25979"/>
                </a:cubicBezTo>
                <a:lnTo>
                  <a:pt x="4068283" y="76609"/>
                </a:lnTo>
                <a:cubicBezTo>
                  <a:pt x="4068267" y="77313"/>
                  <a:pt x="4068350" y="77855"/>
                  <a:pt x="4068533" y="78235"/>
                </a:cubicBezTo>
                <a:cubicBezTo>
                  <a:pt x="4068717" y="78614"/>
                  <a:pt x="4069101" y="78806"/>
                  <a:pt x="4069684" y="78810"/>
                </a:cubicBezTo>
                <a:cubicBezTo>
                  <a:pt x="4071381" y="78813"/>
                  <a:pt x="4074460" y="78808"/>
                  <a:pt x="4078921" y="78795"/>
                </a:cubicBezTo>
                <a:cubicBezTo>
                  <a:pt x="4083382" y="78783"/>
                  <a:pt x="4087855" y="78748"/>
                  <a:pt x="4092338" y="78691"/>
                </a:cubicBezTo>
                <a:cubicBezTo>
                  <a:pt x="4096822" y="78635"/>
                  <a:pt x="4099945" y="78541"/>
                  <a:pt x="4101708" y="78410"/>
                </a:cubicBezTo>
                <a:cubicBezTo>
                  <a:pt x="4104097" y="78235"/>
                  <a:pt x="4106073" y="77935"/>
                  <a:pt x="4107635" y="77509"/>
                </a:cubicBezTo>
                <a:cubicBezTo>
                  <a:pt x="4109196" y="77084"/>
                  <a:pt x="4110419" y="76384"/>
                  <a:pt x="4111302" y="75408"/>
                </a:cubicBezTo>
                <a:cubicBezTo>
                  <a:pt x="4111981" y="74599"/>
                  <a:pt x="4112561" y="73966"/>
                  <a:pt x="4113042" y="73507"/>
                </a:cubicBezTo>
                <a:cubicBezTo>
                  <a:pt x="4113523" y="73048"/>
                  <a:pt x="4114006" y="72815"/>
                  <a:pt x="4114489" y="72807"/>
                </a:cubicBezTo>
                <a:cubicBezTo>
                  <a:pt x="4114898" y="72798"/>
                  <a:pt x="4115231" y="72915"/>
                  <a:pt x="4115489" y="73157"/>
                </a:cubicBezTo>
                <a:cubicBezTo>
                  <a:pt x="4115748" y="73399"/>
                  <a:pt x="4115881" y="73816"/>
                  <a:pt x="4115890" y="74408"/>
                </a:cubicBezTo>
                <a:cubicBezTo>
                  <a:pt x="4115873" y="74904"/>
                  <a:pt x="4115706" y="76212"/>
                  <a:pt x="4115389" y="78331"/>
                </a:cubicBezTo>
                <a:cubicBezTo>
                  <a:pt x="4115073" y="80450"/>
                  <a:pt x="4114706" y="84002"/>
                  <a:pt x="4114289" y="88986"/>
                </a:cubicBezTo>
                <a:cubicBezTo>
                  <a:pt x="4114168" y="91208"/>
                  <a:pt x="4114010" y="93768"/>
                  <a:pt x="4113814" y="96665"/>
                </a:cubicBezTo>
                <a:cubicBezTo>
                  <a:pt x="4113619" y="99563"/>
                  <a:pt x="4113510" y="101472"/>
                  <a:pt x="4113489" y="102393"/>
                </a:cubicBezTo>
                <a:cubicBezTo>
                  <a:pt x="4113526" y="103252"/>
                  <a:pt x="4113452" y="104086"/>
                  <a:pt x="4113265" y="104894"/>
                </a:cubicBezTo>
                <a:cubicBezTo>
                  <a:pt x="4113079" y="105703"/>
                  <a:pt x="4112557" y="106137"/>
                  <a:pt x="4111699" y="106195"/>
                </a:cubicBezTo>
                <a:cubicBezTo>
                  <a:pt x="4111015" y="106183"/>
                  <a:pt x="4110543" y="106008"/>
                  <a:pt x="4110282" y="105670"/>
                </a:cubicBezTo>
                <a:cubicBezTo>
                  <a:pt x="4110021" y="105332"/>
                  <a:pt x="4109897" y="104907"/>
                  <a:pt x="4109909" y="104394"/>
                </a:cubicBezTo>
                <a:cubicBezTo>
                  <a:pt x="4109826" y="103381"/>
                  <a:pt x="4109743" y="102256"/>
                  <a:pt x="4109661" y="101018"/>
                </a:cubicBezTo>
                <a:cubicBezTo>
                  <a:pt x="4109578" y="99779"/>
                  <a:pt x="4109395" y="98504"/>
                  <a:pt x="4109114" y="97191"/>
                </a:cubicBezTo>
                <a:cubicBezTo>
                  <a:pt x="4108672" y="95165"/>
                  <a:pt x="4107604" y="93464"/>
                  <a:pt x="4105911" y="92088"/>
                </a:cubicBezTo>
                <a:cubicBezTo>
                  <a:pt x="4104218" y="90712"/>
                  <a:pt x="4101550" y="89812"/>
                  <a:pt x="4097905" y="89387"/>
                </a:cubicBezTo>
                <a:cubicBezTo>
                  <a:pt x="4096446" y="89253"/>
                  <a:pt x="4093783" y="89142"/>
                  <a:pt x="4089914" y="89053"/>
                </a:cubicBezTo>
                <a:cubicBezTo>
                  <a:pt x="4086046" y="88964"/>
                  <a:pt x="4082122" y="88898"/>
                  <a:pt x="4078142" y="88853"/>
                </a:cubicBezTo>
                <a:cubicBezTo>
                  <a:pt x="4074163" y="88809"/>
                  <a:pt x="4071277" y="88786"/>
                  <a:pt x="4069484" y="88786"/>
                </a:cubicBezTo>
                <a:cubicBezTo>
                  <a:pt x="4068996" y="88795"/>
                  <a:pt x="4068671" y="88978"/>
                  <a:pt x="4068508" y="89337"/>
                </a:cubicBezTo>
                <a:cubicBezTo>
                  <a:pt x="4068346" y="89695"/>
                  <a:pt x="4068271" y="90179"/>
                  <a:pt x="4068283" y="90787"/>
                </a:cubicBezTo>
                <a:lnTo>
                  <a:pt x="4068283" y="106595"/>
                </a:lnTo>
                <a:cubicBezTo>
                  <a:pt x="4068280" y="109013"/>
                  <a:pt x="4068265" y="112271"/>
                  <a:pt x="4068239" y="116371"/>
                </a:cubicBezTo>
                <a:cubicBezTo>
                  <a:pt x="4068213" y="120470"/>
                  <a:pt x="4068198" y="124514"/>
                  <a:pt x="4068195" y="128503"/>
                </a:cubicBezTo>
                <a:cubicBezTo>
                  <a:pt x="4068191" y="132491"/>
                  <a:pt x="4068221" y="135527"/>
                  <a:pt x="4068283" y="137611"/>
                </a:cubicBezTo>
                <a:cubicBezTo>
                  <a:pt x="4068183" y="144352"/>
                  <a:pt x="4069684" y="148879"/>
                  <a:pt x="4072787" y="151193"/>
                </a:cubicBezTo>
                <a:cubicBezTo>
                  <a:pt x="4075889" y="153507"/>
                  <a:pt x="4082394" y="154582"/>
                  <a:pt x="4092302" y="154420"/>
                </a:cubicBezTo>
                <a:cubicBezTo>
                  <a:pt x="4095037" y="154470"/>
                  <a:pt x="4098172" y="154370"/>
                  <a:pt x="4101706" y="154119"/>
                </a:cubicBezTo>
                <a:cubicBezTo>
                  <a:pt x="4105241" y="153869"/>
                  <a:pt x="4108373" y="153169"/>
                  <a:pt x="4111103" y="152018"/>
                </a:cubicBezTo>
                <a:cubicBezTo>
                  <a:pt x="4113659" y="150864"/>
                  <a:pt x="4115630" y="149121"/>
                  <a:pt x="4117016" y="146791"/>
                </a:cubicBezTo>
                <a:cubicBezTo>
                  <a:pt x="4118403" y="144460"/>
                  <a:pt x="4119427" y="141267"/>
                  <a:pt x="4120090" y="137211"/>
                </a:cubicBezTo>
                <a:cubicBezTo>
                  <a:pt x="4120269" y="136123"/>
                  <a:pt x="4120511" y="135347"/>
                  <a:pt x="4120815" y="134885"/>
                </a:cubicBezTo>
                <a:cubicBezTo>
                  <a:pt x="4121120" y="134422"/>
                  <a:pt x="4121611" y="134197"/>
                  <a:pt x="4122290" y="134209"/>
                </a:cubicBezTo>
                <a:cubicBezTo>
                  <a:pt x="4123057" y="134234"/>
                  <a:pt x="4123524" y="134585"/>
                  <a:pt x="4123691" y="135260"/>
                </a:cubicBezTo>
                <a:cubicBezTo>
                  <a:pt x="4123857" y="135935"/>
                  <a:pt x="4123924" y="136786"/>
                  <a:pt x="4123891" y="137811"/>
                </a:cubicBezTo>
                <a:cubicBezTo>
                  <a:pt x="4123877" y="139460"/>
                  <a:pt x="4123726" y="141764"/>
                  <a:pt x="4123439" y="144724"/>
                </a:cubicBezTo>
                <a:cubicBezTo>
                  <a:pt x="4123151" y="147684"/>
                  <a:pt x="4122807" y="150610"/>
                  <a:pt x="4122409" y="153502"/>
                </a:cubicBezTo>
                <a:cubicBezTo>
                  <a:pt x="4122010" y="156393"/>
                  <a:pt x="4121637" y="158562"/>
                  <a:pt x="4121290" y="160007"/>
                </a:cubicBezTo>
                <a:cubicBezTo>
                  <a:pt x="4120702" y="162493"/>
                  <a:pt x="4119678" y="164007"/>
                  <a:pt x="4118217" y="164547"/>
                </a:cubicBezTo>
                <a:cubicBezTo>
                  <a:pt x="4116756" y="165088"/>
                  <a:pt x="4114186" y="165304"/>
                  <a:pt x="4110506" y="165196"/>
                </a:cubicBezTo>
                <a:cubicBezTo>
                  <a:pt x="4103038" y="165183"/>
                  <a:pt x="4096469" y="165109"/>
                  <a:pt x="4090799" y="164971"/>
                </a:cubicBezTo>
                <a:cubicBezTo>
                  <a:pt x="4085129" y="164834"/>
                  <a:pt x="4080159" y="164709"/>
                  <a:pt x="4075889" y="164596"/>
                </a:cubicBezTo>
                <a:cubicBezTo>
                  <a:pt x="4071633" y="164396"/>
                  <a:pt x="4067841" y="164246"/>
                  <a:pt x="4064513" y="164146"/>
                </a:cubicBezTo>
                <a:cubicBezTo>
                  <a:pt x="4061186" y="164046"/>
                  <a:pt x="4058046" y="163996"/>
                  <a:pt x="4055095" y="163996"/>
                </a:cubicBezTo>
                <a:cubicBezTo>
                  <a:pt x="4053958" y="163992"/>
                  <a:pt x="4052385" y="164000"/>
                  <a:pt x="4050374" y="164021"/>
                </a:cubicBezTo>
                <a:cubicBezTo>
                  <a:pt x="4048363" y="164042"/>
                  <a:pt x="4046140" y="164101"/>
                  <a:pt x="4043705" y="164199"/>
                </a:cubicBezTo>
                <a:cubicBezTo>
                  <a:pt x="4041367" y="164215"/>
                  <a:pt x="4038992" y="164281"/>
                  <a:pt x="4036579" y="164397"/>
                </a:cubicBezTo>
                <a:cubicBezTo>
                  <a:pt x="4034167" y="164513"/>
                  <a:pt x="4031941" y="164579"/>
                  <a:pt x="4029904" y="164596"/>
                </a:cubicBezTo>
                <a:lnTo>
                  <a:pt x="4027727" y="163515"/>
                </a:lnTo>
                <a:lnTo>
                  <a:pt x="4027298" y="164199"/>
                </a:lnTo>
                <a:cubicBezTo>
                  <a:pt x="4026639" y="164480"/>
                  <a:pt x="4025705" y="164612"/>
                  <a:pt x="4024497" y="164596"/>
                </a:cubicBezTo>
                <a:lnTo>
                  <a:pt x="4005495" y="164596"/>
                </a:lnTo>
                <a:cubicBezTo>
                  <a:pt x="4000027" y="164612"/>
                  <a:pt x="3995710" y="164331"/>
                  <a:pt x="3992543" y="163751"/>
                </a:cubicBezTo>
                <a:cubicBezTo>
                  <a:pt x="3989376" y="163172"/>
                  <a:pt x="3986559" y="162195"/>
                  <a:pt x="3984092" y="160820"/>
                </a:cubicBezTo>
                <a:cubicBezTo>
                  <a:pt x="3979890" y="158544"/>
                  <a:pt x="3975652" y="154992"/>
                  <a:pt x="3971376" y="150164"/>
                </a:cubicBezTo>
                <a:cubicBezTo>
                  <a:pt x="3967100" y="145337"/>
                  <a:pt x="3962213" y="139083"/>
                  <a:pt x="3956713" y="131404"/>
                </a:cubicBezTo>
                <a:cubicBezTo>
                  <a:pt x="3952548" y="125626"/>
                  <a:pt x="3948570" y="120023"/>
                  <a:pt x="3944780" y="114595"/>
                </a:cubicBezTo>
                <a:cubicBezTo>
                  <a:pt x="3940989" y="109167"/>
                  <a:pt x="3938363" y="105565"/>
                  <a:pt x="3936899" y="103789"/>
                </a:cubicBezTo>
                <a:cubicBezTo>
                  <a:pt x="3936399" y="103205"/>
                  <a:pt x="3935848" y="102822"/>
                  <a:pt x="3935248" y="102638"/>
                </a:cubicBezTo>
                <a:cubicBezTo>
                  <a:pt x="3934648" y="102455"/>
                  <a:pt x="3933997" y="102371"/>
                  <a:pt x="3933297" y="102388"/>
                </a:cubicBezTo>
                <a:lnTo>
                  <a:pt x="3915884" y="101989"/>
                </a:lnTo>
                <a:cubicBezTo>
                  <a:pt x="3915380" y="101981"/>
                  <a:pt x="3914988" y="102097"/>
                  <a:pt x="3914708" y="102339"/>
                </a:cubicBezTo>
                <a:cubicBezTo>
                  <a:pt x="3914429" y="102580"/>
                  <a:pt x="3914287" y="102997"/>
                  <a:pt x="3914283" y="103589"/>
                </a:cubicBezTo>
                <a:lnTo>
                  <a:pt x="3914283" y="106390"/>
                </a:lnTo>
                <a:cubicBezTo>
                  <a:pt x="3914262" y="115791"/>
                  <a:pt x="3914304" y="124204"/>
                  <a:pt x="3914408" y="131629"/>
                </a:cubicBezTo>
                <a:cubicBezTo>
                  <a:pt x="3914513" y="139054"/>
                  <a:pt x="3914804" y="144916"/>
                  <a:pt x="3915284" y="149214"/>
                </a:cubicBezTo>
                <a:cubicBezTo>
                  <a:pt x="3915497" y="152161"/>
                  <a:pt x="3916122" y="154621"/>
                  <a:pt x="3917160" y="156593"/>
                </a:cubicBezTo>
                <a:cubicBezTo>
                  <a:pt x="3918199" y="158565"/>
                  <a:pt x="3920175" y="159774"/>
                  <a:pt x="3923090" y="160220"/>
                </a:cubicBezTo>
                <a:cubicBezTo>
                  <a:pt x="3924661" y="160428"/>
                  <a:pt x="3926371" y="160612"/>
                  <a:pt x="3928218" y="160770"/>
                </a:cubicBezTo>
                <a:cubicBezTo>
                  <a:pt x="3930065" y="160929"/>
                  <a:pt x="3931625" y="161012"/>
                  <a:pt x="3932896" y="161020"/>
                </a:cubicBezTo>
                <a:cubicBezTo>
                  <a:pt x="3934498" y="161053"/>
                  <a:pt x="3935298" y="161583"/>
                  <a:pt x="3935298" y="162609"/>
                </a:cubicBezTo>
                <a:cubicBezTo>
                  <a:pt x="3935294" y="163301"/>
                  <a:pt x="3934952" y="163805"/>
                  <a:pt x="3934272" y="164124"/>
                </a:cubicBezTo>
                <a:cubicBezTo>
                  <a:pt x="3933593" y="164443"/>
                  <a:pt x="3932600" y="164600"/>
                  <a:pt x="3931295" y="164596"/>
                </a:cubicBezTo>
                <a:cubicBezTo>
                  <a:pt x="3925179" y="164572"/>
                  <a:pt x="3919203" y="164476"/>
                  <a:pt x="3913366" y="164308"/>
                </a:cubicBezTo>
                <a:cubicBezTo>
                  <a:pt x="3907529" y="164141"/>
                  <a:pt x="3903706" y="164045"/>
                  <a:pt x="3901895" y="164021"/>
                </a:cubicBezTo>
                <a:cubicBezTo>
                  <a:pt x="3899718" y="164045"/>
                  <a:pt x="3896178" y="164141"/>
                  <a:pt x="3891276" y="164308"/>
                </a:cubicBezTo>
                <a:cubicBezTo>
                  <a:pt x="3886374" y="164476"/>
                  <a:pt x="3881783" y="164572"/>
                  <a:pt x="3877504" y="164596"/>
                </a:cubicBezTo>
                <a:cubicBezTo>
                  <a:pt x="3874870" y="164629"/>
                  <a:pt x="3873537" y="163967"/>
                  <a:pt x="3873503" y="162609"/>
                </a:cubicBezTo>
                <a:cubicBezTo>
                  <a:pt x="3873487" y="162109"/>
                  <a:pt x="3873720" y="161720"/>
                  <a:pt x="3874203" y="161442"/>
                </a:cubicBezTo>
                <a:cubicBezTo>
                  <a:pt x="3874686" y="161165"/>
                  <a:pt x="3875520" y="161025"/>
                  <a:pt x="3876704" y="161020"/>
                </a:cubicBezTo>
                <a:cubicBezTo>
                  <a:pt x="3878204" y="161012"/>
                  <a:pt x="3879554" y="160929"/>
                  <a:pt x="3880754" y="160770"/>
                </a:cubicBezTo>
                <a:cubicBezTo>
                  <a:pt x="3881954" y="160612"/>
                  <a:pt x="3883004" y="160428"/>
                  <a:pt x="3883905" y="160220"/>
                </a:cubicBezTo>
                <a:cubicBezTo>
                  <a:pt x="3885846" y="159774"/>
                  <a:pt x="3887213" y="158565"/>
                  <a:pt x="3888005" y="156593"/>
                </a:cubicBezTo>
                <a:cubicBezTo>
                  <a:pt x="3888797" y="154621"/>
                  <a:pt x="3889363" y="152161"/>
                  <a:pt x="3889705" y="149214"/>
                </a:cubicBezTo>
                <a:cubicBezTo>
                  <a:pt x="3890184" y="144911"/>
                  <a:pt x="3890476" y="139058"/>
                  <a:pt x="3890580" y="131654"/>
                </a:cubicBezTo>
                <a:cubicBezTo>
                  <a:pt x="3890684" y="124250"/>
                  <a:pt x="3890726" y="115895"/>
                  <a:pt x="3890705" y="106590"/>
                </a:cubicBezTo>
                <a:lnTo>
                  <a:pt x="3890705" y="71402"/>
                </a:lnTo>
                <a:cubicBezTo>
                  <a:pt x="3890708" y="61422"/>
                  <a:pt x="3890703" y="53725"/>
                  <a:pt x="3890690" y="48310"/>
                </a:cubicBezTo>
                <a:cubicBezTo>
                  <a:pt x="3890678" y="42895"/>
                  <a:pt x="3890644" y="38814"/>
                  <a:pt x="3890587" y="36067"/>
                </a:cubicBezTo>
                <a:cubicBezTo>
                  <a:pt x="3890530" y="33320"/>
                  <a:pt x="3890436" y="30959"/>
                  <a:pt x="3890305" y="28982"/>
                </a:cubicBezTo>
                <a:cubicBezTo>
                  <a:pt x="3890184" y="25618"/>
                  <a:pt x="3889526" y="23042"/>
                  <a:pt x="3888330" y="21254"/>
                </a:cubicBezTo>
                <a:cubicBezTo>
                  <a:pt x="3887134" y="19466"/>
                  <a:pt x="3884925" y="18240"/>
                  <a:pt x="3881704" y="17577"/>
                </a:cubicBezTo>
                <a:cubicBezTo>
                  <a:pt x="3880854" y="17377"/>
                  <a:pt x="3879704" y="17227"/>
                  <a:pt x="3878254" y="17127"/>
                </a:cubicBezTo>
                <a:cubicBezTo>
                  <a:pt x="3876803" y="17027"/>
                  <a:pt x="3875353" y="16977"/>
                  <a:pt x="3873903" y="16977"/>
                </a:cubicBezTo>
                <a:cubicBezTo>
                  <a:pt x="3872799" y="16990"/>
                  <a:pt x="3871957" y="16866"/>
                  <a:pt x="3871378" y="16605"/>
                </a:cubicBezTo>
                <a:cubicBezTo>
                  <a:pt x="3870799" y="16344"/>
                  <a:pt x="3870507" y="15872"/>
                  <a:pt x="3870503" y="15190"/>
                </a:cubicBezTo>
                <a:cubicBezTo>
                  <a:pt x="3870499" y="14507"/>
                  <a:pt x="3870857" y="14035"/>
                  <a:pt x="3871578" y="13774"/>
                </a:cubicBezTo>
                <a:cubicBezTo>
                  <a:pt x="3872299" y="13514"/>
                  <a:pt x="3873407" y="13390"/>
                  <a:pt x="3874903" y="13402"/>
                </a:cubicBezTo>
                <a:cubicBezTo>
                  <a:pt x="3880420" y="13426"/>
                  <a:pt x="3885786" y="13522"/>
                  <a:pt x="3891001" y="13689"/>
                </a:cubicBezTo>
                <a:cubicBezTo>
                  <a:pt x="3896215" y="13857"/>
                  <a:pt x="3899980" y="13953"/>
                  <a:pt x="3902294" y="13977"/>
                </a:cubicBezTo>
                <a:cubicBezTo>
                  <a:pt x="3904667" y="13970"/>
                  <a:pt x="3907650" y="13920"/>
                  <a:pt x="3911246" y="13828"/>
                </a:cubicBezTo>
                <a:cubicBezTo>
                  <a:pt x="3914842" y="13736"/>
                  <a:pt x="3918405" y="13643"/>
                  <a:pt x="3921936" y="13551"/>
                </a:cubicBezTo>
                <a:cubicBezTo>
                  <a:pt x="3925466" y="13459"/>
                  <a:pt x="3928319" y="13409"/>
                  <a:pt x="3930495" y="13402"/>
                </a:cubicBezTo>
                <a:cubicBezTo>
                  <a:pt x="3936870" y="13298"/>
                  <a:pt x="3943232" y="13804"/>
                  <a:pt x="3949581" y="14921"/>
                </a:cubicBezTo>
                <a:cubicBezTo>
                  <a:pt x="3955929" y="16038"/>
                  <a:pt x="3961837" y="18391"/>
                  <a:pt x="3967304" y="21979"/>
                </a:cubicBezTo>
                <a:cubicBezTo>
                  <a:pt x="3970318" y="23947"/>
                  <a:pt x="3973282" y="27315"/>
                  <a:pt x="3976196" y="32084"/>
                </a:cubicBezTo>
                <a:cubicBezTo>
                  <a:pt x="3979110" y="36853"/>
                  <a:pt x="3980675" y="42622"/>
                  <a:pt x="3980892" y="49392"/>
                </a:cubicBezTo>
                <a:cubicBezTo>
                  <a:pt x="3981054" y="56712"/>
                  <a:pt x="3979180" y="63982"/>
                  <a:pt x="3975271" y="71201"/>
                </a:cubicBezTo>
                <a:cubicBezTo>
                  <a:pt x="3971362" y="78421"/>
                  <a:pt x="3964442" y="86090"/>
                  <a:pt x="3954511" y="94208"/>
                </a:cubicBezTo>
                <a:cubicBezTo>
                  <a:pt x="3963364" y="105419"/>
                  <a:pt x="3971342" y="115434"/>
                  <a:pt x="3978448" y="124253"/>
                </a:cubicBezTo>
                <a:cubicBezTo>
                  <a:pt x="3985553" y="133072"/>
                  <a:pt x="3992035" y="140592"/>
                  <a:pt x="3997894" y="146813"/>
                </a:cubicBezTo>
                <a:cubicBezTo>
                  <a:pt x="4003540" y="152420"/>
                  <a:pt x="4008299" y="156063"/>
                  <a:pt x="4012171" y="157744"/>
                </a:cubicBezTo>
                <a:cubicBezTo>
                  <a:pt x="4016042" y="159424"/>
                  <a:pt x="4018750" y="160316"/>
                  <a:pt x="4020296" y="160420"/>
                </a:cubicBezTo>
                <a:cubicBezTo>
                  <a:pt x="4022463" y="160820"/>
                  <a:pt x="4024330" y="161020"/>
                  <a:pt x="4025897" y="161020"/>
                </a:cubicBezTo>
                <a:lnTo>
                  <a:pt x="4026584" y="161475"/>
                </a:lnTo>
                <a:lnTo>
                  <a:pt x="4026603" y="161442"/>
                </a:lnTo>
                <a:cubicBezTo>
                  <a:pt x="4027086" y="161165"/>
                  <a:pt x="4027920" y="161025"/>
                  <a:pt x="4029104" y="161020"/>
                </a:cubicBezTo>
                <a:cubicBezTo>
                  <a:pt x="4030604" y="161013"/>
                  <a:pt x="4031954" y="160928"/>
                  <a:pt x="4033154" y="160767"/>
                </a:cubicBezTo>
                <a:cubicBezTo>
                  <a:pt x="4034354" y="160606"/>
                  <a:pt x="4035404" y="160416"/>
                  <a:pt x="4036305" y="160195"/>
                </a:cubicBezTo>
                <a:cubicBezTo>
                  <a:pt x="4038247" y="159749"/>
                  <a:pt x="4039613" y="158541"/>
                  <a:pt x="4040405" y="156570"/>
                </a:cubicBezTo>
                <a:cubicBezTo>
                  <a:pt x="4041197" y="154599"/>
                  <a:pt x="4041763" y="152140"/>
                  <a:pt x="4042105" y="149194"/>
                </a:cubicBezTo>
                <a:cubicBezTo>
                  <a:pt x="4042584" y="144893"/>
                  <a:pt x="4042876" y="139043"/>
                  <a:pt x="4042980" y="131643"/>
                </a:cubicBezTo>
                <a:cubicBezTo>
                  <a:pt x="4043085" y="124242"/>
                  <a:pt x="4043126" y="115893"/>
                  <a:pt x="4043105" y="106595"/>
                </a:cubicBezTo>
                <a:lnTo>
                  <a:pt x="4043105" y="71409"/>
                </a:lnTo>
                <a:cubicBezTo>
                  <a:pt x="4043108" y="61433"/>
                  <a:pt x="4043103" y="53738"/>
                  <a:pt x="4043090" y="48325"/>
                </a:cubicBezTo>
                <a:cubicBezTo>
                  <a:pt x="4043078" y="42912"/>
                  <a:pt x="4043044" y="38832"/>
                  <a:pt x="4042987" y="36086"/>
                </a:cubicBezTo>
                <a:cubicBezTo>
                  <a:pt x="4042930" y="33340"/>
                  <a:pt x="4042836" y="30979"/>
                  <a:pt x="4042705" y="29004"/>
                </a:cubicBezTo>
                <a:cubicBezTo>
                  <a:pt x="4042584" y="25641"/>
                  <a:pt x="4041926" y="23065"/>
                  <a:pt x="4040730" y="21275"/>
                </a:cubicBezTo>
                <a:cubicBezTo>
                  <a:pt x="4039534" y="19484"/>
                  <a:pt x="4037325" y="18252"/>
                  <a:pt x="4034104" y="17577"/>
                </a:cubicBezTo>
                <a:cubicBezTo>
                  <a:pt x="4033254" y="17377"/>
                  <a:pt x="4032104" y="17227"/>
                  <a:pt x="4030654" y="17127"/>
                </a:cubicBezTo>
                <a:cubicBezTo>
                  <a:pt x="4029203" y="17027"/>
                  <a:pt x="4027753" y="16977"/>
                  <a:pt x="4026303" y="16977"/>
                </a:cubicBezTo>
                <a:cubicBezTo>
                  <a:pt x="4025199" y="16990"/>
                  <a:pt x="4024357" y="16866"/>
                  <a:pt x="4023778" y="16605"/>
                </a:cubicBezTo>
                <a:cubicBezTo>
                  <a:pt x="4023198" y="16344"/>
                  <a:pt x="4022907" y="15872"/>
                  <a:pt x="4022903" y="15190"/>
                </a:cubicBezTo>
                <a:cubicBezTo>
                  <a:pt x="4022898" y="14507"/>
                  <a:pt x="4023257" y="14035"/>
                  <a:pt x="4023978" y="13774"/>
                </a:cubicBezTo>
                <a:cubicBezTo>
                  <a:pt x="4024699" y="13514"/>
                  <a:pt x="4025807" y="13390"/>
                  <a:pt x="4027303" y="13402"/>
                </a:cubicBezTo>
                <a:cubicBezTo>
                  <a:pt x="4030029" y="13410"/>
                  <a:pt x="4032779" y="13443"/>
                  <a:pt x="4035554" y="13501"/>
                </a:cubicBezTo>
                <a:cubicBezTo>
                  <a:pt x="4038330" y="13559"/>
                  <a:pt x="4040980" y="13593"/>
                  <a:pt x="4043505" y="13602"/>
                </a:cubicBezTo>
                <a:cubicBezTo>
                  <a:pt x="4046127" y="13706"/>
                  <a:pt x="4048526" y="13798"/>
                  <a:pt x="4050699" y="13877"/>
                </a:cubicBezTo>
                <a:cubicBezTo>
                  <a:pt x="4052872" y="13956"/>
                  <a:pt x="4054670" y="13998"/>
                  <a:pt x="4056094" y="14002"/>
                </a:cubicBezTo>
                <a:cubicBezTo>
                  <a:pt x="4057874" y="14003"/>
                  <a:pt x="4061199" y="14001"/>
                  <a:pt x="4066072" y="13999"/>
                </a:cubicBezTo>
                <a:cubicBezTo>
                  <a:pt x="4070944" y="13996"/>
                  <a:pt x="4076278" y="13989"/>
                  <a:pt x="4082074" y="13977"/>
                </a:cubicBezTo>
                <a:cubicBezTo>
                  <a:pt x="4087869" y="13965"/>
                  <a:pt x="4093041" y="13945"/>
                  <a:pt x="4097590" y="13918"/>
                </a:cubicBezTo>
                <a:cubicBezTo>
                  <a:pt x="4102138" y="13890"/>
                  <a:pt x="4104978" y="13851"/>
                  <a:pt x="4106110" y="13802"/>
                </a:cubicBezTo>
                <a:cubicBezTo>
                  <a:pt x="4108032" y="13602"/>
                  <a:pt x="4109740" y="13402"/>
                  <a:pt x="4111236" y="13202"/>
                </a:cubicBezTo>
                <a:cubicBezTo>
                  <a:pt x="4112730" y="13002"/>
                  <a:pt x="4113885" y="12802"/>
                  <a:pt x="4114701" y="12602"/>
                </a:cubicBezTo>
                <a:cubicBezTo>
                  <a:pt x="4115206" y="12481"/>
                  <a:pt x="4115737" y="12323"/>
                  <a:pt x="4116293" y="12127"/>
                </a:cubicBezTo>
                <a:cubicBezTo>
                  <a:pt x="4116849" y="11931"/>
                  <a:pt x="4117381" y="11823"/>
                  <a:pt x="4117890" y="11802"/>
                </a:cubicBezTo>
                <a:close/>
                <a:moveTo>
                  <a:pt x="3841664" y="11802"/>
                </a:moveTo>
                <a:cubicBezTo>
                  <a:pt x="3842152" y="11814"/>
                  <a:pt x="3842477" y="11989"/>
                  <a:pt x="3842640" y="12327"/>
                </a:cubicBezTo>
                <a:cubicBezTo>
                  <a:pt x="3842802" y="12664"/>
                  <a:pt x="3842877" y="13089"/>
                  <a:pt x="3842865" y="13602"/>
                </a:cubicBezTo>
                <a:cubicBezTo>
                  <a:pt x="3842836" y="14181"/>
                  <a:pt x="3842644" y="15373"/>
                  <a:pt x="3842290" y="17177"/>
                </a:cubicBezTo>
                <a:cubicBezTo>
                  <a:pt x="3841936" y="18982"/>
                  <a:pt x="3841594" y="22124"/>
                  <a:pt x="3841264" y="26604"/>
                </a:cubicBezTo>
                <a:cubicBezTo>
                  <a:pt x="3841161" y="27879"/>
                  <a:pt x="3841019" y="30029"/>
                  <a:pt x="3840839" y="33052"/>
                </a:cubicBezTo>
                <a:cubicBezTo>
                  <a:pt x="3840660" y="36076"/>
                  <a:pt x="3840469" y="38321"/>
                  <a:pt x="3840264" y="39787"/>
                </a:cubicBezTo>
                <a:cubicBezTo>
                  <a:pt x="3840182" y="40317"/>
                  <a:pt x="3839999" y="40809"/>
                  <a:pt x="3839718" y="41263"/>
                </a:cubicBezTo>
                <a:cubicBezTo>
                  <a:pt x="3839437" y="41718"/>
                  <a:pt x="3838956" y="41959"/>
                  <a:pt x="3838277" y="41989"/>
                </a:cubicBezTo>
                <a:cubicBezTo>
                  <a:pt x="3837595" y="41984"/>
                  <a:pt x="3837122" y="41743"/>
                  <a:pt x="3836861" y="41263"/>
                </a:cubicBezTo>
                <a:cubicBezTo>
                  <a:pt x="3836601" y="40784"/>
                  <a:pt x="3836477" y="40092"/>
                  <a:pt x="3836489" y="39187"/>
                </a:cubicBezTo>
                <a:cubicBezTo>
                  <a:pt x="3836501" y="38424"/>
                  <a:pt x="3836426" y="37348"/>
                  <a:pt x="3836264" y="35960"/>
                </a:cubicBezTo>
                <a:cubicBezTo>
                  <a:pt x="3836101" y="34572"/>
                  <a:pt x="3835776" y="33246"/>
                  <a:pt x="3835288" y="31983"/>
                </a:cubicBezTo>
                <a:cubicBezTo>
                  <a:pt x="3834742" y="30182"/>
                  <a:pt x="3833583" y="28681"/>
                  <a:pt x="3831811" y="27480"/>
                </a:cubicBezTo>
                <a:cubicBezTo>
                  <a:pt x="3830039" y="26279"/>
                  <a:pt x="3826728" y="25379"/>
                  <a:pt x="3821879" y="24779"/>
                </a:cubicBezTo>
                <a:cubicBezTo>
                  <a:pt x="3820531" y="24643"/>
                  <a:pt x="3817868" y="24514"/>
                  <a:pt x="3813888" y="24393"/>
                </a:cubicBezTo>
                <a:cubicBezTo>
                  <a:pt x="3809909" y="24272"/>
                  <a:pt x="3805896" y="24173"/>
                  <a:pt x="3801851" y="24097"/>
                </a:cubicBezTo>
                <a:cubicBezTo>
                  <a:pt x="3797804" y="24020"/>
                  <a:pt x="3795007" y="23981"/>
                  <a:pt x="3793460" y="23978"/>
                </a:cubicBezTo>
                <a:cubicBezTo>
                  <a:pt x="3792963" y="23974"/>
                  <a:pt x="3792605" y="24132"/>
                  <a:pt x="3792384" y="24453"/>
                </a:cubicBezTo>
                <a:cubicBezTo>
                  <a:pt x="3792162" y="24774"/>
                  <a:pt x="3792054" y="25283"/>
                  <a:pt x="3792058" y="25979"/>
                </a:cubicBezTo>
                <a:lnTo>
                  <a:pt x="3792058" y="76609"/>
                </a:lnTo>
                <a:cubicBezTo>
                  <a:pt x="3792042" y="77313"/>
                  <a:pt x="3792125" y="77855"/>
                  <a:pt x="3792309" y="78235"/>
                </a:cubicBezTo>
                <a:cubicBezTo>
                  <a:pt x="3792492" y="78614"/>
                  <a:pt x="3792875" y="78806"/>
                  <a:pt x="3793460" y="78810"/>
                </a:cubicBezTo>
                <a:cubicBezTo>
                  <a:pt x="3795156" y="78813"/>
                  <a:pt x="3798234" y="78808"/>
                  <a:pt x="3802696" y="78795"/>
                </a:cubicBezTo>
                <a:cubicBezTo>
                  <a:pt x="3807157" y="78783"/>
                  <a:pt x="3811630" y="78748"/>
                  <a:pt x="3816113" y="78691"/>
                </a:cubicBezTo>
                <a:cubicBezTo>
                  <a:pt x="3820596" y="78635"/>
                  <a:pt x="3823720" y="78541"/>
                  <a:pt x="3825483" y="78410"/>
                </a:cubicBezTo>
                <a:cubicBezTo>
                  <a:pt x="3827872" y="78235"/>
                  <a:pt x="3829848" y="77935"/>
                  <a:pt x="3831410" y="77509"/>
                </a:cubicBezTo>
                <a:cubicBezTo>
                  <a:pt x="3832972" y="77084"/>
                  <a:pt x="3834194" y="76384"/>
                  <a:pt x="3835076" y="75408"/>
                </a:cubicBezTo>
                <a:cubicBezTo>
                  <a:pt x="3835756" y="74599"/>
                  <a:pt x="3836336" y="73966"/>
                  <a:pt x="3836817" y="73507"/>
                </a:cubicBezTo>
                <a:cubicBezTo>
                  <a:pt x="3837299" y="73048"/>
                  <a:pt x="3837781" y="72815"/>
                  <a:pt x="3838264" y="72807"/>
                </a:cubicBezTo>
                <a:cubicBezTo>
                  <a:pt x="3838673" y="72798"/>
                  <a:pt x="3839006" y="72915"/>
                  <a:pt x="3839264" y="73157"/>
                </a:cubicBezTo>
                <a:cubicBezTo>
                  <a:pt x="3839523" y="73399"/>
                  <a:pt x="3839656" y="73816"/>
                  <a:pt x="3839664" y="74408"/>
                </a:cubicBezTo>
                <a:cubicBezTo>
                  <a:pt x="3839648" y="74904"/>
                  <a:pt x="3839481" y="76212"/>
                  <a:pt x="3839164" y="78331"/>
                </a:cubicBezTo>
                <a:cubicBezTo>
                  <a:pt x="3838848" y="80450"/>
                  <a:pt x="3838481" y="84002"/>
                  <a:pt x="3838064" y="88986"/>
                </a:cubicBezTo>
                <a:cubicBezTo>
                  <a:pt x="3837943" y="91208"/>
                  <a:pt x="3837785" y="93768"/>
                  <a:pt x="3837589" y="96665"/>
                </a:cubicBezTo>
                <a:cubicBezTo>
                  <a:pt x="3837393" y="99563"/>
                  <a:pt x="3837285" y="101472"/>
                  <a:pt x="3837264" y="102393"/>
                </a:cubicBezTo>
                <a:cubicBezTo>
                  <a:pt x="3837302" y="103252"/>
                  <a:pt x="3837227" y="104086"/>
                  <a:pt x="3837041" y="104894"/>
                </a:cubicBezTo>
                <a:cubicBezTo>
                  <a:pt x="3836854" y="105703"/>
                  <a:pt x="3836332" y="106137"/>
                  <a:pt x="3835474" y="106195"/>
                </a:cubicBezTo>
                <a:cubicBezTo>
                  <a:pt x="3834791" y="106183"/>
                  <a:pt x="3834318" y="106008"/>
                  <a:pt x="3834057" y="105670"/>
                </a:cubicBezTo>
                <a:cubicBezTo>
                  <a:pt x="3833796" y="105332"/>
                  <a:pt x="3833672" y="104907"/>
                  <a:pt x="3833684" y="104394"/>
                </a:cubicBezTo>
                <a:cubicBezTo>
                  <a:pt x="3833601" y="103381"/>
                  <a:pt x="3833519" y="102256"/>
                  <a:pt x="3833435" y="101018"/>
                </a:cubicBezTo>
                <a:cubicBezTo>
                  <a:pt x="3833352" y="99779"/>
                  <a:pt x="3833170" y="98504"/>
                  <a:pt x="3832888" y="97191"/>
                </a:cubicBezTo>
                <a:cubicBezTo>
                  <a:pt x="3832447" y="95165"/>
                  <a:pt x="3831379" y="93464"/>
                  <a:pt x="3829686" y="92088"/>
                </a:cubicBezTo>
                <a:cubicBezTo>
                  <a:pt x="3827993" y="90712"/>
                  <a:pt x="3825325" y="89812"/>
                  <a:pt x="3821680" y="89387"/>
                </a:cubicBezTo>
                <a:cubicBezTo>
                  <a:pt x="3820221" y="89253"/>
                  <a:pt x="3817557" y="89142"/>
                  <a:pt x="3813689" y="89053"/>
                </a:cubicBezTo>
                <a:cubicBezTo>
                  <a:pt x="3809821" y="88964"/>
                  <a:pt x="3805897" y="88898"/>
                  <a:pt x="3801918" y="88853"/>
                </a:cubicBezTo>
                <a:cubicBezTo>
                  <a:pt x="3797938" y="88809"/>
                  <a:pt x="3795052" y="88786"/>
                  <a:pt x="3793259" y="88786"/>
                </a:cubicBezTo>
                <a:cubicBezTo>
                  <a:pt x="3792771" y="88795"/>
                  <a:pt x="3792446" y="88978"/>
                  <a:pt x="3792284" y="89337"/>
                </a:cubicBezTo>
                <a:cubicBezTo>
                  <a:pt x="3792121" y="89695"/>
                  <a:pt x="3792046" y="90179"/>
                  <a:pt x="3792058" y="90787"/>
                </a:cubicBezTo>
                <a:lnTo>
                  <a:pt x="3792058" y="106595"/>
                </a:lnTo>
                <a:cubicBezTo>
                  <a:pt x="3792055" y="109013"/>
                  <a:pt x="3792040" y="112271"/>
                  <a:pt x="3792014" y="116371"/>
                </a:cubicBezTo>
                <a:cubicBezTo>
                  <a:pt x="3791988" y="120470"/>
                  <a:pt x="3791973" y="124514"/>
                  <a:pt x="3791970" y="128503"/>
                </a:cubicBezTo>
                <a:cubicBezTo>
                  <a:pt x="3791966" y="132491"/>
                  <a:pt x="3791995" y="135527"/>
                  <a:pt x="3792058" y="137611"/>
                </a:cubicBezTo>
                <a:cubicBezTo>
                  <a:pt x="3791958" y="144352"/>
                  <a:pt x="3793460" y="148879"/>
                  <a:pt x="3796562" y="151193"/>
                </a:cubicBezTo>
                <a:cubicBezTo>
                  <a:pt x="3799664" y="153507"/>
                  <a:pt x="3806169" y="154582"/>
                  <a:pt x="3816076" y="154420"/>
                </a:cubicBezTo>
                <a:cubicBezTo>
                  <a:pt x="3818812" y="154470"/>
                  <a:pt x="3821947" y="154370"/>
                  <a:pt x="3825482" y="154119"/>
                </a:cubicBezTo>
                <a:cubicBezTo>
                  <a:pt x="3829016" y="153869"/>
                  <a:pt x="3832148" y="153169"/>
                  <a:pt x="3834877" y="152018"/>
                </a:cubicBezTo>
                <a:cubicBezTo>
                  <a:pt x="3837434" y="150864"/>
                  <a:pt x="3839405" y="149121"/>
                  <a:pt x="3840791" y="146791"/>
                </a:cubicBezTo>
                <a:cubicBezTo>
                  <a:pt x="3842177" y="144460"/>
                  <a:pt x="3843202" y="141267"/>
                  <a:pt x="3843865" y="137211"/>
                </a:cubicBezTo>
                <a:cubicBezTo>
                  <a:pt x="3844044" y="136123"/>
                  <a:pt x="3844286" y="135347"/>
                  <a:pt x="3844590" y="134885"/>
                </a:cubicBezTo>
                <a:cubicBezTo>
                  <a:pt x="3844894" y="134422"/>
                  <a:pt x="3845386" y="134197"/>
                  <a:pt x="3846065" y="134209"/>
                </a:cubicBezTo>
                <a:cubicBezTo>
                  <a:pt x="3846832" y="134234"/>
                  <a:pt x="3847299" y="134585"/>
                  <a:pt x="3847465" y="135260"/>
                </a:cubicBezTo>
                <a:cubicBezTo>
                  <a:pt x="3847632" y="135935"/>
                  <a:pt x="3847699" y="136786"/>
                  <a:pt x="3847665" y="137811"/>
                </a:cubicBezTo>
                <a:cubicBezTo>
                  <a:pt x="3847652" y="139460"/>
                  <a:pt x="3847501" y="141764"/>
                  <a:pt x="3847214" y="144724"/>
                </a:cubicBezTo>
                <a:cubicBezTo>
                  <a:pt x="3846926" y="147684"/>
                  <a:pt x="3846583" y="150610"/>
                  <a:pt x="3846184" y="153502"/>
                </a:cubicBezTo>
                <a:cubicBezTo>
                  <a:pt x="3845785" y="156393"/>
                  <a:pt x="3845412" y="158562"/>
                  <a:pt x="3845065" y="160007"/>
                </a:cubicBezTo>
                <a:cubicBezTo>
                  <a:pt x="3844477" y="162493"/>
                  <a:pt x="3843453" y="164007"/>
                  <a:pt x="3841992" y="164547"/>
                </a:cubicBezTo>
                <a:cubicBezTo>
                  <a:pt x="3840531" y="165088"/>
                  <a:pt x="3837961" y="165304"/>
                  <a:pt x="3834281" y="165196"/>
                </a:cubicBezTo>
                <a:cubicBezTo>
                  <a:pt x="3826813" y="165183"/>
                  <a:pt x="3820244" y="165109"/>
                  <a:pt x="3814574" y="164971"/>
                </a:cubicBezTo>
                <a:cubicBezTo>
                  <a:pt x="3808904" y="164834"/>
                  <a:pt x="3803934" y="164709"/>
                  <a:pt x="3799663" y="164596"/>
                </a:cubicBezTo>
                <a:cubicBezTo>
                  <a:pt x="3795408" y="164396"/>
                  <a:pt x="3791616" y="164246"/>
                  <a:pt x="3788288" y="164146"/>
                </a:cubicBezTo>
                <a:cubicBezTo>
                  <a:pt x="3784961" y="164046"/>
                  <a:pt x="3781821" y="163996"/>
                  <a:pt x="3778870" y="163996"/>
                </a:cubicBezTo>
                <a:cubicBezTo>
                  <a:pt x="3777733" y="163992"/>
                  <a:pt x="3776160" y="164000"/>
                  <a:pt x="3774149" y="164021"/>
                </a:cubicBezTo>
                <a:cubicBezTo>
                  <a:pt x="3772138" y="164042"/>
                  <a:pt x="3769915" y="164101"/>
                  <a:pt x="3767480" y="164199"/>
                </a:cubicBezTo>
                <a:cubicBezTo>
                  <a:pt x="3765142" y="164215"/>
                  <a:pt x="3762767" y="164281"/>
                  <a:pt x="3760354" y="164397"/>
                </a:cubicBezTo>
                <a:cubicBezTo>
                  <a:pt x="3757942" y="164513"/>
                  <a:pt x="3755716" y="164579"/>
                  <a:pt x="3753678" y="164596"/>
                </a:cubicBezTo>
                <a:lnTo>
                  <a:pt x="3751502" y="163515"/>
                </a:lnTo>
                <a:lnTo>
                  <a:pt x="3751072" y="164199"/>
                </a:lnTo>
                <a:cubicBezTo>
                  <a:pt x="3750414" y="164480"/>
                  <a:pt x="3749480" y="164612"/>
                  <a:pt x="3748272" y="164596"/>
                </a:cubicBezTo>
                <a:lnTo>
                  <a:pt x="3729269" y="164596"/>
                </a:lnTo>
                <a:cubicBezTo>
                  <a:pt x="3723802" y="164612"/>
                  <a:pt x="3719485" y="164331"/>
                  <a:pt x="3716318" y="163751"/>
                </a:cubicBezTo>
                <a:cubicBezTo>
                  <a:pt x="3713151" y="163172"/>
                  <a:pt x="3710334" y="162195"/>
                  <a:pt x="3707867" y="160820"/>
                </a:cubicBezTo>
                <a:cubicBezTo>
                  <a:pt x="3703665" y="158544"/>
                  <a:pt x="3699426" y="154992"/>
                  <a:pt x="3695151" y="150164"/>
                </a:cubicBezTo>
                <a:cubicBezTo>
                  <a:pt x="3690875" y="145337"/>
                  <a:pt x="3685988" y="139083"/>
                  <a:pt x="3680488" y="131404"/>
                </a:cubicBezTo>
                <a:cubicBezTo>
                  <a:pt x="3676323" y="125626"/>
                  <a:pt x="3672345" y="120023"/>
                  <a:pt x="3668555" y="114595"/>
                </a:cubicBezTo>
                <a:cubicBezTo>
                  <a:pt x="3664765" y="109167"/>
                  <a:pt x="3662138" y="105565"/>
                  <a:pt x="3660674" y="103789"/>
                </a:cubicBezTo>
                <a:cubicBezTo>
                  <a:pt x="3660174" y="103205"/>
                  <a:pt x="3659623" y="102822"/>
                  <a:pt x="3659023" y="102638"/>
                </a:cubicBezTo>
                <a:cubicBezTo>
                  <a:pt x="3658422" y="102455"/>
                  <a:pt x="3657772" y="102371"/>
                  <a:pt x="3657072" y="102388"/>
                </a:cubicBezTo>
                <a:lnTo>
                  <a:pt x="3639660" y="101989"/>
                </a:lnTo>
                <a:cubicBezTo>
                  <a:pt x="3639155" y="101981"/>
                  <a:pt x="3638763" y="102097"/>
                  <a:pt x="3638484" y="102339"/>
                </a:cubicBezTo>
                <a:cubicBezTo>
                  <a:pt x="3638204" y="102580"/>
                  <a:pt x="3638063" y="102997"/>
                  <a:pt x="3638058" y="103589"/>
                </a:cubicBezTo>
                <a:lnTo>
                  <a:pt x="3638058" y="106390"/>
                </a:lnTo>
                <a:cubicBezTo>
                  <a:pt x="3638038" y="115791"/>
                  <a:pt x="3638079" y="124204"/>
                  <a:pt x="3638183" y="131629"/>
                </a:cubicBezTo>
                <a:cubicBezTo>
                  <a:pt x="3638288" y="139054"/>
                  <a:pt x="3638579" y="144916"/>
                  <a:pt x="3639059" y="149214"/>
                </a:cubicBezTo>
                <a:cubicBezTo>
                  <a:pt x="3639271" y="152161"/>
                  <a:pt x="3639897" y="154621"/>
                  <a:pt x="3640935" y="156593"/>
                </a:cubicBezTo>
                <a:cubicBezTo>
                  <a:pt x="3641973" y="158565"/>
                  <a:pt x="3643950" y="159774"/>
                  <a:pt x="3646864" y="160220"/>
                </a:cubicBezTo>
                <a:cubicBezTo>
                  <a:pt x="3648436" y="160428"/>
                  <a:pt x="3650146" y="160612"/>
                  <a:pt x="3651993" y="160770"/>
                </a:cubicBezTo>
                <a:cubicBezTo>
                  <a:pt x="3653840" y="160929"/>
                  <a:pt x="3655400" y="161012"/>
                  <a:pt x="3656671" y="161020"/>
                </a:cubicBezTo>
                <a:cubicBezTo>
                  <a:pt x="3658272" y="161053"/>
                  <a:pt x="3659073" y="161583"/>
                  <a:pt x="3659073" y="162609"/>
                </a:cubicBezTo>
                <a:cubicBezTo>
                  <a:pt x="3659069" y="163301"/>
                  <a:pt x="3658727" y="163805"/>
                  <a:pt x="3658047" y="164124"/>
                </a:cubicBezTo>
                <a:cubicBezTo>
                  <a:pt x="3657367" y="164443"/>
                  <a:pt x="3656375" y="164600"/>
                  <a:pt x="3655070" y="164596"/>
                </a:cubicBezTo>
                <a:cubicBezTo>
                  <a:pt x="3648954" y="164572"/>
                  <a:pt x="3642978" y="164476"/>
                  <a:pt x="3637141" y="164308"/>
                </a:cubicBezTo>
                <a:cubicBezTo>
                  <a:pt x="3631304" y="164141"/>
                  <a:pt x="3627481" y="164045"/>
                  <a:pt x="3625670" y="164021"/>
                </a:cubicBezTo>
                <a:cubicBezTo>
                  <a:pt x="3623493" y="164045"/>
                  <a:pt x="3619953" y="164141"/>
                  <a:pt x="3615051" y="164308"/>
                </a:cubicBezTo>
                <a:cubicBezTo>
                  <a:pt x="3610149" y="164476"/>
                  <a:pt x="3605558" y="164572"/>
                  <a:pt x="3601278" y="164596"/>
                </a:cubicBezTo>
                <a:cubicBezTo>
                  <a:pt x="3598645" y="164629"/>
                  <a:pt x="3597311" y="163967"/>
                  <a:pt x="3597278" y="162609"/>
                </a:cubicBezTo>
                <a:cubicBezTo>
                  <a:pt x="3597261" y="162109"/>
                  <a:pt x="3597495" y="161720"/>
                  <a:pt x="3597978" y="161442"/>
                </a:cubicBezTo>
                <a:cubicBezTo>
                  <a:pt x="3598461" y="161165"/>
                  <a:pt x="3599295" y="161025"/>
                  <a:pt x="3600479" y="161020"/>
                </a:cubicBezTo>
                <a:cubicBezTo>
                  <a:pt x="3601979" y="161012"/>
                  <a:pt x="3603329" y="160929"/>
                  <a:pt x="3604529" y="160770"/>
                </a:cubicBezTo>
                <a:cubicBezTo>
                  <a:pt x="3605729" y="160612"/>
                  <a:pt x="3606779" y="160428"/>
                  <a:pt x="3607679" y="160220"/>
                </a:cubicBezTo>
                <a:cubicBezTo>
                  <a:pt x="3609621" y="159774"/>
                  <a:pt x="3610988" y="158565"/>
                  <a:pt x="3611780" y="156593"/>
                </a:cubicBezTo>
                <a:cubicBezTo>
                  <a:pt x="3612572" y="154621"/>
                  <a:pt x="3613138" y="152161"/>
                  <a:pt x="3613480" y="149214"/>
                </a:cubicBezTo>
                <a:cubicBezTo>
                  <a:pt x="3613959" y="144911"/>
                  <a:pt x="3614251" y="139058"/>
                  <a:pt x="3614355" y="131654"/>
                </a:cubicBezTo>
                <a:cubicBezTo>
                  <a:pt x="3614460" y="124250"/>
                  <a:pt x="3614501" y="115895"/>
                  <a:pt x="3614480" y="106590"/>
                </a:cubicBezTo>
                <a:lnTo>
                  <a:pt x="3614480" y="71402"/>
                </a:lnTo>
                <a:cubicBezTo>
                  <a:pt x="3614483" y="61422"/>
                  <a:pt x="3614478" y="53725"/>
                  <a:pt x="3614465" y="48310"/>
                </a:cubicBezTo>
                <a:cubicBezTo>
                  <a:pt x="3614453" y="42895"/>
                  <a:pt x="3614418" y="38814"/>
                  <a:pt x="3614362" y="36067"/>
                </a:cubicBezTo>
                <a:cubicBezTo>
                  <a:pt x="3614305" y="33320"/>
                  <a:pt x="3614211" y="30959"/>
                  <a:pt x="3614080" y="28982"/>
                </a:cubicBezTo>
                <a:cubicBezTo>
                  <a:pt x="3613959" y="25618"/>
                  <a:pt x="3613301" y="23042"/>
                  <a:pt x="3612105" y="21254"/>
                </a:cubicBezTo>
                <a:cubicBezTo>
                  <a:pt x="3610909" y="19466"/>
                  <a:pt x="3608700" y="18240"/>
                  <a:pt x="3605479" y="17577"/>
                </a:cubicBezTo>
                <a:cubicBezTo>
                  <a:pt x="3604629" y="17377"/>
                  <a:pt x="3603479" y="17227"/>
                  <a:pt x="3602029" y="17127"/>
                </a:cubicBezTo>
                <a:cubicBezTo>
                  <a:pt x="3600578" y="17027"/>
                  <a:pt x="3599128" y="16977"/>
                  <a:pt x="3597678" y="16977"/>
                </a:cubicBezTo>
                <a:cubicBezTo>
                  <a:pt x="3596574" y="16990"/>
                  <a:pt x="3595732" y="16866"/>
                  <a:pt x="3595153" y="16605"/>
                </a:cubicBezTo>
                <a:cubicBezTo>
                  <a:pt x="3594573" y="16344"/>
                  <a:pt x="3594282" y="15872"/>
                  <a:pt x="3594278" y="15190"/>
                </a:cubicBezTo>
                <a:cubicBezTo>
                  <a:pt x="3594273" y="14507"/>
                  <a:pt x="3594632" y="14035"/>
                  <a:pt x="3595353" y="13774"/>
                </a:cubicBezTo>
                <a:cubicBezTo>
                  <a:pt x="3596074" y="13514"/>
                  <a:pt x="3597182" y="13390"/>
                  <a:pt x="3598678" y="13402"/>
                </a:cubicBezTo>
                <a:cubicBezTo>
                  <a:pt x="3604195" y="13426"/>
                  <a:pt x="3609561" y="13522"/>
                  <a:pt x="3614776" y="13689"/>
                </a:cubicBezTo>
                <a:cubicBezTo>
                  <a:pt x="3619990" y="13857"/>
                  <a:pt x="3623755" y="13953"/>
                  <a:pt x="3626070" y="13977"/>
                </a:cubicBezTo>
                <a:cubicBezTo>
                  <a:pt x="3628441" y="13970"/>
                  <a:pt x="3631425" y="13920"/>
                  <a:pt x="3635021" y="13828"/>
                </a:cubicBezTo>
                <a:cubicBezTo>
                  <a:pt x="3638617" y="13736"/>
                  <a:pt x="3642180" y="13643"/>
                  <a:pt x="3645711" y="13551"/>
                </a:cubicBezTo>
                <a:cubicBezTo>
                  <a:pt x="3649241" y="13459"/>
                  <a:pt x="3652094" y="13409"/>
                  <a:pt x="3654270" y="13402"/>
                </a:cubicBezTo>
                <a:cubicBezTo>
                  <a:pt x="3660645" y="13298"/>
                  <a:pt x="3667008" y="13804"/>
                  <a:pt x="3673356" y="14921"/>
                </a:cubicBezTo>
                <a:cubicBezTo>
                  <a:pt x="3679705" y="16038"/>
                  <a:pt x="3685613" y="18391"/>
                  <a:pt x="3691079" y="21979"/>
                </a:cubicBezTo>
                <a:cubicBezTo>
                  <a:pt x="3694093" y="23947"/>
                  <a:pt x="3697057" y="27315"/>
                  <a:pt x="3699971" y="32084"/>
                </a:cubicBezTo>
                <a:cubicBezTo>
                  <a:pt x="3702885" y="36853"/>
                  <a:pt x="3704450" y="42622"/>
                  <a:pt x="3704667" y="49392"/>
                </a:cubicBezTo>
                <a:cubicBezTo>
                  <a:pt x="3704829" y="56712"/>
                  <a:pt x="3702956" y="63982"/>
                  <a:pt x="3699046" y="71201"/>
                </a:cubicBezTo>
                <a:cubicBezTo>
                  <a:pt x="3695137" y="78421"/>
                  <a:pt x="3688217" y="86090"/>
                  <a:pt x="3678287" y="94208"/>
                </a:cubicBezTo>
                <a:cubicBezTo>
                  <a:pt x="3687139" y="105419"/>
                  <a:pt x="3695117" y="115434"/>
                  <a:pt x="3702222" y="124253"/>
                </a:cubicBezTo>
                <a:cubicBezTo>
                  <a:pt x="3709328" y="133072"/>
                  <a:pt x="3715810" y="140592"/>
                  <a:pt x="3721668" y="146813"/>
                </a:cubicBezTo>
                <a:cubicBezTo>
                  <a:pt x="3727315" y="152420"/>
                  <a:pt x="3732074" y="156063"/>
                  <a:pt x="3735946" y="157744"/>
                </a:cubicBezTo>
                <a:cubicBezTo>
                  <a:pt x="3739817" y="159424"/>
                  <a:pt x="3742526" y="160316"/>
                  <a:pt x="3744071" y="160420"/>
                </a:cubicBezTo>
                <a:cubicBezTo>
                  <a:pt x="3746238" y="160820"/>
                  <a:pt x="3748105" y="161020"/>
                  <a:pt x="3749672" y="161020"/>
                </a:cubicBezTo>
                <a:lnTo>
                  <a:pt x="3750359" y="161475"/>
                </a:lnTo>
                <a:lnTo>
                  <a:pt x="3750378" y="161442"/>
                </a:lnTo>
                <a:cubicBezTo>
                  <a:pt x="3750862" y="161165"/>
                  <a:pt x="3751695" y="161025"/>
                  <a:pt x="3752879" y="161020"/>
                </a:cubicBezTo>
                <a:cubicBezTo>
                  <a:pt x="3754378" y="161013"/>
                  <a:pt x="3755729" y="160928"/>
                  <a:pt x="3756929" y="160767"/>
                </a:cubicBezTo>
                <a:cubicBezTo>
                  <a:pt x="3758129" y="160606"/>
                  <a:pt x="3759179" y="160416"/>
                  <a:pt x="3760079" y="160195"/>
                </a:cubicBezTo>
                <a:cubicBezTo>
                  <a:pt x="3762021" y="159749"/>
                  <a:pt x="3763388" y="158541"/>
                  <a:pt x="3764180" y="156570"/>
                </a:cubicBezTo>
                <a:cubicBezTo>
                  <a:pt x="3764972" y="154599"/>
                  <a:pt x="3765538" y="152140"/>
                  <a:pt x="3765880" y="149194"/>
                </a:cubicBezTo>
                <a:cubicBezTo>
                  <a:pt x="3766359" y="144893"/>
                  <a:pt x="3766651" y="139043"/>
                  <a:pt x="3766755" y="131643"/>
                </a:cubicBezTo>
                <a:cubicBezTo>
                  <a:pt x="3766859" y="124242"/>
                  <a:pt x="3766901" y="115893"/>
                  <a:pt x="3766880" y="106595"/>
                </a:cubicBezTo>
                <a:lnTo>
                  <a:pt x="3766880" y="71409"/>
                </a:lnTo>
                <a:cubicBezTo>
                  <a:pt x="3766883" y="61433"/>
                  <a:pt x="3766878" y="53738"/>
                  <a:pt x="3766865" y="48325"/>
                </a:cubicBezTo>
                <a:cubicBezTo>
                  <a:pt x="3766853" y="42912"/>
                  <a:pt x="3766818" y="38832"/>
                  <a:pt x="3766762" y="36086"/>
                </a:cubicBezTo>
                <a:cubicBezTo>
                  <a:pt x="3766705" y="33340"/>
                  <a:pt x="3766611" y="30979"/>
                  <a:pt x="3766480" y="29004"/>
                </a:cubicBezTo>
                <a:cubicBezTo>
                  <a:pt x="3766359" y="25641"/>
                  <a:pt x="3765701" y="23065"/>
                  <a:pt x="3764505" y="21275"/>
                </a:cubicBezTo>
                <a:cubicBezTo>
                  <a:pt x="3763309" y="19484"/>
                  <a:pt x="3761100" y="18252"/>
                  <a:pt x="3757879" y="17577"/>
                </a:cubicBezTo>
                <a:cubicBezTo>
                  <a:pt x="3757029" y="17377"/>
                  <a:pt x="3755879" y="17227"/>
                  <a:pt x="3754429" y="17127"/>
                </a:cubicBezTo>
                <a:cubicBezTo>
                  <a:pt x="3752978" y="17027"/>
                  <a:pt x="3751528" y="16977"/>
                  <a:pt x="3750078" y="16977"/>
                </a:cubicBezTo>
                <a:cubicBezTo>
                  <a:pt x="3748974" y="16990"/>
                  <a:pt x="3748132" y="16866"/>
                  <a:pt x="3747553" y="16605"/>
                </a:cubicBezTo>
                <a:cubicBezTo>
                  <a:pt x="3746974" y="16344"/>
                  <a:pt x="3746682" y="15872"/>
                  <a:pt x="3746678" y="15190"/>
                </a:cubicBezTo>
                <a:cubicBezTo>
                  <a:pt x="3746674" y="14507"/>
                  <a:pt x="3747032" y="14035"/>
                  <a:pt x="3747753" y="13774"/>
                </a:cubicBezTo>
                <a:cubicBezTo>
                  <a:pt x="3748474" y="13514"/>
                  <a:pt x="3749582" y="13390"/>
                  <a:pt x="3751078" y="13402"/>
                </a:cubicBezTo>
                <a:cubicBezTo>
                  <a:pt x="3753803" y="13410"/>
                  <a:pt x="3756554" y="13443"/>
                  <a:pt x="3759329" y="13501"/>
                </a:cubicBezTo>
                <a:cubicBezTo>
                  <a:pt x="3762104" y="13559"/>
                  <a:pt x="3764755" y="13593"/>
                  <a:pt x="3767280" y="13602"/>
                </a:cubicBezTo>
                <a:cubicBezTo>
                  <a:pt x="3769903" y="13706"/>
                  <a:pt x="3772301" y="13798"/>
                  <a:pt x="3774474" y="13877"/>
                </a:cubicBezTo>
                <a:cubicBezTo>
                  <a:pt x="3776647" y="13956"/>
                  <a:pt x="3778445" y="13998"/>
                  <a:pt x="3779869" y="14002"/>
                </a:cubicBezTo>
                <a:cubicBezTo>
                  <a:pt x="3781648" y="14003"/>
                  <a:pt x="3784975" y="14001"/>
                  <a:pt x="3789847" y="13999"/>
                </a:cubicBezTo>
                <a:cubicBezTo>
                  <a:pt x="3794719" y="13996"/>
                  <a:pt x="3800054" y="13989"/>
                  <a:pt x="3805849" y="13977"/>
                </a:cubicBezTo>
                <a:cubicBezTo>
                  <a:pt x="3811644" y="13965"/>
                  <a:pt x="3816816" y="13945"/>
                  <a:pt x="3821365" y="13918"/>
                </a:cubicBezTo>
                <a:cubicBezTo>
                  <a:pt x="3825913" y="13890"/>
                  <a:pt x="3828753" y="13851"/>
                  <a:pt x="3829885" y="13802"/>
                </a:cubicBezTo>
                <a:cubicBezTo>
                  <a:pt x="3831807" y="13602"/>
                  <a:pt x="3833515" y="13402"/>
                  <a:pt x="3835010" y="13202"/>
                </a:cubicBezTo>
                <a:cubicBezTo>
                  <a:pt x="3836505" y="13002"/>
                  <a:pt x="3837661" y="12802"/>
                  <a:pt x="3838476" y="12602"/>
                </a:cubicBezTo>
                <a:cubicBezTo>
                  <a:pt x="3838981" y="12481"/>
                  <a:pt x="3839512" y="12323"/>
                  <a:pt x="3840068" y="12127"/>
                </a:cubicBezTo>
                <a:cubicBezTo>
                  <a:pt x="3840624" y="11931"/>
                  <a:pt x="3841156" y="11823"/>
                  <a:pt x="3841664" y="11802"/>
                </a:cubicBezTo>
                <a:close/>
                <a:moveTo>
                  <a:pt x="3387065" y="11802"/>
                </a:moveTo>
                <a:cubicBezTo>
                  <a:pt x="3387473" y="11814"/>
                  <a:pt x="3387807" y="11989"/>
                  <a:pt x="3388065" y="12327"/>
                </a:cubicBezTo>
                <a:cubicBezTo>
                  <a:pt x="3388323" y="12664"/>
                  <a:pt x="3388457" y="13089"/>
                  <a:pt x="3388465" y="13602"/>
                </a:cubicBezTo>
                <a:cubicBezTo>
                  <a:pt x="3388436" y="14265"/>
                  <a:pt x="3388244" y="15290"/>
                  <a:pt x="3387890" y="16677"/>
                </a:cubicBezTo>
                <a:cubicBezTo>
                  <a:pt x="3387536" y="18065"/>
                  <a:pt x="3387194" y="20040"/>
                  <a:pt x="3386865" y="22603"/>
                </a:cubicBezTo>
                <a:cubicBezTo>
                  <a:pt x="3386797" y="23388"/>
                  <a:pt x="3386711" y="24907"/>
                  <a:pt x="3386606" y="27159"/>
                </a:cubicBezTo>
                <a:cubicBezTo>
                  <a:pt x="3386501" y="29410"/>
                  <a:pt x="3386385" y="31683"/>
                  <a:pt x="3386258" y="33977"/>
                </a:cubicBezTo>
                <a:cubicBezTo>
                  <a:pt x="3386130" y="36271"/>
                  <a:pt x="3385999" y="37874"/>
                  <a:pt x="3385865" y="38787"/>
                </a:cubicBezTo>
                <a:cubicBezTo>
                  <a:pt x="3385781" y="39604"/>
                  <a:pt x="3385598" y="40271"/>
                  <a:pt x="3385315" y="40788"/>
                </a:cubicBezTo>
                <a:cubicBezTo>
                  <a:pt x="3385031" y="41305"/>
                  <a:pt x="3384548" y="41572"/>
                  <a:pt x="3383865" y="41588"/>
                </a:cubicBezTo>
                <a:cubicBezTo>
                  <a:pt x="3383181" y="41593"/>
                  <a:pt x="3382698" y="41334"/>
                  <a:pt x="3382414" y="40813"/>
                </a:cubicBezTo>
                <a:cubicBezTo>
                  <a:pt x="3382131" y="40292"/>
                  <a:pt x="3381948" y="39483"/>
                  <a:pt x="3381865" y="38387"/>
                </a:cubicBezTo>
                <a:cubicBezTo>
                  <a:pt x="3381890" y="37544"/>
                  <a:pt x="3381840" y="36427"/>
                  <a:pt x="3381715" y="35035"/>
                </a:cubicBezTo>
                <a:cubicBezTo>
                  <a:pt x="3381589" y="33642"/>
                  <a:pt x="3381240" y="32225"/>
                  <a:pt x="3380665" y="30782"/>
                </a:cubicBezTo>
                <a:cubicBezTo>
                  <a:pt x="3379983" y="29319"/>
                  <a:pt x="3378563" y="27993"/>
                  <a:pt x="3376404" y="26805"/>
                </a:cubicBezTo>
                <a:cubicBezTo>
                  <a:pt x="3374246" y="25617"/>
                  <a:pt x="3371272" y="24941"/>
                  <a:pt x="3367482" y="24779"/>
                </a:cubicBezTo>
                <a:lnTo>
                  <a:pt x="3336659" y="24178"/>
                </a:lnTo>
                <a:cubicBezTo>
                  <a:pt x="3336059" y="24157"/>
                  <a:pt x="3335609" y="24349"/>
                  <a:pt x="3335309" y="24754"/>
                </a:cubicBezTo>
                <a:cubicBezTo>
                  <a:pt x="3335009" y="25158"/>
                  <a:pt x="3334859" y="25900"/>
                  <a:pt x="3334859" y="26980"/>
                </a:cubicBezTo>
                <a:lnTo>
                  <a:pt x="3334859" y="77009"/>
                </a:lnTo>
                <a:cubicBezTo>
                  <a:pt x="3334842" y="77609"/>
                  <a:pt x="3334925" y="78060"/>
                  <a:pt x="3335109" y="78360"/>
                </a:cubicBezTo>
                <a:cubicBezTo>
                  <a:pt x="3335292" y="78660"/>
                  <a:pt x="3335676" y="78810"/>
                  <a:pt x="3336259" y="78810"/>
                </a:cubicBezTo>
                <a:lnTo>
                  <a:pt x="3361878" y="78610"/>
                </a:lnTo>
                <a:cubicBezTo>
                  <a:pt x="3363567" y="78614"/>
                  <a:pt x="3365143" y="78606"/>
                  <a:pt x="3366606" y="78585"/>
                </a:cubicBezTo>
                <a:cubicBezTo>
                  <a:pt x="3368070" y="78564"/>
                  <a:pt x="3369496" y="78506"/>
                  <a:pt x="3370885" y="78410"/>
                </a:cubicBezTo>
                <a:cubicBezTo>
                  <a:pt x="3372782" y="78335"/>
                  <a:pt x="3374441" y="78035"/>
                  <a:pt x="3375860" y="77509"/>
                </a:cubicBezTo>
                <a:cubicBezTo>
                  <a:pt x="3377280" y="76984"/>
                  <a:pt x="3378484" y="76084"/>
                  <a:pt x="3379474" y="74808"/>
                </a:cubicBezTo>
                <a:cubicBezTo>
                  <a:pt x="3379941" y="74199"/>
                  <a:pt x="3380347" y="73716"/>
                  <a:pt x="3380691" y="73357"/>
                </a:cubicBezTo>
                <a:cubicBezTo>
                  <a:pt x="3381036" y="72998"/>
                  <a:pt x="3381493" y="72815"/>
                  <a:pt x="3382065" y="72807"/>
                </a:cubicBezTo>
                <a:cubicBezTo>
                  <a:pt x="3382864" y="72807"/>
                  <a:pt x="3383265" y="73407"/>
                  <a:pt x="3383265" y="74608"/>
                </a:cubicBezTo>
                <a:cubicBezTo>
                  <a:pt x="3383235" y="75262"/>
                  <a:pt x="3383044" y="76703"/>
                  <a:pt x="3382689" y="78930"/>
                </a:cubicBezTo>
                <a:cubicBezTo>
                  <a:pt x="3382335" y="81156"/>
                  <a:pt x="3381993" y="83843"/>
                  <a:pt x="3381665" y="86990"/>
                </a:cubicBezTo>
                <a:cubicBezTo>
                  <a:pt x="3381456" y="89260"/>
                  <a:pt x="3381272" y="92018"/>
                  <a:pt x="3381114" y="95265"/>
                </a:cubicBezTo>
                <a:cubicBezTo>
                  <a:pt x="3380956" y="98512"/>
                  <a:pt x="3380872" y="100621"/>
                  <a:pt x="3380864" y="101592"/>
                </a:cubicBezTo>
                <a:cubicBezTo>
                  <a:pt x="3380906" y="102538"/>
                  <a:pt x="3380823" y="103397"/>
                  <a:pt x="3380616" y="104168"/>
                </a:cubicBezTo>
                <a:cubicBezTo>
                  <a:pt x="3380409" y="104940"/>
                  <a:pt x="3379830" y="105348"/>
                  <a:pt x="3378878" y="105394"/>
                </a:cubicBezTo>
                <a:cubicBezTo>
                  <a:pt x="3378290" y="105365"/>
                  <a:pt x="3377876" y="105073"/>
                  <a:pt x="3377636" y="104518"/>
                </a:cubicBezTo>
                <a:cubicBezTo>
                  <a:pt x="3377396" y="103964"/>
                  <a:pt x="3377280" y="103322"/>
                  <a:pt x="3377289" y="102593"/>
                </a:cubicBezTo>
                <a:cubicBezTo>
                  <a:pt x="3377289" y="101871"/>
                  <a:pt x="3377189" y="100963"/>
                  <a:pt x="3376989" y="99866"/>
                </a:cubicBezTo>
                <a:cubicBezTo>
                  <a:pt x="3376788" y="98770"/>
                  <a:pt x="3376488" y="97611"/>
                  <a:pt x="3376088" y="96390"/>
                </a:cubicBezTo>
                <a:cubicBezTo>
                  <a:pt x="3375613" y="94914"/>
                  <a:pt x="3374562" y="93463"/>
                  <a:pt x="3372936" y="92038"/>
                </a:cubicBezTo>
                <a:cubicBezTo>
                  <a:pt x="3371310" y="90612"/>
                  <a:pt x="3368958" y="89661"/>
                  <a:pt x="3365881" y="89186"/>
                </a:cubicBezTo>
                <a:cubicBezTo>
                  <a:pt x="3364003" y="88990"/>
                  <a:pt x="3360954" y="88849"/>
                  <a:pt x="3356733" y="88764"/>
                </a:cubicBezTo>
                <a:cubicBezTo>
                  <a:pt x="3352513" y="88679"/>
                  <a:pt x="3348382" y="88627"/>
                  <a:pt x="3344339" y="88609"/>
                </a:cubicBezTo>
                <a:cubicBezTo>
                  <a:pt x="3340297" y="88590"/>
                  <a:pt x="3337604" y="88583"/>
                  <a:pt x="3336259" y="88586"/>
                </a:cubicBezTo>
                <a:cubicBezTo>
                  <a:pt x="3335763" y="88574"/>
                  <a:pt x="3335405" y="88699"/>
                  <a:pt x="3335184" y="88961"/>
                </a:cubicBezTo>
                <a:cubicBezTo>
                  <a:pt x="3334962" y="89224"/>
                  <a:pt x="3334854" y="89699"/>
                  <a:pt x="3334859" y="90387"/>
                </a:cubicBezTo>
                <a:lnTo>
                  <a:pt x="3334859" y="106594"/>
                </a:lnTo>
                <a:cubicBezTo>
                  <a:pt x="3334837" y="116249"/>
                  <a:pt x="3334879" y="124703"/>
                  <a:pt x="3334984" y="131957"/>
                </a:cubicBezTo>
                <a:cubicBezTo>
                  <a:pt x="3335088" y="139210"/>
                  <a:pt x="3335380" y="144963"/>
                  <a:pt x="3335859" y="149215"/>
                </a:cubicBezTo>
                <a:cubicBezTo>
                  <a:pt x="3336072" y="152162"/>
                  <a:pt x="3336697" y="154621"/>
                  <a:pt x="3337736" y="156593"/>
                </a:cubicBezTo>
                <a:cubicBezTo>
                  <a:pt x="3338774" y="158565"/>
                  <a:pt x="3340750" y="159774"/>
                  <a:pt x="3343665" y="160220"/>
                </a:cubicBezTo>
                <a:cubicBezTo>
                  <a:pt x="3345132" y="160428"/>
                  <a:pt x="3346800" y="160612"/>
                  <a:pt x="3348669" y="160770"/>
                </a:cubicBezTo>
                <a:cubicBezTo>
                  <a:pt x="3350536" y="160929"/>
                  <a:pt x="3352204" y="161012"/>
                  <a:pt x="3353672" y="161020"/>
                </a:cubicBezTo>
                <a:cubicBezTo>
                  <a:pt x="3354952" y="161024"/>
                  <a:pt x="3355844" y="161165"/>
                  <a:pt x="3356349" y="161442"/>
                </a:cubicBezTo>
                <a:cubicBezTo>
                  <a:pt x="3356854" y="161720"/>
                  <a:pt x="3357095" y="162109"/>
                  <a:pt x="3357074" y="162609"/>
                </a:cubicBezTo>
                <a:cubicBezTo>
                  <a:pt x="3357079" y="163301"/>
                  <a:pt x="3356720" y="163805"/>
                  <a:pt x="3355999" y="164124"/>
                </a:cubicBezTo>
                <a:cubicBezTo>
                  <a:pt x="3355277" y="164443"/>
                  <a:pt x="3354168" y="164600"/>
                  <a:pt x="3352671" y="164596"/>
                </a:cubicBezTo>
                <a:cubicBezTo>
                  <a:pt x="3346213" y="164572"/>
                  <a:pt x="3340219" y="164476"/>
                  <a:pt x="3334690" y="164308"/>
                </a:cubicBezTo>
                <a:cubicBezTo>
                  <a:pt x="3329161" y="164141"/>
                  <a:pt x="3325021" y="164045"/>
                  <a:pt x="3322270" y="164021"/>
                </a:cubicBezTo>
                <a:cubicBezTo>
                  <a:pt x="3319413" y="164045"/>
                  <a:pt x="3315482" y="164141"/>
                  <a:pt x="3310476" y="164308"/>
                </a:cubicBezTo>
                <a:cubicBezTo>
                  <a:pt x="3305470" y="164476"/>
                  <a:pt x="3300937" y="164572"/>
                  <a:pt x="3296879" y="164596"/>
                </a:cubicBezTo>
                <a:cubicBezTo>
                  <a:pt x="3295479" y="164612"/>
                  <a:pt x="3294429" y="164480"/>
                  <a:pt x="3293728" y="164199"/>
                </a:cubicBezTo>
                <a:cubicBezTo>
                  <a:pt x="3293028" y="163917"/>
                  <a:pt x="3292678" y="163387"/>
                  <a:pt x="3292678" y="162609"/>
                </a:cubicBezTo>
                <a:cubicBezTo>
                  <a:pt x="3292666" y="162109"/>
                  <a:pt x="3292891" y="161720"/>
                  <a:pt x="3293353" y="161442"/>
                </a:cubicBezTo>
                <a:cubicBezTo>
                  <a:pt x="3293816" y="161165"/>
                  <a:pt x="3294591" y="161025"/>
                  <a:pt x="3295679" y="161020"/>
                </a:cubicBezTo>
                <a:cubicBezTo>
                  <a:pt x="3297179" y="161012"/>
                  <a:pt x="3298529" y="160929"/>
                  <a:pt x="3299729" y="160770"/>
                </a:cubicBezTo>
                <a:cubicBezTo>
                  <a:pt x="3300929" y="160612"/>
                  <a:pt x="3301980" y="160428"/>
                  <a:pt x="3302880" y="160220"/>
                </a:cubicBezTo>
                <a:cubicBezTo>
                  <a:pt x="3304821" y="159774"/>
                  <a:pt x="3306188" y="158565"/>
                  <a:pt x="3306980" y="156593"/>
                </a:cubicBezTo>
                <a:cubicBezTo>
                  <a:pt x="3307772" y="154621"/>
                  <a:pt x="3308338" y="152162"/>
                  <a:pt x="3308680" y="149215"/>
                </a:cubicBezTo>
                <a:cubicBezTo>
                  <a:pt x="3309159" y="144963"/>
                  <a:pt x="3309451" y="139210"/>
                  <a:pt x="3309555" y="131957"/>
                </a:cubicBezTo>
                <a:cubicBezTo>
                  <a:pt x="3309659" y="124703"/>
                  <a:pt x="3309701" y="116249"/>
                  <a:pt x="3309680" y="106594"/>
                </a:cubicBezTo>
                <a:lnTo>
                  <a:pt x="3309680" y="71409"/>
                </a:lnTo>
                <a:cubicBezTo>
                  <a:pt x="3309683" y="61433"/>
                  <a:pt x="3309678" y="53738"/>
                  <a:pt x="3309665" y="48325"/>
                </a:cubicBezTo>
                <a:cubicBezTo>
                  <a:pt x="3309653" y="42912"/>
                  <a:pt x="3309619" y="38832"/>
                  <a:pt x="3309562" y="36086"/>
                </a:cubicBezTo>
                <a:cubicBezTo>
                  <a:pt x="3309505" y="33340"/>
                  <a:pt x="3309411" y="30979"/>
                  <a:pt x="3309280" y="29004"/>
                </a:cubicBezTo>
                <a:cubicBezTo>
                  <a:pt x="3309159" y="25641"/>
                  <a:pt x="3308501" y="23065"/>
                  <a:pt x="3307305" y="21275"/>
                </a:cubicBezTo>
                <a:cubicBezTo>
                  <a:pt x="3306109" y="19484"/>
                  <a:pt x="3303900" y="18252"/>
                  <a:pt x="3300679" y="17577"/>
                </a:cubicBezTo>
                <a:cubicBezTo>
                  <a:pt x="3299829" y="17377"/>
                  <a:pt x="3298679" y="17227"/>
                  <a:pt x="3297229" y="17127"/>
                </a:cubicBezTo>
                <a:cubicBezTo>
                  <a:pt x="3295779" y="17027"/>
                  <a:pt x="3294329" y="16977"/>
                  <a:pt x="3292878" y="16977"/>
                </a:cubicBezTo>
                <a:cubicBezTo>
                  <a:pt x="3291861" y="16986"/>
                  <a:pt x="3291044" y="16870"/>
                  <a:pt x="3290428" y="16630"/>
                </a:cubicBezTo>
                <a:cubicBezTo>
                  <a:pt x="3289811" y="16390"/>
                  <a:pt x="3289494" y="15976"/>
                  <a:pt x="3289478" y="15388"/>
                </a:cubicBezTo>
                <a:cubicBezTo>
                  <a:pt x="3289482" y="14610"/>
                  <a:pt x="3289874" y="14081"/>
                  <a:pt x="3290653" y="13799"/>
                </a:cubicBezTo>
                <a:cubicBezTo>
                  <a:pt x="3291432" y="13518"/>
                  <a:pt x="3292574" y="13385"/>
                  <a:pt x="3294078" y="13402"/>
                </a:cubicBezTo>
                <a:cubicBezTo>
                  <a:pt x="3296704" y="13410"/>
                  <a:pt x="3299404" y="13443"/>
                  <a:pt x="3302179" y="13501"/>
                </a:cubicBezTo>
                <a:cubicBezTo>
                  <a:pt x="3304954" y="13559"/>
                  <a:pt x="3307655" y="13593"/>
                  <a:pt x="3310280" y="13602"/>
                </a:cubicBezTo>
                <a:cubicBezTo>
                  <a:pt x="3312902" y="13706"/>
                  <a:pt x="3315300" y="13798"/>
                  <a:pt x="3317474" y="13877"/>
                </a:cubicBezTo>
                <a:cubicBezTo>
                  <a:pt x="3319647" y="13956"/>
                  <a:pt x="3321445" y="13998"/>
                  <a:pt x="3322869" y="14002"/>
                </a:cubicBezTo>
                <a:cubicBezTo>
                  <a:pt x="3324947" y="14003"/>
                  <a:pt x="3328550" y="14001"/>
                  <a:pt x="3333678" y="13999"/>
                </a:cubicBezTo>
                <a:cubicBezTo>
                  <a:pt x="3338806" y="13996"/>
                  <a:pt x="3344380" y="13989"/>
                  <a:pt x="3350400" y="13977"/>
                </a:cubicBezTo>
                <a:cubicBezTo>
                  <a:pt x="3356420" y="13965"/>
                  <a:pt x="3361806" y="13945"/>
                  <a:pt x="3366561" y="13918"/>
                </a:cubicBezTo>
                <a:cubicBezTo>
                  <a:pt x="3371315" y="13890"/>
                  <a:pt x="3374357" y="13851"/>
                  <a:pt x="3375688" y="13802"/>
                </a:cubicBezTo>
                <a:cubicBezTo>
                  <a:pt x="3377560" y="13719"/>
                  <a:pt x="3379146" y="13635"/>
                  <a:pt x="3380446" y="13552"/>
                </a:cubicBezTo>
                <a:cubicBezTo>
                  <a:pt x="3381746" y="13469"/>
                  <a:pt x="3382885" y="13285"/>
                  <a:pt x="3383865" y="13002"/>
                </a:cubicBezTo>
                <a:cubicBezTo>
                  <a:pt x="3384461" y="12777"/>
                  <a:pt x="3385019" y="12527"/>
                  <a:pt x="3385540" y="12252"/>
                </a:cubicBezTo>
                <a:cubicBezTo>
                  <a:pt x="3386061" y="11977"/>
                  <a:pt x="3386569" y="11827"/>
                  <a:pt x="3387065" y="11802"/>
                </a:cubicBezTo>
                <a:close/>
                <a:moveTo>
                  <a:pt x="2993940" y="11802"/>
                </a:moveTo>
                <a:cubicBezTo>
                  <a:pt x="2994427" y="11814"/>
                  <a:pt x="2994752" y="11989"/>
                  <a:pt x="2994915" y="12327"/>
                </a:cubicBezTo>
                <a:cubicBezTo>
                  <a:pt x="2995077" y="12664"/>
                  <a:pt x="2995152" y="13089"/>
                  <a:pt x="2995140" y="13602"/>
                </a:cubicBezTo>
                <a:cubicBezTo>
                  <a:pt x="2995111" y="14181"/>
                  <a:pt x="2994919" y="15373"/>
                  <a:pt x="2994565" y="17177"/>
                </a:cubicBezTo>
                <a:cubicBezTo>
                  <a:pt x="2994211" y="18982"/>
                  <a:pt x="2993869" y="22124"/>
                  <a:pt x="2993539" y="26604"/>
                </a:cubicBezTo>
                <a:cubicBezTo>
                  <a:pt x="2993435" y="27879"/>
                  <a:pt x="2993294" y="30029"/>
                  <a:pt x="2993114" y="33052"/>
                </a:cubicBezTo>
                <a:cubicBezTo>
                  <a:pt x="2992935" y="36076"/>
                  <a:pt x="2992744" y="38321"/>
                  <a:pt x="2992539" y="39787"/>
                </a:cubicBezTo>
                <a:cubicBezTo>
                  <a:pt x="2992457" y="40317"/>
                  <a:pt x="2992275" y="40809"/>
                  <a:pt x="2991993" y="41263"/>
                </a:cubicBezTo>
                <a:cubicBezTo>
                  <a:pt x="2991712" y="41718"/>
                  <a:pt x="2991231" y="41959"/>
                  <a:pt x="2990552" y="41989"/>
                </a:cubicBezTo>
                <a:cubicBezTo>
                  <a:pt x="2989869" y="41984"/>
                  <a:pt x="2989397" y="41743"/>
                  <a:pt x="2989137" y="41263"/>
                </a:cubicBezTo>
                <a:cubicBezTo>
                  <a:pt x="2988876" y="40784"/>
                  <a:pt x="2988752" y="40092"/>
                  <a:pt x="2988764" y="39187"/>
                </a:cubicBezTo>
                <a:cubicBezTo>
                  <a:pt x="2988776" y="38424"/>
                  <a:pt x="2988701" y="37348"/>
                  <a:pt x="2988539" y="35960"/>
                </a:cubicBezTo>
                <a:cubicBezTo>
                  <a:pt x="2988376" y="34572"/>
                  <a:pt x="2988051" y="33246"/>
                  <a:pt x="2987563" y="31983"/>
                </a:cubicBezTo>
                <a:cubicBezTo>
                  <a:pt x="2987017" y="30182"/>
                  <a:pt x="2985858" y="28681"/>
                  <a:pt x="2984086" y="27480"/>
                </a:cubicBezTo>
                <a:cubicBezTo>
                  <a:pt x="2982314" y="26279"/>
                  <a:pt x="2979003" y="25379"/>
                  <a:pt x="2974154" y="24779"/>
                </a:cubicBezTo>
                <a:cubicBezTo>
                  <a:pt x="2972806" y="24643"/>
                  <a:pt x="2970143" y="24514"/>
                  <a:pt x="2966163" y="24393"/>
                </a:cubicBezTo>
                <a:cubicBezTo>
                  <a:pt x="2962184" y="24272"/>
                  <a:pt x="2958171" y="24173"/>
                  <a:pt x="2954126" y="24097"/>
                </a:cubicBezTo>
                <a:cubicBezTo>
                  <a:pt x="2950080" y="24020"/>
                  <a:pt x="2947282" y="23981"/>
                  <a:pt x="2945734" y="23978"/>
                </a:cubicBezTo>
                <a:cubicBezTo>
                  <a:pt x="2945238" y="23974"/>
                  <a:pt x="2944880" y="24132"/>
                  <a:pt x="2944659" y="24453"/>
                </a:cubicBezTo>
                <a:cubicBezTo>
                  <a:pt x="2944438" y="24774"/>
                  <a:pt x="2944329" y="25283"/>
                  <a:pt x="2944333" y="25979"/>
                </a:cubicBezTo>
                <a:lnTo>
                  <a:pt x="2944333" y="76609"/>
                </a:lnTo>
                <a:cubicBezTo>
                  <a:pt x="2944317" y="77313"/>
                  <a:pt x="2944400" y="77855"/>
                  <a:pt x="2944584" y="78235"/>
                </a:cubicBezTo>
                <a:cubicBezTo>
                  <a:pt x="2944767" y="78614"/>
                  <a:pt x="2945151" y="78806"/>
                  <a:pt x="2945734" y="78810"/>
                </a:cubicBezTo>
                <a:cubicBezTo>
                  <a:pt x="2947431" y="78813"/>
                  <a:pt x="2950509" y="78808"/>
                  <a:pt x="2954971" y="78795"/>
                </a:cubicBezTo>
                <a:cubicBezTo>
                  <a:pt x="2959432" y="78783"/>
                  <a:pt x="2963905" y="78748"/>
                  <a:pt x="2968388" y="78691"/>
                </a:cubicBezTo>
                <a:cubicBezTo>
                  <a:pt x="2972872" y="78635"/>
                  <a:pt x="2975995" y="78541"/>
                  <a:pt x="2977758" y="78410"/>
                </a:cubicBezTo>
                <a:cubicBezTo>
                  <a:pt x="2980147" y="78235"/>
                  <a:pt x="2982123" y="77935"/>
                  <a:pt x="2983685" y="77509"/>
                </a:cubicBezTo>
                <a:cubicBezTo>
                  <a:pt x="2985247" y="77084"/>
                  <a:pt x="2986469" y="76384"/>
                  <a:pt x="2987351" y="75408"/>
                </a:cubicBezTo>
                <a:cubicBezTo>
                  <a:pt x="2988031" y="74599"/>
                  <a:pt x="2988611" y="73966"/>
                  <a:pt x="2989092" y="73507"/>
                </a:cubicBezTo>
                <a:cubicBezTo>
                  <a:pt x="2989574" y="73048"/>
                  <a:pt x="2990056" y="72815"/>
                  <a:pt x="2990539" y="72807"/>
                </a:cubicBezTo>
                <a:cubicBezTo>
                  <a:pt x="2990948" y="72798"/>
                  <a:pt x="2991281" y="72915"/>
                  <a:pt x="2991539" y="73157"/>
                </a:cubicBezTo>
                <a:cubicBezTo>
                  <a:pt x="2991798" y="73399"/>
                  <a:pt x="2991931" y="73816"/>
                  <a:pt x="2991939" y="74408"/>
                </a:cubicBezTo>
                <a:cubicBezTo>
                  <a:pt x="2991923" y="74904"/>
                  <a:pt x="2991756" y="76212"/>
                  <a:pt x="2991439" y="78331"/>
                </a:cubicBezTo>
                <a:cubicBezTo>
                  <a:pt x="2991123" y="80450"/>
                  <a:pt x="2990756" y="84002"/>
                  <a:pt x="2990339" y="88986"/>
                </a:cubicBezTo>
                <a:cubicBezTo>
                  <a:pt x="2990218" y="91208"/>
                  <a:pt x="2990060" y="93768"/>
                  <a:pt x="2989864" y="96665"/>
                </a:cubicBezTo>
                <a:cubicBezTo>
                  <a:pt x="2989668" y="99563"/>
                  <a:pt x="2989560" y="101472"/>
                  <a:pt x="2989539" y="102393"/>
                </a:cubicBezTo>
                <a:cubicBezTo>
                  <a:pt x="2989576" y="103252"/>
                  <a:pt x="2989502" y="104086"/>
                  <a:pt x="2989315" y="104894"/>
                </a:cubicBezTo>
                <a:cubicBezTo>
                  <a:pt x="2989129" y="105703"/>
                  <a:pt x="2988607" y="106137"/>
                  <a:pt x="2987749" y="106195"/>
                </a:cubicBezTo>
                <a:cubicBezTo>
                  <a:pt x="2987065" y="106183"/>
                  <a:pt x="2986593" y="106008"/>
                  <a:pt x="2986332" y="105670"/>
                </a:cubicBezTo>
                <a:cubicBezTo>
                  <a:pt x="2986071" y="105332"/>
                  <a:pt x="2985947" y="104907"/>
                  <a:pt x="2985959" y="104394"/>
                </a:cubicBezTo>
                <a:cubicBezTo>
                  <a:pt x="2985876" y="103381"/>
                  <a:pt x="2985793" y="102256"/>
                  <a:pt x="2985711" y="101018"/>
                </a:cubicBezTo>
                <a:cubicBezTo>
                  <a:pt x="2985628" y="99779"/>
                  <a:pt x="2985445" y="98504"/>
                  <a:pt x="2985163" y="97191"/>
                </a:cubicBezTo>
                <a:cubicBezTo>
                  <a:pt x="2984721" y="95165"/>
                  <a:pt x="2983654" y="93464"/>
                  <a:pt x="2981961" y="92088"/>
                </a:cubicBezTo>
                <a:cubicBezTo>
                  <a:pt x="2980268" y="90712"/>
                  <a:pt x="2977599" y="89812"/>
                  <a:pt x="2973955" y="89387"/>
                </a:cubicBezTo>
                <a:cubicBezTo>
                  <a:pt x="2972496" y="89253"/>
                  <a:pt x="2969832" y="89142"/>
                  <a:pt x="2965964" y="89053"/>
                </a:cubicBezTo>
                <a:cubicBezTo>
                  <a:pt x="2962096" y="88964"/>
                  <a:pt x="2958172" y="88898"/>
                  <a:pt x="2954192" y="88853"/>
                </a:cubicBezTo>
                <a:cubicBezTo>
                  <a:pt x="2950213" y="88809"/>
                  <a:pt x="2947327" y="88786"/>
                  <a:pt x="2945534" y="88786"/>
                </a:cubicBezTo>
                <a:cubicBezTo>
                  <a:pt x="2945046" y="88795"/>
                  <a:pt x="2944721" y="88978"/>
                  <a:pt x="2944559" y="89337"/>
                </a:cubicBezTo>
                <a:cubicBezTo>
                  <a:pt x="2944396" y="89695"/>
                  <a:pt x="2944321" y="90179"/>
                  <a:pt x="2944333" y="90787"/>
                </a:cubicBezTo>
                <a:lnTo>
                  <a:pt x="2944333" y="106595"/>
                </a:lnTo>
                <a:cubicBezTo>
                  <a:pt x="2944330" y="109013"/>
                  <a:pt x="2944315" y="112271"/>
                  <a:pt x="2944289" y="116371"/>
                </a:cubicBezTo>
                <a:cubicBezTo>
                  <a:pt x="2944263" y="120470"/>
                  <a:pt x="2944248" y="124514"/>
                  <a:pt x="2944245" y="128503"/>
                </a:cubicBezTo>
                <a:cubicBezTo>
                  <a:pt x="2944241" y="132491"/>
                  <a:pt x="2944271" y="135527"/>
                  <a:pt x="2944333" y="137611"/>
                </a:cubicBezTo>
                <a:cubicBezTo>
                  <a:pt x="2944233" y="144352"/>
                  <a:pt x="2945734" y="148879"/>
                  <a:pt x="2948837" y="151193"/>
                </a:cubicBezTo>
                <a:cubicBezTo>
                  <a:pt x="2951939" y="153507"/>
                  <a:pt x="2958444" y="154582"/>
                  <a:pt x="2968351" y="154420"/>
                </a:cubicBezTo>
                <a:cubicBezTo>
                  <a:pt x="2971087" y="154470"/>
                  <a:pt x="2974222" y="154370"/>
                  <a:pt x="2977757" y="154119"/>
                </a:cubicBezTo>
                <a:cubicBezTo>
                  <a:pt x="2981291" y="153869"/>
                  <a:pt x="2984423" y="153169"/>
                  <a:pt x="2987152" y="152018"/>
                </a:cubicBezTo>
                <a:cubicBezTo>
                  <a:pt x="2989709" y="150864"/>
                  <a:pt x="2991680" y="149121"/>
                  <a:pt x="2993066" y="146791"/>
                </a:cubicBezTo>
                <a:cubicBezTo>
                  <a:pt x="2994452" y="144460"/>
                  <a:pt x="2995477" y="141267"/>
                  <a:pt x="2996140" y="137211"/>
                </a:cubicBezTo>
                <a:cubicBezTo>
                  <a:pt x="2996319" y="136123"/>
                  <a:pt x="2996561" y="135347"/>
                  <a:pt x="2996865" y="134885"/>
                </a:cubicBezTo>
                <a:cubicBezTo>
                  <a:pt x="2997169" y="134422"/>
                  <a:pt x="2997661" y="134197"/>
                  <a:pt x="2998340" y="134209"/>
                </a:cubicBezTo>
                <a:cubicBezTo>
                  <a:pt x="2999107" y="134234"/>
                  <a:pt x="2999574" y="134585"/>
                  <a:pt x="2999740" y="135260"/>
                </a:cubicBezTo>
                <a:cubicBezTo>
                  <a:pt x="2999907" y="135935"/>
                  <a:pt x="2999974" y="136786"/>
                  <a:pt x="2999940" y="137811"/>
                </a:cubicBezTo>
                <a:cubicBezTo>
                  <a:pt x="2999927" y="139460"/>
                  <a:pt x="2999776" y="141764"/>
                  <a:pt x="2999488" y="144724"/>
                </a:cubicBezTo>
                <a:cubicBezTo>
                  <a:pt x="2999201" y="147684"/>
                  <a:pt x="2998858" y="150610"/>
                  <a:pt x="2998459" y="153502"/>
                </a:cubicBezTo>
                <a:cubicBezTo>
                  <a:pt x="2998060" y="156393"/>
                  <a:pt x="2997687" y="158562"/>
                  <a:pt x="2997340" y="160007"/>
                </a:cubicBezTo>
                <a:cubicBezTo>
                  <a:pt x="2996752" y="162493"/>
                  <a:pt x="2995728" y="164007"/>
                  <a:pt x="2994267" y="164547"/>
                </a:cubicBezTo>
                <a:cubicBezTo>
                  <a:pt x="2992806" y="165088"/>
                  <a:pt x="2990236" y="165304"/>
                  <a:pt x="2986556" y="165196"/>
                </a:cubicBezTo>
                <a:cubicBezTo>
                  <a:pt x="2979088" y="165183"/>
                  <a:pt x="2972519" y="165109"/>
                  <a:pt x="2966849" y="164971"/>
                </a:cubicBezTo>
                <a:cubicBezTo>
                  <a:pt x="2961179" y="164834"/>
                  <a:pt x="2956209" y="164709"/>
                  <a:pt x="2951939" y="164596"/>
                </a:cubicBezTo>
                <a:cubicBezTo>
                  <a:pt x="2947682" y="164396"/>
                  <a:pt x="2943891" y="164246"/>
                  <a:pt x="2940563" y="164146"/>
                </a:cubicBezTo>
                <a:cubicBezTo>
                  <a:pt x="2937236" y="164046"/>
                  <a:pt x="2934096" y="163996"/>
                  <a:pt x="2931145" y="163996"/>
                </a:cubicBezTo>
                <a:cubicBezTo>
                  <a:pt x="2930008" y="163992"/>
                  <a:pt x="2928435" y="164000"/>
                  <a:pt x="2926424" y="164021"/>
                </a:cubicBezTo>
                <a:cubicBezTo>
                  <a:pt x="2924413" y="164042"/>
                  <a:pt x="2922190" y="164101"/>
                  <a:pt x="2919755" y="164199"/>
                </a:cubicBezTo>
                <a:cubicBezTo>
                  <a:pt x="2917417" y="164215"/>
                  <a:pt x="2915042" y="164281"/>
                  <a:pt x="2912629" y="164397"/>
                </a:cubicBezTo>
                <a:cubicBezTo>
                  <a:pt x="2910217" y="164513"/>
                  <a:pt x="2907991" y="164579"/>
                  <a:pt x="2905953" y="164596"/>
                </a:cubicBezTo>
                <a:cubicBezTo>
                  <a:pt x="2903320" y="164629"/>
                  <a:pt x="2901987" y="163967"/>
                  <a:pt x="2901953" y="162609"/>
                </a:cubicBezTo>
                <a:cubicBezTo>
                  <a:pt x="2901937" y="162109"/>
                  <a:pt x="2902170" y="161720"/>
                  <a:pt x="2902653" y="161442"/>
                </a:cubicBezTo>
                <a:cubicBezTo>
                  <a:pt x="2903136" y="161165"/>
                  <a:pt x="2903970" y="161025"/>
                  <a:pt x="2905154" y="161020"/>
                </a:cubicBezTo>
                <a:cubicBezTo>
                  <a:pt x="2906654" y="161013"/>
                  <a:pt x="2908004" y="160928"/>
                  <a:pt x="2909204" y="160767"/>
                </a:cubicBezTo>
                <a:cubicBezTo>
                  <a:pt x="2910404" y="160606"/>
                  <a:pt x="2911454" y="160416"/>
                  <a:pt x="2912354" y="160195"/>
                </a:cubicBezTo>
                <a:cubicBezTo>
                  <a:pt x="2914297" y="159749"/>
                  <a:pt x="2915663" y="158541"/>
                  <a:pt x="2916455" y="156570"/>
                </a:cubicBezTo>
                <a:cubicBezTo>
                  <a:pt x="2917247" y="154599"/>
                  <a:pt x="2917813" y="152140"/>
                  <a:pt x="2918155" y="149194"/>
                </a:cubicBezTo>
                <a:cubicBezTo>
                  <a:pt x="2918634" y="144893"/>
                  <a:pt x="2918926" y="139043"/>
                  <a:pt x="2919030" y="131643"/>
                </a:cubicBezTo>
                <a:cubicBezTo>
                  <a:pt x="2919135" y="124242"/>
                  <a:pt x="2919176" y="115893"/>
                  <a:pt x="2919155" y="106595"/>
                </a:cubicBezTo>
                <a:lnTo>
                  <a:pt x="2919155" y="71409"/>
                </a:lnTo>
                <a:cubicBezTo>
                  <a:pt x="2919158" y="61433"/>
                  <a:pt x="2919153" y="53738"/>
                  <a:pt x="2919140" y="48325"/>
                </a:cubicBezTo>
                <a:cubicBezTo>
                  <a:pt x="2919128" y="42912"/>
                  <a:pt x="2919093" y="38832"/>
                  <a:pt x="2919037" y="36086"/>
                </a:cubicBezTo>
                <a:cubicBezTo>
                  <a:pt x="2918980" y="33340"/>
                  <a:pt x="2918886" y="30979"/>
                  <a:pt x="2918755" y="29004"/>
                </a:cubicBezTo>
                <a:cubicBezTo>
                  <a:pt x="2918634" y="25641"/>
                  <a:pt x="2917976" y="23065"/>
                  <a:pt x="2916780" y="21275"/>
                </a:cubicBezTo>
                <a:cubicBezTo>
                  <a:pt x="2915584" y="19484"/>
                  <a:pt x="2913375" y="18252"/>
                  <a:pt x="2910154" y="17577"/>
                </a:cubicBezTo>
                <a:cubicBezTo>
                  <a:pt x="2909304" y="17377"/>
                  <a:pt x="2908154" y="17227"/>
                  <a:pt x="2906704" y="17127"/>
                </a:cubicBezTo>
                <a:cubicBezTo>
                  <a:pt x="2905253" y="17027"/>
                  <a:pt x="2903803" y="16977"/>
                  <a:pt x="2902353" y="16977"/>
                </a:cubicBezTo>
                <a:cubicBezTo>
                  <a:pt x="2901249" y="16990"/>
                  <a:pt x="2900407" y="16866"/>
                  <a:pt x="2899828" y="16605"/>
                </a:cubicBezTo>
                <a:cubicBezTo>
                  <a:pt x="2899249" y="16344"/>
                  <a:pt x="2898957" y="15872"/>
                  <a:pt x="2898953" y="15190"/>
                </a:cubicBezTo>
                <a:cubicBezTo>
                  <a:pt x="2898949" y="14507"/>
                  <a:pt x="2899307" y="14035"/>
                  <a:pt x="2900028" y="13774"/>
                </a:cubicBezTo>
                <a:cubicBezTo>
                  <a:pt x="2900749" y="13514"/>
                  <a:pt x="2901857" y="13390"/>
                  <a:pt x="2903353" y="13402"/>
                </a:cubicBezTo>
                <a:cubicBezTo>
                  <a:pt x="2906078" y="13410"/>
                  <a:pt x="2908829" y="13443"/>
                  <a:pt x="2911604" y="13501"/>
                </a:cubicBezTo>
                <a:cubicBezTo>
                  <a:pt x="2914380" y="13559"/>
                  <a:pt x="2917030" y="13593"/>
                  <a:pt x="2919555" y="13602"/>
                </a:cubicBezTo>
                <a:cubicBezTo>
                  <a:pt x="2922178" y="13706"/>
                  <a:pt x="2924576" y="13798"/>
                  <a:pt x="2926749" y="13877"/>
                </a:cubicBezTo>
                <a:cubicBezTo>
                  <a:pt x="2928922" y="13956"/>
                  <a:pt x="2930720" y="13998"/>
                  <a:pt x="2932144" y="14002"/>
                </a:cubicBezTo>
                <a:cubicBezTo>
                  <a:pt x="2933924" y="14003"/>
                  <a:pt x="2937250" y="14001"/>
                  <a:pt x="2942122" y="13999"/>
                </a:cubicBezTo>
                <a:cubicBezTo>
                  <a:pt x="2946994" y="13996"/>
                  <a:pt x="2952328" y="13989"/>
                  <a:pt x="2958124" y="13977"/>
                </a:cubicBezTo>
                <a:cubicBezTo>
                  <a:pt x="2963919" y="13965"/>
                  <a:pt x="2969091" y="13945"/>
                  <a:pt x="2973639" y="13918"/>
                </a:cubicBezTo>
                <a:cubicBezTo>
                  <a:pt x="2978188" y="13890"/>
                  <a:pt x="2981028" y="13851"/>
                  <a:pt x="2982159" y="13802"/>
                </a:cubicBezTo>
                <a:cubicBezTo>
                  <a:pt x="2984082" y="13602"/>
                  <a:pt x="2985790" y="13402"/>
                  <a:pt x="2987285" y="13202"/>
                </a:cubicBezTo>
                <a:cubicBezTo>
                  <a:pt x="2988780" y="13002"/>
                  <a:pt x="2989935" y="12802"/>
                  <a:pt x="2990751" y="12602"/>
                </a:cubicBezTo>
                <a:cubicBezTo>
                  <a:pt x="2991256" y="12481"/>
                  <a:pt x="2991787" y="12323"/>
                  <a:pt x="2992343" y="12127"/>
                </a:cubicBezTo>
                <a:cubicBezTo>
                  <a:pt x="2992899" y="11931"/>
                  <a:pt x="2993431" y="11823"/>
                  <a:pt x="2993940" y="11802"/>
                </a:cubicBezTo>
                <a:close/>
                <a:moveTo>
                  <a:pt x="2384340" y="11802"/>
                </a:moveTo>
                <a:cubicBezTo>
                  <a:pt x="2384827" y="11814"/>
                  <a:pt x="2385152" y="11989"/>
                  <a:pt x="2385315" y="12327"/>
                </a:cubicBezTo>
                <a:cubicBezTo>
                  <a:pt x="2385477" y="12664"/>
                  <a:pt x="2385552" y="13089"/>
                  <a:pt x="2385540" y="13602"/>
                </a:cubicBezTo>
                <a:cubicBezTo>
                  <a:pt x="2385511" y="14181"/>
                  <a:pt x="2385319" y="15373"/>
                  <a:pt x="2384965" y="17177"/>
                </a:cubicBezTo>
                <a:cubicBezTo>
                  <a:pt x="2384611" y="18982"/>
                  <a:pt x="2384269" y="22124"/>
                  <a:pt x="2383940" y="26604"/>
                </a:cubicBezTo>
                <a:cubicBezTo>
                  <a:pt x="2383835" y="27879"/>
                  <a:pt x="2383694" y="30029"/>
                  <a:pt x="2383514" y="33052"/>
                </a:cubicBezTo>
                <a:cubicBezTo>
                  <a:pt x="2383335" y="36076"/>
                  <a:pt x="2383144" y="38321"/>
                  <a:pt x="2382939" y="39787"/>
                </a:cubicBezTo>
                <a:cubicBezTo>
                  <a:pt x="2382857" y="40317"/>
                  <a:pt x="2382675" y="40809"/>
                  <a:pt x="2382393" y="41263"/>
                </a:cubicBezTo>
                <a:cubicBezTo>
                  <a:pt x="2382112" y="41718"/>
                  <a:pt x="2381631" y="41959"/>
                  <a:pt x="2380952" y="41989"/>
                </a:cubicBezTo>
                <a:cubicBezTo>
                  <a:pt x="2380269" y="41984"/>
                  <a:pt x="2379797" y="41743"/>
                  <a:pt x="2379537" y="41263"/>
                </a:cubicBezTo>
                <a:cubicBezTo>
                  <a:pt x="2379276" y="40784"/>
                  <a:pt x="2379152" y="40092"/>
                  <a:pt x="2379164" y="39187"/>
                </a:cubicBezTo>
                <a:cubicBezTo>
                  <a:pt x="2379177" y="38424"/>
                  <a:pt x="2379102" y="37348"/>
                  <a:pt x="2378939" y="35960"/>
                </a:cubicBezTo>
                <a:cubicBezTo>
                  <a:pt x="2378776" y="34572"/>
                  <a:pt x="2378451" y="33246"/>
                  <a:pt x="2377963" y="31983"/>
                </a:cubicBezTo>
                <a:cubicBezTo>
                  <a:pt x="2377417" y="30182"/>
                  <a:pt x="2376258" y="28681"/>
                  <a:pt x="2374486" y="27480"/>
                </a:cubicBezTo>
                <a:cubicBezTo>
                  <a:pt x="2372714" y="26279"/>
                  <a:pt x="2369403" y="25379"/>
                  <a:pt x="2364554" y="24779"/>
                </a:cubicBezTo>
                <a:cubicBezTo>
                  <a:pt x="2363206" y="24643"/>
                  <a:pt x="2360543" y="24514"/>
                  <a:pt x="2356563" y="24393"/>
                </a:cubicBezTo>
                <a:cubicBezTo>
                  <a:pt x="2352584" y="24272"/>
                  <a:pt x="2348571" y="24173"/>
                  <a:pt x="2344525" y="24097"/>
                </a:cubicBezTo>
                <a:cubicBezTo>
                  <a:pt x="2340479" y="24020"/>
                  <a:pt x="2337682" y="23981"/>
                  <a:pt x="2336134" y="23978"/>
                </a:cubicBezTo>
                <a:cubicBezTo>
                  <a:pt x="2335638" y="23974"/>
                  <a:pt x="2335280" y="24132"/>
                  <a:pt x="2335059" y="24453"/>
                </a:cubicBezTo>
                <a:cubicBezTo>
                  <a:pt x="2334838" y="24774"/>
                  <a:pt x="2334729" y="25283"/>
                  <a:pt x="2334733" y="25979"/>
                </a:cubicBezTo>
                <a:lnTo>
                  <a:pt x="2334733" y="76609"/>
                </a:lnTo>
                <a:cubicBezTo>
                  <a:pt x="2334717" y="77313"/>
                  <a:pt x="2334800" y="77855"/>
                  <a:pt x="2334984" y="78235"/>
                </a:cubicBezTo>
                <a:cubicBezTo>
                  <a:pt x="2335167" y="78614"/>
                  <a:pt x="2335551" y="78806"/>
                  <a:pt x="2336134" y="78810"/>
                </a:cubicBezTo>
                <a:cubicBezTo>
                  <a:pt x="2337831" y="78813"/>
                  <a:pt x="2340909" y="78808"/>
                  <a:pt x="2345371" y="78795"/>
                </a:cubicBezTo>
                <a:cubicBezTo>
                  <a:pt x="2349832" y="78783"/>
                  <a:pt x="2354305" y="78748"/>
                  <a:pt x="2358788" y="78691"/>
                </a:cubicBezTo>
                <a:cubicBezTo>
                  <a:pt x="2363272" y="78635"/>
                  <a:pt x="2366395" y="78541"/>
                  <a:pt x="2368158" y="78410"/>
                </a:cubicBezTo>
                <a:cubicBezTo>
                  <a:pt x="2370547" y="78235"/>
                  <a:pt x="2372523" y="77935"/>
                  <a:pt x="2374085" y="77509"/>
                </a:cubicBezTo>
                <a:cubicBezTo>
                  <a:pt x="2375646" y="77084"/>
                  <a:pt x="2376869" y="76384"/>
                  <a:pt x="2377751" y="75408"/>
                </a:cubicBezTo>
                <a:cubicBezTo>
                  <a:pt x="2378431" y="74599"/>
                  <a:pt x="2379011" y="73966"/>
                  <a:pt x="2379492" y="73507"/>
                </a:cubicBezTo>
                <a:cubicBezTo>
                  <a:pt x="2379974" y="73048"/>
                  <a:pt x="2380456" y="72815"/>
                  <a:pt x="2380939" y="72807"/>
                </a:cubicBezTo>
                <a:cubicBezTo>
                  <a:pt x="2381347" y="72798"/>
                  <a:pt x="2381681" y="72915"/>
                  <a:pt x="2381939" y="73157"/>
                </a:cubicBezTo>
                <a:cubicBezTo>
                  <a:pt x="2382198" y="73399"/>
                  <a:pt x="2382331" y="73816"/>
                  <a:pt x="2382339" y="74408"/>
                </a:cubicBezTo>
                <a:cubicBezTo>
                  <a:pt x="2382323" y="74904"/>
                  <a:pt x="2382156" y="76212"/>
                  <a:pt x="2381839" y="78331"/>
                </a:cubicBezTo>
                <a:cubicBezTo>
                  <a:pt x="2381523" y="80450"/>
                  <a:pt x="2381156" y="84002"/>
                  <a:pt x="2380739" y="88986"/>
                </a:cubicBezTo>
                <a:cubicBezTo>
                  <a:pt x="2380618" y="91208"/>
                  <a:pt x="2380460" y="93768"/>
                  <a:pt x="2380264" y="96665"/>
                </a:cubicBezTo>
                <a:cubicBezTo>
                  <a:pt x="2380068" y="99563"/>
                  <a:pt x="2379960" y="101472"/>
                  <a:pt x="2379939" y="102393"/>
                </a:cubicBezTo>
                <a:cubicBezTo>
                  <a:pt x="2379976" y="103252"/>
                  <a:pt x="2379902" y="104086"/>
                  <a:pt x="2379715" y="104894"/>
                </a:cubicBezTo>
                <a:cubicBezTo>
                  <a:pt x="2379529" y="105703"/>
                  <a:pt x="2379007" y="106137"/>
                  <a:pt x="2378149" y="106195"/>
                </a:cubicBezTo>
                <a:cubicBezTo>
                  <a:pt x="2377466" y="106183"/>
                  <a:pt x="2376993" y="106008"/>
                  <a:pt x="2376732" y="105670"/>
                </a:cubicBezTo>
                <a:cubicBezTo>
                  <a:pt x="2376471" y="105332"/>
                  <a:pt x="2376347" y="104907"/>
                  <a:pt x="2376359" y="104394"/>
                </a:cubicBezTo>
                <a:cubicBezTo>
                  <a:pt x="2376276" y="103381"/>
                  <a:pt x="2376193" y="102256"/>
                  <a:pt x="2376111" y="101018"/>
                </a:cubicBezTo>
                <a:cubicBezTo>
                  <a:pt x="2376028" y="99779"/>
                  <a:pt x="2375845" y="98504"/>
                  <a:pt x="2375563" y="97191"/>
                </a:cubicBezTo>
                <a:cubicBezTo>
                  <a:pt x="2375121" y="95165"/>
                  <a:pt x="2374054" y="93464"/>
                  <a:pt x="2372361" y="92088"/>
                </a:cubicBezTo>
                <a:cubicBezTo>
                  <a:pt x="2370668" y="90712"/>
                  <a:pt x="2368000" y="89812"/>
                  <a:pt x="2364355" y="89387"/>
                </a:cubicBezTo>
                <a:cubicBezTo>
                  <a:pt x="2362896" y="89253"/>
                  <a:pt x="2360232" y="89142"/>
                  <a:pt x="2356364" y="89053"/>
                </a:cubicBezTo>
                <a:cubicBezTo>
                  <a:pt x="2352496" y="88964"/>
                  <a:pt x="2348572" y="88898"/>
                  <a:pt x="2344593" y="88853"/>
                </a:cubicBezTo>
                <a:cubicBezTo>
                  <a:pt x="2340613" y="88809"/>
                  <a:pt x="2337727" y="88786"/>
                  <a:pt x="2335934" y="88786"/>
                </a:cubicBezTo>
                <a:cubicBezTo>
                  <a:pt x="2335447" y="88795"/>
                  <a:pt x="2335121" y="88978"/>
                  <a:pt x="2334959" y="89337"/>
                </a:cubicBezTo>
                <a:cubicBezTo>
                  <a:pt x="2334796" y="89695"/>
                  <a:pt x="2334721" y="90179"/>
                  <a:pt x="2334733" y="90787"/>
                </a:cubicBezTo>
                <a:lnTo>
                  <a:pt x="2334733" y="106595"/>
                </a:lnTo>
                <a:cubicBezTo>
                  <a:pt x="2334730" y="109013"/>
                  <a:pt x="2334715" y="112271"/>
                  <a:pt x="2334689" y="116371"/>
                </a:cubicBezTo>
                <a:cubicBezTo>
                  <a:pt x="2334663" y="120470"/>
                  <a:pt x="2334648" y="124514"/>
                  <a:pt x="2334645" y="128503"/>
                </a:cubicBezTo>
                <a:cubicBezTo>
                  <a:pt x="2334641" y="132491"/>
                  <a:pt x="2334671" y="135527"/>
                  <a:pt x="2334733" y="137611"/>
                </a:cubicBezTo>
                <a:cubicBezTo>
                  <a:pt x="2334633" y="144352"/>
                  <a:pt x="2336134" y="148879"/>
                  <a:pt x="2339237" y="151193"/>
                </a:cubicBezTo>
                <a:cubicBezTo>
                  <a:pt x="2342339" y="153507"/>
                  <a:pt x="2348844" y="154582"/>
                  <a:pt x="2358751" y="154420"/>
                </a:cubicBezTo>
                <a:cubicBezTo>
                  <a:pt x="2361487" y="154470"/>
                  <a:pt x="2364622" y="154370"/>
                  <a:pt x="2368157" y="154119"/>
                </a:cubicBezTo>
                <a:cubicBezTo>
                  <a:pt x="2371691" y="153869"/>
                  <a:pt x="2374823" y="153169"/>
                  <a:pt x="2377552" y="152018"/>
                </a:cubicBezTo>
                <a:cubicBezTo>
                  <a:pt x="2380109" y="150864"/>
                  <a:pt x="2382080" y="149121"/>
                  <a:pt x="2383466" y="146791"/>
                </a:cubicBezTo>
                <a:cubicBezTo>
                  <a:pt x="2384853" y="144460"/>
                  <a:pt x="2385877" y="141267"/>
                  <a:pt x="2386540" y="137211"/>
                </a:cubicBezTo>
                <a:cubicBezTo>
                  <a:pt x="2386719" y="136123"/>
                  <a:pt x="2386961" y="135347"/>
                  <a:pt x="2387265" y="134885"/>
                </a:cubicBezTo>
                <a:cubicBezTo>
                  <a:pt x="2387569" y="134422"/>
                  <a:pt x="2388061" y="134197"/>
                  <a:pt x="2388740" y="134209"/>
                </a:cubicBezTo>
                <a:cubicBezTo>
                  <a:pt x="2389507" y="134234"/>
                  <a:pt x="2389974" y="134585"/>
                  <a:pt x="2390140" y="135260"/>
                </a:cubicBezTo>
                <a:cubicBezTo>
                  <a:pt x="2390307" y="135935"/>
                  <a:pt x="2390374" y="136786"/>
                  <a:pt x="2390340" y="137811"/>
                </a:cubicBezTo>
                <a:cubicBezTo>
                  <a:pt x="2390327" y="139460"/>
                  <a:pt x="2390176" y="141764"/>
                  <a:pt x="2389888" y="144724"/>
                </a:cubicBezTo>
                <a:cubicBezTo>
                  <a:pt x="2389601" y="147684"/>
                  <a:pt x="2389258" y="150610"/>
                  <a:pt x="2388859" y="153502"/>
                </a:cubicBezTo>
                <a:cubicBezTo>
                  <a:pt x="2388460" y="156393"/>
                  <a:pt x="2388087" y="158562"/>
                  <a:pt x="2387740" y="160007"/>
                </a:cubicBezTo>
                <a:cubicBezTo>
                  <a:pt x="2387152" y="162493"/>
                  <a:pt x="2386128" y="164007"/>
                  <a:pt x="2384667" y="164547"/>
                </a:cubicBezTo>
                <a:cubicBezTo>
                  <a:pt x="2383206" y="165088"/>
                  <a:pt x="2380636" y="165304"/>
                  <a:pt x="2376956" y="165196"/>
                </a:cubicBezTo>
                <a:cubicBezTo>
                  <a:pt x="2369488" y="165183"/>
                  <a:pt x="2362919" y="165109"/>
                  <a:pt x="2357249" y="164971"/>
                </a:cubicBezTo>
                <a:cubicBezTo>
                  <a:pt x="2351579" y="164834"/>
                  <a:pt x="2346609" y="164709"/>
                  <a:pt x="2342338" y="164596"/>
                </a:cubicBezTo>
                <a:cubicBezTo>
                  <a:pt x="2338083" y="164396"/>
                  <a:pt x="2334291" y="164246"/>
                  <a:pt x="2330963" y="164146"/>
                </a:cubicBezTo>
                <a:cubicBezTo>
                  <a:pt x="2327636" y="164046"/>
                  <a:pt x="2324496" y="163996"/>
                  <a:pt x="2321545" y="163996"/>
                </a:cubicBezTo>
                <a:cubicBezTo>
                  <a:pt x="2320408" y="163992"/>
                  <a:pt x="2318835" y="164000"/>
                  <a:pt x="2316824" y="164021"/>
                </a:cubicBezTo>
                <a:cubicBezTo>
                  <a:pt x="2314813" y="164042"/>
                  <a:pt x="2312590" y="164101"/>
                  <a:pt x="2310155" y="164199"/>
                </a:cubicBezTo>
                <a:cubicBezTo>
                  <a:pt x="2307817" y="164215"/>
                  <a:pt x="2305442" y="164281"/>
                  <a:pt x="2303029" y="164397"/>
                </a:cubicBezTo>
                <a:cubicBezTo>
                  <a:pt x="2300617" y="164513"/>
                  <a:pt x="2298391" y="164579"/>
                  <a:pt x="2296354" y="164596"/>
                </a:cubicBezTo>
                <a:cubicBezTo>
                  <a:pt x="2293720" y="164629"/>
                  <a:pt x="2292387" y="163967"/>
                  <a:pt x="2292353" y="162609"/>
                </a:cubicBezTo>
                <a:cubicBezTo>
                  <a:pt x="2292336" y="162109"/>
                  <a:pt x="2292570" y="161720"/>
                  <a:pt x="2293053" y="161442"/>
                </a:cubicBezTo>
                <a:cubicBezTo>
                  <a:pt x="2293537" y="161165"/>
                  <a:pt x="2294370" y="161025"/>
                  <a:pt x="2295554" y="161020"/>
                </a:cubicBezTo>
                <a:cubicBezTo>
                  <a:pt x="2297054" y="161013"/>
                  <a:pt x="2298404" y="160928"/>
                  <a:pt x="2299604" y="160767"/>
                </a:cubicBezTo>
                <a:cubicBezTo>
                  <a:pt x="2300804" y="160606"/>
                  <a:pt x="2301854" y="160416"/>
                  <a:pt x="2302755" y="160195"/>
                </a:cubicBezTo>
                <a:cubicBezTo>
                  <a:pt x="2304697" y="159749"/>
                  <a:pt x="2306063" y="158541"/>
                  <a:pt x="2306855" y="156570"/>
                </a:cubicBezTo>
                <a:cubicBezTo>
                  <a:pt x="2307647" y="154599"/>
                  <a:pt x="2308214" y="152140"/>
                  <a:pt x="2308555" y="149194"/>
                </a:cubicBezTo>
                <a:cubicBezTo>
                  <a:pt x="2309035" y="144893"/>
                  <a:pt x="2309326" y="139043"/>
                  <a:pt x="2309430" y="131643"/>
                </a:cubicBezTo>
                <a:cubicBezTo>
                  <a:pt x="2309535" y="124242"/>
                  <a:pt x="2309576" y="115893"/>
                  <a:pt x="2309555" y="106595"/>
                </a:cubicBezTo>
                <a:lnTo>
                  <a:pt x="2309555" y="71409"/>
                </a:lnTo>
                <a:cubicBezTo>
                  <a:pt x="2309558" y="61433"/>
                  <a:pt x="2309553" y="53738"/>
                  <a:pt x="2309540" y="48325"/>
                </a:cubicBezTo>
                <a:cubicBezTo>
                  <a:pt x="2309528" y="42912"/>
                  <a:pt x="2309494" y="38832"/>
                  <a:pt x="2309437" y="36086"/>
                </a:cubicBezTo>
                <a:cubicBezTo>
                  <a:pt x="2309380" y="33340"/>
                  <a:pt x="2309286" y="30979"/>
                  <a:pt x="2309155" y="29004"/>
                </a:cubicBezTo>
                <a:cubicBezTo>
                  <a:pt x="2309035" y="25641"/>
                  <a:pt x="2308376" y="23065"/>
                  <a:pt x="2307180" y="21275"/>
                </a:cubicBezTo>
                <a:cubicBezTo>
                  <a:pt x="2305984" y="19484"/>
                  <a:pt x="2303776" y="18252"/>
                  <a:pt x="2300554" y="17577"/>
                </a:cubicBezTo>
                <a:cubicBezTo>
                  <a:pt x="2299704" y="17377"/>
                  <a:pt x="2298554" y="17227"/>
                  <a:pt x="2297104" y="17127"/>
                </a:cubicBezTo>
                <a:cubicBezTo>
                  <a:pt x="2295654" y="17027"/>
                  <a:pt x="2294203" y="16977"/>
                  <a:pt x="2292753" y="16977"/>
                </a:cubicBezTo>
                <a:cubicBezTo>
                  <a:pt x="2291649" y="16990"/>
                  <a:pt x="2290807" y="16866"/>
                  <a:pt x="2290228" y="16605"/>
                </a:cubicBezTo>
                <a:lnTo>
                  <a:pt x="2289717" y="15779"/>
                </a:lnTo>
                <a:lnTo>
                  <a:pt x="2289221" y="16605"/>
                </a:lnTo>
                <a:cubicBezTo>
                  <a:pt x="2288662" y="16866"/>
                  <a:pt x="2287879" y="16990"/>
                  <a:pt x="2286870" y="16977"/>
                </a:cubicBezTo>
                <a:cubicBezTo>
                  <a:pt x="2285812" y="16927"/>
                  <a:pt x="2284379" y="17027"/>
                  <a:pt x="2282571" y="17277"/>
                </a:cubicBezTo>
                <a:cubicBezTo>
                  <a:pt x="2280762" y="17527"/>
                  <a:pt x="2278929" y="18228"/>
                  <a:pt x="2277071" y="19378"/>
                </a:cubicBezTo>
                <a:cubicBezTo>
                  <a:pt x="2275812" y="20115"/>
                  <a:pt x="2274329" y="21740"/>
                  <a:pt x="2272621" y="24253"/>
                </a:cubicBezTo>
                <a:cubicBezTo>
                  <a:pt x="2270912" y="26766"/>
                  <a:pt x="2268729" y="31142"/>
                  <a:pt x="2266071" y="37380"/>
                </a:cubicBezTo>
                <a:cubicBezTo>
                  <a:pt x="2263519" y="43513"/>
                  <a:pt x="2261090" y="49160"/>
                  <a:pt x="2258782" y="54323"/>
                </a:cubicBezTo>
                <a:cubicBezTo>
                  <a:pt x="2256475" y="59485"/>
                  <a:pt x="2254001" y="64970"/>
                  <a:pt x="2251360" y="70777"/>
                </a:cubicBezTo>
                <a:cubicBezTo>
                  <a:pt x="2248720" y="76584"/>
                  <a:pt x="2245623" y="83520"/>
                  <a:pt x="2242072" y="91587"/>
                </a:cubicBezTo>
                <a:cubicBezTo>
                  <a:pt x="2235639" y="106280"/>
                  <a:pt x="2230155" y="118848"/>
                  <a:pt x="2225622" y="129291"/>
                </a:cubicBezTo>
                <a:cubicBezTo>
                  <a:pt x="2221089" y="139734"/>
                  <a:pt x="2217706" y="147502"/>
                  <a:pt x="2215472" y="152594"/>
                </a:cubicBezTo>
                <a:cubicBezTo>
                  <a:pt x="2212989" y="158287"/>
                  <a:pt x="2211156" y="162204"/>
                  <a:pt x="2209973" y="164346"/>
                </a:cubicBezTo>
                <a:cubicBezTo>
                  <a:pt x="2208789" y="166488"/>
                  <a:pt x="2207556" y="167505"/>
                  <a:pt x="2206273" y="167396"/>
                </a:cubicBezTo>
                <a:cubicBezTo>
                  <a:pt x="2205056" y="167475"/>
                  <a:pt x="2203939" y="166617"/>
                  <a:pt x="2202923" y="164821"/>
                </a:cubicBezTo>
                <a:cubicBezTo>
                  <a:pt x="2201906" y="163025"/>
                  <a:pt x="2200489" y="159816"/>
                  <a:pt x="2198673" y="155195"/>
                </a:cubicBezTo>
                <a:lnTo>
                  <a:pt x="2148274" y="32979"/>
                </a:lnTo>
                <a:cubicBezTo>
                  <a:pt x="2146078" y="27658"/>
                  <a:pt x="2143870" y="23999"/>
                  <a:pt x="2141649" y="22003"/>
                </a:cubicBezTo>
                <a:cubicBezTo>
                  <a:pt x="2139429" y="20007"/>
                  <a:pt x="2136570" y="18598"/>
                  <a:pt x="2133075" y="17777"/>
                </a:cubicBezTo>
                <a:cubicBezTo>
                  <a:pt x="2131537" y="17394"/>
                  <a:pt x="2130062" y="17161"/>
                  <a:pt x="2128650" y="17077"/>
                </a:cubicBezTo>
                <a:cubicBezTo>
                  <a:pt x="2127237" y="16994"/>
                  <a:pt x="2126112" y="16961"/>
                  <a:pt x="2125275" y="16977"/>
                </a:cubicBezTo>
                <a:cubicBezTo>
                  <a:pt x="2124387" y="16977"/>
                  <a:pt x="2123762" y="16828"/>
                  <a:pt x="2123400" y="16530"/>
                </a:cubicBezTo>
                <a:cubicBezTo>
                  <a:pt x="2123037" y="16232"/>
                  <a:pt x="2122862" y="15786"/>
                  <a:pt x="2122875" y="15190"/>
                </a:cubicBezTo>
                <a:cubicBezTo>
                  <a:pt x="2122904" y="14420"/>
                  <a:pt x="2123396" y="13923"/>
                  <a:pt x="2124350" y="13700"/>
                </a:cubicBezTo>
                <a:cubicBezTo>
                  <a:pt x="2125304" y="13476"/>
                  <a:pt x="2126546" y="13377"/>
                  <a:pt x="2128075" y="13402"/>
                </a:cubicBezTo>
                <a:cubicBezTo>
                  <a:pt x="2133483" y="13426"/>
                  <a:pt x="2138766" y="13522"/>
                  <a:pt x="2143924" y="13689"/>
                </a:cubicBezTo>
                <a:cubicBezTo>
                  <a:pt x="2149082" y="13857"/>
                  <a:pt x="2153466" y="13953"/>
                  <a:pt x="2157074" y="13977"/>
                </a:cubicBezTo>
                <a:cubicBezTo>
                  <a:pt x="2159661" y="13953"/>
                  <a:pt x="2163136" y="13857"/>
                  <a:pt x="2167499" y="13689"/>
                </a:cubicBezTo>
                <a:cubicBezTo>
                  <a:pt x="2171861" y="13522"/>
                  <a:pt x="2176586" y="13426"/>
                  <a:pt x="2181673" y="13402"/>
                </a:cubicBezTo>
                <a:cubicBezTo>
                  <a:pt x="2182915" y="13390"/>
                  <a:pt x="2183982" y="13514"/>
                  <a:pt x="2184873" y="13774"/>
                </a:cubicBezTo>
                <a:cubicBezTo>
                  <a:pt x="2185765" y="14035"/>
                  <a:pt x="2186232" y="14507"/>
                  <a:pt x="2186273" y="15190"/>
                </a:cubicBezTo>
                <a:cubicBezTo>
                  <a:pt x="2186261" y="15872"/>
                  <a:pt x="2185986" y="16344"/>
                  <a:pt x="2185448" y="16605"/>
                </a:cubicBezTo>
                <a:cubicBezTo>
                  <a:pt x="2184911" y="16866"/>
                  <a:pt x="2184186" y="16990"/>
                  <a:pt x="2183273" y="16977"/>
                </a:cubicBezTo>
                <a:cubicBezTo>
                  <a:pt x="2181648" y="16961"/>
                  <a:pt x="2180148" y="17044"/>
                  <a:pt x="2178773" y="17227"/>
                </a:cubicBezTo>
                <a:cubicBezTo>
                  <a:pt x="2177398" y="17411"/>
                  <a:pt x="2176298" y="17794"/>
                  <a:pt x="2175473" y="18378"/>
                </a:cubicBezTo>
                <a:cubicBezTo>
                  <a:pt x="2174107" y="19378"/>
                  <a:pt x="2173440" y="20778"/>
                  <a:pt x="2173473" y="22578"/>
                </a:cubicBezTo>
                <a:cubicBezTo>
                  <a:pt x="2173490" y="23907"/>
                  <a:pt x="2173907" y="25899"/>
                  <a:pt x="2174724" y="28554"/>
                </a:cubicBezTo>
                <a:cubicBezTo>
                  <a:pt x="2175540" y="31208"/>
                  <a:pt x="2176657" y="34350"/>
                  <a:pt x="2178073" y="37980"/>
                </a:cubicBezTo>
                <a:lnTo>
                  <a:pt x="2212472" y="128791"/>
                </a:lnTo>
                <a:lnTo>
                  <a:pt x="2213272" y="128791"/>
                </a:lnTo>
                <a:cubicBezTo>
                  <a:pt x="2215523" y="123047"/>
                  <a:pt x="2218559" y="115383"/>
                  <a:pt x="2222381" y="105801"/>
                </a:cubicBezTo>
                <a:cubicBezTo>
                  <a:pt x="2226204" y="96219"/>
                  <a:pt x="2230209" y="86180"/>
                  <a:pt x="2234397" y="75685"/>
                </a:cubicBezTo>
                <a:cubicBezTo>
                  <a:pt x="2238585" y="65190"/>
                  <a:pt x="2242352" y="55701"/>
                  <a:pt x="2245700" y="47219"/>
                </a:cubicBezTo>
                <a:cubicBezTo>
                  <a:pt x="2249047" y="38736"/>
                  <a:pt x="2251371" y="32723"/>
                  <a:pt x="2252671" y="29179"/>
                </a:cubicBezTo>
                <a:cubicBezTo>
                  <a:pt x="2253184" y="27845"/>
                  <a:pt x="2253609" y="26512"/>
                  <a:pt x="2253946" y="25178"/>
                </a:cubicBezTo>
                <a:cubicBezTo>
                  <a:pt x="2254284" y="23845"/>
                  <a:pt x="2254459" y="22711"/>
                  <a:pt x="2254471" y="21778"/>
                </a:cubicBezTo>
                <a:cubicBezTo>
                  <a:pt x="2254475" y="20957"/>
                  <a:pt x="2254267" y="20199"/>
                  <a:pt x="2253846" y="19503"/>
                </a:cubicBezTo>
                <a:cubicBezTo>
                  <a:pt x="2253425" y="18807"/>
                  <a:pt x="2252767" y="18298"/>
                  <a:pt x="2251871" y="17977"/>
                </a:cubicBezTo>
                <a:cubicBezTo>
                  <a:pt x="2250651" y="17586"/>
                  <a:pt x="2249342" y="17319"/>
                  <a:pt x="2247947" y="17177"/>
                </a:cubicBezTo>
                <a:cubicBezTo>
                  <a:pt x="2246551" y="17036"/>
                  <a:pt x="2245192" y="16969"/>
                  <a:pt x="2243871" y="16977"/>
                </a:cubicBezTo>
                <a:cubicBezTo>
                  <a:pt x="2242942" y="16998"/>
                  <a:pt x="2242151" y="16907"/>
                  <a:pt x="2241497" y="16704"/>
                </a:cubicBezTo>
                <a:cubicBezTo>
                  <a:pt x="2240842" y="16501"/>
                  <a:pt x="2240501" y="16063"/>
                  <a:pt x="2240472" y="15388"/>
                </a:cubicBezTo>
                <a:cubicBezTo>
                  <a:pt x="2240468" y="14610"/>
                  <a:pt x="2240926" y="14081"/>
                  <a:pt x="2241847" y="13799"/>
                </a:cubicBezTo>
                <a:cubicBezTo>
                  <a:pt x="2242767" y="13518"/>
                  <a:pt x="2244176" y="13385"/>
                  <a:pt x="2246072" y="13402"/>
                </a:cubicBezTo>
                <a:cubicBezTo>
                  <a:pt x="2251159" y="13426"/>
                  <a:pt x="2255584" y="13522"/>
                  <a:pt x="2259346" y="13689"/>
                </a:cubicBezTo>
                <a:cubicBezTo>
                  <a:pt x="2263109" y="13857"/>
                  <a:pt x="2265684" y="13953"/>
                  <a:pt x="2267071" y="13977"/>
                </a:cubicBezTo>
                <a:cubicBezTo>
                  <a:pt x="2268966" y="13953"/>
                  <a:pt x="2271775" y="13857"/>
                  <a:pt x="2275496" y="13689"/>
                </a:cubicBezTo>
                <a:cubicBezTo>
                  <a:pt x="2279216" y="13522"/>
                  <a:pt x="2282675" y="13426"/>
                  <a:pt x="2285870" y="13402"/>
                </a:cubicBezTo>
                <a:cubicBezTo>
                  <a:pt x="2287183" y="13390"/>
                  <a:pt x="2288208" y="13514"/>
                  <a:pt x="2288945" y="13774"/>
                </a:cubicBezTo>
                <a:lnTo>
                  <a:pt x="2289704" y="14728"/>
                </a:lnTo>
                <a:lnTo>
                  <a:pt x="2290428" y="13774"/>
                </a:lnTo>
                <a:cubicBezTo>
                  <a:pt x="2291149" y="13514"/>
                  <a:pt x="2292257" y="13390"/>
                  <a:pt x="2293753" y="13402"/>
                </a:cubicBezTo>
                <a:cubicBezTo>
                  <a:pt x="2296479" y="13410"/>
                  <a:pt x="2299229" y="13443"/>
                  <a:pt x="2302004" y="13501"/>
                </a:cubicBezTo>
                <a:cubicBezTo>
                  <a:pt x="2304780" y="13559"/>
                  <a:pt x="2307430" y="13593"/>
                  <a:pt x="2309955" y="13602"/>
                </a:cubicBezTo>
                <a:cubicBezTo>
                  <a:pt x="2312578" y="13706"/>
                  <a:pt x="2314976" y="13798"/>
                  <a:pt x="2317149" y="13877"/>
                </a:cubicBezTo>
                <a:cubicBezTo>
                  <a:pt x="2319322" y="13956"/>
                  <a:pt x="2321120" y="13998"/>
                  <a:pt x="2322544" y="14002"/>
                </a:cubicBezTo>
                <a:cubicBezTo>
                  <a:pt x="2324324" y="14003"/>
                  <a:pt x="2327650" y="14001"/>
                  <a:pt x="2332522" y="13999"/>
                </a:cubicBezTo>
                <a:cubicBezTo>
                  <a:pt x="2337394" y="13996"/>
                  <a:pt x="2342728" y="13989"/>
                  <a:pt x="2348524" y="13977"/>
                </a:cubicBezTo>
                <a:cubicBezTo>
                  <a:pt x="2354319" y="13965"/>
                  <a:pt x="2359491" y="13945"/>
                  <a:pt x="2364039" y="13918"/>
                </a:cubicBezTo>
                <a:cubicBezTo>
                  <a:pt x="2368588" y="13890"/>
                  <a:pt x="2371428" y="13851"/>
                  <a:pt x="2372560" y="13802"/>
                </a:cubicBezTo>
                <a:cubicBezTo>
                  <a:pt x="2374482" y="13602"/>
                  <a:pt x="2376190" y="13402"/>
                  <a:pt x="2377685" y="13202"/>
                </a:cubicBezTo>
                <a:cubicBezTo>
                  <a:pt x="2379180" y="13002"/>
                  <a:pt x="2380336" y="12802"/>
                  <a:pt x="2381151" y="12602"/>
                </a:cubicBezTo>
                <a:cubicBezTo>
                  <a:pt x="2381656" y="12481"/>
                  <a:pt x="2382187" y="12323"/>
                  <a:pt x="2382743" y="12127"/>
                </a:cubicBezTo>
                <a:cubicBezTo>
                  <a:pt x="2383299" y="11931"/>
                  <a:pt x="2383831" y="11823"/>
                  <a:pt x="2384340" y="11802"/>
                </a:cubicBezTo>
                <a:close/>
                <a:moveTo>
                  <a:pt x="5986331" y="10602"/>
                </a:moveTo>
                <a:cubicBezTo>
                  <a:pt x="5991039" y="10626"/>
                  <a:pt x="5995848" y="10843"/>
                  <a:pt x="6000757" y="11252"/>
                </a:cubicBezTo>
                <a:cubicBezTo>
                  <a:pt x="6005666" y="11661"/>
                  <a:pt x="6010030" y="12114"/>
                  <a:pt x="6013849" y="12612"/>
                </a:cubicBezTo>
                <a:cubicBezTo>
                  <a:pt x="6017667" y="13109"/>
                  <a:pt x="6020297" y="13503"/>
                  <a:pt x="6021737" y="13794"/>
                </a:cubicBezTo>
                <a:cubicBezTo>
                  <a:pt x="6023943" y="14222"/>
                  <a:pt x="6026525" y="14663"/>
                  <a:pt x="6029480" y="15116"/>
                </a:cubicBezTo>
                <a:cubicBezTo>
                  <a:pt x="6032435" y="15569"/>
                  <a:pt x="6035117" y="15860"/>
                  <a:pt x="6037523" y="15989"/>
                </a:cubicBezTo>
                <a:cubicBezTo>
                  <a:pt x="6038689" y="16089"/>
                  <a:pt x="6039455" y="16338"/>
                  <a:pt x="6039821" y="16737"/>
                </a:cubicBezTo>
                <a:cubicBezTo>
                  <a:pt x="6040187" y="17136"/>
                  <a:pt x="6040354" y="17685"/>
                  <a:pt x="6040321" y="18383"/>
                </a:cubicBezTo>
                <a:cubicBezTo>
                  <a:pt x="6040303" y="19016"/>
                  <a:pt x="6040183" y="20324"/>
                  <a:pt x="6039958" y="22306"/>
                </a:cubicBezTo>
                <a:cubicBezTo>
                  <a:pt x="6039733" y="24289"/>
                  <a:pt x="6039509" y="27540"/>
                  <a:pt x="6039284" y="32058"/>
                </a:cubicBezTo>
                <a:cubicBezTo>
                  <a:pt x="6039060" y="36576"/>
                  <a:pt x="6038939" y="42954"/>
                  <a:pt x="6038922" y="51193"/>
                </a:cubicBezTo>
                <a:cubicBezTo>
                  <a:pt x="6038930" y="52768"/>
                  <a:pt x="6038764" y="53869"/>
                  <a:pt x="6038422" y="54494"/>
                </a:cubicBezTo>
                <a:cubicBezTo>
                  <a:pt x="6038081" y="55120"/>
                  <a:pt x="6037515" y="55420"/>
                  <a:pt x="6036723" y="55395"/>
                </a:cubicBezTo>
                <a:cubicBezTo>
                  <a:pt x="6036041" y="55386"/>
                  <a:pt x="6035558" y="55153"/>
                  <a:pt x="6035275" y="54694"/>
                </a:cubicBezTo>
                <a:cubicBezTo>
                  <a:pt x="6034991" y="54236"/>
                  <a:pt x="6034809" y="53602"/>
                  <a:pt x="6034725" y="52793"/>
                </a:cubicBezTo>
                <a:cubicBezTo>
                  <a:pt x="6034505" y="50438"/>
                  <a:pt x="6033947" y="47795"/>
                  <a:pt x="6033052" y="44864"/>
                </a:cubicBezTo>
                <a:cubicBezTo>
                  <a:pt x="6032157" y="41934"/>
                  <a:pt x="6030450" y="39041"/>
                  <a:pt x="6027931" y="36185"/>
                </a:cubicBezTo>
                <a:cubicBezTo>
                  <a:pt x="6024863" y="32734"/>
                  <a:pt x="6019507" y="29332"/>
                  <a:pt x="6011861" y="25980"/>
                </a:cubicBezTo>
                <a:cubicBezTo>
                  <a:pt x="6004214" y="22629"/>
                  <a:pt x="5994703" y="20828"/>
                  <a:pt x="5983329" y="20578"/>
                </a:cubicBezTo>
                <a:cubicBezTo>
                  <a:pt x="5977739" y="20369"/>
                  <a:pt x="5971511" y="20986"/>
                  <a:pt x="5964647" y="22429"/>
                </a:cubicBezTo>
                <a:cubicBezTo>
                  <a:pt x="5957781" y="23871"/>
                  <a:pt x="5950803" y="27389"/>
                  <a:pt x="5943713" y="32984"/>
                </a:cubicBezTo>
                <a:cubicBezTo>
                  <a:pt x="5938044" y="37603"/>
                  <a:pt x="5933575" y="43872"/>
                  <a:pt x="5930307" y="51793"/>
                </a:cubicBezTo>
                <a:cubicBezTo>
                  <a:pt x="5927039" y="59713"/>
                  <a:pt x="5925372" y="69785"/>
                  <a:pt x="5925305" y="82008"/>
                </a:cubicBezTo>
                <a:cubicBezTo>
                  <a:pt x="5925383" y="96472"/>
                  <a:pt x="5928273" y="109341"/>
                  <a:pt x="5933975" y="120616"/>
                </a:cubicBezTo>
                <a:cubicBezTo>
                  <a:pt x="5939678" y="131891"/>
                  <a:pt x="5947726" y="140777"/>
                  <a:pt x="5958119" y="147275"/>
                </a:cubicBezTo>
                <a:cubicBezTo>
                  <a:pt x="5968511" y="153773"/>
                  <a:pt x="5980783" y="157088"/>
                  <a:pt x="5994933" y="157220"/>
                </a:cubicBezTo>
                <a:cubicBezTo>
                  <a:pt x="5997618" y="157266"/>
                  <a:pt x="6000502" y="157174"/>
                  <a:pt x="6003587" y="156945"/>
                </a:cubicBezTo>
                <a:cubicBezTo>
                  <a:pt x="6006671" y="156715"/>
                  <a:pt x="6009456" y="156073"/>
                  <a:pt x="6011940" y="155019"/>
                </a:cubicBezTo>
                <a:cubicBezTo>
                  <a:pt x="6013412" y="154310"/>
                  <a:pt x="6014421" y="153326"/>
                  <a:pt x="6014967" y="152067"/>
                </a:cubicBezTo>
                <a:cubicBezTo>
                  <a:pt x="6015513" y="150808"/>
                  <a:pt x="6015771" y="149324"/>
                  <a:pt x="6015742" y="147615"/>
                </a:cubicBezTo>
                <a:lnTo>
                  <a:pt x="6015742" y="128805"/>
                </a:lnTo>
                <a:cubicBezTo>
                  <a:pt x="6015746" y="123819"/>
                  <a:pt x="6015738" y="119383"/>
                  <a:pt x="6015717" y="115498"/>
                </a:cubicBezTo>
                <a:cubicBezTo>
                  <a:pt x="6015696" y="111613"/>
                  <a:pt x="6015638" y="108178"/>
                  <a:pt x="6015541" y="105193"/>
                </a:cubicBezTo>
                <a:cubicBezTo>
                  <a:pt x="6015509" y="101829"/>
                  <a:pt x="6014875" y="99252"/>
                  <a:pt x="6013641" y="97464"/>
                </a:cubicBezTo>
                <a:cubicBezTo>
                  <a:pt x="6012407" y="95675"/>
                  <a:pt x="6010173" y="94450"/>
                  <a:pt x="6006939" y="93787"/>
                </a:cubicBezTo>
                <a:cubicBezTo>
                  <a:pt x="6006088" y="93587"/>
                  <a:pt x="6004937" y="93437"/>
                  <a:pt x="6003487" y="93337"/>
                </a:cubicBezTo>
                <a:cubicBezTo>
                  <a:pt x="6002037" y="93237"/>
                  <a:pt x="6000586" y="93187"/>
                  <a:pt x="5999135" y="93187"/>
                </a:cubicBezTo>
                <a:cubicBezTo>
                  <a:pt x="5998222" y="93195"/>
                  <a:pt x="5997497" y="93079"/>
                  <a:pt x="5996959" y="92839"/>
                </a:cubicBezTo>
                <a:cubicBezTo>
                  <a:pt x="5996421" y="92599"/>
                  <a:pt x="5996146" y="92185"/>
                  <a:pt x="5996134" y="91598"/>
                </a:cubicBezTo>
                <a:cubicBezTo>
                  <a:pt x="5996134" y="90820"/>
                  <a:pt x="5996484" y="90290"/>
                  <a:pt x="5997185" y="90009"/>
                </a:cubicBezTo>
                <a:cubicBezTo>
                  <a:pt x="5997885" y="89727"/>
                  <a:pt x="5998935" y="89595"/>
                  <a:pt x="6000335" y="89611"/>
                </a:cubicBezTo>
                <a:cubicBezTo>
                  <a:pt x="6005721" y="89635"/>
                  <a:pt x="6011105" y="89731"/>
                  <a:pt x="6016486" y="89899"/>
                </a:cubicBezTo>
                <a:cubicBezTo>
                  <a:pt x="6021869" y="90067"/>
                  <a:pt x="6026149" y="90163"/>
                  <a:pt x="6029330" y="90187"/>
                </a:cubicBezTo>
                <a:cubicBezTo>
                  <a:pt x="6032603" y="90163"/>
                  <a:pt x="6036450" y="90067"/>
                  <a:pt x="6040873" y="89899"/>
                </a:cubicBezTo>
                <a:cubicBezTo>
                  <a:pt x="6045297" y="89731"/>
                  <a:pt x="6049247" y="89635"/>
                  <a:pt x="6052721" y="89611"/>
                </a:cubicBezTo>
                <a:cubicBezTo>
                  <a:pt x="6054025" y="89595"/>
                  <a:pt x="6055017" y="89727"/>
                  <a:pt x="6055697" y="90009"/>
                </a:cubicBezTo>
                <a:cubicBezTo>
                  <a:pt x="6056376" y="90290"/>
                  <a:pt x="6056718" y="90820"/>
                  <a:pt x="6056722" y="91598"/>
                </a:cubicBezTo>
                <a:cubicBezTo>
                  <a:pt x="6056701" y="92185"/>
                  <a:pt x="6056443" y="92599"/>
                  <a:pt x="6055947" y="92839"/>
                </a:cubicBezTo>
                <a:cubicBezTo>
                  <a:pt x="6055451" y="93079"/>
                  <a:pt x="6054843" y="93195"/>
                  <a:pt x="6054121" y="93187"/>
                </a:cubicBezTo>
                <a:cubicBezTo>
                  <a:pt x="6053347" y="93187"/>
                  <a:pt x="6052547" y="93237"/>
                  <a:pt x="6051722" y="93337"/>
                </a:cubicBezTo>
                <a:cubicBezTo>
                  <a:pt x="6050896" y="93437"/>
                  <a:pt x="6049897" y="93587"/>
                  <a:pt x="6048721" y="93787"/>
                </a:cubicBezTo>
                <a:cubicBezTo>
                  <a:pt x="6046054" y="94262"/>
                  <a:pt x="6044137" y="95413"/>
                  <a:pt x="6042971" y="97239"/>
                </a:cubicBezTo>
                <a:cubicBezTo>
                  <a:pt x="6041803" y="99065"/>
                  <a:pt x="6041187" y="101716"/>
                  <a:pt x="6041120" y="105193"/>
                </a:cubicBezTo>
                <a:cubicBezTo>
                  <a:pt x="6040953" y="111196"/>
                  <a:pt x="6040887" y="119200"/>
                  <a:pt x="6040920" y="129205"/>
                </a:cubicBezTo>
                <a:lnTo>
                  <a:pt x="6040920" y="151217"/>
                </a:lnTo>
                <a:cubicBezTo>
                  <a:pt x="6040961" y="153793"/>
                  <a:pt x="6040829" y="155494"/>
                  <a:pt x="6040521" y="156319"/>
                </a:cubicBezTo>
                <a:cubicBezTo>
                  <a:pt x="6040212" y="157144"/>
                  <a:pt x="6039479" y="157843"/>
                  <a:pt x="6038322" y="158417"/>
                </a:cubicBezTo>
                <a:cubicBezTo>
                  <a:pt x="6031607" y="161759"/>
                  <a:pt x="6023903" y="164104"/>
                  <a:pt x="6015209" y="165451"/>
                </a:cubicBezTo>
                <a:cubicBezTo>
                  <a:pt x="6006514" y="166798"/>
                  <a:pt x="5998155" y="167446"/>
                  <a:pt x="5990131" y="167396"/>
                </a:cubicBezTo>
                <a:cubicBezTo>
                  <a:pt x="5973559" y="167451"/>
                  <a:pt x="5958311" y="164766"/>
                  <a:pt x="5944388" y="159341"/>
                </a:cubicBezTo>
                <a:cubicBezTo>
                  <a:pt x="5930466" y="153917"/>
                  <a:pt x="5919267" y="145425"/>
                  <a:pt x="5910791" y="133867"/>
                </a:cubicBezTo>
                <a:cubicBezTo>
                  <a:pt x="5902315" y="122309"/>
                  <a:pt x="5897960" y="107357"/>
                  <a:pt x="5897727" y="89011"/>
                </a:cubicBezTo>
                <a:cubicBezTo>
                  <a:pt x="5898039" y="72966"/>
                  <a:pt x="5901562" y="59434"/>
                  <a:pt x="5908295" y="48416"/>
                </a:cubicBezTo>
                <a:cubicBezTo>
                  <a:pt x="5915029" y="37398"/>
                  <a:pt x="5923099" y="29119"/>
                  <a:pt x="5932509" y="23579"/>
                </a:cubicBezTo>
                <a:cubicBezTo>
                  <a:pt x="5942104" y="17972"/>
                  <a:pt x="5951375" y="14361"/>
                  <a:pt x="5960319" y="12748"/>
                </a:cubicBezTo>
                <a:cubicBezTo>
                  <a:pt x="5969265" y="11134"/>
                  <a:pt x="5977935" y="10419"/>
                  <a:pt x="5986331" y="10602"/>
                </a:cubicBezTo>
                <a:close/>
                <a:moveTo>
                  <a:pt x="5627900" y="10602"/>
                </a:moveTo>
                <a:cubicBezTo>
                  <a:pt x="5653062" y="10855"/>
                  <a:pt x="5672756" y="17594"/>
                  <a:pt x="5686980" y="30819"/>
                </a:cubicBezTo>
                <a:cubicBezTo>
                  <a:pt x="5701206" y="44045"/>
                  <a:pt x="5708445" y="62238"/>
                  <a:pt x="5708698" y="85398"/>
                </a:cubicBezTo>
                <a:cubicBezTo>
                  <a:pt x="5708617" y="100833"/>
                  <a:pt x="5705226" y="114707"/>
                  <a:pt x="5698524" y="127018"/>
                </a:cubicBezTo>
                <a:cubicBezTo>
                  <a:pt x="5691823" y="139330"/>
                  <a:pt x="5682299" y="149097"/>
                  <a:pt x="5669951" y="156318"/>
                </a:cubicBezTo>
                <a:cubicBezTo>
                  <a:pt x="5657604" y="163540"/>
                  <a:pt x="5642920" y="167232"/>
                  <a:pt x="5625899" y="167396"/>
                </a:cubicBezTo>
                <a:cubicBezTo>
                  <a:pt x="5606829" y="167084"/>
                  <a:pt x="5591358" y="162932"/>
                  <a:pt x="5579486" y="154940"/>
                </a:cubicBezTo>
                <a:cubicBezTo>
                  <a:pt x="5567614" y="146948"/>
                  <a:pt x="5558932" y="136989"/>
                  <a:pt x="5553439" y="125062"/>
                </a:cubicBezTo>
                <a:cubicBezTo>
                  <a:pt x="5547946" y="113136"/>
                  <a:pt x="5545234" y="101115"/>
                  <a:pt x="5545302" y="88999"/>
                </a:cubicBezTo>
                <a:cubicBezTo>
                  <a:pt x="5545263" y="80305"/>
                  <a:pt x="5546752" y="71411"/>
                  <a:pt x="5549769" y="62317"/>
                </a:cubicBezTo>
                <a:cubicBezTo>
                  <a:pt x="5552785" y="53222"/>
                  <a:pt x="5557560" y="44774"/>
                  <a:pt x="5564095" y="36971"/>
                </a:cubicBezTo>
                <a:cubicBezTo>
                  <a:pt x="5570631" y="29169"/>
                  <a:pt x="5579157" y="22858"/>
                  <a:pt x="5589675" y="18040"/>
                </a:cubicBezTo>
                <a:cubicBezTo>
                  <a:pt x="5600193" y="13222"/>
                  <a:pt x="5612935" y="10743"/>
                  <a:pt x="5627900" y="10602"/>
                </a:cubicBezTo>
                <a:close/>
                <a:moveTo>
                  <a:pt x="5019827" y="10602"/>
                </a:moveTo>
                <a:cubicBezTo>
                  <a:pt x="5020573" y="10677"/>
                  <a:pt x="5021581" y="11027"/>
                  <a:pt x="5022852" y="11652"/>
                </a:cubicBezTo>
                <a:cubicBezTo>
                  <a:pt x="5024123" y="12277"/>
                  <a:pt x="5025982" y="12727"/>
                  <a:pt x="5028428" y="13002"/>
                </a:cubicBezTo>
                <a:cubicBezTo>
                  <a:pt x="5031387" y="13306"/>
                  <a:pt x="5034621" y="13548"/>
                  <a:pt x="5038129" y="13727"/>
                </a:cubicBezTo>
                <a:cubicBezTo>
                  <a:pt x="5041638" y="13906"/>
                  <a:pt x="5045072" y="13998"/>
                  <a:pt x="5048431" y="14002"/>
                </a:cubicBezTo>
                <a:lnTo>
                  <a:pt x="5127633" y="14002"/>
                </a:lnTo>
                <a:cubicBezTo>
                  <a:pt x="5130822" y="13985"/>
                  <a:pt x="5133549" y="13869"/>
                  <a:pt x="5135813" y="13652"/>
                </a:cubicBezTo>
                <a:cubicBezTo>
                  <a:pt x="5138077" y="13435"/>
                  <a:pt x="5139953" y="13219"/>
                  <a:pt x="5141442" y="13002"/>
                </a:cubicBezTo>
                <a:cubicBezTo>
                  <a:pt x="5142927" y="12698"/>
                  <a:pt x="5144100" y="12456"/>
                  <a:pt x="5144959" y="12277"/>
                </a:cubicBezTo>
                <a:cubicBezTo>
                  <a:pt x="5145819" y="12098"/>
                  <a:pt x="5146441" y="12006"/>
                  <a:pt x="5146826" y="12002"/>
                </a:cubicBezTo>
                <a:cubicBezTo>
                  <a:pt x="5147502" y="11989"/>
                  <a:pt x="5147942" y="12314"/>
                  <a:pt x="5148145" y="12977"/>
                </a:cubicBezTo>
                <a:cubicBezTo>
                  <a:pt x="5148348" y="13639"/>
                  <a:pt x="5148439" y="14715"/>
                  <a:pt x="5148418" y="16202"/>
                </a:cubicBezTo>
                <a:cubicBezTo>
                  <a:pt x="5148411" y="17715"/>
                  <a:pt x="5148359" y="19957"/>
                  <a:pt x="5148264" y="22928"/>
                </a:cubicBezTo>
                <a:cubicBezTo>
                  <a:pt x="5148168" y="25900"/>
                  <a:pt x="5148072" y="28925"/>
                  <a:pt x="5147976" y="32005"/>
                </a:cubicBezTo>
                <a:cubicBezTo>
                  <a:pt x="5147880" y="35085"/>
                  <a:pt x="5147829" y="37544"/>
                  <a:pt x="5147821" y="39383"/>
                </a:cubicBezTo>
                <a:cubicBezTo>
                  <a:pt x="5147734" y="40392"/>
                  <a:pt x="5147560" y="41175"/>
                  <a:pt x="5147299" y="41734"/>
                </a:cubicBezTo>
                <a:cubicBezTo>
                  <a:pt x="5147038" y="42292"/>
                  <a:pt x="5146615" y="42576"/>
                  <a:pt x="5146030" y="42584"/>
                </a:cubicBezTo>
                <a:cubicBezTo>
                  <a:pt x="5145255" y="42605"/>
                  <a:pt x="5144716" y="42313"/>
                  <a:pt x="5144414" y="41709"/>
                </a:cubicBezTo>
                <a:cubicBezTo>
                  <a:pt x="5144111" y="41104"/>
                  <a:pt x="5143920" y="40062"/>
                  <a:pt x="5143841" y="38583"/>
                </a:cubicBezTo>
                <a:lnTo>
                  <a:pt x="5143643" y="36382"/>
                </a:lnTo>
                <a:cubicBezTo>
                  <a:pt x="5143597" y="33664"/>
                  <a:pt x="5141837" y="31197"/>
                  <a:pt x="5138364" y="28980"/>
                </a:cubicBezTo>
                <a:cubicBezTo>
                  <a:pt x="5134891" y="26762"/>
                  <a:pt x="5128779" y="25495"/>
                  <a:pt x="5120028" y="25179"/>
                </a:cubicBezTo>
                <a:lnTo>
                  <a:pt x="5094812" y="24579"/>
                </a:lnTo>
                <a:lnTo>
                  <a:pt x="5094812" y="106604"/>
                </a:lnTo>
                <a:cubicBezTo>
                  <a:pt x="5094791" y="115902"/>
                  <a:pt x="5094832" y="124263"/>
                  <a:pt x="5094937" y="131686"/>
                </a:cubicBezTo>
                <a:cubicBezTo>
                  <a:pt x="5095041" y="139109"/>
                  <a:pt x="5095333" y="145020"/>
                  <a:pt x="5095812" y="149417"/>
                </a:cubicBezTo>
                <a:cubicBezTo>
                  <a:pt x="5096025" y="152268"/>
                  <a:pt x="5096650" y="154668"/>
                  <a:pt x="5097688" y="156619"/>
                </a:cubicBezTo>
                <a:cubicBezTo>
                  <a:pt x="5098727" y="158570"/>
                  <a:pt x="5100703" y="159770"/>
                  <a:pt x="5103617" y="160220"/>
                </a:cubicBezTo>
                <a:cubicBezTo>
                  <a:pt x="5105081" y="160429"/>
                  <a:pt x="5106757" y="160612"/>
                  <a:pt x="5108645" y="160770"/>
                </a:cubicBezTo>
                <a:cubicBezTo>
                  <a:pt x="5110534" y="160929"/>
                  <a:pt x="5112260" y="161012"/>
                  <a:pt x="5113823" y="161020"/>
                </a:cubicBezTo>
                <a:cubicBezTo>
                  <a:pt x="5114920" y="161024"/>
                  <a:pt x="5115729" y="161165"/>
                  <a:pt x="5116250" y="161442"/>
                </a:cubicBezTo>
                <a:cubicBezTo>
                  <a:pt x="5116772" y="161720"/>
                  <a:pt x="5117030" y="162109"/>
                  <a:pt x="5117026" y="162609"/>
                </a:cubicBezTo>
                <a:cubicBezTo>
                  <a:pt x="5117005" y="163301"/>
                  <a:pt x="5116647" y="163805"/>
                  <a:pt x="5115950" y="164124"/>
                </a:cubicBezTo>
                <a:cubicBezTo>
                  <a:pt x="5115254" y="164443"/>
                  <a:pt x="5114345" y="164600"/>
                  <a:pt x="5113223" y="164596"/>
                </a:cubicBezTo>
                <a:cubicBezTo>
                  <a:pt x="5106486" y="164572"/>
                  <a:pt x="5100301" y="164476"/>
                  <a:pt x="5094668" y="164308"/>
                </a:cubicBezTo>
                <a:cubicBezTo>
                  <a:pt x="5089035" y="164141"/>
                  <a:pt x="5084754" y="164045"/>
                  <a:pt x="5081823" y="164021"/>
                </a:cubicBezTo>
                <a:cubicBezTo>
                  <a:pt x="5079263" y="164045"/>
                  <a:pt x="5075490" y="164141"/>
                  <a:pt x="5070504" y="164308"/>
                </a:cubicBezTo>
                <a:cubicBezTo>
                  <a:pt x="5065519" y="164476"/>
                  <a:pt x="5060894" y="164572"/>
                  <a:pt x="5056632" y="164596"/>
                </a:cubicBezTo>
                <a:cubicBezTo>
                  <a:pt x="5053998" y="164629"/>
                  <a:pt x="5052664" y="163967"/>
                  <a:pt x="5052631" y="162609"/>
                </a:cubicBezTo>
                <a:cubicBezTo>
                  <a:pt x="5052614" y="162109"/>
                  <a:pt x="5052848" y="161720"/>
                  <a:pt x="5053331" y="161442"/>
                </a:cubicBezTo>
                <a:cubicBezTo>
                  <a:pt x="5053814" y="161165"/>
                  <a:pt x="5054649" y="161025"/>
                  <a:pt x="5055832" y="161020"/>
                </a:cubicBezTo>
                <a:cubicBezTo>
                  <a:pt x="5057332" y="161012"/>
                  <a:pt x="5058682" y="160929"/>
                  <a:pt x="5059882" y="160770"/>
                </a:cubicBezTo>
                <a:cubicBezTo>
                  <a:pt x="5061082" y="160612"/>
                  <a:pt x="5062132" y="160429"/>
                  <a:pt x="5063032" y="160220"/>
                </a:cubicBezTo>
                <a:cubicBezTo>
                  <a:pt x="5064987" y="159774"/>
                  <a:pt x="5066379" y="158565"/>
                  <a:pt x="5067208" y="156594"/>
                </a:cubicBezTo>
                <a:cubicBezTo>
                  <a:pt x="5068037" y="154623"/>
                  <a:pt x="5068579" y="152163"/>
                  <a:pt x="5068833" y="149217"/>
                </a:cubicBezTo>
                <a:cubicBezTo>
                  <a:pt x="5069313" y="144915"/>
                  <a:pt x="5069604" y="139064"/>
                  <a:pt x="5069708" y="131661"/>
                </a:cubicBezTo>
                <a:cubicBezTo>
                  <a:pt x="5069813" y="124259"/>
                  <a:pt x="5069854" y="115906"/>
                  <a:pt x="5069834" y="106604"/>
                </a:cubicBezTo>
                <a:lnTo>
                  <a:pt x="5069834" y="24579"/>
                </a:lnTo>
                <a:lnTo>
                  <a:pt x="5040030" y="25379"/>
                </a:lnTo>
                <a:cubicBezTo>
                  <a:pt x="5034334" y="25520"/>
                  <a:pt x="5030024" y="25987"/>
                  <a:pt x="5027103" y="26779"/>
                </a:cubicBezTo>
                <a:cubicBezTo>
                  <a:pt x="5024182" y="27571"/>
                  <a:pt x="5022023" y="29038"/>
                  <a:pt x="5020627" y="31180"/>
                </a:cubicBezTo>
                <a:cubicBezTo>
                  <a:pt x="5019636" y="32685"/>
                  <a:pt x="5018869" y="34027"/>
                  <a:pt x="5018327" y="35207"/>
                </a:cubicBezTo>
                <a:cubicBezTo>
                  <a:pt x="5017785" y="36386"/>
                  <a:pt x="5017419" y="37378"/>
                  <a:pt x="5017227" y="38183"/>
                </a:cubicBezTo>
                <a:cubicBezTo>
                  <a:pt x="5017035" y="38983"/>
                  <a:pt x="5016768" y="39583"/>
                  <a:pt x="5016426" y="39983"/>
                </a:cubicBezTo>
                <a:cubicBezTo>
                  <a:pt x="5016085" y="40383"/>
                  <a:pt x="5015618" y="40583"/>
                  <a:pt x="5015027" y="40583"/>
                </a:cubicBezTo>
                <a:cubicBezTo>
                  <a:pt x="5014339" y="40587"/>
                  <a:pt x="5013864" y="40329"/>
                  <a:pt x="5013602" y="39808"/>
                </a:cubicBezTo>
                <a:cubicBezTo>
                  <a:pt x="5013339" y="39287"/>
                  <a:pt x="5013214" y="38478"/>
                  <a:pt x="5013226" y="37382"/>
                </a:cubicBezTo>
                <a:cubicBezTo>
                  <a:pt x="5013271" y="36120"/>
                  <a:pt x="5013604" y="33778"/>
                  <a:pt x="5014227" y="30356"/>
                </a:cubicBezTo>
                <a:cubicBezTo>
                  <a:pt x="5014849" y="26934"/>
                  <a:pt x="5015493" y="23601"/>
                  <a:pt x="5016160" y="20358"/>
                </a:cubicBezTo>
                <a:cubicBezTo>
                  <a:pt x="5016827" y="17114"/>
                  <a:pt x="5017249" y="15129"/>
                  <a:pt x="5017427" y="14402"/>
                </a:cubicBezTo>
                <a:cubicBezTo>
                  <a:pt x="5017714" y="13106"/>
                  <a:pt x="5018039" y="12148"/>
                  <a:pt x="5018402" y="11527"/>
                </a:cubicBezTo>
                <a:cubicBezTo>
                  <a:pt x="5018765" y="10906"/>
                  <a:pt x="5019240" y="10597"/>
                  <a:pt x="5019827" y="10602"/>
                </a:cubicBezTo>
                <a:close/>
                <a:moveTo>
                  <a:pt x="4923050" y="10602"/>
                </a:moveTo>
                <a:cubicBezTo>
                  <a:pt x="4948212" y="10855"/>
                  <a:pt x="4967906" y="17594"/>
                  <a:pt x="4982131" y="30819"/>
                </a:cubicBezTo>
                <a:cubicBezTo>
                  <a:pt x="4996356" y="44045"/>
                  <a:pt x="5003595" y="62238"/>
                  <a:pt x="5003848" y="85398"/>
                </a:cubicBezTo>
                <a:cubicBezTo>
                  <a:pt x="5003767" y="100833"/>
                  <a:pt x="5000376" y="114707"/>
                  <a:pt x="4993674" y="127018"/>
                </a:cubicBezTo>
                <a:cubicBezTo>
                  <a:pt x="4986974" y="139330"/>
                  <a:pt x="4977449" y="149097"/>
                  <a:pt x="4965102" y="156318"/>
                </a:cubicBezTo>
                <a:cubicBezTo>
                  <a:pt x="4952754" y="163540"/>
                  <a:pt x="4938070" y="167232"/>
                  <a:pt x="4921050" y="167396"/>
                </a:cubicBezTo>
                <a:cubicBezTo>
                  <a:pt x="4901979" y="167084"/>
                  <a:pt x="4886508" y="162932"/>
                  <a:pt x="4874636" y="154940"/>
                </a:cubicBezTo>
                <a:cubicBezTo>
                  <a:pt x="4862764" y="146948"/>
                  <a:pt x="4854082" y="136989"/>
                  <a:pt x="4848589" y="125062"/>
                </a:cubicBezTo>
                <a:cubicBezTo>
                  <a:pt x="4843096" y="113136"/>
                  <a:pt x="4840384" y="101115"/>
                  <a:pt x="4840452" y="88999"/>
                </a:cubicBezTo>
                <a:cubicBezTo>
                  <a:pt x="4840414" y="80305"/>
                  <a:pt x="4841903" y="71411"/>
                  <a:pt x="4844919" y="62317"/>
                </a:cubicBezTo>
                <a:cubicBezTo>
                  <a:pt x="4847935" y="53222"/>
                  <a:pt x="4852711" y="44774"/>
                  <a:pt x="4859245" y="36971"/>
                </a:cubicBezTo>
                <a:cubicBezTo>
                  <a:pt x="4865780" y="29169"/>
                  <a:pt x="4874308" y="22858"/>
                  <a:pt x="4884826" y="18040"/>
                </a:cubicBezTo>
                <a:cubicBezTo>
                  <a:pt x="4895343" y="13222"/>
                  <a:pt x="4908085" y="10743"/>
                  <a:pt x="4923050" y="10602"/>
                </a:cubicBezTo>
                <a:close/>
                <a:moveTo>
                  <a:pt x="4526373" y="10602"/>
                </a:moveTo>
                <a:cubicBezTo>
                  <a:pt x="4532848" y="10656"/>
                  <a:pt x="4538259" y="11046"/>
                  <a:pt x="4542606" y="11774"/>
                </a:cubicBezTo>
                <a:cubicBezTo>
                  <a:pt x="4546953" y="12501"/>
                  <a:pt x="4550409" y="13241"/>
                  <a:pt x="4552975" y="13993"/>
                </a:cubicBezTo>
                <a:cubicBezTo>
                  <a:pt x="4553874" y="14180"/>
                  <a:pt x="4554563" y="14454"/>
                  <a:pt x="4555040" y="14816"/>
                </a:cubicBezTo>
                <a:cubicBezTo>
                  <a:pt x="4555518" y="15177"/>
                  <a:pt x="4555759" y="15701"/>
                  <a:pt x="4555764" y="16387"/>
                </a:cubicBezTo>
                <a:cubicBezTo>
                  <a:pt x="4555730" y="17546"/>
                  <a:pt x="4555597" y="19919"/>
                  <a:pt x="4555364" y="23506"/>
                </a:cubicBezTo>
                <a:cubicBezTo>
                  <a:pt x="4555130" y="27093"/>
                  <a:pt x="4554997" y="32719"/>
                  <a:pt x="4554963" y="40384"/>
                </a:cubicBezTo>
                <a:cubicBezTo>
                  <a:pt x="4554972" y="42559"/>
                  <a:pt x="4554806" y="44110"/>
                  <a:pt x="4554466" y="45035"/>
                </a:cubicBezTo>
                <a:cubicBezTo>
                  <a:pt x="4554127" y="45961"/>
                  <a:pt x="4553563" y="46411"/>
                  <a:pt x="4552776" y="46386"/>
                </a:cubicBezTo>
                <a:cubicBezTo>
                  <a:pt x="4551417" y="46386"/>
                  <a:pt x="4550755" y="45185"/>
                  <a:pt x="4550788" y="42785"/>
                </a:cubicBezTo>
                <a:cubicBezTo>
                  <a:pt x="4550834" y="41772"/>
                  <a:pt x="4550492" y="39996"/>
                  <a:pt x="4549762" y="37458"/>
                </a:cubicBezTo>
                <a:cubicBezTo>
                  <a:pt x="4549033" y="34920"/>
                  <a:pt x="4547640" y="32294"/>
                  <a:pt x="4545585" y="29580"/>
                </a:cubicBezTo>
                <a:cubicBezTo>
                  <a:pt x="4544175" y="27509"/>
                  <a:pt x="4541791" y="25400"/>
                  <a:pt x="4538431" y="23254"/>
                </a:cubicBezTo>
                <a:cubicBezTo>
                  <a:pt x="4535070" y="21107"/>
                  <a:pt x="4530186" y="19949"/>
                  <a:pt x="4523775" y="19778"/>
                </a:cubicBezTo>
                <a:cubicBezTo>
                  <a:pt x="4516302" y="19886"/>
                  <a:pt x="4510482" y="21820"/>
                  <a:pt x="4506311" y="25579"/>
                </a:cubicBezTo>
                <a:cubicBezTo>
                  <a:pt x="4502142" y="29339"/>
                  <a:pt x="4500023" y="34274"/>
                  <a:pt x="4499957" y="40384"/>
                </a:cubicBezTo>
                <a:cubicBezTo>
                  <a:pt x="4499802" y="44823"/>
                  <a:pt x="4501262" y="49199"/>
                  <a:pt x="4504335" y="53513"/>
                </a:cubicBezTo>
                <a:cubicBezTo>
                  <a:pt x="4507408" y="57827"/>
                  <a:pt x="4513021" y="63053"/>
                  <a:pt x="4521173" y="69193"/>
                </a:cubicBezTo>
                <a:lnTo>
                  <a:pt x="4526777" y="73394"/>
                </a:lnTo>
                <a:cubicBezTo>
                  <a:pt x="4538729" y="82297"/>
                  <a:pt x="4547218" y="90699"/>
                  <a:pt x="4552244" y="98602"/>
                </a:cubicBezTo>
                <a:cubicBezTo>
                  <a:pt x="4557270" y="106504"/>
                  <a:pt x="4559710" y="115107"/>
                  <a:pt x="4559564" y="124410"/>
                </a:cubicBezTo>
                <a:cubicBezTo>
                  <a:pt x="4559681" y="130349"/>
                  <a:pt x="4558349" y="136426"/>
                  <a:pt x="4555568" y="142640"/>
                </a:cubicBezTo>
                <a:cubicBezTo>
                  <a:pt x="4552788" y="148854"/>
                  <a:pt x="4547860" y="154379"/>
                  <a:pt x="4540784" y="159217"/>
                </a:cubicBezTo>
                <a:cubicBezTo>
                  <a:pt x="4535744" y="162350"/>
                  <a:pt x="4530517" y="164512"/>
                  <a:pt x="4525101" y="165700"/>
                </a:cubicBezTo>
                <a:cubicBezTo>
                  <a:pt x="4519685" y="166889"/>
                  <a:pt x="4514307" y="167454"/>
                  <a:pt x="4508968" y="167396"/>
                </a:cubicBezTo>
                <a:cubicBezTo>
                  <a:pt x="4503210" y="167417"/>
                  <a:pt x="4497967" y="167026"/>
                  <a:pt x="4493236" y="166224"/>
                </a:cubicBezTo>
                <a:cubicBezTo>
                  <a:pt x="4488505" y="165422"/>
                  <a:pt x="4484014" y="164084"/>
                  <a:pt x="4479762" y="162209"/>
                </a:cubicBezTo>
                <a:cubicBezTo>
                  <a:pt x="4478210" y="161590"/>
                  <a:pt x="4477182" y="160833"/>
                  <a:pt x="4476675" y="159939"/>
                </a:cubicBezTo>
                <a:cubicBezTo>
                  <a:pt x="4476169" y="159045"/>
                  <a:pt x="4475937" y="157538"/>
                  <a:pt x="4475979" y="155419"/>
                </a:cubicBezTo>
                <a:cubicBezTo>
                  <a:pt x="4476007" y="149713"/>
                  <a:pt x="4476148" y="144370"/>
                  <a:pt x="4476402" y="139389"/>
                </a:cubicBezTo>
                <a:cubicBezTo>
                  <a:pt x="4476655" y="134409"/>
                  <a:pt x="4476845" y="131016"/>
                  <a:pt x="4476974" y="129211"/>
                </a:cubicBezTo>
                <a:cubicBezTo>
                  <a:pt x="4477061" y="127682"/>
                  <a:pt x="4477285" y="126439"/>
                  <a:pt x="4477646" y="125485"/>
                </a:cubicBezTo>
                <a:cubicBezTo>
                  <a:pt x="4478007" y="124531"/>
                  <a:pt x="4478579" y="124039"/>
                  <a:pt x="4479363" y="124010"/>
                </a:cubicBezTo>
                <a:cubicBezTo>
                  <a:pt x="4480230" y="124051"/>
                  <a:pt x="4480786" y="124418"/>
                  <a:pt x="4481031" y="125110"/>
                </a:cubicBezTo>
                <a:cubicBezTo>
                  <a:pt x="4481275" y="125802"/>
                  <a:pt x="4481383" y="126569"/>
                  <a:pt x="4481354" y="127411"/>
                </a:cubicBezTo>
                <a:cubicBezTo>
                  <a:pt x="4481367" y="128761"/>
                  <a:pt x="4481542" y="130362"/>
                  <a:pt x="4481879" y="132212"/>
                </a:cubicBezTo>
                <a:cubicBezTo>
                  <a:pt x="4482217" y="134063"/>
                  <a:pt x="4482642" y="135863"/>
                  <a:pt x="4483155" y="137614"/>
                </a:cubicBezTo>
                <a:cubicBezTo>
                  <a:pt x="4485498" y="144933"/>
                  <a:pt x="4489267" y="150151"/>
                  <a:pt x="4494462" y="153269"/>
                </a:cubicBezTo>
                <a:cubicBezTo>
                  <a:pt x="4499656" y="156386"/>
                  <a:pt x="4505426" y="157903"/>
                  <a:pt x="4511771" y="157820"/>
                </a:cubicBezTo>
                <a:cubicBezTo>
                  <a:pt x="4520768" y="157532"/>
                  <a:pt x="4527489" y="155057"/>
                  <a:pt x="4531933" y="150393"/>
                </a:cubicBezTo>
                <a:cubicBezTo>
                  <a:pt x="4536377" y="145729"/>
                  <a:pt x="4538595" y="140602"/>
                  <a:pt x="4538586" y="135013"/>
                </a:cubicBezTo>
                <a:cubicBezTo>
                  <a:pt x="4538807" y="130203"/>
                  <a:pt x="4537615" y="125268"/>
                  <a:pt x="4535009" y="120208"/>
                </a:cubicBezTo>
                <a:cubicBezTo>
                  <a:pt x="4532404" y="115148"/>
                  <a:pt x="4527059" y="109413"/>
                  <a:pt x="4518975" y="103003"/>
                </a:cubicBezTo>
                <a:lnTo>
                  <a:pt x="4509763" y="95801"/>
                </a:lnTo>
                <a:cubicBezTo>
                  <a:pt x="4498908" y="87311"/>
                  <a:pt x="4491229" y="79283"/>
                  <a:pt x="4486724" y="71718"/>
                </a:cubicBezTo>
                <a:cubicBezTo>
                  <a:pt x="4482219" y="64154"/>
                  <a:pt x="4480037" y="56376"/>
                  <a:pt x="4480179" y="48386"/>
                </a:cubicBezTo>
                <a:cubicBezTo>
                  <a:pt x="4480366" y="37184"/>
                  <a:pt x="4484587" y="28136"/>
                  <a:pt x="4492846" y="21241"/>
                </a:cubicBezTo>
                <a:cubicBezTo>
                  <a:pt x="4501103" y="14347"/>
                  <a:pt x="4512279" y="10801"/>
                  <a:pt x="4526373" y="10602"/>
                </a:cubicBezTo>
                <a:close/>
                <a:moveTo>
                  <a:pt x="3494300" y="10602"/>
                </a:moveTo>
                <a:cubicBezTo>
                  <a:pt x="3519462" y="10855"/>
                  <a:pt x="3539155" y="17594"/>
                  <a:pt x="3553381" y="30819"/>
                </a:cubicBezTo>
                <a:cubicBezTo>
                  <a:pt x="3567606" y="44045"/>
                  <a:pt x="3574845" y="62238"/>
                  <a:pt x="3575098" y="85398"/>
                </a:cubicBezTo>
                <a:cubicBezTo>
                  <a:pt x="3575017" y="100833"/>
                  <a:pt x="3571626" y="114707"/>
                  <a:pt x="3564925" y="127018"/>
                </a:cubicBezTo>
                <a:cubicBezTo>
                  <a:pt x="3558224" y="139330"/>
                  <a:pt x="3548699" y="149097"/>
                  <a:pt x="3536352" y="156318"/>
                </a:cubicBezTo>
                <a:cubicBezTo>
                  <a:pt x="3524004" y="163540"/>
                  <a:pt x="3509320" y="167232"/>
                  <a:pt x="3492300" y="167396"/>
                </a:cubicBezTo>
                <a:cubicBezTo>
                  <a:pt x="3473230" y="167084"/>
                  <a:pt x="3457758" y="162932"/>
                  <a:pt x="3445886" y="154940"/>
                </a:cubicBezTo>
                <a:cubicBezTo>
                  <a:pt x="3434014" y="146948"/>
                  <a:pt x="3425332" y="136989"/>
                  <a:pt x="3419839" y="125062"/>
                </a:cubicBezTo>
                <a:cubicBezTo>
                  <a:pt x="3414347" y="113136"/>
                  <a:pt x="3411634" y="101115"/>
                  <a:pt x="3411703" y="88999"/>
                </a:cubicBezTo>
                <a:cubicBezTo>
                  <a:pt x="3411664" y="80305"/>
                  <a:pt x="3413153" y="71411"/>
                  <a:pt x="3416169" y="62317"/>
                </a:cubicBezTo>
                <a:cubicBezTo>
                  <a:pt x="3419185" y="53222"/>
                  <a:pt x="3423961" y="44774"/>
                  <a:pt x="3430496" y="36971"/>
                </a:cubicBezTo>
                <a:cubicBezTo>
                  <a:pt x="3437031" y="29169"/>
                  <a:pt x="3445557" y="22858"/>
                  <a:pt x="3456076" y="18040"/>
                </a:cubicBezTo>
                <a:cubicBezTo>
                  <a:pt x="3466594" y="13222"/>
                  <a:pt x="3479335" y="10743"/>
                  <a:pt x="3494300" y="10602"/>
                </a:cubicBezTo>
                <a:close/>
                <a:moveTo>
                  <a:pt x="2046500" y="10602"/>
                </a:moveTo>
                <a:cubicBezTo>
                  <a:pt x="2071662" y="10855"/>
                  <a:pt x="2091356" y="17594"/>
                  <a:pt x="2105581" y="30819"/>
                </a:cubicBezTo>
                <a:cubicBezTo>
                  <a:pt x="2119806" y="44045"/>
                  <a:pt x="2127045" y="62238"/>
                  <a:pt x="2127298" y="85398"/>
                </a:cubicBezTo>
                <a:cubicBezTo>
                  <a:pt x="2127217" y="100833"/>
                  <a:pt x="2123826" y="114707"/>
                  <a:pt x="2117125" y="127018"/>
                </a:cubicBezTo>
                <a:cubicBezTo>
                  <a:pt x="2110424" y="139330"/>
                  <a:pt x="2100899" y="149097"/>
                  <a:pt x="2088552" y="156318"/>
                </a:cubicBezTo>
                <a:cubicBezTo>
                  <a:pt x="2076204" y="163540"/>
                  <a:pt x="2061520" y="167232"/>
                  <a:pt x="2044500" y="167396"/>
                </a:cubicBezTo>
                <a:cubicBezTo>
                  <a:pt x="2025430" y="167084"/>
                  <a:pt x="2009959" y="162932"/>
                  <a:pt x="1998086" y="154940"/>
                </a:cubicBezTo>
                <a:cubicBezTo>
                  <a:pt x="1986214" y="146948"/>
                  <a:pt x="1977532" y="136989"/>
                  <a:pt x="1972039" y="125062"/>
                </a:cubicBezTo>
                <a:cubicBezTo>
                  <a:pt x="1966547" y="113136"/>
                  <a:pt x="1963834" y="101115"/>
                  <a:pt x="1963903" y="88999"/>
                </a:cubicBezTo>
                <a:cubicBezTo>
                  <a:pt x="1963864" y="80305"/>
                  <a:pt x="1965353" y="71411"/>
                  <a:pt x="1968369" y="62317"/>
                </a:cubicBezTo>
                <a:cubicBezTo>
                  <a:pt x="1971385" y="53222"/>
                  <a:pt x="1976161" y="44774"/>
                  <a:pt x="1982696" y="36971"/>
                </a:cubicBezTo>
                <a:cubicBezTo>
                  <a:pt x="1989231" y="29169"/>
                  <a:pt x="1997758" y="22858"/>
                  <a:pt x="2008276" y="18040"/>
                </a:cubicBezTo>
                <a:cubicBezTo>
                  <a:pt x="2018794" y="13222"/>
                  <a:pt x="2031535" y="10743"/>
                  <a:pt x="2046500" y="10602"/>
                </a:cubicBezTo>
                <a:close/>
                <a:moveTo>
                  <a:pt x="1716498" y="10602"/>
                </a:moveTo>
                <a:cubicBezTo>
                  <a:pt x="1722973" y="10656"/>
                  <a:pt x="1728384" y="11046"/>
                  <a:pt x="1732731" y="11774"/>
                </a:cubicBezTo>
                <a:cubicBezTo>
                  <a:pt x="1737078" y="12501"/>
                  <a:pt x="1740534" y="13241"/>
                  <a:pt x="1743100" y="13993"/>
                </a:cubicBezTo>
                <a:cubicBezTo>
                  <a:pt x="1743999" y="14180"/>
                  <a:pt x="1744688" y="14454"/>
                  <a:pt x="1745166" y="14816"/>
                </a:cubicBezTo>
                <a:cubicBezTo>
                  <a:pt x="1745643" y="15177"/>
                  <a:pt x="1745884" y="15701"/>
                  <a:pt x="1745889" y="16387"/>
                </a:cubicBezTo>
                <a:cubicBezTo>
                  <a:pt x="1745855" y="17546"/>
                  <a:pt x="1745722" y="19919"/>
                  <a:pt x="1745489" y="23506"/>
                </a:cubicBezTo>
                <a:cubicBezTo>
                  <a:pt x="1745255" y="27093"/>
                  <a:pt x="1745122" y="32719"/>
                  <a:pt x="1745089" y="40384"/>
                </a:cubicBezTo>
                <a:cubicBezTo>
                  <a:pt x="1745097" y="42559"/>
                  <a:pt x="1744931" y="44110"/>
                  <a:pt x="1744591" y="45035"/>
                </a:cubicBezTo>
                <a:cubicBezTo>
                  <a:pt x="1744252" y="45961"/>
                  <a:pt x="1743688" y="46411"/>
                  <a:pt x="1742901" y="46386"/>
                </a:cubicBezTo>
                <a:cubicBezTo>
                  <a:pt x="1741542" y="46386"/>
                  <a:pt x="1740880" y="45185"/>
                  <a:pt x="1740913" y="42785"/>
                </a:cubicBezTo>
                <a:cubicBezTo>
                  <a:pt x="1740959" y="41772"/>
                  <a:pt x="1740617" y="39996"/>
                  <a:pt x="1739887" y="37458"/>
                </a:cubicBezTo>
                <a:cubicBezTo>
                  <a:pt x="1739158" y="34920"/>
                  <a:pt x="1737765" y="32294"/>
                  <a:pt x="1735710" y="29580"/>
                </a:cubicBezTo>
                <a:cubicBezTo>
                  <a:pt x="1734300" y="27509"/>
                  <a:pt x="1731916" y="25400"/>
                  <a:pt x="1728556" y="23254"/>
                </a:cubicBezTo>
                <a:cubicBezTo>
                  <a:pt x="1725196" y="21107"/>
                  <a:pt x="1720310" y="19949"/>
                  <a:pt x="1713900" y="19778"/>
                </a:cubicBezTo>
                <a:cubicBezTo>
                  <a:pt x="1706427" y="19886"/>
                  <a:pt x="1700606" y="21820"/>
                  <a:pt x="1696436" y="25579"/>
                </a:cubicBezTo>
                <a:cubicBezTo>
                  <a:pt x="1692267" y="29339"/>
                  <a:pt x="1690148" y="34274"/>
                  <a:pt x="1690082" y="40384"/>
                </a:cubicBezTo>
                <a:cubicBezTo>
                  <a:pt x="1689927" y="44823"/>
                  <a:pt x="1691387" y="49199"/>
                  <a:pt x="1694460" y="53513"/>
                </a:cubicBezTo>
                <a:cubicBezTo>
                  <a:pt x="1697533" y="57827"/>
                  <a:pt x="1703146" y="63053"/>
                  <a:pt x="1711298" y="69193"/>
                </a:cubicBezTo>
                <a:lnTo>
                  <a:pt x="1716902" y="73394"/>
                </a:lnTo>
                <a:cubicBezTo>
                  <a:pt x="1728854" y="82297"/>
                  <a:pt x="1737343" y="90699"/>
                  <a:pt x="1742369" y="98602"/>
                </a:cubicBezTo>
                <a:cubicBezTo>
                  <a:pt x="1747395" y="106504"/>
                  <a:pt x="1749835" y="115107"/>
                  <a:pt x="1749689" y="124410"/>
                </a:cubicBezTo>
                <a:cubicBezTo>
                  <a:pt x="1749805" y="130349"/>
                  <a:pt x="1748474" y="136426"/>
                  <a:pt x="1745693" y="142640"/>
                </a:cubicBezTo>
                <a:cubicBezTo>
                  <a:pt x="1742913" y="148854"/>
                  <a:pt x="1737985" y="154379"/>
                  <a:pt x="1730909" y="159217"/>
                </a:cubicBezTo>
                <a:cubicBezTo>
                  <a:pt x="1725869" y="162350"/>
                  <a:pt x="1720642" y="164512"/>
                  <a:pt x="1715226" y="165700"/>
                </a:cubicBezTo>
                <a:cubicBezTo>
                  <a:pt x="1709810" y="166889"/>
                  <a:pt x="1704432" y="167454"/>
                  <a:pt x="1699093" y="167396"/>
                </a:cubicBezTo>
                <a:cubicBezTo>
                  <a:pt x="1693336" y="167417"/>
                  <a:pt x="1688092" y="167026"/>
                  <a:pt x="1683361" y="166224"/>
                </a:cubicBezTo>
                <a:cubicBezTo>
                  <a:pt x="1678631" y="165422"/>
                  <a:pt x="1674139" y="164084"/>
                  <a:pt x="1669886" y="162209"/>
                </a:cubicBezTo>
                <a:cubicBezTo>
                  <a:pt x="1668335" y="161590"/>
                  <a:pt x="1667307" y="160833"/>
                  <a:pt x="1666801" y="159939"/>
                </a:cubicBezTo>
                <a:cubicBezTo>
                  <a:pt x="1666294" y="159045"/>
                  <a:pt x="1666062" y="157538"/>
                  <a:pt x="1666104" y="155419"/>
                </a:cubicBezTo>
                <a:cubicBezTo>
                  <a:pt x="1666133" y="149713"/>
                  <a:pt x="1666274" y="144370"/>
                  <a:pt x="1666527" y="139389"/>
                </a:cubicBezTo>
                <a:cubicBezTo>
                  <a:pt x="1666780" y="134409"/>
                  <a:pt x="1666970" y="131016"/>
                  <a:pt x="1667099" y="129211"/>
                </a:cubicBezTo>
                <a:cubicBezTo>
                  <a:pt x="1667186" y="127682"/>
                  <a:pt x="1667410" y="126439"/>
                  <a:pt x="1667771" y="125485"/>
                </a:cubicBezTo>
                <a:cubicBezTo>
                  <a:pt x="1668132" y="124531"/>
                  <a:pt x="1668704" y="124039"/>
                  <a:pt x="1669488" y="124010"/>
                </a:cubicBezTo>
                <a:cubicBezTo>
                  <a:pt x="1670355" y="124051"/>
                  <a:pt x="1670911" y="124418"/>
                  <a:pt x="1671156" y="125110"/>
                </a:cubicBezTo>
                <a:cubicBezTo>
                  <a:pt x="1671400" y="125802"/>
                  <a:pt x="1671508" y="126569"/>
                  <a:pt x="1671479" y="127411"/>
                </a:cubicBezTo>
                <a:cubicBezTo>
                  <a:pt x="1671492" y="128761"/>
                  <a:pt x="1671667" y="130362"/>
                  <a:pt x="1672005" y="132212"/>
                </a:cubicBezTo>
                <a:cubicBezTo>
                  <a:pt x="1672342" y="134063"/>
                  <a:pt x="1672768" y="135863"/>
                  <a:pt x="1673280" y="137614"/>
                </a:cubicBezTo>
                <a:cubicBezTo>
                  <a:pt x="1675623" y="144933"/>
                  <a:pt x="1679392" y="150151"/>
                  <a:pt x="1684587" y="153269"/>
                </a:cubicBezTo>
                <a:cubicBezTo>
                  <a:pt x="1689781" y="156386"/>
                  <a:pt x="1695551" y="157903"/>
                  <a:pt x="1701896" y="157820"/>
                </a:cubicBezTo>
                <a:cubicBezTo>
                  <a:pt x="1710893" y="157532"/>
                  <a:pt x="1717614" y="155057"/>
                  <a:pt x="1722058" y="150393"/>
                </a:cubicBezTo>
                <a:cubicBezTo>
                  <a:pt x="1726502" y="145729"/>
                  <a:pt x="1728720" y="140602"/>
                  <a:pt x="1728711" y="135013"/>
                </a:cubicBezTo>
                <a:cubicBezTo>
                  <a:pt x="1728932" y="130203"/>
                  <a:pt x="1727740" y="125268"/>
                  <a:pt x="1725134" y="120208"/>
                </a:cubicBezTo>
                <a:cubicBezTo>
                  <a:pt x="1722529" y="115148"/>
                  <a:pt x="1717184" y="109413"/>
                  <a:pt x="1709101" y="103003"/>
                </a:cubicBezTo>
                <a:lnTo>
                  <a:pt x="1699887" y="95801"/>
                </a:lnTo>
                <a:cubicBezTo>
                  <a:pt x="1689033" y="87311"/>
                  <a:pt x="1681354" y="79283"/>
                  <a:pt x="1676849" y="71718"/>
                </a:cubicBezTo>
                <a:cubicBezTo>
                  <a:pt x="1672344" y="64154"/>
                  <a:pt x="1670162" y="56376"/>
                  <a:pt x="1670304" y="48386"/>
                </a:cubicBezTo>
                <a:cubicBezTo>
                  <a:pt x="1670491" y="37184"/>
                  <a:pt x="1674713" y="28136"/>
                  <a:pt x="1682970" y="21241"/>
                </a:cubicBezTo>
                <a:cubicBezTo>
                  <a:pt x="1691228" y="14347"/>
                  <a:pt x="1702404" y="10801"/>
                  <a:pt x="1716498" y="10602"/>
                </a:cubicBezTo>
                <a:close/>
                <a:moveTo>
                  <a:pt x="1476528" y="10602"/>
                </a:moveTo>
                <a:cubicBezTo>
                  <a:pt x="1477274" y="10677"/>
                  <a:pt x="1478282" y="11027"/>
                  <a:pt x="1479553" y="11652"/>
                </a:cubicBezTo>
                <a:cubicBezTo>
                  <a:pt x="1480824" y="12277"/>
                  <a:pt x="1482683" y="12727"/>
                  <a:pt x="1485129" y="13002"/>
                </a:cubicBezTo>
                <a:cubicBezTo>
                  <a:pt x="1488087" y="13306"/>
                  <a:pt x="1491321" y="13548"/>
                  <a:pt x="1494830" y="13727"/>
                </a:cubicBezTo>
                <a:cubicBezTo>
                  <a:pt x="1498339" y="13906"/>
                  <a:pt x="1501772" y="13998"/>
                  <a:pt x="1505131" y="14002"/>
                </a:cubicBezTo>
                <a:lnTo>
                  <a:pt x="1584333" y="14002"/>
                </a:lnTo>
                <a:cubicBezTo>
                  <a:pt x="1587523" y="13985"/>
                  <a:pt x="1590249" y="13869"/>
                  <a:pt x="1592513" y="13652"/>
                </a:cubicBezTo>
                <a:cubicBezTo>
                  <a:pt x="1594777" y="13435"/>
                  <a:pt x="1596653" y="13219"/>
                  <a:pt x="1598142" y="13002"/>
                </a:cubicBezTo>
                <a:cubicBezTo>
                  <a:pt x="1599628" y="12698"/>
                  <a:pt x="1600800" y="12456"/>
                  <a:pt x="1601660" y="12277"/>
                </a:cubicBezTo>
                <a:cubicBezTo>
                  <a:pt x="1602519" y="12098"/>
                  <a:pt x="1603141" y="12006"/>
                  <a:pt x="1603527" y="12002"/>
                </a:cubicBezTo>
                <a:cubicBezTo>
                  <a:pt x="1604203" y="11989"/>
                  <a:pt x="1604642" y="12314"/>
                  <a:pt x="1604845" y="12977"/>
                </a:cubicBezTo>
                <a:cubicBezTo>
                  <a:pt x="1605048" y="13639"/>
                  <a:pt x="1605139" y="14715"/>
                  <a:pt x="1605119" y="16202"/>
                </a:cubicBezTo>
                <a:cubicBezTo>
                  <a:pt x="1605111" y="17715"/>
                  <a:pt x="1605060" y="19957"/>
                  <a:pt x="1604964" y="22928"/>
                </a:cubicBezTo>
                <a:cubicBezTo>
                  <a:pt x="1604868" y="25900"/>
                  <a:pt x="1604772" y="28925"/>
                  <a:pt x="1604677" y="32005"/>
                </a:cubicBezTo>
                <a:cubicBezTo>
                  <a:pt x="1604580" y="35085"/>
                  <a:pt x="1604529" y="37544"/>
                  <a:pt x="1604522" y="39383"/>
                </a:cubicBezTo>
                <a:cubicBezTo>
                  <a:pt x="1604435" y="40392"/>
                  <a:pt x="1604261" y="41175"/>
                  <a:pt x="1604000" y="41734"/>
                </a:cubicBezTo>
                <a:cubicBezTo>
                  <a:pt x="1603738" y="42292"/>
                  <a:pt x="1603315" y="42576"/>
                  <a:pt x="1602731" y="42584"/>
                </a:cubicBezTo>
                <a:cubicBezTo>
                  <a:pt x="1601956" y="42605"/>
                  <a:pt x="1601417" y="42313"/>
                  <a:pt x="1601114" y="41709"/>
                </a:cubicBezTo>
                <a:cubicBezTo>
                  <a:pt x="1600812" y="41104"/>
                  <a:pt x="1600621" y="40062"/>
                  <a:pt x="1600542" y="38583"/>
                </a:cubicBezTo>
                <a:lnTo>
                  <a:pt x="1600343" y="36382"/>
                </a:lnTo>
                <a:cubicBezTo>
                  <a:pt x="1600297" y="33664"/>
                  <a:pt x="1598538" y="31197"/>
                  <a:pt x="1595065" y="28980"/>
                </a:cubicBezTo>
                <a:cubicBezTo>
                  <a:pt x="1591592" y="26762"/>
                  <a:pt x="1585479" y="25495"/>
                  <a:pt x="1576728" y="25179"/>
                </a:cubicBezTo>
                <a:lnTo>
                  <a:pt x="1551512" y="24579"/>
                </a:lnTo>
                <a:lnTo>
                  <a:pt x="1551512" y="106604"/>
                </a:lnTo>
                <a:cubicBezTo>
                  <a:pt x="1551491" y="115902"/>
                  <a:pt x="1551533" y="124263"/>
                  <a:pt x="1551637" y="131686"/>
                </a:cubicBezTo>
                <a:cubicBezTo>
                  <a:pt x="1551741" y="139109"/>
                  <a:pt x="1552033" y="145020"/>
                  <a:pt x="1552513" y="149417"/>
                </a:cubicBezTo>
                <a:cubicBezTo>
                  <a:pt x="1552725" y="152268"/>
                  <a:pt x="1553351" y="154668"/>
                  <a:pt x="1554389" y="156619"/>
                </a:cubicBezTo>
                <a:cubicBezTo>
                  <a:pt x="1555427" y="158570"/>
                  <a:pt x="1557403" y="159770"/>
                  <a:pt x="1560317" y="160220"/>
                </a:cubicBezTo>
                <a:cubicBezTo>
                  <a:pt x="1561781" y="160429"/>
                  <a:pt x="1563457" y="160612"/>
                  <a:pt x="1565346" y="160770"/>
                </a:cubicBezTo>
                <a:cubicBezTo>
                  <a:pt x="1567234" y="160929"/>
                  <a:pt x="1568961" y="161012"/>
                  <a:pt x="1570524" y="161020"/>
                </a:cubicBezTo>
                <a:cubicBezTo>
                  <a:pt x="1571621" y="161024"/>
                  <a:pt x="1572430" y="161165"/>
                  <a:pt x="1572951" y="161442"/>
                </a:cubicBezTo>
                <a:cubicBezTo>
                  <a:pt x="1573472" y="161720"/>
                  <a:pt x="1573730" y="162109"/>
                  <a:pt x="1573726" y="162609"/>
                </a:cubicBezTo>
                <a:cubicBezTo>
                  <a:pt x="1573705" y="163301"/>
                  <a:pt x="1573347" y="163805"/>
                  <a:pt x="1572650" y="164124"/>
                </a:cubicBezTo>
                <a:cubicBezTo>
                  <a:pt x="1571954" y="164443"/>
                  <a:pt x="1571045" y="164600"/>
                  <a:pt x="1569924" y="164596"/>
                </a:cubicBezTo>
                <a:cubicBezTo>
                  <a:pt x="1563186" y="164572"/>
                  <a:pt x="1557001" y="164476"/>
                  <a:pt x="1551369" y="164308"/>
                </a:cubicBezTo>
                <a:cubicBezTo>
                  <a:pt x="1545736" y="164141"/>
                  <a:pt x="1541454" y="164045"/>
                  <a:pt x="1538523" y="164021"/>
                </a:cubicBezTo>
                <a:cubicBezTo>
                  <a:pt x="1535963" y="164045"/>
                  <a:pt x="1532190" y="164141"/>
                  <a:pt x="1527205" y="164308"/>
                </a:cubicBezTo>
                <a:cubicBezTo>
                  <a:pt x="1522219" y="164476"/>
                  <a:pt x="1517595" y="164572"/>
                  <a:pt x="1513332" y="164596"/>
                </a:cubicBezTo>
                <a:cubicBezTo>
                  <a:pt x="1510699" y="164629"/>
                  <a:pt x="1509365" y="163967"/>
                  <a:pt x="1509332" y="162609"/>
                </a:cubicBezTo>
                <a:cubicBezTo>
                  <a:pt x="1509315" y="162109"/>
                  <a:pt x="1509548" y="161720"/>
                  <a:pt x="1510032" y="161442"/>
                </a:cubicBezTo>
                <a:cubicBezTo>
                  <a:pt x="1510515" y="161165"/>
                  <a:pt x="1511349" y="161025"/>
                  <a:pt x="1512532" y="161020"/>
                </a:cubicBezTo>
                <a:cubicBezTo>
                  <a:pt x="1514032" y="161012"/>
                  <a:pt x="1515382" y="160929"/>
                  <a:pt x="1516583" y="160770"/>
                </a:cubicBezTo>
                <a:cubicBezTo>
                  <a:pt x="1517783" y="160612"/>
                  <a:pt x="1518833" y="160429"/>
                  <a:pt x="1519733" y="160220"/>
                </a:cubicBezTo>
                <a:cubicBezTo>
                  <a:pt x="1521688" y="159774"/>
                  <a:pt x="1523079" y="158565"/>
                  <a:pt x="1523908" y="156594"/>
                </a:cubicBezTo>
                <a:cubicBezTo>
                  <a:pt x="1524738" y="154623"/>
                  <a:pt x="1525279" y="152163"/>
                  <a:pt x="1525534" y="149217"/>
                </a:cubicBezTo>
                <a:cubicBezTo>
                  <a:pt x="1526013" y="144915"/>
                  <a:pt x="1526305" y="139064"/>
                  <a:pt x="1526409" y="131661"/>
                </a:cubicBezTo>
                <a:cubicBezTo>
                  <a:pt x="1526513" y="124259"/>
                  <a:pt x="1526555" y="115906"/>
                  <a:pt x="1526534" y="106604"/>
                </a:cubicBezTo>
                <a:lnTo>
                  <a:pt x="1526534" y="24579"/>
                </a:lnTo>
                <a:lnTo>
                  <a:pt x="1496730" y="25379"/>
                </a:lnTo>
                <a:cubicBezTo>
                  <a:pt x="1491034" y="25520"/>
                  <a:pt x="1486725" y="25987"/>
                  <a:pt x="1483803" y="26779"/>
                </a:cubicBezTo>
                <a:cubicBezTo>
                  <a:pt x="1480882" y="27571"/>
                  <a:pt x="1478724" y="29038"/>
                  <a:pt x="1477328" y="31180"/>
                </a:cubicBezTo>
                <a:cubicBezTo>
                  <a:pt x="1476336" y="32685"/>
                  <a:pt x="1475569" y="34027"/>
                  <a:pt x="1475027" y="35207"/>
                </a:cubicBezTo>
                <a:cubicBezTo>
                  <a:pt x="1474486" y="36386"/>
                  <a:pt x="1474119" y="37378"/>
                  <a:pt x="1473927" y="38183"/>
                </a:cubicBezTo>
                <a:cubicBezTo>
                  <a:pt x="1473736" y="38983"/>
                  <a:pt x="1473469" y="39583"/>
                  <a:pt x="1473127" y="39983"/>
                </a:cubicBezTo>
                <a:cubicBezTo>
                  <a:pt x="1472785" y="40383"/>
                  <a:pt x="1472319" y="40583"/>
                  <a:pt x="1471727" y="40583"/>
                </a:cubicBezTo>
                <a:cubicBezTo>
                  <a:pt x="1471039" y="40587"/>
                  <a:pt x="1470564" y="40329"/>
                  <a:pt x="1470302" y="39808"/>
                </a:cubicBezTo>
                <a:cubicBezTo>
                  <a:pt x="1470039" y="39287"/>
                  <a:pt x="1469914" y="38478"/>
                  <a:pt x="1469927" y="37382"/>
                </a:cubicBezTo>
                <a:cubicBezTo>
                  <a:pt x="1469971" y="36120"/>
                  <a:pt x="1470305" y="33778"/>
                  <a:pt x="1470927" y="30356"/>
                </a:cubicBezTo>
                <a:cubicBezTo>
                  <a:pt x="1471549" y="26934"/>
                  <a:pt x="1472194" y="23601"/>
                  <a:pt x="1472860" y="20358"/>
                </a:cubicBezTo>
                <a:cubicBezTo>
                  <a:pt x="1473527" y="17114"/>
                  <a:pt x="1473949" y="15129"/>
                  <a:pt x="1474127" y="14402"/>
                </a:cubicBezTo>
                <a:cubicBezTo>
                  <a:pt x="1474415" y="13106"/>
                  <a:pt x="1474740" y="12148"/>
                  <a:pt x="1475102" y="11527"/>
                </a:cubicBezTo>
                <a:cubicBezTo>
                  <a:pt x="1475465" y="10906"/>
                  <a:pt x="1475940" y="10597"/>
                  <a:pt x="1476528" y="10602"/>
                </a:cubicBezTo>
                <a:close/>
                <a:moveTo>
                  <a:pt x="998751" y="10602"/>
                </a:moveTo>
                <a:cubicBezTo>
                  <a:pt x="1023912" y="10855"/>
                  <a:pt x="1043606" y="17594"/>
                  <a:pt x="1057831" y="30819"/>
                </a:cubicBezTo>
                <a:cubicBezTo>
                  <a:pt x="1072056" y="44045"/>
                  <a:pt x="1079295" y="62238"/>
                  <a:pt x="1079548" y="85398"/>
                </a:cubicBezTo>
                <a:cubicBezTo>
                  <a:pt x="1079467" y="100833"/>
                  <a:pt x="1076076" y="114707"/>
                  <a:pt x="1069375" y="127018"/>
                </a:cubicBezTo>
                <a:cubicBezTo>
                  <a:pt x="1062674" y="139330"/>
                  <a:pt x="1053150" y="149097"/>
                  <a:pt x="1040802" y="156318"/>
                </a:cubicBezTo>
                <a:cubicBezTo>
                  <a:pt x="1028454" y="163540"/>
                  <a:pt x="1013770" y="167232"/>
                  <a:pt x="996750" y="167396"/>
                </a:cubicBezTo>
                <a:cubicBezTo>
                  <a:pt x="977680" y="167084"/>
                  <a:pt x="962208" y="162932"/>
                  <a:pt x="950337" y="154940"/>
                </a:cubicBezTo>
                <a:cubicBezTo>
                  <a:pt x="938465" y="146948"/>
                  <a:pt x="929782" y="136989"/>
                  <a:pt x="924289" y="125062"/>
                </a:cubicBezTo>
                <a:cubicBezTo>
                  <a:pt x="918797" y="113136"/>
                  <a:pt x="916085" y="101115"/>
                  <a:pt x="916153" y="88999"/>
                </a:cubicBezTo>
                <a:cubicBezTo>
                  <a:pt x="916114" y="80305"/>
                  <a:pt x="917603" y="71411"/>
                  <a:pt x="920619" y="62317"/>
                </a:cubicBezTo>
                <a:cubicBezTo>
                  <a:pt x="923635" y="53222"/>
                  <a:pt x="928411" y="44774"/>
                  <a:pt x="934946" y="36971"/>
                </a:cubicBezTo>
                <a:cubicBezTo>
                  <a:pt x="941481" y="29169"/>
                  <a:pt x="950008" y="22858"/>
                  <a:pt x="960526" y="18040"/>
                </a:cubicBezTo>
                <a:cubicBezTo>
                  <a:pt x="971044" y="13222"/>
                  <a:pt x="983786" y="10743"/>
                  <a:pt x="998751" y="10602"/>
                </a:cubicBezTo>
                <a:close/>
                <a:moveTo>
                  <a:pt x="236751" y="10602"/>
                </a:moveTo>
                <a:cubicBezTo>
                  <a:pt x="261912" y="10855"/>
                  <a:pt x="281606" y="17594"/>
                  <a:pt x="295831" y="30819"/>
                </a:cubicBezTo>
                <a:cubicBezTo>
                  <a:pt x="310056" y="44045"/>
                  <a:pt x="317295" y="62238"/>
                  <a:pt x="317548" y="85398"/>
                </a:cubicBezTo>
                <a:cubicBezTo>
                  <a:pt x="317467" y="100833"/>
                  <a:pt x="314076" y="114707"/>
                  <a:pt x="307375" y="127018"/>
                </a:cubicBezTo>
                <a:cubicBezTo>
                  <a:pt x="300674" y="139330"/>
                  <a:pt x="291150" y="149097"/>
                  <a:pt x="278802" y="156318"/>
                </a:cubicBezTo>
                <a:cubicBezTo>
                  <a:pt x="266454" y="163540"/>
                  <a:pt x="251770" y="167232"/>
                  <a:pt x="234750" y="167396"/>
                </a:cubicBezTo>
                <a:cubicBezTo>
                  <a:pt x="215680" y="167084"/>
                  <a:pt x="200209" y="162932"/>
                  <a:pt x="188336" y="154940"/>
                </a:cubicBezTo>
                <a:cubicBezTo>
                  <a:pt x="176464" y="146948"/>
                  <a:pt x="167782" y="136989"/>
                  <a:pt x="162289" y="125062"/>
                </a:cubicBezTo>
                <a:cubicBezTo>
                  <a:pt x="156797" y="113136"/>
                  <a:pt x="154084" y="101115"/>
                  <a:pt x="154153" y="88999"/>
                </a:cubicBezTo>
                <a:cubicBezTo>
                  <a:pt x="154114" y="80305"/>
                  <a:pt x="155603" y="71411"/>
                  <a:pt x="158619" y="62317"/>
                </a:cubicBezTo>
                <a:cubicBezTo>
                  <a:pt x="161635" y="53222"/>
                  <a:pt x="166411" y="44774"/>
                  <a:pt x="172946" y="36971"/>
                </a:cubicBezTo>
                <a:cubicBezTo>
                  <a:pt x="179481" y="29169"/>
                  <a:pt x="188008" y="22858"/>
                  <a:pt x="198526" y="18040"/>
                </a:cubicBezTo>
                <a:cubicBezTo>
                  <a:pt x="209044" y="13222"/>
                  <a:pt x="221785" y="10743"/>
                  <a:pt x="236751" y="10602"/>
                </a:cubicBezTo>
                <a:close/>
                <a:moveTo>
                  <a:pt x="5376031" y="10001"/>
                </a:moveTo>
                <a:cubicBezTo>
                  <a:pt x="5377092" y="10035"/>
                  <a:pt x="5378179" y="10618"/>
                  <a:pt x="5379291" y="11752"/>
                </a:cubicBezTo>
                <a:cubicBezTo>
                  <a:pt x="5380403" y="12885"/>
                  <a:pt x="5381790" y="14369"/>
                  <a:pt x="5383453" y="16202"/>
                </a:cubicBezTo>
                <a:cubicBezTo>
                  <a:pt x="5384435" y="17277"/>
                  <a:pt x="5387987" y="21062"/>
                  <a:pt x="5394107" y="27558"/>
                </a:cubicBezTo>
                <a:cubicBezTo>
                  <a:pt x="5400227" y="34055"/>
                  <a:pt x="5407835" y="42016"/>
                  <a:pt x="5416931" y="51444"/>
                </a:cubicBezTo>
                <a:cubicBezTo>
                  <a:pt x="5426026" y="60871"/>
                  <a:pt x="5435528" y="70518"/>
                  <a:pt x="5445438" y="80385"/>
                </a:cubicBezTo>
                <a:cubicBezTo>
                  <a:pt x="5450197" y="85171"/>
                  <a:pt x="5455761" y="90890"/>
                  <a:pt x="5462127" y="97543"/>
                </a:cubicBezTo>
                <a:cubicBezTo>
                  <a:pt x="5468494" y="104196"/>
                  <a:pt x="5474293" y="110271"/>
                  <a:pt x="5479527" y="115767"/>
                </a:cubicBezTo>
                <a:cubicBezTo>
                  <a:pt x="5484761" y="121264"/>
                  <a:pt x="5488058" y="124672"/>
                  <a:pt x="5489419" y="125991"/>
                </a:cubicBezTo>
                <a:lnTo>
                  <a:pt x="5490417" y="125991"/>
                </a:lnTo>
                <a:lnTo>
                  <a:pt x="5488419" y="36180"/>
                </a:lnTo>
                <a:cubicBezTo>
                  <a:pt x="5488349" y="30217"/>
                  <a:pt x="5487791" y="25941"/>
                  <a:pt x="5486745" y="23353"/>
                </a:cubicBezTo>
                <a:cubicBezTo>
                  <a:pt x="5485700" y="20765"/>
                  <a:pt x="5483992" y="19040"/>
                  <a:pt x="5481623" y="18178"/>
                </a:cubicBezTo>
                <a:cubicBezTo>
                  <a:pt x="5480044" y="17602"/>
                  <a:pt x="5478253" y="17252"/>
                  <a:pt x="5476250" y="17127"/>
                </a:cubicBezTo>
                <a:cubicBezTo>
                  <a:pt x="5474246" y="17002"/>
                  <a:pt x="5472505" y="16952"/>
                  <a:pt x="5471027" y="16977"/>
                </a:cubicBezTo>
                <a:cubicBezTo>
                  <a:pt x="5469844" y="16977"/>
                  <a:pt x="5469011" y="16828"/>
                  <a:pt x="5468528" y="16530"/>
                </a:cubicBezTo>
                <a:cubicBezTo>
                  <a:pt x="5468045" y="16232"/>
                  <a:pt x="5467812" y="15786"/>
                  <a:pt x="5467828" y="15190"/>
                </a:cubicBezTo>
                <a:cubicBezTo>
                  <a:pt x="5467858" y="14420"/>
                  <a:pt x="5468349" y="13923"/>
                  <a:pt x="5469302" y="13700"/>
                </a:cubicBezTo>
                <a:cubicBezTo>
                  <a:pt x="5470256" y="13476"/>
                  <a:pt x="5471498" y="13377"/>
                  <a:pt x="5473026" y="13402"/>
                </a:cubicBezTo>
                <a:cubicBezTo>
                  <a:pt x="5478320" y="13426"/>
                  <a:pt x="5483125" y="13522"/>
                  <a:pt x="5487442" y="13689"/>
                </a:cubicBezTo>
                <a:cubicBezTo>
                  <a:pt x="5491759" y="13857"/>
                  <a:pt x="5495013" y="13953"/>
                  <a:pt x="5497205" y="13977"/>
                </a:cubicBezTo>
                <a:cubicBezTo>
                  <a:pt x="5498369" y="13953"/>
                  <a:pt x="5500684" y="13857"/>
                  <a:pt x="5504150" y="13689"/>
                </a:cubicBezTo>
                <a:cubicBezTo>
                  <a:pt x="5507615" y="13522"/>
                  <a:pt x="5511831" y="13426"/>
                  <a:pt x="5516798" y="13402"/>
                </a:cubicBezTo>
                <a:cubicBezTo>
                  <a:pt x="5518127" y="13377"/>
                  <a:pt x="5519219" y="13476"/>
                  <a:pt x="5520073" y="13700"/>
                </a:cubicBezTo>
                <a:cubicBezTo>
                  <a:pt x="5520927" y="13923"/>
                  <a:pt x="5521369" y="14420"/>
                  <a:pt x="5521398" y="15190"/>
                </a:cubicBezTo>
                <a:cubicBezTo>
                  <a:pt x="5521398" y="16381"/>
                  <a:pt x="5520198" y="16977"/>
                  <a:pt x="5517798" y="16977"/>
                </a:cubicBezTo>
                <a:cubicBezTo>
                  <a:pt x="5516823" y="16965"/>
                  <a:pt x="5515872" y="16990"/>
                  <a:pt x="5514947" y="17052"/>
                </a:cubicBezTo>
                <a:cubicBezTo>
                  <a:pt x="5514022" y="17115"/>
                  <a:pt x="5512972" y="17290"/>
                  <a:pt x="5511797" y="17577"/>
                </a:cubicBezTo>
                <a:cubicBezTo>
                  <a:pt x="5509051" y="18286"/>
                  <a:pt x="5507142" y="19919"/>
                  <a:pt x="5506071" y="22478"/>
                </a:cubicBezTo>
                <a:cubicBezTo>
                  <a:pt x="5505000" y="25037"/>
                  <a:pt x="5504442" y="29071"/>
                  <a:pt x="5504396" y="34580"/>
                </a:cubicBezTo>
                <a:lnTo>
                  <a:pt x="5502196" y="160795"/>
                </a:lnTo>
                <a:cubicBezTo>
                  <a:pt x="5502200" y="162979"/>
                  <a:pt x="5501992" y="164562"/>
                  <a:pt x="5501572" y="165546"/>
                </a:cubicBezTo>
                <a:cubicBezTo>
                  <a:pt x="5501152" y="166529"/>
                  <a:pt x="5500495" y="167013"/>
                  <a:pt x="5499600" y="166996"/>
                </a:cubicBezTo>
                <a:cubicBezTo>
                  <a:pt x="5498494" y="166950"/>
                  <a:pt x="5497363" y="166492"/>
                  <a:pt x="5496207" y="165621"/>
                </a:cubicBezTo>
                <a:cubicBezTo>
                  <a:pt x="5495051" y="164750"/>
                  <a:pt x="5493919" y="163742"/>
                  <a:pt x="5492813" y="162596"/>
                </a:cubicBezTo>
                <a:cubicBezTo>
                  <a:pt x="5488506" y="158473"/>
                  <a:pt x="5483085" y="153139"/>
                  <a:pt x="5476549" y="146594"/>
                </a:cubicBezTo>
                <a:cubicBezTo>
                  <a:pt x="5470013" y="140049"/>
                  <a:pt x="5463021" y="133028"/>
                  <a:pt x="5455574" y="125529"/>
                </a:cubicBezTo>
                <a:cubicBezTo>
                  <a:pt x="5448127" y="118030"/>
                  <a:pt x="5440883" y="110788"/>
                  <a:pt x="5433842" y="103804"/>
                </a:cubicBezTo>
                <a:cubicBezTo>
                  <a:pt x="5426462" y="96450"/>
                  <a:pt x="5419389" y="89173"/>
                  <a:pt x="5412622" y="81975"/>
                </a:cubicBezTo>
                <a:cubicBezTo>
                  <a:pt x="5405856" y="74777"/>
                  <a:pt x="5400100" y="68567"/>
                  <a:pt x="5395355" y="63347"/>
                </a:cubicBezTo>
                <a:cubicBezTo>
                  <a:pt x="5390609" y="58127"/>
                  <a:pt x="5387579" y="54808"/>
                  <a:pt x="5386261" y="53389"/>
                </a:cubicBezTo>
                <a:lnTo>
                  <a:pt x="5385659" y="53389"/>
                </a:lnTo>
                <a:lnTo>
                  <a:pt x="5387862" y="137417"/>
                </a:lnTo>
                <a:cubicBezTo>
                  <a:pt x="5388079" y="145081"/>
                  <a:pt x="5388795" y="150557"/>
                  <a:pt x="5390011" y="153844"/>
                </a:cubicBezTo>
                <a:cubicBezTo>
                  <a:pt x="5391227" y="157132"/>
                  <a:pt x="5392843" y="159058"/>
                  <a:pt x="5394859" y="159620"/>
                </a:cubicBezTo>
                <a:cubicBezTo>
                  <a:pt x="5396579" y="160204"/>
                  <a:pt x="5398337" y="160587"/>
                  <a:pt x="5400132" y="160770"/>
                </a:cubicBezTo>
                <a:cubicBezTo>
                  <a:pt x="5401927" y="160954"/>
                  <a:pt x="5403634" y="161037"/>
                  <a:pt x="5405255" y="161020"/>
                </a:cubicBezTo>
                <a:cubicBezTo>
                  <a:pt x="5406359" y="161012"/>
                  <a:pt x="5407200" y="161128"/>
                  <a:pt x="5407779" y="161368"/>
                </a:cubicBezTo>
                <a:cubicBezTo>
                  <a:pt x="5408358" y="161608"/>
                  <a:pt x="5408649" y="162022"/>
                  <a:pt x="5408654" y="162609"/>
                </a:cubicBezTo>
                <a:cubicBezTo>
                  <a:pt x="5408637" y="163387"/>
                  <a:pt x="5408220" y="163917"/>
                  <a:pt x="5407404" y="164199"/>
                </a:cubicBezTo>
                <a:cubicBezTo>
                  <a:pt x="5406588" y="164480"/>
                  <a:pt x="5405471" y="164612"/>
                  <a:pt x="5404055" y="164596"/>
                </a:cubicBezTo>
                <a:cubicBezTo>
                  <a:pt x="5397574" y="164572"/>
                  <a:pt x="5392291" y="164476"/>
                  <a:pt x="5388204" y="164308"/>
                </a:cubicBezTo>
                <a:cubicBezTo>
                  <a:pt x="5384117" y="164141"/>
                  <a:pt x="5381130" y="164045"/>
                  <a:pt x="5379240" y="164021"/>
                </a:cubicBezTo>
                <a:cubicBezTo>
                  <a:pt x="5378200" y="164045"/>
                  <a:pt x="5375671" y="164141"/>
                  <a:pt x="5371654" y="164308"/>
                </a:cubicBezTo>
                <a:cubicBezTo>
                  <a:pt x="5367638" y="164476"/>
                  <a:pt x="5362960" y="164572"/>
                  <a:pt x="5357621" y="164596"/>
                </a:cubicBezTo>
                <a:cubicBezTo>
                  <a:pt x="5356301" y="164625"/>
                  <a:pt x="5355242" y="164517"/>
                  <a:pt x="5354446" y="164273"/>
                </a:cubicBezTo>
                <a:cubicBezTo>
                  <a:pt x="5353650" y="164029"/>
                  <a:pt x="5353242" y="163474"/>
                  <a:pt x="5353221" y="162609"/>
                </a:cubicBezTo>
                <a:cubicBezTo>
                  <a:pt x="5353229" y="162022"/>
                  <a:pt x="5353513" y="161608"/>
                  <a:pt x="5354071" y="161368"/>
                </a:cubicBezTo>
                <a:cubicBezTo>
                  <a:pt x="5354630" y="161128"/>
                  <a:pt x="5355413" y="161012"/>
                  <a:pt x="5356421" y="161020"/>
                </a:cubicBezTo>
                <a:cubicBezTo>
                  <a:pt x="5357759" y="161029"/>
                  <a:pt x="5359234" y="160962"/>
                  <a:pt x="5360847" y="160820"/>
                </a:cubicBezTo>
                <a:cubicBezTo>
                  <a:pt x="5362459" y="160679"/>
                  <a:pt x="5363984" y="160412"/>
                  <a:pt x="5365422" y="160020"/>
                </a:cubicBezTo>
                <a:cubicBezTo>
                  <a:pt x="5367944" y="159374"/>
                  <a:pt x="5369602" y="157216"/>
                  <a:pt x="5370398" y="153544"/>
                </a:cubicBezTo>
                <a:cubicBezTo>
                  <a:pt x="5371194" y="149873"/>
                  <a:pt x="5371602" y="143764"/>
                  <a:pt x="5371623" y="135217"/>
                </a:cubicBezTo>
                <a:lnTo>
                  <a:pt x="5373423" y="16802"/>
                </a:lnTo>
                <a:cubicBezTo>
                  <a:pt x="5373407" y="14769"/>
                  <a:pt x="5373591" y="13135"/>
                  <a:pt x="5373975" y="11902"/>
                </a:cubicBezTo>
                <a:cubicBezTo>
                  <a:pt x="5374359" y="10668"/>
                  <a:pt x="5375045" y="10035"/>
                  <a:pt x="5376031" y="10001"/>
                </a:cubicBezTo>
                <a:close/>
                <a:moveTo>
                  <a:pt x="4671182" y="10001"/>
                </a:moveTo>
                <a:cubicBezTo>
                  <a:pt x="4672243" y="10035"/>
                  <a:pt x="4673329" y="10618"/>
                  <a:pt x="4674441" y="11752"/>
                </a:cubicBezTo>
                <a:cubicBezTo>
                  <a:pt x="4675553" y="12885"/>
                  <a:pt x="4676940" y="14369"/>
                  <a:pt x="4678603" y="16202"/>
                </a:cubicBezTo>
                <a:cubicBezTo>
                  <a:pt x="4679586" y="17277"/>
                  <a:pt x="4683137" y="21062"/>
                  <a:pt x="4689257" y="27558"/>
                </a:cubicBezTo>
                <a:cubicBezTo>
                  <a:pt x="4695377" y="34055"/>
                  <a:pt x="4702985" y="42016"/>
                  <a:pt x="4712081" y="51444"/>
                </a:cubicBezTo>
                <a:cubicBezTo>
                  <a:pt x="4721176" y="60871"/>
                  <a:pt x="4730679" y="70518"/>
                  <a:pt x="4740588" y="80385"/>
                </a:cubicBezTo>
                <a:cubicBezTo>
                  <a:pt x="4745348" y="85171"/>
                  <a:pt x="4750911" y="90890"/>
                  <a:pt x="4757277" y="97543"/>
                </a:cubicBezTo>
                <a:cubicBezTo>
                  <a:pt x="4763643" y="104196"/>
                  <a:pt x="4769444" y="110271"/>
                  <a:pt x="4774677" y="115767"/>
                </a:cubicBezTo>
                <a:cubicBezTo>
                  <a:pt x="4779911" y="121264"/>
                  <a:pt x="4783208" y="124672"/>
                  <a:pt x="4784569" y="125991"/>
                </a:cubicBezTo>
                <a:lnTo>
                  <a:pt x="4785567" y="125991"/>
                </a:lnTo>
                <a:lnTo>
                  <a:pt x="4783570" y="36180"/>
                </a:lnTo>
                <a:cubicBezTo>
                  <a:pt x="4783499" y="30217"/>
                  <a:pt x="4782941" y="25941"/>
                  <a:pt x="4781895" y="23353"/>
                </a:cubicBezTo>
                <a:cubicBezTo>
                  <a:pt x="4780850" y="20765"/>
                  <a:pt x="4779142" y="19040"/>
                  <a:pt x="4776773" y="18178"/>
                </a:cubicBezTo>
                <a:cubicBezTo>
                  <a:pt x="4775194" y="17602"/>
                  <a:pt x="4773403" y="17252"/>
                  <a:pt x="4771400" y="17127"/>
                </a:cubicBezTo>
                <a:cubicBezTo>
                  <a:pt x="4769396" y="17002"/>
                  <a:pt x="4767656" y="16952"/>
                  <a:pt x="4766177" y="16977"/>
                </a:cubicBezTo>
                <a:cubicBezTo>
                  <a:pt x="4764994" y="16977"/>
                  <a:pt x="4764161" y="16828"/>
                  <a:pt x="4763678" y="16530"/>
                </a:cubicBezTo>
                <a:cubicBezTo>
                  <a:pt x="4763195" y="16232"/>
                  <a:pt x="4762962" y="15786"/>
                  <a:pt x="4762979" y="15190"/>
                </a:cubicBezTo>
                <a:cubicBezTo>
                  <a:pt x="4763007" y="14420"/>
                  <a:pt x="4763499" y="13923"/>
                  <a:pt x="4764453" y="13700"/>
                </a:cubicBezTo>
                <a:cubicBezTo>
                  <a:pt x="4765406" y="13476"/>
                  <a:pt x="4766648" y="13377"/>
                  <a:pt x="4768176" y="13402"/>
                </a:cubicBezTo>
                <a:cubicBezTo>
                  <a:pt x="4773470" y="13426"/>
                  <a:pt x="4778275" y="13522"/>
                  <a:pt x="4782592" y="13689"/>
                </a:cubicBezTo>
                <a:cubicBezTo>
                  <a:pt x="4786909" y="13857"/>
                  <a:pt x="4790163" y="13953"/>
                  <a:pt x="4792355" y="13977"/>
                </a:cubicBezTo>
                <a:cubicBezTo>
                  <a:pt x="4793520" y="13953"/>
                  <a:pt x="4795835" y="13857"/>
                  <a:pt x="4799300" y="13689"/>
                </a:cubicBezTo>
                <a:cubicBezTo>
                  <a:pt x="4802765" y="13522"/>
                  <a:pt x="4806981" y="13426"/>
                  <a:pt x="4811948" y="13402"/>
                </a:cubicBezTo>
                <a:cubicBezTo>
                  <a:pt x="4813277" y="13377"/>
                  <a:pt x="4814369" y="13476"/>
                  <a:pt x="4815223" y="13700"/>
                </a:cubicBezTo>
                <a:cubicBezTo>
                  <a:pt x="4816078" y="13923"/>
                  <a:pt x="4816519" y="14420"/>
                  <a:pt x="4816549" y="15190"/>
                </a:cubicBezTo>
                <a:cubicBezTo>
                  <a:pt x="4816549" y="16381"/>
                  <a:pt x="4815348" y="16977"/>
                  <a:pt x="4812948" y="16977"/>
                </a:cubicBezTo>
                <a:cubicBezTo>
                  <a:pt x="4811973" y="16965"/>
                  <a:pt x="4811023" y="16990"/>
                  <a:pt x="4810098" y="17052"/>
                </a:cubicBezTo>
                <a:cubicBezTo>
                  <a:pt x="4809172" y="17115"/>
                  <a:pt x="4808122" y="17290"/>
                  <a:pt x="4806947" y="17577"/>
                </a:cubicBezTo>
                <a:cubicBezTo>
                  <a:pt x="4804201" y="18286"/>
                  <a:pt x="4802292" y="19919"/>
                  <a:pt x="4801222" y="22478"/>
                </a:cubicBezTo>
                <a:cubicBezTo>
                  <a:pt x="4800151" y="25037"/>
                  <a:pt x="4799592" y="29071"/>
                  <a:pt x="4799546" y="34580"/>
                </a:cubicBezTo>
                <a:lnTo>
                  <a:pt x="4797346" y="160795"/>
                </a:lnTo>
                <a:cubicBezTo>
                  <a:pt x="4797350" y="162979"/>
                  <a:pt x="4797142" y="164562"/>
                  <a:pt x="4796722" y="165546"/>
                </a:cubicBezTo>
                <a:cubicBezTo>
                  <a:pt x="4796302" y="166529"/>
                  <a:pt x="4795645" y="167013"/>
                  <a:pt x="4794750" y="166996"/>
                </a:cubicBezTo>
                <a:cubicBezTo>
                  <a:pt x="4793644" y="166950"/>
                  <a:pt x="4792513" y="166492"/>
                  <a:pt x="4791357" y="165621"/>
                </a:cubicBezTo>
                <a:cubicBezTo>
                  <a:pt x="4790201" y="164750"/>
                  <a:pt x="4789069" y="163742"/>
                  <a:pt x="4787963" y="162596"/>
                </a:cubicBezTo>
                <a:cubicBezTo>
                  <a:pt x="4783656" y="158473"/>
                  <a:pt x="4778235" y="153139"/>
                  <a:pt x="4771699" y="146594"/>
                </a:cubicBezTo>
                <a:cubicBezTo>
                  <a:pt x="4765163" y="140049"/>
                  <a:pt x="4758171" y="133028"/>
                  <a:pt x="4750724" y="125529"/>
                </a:cubicBezTo>
                <a:cubicBezTo>
                  <a:pt x="4743277" y="118030"/>
                  <a:pt x="4736033" y="110788"/>
                  <a:pt x="4728993" y="103804"/>
                </a:cubicBezTo>
                <a:cubicBezTo>
                  <a:pt x="4721612" y="96450"/>
                  <a:pt x="4714539" y="89173"/>
                  <a:pt x="4707772" y="81975"/>
                </a:cubicBezTo>
                <a:cubicBezTo>
                  <a:pt x="4701006" y="74777"/>
                  <a:pt x="4695250" y="68567"/>
                  <a:pt x="4690505" y="63347"/>
                </a:cubicBezTo>
                <a:cubicBezTo>
                  <a:pt x="4685760" y="58127"/>
                  <a:pt x="4682729" y="54808"/>
                  <a:pt x="4681411" y="53389"/>
                </a:cubicBezTo>
                <a:lnTo>
                  <a:pt x="4680810" y="53389"/>
                </a:lnTo>
                <a:lnTo>
                  <a:pt x="4683012" y="137417"/>
                </a:lnTo>
                <a:cubicBezTo>
                  <a:pt x="4683229" y="145081"/>
                  <a:pt x="4683945" y="150557"/>
                  <a:pt x="4685162" y="153844"/>
                </a:cubicBezTo>
                <a:cubicBezTo>
                  <a:pt x="4686377" y="157132"/>
                  <a:pt x="4687994" y="159058"/>
                  <a:pt x="4690009" y="159620"/>
                </a:cubicBezTo>
                <a:cubicBezTo>
                  <a:pt x="4691729" y="160204"/>
                  <a:pt x="4693487" y="160587"/>
                  <a:pt x="4695282" y="160770"/>
                </a:cubicBezTo>
                <a:cubicBezTo>
                  <a:pt x="4697077" y="160954"/>
                  <a:pt x="4698785" y="161037"/>
                  <a:pt x="4700405" y="161020"/>
                </a:cubicBezTo>
                <a:cubicBezTo>
                  <a:pt x="4701509" y="161012"/>
                  <a:pt x="4702350" y="161128"/>
                  <a:pt x="4702929" y="161368"/>
                </a:cubicBezTo>
                <a:cubicBezTo>
                  <a:pt x="4703508" y="161608"/>
                  <a:pt x="4703799" y="162022"/>
                  <a:pt x="4703804" y="162609"/>
                </a:cubicBezTo>
                <a:cubicBezTo>
                  <a:pt x="4703787" y="163387"/>
                  <a:pt x="4703370" y="163917"/>
                  <a:pt x="4702554" y="164199"/>
                </a:cubicBezTo>
                <a:cubicBezTo>
                  <a:pt x="4701738" y="164480"/>
                  <a:pt x="4700622" y="164612"/>
                  <a:pt x="4699206" y="164596"/>
                </a:cubicBezTo>
                <a:cubicBezTo>
                  <a:pt x="4692725" y="164572"/>
                  <a:pt x="4687441" y="164476"/>
                  <a:pt x="4683355" y="164308"/>
                </a:cubicBezTo>
                <a:cubicBezTo>
                  <a:pt x="4679268" y="164141"/>
                  <a:pt x="4676280" y="164045"/>
                  <a:pt x="4674391" y="164021"/>
                </a:cubicBezTo>
                <a:cubicBezTo>
                  <a:pt x="4673350" y="164045"/>
                  <a:pt x="4670822" y="164141"/>
                  <a:pt x="4666805" y="164308"/>
                </a:cubicBezTo>
                <a:cubicBezTo>
                  <a:pt x="4662788" y="164476"/>
                  <a:pt x="4658110" y="164572"/>
                  <a:pt x="4652772" y="164596"/>
                </a:cubicBezTo>
                <a:cubicBezTo>
                  <a:pt x="4651451" y="164625"/>
                  <a:pt x="4650392" y="164517"/>
                  <a:pt x="4649597" y="164273"/>
                </a:cubicBezTo>
                <a:cubicBezTo>
                  <a:pt x="4648801" y="164029"/>
                  <a:pt x="4648392" y="163474"/>
                  <a:pt x="4648371" y="162609"/>
                </a:cubicBezTo>
                <a:cubicBezTo>
                  <a:pt x="4648379" y="162022"/>
                  <a:pt x="4648663" y="161608"/>
                  <a:pt x="4649221" y="161368"/>
                </a:cubicBezTo>
                <a:cubicBezTo>
                  <a:pt x="4649780" y="161128"/>
                  <a:pt x="4650563" y="161012"/>
                  <a:pt x="4651572" y="161020"/>
                </a:cubicBezTo>
                <a:cubicBezTo>
                  <a:pt x="4652909" y="161029"/>
                  <a:pt x="4654385" y="160962"/>
                  <a:pt x="4655997" y="160820"/>
                </a:cubicBezTo>
                <a:cubicBezTo>
                  <a:pt x="4657610" y="160679"/>
                  <a:pt x="4659135" y="160412"/>
                  <a:pt x="4660573" y="160020"/>
                </a:cubicBezTo>
                <a:cubicBezTo>
                  <a:pt x="4663094" y="159374"/>
                  <a:pt x="4664753" y="157216"/>
                  <a:pt x="4665548" y="153544"/>
                </a:cubicBezTo>
                <a:cubicBezTo>
                  <a:pt x="4666344" y="149873"/>
                  <a:pt x="4666753" y="143764"/>
                  <a:pt x="4666774" y="135217"/>
                </a:cubicBezTo>
                <a:lnTo>
                  <a:pt x="4668574" y="16802"/>
                </a:lnTo>
                <a:cubicBezTo>
                  <a:pt x="4668557" y="14769"/>
                  <a:pt x="4668741" y="13135"/>
                  <a:pt x="4669125" y="11902"/>
                </a:cubicBezTo>
                <a:cubicBezTo>
                  <a:pt x="4669510" y="10668"/>
                  <a:pt x="4670195" y="10035"/>
                  <a:pt x="4671182" y="10001"/>
                </a:cubicBezTo>
                <a:close/>
                <a:moveTo>
                  <a:pt x="3042406" y="10001"/>
                </a:moveTo>
                <a:cubicBezTo>
                  <a:pt x="3043468" y="10035"/>
                  <a:pt x="3044554" y="10618"/>
                  <a:pt x="3045666" y="11752"/>
                </a:cubicBezTo>
                <a:cubicBezTo>
                  <a:pt x="3046777" y="12885"/>
                  <a:pt x="3048165" y="14369"/>
                  <a:pt x="3049828" y="16202"/>
                </a:cubicBezTo>
                <a:cubicBezTo>
                  <a:pt x="3050811" y="17277"/>
                  <a:pt x="3054362" y="21062"/>
                  <a:pt x="3060482" y="27558"/>
                </a:cubicBezTo>
                <a:cubicBezTo>
                  <a:pt x="3066602" y="34055"/>
                  <a:pt x="3074210" y="42016"/>
                  <a:pt x="3083305" y="51444"/>
                </a:cubicBezTo>
                <a:cubicBezTo>
                  <a:pt x="3092401" y="60871"/>
                  <a:pt x="3101903" y="70518"/>
                  <a:pt x="3111813" y="80385"/>
                </a:cubicBezTo>
                <a:cubicBezTo>
                  <a:pt x="3116573" y="85171"/>
                  <a:pt x="3122136" y="90890"/>
                  <a:pt x="3128502" y="97543"/>
                </a:cubicBezTo>
                <a:cubicBezTo>
                  <a:pt x="3134869" y="104196"/>
                  <a:pt x="3140668" y="110271"/>
                  <a:pt x="3145902" y="115767"/>
                </a:cubicBezTo>
                <a:cubicBezTo>
                  <a:pt x="3151136" y="121264"/>
                  <a:pt x="3154433" y="124672"/>
                  <a:pt x="3155794" y="125991"/>
                </a:cubicBezTo>
                <a:lnTo>
                  <a:pt x="3156793" y="125991"/>
                </a:lnTo>
                <a:lnTo>
                  <a:pt x="3154795" y="36180"/>
                </a:lnTo>
                <a:cubicBezTo>
                  <a:pt x="3154724" y="30217"/>
                  <a:pt x="3154166" y="25941"/>
                  <a:pt x="3153120" y="23353"/>
                </a:cubicBezTo>
                <a:cubicBezTo>
                  <a:pt x="3152075" y="20765"/>
                  <a:pt x="3150367" y="19040"/>
                  <a:pt x="3147997" y="18178"/>
                </a:cubicBezTo>
                <a:cubicBezTo>
                  <a:pt x="3146419" y="17602"/>
                  <a:pt x="3144628" y="17252"/>
                  <a:pt x="3142625" y="17127"/>
                </a:cubicBezTo>
                <a:cubicBezTo>
                  <a:pt x="3140621" y="17002"/>
                  <a:pt x="3138881" y="16952"/>
                  <a:pt x="3137402" y="16977"/>
                </a:cubicBezTo>
                <a:cubicBezTo>
                  <a:pt x="3136219" y="16977"/>
                  <a:pt x="3135386" y="16828"/>
                  <a:pt x="3134903" y="16530"/>
                </a:cubicBezTo>
                <a:cubicBezTo>
                  <a:pt x="3134420" y="16232"/>
                  <a:pt x="3134187" y="15786"/>
                  <a:pt x="3134203" y="15190"/>
                </a:cubicBezTo>
                <a:cubicBezTo>
                  <a:pt x="3134233" y="14420"/>
                  <a:pt x="3134724" y="13923"/>
                  <a:pt x="3135678" y="13700"/>
                </a:cubicBezTo>
                <a:cubicBezTo>
                  <a:pt x="3136632" y="13476"/>
                  <a:pt x="3137873" y="13377"/>
                  <a:pt x="3139401" y="13402"/>
                </a:cubicBezTo>
                <a:cubicBezTo>
                  <a:pt x="3144695" y="13426"/>
                  <a:pt x="3149500" y="13522"/>
                  <a:pt x="3153817" y="13689"/>
                </a:cubicBezTo>
                <a:cubicBezTo>
                  <a:pt x="3158134" y="13857"/>
                  <a:pt x="3161388" y="13953"/>
                  <a:pt x="3163580" y="13977"/>
                </a:cubicBezTo>
                <a:cubicBezTo>
                  <a:pt x="3164745" y="13953"/>
                  <a:pt x="3167059" y="13857"/>
                  <a:pt x="3170525" y="13689"/>
                </a:cubicBezTo>
                <a:cubicBezTo>
                  <a:pt x="3173990" y="13522"/>
                  <a:pt x="3178205" y="13426"/>
                  <a:pt x="3183173" y="13402"/>
                </a:cubicBezTo>
                <a:cubicBezTo>
                  <a:pt x="3184502" y="13377"/>
                  <a:pt x="3185594" y="13476"/>
                  <a:pt x="3186448" y="13700"/>
                </a:cubicBezTo>
                <a:cubicBezTo>
                  <a:pt x="3187302" y="13923"/>
                  <a:pt x="3187744" y="14420"/>
                  <a:pt x="3187773" y="15190"/>
                </a:cubicBezTo>
                <a:cubicBezTo>
                  <a:pt x="3187773" y="16381"/>
                  <a:pt x="3186573" y="16977"/>
                  <a:pt x="3184173" y="16977"/>
                </a:cubicBezTo>
                <a:cubicBezTo>
                  <a:pt x="3183198" y="16965"/>
                  <a:pt x="3182248" y="16990"/>
                  <a:pt x="3181323" y="17052"/>
                </a:cubicBezTo>
                <a:cubicBezTo>
                  <a:pt x="3180397" y="17115"/>
                  <a:pt x="3179347" y="17290"/>
                  <a:pt x="3178172" y="17577"/>
                </a:cubicBezTo>
                <a:cubicBezTo>
                  <a:pt x="3175426" y="18286"/>
                  <a:pt x="3173517" y="19919"/>
                  <a:pt x="3172446" y="22478"/>
                </a:cubicBezTo>
                <a:cubicBezTo>
                  <a:pt x="3171375" y="25037"/>
                  <a:pt x="3170817" y="29071"/>
                  <a:pt x="3170771" y="34580"/>
                </a:cubicBezTo>
                <a:lnTo>
                  <a:pt x="3168571" y="160795"/>
                </a:lnTo>
                <a:cubicBezTo>
                  <a:pt x="3168575" y="162979"/>
                  <a:pt x="3168367" y="164562"/>
                  <a:pt x="3167947" y="165546"/>
                </a:cubicBezTo>
                <a:cubicBezTo>
                  <a:pt x="3167527" y="166529"/>
                  <a:pt x="3166870" y="167013"/>
                  <a:pt x="3165976" y="166996"/>
                </a:cubicBezTo>
                <a:cubicBezTo>
                  <a:pt x="3164869" y="166950"/>
                  <a:pt x="3163738" y="166492"/>
                  <a:pt x="3162582" y="165621"/>
                </a:cubicBezTo>
                <a:cubicBezTo>
                  <a:pt x="3161426" y="164750"/>
                  <a:pt x="3160295" y="163742"/>
                  <a:pt x="3159188" y="162596"/>
                </a:cubicBezTo>
                <a:cubicBezTo>
                  <a:pt x="3154882" y="158473"/>
                  <a:pt x="3149460" y="153139"/>
                  <a:pt x="3142924" y="146594"/>
                </a:cubicBezTo>
                <a:cubicBezTo>
                  <a:pt x="3136388" y="140049"/>
                  <a:pt x="3129396" y="133028"/>
                  <a:pt x="3121949" y="125529"/>
                </a:cubicBezTo>
                <a:cubicBezTo>
                  <a:pt x="3114502" y="118030"/>
                  <a:pt x="3107258" y="110788"/>
                  <a:pt x="3100218" y="103804"/>
                </a:cubicBezTo>
                <a:cubicBezTo>
                  <a:pt x="3092837" y="96450"/>
                  <a:pt x="3085763" y="89173"/>
                  <a:pt x="3078997" y="81975"/>
                </a:cubicBezTo>
                <a:cubicBezTo>
                  <a:pt x="3072231" y="74777"/>
                  <a:pt x="3066475" y="68567"/>
                  <a:pt x="3061730" y="63347"/>
                </a:cubicBezTo>
                <a:cubicBezTo>
                  <a:pt x="3056985" y="58127"/>
                  <a:pt x="3053954" y="54808"/>
                  <a:pt x="3052636" y="53389"/>
                </a:cubicBezTo>
                <a:lnTo>
                  <a:pt x="3052035" y="53389"/>
                </a:lnTo>
                <a:lnTo>
                  <a:pt x="3054237" y="137417"/>
                </a:lnTo>
                <a:cubicBezTo>
                  <a:pt x="3054454" y="145081"/>
                  <a:pt x="3055170" y="150557"/>
                  <a:pt x="3056386" y="153844"/>
                </a:cubicBezTo>
                <a:cubicBezTo>
                  <a:pt x="3057603" y="157132"/>
                  <a:pt x="3059219" y="159058"/>
                  <a:pt x="3061234" y="159620"/>
                </a:cubicBezTo>
                <a:cubicBezTo>
                  <a:pt x="3062954" y="160204"/>
                  <a:pt x="3064712" y="160587"/>
                  <a:pt x="3066507" y="160770"/>
                </a:cubicBezTo>
                <a:cubicBezTo>
                  <a:pt x="3068302" y="160954"/>
                  <a:pt x="3070010" y="161037"/>
                  <a:pt x="3071630" y="161020"/>
                </a:cubicBezTo>
                <a:cubicBezTo>
                  <a:pt x="3072734" y="161012"/>
                  <a:pt x="3073575" y="161128"/>
                  <a:pt x="3074154" y="161368"/>
                </a:cubicBezTo>
                <a:cubicBezTo>
                  <a:pt x="3074733" y="161608"/>
                  <a:pt x="3075024" y="162022"/>
                  <a:pt x="3075028" y="162609"/>
                </a:cubicBezTo>
                <a:cubicBezTo>
                  <a:pt x="3075012" y="163387"/>
                  <a:pt x="3074595" y="163917"/>
                  <a:pt x="3073779" y="164199"/>
                </a:cubicBezTo>
                <a:cubicBezTo>
                  <a:pt x="3072963" y="164480"/>
                  <a:pt x="3071847" y="164612"/>
                  <a:pt x="3070430" y="164596"/>
                </a:cubicBezTo>
                <a:cubicBezTo>
                  <a:pt x="3063950" y="164572"/>
                  <a:pt x="3058666" y="164476"/>
                  <a:pt x="3054579" y="164308"/>
                </a:cubicBezTo>
                <a:cubicBezTo>
                  <a:pt x="3050493" y="164141"/>
                  <a:pt x="3047505" y="164045"/>
                  <a:pt x="3045616" y="164021"/>
                </a:cubicBezTo>
                <a:cubicBezTo>
                  <a:pt x="3044575" y="164045"/>
                  <a:pt x="3042047" y="164141"/>
                  <a:pt x="3038030" y="164308"/>
                </a:cubicBezTo>
                <a:cubicBezTo>
                  <a:pt x="3034013" y="164476"/>
                  <a:pt x="3029335" y="164572"/>
                  <a:pt x="3023997" y="164596"/>
                </a:cubicBezTo>
                <a:cubicBezTo>
                  <a:pt x="3022676" y="164625"/>
                  <a:pt x="3021617" y="164517"/>
                  <a:pt x="3020821" y="164273"/>
                </a:cubicBezTo>
                <a:cubicBezTo>
                  <a:pt x="3020025" y="164029"/>
                  <a:pt x="3019617" y="163474"/>
                  <a:pt x="3019596" y="162609"/>
                </a:cubicBezTo>
                <a:cubicBezTo>
                  <a:pt x="3019604" y="162022"/>
                  <a:pt x="3019888" y="161608"/>
                  <a:pt x="3020446" y="161368"/>
                </a:cubicBezTo>
                <a:cubicBezTo>
                  <a:pt x="3021005" y="161128"/>
                  <a:pt x="3021788" y="161012"/>
                  <a:pt x="3022797" y="161020"/>
                </a:cubicBezTo>
                <a:cubicBezTo>
                  <a:pt x="3024134" y="161029"/>
                  <a:pt x="3025609" y="160962"/>
                  <a:pt x="3027222" y="160820"/>
                </a:cubicBezTo>
                <a:cubicBezTo>
                  <a:pt x="3028835" y="160679"/>
                  <a:pt x="3030360" y="160412"/>
                  <a:pt x="3031798" y="160020"/>
                </a:cubicBezTo>
                <a:cubicBezTo>
                  <a:pt x="3034319" y="159374"/>
                  <a:pt x="3035977" y="157216"/>
                  <a:pt x="3036773" y="153544"/>
                </a:cubicBezTo>
                <a:cubicBezTo>
                  <a:pt x="3037569" y="149873"/>
                  <a:pt x="3037977" y="143764"/>
                  <a:pt x="3037998" y="135217"/>
                </a:cubicBezTo>
                <a:lnTo>
                  <a:pt x="3039798" y="16802"/>
                </a:lnTo>
                <a:cubicBezTo>
                  <a:pt x="3039782" y="14769"/>
                  <a:pt x="3039966" y="13135"/>
                  <a:pt x="3040350" y="11902"/>
                </a:cubicBezTo>
                <a:cubicBezTo>
                  <a:pt x="3040735" y="10668"/>
                  <a:pt x="3041420" y="10035"/>
                  <a:pt x="3042406" y="10001"/>
                </a:cubicBezTo>
                <a:close/>
                <a:moveTo>
                  <a:pt x="746881" y="10001"/>
                </a:moveTo>
                <a:cubicBezTo>
                  <a:pt x="747943" y="10035"/>
                  <a:pt x="749029" y="10618"/>
                  <a:pt x="750141" y="11752"/>
                </a:cubicBezTo>
                <a:cubicBezTo>
                  <a:pt x="751253" y="12885"/>
                  <a:pt x="752640" y="14369"/>
                  <a:pt x="754303" y="16202"/>
                </a:cubicBezTo>
                <a:cubicBezTo>
                  <a:pt x="755286" y="17277"/>
                  <a:pt x="758837" y="21062"/>
                  <a:pt x="764957" y="27558"/>
                </a:cubicBezTo>
                <a:cubicBezTo>
                  <a:pt x="771077" y="34055"/>
                  <a:pt x="778685" y="42016"/>
                  <a:pt x="787781" y="51444"/>
                </a:cubicBezTo>
                <a:cubicBezTo>
                  <a:pt x="796876" y="60871"/>
                  <a:pt x="806379" y="70518"/>
                  <a:pt x="816288" y="80385"/>
                </a:cubicBezTo>
                <a:cubicBezTo>
                  <a:pt x="821048" y="85171"/>
                  <a:pt x="826611" y="90890"/>
                  <a:pt x="832977" y="97543"/>
                </a:cubicBezTo>
                <a:cubicBezTo>
                  <a:pt x="839344" y="104196"/>
                  <a:pt x="845144" y="110271"/>
                  <a:pt x="850377" y="115767"/>
                </a:cubicBezTo>
                <a:cubicBezTo>
                  <a:pt x="855611" y="121264"/>
                  <a:pt x="858909" y="124672"/>
                  <a:pt x="860269" y="125991"/>
                </a:cubicBezTo>
                <a:lnTo>
                  <a:pt x="861268" y="125991"/>
                </a:lnTo>
                <a:lnTo>
                  <a:pt x="859270" y="36180"/>
                </a:lnTo>
                <a:cubicBezTo>
                  <a:pt x="859199" y="30217"/>
                  <a:pt x="858641" y="25941"/>
                  <a:pt x="857596" y="23353"/>
                </a:cubicBezTo>
                <a:cubicBezTo>
                  <a:pt x="856550" y="20765"/>
                  <a:pt x="854842" y="19040"/>
                  <a:pt x="852473" y="18178"/>
                </a:cubicBezTo>
                <a:cubicBezTo>
                  <a:pt x="850894" y="17602"/>
                  <a:pt x="849103" y="17252"/>
                  <a:pt x="847100" y="17127"/>
                </a:cubicBezTo>
                <a:cubicBezTo>
                  <a:pt x="845097" y="17002"/>
                  <a:pt x="843356" y="16952"/>
                  <a:pt x="841877" y="16977"/>
                </a:cubicBezTo>
                <a:cubicBezTo>
                  <a:pt x="840694" y="16977"/>
                  <a:pt x="839861" y="16828"/>
                  <a:pt x="839378" y="16530"/>
                </a:cubicBezTo>
                <a:cubicBezTo>
                  <a:pt x="838895" y="16232"/>
                  <a:pt x="838662" y="15786"/>
                  <a:pt x="838679" y="15190"/>
                </a:cubicBezTo>
                <a:cubicBezTo>
                  <a:pt x="838708" y="14420"/>
                  <a:pt x="839199" y="13923"/>
                  <a:pt x="840153" y="13700"/>
                </a:cubicBezTo>
                <a:cubicBezTo>
                  <a:pt x="841107" y="13476"/>
                  <a:pt x="842348" y="13377"/>
                  <a:pt x="843876" y="13402"/>
                </a:cubicBezTo>
                <a:cubicBezTo>
                  <a:pt x="849170" y="13426"/>
                  <a:pt x="853975" y="13522"/>
                  <a:pt x="858292" y="13689"/>
                </a:cubicBezTo>
                <a:cubicBezTo>
                  <a:pt x="862609" y="13857"/>
                  <a:pt x="865863" y="13953"/>
                  <a:pt x="868055" y="13977"/>
                </a:cubicBezTo>
                <a:cubicBezTo>
                  <a:pt x="869220" y="13953"/>
                  <a:pt x="871535" y="13857"/>
                  <a:pt x="875000" y="13689"/>
                </a:cubicBezTo>
                <a:cubicBezTo>
                  <a:pt x="878465" y="13522"/>
                  <a:pt x="882681" y="13426"/>
                  <a:pt x="887648" y="13402"/>
                </a:cubicBezTo>
                <a:cubicBezTo>
                  <a:pt x="888977" y="13377"/>
                  <a:pt x="890069" y="13476"/>
                  <a:pt x="890923" y="13700"/>
                </a:cubicBezTo>
                <a:cubicBezTo>
                  <a:pt x="891778" y="13923"/>
                  <a:pt x="892219" y="14420"/>
                  <a:pt x="892249" y="15190"/>
                </a:cubicBezTo>
                <a:cubicBezTo>
                  <a:pt x="892249" y="16381"/>
                  <a:pt x="891048" y="16977"/>
                  <a:pt x="888648" y="16977"/>
                </a:cubicBezTo>
                <a:cubicBezTo>
                  <a:pt x="887673" y="16965"/>
                  <a:pt x="886723" y="16990"/>
                  <a:pt x="885798" y="17052"/>
                </a:cubicBezTo>
                <a:cubicBezTo>
                  <a:pt x="884873" y="17115"/>
                  <a:pt x="883823" y="17290"/>
                  <a:pt x="882647" y="17577"/>
                </a:cubicBezTo>
                <a:cubicBezTo>
                  <a:pt x="879901" y="18286"/>
                  <a:pt x="877993" y="19919"/>
                  <a:pt x="876922" y="22478"/>
                </a:cubicBezTo>
                <a:cubicBezTo>
                  <a:pt x="875851" y="25037"/>
                  <a:pt x="875292" y="29071"/>
                  <a:pt x="875246" y="34580"/>
                </a:cubicBezTo>
                <a:lnTo>
                  <a:pt x="873046" y="160795"/>
                </a:lnTo>
                <a:cubicBezTo>
                  <a:pt x="873050" y="162979"/>
                  <a:pt x="872842" y="164562"/>
                  <a:pt x="872422" y="165546"/>
                </a:cubicBezTo>
                <a:cubicBezTo>
                  <a:pt x="872002" y="166529"/>
                  <a:pt x="871345" y="167013"/>
                  <a:pt x="870451" y="166996"/>
                </a:cubicBezTo>
                <a:cubicBezTo>
                  <a:pt x="869345" y="166950"/>
                  <a:pt x="868214" y="166492"/>
                  <a:pt x="867057" y="165621"/>
                </a:cubicBezTo>
                <a:cubicBezTo>
                  <a:pt x="865901" y="164750"/>
                  <a:pt x="864770" y="163742"/>
                  <a:pt x="863663" y="162596"/>
                </a:cubicBezTo>
                <a:cubicBezTo>
                  <a:pt x="859357" y="158473"/>
                  <a:pt x="853935" y="153139"/>
                  <a:pt x="847400" y="146594"/>
                </a:cubicBezTo>
                <a:cubicBezTo>
                  <a:pt x="840863" y="140049"/>
                  <a:pt x="833872" y="133028"/>
                  <a:pt x="826424" y="125529"/>
                </a:cubicBezTo>
                <a:cubicBezTo>
                  <a:pt x="818977" y="118030"/>
                  <a:pt x="811733" y="110788"/>
                  <a:pt x="804693" y="103804"/>
                </a:cubicBezTo>
                <a:cubicBezTo>
                  <a:pt x="797312" y="96450"/>
                  <a:pt x="790239" y="89173"/>
                  <a:pt x="783472" y="81975"/>
                </a:cubicBezTo>
                <a:cubicBezTo>
                  <a:pt x="776706" y="74777"/>
                  <a:pt x="770950" y="68567"/>
                  <a:pt x="766205" y="63347"/>
                </a:cubicBezTo>
                <a:cubicBezTo>
                  <a:pt x="761460" y="58127"/>
                  <a:pt x="758429" y="54808"/>
                  <a:pt x="757111" y="53389"/>
                </a:cubicBezTo>
                <a:lnTo>
                  <a:pt x="756510" y="53389"/>
                </a:lnTo>
                <a:lnTo>
                  <a:pt x="758713" y="137417"/>
                </a:lnTo>
                <a:cubicBezTo>
                  <a:pt x="758929" y="145081"/>
                  <a:pt x="759646" y="150557"/>
                  <a:pt x="760862" y="153844"/>
                </a:cubicBezTo>
                <a:cubicBezTo>
                  <a:pt x="762078" y="157132"/>
                  <a:pt x="763694" y="159058"/>
                  <a:pt x="765709" y="159620"/>
                </a:cubicBezTo>
                <a:cubicBezTo>
                  <a:pt x="767430" y="160204"/>
                  <a:pt x="769187" y="160587"/>
                  <a:pt x="770982" y="160770"/>
                </a:cubicBezTo>
                <a:cubicBezTo>
                  <a:pt x="772777" y="160954"/>
                  <a:pt x="774485" y="161037"/>
                  <a:pt x="776105" y="161020"/>
                </a:cubicBezTo>
                <a:cubicBezTo>
                  <a:pt x="777209" y="161012"/>
                  <a:pt x="778050" y="161128"/>
                  <a:pt x="778629" y="161368"/>
                </a:cubicBezTo>
                <a:cubicBezTo>
                  <a:pt x="779208" y="161608"/>
                  <a:pt x="779499" y="162022"/>
                  <a:pt x="779504" y="162609"/>
                </a:cubicBezTo>
                <a:cubicBezTo>
                  <a:pt x="779487" y="163387"/>
                  <a:pt x="779071" y="163917"/>
                  <a:pt x="778254" y="164199"/>
                </a:cubicBezTo>
                <a:cubicBezTo>
                  <a:pt x="777438" y="164480"/>
                  <a:pt x="776322" y="164612"/>
                  <a:pt x="774906" y="164596"/>
                </a:cubicBezTo>
                <a:cubicBezTo>
                  <a:pt x="768425" y="164572"/>
                  <a:pt x="763141" y="164476"/>
                  <a:pt x="759054" y="164308"/>
                </a:cubicBezTo>
                <a:cubicBezTo>
                  <a:pt x="754968" y="164141"/>
                  <a:pt x="751980" y="164045"/>
                  <a:pt x="750091" y="164021"/>
                </a:cubicBezTo>
                <a:cubicBezTo>
                  <a:pt x="749051" y="164045"/>
                  <a:pt x="746522" y="164141"/>
                  <a:pt x="742505" y="164308"/>
                </a:cubicBezTo>
                <a:lnTo>
                  <a:pt x="731561" y="164533"/>
                </a:lnTo>
                <a:lnTo>
                  <a:pt x="731047" y="164596"/>
                </a:lnTo>
                <a:lnTo>
                  <a:pt x="728472" y="164596"/>
                </a:lnTo>
                <a:lnTo>
                  <a:pt x="713645" y="164596"/>
                </a:lnTo>
                <a:cubicBezTo>
                  <a:pt x="710707" y="164604"/>
                  <a:pt x="708182" y="164588"/>
                  <a:pt x="706069" y="164546"/>
                </a:cubicBezTo>
                <a:cubicBezTo>
                  <a:pt x="703956" y="164505"/>
                  <a:pt x="701881" y="164389"/>
                  <a:pt x="699843" y="164199"/>
                </a:cubicBezTo>
                <a:cubicBezTo>
                  <a:pt x="694622" y="163698"/>
                  <a:pt x="690213" y="162361"/>
                  <a:pt x="686617" y="160186"/>
                </a:cubicBezTo>
                <a:cubicBezTo>
                  <a:pt x="683020" y="158011"/>
                  <a:pt x="679162" y="155021"/>
                  <a:pt x="675040" y="151216"/>
                </a:cubicBezTo>
                <a:cubicBezTo>
                  <a:pt x="672669" y="149059"/>
                  <a:pt x="668899" y="145118"/>
                  <a:pt x="663730" y="139391"/>
                </a:cubicBezTo>
                <a:cubicBezTo>
                  <a:pt x="658561" y="133665"/>
                  <a:pt x="653022" y="127385"/>
                  <a:pt x="647112" y="120551"/>
                </a:cubicBezTo>
                <a:cubicBezTo>
                  <a:pt x="641203" y="113718"/>
                  <a:pt x="635951" y="107563"/>
                  <a:pt x="631357" y="102086"/>
                </a:cubicBezTo>
                <a:cubicBezTo>
                  <a:pt x="626763" y="96610"/>
                  <a:pt x="623856" y="93043"/>
                  <a:pt x="622634" y="91387"/>
                </a:cubicBezTo>
                <a:lnTo>
                  <a:pt x="620434" y="88386"/>
                </a:lnTo>
                <a:lnTo>
                  <a:pt x="619434" y="88386"/>
                </a:lnTo>
                <a:lnTo>
                  <a:pt x="619434" y="106594"/>
                </a:lnTo>
                <a:cubicBezTo>
                  <a:pt x="619421" y="115895"/>
                  <a:pt x="619446" y="124257"/>
                  <a:pt x="619509" y="131681"/>
                </a:cubicBezTo>
                <a:cubicBezTo>
                  <a:pt x="619571" y="139106"/>
                  <a:pt x="619746" y="145017"/>
                  <a:pt x="620034" y="149415"/>
                </a:cubicBezTo>
                <a:cubicBezTo>
                  <a:pt x="620196" y="152266"/>
                  <a:pt x="620821" y="154667"/>
                  <a:pt x="621909" y="156618"/>
                </a:cubicBezTo>
                <a:cubicBezTo>
                  <a:pt x="622997" y="158569"/>
                  <a:pt x="624772" y="159770"/>
                  <a:pt x="627235" y="160220"/>
                </a:cubicBezTo>
                <a:cubicBezTo>
                  <a:pt x="628705" y="160428"/>
                  <a:pt x="630364" y="160612"/>
                  <a:pt x="632210" y="160770"/>
                </a:cubicBezTo>
                <a:cubicBezTo>
                  <a:pt x="634056" y="160929"/>
                  <a:pt x="635665" y="161012"/>
                  <a:pt x="637036" y="161020"/>
                </a:cubicBezTo>
                <a:cubicBezTo>
                  <a:pt x="637844" y="161024"/>
                  <a:pt x="638477" y="161165"/>
                  <a:pt x="638936" y="161442"/>
                </a:cubicBezTo>
                <a:cubicBezTo>
                  <a:pt x="639394" y="161720"/>
                  <a:pt x="639628" y="162109"/>
                  <a:pt x="639636" y="162609"/>
                </a:cubicBezTo>
                <a:cubicBezTo>
                  <a:pt x="639615" y="163301"/>
                  <a:pt x="639257" y="163805"/>
                  <a:pt x="638561" y="164124"/>
                </a:cubicBezTo>
                <a:cubicBezTo>
                  <a:pt x="637865" y="164443"/>
                  <a:pt x="636957" y="164600"/>
                  <a:pt x="635835" y="164596"/>
                </a:cubicBezTo>
                <a:cubicBezTo>
                  <a:pt x="630047" y="164572"/>
                  <a:pt x="624473" y="164476"/>
                  <a:pt x="619113" y="164308"/>
                </a:cubicBezTo>
                <a:cubicBezTo>
                  <a:pt x="613753" y="164141"/>
                  <a:pt x="609730" y="164045"/>
                  <a:pt x="607045" y="164021"/>
                </a:cubicBezTo>
                <a:cubicBezTo>
                  <a:pt x="604484" y="164045"/>
                  <a:pt x="600712" y="164141"/>
                  <a:pt x="595726" y="164308"/>
                </a:cubicBezTo>
                <a:cubicBezTo>
                  <a:pt x="590741" y="164476"/>
                  <a:pt x="586117" y="164572"/>
                  <a:pt x="581854" y="164596"/>
                </a:cubicBezTo>
                <a:cubicBezTo>
                  <a:pt x="579220" y="164629"/>
                  <a:pt x="577887" y="163967"/>
                  <a:pt x="577853" y="162609"/>
                </a:cubicBezTo>
                <a:cubicBezTo>
                  <a:pt x="577837" y="162109"/>
                  <a:pt x="578070" y="161720"/>
                  <a:pt x="578553" y="161442"/>
                </a:cubicBezTo>
                <a:cubicBezTo>
                  <a:pt x="579037" y="161165"/>
                  <a:pt x="579870" y="161025"/>
                  <a:pt x="581054" y="161020"/>
                </a:cubicBezTo>
                <a:cubicBezTo>
                  <a:pt x="582554" y="161012"/>
                  <a:pt x="583904" y="160929"/>
                  <a:pt x="585104" y="160770"/>
                </a:cubicBezTo>
                <a:cubicBezTo>
                  <a:pt x="586304" y="160612"/>
                  <a:pt x="587354" y="160428"/>
                  <a:pt x="588255" y="160220"/>
                </a:cubicBezTo>
                <a:cubicBezTo>
                  <a:pt x="590196" y="159774"/>
                  <a:pt x="591564" y="158565"/>
                  <a:pt x="592355" y="156593"/>
                </a:cubicBezTo>
                <a:cubicBezTo>
                  <a:pt x="593147" y="154621"/>
                  <a:pt x="593714" y="152162"/>
                  <a:pt x="594055" y="149215"/>
                </a:cubicBezTo>
                <a:cubicBezTo>
                  <a:pt x="594535" y="144913"/>
                  <a:pt x="594826" y="139060"/>
                  <a:pt x="594930" y="131656"/>
                </a:cubicBezTo>
                <a:cubicBezTo>
                  <a:pt x="595035" y="124253"/>
                  <a:pt x="595076" y="115899"/>
                  <a:pt x="595055" y="106594"/>
                </a:cubicBezTo>
                <a:lnTo>
                  <a:pt x="595055" y="71406"/>
                </a:lnTo>
                <a:cubicBezTo>
                  <a:pt x="595058" y="61425"/>
                  <a:pt x="595053" y="53727"/>
                  <a:pt x="595041" y="48312"/>
                </a:cubicBezTo>
                <a:cubicBezTo>
                  <a:pt x="595028" y="42897"/>
                  <a:pt x="594994" y="38816"/>
                  <a:pt x="594937" y="36069"/>
                </a:cubicBezTo>
                <a:cubicBezTo>
                  <a:pt x="594880" y="33322"/>
                  <a:pt x="594786" y="30960"/>
                  <a:pt x="594655" y="28984"/>
                </a:cubicBezTo>
                <a:cubicBezTo>
                  <a:pt x="594535" y="25619"/>
                  <a:pt x="593876" y="23043"/>
                  <a:pt x="592680" y="21255"/>
                </a:cubicBezTo>
                <a:cubicBezTo>
                  <a:pt x="591484" y="19466"/>
                  <a:pt x="589275" y="18240"/>
                  <a:pt x="586054" y="17578"/>
                </a:cubicBezTo>
                <a:cubicBezTo>
                  <a:pt x="585204" y="17378"/>
                  <a:pt x="584054" y="17227"/>
                  <a:pt x="582604" y="17127"/>
                </a:cubicBezTo>
                <a:cubicBezTo>
                  <a:pt x="581154" y="17027"/>
                  <a:pt x="579703" y="16977"/>
                  <a:pt x="578254" y="16977"/>
                </a:cubicBezTo>
                <a:cubicBezTo>
                  <a:pt x="577149" y="16990"/>
                  <a:pt x="576307" y="16866"/>
                  <a:pt x="575728" y="16605"/>
                </a:cubicBezTo>
                <a:cubicBezTo>
                  <a:pt x="575149" y="16344"/>
                  <a:pt x="574857" y="15872"/>
                  <a:pt x="574853" y="15190"/>
                </a:cubicBezTo>
                <a:cubicBezTo>
                  <a:pt x="574849" y="14507"/>
                  <a:pt x="575207" y="14035"/>
                  <a:pt x="575928" y="13774"/>
                </a:cubicBezTo>
                <a:cubicBezTo>
                  <a:pt x="576649" y="13514"/>
                  <a:pt x="577758" y="13390"/>
                  <a:pt x="579254" y="13402"/>
                </a:cubicBezTo>
                <a:cubicBezTo>
                  <a:pt x="584758" y="13426"/>
                  <a:pt x="590149" y="13522"/>
                  <a:pt x="595426" y="13689"/>
                </a:cubicBezTo>
                <a:cubicBezTo>
                  <a:pt x="600703" y="13857"/>
                  <a:pt x="604643" y="13953"/>
                  <a:pt x="607244" y="13977"/>
                </a:cubicBezTo>
                <a:cubicBezTo>
                  <a:pt x="609926" y="13953"/>
                  <a:pt x="613707" y="13857"/>
                  <a:pt x="618588" y="13689"/>
                </a:cubicBezTo>
                <a:cubicBezTo>
                  <a:pt x="623469" y="13522"/>
                  <a:pt x="627751" y="13426"/>
                  <a:pt x="631435" y="13402"/>
                </a:cubicBezTo>
                <a:cubicBezTo>
                  <a:pt x="632835" y="13390"/>
                  <a:pt x="633885" y="13514"/>
                  <a:pt x="634585" y="13774"/>
                </a:cubicBezTo>
                <a:cubicBezTo>
                  <a:pt x="635285" y="14035"/>
                  <a:pt x="635636" y="14507"/>
                  <a:pt x="635636" y="15190"/>
                </a:cubicBezTo>
                <a:cubicBezTo>
                  <a:pt x="635619" y="15872"/>
                  <a:pt x="635352" y="16344"/>
                  <a:pt x="634835" y="16605"/>
                </a:cubicBezTo>
                <a:cubicBezTo>
                  <a:pt x="634319" y="16866"/>
                  <a:pt x="633652" y="16990"/>
                  <a:pt x="632835" y="16977"/>
                </a:cubicBezTo>
                <a:cubicBezTo>
                  <a:pt x="631877" y="16977"/>
                  <a:pt x="630993" y="17027"/>
                  <a:pt x="630185" y="17127"/>
                </a:cubicBezTo>
                <a:cubicBezTo>
                  <a:pt x="629376" y="17227"/>
                  <a:pt x="628393" y="17378"/>
                  <a:pt x="627235" y="17578"/>
                </a:cubicBezTo>
                <a:cubicBezTo>
                  <a:pt x="624588" y="18053"/>
                  <a:pt x="622730" y="19203"/>
                  <a:pt x="621659" y="21029"/>
                </a:cubicBezTo>
                <a:cubicBezTo>
                  <a:pt x="620588" y="22855"/>
                  <a:pt x="619980" y="25507"/>
                  <a:pt x="619833" y="28984"/>
                </a:cubicBezTo>
                <a:cubicBezTo>
                  <a:pt x="619703" y="30960"/>
                  <a:pt x="619609" y="33322"/>
                  <a:pt x="619552" y="36069"/>
                </a:cubicBezTo>
                <a:cubicBezTo>
                  <a:pt x="619495" y="38816"/>
                  <a:pt x="619461" y="42897"/>
                  <a:pt x="619448" y="48312"/>
                </a:cubicBezTo>
                <a:cubicBezTo>
                  <a:pt x="619436" y="53727"/>
                  <a:pt x="619431" y="61425"/>
                  <a:pt x="619434" y="71406"/>
                </a:cubicBezTo>
                <a:lnTo>
                  <a:pt x="619434" y="80210"/>
                </a:lnTo>
                <a:lnTo>
                  <a:pt x="620434" y="80210"/>
                </a:lnTo>
                <a:cubicBezTo>
                  <a:pt x="622983" y="77462"/>
                  <a:pt x="627174" y="73065"/>
                  <a:pt x="633006" y="67018"/>
                </a:cubicBezTo>
                <a:cubicBezTo>
                  <a:pt x="638837" y="60972"/>
                  <a:pt x="644613" y="54959"/>
                  <a:pt x="650334" y="48979"/>
                </a:cubicBezTo>
                <a:cubicBezTo>
                  <a:pt x="656054" y="43000"/>
                  <a:pt x="660022" y="38736"/>
                  <a:pt x="662239" y="36187"/>
                </a:cubicBezTo>
                <a:cubicBezTo>
                  <a:pt x="665106" y="32886"/>
                  <a:pt x="667473" y="29984"/>
                  <a:pt x="669340" y="27483"/>
                </a:cubicBezTo>
                <a:cubicBezTo>
                  <a:pt x="671207" y="24981"/>
                  <a:pt x="672173" y="22880"/>
                  <a:pt x="672240" y="21179"/>
                </a:cubicBezTo>
                <a:cubicBezTo>
                  <a:pt x="672249" y="20075"/>
                  <a:pt x="672032" y="19183"/>
                  <a:pt x="671590" y="18503"/>
                </a:cubicBezTo>
                <a:cubicBezTo>
                  <a:pt x="671149" y="17824"/>
                  <a:pt x="670431" y="17382"/>
                  <a:pt x="669440" y="17177"/>
                </a:cubicBezTo>
                <a:cubicBezTo>
                  <a:pt x="668544" y="16995"/>
                  <a:pt x="667885" y="16762"/>
                  <a:pt x="667464" y="16481"/>
                </a:cubicBezTo>
                <a:cubicBezTo>
                  <a:pt x="667044" y="16199"/>
                  <a:pt x="666835" y="15769"/>
                  <a:pt x="666839" y="15190"/>
                </a:cubicBezTo>
                <a:cubicBezTo>
                  <a:pt x="666835" y="14507"/>
                  <a:pt x="667094" y="14035"/>
                  <a:pt x="667614" y="13774"/>
                </a:cubicBezTo>
                <a:cubicBezTo>
                  <a:pt x="668136" y="13514"/>
                  <a:pt x="668944" y="13390"/>
                  <a:pt x="670040" y="13402"/>
                </a:cubicBezTo>
                <a:cubicBezTo>
                  <a:pt x="672398" y="13426"/>
                  <a:pt x="675682" y="13522"/>
                  <a:pt x="679891" y="13689"/>
                </a:cubicBezTo>
                <a:cubicBezTo>
                  <a:pt x="684100" y="13857"/>
                  <a:pt x="687684" y="13953"/>
                  <a:pt x="690642" y="13977"/>
                </a:cubicBezTo>
                <a:cubicBezTo>
                  <a:pt x="693943" y="13953"/>
                  <a:pt x="697843" y="13857"/>
                  <a:pt x="702344" y="13689"/>
                </a:cubicBezTo>
                <a:cubicBezTo>
                  <a:pt x="706845" y="13522"/>
                  <a:pt x="710745" y="13426"/>
                  <a:pt x="714046" y="13402"/>
                </a:cubicBezTo>
                <a:cubicBezTo>
                  <a:pt x="715062" y="13390"/>
                  <a:pt x="715879" y="13514"/>
                  <a:pt x="716496" y="13774"/>
                </a:cubicBezTo>
                <a:cubicBezTo>
                  <a:pt x="717112" y="14035"/>
                  <a:pt x="717429" y="14507"/>
                  <a:pt x="717446" y="15190"/>
                </a:cubicBezTo>
                <a:cubicBezTo>
                  <a:pt x="717446" y="15872"/>
                  <a:pt x="717196" y="16344"/>
                  <a:pt x="716696" y="16605"/>
                </a:cubicBezTo>
                <a:cubicBezTo>
                  <a:pt x="716196" y="16866"/>
                  <a:pt x="715445" y="16990"/>
                  <a:pt x="714445" y="16977"/>
                </a:cubicBezTo>
                <a:cubicBezTo>
                  <a:pt x="712974" y="16982"/>
                  <a:pt x="711166" y="17173"/>
                  <a:pt x="709020" y="17553"/>
                </a:cubicBezTo>
                <a:cubicBezTo>
                  <a:pt x="706873" y="17932"/>
                  <a:pt x="704815" y="18474"/>
                  <a:pt x="702844" y="19178"/>
                </a:cubicBezTo>
                <a:cubicBezTo>
                  <a:pt x="699768" y="20329"/>
                  <a:pt x="696468" y="22080"/>
                  <a:pt x="692943" y="24431"/>
                </a:cubicBezTo>
                <a:cubicBezTo>
                  <a:pt x="689417" y="26782"/>
                  <a:pt x="685517" y="30034"/>
                  <a:pt x="681241" y="34186"/>
                </a:cubicBezTo>
                <a:cubicBezTo>
                  <a:pt x="678882" y="36476"/>
                  <a:pt x="674733" y="40567"/>
                  <a:pt x="668795" y="46459"/>
                </a:cubicBezTo>
                <a:cubicBezTo>
                  <a:pt x="662858" y="52351"/>
                  <a:pt x="656886" y="58310"/>
                  <a:pt x="650882" y="64335"/>
                </a:cubicBezTo>
                <a:cubicBezTo>
                  <a:pt x="644877" y="70361"/>
                  <a:pt x="640595" y="74719"/>
                  <a:pt x="638036" y="77409"/>
                </a:cubicBezTo>
                <a:cubicBezTo>
                  <a:pt x="640001" y="79930"/>
                  <a:pt x="643471" y="83976"/>
                  <a:pt x="648446" y="89545"/>
                </a:cubicBezTo>
                <a:cubicBezTo>
                  <a:pt x="653421" y="95113"/>
                  <a:pt x="658911" y="101149"/>
                  <a:pt x="664914" y="107651"/>
                </a:cubicBezTo>
                <a:cubicBezTo>
                  <a:pt x="670918" y="114153"/>
                  <a:pt x="676444" y="120064"/>
                  <a:pt x="681494" y="125386"/>
                </a:cubicBezTo>
                <a:cubicBezTo>
                  <a:pt x="686545" y="130707"/>
                  <a:pt x="690127" y="134382"/>
                  <a:pt x="692243" y="136409"/>
                </a:cubicBezTo>
                <a:cubicBezTo>
                  <a:pt x="696610" y="140723"/>
                  <a:pt x="701127" y="144850"/>
                  <a:pt x="705795" y="148790"/>
                </a:cubicBezTo>
                <a:cubicBezTo>
                  <a:pt x="710462" y="152729"/>
                  <a:pt x="715479" y="155805"/>
                  <a:pt x="720846" y="158019"/>
                </a:cubicBezTo>
                <a:cubicBezTo>
                  <a:pt x="723838" y="159194"/>
                  <a:pt x="726355" y="159995"/>
                  <a:pt x="728397" y="160420"/>
                </a:cubicBezTo>
                <a:lnTo>
                  <a:pt x="731649" y="160823"/>
                </a:lnTo>
                <a:lnTo>
                  <a:pt x="731697" y="160820"/>
                </a:lnTo>
                <a:cubicBezTo>
                  <a:pt x="733310" y="160679"/>
                  <a:pt x="734835" y="160412"/>
                  <a:pt x="736273" y="160020"/>
                </a:cubicBezTo>
                <a:cubicBezTo>
                  <a:pt x="738794" y="159374"/>
                  <a:pt x="740452" y="157216"/>
                  <a:pt x="741249" y="153544"/>
                </a:cubicBezTo>
                <a:cubicBezTo>
                  <a:pt x="742044" y="149873"/>
                  <a:pt x="742453" y="143764"/>
                  <a:pt x="742474" y="135217"/>
                </a:cubicBezTo>
                <a:lnTo>
                  <a:pt x="744274" y="16802"/>
                </a:lnTo>
                <a:cubicBezTo>
                  <a:pt x="744257" y="14769"/>
                  <a:pt x="744441" y="13135"/>
                  <a:pt x="744825" y="11902"/>
                </a:cubicBezTo>
                <a:cubicBezTo>
                  <a:pt x="745210" y="10668"/>
                  <a:pt x="745895" y="10035"/>
                  <a:pt x="746881" y="10001"/>
                </a:cubicBezTo>
                <a:close/>
                <a:moveTo>
                  <a:pt x="1622603" y="0"/>
                </a:moveTo>
                <a:cubicBezTo>
                  <a:pt x="1624807" y="84"/>
                  <a:pt x="1627597" y="567"/>
                  <a:pt x="1630973" y="1450"/>
                </a:cubicBezTo>
                <a:cubicBezTo>
                  <a:pt x="1634348" y="2333"/>
                  <a:pt x="1637087" y="3116"/>
                  <a:pt x="1639188" y="3799"/>
                </a:cubicBezTo>
                <a:cubicBezTo>
                  <a:pt x="1641614" y="4465"/>
                  <a:pt x="1643204" y="5232"/>
                  <a:pt x="1643957" y="6098"/>
                </a:cubicBezTo>
                <a:cubicBezTo>
                  <a:pt x="1644710" y="6964"/>
                  <a:pt x="1645051" y="8131"/>
                  <a:pt x="1644981" y="9597"/>
                </a:cubicBezTo>
                <a:cubicBezTo>
                  <a:pt x="1644876" y="13794"/>
                  <a:pt x="1643643" y="18617"/>
                  <a:pt x="1641281" y="24066"/>
                </a:cubicBezTo>
                <a:cubicBezTo>
                  <a:pt x="1638920" y="29515"/>
                  <a:pt x="1636059" y="34797"/>
                  <a:pt x="1632699" y="39913"/>
                </a:cubicBezTo>
                <a:cubicBezTo>
                  <a:pt x="1629338" y="45028"/>
                  <a:pt x="1626106" y="49185"/>
                  <a:pt x="1623003" y="52383"/>
                </a:cubicBezTo>
                <a:cubicBezTo>
                  <a:pt x="1622420" y="52974"/>
                  <a:pt x="1621886" y="53391"/>
                  <a:pt x="1621403" y="53632"/>
                </a:cubicBezTo>
                <a:cubicBezTo>
                  <a:pt x="1620919" y="53874"/>
                  <a:pt x="1620386" y="53990"/>
                  <a:pt x="1619803" y="53982"/>
                </a:cubicBezTo>
                <a:cubicBezTo>
                  <a:pt x="1619490" y="53982"/>
                  <a:pt x="1619215" y="53882"/>
                  <a:pt x="1618978" y="53682"/>
                </a:cubicBezTo>
                <a:cubicBezTo>
                  <a:pt x="1618740" y="53482"/>
                  <a:pt x="1618615" y="53182"/>
                  <a:pt x="1618602" y="52782"/>
                </a:cubicBezTo>
                <a:cubicBezTo>
                  <a:pt x="1618594" y="52599"/>
                  <a:pt x="1618661" y="52316"/>
                  <a:pt x="1618803" y="51933"/>
                </a:cubicBezTo>
                <a:cubicBezTo>
                  <a:pt x="1618944" y="51549"/>
                  <a:pt x="1619211" y="50966"/>
                  <a:pt x="1619603" y="50183"/>
                </a:cubicBezTo>
                <a:cubicBezTo>
                  <a:pt x="1621503" y="46597"/>
                  <a:pt x="1623253" y="42073"/>
                  <a:pt x="1624853" y="36613"/>
                </a:cubicBezTo>
                <a:cubicBezTo>
                  <a:pt x="1626454" y="31152"/>
                  <a:pt x="1627304" y="25279"/>
                  <a:pt x="1627404" y="18994"/>
                </a:cubicBezTo>
                <a:cubicBezTo>
                  <a:pt x="1627316" y="15645"/>
                  <a:pt x="1626741" y="12746"/>
                  <a:pt x="1625678" y="10297"/>
                </a:cubicBezTo>
                <a:cubicBezTo>
                  <a:pt x="1624616" y="7847"/>
                  <a:pt x="1623591" y="6148"/>
                  <a:pt x="1622603" y="5198"/>
                </a:cubicBezTo>
                <a:cubicBezTo>
                  <a:pt x="1621635" y="4236"/>
                  <a:pt x="1621014" y="3511"/>
                  <a:pt x="1620740" y="3024"/>
                </a:cubicBezTo>
                <a:cubicBezTo>
                  <a:pt x="1620466" y="2537"/>
                  <a:pt x="1620345" y="2062"/>
                  <a:pt x="1620378" y="1599"/>
                </a:cubicBezTo>
                <a:cubicBezTo>
                  <a:pt x="1620408" y="1270"/>
                  <a:pt x="1620654" y="929"/>
                  <a:pt x="1621115" y="575"/>
                </a:cubicBezTo>
                <a:cubicBezTo>
                  <a:pt x="1621577" y="221"/>
                  <a:pt x="1622073" y="29"/>
                  <a:pt x="1622603" y="0"/>
                </a:cubicBezTo>
                <a:close/>
              </a:path>
            </a:pathLst>
          </a:custGeom>
          <a:gradFill rotWithShape="0">
            <a:gsLst>
              <a:gs pos="0">
                <a:srgbClr val="ed7d31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表 6" descr=""/>
          <p:cNvPicPr/>
          <p:nvPr/>
        </p:nvPicPr>
        <p:blipFill>
          <a:blip r:embed="rId1"/>
          <a:stretch/>
        </p:blipFill>
        <p:spPr>
          <a:xfrm>
            <a:off x="1881360" y="0"/>
            <a:ext cx="8429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表 6" descr=""/>
          <p:cNvPicPr/>
          <p:nvPr/>
        </p:nvPicPr>
        <p:blipFill>
          <a:blip r:embed="rId1"/>
          <a:stretch/>
        </p:blipFill>
        <p:spPr>
          <a:xfrm>
            <a:off x="2651040" y="-15840"/>
            <a:ext cx="6889680" cy="6891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表 6" descr=""/>
          <p:cNvPicPr/>
          <p:nvPr/>
        </p:nvPicPr>
        <p:blipFill>
          <a:blip r:embed="rId1"/>
          <a:stretch/>
        </p:blipFill>
        <p:spPr>
          <a:xfrm>
            <a:off x="1325520" y="249120"/>
            <a:ext cx="9541080" cy="635976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2"/>
          <p:cNvSpPr/>
          <p:nvPr/>
        </p:nvSpPr>
        <p:spPr>
          <a:xfrm>
            <a:off x="5929920" y="5254560"/>
            <a:ext cx="330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方正宋一简体"/>
                <a:ea typeface="方正宋一简体"/>
              </a:rPr>
              <a:t>爱情是遇见你以后发生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表 6" descr=""/>
          <p:cNvPicPr/>
          <p:nvPr/>
        </p:nvPicPr>
        <p:blipFill>
          <a:blip r:embed="rId1"/>
          <a:stretch/>
        </p:blipFill>
        <p:spPr>
          <a:xfrm>
            <a:off x="1901880" y="-765000"/>
            <a:ext cx="8388360" cy="8388000"/>
          </a:xfrm>
          <a:prstGeom prst="rect">
            <a:avLst/>
          </a:prstGeom>
          <a:ln w="0">
            <a:noFill/>
          </a:ln>
        </p:spPr>
      </p:pic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BBB9-8EA5-4B2C-88BF-31B03A02E0F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5:00:00Z</dcterms:created>
  <dc:creator>Administrator</dc:creator>
  <dc:description/>
  <cp:keywords/>
  <dc:language>en-US</dc:language>
  <cp:lastModifiedBy>王玉清</cp:lastModifiedBy>
  <dcterms:modified xsi:type="dcterms:W3CDTF">2016-02-16T08:44:30Z</dcterms:modified>
  <cp:revision>1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