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37C-316F-4735-B94B-7C0EE5E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E56-BD0B-4B95-8919-5FBF50A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163-5454-4C57-9B1D-A6CA75AB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F5-E929-4202-BF09-63828B01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8CD-F0FD-48FA-8803-EB681AB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FCA-AB67-48BD-88B6-5D99C1EA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7BB-3077-4806-960E-667476F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57B-300D-4F7D-B059-79A7A53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350-1364-4679-B51C-2085C0FB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617-ABB4-4BAE-8759-A4522A3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D97-8566-4032-8EF6-92B9FC7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601-B7C1-49A0-AD5C-221D096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FF2-6ADB-42F5-AC29-361BCAF46A36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696080" cy="101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蓝色地球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7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8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7"/>
            <p:cNvSpPr/>
            <p:nvPr/>
          </p:nvSpPr>
          <p:spPr>
            <a:xfrm>
              <a:off x="105876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0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1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2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>
                  <a:alpha val="32156"/>
                </a:srgbClr>
              </a:gs>
              <a:gs pos="100000">
                <a:srgbClr val="18436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8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7"/>
            <p:cNvSpPr/>
            <p:nvPr/>
          </p:nvSpPr>
          <p:spPr>
            <a:xfrm>
              <a:off x="379548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0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1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2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3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2"/>
            <p:cNvSpPr/>
            <p:nvPr/>
          </p:nvSpPr>
          <p:spPr>
            <a:xfrm>
              <a:off x="654192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5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6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7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6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9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0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33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8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1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4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9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2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3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5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6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7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8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9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0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1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2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3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4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5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7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8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0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4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5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8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9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90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47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AutoShape 48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49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AutoShape 50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2" name="Group 51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3" name="Oval 52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4" name="Oval 53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54"/>
            <p:cNvSpPr/>
            <p:nvPr/>
          </p:nvSpPr>
          <p:spPr>
            <a:xfrm>
              <a:off x="185112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55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Oval 56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8" name="Text Box 57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116856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59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60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61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AutoShape 62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4" name="Group 63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5" name="Oval 64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6" name="Oval 65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66"/>
            <p:cNvSpPr/>
            <p:nvPr/>
          </p:nvSpPr>
          <p:spPr>
            <a:xfrm>
              <a:off x="657540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67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9" name="Oval 68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20" name="Text Box 69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589284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AutoShape 71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72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73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74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Oval 75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76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77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78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Oval 79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Text Box 80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Text Box 81"/>
          <p:cNvSpPr/>
          <p:nvPr/>
        </p:nvSpPr>
        <p:spPr>
          <a:xfrm>
            <a:off x="353052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7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8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9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42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45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6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9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50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51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56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7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60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3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6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7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8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1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73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74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7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80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1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4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5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86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91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92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95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8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9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2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3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504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5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5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6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20" name="AutoShape 89"/>
          <p:cNvCxnSpPr>
            <a:stCxn id="516" idx="3"/>
            <a:endCxn id="51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1" name="AutoShape 90"/>
          <p:cNvCxnSpPr>
            <a:stCxn id="517" idx="3"/>
            <a:endCxn id="51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2" name="AutoShape 91"/>
          <p:cNvCxnSpPr>
            <a:stCxn id="518" idx="3"/>
            <a:endCxn id="51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100000">
                <a:srgbClr val="3491e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28600" y="1762200"/>
          <a:ext cx="7118640" cy="3495600"/>
        </p:xfrm>
        <a:graphic>
          <a:graphicData uri="http://schemas.openxmlformats.org/drawingml/2006/table">
            <a:tbl>
              <a:tblPr/>
              <a:tblGrid>
                <a:gridCol w="959040"/>
                <a:gridCol w="1859040"/>
                <a:gridCol w="344160"/>
                <a:gridCol w="1879920"/>
                <a:gridCol w="328320"/>
                <a:gridCol w="17481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6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7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8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9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1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2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43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44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5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6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7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8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9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0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2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3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4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6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2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9" name="Oval 4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Oval 5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7"/>
            <p:cNvSpPr/>
            <p:nvPr/>
          </p:nvSpPr>
          <p:spPr>
            <a:xfrm flipH="1" rot="20602200">
              <a:off x="1646640" y="3565080"/>
              <a:ext cx="287676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Freeform 14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Arc 15"/>
            <p:cNvSpPr/>
            <p:nvPr/>
          </p:nvSpPr>
          <p:spPr>
            <a:xfrm rot="20539200">
              <a:off x="4774680" y="3193560"/>
              <a:ext cx="298476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7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Text Box 19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6" name="Oval 20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9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3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87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1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3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5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8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7"/>
          <p:cNvSpPr/>
          <p:nvPr/>
        </p:nvSpPr>
        <p:spPr>
          <a:xfrm rot="5400000">
            <a:off x="-1004760" y="1633320"/>
            <a:ext cx="3504960" cy="359064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90640"/>
              <a:gd name="textAreaBottom" fmla="*/ 1281960 h 3590640"/>
            </a:gdLst>
            <a:ahLst/>
            <a:rect l="textAreaLeft" t="textAreaTop" r="textAreaRight" b="textAreaBottom"/>
            <a:pathLst>
              <a:path w="21600" h="216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6"/>
                  <a:pt x="10864" y="10764"/>
                  <a:pt x="10864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29"/>
          <p:cNvGrpSpPr/>
          <p:nvPr/>
        </p:nvGrpSpPr>
        <p:grpSpPr>
          <a:xfrm>
            <a:off x="858600" y="1219320"/>
            <a:ext cx="2189160" cy="4432320"/>
            <a:chOff x="858600" y="1219320"/>
            <a:chExt cx="2189160" cy="4432320"/>
          </a:xfrm>
        </p:grpSpPr>
        <p:pic>
          <p:nvPicPr>
            <p:cNvPr id="89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2360" y="1219320"/>
              <a:ext cx="1714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9640" y="2340000"/>
              <a:ext cx="426564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52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66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67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70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73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76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29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60" name="AutoShape 30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32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33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Text Box 35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7" name="Group 37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68" name="AutoShape 38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Text Box 39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40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41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AutoShape 42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4" name="AutoShape 44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6" name="AutoShape 46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47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48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AutoShape 49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50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2" name="AutoShape 52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917800" y="1981080"/>
            <a:ext cx="3157560" cy="2841480"/>
            <a:chOff x="2917800" y="1981080"/>
            <a:chExt cx="3157560" cy="2841480"/>
          </a:xfrm>
        </p:grpSpPr>
        <p:sp>
          <p:nvSpPr>
            <p:cNvPr id="210" name="AutoShape 10"/>
            <p:cNvSpPr/>
            <p:nvPr/>
          </p:nvSpPr>
          <p:spPr>
            <a:xfrm flipH="1" rot="16200000">
              <a:off x="2835720" y="30978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 flipH="1" rot="5400000">
              <a:off x="5666760" y="30441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 flipH="1" rot="10800000">
              <a:off x="424980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3"/>
            <p:cNvSpPr/>
            <p:nvPr/>
          </p:nvSpPr>
          <p:spPr>
            <a:xfrm>
              <a:off x="322272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336852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7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Oval 18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381240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20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7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0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1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4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5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7" name="Text Box 15"/>
            <p:cNvSpPr/>
            <p:nvPr/>
          </p:nvSpPr>
          <p:spPr>
            <a:xfrm>
              <a:off x="4728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8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1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5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8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0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王玉清</cp:lastModifiedBy>
  <dcterms:modified xsi:type="dcterms:W3CDTF">2016-02-24T02:34:36Z</dcterms:modified>
  <cp:revision>23</cp:revision>
  <dc:subject/>
  <dc:title>PowerPoint Template</dc:title>
</cp:coreProperties>
</file>