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3290734"/>
        <c:axId val="32160071"/>
      </c:barChart>
      <c:catAx>
        <c:axId val="832907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2160071"/>
        <c:crosses val="autoZero"/>
        <c:auto val="1"/>
        <c:lblAlgn val="ctr"/>
        <c:lblOffset val="100"/>
        <c:noMultiLvlLbl val="0"/>
      </c:catAx>
      <c:valAx>
        <c:axId val="32160071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329073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83462784"/>
        <c:axId val="441984"/>
      </c:barChart>
      <c:catAx>
        <c:axId val="8346278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41984"/>
        <c:crosses val="autoZero"/>
        <c:auto val="1"/>
        <c:lblAlgn val="ctr"/>
        <c:lblOffset val="100"/>
        <c:noMultiLvlLbl val="0"/>
      </c:catAx>
      <c:valAx>
        <c:axId val="44198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346278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9114639"/>
        <c:axId val="87521535"/>
      </c:lineChart>
      <c:catAx>
        <c:axId val="691146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7521535"/>
        <c:crosses val="autoZero"/>
        <c:auto val="1"/>
        <c:lblAlgn val="ctr"/>
        <c:lblOffset val="100"/>
        <c:noMultiLvlLbl val="0"/>
      </c:catAx>
      <c:valAx>
        <c:axId val="87521535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911463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47967807"/>
        <c:axId val="75529996"/>
      </c:barChart>
      <c:catAx>
        <c:axId val="479678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5529996"/>
        <c:crosses val="autoZero"/>
        <c:auto val="1"/>
        <c:lblAlgn val="ctr"/>
        <c:lblOffset val="100"/>
        <c:noMultiLvlLbl val="0"/>
      </c:catAx>
      <c:valAx>
        <c:axId val="75529996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7967807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8F295-5032-4402-8320-6052F07DB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736694D7-46E3-4CA9-B610-0E6643410B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9BE-006A-4E03-838B-71C9EB5C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196-4353-4F77-BD8E-E8B15D8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9E1-DF1B-427B-968A-6FB0D5AC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27E-06C1-40B0-A5BD-3E4146F1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3459-D32B-46F1-AC18-4033F0D7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958-E700-400C-883B-5975EE35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BB7-2618-4C05-A14D-3BACEE8F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3D22-32BF-4C53-81A6-D3FA207B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7162-E3E7-4D90-8621-48CCC8B9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A38-79FA-4CCB-96AA-2BCFE86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E3E6-0C20-44D2-8354-74718E3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2B1-4958-4EDE-A133-D1AD4E3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2B6-542D-4698-81C4-C04007A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580-0AC5-4848-A03A-2CE2A66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F2D-A916-4206-81AF-FA0FF38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FF37-533E-4C13-9C55-431D2471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ABB-F09F-48C5-AE8D-6CDB02F0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4674-8759-4520-B3AF-DA26689D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CE83-C6F1-474C-9C3D-B20FBF9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8953-BDF9-4BF1-AF46-3B486D4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87AE-AF7F-4B73-8553-E33D8DC6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5CE5-8D0D-4469-AE25-E350128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B67-8A89-45F2-9343-51BE6FD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D674-8305-4E8B-BD76-F6BDBF0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BB64-4A7D-44E6-8D40-E96BF3F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3787-120C-4289-A7C4-FA32011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4255-24A8-41F1-9F80-D1F03DF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D761-ADD8-4778-B885-6BD3C3B0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D6B9-0AF4-4989-9935-46048CC2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1992-79F3-43AB-B82B-5BADAFDE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8CA8-7DF1-4B32-9548-3A744C8D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B09E-840C-4512-83E9-013C100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0BA2-A27D-4AFE-91DB-30BFDDE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C37-0F2D-44F4-AC85-86E9729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84CF-E087-4F65-918C-14A658E7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467F-E289-4BAF-8A03-F987408C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91A5-8E43-452A-96B2-92322DF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B65A-0865-4CA7-8D4F-BBE76A6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59CCD-5E7E-4450-9E1D-C42B486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CAA9-C759-412A-BA7A-61AE97B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560F-AD43-42C8-961E-2A167F8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1FA51-785D-48A6-BD3B-E0DE4B9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7DB2-3C26-41B8-AB34-19B5135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B4E0-E29D-4736-80BD-6FAA4549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324-F92F-4322-8730-126CB6A8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7C0A-F7AE-4E4A-ABD8-4BC2DA03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DF43-C5D6-4C7F-BF75-BA572292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646F-6D3B-42CE-81B6-58A4D6D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BF7F-D8B4-49E9-981A-D02F930D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A4BB-69BF-4E4F-BA93-1F44E7D8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28D2-C61E-433C-90D4-47F24FF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2B8E-B5DC-4A73-8552-7563455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B305-A99D-434A-8D65-D30DFFD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6FAE-80F8-4260-B65A-EF4E762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20E7-EC45-489F-8252-353257C8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442-2050-45BD-8085-DCF313A8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4050-A3EA-4614-B5A1-8D16FD5C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7E3B-81F4-4AC0-A220-11E82C86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590E-57B4-4181-B1E5-7694015E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1BB2-DF8E-4127-8A10-DDA057BE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8D36-C26A-4579-BA0B-D002069C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4EE4-6DE0-4E11-B8E8-1FAF5135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F1CA-1012-4EDA-9BF7-D1BCCA1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9184-5E16-4638-9DE7-28AC2F2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EB63-942B-45C9-98FE-8EFA650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4354-84B4-4296-BE62-A631F92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2EB-0316-4C5F-956E-FF959A3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8A37-09AE-49E7-9C34-E82D0DFD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5DDF2-0C8F-4454-9D23-1B7C9F64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A0F0-BDE4-447D-9142-B9F69271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708C-871B-4746-A512-669BA3A4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BE70F-EE5D-48E1-86E1-4C0A945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C751D-24CF-4612-8FC9-F003836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4622-75B6-47F2-AFC7-B437DBDD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AA3D-9B72-442F-BFCB-3DB38B47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7221-06A5-4CD0-B01A-C2F55085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D41A-7CD9-4394-B9F5-9C8C2E0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4DF-9854-4ED6-AA95-C7B59F9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F676-5834-48BF-829B-577B408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183E-0550-4D2C-A5E5-75B1787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5500-EE22-48B3-B5AB-DEBA48C2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4645-4DEC-4C2A-9787-9EBAC58E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0F40-3AB9-47B6-94F6-92B108C9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A454-1527-411F-A32E-80CDD2FC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807D-020B-4723-AC37-6F9D0134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A247-FBC5-4F63-9D94-B0122EC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0A62-CF96-465F-B0D3-ACEB6000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9C40-A483-4B80-B130-8D3F892B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55E-D917-48D6-85B4-303660B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832A-C33D-4EB6-BA45-5F65C28C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150DB-F1EC-4C6B-BEF3-B9EB692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F388-98A8-413E-AFA8-97293FF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670A8-FE04-4875-A60F-E99E54DB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2C5B-3598-4DBA-9D97-57B8A61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1037-8B52-4F90-9712-EB68FA89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D1EC-A998-4015-9461-5B8936C9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5" name="同侧圆角矩形 6"/>
          <p:cNvSpPr/>
          <p:nvPr/>
        </p:nvSpPr>
        <p:spPr>
          <a:xfrm rot="16200000">
            <a:off x="3951720" y="-2071080"/>
            <a:ext cx="16354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3F60042-4C7A-4EF1-A9E9-FCCAFF390C5C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CB318D-37D8-44CB-B5D3-00232C61049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5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6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10"/>
          <p:cNvSpPr/>
          <p:nvPr/>
        </p:nvSpPr>
        <p:spPr>
          <a:xfrm rot="16200000">
            <a:off x="3689640" y="-1808640"/>
            <a:ext cx="216000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FB0E069-2D03-4632-8FF3-CF37C6F5B824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3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ACD1C-E932-4557-A34C-E4755E9650D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9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647DEE1-9B56-48B6-84F5-517180562BF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4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1B69FE-1B7B-4E5C-888B-218691118D1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13724-E84E-42AF-A855-52DCAC77438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325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6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7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329" name="同侧圆角矩形 10"/>
          <p:cNvSpPr/>
          <p:nvPr/>
        </p:nvSpPr>
        <p:spPr>
          <a:xfrm rot="16200000">
            <a:off x="3951720" y="-2071080"/>
            <a:ext cx="16354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4B1EDA2-73FD-4B44-8BF9-5A8AAB9665E1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绿色光圈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2B9-16B1-475B-A0AA-451A805D8E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079F4-715C-4C77-975F-21B86BEF845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51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81EC982-9F62-4630-9D4F-84763E199EEF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38A0C4-54A1-4DEC-9195-40862DFE10C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7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8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9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70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71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3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251640" y="6579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2705-2224-4A46-BF26-8CFAB320914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269113-7B30-499C-BA35-A7FDBEFC1AE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2D981-167A-47B2-ABF9-0AC5ED33DD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FE9674FB-E442-44C8-A4F5-BE968D107E9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C8C78F-2806-44F0-8B0E-D4DB7B653057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9210D3-5E6D-48BA-902B-168F48776EE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6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8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0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1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2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4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6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97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8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8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0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1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2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3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4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5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6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b050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27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28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29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30E0-7FDF-4CE7-85A5-01E9A97D5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9C42A38-2503-4127-A01E-2B541013E5E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内容占位符 8" descr=""/>
          <p:cNvPicPr/>
          <p:nvPr/>
        </p:nvPicPr>
        <p:blipFill>
          <a:blip r:embed="rId1"/>
          <a:stretch/>
        </p:blipFill>
        <p:spPr>
          <a:xfrm>
            <a:off x="539640" y="1245600"/>
            <a:ext cx="4850640" cy="4967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51640" y="6579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4690-6F2C-4045-ADDA-DF2106F58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2B77B737-56D6-470A-882E-6623E7CDF90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11353654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FC75-C622-414D-9C90-EE86379335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F0D2BAE8-EEDF-4850-AB96-ABF3C2DCBCC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818959758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4B31-38A1-44E4-AADD-32C4436678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F84F521D-0F3E-47D2-95F7-19E41EA7C6B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40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41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8D75-0AB6-48EF-AC9D-16525F4C42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637E53D-1D49-451F-A0FF-21B1B180BC37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6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54A7-6938-4565-AEC9-D9E7AA5266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B74C93E4-E3C5-4A4A-BC26-83375ECD6BD3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48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F8D0-8C82-4DE8-A35A-0511A5C6DD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9B20240-CB8D-418B-A9AC-DC9F992724C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74</Template>
  <TotalTime>2</TotalTime>
  <Application>LibreOffice/7.4.7.2$Linux_X86_64 LibreOffice_project/40$Build-2</Application>
  <AppVersion>15.0000</AppVersion>
  <Words>527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0:57:51Z</dcterms:created>
  <dc:creator>ppt宝藏</dc:creator>
  <dc:description>我爱PPT中文网</dc:description>
  <dc:language>en-US</dc:language>
  <cp:lastModifiedBy>王玉清</cp:lastModifiedBy>
  <dcterms:modified xsi:type="dcterms:W3CDTF">2016-03-05T09:04:04Z</dcterms:modified>
  <cp:revision>3</cp:revision>
  <dc:subject>TP-图形创意</dc:subject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