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EFE9-DD13-438D-983B-94573A89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C40-DDE7-44FF-854D-929C84DD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167D-686F-4A95-AFDA-964F18E63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B67-998E-4A76-8780-128C02C8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1618-B4CB-44C2-88F7-6A874316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0701C-27C5-4DAC-9F34-C09C4FD8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FD28-DF2F-4379-AB5B-DFCB59D4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11E36-66FC-41EE-81A9-4E39CE2A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C903-72D3-4077-B04C-03A9E2713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F4F9-FA91-4B5A-985F-1505CB12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047A5-3F00-44C0-97E1-923FA3C2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89AD-031C-4323-BA95-ED7C78A5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EC6E7-5A88-4FB4-B60D-723CD61F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EFC5A-BA5C-4F73-9AAD-61B2A2C8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6EB05-7101-4617-91BF-53C518E3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C1A7-2893-4881-A45C-57C859C8D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8EB5-6E5F-47FC-80D4-5E07A9D7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156D-50A5-405C-AA4F-1F9F0E801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AA1E-9F85-49E2-88BC-2EBCB368F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5BDF-18CB-42D3-8CB4-C3CA886DB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8FB1-A14B-44D7-876F-9579AE1F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3F65-F33C-40C1-B7AD-9C69829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8247-05AD-46C0-B673-100A03D0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D111-42CC-45E1-AC2A-67A7A80B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1.xml"/><Relationship Id="rId19" Type="http://schemas.openxmlformats.org/officeDocument/2006/relationships/slideLayout" Target="../slideLayouts/slideLayout2.xml"/><Relationship Id="rId20" Type="http://schemas.openxmlformats.org/officeDocument/2006/relationships/slideLayout" Target="../slideLayouts/slideLayout3.xml"/><Relationship Id="rId21" Type="http://schemas.openxmlformats.org/officeDocument/2006/relationships/slideLayout" Target="../slideLayouts/slideLayout4.xml"/><Relationship Id="rId22" Type="http://schemas.openxmlformats.org/officeDocument/2006/relationships/slideLayout" Target="../slideLayouts/slideLayout5.xml"/><Relationship Id="rId23" Type="http://schemas.openxmlformats.org/officeDocument/2006/relationships/slideLayout" Target="../slideLayouts/slideLayout6.xml"/><Relationship Id="rId24" Type="http://schemas.openxmlformats.org/officeDocument/2006/relationships/slideLayout" Target="../slideLayouts/slideLayout7.xml"/><Relationship Id="rId25" Type="http://schemas.openxmlformats.org/officeDocument/2006/relationships/slideLayout" Target="../slideLayouts/slideLayout8.xml"/><Relationship Id="rId26" Type="http://schemas.openxmlformats.org/officeDocument/2006/relationships/slideLayout" Target="../slideLayouts/slideLayout9.xml"/><Relationship Id="rId27" Type="http://schemas.openxmlformats.org/officeDocument/2006/relationships/slideLayout" Target="../slideLayouts/slideLayout10.xml"/><Relationship Id="rId28" Type="http://schemas.openxmlformats.org/officeDocument/2006/relationships/slideLayout" Target="../slideLayouts/slideLayout11.xml"/><Relationship Id="rId2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251640" y="1412640"/>
            <a:ext cx="647640" cy="1436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132d3a"/>
                </a:solidFill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9" descr=""/>
          <p:cNvPicPr/>
          <p:nvPr/>
        </p:nvPicPr>
        <p:blipFill>
          <a:blip r:embed="rId17"/>
          <a:srcRect l="3953" t="0" r="0" b="4001"/>
          <a:stretch/>
        </p:blipFill>
        <p:spPr>
          <a:xfrm>
            <a:off x="0" y="0"/>
            <a:ext cx="9143640" cy="685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  <a:ea typeface="黑体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ECC9D2-61BD-4829-BB0B-CF21674F3311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8"/>
    <p:sldLayoutId id="2147483650" r:id="rId19"/>
    <p:sldLayoutId id="2147483651" r:id="rId20"/>
    <p:sldLayoutId id="2147483652" r:id="rId21"/>
    <p:sldLayoutId id="2147483653" r:id="rId22"/>
    <p:sldLayoutId id="2147483654" r:id="rId23"/>
    <p:sldLayoutId id="2147483655" r:id="rId24"/>
    <p:sldLayoutId id="2147483656" r:id="rId25"/>
    <p:sldLayoutId id="2147483657" r:id="rId26"/>
    <p:sldLayoutId id="2147483658" r:id="rId27"/>
    <p:sldLayoutId id="2147483659" r:id="rId28"/>
    <p:sldLayoutId id="2147483660" r:id="rId2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7" descr=""/>
          <p:cNvPicPr/>
          <p:nvPr/>
        </p:nvPicPr>
        <p:blipFill>
          <a:blip r:embed="rId2"/>
          <a:srcRect l="3953" t="11044" r="0" b="73795"/>
          <a:stretch/>
        </p:blipFill>
        <p:spPr>
          <a:xfrm>
            <a:off x="0" y="0"/>
            <a:ext cx="9143640" cy="1082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  <a:ea typeface="黑体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021F17-910F-4C52-9F7A-D2A52223D93D}" type="slidenum">
              <a:rPr b="0" lang="en-US" sz="1200" spc="-1" strike="noStrike">
                <a:solidFill>
                  <a:srgbClr val="8b8b8b"/>
                </a:solidFill>
                <a:latin typeface="Calibri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0" y="1052640"/>
            <a:ext cx="9143640" cy="5801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2f2f2"/>
              </a:gs>
            </a:gsLst>
            <a:path path="circle">
              <a:fillToRect l="50000" t="50000" r="50000" b="50000"/>
            </a:path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微软雅黑"/>
            </a:endParaRPr>
          </a:p>
        </p:txBody>
      </p:sp>
      <p:pic>
        <p:nvPicPr>
          <p:cNvPr id="49" name="图片 9" descr=""/>
          <p:cNvPicPr/>
          <p:nvPr/>
        </p:nvPicPr>
        <p:blipFill>
          <a:blip r:embed="rId3"/>
          <a:stretch/>
        </p:blipFill>
        <p:spPr>
          <a:xfrm>
            <a:off x="7633440" y="5106240"/>
            <a:ext cx="1186560" cy="1751400"/>
          </a:xfrm>
          <a:prstGeom prst="rect">
            <a:avLst/>
          </a:prstGeom>
          <a:ln w="0">
            <a:noFill/>
          </a:ln>
        </p:spPr>
      </p:pic>
      <p:cxnSp>
        <p:nvCxnSpPr>
          <p:cNvPr id="50" name="直接连接符 12"/>
          <p:cNvCxnSpPr/>
          <p:nvPr/>
        </p:nvCxnSpPr>
        <p:spPr>
          <a:xfrm>
            <a:off x="0" y="1066680"/>
            <a:ext cx="9144360" cy="360"/>
          </a:xfrm>
          <a:prstGeom prst="straightConnector1">
            <a:avLst/>
          </a:prstGeom>
          <a:ln>
            <a:solidFill>
              <a:srgbClr val="006d62"/>
            </a:solidFill>
            <a:round/>
          </a:ln>
        </p:spPr>
      </p:cxn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40404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40404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40404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404040"/>
                </a:solidFill>
                <a:latin typeface="微软雅黑"/>
                <a:ea typeface="微软雅黑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488360" cy="79164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绿色公益宣传通用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黑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755640" y="1845000"/>
            <a:ext cx="763236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环境保护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  <a:ea typeface="黑体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683640" y="1986120"/>
            <a:ext cx="7632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595959"/>
                </a:solidFill>
                <a:latin typeface="微软雅黑"/>
                <a:ea typeface="微软雅黑"/>
              </a:rPr>
              <a:t>模板很是简洁，欢迎交流学习，对不足之处可提出修改意见，互相提高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组合 7"/>
          <p:cNvGrpSpPr/>
          <p:nvPr/>
        </p:nvGrpSpPr>
        <p:grpSpPr>
          <a:xfrm>
            <a:off x="3069720" y="2421000"/>
            <a:ext cx="3446280" cy="503640"/>
            <a:chOff x="3069720" y="2421000"/>
            <a:chExt cx="3446280" cy="503640"/>
          </a:xfrm>
        </p:grpSpPr>
        <p:sp>
          <p:nvSpPr>
            <p:cNvPr id="95" name="矩形 3"/>
            <p:cNvSpPr/>
            <p:nvPr/>
          </p:nvSpPr>
          <p:spPr>
            <a:xfrm>
              <a:off x="3069720" y="2421000"/>
              <a:ext cx="503640" cy="50364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直接连接符 5"/>
            <p:cNvCxnSpPr/>
            <p:nvPr/>
          </p:nvCxnSpPr>
          <p:spPr>
            <a:xfrm>
              <a:off x="3069720" y="2899440"/>
              <a:ext cx="50436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round/>
            </a:ln>
          </p:spPr>
        </p:cxnSp>
        <p:sp>
          <p:nvSpPr>
            <p:cNvPr id="97" name="TextBox 6"/>
            <p:cNvSpPr/>
            <p:nvPr/>
          </p:nvSpPr>
          <p:spPr>
            <a:xfrm>
              <a:off x="3708000" y="2488320"/>
              <a:ext cx="28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8"/>
          <p:cNvGrpSpPr/>
          <p:nvPr/>
        </p:nvGrpSpPr>
        <p:grpSpPr>
          <a:xfrm>
            <a:off x="3069720" y="3213000"/>
            <a:ext cx="3446280" cy="503640"/>
            <a:chOff x="3069720" y="3213000"/>
            <a:chExt cx="3446280" cy="503640"/>
          </a:xfrm>
        </p:grpSpPr>
        <p:sp>
          <p:nvSpPr>
            <p:cNvPr id="99" name="矩形 9"/>
            <p:cNvSpPr/>
            <p:nvPr/>
          </p:nvSpPr>
          <p:spPr>
            <a:xfrm>
              <a:off x="3069720" y="3213000"/>
              <a:ext cx="503640" cy="50364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0" name="直接连接符 10"/>
            <p:cNvCxnSpPr/>
            <p:nvPr/>
          </p:nvCxnSpPr>
          <p:spPr>
            <a:xfrm>
              <a:off x="3069720" y="3691800"/>
              <a:ext cx="50436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round/>
            </a:ln>
          </p:spPr>
        </p:cxnSp>
        <p:sp>
          <p:nvSpPr>
            <p:cNvPr id="101" name="TextBox 11"/>
            <p:cNvSpPr/>
            <p:nvPr/>
          </p:nvSpPr>
          <p:spPr>
            <a:xfrm>
              <a:off x="3708000" y="3280320"/>
              <a:ext cx="28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2"/>
          <p:cNvGrpSpPr/>
          <p:nvPr/>
        </p:nvGrpSpPr>
        <p:grpSpPr>
          <a:xfrm>
            <a:off x="3069720" y="4005000"/>
            <a:ext cx="3446280" cy="503640"/>
            <a:chOff x="3069720" y="4005000"/>
            <a:chExt cx="3446280" cy="503640"/>
          </a:xfrm>
        </p:grpSpPr>
        <p:sp>
          <p:nvSpPr>
            <p:cNvPr id="103" name="矩形 13"/>
            <p:cNvSpPr/>
            <p:nvPr/>
          </p:nvSpPr>
          <p:spPr>
            <a:xfrm>
              <a:off x="3069720" y="4005000"/>
              <a:ext cx="503640" cy="50364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4" name="直接连接符 14"/>
            <p:cNvCxnSpPr/>
            <p:nvPr/>
          </p:nvCxnSpPr>
          <p:spPr>
            <a:xfrm>
              <a:off x="3069720" y="4483800"/>
              <a:ext cx="50436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round/>
            </a:ln>
          </p:spPr>
        </p:cxnSp>
        <p:sp>
          <p:nvSpPr>
            <p:cNvPr id="105" name="TextBox 15"/>
            <p:cNvSpPr/>
            <p:nvPr/>
          </p:nvSpPr>
          <p:spPr>
            <a:xfrm>
              <a:off x="3708000" y="4072320"/>
              <a:ext cx="28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6"/>
          <p:cNvGrpSpPr/>
          <p:nvPr/>
        </p:nvGrpSpPr>
        <p:grpSpPr>
          <a:xfrm>
            <a:off x="3069720" y="4797000"/>
            <a:ext cx="3446280" cy="503640"/>
            <a:chOff x="3069720" y="4797000"/>
            <a:chExt cx="3446280" cy="503640"/>
          </a:xfrm>
        </p:grpSpPr>
        <p:sp>
          <p:nvSpPr>
            <p:cNvPr id="107" name="矩形 17"/>
            <p:cNvSpPr/>
            <p:nvPr/>
          </p:nvSpPr>
          <p:spPr>
            <a:xfrm>
              <a:off x="3069720" y="4797000"/>
              <a:ext cx="503640" cy="503640"/>
            </a:xfrm>
            <a:prstGeom prst="rect">
              <a:avLst/>
            </a:prstGeom>
            <a:gradFill rotWithShape="0">
              <a:gsLst>
                <a:gs pos="0">
                  <a:srgbClr val="379d6d"/>
                </a:gs>
                <a:gs pos="100000">
                  <a:srgbClr val="0b8a5c"/>
                </a:gs>
              </a:gsLst>
              <a:lin ang="5400000"/>
            </a:gra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chemeClr val="lt1"/>
                  </a:solidFill>
                  <a:latin typeface="Calibri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直接连接符 18"/>
            <p:cNvCxnSpPr/>
            <p:nvPr/>
          </p:nvCxnSpPr>
          <p:spPr>
            <a:xfrm>
              <a:off x="3069720" y="5275800"/>
              <a:ext cx="504360" cy="360"/>
            </a:xfrm>
            <a:prstGeom prst="straightConnector1">
              <a:avLst/>
            </a:prstGeom>
            <a:ln>
              <a:solidFill>
                <a:srgbClr val="ffffff">
                  <a:lumMod val="95000"/>
                </a:srgbClr>
              </a:solidFill>
              <a:round/>
            </a:ln>
          </p:spPr>
        </p:cxnSp>
        <p:sp>
          <p:nvSpPr>
            <p:cNvPr id="109" name="TextBox 19"/>
            <p:cNvSpPr/>
            <p:nvPr/>
          </p:nvSpPr>
          <p:spPr>
            <a:xfrm>
              <a:off x="3708000" y="4864680"/>
              <a:ext cx="2808000" cy="36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0" lang="zh-CN" sz="1800" spc="-1" strike="noStrike">
                  <a:solidFill>
                    <a:srgbClr val="595959"/>
                  </a:solidFill>
                  <a:latin typeface="Calibri"/>
                  <a:ea typeface="微软雅黑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777600"/>
          </a:xfrm>
          <a:prstGeom prst="rect">
            <a:avLst/>
          </a:prstGeom>
          <a:noFill/>
          <a:ln w="0">
            <a:noFill/>
          </a:ln>
          <a:effectLst>
            <a:outerShdw dist="32904" dir="3180283" blurRad="57960" rotWithShape="0">
              <a:srgbClr val="000000">
                <a:alpha val="30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chemeClr val="accent2">
                    <a:lumMod val="20000"/>
                    <a:lumOff val="80000"/>
                  </a:schemeClr>
                </a:solidFill>
                <a:latin typeface="Calibri"/>
                <a:ea typeface="黑体"/>
              </a:rPr>
              <a:t>点此添加主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茅草">
      <a:dk1>
        <a:srgbClr val="000000"/>
      </a:dk1>
      <a:lt1>
        <a:srgbClr val="ffffff"/>
      </a:lt1>
      <a:dk2>
        <a:srgbClr val="1d3641"/>
      </a:dk2>
      <a:lt2>
        <a:srgbClr val="dfe6d0"/>
      </a:lt2>
      <a:accent1>
        <a:srgbClr val="759aa5"/>
      </a:accent1>
      <a:accent2>
        <a:srgbClr val="cfc60d"/>
      </a:accent2>
      <a:accent3>
        <a:srgbClr val="99987f"/>
      </a:accent3>
      <a:accent4>
        <a:srgbClr val="90ac97"/>
      </a:accent4>
      <a:accent5>
        <a:srgbClr val="ffad1c"/>
      </a:accent5>
      <a:accent6>
        <a:srgbClr val="b9ab6f"/>
      </a:accent6>
      <a:hlink>
        <a:srgbClr val="66aacd"/>
      </a:hlink>
      <a:folHlink>
        <a:srgbClr val="809db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茅草">
      <a:dk1>
        <a:srgbClr val="000000"/>
      </a:dk1>
      <a:lt1>
        <a:srgbClr val="ffffff"/>
      </a:lt1>
      <a:dk2>
        <a:srgbClr val="1d3641"/>
      </a:dk2>
      <a:lt2>
        <a:srgbClr val="dfe6d0"/>
      </a:lt2>
      <a:accent1>
        <a:srgbClr val="759aa5"/>
      </a:accent1>
      <a:accent2>
        <a:srgbClr val="cfc60d"/>
      </a:accent2>
      <a:accent3>
        <a:srgbClr val="99987f"/>
      </a:accent3>
      <a:accent4>
        <a:srgbClr val="90ac97"/>
      </a:accent4>
      <a:accent5>
        <a:srgbClr val="ffad1c"/>
      </a:accent5>
      <a:accent6>
        <a:srgbClr val="b9ab6f"/>
      </a:accent6>
      <a:hlink>
        <a:srgbClr val="66aacd"/>
      </a:hlink>
      <a:folHlink>
        <a:srgbClr val="809db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  <Words>63</Words>
  <Paragraphs>1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14:24:07Z</dcterms:created>
  <dc:creator>王琳</dc:creator>
  <dc:description/>
  <dc:language>en-US</dc:language>
  <cp:lastModifiedBy>王玉清</cp:lastModifiedBy>
  <dcterms:modified xsi:type="dcterms:W3CDTF">2016-02-21T03:46:59Z</dcterms:modified>
  <cp:revision>1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4</vt:r8>
  </property>
</Properties>
</file>