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8B04E9-6A54-43C6-AEBE-5D0CEE6DD5A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Users\Kathy\Documents\Corporate PPT Template\FINAL\ppt-images\NoTexture_Closing.png"/>
          <p:cNvPicPr/>
          <p:nvPr/>
        </p:nvPicPr>
        <p:blipFill>
          <a:blip r:embed="rId2"/>
          <a:stretch/>
        </p:blipFill>
        <p:spPr>
          <a:xfrm>
            <a:off x="0" y="3103560"/>
            <a:ext cx="914400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1"/>
          <p:cNvSpPr/>
          <p:nvPr/>
        </p:nvSpPr>
        <p:spPr>
          <a:xfrm rot="21364800">
            <a:off x="-114480" y="2540160"/>
            <a:ext cx="3065760" cy="2989080"/>
          </a:xfrm>
          <a:custGeom>
            <a:avLst/>
            <a:gdLst/>
            <a:ahLst/>
            <a:rect l="l" t="t" r="r" b="b"/>
            <a:pathLst>
              <a:path w="3065555" h="2250373">
                <a:moveTo>
                  <a:pt x="157893" y="0"/>
                </a:moveTo>
                <a:lnTo>
                  <a:pt x="3065555" y="8119"/>
                </a:lnTo>
                <a:lnTo>
                  <a:pt x="3065555" y="2250373"/>
                </a:lnTo>
                <a:lnTo>
                  <a:pt x="0" y="2240484"/>
                </a:lnTo>
                <a:lnTo>
                  <a:pt x="157893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1"/>
          <p:cNvSpPr/>
          <p:nvPr/>
        </p:nvSpPr>
        <p:spPr>
          <a:xfrm rot="21347400">
            <a:off x="619200" y="2511000"/>
            <a:ext cx="2334960" cy="2992680"/>
          </a:xfrm>
          <a:custGeom>
            <a:avLst/>
            <a:gdLst/>
            <a:ahLst/>
            <a:rect l="l" t="t" r="r" b="b"/>
            <a:pathLst>
              <a:path w="2230127" h="1443631">
                <a:moveTo>
                  <a:pt x="36961" y="0"/>
                </a:moveTo>
                <a:lnTo>
                  <a:pt x="2228172" y="10745"/>
                </a:lnTo>
                <a:cubicBezTo>
                  <a:pt x="2230850" y="439656"/>
                  <a:pt x="2232723" y="651647"/>
                  <a:pt x="2220127" y="1443631"/>
                </a:cubicBezTo>
                <a:lnTo>
                  <a:pt x="40" y="988065"/>
                </a:lnTo>
                <a:cubicBezTo>
                  <a:pt x="-1448" y="706509"/>
                  <a:pt x="38449" y="281556"/>
                  <a:pt x="36961" y="0"/>
                </a:cubicBez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 rot="21364800">
            <a:off x="6002280" y="2308320"/>
            <a:ext cx="3216240" cy="1936800"/>
          </a:xfrm>
          <a:custGeom>
            <a:avLst/>
            <a:gdLst/>
            <a:ahLst/>
            <a:rect l="l" t="t" r="r" b="b"/>
            <a:pathLst>
              <a:path w="3719612" h="988815">
                <a:moveTo>
                  <a:pt x="0" y="6729"/>
                </a:moveTo>
                <a:lnTo>
                  <a:pt x="3719612" y="0"/>
                </a:lnTo>
                <a:cubicBezTo>
                  <a:pt x="3686881" y="338931"/>
                  <a:pt x="3631493" y="650689"/>
                  <a:pt x="3575489" y="988815"/>
                </a:cubicBezTo>
                <a:lnTo>
                  <a:pt x="0" y="986013"/>
                </a:lnTo>
                <a:lnTo>
                  <a:pt x="0" y="6729"/>
                </a:lnTo>
                <a:close/>
              </a:path>
            </a:pathLst>
          </a:cu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 rot="21364800">
            <a:off x="7704000" y="3255480"/>
            <a:ext cx="992160" cy="341280"/>
          </a:xfrm>
          <a:custGeom>
            <a:avLst/>
            <a:gdLst/>
            <a:ahLst/>
            <a:rect l="l" t="t" r="r" b="b"/>
            <a:pathLst>
              <a:path w="1147356" h="586267">
                <a:moveTo>
                  <a:pt x="3094" y="0"/>
                </a:moveTo>
                <a:lnTo>
                  <a:pt x="572532" y="14374"/>
                </a:lnTo>
                <a:lnTo>
                  <a:pt x="1147356" y="569571"/>
                </a:lnTo>
                <a:lnTo>
                  <a:pt x="0" y="586268"/>
                </a:lnTo>
                <a:cubicBezTo>
                  <a:pt x="1031" y="390845"/>
                  <a:pt x="2063" y="195423"/>
                  <a:pt x="30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 rot="21421800">
            <a:off x="569520" y="1386000"/>
            <a:ext cx="7738920" cy="30621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9" descr=""/>
          <p:cNvPicPr/>
          <p:nvPr/>
        </p:nvPicPr>
        <p:blipFill>
          <a:blip r:embed="rId2"/>
          <a:srcRect l="0" t="-1444" r="69865" b="39549"/>
          <a:stretch/>
        </p:blipFill>
        <p:spPr>
          <a:xfrm rot="16021800">
            <a:off x="5811840" y="328320"/>
            <a:ext cx="1481040" cy="3402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 rot="21364800">
            <a:off x="3648240" y="3701520"/>
            <a:ext cx="5101920" cy="1113120"/>
          </a:xfrm>
          <a:custGeom>
            <a:avLst/>
            <a:gdLst/>
            <a:ahLst/>
            <a:rect l="l" t="t" r="r" b="b"/>
            <a:pathLst>
              <a:path w="5434373" h="1029855">
                <a:moveTo>
                  <a:pt x="3983" y="0"/>
                </a:moveTo>
                <a:lnTo>
                  <a:pt x="5434373" y="21600"/>
                </a:lnTo>
                <a:cubicBezTo>
                  <a:pt x="5433204" y="357685"/>
                  <a:pt x="5432034" y="693770"/>
                  <a:pt x="5430865" y="1029855"/>
                </a:cubicBezTo>
                <a:lnTo>
                  <a:pt x="0" y="1029855"/>
                </a:lnTo>
                <a:cubicBezTo>
                  <a:pt x="379" y="698610"/>
                  <a:pt x="3604" y="331245"/>
                  <a:pt x="3983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7FD425-4FE0-4E5F-A344-E5BF318D041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 flipH="1">
            <a:off x="154080" y="192240"/>
            <a:ext cx="898992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561051-2D8E-453D-A7F5-27962A1CC86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 flipH="1">
            <a:off x="154080" y="192240"/>
            <a:ext cx="905328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385848-FE9D-4DF5-A2B7-B8CDC3C971B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 flipH="1">
            <a:off x="154080" y="192240"/>
            <a:ext cx="905328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786088-F0DA-4FC4-9379-49E3D516B1D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 flipH="1">
            <a:off x="153360" y="192240"/>
            <a:ext cx="425916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 flipH="1" rot="10800000">
            <a:off x="4727520" y="191880"/>
            <a:ext cx="426240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8989920" y="6192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 flipH="1">
            <a:off x="7440480" y="1755720"/>
            <a:ext cx="1873440" cy="21938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 flipH="1">
            <a:off x="7436880" y="3073320"/>
            <a:ext cx="1282680" cy="876240"/>
          </a:xfrm>
          <a:custGeom>
            <a:avLst/>
            <a:gdLst/>
            <a:ahLst/>
            <a:rect l="l" t="t" r="r" b="b"/>
            <a:pathLst>
              <a:path w="1653364" h="1116419">
                <a:moveTo>
                  <a:pt x="54251" y="0"/>
                </a:moveTo>
                <a:lnTo>
                  <a:pt x="1653364" y="0"/>
                </a:lnTo>
                <a:lnTo>
                  <a:pt x="1653364" y="1116419"/>
                </a:lnTo>
                <a:lnTo>
                  <a:pt x="1" y="393405"/>
                </a:lnTo>
                <a:lnTo>
                  <a:pt x="54251" y="0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 flipH="1">
            <a:off x="4664880" y="438120"/>
            <a:ext cx="4054680" cy="293544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396000" y="6492960"/>
            <a:ext cx="291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939598"/>
                </a:solidFill>
                <a:latin typeface="Arial"/>
                <a:ea typeface="Arial"/>
              </a:rPr>
              <a:t>2012 LENOVO CONFIDENTIAL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4A28E7-7895-48F9-8E45-6078AF2F393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8259840" y="6553080"/>
            <a:ext cx="758880" cy="12240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3">
            <a:lum bright="20000"/>
          </a:blip>
          <a:srcRect l="0" t="0" r="61170" b="40459"/>
          <a:stretch/>
        </p:blipFill>
        <p:spPr>
          <a:xfrm rot="16200000">
            <a:off x="6227640" y="-217440"/>
            <a:ext cx="1836720" cy="314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98C077-FFEA-495A-BD76-0E0CC3D172D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 flipH="1">
            <a:off x="154080" y="192240"/>
            <a:ext cx="898992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6899400" y="3886200"/>
            <a:ext cx="2244600" cy="1263600"/>
          </a:xfrm>
          <a:prstGeom prst="rect">
            <a:avLst/>
          </a:pr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899400" y="3886200"/>
            <a:ext cx="2057400" cy="1100160"/>
          </a:xfrm>
          <a:custGeom>
            <a:avLst/>
            <a:gdLst/>
            <a:ahLst/>
            <a:rect l="l" t="t" r="r" b="b"/>
            <a:pathLst>
              <a:path w="4746418" h="1891568">
                <a:moveTo>
                  <a:pt x="0" y="0"/>
                </a:moveTo>
                <a:lnTo>
                  <a:pt x="4746418" y="627797"/>
                </a:lnTo>
                <a:lnTo>
                  <a:pt x="4746418" y="1891568"/>
                </a:lnTo>
                <a:lnTo>
                  <a:pt x="0" y="1891568"/>
                </a:lnTo>
                <a:lnTo>
                  <a:pt x="0" y="0"/>
                </a:ln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0" y="4248000"/>
            <a:ext cx="8956800" cy="12639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6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AE0E21-692C-4DCC-9225-E01CA0CE2EB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 rot="21366600">
            <a:off x="3914280" y="4100040"/>
            <a:ext cx="4359240" cy="3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 baseline="30000">
                <a:solidFill>
                  <a:srgbClr val="ffffff"/>
                </a:solidFill>
                <a:latin typeface="微软雅黑"/>
                <a:ea typeface="微软雅黑"/>
              </a:rPr>
              <a:t>16th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Jun. 2015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 rot="21404400">
            <a:off x="802800" y="1541160"/>
            <a:ext cx="731232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绿色环保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690"/>
          <p:cNvSpPr/>
          <p:nvPr/>
        </p:nvSpPr>
        <p:spPr>
          <a:xfrm>
            <a:off x="684360" y="1158840"/>
            <a:ext cx="7775280" cy="550800"/>
          </a:xfrm>
          <a:prstGeom prst="roundRect">
            <a:avLst>
              <a:gd name="adj" fmla="val 50000"/>
            </a:avLst>
          </a:prstGeom>
          <a:solidFill>
            <a:srgbClr val="327a17">
              <a:alpha val="7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91"/>
          <p:cNvSpPr/>
          <p:nvPr/>
        </p:nvSpPr>
        <p:spPr>
          <a:xfrm>
            <a:off x="684360" y="2316240"/>
            <a:ext cx="7775280" cy="506160"/>
          </a:xfrm>
          <a:prstGeom prst="roundRect">
            <a:avLst>
              <a:gd name="adj" fmla="val 50000"/>
            </a:avLst>
          </a:pr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****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692"/>
          <p:cNvSpPr/>
          <p:nvPr/>
        </p:nvSpPr>
        <p:spPr>
          <a:xfrm>
            <a:off x="684360" y="3429000"/>
            <a:ext cx="7775280" cy="530280"/>
          </a:xfrm>
          <a:prstGeom prst="roundRect">
            <a:avLst>
              <a:gd name="adj" fmla="val 50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*****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89"/>
          <p:cNvSpPr/>
          <p:nvPr/>
        </p:nvSpPr>
        <p:spPr>
          <a:xfrm>
            <a:off x="684360" y="4565520"/>
            <a:ext cx="7775280" cy="57636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直接连接符 8"/>
          <p:cNvSpPr/>
          <p:nvPr/>
        </p:nvSpPr>
        <p:spPr>
          <a:xfrm>
            <a:off x="2111400" y="4822920"/>
            <a:ext cx="4392720" cy="11160"/>
          </a:xfrm>
          <a:prstGeom prst="line">
            <a:avLst/>
          </a:prstGeom>
          <a:ln w="7632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387440" y="1303200"/>
            <a:ext cx="5541840" cy="1298880"/>
          </a:xfrm>
          <a:prstGeom prst="rect">
            <a:avLst/>
          </a:prstGeom>
          <a:noFill/>
          <a:ln w="92160">
            <a:solidFill>
              <a:srgbClr val="7bac6a"/>
            </a:solidFill>
            <a:prstDash val="sysDot"/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圆角矩形 3"/>
          <p:cNvSpPr/>
          <p:nvPr/>
        </p:nvSpPr>
        <p:spPr>
          <a:xfrm>
            <a:off x="2583000" y="3960720"/>
            <a:ext cx="3450960" cy="1744920"/>
          </a:xfrm>
          <a:prstGeom prst="roundRect">
            <a:avLst>
              <a:gd name="adj" fmla="val 16667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4"/>
          <p:cNvSpPr/>
          <p:nvPr/>
        </p:nvSpPr>
        <p:spPr>
          <a:xfrm>
            <a:off x="388800" y="3960720"/>
            <a:ext cx="1722600" cy="1724040"/>
          </a:xfrm>
          <a:prstGeom prst="ellipse">
            <a:avLst/>
          </a:pr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37"/>
          <p:cNvSpPr/>
          <p:nvPr/>
        </p:nvSpPr>
        <p:spPr>
          <a:xfrm>
            <a:off x="6504120" y="3971880"/>
            <a:ext cx="1724040" cy="1722600"/>
          </a:xfrm>
          <a:prstGeom prst="ellipse">
            <a:avLst/>
          </a:pr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"/>
          <p:cNvSpPr/>
          <p:nvPr/>
        </p:nvSpPr>
        <p:spPr>
          <a:xfrm>
            <a:off x="617400" y="3451320"/>
            <a:ext cx="1494000" cy="368280"/>
          </a:xfrm>
          <a:prstGeom prst="rect">
            <a:avLst/>
          </a:prstGeom>
          <a:noFill/>
          <a:ln w="3492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38"/>
          <p:cNvSpPr/>
          <p:nvPr/>
        </p:nvSpPr>
        <p:spPr>
          <a:xfrm>
            <a:off x="3411360" y="3451320"/>
            <a:ext cx="1494000" cy="368280"/>
          </a:xfrm>
          <a:prstGeom prst="rect">
            <a:avLst/>
          </a:prstGeom>
          <a:noFill/>
          <a:ln w="3492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39"/>
          <p:cNvSpPr/>
          <p:nvPr/>
        </p:nvSpPr>
        <p:spPr>
          <a:xfrm>
            <a:off x="6504120" y="3451320"/>
            <a:ext cx="1493640" cy="368280"/>
          </a:xfrm>
          <a:prstGeom prst="rect">
            <a:avLst/>
          </a:prstGeom>
          <a:noFill/>
          <a:ln w="3492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"/>
          <p:cNvSpPr/>
          <p:nvPr/>
        </p:nvSpPr>
        <p:spPr>
          <a:xfrm>
            <a:off x="2781360" y="421164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40" name="六边形 4"/>
          <p:cNvSpPr/>
          <p:nvPr/>
        </p:nvSpPr>
        <p:spPr>
          <a:xfrm>
            <a:off x="3284640" y="2781360"/>
            <a:ext cx="1971720" cy="170028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六边形 5"/>
          <p:cNvSpPr/>
          <p:nvPr/>
        </p:nvSpPr>
        <p:spPr>
          <a:xfrm>
            <a:off x="3284640" y="860400"/>
            <a:ext cx="1971720" cy="170028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六边形 6"/>
          <p:cNvSpPr/>
          <p:nvPr/>
        </p:nvSpPr>
        <p:spPr>
          <a:xfrm>
            <a:off x="5492880" y="1711440"/>
            <a:ext cx="1971720" cy="169992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六边形 7"/>
          <p:cNvSpPr/>
          <p:nvPr/>
        </p:nvSpPr>
        <p:spPr>
          <a:xfrm>
            <a:off x="3284640" y="4702320"/>
            <a:ext cx="1971720" cy="169992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六边形 8"/>
          <p:cNvSpPr/>
          <p:nvPr/>
        </p:nvSpPr>
        <p:spPr>
          <a:xfrm>
            <a:off x="1465200" y="3757680"/>
            <a:ext cx="1971720" cy="170028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六边形 9"/>
          <p:cNvSpPr/>
          <p:nvPr/>
        </p:nvSpPr>
        <p:spPr>
          <a:xfrm>
            <a:off x="5932440" y="4035600"/>
            <a:ext cx="2400480" cy="2241360"/>
          </a:xfrm>
          <a:prstGeom prst="hexagon">
            <a:avLst>
              <a:gd name="adj" fmla="val 25004"/>
              <a:gd name="vf" fmla="val 115470"/>
            </a:avLst>
          </a:prstGeom>
          <a:noFill/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六边形 10"/>
          <p:cNvSpPr/>
          <p:nvPr/>
        </p:nvSpPr>
        <p:spPr>
          <a:xfrm>
            <a:off x="264960" y="917640"/>
            <a:ext cx="2399040" cy="2241360"/>
          </a:xfrm>
          <a:prstGeom prst="hexagon">
            <a:avLst>
              <a:gd name="adj" fmla="val 25004"/>
              <a:gd name="vf" fmla="val 115470"/>
            </a:avLst>
          </a:prstGeom>
          <a:noFill/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11"/>
          <p:cNvSpPr/>
          <p:nvPr/>
        </p:nvSpPr>
        <p:spPr>
          <a:xfrm>
            <a:off x="6697800" y="4956120"/>
            <a:ext cx="15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12"/>
          <p:cNvSpPr/>
          <p:nvPr/>
        </p:nvSpPr>
        <p:spPr>
          <a:xfrm>
            <a:off x="866880" y="178740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14"/>
          <p:cNvSpPr/>
          <p:nvPr/>
        </p:nvSpPr>
        <p:spPr>
          <a:xfrm>
            <a:off x="277920" y="3446640"/>
            <a:ext cx="2135160" cy="0"/>
          </a:xfrm>
          <a:prstGeom prst="line">
            <a:avLst/>
          </a:prstGeom>
          <a:ln cap="rnd" w="63360">
            <a:solidFill>
              <a:srgbClr val="347c1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接连接符 16"/>
          <p:cNvSpPr/>
          <p:nvPr/>
        </p:nvSpPr>
        <p:spPr>
          <a:xfrm flipV="1">
            <a:off x="2347920" y="2104560"/>
            <a:ext cx="700200" cy="1357560"/>
          </a:xfrm>
          <a:prstGeom prst="line">
            <a:avLst/>
          </a:prstGeom>
          <a:ln cap="rnd" w="63360">
            <a:solidFill>
              <a:srgbClr val="347c1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20"/>
          <p:cNvSpPr/>
          <p:nvPr/>
        </p:nvSpPr>
        <p:spPr>
          <a:xfrm flipV="1">
            <a:off x="5049720" y="3396960"/>
            <a:ext cx="866880" cy="1749240"/>
          </a:xfrm>
          <a:prstGeom prst="line">
            <a:avLst/>
          </a:prstGeom>
          <a:ln cap="rnd" w="63360">
            <a:solidFill>
              <a:srgbClr val="347c1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53" name="六边形 3"/>
          <p:cNvSpPr/>
          <p:nvPr/>
        </p:nvSpPr>
        <p:spPr>
          <a:xfrm>
            <a:off x="5692680" y="939960"/>
            <a:ext cx="2629080" cy="226692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圆角矩形标注 4"/>
          <p:cNvSpPr/>
          <p:nvPr/>
        </p:nvSpPr>
        <p:spPr>
          <a:xfrm>
            <a:off x="438120" y="2073240"/>
            <a:ext cx="4300560" cy="1301760"/>
          </a:xfrm>
          <a:prstGeom prst="wedgeRoundRectCallout">
            <a:avLst>
              <a:gd name="adj1" fmla="val 64166"/>
              <a:gd name="adj2" fmla="val -31560"/>
              <a:gd name="adj3" fmla="val 16667"/>
            </a:avLst>
          </a:prstGeom>
          <a:noFill/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5"/>
          <p:cNvSpPr/>
          <p:nvPr/>
        </p:nvSpPr>
        <p:spPr>
          <a:xfrm>
            <a:off x="708120" y="23702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347c19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七角星 6"/>
          <p:cNvSpPr/>
          <p:nvPr/>
        </p:nvSpPr>
        <p:spPr>
          <a:xfrm>
            <a:off x="334800" y="4030560"/>
            <a:ext cx="2433960" cy="2266920"/>
          </a:xfrm>
          <a:prstGeom prst="pie">
            <a:avLst/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圆角矩形标注 7"/>
          <p:cNvSpPr/>
          <p:nvPr/>
        </p:nvSpPr>
        <p:spPr>
          <a:xfrm>
            <a:off x="3860640" y="4968720"/>
            <a:ext cx="4302360" cy="1301760"/>
          </a:xfrm>
          <a:prstGeom prst="wedgeRoundRectCallout">
            <a:avLst>
              <a:gd name="adj1" fmla="val -68768"/>
              <a:gd name="adj2" fmla="val -44430"/>
              <a:gd name="adj3" fmla="val 16667"/>
            </a:avLst>
          </a:prstGeom>
          <a:noFill/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"/>
          <p:cNvSpPr/>
          <p:nvPr/>
        </p:nvSpPr>
        <p:spPr>
          <a:xfrm>
            <a:off x="4132440" y="526572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347c19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38120" y="6448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ec2225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直接连接符 32"/>
          <p:cNvSpPr/>
          <p:nvPr/>
        </p:nvSpPr>
        <p:spPr>
          <a:xfrm flipH="1" flipV="1">
            <a:off x="995040" y="5036760"/>
            <a:ext cx="1260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62" name="泪滴形 3"/>
          <p:cNvSpPr/>
          <p:nvPr/>
        </p:nvSpPr>
        <p:spPr>
          <a:xfrm>
            <a:off x="979560" y="2048040"/>
            <a:ext cx="1725480" cy="1725480"/>
          </a:xfrm>
          <a:custGeom>
            <a:avLst/>
            <a:gdLst/>
            <a:ahLst/>
            <a:rect l="l" t="t" r="r" b="b"/>
            <a:pathLst>
              <a:path w="1725612" h="1725613">
                <a:moveTo>
                  <a:pt x="0" y="862807"/>
                </a:moveTo>
                <a:cubicBezTo>
                  <a:pt x="0" y="386292"/>
                  <a:pt x="386291" y="0"/>
                  <a:pt x="862806" y="0"/>
                </a:cubicBezTo>
                <a:lnTo>
                  <a:pt x="1725612" y="0"/>
                </a:lnTo>
                <a:lnTo>
                  <a:pt x="1725612" y="862807"/>
                </a:lnTo>
                <a:cubicBezTo>
                  <a:pt x="1725612" y="1339322"/>
                  <a:pt x="1339321" y="1725614"/>
                  <a:pt x="862806" y="1725614"/>
                </a:cubicBezTo>
                <a:cubicBezTo>
                  <a:pt x="386291" y="1725614"/>
                  <a:pt x="0" y="1339322"/>
                  <a:pt x="0" y="862807"/>
                </a:cubicBezTo>
                <a:close/>
              </a:path>
            </a:pathLst>
          </a:custGeom>
          <a:solidFill>
            <a:srgbClr val="327a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泪滴形 4"/>
          <p:cNvSpPr/>
          <p:nvPr/>
        </p:nvSpPr>
        <p:spPr>
          <a:xfrm>
            <a:off x="3828960" y="2048040"/>
            <a:ext cx="1725840" cy="1725480"/>
          </a:xfrm>
          <a:custGeom>
            <a:avLst/>
            <a:gdLst/>
            <a:ahLst/>
            <a:rect l="l" t="t" r="r" b="b"/>
            <a:pathLst>
              <a:path w="1725613" h="1725613">
                <a:moveTo>
                  <a:pt x="0" y="862807"/>
                </a:moveTo>
                <a:cubicBezTo>
                  <a:pt x="0" y="386292"/>
                  <a:pt x="386292" y="0"/>
                  <a:pt x="862807" y="0"/>
                </a:cubicBezTo>
                <a:lnTo>
                  <a:pt x="1725613" y="0"/>
                </a:lnTo>
                <a:lnTo>
                  <a:pt x="1725613" y="862807"/>
                </a:lnTo>
                <a:cubicBezTo>
                  <a:pt x="1725613" y="1339322"/>
                  <a:pt x="1339321" y="1725614"/>
                  <a:pt x="862806" y="1725614"/>
                </a:cubicBezTo>
                <a:cubicBezTo>
                  <a:pt x="386291" y="1725614"/>
                  <a:pt x="-1" y="1339322"/>
                  <a:pt x="-1" y="862807"/>
                </a:cubicBezTo>
                <a:lnTo>
                  <a:pt x="0" y="862807"/>
                </a:lnTo>
                <a:close/>
              </a:path>
            </a:pathLst>
          </a:cu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泪滴形 5"/>
          <p:cNvSpPr/>
          <p:nvPr/>
        </p:nvSpPr>
        <p:spPr>
          <a:xfrm>
            <a:off x="6680160" y="2048040"/>
            <a:ext cx="1725480" cy="1725480"/>
          </a:xfrm>
          <a:custGeom>
            <a:avLst/>
            <a:gdLst/>
            <a:ahLst/>
            <a:rect l="l" t="t" r="r" b="b"/>
            <a:pathLst>
              <a:path w="1725613" h="1725613">
                <a:moveTo>
                  <a:pt x="0" y="862807"/>
                </a:moveTo>
                <a:cubicBezTo>
                  <a:pt x="0" y="386292"/>
                  <a:pt x="386292" y="0"/>
                  <a:pt x="862807" y="0"/>
                </a:cubicBezTo>
                <a:lnTo>
                  <a:pt x="1725613" y="0"/>
                </a:lnTo>
                <a:lnTo>
                  <a:pt x="1725613" y="862807"/>
                </a:lnTo>
                <a:cubicBezTo>
                  <a:pt x="1725613" y="1339322"/>
                  <a:pt x="1339321" y="1725614"/>
                  <a:pt x="862806" y="1725614"/>
                </a:cubicBezTo>
                <a:cubicBezTo>
                  <a:pt x="386291" y="1725614"/>
                  <a:pt x="-1" y="1339322"/>
                  <a:pt x="-1" y="862807"/>
                </a:cubicBezTo>
                <a:lnTo>
                  <a:pt x="0" y="862807"/>
                </a:lnTo>
                <a:close/>
              </a:path>
            </a:pathLst>
          </a:custGeom>
          <a:solidFill>
            <a:srgbClr val="aaff88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标注 8"/>
          <p:cNvSpPr/>
          <p:nvPr/>
        </p:nvSpPr>
        <p:spPr>
          <a:xfrm>
            <a:off x="7224840" y="992160"/>
            <a:ext cx="1430280" cy="527040"/>
          </a:xfrm>
          <a:prstGeom prst="wedgeRoundRectCallout">
            <a:avLst>
              <a:gd name="adj1" fmla="val -63175"/>
              <a:gd name="adj2" fmla="val 38111"/>
              <a:gd name="adj3" fmla="val 16667"/>
            </a:avLst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9"/>
          <p:cNvSpPr/>
          <p:nvPr/>
        </p:nvSpPr>
        <p:spPr>
          <a:xfrm>
            <a:off x="2344680" y="115884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0"/>
          <p:cNvSpPr/>
          <p:nvPr/>
        </p:nvSpPr>
        <p:spPr>
          <a:xfrm>
            <a:off x="979560" y="3940200"/>
            <a:ext cx="1725480" cy="36828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1"/>
          <p:cNvSpPr/>
          <p:nvPr/>
        </p:nvSpPr>
        <p:spPr>
          <a:xfrm>
            <a:off x="3828960" y="3948120"/>
            <a:ext cx="1725840" cy="36828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2"/>
          <p:cNvSpPr/>
          <p:nvPr/>
        </p:nvSpPr>
        <p:spPr>
          <a:xfrm>
            <a:off x="6680160" y="3948120"/>
            <a:ext cx="1725480" cy="36828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泪滴形 14"/>
          <p:cNvSpPr/>
          <p:nvPr/>
        </p:nvSpPr>
        <p:spPr>
          <a:xfrm>
            <a:off x="1467000" y="4462560"/>
            <a:ext cx="723600" cy="723960"/>
          </a:xfrm>
          <a:custGeom>
            <a:avLst/>
            <a:gdLst/>
            <a:ahLst/>
            <a:rect l="l" t="t" r="r" b="b"/>
            <a:pathLst>
              <a:path w="723900" h="723900">
                <a:moveTo>
                  <a:pt x="0" y="361950"/>
                </a:moveTo>
                <a:cubicBezTo>
                  <a:pt x="0" y="162051"/>
                  <a:pt x="162051" y="0"/>
                  <a:pt x="361950" y="0"/>
                </a:cubicBezTo>
                <a:lnTo>
                  <a:pt x="723900" y="0"/>
                </a:lnTo>
                <a:lnTo>
                  <a:pt x="723900" y="361950"/>
                </a:lnTo>
                <a:cubicBezTo>
                  <a:pt x="723900" y="561849"/>
                  <a:pt x="561849" y="723900"/>
                  <a:pt x="361950" y="723900"/>
                </a:cubicBezTo>
                <a:cubicBezTo>
                  <a:pt x="162051" y="723900"/>
                  <a:pt x="0" y="561849"/>
                  <a:pt x="0" y="361950"/>
                </a:cubicBezTo>
                <a:close/>
              </a:path>
            </a:pathLst>
          </a:custGeom>
          <a:solidFill>
            <a:srgbClr val="327a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泪滴形 15"/>
          <p:cNvSpPr/>
          <p:nvPr/>
        </p:nvSpPr>
        <p:spPr>
          <a:xfrm>
            <a:off x="2317680" y="4487760"/>
            <a:ext cx="722520" cy="723960"/>
          </a:xfrm>
          <a:custGeom>
            <a:avLst/>
            <a:gdLst/>
            <a:ahLst/>
            <a:rect l="l" t="t" r="r" b="b"/>
            <a:pathLst>
              <a:path w="722313" h="723900">
                <a:moveTo>
                  <a:pt x="0" y="361950"/>
                </a:moveTo>
                <a:cubicBezTo>
                  <a:pt x="0" y="162051"/>
                  <a:pt x="161695" y="0"/>
                  <a:pt x="361157" y="0"/>
                </a:cubicBezTo>
                <a:lnTo>
                  <a:pt x="722313" y="0"/>
                </a:lnTo>
                <a:lnTo>
                  <a:pt x="722313" y="361950"/>
                </a:lnTo>
                <a:cubicBezTo>
                  <a:pt x="722313" y="561849"/>
                  <a:pt x="560618" y="723900"/>
                  <a:pt x="361156" y="723900"/>
                </a:cubicBezTo>
                <a:cubicBezTo>
                  <a:pt x="161694" y="723900"/>
                  <a:pt x="-1" y="561849"/>
                  <a:pt x="-1" y="361950"/>
                </a:cubicBezTo>
                <a:lnTo>
                  <a:pt x="0" y="36195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22"/>
          <p:cNvSpPr/>
          <p:nvPr/>
        </p:nvSpPr>
        <p:spPr>
          <a:xfrm>
            <a:off x="81360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3"/>
          <p:cNvSpPr/>
          <p:nvPr/>
        </p:nvSpPr>
        <p:spPr>
          <a:xfrm>
            <a:off x="161856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4"/>
          <p:cNvSpPr/>
          <p:nvPr/>
        </p:nvSpPr>
        <p:spPr>
          <a:xfrm>
            <a:off x="2421720" y="535608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5"/>
          <p:cNvSpPr/>
          <p:nvPr/>
        </p:nvSpPr>
        <p:spPr>
          <a:xfrm>
            <a:off x="3734640" y="53816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26"/>
          <p:cNvSpPr/>
          <p:nvPr/>
        </p:nvSpPr>
        <p:spPr>
          <a:xfrm>
            <a:off x="453960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27"/>
          <p:cNvSpPr/>
          <p:nvPr/>
        </p:nvSpPr>
        <p:spPr>
          <a:xfrm>
            <a:off x="534276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28"/>
          <p:cNvSpPr/>
          <p:nvPr/>
        </p:nvSpPr>
        <p:spPr>
          <a:xfrm>
            <a:off x="657324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29"/>
          <p:cNvSpPr/>
          <p:nvPr/>
        </p:nvSpPr>
        <p:spPr>
          <a:xfrm>
            <a:off x="7378200" y="535608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30"/>
          <p:cNvSpPr/>
          <p:nvPr/>
        </p:nvSpPr>
        <p:spPr>
          <a:xfrm>
            <a:off x="8181360" y="535608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泪滴形 13"/>
          <p:cNvSpPr/>
          <p:nvPr/>
        </p:nvSpPr>
        <p:spPr>
          <a:xfrm>
            <a:off x="617400" y="4478400"/>
            <a:ext cx="722520" cy="722160"/>
          </a:xfrm>
          <a:custGeom>
            <a:avLst/>
            <a:gdLst/>
            <a:ahLst/>
            <a:rect l="l" t="t" r="r" b="b"/>
            <a:pathLst>
              <a:path w="722312" h="722312">
                <a:moveTo>
                  <a:pt x="0" y="361156"/>
                </a:moveTo>
                <a:cubicBezTo>
                  <a:pt x="0" y="161695"/>
                  <a:pt x="161695" y="0"/>
                  <a:pt x="361156" y="0"/>
                </a:cubicBezTo>
                <a:lnTo>
                  <a:pt x="722312" y="0"/>
                </a:lnTo>
                <a:lnTo>
                  <a:pt x="722312" y="361156"/>
                </a:lnTo>
                <a:cubicBezTo>
                  <a:pt x="722312" y="560617"/>
                  <a:pt x="560617" y="722312"/>
                  <a:pt x="361156" y="722312"/>
                </a:cubicBezTo>
                <a:cubicBezTo>
                  <a:pt x="161695" y="722312"/>
                  <a:pt x="0" y="560617"/>
                  <a:pt x="0" y="361156"/>
                </a:cubicBezTo>
                <a:close/>
              </a:path>
            </a:pathLst>
          </a:custGeom>
          <a:solidFill>
            <a:srgbClr val="327a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34"/>
          <p:cNvSpPr/>
          <p:nvPr/>
        </p:nvSpPr>
        <p:spPr>
          <a:xfrm flipH="1" flipV="1">
            <a:off x="1856880" y="498276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35"/>
          <p:cNvSpPr/>
          <p:nvPr/>
        </p:nvSpPr>
        <p:spPr>
          <a:xfrm flipH="1" flipV="1">
            <a:off x="2644920" y="5014800"/>
            <a:ext cx="10800" cy="35424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36"/>
          <p:cNvSpPr/>
          <p:nvPr/>
        </p:nvSpPr>
        <p:spPr>
          <a:xfrm flipH="1" flipV="1">
            <a:off x="3968280" y="504792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泪滴形 16"/>
          <p:cNvSpPr/>
          <p:nvPr/>
        </p:nvSpPr>
        <p:spPr>
          <a:xfrm>
            <a:off x="3564000" y="4475160"/>
            <a:ext cx="723960" cy="723960"/>
          </a:xfrm>
          <a:custGeom>
            <a:avLst/>
            <a:gdLst/>
            <a:ahLst/>
            <a:rect l="l" t="t" r="r" b="b"/>
            <a:pathLst>
              <a:path w="723900" h="723900">
                <a:moveTo>
                  <a:pt x="0" y="361950"/>
                </a:moveTo>
                <a:cubicBezTo>
                  <a:pt x="0" y="162051"/>
                  <a:pt x="162051" y="0"/>
                  <a:pt x="361950" y="0"/>
                </a:cubicBezTo>
                <a:lnTo>
                  <a:pt x="723900" y="0"/>
                </a:lnTo>
                <a:lnTo>
                  <a:pt x="723900" y="361950"/>
                </a:lnTo>
                <a:cubicBezTo>
                  <a:pt x="723900" y="561849"/>
                  <a:pt x="561849" y="723900"/>
                  <a:pt x="361950" y="723900"/>
                </a:cubicBezTo>
                <a:cubicBezTo>
                  <a:pt x="162051" y="723900"/>
                  <a:pt x="0" y="561849"/>
                  <a:pt x="0" y="361950"/>
                </a:cubicBezTo>
                <a:close/>
              </a:path>
            </a:pathLst>
          </a:cu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37"/>
          <p:cNvSpPr/>
          <p:nvPr/>
        </p:nvSpPr>
        <p:spPr>
          <a:xfrm flipH="1" flipV="1">
            <a:off x="4764240" y="5047920"/>
            <a:ext cx="1080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泪滴形 17"/>
          <p:cNvSpPr/>
          <p:nvPr/>
        </p:nvSpPr>
        <p:spPr>
          <a:xfrm>
            <a:off x="4414680" y="4486320"/>
            <a:ext cx="722520" cy="723960"/>
          </a:xfrm>
          <a:custGeom>
            <a:avLst/>
            <a:gdLst/>
            <a:ahLst/>
            <a:rect l="l" t="t" r="r" b="b"/>
            <a:pathLst>
              <a:path w="722312" h="723900">
                <a:moveTo>
                  <a:pt x="0" y="361950"/>
                </a:moveTo>
                <a:cubicBezTo>
                  <a:pt x="0" y="162051"/>
                  <a:pt x="161695" y="0"/>
                  <a:pt x="361156" y="0"/>
                </a:cubicBezTo>
                <a:lnTo>
                  <a:pt x="722312" y="0"/>
                </a:lnTo>
                <a:lnTo>
                  <a:pt x="722312" y="361950"/>
                </a:lnTo>
                <a:cubicBezTo>
                  <a:pt x="722312" y="561849"/>
                  <a:pt x="560617" y="723900"/>
                  <a:pt x="361156" y="723900"/>
                </a:cubicBezTo>
                <a:cubicBezTo>
                  <a:pt x="161695" y="723900"/>
                  <a:pt x="0" y="561849"/>
                  <a:pt x="0" y="361950"/>
                </a:cubicBezTo>
                <a:close/>
              </a:path>
            </a:pathLst>
          </a:cu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38"/>
          <p:cNvSpPr/>
          <p:nvPr/>
        </p:nvSpPr>
        <p:spPr>
          <a:xfrm flipH="1" flipV="1">
            <a:off x="5576400" y="501948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泪滴形 18"/>
          <p:cNvSpPr/>
          <p:nvPr/>
        </p:nvSpPr>
        <p:spPr>
          <a:xfrm>
            <a:off x="5264280" y="4486320"/>
            <a:ext cx="723600" cy="723960"/>
          </a:xfrm>
          <a:custGeom>
            <a:avLst/>
            <a:gdLst/>
            <a:ahLst/>
            <a:rect l="l" t="t" r="r" b="b"/>
            <a:pathLst>
              <a:path w="723900" h="723900">
                <a:moveTo>
                  <a:pt x="0" y="361950"/>
                </a:moveTo>
                <a:cubicBezTo>
                  <a:pt x="0" y="162051"/>
                  <a:pt x="162051" y="0"/>
                  <a:pt x="361950" y="0"/>
                </a:cubicBezTo>
                <a:lnTo>
                  <a:pt x="723900" y="0"/>
                </a:lnTo>
                <a:lnTo>
                  <a:pt x="723900" y="361950"/>
                </a:lnTo>
                <a:cubicBezTo>
                  <a:pt x="723900" y="561849"/>
                  <a:pt x="561849" y="723900"/>
                  <a:pt x="361950" y="723900"/>
                </a:cubicBezTo>
                <a:cubicBezTo>
                  <a:pt x="162051" y="723900"/>
                  <a:pt x="0" y="561849"/>
                  <a:pt x="0" y="361950"/>
                </a:cubicBezTo>
                <a:close/>
              </a:path>
            </a:pathLst>
          </a:cu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39"/>
          <p:cNvSpPr/>
          <p:nvPr/>
        </p:nvSpPr>
        <p:spPr>
          <a:xfrm flipH="1" flipV="1">
            <a:off x="6811560" y="501948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泪滴形 19"/>
          <p:cNvSpPr/>
          <p:nvPr/>
        </p:nvSpPr>
        <p:spPr>
          <a:xfrm>
            <a:off x="6362640" y="4491000"/>
            <a:ext cx="722520" cy="723960"/>
          </a:xfrm>
          <a:custGeom>
            <a:avLst/>
            <a:gdLst/>
            <a:ahLst/>
            <a:rect l="l" t="t" r="r" b="b"/>
            <a:pathLst>
              <a:path w="722313" h="723900">
                <a:moveTo>
                  <a:pt x="0" y="361950"/>
                </a:moveTo>
                <a:cubicBezTo>
                  <a:pt x="0" y="162051"/>
                  <a:pt x="161695" y="0"/>
                  <a:pt x="361157" y="0"/>
                </a:cubicBezTo>
                <a:lnTo>
                  <a:pt x="722313" y="0"/>
                </a:lnTo>
                <a:lnTo>
                  <a:pt x="722313" y="361950"/>
                </a:lnTo>
                <a:cubicBezTo>
                  <a:pt x="722313" y="561849"/>
                  <a:pt x="560618" y="723900"/>
                  <a:pt x="361156" y="723900"/>
                </a:cubicBezTo>
                <a:cubicBezTo>
                  <a:pt x="161694" y="723900"/>
                  <a:pt x="-1" y="561849"/>
                  <a:pt x="-1" y="361950"/>
                </a:cubicBezTo>
                <a:lnTo>
                  <a:pt x="0" y="361950"/>
                </a:lnTo>
                <a:close/>
              </a:path>
            </a:pathLst>
          </a:custGeom>
          <a:solidFill>
            <a:srgbClr val="aaff88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40"/>
          <p:cNvSpPr/>
          <p:nvPr/>
        </p:nvSpPr>
        <p:spPr>
          <a:xfrm flipH="1" flipV="1">
            <a:off x="7598880" y="500184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泪滴形 20"/>
          <p:cNvSpPr/>
          <p:nvPr/>
        </p:nvSpPr>
        <p:spPr>
          <a:xfrm>
            <a:off x="7211880" y="4502160"/>
            <a:ext cx="723960" cy="722160"/>
          </a:xfrm>
          <a:custGeom>
            <a:avLst/>
            <a:gdLst/>
            <a:ahLst/>
            <a:rect l="l" t="t" r="r" b="b"/>
            <a:pathLst>
              <a:path w="723900" h="722313">
                <a:moveTo>
                  <a:pt x="0" y="361157"/>
                </a:moveTo>
                <a:cubicBezTo>
                  <a:pt x="0" y="161695"/>
                  <a:pt x="162051" y="0"/>
                  <a:pt x="361950" y="0"/>
                </a:cubicBezTo>
                <a:lnTo>
                  <a:pt x="723900" y="0"/>
                </a:lnTo>
                <a:lnTo>
                  <a:pt x="723900" y="361157"/>
                </a:lnTo>
                <a:cubicBezTo>
                  <a:pt x="723900" y="560619"/>
                  <a:pt x="561849" y="722314"/>
                  <a:pt x="361950" y="722314"/>
                </a:cubicBezTo>
                <a:cubicBezTo>
                  <a:pt x="162051" y="722314"/>
                  <a:pt x="0" y="560619"/>
                  <a:pt x="0" y="361157"/>
                </a:cubicBezTo>
                <a:close/>
              </a:path>
            </a:pathLst>
          </a:custGeom>
          <a:solidFill>
            <a:srgbClr val="aaff88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41"/>
          <p:cNvSpPr/>
          <p:nvPr/>
        </p:nvSpPr>
        <p:spPr>
          <a:xfrm flipH="1" flipV="1">
            <a:off x="8410320" y="5003640"/>
            <a:ext cx="11160" cy="35424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泪滴形 21"/>
          <p:cNvSpPr/>
          <p:nvPr/>
        </p:nvSpPr>
        <p:spPr>
          <a:xfrm>
            <a:off x="8062920" y="4489560"/>
            <a:ext cx="722160" cy="722160"/>
          </a:xfrm>
          <a:custGeom>
            <a:avLst/>
            <a:gdLst/>
            <a:ahLst/>
            <a:rect l="l" t="t" r="r" b="b"/>
            <a:pathLst>
              <a:path w="722312" h="722313">
                <a:moveTo>
                  <a:pt x="0" y="361157"/>
                </a:moveTo>
                <a:cubicBezTo>
                  <a:pt x="0" y="161695"/>
                  <a:pt x="161695" y="0"/>
                  <a:pt x="361156" y="0"/>
                </a:cubicBezTo>
                <a:lnTo>
                  <a:pt x="722312" y="0"/>
                </a:lnTo>
                <a:lnTo>
                  <a:pt x="722312" y="361157"/>
                </a:lnTo>
                <a:cubicBezTo>
                  <a:pt x="722312" y="560619"/>
                  <a:pt x="560617" y="722314"/>
                  <a:pt x="361156" y="722314"/>
                </a:cubicBezTo>
                <a:cubicBezTo>
                  <a:pt x="161695" y="722314"/>
                  <a:pt x="0" y="560619"/>
                  <a:pt x="0" y="361157"/>
                </a:cubicBezTo>
                <a:close/>
              </a:path>
            </a:pathLst>
          </a:custGeom>
          <a:solidFill>
            <a:srgbClr val="aaff88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97" name="AutoShape 641"/>
          <p:cNvSpPr/>
          <p:nvPr/>
        </p:nvSpPr>
        <p:spPr>
          <a:xfrm>
            <a:off x="1187280" y="708120"/>
            <a:ext cx="3198960" cy="2751120"/>
          </a:xfrm>
          <a:prstGeom prst="roundRect">
            <a:avLst>
              <a:gd name="adj" fmla="val 12343"/>
            </a:avLst>
          </a:prstGeom>
          <a:solidFill>
            <a:srgbClr val="327a17"/>
          </a:solidFill>
          <a:ln w="9360">
            <a:solidFill>
              <a:srgbClr val="327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643"/>
          <p:cNvSpPr/>
          <p:nvPr/>
        </p:nvSpPr>
        <p:spPr>
          <a:xfrm>
            <a:off x="4968720" y="708120"/>
            <a:ext cx="3198960" cy="2751120"/>
          </a:xfrm>
          <a:prstGeom prst="roundRect">
            <a:avLst>
              <a:gd name="adj" fmla="val 12343"/>
            </a:avLst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45"/>
          <p:cNvSpPr/>
          <p:nvPr/>
        </p:nvSpPr>
        <p:spPr>
          <a:xfrm>
            <a:off x="1187280" y="3772080"/>
            <a:ext cx="3198960" cy="2698560"/>
          </a:xfrm>
          <a:prstGeom prst="roundRect">
            <a:avLst>
              <a:gd name="adj" fmla="val 12343"/>
            </a:avLst>
          </a:prstGeom>
          <a:solidFill>
            <a:srgbClr val="33cc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49"/>
          <p:cNvSpPr/>
          <p:nvPr/>
        </p:nvSpPr>
        <p:spPr>
          <a:xfrm>
            <a:off x="1300320" y="797040"/>
            <a:ext cx="2920680" cy="1768320"/>
          </a:xfrm>
          <a:prstGeom prst="roundRect">
            <a:avLst>
              <a:gd name="adj" fmla="val 12343"/>
            </a:avLst>
          </a:prstGeom>
          <a:solidFill>
            <a:srgbClr val="e0ebd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650"/>
          <p:cNvSpPr/>
          <p:nvPr/>
        </p:nvSpPr>
        <p:spPr>
          <a:xfrm>
            <a:off x="5100480" y="809640"/>
            <a:ext cx="2922840" cy="1770120"/>
          </a:xfrm>
          <a:prstGeom prst="roundRect">
            <a:avLst>
              <a:gd name="adj" fmla="val 12343"/>
            </a:avLst>
          </a:prstGeom>
          <a:solidFill>
            <a:srgbClr val="e0ebd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51"/>
          <p:cNvSpPr/>
          <p:nvPr/>
        </p:nvSpPr>
        <p:spPr>
          <a:xfrm>
            <a:off x="1312920" y="3865680"/>
            <a:ext cx="2922480" cy="1735200"/>
          </a:xfrm>
          <a:prstGeom prst="roundRect">
            <a:avLst>
              <a:gd name="adj" fmla="val 12343"/>
            </a:avLst>
          </a:prstGeom>
          <a:solidFill>
            <a:srgbClr val="e0ebdc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WordArt 664"/>
          <p:cNvSpPr txBox="1"/>
          <p:nvPr/>
        </p:nvSpPr>
        <p:spPr>
          <a:xfrm>
            <a:off x="1787400" y="2867040"/>
            <a:ext cx="1711440" cy="433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文本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04" name="WordArt 670"/>
          <p:cNvSpPr txBox="1"/>
          <p:nvPr/>
        </p:nvSpPr>
        <p:spPr>
          <a:xfrm>
            <a:off x="1695600" y="5803920"/>
            <a:ext cx="2373120" cy="441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文本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05" name="AutoShape 641"/>
          <p:cNvSpPr/>
          <p:nvPr/>
        </p:nvSpPr>
        <p:spPr>
          <a:xfrm>
            <a:off x="4968720" y="3787920"/>
            <a:ext cx="3198960" cy="269856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49"/>
          <p:cNvSpPr/>
          <p:nvPr/>
        </p:nvSpPr>
        <p:spPr>
          <a:xfrm>
            <a:off x="5106960" y="3857760"/>
            <a:ext cx="2921040" cy="173484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664"/>
          <p:cNvSpPr txBox="1"/>
          <p:nvPr/>
        </p:nvSpPr>
        <p:spPr>
          <a:xfrm>
            <a:off x="5524560" y="5807160"/>
            <a:ext cx="2130480" cy="514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文本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08" name="WordArt 664"/>
          <p:cNvSpPr txBox="1"/>
          <p:nvPr/>
        </p:nvSpPr>
        <p:spPr>
          <a:xfrm>
            <a:off x="5497560" y="2824200"/>
            <a:ext cx="2184480" cy="46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文本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09" name="TextBox 55"/>
          <p:cNvSpPr/>
          <p:nvPr/>
        </p:nvSpPr>
        <p:spPr>
          <a:xfrm>
            <a:off x="1419120" y="809640"/>
            <a:ext cx="29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6"/>
          <p:cNvSpPr/>
          <p:nvPr/>
        </p:nvSpPr>
        <p:spPr>
          <a:xfrm>
            <a:off x="1438200" y="173340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7"/>
          <p:cNvSpPr/>
          <p:nvPr/>
        </p:nvSpPr>
        <p:spPr>
          <a:xfrm>
            <a:off x="5265720" y="10350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8"/>
          <p:cNvSpPr/>
          <p:nvPr/>
        </p:nvSpPr>
        <p:spPr>
          <a:xfrm>
            <a:off x="1413000" y="41655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5194440" y="416556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438120" y="6448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ec2225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8:59:47Z</dcterms:created>
  <dc:creator>Veli Akman</dc:creator>
  <dc:description/>
  <dc:language>en-US</dc:language>
  <cp:lastModifiedBy>王玉清</cp:lastModifiedBy>
  <dcterms:modified xsi:type="dcterms:W3CDTF">2016-03-05T12:27:38Z</dcterms:modified>
  <cp:revision>875</cp:revision>
  <dc:subject/>
  <dc:title>LENOVO TEMPLATE 2011</dc:title>
</cp:coreProperties>
</file>