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03D-9588-4E32-870F-B4C03002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EF79-E615-409A-AE0B-35B0B59A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D7A-3B05-4A03-8775-1E50F503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64F-FC99-4674-AD36-02C62E25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8B2C-3DCC-4461-AD41-597D003C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BA49-4862-4619-A85C-B434074D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63F9-83A2-4AD5-820A-8E9D839A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CE3-6D62-45CE-9BA6-6E8384E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B4DA-E403-4775-A4DC-3B2D7BE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F22C-4874-49E3-AC5C-362B539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B3C5-0EEA-4B8D-BBB0-777EC9C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1F2-1DE4-4868-B1F8-3F29A6A8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C0C6-C66C-4A26-AB5F-9604DCAC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10F2-352C-4FCD-9AAA-A6EBC38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2A1D-DCAE-4285-B535-AF4C60F5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A3B5-F8BC-4608-84EB-5943F297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0DB6-D428-4298-BE60-25D39FE3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462-04F9-4E94-9D7B-FAE53CB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0B8-4CDF-4AC0-A035-72268D5B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F899-87E1-4DE3-8A86-DAC4E489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639-4AEE-4C70-8B70-CBFCF201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9AA-E416-494B-93FE-43FD4AFD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8AE1-382D-4313-8CD6-8D4D91BD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1A0-E42F-4827-8C69-02131D89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6ED0-FA22-4BD6-A287-36DD4531DE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9CD3-86C6-4945-A119-3030BF91A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8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Q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1"/>
          <p:cNvPicPr/>
          <p:nvPr/>
        </p:nvPicPr>
        <p:blipFill>
          <a:blip r:embed="rId2"/>
          <a:stretch/>
        </p:blipFill>
        <p:spPr>
          <a:xfrm>
            <a:off x="-755640" y="-1465200"/>
            <a:ext cx="15913080" cy="1193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6" descr="551_11"/>
          <p:cNvPicPr/>
          <p:nvPr/>
        </p:nvPicPr>
        <p:blipFill>
          <a:blip r:embed="rId18"/>
          <a:stretch/>
        </p:blipFill>
        <p:spPr>
          <a:xfrm>
            <a:off x="-1187280" y="724212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826920" y="3076560"/>
            <a:ext cx="7601040" cy="378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4" descr="551_03"/>
          <p:cNvPicPr/>
          <p:nvPr/>
        </p:nvPicPr>
        <p:blipFill>
          <a:blip r:embed="rId21"/>
          <a:stretch/>
        </p:blipFill>
        <p:spPr>
          <a:xfrm>
            <a:off x="-2411280" y="2349360"/>
            <a:ext cx="857160" cy="1162080"/>
          </a:xfrm>
          <a:prstGeom prst="rect">
            <a:avLst/>
          </a:prstGeom>
          <a:ln w="0">
            <a:noFill/>
          </a:ln>
        </p:spPr>
      </p:pic>
      <p:sp>
        <p:nvSpPr>
          <p:cNvPr id="104" name="WordArt 25"/>
          <p:cNvSpPr txBox="1"/>
          <p:nvPr/>
        </p:nvSpPr>
        <p:spPr>
          <a:xfrm>
            <a:off x="2556000" y="3503520"/>
            <a:ext cx="42796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5" name="WordArt 26"/>
          <p:cNvSpPr txBox="1"/>
          <p:nvPr/>
        </p:nvSpPr>
        <p:spPr>
          <a:xfrm>
            <a:off x="2771640" y="4172040"/>
            <a:ext cx="3883320" cy="3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1817280" y="2271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浪漫情人节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7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34" name="Freeform 28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0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1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Q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5960" y="-268200"/>
            <a:ext cx="9808920" cy="7364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8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0:33:36Z</dcterms:created>
  <dc:creator/>
  <dc:description/>
  <cp:keywords/>
  <dc:language>en-US</dc:language>
  <cp:lastModifiedBy>王玉清</cp:lastModifiedBy>
  <cp:lastPrinted>1899-12-30T00:00:00Z</cp:lastPrinted>
  <dcterms:modified xsi:type="dcterms:W3CDTF">2016-02-20T03:16:56Z</dcterms:modified>
  <cp:revision>340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