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84A-3084-4E4B-8969-F5DFA9C7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E8C-9BC4-49C1-9201-DF4E82F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8C7-3B9D-4C91-8049-A880C2CD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FD6-CF2A-433C-B556-28577AFB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A2D-2798-4CFF-BBC9-1AD590CA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836-5DA5-4B89-8D27-F226561E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C7F-3975-4FE0-94BE-D99750F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50A-C171-4998-88BB-8610B61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F15-ECB5-4960-877B-42CAEA06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730-68E5-419A-B246-6CAF35F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85D-5406-45F0-94F0-DDB0C83F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73C-6E55-4C48-90AC-A39503A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A3F42-1E02-454E-AA81-BC8867C95E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143680" y="4857840"/>
            <a:ext cx="4857480" cy="109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5214600" y="53575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840320" y="220500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蓝色立体箭头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9"/>
          <p:cNvGrpSpPr/>
          <p:nvPr/>
        </p:nvGrpSpPr>
        <p:grpSpPr>
          <a:xfrm>
            <a:off x="932760" y="2012760"/>
            <a:ext cx="2412000" cy="2412360"/>
            <a:chOff x="932760" y="2012760"/>
            <a:chExt cx="2412000" cy="2412360"/>
          </a:xfrm>
        </p:grpSpPr>
        <p:sp>
          <p:nvSpPr>
            <p:cNvPr id="47" name="矩形 10"/>
            <p:cNvSpPr/>
            <p:nvPr/>
          </p:nvSpPr>
          <p:spPr>
            <a:xfrm>
              <a:off x="1285920" y="2365920"/>
              <a:ext cx="1705680" cy="170568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矩形 11"/>
            <p:cNvSpPr/>
            <p:nvPr/>
          </p:nvSpPr>
          <p:spPr>
            <a:xfrm rot="2700000">
              <a:off x="1285560" y="2365920"/>
              <a:ext cx="1705680" cy="170568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9" name="组合 21"/>
          <p:cNvGrpSpPr/>
          <p:nvPr/>
        </p:nvGrpSpPr>
        <p:grpSpPr>
          <a:xfrm>
            <a:off x="3441600" y="2012760"/>
            <a:ext cx="2412000" cy="2412360"/>
            <a:chOff x="3441600" y="2012760"/>
            <a:chExt cx="2412000" cy="2412360"/>
          </a:xfrm>
        </p:grpSpPr>
        <p:sp>
          <p:nvSpPr>
            <p:cNvPr id="50" name="矩形 22"/>
            <p:cNvSpPr/>
            <p:nvPr/>
          </p:nvSpPr>
          <p:spPr>
            <a:xfrm>
              <a:off x="3794760" y="2365920"/>
              <a:ext cx="1705680" cy="170568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1" name="矩形 23"/>
            <p:cNvSpPr/>
            <p:nvPr/>
          </p:nvSpPr>
          <p:spPr>
            <a:xfrm rot="2700000">
              <a:off x="3794760" y="2365920"/>
              <a:ext cx="1705680" cy="170568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2" name="组合 24"/>
          <p:cNvGrpSpPr/>
          <p:nvPr/>
        </p:nvGrpSpPr>
        <p:grpSpPr>
          <a:xfrm>
            <a:off x="5942160" y="2012760"/>
            <a:ext cx="2412000" cy="2412360"/>
            <a:chOff x="5942160" y="2012760"/>
            <a:chExt cx="2412000" cy="2412360"/>
          </a:xfrm>
        </p:grpSpPr>
        <p:sp>
          <p:nvSpPr>
            <p:cNvPr id="53" name="矩形 25"/>
            <p:cNvSpPr/>
            <p:nvPr/>
          </p:nvSpPr>
          <p:spPr>
            <a:xfrm>
              <a:off x="6294960" y="2365920"/>
              <a:ext cx="1705680" cy="170568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" name="矩形 26"/>
            <p:cNvSpPr/>
            <p:nvPr/>
          </p:nvSpPr>
          <p:spPr>
            <a:xfrm rot="2700000">
              <a:off x="6295320" y="2365920"/>
              <a:ext cx="1705680" cy="170568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211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16398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6711840" y="2987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0" descr=""/>
          <p:cNvPicPr/>
          <p:nvPr/>
        </p:nvPicPr>
        <p:blipFill>
          <a:blip r:embed="rId1"/>
          <a:stretch/>
        </p:blipFill>
        <p:spPr>
          <a:xfrm>
            <a:off x="895320" y="1960560"/>
            <a:ext cx="6513120" cy="4080960"/>
          </a:xfrm>
          <a:prstGeom prst="rect">
            <a:avLst/>
          </a:prstGeom>
          <a:ln w="9525">
            <a:noFill/>
          </a:ln>
        </p:spPr>
      </p:pic>
      <p:sp>
        <p:nvSpPr>
          <p:cNvPr id="64" name="圆角矩形标注 11"/>
          <p:cNvSpPr/>
          <p:nvPr/>
        </p:nvSpPr>
        <p:spPr>
          <a:xfrm flipH="1">
            <a:off x="3896640" y="2535120"/>
            <a:ext cx="130140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65" name="直接箭头连接符 12"/>
          <p:cNvCxnSpPr/>
          <p:nvPr/>
        </p:nvCxnSpPr>
        <p:spPr>
          <a:xfrm>
            <a:off x="894600" y="5846760"/>
            <a:ext cx="7429680" cy="360"/>
          </a:xfrm>
          <a:prstGeom prst="straightConnector1">
            <a:avLst/>
          </a:prstGeom>
          <a:ln w="63500">
            <a:solidFill>
              <a:srgbClr val="265984"/>
            </a:solidFill>
            <a:round/>
            <a:tailEnd len="med" type="triangle" w="med"/>
          </a:ln>
        </p:spPr>
      </p:cxnSp>
      <p:cxnSp>
        <p:nvCxnSpPr>
          <p:cNvPr id="66" name="直接箭头连接符 13"/>
          <p:cNvCxnSpPr/>
          <p:nvPr/>
        </p:nvCxnSpPr>
        <p:spPr>
          <a:xfrm flipV="1">
            <a:off x="695160" y="1438920"/>
            <a:ext cx="360" cy="4633560"/>
          </a:xfrm>
          <a:prstGeom prst="straightConnector1">
            <a:avLst/>
          </a:prstGeom>
          <a:ln w="63500">
            <a:solidFill>
              <a:srgbClr val="265984"/>
            </a:solidFill>
            <a:round/>
            <a:tailEnd len="med" type="triangle" w="med"/>
          </a:ln>
        </p:spPr>
      </p:cxnSp>
      <p:sp>
        <p:nvSpPr>
          <p:cNvPr id="67" name="圆角矩形标注 14"/>
          <p:cNvSpPr/>
          <p:nvPr/>
        </p:nvSpPr>
        <p:spPr>
          <a:xfrm flipH="1">
            <a:off x="2044080" y="3405240"/>
            <a:ext cx="1302840" cy="72036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8" name="圆角矩形标注 15"/>
          <p:cNvSpPr/>
          <p:nvPr/>
        </p:nvSpPr>
        <p:spPr>
          <a:xfrm flipH="1">
            <a:off x="5905440" y="1311120"/>
            <a:ext cx="129816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9" name="矩形 18"/>
          <p:cNvSpPr/>
          <p:nvPr/>
        </p:nvSpPr>
        <p:spPr>
          <a:xfrm>
            <a:off x="3846600" y="5437080"/>
            <a:ext cx="1272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为什么退步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6972480" y="5610240"/>
            <a:ext cx="1757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8"/>
          <p:cNvSpPr/>
          <p:nvPr/>
        </p:nvSpPr>
        <p:spPr>
          <a:xfrm>
            <a:off x="714240" y="1706400"/>
            <a:ext cx="8474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9" descr=""/>
          <p:cNvPicPr/>
          <p:nvPr/>
        </p:nvPicPr>
        <p:blipFill>
          <a:blip r:embed="rId2"/>
          <a:stretch/>
        </p:blipFill>
        <p:spPr>
          <a:xfrm>
            <a:off x="4484520" y="3290760"/>
            <a:ext cx="609120" cy="609120"/>
          </a:xfrm>
          <a:prstGeom prst="rect">
            <a:avLst/>
          </a:prstGeom>
          <a:ln w="9525">
            <a:noFill/>
          </a:ln>
        </p:spPr>
      </p:pic>
      <p:pic>
        <p:nvPicPr>
          <p:cNvPr id="73" name="图片 20" descr=""/>
          <p:cNvPicPr/>
          <p:nvPr/>
        </p:nvPicPr>
        <p:blipFill>
          <a:blip r:embed="rId3"/>
          <a:stretch/>
        </p:blipFill>
        <p:spPr>
          <a:xfrm>
            <a:off x="2587680" y="4181400"/>
            <a:ext cx="603000" cy="603000"/>
          </a:xfrm>
          <a:prstGeom prst="rect">
            <a:avLst/>
          </a:prstGeom>
          <a:ln w="9525">
            <a:noFill/>
          </a:ln>
        </p:spPr>
      </p:pic>
      <p:pic>
        <p:nvPicPr>
          <p:cNvPr id="74" name="图片 21" descr=""/>
          <p:cNvPicPr/>
          <p:nvPr/>
        </p:nvPicPr>
        <p:blipFill>
          <a:blip r:embed="rId4"/>
          <a:stretch/>
        </p:blipFill>
        <p:spPr>
          <a:xfrm>
            <a:off x="6362640" y="2141640"/>
            <a:ext cx="615600" cy="615600"/>
          </a:xfrm>
          <a:prstGeom prst="rect">
            <a:avLst/>
          </a:prstGeom>
          <a:ln w="9525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2258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0850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0831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6"/>
          <p:cNvGrpSpPr/>
          <p:nvPr/>
        </p:nvGrpSpPr>
        <p:grpSpPr>
          <a:xfrm>
            <a:off x="965520" y="1792800"/>
            <a:ext cx="7321320" cy="3993480"/>
            <a:chOff x="965520" y="1792800"/>
            <a:chExt cx="7321320" cy="3993480"/>
          </a:xfrm>
        </p:grpSpPr>
        <p:sp>
          <p:nvSpPr>
            <p:cNvPr id="84" name="任意多边形 10"/>
            <p:cNvSpPr/>
            <p:nvPr/>
          </p:nvSpPr>
          <p:spPr>
            <a:xfrm rot="10800000">
              <a:off x="965520" y="1792440"/>
              <a:ext cx="3126960" cy="2126880"/>
            </a:xfrm>
            <a:custGeom>
              <a:avLst/>
              <a:gdLst>
                <a:gd name="textAreaLeft" fmla="*/ 0 w 3126960"/>
                <a:gd name="textAreaRight" fmla="*/ 3127320 w 3126960"/>
                <a:gd name="textAreaTop" fmla="*/ 0 h 2126880"/>
                <a:gd name="textAreaBottom" fmla="*/ 2127240 h 2126880"/>
              </a:gdLst>
              <a:ahLst/>
              <a:rect l="textAreaLeft" t="textAreaTop" r="textAreaRight" b="textAreaBottom"/>
              <a:pathLst>
                <a:path w="4023360" h="2735572">
                  <a:moveTo>
                    <a:pt x="3155845" y="2735572"/>
                  </a:moveTo>
                  <a:lnTo>
                    <a:pt x="867515" y="2735572"/>
                  </a:lnTo>
                  <a:cubicBezTo>
                    <a:pt x="388400" y="2735572"/>
                    <a:pt x="0" y="2347172"/>
                    <a:pt x="0" y="1868057"/>
                  </a:cubicBezTo>
                  <a:lnTo>
                    <a:pt x="0" y="1183444"/>
                  </a:lnTo>
                  <a:cubicBezTo>
                    <a:pt x="0" y="704329"/>
                    <a:pt x="388400" y="315929"/>
                    <a:pt x="867515" y="315929"/>
                  </a:cubicBezTo>
                  <a:lnTo>
                    <a:pt x="1947780" y="315929"/>
                  </a:lnTo>
                  <a:lnTo>
                    <a:pt x="2131019" y="0"/>
                  </a:lnTo>
                  <a:lnTo>
                    <a:pt x="2314258" y="315929"/>
                  </a:lnTo>
                  <a:lnTo>
                    <a:pt x="3155845" y="315929"/>
                  </a:lnTo>
                  <a:cubicBezTo>
                    <a:pt x="3634960" y="315929"/>
                    <a:pt x="4023360" y="704329"/>
                    <a:pt x="4023360" y="1183444"/>
                  </a:cubicBezTo>
                  <a:lnTo>
                    <a:pt x="4023360" y="1868057"/>
                  </a:lnTo>
                  <a:cubicBezTo>
                    <a:pt x="4023360" y="2347172"/>
                    <a:pt x="3634960" y="2735572"/>
                    <a:pt x="3155845" y="2735572"/>
                  </a:cubicBezTo>
                  <a:close/>
                </a:path>
              </a:pathLst>
            </a:cu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85" name="图片 11" descr=""/>
            <p:cNvPicPr/>
            <p:nvPr/>
          </p:nvPicPr>
          <p:blipFill>
            <a:blip r:embed="rId1"/>
            <a:stretch/>
          </p:blipFill>
          <p:spPr>
            <a:xfrm>
              <a:off x="6320520" y="4175640"/>
              <a:ext cx="679680" cy="1610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86" name="图片 12" descr=""/>
            <p:cNvPicPr/>
            <p:nvPr/>
          </p:nvPicPr>
          <p:blipFill>
            <a:blip r:embed="rId2"/>
            <a:stretch/>
          </p:blipFill>
          <p:spPr>
            <a:xfrm>
              <a:off x="2139480" y="4164840"/>
              <a:ext cx="592560" cy="1621440"/>
            </a:xfrm>
            <a:prstGeom prst="rect">
              <a:avLst/>
            </a:prstGeom>
            <a:ln w="9525">
              <a:noFill/>
            </a:ln>
          </p:spPr>
        </p:pic>
        <p:cxnSp>
          <p:nvCxnSpPr>
            <p:cNvPr id="87" name="直接连接符 13"/>
            <p:cNvCxnSpPr/>
            <p:nvPr/>
          </p:nvCxnSpPr>
          <p:spPr>
            <a:xfrm>
              <a:off x="1187280" y="2490480"/>
              <a:ext cx="2723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  <a:round/>
            </a:ln>
          </p:spPr>
        </p:cxnSp>
        <p:sp>
          <p:nvSpPr>
            <p:cNvPr id="88" name="任意多边形 14"/>
            <p:cNvSpPr/>
            <p:nvPr/>
          </p:nvSpPr>
          <p:spPr>
            <a:xfrm rot="10800000">
              <a:off x="5159880" y="1792440"/>
              <a:ext cx="3126960" cy="2126880"/>
            </a:xfrm>
            <a:custGeom>
              <a:avLst/>
              <a:gdLst>
                <a:gd name="textAreaLeft" fmla="*/ 0 w 3126960"/>
                <a:gd name="textAreaRight" fmla="*/ 3127320 w 3126960"/>
                <a:gd name="textAreaTop" fmla="*/ 0 h 2126880"/>
                <a:gd name="textAreaBottom" fmla="*/ 2127240 h 2126880"/>
              </a:gdLst>
              <a:ahLst/>
              <a:rect l="textAreaLeft" t="textAreaTop" r="textAreaRight" b="textAreaBottom"/>
              <a:pathLst>
                <a:path w="4023360" h="2735572">
                  <a:moveTo>
                    <a:pt x="3155845" y="2735572"/>
                  </a:moveTo>
                  <a:lnTo>
                    <a:pt x="867515" y="2735572"/>
                  </a:lnTo>
                  <a:cubicBezTo>
                    <a:pt x="388400" y="2735572"/>
                    <a:pt x="0" y="2347172"/>
                    <a:pt x="0" y="1868057"/>
                  </a:cubicBezTo>
                  <a:lnTo>
                    <a:pt x="0" y="1183444"/>
                  </a:lnTo>
                  <a:cubicBezTo>
                    <a:pt x="0" y="704329"/>
                    <a:pt x="388400" y="315929"/>
                    <a:pt x="867515" y="315929"/>
                  </a:cubicBezTo>
                  <a:lnTo>
                    <a:pt x="1947780" y="315929"/>
                  </a:lnTo>
                  <a:lnTo>
                    <a:pt x="2131019" y="0"/>
                  </a:lnTo>
                  <a:lnTo>
                    <a:pt x="2314258" y="315929"/>
                  </a:lnTo>
                  <a:lnTo>
                    <a:pt x="3155845" y="315929"/>
                  </a:lnTo>
                  <a:cubicBezTo>
                    <a:pt x="3634960" y="315929"/>
                    <a:pt x="4023360" y="704329"/>
                    <a:pt x="4023360" y="1183444"/>
                  </a:cubicBezTo>
                  <a:lnTo>
                    <a:pt x="4023360" y="1868057"/>
                  </a:lnTo>
                  <a:cubicBezTo>
                    <a:pt x="4023360" y="2347172"/>
                    <a:pt x="3634960" y="2735572"/>
                    <a:pt x="3155845" y="2735572"/>
                  </a:cubicBezTo>
                  <a:close/>
                </a:path>
              </a:pathLst>
            </a:cu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89" name="直接连接符 15"/>
            <p:cNvCxnSpPr/>
            <p:nvPr/>
          </p:nvCxnSpPr>
          <p:spPr>
            <a:xfrm>
              <a:off x="5381280" y="2490480"/>
              <a:ext cx="2723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  <a:round/>
            </a:ln>
          </p:spPr>
        </p:cxnSp>
      </p:grpSp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8560" y="205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61405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6211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997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3"/>
          <p:cNvGrpSpPr/>
          <p:nvPr/>
        </p:nvGrpSpPr>
        <p:grpSpPr>
          <a:xfrm>
            <a:off x="285840" y="1928880"/>
            <a:ext cx="8567280" cy="3011040"/>
            <a:chOff x="285840" y="1928880"/>
            <a:chExt cx="8567280" cy="3011040"/>
          </a:xfrm>
        </p:grpSpPr>
        <p:sp>
          <p:nvSpPr>
            <p:cNvPr id="100" name="矩形 10"/>
            <p:cNvSpPr/>
            <p:nvPr/>
          </p:nvSpPr>
          <p:spPr>
            <a:xfrm>
              <a:off x="2200320" y="2008080"/>
              <a:ext cx="6652800" cy="122184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1" name="矩形 11"/>
            <p:cNvSpPr/>
            <p:nvPr/>
          </p:nvSpPr>
          <p:spPr>
            <a:xfrm>
              <a:off x="1844640" y="3659040"/>
              <a:ext cx="7008480" cy="122364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>
              <a:off x="285840" y="1928880"/>
              <a:ext cx="3011040" cy="3011040"/>
            </a:xfrm>
            <a:prstGeom prst="ellipse">
              <a:avLst/>
            </a:prstGeom>
            <a:solidFill>
              <a:srgbClr val="265984"/>
            </a:solidFill>
            <a:ln w="12700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13543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51404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51404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82160" y="6309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斜纹 10"/>
          <p:cNvSpPr/>
          <p:nvPr/>
        </p:nvSpPr>
        <p:spPr>
          <a:xfrm>
            <a:off x="4976640" y="1263600"/>
            <a:ext cx="1952280" cy="1952280"/>
          </a:xfrm>
          <a:prstGeom prst="diagStripe">
            <a:avLst>
              <a:gd name="adj" fmla="val 0"/>
            </a:avLst>
          </a:prstGeom>
          <a:solidFill>
            <a:srgbClr val="187c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斜纹 11"/>
          <p:cNvSpPr/>
          <p:nvPr/>
        </p:nvSpPr>
        <p:spPr>
          <a:xfrm rot="5400000">
            <a:off x="4977000" y="3191040"/>
            <a:ext cx="1952280" cy="1952280"/>
          </a:xfrm>
          <a:prstGeom prst="diagStripe">
            <a:avLst>
              <a:gd name="adj" fmla="val 0"/>
            </a:avLst>
          </a:prstGeom>
          <a:solidFill>
            <a:srgbClr val="2659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14" name="组合 14"/>
          <p:cNvGrpSpPr/>
          <p:nvPr/>
        </p:nvGrpSpPr>
        <p:grpSpPr>
          <a:xfrm>
            <a:off x="3046320" y="1262520"/>
            <a:ext cx="1954440" cy="3879360"/>
            <a:chOff x="3046320" y="1262520"/>
            <a:chExt cx="1954440" cy="3879360"/>
          </a:xfrm>
        </p:grpSpPr>
        <p:sp>
          <p:nvSpPr>
            <p:cNvPr id="115" name="斜纹 12"/>
            <p:cNvSpPr/>
            <p:nvPr/>
          </p:nvSpPr>
          <p:spPr>
            <a:xfrm rot="10800000">
              <a:off x="3048480" y="3189600"/>
              <a:ext cx="1952280" cy="1952280"/>
            </a:xfrm>
            <a:prstGeom prst="diagStripe">
              <a:avLst>
                <a:gd name="adj" fmla="val 0"/>
              </a:avLst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斜纹 13"/>
            <p:cNvSpPr/>
            <p:nvPr/>
          </p:nvSpPr>
          <p:spPr>
            <a:xfrm rot="16200000">
              <a:off x="3046320" y="1262520"/>
              <a:ext cx="1952280" cy="1952280"/>
            </a:xfrm>
            <a:prstGeom prst="diagStripe">
              <a:avLst>
                <a:gd name="adj" fmla="val 0"/>
              </a:avLst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71160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5286240" y="321480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33544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521172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0"/>
          <p:cNvGrpSpPr/>
          <p:nvPr/>
        </p:nvGrpSpPr>
        <p:grpSpPr>
          <a:xfrm>
            <a:off x="857160" y="1643040"/>
            <a:ext cx="7526160" cy="3620880"/>
            <a:chOff x="857160" y="1643040"/>
            <a:chExt cx="7526160" cy="3620880"/>
          </a:xfrm>
        </p:grpSpPr>
        <p:sp>
          <p:nvSpPr>
            <p:cNvPr id="127" name="矩形 11"/>
            <p:cNvSpPr/>
            <p:nvPr/>
          </p:nvSpPr>
          <p:spPr>
            <a:xfrm>
              <a:off x="857160" y="1643040"/>
              <a:ext cx="3763440" cy="181080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8" name="矩形 12"/>
            <p:cNvSpPr/>
            <p:nvPr/>
          </p:nvSpPr>
          <p:spPr>
            <a:xfrm>
              <a:off x="4619520" y="1643040"/>
              <a:ext cx="3763440" cy="181080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矩形 13"/>
            <p:cNvSpPr/>
            <p:nvPr/>
          </p:nvSpPr>
          <p:spPr>
            <a:xfrm>
              <a:off x="857160" y="3454560"/>
              <a:ext cx="3763440" cy="1809360"/>
            </a:xfrm>
            <a:prstGeom prst="rect">
              <a:avLst/>
            </a:prstGeom>
            <a:solidFill>
              <a:srgbClr val="26598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矩形 14"/>
            <p:cNvSpPr/>
            <p:nvPr/>
          </p:nvSpPr>
          <p:spPr>
            <a:xfrm>
              <a:off x="4621320" y="3454560"/>
              <a:ext cx="3762000" cy="1809360"/>
            </a:xfrm>
            <a:prstGeom prst="rect">
              <a:avLst/>
            </a:prstGeom>
            <a:solidFill>
              <a:srgbClr val="187c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131" name="组合 112"/>
            <p:cNvGrpSpPr/>
            <p:nvPr/>
          </p:nvGrpSpPr>
          <p:grpSpPr>
            <a:xfrm>
              <a:off x="4051440" y="3147840"/>
              <a:ext cx="1132920" cy="617760"/>
              <a:chOff x="4051440" y="3147840"/>
              <a:chExt cx="1132920" cy="617760"/>
            </a:xfrm>
          </p:grpSpPr>
          <p:sp>
            <p:nvSpPr>
              <p:cNvPr id="132" name="直角三角形 16"/>
              <p:cNvSpPr/>
              <p:nvPr/>
            </p:nvSpPr>
            <p:spPr>
              <a:xfrm>
                <a:off x="4051440" y="3152880"/>
                <a:ext cx="568080" cy="304560"/>
              </a:xfrm>
              <a:prstGeom prst="rtTriangle">
                <a:avLst/>
              </a:prstGeom>
              <a:solidFill>
                <a:srgbClr val="26598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3" name="直角三角形 17"/>
              <p:cNvSpPr/>
              <p:nvPr/>
            </p:nvSpPr>
            <p:spPr>
              <a:xfrm flipV="1">
                <a:off x="4616280" y="3147840"/>
                <a:ext cx="568080" cy="304560"/>
              </a:xfrm>
              <a:prstGeom prst="rtTriangle">
                <a:avLst/>
              </a:prstGeom>
              <a:solidFill>
                <a:srgbClr val="187cb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134" name="组合 115"/>
              <p:cNvGrpSpPr/>
              <p:nvPr/>
            </p:nvGrpSpPr>
            <p:grpSpPr>
              <a:xfrm>
                <a:off x="4051440" y="3454560"/>
                <a:ext cx="1123920" cy="311040"/>
                <a:chOff x="4051440" y="3454560"/>
                <a:chExt cx="1123920" cy="311040"/>
              </a:xfrm>
            </p:grpSpPr>
            <p:sp>
              <p:nvSpPr>
                <p:cNvPr id="135" name="直角三角形 19"/>
                <p:cNvSpPr/>
                <p:nvPr/>
              </p:nvSpPr>
              <p:spPr>
                <a:xfrm rot="10800000">
                  <a:off x="4607280" y="3454560"/>
                  <a:ext cx="568080" cy="304560"/>
                </a:xfrm>
                <a:prstGeom prst="rtTriangle">
                  <a:avLst/>
                </a:prstGeom>
                <a:solidFill>
                  <a:srgbClr val="265984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36" name="直角三角形 20"/>
                <p:cNvSpPr/>
                <p:nvPr/>
              </p:nvSpPr>
              <p:spPr>
                <a:xfrm flipV="1" rot="10800000">
                  <a:off x="4051440" y="3461040"/>
                  <a:ext cx="568080" cy="304560"/>
                </a:xfrm>
                <a:prstGeom prst="rtTriangle">
                  <a:avLst/>
                </a:prstGeom>
                <a:solidFill>
                  <a:srgbClr val="187cb9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13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937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237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60944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20937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  <Words>209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17:51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