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37AE-5CB3-4E74-80FE-1180F079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7560" y="366732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FD3D-3E36-4D23-A7F9-09A389AC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400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6851-EA0A-4787-9B5A-1D65F06C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260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9764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756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260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9764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B7C7-29A6-4286-9357-63980A62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E54C-0659-4172-BFB1-E49C8028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1488-5B39-49BB-8946-4F81DAED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30B7-724D-45BC-85D4-7F5EA4EF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DDBB-9DA9-4A7B-8D8E-B4F0624E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D7FB-045A-476B-ADEB-A1A78DB0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78487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0C47-F093-4C02-8D22-CDF37D6B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6D9B-6036-46A7-B5B3-A58CC097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6552-25F2-4BD0-ACE7-0357F30F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7400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520F-2F36-40B6-8910-F8F8CB42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5A15-3634-48C4-9082-61D02448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47560" y="366732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5091-5F43-4F0A-9885-DD4730F7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7400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E5E3-064E-4B01-BE86-3CD221A7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97260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9764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4756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97260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9764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8A16-D0F3-4E14-9974-4F86F881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4FCD-E5BC-46CE-BF1B-2CFF93B2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DA75-5DAE-42E3-B6C3-8E26F560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661D-DB6B-4CF7-B9B6-87B01E11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78487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A696-C7FD-41DD-A0EF-1833BA24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65F7-288B-44E8-A825-BC12D1EA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400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74B-7FD3-4493-94DD-CB8991BF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C0E-8A78-4085-9CA0-DB990911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33"/>
          <p:cNvGraphicFramePr/>
          <p:nvPr/>
        </p:nvGraphicFramePr>
        <p:xfrm>
          <a:off x="0" y="0"/>
          <a:ext cx="12952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3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95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87da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66d4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70572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www.1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22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50532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11C8-743A-40F0-953C-C200F0ADFF13}" type="slidenum">
              <a:rPr b="0" lang="ko-KR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0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9360">
            <a:solidFill>
              <a:srgbClr val="2e4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8" name="Rectangle 34"/>
          <p:cNvSpPr/>
          <p:nvPr/>
        </p:nvSpPr>
        <p:spPr>
          <a:xfrm>
            <a:off x="0" y="0"/>
            <a:ext cx="1295280" cy="533520"/>
          </a:xfrm>
          <a:prstGeom prst="rect">
            <a:avLst/>
          </a:prstGeom>
          <a:solidFill>
            <a:srgbClr val="419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9"/>
          <p:cNvSpPr/>
          <p:nvPr/>
        </p:nvSpPr>
        <p:spPr>
          <a:xfrm>
            <a:off x="7458120" y="59436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  <a:ea typeface="굴림"/>
              </a:rPr>
              <a:t>LOGO</a:t>
            </a:r>
            <a:endParaRPr b="0" lang="en-US" sz="2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87da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66d4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CF89-B198-4198-8AF9-A13E87F92C64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굴림"/>
              </a:rPr>
              <a:t>绿色陪衬娇美的鲜花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굴림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굴림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000" spc="-1" strike="noStrike">
              <a:solidFill>
                <a:srgbClr val="ffffff"/>
              </a:solidFill>
              <a:latin typeface="Verdana"/>
              <a:ea typeface="굴림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e4f5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2e4f5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e4f5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1" name="AutoShape 2"/>
          <p:cNvSpPr/>
          <p:nvPr/>
        </p:nvSpPr>
        <p:spPr>
          <a:xfrm>
            <a:off x="2192400" y="193212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43221"/>
              </a:gs>
              <a:gs pos="100000">
                <a:srgbClr val="b66d4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2206800" y="278928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2192400" y="3639960"/>
            <a:ext cx="5473800" cy="3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0691d"/>
              </a:gs>
              <a:gs pos="100000">
                <a:srgbClr val="cfe33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192400" y="451800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13a4c"/>
              </a:gs>
              <a:gs pos="100000">
                <a:srgbClr val="487da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2503440" y="187164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Introduction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2523960" y="272268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Strategy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2514600" y="358128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hallenges Forward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2590920" y="445284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onclusion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1752480" y="1731960"/>
            <a:ext cx="685800" cy="685800"/>
          </a:xfrm>
          <a:prstGeom prst="diamond">
            <a:avLst/>
          </a:prstGeom>
          <a:solidFill>
            <a:srgbClr val="b66d48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752480" y="2570040"/>
            <a:ext cx="685800" cy="685800"/>
          </a:xfrm>
          <a:prstGeom prst="diamond">
            <a:avLst/>
          </a:prstGeom>
          <a:solidFill>
            <a:srgbClr val="419366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2" name="AutoShape 13"/>
          <p:cNvSpPr/>
          <p:nvPr/>
        </p:nvSpPr>
        <p:spPr>
          <a:xfrm>
            <a:off x="1752480" y="3484440"/>
            <a:ext cx="685800" cy="685800"/>
          </a:xfrm>
          <a:prstGeom prst="diamond">
            <a:avLst/>
          </a:prstGeom>
          <a:solidFill>
            <a:srgbClr val="cfe33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3" name="AutoShape 14"/>
          <p:cNvSpPr/>
          <p:nvPr/>
        </p:nvSpPr>
        <p:spPr>
          <a:xfrm>
            <a:off x="1752480" y="4322880"/>
            <a:ext cx="685800" cy="685800"/>
          </a:xfrm>
          <a:prstGeom prst="diamond">
            <a:avLst/>
          </a:prstGeom>
          <a:solidFill>
            <a:srgbClr val="487da4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80920" y="2173320"/>
            <a:ext cx="566244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www.1ppt.com</a:t>
            </a:r>
            <a:endParaRPr b="1" lang="en-US" sz="16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05" name="WordArt 3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e4f56"/>
                    </a:gs>
                    <a:gs pos="100000">
                      <a:srgbClr val="b66d48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e4f56"/>
                  </a:gs>
                  <a:gs pos="100000">
                    <a:srgbClr val="b66d48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5:17:48Z</dcterms:created>
  <dc:creator>keke</dc:creator>
  <dc:description/>
  <dc:language>en-US</dc:language>
  <cp:lastModifiedBy>王玉清</cp:lastModifiedBy>
  <dcterms:modified xsi:type="dcterms:W3CDTF">2016-02-22T03:44:00Z</dcterms:modified>
  <cp:revision>5</cp:revision>
  <dc:subject/>
  <dc:title>PowerPoint Template</dc:title>
</cp:coreProperties>
</file>