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hdphoto1.wdp" ContentType="image/vnd.ms-photo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5C4-241B-4447-937D-968E7419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7E4-5198-4F97-A983-118EA1A1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627-AA41-4410-B8E7-FDB3CB54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028-AB2E-413C-ADAC-F71801F7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946A-BB1F-4479-9F5A-71F3A177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888D-80A5-4C24-A66B-F5F724EF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7EF5-554A-40F0-9914-C331C50E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F1AC-38A3-4629-AF34-C532854C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5754-CF66-4D80-806B-076D2512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653A-5A2C-4539-AE90-9243ED0C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96E9-1AB3-4CBD-B808-0F5D3058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86F-291A-40CE-ADC2-85EC5E47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027A-F2D1-44BB-9F84-BA168644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D404-000C-47B4-A2BC-6A48552B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3E3F-F3B9-45D6-8A54-1BEADAFD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E73F-6A37-44BB-B06C-5F5959BF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8AE9-1BCC-41EE-B2FB-C64B8CD3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66F-10F6-4767-A3B3-DCA0CF81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DB4-25B8-458C-BB7E-6FAFBDF6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64C-ABFF-4641-822B-73C4BD7F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EE1-990A-4A92-AC0F-26C3A8FD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D7E-B1C6-4B02-B3D4-A9CC9393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4B0-0B75-4F62-B351-5B548E53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062-2797-417D-9499-0A97793B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microsoft.com/office/2007/relationships/hdphoto" Target="../media/hdphoto1.wdp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流程图: 文档 6"/>
          <p:cNvSpPr/>
          <p:nvPr/>
        </p:nvSpPr>
        <p:spPr>
          <a:xfrm>
            <a:off x="-12960" y="0"/>
            <a:ext cx="9169560" cy="1484280"/>
          </a:xfrm>
          <a:prstGeom prst="flowChartDocument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Picture 2"/>
          <p:cNvSpPr/>
          <p:nvPr/>
        </p:nvSpPr>
        <p:spPr>
          <a:xfrm>
            <a:off x="-12960" y="0"/>
            <a:ext cx="9169560" cy="1275840"/>
          </a:xfrm>
          <a:prstGeom prst="flowChartDocument">
            <a:avLst/>
          </a:prstGeom>
          <a:blipFill rotWithShape="0"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artisticBlur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innerShdw blurRad="63500" dir="5400000" dist="50800">
              <a:srgbClr val="000000">
                <a:alpha val="50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804A12-DCD6-491E-BFAF-6E6BFC9B7F9A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3200" spc="-1" strike="noStrike">
                <a:solidFill>
                  <a:schemeClr val="accent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流程图: 文档 6"/>
          <p:cNvSpPr/>
          <p:nvPr/>
        </p:nvSpPr>
        <p:spPr>
          <a:xfrm>
            <a:off x="-12960" y="0"/>
            <a:ext cx="9169560" cy="1484280"/>
          </a:xfrm>
          <a:prstGeom prst="flowChartDocument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" name="Picture 2"/>
          <p:cNvSpPr/>
          <p:nvPr/>
        </p:nvSpPr>
        <p:spPr>
          <a:xfrm>
            <a:off x="-12960" y="0"/>
            <a:ext cx="9169560" cy="1275840"/>
          </a:xfrm>
          <a:prstGeom prst="flowChartDocument">
            <a:avLst/>
          </a:prstGeom>
          <a:blipFill rotWithShape="0"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artisticBlur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innerShdw blurRad="63500" dir="5400000" dist="50800">
              <a:srgbClr val="000000">
                <a:alpha val="50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80a421"/>
              </a:buClr>
              <a:buFont typeface="Arial"/>
              <a:buChar char="•"/>
            </a:pPr>
            <a:r>
              <a:rPr b="1" lang="zh-CN" sz="3200" spc="-1" strike="noStrike">
                <a:solidFill>
                  <a:schemeClr val="accent3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3CC6E5-5C71-459A-BAAC-3EBFA33CE361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pic1a.nipic.com/2008-09-18/200891818344616_2.jpg"/>
          <p:cNvPicPr/>
          <p:nvPr/>
        </p:nvPicPr>
        <p:blipFill>
          <a:blip r:embed="rId1"/>
          <a:srcRect l="0" t="68517" r="0" b="0"/>
          <a:stretch/>
        </p:blipFill>
        <p:spPr>
          <a:xfrm>
            <a:off x="-12960" y="0"/>
            <a:ext cx="9169560" cy="2136600"/>
          </a:xfrm>
          <a:prstGeom prst="rect">
            <a:avLst/>
          </a:prstGeom>
          <a:ln w="0">
            <a:noFill/>
          </a:ln>
        </p:spPr>
      </p:pic>
      <p:sp>
        <p:nvSpPr>
          <p:cNvPr id="87" name="矩形 3"/>
          <p:cNvSpPr/>
          <p:nvPr/>
        </p:nvSpPr>
        <p:spPr>
          <a:xfrm>
            <a:off x="-12960" y="1340640"/>
            <a:ext cx="9169560" cy="2011680"/>
          </a:xfrm>
          <a:prstGeom prst="rect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816560" y="1836000"/>
            <a:ext cx="4891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绿色苹果通用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pic1a.nipic.com/2008-09-18/200891818344616_2.jpg"/>
          <p:cNvPicPr/>
          <p:nvPr/>
        </p:nvPicPr>
        <p:blipFill>
          <a:blip r:embed="rId2"/>
          <a:srcRect l="-28" t="8762" r="28" b="47683"/>
          <a:stretch/>
        </p:blipFill>
        <p:spPr>
          <a:xfrm>
            <a:off x="-12960" y="3929040"/>
            <a:ext cx="9169560" cy="295596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微软雅黑"/>
              </a:rPr>
              <a:t>目录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6577" r="0" b="12552"/>
          <a:stretch/>
        </p:blipFill>
        <p:spPr>
          <a:xfrm>
            <a:off x="3348000" y="2061000"/>
            <a:ext cx="281448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2875680" y="3259800"/>
            <a:ext cx="339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000040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3"/>
          <p:cNvSpPr/>
          <p:nvPr/>
        </p:nvSpPr>
        <p:spPr>
          <a:xfrm>
            <a:off x="1720800" y="2495880"/>
            <a:ext cx="5365080" cy="2968560"/>
          </a:xfrm>
          <a:prstGeom prst="roundRect">
            <a:avLst>
              <a:gd name="adj" fmla="val 2939"/>
            </a:avLst>
          </a:prstGeom>
          <a:solidFill>
            <a:schemeClr val="accent3"/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441800" y="2641680"/>
            <a:ext cx="81036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ffffff"/>
                </a:solidFill>
                <a:latin typeface="Microsoft Himalaya"/>
                <a:ea typeface="DotumChe"/>
              </a:rPr>
              <a:t>“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849760" y="2617560"/>
            <a:ext cx="912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油菜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接连接符 7"/>
          <p:cNvCxnSpPr/>
          <p:nvPr/>
        </p:nvCxnSpPr>
        <p:spPr>
          <a:xfrm>
            <a:off x="1806120" y="5711760"/>
            <a:ext cx="2556720" cy="360"/>
          </a:xfrm>
          <a:prstGeom prst="straightConnector1">
            <a:avLst/>
          </a:prstGeom>
          <a:ln>
            <a:solidFill>
              <a:srgbClr val="80a421"/>
            </a:solidFill>
            <a:round/>
            <a:headEnd len="med" type="oval" w="med"/>
            <a:tailEnd len="med" type="oval" w="med"/>
          </a:ln>
        </p:spPr>
      </p:cxnSp>
      <p:cxnSp>
        <p:nvCxnSpPr>
          <p:cNvPr id="99" name="直接连接符 9"/>
          <p:cNvCxnSpPr/>
          <p:nvPr/>
        </p:nvCxnSpPr>
        <p:spPr>
          <a:xfrm>
            <a:off x="4529880" y="2279880"/>
            <a:ext cx="2556720" cy="360"/>
          </a:xfrm>
          <a:prstGeom prst="straightConnector1">
            <a:avLst/>
          </a:prstGeom>
          <a:ln>
            <a:solidFill>
              <a:srgbClr val="80a421"/>
            </a:solidFill>
            <a:round/>
            <a:headEnd len="med" type="oval" w="med"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自定义 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80a421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80a421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  <Words>25</Words>
  <Paragraphs>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7:24:42Z</dcterms:created>
  <dc:creator>bread</dc:creator>
  <dc:description/>
  <dc:language>en-US</dc:language>
  <cp:lastModifiedBy>王玉清</cp:lastModifiedBy>
  <dcterms:modified xsi:type="dcterms:W3CDTF">2016-02-22T02:57:11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