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media/image7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1DAD-2B12-464D-959D-F4774CEE9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89D9-FBAA-4902-ABD1-91CA4D3DB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A7E6-A950-473E-9813-617634909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2202-696D-48FB-958C-B4512C09C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DD9A7-8C4A-4505-81AE-DECBB6E20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E837D-B5DC-4C40-A057-3A97B97C4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7FF5A-1E27-4D19-908A-19BCABE42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7716F-13B8-4149-9FC9-3EBFCFEF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171E5-983F-498D-A917-8845AE846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1267C-B50A-41E3-9652-945938B67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AEC4E-D495-4AC5-BC38-34200065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FECD-B3EB-44AB-9EBA-DAEBA031C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D9263-3BEA-4CEB-9D74-9F5CA8AF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AED4D-E3DE-469E-B091-66483464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8FCFD-A941-40BF-A960-3D3D71965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BF962-62F3-4AF9-B750-EFE736A4F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1889E-BE00-43B2-850F-C006A9855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50BF-8FB0-4D4C-9E71-2ECB0752D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AEED-23EE-4E2A-834E-18E8DF076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C81C-F9AD-4AA9-B4B5-54EAFE2E6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4B08-06BB-4868-A1B3-DA6355AB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953B-A61B-4340-8000-3C796572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65C4-8006-4B18-8EF1-FECA8609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F1C5-7DF9-415B-B2DC-8F42FDF6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2BCEA-EA9E-46B5-A5AE-45E584F5CF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733EC-2674-416B-8B45-2183049897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50600" cy="73137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539640" y="-241200"/>
            <a:ext cx="2808360" cy="24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宋体"/>
              </a:rPr>
              <a:t>欢迎</a:t>
            </a:r>
            <a:endParaRPr b="0" lang="en-US" sz="96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64771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-179280" y="6597720"/>
            <a:ext cx="46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40880" y="0"/>
            <a:ext cx="312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历史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-241200"/>
            <a:ext cx="7772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四、当场训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-360" y="692280"/>
            <a:ext cx="4800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、粉碎“四人帮”后我国出现了（      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百废俱兴的局面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 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经济迅速发展的局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 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拨乱反正的局面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 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在徘徊中前进的局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、为党的十一届三中全会召开奠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思想基础的是（    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党的整风运动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  “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文革”的结束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 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关于真理标准问题的讨论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实事求是的路线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、党的十一届三中全会是伟大的历史转折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其根本之点是（    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确立了实事求是的路线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实行改革开放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党和国家工作重心的转移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决定拨乱反正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、之所以说真理标准问题的讨论是一次深刻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思想解放运动，主要是因为（       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重新确立了实事求是的原则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 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认识到毛泽东晚年的错误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 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纠正了“文革”的错误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 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肯定了真理标准问题的讨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356000" y="533520"/>
            <a:ext cx="426744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、下列事件，在影响上可归为一类的（      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①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戊戌变法前维新派与顽固派论战 ② 扶清灭洋  ③  革命派与保皇派论战 ④ 新文化运动     ⑤关于真理标准问题的讨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① ② ③ ④ ⑤     B ② ③ ④ ⑤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 ① ③ ④ ⑤     D ① ② ③ ⑤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、下列会议在影响上可归为一类的是（   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①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八七会议 ②遵义会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③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中共八大 ④ 十一届三中全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① ② ③ ④ B ② ③ ④ C ① ②  ④ D ① ② ③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、下列会议在内容上可归为一类的是（    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①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八七会议 ②遵义会议 ③ 七届二中全会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④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中共八大 ⑤十一届三中全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① ② ③ ④ B ① ②③ ④ C ① ③ ④⑤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、下列关于文革后拨乱反正的说法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不正确的是（ 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为受打击、诬陷或迫害的知识分子恢复了名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平反了党历史上最大的冤案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撤销了文革中强加给刘少奇的种种罪名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为右派分子平反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580000" y="4365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47640" y="16995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476360" y="27075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411280" y="378864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524720" y="619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451640" y="3141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451640" y="2059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27280" y="619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场训练二——材料分析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-360" y="1066320"/>
            <a:ext cx="94489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材料一：凡是毛主席作出的决策，我们都要坚决拥护；凡是毛主席的指示，我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都始终不渝的遵循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———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摘自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977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年《人民日报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材料二：革命导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----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并不认为自已提出的理论是己经完成了绝对真理的“顶峰”，可以不受实践的检验，并不认为他们作出的结论不管实际情况如何都不能改变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更不用说那些根据个别情况作出的论断。他们处处时时用实践来检验自己的理论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论断、指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-----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他们不容许别人把他们的言论当作“圣经 ”崇拜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————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摘自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978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日《人民日报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根据材料及课文知识回答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材料一的中心观点是什么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材料二的中心观点又是什么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两则材料的根本分歧是什么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针对材料一，材料二在当时有什么重要意义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-826920" y="-455760"/>
            <a:ext cx="9751680" cy="73137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635120" y="2625840"/>
            <a:ext cx="610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16000" y="1700280"/>
            <a:ext cx="66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4360" y="549360"/>
            <a:ext cx="6480000" cy="41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华文行楷"/>
              </a:rPr>
              <a:t>再见</a:t>
            </a:r>
            <a:endParaRPr b="1" lang="en-US" sz="96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36CC-E086-4EF3-99E2-76749B9EC41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68360" y="3703320"/>
            <a:ext cx="7991280" cy="1323000"/>
          </a:xfrm>
          <a:prstGeom prst="rect">
            <a:avLst/>
          </a:prstGeom>
          <a:solidFill>
            <a:srgbClr val="66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在社会主义建设初期，中共在经济建            设中主要犯了什么错误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温故而知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在民主革命时期，中共经受了哪两次严重挫折？又是怎样转危为安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16000" y="3500280"/>
            <a:ext cx="712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532080" y="609120"/>
            <a:ext cx="967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课题：伟大的历史性转折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-303480" y="4038480"/>
            <a:ext cx="777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隶书"/>
              </a:rPr>
              <a:t>授课人：郭基南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 flipH="1">
            <a:off x="4114800" y="25146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学习目标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7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文革后的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77---197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年出现两年徘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的原因有哪些？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徘徊中的前进，前进的表现有哪些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关于真理标准问题的讨论，背景、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的、内容、意义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十一届三中全会的背景、内容、意义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拨乱反正在实践上、理论上的表现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为什么说十一届三中全会是伟大的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史性转折？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066680" y="0"/>
            <a:ext cx="762120" cy="942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前进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徘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突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突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00400" y="457200"/>
            <a:ext cx="2971800" cy="168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号召——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强调——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指出——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恢复—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078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133920" y="1295280"/>
            <a:ext cx="911880" cy="477072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转折的背景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在徘徊中前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120" y="1219320"/>
            <a:ext cx="380880" cy="5638680"/>
          </a:xfrm>
          <a:custGeom>
            <a:avLst/>
            <a:gdLst>
              <a:gd name="textAreaLeft" fmla="*/ 243360 w 380880"/>
              <a:gd name="textAreaRight" fmla="*/ 381240 w 380880"/>
              <a:gd name="textAreaTop" fmla="*/ 146880 h 5638680"/>
              <a:gd name="textAreaBottom" fmla="*/ 5491800 h 5638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8632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276720" y="4267080"/>
            <a:ext cx="401400" cy="16002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295280" y="2133720"/>
            <a:ext cx="152640" cy="1752480"/>
          </a:xfrm>
          <a:prstGeom prst="downArrow">
            <a:avLst>
              <a:gd name="adj1" fmla="val 50000"/>
              <a:gd name="adj2" fmla="val 287028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295280" y="5257800"/>
            <a:ext cx="152640" cy="914400"/>
          </a:xfrm>
          <a:prstGeom prst="downArrow">
            <a:avLst>
              <a:gd name="adj1" fmla="val 50000"/>
              <a:gd name="adj2" fmla="val 14976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0"/>
            <a:ext cx="228600" cy="3733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97200 h 3733920"/>
              <a:gd name="textAreaBottom" fmla="*/ 3636720 h 3733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57400" y="0"/>
            <a:ext cx="99072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原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措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表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00400" y="0"/>
            <a:ext cx="2971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邓小平复出，大力整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67080" y="1905120"/>
            <a:ext cx="4114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1977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年底恢复高考制度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19520" y="533520"/>
            <a:ext cx="304560" cy="1904760"/>
          </a:xfrm>
          <a:custGeom>
            <a:avLst/>
            <a:gdLst>
              <a:gd name="textAreaLeft" fmla="*/ 194760 w 304560"/>
              <a:gd name="textAreaRight" fmla="*/ 304920 w 30456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19720" y="914400"/>
            <a:ext cx="3809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科学技术是生产力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19720" y="1371600"/>
            <a:ext cx="39621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知识分子是工人阶级的一部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67080" y="457200"/>
            <a:ext cx="3657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尊重知识，尊重人才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352680" y="2819520"/>
            <a:ext cx="4724640" cy="128736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教科文——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国民经济—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24280" y="3505320"/>
            <a:ext cx="3009960" cy="72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得到较快恢复，某些方面甚至有些发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819520"/>
            <a:ext cx="114120" cy="1090440"/>
          </a:xfrm>
          <a:custGeom>
            <a:avLst/>
            <a:gdLst>
              <a:gd name="textAreaLeft" fmla="*/ 73080 w 114120"/>
              <a:gd name="textAreaRight" fmla="*/ 114480 w 114120"/>
              <a:gd name="textAreaTop" fmla="*/ 28440 h 1090440"/>
              <a:gd name="textAreaBottom" fmla="*/ 1062000 h 1090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00600" y="2743200"/>
            <a:ext cx="1828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出现全新面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4267080"/>
            <a:ext cx="4267080" cy="72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文革十年，积累了许多政治问题和社会问题，百业待新任务艰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6248520"/>
            <a:ext cx="26668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关于真理标准问题的讨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为转折奠定思想基础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9880" y="5257800"/>
            <a:ext cx="36576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党“左”的指导思想没变，经济建设上又急于求成，出现了在徘徊中前进的局面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905120" y="6400080"/>
            <a:ext cx="952560" cy="152280"/>
          </a:xfrm>
          <a:prstGeom prst="rightArrow">
            <a:avLst>
              <a:gd name="adj1" fmla="val 50000"/>
              <a:gd name="adj2" fmla="val 1563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28800" y="4952880"/>
            <a:ext cx="1257480" cy="152640"/>
          </a:xfrm>
          <a:prstGeom prst="rightArrow">
            <a:avLst>
              <a:gd name="adj1" fmla="val 50000"/>
              <a:gd name="adj2" fmla="val 205955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3200400"/>
            <a:ext cx="0" cy="685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057400" y="47242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Times New Roman"/>
              </a:rPr>
              <a:t>原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-353160" y="1523880"/>
            <a:ext cx="91188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关于真理标准问题的讨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38680" y="3276720"/>
            <a:ext cx="549360" cy="26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152388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58920" y="836640"/>
            <a:ext cx="2666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两个凡是”的方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51280" y="90792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635280" y="836640"/>
            <a:ext cx="1008000" cy="485640"/>
          </a:xfrm>
          <a:prstGeom prst="rightArrow">
            <a:avLst>
              <a:gd name="adj1" fmla="val 50000"/>
              <a:gd name="adj2" fmla="val 518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86400" y="990720"/>
            <a:ext cx="1447920" cy="5331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43280" y="549360"/>
            <a:ext cx="151308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哲学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教条主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72360" y="9810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62520" y="510552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010280" y="404640"/>
            <a:ext cx="213372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实质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“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左”倾思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71600" y="4572000"/>
            <a:ext cx="243828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实践是检验真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的唯一标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724280" y="4495680"/>
            <a:ext cx="121932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哲学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实事求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19920" y="5157720"/>
            <a:ext cx="639720" cy="176400"/>
          </a:xfrm>
          <a:prstGeom prst="rightArrow">
            <a:avLst>
              <a:gd name="adj1" fmla="val 50000"/>
              <a:gd name="adj2" fmla="val 90663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04000" y="4508640"/>
            <a:ext cx="21337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实质：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解放思想，冲破理论禁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19320" y="2590920"/>
            <a:ext cx="73911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分歧：如何对待马克思主义毛泽东思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90720" y="3505320"/>
            <a:ext cx="1600200" cy="1295280"/>
          </a:xfrm>
          <a:prstGeom prst="upArrow">
            <a:avLst>
              <a:gd name="adj1" fmla="val 50000"/>
              <a:gd name="adj2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257800" y="1752480"/>
            <a:ext cx="304920" cy="76212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7480" y="1752480"/>
            <a:ext cx="228600" cy="762120"/>
          </a:xfrm>
          <a:prstGeom prst="upArrow">
            <a:avLst>
              <a:gd name="adj1" fmla="val 50000"/>
              <a:gd name="adj2" fmla="val 8334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38280" y="1752480"/>
            <a:ext cx="304920" cy="76212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62320" y="3200400"/>
            <a:ext cx="304560" cy="976320"/>
          </a:xfrm>
          <a:prstGeom prst="downArrow">
            <a:avLst>
              <a:gd name="adj1" fmla="val 50000"/>
              <a:gd name="adj2" fmla="val 8014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467480" y="3200400"/>
            <a:ext cx="228600" cy="824040"/>
          </a:xfrm>
          <a:prstGeom prst="downArrow">
            <a:avLst>
              <a:gd name="adj1" fmla="val 50000"/>
              <a:gd name="adj2" fmla="val 9011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257800" y="3124080"/>
            <a:ext cx="304920" cy="976320"/>
          </a:xfrm>
          <a:prstGeom prst="downArrow">
            <a:avLst>
              <a:gd name="adj1" fmla="val 50000"/>
              <a:gd name="adj2" fmla="val 8004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二、转折的标志：十一届三中全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时间——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地点——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主要内容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343040" y="1981080"/>
            <a:ext cx="4800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意义：伟大的转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⑴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完成了————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⑵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标志—————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⑶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开始形成———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⑷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形成了————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28720" y="1341360"/>
            <a:ext cx="564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十一届三中全会是伟大的历史性转折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52280" y="1447920"/>
          <a:ext cx="8991720" cy="5211720"/>
        </p:xfrm>
        <a:graphic>
          <a:graphicData uri="http://schemas.openxmlformats.org/drawingml/2006/table">
            <a:tbl>
              <a:tblPr/>
              <a:tblGrid>
                <a:gridCol w="2523960"/>
                <a:gridCol w="3038760"/>
                <a:gridCol w="342900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十一届三中全会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十一届三中全会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工作重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以阶级斗争为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思想路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左”倾思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经济形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单一公有制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高度集中的计划经济体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对外政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左”倾思想下的关闭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5715000" y="2209680"/>
            <a:ext cx="342900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经济建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或现代化建设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15000" y="3429000"/>
            <a:ext cx="34290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实事求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4343400"/>
            <a:ext cx="33526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以公有制为主体的多种所有制经济并存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向市场经济过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91320" y="5791320"/>
            <a:ext cx="335268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外开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三、拨乱反正</a:t>
            </a:r>
            <a:br>
              <a:rPr sz="44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十一届三中全会的实践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背景：⑴————     ⑵——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表现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⑴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实践上：①————② ——  ③——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⑵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理论上：通过《————》，肯定了————，根本否定了—————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意义：——————————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7T09:58:35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10:55:41Z</dcterms:modified>
  <cp:revision>7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