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  <p:custShowLst>
    <p:custShow name="自定义放映1" id="0">
      <p:sldLst>
        <p:sld r:id="rId20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3BB0-7791-4A70-888F-8FC9BDAAE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F706-FDDB-437C-9507-A63FAB8A8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BEF0-A5AE-4036-90D6-E22BD59AB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9103-AB47-4CE9-9366-24D5840EC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12A85-5D28-4EFF-B013-527F0BD69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D90E9-19F7-4BCB-B539-4F2AB844A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D1FA0-5533-40E1-87E3-76B5C381E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91A14-E291-4C1B-B465-365FD8789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5EE53-8EEF-4B76-8992-C71298A13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86CA9-2F87-400F-B6B0-027938532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55FFB-7099-4774-B05F-A7D32B53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3A8D-5147-434D-BF2E-EE781786B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D9C54-1427-46D0-A3ED-78BFB1F8D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9C1D1-DB70-4E8C-80BF-0FA213EF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C045F-6380-4332-9DD1-8D8FB7AF9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B13B8-4A06-4B71-8555-B8063DED3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E2CAC-32E1-47BE-B6BC-CBF9C4FE7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0B7B-8567-43AB-83BF-B602EC8D3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D418-7FE1-456E-A824-DDE245C6A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03CF-4130-410A-8B40-E027B20EE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CA17-4B50-4900-B0AB-EF6F3C445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99A3-A4D0-4663-9743-2E56BE11A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25DF-16AC-4628-AC29-A11C2C3F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F6FA-44BE-49C6-AA55-E129862C2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22AE7-AA10-48AD-AAF7-62DEBF40AFB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480"/>
              <a:chOff x="290520" y="2546280"/>
              <a:chExt cx="711360" cy="47448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480"/>
              <a:chOff x="414360" y="2968560"/>
              <a:chExt cx="737640" cy="47448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360" y="2968560"/>
                <a:ext cx="36864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5944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03424-90C3-4AE3-AF02-B45F3E5F2778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261,9,&#33258;&#23450;&#20041;&#25918;&#26144;1" TargetMode="Externa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261,9,&#33258;&#23450;&#20041;&#25918;&#26144;1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背景1" descr=""/>
          <p:cNvPicPr/>
          <p:nvPr/>
        </p:nvPicPr>
        <p:blipFill>
          <a:blip r:embed="rId1"/>
          <a:stretch/>
        </p:blipFill>
        <p:spPr>
          <a:xfrm>
            <a:off x="27000" y="98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73080" y="6580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499840" y="368280"/>
            <a:ext cx="375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宋体"/>
              </a:rPr>
              <a:t>历史</a:t>
            </a:r>
            <a:r>
              <a:rPr b="0" lang="zh-CN" sz="4000" spc="-1" strike="noStrike">
                <a:solidFill>
                  <a:srgbClr val="ffffff"/>
                </a:solidFill>
                <a:latin typeface="Tahoma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Tahoma"/>
                <a:ea typeface="宋体"/>
              </a:rPr>
              <a:t>模板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宋体"/>
              </a:rPr>
              <a:t>免费</a:t>
            </a:r>
            <a:r>
              <a:rPr b="0" lang="zh-CN" sz="4000" spc="-1" strike="noStrike">
                <a:solidFill>
                  <a:srgbClr val="ffffff"/>
                </a:solidFill>
                <a:latin typeface="Tahoma"/>
                <a:ea typeface="宋体"/>
              </a:rPr>
              <a:t>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三、隋朝大运河的开凿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目的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概况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开凿条件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5" name="dayunhe%201" descr=""/>
          <p:cNvPicPr/>
          <p:nvPr/>
        </p:nvPicPr>
        <p:blipFill>
          <a:blip r:embed="rId1"/>
          <a:stretch/>
        </p:blipFill>
        <p:spPr>
          <a:xfrm>
            <a:off x="3962520" y="1828800"/>
            <a:ext cx="4876560" cy="20509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609480" y="3962520"/>
            <a:ext cx="81536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隋文帝在位励精图治奠定了良好的经济基础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隋朝国家统一社会安定，使得征发两百多万人进行开凿运河成为可能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有前代开凿的几段古运河作为基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三、隋朝大运河的开凿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目的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概况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开凿条件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9" name="suiyangdiyouchuan" descr=""/>
          <p:cNvPicPr/>
          <p:nvPr/>
        </p:nvPicPr>
        <p:blipFill>
          <a:blip r:embed="rId1"/>
          <a:stretch/>
        </p:blipFill>
        <p:spPr>
          <a:xfrm>
            <a:off x="5334120" y="1828800"/>
            <a:ext cx="3809880" cy="37339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219320" y="3809880"/>
            <a:ext cx="4572000" cy="33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地位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宋体"/>
              </a:rPr>
              <a:t>古代世界最长的运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大运河的作用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宋体"/>
              </a:rPr>
              <a:t>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ea typeface="宋体"/>
                <a:hlinkClick r:id="rId2"/>
              </a:rPr>
              <a:t>促进了南北交通的发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大运河的评价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唐代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李敬芳《汴河直进船》：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汴河通汴利最多，生人为害亦相和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东南四十三州地，取尽膏脂是此河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唐代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皮日休《汴河怀古》：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尽道隋亡是此河，至今千里赖通波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若无水殿龙舟事，共禹论功不较多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"/>
          <p:cNvSpPr/>
          <p:nvPr/>
        </p:nvSpPr>
        <p:spPr>
          <a:xfrm>
            <a:off x="990720" y="518148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结合这两首诗和课后“活动与探究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2”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，谈一谈你对隋朝大运河的开凿的看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四、隋朝的灭亡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08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由于隋炀帝的暴政，公元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617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年岁末农民战争使隋朝灭亡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6" name="CL01005" descr=""/>
          <p:cNvPicPr/>
          <p:nvPr/>
        </p:nvPicPr>
        <p:blipFill>
          <a:blip r:embed="rId1"/>
          <a:stretch/>
        </p:blipFill>
        <p:spPr>
          <a:xfrm>
            <a:off x="4419720" y="1905120"/>
            <a:ext cx="4724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Tahoma"/>
              </a:rPr>
              <a:t>历史法庭：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有人说：“隋朝的灭亡就是由于开凿大运河，大量征发徭役和运河开通后隋炀帝多次巡游江都导致的，所以简单地说，就是由于隋朝大运河的开凿导致了隋朝的灭亡”，你认为隋朝大运河的开凿和隋朝灭亡的关系是不是这样的？为什么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517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ahoma"/>
              </a:rPr>
              <a:t>本课小结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>
            <a:off x="685800" y="2438280"/>
            <a:ext cx="9144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Tahoma"/>
              </a:rPr>
              <a:t>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Tahoma"/>
              </a:rPr>
              <a:t>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Tahoma"/>
              </a:rPr>
              <a:t>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Tahoma"/>
              </a:rPr>
              <a:t>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Tahoma"/>
              </a:rPr>
              <a:t>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Tahoma"/>
              </a:rPr>
              <a:t>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Tahoma"/>
              </a:rPr>
              <a:t>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3048120"/>
            <a:ext cx="228600" cy="2057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f45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3880" y="2895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Tahoma"/>
              </a:rPr>
              <a:t>繁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600200" y="48769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Tahoma"/>
              </a:rPr>
              <a:t>一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895480" y="2438280"/>
            <a:ext cx="228600" cy="1600200"/>
          </a:xfrm>
          <a:custGeom>
            <a:avLst/>
            <a:gdLst>
              <a:gd name="textAreaLeft" fmla="*/ 146160 w 228600"/>
              <a:gd name="textAreaRight" fmla="*/ 228960 w 2286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f45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220968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国家统一   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58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200400" y="29718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经济繁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200400" y="37339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大运河的开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895480" y="5105520"/>
            <a:ext cx="685800" cy="0"/>
          </a:xfrm>
          <a:prstGeom prst="line">
            <a:avLst/>
          </a:prstGeom>
          <a:ln w="38160">
            <a:solidFill>
              <a:srgbClr val="0f45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581280" y="4800600"/>
            <a:ext cx="3200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二世而亡   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38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581—61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yangjian" descr=""/>
          <p:cNvPicPr/>
          <p:nvPr/>
        </p:nvPicPr>
        <p:blipFill>
          <a:blip r:embed="rId1"/>
          <a:srcRect l="0" t="0" r="150" b="0"/>
          <a:stretch/>
        </p:blipFill>
        <p:spPr>
          <a:xfrm>
            <a:off x="6629400" y="0"/>
            <a:ext cx="2514600" cy="3505320"/>
          </a:xfrm>
          <a:prstGeom prst="rect">
            <a:avLst/>
          </a:prstGeom>
          <a:ln w="0">
            <a:noFill/>
          </a:ln>
        </p:spPr>
      </p:pic>
      <p:pic>
        <p:nvPicPr>
          <p:cNvPr id="261" name="suiyangdi" descr=""/>
          <p:cNvPicPr/>
          <p:nvPr/>
        </p:nvPicPr>
        <p:blipFill>
          <a:blip r:embed="rId2"/>
          <a:srcRect l="0" t="0" r="-268" b="0"/>
          <a:stretch/>
        </p:blipFill>
        <p:spPr>
          <a:xfrm>
            <a:off x="6629400" y="3505320"/>
            <a:ext cx="25146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Tahoma"/>
              </a:rPr>
              <a:t>作业布置：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完成填图册第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课练习；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绘制《隋朝大运河图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比较秦朝和隋朝的相似点和不同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预习第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课，搜集有关唐太宗、武则天和唐玄宗的历史小故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828720" y="460440"/>
            <a:ext cx="5643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7" name="CL01003" descr=""/>
          <p:cNvPicPr/>
          <p:nvPr/>
        </p:nvPicPr>
        <p:blipFill>
          <a:blip r:embed="rId1"/>
          <a:stretch/>
        </p:blipFill>
        <p:spPr>
          <a:xfrm>
            <a:off x="0" y="0"/>
            <a:ext cx="9226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使用规范说明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699C-7C2B-4E28-9791-FB9C5F6AF83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762120"/>
            <a:ext cx="7467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993300"/>
                </a:solidFill>
                <a:latin typeface="Tahoma"/>
                <a:ea typeface="隶书"/>
              </a:rPr>
              <a:t>一、隋朝的建立与统一：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2057400" y="3733920"/>
            <a:ext cx="457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宋体"/>
              </a:rPr>
              <a:t>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宋体"/>
              </a:rPr>
              <a:t>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14600" y="419112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48120" y="3809880"/>
            <a:ext cx="152280" cy="1143000"/>
          </a:xfrm>
          <a:custGeom>
            <a:avLst/>
            <a:gdLst>
              <a:gd name="textAreaLeft" fmla="*/ 97200 w 152280"/>
              <a:gd name="textAreaRight" fmla="*/ 152640 w 1522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213"/>
                </a:lnTo>
                <a:cubicBezTo>
                  <a:pt x="10800" y="10113"/>
                  <a:pt x="5400" y="11013"/>
                  <a:pt x="0" y="11013"/>
                </a:cubicBezTo>
                <a:cubicBezTo>
                  <a:pt x="5400" y="11013"/>
                  <a:pt x="10800" y="11913"/>
                  <a:pt x="10800" y="1281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14800" y="4724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东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00400" y="47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南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505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北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038480" y="32767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十六国并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952880" y="4800600"/>
            <a:ext cx="381240" cy="228600"/>
          </a:xfrm>
          <a:prstGeom prst="rightArrow">
            <a:avLst>
              <a:gd name="adj1" fmla="val 50000"/>
              <a:gd name="adj2" fmla="val 41693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5780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15000" y="480060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943600" y="4648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00800" y="480060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629400" y="4648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86600" y="480060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315200" y="4648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86400" y="5334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543800" y="5334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56386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629400" y="5638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077320" y="3733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5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952880" y="365760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952880" y="39625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鲜卑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4120" y="35812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北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733920"/>
            <a:ext cx="533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宋体"/>
              </a:rPr>
              <a:t>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宋体"/>
              </a:rPr>
              <a:t>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3429000"/>
            <a:ext cx="152280" cy="1981080"/>
          </a:xfrm>
          <a:custGeom>
            <a:avLst/>
            <a:gdLst>
              <a:gd name="textAreaLeft" fmla="*/ 97200 w 152280"/>
              <a:gd name="textAreaRight" fmla="*/ 152640 w 15228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4114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19320" y="365760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66680" y="3200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23880" y="4191120"/>
            <a:ext cx="609840" cy="228600"/>
          </a:xfrm>
          <a:prstGeom prst="rightArrow">
            <a:avLst>
              <a:gd name="adj1" fmla="val 50000"/>
              <a:gd name="adj2" fmla="val 66693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029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3880" y="4800600"/>
            <a:ext cx="914400" cy="533520"/>
          </a:xfrm>
          <a:custGeom>
            <a:avLst/>
            <a:gdLst>
              <a:gd name="textAreaLeft" fmla="*/ 378360 w 914400"/>
              <a:gd name="textAreaRight" fmla="*/ 795240 w 914400"/>
              <a:gd name="textAreaTop" fmla="*/ 396360 h 533520"/>
              <a:gd name="textAreaBottom" fmla="*/ 4640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8870"/>
                </a:moveTo>
                <a:lnTo>
                  <a:pt x="16050" y="18870"/>
                </a:lnTo>
                <a:lnTo>
                  <a:pt x="16050" y="8936"/>
                </a:lnTo>
                <a:lnTo>
                  <a:pt x="13230" y="8936"/>
                </a:lnTo>
                <a:lnTo>
                  <a:pt x="17415" y="0"/>
                </a:lnTo>
                <a:lnTo>
                  <a:pt x="21600" y="8936"/>
                </a:lnTo>
                <a:lnTo>
                  <a:pt x="18780" y="8936"/>
                </a:lnTo>
                <a:lnTo>
                  <a:pt x="1878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172200" y="3200400"/>
            <a:ext cx="228600" cy="1143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24480" y="2971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东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324480" y="4038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西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086600" y="312408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086600" y="411480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67480" y="2971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北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467480" y="3962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北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772400" y="350532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29600" y="41148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534520" y="3962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772400" y="4419720"/>
            <a:ext cx="1219320" cy="533160"/>
          </a:xfrm>
          <a:custGeom>
            <a:avLst/>
            <a:gdLst>
              <a:gd name="textAreaLeft" fmla="*/ 406440 w 1219320"/>
              <a:gd name="textAreaRight" fmla="*/ 1022040 w 1219320"/>
              <a:gd name="textAreaTop" fmla="*/ 393120 h 533160"/>
              <a:gd name="textAreaBottom" fmla="*/ 4467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9420"/>
                </a:moveTo>
                <a:lnTo>
                  <a:pt x="15920" y="19420"/>
                </a:lnTo>
                <a:lnTo>
                  <a:pt x="15920" y="7200"/>
                </a:lnTo>
                <a:lnTo>
                  <a:pt x="12420" y="7200"/>
                </a:lnTo>
                <a:lnTo>
                  <a:pt x="17010" y="0"/>
                </a:lnTo>
                <a:lnTo>
                  <a:pt x="21600" y="7200"/>
                </a:lnTo>
                <a:lnTo>
                  <a:pt x="18100" y="7200"/>
                </a:lnTo>
                <a:lnTo>
                  <a:pt x="181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5000" y="27432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15000" y="27432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92468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6858000" y="25142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477120" y="2057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北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001000" y="5029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58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24480" y="6095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南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2286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、三国两晋南北朝与隋的建立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1" lang="zh-CN" sz="4800" spc="-1" strike="noStrike">
                <a:solidFill>
                  <a:srgbClr val="333399"/>
                </a:solidFill>
                <a:latin typeface="Tahoma"/>
              </a:rPr>
              <a:t>、隋朝的统一：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170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时间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人物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标志事件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429000" y="1981080"/>
            <a:ext cx="1447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589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隋文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灭陈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CL01001" descr=""/>
          <p:cNvPicPr/>
          <p:nvPr/>
        </p:nvPicPr>
        <p:blipFill>
          <a:blip r:embed="rId1"/>
          <a:srcRect l="0" t="0" r="80" b="-38"/>
          <a:stretch/>
        </p:blipFill>
        <p:spPr>
          <a:xfrm>
            <a:off x="4952880" y="1828800"/>
            <a:ext cx="3962520" cy="4724280"/>
          </a:xfrm>
          <a:prstGeom prst="rect">
            <a:avLst/>
          </a:prstGeom>
          <a:ln w="0">
            <a:noFill/>
          </a:ln>
        </p:spPr>
      </p:pic>
      <p:pic>
        <p:nvPicPr>
          <p:cNvPr id="156" name="yanzhijing" descr=""/>
          <p:cNvPicPr/>
          <p:nvPr/>
        </p:nvPicPr>
        <p:blipFill>
          <a:blip r:embed="rId2"/>
          <a:stretch/>
        </p:blipFill>
        <p:spPr>
          <a:xfrm>
            <a:off x="228600" y="3733920"/>
            <a:ext cx="4648320" cy="29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ahoma"/>
              </a:rPr>
              <a:t>二、隋朝经济的繁荣：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4061520" y="198108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找一找隋朝经济繁荣的表现有哪些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304920" y="2666880"/>
          <a:ext cx="8534160" cy="2708280"/>
        </p:xfrm>
        <a:graphic>
          <a:graphicData uri="http://schemas.openxmlformats.org/drawingml/2006/table">
            <a:tbl>
              <a:tblPr/>
              <a:tblGrid>
                <a:gridCol w="2133360"/>
                <a:gridCol w="2133360"/>
                <a:gridCol w="2133720"/>
                <a:gridCol w="2133720"/>
              </a:tblGrid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  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时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项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隋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隋盛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结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人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00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多万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600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多万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垦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00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多万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00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多万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粮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长安太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洛阳含嘉仓、           兴洛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1433160" y="5614920"/>
            <a:ext cx="4880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计天下储积，得供五六十年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——《贞观政要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226640" y="35053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人口激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226640" y="40384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垦田扩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226640" y="46483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粮仓丰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ahoma"/>
              </a:rPr>
              <a:t>二、隋朝经济的繁荣：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表现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人口激增，垦田扩大、粮仓丰实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原因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国家统一，社会安定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统治者励精图治，发展生产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统治者提倡节俭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0" y="5486400"/>
            <a:ext cx="6172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比较文景之治、光武中兴和隋文帝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的措施，说说有什么共同点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BD00028_" descr=""/>
          <p:cNvPicPr/>
          <p:nvPr/>
        </p:nvPicPr>
        <p:blipFill>
          <a:blip r:embed="rId1"/>
          <a:stretch/>
        </p:blipFill>
        <p:spPr>
          <a:xfrm>
            <a:off x="1066680" y="5410080"/>
            <a:ext cx="990720" cy="9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8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3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8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三、隋朝大运河的开凿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5775480" y="4287960"/>
            <a:ext cx="1768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123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目的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加强南北交通，巩固统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概况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时间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人物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起止地点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四个组成部分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连接五河流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流经六省区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191120" y="3124080"/>
            <a:ext cx="49528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4" dur="500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6" dur="500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三、隋朝大运河的开凿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目的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加强南北交通，巩固统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概况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时间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人物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起止地点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四个组成部分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连接五河流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流经六省区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2971800" y="449568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涿郡（北京）——余杭（杭州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581280" y="495288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永济渠、通济渠、邗沟、江南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52680" y="537840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海河、黄河、淮河、长江、钱塘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52680" y="591192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北京、河北、山东、河南、安徽、江苏、浙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362320" y="358128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605——6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403848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隋炀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2" dur="500" fill="hold"/>
                                        <p:tgtEl>
                                          <p:spTgt spid="1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1" dur="500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500"/>
                            </p:stCondLst>
                            <p:childTnLst>
                              <p:par>
                                <p:cTn id="4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0" dur="500" fill="hold"/>
                                        <p:tgtEl>
                                          <p:spTgt spid="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CL01003" descr=""/>
          <p:cNvPicPr/>
          <p:nvPr/>
        </p:nvPicPr>
        <p:blipFill>
          <a:blip r:embed="rId1"/>
          <a:stretch/>
        </p:blipFill>
        <p:spPr>
          <a:xfrm>
            <a:off x="0" y="0"/>
            <a:ext cx="922644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981080" y="3657600"/>
            <a:ext cx="990720" cy="45720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724280" y="1143000"/>
            <a:ext cx="304920" cy="3808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114800" y="1905120"/>
            <a:ext cx="304920" cy="3045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429000" y="2666880"/>
            <a:ext cx="380880" cy="3049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191120" y="685800"/>
            <a:ext cx="761760" cy="22860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743200" y="5791320"/>
            <a:ext cx="380880" cy="3808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648320" y="6248520"/>
            <a:ext cx="457200" cy="3045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800600"/>
            <a:ext cx="45720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00600" y="4572000"/>
            <a:ext cx="45720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181480" y="457200"/>
            <a:ext cx="38124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638680" y="457200"/>
            <a:ext cx="304920" cy="3808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105520" y="2209680"/>
            <a:ext cx="38088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267080" y="3048120"/>
            <a:ext cx="533520" cy="3808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86200" y="3581280"/>
            <a:ext cx="457200" cy="3049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00600" y="3733920"/>
            <a:ext cx="457200" cy="3808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562720" y="3962520"/>
            <a:ext cx="533160" cy="3808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781680" y="4343400"/>
            <a:ext cx="381240" cy="3049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934320" y="4724280"/>
            <a:ext cx="380880" cy="3812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391520" y="5334120"/>
            <a:ext cx="380880" cy="2286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696080" y="5638680"/>
            <a:ext cx="381240" cy="2286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772400" y="5943600"/>
            <a:ext cx="304920" cy="2286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934320" y="5943600"/>
            <a:ext cx="533160" cy="3049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867280" y="6553080"/>
            <a:ext cx="45720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477120" y="6553080"/>
            <a:ext cx="22860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858000" y="6400800"/>
            <a:ext cx="30492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343400" y="609480"/>
            <a:ext cx="35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360520" y="36576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008480" y="5867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722480" y="1143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f45f1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84400" y="3505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f45f1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779880" y="42670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f45f1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70600" y="5562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f45f1"/>
                </a:solidFill>
                <a:latin typeface="Tahom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943600" y="6477120"/>
            <a:ext cx="35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ahom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741400" y="5791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ahoma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652560" y="47242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ahoma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267080" y="3048120"/>
            <a:ext cx="51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ahoma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100120" y="3808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ahoma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03520" y="228600"/>
            <a:ext cx="2518560" cy="11912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ahoma"/>
              </a:rPr>
              <a:t>1-3</a:t>
            </a:r>
            <a:r>
              <a:rPr b="1" lang="zh-CN" sz="2400" spc="-1" strike="noStrike">
                <a:solidFill>
                  <a:srgbClr val="ffff00"/>
                </a:solidFill>
                <a:latin typeface="Tahoma"/>
              </a:rPr>
              <a:t>填城市名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4-7</a:t>
            </a:r>
            <a:r>
              <a:rPr b="1" lang="zh-CN" sz="2400" spc="-1" strike="noStrike">
                <a:solidFill>
                  <a:srgbClr val="ffff00"/>
                </a:solidFill>
                <a:latin typeface="Tahoma"/>
              </a:rPr>
              <a:t>填隋朝运河组成部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ahoma"/>
              </a:rPr>
              <a:t>8-12</a:t>
            </a:r>
            <a:r>
              <a:rPr b="1" lang="zh-CN" sz="2400" spc="-1" strike="noStrike">
                <a:solidFill>
                  <a:srgbClr val="ffff00"/>
                </a:solidFill>
                <a:latin typeface="Tahoma"/>
              </a:rPr>
              <a:t>填隋运河连接的河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CL01003" descr=""/>
          <p:cNvPicPr/>
          <p:nvPr/>
        </p:nvPicPr>
        <p:blipFill>
          <a:blip r:embed="rId1"/>
          <a:stretch/>
        </p:blipFill>
        <p:spPr>
          <a:xfrm>
            <a:off x="0" y="0"/>
            <a:ext cx="922644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4267080" y="609480"/>
            <a:ext cx="35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903320" y="37339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627600" y="5791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19720" y="1066680"/>
            <a:ext cx="35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f45f1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733920" y="342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f45f1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008480" y="4419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f45f1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848720" y="556272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f45f1"/>
                </a:solidFill>
                <a:latin typeface="Tahom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562720" y="6400800"/>
            <a:ext cx="35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ahom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350880" y="5791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ahoma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23960" y="48006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ahoma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95680" y="2666880"/>
            <a:ext cx="51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ahoma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252760" y="3808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ahoma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03520" y="228600"/>
            <a:ext cx="2518560" cy="11912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ahoma"/>
              </a:rPr>
              <a:t>1-3</a:t>
            </a:r>
            <a:r>
              <a:rPr b="1" lang="zh-CN" sz="2400" spc="-1" strike="noStrike">
                <a:solidFill>
                  <a:srgbClr val="ffff00"/>
                </a:solidFill>
                <a:latin typeface="Tahoma"/>
              </a:rPr>
              <a:t>填城市名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4-7</a:t>
            </a:r>
            <a:r>
              <a:rPr b="1" lang="zh-CN" sz="2400" spc="-1" strike="noStrike">
                <a:solidFill>
                  <a:srgbClr val="ffff00"/>
                </a:solidFill>
                <a:latin typeface="Tahoma"/>
              </a:rPr>
              <a:t>填隋朝运河组成部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ahoma"/>
              </a:rPr>
              <a:t>8-12</a:t>
            </a:r>
            <a:r>
              <a:rPr b="1" lang="zh-CN" sz="2400" spc="-1" strike="noStrike">
                <a:solidFill>
                  <a:srgbClr val="ffff00"/>
                </a:solidFill>
                <a:latin typeface="Tahoma"/>
              </a:rPr>
              <a:t>填隋运河连接的河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2T04:20:33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12:09:24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