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196720" y="326520"/>
            <a:ext cx="6946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376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68880" y="153828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79864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8376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68880" y="3647520"/>
            <a:ext cx="1985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96720" y="326520"/>
            <a:ext cx="694692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58360" y="364752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58360" y="1538280"/>
            <a:ext cx="3008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98640" y="3647520"/>
            <a:ext cx="616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val 37"/>
          <p:cNvSpPr/>
          <p:nvPr/>
        </p:nvSpPr>
        <p:spPr>
          <a:xfrm>
            <a:off x="250920" y="189000"/>
            <a:ext cx="1295280" cy="12952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38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circle"/>
          <p:cNvPicPr/>
          <p:nvPr/>
        </p:nvPicPr>
        <p:blipFill>
          <a:blip r:embed="rId2"/>
          <a:stretch/>
        </p:blipFill>
        <p:spPr>
          <a:xfrm>
            <a:off x="5413320" y="3938760"/>
            <a:ext cx="3730680" cy="2919240"/>
          </a:xfrm>
          <a:prstGeom prst="rect">
            <a:avLst/>
          </a:prstGeom>
          <a:ln w="0">
            <a:noFill/>
          </a:ln>
        </p:spPr>
      </p:pic>
      <p:sp>
        <p:nvSpPr>
          <p:cNvPr id="41" name="Oval 24"/>
          <p:cNvSpPr/>
          <p:nvPr/>
        </p:nvSpPr>
        <p:spPr>
          <a:xfrm>
            <a:off x="250920" y="189000"/>
            <a:ext cx="1295280" cy="129528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7"/>
          <p:cNvSpPr/>
          <p:nvPr/>
        </p:nvSpPr>
        <p:spPr>
          <a:xfrm>
            <a:off x="6400800" y="6095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0"/>
          <p:cNvSpPr/>
          <p:nvPr/>
        </p:nvSpPr>
        <p:spPr>
          <a:xfrm>
            <a:off x="326880" y="546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 LOGO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2"/>
          <p:cNvSpPr/>
          <p:nvPr/>
        </p:nvSpPr>
        <p:spPr>
          <a:xfrm>
            <a:off x="6400800" y="6095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company.co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3960" y="2541240"/>
            <a:ext cx="849132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蓝色气泡风格商务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8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Example of a Bullet Point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616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宋体"/>
              </a:rPr>
              <a:t>Bullet Poin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Sub Bulle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2280" y="2711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Arial"/>
                <a:ea typeface="宋体"/>
              </a:rPr>
              <a:t>Chap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5"/>
          <p:cNvSpPr/>
          <p:nvPr/>
        </p:nvSpPr>
        <p:spPr>
          <a:xfrm>
            <a:off x="1066680" y="2590920"/>
            <a:ext cx="609840" cy="609480"/>
          </a:xfrm>
          <a:prstGeom prst="ellips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152720" y="266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6ec8"/>
                </a:solidFill>
                <a:latin typeface="Arial Black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52280" y="3200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Black"/>
                <a:ea typeface="宋体"/>
              </a:rPr>
              <a:t>TITLE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Example of a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Object 3"/>
          <p:cNvGraphicFramePr/>
          <p:nvPr/>
        </p:nvGraphicFramePr>
        <p:xfrm>
          <a:off x="3575160" y="1933560"/>
          <a:ext cx="5343480" cy="35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5160" y="1933560"/>
                    <a:ext cx="5343480" cy="35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98640" y="1538280"/>
            <a:ext cx="302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Bullet 1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6" name="Picture 4" descr="snowdrop"/>
          <p:cNvPicPr/>
          <p:nvPr/>
        </p:nvPicPr>
        <p:blipFill>
          <a:blip r:embed="rId1"/>
          <a:stretch/>
        </p:blipFill>
        <p:spPr>
          <a:xfrm>
            <a:off x="6372360" y="2060640"/>
            <a:ext cx="2093760" cy="3529080"/>
          </a:xfrm>
          <a:prstGeom prst="rect">
            <a:avLst/>
          </a:prstGeom>
          <a:ln w="38160">
            <a:solidFill>
              <a:srgbClr val="365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96720" y="326520"/>
            <a:ext cx="6946920" cy="10177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98280" y="1538280"/>
            <a:ext cx="3025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Text and lines are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65b91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7c6e4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97760" y="1851120"/>
          <a:ext cx="2720880" cy="1727280"/>
        </p:xfrm>
        <a:graphic>
          <a:graphicData uri="http://schemas.openxmlformats.org/drawingml/2006/table">
            <a:tbl>
              <a:tblPr/>
              <a:tblGrid>
                <a:gridCol w="1360440"/>
                <a:gridCol w="13604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3399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1368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1368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5"/>
          <p:cNvSpPr/>
          <p:nvPr/>
        </p:nvSpPr>
        <p:spPr>
          <a:xfrm>
            <a:off x="4056120" y="4324320"/>
            <a:ext cx="2232000" cy="1368360"/>
          </a:xfrm>
          <a:prstGeom prst="rect">
            <a:avLst/>
          </a:prstGeom>
          <a:solidFill>
            <a:srgbClr val="b4d7eb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宋体"/>
              </a:rPr>
              <a:t>Text bo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6597720" y="4324320"/>
            <a:ext cx="2232000" cy="1368360"/>
          </a:xfrm>
          <a:prstGeom prst="rect">
            <a:avLst/>
          </a:prstGeom>
          <a:solidFill>
            <a:srgbClr val="b4d7eb"/>
          </a:solidFill>
          <a:ln w="9360">
            <a:solidFill>
              <a:srgbClr val="000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宋体"/>
              </a:rPr>
              <a:t>Text bo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Arial"/>
                <a:ea typeface="宋体"/>
              </a:rPr>
              <a:t>With shado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5602320" y="2638440"/>
            <a:ext cx="57456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ppt宝藏</dc:creator>
  <dc:description/>
  <dc:language>en-US</dc:language>
  <cp:lastModifiedBy>a</cp:lastModifiedBy>
  <dcterms:modified xsi:type="dcterms:W3CDTF">2015-07-25T06:52:03Z</dcterms:modified>
  <cp:revision>3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