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76242249"/>
        <c:axId val="23009332"/>
      </c:barChart>
      <c:catAx>
        <c:axId val="7624224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3009332"/>
        <c:crosses val="autoZero"/>
        <c:auto val="1"/>
        <c:lblAlgn val="ctr"/>
        <c:lblOffset val="100"/>
        <c:noMultiLvlLbl val="0"/>
      </c:catAx>
      <c:valAx>
        <c:axId val="23009332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624224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49877849"/>
        <c:axId val="62319162"/>
      </c:barChart>
      <c:catAx>
        <c:axId val="4987784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2319162"/>
        <c:crosses val="autoZero"/>
        <c:auto val="1"/>
        <c:lblAlgn val="ctr"/>
        <c:lblOffset val="100"/>
        <c:noMultiLvlLbl val="0"/>
      </c:catAx>
      <c:valAx>
        <c:axId val="62319162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9877849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3728783"/>
        <c:axId val="16753179"/>
      </c:lineChart>
      <c:catAx>
        <c:axId val="372878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6753179"/>
        <c:crosses val="autoZero"/>
        <c:auto val="1"/>
        <c:lblAlgn val="ctr"/>
        <c:lblOffset val="100"/>
        <c:noMultiLvlLbl val="0"/>
      </c:catAx>
      <c:valAx>
        <c:axId val="16753179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728783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5969926"/>
        <c:axId val="24235179"/>
      </c:barChart>
      <c:catAx>
        <c:axId val="59699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4235179"/>
        <c:crosses val="autoZero"/>
        <c:auto val="1"/>
        <c:lblAlgn val="ctr"/>
        <c:lblOffset val="100"/>
        <c:noMultiLvlLbl val="0"/>
      </c:catAx>
      <c:valAx>
        <c:axId val="2423517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969926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51BF90-B21D-4B6F-9D76-DABDA502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31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AABEC275-7EFA-48B6-9EAC-B9C493FECE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D56-161A-46CF-89C0-375057E0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A56-9F63-4BA8-A4C6-FE31803A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988-684F-423F-9114-9804B8F6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DD3-9B1A-4337-9AD4-86959116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0A3A-26E4-4063-B375-5B984C00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55EB-144C-404C-B42B-025FB2A6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19CF-1F9B-4147-A7D5-B528E4F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B4BE-6BC1-4434-B456-DD83D71C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77D5-4393-458A-9395-846B479D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5625-93F5-4E99-AB44-1FE9C2C4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F45B-C08C-43B2-BDCC-499CD281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E3E-913B-4850-B9AE-607E0C4F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3F49-0FFE-46B0-A8F2-A7067F1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153-C7C6-46BE-9825-764360E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CB30-9BB3-4DA2-B785-827A33EB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A6DF-3FFF-4B3D-B630-037BA5A3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15FC-4BB6-471C-B53D-3C3B0B2F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4DBB-2FD8-46A6-8055-3581D794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7B94-B8F1-4DA0-884E-6DCABFA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AFE1-1EB7-4C36-81C5-B5B8CF7E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33E6-2D5B-4D91-A7D0-5EF0FF21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42BF-DB19-4BAB-B840-AC60FF3D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1BB-1CBE-4AF9-886F-C53D62C6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9DDF-2433-40D0-93E6-587BE61B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CE57-5565-40F9-B2F3-9C3C5946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CC1E-469D-4CBC-B5C6-6A054AF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E3B1-0E97-40A5-A0E3-A2A331C5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B2CC-D112-422A-A445-3B947C80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C848-45E0-4C41-B197-F510EEF9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950F-E7C5-4472-A3FE-38A27714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8B9F-B5B1-4E6A-A9BE-6C4A4D41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E96D-1295-46D2-8897-8BC82EBC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3A9B-0DB6-4677-B976-D264E3D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5B6-BD8C-47BB-A79F-0A0E59B8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27F57-3A6C-430A-8372-E902020D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DF05-A727-4166-8FC4-C5DDAAA5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B089-67BA-40CB-BBDC-A66D7354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26B2-8250-4D3B-86C6-AFC6C67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0B04-9605-43F2-B88C-0D3DF8A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B970-86CF-4792-B7D3-00F7C89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BB73-3FF9-46F6-A093-98D3EE1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64CC-445B-4DB0-A474-F9F4825E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AA54-D02B-466A-BD01-AC780015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599F-2476-43C7-8D96-97AE457A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0E4-BACF-4E57-A0CB-370F728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9A22B-D197-47D3-94CB-3D983E42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DFC6C-A546-4897-AE0F-78EB40D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0801-6FE0-4A95-85CD-B1B9C4BA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332B-6F77-40AD-B8FF-670ABC0D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44036-297E-476A-B902-8EFF2B1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FBADF-40FA-4CD6-87C1-E9FE4EE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C001-45F6-411E-8F51-A384072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3E7CD-3A66-48FF-BA3E-4F2E14D9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49A6D-B38D-4B94-8796-5BDB07DB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513D-7673-4660-821A-2ABA7D48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FD3-1E63-49B8-904B-E37A6657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C8DF-96E0-4B2D-8E58-4C4C9A1F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BD01B-07B0-4CBA-8A5C-D2992EF2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4F93-5D32-4AF2-B80F-7B1CD2A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0839A-7191-41F6-9839-3EE57206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31E21-B935-4C06-8DBA-277A2431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5552-FE08-4EE4-AA4D-228FCE29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3E4E-D15B-4A3E-B648-CD3483DA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D925C-E9C0-4DEB-A956-D2A8AAF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1E7B-17F7-4F54-B57B-CD804D2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A79F3-F9EC-4C3F-B977-BBD59337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1B9-73DC-427A-9ED4-C08BB10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5DE0D-B3EF-4360-9730-C8033345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EB7D0-408F-48D4-B1D7-5145C5A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8458-B4C6-4EBF-85A7-91D540B8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AA14C-9516-4E80-ADE9-2D776E04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9724A-0537-46B2-AD90-F8338160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FC0F-407E-4079-92CA-85EE292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9545-1123-4A34-AE43-F8823185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BC626-A871-462B-993C-2891F840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832DA-206D-4ED3-8605-8620A5F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A4DD5-6764-4A9D-859D-146FCF7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B63-2EF0-478E-9A35-F0AC0A66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C665-1EB6-4660-B41B-9685E6C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9E76-CD80-45F9-988C-2642EDD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249BF-F870-4853-84A6-3CE19B80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54BF-3C76-477E-B286-C5DE7971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67BFA-4D0C-4574-A10F-C6C00FB6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EF5-D0F7-47E4-997F-FBB63AD8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5" name="同侧圆角矩形 6"/>
          <p:cNvSpPr/>
          <p:nvPr/>
        </p:nvSpPr>
        <p:spPr>
          <a:xfrm rot="16200000">
            <a:off x="3951720" y="-2071080"/>
            <a:ext cx="16354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7FD8136-B9EC-4344-A17F-7EE4A752C562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745A01-01D3-4C2B-A89E-C7426FD6576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5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6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同侧圆角矩形 10"/>
          <p:cNvSpPr/>
          <p:nvPr/>
        </p:nvSpPr>
        <p:spPr>
          <a:xfrm rot="16200000">
            <a:off x="3689640" y="-1808640"/>
            <a:ext cx="216000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6BA957E-6702-4854-8687-1BA2F2A8FA93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3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A10528-349F-4204-B180-6A29E96FE03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9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22477C3-8DA6-4ACA-BF9B-3D377CAE457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233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4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4C70DFF-C56A-4F87-A214-3B39CEDBEDF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279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80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8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9CF0BB-BFC5-4CCD-9854-D1FB32FDFBF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74836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绿色圈圈淡雅清新简约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D11-3946-477B-8DEB-073C8A08B3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9A1BE-6622-496E-924F-D9275DDCC197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03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B7B7504-1DE3-48FB-A0AF-8E3B4F39CBDC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AD9D16-D381-4F6E-B953-B554A66FE0A4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0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1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2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2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2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2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345C-F941-497C-A422-DA2694B4262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2E3DB2-591B-40A0-82C5-5879B6BEA07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25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E4B5C22-81B3-4375-B588-357A79CFA8B6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26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7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248901-8DA1-497F-8D00-B9CC674983C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8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0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1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2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3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4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5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6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7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48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49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50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0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1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2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3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4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5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6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67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68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b050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379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0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81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F172-E1ED-403B-8D2D-5C1DEDE406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1BF1819-75DE-4561-86AE-F7A59358C00F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385" name="内容占位符 8" descr=""/>
          <p:cNvPicPr/>
          <p:nvPr/>
        </p:nvPicPr>
        <p:blipFill>
          <a:blip r:embed="rId1"/>
          <a:stretch/>
        </p:blipFill>
        <p:spPr>
          <a:xfrm>
            <a:off x="539640" y="1245600"/>
            <a:ext cx="4850640" cy="4967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3688-2698-4F44-A961-228EEC0CCE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9572A9BC-6AB6-4315-8A89-88546490A0D1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608357718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DED9-2B2D-4F9C-87DC-77FBD2D7CE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33D3666F-FA50-4E85-B228-BDAC8946129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538235832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B703-5388-45A3-B01A-E80060D939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275CEE37-7B90-4984-A641-2A2C01E8BC2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39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39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98920-5C84-41F5-B332-C651B72824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906836A4-E370-457A-80B0-10EE2D2793E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39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98" name="Text Box 3"/>
          <p:cNvSpPr/>
          <p:nvPr/>
        </p:nvSpPr>
        <p:spPr>
          <a:xfrm>
            <a:off x="113040" y="65631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A0F96-FA13-43E9-AF86-A99BA054FE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96E8BD47-84E8-4479-A324-F60CC91647EE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00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01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7B2BF-7D6D-4322-BE36-70DEC5E307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EC8E28A-86E7-47D4-93B5-91A1346EF8A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74</Template>
  <TotalTime>1</TotalTime>
  <Application>LibreOffice/7.4.7.2$Linux_X86_64 LibreOffice_project/40$Build-2</Application>
  <AppVersion>15.0000</AppVersion>
  <Words>501</Words>
  <Paragraphs>1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5-10-21T10:57:51Z</dcterms:created>
  <dc:creator>YANGS-PC</dc:creator>
  <dc:description>我爱PPT中文网</dc:description>
  <cp:keywords>XS-普屏 4：3 SC-淡绿色 BG-浅色 DH-静态 XJ-二级</cp:keywords>
  <dc:language>en-US</dc:language>
  <cp:lastModifiedBy>王玉清</cp:lastModifiedBy>
  <dcterms:modified xsi:type="dcterms:W3CDTF">2016-02-23T02:36:38Z</dcterms:modified>
  <cp:revision>2</cp:revision>
  <dc:subject>TP-图形创意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