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95280" y="1685880"/>
            <a:ext cx="748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B-187 Moderne Caps AUG-47 CAS"/>
                <a:ea typeface="黑体"/>
              </a:rPr>
              <a:t>蓝色商业</a:t>
            </a:r>
            <a:r>
              <a:rPr b="0" lang="en-US" sz="4000" spc="-1" strike="noStrike">
                <a:solidFill>
                  <a:srgbClr val="ffffff"/>
                </a:solidFill>
                <a:latin typeface="ARB-187 Moderne Caps AUG-47 CAS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B-187 Moderne Caps AUG-47 CAS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ppt宝藏</dc:creator>
  <dc:description/>
  <dc:language>en-US</dc:language>
  <cp:lastModifiedBy>a</cp:lastModifiedBy>
  <dcterms:modified xsi:type="dcterms:W3CDTF">2015-07-25T06:28:04Z</dcterms:modified>
  <cp:revision>54</cp:revision>
  <dc:subject/>
  <dc:title>www.pptbz.com</dc:title>
</cp:coreProperties>
</file>