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FD41-A586-449D-A871-B5B8C45E2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599E-A486-4B66-A6F4-F73C465D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715084-D580-4D12-80D1-912531AFE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8F4AC-9314-4001-9C40-D46B3F6E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21E96-058F-4BEB-B994-D8AD8BA7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B2B600-B8F5-4A63-A29A-AF825D51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D8232-5C72-4472-A228-EC491D4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ACF87-2389-4AA1-BC3D-7A586498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2A0A3-DDE2-4D48-B1FD-B692EF97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A4E30-985C-473D-998C-1F495869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31C03-1766-48C6-90CD-D72CA573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2440C-DCEF-48E0-82E8-7A069738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150-B042-44A9-BBE2-E4C0A3B4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BB413-C8B9-4118-8223-0526A790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10C53-22F3-47DD-9089-70720FB6E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03553-7055-4339-812A-0ABD7B0C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F8726-01FF-4DA2-8CF1-12E98695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2667C-2561-4BAF-98F9-39D2AF3C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5D96B-1C46-4EC6-9C98-713D7D75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1BF1B-D5CC-4808-8B78-ECC70417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3F9A67-D947-4607-8F95-AB36459D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12642-9CD8-422C-87BE-CB65E2688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E932FB-46C0-49DF-96C0-ADA7D462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9E9-1324-4A7A-882D-C350D410D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1CD0B5-530A-40C5-BAD6-79281DE9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BA6923-B668-4480-AD86-FE2C814BD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DF960-999E-4F81-894C-1CC2E134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C6B7B2-BD3A-4869-A0B5-8E6A7F11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825E2-7774-431D-B46D-5673831C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17010-C033-4664-AB0F-443B6BBC3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0E0E1-E48A-4D66-B88E-D4B20DD78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D119E-6141-4444-B4A5-F356B30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96DB5-111A-4373-9BBF-04E6D229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154BB-63D9-4878-A736-7A31C1C7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5729F-0C58-46B6-A5FD-2741296B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7E941E-0FC4-4ACA-9BBE-7DA9B323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3197B-17B2-4969-8C18-2189320B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4B003B-4229-4D0B-9425-DE0CF9DE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D42FF-B2E2-46DE-A497-5350C786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5B96D-737A-4D60-83D9-C5E66A816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2530F8-A1F0-4648-AFCC-7DA2A142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F931A-B870-437F-930F-1AC936A1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B723B-555C-4B9B-BF90-DDC895CD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4FD9B1-5CCA-4BE2-A374-3DDE946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F34E4-FBE2-4402-93EC-9F9F7AE5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8115-46F9-4EC0-B3E0-4262B8B2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87F24-7714-44F9-87FA-28E296DE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E1C396-B8F3-45DA-8CB2-A9182057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48C79-FC14-48C9-B00A-0829ED86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84E6E-04E7-40F7-8362-1C05F8BF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CC867-BEBB-4354-B98B-C1DB44D2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F3B2-D786-44B7-8306-9076328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B15F-C785-41AA-BF78-A4157EC7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A23F-77B7-478D-B320-1057670A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14BD2-13B7-4FFC-B641-586F58C2C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E34B-0B5D-4ACA-B49A-C8ACD43E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EA0F-28CC-4208-BBA8-A250FCE6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8772-AA59-4F21-ABC3-4E60E991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55E6-86C8-4867-80C0-21AAA5D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C262-A034-489C-AF0D-77682E65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CA62-74AD-486B-907B-5F62DE24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B8E5-33CA-4A76-A775-CC500F1D3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6573A-A04A-403D-A613-374F2748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55C31-03C7-47CF-B47F-E1385212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5849-A49C-46F7-9C4E-D23D8DC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C30A0-3E18-4D13-A5C9-7B5AE76C7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50903-6538-4AF3-AD2B-D12F57F7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03FA-D43D-4372-91BC-5D5C99C4D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F33E-5AD3-4F4B-BCC2-4BFDA9FD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CA915-892D-471C-8654-9BA8E2F9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D3798-6400-4EA0-8157-E5F04BF1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AD04E-55A9-4D28-B163-AD1B6CD5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149C-385D-4AE0-88BB-B5AE2549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0C7F8-E2E5-4D50-91B8-1AEFA7AEA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205CE-F979-4545-A143-4F39B60C5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5AEFC-8A1E-4C6F-A783-27FFA15C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FD24E-CBE3-422C-A43E-A925B013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020A-207F-481B-98F8-4A78E192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F322-AF14-40D8-8A02-D888FAC1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3EDB3-DEFC-4895-8BD2-8CFCFB9E1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22E3-164B-4402-AAF7-2B8AAE00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FA279-27EF-47C1-8462-67BE4611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5132-C95D-4B5C-A0FD-ED2AACEB4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D6D0-397C-4A34-9DC4-6520FB20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5724D-4964-4B0A-8960-5130AC7C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DE317-94A4-41E9-A6DC-85398363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08219-1E6F-433D-BE8A-8B37085FF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B500D-5232-4F39-B01E-75F47713F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7F369-74D5-4D32-B5FF-C9D83206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598-1693-4395-9035-52C0DC7C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514B8-CB63-45AB-B6A7-EF3B74B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EC1BB-459E-4297-959D-0F926623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32445-EDDB-4E86-BAAF-AFCE514F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659AB-77E0-4FD9-8FFB-673B856A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F9E1B-C997-44F6-B113-004A06AE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F1370-9059-4A3B-B62C-57BD3AAB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5C193-25D6-46A9-8312-2C4E99F4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16864B-B9E9-4A15-BABE-EB4DEA4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E9789-1447-4459-8557-5886874E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D11F3-C22F-453A-AFEA-48EDE02B8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9750-A6CC-4918-BD53-6F3AB2E0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F0DD3-8370-4CF2-8820-77EF009F8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C9D30-33B0-4A42-B8E7-F415E38B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77D78-83AC-48B2-8ACB-1FB04031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CE1AA-8110-483D-AF06-18FDFE7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3AC6C-EFAA-4314-ABFD-D29D328C5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677AB2-7C21-467C-A86C-FB5D5306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9EA8E-F9DB-488E-BD06-759CD464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82B2A-4DA0-47C3-A2CF-EF66D3F0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3FE1E-3E83-4F3F-B1E2-AB8A32C4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8547D-3DE5-469D-80AE-33D5182C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37E-3C11-4156-81D0-457FDBB8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FE346-87C5-45A5-8362-139BFEDE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556E9-FB31-4512-BC68-DDDCAB1A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E15C6-4583-4812-8F12-CA917FB1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072AB-4506-448E-80EA-ACBFAA1C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2CC0E-3A31-4E09-892D-49BA11BA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84F47B-7A08-42CD-AA17-927E2789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6CF66-A0B8-46EC-90E1-C0983F667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68B13-00A0-495C-9175-E8362B6D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89C5-5AE7-4A0E-8DFE-18EBC4F8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43E63-F8CA-46E9-B9C1-D2FE5A93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E089-DDFB-4DF8-A837-D0F6567E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BE26F-5639-4A8E-A72F-5842B4FA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A4065-BD8D-4A8A-8553-FF9C545C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D31B9-69D3-4553-B87C-5D033D92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728BE-ABF1-4403-BF33-05E636B7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1BB49-CE61-4EEC-82C1-7EBB30A8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D50AF-02D4-447B-954F-D4F6A5B3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1A695-3903-4AA7-A286-1C2F88E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2E317-0909-4513-B27D-89B03A2F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5A8FD-D5B1-4506-814F-35FD07E88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ECAAB-37EF-4D2E-A0B9-3E050B6C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1D4-8594-495D-8AD7-6E812714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95280" y="187200"/>
            <a:ext cx="8229600" cy="30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27792-50FE-4149-AC2E-E0B7FEE3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7B22B-BBEF-47FF-90D3-A7BD8353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3FECF-9D14-4DF4-9D5F-0D73E17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EC9AEA-4430-4BDC-A35C-A52BE510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59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3C51B8-B715-428F-B1F6-1A3AB5AE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95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59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3EC7F-D92B-4CE7-BFA6-4DBDE95A6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95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59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E517D-8F50-4DF9-8B63-2F6CFF41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A8EA7-55CD-411D-8997-B23561F0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2A71F-AF60-449B-8CB9-042FDD38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42929-EF9E-4A1A-B320-3298E38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B324-5898-4AE1-967C-8DE8B946DE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39DD-07DE-4549-8E10-635645008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1711-F0CC-478D-8AED-0A297266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1A52-01BF-40A7-AFBB-CC650C745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816-B49F-4EAE-BD73-5240628C6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9F9C-338B-4519-AF4D-47540A5A5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6237-4DFC-4EEE-978F-11F6A249C0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DA0E-CEA5-46EA-B11D-A782E4130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1CE7-F4C3-4926-A1A3-1BBBE7C25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EAC7-B74A-47BB-99AE-4EB8C8DA47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3819-946B-4E23-ACF5-C3794D7C7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9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4020-BB30-45D2-ADF3-A6C586C1B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4.png"/><Relationship Id="rId21" Type="http://schemas.openxmlformats.org/officeDocument/2006/relationships/image" Target="../media/image10.png"/><Relationship Id="rId22" Type="http://schemas.openxmlformats.org/officeDocument/2006/relationships/image" Target="../media/image11.png"/><Relationship Id="rId2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10.pn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18" descr="Q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9" descr="1"/>
          <p:cNvPicPr/>
          <p:nvPr/>
        </p:nvPicPr>
        <p:blipFill>
          <a:blip r:embed="rId2"/>
          <a:stretch/>
        </p:blipFill>
        <p:spPr>
          <a:xfrm>
            <a:off x="-755640" y="-1465200"/>
            <a:ext cx="15913080" cy="119347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0" descr="汽泡"/>
          <p:cNvPicPr/>
          <p:nvPr/>
        </p:nvPicPr>
        <p:blipFill>
          <a:blip r:embed="rId3"/>
          <a:stretch/>
        </p:blipFill>
        <p:spPr>
          <a:xfrm>
            <a:off x="6659640" y="846936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1" descr="汽泡"/>
          <p:cNvPicPr/>
          <p:nvPr/>
        </p:nvPicPr>
        <p:blipFill>
          <a:blip r:embed="rId4"/>
          <a:stretch/>
        </p:blipFill>
        <p:spPr>
          <a:xfrm>
            <a:off x="7667640" y="7893000"/>
            <a:ext cx="1050840" cy="108108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2" descr="汽泡"/>
          <p:cNvPicPr/>
          <p:nvPr/>
        </p:nvPicPr>
        <p:blipFill>
          <a:blip r:embed="rId5"/>
          <a:stretch/>
        </p:blipFill>
        <p:spPr>
          <a:xfrm>
            <a:off x="4643280" y="760572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3" descr="汽泡"/>
          <p:cNvPicPr/>
          <p:nvPr/>
        </p:nvPicPr>
        <p:blipFill>
          <a:blip r:embed="rId6"/>
          <a:stretch/>
        </p:blipFill>
        <p:spPr>
          <a:xfrm>
            <a:off x="5148360" y="7893000"/>
            <a:ext cx="981000" cy="10080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4" descr="汽泡"/>
          <p:cNvPicPr/>
          <p:nvPr/>
        </p:nvPicPr>
        <p:blipFill>
          <a:blip r:embed="rId7"/>
          <a:stretch/>
        </p:blipFill>
        <p:spPr>
          <a:xfrm>
            <a:off x="4359240" y="861372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5" descr="汽泡"/>
          <p:cNvPicPr/>
          <p:nvPr/>
        </p:nvPicPr>
        <p:blipFill>
          <a:blip r:embed="rId8"/>
          <a:stretch/>
        </p:blipFill>
        <p:spPr>
          <a:xfrm>
            <a:off x="3416400" y="8182080"/>
            <a:ext cx="420480" cy="4316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6" descr="汽泡"/>
          <p:cNvPicPr/>
          <p:nvPr/>
        </p:nvPicPr>
        <p:blipFill>
          <a:blip r:embed="rId9"/>
          <a:stretch/>
        </p:blipFill>
        <p:spPr>
          <a:xfrm>
            <a:off x="2484360" y="825336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7" descr="汽泡"/>
          <p:cNvPicPr/>
          <p:nvPr/>
        </p:nvPicPr>
        <p:blipFill>
          <a:blip r:embed="rId10"/>
          <a:stretch/>
        </p:blipFill>
        <p:spPr>
          <a:xfrm>
            <a:off x="1692360" y="7677000"/>
            <a:ext cx="772920" cy="79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8" descr="汽泡"/>
          <p:cNvPicPr/>
          <p:nvPr/>
        </p:nvPicPr>
        <p:blipFill>
          <a:blip r:embed="rId11"/>
          <a:stretch/>
        </p:blipFill>
        <p:spPr>
          <a:xfrm>
            <a:off x="1692360" y="8613720"/>
            <a:ext cx="420480" cy="432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9" descr="汽泡"/>
          <p:cNvPicPr/>
          <p:nvPr/>
        </p:nvPicPr>
        <p:blipFill>
          <a:blip r:embed="rId12"/>
          <a:stretch/>
        </p:blipFill>
        <p:spPr>
          <a:xfrm>
            <a:off x="3851280" y="782172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0" descr="汽泡"/>
          <p:cNvPicPr/>
          <p:nvPr/>
        </p:nvPicPr>
        <p:blipFill>
          <a:blip r:embed="rId13"/>
          <a:stretch/>
        </p:blipFill>
        <p:spPr>
          <a:xfrm>
            <a:off x="6659640" y="789300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1" descr="汽泡"/>
          <p:cNvPicPr/>
          <p:nvPr/>
        </p:nvPicPr>
        <p:blipFill>
          <a:blip r:embed="rId14"/>
          <a:stretch/>
        </p:blipFill>
        <p:spPr>
          <a:xfrm>
            <a:off x="3059280" y="796608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2" descr="汽泡"/>
          <p:cNvPicPr/>
          <p:nvPr/>
        </p:nvPicPr>
        <p:blipFill>
          <a:blip r:embed="rId15"/>
          <a:stretch/>
        </p:blipFill>
        <p:spPr>
          <a:xfrm>
            <a:off x="468360" y="7821720"/>
            <a:ext cx="631800" cy="649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33" descr="汽泡"/>
          <p:cNvPicPr/>
          <p:nvPr/>
        </p:nvPicPr>
        <p:blipFill>
          <a:blip r:embed="rId16"/>
          <a:stretch/>
        </p:blipFill>
        <p:spPr>
          <a:xfrm>
            <a:off x="7236000" y="8253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35" descr="551_07"/>
          <p:cNvPicPr/>
          <p:nvPr/>
        </p:nvPicPr>
        <p:blipFill>
          <a:blip r:embed="rId17"/>
          <a:stretch/>
        </p:blipFill>
        <p:spPr>
          <a:xfrm>
            <a:off x="10072800" y="2781360"/>
            <a:ext cx="1123920" cy="1152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6" descr="551_11"/>
          <p:cNvPicPr/>
          <p:nvPr/>
        </p:nvPicPr>
        <p:blipFill>
          <a:blip r:embed="rId18"/>
          <a:stretch/>
        </p:blipFill>
        <p:spPr>
          <a:xfrm>
            <a:off x="-1187280" y="7242120"/>
            <a:ext cx="942840" cy="8668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7" descr="点"/>
          <p:cNvPicPr/>
          <p:nvPr/>
        </p:nvPicPr>
        <p:blipFill>
          <a:blip r:embed="rId19">
            <a:lum bright="54000"/>
          </a:blip>
          <a:stretch/>
        </p:blipFill>
        <p:spPr>
          <a:xfrm>
            <a:off x="826920" y="3076560"/>
            <a:ext cx="7601040" cy="3781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2" descr="汽泡"/>
          <p:cNvPicPr/>
          <p:nvPr/>
        </p:nvPicPr>
        <p:blipFill>
          <a:blip r:embed="rId20"/>
          <a:stretch/>
        </p:blipFill>
        <p:spPr>
          <a:xfrm>
            <a:off x="5580000" y="861372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4" descr="551_03"/>
          <p:cNvPicPr/>
          <p:nvPr/>
        </p:nvPicPr>
        <p:blipFill>
          <a:blip r:embed="rId21"/>
          <a:stretch/>
        </p:blipFill>
        <p:spPr>
          <a:xfrm>
            <a:off x="-2411280" y="2349360"/>
            <a:ext cx="857160" cy="1162080"/>
          </a:xfrm>
          <a:prstGeom prst="rect">
            <a:avLst/>
          </a:prstGeom>
          <a:ln w="0">
            <a:noFill/>
          </a:ln>
        </p:spPr>
      </p:pic>
      <p:pic>
        <p:nvPicPr>
          <p:cNvPr id="513" name="WordArt 26" descr=""/>
          <p:cNvPicPr/>
          <p:nvPr/>
        </p:nvPicPr>
        <p:blipFill>
          <a:blip r:embed="rId22"/>
          <a:stretch/>
        </p:blipFill>
        <p:spPr>
          <a:xfrm>
            <a:off x="3786120" y="4164120"/>
            <a:ext cx="2395440" cy="212760"/>
          </a:xfrm>
          <a:prstGeom prst="rect">
            <a:avLst/>
          </a:prstGeom>
          <a:ln w="0">
            <a:noFill/>
          </a:ln>
        </p:spPr>
      </p:pic>
      <p:sp>
        <p:nvSpPr>
          <p:cNvPr id="514" name="页脚占位符 2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"/>
          <p:cNvSpPr/>
          <p:nvPr/>
        </p:nvSpPr>
        <p:spPr>
          <a:xfrm>
            <a:off x="1960920" y="4395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蓝天亮心动态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PPT</a:t>
            </a:r>
            <a:r>
              <a:rPr b="0" lang="zh-CN" sz="40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2.59259E-006 L -0.34653 -0.00116 E">
                                      <p:cBhvr>
                                        <p:cTn id="6" dur="5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900"/>
                                  </p:stCondLst>
                                  <p:childTnLst>
                                    <p:animMotion origin="layout" path="M 0.018334 -0.000101 C -0.015571 -0.034326 -0.049233 -0.0682 -0.051788 -0.11216 C -0.054342 -0.155762 -0.029493 -0.200439 0.003474 -0.263142 C 0.036441 -0.325845 0.111898 -0.411961 0.145573 -0.487631 C 0.179236 -0.563659 0.188985 -0.64006 0.205008 -0.718252 C 0.22103 -0.796444 0.23427 -0.906346 0.241933 -0.956082 E">
                                      <p:cBhvr>
                                        <p:cTn id="8" dur="3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21988 -0.000114 C -0.013619 -0.034482 -0.048969 -0.068491 -0.051651 -0.112627 C -0.054334 -0.156763 -0.00338 -0.22117 0.006379 -0.264212 C 0.016127 -0.307269 -0.006555 -0.333307 0.007588 -0.370223 C 0.021731 -0.407123 0.074158 -0.416531 0.091221 -0.485627 C 0.1083 -0.554722 0.105856 -0.722233 0.109508 -0.784451 E">
                                      <p:cBhvr>
                                        <p:cTn id="10" dur="3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E-006 -1.8E-005 C 0.00139 -0.014071 0.00538 -0.062151 0.00868 -0.084586 C 0.01198 -0.107021 0.02118 -0.114912 0.01979 -0.134137 C 0.0184 -0.153363 0.00191 -0.181716 0.00086 -0.19947 C -0.00018 -0.217224 0.00555 -0.218205 0.01354 -0.240149 C 0.02152 -0.262094 0.04566 -0.298828 0.0493 -0.331372 C 0.05295 -0.363915 0.03854 -0.414213 0.03576 -0.436157 E">
                                      <p:cBhvr>
                                        <p:cTn id="12" dur="3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005053 -0.000178 C -0.022648 -0.036053 -0.047955 -0.083123 -0.05217 -0.117661 C -0.056385 -0.151733 -0.025961 -0.174164 -0.021746 -0.205098 C -0.017531 -0.236033 -0.033194 -0.270105 -0.026863 -0.301504 C -0.020844 -0.33333 -0.009396 -0.372787 0.016501 -0.394307 C 0.042398 -0.415828 0.105327 -0.422569 0.128518 -0.429736 E">
                                      <p:cBhvr>
                                        <p:cTn id="14" dur="3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4.07407E-006 C 0.00521 -0.03496 0.00208 -0.06899 0.01094 -0.10533 C 0.01979 -0.14167 0.05312 -0.16505 0.0533 -0.2176 C 0.05347 -0.27014 0.02031 -0.37824 0.01163 -0.42037 E">
                                      <p:cBhvr>
                                        <p:cTn id="16" dur="3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66667E-006 2.22045E-016 C 0.00382 -0.03191 0.01476 -0.04647 1.66667E-006 -0.08254 C -0.01476 -0.11861 -0.07031 -0.18913 -0.08889 -0.21711 E">
                                      <p:cBhvr>
                                        <p:cTn id="18" dur="3000" fill="hold"/>
                                        <p:tgtEl>
                                          <p:spTgt spid="5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64162E-006 C -0.01615 -0.02289 -0.03229 -0.04578 -0.03334 -0.07398 C -0.03438 -0.10219 -0.00469 -0.13179 -0.00625 -0.16924 C -0.00782 -0.2067 -0.03889 -0.25687 -0.04271 -0.29826 C -0.04653 -0.33965 -0.03212 -0.39329 -0.02934 -0.41826 E">
                                      <p:cBhvr>
                                        <p:cTn id="20" dur="3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3.05556E-006 -3.33333E-006 C -0.04896 -0.05185 -0.09809 -0.10324 -0.11025 -0.14629 C -0.1224 -0.18935 -0.06459 -0.21805 -0.07361 -0.25833 C -0.08247 -0.29838 -0.14202 -0.34259 -0.16337 -0.38773 C -0.18473 -0.43287 -0.1941 -0.50023 -0.20226 -0.52986 E">
                                      <p:cBhvr>
                                        <p:cTn id="22" dur="3000" fill="hold"/>
                                        <p:tgtEl>
                                          <p:spTgt spid="5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88889E-006 -1.48148E-006 C 0.0007 -0.02083 0.00139 -0.0412 0.01285 -0.0743 C 0.02431 -0.10717 0.05018 -0.1618 0.06841 -0.19907 C 0.08664 -0.23611 0.12466 -0.25208 0.12223 -0.29653 C 0.1198 -0.34097 0.06806 -0.43032 0.05382 -0.46551 E">
                                      <p:cBhvr>
                                        <p:cTn id="24" dur="3000" fill="hold"/>
                                        <p:tgtEl>
                                          <p:spTgt spid="5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2.1E-005 -0.000123 C 0.000209 -0.151289 0.000402 -0.30248 0.024383 -0.371135 C 0.048172 -0.439284 0.130736 -0.347722 0.143123 -0.41161 C 0.155702 -0.475475 0.108328 -0.660718 0.099474 -0.75228 C 0.090631 -0.843843 0.091809 -0.91731 0.08985 -0.960431 E">
                                      <p:cBhvr>
                                        <p:cTn id="26" dur="3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408 -0.000296 C -0.003761 -0.160519 0.000267 -0.350182 -0.015803 -0.455226 C -0.031855 -0.560309 -0.072339 -0.563847 -0.096752 -0.633312 C -0.121166 -0.70274 -0.149279 -0.799821 -0.162324 -0.870133 C -0.175369 -0.940482 -0.170686 -1.004601 -0.174694 -1.057104 C -0.178702 -1.109646 -0.184405 -1.159495 -0.186737 -1.186226 E">
                                      <p:cBhvr>
                                        <p:cTn id="28" dur="3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C -0.016667 -0.04463 -0.038194 -0.070278 -0.033333 -0.11213 C -0.028472 -0.153981 0.025347 -0.196944 0.028819 -0.250648 C 0.032292 -0.304259 -0.117153 -0.731019 -0.125694 -0.769444 E">
                                      <p:cBhvr>
                                        <p:cTn id="30" dur="3000" fill="hold"/>
                                        <p:tgtEl>
                                          <p:spTgt spid="4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1100"/>
                                  </p:stCondLst>
                                  <p:childTnLst>
                                    <p:animMotion origin="layout" path="M 0.013264 -0.004537 C -0.012083 -0.026574 -0.040417 -0.053889 -0.039167 -0.076574 C -0.037986 -0.099259 0.007153 -0.119167 0.020903 -0.140926 C 0.034583 -0.162685 0.038958 -0.186296 0.043125 -0.206389 C 0.047292 -0.226574 0.055972 -0.211018 0.046458 -0.261481 C 0.029445 -0.303333 -0.04118 -0.402407 -0.055764 -0.512778 C -0.070347 -0.623148 -0.043611 -0.85537 -0.04118 -0.923889 E">
                                      <p:cBhvr>
                                        <p:cTn id="32" dur="3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8925 -0.000176 C 0.006731 -0.116373 -0.033167 -0.225462 -0.001203 -0.330034 C 0.030748 -0.434605 0.167833 -0.541742 0.20066 -0.628885 C 0.2335 -0.716028 0.174218 -0.752837 0.19538 -0.853532 C 0.216528 -0.954227 0.300056 -1.154335 0.327602 -1.233084 E">
                                      <p:cBhvr>
                                        <p:cTn id="34" dur="3000" fill="hold"/>
                                        <p:tgtEl>
                                          <p:spTgt spid="5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.55556E-007 -3.58382E-006 C -0.03125 0.03538 -0.06233 0.07098 -0.09062 0.07168 C -0.11892 0.07237 -0.1342 0.00093 -0.16996 0.00416 C -0.20573 0.0074 -0.28264 0.07653 -0.30486 0.09087 E">
                                      <p:cBhvr>
                                        <p:cTn id="39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22222E-006 -2.96296E-006 C 0.01753 -0.04629 0.03524 -0.09236 0.0618 -0.12037 C 0.08837 -0.14861 0.13646 -0.13518 0.16007 -0.16898 C 0.18385 -0.20277 0.17361 -0.27754 0.20451 -0.32338 C 0.23541 -0.36921 0.3158 -0.41898 0.34514 -0.44421 E">
                                      <p:cBhvr>
                                        <p:cTn id="4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6.38889E-006 -2.60116E-006 C 0.0276 0.00578 0.0552 0.0118 0.08246 0.00417 C 0.10971 -0.00346 0.13315 -0.04231 0.16336 -0.04647 C 0.19357 -0.05063 0.22586 -0.03075 0.26336 -0.02127 C 0.30086 -0.01179 0.34478 -0.00069 0.38888 0.01041 E">
                                      <p:cBhvr>
                                        <p:cTn id="43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8720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191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1d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3f7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d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27"/>
          <p:cNvGrpSpPr/>
          <p:nvPr/>
        </p:nvGrpSpPr>
        <p:grpSpPr>
          <a:xfrm>
            <a:off x="5495760" y="3098880"/>
            <a:ext cx="2598480" cy="2522160"/>
            <a:chOff x="5495760" y="3098880"/>
            <a:chExt cx="2598480" cy="2522160"/>
          </a:xfrm>
        </p:grpSpPr>
        <p:sp>
          <p:nvSpPr>
            <p:cNvPr id="543" name="Freeform 28"/>
            <p:cNvSpPr/>
            <p:nvPr/>
          </p:nvSpPr>
          <p:spPr>
            <a:xfrm>
              <a:off x="5652360" y="3098880"/>
              <a:ext cx="1353240" cy="1118520"/>
            </a:xfrm>
            <a:custGeom>
              <a:avLst/>
              <a:gdLst>
                <a:gd name="textAreaLeft" fmla="*/ 0 w 1353240"/>
                <a:gd name="textAreaRight" fmla="*/ 1353600 w 1353240"/>
                <a:gd name="textAreaTop" fmla="*/ 0 h 1118520"/>
                <a:gd name="textAreaBottom" fmla="*/ 1118880 h 1118520"/>
              </a:gdLst>
              <a:ahLst/>
              <a:rect l="textAreaLeft" t="textAreaTop" r="textAreaRight" b="textAreaBottom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5599bb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9"/>
            <p:cNvSpPr/>
            <p:nvPr/>
          </p:nvSpPr>
          <p:spPr>
            <a:xfrm>
              <a:off x="6557760" y="4497480"/>
              <a:ext cx="1322640" cy="1123560"/>
            </a:xfrm>
            <a:custGeom>
              <a:avLst/>
              <a:gdLst>
                <a:gd name="textAreaLeft" fmla="*/ 0 w 1322640"/>
                <a:gd name="textAreaRight" fmla="*/ 1323000 w 132264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57788"/>
                </a:gs>
                <a:gs pos="100000">
                  <a:srgbClr val="001d3a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30"/>
            <p:cNvSpPr/>
            <p:nvPr/>
          </p:nvSpPr>
          <p:spPr>
            <a:xfrm>
              <a:off x="5495760" y="4088520"/>
              <a:ext cx="1191240" cy="1336320"/>
            </a:xfrm>
            <a:custGeom>
              <a:avLst/>
              <a:gdLst>
                <a:gd name="textAreaLeft" fmla="*/ 0 w 1191240"/>
                <a:gd name="textAreaRight" fmla="*/ 1191600 w 1191240"/>
                <a:gd name="textAreaTop" fmla="*/ 0 h 1336320"/>
                <a:gd name="textAreaBottom" fmla="*/ 1336680 h 1336320"/>
              </a:gdLst>
              <a:ahLst/>
              <a:rect l="textAreaLeft" t="textAreaTop" r="textAreaRight" b="textAreaBottom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3f7fbf"/>
                </a:gs>
                <a:gs pos="100000">
                  <a:srgbClr val="aac6e3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31"/>
            <p:cNvSpPr/>
            <p:nvPr/>
          </p:nvSpPr>
          <p:spPr>
            <a:xfrm>
              <a:off x="6886800" y="3274920"/>
              <a:ext cx="1207440" cy="1324080"/>
            </a:xfrm>
            <a:custGeom>
              <a:avLst/>
              <a:gdLst>
                <a:gd name="textAreaLeft" fmla="*/ 0 w 1207440"/>
                <a:gd name="textAreaRight" fmla="*/ 1207800 w 1207440"/>
                <a:gd name="textAreaTop" fmla="*/ 0 h 1324080"/>
                <a:gd name="textAreaBottom" fmla="*/ 1324440 h 1324080"/>
              </a:gdLst>
              <a:ahLst/>
              <a:rect l="textAreaLeft" t="textAreaTop" r="textAreaRight" b="textAreaBottom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57799"/>
                </a:gs>
                <a:gs pos="100000">
                  <a:srgbClr val="003366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页脚占位符 3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图示 1" descr=""/>
          <p:cNvPicPr/>
          <p:nvPr/>
        </p:nvPicPr>
        <p:blipFill>
          <a:blip r:embed="rId1"/>
          <a:stretch/>
        </p:blipFill>
        <p:spPr>
          <a:xfrm>
            <a:off x="1695600" y="1901880"/>
            <a:ext cx="6107040" cy="4078080"/>
          </a:xfrm>
          <a:prstGeom prst="rect">
            <a:avLst/>
          </a:prstGeom>
          <a:ln w="0">
            <a:noFill/>
          </a:ln>
        </p:spPr>
      </p:pic>
      <p:sp>
        <p:nvSpPr>
          <p:cNvPr id="54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8" descr="Q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9" descr="1"/>
          <p:cNvPicPr/>
          <p:nvPr/>
        </p:nvPicPr>
        <p:blipFill>
          <a:blip r:embed="rId2"/>
          <a:srcRect l="5296" t="5523" r="16407" b="16099"/>
          <a:stretch/>
        </p:blipFill>
        <p:spPr>
          <a:xfrm>
            <a:off x="-345960" y="-268200"/>
            <a:ext cx="9808920" cy="73641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0" descr="汽泡"/>
          <p:cNvPicPr/>
          <p:nvPr/>
        </p:nvPicPr>
        <p:blipFill>
          <a:blip r:embed="rId3"/>
          <a:stretch/>
        </p:blipFill>
        <p:spPr>
          <a:xfrm>
            <a:off x="6515280" y="6308640"/>
            <a:ext cx="501480" cy="5158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1" descr="汽泡"/>
          <p:cNvPicPr/>
          <p:nvPr/>
        </p:nvPicPr>
        <p:blipFill>
          <a:blip r:embed="rId4"/>
          <a:stretch/>
        </p:blipFill>
        <p:spPr>
          <a:xfrm>
            <a:off x="7913520" y="5229360"/>
            <a:ext cx="1051200" cy="10810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2" descr="汽泡"/>
          <p:cNvPicPr/>
          <p:nvPr/>
        </p:nvPicPr>
        <p:blipFill>
          <a:blip r:embed="rId5"/>
          <a:stretch/>
        </p:blipFill>
        <p:spPr>
          <a:xfrm>
            <a:off x="5003640" y="4724280"/>
            <a:ext cx="560520" cy="5763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3" descr="汽泡"/>
          <p:cNvPicPr/>
          <p:nvPr/>
        </p:nvPicPr>
        <p:blipFill>
          <a:blip r:embed="rId6"/>
          <a:stretch/>
        </p:blipFill>
        <p:spPr>
          <a:xfrm>
            <a:off x="5003640" y="5732640"/>
            <a:ext cx="981360" cy="10080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4" descr="汽泡"/>
          <p:cNvPicPr/>
          <p:nvPr/>
        </p:nvPicPr>
        <p:blipFill>
          <a:blip r:embed="rId7"/>
          <a:stretch/>
        </p:blipFill>
        <p:spPr>
          <a:xfrm>
            <a:off x="4214880" y="6453360"/>
            <a:ext cx="352440" cy="3603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5" descr="汽泡"/>
          <p:cNvPicPr/>
          <p:nvPr/>
        </p:nvPicPr>
        <p:blipFill>
          <a:blip r:embed="rId8"/>
          <a:stretch/>
        </p:blipFill>
        <p:spPr>
          <a:xfrm>
            <a:off x="3271680" y="6021360"/>
            <a:ext cx="420840" cy="43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6" descr="汽泡"/>
          <p:cNvPicPr/>
          <p:nvPr/>
        </p:nvPicPr>
        <p:blipFill>
          <a:blip r:embed="rId9"/>
          <a:stretch/>
        </p:blipFill>
        <p:spPr>
          <a:xfrm>
            <a:off x="1979640" y="5734080"/>
            <a:ext cx="631800" cy="64764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汽泡"/>
          <p:cNvPicPr/>
          <p:nvPr/>
        </p:nvPicPr>
        <p:blipFill>
          <a:blip r:embed="rId10"/>
          <a:stretch/>
        </p:blipFill>
        <p:spPr>
          <a:xfrm>
            <a:off x="1187280" y="4724280"/>
            <a:ext cx="773280" cy="79236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8" descr="汽泡"/>
          <p:cNvPicPr/>
          <p:nvPr/>
        </p:nvPicPr>
        <p:blipFill>
          <a:blip r:embed="rId11"/>
          <a:stretch/>
        </p:blipFill>
        <p:spPr>
          <a:xfrm>
            <a:off x="1547640" y="6453360"/>
            <a:ext cx="420840" cy="431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19" descr="汽泡"/>
          <p:cNvPicPr/>
          <p:nvPr/>
        </p:nvPicPr>
        <p:blipFill>
          <a:blip r:embed="rId12"/>
          <a:stretch/>
        </p:blipFill>
        <p:spPr>
          <a:xfrm>
            <a:off x="3708360" y="522936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0" descr="汽泡"/>
          <p:cNvPicPr/>
          <p:nvPr/>
        </p:nvPicPr>
        <p:blipFill>
          <a:blip r:embed="rId13"/>
          <a:stretch/>
        </p:blipFill>
        <p:spPr>
          <a:xfrm>
            <a:off x="6732720" y="573408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1" descr="汽泡"/>
          <p:cNvPicPr/>
          <p:nvPr/>
        </p:nvPicPr>
        <p:blipFill>
          <a:blip r:embed="rId14"/>
          <a:stretch/>
        </p:blipFill>
        <p:spPr>
          <a:xfrm>
            <a:off x="2914560" y="5805360"/>
            <a:ext cx="139680" cy="1429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2" descr="汽泡"/>
          <p:cNvPicPr/>
          <p:nvPr/>
        </p:nvPicPr>
        <p:blipFill>
          <a:blip r:embed="rId15"/>
          <a:stretch/>
        </p:blipFill>
        <p:spPr>
          <a:xfrm>
            <a:off x="324000" y="5661000"/>
            <a:ext cx="631800" cy="6494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3" descr="汽泡"/>
          <p:cNvPicPr/>
          <p:nvPr/>
        </p:nvPicPr>
        <p:blipFill>
          <a:blip r:embed="rId16"/>
          <a:stretch/>
        </p:blipFill>
        <p:spPr>
          <a:xfrm>
            <a:off x="7380360" y="6308640"/>
            <a:ext cx="279360" cy="2872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4" descr="551_03"/>
          <p:cNvPicPr/>
          <p:nvPr/>
        </p:nvPicPr>
        <p:blipFill>
          <a:blip r:embed="rId17"/>
          <a:stretch/>
        </p:blipFill>
        <p:spPr>
          <a:xfrm>
            <a:off x="1187280" y="2349360"/>
            <a:ext cx="857520" cy="11620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25" descr="551_07"/>
          <p:cNvPicPr/>
          <p:nvPr/>
        </p:nvPicPr>
        <p:blipFill>
          <a:blip r:embed="rId18"/>
          <a:stretch/>
        </p:blipFill>
        <p:spPr>
          <a:xfrm>
            <a:off x="7667640" y="2349360"/>
            <a:ext cx="1123920" cy="115272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6" descr="551_11"/>
          <p:cNvPicPr/>
          <p:nvPr/>
        </p:nvPicPr>
        <p:blipFill>
          <a:blip r:embed="rId19"/>
          <a:stretch/>
        </p:blipFill>
        <p:spPr>
          <a:xfrm>
            <a:off x="1979640" y="4797360"/>
            <a:ext cx="942840" cy="866880"/>
          </a:xfrm>
          <a:prstGeom prst="rect">
            <a:avLst/>
          </a:prstGeom>
          <a:ln w="0">
            <a:noFill/>
          </a:ln>
        </p:spPr>
      </p:pic>
      <p:sp>
        <p:nvSpPr>
          <p:cNvPr id="569" name="WordArt 4"/>
          <p:cNvSpPr txBox="1"/>
          <p:nvPr/>
        </p:nvSpPr>
        <p:spPr>
          <a:xfrm>
            <a:off x="3492360" y="3789360"/>
            <a:ext cx="2794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黑体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70" name="WordArt 5"/>
          <p:cNvSpPr txBox="1"/>
          <p:nvPr/>
        </p:nvSpPr>
        <p:spPr>
          <a:xfrm>
            <a:off x="3970440" y="4503600"/>
            <a:ext cx="1728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71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9T04:47:05Z</dcterms:modified>
  <cp:revision>1</cp:revision>
  <dc:subject/>
  <dc:title>PowerPoint 演示文稿</dc:title>
</cp:coreProperties>
</file>