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2C9-70E5-49A7-9DFD-55FD2F9F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78501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2560" y="4160160"/>
            <a:ext cx="78501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9FA-3645-4FF7-9FD2-5308DAAB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2560" y="416016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200" y="416016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418-1C7E-4646-B751-706FF9EA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36840" y="220500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1120" y="220500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2560" y="416016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36840" y="416016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1120" y="416016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C7B-2432-49A2-BDD2-03D87B5B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A973-A28E-49B4-A8F6-811FBF58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2560" y="2205000"/>
            <a:ext cx="78501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AADD-C54D-43EE-A82E-1B9BA2A7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7850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6642-D827-4AF7-BBAC-E2F56F0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FF43-EE04-4D21-98BC-080F6973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8EBD-6F69-4927-9A2D-4BE363CC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4000" y="691920"/>
            <a:ext cx="77785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4BBE-76B6-4ECC-93B1-3049095A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560" y="416016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B40E-E4AA-4C94-94C5-C750DE56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2560" y="2205000"/>
            <a:ext cx="78501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1DA-7E41-4B11-85F6-80CB4571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05200" y="416016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E533-DAB9-43AB-A2FE-495519EF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2560" y="4160160"/>
            <a:ext cx="78501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1194-F8A5-493F-A90D-560CFAAB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78501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2560" y="4160160"/>
            <a:ext cx="78501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A302-24A0-4FA3-B689-CF901E23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2560" y="416016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05200" y="416016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B7D6-AAC6-4693-AD77-FF9DF5B9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36840" y="220500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91120" y="220500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2560" y="416016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36840" y="416016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91120" y="4160160"/>
            <a:ext cx="25275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198B-8BEE-468F-A1F2-F59A884A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7850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FFE-A41A-42D8-AE1D-5AAE2DE1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C0F-B3D0-4CAC-9972-3911BFBB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8C7-DBEB-48E3-901F-9F64A7B8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000" y="691920"/>
            <a:ext cx="77785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4A2-994B-4809-AD83-2203552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2560" y="416016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39A-A819-46DA-B17A-93A0A70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200" y="416016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7D7E-14C2-4286-82DF-5AEA9E27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256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2205000"/>
            <a:ext cx="3830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2560" y="4160160"/>
            <a:ext cx="78501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BAA-EE9D-44FE-8352-E58C255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e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2560" y="2205000"/>
            <a:ext cx="7850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1" marL="713160" indent="-27432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2" marL="1097280" indent="-21924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3" marL="1536120" indent="-21924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4" marL="1974960" indent="-219240">
              <a:spcBef>
                <a:spcPts val="751"/>
              </a:spcBef>
              <a:buClr>
                <a:srgbClr val="f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5" marL="1974960" indent="-21924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6" marL="1974960" indent="-21924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0396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50920" y="6381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098800" y="63817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ACE0-FE00-4DE0-B7DC-ADBD19EA7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11"/>
          <p:cNvGrpSpPr/>
          <p:nvPr/>
        </p:nvGrpSpPr>
        <p:grpSpPr>
          <a:xfrm>
            <a:off x="-396720" y="4869000"/>
            <a:ext cx="2879640" cy="2305080"/>
            <a:chOff x="-396720" y="4869000"/>
            <a:chExt cx="2879640" cy="2305080"/>
          </a:xfrm>
        </p:grpSpPr>
        <p:pic>
          <p:nvPicPr>
            <p:cNvPr id="7" name="Picture 12" descr="图片4"/>
            <p:cNvPicPr/>
            <p:nvPr/>
          </p:nvPicPr>
          <p:blipFill>
            <a:blip r:embed="rId2"/>
            <a:stretch/>
          </p:blipFill>
          <p:spPr>
            <a:xfrm>
              <a:off x="-396720" y="4869000"/>
              <a:ext cx="287964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3" descr="rose_flower"/>
            <p:cNvPicPr/>
            <p:nvPr/>
          </p:nvPicPr>
          <p:blipFill>
            <a:blip r:embed="rId3"/>
            <a:stretch/>
          </p:blipFill>
          <p:spPr>
            <a:xfrm>
              <a:off x="103320" y="5047200"/>
              <a:ext cx="127764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4" descr="rose_flower"/>
            <p:cNvPicPr/>
            <p:nvPr/>
          </p:nvPicPr>
          <p:blipFill>
            <a:blip r:embed="rId4"/>
            <a:stretch/>
          </p:blipFill>
          <p:spPr>
            <a:xfrm rot="19048800">
              <a:off x="269640" y="5814360"/>
              <a:ext cx="127764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5" descr="rose_flower"/>
            <p:cNvPicPr/>
            <p:nvPr/>
          </p:nvPicPr>
          <p:blipFill>
            <a:blip r:embed="rId5"/>
            <a:stretch/>
          </p:blipFill>
          <p:spPr>
            <a:xfrm rot="5092800">
              <a:off x="862920" y="5466960"/>
              <a:ext cx="1360440" cy="992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5"/>
          <p:cNvGrpSpPr/>
          <p:nvPr/>
        </p:nvGrpSpPr>
        <p:grpSpPr>
          <a:xfrm>
            <a:off x="324000" y="333360"/>
            <a:ext cx="8496000" cy="6408720"/>
            <a:chOff x="324000" y="333360"/>
            <a:chExt cx="8496000" cy="6408720"/>
          </a:xfrm>
        </p:grpSpPr>
        <p:sp>
          <p:nvSpPr>
            <p:cNvPr id="48" name="AutoShape 54"/>
            <p:cNvSpPr/>
            <p:nvPr/>
          </p:nvSpPr>
          <p:spPr>
            <a:xfrm>
              <a:off x="324000" y="334800"/>
              <a:ext cx="8496000" cy="619128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49" name="Rectangle 64"/>
            <p:cNvSpPr/>
            <p:nvPr/>
          </p:nvSpPr>
          <p:spPr>
            <a:xfrm>
              <a:off x="324000" y="333360"/>
              <a:ext cx="8496000" cy="6191280"/>
            </a:xfrm>
            <a:prstGeom prst="rect">
              <a:avLst/>
            </a:prstGeom>
            <a:gradFill rotWithShape="0">
              <a:gsLst>
                <a:gs pos="0">
                  <a:srgbClr val="9a0000">
                    <a:alpha val="20000"/>
                  </a:srgbClr>
                </a:gs>
                <a:gs pos="100000">
                  <a:srgbClr val="cc0000">
                    <a:alpha val="20000"/>
                  </a:srgbClr>
                </a:gs>
              </a:gsLst>
              <a:lin ang="18900000"/>
            </a:gra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pic>
          <p:nvPicPr>
            <p:cNvPr id="50" name="Picture 55" descr="图片5"/>
            <p:cNvPicPr/>
            <p:nvPr/>
          </p:nvPicPr>
          <p:blipFill>
            <a:blip r:embed="rId3"/>
            <a:stretch/>
          </p:blipFill>
          <p:spPr>
            <a:xfrm>
              <a:off x="324000" y="1774800"/>
              <a:ext cx="8496000" cy="47160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grpSp>
          <p:nvGrpSpPr>
            <p:cNvPr id="51" name="Group 56"/>
            <p:cNvGrpSpPr/>
            <p:nvPr/>
          </p:nvGrpSpPr>
          <p:grpSpPr>
            <a:xfrm>
              <a:off x="6877080" y="334800"/>
              <a:ext cx="471600" cy="6407280"/>
              <a:chOff x="6877080" y="334800"/>
              <a:chExt cx="471600" cy="6407280"/>
            </a:xfrm>
          </p:grpSpPr>
          <p:pic>
            <p:nvPicPr>
              <p:cNvPr id="52" name="Picture 57" descr="图片5"/>
              <p:cNvPicPr/>
              <p:nvPr/>
            </p:nvPicPr>
            <p:blipFill>
              <a:blip r:embed="rId4"/>
              <a:stretch/>
            </p:blipFill>
            <p:spPr>
              <a:xfrm>
                <a:off x="6877080" y="334800"/>
                <a:ext cx="471600" cy="6191280"/>
              </a:xfrm>
              <a:prstGeom prst="rect">
                <a:avLst/>
              </a:prstGeom>
              <a:ln w="19080">
                <a:solidFill>
                  <a:srgbClr val="ff9900"/>
                </a:solidFill>
                <a:miter/>
              </a:ln>
            </p:spPr>
          </p:pic>
          <p:pic>
            <p:nvPicPr>
              <p:cNvPr id="53" name="Picture 58" descr="图片5"/>
              <p:cNvPicPr/>
              <p:nvPr/>
            </p:nvPicPr>
            <p:blipFill>
              <a:blip r:embed="rId5"/>
              <a:stretch/>
            </p:blipFill>
            <p:spPr>
              <a:xfrm>
                <a:off x="6877080" y="6526080"/>
                <a:ext cx="471600" cy="216000"/>
              </a:xfrm>
              <a:prstGeom prst="rect">
                <a:avLst/>
              </a:prstGeom>
              <a:ln w="19080">
                <a:solidFill>
                  <a:srgbClr val="ff9900"/>
                </a:solidFill>
                <a:miter/>
              </a:ln>
            </p:spPr>
          </p:pic>
        </p:grpSp>
        <p:grpSp>
          <p:nvGrpSpPr>
            <p:cNvPr id="54" name="Group 59"/>
            <p:cNvGrpSpPr/>
            <p:nvPr/>
          </p:nvGrpSpPr>
          <p:grpSpPr>
            <a:xfrm>
              <a:off x="5076720" y="477720"/>
              <a:ext cx="3735360" cy="2830680"/>
              <a:chOff x="5076720" y="477720"/>
              <a:chExt cx="3735360" cy="2830680"/>
            </a:xfrm>
          </p:grpSpPr>
          <p:pic>
            <p:nvPicPr>
              <p:cNvPr id="55" name="Picture 60" descr="图片4"/>
              <p:cNvPicPr/>
              <p:nvPr/>
            </p:nvPicPr>
            <p:blipFill>
              <a:blip r:embed="rId6"/>
              <a:stretch/>
            </p:blipFill>
            <p:spPr>
              <a:xfrm>
                <a:off x="5076720" y="477720"/>
                <a:ext cx="3735360" cy="28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61" descr="rose_flower"/>
              <p:cNvPicPr/>
              <p:nvPr/>
            </p:nvPicPr>
            <p:blipFill>
              <a:blip r:embed="rId7"/>
              <a:stretch/>
            </p:blipFill>
            <p:spPr>
              <a:xfrm>
                <a:off x="5725800" y="695160"/>
                <a:ext cx="1657440" cy="128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62" descr="rose_flower"/>
              <p:cNvPicPr/>
              <p:nvPr/>
            </p:nvPicPr>
            <p:blipFill>
              <a:blip r:embed="rId8"/>
              <a:stretch/>
            </p:blipFill>
            <p:spPr>
              <a:xfrm rot="19048800">
                <a:off x="5941800" y="1629720"/>
                <a:ext cx="1657440" cy="128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63" descr="rose_flower"/>
              <p:cNvPicPr/>
              <p:nvPr/>
            </p:nvPicPr>
            <p:blipFill>
              <a:blip r:embed="rId9"/>
              <a:stretch/>
            </p:blipFill>
            <p:spPr>
              <a:xfrm rot="5092800">
                <a:off x="6764400" y="1167120"/>
                <a:ext cx="1657440" cy="1287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e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2560" y="2205000"/>
            <a:ext cx="7850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1" marL="713160" indent="-27432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2" marL="1097280" indent="-21924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3" marL="1536120" indent="-21924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4" marL="1974960" indent="-219240">
              <a:spcBef>
                <a:spcPts val="751"/>
              </a:spcBef>
              <a:buClr>
                <a:srgbClr val="f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5" marL="1974960" indent="-21924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  <a:p>
            <a:pPr lvl="6" marL="1974960" indent="-21924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086240" y="64278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8098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2209320" y="6427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A4BD-82A7-415F-A841-1239C9633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92428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S PGothic"/>
                <a:ea typeface="MS PGothic"/>
              </a:rPr>
              <a:t>礼物包装通用</a:t>
            </a:r>
            <a:r>
              <a:rPr b="0" lang="en-US" sz="4000" spc="-1" strike="noStrike">
                <a:solidFill>
                  <a:srgbClr val="ffffff"/>
                </a:solidFill>
                <a:latin typeface="MS PGothic"/>
                <a:ea typeface="MS PGothic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S PGothic"/>
                <a:ea typeface="MS PGothic"/>
              </a:rPr>
              <a:t>模板免费下载</a:t>
            </a:r>
            <a:endParaRPr b="1" lang="en-US" sz="4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3640" y="4876920"/>
            <a:ext cx="64767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66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366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2560" y="2205000"/>
            <a:ext cx="7850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fe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7852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200" spc="-1" strike="noStrike">
              <a:solidFill>
                <a:srgbClr val="fe0000"/>
              </a:solidFill>
              <a:latin typeface="Arial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7:31:37Z</dcterms:created>
  <dc:creator>MM</dc:creator>
  <dc:description/>
  <dc:language>en-US</dc:language>
  <cp:lastModifiedBy>王玉清</cp:lastModifiedBy>
  <dcterms:modified xsi:type="dcterms:W3CDTF">2016-02-20T04:27:56Z</dcterms:modified>
  <cp:revision>22</cp:revision>
  <dc:subject/>
  <dc:title>幻灯片 1</dc:title>
</cp:coreProperties>
</file>