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F15C-B767-47D4-A12D-7E624CA5A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1248-D167-47D8-98FF-DADDF7D3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2F59-5203-4EA7-B492-993EF90BD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DF6F-5A1E-435E-879B-A3D0D6B82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D7E8-37A1-469E-A153-83891ACB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3E60-0B54-474F-999A-9E7A0876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A69A-08AA-4EFE-8766-C422DFA1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02AE-A80F-4116-8043-7D2564CE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2943-856B-47FC-A9BD-BD26083E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94F5-6B0E-435F-84EE-41EF82D4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64B6-2953-4292-9BBD-EF15B9D8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2B18-412F-4265-B51D-01E5B0F4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CFFD-80C9-484E-90AA-77AC2A756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卷轴"/>
          <p:cNvPicPr/>
          <p:nvPr/>
        </p:nvPicPr>
        <p:blipFill>
          <a:blip r:embed="rId1"/>
          <a:srcRect l="0" t="0" r="64164" b="0"/>
          <a:stretch/>
        </p:blipFill>
        <p:spPr>
          <a:xfrm>
            <a:off x="0" y="0"/>
            <a:ext cx="3276720" cy="5143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laozihao"/>
          <p:cNvPicPr/>
          <p:nvPr/>
        </p:nvPicPr>
        <p:blipFill>
          <a:blip r:embed="rId2"/>
          <a:stretch/>
        </p:blipFill>
        <p:spPr>
          <a:xfrm>
            <a:off x="228600" y="5868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毛笔2"/>
          <p:cNvPicPr/>
          <p:nvPr/>
        </p:nvPicPr>
        <p:blipFill>
          <a:blip r:embed="rId3"/>
          <a:srcRect l="48752" t="22500" r="13750" b="42502"/>
          <a:stretch/>
        </p:blipFill>
        <p:spPr>
          <a:xfrm>
            <a:off x="990720" y="668160"/>
            <a:ext cx="3352680" cy="2346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2120" y="4707000"/>
            <a:ext cx="460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88920" y="8967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毛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免费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99198E-006 C 0.00798 0.00493 0.02569 -0.00124 0.03264 -0.00186 C 0.03489 -0.00309 0.04045 -0.00556 0.04045 -0.00586 C 0.04253 -0.02376 0.03837 -0.03116 0.03038 -0.03578 C 0.02778 -0.03517 0.02309 -0.03856 0.02257 -0.03393 C 0.01285 0.04966 0.03541 0.03269 0.01805 0.0441 C 0.01059 0.04287 0.00295 0.04256 -0.00452 0.04009 C -0.00573 0.03979 -0.00226 0.03855 -0.00104 0.03794 C 0.00121 0.0367 0.00451 0.03608 0.00677 0.03393 C 0.0151 0.02529 0.02153 0.01881 0.03142 0.01604 C 0.03628 0.01727 0.03767 0.01943 0.04166 0.01604 C 0.04357 0.01449 0.04722 0.00802 0.04948 0.00802 C 0.05087 0.00802 0.04722 0.01048 0.04618 0.01203 C 0.04062 0.02004 0.04514 0.01634 0.03941 0.02004 C 0.03021 0.0438 0.04462 0.00802 0.03368 0.02992 C 0.02864 0.03979 0.02639 0.05058 0.02031 0.05798 C 0.01771 0.07063 0.02118 0.05829 0.0158 0.066 C 0.01475 0.06755 0.01458 0.07032 0.01354 0.07186 C 0.0125 0.07372 0.01128 0.07464 0.01007 0.07587 C 0.00416 0.09191 -0.00538 0.09839 -0.01129 0.11381 C -0.00851 0.09592 0.00816 0.08359 0.0158 0.07001 C 0.01684 0.06354 0.02135 0.05212 0.02135 0.05212 C 0.02639 0.07618 0.01475 0.10518 0.03038 0.11381 C 0.03941 0.1132 0.04844 0.11443 0.05729 0.11196 C 0.06562 0.1098 0.05868 0.08297 0.05729 0.07587 C 0.05607 0.0694 0.04982 0.07372 0.04618 0.07186 C 0.04166 0.07248 0.03715 0.0731 0.03264 0.07402 C 0.03073 0.07433 0.02882 0.07464 0.02708 0.07587 C 0.02587 0.0768 0.02257 0.08174 0.02361 0.07988 C 0.025 0.07742 0.02656 0.07587 0.02812 0.07402 C 0.03125 0.06539 0.03507 0.06631 0.04045 0.06385 C 0.05208 0.04873 0.03732 0.06693 0.05052 0.05397 C 0.05625 0.04842 0.06094 0.04102 0.06736 0.03794 C 0.0717 0.03238 0.07517 0.02467 0.07986 0.02004 C 0.08125 0.01881 0.08298 0.01881 0.08437 0.01789 C 0.08594 0.01696 0.08732 0.01573 0.08871 0.01418 C 0.09149 0.0111 0.09392 0.00709 0.0967 0.00401 C 0.1 -0.00463 0.10764 -0.01481 0.11354 -0.01789 C 0.11823 -0.02622 0.12205 -0.02499 0.12708 -0.02992 C 0.13785 -0.04103 0.12969 -0.03578 0.13715 -0.03979 C 0.14166 -0.03733 0.14236 -0.03363 0.14392 -0.02591 C 0.13923 -0.01512 0.13837 -0.01882 0.13264 -0.01203 C 0.12899 -0.00216 0.12291 0.00647 0.11805 0.01418 C 0.11562 0.01789 0.11128 0.02591 0.11128 0.02591 C 0.11094 0.02806 0.11041 0.02992 0.11007 0.03207 C 0.10972 0.03393 0.10903 0.04009 0.10903 0.03794 C 0.10903 0.02313 0.1085 0.02591 0.11354 0.02004 C 0.12222 -0.00093 0.13472 -0.00525 0.14826 -0.01203 C 0.1533 -0.00895 0.1566 -0.01388 0.1618 -0.01604 C 0.16684 -0.01358 0.16892 -0.01296 0.17083 -0.00401 C 0.16267 0.01048 0.15052 0.01881 0.13941 0.02405 C 0.13576 0.03022 0.13385 0.03146 0.12916 0.03393 C 0.12847 0.03207 0.12639 0.02992 0.12708 0.02806 C 0.12847 0.02405 0.13368 0.02004 0.13368 0.02004 C 0.13889 0.02066 0.14496 0.01696 0.14948 0.0219 C 0.15173 0.02436 0.14844 0.03146 0.14826 0.03608 C 0.14722 0.07063 0.15712 0.10703 0.13715 0.11381 C 0.12864 0.11258 0.12274 0.11628 0.12031 0.10178 C 0.12066 0.09438 0.11996 0.08698 0.12135 0.07988 C 0.12135 0.07988 0.13194 0.07217 0.13264 0.07186 C 0.14219 0.0549 0.16736 0.05798 0.17986 0.05583 C 0.18212 0.04349 0.18767 0.04287 0.19323 0.03608 C 0.1993 0.02868 0.20278 0.01912 0.20781 0.01017 C 0.20903 0.00493 0.21094 -0.00031 0.21128 -0.00586 C 0.21163 -0.01111 0.21094 -0.01697 0.21232 -0.0219 C 0.21302 -0.02468 0.21528 -0.02468 0.21684 -0.02591 C 0.23107 -0.02067 0.22482 -0.0182 0.22482 0.01418 C 0.22482 0.01819 0.22465 0.00555 0.22587 0.00215 C 0.22743 -0.00186 0.23264 -0.00586 0.23264 -0.00586 C 0.24097 -0.00401 0.246 -0.00124 0.23941 0.01789 C 0.2342 0.03331 0.2276 0.03485 0.2191 0.04009 C 0.2243 0.04225 0.22847 0.03979 0.23368 0.04195 C 0.22864 0.04811 0.22778 0.05428 0.22587 0.06385 C 0.22743 0.07186 0.22916 0.07341 0.23368 0.07587 C 0.23246 0.0876 0.23125 0.08945 0.22587 0.09592 C 0.22552 0.09253 0.2243 0.08914 0.22482 0.08605 C 0.22552 0.08204 0.2276 0.07896 0.22916 0.07587 C 0.23455 0.06539 0.23958 0.05397 0.24618 0.04595 C 0.25035 0.04102 0.25729 0.02806 0.25729 0.02806 C 0.26007 0.01511 0.26163 0.00771 0.26302 -0.00586 C 0.26493 -0.00093 0.26823 0.01881 0.2618 0.00215 C 0.26944 -0.01142 0.26493 -0.01296 0.27639 -0.00987 C 0.27604 -0.00401 0.27673 0.00246 0.27535 0.00802 C 0.27361 0.01449 0.25816 0.02837 0.25399 0.03207 C 0.25208 0.03146 0.24896 0.03331 0.24826 0.02992 C 0.24774 0.02714 0.25121 0.02652 0.25278 0.02591 C 0.2566 0.02405 0.27118 0.01789 0.27639 0.01789 C 0.27864 0.01789 0.27187 0.01912 0.26962 0.02004 C 0.26857 0.02035 0.26736 0.02128 0.26632 0.0219 C 0.25764 0.02621 0.26059 0.02405 0.24618 0.02591 C 0.24427 0.04441 0.23611 0.10209 0.25173 0.08204 C 0.25816 0.06477 0.26823 0.05058 0.27535 0.03393 C 0.27326 0.01727 0.27482 0.02591 0.26736 0.02992 C 0.26406 0.03794 0.26232 0.0404 0.26406 0.04996 C 0.26285 0.06138 0.25955 0.06909 0.25729 0.07988 C 0.25694 0.08389 0.25677 0.0879 0.25625 0.09191 C 0.25607 0.09407 0.25451 0.09963 0.25503 0.09777 C 0.26076 0.0805 0.2618 0.0768 0.27187 0.06785 C 0.2776 0.08328 0.27153 0.10055 0.2809 0.11196 C 0.28212 0.11073 0.28316 0.10888 0.28437 0.10795 C 0.28611 0.10672 0.28819 0.10734 0.28993 0.10579 C 0.30069 0.09592 0.28507 0.10302 0.29774 0.09592 C 0.30225 0.09346 0.31128 0.08976 0.31128 0.08976 C 0.3158 0.08174 0.31927 0.0842 0.32482 0.07988 C 0.33073 0.07526 0.33576 0.06755 0.34166 0.06385 C 0.346 0.05829 0.34913 0.05243 0.35399 0.04811 C 0.35677 0.03824 0.35903 0.03855 0.36406 0.03207 C 0.37482 0.03578 0.36562 0.0293 0.37083 0.04811 C 0.37135 0.04996 0.371 0.04349 0.37187 0.04195 C 0.37326 0.03917 0.37778 0.03701 0.37986 0.03608 C 0.3875 0.03207 0.39566 0.03115 0.40347 0.02806 C 0.40798 0.02251 0.41267 0.02035 0.41805 0.01789 C 0.42743 0.00123 0.43437 0.00123 0.44618 -0.00401 C 0.45781 -0.00926 0.46875 -0.01419 0.47986 -0.0219 C 0.48212 -0.03424 0.48472 -0.03949 0.47639 -0.02777 C 0.47222 -0.0219 0.47048 -0.01512 0.46632 -0.00987 C 0.47587 0.00185 0.48819 -0.00802 0.49896 -0.01203 C 0.49826 -0.01388 0.49774 -0.01635 0.4967 -0.01789 C 0.49462 -0.02098 0.48993 -0.02591 0.48993 -0.02591 C 0.48732 -0.01234 0.48698 -0.01265 0.48663 0.01017 C 0.48646 0.02004 0.48715 0.03022 0.48767 0.04009 C 0.48785 0.04349 0.48958 0.04688 0.48871 0.04996 C 0.48819 0.05182 0.48646 0.04873 0.48541 0.04811 C 0.47812 0.03948 0.47482 0.04256 0.46528 0.0441 C 0.48298 0.0185 0.48489 0.03238 0.5191 0.03393 C 0.51354 0.04071 0.50764 0.04626 0.50121 0.04996 C 0.49705 0.05459 0.4934 0.05768 0.48993 0.06385 C 0.49496 0.0657 0.49809 0.06693 0.50225 0.07186 C 0.5085 0.08883 0.50781 0.0842 0.50347 0.12183 C 0.50312 0.1243 0.50104 0.11937 0.5 0.11782 C 0.49392 0.1095 0.49097 0.10364 0.48767 0.09191 C 0.4875 0.09099 0.48628 0.07958 0.48541 0.07803 C 0.4835 0.07464 0.47864 0.07001 0.47864 0.07001 C 0.47396 0.07834 0.47083 0.08482 0.46857 0.09592 C 0.46805 0.09839 0.46597 0.1024 0.46736 0.10394 C 0.46927 0.1061 0.47187 0.1024 0.47413 0.10178 C 0.49149 0.08636 0.51024 0.07834 0.52916 0.07186 C 0.53472 0.06724 0.5408 0.06477 0.54618 0.05984 C 0.5566 0.04996 0.54896 0.05521 0.55729 0.04595 C 0.56163 0.04102 0.56719 0.03886 0.57187 0.03608 C 0.57587 0.03362 0.57916 0.02868 0.58316 0.02591 C 0.58524 0.01542 0.5868 0.00215 0.57986 -0.00186 C 0.5783 0.01418 0.57934 0.00647 0.57639 0.0219 C 0.57587 0.02498 0.57864 0.01665 0.57986 0.01418 C 0.58524 0.00339 0.58107 0.01233 0.58767 0.00215 C 0.59479 -0.00895 0.60295 -0.01574 0.61232 -0.01789 C 0.6184 -0.01728 0.62587 -0.02345 0.63038 -0.01604 C 0.6335 -0.0108 0.6276 0.01295 0.62482 0.02004 C 0.62396 0.02621 0.6243 0.04195 0.62135 0.04595 C 0.61684 0.05212 0.59982 0.05397 0.59444 0.05583 C 0.58246 0.05397 0.5783 0.05675 0.58767 0.04009 C 0.58975 0.02806 0.59392 0.01881 0.59548 0.00616 C 0.59722 -0.06632 0.59462 -0.05306 0.60347 -0.0219 C 0.60764 0.01079 0.6059 0.04811 0.60677 0.07988 C 0.60712 0.09222 0.6125 0.10579 0.61458 0.11782 C 0.6217 0.11412 0.62378 0.10672 0.62812 0.09592 C 0.6309 0.08883 0.63212 0.08976 0.63594 0.08389 C 0.64062 0.07649 0.64392 0.06909 0.64722 0.05984 C 0.65121 0.03701 0.66389 0.02066 0.66857 -0.00186 C 0.66944 -0.01049 0.66719 -0.0219 0.67083 -0.02777 C 0.67274 -0.03085 0.67604 -0.02653 0.67864 -0.02591 C 0.68021 -0.01543 0.68281 -0.00648 0.68437 0.00401 C 0.68472 0.02591 0.68541 0.07001 0.68541 0.07001 C 0.68611 0.04472 0.68698 0.02591 0.68993 0.00215 C 0.6901 -0.00031 0.69045 -0.02283 0.69323 -0.02777 C 0.69583 -0.03239 0.70347 -0.03455 0.70677 -0.03794 C 0.7092 -0.04041 0.71354 -0.04596 0.71354 -0.04596 C 0.71944 -0.04535 0.72552 -0.04473 0.73142 -0.0438 C 0.73333 -0.0435 0.73559 -0.04411 0.73715 -0.04195 C 0.73923 -0.03918 0.74166 -0.02992 0.74166 -0.02992 C 0.74618 0.00431 0.74462 0.05274 0.74496 0.08389 C 0.74462 0.08667 0.74531 0.09099 0.74392 0.09191 C 0.74201 0.09315 0.73559 0.08019 0.73368 0.07803 C 0.73003 0.06816 0.7243 0.06292 0.7191 0.05583 C 0.71666 0.05243 0.7151 0.04657 0.71232 0.0441 C 0.70816 0.0404 0.70416 0.03578 0.7 0.03207 C 0.69444 0.0219 0.6842 0.01696 0.67639 0.01203 C 0.68003 -0.00525 0.69618 -0.00463 0.70451 -0.01203 C 0.71163 -0.01142 0.71892 -0.01265 0.72587 -0.00987 C 0.72691 -0.00957 0.72552 -0.00586 0.72482 -0.00401 C 0.72396 -0.00155 0.72274 0.00061 0.72135 0.00215 C 0.71406 0.01141 0.7059 0.01943 0.69896 0.02992 C 0.69774 0.03177 0.69653 0.03393 0.69548 0.03608 C 0.69462 0.03794 0.69201 0.04133 0.69323 0.04195 C 0.69618 0.0438 0.6993 0.04071 0.70225 0.04009 C 0.71163 0.0293 0.70121 0.05243 0.7 0.05798 C 0.70521 0.06261 0.70816 0.06292 0.71007 0.05212 C 0.70972 0.03331 0.7085 0.0148 0.70903 -0.00401 C 0.70903 -0.00648 0.71059 2.99197999999992E-006 0.71128 0.00215 C 0.72014 0.03362 0.70937 -0.00278 0.71458 0.01789 C 0.71823 0.03207 0.72413 0.04225 0.72812 0.05583 C 0.73003 0.04195 0.73021 0.03639 0.73489 0.02591 C 0.7368 0.0148 0.73524 0.00863 0.73142 2.99198E-006 C 0.72986 -0.00864 0.73038 -0.0182 0.72587 -0.00586 C 0.72673 0.00431 0.72743 0.01418 0.72916 0.02405 C 0.72812 0.04472 0.72569 0.05953 0.7191 0.07587 C 0.71788 0.07865 0.71562 0.08667 0.71354 0.0879 C 0.71076 0.08976 0.70746 0.08914 0.70451 0.08976 C 0.69305 0.08513 0.69653 0.08729 0.72257 0.08605 C 0.72812 0.08575 0.73385 0.08605 0.73941 0.08605 E">
                                      <p:cBhvr>
                                        <p:cTn id="16" dur="5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8500"/>
                            </p:stCondLst>
                            <p:childTnLst>
                              <p:par>
                                <p:cTn id="18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老字号内页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3132000" y="2139840"/>
            <a:ext cx="28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Comic Sans MS"/>
                <a:ea typeface="MingLiU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轴"/>
          <p:cNvPicPr/>
          <p:nvPr/>
        </p:nvPicPr>
        <p:blipFill>
          <a:blip r:embed="rId1"/>
          <a:srcRect l="0" t="0" r="78331" b="0"/>
          <a:stretch/>
        </p:blipFill>
        <p:spPr>
          <a:xfrm>
            <a:off x="0" y="0"/>
            <a:ext cx="19810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白底"/>
          <p:cNvPicPr/>
          <p:nvPr/>
        </p:nvPicPr>
        <p:blipFill>
          <a:blip r:embed="rId1"/>
          <a:stretch/>
        </p:blipFill>
        <p:spPr>
          <a:xfrm>
            <a:off x="0" y="0"/>
            <a:ext cx="9142560" cy="5143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毛笔2"/>
          <p:cNvPicPr/>
          <p:nvPr/>
        </p:nvPicPr>
        <p:blipFill>
          <a:blip r:embed="rId2"/>
          <a:srcRect l="48752" t="22500" r="13750" b="42502"/>
          <a:stretch/>
        </p:blipFill>
        <p:spPr>
          <a:xfrm>
            <a:off x="2743200" y="1278000"/>
            <a:ext cx="335268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952200"/>
            <a:ext cx="89280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286760" y="250920"/>
            <a:ext cx="1388880" cy="261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6684-B301-4EB3-95F8-986928166C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30T06:50:4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1:20:23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