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C35-3F90-4EA4-9412-48F75773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92A-20D8-4EAD-BFC8-82A4C6E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3E0-4D99-4E1E-8BE1-7A011CC4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149-0070-494E-98F3-E8BE87E7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2A2-FDB3-48F8-86E2-3740C92C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CF2-6CE0-4A85-8E1D-4B531EE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686-ADF3-45C2-BCD4-BE50F47F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638-B122-4DBB-990E-95496027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B07-A004-46F1-A1A2-AA3B9C6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578-551A-4744-9F65-228489B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6B0-E787-4520-B71F-0ECB4EA0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8FB-DADB-4A09-AF0D-6FA3181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143B-BA63-474F-A68D-A2EAEBF146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1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4" descr="波浪前1.png"/>
          <p:cNvPicPr/>
          <p:nvPr/>
        </p:nvPicPr>
        <p:blipFill>
          <a:blip r:embed="rId5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5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55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58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1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彩虹1"/>
          <p:cNvPicPr/>
          <p:nvPr/>
        </p:nvPicPr>
        <p:blipFill>
          <a:blip r:embed="rId7"/>
          <a:stretch/>
        </p:blipFill>
        <p:spPr>
          <a:xfrm>
            <a:off x="-896760" y="1452600"/>
            <a:ext cx="10969560" cy="2552760"/>
          </a:xfrm>
          <a:prstGeom prst="rect">
            <a:avLst/>
          </a:prstGeom>
          <a:ln w="0">
            <a:noFill/>
          </a:ln>
        </p:spPr>
      </p:pic>
      <p:sp>
        <p:nvSpPr>
          <p:cNvPr id="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1838160" y="690480"/>
            <a:ext cx="64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梦幻之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26" dur="1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28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a</cp:lastModifiedBy>
  <dcterms:modified xsi:type="dcterms:W3CDTF">2015-07-20T11:02:16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