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95A-8845-4F8A-A962-0F7C6411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722-EC3A-4D83-96B6-DF786AB6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13A-0ECC-4CC7-ADDD-0713CB48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2F3-1935-4F49-95A3-21B8E83D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1FB9-5FB3-40FD-B666-43F8AA96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68A0-3F0F-4A17-B23A-36AEECE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77E-323C-415D-8243-56B3E72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2B1-3692-419A-8AAD-0E0B3D41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012-CD49-411A-9138-9A70EC1D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2489-8D7F-42FA-B0BF-7C6E321F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5A2-58F5-4049-8114-8965B5A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782-1E9B-4DEE-AF24-AD86143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E8FD-9D8F-4265-9E1B-3BFD547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6370-F626-4749-8A7F-8B380B30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1D25-7B1E-46AD-9422-8A06AC0F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2139-040A-4C50-804E-E4FCA00E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1AA2-EA66-47DB-B5E9-6CF7E669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0C5-2662-4DB8-80F0-0FD7ADF0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4A9-1D94-4B5A-A44A-FFBF309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770-49D0-4506-A60D-7D6905D1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F5E-044F-43EF-AA80-7B0F1B3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C2B-59DB-49B9-A8E5-DDE7745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CC2-8050-4BCE-B5D2-B2F8042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F49-0D44-4775-865F-28852DC5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3932-EAE0-49B8-ADB9-1A6C2C64834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9402-A92F-4930-AC2B-762A94B48A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088720" y="155736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女性时尚爱心树通用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500720" y="2313000"/>
            <a:ext cx="4176720" cy="360360"/>
          </a:xfrm>
          <a:prstGeom prst="rect">
            <a:avLst/>
          </a:prstGeom>
          <a:solidFill>
            <a:srgbClr val="90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836880" y="24210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07a8f"/>
                </a:solidFill>
                <a:latin typeface="方正正大黑简体"/>
                <a:ea typeface="方正正大黑简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539640" y="65930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王玉清</cp:lastModifiedBy>
  <dcterms:modified xsi:type="dcterms:W3CDTF">2016-02-20T03:28:01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