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EF9F-052B-4DB3-911B-29CCCF57A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2255-CF40-4968-A5D5-B1DF4F39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2BFC-B491-4D4D-8CA4-345753CF0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2553-69DE-46B5-9960-EF412D68B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02122-1FEF-4E0C-863B-85FBFB304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CC09-2809-4610-B03C-C7F4300E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0FAB-0B14-4D7B-9D92-D41A28CE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441C-5EBE-41BD-9B15-BA572097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725C-C507-4BB7-91FE-8E781164B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33BF-E63C-44C2-9FC1-8DD4DADB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1E94-3153-42E2-9917-7D282EFF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66CD-172F-44A0-AB09-2A38D335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A253-E271-43E2-AC8B-4BD2861D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428A-236C-4569-8162-6F5C2D52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EB37-0354-4975-A9E7-B4C2A656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F123-5501-4BD5-9668-2D8EC08D8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B306-7A9B-4579-8F12-392D7A67D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4E78-3E85-4137-BB82-32617997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6145-0F8B-436D-9084-A43CC2C1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6F68-23B5-4B86-A63D-023A5E77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0329-6E1C-4563-BCDB-BA5B41C4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E8F9-6FB6-4546-8436-34D529D7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4689-0E74-4057-A9F4-42CAFB7A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F20F-DD88-40A5-8048-A5E0EB72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5C63-CBA9-4888-8856-429418173047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03D7-3C40-4F83-8B3B-96AFF98C555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08000" y="50864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WPS </a:t>
            </a:r>
            <a:r>
              <a:rPr b="0" i="1" lang="zh-CN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 OF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422440" y="5573880"/>
            <a:ext cx="402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你的办公助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AutoShape 4"/>
          <p:cNvCxnSpPr/>
          <p:nvPr/>
        </p:nvCxnSpPr>
        <p:spPr>
          <a:xfrm>
            <a:off x="283680" y="5725800"/>
            <a:ext cx="21279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85" name="AutoShape 5"/>
          <p:cNvCxnSpPr/>
          <p:nvPr/>
        </p:nvCxnSpPr>
        <p:spPr>
          <a:xfrm flipH="1" flipV="1" rot="10800000">
            <a:off x="7956360" y="188640"/>
            <a:ext cx="865800" cy="361080"/>
          </a:xfrm>
          <a:prstGeom prst="bentConnector3">
            <a:avLst>
              <a:gd name="adj1" fmla="val -8277"/>
            </a:avLst>
          </a:prstGeom>
          <a:ln w="9360">
            <a:solidFill>
              <a:srgbClr val="907a8f"/>
            </a:solidFill>
            <a:miter/>
          </a:ln>
        </p:spPr>
      </p:cxnSp>
      <p:sp>
        <p:nvSpPr>
          <p:cNvPr id="86" name="Text Box 6"/>
          <p:cNvSpPr/>
          <p:nvPr/>
        </p:nvSpPr>
        <p:spPr>
          <a:xfrm>
            <a:off x="7956720" y="244440"/>
            <a:ext cx="125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907a8f"/>
                </a:solidFill>
                <a:latin typeface="Arial"/>
                <a:ea typeface="方正细倩简体"/>
              </a:rPr>
              <a:t>女性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"/>
          <p:cNvSpPr/>
          <p:nvPr/>
        </p:nvSpPr>
        <p:spPr>
          <a:xfrm>
            <a:off x="2505600" y="2536920"/>
            <a:ext cx="476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女性通用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978840" y="3068640"/>
            <a:ext cx="216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方正细倩简体"/>
              </a:rPr>
              <a:t>WPS Office 2012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方正细倩简体"/>
              </a:rPr>
              <a:t>女性专业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841320" y="3484440"/>
            <a:ext cx="311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611280" y="3139920"/>
            <a:ext cx="160200" cy="160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622440" y="3533760"/>
            <a:ext cx="160200" cy="1587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633240" y="3916440"/>
            <a:ext cx="160560" cy="16020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4500720" y="2313000"/>
            <a:ext cx="4176720" cy="360360"/>
          </a:xfrm>
          <a:prstGeom prst="rect">
            <a:avLst/>
          </a:prstGeom>
          <a:solidFill>
            <a:srgbClr val="907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1047600" y="350532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方正细倩简体"/>
              </a:rPr>
              <a:t>WPS Office 2012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方正细倩简体"/>
              </a:rPr>
              <a:t>女性专业版特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118520" y="3916440"/>
            <a:ext cx="259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方正细倩简体"/>
              </a:rPr>
              <a:t>WPS Office 2012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方正细倩简体"/>
              </a:rPr>
              <a:t>女性专业版新增功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2979720" y="2492280"/>
            <a:ext cx="41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工作平台实现个性定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851280" y="2859120"/>
            <a:ext cx="490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Work platform for the realization of personalized cus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AutoShape 4"/>
          <p:cNvCxnSpPr/>
          <p:nvPr/>
        </p:nvCxnSpPr>
        <p:spPr>
          <a:xfrm>
            <a:off x="3060720" y="2276280"/>
            <a:ext cx="5493600" cy="1080"/>
          </a:xfrm>
          <a:prstGeom prst="straightConnector1">
            <a:avLst/>
          </a:prstGeom>
          <a:ln w="9360">
            <a:solidFill>
              <a:srgbClr val="907a8f"/>
            </a:solidFill>
            <a:miter/>
            <a:tailEnd len="med" type="triangle" w="med"/>
          </a:ln>
        </p:spPr>
      </p:cxnSp>
      <p:sp>
        <p:nvSpPr>
          <p:cNvPr id="100" name="Text Box 5"/>
          <p:cNvSpPr/>
          <p:nvPr/>
        </p:nvSpPr>
        <p:spPr>
          <a:xfrm>
            <a:off x="2631960" y="3727440"/>
            <a:ext cx="41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爱不释手的文字工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81080" y="3998880"/>
            <a:ext cx="490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Put the text t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箭头 128"/>
          <p:cNvSpPr/>
          <p:nvPr/>
        </p:nvSpPr>
        <p:spPr>
          <a:xfrm>
            <a:off x="108000" y="4654440"/>
            <a:ext cx="4824360" cy="0"/>
          </a:xfrm>
          <a:prstGeom prst="line">
            <a:avLst/>
          </a:prstGeom>
          <a:ln w="9360">
            <a:solidFill>
              <a:srgbClr val="907a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3" name="AutoShape 2"/>
          <p:cNvCxnSpPr/>
          <p:nvPr/>
        </p:nvCxnSpPr>
        <p:spPr>
          <a:xfrm>
            <a:off x="324000" y="907560"/>
            <a:ext cx="5040720" cy="367560"/>
          </a:xfrm>
          <a:prstGeom prst="bentConnector3">
            <a:avLst>
              <a:gd name="adj1" fmla="val 35790"/>
            </a:avLst>
          </a:prstGeom>
          <a:ln w="9360">
            <a:solidFill>
              <a:srgbClr val="907a8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4" name="Text Box 3"/>
          <p:cNvSpPr/>
          <p:nvPr/>
        </p:nvSpPr>
        <p:spPr>
          <a:xfrm>
            <a:off x="2348280" y="907920"/>
            <a:ext cx="27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WPS Office 2012</a:t>
            </a:r>
            <a:r>
              <a:rPr b="1" lang="zh-CN" sz="18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女性专业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574560" y="1784520"/>
            <a:ext cx="67723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        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WPS (Word Processing System),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中文意为文字编辑系统，是金山软件公司的一种办公软件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最初出现于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1989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年，在微软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Windows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系统出现以前，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DOS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系统盛行的年代，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WPS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曾是中国最流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的文字处理软件，现在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WPS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最近正式推出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2012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女性版。另外，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WPS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男性专业版也即将面世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41440" y="2927520"/>
            <a:ext cx="6770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        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WPS (Word Processing System),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中文意为文字编辑系统，是金山软件公司的一种办公软件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最初出现于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1989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年，在微软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Windows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系统出现以前，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DOS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系统盛行的年代，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WPS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曾是中国最流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的文字处理软件，现在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WPS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最近正式推出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2012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女性版。另外，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WPS</a:t>
            </a:r>
            <a:r>
              <a:rPr b="1" lang="zh-CN" sz="1200" spc="-1" strike="noStrike">
                <a:solidFill>
                  <a:srgbClr val="ffffff"/>
                </a:solidFill>
                <a:latin typeface="方正细倩简体"/>
                <a:ea typeface="方正细倩简体"/>
              </a:rPr>
              <a:t>男性专业版也即将面世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AutoShape 6"/>
          <p:cNvCxnSpPr/>
          <p:nvPr/>
        </p:nvCxnSpPr>
        <p:spPr>
          <a:xfrm>
            <a:off x="3876840" y="4460400"/>
            <a:ext cx="5040720" cy="366120"/>
          </a:xfrm>
          <a:prstGeom prst="bentConnector3">
            <a:avLst>
              <a:gd name="adj1" fmla="val 82472"/>
            </a:avLst>
          </a:prstGeom>
          <a:ln w="9360">
            <a:solidFill>
              <a:srgbClr val="907a8f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08" name="Picture 7" descr="ZIMU"/>
          <p:cNvPicPr/>
          <p:nvPr/>
        </p:nvPicPr>
        <p:blipFill>
          <a:blip r:embed="rId2"/>
          <a:stretch/>
        </p:blipFill>
        <p:spPr>
          <a:xfrm>
            <a:off x="4356000" y="4487760"/>
            <a:ext cx="3448080" cy="381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3252240" y="259092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907a8f"/>
                </a:solidFill>
                <a:latin typeface="Arial"/>
                <a:ea typeface="方正细倩简体"/>
              </a:rPr>
              <a:t>谢谢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cp:keywords/>
  <dc:language>en-US</dc:language>
  <cp:lastModifiedBy>王玉清</cp:lastModifiedBy>
  <dcterms:modified xsi:type="dcterms:W3CDTF">2016-02-24T03:30:37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