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1D3-E53E-4A21-84CA-EBF80D25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25E-F780-4355-BE52-CD8C38C0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503B8-680D-4AFA-BBBC-045583D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940F8-E37A-40C9-800B-278C8928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026C1-9CF4-4772-97C7-142429F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6A122-F3DB-4A66-9624-A478B7AE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F9717-EA17-45B2-9694-2AA29B29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751E3-D82C-4575-8B3C-7386216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3E0D7-1524-42F4-986A-4E096ABA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B1566-6C24-459E-B9CD-03E8AB61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10810-45B5-4039-9E3C-D721D734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C77AF-8431-426E-B382-C155E645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DE0-1B34-4A15-96B3-0DCC56BB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977BD-453C-41B0-A13E-41E4B8D5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931B9-E131-4126-8114-5B67FF8B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AB1D1-900D-474F-ADBE-1EAA96D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572B0-A044-4961-A9A5-D2C44D07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41C7B-802A-4B99-9762-727A9528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5DF99-8403-474C-8B96-1F7D91FD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98E9C-C03C-407D-88C3-E4EA8EE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E36C2-2555-4D8D-A026-09850DB3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E8CAA-01AE-43F8-A1EB-35D43043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73E44-7661-495F-8FF0-C955105B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E46-C45B-4476-B562-4A33592C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53CC7-8A20-42B5-9920-54DD324D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A1C25-1795-4693-8653-07C26022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84F72-0F82-44A7-B804-4FA7CA86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04E37-D490-4DE5-9D60-9F0158A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12E9A-EBD5-45A9-9806-B5A9A9DB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B9DD9-4939-4A95-80C4-2187E65D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9387B-06E4-428F-8F60-A9EA28A5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DE46F-8C42-435E-B362-422C31D2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C4E03-CDF3-4C2B-AC9B-FD0AA8C1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9C71E-1C91-45FF-AFD8-DF205623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7EBB-C58F-428E-A806-A1482B72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832C2-E543-4B2F-8E85-60C1D22B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506C2-EBF3-461E-BAC4-419F6A75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9B5F4-C833-4FFB-AF3B-E893D7FC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4D718-6FA0-4599-A685-9042C31A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B4F90-70ED-4593-ADEA-82E4852A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1FE0C-A167-46B0-B9A2-B4C79EE4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2982B-C04F-497D-867C-D33271E8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B6340-3B69-4E61-B9EB-E5D1923A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06C04-980B-4169-B6C4-320FC8D3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03E7D-A58C-4CB2-8939-508E6405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24E6-0B4C-4899-866C-E1F412E9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6A57B-7DBC-4286-8D79-653D43E7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55F38-CAF3-41A2-9FC6-F83D8F3B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0D7A9-8AA5-441C-B31E-C6B9040F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B6D9A-7D5C-43D7-9E63-4F9F675F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0C627-88C6-406F-A79E-ABA683A8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B824B-7964-462A-A62D-EFA8C20D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51191-2ECD-486E-A4BE-8CFFB0BA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1772A-800A-465D-9C71-D00CDC36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26F21-4969-4C4D-8FDF-E0401D5A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AF55D-07ED-4BBE-BA35-92EFFCD3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F9F1-B1DD-4B8A-BC91-9EDD8645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80C50-A247-4869-8C39-06A0A55E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AB78F-BBA6-418B-BA42-D834126D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7634E-C8ED-4E63-A0E1-6D327C1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2F155-02FC-41CB-9586-FC5DE56A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E3599-5BC7-4A3A-AEDF-B62A69AD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BF239-FA8A-46CD-9F13-E2D6CD12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29723-3A7D-447F-AA69-812BAFFE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5867-5EFF-4782-8CC8-025681E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43A4-DCC5-4CE1-81C2-4417D0FB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D605-24EE-490D-B87E-3A516852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00AB-C089-4883-B9D5-AE2A3A68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651-A21B-49CA-9BC9-4A6D8124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57D4-A0B1-4166-80CE-FC86AC9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90F1-A993-4A60-BAC2-019A46F2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2D92-21C2-4434-A851-25B85391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EEC-351F-48C4-AA5B-89434B15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4B6F-38D9-4425-930F-5F4AE76F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FB91-F52E-4F9D-BDAC-8EA6021C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5C7E-9A59-4ECD-93CB-AEC7E0ED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391C-4F49-4BA5-9183-7F02F81B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627B-CAE8-4AAC-9217-0B8404A6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6CA0-0B66-4C67-BF0D-4E167131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534-7E09-4EF5-9DDC-9AE199FC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6BB65-D114-49DE-9B1A-7B389D07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5AC4-B476-4B9F-A1A3-5FC3344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DEFF-F2A6-48BE-8118-17B8722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C189-CA98-4C99-A765-C620B15E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D648-C5EC-40D6-B786-839D3F45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3824-BCAE-45C1-A003-520D0FF1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7DCB3-6E89-4A95-9067-274E3E5D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64A74-5539-49AC-8769-77634A54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79BB-B573-4DB7-A701-58275F2D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8963-FFB8-42C0-8FB2-F22D2114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039-F737-496C-A7D6-373A6E95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440E-7919-4F05-B4F8-C7C3385D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7A43B-FC31-48C1-A346-2403CCA5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5F144-FFFC-48B2-92DE-3E288618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5EAF-9687-44E1-9770-24D9705C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F813A-BC7B-41E2-B142-B717BCFE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CBE1-ED0A-4454-82DD-142E3BF9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9EB84-0C6B-422D-B376-406C232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18CD-4EB3-4AC9-A1BE-99D8526E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839A-AE21-4BF3-AECB-5271145B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5D94A-AF79-4425-83D4-9D6DC401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B9C-2C87-4D49-8032-B15D3993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01916-E86A-4088-A4EB-E9E7CA9C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4ED76-3368-438D-BAB8-B480DFFA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DB0EF-C791-4BAA-BD61-4CE01F2A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327F-4EE4-4ECA-9D01-19ED74CE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52B58-A3FC-44AB-92FC-140097F1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244FF-0C03-43EF-834C-AEAD614C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CB52D-23A8-4649-B7BD-8935B42B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ADFF-110C-4F4D-A65C-67CEFA7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92F8-9F53-41C0-8373-CE5E2A4A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4AAE5-A019-420E-B132-B9918E5B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214-844E-451D-AEEB-FEF99C2E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3BF9-4C40-4B7A-9138-4D1A7412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14DF7-CC79-4696-BFBF-1680F062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C3749-FF18-42BD-B809-CD3F223C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9BDEC-E469-482A-BAB1-F9AD1144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5CF04-5D55-45F9-82F7-9D40BA8E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C2093-2D02-45C9-9CE8-0702208E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EB46F-8FD6-43E5-9AB3-95A8BAE9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834B8-E457-4454-BD0F-7E859CF2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56AB0-C538-41FE-9DB0-4668F68B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46E06-5E13-486E-A0E2-9B1A181E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A2E-79CE-4116-B75E-E0E7D51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8E025-A41F-4FA4-A4B7-AD6C519A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33C27-A693-4291-96D4-1B6B2440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4E18F-32AB-428E-B754-918E7F57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1B5BB-2372-46F4-9676-95CCC2E0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2C7BF-1738-4536-BE44-E31439B8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3EFD-9EF8-4DAA-A798-A4C704D9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07298-ADB3-4E0D-9C18-CF436982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0F9AD-1A45-46AA-B6F6-A618F9E5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6EF31-066B-450B-9E6B-C2DA180D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4EC3-F2E0-47A7-A412-9408757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8DF4-08C6-4329-98AC-41B0C73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FE50C-54A2-4B5B-BA56-9DD4D7D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9F2F-3EB7-4C6B-AF1B-BF1C8241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B705D-39A8-4451-80EB-57272A85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20FD4-5097-4FA3-B61F-A3BB8080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5DEA8-F90F-4033-A04F-93DE475B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C8048-B108-4973-96F5-4835D647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E295-C0A5-4F3C-9DA2-AC5B6EE3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BA442-4BED-40CA-B270-AF364C92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327B1-7AF8-437A-94DD-A83D8407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A059C-B6CC-435B-AE93-8F75D024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E7F-ACF9-4980-B885-70086E0A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161D8-2120-4696-A5BA-2F376D7D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A556B-B7B5-40FD-930D-647778F8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87DAB-141B-4120-8301-4A1022B9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24832-36B1-475F-BCA0-2D7A3E81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B7DA2-A00D-4BF0-A2C8-A5EEFB35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ABC1B-75E6-47B8-804C-D0DA2979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A0A2E-2A46-4384-9EF6-8E1A8EB4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FD7CD-24D0-4E69-9928-6CD1FEEB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01EA0-5B17-46C0-8DFF-3AEF3D24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27D69-1E8E-44A7-9CAA-5E3AB844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06FF-0CAF-4767-8992-19CCCF49E6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0F9E-E71A-411D-A01A-A0DD149397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3878-2690-49B9-8729-5DDA2950C1D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13D1-A740-46D5-90EC-AA2AE23608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BE96-5744-43D9-81A7-00B798EA3A7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A589-7091-472A-8C37-6482259B6A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50D3-B1A5-4497-98BB-CB53B44656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BC5C-C63F-49A9-90D5-DEF9A00D0B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59A1-3D43-4B81-8EB9-446937047D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53EA-6A8C-4CDD-BAE9-D9A5A632A0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8281-78D8-4E0E-A2C5-A03160D3902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6A56-DA64-495F-A3D1-6DB5D6DB79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1CA9-8A48-4846-B268-6478E5D17B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F15F-6B72-4EA2-BCDB-B366B9BD8F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8871-ACB2-4160-8563-D2ACEB1C254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E535-664A-4CC0-B313-7EC73A261B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C59F-E814-4BA9-A8D5-14FC2E2AF23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3744-F2DF-46E0-93C6-9342B351C1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FC9E-D2A5-4A5D-8311-FED8DA0A45A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0F34-F9D1-41DF-8BF8-98C79486E4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E8B8-4F14-44B3-9B46-8EB7520AD2F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96A8-E796-4659-9BC6-761285A156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04B3-A26C-4D95-A206-C2E2280607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4234-B8F0-41C6-A4A5-AD11EE1FC6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4237-47EC-4715-913B-E1A3288D46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8C10-B4A5-43AB-87EF-255D666036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" Target="slide7.xml"/><Relationship Id="rId8" Type="http://schemas.openxmlformats.org/officeDocument/2006/relationships/image" Target="../media/image2.png"/><Relationship Id="rId9" Type="http://schemas.openxmlformats.org/officeDocument/2006/relationships/slide" Target="slide9.xml"/><Relationship Id="rId10" Type="http://schemas.openxmlformats.org/officeDocument/2006/relationships/image" Target="../media/image3.png"/><Relationship Id="rId11" Type="http://schemas.openxmlformats.org/officeDocument/2006/relationships/slide" Target="slide11.xml"/><Relationship Id="rId12" Type="http://schemas.openxmlformats.org/officeDocument/2006/relationships/image" Target="../media/image4.png"/><Relationship Id="rId13" Type="http://schemas.openxmlformats.org/officeDocument/2006/relationships/slide" Target="slide5.xml"/><Relationship Id="rId14" Type="http://schemas.openxmlformats.org/officeDocument/2006/relationships/image" Target="../media/image5.png"/><Relationship Id="rId15" Type="http://schemas.openxmlformats.org/officeDocument/2006/relationships/slide" Target="slide3.xml"/><Relationship Id="rId16" Type="http://schemas.openxmlformats.org/officeDocument/2006/relationships/image" Target="../media/image6.png"/><Relationship Id="rId17" Type="http://schemas.openxmlformats.org/officeDocument/2006/relationships/slide" Target="slide13.xml"/><Relationship Id="rId18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5.xml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5.png"/><Relationship Id="rId10" Type="http://schemas.openxmlformats.org/officeDocument/2006/relationships/slide" Target="slide3.xml"/><Relationship Id="rId11" Type="http://schemas.openxmlformats.org/officeDocument/2006/relationships/image" Target="../media/image5.png"/><Relationship Id="rId12" Type="http://schemas.openxmlformats.org/officeDocument/2006/relationships/image" Target="../media/image8.jpeg"/><Relationship Id="rId13" Type="http://schemas.openxmlformats.org/officeDocument/2006/relationships/slide" Target="slide1.xml"/><Relationship Id="rId1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8.jpeg"/><Relationship Id="rId4" Type="http://schemas.openxmlformats.org/officeDocument/2006/relationships/slide" Target="slide1.xml"/><Relationship Id="rId5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slide" Target="slide5.xml"/><Relationship Id="rId11" Type="http://schemas.openxmlformats.org/officeDocument/2006/relationships/image" Target="../media/image4.png"/><Relationship Id="rId12" Type="http://schemas.openxmlformats.org/officeDocument/2006/relationships/image" Target="../media/image8.jpeg"/><Relationship Id="rId13" Type="http://schemas.openxmlformats.org/officeDocument/2006/relationships/slide" Target="slide1.xml"/><Relationship Id="rId1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8.jpeg"/><Relationship Id="rId4" Type="http://schemas.openxmlformats.org/officeDocument/2006/relationships/slide" Target="slide1.xml"/><Relationship Id="rId5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image" Target="../media/image1.png"/><Relationship Id="rId10" Type="http://schemas.openxmlformats.org/officeDocument/2006/relationships/slide" Target="slide2.xml"/><Relationship Id="rId11" Type="http://schemas.openxmlformats.org/officeDocument/2006/relationships/image" Target="../media/image1.png"/><Relationship Id="rId12" Type="http://schemas.openxmlformats.org/officeDocument/2006/relationships/image" Target="../media/image8.jpeg"/><Relationship Id="rId13" Type="http://schemas.openxmlformats.org/officeDocument/2006/relationships/slide" Target="slide1.xml"/><Relationship Id="rId1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8.jpeg"/><Relationship Id="rId4" Type="http://schemas.openxmlformats.org/officeDocument/2006/relationships/slide" Target="slide1.xml"/><Relationship Id="rId5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8.jpeg"/><Relationship Id="rId13" Type="http://schemas.openxmlformats.org/officeDocument/2006/relationships/slide" Target="slide1.xml"/><Relationship Id="rId14" Type="http://schemas.openxmlformats.org/officeDocument/2006/relationships/hyperlink" Target="http://www.eeppt.com/moban/" TargetMode="External"/><Relationship Id="rId1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4726080" y="2460600"/>
            <a:ext cx="995400" cy="995400"/>
            <a:chOff x="4726080" y="2460600"/>
            <a:chExt cx="995400" cy="995400"/>
          </a:xfrm>
        </p:grpSpPr>
        <p:sp>
          <p:nvSpPr>
            <p:cNvPr id="534" name="椭圆 29"/>
            <p:cNvSpPr/>
            <p:nvPr/>
          </p:nvSpPr>
          <p:spPr>
            <a:xfrm>
              <a:off x="4726080" y="2460600"/>
              <a:ext cx="995400" cy="995400"/>
            </a:xfrm>
            <a:prstGeom prst="ellipse">
              <a:avLst/>
            </a:prstGeom>
            <a:solidFill>
              <a:srgbClr val="32aed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30"/>
            <p:cNvSpPr/>
            <p:nvPr/>
          </p:nvSpPr>
          <p:spPr>
            <a:xfrm>
              <a:off x="4856400" y="2590920"/>
              <a:ext cx="734400" cy="7344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5"/>
          <p:cNvGrpSpPr/>
          <p:nvPr/>
        </p:nvGrpSpPr>
        <p:grpSpPr>
          <a:xfrm>
            <a:off x="3116160" y="3419640"/>
            <a:ext cx="912960" cy="912600"/>
            <a:chOff x="3116160" y="3419640"/>
            <a:chExt cx="912960" cy="912600"/>
          </a:xfrm>
        </p:grpSpPr>
        <p:sp>
          <p:nvSpPr>
            <p:cNvPr id="537" name="椭圆 32"/>
            <p:cNvSpPr/>
            <p:nvPr/>
          </p:nvSpPr>
          <p:spPr>
            <a:xfrm>
              <a:off x="3116160" y="3419640"/>
              <a:ext cx="912960" cy="912600"/>
            </a:xfrm>
            <a:prstGeom prst="ellipse">
              <a:avLst/>
            </a:prstGeom>
            <a:solidFill>
              <a:srgbClr val="ff96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33"/>
            <p:cNvSpPr/>
            <p:nvPr/>
          </p:nvSpPr>
          <p:spPr>
            <a:xfrm>
              <a:off x="3220200" y="3523680"/>
              <a:ext cx="704880" cy="704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8"/>
          <p:cNvGrpSpPr/>
          <p:nvPr/>
        </p:nvGrpSpPr>
        <p:grpSpPr>
          <a:xfrm>
            <a:off x="4187880" y="939960"/>
            <a:ext cx="930240" cy="931680"/>
            <a:chOff x="4187880" y="939960"/>
            <a:chExt cx="930240" cy="931680"/>
          </a:xfrm>
        </p:grpSpPr>
        <p:sp>
          <p:nvSpPr>
            <p:cNvPr id="540" name="椭圆 35"/>
            <p:cNvSpPr/>
            <p:nvPr/>
          </p:nvSpPr>
          <p:spPr>
            <a:xfrm>
              <a:off x="4187880" y="939960"/>
              <a:ext cx="930240" cy="931680"/>
            </a:xfrm>
            <a:prstGeom prst="ellipse">
              <a:avLst/>
            </a:prstGeom>
            <a:solidFill>
              <a:srgbClr val="f347e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椭圆 36"/>
            <p:cNvSpPr/>
            <p:nvPr/>
          </p:nvSpPr>
          <p:spPr>
            <a:xfrm>
              <a:off x="4304160" y="1056240"/>
              <a:ext cx="697680" cy="6987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11"/>
          <p:cNvGrpSpPr/>
          <p:nvPr/>
        </p:nvGrpSpPr>
        <p:grpSpPr>
          <a:xfrm>
            <a:off x="2389320" y="1852560"/>
            <a:ext cx="934920" cy="934920"/>
            <a:chOff x="2389320" y="1852560"/>
            <a:chExt cx="934920" cy="934920"/>
          </a:xfrm>
        </p:grpSpPr>
        <p:sp>
          <p:nvSpPr>
            <p:cNvPr id="543" name="椭圆 38"/>
            <p:cNvSpPr/>
            <p:nvPr/>
          </p:nvSpPr>
          <p:spPr>
            <a:xfrm>
              <a:off x="2389320" y="1852560"/>
              <a:ext cx="934920" cy="934920"/>
            </a:xfrm>
            <a:prstGeom prst="ellipse">
              <a:avLst/>
            </a:prstGeom>
            <a:solidFill>
              <a:srgbClr val="a9e32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椭圆 39"/>
            <p:cNvSpPr/>
            <p:nvPr/>
          </p:nvSpPr>
          <p:spPr>
            <a:xfrm>
              <a:off x="2533320" y="1996560"/>
              <a:ext cx="646920" cy="6469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4"/>
          <p:cNvGrpSpPr/>
          <p:nvPr/>
        </p:nvGrpSpPr>
        <p:grpSpPr>
          <a:xfrm>
            <a:off x="6140520" y="2060640"/>
            <a:ext cx="928440" cy="928800"/>
            <a:chOff x="6140520" y="2060640"/>
            <a:chExt cx="928440" cy="928800"/>
          </a:xfrm>
        </p:grpSpPr>
        <p:sp>
          <p:nvSpPr>
            <p:cNvPr id="546" name="椭圆 41"/>
            <p:cNvSpPr/>
            <p:nvPr/>
          </p:nvSpPr>
          <p:spPr>
            <a:xfrm>
              <a:off x="6140520" y="2060640"/>
              <a:ext cx="928440" cy="928800"/>
            </a:xfrm>
            <a:prstGeom prst="ellipse">
              <a:avLst/>
            </a:prstGeom>
            <a:solidFill>
              <a:srgbClr val="e0883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椭圆 42"/>
            <p:cNvSpPr/>
            <p:nvPr/>
          </p:nvSpPr>
          <p:spPr>
            <a:xfrm>
              <a:off x="6271920" y="2192040"/>
              <a:ext cx="665280" cy="6656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7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grpSp>
          <p:nvGrpSpPr>
            <p:cNvPr id="549" name="Group 18"/>
            <p:cNvGrpSpPr/>
            <p:nvPr/>
          </p:nvGrpSpPr>
          <p:grpSpPr>
            <a:xfrm>
              <a:off x="1949400" y="2368440"/>
              <a:ext cx="1532160" cy="1532160"/>
              <a:chOff x="1949400" y="2368440"/>
              <a:chExt cx="1532160" cy="1532160"/>
            </a:xfrm>
          </p:grpSpPr>
          <p:sp>
            <p:nvSpPr>
              <p:cNvPr id="550" name="椭圆 6"/>
              <p:cNvSpPr/>
              <p:nvPr/>
            </p:nvSpPr>
            <p:spPr>
              <a:xfrm>
                <a:off x="1949400" y="2368440"/>
                <a:ext cx="1532160" cy="1532160"/>
              </a:xfrm>
              <a:prstGeom prst="ellipse">
                <a:avLst/>
              </a:prstGeom>
              <a:solidFill>
                <a:srgbClr val="32aeda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5">
              <a:hlinkClick r:id="rId7" action="ppaction://hlinksldjump"/>
            </p:cNvPr>
            <p:cNvSpPr/>
            <p:nvPr/>
          </p:nvSpPr>
          <p:spPr>
            <a:xfrm>
              <a:off x="2219760" y="293436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2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554" name="Group 23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555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TextBox 10">
              <a:hlinkClick r:id="rId9" action="ppaction://hlinksldjump"/>
            </p:cNvPr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27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559" name="Group 28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560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TextBox 15">
              <a:hlinkClick r:id="rId11" action="ppaction://hlinksldjump"/>
            </p:cNvPr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2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564" name="Group 33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565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TextBox 20">
              <a:hlinkClick r:id="rId13" action="ppaction://hlinksldjump"/>
            </p:cNvPr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37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569" name="Group 38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570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TextBox 25">
              <a:hlinkClick r:id="rId15" action="ppaction://hlinksldjump"/>
            </p:cNvPr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42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574" name="Group 43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575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TextBox 45">
              <a:hlinkClick r:id="rId17" action="ppaction://hlinksldjump"/>
            </p:cNvPr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Box 51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7"/>
          <p:cNvSpPr/>
          <p:nvPr/>
        </p:nvSpPr>
        <p:spPr>
          <a:xfrm>
            <a:off x="2164680" y="954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彩光圆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2"/>
          <p:cNvSpPr/>
          <p:nvPr/>
        </p:nvSpPr>
        <p:spPr>
          <a:xfrm>
            <a:off x="547560" y="4721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25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5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25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25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5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25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5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25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5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77" dur="150" fill="hold"/>
                                        <p:tgtEl>
                                          <p:spTgt spid="56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85" dur="150" fill="hold"/>
                                        <p:tgtEl>
                                          <p:spTgt spid="54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93" dur="150" fill="hold"/>
                                        <p:tgtEl>
                                          <p:spTgt spid="55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101" dur="150" fill="hold"/>
                                        <p:tgtEl>
                                          <p:spTgt spid="56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109" dur="150" fill="hold"/>
                                        <p:tgtEl>
                                          <p:spTgt spid="55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528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autoRev="1" nodeType="withEffect" fill="hold" presetClass="emph" presetID="6">
                                  <p:stCondLst>
                                    <p:cond delay="780"/>
                                  </p:stCondLst>
                                  <p:childTnLst>
                                    <p:animScale>
                                      <p:cBhvr>
                                        <p:cTn id="117" dur="150" fill="hold"/>
                                        <p:tgtEl>
                                          <p:spTgt spid="57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椭圆 33"/>
          <p:cNvSpPr/>
          <p:nvPr/>
        </p:nvSpPr>
        <p:spPr>
          <a:xfrm>
            <a:off x="1593720" y="28440"/>
            <a:ext cx="6594480" cy="6596280"/>
          </a:xfrm>
          <a:prstGeom prst="ellipse">
            <a:avLst/>
          </a:prstGeom>
          <a:solidFill>
            <a:srgbClr val="ff96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椭圆 34"/>
          <p:cNvSpPr/>
          <p:nvPr/>
        </p:nvSpPr>
        <p:spPr>
          <a:xfrm>
            <a:off x="2313000" y="765000"/>
            <a:ext cx="5156280" cy="515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4"/>
          <p:cNvGrpSpPr/>
          <p:nvPr/>
        </p:nvGrpSpPr>
        <p:grpSpPr>
          <a:xfrm>
            <a:off x="6164280" y="1187280"/>
            <a:ext cx="1314360" cy="1314720"/>
            <a:chOff x="6164280" y="1187280"/>
            <a:chExt cx="1314360" cy="1314720"/>
          </a:xfrm>
        </p:grpSpPr>
        <p:sp>
          <p:nvSpPr>
            <p:cNvPr id="771" name="椭圆 36"/>
            <p:cNvSpPr/>
            <p:nvPr/>
          </p:nvSpPr>
          <p:spPr>
            <a:xfrm>
              <a:off x="6164280" y="1187280"/>
              <a:ext cx="1314360" cy="131472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2" name="Picture 2" descr=""/>
            <p:cNvPicPr/>
            <p:nvPr/>
          </p:nvPicPr>
          <p:blipFill>
            <a:blip r:embed="rId2"/>
            <a:srcRect l="16931" t="25812" r="23984" b="3716"/>
            <a:stretch/>
          </p:blipFill>
          <p:spPr>
            <a:xfrm>
              <a:off x="6306120" y="132912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3" name="Group 7"/>
          <p:cNvGrpSpPr/>
          <p:nvPr/>
        </p:nvGrpSpPr>
        <p:grpSpPr>
          <a:xfrm>
            <a:off x="3726000" y="1467000"/>
            <a:ext cx="2330280" cy="867960"/>
            <a:chOff x="3726000" y="1467000"/>
            <a:chExt cx="2330280" cy="867960"/>
          </a:xfrm>
        </p:grpSpPr>
        <p:sp>
          <p:nvSpPr>
            <p:cNvPr id="774" name="TextBox 39"/>
            <p:cNvSpPr/>
            <p:nvPr/>
          </p:nvSpPr>
          <p:spPr>
            <a:xfrm>
              <a:off x="3726000" y="1467000"/>
              <a:ext cx="2330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四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40"/>
            <p:cNvSpPr/>
            <p:nvPr/>
          </p:nvSpPr>
          <p:spPr>
            <a:xfrm>
              <a:off x="5369760" y="20584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矩形 41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">
            <a:hlinkClick r:id="rId3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椭圆 35"/>
          <p:cNvSpPr/>
          <p:nvPr/>
        </p:nvSpPr>
        <p:spPr>
          <a:xfrm>
            <a:off x="5792760" y="2629080"/>
            <a:ext cx="1684440" cy="1684080"/>
          </a:xfrm>
          <a:prstGeom prst="ellipse">
            <a:avLst/>
          </a:prstGeom>
          <a:solidFill>
            <a:srgbClr val="f347e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3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sp>
          <p:nvSpPr>
            <p:cNvPr id="781" name="椭圆 6"/>
            <p:cNvSpPr/>
            <p:nvPr/>
          </p:nvSpPr>
          <p:spPr>
            <a:xfrm>
              <a:off x="1949400" y="2368440"/>
              <a:ext cx="1532160" cy="1532160"/>
            </a:xfrm>
            <a:prstGeom prst="ellipse">
              <a:avLst/>
            </a:prstGeom>
            <a:solidFill>
              <a:srgbClr val="32aed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Group 5"/>
            <p:cNvGrpSpPr/>
            <p:nvPr/>
          </p:nvGrpSpPr>
          <p:grpSpPr>
            <a:xfrm>
              <a:off x="2150280" y="2569320"/>
              <a:ext cx="1130400" cy="1130400"/>
              <a:chOff x="2150280" y="2569320"/>
              <a:chExt cx="1130400" cy="1130400"/>
            </a:xfrm>
          </p:grpSpPr>
          <p:sp>
            <p:nvSpPr>
              <p:cNvPr id="783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Box 5"/>
              <p:cNvSpPr/>
              <p:nvPr/>
            </p:nvSpPr>
            <p:spPr>
              <a:xfrm>
                <a:off x="2219760" y="2934360"/>
                <a:ext cx="99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TEXT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8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786" name="Group 9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787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TextBox 10"/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椭圆 16"/>
          <p:cNvSpPr/>
          <p:nvPr/>
        </p:nvSpPr>
        <p:spPr>
          <a:xfrm>
            <a:off x="5921280" y="2787480"/>
            <a:ext cx="1366920" cy="1365480"/>
          </a:xfrm>
          <a:prstGeom prst="ellipse">
            <a:avLst/>
          </a:prstGeom>
          <a:solidFill>
            <a:srgbClr val="f347e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14"/>
          <p:cNvGrpSpPr/>
          <p:nvPr/>
        </p:nvGrpSpPr>
        <p:grpSpPr>
          <a:xfrm>
            <a:off x="6093000" y="2957400"/>
            <a:ext cx="1023840" cy="1024200"/>
            <a:chOff x="6093000" y="2957400"/>
            <a:chExt cx="1023840" cy="1024200"/>
          </a:xfrm>
        </p:grpSpPr>
        <p:sp>
          <p:nvSpPr>
            <p:cNvPr id="792" name="椭圆 17"/>
            <p:cNvSpPr/>
            <p:nvPr/>
          </p:nvSpPr>
          <p:spPr>
            <a:xfrm>
              <a:off x="6093000" y="2957400"/>
              <a:ext cx="102384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Box 15"/>
            <p:cNvSpPr/>
            <p:nvPr/>
          </p:nvSpPr>
          <p:spPr>
            <a:xfrm>
              <a:off x="6126840" y="3269520"/>
              <a:ext cx="9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17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795" name="Group 18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796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TextBox 20"/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22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800" name="Group 23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801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25"/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4" name="Picture 2" descr=""/>
          <p:cNvPicPr/>
          <p:nvPr/>
        </p:nvPicPr>
        <p:blipFill>
          <a:blip r:embed="rId6"/>
          <a:srcRect l="16932" t="25810" r="23987" b="3719"/>
          <a:stretch/>
        </p:blipFill>
        <p:spPr>
          <a:xfrm>
            <a:off x="5951520" y="2800440"/>
            <a:ext cx="1339920" cy="1339920"/>
          </a:xfrm>
          <a:prstGeom prst="rect">
            <a:avLst/>
          </a:prstGeom>
          <a:ln w="0">
            <a:noFill/>
          </a:ln>
        </p:spPr>
      </p:pic>
      <p:grpSp>
        <p:nvGrpSpPr>
          <p:cNvPr id="805" name="Group 28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806" name="Group 29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807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TextBox 45"/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椭圆 39"/>
          <p:cNvSpPr/>
          <p:nvPr/>
        </p:nvSpPr>
        <p:spPr>
          <a:xfrm>
            <a:off x="1581120" y="57240"/>
            <a:ext cx="6620040" cy="6618240"/>
          </a:xfrm>
          <a:prstGeom prst="ellipse">
            <a:avLst/>
          </a:prstGeom>
          <a:solidFill>
            <a:srgbClr val="f347e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40"/>
          <p:cNvSpPr/>
          <p:nvPr/>
        </p:nvSpPr>
        <p:spPr>
          <a:xfrm>
            <a:off x="2195640" y="669960"/>
            <a:ext cx="5391000" cy="5391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813" name="椭圆 37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4" name="Picture 2" descr=""/>
            <p:cNvPicPr/>
            <p:nvPr/>
          </p:nvPicPr>
          <p:blipFill>
            <a:blip r:embed="rId9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5" name="TextBox 41"/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529" dur="500" fill="hold"/>
                                        <p:tgtEl>
                                          <p:spTgt spid="8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625 0.00741 L -0.18889 -0.025 E">
                                      <p:cBhvr>
                                        <p:cTn id="531" dur="5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781 0.00309 L -0.18698 -0.025 E">
                                      <p:cBhvr>
                                        <p:cTn id="537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4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7" dur="4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557" dur="500" fill="hold"/>
                                        <p:tgtEl>
                                          <p:spTgt spid="7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191 0.00648 L -0.19028 -0.02469 E">
                                      <p:cBhvr>
                                        <p:cTn id="559" dur="5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75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7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7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572" dur="75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582" dur="500" fill="hold"/>
                                        <p:tgtEl>
                                          <p:spTgt spid="8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25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5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1" dur="25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25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5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8" dur="25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1" dur="25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5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25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25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5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2" dur="25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25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椭圆 3"/>
          <p:cNvSpPr/>
          <p:nvPr/>
        </p:nvSpPr>
        <p:spPr>
          <a:xfrm>
            <a:off x="1454040" y="-68400"/>
            <a:ext cx="6873840" cy="6872400"/>
          </a:xfrm>
          <a:prstGeom prst="ellipse">
            <a:avLst/>
          </a:prstGeom>
          <a:solidFill>
            <a:srgbClr val="f347e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4"/>
          <p:cNvSpPr/>
          <p:nvPr/>
        </p:nvSpPr>
        <p:spPr>
          <a:xfrm>
            <a:off x="2195640" y="669960"/>
            <a:ext cx="5391000" cy="5391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4"/>
          <p:cNvGrpSpPr/>
          <p:nvPr/>
        </p:nvGrpSpPr>
        <p:grpSpPr>
          <a:xfrm>
            <a:off x="6164280" y="1187280"/>
            <a:ext cx="1314360" cy="1314720"/>
            <a:chOff x="6164280" y="1187280"/>
            <a:chExt cx="1314360" cy="1314720"/>
          </a:xfrm>
        </p:grpSpPr>
        <p:sp>
          <p:nvSpPr>
            <p:cNvPr id="820" name="椭圆 6"/>
            <p:cNvSpPr/>
            <p:nvPr/>
          </p:nvSpPr>
          <p:spPr>
            <a:xfrm>
              <a:off x="6164280" y="1187280"/>
              <a:ext cx="1314360" cy="131472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1" name="Picture 2" descr=""/>
            <p:cNvPicPr/>
            <p:nvPr/>
          </p:nvPicPr>
          <p:blipFill>
            <a:blip r:embed="rId2"/>
            <a:srcRect l="16931" t="25812" r="23984" b="3716"/>
            <a:stretch/>
          </p:blipFill>
          <p:spPr>
            <a:xfrm>
              <a:off x="6306120" y="132912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2" name="Group 7"/>
          <p:cNvGrpSpPr/>
          <p:nvPr/>
        </p:nvGrpSpPr>
        <p:grpSpPr>
          <a:xfrm>
            <a:off x="3618000" y="1521000"/>
            <a:ext cx="2505240" cy="869040"/>
            <a:chOff x="3618000" y="1521000"/>
            <a:chExt cx="2505240" cy="869040"/>
          </a:xfrm>
        </p:grpSpPr>
        <p:sp>
          <p:nvSpPr>
            <p:cNvPr id="823" name="TextBox 9"/>
            <p:cNvSpPr/>
            <p:nvPr/>
          </p:nvSpPr>
          <p:spPr>
            <a:xfrm>
              <a:off x="3618000" y="1521000"/>
              <a:ext cx="232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矩形 10"/>
            <p:cNvSpPr/>
            <p:nvPr/>
          </p:nvSpPr>
          <p:spPr>
            <a:xfrm>
              <a:off x="5509800" y="211356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矩形 11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2"/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椭圆 34"/>
          <p:cNvSpPr/>
          <p:nvPr/>
        </p:nvSpPr>
        <p:spPr>
          <a:xfrm>
            <a:off x="4119480" y="3090960"/>
            <a:ext cx="1754280" cy="1753920"/>
          </a:xfrm>
          <a:prstGeom prst="ellipse">
            <a:avLst/>
          </a:prstGeom>
          <a:solidFill>
            <a:srgbClr val="3188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3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sp>
          <p:nvSpPr>
            <p:cNvPr id="830" name="椭圆 6"/>
            <p:cNvSpPr/>
            <p:nvPr/>
          </p:nvSpPr>
          <p:spPr>
            <a:xfrm>
              <a:off x="1949400" y="2368440"/>
              <a:ext cx="1532160" cy="1532160"/>
            </a:xfrm>
            <a:prstGeom prst="ellipse">
              <a:avLst/>
            </a:prstGeom>
            <a:solidFill>
              <a:srgbClr val="32aed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Group 5"/>
            <p:cNvGrpSpPr/>
            <p:nvPr/>
          </p:nvGrpSpPr>
          <p:grpSpPr>
            <a:xfrm>
              <a:off x="2150280" y="2569320"/>
              <a:ext cx="1130400" cy="1130400"/>
              <a:chOff x="2150280" y="2569320"/>
              <a:chExt cx="1130400" cy="1130400"/>
            </a:xfrm>
          </p:grpSpPr>
          <p:sp>
            <p:nvSpPr>
              <p:cNvPr id="832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TextBox 5"/>
              <p:cNvSpPr/>
              <p:nvPr/>
            </p:nvSpPr>
            <p:spPr>
              <a:xfrm>
                <a:off x="2219760" y="2934360"/>
                <a:ext cx="99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TEXT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Group 8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835" name="Group 9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836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TextBox 10"/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3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840" name="Group 14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841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TextBox 15"/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18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845" name="Group 19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846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8" name="TextBox 20"/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23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850" name="Group 24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851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TextBox 25"/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椭圆 46"/>
          <p:cNvSpPr/>
          <p:nvPr/>
        </p:nvSpPr>
        <p:spPr>
          <a:xfrm>
            <a:off x="4280040" y="3292560"/>
            <a:ext cx="1361880" cy="1360440"/>
          </a:xfrm>
          <a:prstGeom prst="ellipse">
            <a:avLst/>
          </a:prstGeom>
          <a:solidFill>
            <a:srgbClr val="3188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2" descr=""/>
          <p:cNvPicPr/>
          <p:nvPr/>
        </p:nvPicPr>
        <p:blipFill>
          <a:blip r:embed="rId6"/>
          <a:srcRect l="16932" t="25810" r="23987" b="3719"/>
          <a:stretch/>
        </p:blipFill>
        <p:spPr>
          <a:xfrm>
            <a:off x="4290840" y="3260880"/>
            <a:ext cx="1413000" cy="141444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30"/>
          <p:cNvGrpSpPr/>
          <p:nvPr/>
        </p:nvGrpSpPr>
        <p:grpSpPr>
          <a:xfrm>
            <a:off x="4413240" y="3424320"/>
            <a:ext cx="1168560" cy="1095120"/>
            <a:chOff x="4413240" y="3424320"/>
            <a:chExt cx="1168560" cy="1095120"/>
          </a:xfrm>
        </p:grpSpPr>
        <p:sp>
          <p:nvSpPr>
            <p:cNvPr id="857" name="椭圆 47"/>
            <p:cNvSpPr/>
            <p:nvPr/>
          </p:nvSpPr>
          <p:spPr>
            <a:xfrm>
              <a:off x="4413240" y="3424320"/>
              <a:ext cx="1096560" cy="10951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45"/>
            <p:cNvSpPr/>
            <p:nvPr/>
          </p:nvSpPr>
          <p:spPr>
            <a:xfrm>
              <a:off x="4413240" y="378288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椭圆 39"/>
          <p:cNvSpPr/>
          <p:nvPr/>
        </p:nvSpPr>
        <p:spPr>
          <a:xfrm>
            <a:off x="1677960" y="130320"/>
            <a:ext cx="6426360" cy="6426000"/>
          </a:xfrm>
          <a:prstGeom prst="ellipse">
            <a:avLst/>
          </a:prstGeom>
          <a:solidFill>
            <a:srgbClr val="3188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椭圆 40"/>
          <p:cNvSpPr/>
          <p:nvPr/>
        </p:nvSpPr>
        <p:spPr>
          <a:xfrm>
            <a:off x="2089080" y="541440"/>
            <a:ext cx="5604120" cy="56037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862" name="椭圆 37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3" name="Picture 2" descr=""/>
            <p:cNvPicPr/>
            <p:nvPr/>
          </p:nvPicPr>
          <p:blipFill>
            <a:blip r:embed="rId9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4" name="TextBox 41"/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42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4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4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4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-0.0071 L -0.00729 -0.12264 E">
                                      <p:cBhvr>
                                        <p:cTn id="630" dur="5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643" dur="500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66 0.01421 L -0.01128 -0.12172 E">
                                      <p:cBhvr>
                                        <p:cTn id="645" dur="5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7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75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75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658" dur="75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664" dur="500" fill="hold"/>
                                        <p:tgtEl>
                                          <p:spTgt spid="8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677" dur="500" fill="hold"/>
                                        <p:tgtEl>
                                          <p:spTgt spid="8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35 0.00186 L -0.01128 -0.1216 E">
                                      <p:cBhvr>
                                        <p:cTn id="679" dur="5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" dur="25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25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5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25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25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5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" dur="25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25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5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" dur="25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25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5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" dur="25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25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5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椭圆 3"/>
          <p:cNvSpPr/>
          <p:nvPr/>
        </p:nvSpPr>
        <p:spPr>
          <a:xfrm>
            <a:off x="1538280" y="-7920"/>
            <a:ext cx="6705720" cy="6705720"/>
          </a:xfrm>
          <a:prstGeom prst="ellipse">
            <a:avLst/>
          </a:prstGeom>
          <a:solidFill>
            <a:srgbClr val="3188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4"/>
          <p:cNvSpPr/>
          <p:nvPr/>
        </p:nvSpPr>
        <p:spPr>
          <a:xfrm>
            <a:off x="2089080" y="541440"/>
            <a:ext cx="5604120" cy="5603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4"/>
          <p:cNvGrpSpPr/>
          <p:nvPr/>
        </p:nvGrpSpPr>
        <p:grpSpPr>
          <a:xfrm>
            <a:off x="6164280" y="1187280"/>
            <a:ext cx="1314360" cy="1314720"/>
            <a:chOff x="6164280" y="1187280"/>
            <a:chExt cx="1314360" cy="1314720"/>
          </a:xfrm>
        </p:grpSpPr>
        <p:sp>
          <p:nvSpPr>
            <p:cNvPr id="869" name="椭圆 6"/>
            <p:cNvSpPr/>
            <p:nvPr/>
          </p:nvSpPr>
          <p:spPr>
            <a:xfrm>
              <a:off x="6164280" y="1187280"/>
              <a:ext cx="1314360" cy="131472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0" name="Picture 2" descr=""/>
            <p:cNvPicPr/>
            <p:nvPr/>
          </p:nvPicPr>
          <p:blipFill>
            <a:blip r:embed="rId2"/>
            <a:srcRect l="16931" t="25812" r="23984" b="3716"/>
            <a:stretch/>
          </p:blipFill>
          <p:spPr>
            <a:xfrm>
              <a:off x="6306120" y="132912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1" name="Group 7"/>
          <p:cNvGrpSpPr/>
          <p:nvPr/>
        </p:nvGrpSpPr>
        <p:grpSpPr>
          <a:xfrm>
            <a:off x="3660840" y="1565280"/>
            <a:ext cx="2331000" cy="866880"/>
            <a:chOff x="3660840" y="1565280"/>
            <a:chExt cx="2331000" cy="866880"/>
          </a:xfrm>
        </p:grpSpPr>
        <p:sp>
          <p:nvSpPr>
            <p:cNvPr id="872" name="TextBox 9"/>
            <p:cNvSpPr/>
            <p:nvPr/>
          </p:nvSpPr>
          <p:spPr>
            <a:xfrm>
              <a:off x="3660840" y="1565280"/>
              <a:ext cx="2331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10"/>
            <p:cNvSpPr/>
            <p:nvPr/>
          </p:nvSpPr>
          <p:spPr>
            <a:xfrm>
              <a:off x="5338080" y="21556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矩形 11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2"/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3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487440" y="4500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1"/>
          <p:cNvSpPr/>
          <p:nvPr/>
        </p:nvSpPr>
        <p:spPr>
          <a:xfrm>
            <a:off x="2141640" y="2217600"/>
            <a:ext cx="48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6c09"/>
                </a:solidFill>
                <a:latin typeface="Calibri"/>
              </a:rPr>
              <a:t>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椭圆 52"/>
          <p:cNvSpPr/>
          <p:nvPr/>
        </p:nvSpPr>
        <p:spPr>
          <a:xfrm>
            <a:off x="2465280" y="536400"/>
            <a:ext cx="1662120" cy="1663920"/>
          </a:xfrm>
          <a:prstGeom prst="ellipse">
            <a:avLst/>
          </a:prstGeom>
          <a:solidFill>
            <a:srgbClr val="e0883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3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grpSp>
          <p:nvGrpSpPr>
            <p:cNvPr id="584" name="Group 4"/>
            <p:cNvGrpSpPr/>
            <p:nvPr/>
          </p:nvGrpSpPr>
          <p:grpSpPr>
            <a:xfrm>
              <a:off x="1949400" y="2368440"/>
              <a:ext cx="1532160" cy="1532160"/>
              <a:chOff x="1949400" y="2368440"/>
              <a:chExt cx="1532160" cy="1532160"/>
            </a:xfrm>
          </p:grpSpPr>
          <p:sp>
            <p:nvSpPr>
              <p:cNvPr id="585" name="椭圆 6"/>
              <p:cNvSpPr/>
              <p:nvPr/>
            </p:nvSpPr>
            <p:spPr>
              <a:xfrm>
                <a:off x="1949400" y="2368440"/>
                <a:ext cx="1532160" cy="1532160"/>
              </a:xfrm>
              <a:prstGeom prst="ellipse">
                <a:avLst/>
              </a:prstGeom>
              <a:solidFill>
                <a:srgbClr val="32aeda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Box 5">
              <a:hlinkClick r:id="rId2" action="ppaction://hlinksldjump"/>
            </p:cNvPr>
            <p:cNvSpPr/>
            <p:nvPr/>
          </p:nvSpPr>
          <p:spPr>
            <a:xfrm>
              <a:off x="2219760" y="293436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8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589" name="Group 9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590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TextBox 10"/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3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594" name="Group 14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595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Box 15"/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8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599" name="Group 19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600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Box 20">
              <a:hlinkClick r:id="rId6" action="ppaction://hlinksldjump"/>
            </p:cNvPr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椭圆 26"/>
          <p:cNvSpPr/>
          <p:nvPr/>
        </p:nvSpPr>
        <p:spPr>
          <a:xfrm>
            <a:off x="2668680" y="739800"/>
            <a:ext cx="1255680" cy="1257120"/>
          </a:xfrm>
          <a:prstGeom prst="ellipse">
            <a:avLst/>
          </a:prstGeom>
          <a:solidFill>
            <a:srgbClr val="e0883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24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605" name="Group 25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606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TextBox 45"/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9" name="Picture 2" descr=""/>
          <p:cNvPicPr/>
          <p:nvPr/>
        </p:nvPicPr>
        <p:blipFill>
          <a:blip r:embed="rId8"/>
          <a:srcRect l="16932" t="25810" r="23987" b="3719"/>
          <a:stretch/>
        </p:blipFill>
        <p:spPr>
          <a:xfrm>
            <a:off x="2627280" y="698400"/>
            <a:ext cx="1339920" cy="133992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30"/>
          <p:cNvGrpSpPr/>
          <p:nvPr/>
        </p:nvGrpSpPr>
        <p:grpSpPr>
          <a:xfrm>
            <a:off x="2801880" y="917640"/>
            <a:ext cx="990720" cy="901800"/>
            <a:chOff x="2801880" y="917640"/>
            <a:chExt cx="990720" cy="901800"/>
          </a:xfrm>
        </p:grpSpPr>
        <p:sp>
          <p:nvSpPr>
            <p:cNvPr id="611" name="椭圆 27"/>
            <p:cNvSpPr/>
            <p:nvPr/>
          </p:nvSpPr>
          <p:spPr>
            <a:xfrm>
              <a:off x="2846880" y="917640"/>
              <a:ext cx="900720" cy="9018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25">
              <a:hlinkClick r:id="rId10" action="ppaction://hlinksldjump"/>
            </p:cNvPr>
            <p:cNvSpPr/>
            <p:nvPr/>
          </p:nvSpPr>
          <p:spPr>
            <a:xfrm>
              <a:off x="2801880" y="11826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椭圆 56"/>
          <p:cNvSpPr/>
          <p:nvPr/>
        </p:nvSpPr>
        <p:spPr>
          <a:xfrm>
            <a:off x="1695600" y="142920"/>
            <a:ext cx="6397560" cy="6397560"/>
          </a:xfrm>
          <a:prstGeom prst="ellipse">
            <a:avLst/>
          </a:prstGeom>
          <a:solidFill>
            <a:srgbClr val="e0883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椭圆 57"/>
          <p:cNvSpPr/>
          <p:nvPr/>
        </p:nvSpPr>
        <p:spPr>
          <a:xfrm>
            <a:off x="2120760" y="568440"/>
            <a:ext cx="5548320" cy="554652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616" name="椭圆 65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Picture 2" descr=""/>
            <p:cNvPicPr/>
            <p:nvPr/>
          </p:nvPicPr>
          <p:blipFill>
            <a:blip r:embed="rId12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TextBox 39">
            <a:hlinkClick r:id="rId13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0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25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25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25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5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25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25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25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4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4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-4.93827E-006 L 0.17518 0.38334 E">
                                      <p:cBhvr>
                                        <p:cTn id="169" dur="5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82" dur="500" fill="hold"/>
                                        <p:tgtEl>
                                          <p:spTgt spid="5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018 0.01728 L 0.175 0.38333 E">
                                      <p:cBhvr>
                                        <p:cTn id="184" dur="5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98" dur="500" fill="hold"/>
                                        <p:tgtEl>
                                          <p:spTgt spid="6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07" dur="500" fill="hold"/>
                                        <p:tgtEl>
                                          <p:spTgt spid="6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-4.93827E-006 L 0.17518 0.38334 E">
                                      <p:cBhvr>
                                        <p:cTn id="209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7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7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7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222" dur="75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椭圆 39"/>
          <p:cNvSpPr/>
          <p:nvPr/>
        </p:nvSpPr>
        <p:spPr>
          <a:xfrm>
            <a:off x="1525680" y="-23760"/>
            <a:ext cx="6737400" cy="6735600"/>
          </a:xfrm>
          <a:prstGeom prst="ellipse">
            <a:avLst/>
          </a:prstGeom>
          <a:solidFill>
            <a:srgbClr val="e0883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椭圆 40"/>
          <p:cNvSpPr/>
          <p:nvPr/>
        </p:nvSpPr>
        <p:spPr>
          <a:xfrm>
            <a:off x="2120760" y="568440"/>
            <a:ext cx="5548320" cy="5546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4"/>
          <p:cNvGrpSpPr/>
          <p:nvPr/>
        </p:nvGrpSpPr>
        <p:grpSpPr>
          <a:xfrm>
            <a:off x="6165720" y="1195560"/>
            <a:ext cx="1314720" cy="1314360"/>
            <a:chOff x="6165720" y="1195560"/>
            <a:chExt cx="1314720" cy="1314360"/>
          </a:xfrm>
        </p:grpSpPr>
        <p:sp>
          <p:nvSpPr>
            <p:cNvPr id="623" name="椭圆 53"/>
            <p:cNvSpPr/>
            <p:nvPr/>
          </p:nvSpPr>
          <p:spPr>
            <a:xfrm>
              <a:off x="6165720" y="1195560"/>
              <a:ext cx="131472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Picture 2" descr="">
              <a:hlinkClick r:id="rId2" action="ppaction://hlinksldjump"/>
            </p:cNvPr>
            <p:cNvPicPr/>
            <p:nvPr/>
          </p:nvPicPr>
          <p:blipFill>
            <a:blip r:embed="rId3"/>
            <a:srcRect l="16931" t="25812" r="23984" b="3716"/>
            <a:stretch/>
          </p:blipFill>
          <p:spPr>
            <a:xfrm>
              <a:off x="6307560" y="133740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5" name="Group 7"/>
          <p:cNvGrpSpPr/>
          <p:nvPr/>
        </p:nvGrpSpPr>
        <p:grpSpPr>
          <a:xfrm>
            <a:off x="3159000" y="1468440"/>
            <a:ext cx="2868840" cy="769320"/>
            <a:chOff x="3159000" y="1468440"/>
            <a:chExt cx="2868840" cy="769320"/>
          </a:xfrm>
        </p:grpSpPr>
        <p:sp>
          <p:nvSpPr>
            <p:cNvPr id="626" name="TextBox 65"/>
            <p:cNvSpPr/>
            <p:nvPr/>
          </p:nvSpPr>
          <p:spPr>
            <a:xfrm>
              <a:off x="3159000" y="1468440"/>
              <a:ext cx="2331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矩形 66"/>
            <p:cNvSpPr/>
            <p:nvPr/>
          </p:nvSpPr>
          <p:spPr>
            <a:xfrm>
              <a:off x="5414400" y="19612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矩形 67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2">
            <a:hlinkClick r:id="rId4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51"/>
          <p:cNvSpPr/>
          <p:nvPr/>
        </p:nvSpPr>
        <p:spPr>
          <a:xfrm>
            <a:off x="5238720" y="816120"/>
            <a:ext cx="1549440" cy="1547640"/>
          </a:xfrm>
          <a:prstGeom prst="ellipse">
            <a:avLst/>
          </a:prstGeom>
          <a:solidFill>
            <a:srgbClr val="a9e32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3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grpSp>
          <p:nvGrpSpPr>
            <p:cNvPr id="633" name="Group 4"/>
            <p:cNvGrpSpPr/>
            <p:nvPr/>
          </p:nvGrpSpPr>
          <p:grpSpPr>
            <a:xfrm>
              <a:off x="1949400" y="2368440"/>
              <a:ext cx="1532160" cy="1532160"/>
              <a:chOff x="1949400" y="2368440"/>
              <a:chExt cx="1532160" cy="1532160"/>
            </a:xfrm>
          </p:grpSpPr>
          <p:sp>
            <p:nvSpPr>
              <p:cNvPr id="634" name="椭圆 6"/>
              <p:cNvSpPr/>
              <p:nvPr/>
            </p:nvSpPr>
            <p:spPr>
              <a:xfrm>
                <a:off x="1949400" y="2368440"/>
                <a:ext cx="1532160" cy="1532160"/>
              </a:xfrm>
              <a:prstGeom prst="ellipse">
                <a:avLst/>
              </a:prstGeom>
              <a:solidFill>
                <a:srgbClr val="32aeda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TextBox 5">
              <a:hlinkClick r:id="rId2" action="ppaction://hlinksldjump"/>
            </p:cNvPr>
            <p:cNvSpPr/>
            <p:nvPr/>
          </p:nvSpPr>
          <p:spPr>
            <a:xfrm>
              <a:off x="2219760" y="293436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8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638" name="Group 9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639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TextBox 10"/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3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643" name="Group 14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644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TextBox 15"/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椭圆 21"/>
          <p:cNvSpPr/>
          <p:nvPr/>
        </p:nvSpPr>
        <p:spPr>
          <a:xfrm>
            <a:off x="5378400" y="954000"/>
            <a:ext cx="1270080" cy="1271520"/>
          </a:xfrm>
          <a:prstGeom prst="ellipse">
            <a:avLst/>
          </a:prstGeom>
          <a:solidFill>
            <a:srgbClr val="a9e32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9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649" name="Group 20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650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TextBox 25">
              <a:hlinkClick r:id="rId6" action="ppaction://hlinksldjump"/>
            </p:cNvPr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24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654" name="Group 25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655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Box 45"/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8" name="Picture 2" descr=""/>
          <p:cNvPicPr/>
          <p:nvPr/>
        </p:nvPicPr>
        <p:blipFill>
          <a:blip r:embed="rId8"/>
          <a:srcRect l="16932" t="25810" r="23987" b="3719"/>
          <a:stretch/>
        </p:blipFill>
        <p:spPr>
          <a:xfrm>
            <a:off x="5403960" y="979560"/>
            <a:ext cx="1220760" cy="1220760"/>
          </a:xfrm>
          <a:prstGeom prst="rect">
            <a:avLst/>
          </a:prstGeom>
          <a:ln w="0">
            <a:noFill/>
          </a:ln>
        </p:spPr>
      </p:pic>
      <p:grpSp>
        <p:nvGrpSpPr>
          <p:cNvPr id="659" name="Group 30"/>
          <p:cNvGrpSpPr/>
          <p:nvPr/>
        </p:nvGrpSpPr>
        <p:grpSpPr>
          <a:xfrm>
            <a:off x="5518080" y="1149480"/>
            <a:ext cx="990720" cy="880920"/>
            <a:chOff x="5518080" y="1149480"/>
            <a:chExt cx="990720" cy="880920"/>
          </a:xfrm>
        </p:grpSpPr>
        <p:sp>
          <p:nvSpPr>
            <p:cNvPr id="660" name="椭圆 22"/>
            <p:cNvSpPr/>
            <p:nvPr/>
          </p:nvSpPr>
          <p:spPr>
            <a:xfrm>
              <a:off x="5573160" y="1149480"/>
              <a:ext cx="880560" cy="88092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20">
              <a:hlinkClick r:id="rId10" action="ppaction://hlinksldjump"/>
            </p:cNvPr>
            <p:cNvSpPr/>
            <p:nvPr/>
          </p:nvSpPr>
          <p:spPr>
            <a:xfrm>
              <a:off x="5518080" y="1405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椭圆 55"/>
          <p:cNvSpPr/>
          <p:nvPr/>
        </p:nvSpPr>
        <p:spPr>
          <a:xfrm>
            <a:off x="1776240" y="120600"/>
            <a:ext cx="6442200" cy="6442200"/>
          </a:xfrm>
          <a:prstGeom prst="ellipse">
            <a:avLst/>
          </a:prstGeom>
          <a:solidFill>
            <a:srgbClr val="a9e32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56"/>
          <p:cNvSpPr/>
          <p:nvPr/>
        </p:nvSpPr>
        <p:spPr>
          <a:xfrm>
            <a:off x="2244600" y="625320"/>
            <a:ext cx="5434200" cy="54342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665" name="椭圆 53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2" descr=""/>
            <p:cNvPicPr/>
            <p:nvPr/>
          </p:nvPicPr>
          <p:blipFill>
            <a:blip r:embed="rId12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7" name="TextBox 39">
            <a:hlinkClick r:id="rId13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0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" dur="5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191 0.00123 L -0.12223 0.34074 E">
                                      <p:cBhvr>
                                        <p:cTn id="237" dur="5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4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4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017 0.00309 L -0.12222 0.34074 E">
                                      <p:cBhvr>
                                        <p:cTn id="250" dur="5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573 -0.00771 L -0.1224 0.34032 E">
                                      <p:cBhvr>
                                        <p:cTn id="256" dur="5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" dur="25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25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5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9" dur="25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25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25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2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25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25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25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5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7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304" dur="75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310" dur="5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椭圆 55"/>
          <p:cNvSpPr/>
          <p:nvPr/>
        </p:nvSpPr>
        <p:spPr>
          <a:xfrm>
            <a:off x="1609560" y="-44280"/>
            <a:ext cx="6775560" cy="6775200"/>
          </a:xfrm>
          <a:prstGeom prst="ellipse">
            <a:avLst/>
          </a:prstGeom>
          <a:solidFill>
            <a:srgbClr val="a9e32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椭圆 56"/>
          <p:cNvSpPr/>
          <p:nvPr/>
        </p:nvSpPr>
        <p:spPr>
          <a:xfrm>
            <a:off x="2244600" y="625320"/>
            <a:ext cx="5434200" cy="5434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4"/>
          <p:cNvGrpSpPr/>
          <p:nvPr/>
        </p:nvGrpSpPr>
        <p:grpSpPr>
          <a:xfrm>
            <a:off x="6165720" y="1189080"/>
            <a:ext cx="1314720" cy="1314360"/>
            <a:chOff x="6165720" y="1189080"/>
            <a:chExt cx="1314720" cy="1314360"/>
          </a:xfrm>
        </p:grpSpPr>
        <p:sp>
          <p:nvSpPr>
            <p:cNvPr id="672" name="椭圆 40"/>
            <p:cNvSpPr/>
            <p:nvPr/>
          </p:nvSpPr>
          <p:spPr>
            <a:xfrm>
              <a:off x="6165720" y="1189080"/>
              <a:ext cx="131472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Picture 2" descr="">
              <a:hlinkClick r:id="rId2" action="ppaction://hlinksldjump"/>
            </p:cNvPr>
            <p:cNvPicPr/>
            <p:nvPr/>
          </p:nvPicPr>
          <p:blipFill>
            <a:blip r:embed="rId3"/>
            <a:srcRect l="16931" t="25812" r="23984" b="3716"/>
            <a:stretch/>
          </p:blipFill>
          <p:spPr>
            <a:xfrm>
              <a:off x="6307560" y="133092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7"/>
          <p:cNvGrpSpPr/>
          <p:nvPr/>
        </p:nvGrpSpPr>
        <p:grpSpPr>
          <a:xfrm>
            <a:off x="3486240" y="1460520"/>
            <a:ext cx="2461320" cy="839160"/>
            <a:chOff x="3486240" y="1460520"/>
            <a:chExt cx="2461320" cy="839160"/>
          </a:xfrm>
        </p:grpSpPr>
        <p:sp>
          <p:nvSpPr>
            <p:cNvPr id="675" name="TextBox 60"/>
            <p:cNvSpPr/>
            <p:nvPr/>
          </p:nvSpPr>
          <p:spPr>
            <a:xfrm>
              <a:off x="3486240" y="1460520"/>
              <a:ext cx="2329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矩形 61"/>
            <p:cNvSpPr/>
            <p:nvPr/>
          </p:nvSpPr>
          <p:spPr>
            <a:xfrm>
              <a:off x="5334120" y="20232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矩形 62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">
            <a:hlinkClick r:id="rId4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3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椭圆 39"/>
          <p:cNvSpPr/>
          <p:nvPr/>
        </p:nvSpPr>
        <p:spPr>
          <a:xfrm>
            <a:off x="1684440" y="52560"/>
            <a:ext cx="6441840" cy="6441840"/>
          </a:xfrm>
          <a:prstGeom prst="ellipse">
            <a:avLst/>
          </a:prstGeom>
          <a:solidFill>
            <a:srgbClr val="32aed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椭圆 37"/>
          <p:cNvSpPr/>
          <p:nvPr/>
        </p:nvSpPr>
        <p:spPr>
          <a:xfrm>
            <a:off x="1792440" y="2211480"/>
            <a:ext cx="1846080" cy="1846080"/>
          </a:xfrm>
          <a:prstGeom prst="ellipse">
            <a:avLst/>
          </a:prstGeom>
          <a:solidFill>
            <a:srgbClr val="32aed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椭圆 6"/>
          <p:cNvSpPr/>
          <p:nvPr/>
        </p:nvSpPr>
        <p:spPr>
          <a:xfrm>
            <a:off x="1949400" y="2368440"/>
            <a:ext cx="1532160" cy="1532160"/>
          </a:xfrm>
          <a:prstGeom prst="ellipse">
            <a:avLst/>
          </a:prstGeom>
          <a:solidFill>
            <a:srgbClr val="32aed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665520" y="1712880"/>
            <a:ext cx="1400040" cy="1398600"/>
            <a:chOff x="3665520" y="1712880"/>
            <a:chExt cx="1400040" cy="1398600"/>
          </a:xfrm>
        </p:grpSpPr>
        <p:grpSp>
          <p:nvGrpSpPr>
            <p:cNvPr id="684" name="Group 6"/>
            <p:cNvGrpSpPr/>
            <p:nvPr/>
          </p:nvGrpSpPr>
          <p:grpSpPr>
            <a:xfrm>
              <a:off x="3665520" y="1712880"/>
              <a:ext cx="1400040" cy="1398600"/>
              <a:chOff x="3665520" y="1712880"/>
              <a:chExt cx="1400040" cy="1398600"/>
            </a:xfrm>
          </p:grpSpPr>
          <p:sp>
            <p:nvSpPr>
              <p:cNvPr id="685" name="椭圆 11"/>
              <p:cNvSpPr/>
              <p:nvPr/>
            </p:nvSpPr>
            <p:spPr>
              <a:xfrm>
                <a:off x="3665520" y="1712880"/>
                <a:ext cx="1400040" cy="1398600"/>
              </a:xfrm>
              <a:prstGeom prst="ellipse">
                <a:avLst/>
              </a:prstGeom>
              <a:solidFill>
                <a:srgbClr val="ff967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椭圆 12"/>
              <p:cNvSpPr/>
              <p:nvPr/>
            </p:nvSpPr>
            <p:spPr>
              <a:xfrm>
                <a:off x="3825000" y="1872360"/>
                <a:ext cx="1080720" cy="10796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Box 10"/>
            <p:cNvSpPr/>
            <p:nvPr/>
          </p:nvSpPr>
          <p:spPr>
            <a:xfrm>
              <a:off x="3870000" y="2227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10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689" name="Group 11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690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TextBox 15"/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15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694" name="Group 16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695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TextBox 20">
              <a:hlinkClick r:id="rId4" action="ppaction://hlinksldjump"/>
            </p:cNvPr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0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699" name="Group 21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700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TextBox 25">
              <a:hlinkClick r:id="rId6" action="ppaction://hlinksldjump"/>
            </p:cNvPr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25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704" name="Group 26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705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TextBox 45"/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Picture 2" descr=""/>
          <p:cNvPicPr/>
          <p:nvPr/>
        </p:nvPicPr>
        <p:blipFill>
          <a:blip r:embed="rId8"/>
          <a:srcRect l="16931" t="25812" r="23984" b="3716"/>
          <a:stretch/>
        </p:blipFill>
        <p:spPr>
          <a:xfrm>
            <a:off x="1963800" y="2382840"/>
            <a:ext cx="1503360" cy="15033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31"/>
          <p:cNvGrpSpPr/>
          <p:nvPr/>
        </p:nvGrpSpPr>
        <p:grpSpPr>
          <a:xfrm>
            <a:off x="2151000" y="2570040"/>
            <a:ext cx="1128600" cy="1128960"/>
            <a:chOff x="2151000" y="2570040"/>
            <a:chExt cx="1128600" cy="1128960"/>
          </a:xfrm>
        </p:grpSpPr>
        <p:sp>
          <p:nvSpPr>
            <p:cNvPr id="710" name="椭圆 7"/>
            <p:cNvSpPr/>
            <p:nvPr/>
          </p:nvSpPr>
          <p:spPr>
            <a:xfrm>
              <a:off x="2151000" y="2570040"/>
              <a:ext cx="1128600" cy="11289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Box 5">
              <a:hlinkClick r:id="rId10" action="ppaction://hlinksldjump"/>
            </p:cNvPr>
            <p:cNvSpPr/>
            <p:nvPr/>
          </p:nvSpPr>
          <p:spPr>
            <a:xfrm>
              <a:off x="2220480" y="2934360"/>
              <a:ext cx="98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椭圆 38"/>
          <p:cNvSpPr/>
          <p:nvPr/>
        </p:nvSpPr>
        <p:spPr>
          <a:xfrm>
            <a:off x="2052720" y="501480"/>
            <a:ext cx="5684760" cy="568332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714" name="椭圆 34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5" name="Picture 2" descr=""/>
            <p:cNvPicPr/>
            <p:nvPr/>
          </p:nvPicPr>
          <p:blipFill>
            <a:blip r:embed="rId12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TextBox 40">
            <a:hlinkClick r:id="rId13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75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327" dur="75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4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4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35 -0.00031 L 0.2382 0.04012 E">
                                      <p:cBhvr>
                                        <p:cTn id="336" dur="5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349" dur="500" fill="hold"/>
                                        <p:tgtEl>
                                          <p:spTgt spid="7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35 -0.00031 L 0.2382 0.04012 E">
                                      <p:cBhvr>
                                        <p:cTn id="351" dur="5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364" dur="500" fill="hold"/>
                                        <p:tgtEl>
                                          <p:spTgt spid="6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35 -0.00031 L 0.23837 0.04043 E">
                                      <p:cBhvr>
                                        <p:cTn id="366" dur="5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" dur="25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25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25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25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" dur="25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25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3" dur="25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25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5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25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25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15" dur="500" fill="hold"/>
                                        <p:tgtEl>
                                          <p:spTgt spid="6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椭圆 3"/>
          <p:cNvSpPr/>
          <p:nvPr/>
        </p:nvSpPr>
        <p:spPr>
          <a:xfrm>
            <a:off x="1530360" y="-100080"/>
            <a:ext cx="6750000" cy="6750000"/>
          </a:xfrm>
          <a:prstGeom prst="ellipse">
            <a:avLst/>
          </a:prstGeom>
          <a:solidFill>
            <a:srgbClr val="32aed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椭圆 4"/>
          <p:cNvSpPr/>
          <p:nvPr/>
        </p:nvSpPr>
        <p:spPr>
          <a:xfrm>
            <a:off x="2052720" y="501480"/>
            <a:ext cx="5684760" cy="5683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4"/>
          <p:cNvGrpSpPr/>
          <p:nvPr/>
        </p:nvGrpSpPr>
        <p:grpSpPr>
          <a:xfrm>
            <a:off x="6164280" y="1187280"/>
            <a:ext cx="1314360" cy="1314720"/>
            <a:chOff x="6164280" y="1187280"/>
            <a:chExt cx="1314360" cy="1314720"/>
          </a:xfrm>
        </p:grpSpPr>
        <p:sp>
          <p:nvSpPr>
            <p:cNvPr id="721" name="椭圆 9"/>
            <p:cNvSpPr/>
            <p:nvPr/>
          </p:nvSpPr>
          <p:spPr>
            <a:xfrm>
              <a:off x="6164280" y="1187280"/>
              <a:ext cx="1314360" cy="131472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2" name="Picture 2" descr="">
              <a:hlinkClick r:id="rId2" action="ppaction://hlinksldjump"/>
            </p:cNvPr>
            <p:cNvPicPr/>
            <p:nvPr/>
          </p:nvPicPr>
          <p:blipFill>
            <a:blip r:embed="rId3"/>
            <a:srcRect l="16931" t="25812" r="23984" b="3716"/>
            <a:stretch/>
          </p:blipFill>
          <p:spPr>
            <a:xfrm>
              <a:off x="6306120" y="132912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Group 7"/>
          <p:cNvGrpSpPr/>
          <p:nvPr/>
        </p:nvGrpSpPr>
        <p:grpSpPr>
          <a:xfrm>
            <a:off x="3581280" y="1425600"/>
            <a:ext cx="2405520" cy="839160"/>
            <a:chOff x="3581280" y="1425600"/>
            <a:chExt cx="2405520" cy="839160"/>
          </a:xfrm>
        </p:grpSpPr>
        <p:sp>
          <p:nvSpPr>
            <p:cNvPr id="724" name="TextBox 12"/>
            <p:cNvSpPr/>
            <p:nvPr/>
          </p:nvSpPr>
          <p:spPr>
            <a:xfrm>
              <a:off x="3581280" y="1425600"/>
              <a:ext cx="233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标题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矩形 13"/>
            <p:cNvSpPr/>
            <p:nvPr/>
          </p:nvSpPr>
          <p:spPr>
            <a:xfrm>
              <a:off x="5373360" y="19882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Lucida Calligraphy"/>
                  <a:ea typeface="华文楷体"/>
                </a:rPr>
                <a:t>Text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矩形 14"/>
          <p:cNvSpPr/>
          <p:nvPr/>
        </p:nvSpPr>
        <p:spPr>
          <a:xfrm>
            <a:off x="2706840" y="276372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5">
            <a:hlinkClick r:id="rId4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6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椭圆 55"/>
          <p:cNvSpPr/>
          <p:nvPr/>
        </p:nvSpPr>
        <p:spPr>
          <a:xfrm>
            <a:off x="3506760" y="1552680"/>
            <a:ext cx="1717560" cy="1717560"/>
          </a:xfrm>
          <a:prstGeom prst="ellipse">
            <a:avLst/>
          </a:prstGeom>
          <a:solidFill>
            <a:srgbClr val="ff96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3"/>
          <p:cNvGrpSpPr/>
          <p:nvPr/>
        </p:nvGrpSpPr>
        <p:grpSpPr>
          <a:xfrm>
            <a:off x="1949400" y="2368440"/>
            <a:ext cx="1532160" cy="1532160"/>
            <a:chOff x="1949400" y="2368440"/>
            <a:chExt cx="1532160" cy="1532160"/>
          </a:xfrm>
        </p:grpSpPr>
        <p:sp>
          <p:nvSpPr>
            <p:cNvPr id="731" name="椭圆 6"/>
            <p:cNvSpPr/>
            <p:nvPr/>
          </p:nvSpPr>
          <p:spPr>
            <a:xfrm>
              <a:off x="1949400" y="2368440"/>
              <a:ext cx="1532160" cy="1532160"/>
            </a:xfrm>
            <a:prstGeom prst="ellipse">
              <a:avLst/>
            </a:prstGeom>
            <a:solidFill>
              <a:srgbClr val="32aed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Group 5"/>
            <p:cNvGrpSpPr/>
            <p:nvPr/>
          </p:nvGrpSpPr>
          <p:grpSpPr>
            <a:xfrm>
              <a:off x="2150280" y="2569320"/>
              <a:ext cx="1130400" cy="1130400"/>
              <a:chOff x="2150280" y="2569320"/>
              <a:chExt cx="1130400" cy="1130400"/>
            </a:xfrm>
          </p:grpSpPr>
          <p:sp>
            <p:nvSpPr>
              <p:cNvPr id="733" name="椭圆 7"/>
              <p:cNvSpPr/>
              <p:nvPr/>
            </p:nvSpPr>
            <p:spPr>
              <a:xfrm>
                <a:off x="2150280" y="2569320"/>
                <a:ext cx="1130400" cy="1130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Box 5">
                <a:hlinkClick r:id="rId2" action="ppaction://hlinksldjump"/>
              </p:cNvPr>
              <p:cNvSpPr/>
              <p:nvPr/>
            </p:nvSpPr>
            <p:spPr>
              <a:xfrm>
                <a:off x="2219760" y="2934360"/>
                <a:ext cx="99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华文楷体"/>
                    <a:ea typeface="华文楷体"/>
                  </a:rPr>
                  <a:t>TEXT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5" name="椭圆 11"/>
          <p:cNvSpPr/>
          <p:nvPr/>
        </p:nvSpPr>
        <p:spPr>
          <a:xfrm>
            <a:off x="3665520" y="1712880"/>
            <a:ext cx="1400040" cy="1398600"/>
          </a:xfrm>
          <a:prstGeom prst="ellipse">
            <a:avLst/>
          </a:prstGeom>
          <a:solidFill>
            <a:srgbClr val="ff96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5921280" y="2787480"/>
            <a:ext cx="1366920" cy="1365480"/>
            <a:chOff x="5921280" y="2787480"/>
            <a:chExt cx="1366920" cy="1365480"/>
          </a:xfrm>
        </p:grpSpPr>
        <p:grpSp>
          <p:nvGrpSpPr>
            <p:cNvPr id="737" name="Group 10"/>
            <p:cNvGrpSpPr/>
            <p:nvPr/>
          </p:nvGrpSpPr>
          <p:grpSpPr>
            <a:xfrm>
              <a:off x="5921280" y="2787480"/>
              <a:ext cx="1366920" cy="1365480"/>
              <a:chOff x="5921280" y="2787480"/>
              <a:chExt cx="1366920" cy="1365480"/>
            </a:xfrm>
          </p:grpSpPr>
          <p:sp>
            <p:nvSpPr>
              <p:cNvPr id="738" name="椭圆 16"/>
              <p:cNvSpPr/>
              <p:nvPr/>
            </p:nvSpPr>
            <p:spPr>
              <a:xfrm>
                <a:off x="5921280" y="2787480"/>
                <a:ext cx="1366920" cy="1365480"/>
              </a:xfrm>
              <a:prstGeom prst="ellipse">
                <a:avLst/>
              </a:prstGeom>
              <a:solidFill>
                <a:srgbClr val="f347eb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椭圆 17"/>
              <p:cNvSpPr/>
              <p:nvPr/>
            </p:nvSpPr>
            <p:spPr>
              <a:xfrm>
                <a:off x="6091920" y="2958120"/>
                <a:ext cx="1025280" cy="10242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TextBox 15"/>
            <p:cNvSpPr/>
            <p:nvPr/>
          </p:nvSpPr>
          <p:spPr>
            <a:xfrm>
              <a:off x="6126120" y="3270240"/>
              <a:ext cx="9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14"/>
          <p:cNvGrpSpPr/>
          <p:nvPr/>
        </p:nvGrpSpPr>
        <p:grpSpPr>
          <a:xfrm>
            <a:off x="5378400" y="954000"/>
            <a:ext cx="1270080" cy="1271520"/>
            <a:chOff x="5378400" y="954000"/>
            <a:chExt cx="1270080" cy="1271520"/>
          </a:xfrm>
        </p:grpSpPr>
        <p:grpSp>
          <p:nvGrpSpPr>
            <p:cNvPr id="742" name="Group 15"/>
            <p:cNvGrpSpPr/>
            <p:nvPr/>
          </p:nvGrpSpPr>
          <p:grpSpPr>
            <a:xfrm>
              <a:off x="5378400" y="954000"/>
              <a:ext cx="1270080" cy="1271520"/>
              <a:chOff x="5378400" y="954000"/>
              <a:chExt cx="1270080" cy="1271520"/>
            </a:xfrm>
          </p:grpSpPr>
          <p:sp>
            <p:nvSpPr>
              <p:cNvPr id="743" name="椭圆 21"/>
              <p:cNvSpPr/>
              <p:nvPr/>
            </p:nvSpPr>
            <p:spPr>
              <a:xfrm>
                <a:off x="5378400" y="954000"/>
                <a:ext cx="1270080" cy="1271520"/>
              </a:xfrm>
              <a:prstGeom prst="ellipse">
                <a:avLst/>
              </a:prstGeom>
              <a:solidFill>
                <a:srgbClr val="a9e32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椭圆 22"/>
              <p:cNvSpPr/>
              <p:nvPr/>
            </p:nvSpPr>
            <p:spPr>
              <a:xfrm>
                <a:off x="5573880" y="1149840"/>
                <a:ext cx="879120" cy="8798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TextBox 20">
              <a:hlinkClick r:id="rId5" action="ppaction://hlinksldjump"/>
            </p:cNvPr>
            <p:cNvSpPr/>
            <p:nvPr/>
          </p:nvSpPr>
          <p:spPr>
            <a:xfrm>
              <a:off x="5518800" y="140508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19"/>
          <p:cNvGrpSpPr/>
          <p:nvPr/>
        </p:nvGrpSpPr>
        <p:grpSpPr>
          <a:xfrm>
            <a:off x="2668680" y="739800"/>
            <a:ext cx="1255680" cy="1257120"/>
            <a:chOff x="2668680" y="739800"/>
            <a:chExt cx="1255680" cy="1257120"/>
          </a:xfrm>
        </p:grpSpPr>
        <p:grpSp>
          <p:nvGrpSpPr>
            <p:cNvPr id="747" name="Group 20"/>
            <p:cNvGrpSpPr/>
            <p:nvPr/>
          </p:nvGrpSpPr>
          <p:grpSpPr>
            <a:xfrm>
              <a:off x="2668680" y="739800"/>
              <a:ext cx="1255680" cy="1257120"/>
              <a:chOff x="2668680" y="739800"/>
              <a:chExt cx="1255680" cy="1257120"/>
            </a:xfrm>
          </p:grpSpPr>
          <p:sp>
            <p:nvSpPr>
              <p:cNvPr id="748" name="椭圆 26"/>
              <p:cNvSpPr/>
              <p:nvPr/>
            </p:nvSpPr>
            <p:spPr>
              <a:xfrm>
                <a:off x="2668680" y="739800"/>
                <a:ext cx="1255680" cy="1257120"/>
              </a:xfrm>
              <a:prstGeom prst="ellipse">
                <a:avLst/>
              </a:prstGeom>
              <a:solidFill>
                <a:srgbClr val="e0883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椭圆 27"/>
              <p:cNvSpPr/>
              <p:nvPr/>
            </p:nvSpPr>
            <p:spPr>
              <a:xfrm>
                <a:off x="2846520" y="917640"/>
                <a:ext cx="900000" cy="9010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TextBox 25">
              <a:hlinkClick r:id="rId7" action="ppaction://hlinksldjump"/>
            </p:cNvPr>
            <p:cNvSpPr/>
            <p:nvPr/>
          </p:nvSpPr>
          <p:spPr>
            <a:xfrm>
              <a:off x="2801520" y="11826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24"/>
          <p:cNvGrpSpPr/>
          <p:nvPr/>
        </p:nvGrpSpPr>
        <p:grpSpPr>
          <a:xfrm>
            <a:off x="4280040" y="3292560"/>
            <a:ext cx="1361880" cy="1360440"/>
            <a:chOff x="4280040" y="3292560"/>
            <a:chExt cx="1361880" cy="1360440"/>
          </a:xfrm>
        </p:grpSpPr>
        <p:grpSp>
          <p:nvGrpSpPr>
            <p:cNvPr id="752" name="Group 25"/>
            <p:cNvGrpSpPr/>
            <p:nvPr/>
          </p:nvGrpSpPr>
          <p:grpSpPr>
            <a:xfrm>
              <a:off x="4280040" y="3292560"/>
              <a:ext cx="1361880" cy="1360440"/>
              <a:chOff x="4280040" y="3292560"/>
              <a:chExt cx="1361880" cy="1360440"/>
            </a:xfrm>
          </p:grpSpPr>
          <p:sp>
            <p:nvSpPr>
              <p:cNvPr id="753" name="椭圆 46"/>
              <p:cNvSpPr/>
              <p:nvPr/>
            </p:nvSpPr>
            <p:spPr>
              <a:xfrm>
                <a:off x="4280040" y="3292560"/>
                <a:ext cx="1361880" cy="1360440"/>
              </a:xfrm>
              <a:prstGeom prst="ellipse">
                <a:avLst/>
              </a:prstGeom>
              <a:solidFill>
                <a:srgbClr val="3188c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47"/>
              <p:cNvSpPr/>
              <p:nvPr/>
            </p:nvSpPr>
            <p:spPr>
              <a:xfrm>
                <a:off x="4412520" y="3425040"/>
                <a:ext cx="1096560" cy="109512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Box 45"/>
            <p:cNvSpPr/>
            <p:nvPr/>
          </p:nvSpPr>
          <p:spPr>
            <a:xfrm>
              <a:off x="4412520" y="3783600"/>
              <a:ext cx="11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6" name="Picture 2" descr=""/>
          <p:cNvPicPr/>
          <p:nvPr/>
        </p:nvPicPr>
        <p:blipFill>
          <a:blip r:embed="rId9"/>
          <a:srcRect l="16931" t="25812" r="23984" b="3716"/>
          <a:stretch/>
        </p:blipFill>
        <p:spPr>
          <a:xfrm>
            <a:off x="3673440" y="1720800"/>
            <a:ext cx="1384200" cy="1384200"/>
          </a:xfrm>
          <a:prstGeom prst="rect">
            <a:avLst/>
          </a:prstGeom>
          <a:ln w="0">
            <a:noFill/>
          </a:ln>
        </p:spPr>
      </p:pic>
      <p:grpSp>
        <p:nvGrpSpPr>
          <p:cNvPr id="757" name="Group 30"/>
          <p:cNvGrpSpPr/>
          <p:nvPr/>
        </p:nvGrpSpPr>
        <p:grpSpPr>
          <a:xfrm>
            <a:off x="3825720" y="1871640"/>
            <a:ext cx="1079640" cy="1081080"/>
            <a:chOff x="3825720" y="1871640"/>
            <a:chExt cx="1079640" cy="1081080"/>
          </a:xfrm>
        </p:grpSpPr>
        <p:sp>
          <p:nvSpPr>
            <p:cNvPr id="758" name="椭圆 12"/>
            <p:cNvSpPr/>
            <p:nvPr/>
          </p:nvSpPr>
          <p:spPr>
            <a:xfrm>
              <a:off x="3825720" y="1871640"/>
              <a:ext cx="1079640" cy="108108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Box 10"/>
            <p:cNvSpPr/>
            <p:nvPr/>
          </p:nvSpPr>
          <p:spPr>
            <a:xfrm>
              <a:off x="3870720" y="2227320"/>
              <a:ext cx="9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椭圆 56"/>
          <p:cNvSpPr/>
          <p:nvPr/>
        </p:nvSpPr>
        <p:spPr>
          <a:xfrm>
            <a:off x="1758960" y="193680"/>
            <a:ext cx="6264360" cy="6265800"/>
          </a:xfrm>
          <a:prstGeom prst="ellipse">
            <a:avLst/>
          </a:prstGeom>
          <a:solidFill>
            <a:srgbClr val="ff96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57"/>
          <p:cNvSpPr/>
          <p:nvPr/>
        </p:nvSpPr>
        <p:spPr>
          <a:xfrm>
            <a:off x="2313000" y="765000"/>
            <a:ext cx="5156280" cy="51562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35"/>
          <p:cNvGrpSpPr/>
          <p:nvPr/>
        </p:nvGrpSpPr>
        <p:grpSpPr>
          <a:xfrm>
            <a:off x="4237200" y="2684520"/>
            <a:ext cx="1314360" cy="1314360"/>
            <a:chOff x="4237200" y="2684520"/>
            <a:chExt cx="1314360" cy="1314360"/>
          </a:xfrm>
        </p:grpSpPr>
        <p:sp>
          <p:nvSpPr>
            <p:cNvPr id="763" name="椭圆 52"/>
            <p:cNvSpPr/>
            <p:nvPr/>
          </p:nvSpPr>
          <p:spPr>
            <a:xfrm>
              <a:off x="4237200" y="2684520"/>
              <a:ext cx="1314360" cy="1314360"/>
            </a:xfrm>
            <a:prstGeom prst="ellipse">
              <a:avLst/>
            </a:pr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4" name="Picture 2" descr=""/>
            <p:cNvPicPr/>
            <p:nvPr/>
          </p:nvPicPr>
          <p:blipFill>
            <a:blip r:embed="rId12"/>
            <a:srcRect l="16931" t="25812" r="23984" b="3716"/>
            <a:stretch/>
          </p:blipFill>
          <p:spPr>
            <a:xfrm>
              <a:off x="4379040" y="2826360"/>
              <a:ext cx="103068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TextBox 39">
            <a:hlinkClick r:id="rId13" action="ppaction://hlinksldjump"/>
          </p:cNvPr>
          <p:cNvSpPr/>
          <p:nvPr/>
        </p:nvSpPr>
        <p:spPr>
          <a:xfrm>
            <a:off x="179280" y="21600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黑体"/>
                <a:ea typeface="黑体"/>
              </a:rPr>
              <a:t>单</a:t>
            </a:r>
            <a:r>
              <a:rPr b="1" lang="zh-CN" sz="2800" spc="-1" strike="noStrike">
                <a:solidFill>
                  <a:srgbClr val="595959"/>
                </a:solidFill>
                <a:latin typeface="黑体"/>
                <a:ea typeface="黑体"/>
              </a:rPr>
              <a:t>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40"/>
          <p:cNvSpPr/>
          <p:nvPr/>
        </p:nvSpPr>
        <p:spPr>
          <a:xfrm>
            <a:off x="588960" y="1149480"/>
            <a:ext cx="43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Brush Script Std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487440" y="4500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40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" dur="4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87 -0.00061 L 0.05782 0.18087 E">
                                      <p:cBhvr>
                                        <p:cTn id="428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75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75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5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3.48162E-006 L 0.21094 -0.29008 E">
                                      <p:cBhvr>
                                        <p:cTn id="441" dur="75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50" dur="5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17 -0.01142 L 0.05781 0.18086 E">
                                      <p:cBhvr>
                                        <p:cTn id="452" dur="5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65" dur="500" fill="hold"/>
                                        <p:tgtEl>
                                          <p:spTgt spid="7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243 0.00309 L 0.05781 0.18086 E">
                                      <p:cBhvr>
                                        <p:cTn id="467" dur="5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81" dur="500" fill="hold"/>
                                        <p:tgtEl>
                                          <p:spTgt spid="7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25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9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25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3" presetSubtype="27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25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5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9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7" dur="2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3" presetSubtype="27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25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4" dur="25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3" presetSubtype="27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25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5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25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5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9:15:00Z</dcterms:created>
  <dc:creator>www.pptbz.com</dc:creator>
  <dc:description/>
  <dc:language>en-US</dc:language>
  <cp:lastModifiedBy>王玉清</cp:lastModifiedBy>
  <cp:lastPrinted>1899-12-30T00:00:00Z</cp:lastPrinted>
  <dcterms:modified xsi:type="dcterms:W3CDTF">2016-03-06T03:37:48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