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hdphoto1.wdp" ContentType="image/vnd.ms-photo"/>
  <Override PartName="/ppt/media/image8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545-DB56-45D0-B17F-BA209F1F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D72-8AA9-4032-AF59-39419847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9F1-1F68-4AB1-8DB5-C6C929F6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DF6-9437-4F22-B4B3-D9CE347D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8BA2-309D-4974-AB85-F28AE3FB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5C46-7430-4390-B1EB-596F650C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AECF-DF11-4488-866D-ECC547DB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ECC-173F-49C0-9F7B-8D4BE234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756A-F181-49AE-B3B3-EB6A087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3640" y="5337360"/>
            <a:ext cx="7772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1D7B-9D91-4FF1-8A57-A7E64C62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BDE3-7E32-47B3-913F-148305E9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DA79-FE5F-4956-9815-9CDF95E3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8C8-FD80-4622-9DA8-F733F477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933B-670A-48D4-B486-5D79D49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FB93-1171-4D10-B1BC-7EE01296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D13C-D8FE-4D0B-9F5E-59906FB1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21FB-DF82-4F80-BDE8-7C56E74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DCE7C-6E56-4278-AE86-86EE7A2A90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C8544-524C-454A-A94F-67D7FDEB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D6D39-C40E-4117-B82D-24C69106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30A11-A087-485E-BB0E-02114DDA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99F06-9024-4A36-9003-14627AD5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D07-831A-48AC-A2CC-4D24C83F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3640" y="5337360"/>
            <a:ext cx="7772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41425-959B-42ED-9199-9F7AD557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F8195-1743-4EA9-ABD9-55306A3F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CEF85-543F-4F5F-8BA3-84BE3EB9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06177-034F-4FFB-9CCB-F87F30EB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DC294-2BE5-40FE-9A50-B70D9D48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5BFD1-A1E6-4B23-9985-55FE35D4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52391-737F-40A9-A758-6AC54658EF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688C-EF96-4DD6-8FF7-E7B6F68F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873-9D06-4F2E-B71B-7127B534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3640" y="5337360"/>
            <a:ext cx="77720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072-19CB-4DC1-8F45-4E40481E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216-A5AD-47D4-A595-75312BBA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ED9-650D-4225-8C1E-6F6BFE76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A97-FF13-4D78-8CCD-BF04C554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microsoft.com/office/2007/relationships/hdphoto" Target="../media/hdphoto1.wdp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20F5FB-DDDA-4F0A-AEEA-620DE5D11F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组合 10"/>
          <p:cNvGrpSpPr/>
          <p:nvPr/>
        </p:nvGrpSpPr>
        <p:grpSpPr>
          <a:xfrm>
            <a:off x="0" y="2094840"/>
            <a:ext cx="7091640" cy="2397240"/>
            <a:chOff x="0" y="2094840"/>
            <a:chExt cx="7091640" cy="2397240"/>
          </a:xfrm>
        </p:grpSpPr>
        <p:sp>
          <p:nvSpPr>
            <p:cNvPr id="4" name="矩形 6"/>
            <p:cNvSpPr/>
            <p:nvPr/>
          </p:nvSpPr>
          <p:spPr>
            <a:xfrm>
              <a:off x="0" y="2094840"/>
              <a:ext cx="6712560" cy="2383920"/>
            </a:xfrm>
            <a:prstGeom prst="rect">
              <a:avLst/>
            </a:prstGeom>
            <a:pattFill prst="lgGrid">
              <a:fgClr>
                <a:srgbClr val="93cddd"/>
              </a:fgClr>
              <a:bgClr>
                <a:srgbClr val="00b0f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" name="矩形 7"/>
            <p:cNvSpPr/>
            <p:nvPr/>
          </p:nvSpPr>
          <p:spPr>
            <a:xfrm>
              <a:off x="2540880" y="2094840"/>
              <a:ext cx="1516680" cy="2383920"/>
            </a:xfrm>
            <a:prstGeom prst="rect">
              <a:avLst/>
            </a:prstGeom>
            <a:solidFill>
              <a:schemeClr val="bg1">
                <a:alpha val="4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" name="矩形 8"/>
            <p:cNvSpPr/>
            <p:nvPr/>
          </p:nvSpPr>
          <p:spPr>
            <a:xfrm>
              <a:off x="4057920" y="2108160"/>
              <a:ext cx="1516680" cy="2383920"/>
            </a:xfrm>
            <a:prstGeom prst="rect">
              <a:avLst/>
            </a:prstGeom>
            <a:solidFill>
              <a:schemeClr val="bg1">
                <a:alpha val="2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" name="矩形 9"/>
            <p:cNvSpPr/>
            <p:nvPr/>
          </p:nvSpPr>
          <p:spPr>
            <a:xfrm>
              <a:off x="5574960" y="2094840"/>
              <a:ext cx="1516680" cy="2383920"/>
            </a:xfrm>
            <a:prstGeom prst="rect">
              <a:avLst/>
            </a:prstGeom>
            <a:solidFill>
              <a:schemeClr val="bg1">
                <a:alpha val="1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" name="组合 21"/>
          <p:cNvGrpSpPr/>
          <p:nvPr/>
        </p:nvGrpSpPr>
        <p:grpSpPr>
          <a:xfrm>
            <a:off x="6630480" y="1340640"/>
            <a:ext cx="2621520" cy="1959480"/>
            <a:chOff x="6630480" y="1340640"/>
            <a:chExt cx="2621520" cy="1959480"/>
          </a:xfrm>
        </p:grpSpPr>
        <p:sp>
          <p:nvSpPr>
            <p:cNvPr id="9" name="矩形 11"/>
            <p:cNvSpPr/>
            <p:nvPr/>
          </p:nvSpPr>
          <p:spPr>
            <a:xfrm>
              <a:off x="6990480" y="2003760"/>
              <a:ext cx="359640" cy="32364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" name="矩形 12"/>
            <p:cNvSpPr/>
            <p:nvPr/>
          </p:nvSpPr>
          <p:spPr>
            <a:xfrm>
              <a:off x="6846480" y="2867760"/>
              <a:ext cx="431640" cy="4323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" name="矩形 13"/>
            <p:cNvSpPr/>
            <p:nvPr/>
          </p:nvSpPr>
          <p:spPr>
            <a:xfrm>
              <a:off x="7566840" y="1571760"/>
              <a:ext cx="539640" cy="4316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" name="矩形 14"/>
            <p:cNvSpPr/>
            <p:nvPr/>
          </p:nvSpPr>
          <p:spPr>
            <a:xfrm>
              <a:off x="7854840" y="2602440"/>
              <a:ext cx="359640" cy="408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" name="矩形 15"/>
            <p:cNvSpPr/>
            <p:nvPr/>
          </p:nvSpPr>
          <p:spPr>
            <a:xfrm>
              <a:off x="7350840" y="2327760"/>
              <a:ext cx="436680" cy="467640"/>
            </a:xfrm>
            <a:prstGeom prst="rect">
              <a:avLst/>
            </a:prstGeom>
            <a:solidFill>
              <a:srgbClr val="00b0f0">
                <a:alpha val="4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" name="矩形 16"/>
            <p:cNvSpPr/>
            <p:nvPr/>
          </p:nvSpPr>
          <p:spPr>
            <a:xfrm>
              <a:off x="8532360" y="2420640"/>
              <a:ext cx="719640" cy="6476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" name="矩形 17"/>
            <p:cNvSpPr/>
            <p:nvPr/>
          </p:nvSpPr>
          <p:spPr>
            <a:xfrm>
              <a:off x="8199360" y="1811880"/>
              <a:ext cx="436680" cy="51552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" name="矩形 18"/>
            <p:cNvSpPr/>
            <p:nvPr/>
          </p:nvSpPr>
          <p:spPr>
            <a:xfrm>
              <a:off x="8479080" y="1340640"/>
              <a:ext cx="228240" cy="16164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" name="矩形 19"/>
            <p:cNvSpPr/>
            <p:nvPr/>
          </p:nvSpPr>
          <p:spPr>
            <a:xfrm>
              <a:off x="6630480" y="2386440"/>
              <a:ext cx="359640" cy="4089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" name="矩形 20"/>
            <p:cNvSpPr/>
            <p:nvPr/>
          </p:nvSpPr>
          <p:spPr>
            <a:xfrm>
              <a:off x="8377560" y="1421640"/>
              <a:ext cx="719640" cy="6476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19" name="图片 22" descr=""/>
          <p:cNvPicPr/>
          <p:nvPr/>
        </p:nvPicPr>
        <p:blipFill>
          <a:blip r:embed="rId2"/>
          <a:stretch/>
        </p:blipFill>
        <p:spPr>
          <a:xfrm>
            <a:off x="6660360" y="188640"/>
            <a:ext cx="2049480" cy="1346400"/>
          </a:xfrm>
          <a:prstGeom prst="rect">
            <a:avLst/>
          </a:prstGeom>
          <a:ln w="0">
            <a:noFill/>
          </a:ln>
        </p:spPr>
      </p:pic>
      <p:pic>
        <p:nvPicPr>
          <p:cNvPr id="20" name="图片 25" descr=""/>
          <p:cNvPicPr/>
          <p:nvPr/>
        </p:nvPicPr>
        <p:blipFill>
          <a:blip r:embed="rId3"/>
          <a:srcRect l="4529" t="23164" r="22663" b="12411"/>
          <a:stretch/>
        </p:blipFill>
        <p:spPr>
          <a:xfrm>
            <a:off x="-408960" y="2094840"/>
            <a:ext cx="3612240" cy="2397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9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-20000" gridSize="6" trans="53000"/>
                    </a14:imgEffect>
                  </a14:imgLayer>
                </a14:imgProps>
              </a:ext>
            </a:extLst>
          </a:blip>
          <a:srcRect l="0" t="3539" r="0" b="4349"/>
          <a:stretch/>
        </p:blipFill>
        <p:spPr>
          <a:xfrm>
            <a:off x="-180360" y="-27360"/>
            <a:ext cx="9576720" cy="561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B1D8F0-AF70-4992-B0D9-9D433F9020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图片 7" descr=""/>
          <p:cNvPicPr/>
          <p:nvPr/>
        </p:nvPicPr>
        <p:blipFill>
          <a:blip r:embed="rId4"/>
          <a:stretch/>
        </p:blipFill>
        <p:spPr>
          <a:xfrm>
            <a:off x="7524360" y="5589360"/>
            <a:ext cx="1365480" cy="897120"/>
          </a:xfrm>
          <a:prstGeom prst="rect">
            <a:avLst/>
          </a:prstGeom>
          <a:ln w="0">
            <a:noFill/>
          </a:ln>
        </p:spPr>
      </p:pic>
      <p:sp>
        <p:nvSpPr>
          <p:cNvPr id="66" name="矩形 10"/>
          <p:cNvSpPr/>
          <p:nvPr/>
        </p:nvSpPr>
        <p:spPr>
          <a:xfrm>
            <a:off x="0" y="0"/>
            <a:ext cx="9143640" cy="5263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18"/>
          <p:cNvGrpSpPr/>
          <p:nvPr/>
        </p:nvGrpSpPr>
        <p:grpSpPr>
          <a:xfrm>
            <a:off x="0" y="6326280"/>
            <a:ext cx="8172000" cy="558720"/>
            <a:chOff x="0" y="6326280"/>
            <a:chExt cx="8172000" cy="558720"/>
          </a:xfrm>
        </p:grpSpPr>
        <p:sp>
          <p:nvSpPr>
            <p:cNvPr id="104" name="矩形 19"/>
            <p:cNvSpPr/>
            <p:nvPr/>
          </p:nvSpPr>
          <p:spPr>
            <a:xfrm>
              <a:off x="0" y="6326280"/>
              <a:ext cx="7734960" cy="555840"/>
            </a:xfrm>
            <a:prstGeom prst="rect">
              <a:avLst/>
            </a:prstGeom>
            <a:pattFill prst="lgGrid">
              <a:fgClr>
                <a:srgbClr val="93cddd"/>
              </a:fgClr>
              <a:bgClr>
                <a:srgbClr val="00b0f0"/>
              </a:bgClr>
            </a:patt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矩形 20"/>
            <p:cNvSpPr/>
            <p:nvPr/>
          </p:nvSpPr>
          <p:spPr>
            <a:xfrm>
              <a:off x="2927520" y="6326280"/>
              <a:ext cx="1747800" cy="555840"/>
            </a:xfrm>
            <a:prstGeom prst="rect">
              <a:avLst/>
            </a:prstGeom>
            <a:solidFill>
              <a:schemeClr val="bg1">
                <a:alpha val="4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6" name="矩形 21"/>
            <p:cNvSpPr/>
            <p:nvPr/>
          </p:nvSpPr>
          <p:spPr>
            <a:xfrm>
              <a:off x="4676040" y="6329160"/>
              <a:ext cx="1747800" cy="555840"/>
            </a:xfrm>
            <a:prstGeom prst="rect">
              <a:avLst/>
            </a:prstGeom>
            <a:solidFill>
              <a:schemeClr val="bg1">
                <a:alpha val="2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矩形 22"/>
            <p:cNvSpPr/>
            <p:nvPr/>
          </p:nvSpPr>
          <p:spPr>
            <a:xfrm>
              <a:off x="6424200" y="6326280"/>
              <a:ext cx="1747800" cy="555840"/>
            </a:xfrm>
            <a:prstGeom prst="rect">
              <a:avLst/>
            </a:prstGeom>
            <a:solidFill>
              <a:schemeClr val="bg1">
                <a:alpha val="1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16160" y="1412640"/>
            <a:ext cx="822924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6553080" y="6309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648AE1-152F-4D2D-AA6B-268BE060EA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组合 6"/>
          <p:cNvGrpSpPr/>
          <p:nvPr/>
        </p:nvGrpSpPr>
        <p:grpSpPr>
          <a:xfrm>
            <a:off x="179640" y="411480"/>
            <a:ext cx="1223640" cy="728640"/>
            <a:chOff x="179640" y="411480"/>
            <a:chExt cx="1223640" cy="728640"/>
          </a:xfrm>
        </p:grpSpPr>
        <p:sp>
          <p:nvSpPr>
            <p:cNvPr id="113" name="矩形 7"/>
            <p:cNvSpPr/>
            <p:nvPr/>
          </p:nvSpPr>
          <p:spPr>
            <a:xfrm>
              <a:off x="347760" y="658080"/>
              <a:ext cx="167760" cy="12024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矩形 8"/>
            <p:cNvSpPr/>
            <p:nvPr/>
          </p:nvSpPr>
          <p:spPr>
            <a:xfrm>
              <a:off x="280440" y="979560"/>
              <a:ext cx="201240" cy="1605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矩形 9"/>
            <p:cNvSpPr/>
            <p:nvPr/>
          </p:nvSpPr>
          <p:spPr>
            <a:xfrm>
              <a:off x="616680" y="497160"/>
              <a:ext cx="251640" cy="16020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矩形 10"/>
            <p:cNvSpPr/>
            <p:nvPr/>
          </p:nvSpPr>
          <p:spPr>
            <a:xfrm>
              <a:off x="750960" y="880920"/>
              <a:ext cx="167760" cy="1519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矩形 11"/>
            <p:cNvSpPr/>
            <p:nvPr/>
          </p:nvSpPr>
          <p:spPr>
            <a:xfrm>
              <a:off x="515880" y="778680"/>
              <a:ext cx="203760" cy="173880"/>
            </a:xfrm>
            <a:prstGeom prst="rect">
              <a:avLst/>
            </a:prstGeom>
            <a:solidFill>
              <a:srgbClr val="00b0f0">
                <a:alpha val="4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矩形 12"/>
            <p:cNvSpPr/>
            <p:nvPr/>
          </p:nvSpPr>
          <p:spPr>
            <a:xfrm>
              <a:off x="1067400" y="813240"/>
              <a:ext cx="33588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9" name="矩形 13"/>
            <p:cNvSpPr/>
            <p:nvPr/>
          </p:nvSpPr>
          <p:spPr>
            <a:xfrm>
              <a:off x="911880" y="586800"/>
              <a:ext cx="203760" cy="191520"/>
            </a:xfrm>
            <a:prstGeom prst="rect">
              <a:avLst/>
            </a:prstGeom>
            <a:solidFill>
              <a:srgbClr val="00b0f0">
                <a:alpha val="6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矩形 14"/>
            <p:cNvSpPr/>
            <p:nvPr/>
          </p:nvSpPr>
          <p:spPr>
            <a:xfrm>
              <a:off x="1042560" y="411480"/>
              <a:ext cx="106560" cy="59760"/>
            </a:xfrm>
            <a:prstGeom prst="rect">
              <a:avLst/>
            </a:prstGeom>
            <a:solidFill>
              <a:srgbClr val="00b0f0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1" name="矩形 15"/>
            <p:cNvSpPr/>
            <p:nvPr/>
          </p:nvSpPr>
          <p:spPr>
            <a:xfrm>
              <a:off x="179640" y="800280"/>
              <a:ext cx="167760" cy="15192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矩形 16"/>
            <p:cNvSpPr/>
            <p:nvPr/>
          </p:nvSpPr>
          <p:spPr>
            <a:xfrm>
              <a:off x="995040" y="441360"/>
              <a:ext cx="335880" cy="240840"/>
            </a:xfrm>
            <a:prstGeom prst="rect">
              <a:avLst/>
            </a:prstGeom>
            <a:solidFill>
              <a:srgbClr val="00b0f0">
                <a:alpha val="1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123" name="图片 17" descr=""/>
          <p:cNvPicPr/>
          <p:nvPr/>
        </p:nvPicPr>
        <p:blipFill>
          <a:blip r:embed="rId2"/>
          <a:srcRect l="3808" t="12894" r="2621" b="9318"/>
          <a:stretch/>
        </p:blipFill>
        <p:spPr>
          <a:xfrm>
            <a:off x="7298280" y="5901840"/>
            <a:ext cx="1644840" cy="85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2019600" y="443700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汽车蓝色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971640" y="476640"/>
            <a:ext cx="7200360" cy="4680000"/>
          </a:xfrm>
          <a:prstGeom prst="roundRect">
            <a:avLst>
              <a:gd name="adj" fmla="val 16667"/>
            </a:avLst>
          </a:prstGeom>
          <a:solidFill>
            <a:schemeClr val="bg1"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4" name="组合 1"/>
          <p:cNvGrpSpPr/>
          <p:nvPr/>
        </p:nvGrpSpPr>
        <p:grpSpPr>
          <a:xfrm>
            <a:off x="1187640" y="1866600"/>
            <a:ext cx="6768360" cy="2354040"/>
            <a:chOff x="1187640" y="1866600"/>
            <a:chExt cx="6768360" cy="2354040"/>
          </a:xfrm>
        </p:grpSpPr>
        <p:grpSp>
          <p:nvGrpSpPr>
            <p:cNvPr id="165" name="组合 11"/>
            <p:cNvGrpSpPr/>
            <p:nvPr/>
          </p:nvGrpSpPr>
          <p:grpSpPr>
            <a:xfrm>
              <a:off x="2339640" y="1866600"/>
              <a:ext cx="5616360" cy="2354040"/>
              <a:chOff x="2339640" y="1866600"/>
              <a:chExt cx="5616360" cy="2354040"/>
            </a:xfrm>
          </p:grpSpPr>
          <p:sp>
            <p:nvSpPr>
              <p:cNvPr id="166" name="矩形 6"/>
              <p:cNvSpPr/>
              <p:nvPr/>
            </p:nvSpPr>
            <p:spPr>
              <a:xfrm>
                <a:off x="2339640" y="1866600"/>
                <a:ext cx="5328360" cy="91404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7"/>
              <p:cNvSpPr/>
              <p:nvPr/>
            </p:nvSpPr>
            <p:spPr>
              <a:xfrm>
                <a:off x="2339640" y="2565000"/>
                <a:ext cx="5328360" cy="91404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8"/>
              <p:cNvSpPr/>
              <p:nvPr/>
            </p:nvSpPr>
            <p:spPr>
              <a:xfrm>
                <a:off x="2339640" y="3306600"/>
                <a:ext cx="5616360" cy="914040"/>
              </a:xfrm>
              <a:prstGeom prst="rect">
                <a:avLst/>
              </a:prstGeom>
              <a:noFill/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目录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" name="图片 12" descr=""/>
            <p:cNvPicPr/>
            <p:nvPr/>
          </p:nvPicPr>
          <p:blipFill>
            <a:blip r:embed="rId1"/>
            <a:srcRect l="10630" t="24853" r="10630" b="12134"/>
            <a:stretch/>
          </p:blipFill>
          <p:spPr>
            <a:xfrm>
              <a:off x="1187640" y="2060640"/>
              <a:ext cx="1007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13" descr=""/>
            <p:cNvPicPr/>
            <p:nvPr/>
          </p:nvPicPr>
          <p:blipFill>
            <a:blip r:embed="rId2"/>
            <a:srcRect l="10630" t="24853" r="10630" b="12134"/>
            <a:stretch/>
          </p:blipFill>
          <p:spPr>
            <a:xfrm>
              <a:off x="1187640" y="2730600"/>
              <a:ext cx="1007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14" descr=""/>
            <p:cNvPicPr/>
            <p:nvPr/>
          </p:nvPicPr>
          <p:blipFill>
            <a:blip r:embed="rId3"/>
            <a:srcRect l="10630" t="24853" r="10630" b="12134"/>
            <a:stretch/>
          </p:blipFill>
          <p:spPr>
            <a:xfrm>
              <a:off x="1205640" y="3450600"/>
              <a:ext cx="1007640" cy="50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2015</a:t>
            </a: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年工作计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组合 44"/>
          <p:cNvGrpSpPr/>
          <p:nvPr/>
        </p:nvGrpSpPr>
        <p:grpSpPr>
          <a:xfrm>
            <a:off x="1002600" y="2061000"/>
            <a:ext cx="6984360" cy="3725280"/>
            <a:chOff x="1002600" y="2061000"/>
            <a:chExt cx="6984360" cy="3725280"/>
          </a:xfrm>
        </p:grpSpPr>
        <p:sp>
          <p:nvSpPr>
            <p:cNvPr id="174" name="圆角矩形 6"/>
            <p:cNvSpPr/>
            <p:nvPr/>
          </p:nvSpPr>
          <p:spPr>
            <a:xfrm>
              <a:off x="1002600" y="2061000"/>
              <a:ext cx="6984360" cy="372528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75" name="组合 8"/>
            <p:cNvGrpSpPr/>
            <p:nvPr/>
          </p:nvGrpSpPr>
          <p:grpSpPr>
            <a:xfrm>
              <a:off x="2270520" y="2317680"/>
              <a:ext cx="4571280" cy="3092760"/>
              <a:chOff x="2270520" y="2317680"/>
              <a:chExt cx="4571280" cy="3092760"/>
            </a:xfrm>
          </p:grpSpPr>
          <p:sp>
            <p:nvSpPr>
              <p:cNvPr id="176" name="平行四边形 22"/>
              <p:cNvSpPr/>
              <p:nvPr/>
            </p:nvSpPr>
            <p:spPr>
              <a:xfrm rot="10800000">
                <a:off x="6058080" y="514476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平行四边形 22"/>
              <p:cNvSpPr/>
              <p:nvPr/>
            </p:nvSpPr>
            <p:spPr>
              <a:xfrm rot="-600">
                <a:off x="2277720" y="514476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  <a:scene3d>
                <a:camera prst="orthographicFront">
                  <a:rot lat="0" lon="10799999" rev="10799999"/>
                </a:camera>
                <a:lightRig dir="t" rig="threePt"/>
              </a:scene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8" name="平行四边形 22"/>
              <p:cNvSpPr/>
              <p:nvPr/>
            </p:nvSpPr>
            <p:spPr>
              <a:xfrm>
                <a:off x="2288520" y="234432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9" name="平行四边形 22"/>
              <p:cNvSpPr/>
              <p:nvPr/>
            </p:nvSpPr>
            <p:spPr>
              <a:xfrm>
                <a:off x="6063840" y="2338560"/>
                <a:ext cx="765360" cy="231840"/>
              </a:xfrm>
              <a:custGeom>
                <a:avLst/>
                <a:gdLst>
                  <a:gd name="textAreaLeft" fmla="*/ 0 w 765360"/>
                  <a:gd name="textAreaRight" fmla="*/ 765720 w 76536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802344" h="266053">
                    <a:moveTo>
                      <a:pt x="23032" y="201901"/>
                    </a:moveTo>
                    <a:lnTo>
                      <a:pt x="8344" y="241257"/>
                    </a:lnTo>
                    <a:lnTo>
                      <a:pt x="20014" y="207956"/>
                    </a:lnTo>
                    <a:lnTo>
                      <a:pt x="20947" y="205687"/>
                    </a:lnTo>
                    <a:close/>
                    <a:moveTo>
                      <a:pt x="255761" y="247"/>
                    </a:moveTo>
                    <a:lnTo>
                      <a:pt x="244893" y="4178"/>
                    </a:lnTo>
                    <a:lnTo>
                      <a:pt x="250692" y="1047"/>
                    </a:lnTo>
                    <a:close/>
                    <a:moveTo>
                      <a:pt x="356309" y="166"/>
                    </a:moveTo>
                    <a:cubicBezTo>
                      <a:pt x="413757" y="1936"/>
                      <a:pt x="473586" y="17943"/>
                      <a:pt x="532720" y="50619"/>
                    </a:cubicBezTo>
                    <a:cubicBezTo>
                      <a:pt x="605428" y="90795"/>
                      <a:pt x="698934" y="168120"/>
                      <a:pt x="802344" y="266053"/>
                    </a:cubicBezTo>
                    <a:lnTo>
                      <a:pt x="0" y="266053"/>
                    </a:lnTo>
                    <a:cubicBezTo>
                      <a:pt x="54146" y="101227"/>
                      <a:pt x="195951" y="-4773"/>
                      <a:pt x="356309" y="166"/>
                    </a:cubicBezTo>
                    <a:close/>
                  </a:path>
                </a:pathLst>
              </a:custGeom>
              <a:solidFill>
                <a:srgbClr val="7d6964"/>
              </a:solidFill>
              <a:ln>
                <a:noFill/>
              </a:ln>
              <a:scene3d>
                <a:camera prst="orthographicFront">
                  <a:rot lat="0" lon="10799999" rev="10799999"/>
                </a:camera>
                <a:lightRig dir="t" rig="threePt"/>
              </a:scene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" name="任意多边形 17"/>
              <p:cNvSpPr/>
              <p:nvPr/>
            </p:nvSpPr>
            <p:spPr>
              <a:xfrm rot="10800000">
                <a:off x="4599720" y="4308840"/>
                <a:ext cx="2242080" cy="1089000"/>
              </a:xfrm>
              <a:custGeom>
                <a:avLst/>
                <a:gdLst>
                  <a:gd name="textAreaLeft" fmla="*/ 0 w 2242080"/>
                  <a:gd name="textAreaRight" fmla="*/ 2242440 w 22420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9ac13"/>
                  </a:gs>
                  <a:gs pos="100000">
                    <a:srgbClr val="fab93c"/>
                  </a:gs>
                </a:gsLst>
                <a:lin ang="16200000"/>
              </a:gradFill>
              <a:ln>
                <a:noFill/>
              </a:ln>
              <a:effectLst>
                <a:outerShdw algn="l" blurRad="5076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" name="任意多边形 18"/>
              <p:cNvSpPr/>
              <p:nvPr/>
            </p:nvSpPr>
            <p:spPr>
              <a:xfrm>
                <a:off x="2270520" y="2317680"/>
                <a:ext cx="2242080" cy="1089000"/>
              </a:xfrm>
              <a:custGeom>
                <a:avLst/>
                <a:gdLst>
                  <a:gd name="textAreaLeft" fmla="*/ 0 w 2242080"/>
                  <a:gd name="textAreaRight" fmla="*/ 2242440 w 22420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solidFill>
                <a:srgbClr val="ff5050"/>
              </a:solidFill>
              <a:ln>
                <a:noFill/>
              </a:ln>
              <a:effectLst>
                <a:outerShdw algn="r" blurRad="50760" dir="108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82" name="组合 19"/>
              <p:cNvGrpSpPr/>
              <p:nvPr/>
            </p:nvGrpSpPr>
            <p:grpSpPr>
              <a:xfrm>
                <a:off x="2549880" y="3694320"/>
                <a:ext cx="414000" cy="378360"/>
                <a:chOff x="2549880" y="3694320"/>
                <a:chExt cx="414000" cy="378360"/>
              </a:xfrm>
            </p:grpSpPr>
            <p:sp>
              <p:nvSpPr>
                <p:cNvPr id="183" name="椭圆 33"/>
                <p:cNvSpPr/>
                <p:nvPr/>
              </p:nvSpPr>
              <p:spPr>
                <a:xfrm>
                  <a:off x="2549880" y="3694320"/>
                  <a:ext cx="414000" cy="378360"/>
                </a:xfrm>
                <a:prstGeom prst="ellipse">
                  <a:avLst/>
                </a:prstGeom>
                <a:noFill/>
                <a:ln>
                  <a:solidFill>
                    <a:srgbClr val="000000">
                      <a:lumMod val="50000"/>
                      <a:lumOff val="50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4" name="椭圆 34"/>
                <p:cNvSpPr/>
                <p:nvPr/>
              </p:nvSpPr>
              <p:spPr>
                <a:xfrm>
                  <a:off x="2739600" y="371664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5" name="椭圆 35"/>
                <p:cNvSpPr/>
                <p:nvPr/>
              </p:nvSpPr>
              <p:spPr>
                <a:xfrm>
                  <a:off x="2580480" y="386784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6" name="椭圆 36"/>
                <p:cNvSpPr/>
                <p:nvPr/>
              </p:nvSpPr>
              <p:spPr>
                <a:xfrm>
                  <a:off x="2896920" y="386784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7" name="椭圆 37"/>
                <p:cNvSpPr/>
                <p:nvPr/>
              </p:nvSpPr>
              <p:spPr>
                <a:xfrm>
                  <a:off x="2739600" y="4019760"/>
                  <a:ext cx="34560" cy="3132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 w="15875"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188" name="直接连接符 38"/>
                <p:cNvCxnSpPr/>
                <p:nvPr/>
              </p:nvCxnSpPr>
              <p:spPr>
                <a:xfrm>
                  <a:off x="2755440" y="3762000"/>
                  <a:ext cx="1800" cy="125280"/>
                </a:xfrm>
                <a:prstGeom prst="straightConnector1">
                  <a:avLst/>
                </a:prstGeom>
                <a:ln w="15875">
                  <a:solidFill>
                    <a:srgbClr val="eeece1">
                      <a:lumMod val="50000"/>
                    </a:srgbClr>
                  </a:solidFill>
                  <a:round/>
                </a:ln>
              </p:spPr>
            </p:cxnSp>
            <p:cxnSp>
              <p:nvCxnSpPr>
                <p:cNvPr id="189" name="直接连接符 39"/>
                <p:cNvCxnSpPr/>
                <p:nvPr/>
              </p:nvCxnSpPr>
              <p:spPr>
                <a:xfrm>
                  <a:off x="2646720" y="3885120"/>
                  <a:ext cx="109080" cy="360"/>
                </a:xfrm>
                <a:prstGeom prst="straightConnector1">
                  <a:avLst/>
                </a:prstGeom>
                <a:ln w="15875">
                  <a:solidFill>
                    <a:srgbClr val="eeece1">
                      <a:lumMod val="50000"/>
                    </a:srgbClr>
                  </a:solidFill>
                  <a:round/>
                </a:ln>
              </p:spPr>
            </p:cxnSp>
          </p:grpSp>
          <p:grpSp>
            <p:nvGrpSpPr>
              <p:cNvPr id="190" name="组合 20"/>
              <p:cNvGrpSpPr/>
              <p:nvPr/>
            </p:nvGrpSpPr>
            <p:grpSpPr>
              <a:xfrm>
                <a:off x="6160320" y="3660480"/>
                <a:ext cx="390960" cy="451080"/>
                <a:chOff x="6160320" y="3660480"/>
                <a:chExt cx="390960" cy="451080"/>
              </a:xfrm>
            </p:grpSpPr>
            <p:sp>
              <p:nvSpPr>
                <p:cNvPr id="191" name="圆角矩形 24"/>
                <p:cNvSpPr/>
                <p:nvPr/>
              </p:nvSpPr>
              <p:spPr>
                <a:xfrm>
                  <a:off x="6309000" y="4005720"/>
                  <a:ext cx="93600" cy="28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2" name="椭圆 25"/>
                <p:cNvSpPr/>
                <p:nvPr/>
              </p:nvSpPr>
              <p:spPr>
                <a:xfrm>
                  <a:off x="6324840" y="4075560"/>
                  <a:ext cx="62280" cy="36000"/>
                </a:xfrm>
                <a:prstGeom prst="ellipse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3" name="圆角矩形 26"/>
                <p:cNvSpPr/>
                <p:nvPr/>
              </p:nvSpPr>
              <p:spPr>
                <a:xfrm>
                  <a:off x="6316200" y="4040640"/>
                  <a:ext cx="79560" cy="28080"/>
                </a:xfrm>
                <a:prstGeom prst="roundRect">
                  <a:avLst>
                    <a:gd name="adj" fmla="val 16667"/>
                  </a:avLst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-19080" bIns="-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194" name="直接连接符 27"/>
                <p:cNvCxnSpPr/>
                <p:nvPr/>
              </p:nvCxnSpPr>
              <p:spPr>
                <a:xfrm>
                  <a:off x="6160320" y="3724200"/>
                  <a:ext cx="71640" cy="5076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cxnSp>
              <p:nvCxnSpPr>
                <p:cNvPr id="195" name="直接连接符 28"/>
                <p:cNvCxnSpPr/>
                <p:nvPr/>
              </p:nvCxnSpPr>
              <p:spPr>
                <a:xfrm flipH="1">
                  <a:off x="6480360" y="3728520"/>
                  <a:ext cx="71280" cy="4644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cxnSp>
              <p:nvCxnSpPr>
                <p:cNvPr id="196" name="直接连接符 29"/>
                <p:cNvCxnSpPr/>
                <p:nvPr/>
              </p:nvCxnSpPr>
              <p:spPr>
                <a:xfrm>
                  <a:off x="6355800" y="3660480"/>
                  <a:ext cx="360" cy="6840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sp>
              <p:nvSpPr>
                <p:cNvPr id="197" name="圆角矩形 66"/>
                <p:cNvSpPr/>
                <p:nvPr/>
              </p:nvSpPr>
              <p:spPr>
                <a:xfrm>
                  <a:off x="6231600" y="3749400"/>
                  <a:ext cx="248400" cy="24156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241560"/>
                    <a:gd name="textAreaBottom" fmla="*/ 241920 h 241560"/>
                  </a:gdLst>
                  <a:ahLst/>
                  <a:rect l="textAreaLeft" t="textAreaTop" r="textAreaRight" b="textAreaBottom"/>
                  <a:pathLst>
                    <a:path w="286232" h="304231">
                      <a:moveTo>
                        <a:pt x="143116" y="0"/>
                      </a:moveTo>
                      <a:cubicBezTo>
                        <a:pt x="222157" y="0"/>
                        <a:pt x="286232" y="64075"/>
                        <a:pt x="286232" y="143116"/>
                      </a:cubicBezTo>
                      <a:cubicBezTo>
                        <a:pt x="286232" y="204128"/>
                        <a:pt x="248053" y="256223"/>
                        <a:pt x="193959" y="275967"/>
                      </a:cubicBezTo>
                      <a:lnTo>
                        <a:pt x="193959" y="298231"/>
                      </a:lnTo>
                      <a:cubicBezTo>
                        <a:pt x="193959" y="301545"/>
                        <a:pt x="191273" y="304231"/>
                        <a:pt x="187959" y="304231"/>
                      </a:cubicBezTo>
                      <a:lnTo>
                        <a:pt x="91959" y="304231"/>
                      </a:lnTo>
                      <a:cubicBezTo>
                        <a:pt x="88645" y="304231"/>
                        <a:pt x="85959" y="301545"/>
                        <a:pt x="85959" y="298231"/>
                      </a:cubicBezTo>
                      <a:lnTo>
                        <a:pt x="85959" y="274231"/>
                      </a:lnTo>
                      <a:lnTo>
                        <a:pt x="86092" y="274098"/>
                      </a:lnTo>
                      <a:cubicBezTo>
                        <a:pt x="35372" y="252309"/>
                        <a:pt x="0" y="201843"/>
                        <a:pt x="0" y="143116"/>
                      </a:cubicBezTo>
                      <a:cubicBezTo>
                        <a:pt x="0" y="64075"/>
                        <a:pt x="64075" y="0"/>
                        <a:pt x="143116" y="0"/>
                      </a:cubicBezTo>
                      <a:close/>
                    </a:path>
                  </a:pathLst>
                </a:custGeom>
                <a:noFill/>
                <a:ln w="22225">
                  <a:solidFill>
                    <a:srgbClr val="000000">
                      <a:lumMod val="50000"/>
                      <a:lumOff val="50000"/>
                    </a:srgbClr>
                  </a:solidFill>
                  <a:round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198" name="直接连接符 31"/>
                <p:cNvCxnSpPr/>
                <p:nvPr/>
              </p:nvCxnSpPr>
              <p:spPr>
                <a:xfrm>
                  <a:off x="6480360" y="3933000"/>
                  <a:ext cx="71280" cy="5076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  <p:cxnSp>
              <p:nvCxnSpPr>
                <p:cNvPr id="199" name="直接连接符 32"/>
                <p:cNvCxnSpPr/>
                <p:nvPr/>
              </p:nvCxnSpPr>
              <p:spPr>
                <a:xfrm flipH="1">
                  <a:off x="6160320" y="3934080"/>
                  <a:ext cx="71640" cy="49680"/>
                </a:xfrm>
                <a:prstGeom prst="straightConnector1">
                  <a:avLst/>
                </a:prstGeom>
                <a:ln w="15875">
                  <a:solidFill>
                    <a:srgbClr val="000000">
                      <a:lumMod val="65000"/>
                      <a:lumOff val="35000"/>
                    </a:srgbClr>
                  </a:solidFill>
                  <a:round/>
                </a:ln>
              </p:spPr>
            </p:cxnSp>
          </p:grpSp>
          <p:sp>
            <p:nvSpPr>
              <p:cNvPr id="200" name="任意多边形 21"/>
              <p:cNvSpPr/>
              <p:nvPr/>
            </p:nvSpPr>
            <p:spPr>
              <a:xfrm flipV="1">
                <a:off x="2270520" y="4321080"/>
                <a:ext cx="2242080" cy="1089000"/>
              </a:xfrm>
              <a:custGeom>
                <a:avLst/>
                <a:gdLst>
                  <a:gd name="textAreaLeft" fmla="*/ 0 w 2242080"/>
                  <a:gd name="textAreaRight" fmla="*/ 2242440 w 2242080"/>
                  <a:gd name="textAreaTop" fmla="*/ -360 h 1089000"/>
                  <a:gd name="textAreaBottom" fmla="*/ 108900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cb9f8"/>
                  </a:gs>
                  <a:gs pos="100000">
                    <a:srgbClr val="81d5fb"/>
                  </a:gs>
                </a:gsLst>
                <a:lin ang="16200000"/>
              </a:gradFill>
              <a:ln>
                <a:noFill/>
              </a:ln>
              <a:effectLst>
                <a:outerShdw algn="r" blurRad="50760" dir="108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" name="任意多边形 22"/>
              <p:cNvSpPr/>
              <p:nvPr/>
            </p:nvSpPr>
            <p:spPr>
              <a:xfrm flipH="1">
                <a:off x="4599720" y="2317680"/>
                <a:ext cx="2242080" cy="1089000"/>
              </a:xfrm>
              <a:custGeom>
                <a:avLst/>
                <a:gdLst>
                  <a:gd name="textAreaLeft" fmla="*/ 360 w 2242080"/>
                  <a:gd name="textAreaRight" fmla="*/ 2242800 w 2242080"/>
                  <a:gd name="textAreaTop" fmla="*/ 0 h 1089000"/>
                  <a:gd name="textAreaBottom" fmla="*/ 1089360 h 1089000"/>
                </a:gdLst>
                <a:ahLst/>
                <a:rect l="textAreaLeft" t="textAreaTop" r="textAreaRight" b="textAreaBottom"/>
                <a:pathLst>
                  <a:path w="2349504" h="1247802">
                    <a:moveTo>
                      <a:pt x="1562101" y="1069975"/>
                    </a:moveTo>
                    <a:lnTo>
                      <a:pt x="1457325" y="1165225"/>
                    </a:lnTo>
                    <a:cubicBezTo>
                      <a:pt x="1413934" y="1218936"/>
                      <a:pt x="1465792" y="1248833"/>
                      <a:pt x="1527175" y="1247775"/>
                    </a:cubicBezTo>
                    <a:lnTo>
                      <a:pt x="2251075" y="1241425"/>
                    </a:lnTo>
                    <a:cubicBezTo>
                      <a:pt x="2302933" y="1245393"/>
                      <a:pt x="2350030" y="1201738"/>
                      <a:pt x="2349500" y="1146175"/>
                    </a:cubicBezTo>
                    <a:cubicBezTo>
                      <a:pt x="2348442" y="900642"/>
                      <a:pt x="2347383" y="655108"/>
                      <a:pt x="2346325" y="409575"/>
                    </a:cubicBezTo>
                    <a:cubicBezTo>
                      <a:pt x="2345003" y="342369"/>
                      <a:pt x="2296054" y="334698"/>
                      <a:pt x="2263775" y="365125"/>
                    </a:cubicBezTo>
                    <a:lnTo>
                      <a:pt x="2159000" y="463550"/>
                    </a:lnTo>
                    <a:lnTo>
                      <a:pt x="1727200" y="44450"/>
                    </a:lnTo>
                    <a:cubicBezTo>
                      <a:pt x="1703917" y="16933"/>
                      <a:pt x="1681427" y="10054"/>
                      <a:pt x="1647825" y="0"/>
                    </a:cubicBezTo>
                    <a:lnTo>
                      <a:pt x="355600" y="15875"/>
                    </a:lnTo>
                    <a:cubicBezTo>
                      <a:pt x="97896" y="65617"/>
                      <a:pt x="38100" y="198437"/>
                      <a:pt x="0" y="342900"/>
                    </a:cubicBezTo>
                    <a:cubicBezTo>
                      <a:pt x="61913" y="95779"/>
                      <a:pt x="309564" y="-40216"/>
                      <a:pt x="546101" y="90488"/>
                    </a:cubicBezTo>
                    <a:cubicBezTo>
                      <a:pt x="782638" y="221192"/>
                      <a:pt x="1239309" y="745067"/>
                      <a:pt x="1562101" y="1069975"/>
                    </a:cubicBezTo>
                    <a:close/>
                  </a:path>
                </a:pathLst>
              </a:custGeom>
              <a:solidFill>
                <a:srgbClr val="92d050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" name="TextBox 23"/>
              <p:cNvSpPr/>
              <p:nvPr/>
            </p:nvSpPr>
            <p:spPr>
              <a:xfrm>
                <a:off x="4237560" y="3345480"/>
                <a:ext cx="668880" cy="10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销售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计划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WordArt 538"/>
            <p:cNvSpPr txBox="1"/>
            <p:nvPr/>
          </p:nvSpPr>
          <p:spPr>
            <a:xfrm>
              <a:off x="3706200" y="2642400"/>
              <a:ext cx="702000" cy="574200"/>
            </a:xfrm>
            <a:prstGeom prst="rect">
              <a:avLst/>
            </a:prstGeom>
          </p:spPr>
          <p:txBody>
            <a:bodyPr wrap="none" lIns="90000" rIns="90000" tIns="45000" bIns="450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00" strike="noStrike">
                <a:ln w="0">
                  <a:noFill/>
                </a:ln>
                <a:solidFill>
                  <a:srgbClr val="729fc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产品提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4"/>
          <p:cNvGrpSpPr/>
          <p:nvPr/>
        </p:nvGrpSpPr>
        <p:grpSpPr>
          <a:xfrm>
            <a:off x="323640" y="1917000"/>
            <a:ext cx="8136360" cy="3527640"/>
            <a:chOff x="323640" y="1917000"/>
            <a:chExt cx="8136360" cy="3527640"/>
          </a:xfrm>
        </p:grpSpPr>
        <p:sp>
          <p:nvSpPr>
            <p:cNvPr id="206" name="圆角矩形 5"/>
            <p:cNvSpPr/>
            <p:nvPr/>
          </p:nvSpPr>
          <p:spPr>
            <a:xfrm>
              <a:off x="1907640" y="2061000"/>
              <a:ext cx="6552360" cy="8636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6"/>
            <p:cNvSpPr/>
            <p:nvPr/>
          </p:nvSpPr>
          <p:spPr>
            <a:xfrm>
              <a:off x="323640" y="1917000"/>
              <a:ext cx="1079640" cy="1007640"/>
            </a:xfrm>
            <a:prstGeom prst="ellipse">
              <a:avLst/>
            </a:prstGeom>
            <a:solidFill>
              <a:srgbClr val="ff5050"/>
            </a:solidFill>
            <a:ln>
              <a:noFill/>
            </a:ln>
            <a:effectLst>
              <a:glow rad="101520">
                <a:srgbClr val="eb2722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7"/>
            <p:cNvSpPr/>
            <p:nvPr/>
          </p:nvSpPr>
          <p:spPr>
            <a:xfrm>
              <a:off x="467640" y="4005000"/>
              <a:ext cx="1439640" cy="1439640"/>
            </a:xfrm>
            <a:prstGeom prst="ellipse">
              <a:avLst/>
            </a:prstGeom>
            <a:solidFill>
              <a:srgbClr val="92d050"/>
            </a:solidFill>
            <a:ln>
              <a:noFill/>
            </a:ln>
            <a:effectLst>
              <a:glow rad="101520">
                <a:srgbClr val="a8e034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圆角矩形 8"/>
            <p:cNvSpPr/>
            <p:nvPr/>
          </p:nvSpPr>
          <p:spPr>
            <a:xfrm>
              <a:off x="2699640" y="3069000"/>
              <a:ext cx="5760360" cy="8636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9"/>
            <p:cNvSpPr/>
            <p:nvPr/>
          </p:nvSpPr>
          <p:spPr>
            <a:xfrm>
              <a:off x="1331640" y="2853000"/>
              <a:ext cx="1367640" cy="129564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  <a:effectLst>
              <a:glow rad="101520">
                <a:srgbClr val="ff953e">
                  <a:alpha val="40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圆角矩形 10"/>
            <p:cNvSpPr/>
            <p:nvPr/>
          </p:nvSpPr>
          <p:spPr>
            <a:xfrm>
              <a:off x="1979640" y="4149000"/>
              <a:ext cx="6480360" cy="86364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ffffff">
                  <a:lumMod val="75000"/>
                </a:srgbClr>
              </a:solidFill>
              <a:prstDash val="dash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8"/>
          <p:cNvSpPr/>
          <p:nvPr/>
        </p:nvSpPr>
        <p:spPr>
          <a:xfrm>
            <a:off x="289440" y="64299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新产品销售建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416520" y="1790640"/>
            <a:ext cx="647640" cy="575640"/>
          </a:xfrm>
          <a:prstGeom prst="rect">
            <a:avLst/>
          </a:prstGeom>
          <a:solidFill>
            <a:srgbClr val="00b0f0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15" name="直接箭头连接符 7"/>
          <p:cNvCxnSpPr/>
          <p:nvPr/>
        </p:nvCxnSpPr>
        <p:spPr>
          <a:xfrm>
            <a:off x="416160" y="1790280"/>
            <a:ext cx="648720" cy="576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216" name="直接连接符 8"/>
          <p:cNvCxnSpPr/>
          <p:nvPr/>
        </p:nvCxnSpPr>
        <p:spPr>
          <a:xfrm>
            <a:off x="272160" y="2582280"/>
            <a:ext cx="259272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217" name="TextBox 9"/>
          <p:cNvSpPr/>
          <p:nvPr/>
        </p:nvSpPr>
        <p:spPr>
          <a:xfrm>
            <a:off x="1575720" y="184788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产品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967320" y="26546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08080"/>
                </a:solidFill>
                <a:latin typeface="微软雅黑"/>
                <a:ea typeface="微软雅黑"/>
              </a:rPr>
              <a:t>销售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11"/>
          <p:cNvSpPr/>
          <p:nvPr/>
        </p:nvSpPr>
        <p:spPr>
          <a:xfrm>
            <a:off x="2519640" y="2927520"/>
            <a:ext cx="287640" cy="287640"/>
          </a:xfrm>
          <a:prstGeom prst="ellipse">
            <a:avLst/>
          </a:prstGeom>
          <a:solidFill>
            <a:schemeClr val="bg1"/>
          </a:solidFill>
          <a:ln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13"/>
          <p:cNvSpPr/>
          <p:nvPr/>
        </p:nvSpPr>
        <p:spPr>
          <a:xfrm>
            <a:off x="4577400" y="2078640"/>
            <a:ext cx="4242600" cy="37933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eeece1">
                <a:lumMod val="50000"/>
              </a:srgbClr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</a:pPr>
            <a:endParaRPr b="1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221" name="图片 14" descr=""/>
          <p:cNvPicPr/>
          <p:nvPr/>
        </p:nvPicPr>
        <p:blipFill>
          <a:blip r:embed="rId1"/>
          <a:stretch/>
        </p:blipFill>
        <p:spPr>
          <a:xfrm>
            <a:off x="0" y="3501000"/>
            <a:ext cx="4262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销售计划重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圆角矩形 3"/>
          <p:cNvSpPr/>
          <p:nvPr/>
        </p:nvSpPr>
        <p:spPr>
          <a:xfrm>
            <a:off x="1420920" y="1248120"/>
            <a:ext cx="6319080" cy="11005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728a41"/>
            </a:solidFill>
            <a:prstDash val="dash"/>
            <a:round/>
          </a:ln>
        </p:spPr>
        <p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5"/>
          <p:cNvGrpSpPr/>
          <p:nvPr/>
        </p:nvGrpSpPr>
        <p:grpSpPr>
          <a:xfrm>
            <a:off x="600840" y="4311000"/>
            <a:ext cx="2807280" cy="1133640"/>
            <a:chOff x="600840" y="4311000"/>
            <a:chExt cx="2807280" cy="1133640"/>
          </a:xfrm>
        </p:grpSpPr>
        <p:sp>
          <p:nvSpPr>
            <p:cNvPr id="225" name="流程图: 联系 23"/>
            <p:cNvSpPr/>
            <p:nvPr/>
          </p:nvSpPr>
          <p:spPr>
            <a:xfrm>
              <a:off x="3084480" y="4311000"/>
              <a:ext cx="323640" cy="323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24036" h="324036">
                  <a:moveTo>
                    <a:pt x="108012" y="54006"/>
                  </a:moveTo>
                  <a:lnTo>
                    <a:pt x="108012" y="270030"/>
                  </a:lnTo>
                  <a:lnTo>
                    <a:pt x="270030" y="162018"/>
                  </a:lnTo>
                  <a:close/>
                  <a:moveTo>
                    <a:pt x="162018" y="0"/>
                  </a:moveTo>
                  <a:cubicBezTo>
                    <a:pt x="251498" y="0"/>
                    <a:pt x="324036" y="72538"/>
                    <a:pt x="324036" y="162018"/>
                  </a:cubicBezTo>
                  <a:cubicBezTo>
                    <a:pt x="324036" y="251498"/>
                    <a:pt x="251498" y="324036"/>
                    <a:pt x="162018" y="324036"/>
                  </a:cubicBezTo>
                  <a:cubicBezTo>
                    <a:pt x="72538" y="324036"/>
                    <a:pt x="0" y="251498"/>
                    <a:pt x="0" y="162018"/>
                  </a:cubicBezTo>
                  <a:cubicBezTo>
                    <a:pt x="0" y="72538"/>
                    <a:pt x="72538" y="0"/>
                    <a:pt x="162018" y="0"/>
                  </a:cubicBezTo>
                  <a:close/>
                </a:path>
              </a:pathLst>
            </a:custGeom>
            <a:solidFill>
              <a:srgbClr val="fd604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6" name="等腰三角形 16"/>
            <p:cNvSpPr/>
            <p:nvPr/>
          </p:nvSpPr>
          <p:spPr>
            <a:xfrm rot="5400000">
              <a:off x="1158840" y="3752640"/>
              <a:ext cx="1133640" cy="225000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2250000"/>
                <a:gd name="textAreaBottom" fmla="*/ 2250360 h 2250000"/>
              </a:gdLst>
              <a:ahLst/>
              <a:rect l="textAreaLeft" t="textAreaTop" r="textAreaRight" b="textAreaBottom"/>
              <a:pathLst>
                <a:path w="1134126" h="2250392">
                  <a:moveTo>
                    <a:pt x="270030" y="108012"/>
                  </a:moveTo>
                  <a:lnTo>
                    <a:pt x="351039" y="0"/>
                  </a:lnTo>
                  <a:lnTo>
                    <a:pt x="432048" y="108012"/>
                  </a:lnTo>
                  <a:close/>
                  <a:moveTo>
                    <a:pt x="0" y="2250392"/>
                  </a:moveTo>
                  <a:lnTo>
                    <a:pt x="0" y="117536"/>
                  </a:lnTo>
                  <a:lnTo>
                    <a:pt x="1134126" y="117536"/>
                  </a:lnTo>
                  <a:lnTo>
                    <a:pt x="1134126" y="2250392"/>
                  </a:lnTo>
                  <a:close/>
                </a:path>
              </a:pathLst>
            </a:custGeom>
            <a:solidFill>
              <a:srgbClr val="fd604d"/>
            </a:solidFill>
            <a:ln>
              <a:solidFill>
                <a:srgbClr val="fd604d"/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27" name="TextBox 8"/>
            <p:cNvSpPr/>
            <p:nvPr/>
          </p:nvSpPr>
          <p:spPr>
            <a:xfrm>
              <a:off x="1983240" y="4311000"/>
              <a:ext cx="73584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9"/>
          <p:cNvGrpSpPr/>
          <p:nvPr/>
        </p:nvGrpSpPr>
        <p:grpSpPr>
          <a:xfrm>
            <a:off x="600840" y="3147840"/>
            <a:ext cx="2197440" cy="1146960"/>
            <a:chOff x="600840" y="3147840"/>
            <a:chExt cx="2197440" cy="1146960"/>
          </a:xfrm>
        </p:grpSpPr>
        <p:sp>
          <p:nvSpPr>
            <p:cNvPr id="229" name="TextBox 10"/>
            <p:cNvSpPr/>
            <p:nvPr/>
          </p:nvSpPr>
          <p:spPr>
            <a:xfrm>
              <a:off x="1949760" y="3562560"/>
              <a:ext cx="778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16"/>
            <p:cNvSpPr/>
            <p:nvPr/>
          </p:nvSpPr>
          <p:spPr>
            <a:xfrm rot="5400000">
              <a:off x="825480" y="2936160"/>
              <a:ext cx="1133640" cy="158364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1583640"/>
                <a:gd name="textAreaBottom" fmla="*/ 1584000 h 1583640"/>
              </a:gdLst>
              <a:ahLst/>
              <a:rect l="textAreaLeft" t="textAreaTop" r="textAreaRight" b="textAreaBottom"/>
              <a:pathLst>
                <a:path w="1134126" h="2250392">
                  <a:moveTo>
                    <a:pt x="270030" y="108012"/>
                  </a:moveTo>
                  <a:lnTo>
                    <a:pt x="351039" y="0"/>
                  </a:lnTo>
                  <a:lnTo>
                    <a:pt x="432048" y="108012"/>
                  </a:lnTo>
                  <a:close/>
                  <a:moveTo>
                    <a:pt x="0" y="2250392"/>
                  </a:moveTo>
                  <a:lnTo>
                    <a:pt x="0" y="117536"/>
                  </a:lnTo>
                  <a:lnTo>
                    <a:pt x="1134126" y="117536"/>
                  </a:lnTo>
                  <a:lnTo>
                    <a:pt x="1134126" y="2250392"/>
                  </a:lnTo>
                  <a:close/>
                </a:path>
              </a:pathLst>
            </a:custGeom>
            <a:solidFill>
              <a:srgbClr val="ffc000"/>
            </a:solidFill>
            <a:ln>
              <a:solidFill>
                <a:srgbClr val="ffc000"/>
              </a:solidFill>
              <a:round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31" name="TextBox 12"/>
            <p:cNvSpPr/>
            <p:nvPr/>
          </p:nvSpPr>
          <p:spPr>
            <a:xfrm>
              <a:off x="1434600" y="3161160"/>
              <a:ext cx="73584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"/>
            <p:cNvSpPr/>
            <p:nvPr/>
          </p:nvSpPr>
          <p:spPr>
            <a:xfrm>
              <a:off x="2474640" y="3147840"/>
              <a:ext cx="323640" cy="3236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324000" h="324000">
                  <a:moveTo>
                    <a:pt x="162000" y="87902"/>
                  </a:moveTo>
                  <a:cubicBezTo>
                    <a:pt x="121077" y="87902"/>
                    <a:pt x="87902" y="121077"/>
                    <a:pt x="87902" y="162000"/>
                  </a:cubicBezTo>
                  <a:cubicBezTo>
                    <a:pt x="87902" y="202923"/>
                    <a:pt x="121077" y="236098"/>
                    <a:pt x="162000" y="236098"/>
                  </a:cubicBezTo>
                  <a:cubicBezTo>
                    <a:pt x="202923" y="236098"/>
                    <a:pt x="236098" y="202923"/>
                    <a:pt x="236098" y="162000"/>
                  </a:cubicBezTo>
                  <a:cubicBezTo>
                    <a:pt x="236098" y="121077"/>
                    <a:pt x="202923" y="87902"/>
                    <a:pt x="162000" y="87902"/>
                  </a:cubicBezTo>
                  <a:close/>
                  <a:moveTo>
                    <a:pt x="162000" y="0"/>
                  </a:move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ubicBezTo>
                    <a:pt x="0" y="72530"/>
                    <a:pt x="72530" y="0"/>
                    <a:pt x="162000" y="0"/>
                  </a:cubicBezTo>
                  <a:close/>
                </a:path>
              </a:pathLst>
            </a:custGeom>
            <a:solidFill>
              <a:srgbClr val="91afb4"/>
            </a:solidFill>
            <a:ln>
              <a:solidFill>
                <a:srgbClr val="91afb4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3" name="矩形 14"/>
          <p:cNvSpPr/>
          <p:nvPr/>
        </p:nvSpPr>
        <p:spPr>
          <a:xfrm>
            <a:off x="3022920" y="3177360"/>
            <a:ext cx="572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3517200" y="424476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251640" y="3377160"/>
            <a:ext cx="6768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18" descr=""/>
          <p:cNvPicPr/>
          <p:nvPr/>
        </p:nvPicPr>
        <p:blipFill>
          <a:blip r:embed="rId1"/>
          <a:srcRect l="10630" t="24853" r="10630" b="12134"/>
          <a:stretch/>
        </p:blipFill>
        <p:spPr>
          <a:xfrm>
            <a:off x="885240" y="1434960"/>
            <a:ext cx="1453320" cy="7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19640" y="274680"/>
            <a:ext cx="70668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chemeClr val="accent5">
                    <a:lumMod val="50000"/>
                  </a:schemeClr>
                </a:solidFill>
                <a:latin typeface="微软雅黑"/>
                <a:ea typeface="微软雅黑"/>
              </a:rPr>
              <a:t>所需支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7" descr="YYYY"/>
          <p:cNvPicPr/>
          <p:nvPr/>
        </p:nvPicPr>
        <p:blipFill>
          <a:blip r:embed="rId1"/>
          <a:stretch/>
        </p:blipFill>
        <p:spPr>
          <a:xfrm>
            <a:off x="251640" y="2233080"/>
            <a:ext cx="8352720" cy="25704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38"/>
          <p:cNvSpPr txBox="1"/>
          <p:nvPr/>
        </p:nvSpPr>
        <p:spPr>
          <a:xfrm>
            <a:off x="3672000" y="1801080"/>
            <a:ext cx="1836000" cy="50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00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小标题</a:t>
            </a:r>
            <a:endParaRPr b="0" lang="en-US" sz="20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9"/>
          <p:cNvGrpSpPr/>
          <p:nvPr/>
        </p:nvGrpSpPr>
        <p:grpSpPr>
          <a:xfrm>
            <a:off x="0" y="1726560"/>
            <a:ext cx="1979640" cy="1359720"/>
            <a:chOff x="0" y="1726560"/>
            <a:chExt cx="1979640" cy="1359720"/>
          </a:xfrm>
        </p:grpSpPr>
        <p:sp>
          <p:nvSpPr>
            <p:cNvPr id="241" name="圆角矩形 16"/>
            <p:cNvSpPr/>
            <p:nvPr/>
          </p:nvSpPr>
          <p:spPr>
            <a:xfrm>
              <a:off x="251640" y="2053080"/>
              <a:ext cx="1728000" cy="1033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图片 19" descr=""/>
            <p:cNvPicPr/>
            <p:nvPr/>
          </p:nvPicPr>
          <p:blipFill>
            <a:blip r:embed="rId2"/>
            <a:srcRect l="10630" t="24853" r="10630" b="12134"/>
            <a:stretch/>
          </p:blipFill>
          <p:spPr>
            <a:xfrm>
              <a:off x="0" y="172656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组合 22"/>
          <p:cNvGrpSpPr/>
          <p:nvPr/>
        </p:nvGrpSpPr>
        <p:grpSpPr>
          <a:xfrm>
            <a:off x="1691640" y="3069000"/>
            <a:ext cx="2296440" cy="2088000"/>
            <a:chOff x="1691640" y="3069000"/>
            <a:chExt cx="2296440" cy="2088000"/>
          </a:xfrm>
        </p:grpSpPr>
        <p:sp>
          <p:nvSpPr>
            <p:cNvPr id="244" name="圆角矩形 17"/>
            <p:cNvSpPr/>
            <p:nvPr/>
          </p:nvSpPr>
          <p:spPr>
            <a:xfrm>
              <a:off x="2260080" y="3069000"/>
              <a:ext cx="1728000" cy="2088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图片 20" descr=""/>
            <p:cNvPicPr/>
            <p:nvPr/>
          </p:nvPicPr>
          <p:blipFill>
            <a:blip r:embed="rId3"/>
            <a:srcRect l="10630" t="24853" r="10630" b="12134"/>
            <a:stretch/>
          </p:blipFill>
          <p:spPr>
            <a:xfrm>
              <a:off x="1691640" y="329760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组合 23"/>
          <p:cNvGrpSpPr/>
          <p:nvPr/>
        </p:nvGrpSpPr>
        <p:grpSpPr>
          <a:xfrm>
            <a:off x="4359600" y="3037680"/>
            <a:ext cx="2296800" cy="2088000"/>
            <a:chOff x="4359600" y="3037680"/>
            <a:chExt cx="2296800" cy="2088000"/>
          </a:xfrm>
        </p:grpSpPr>
        <p:sp>
          <p:nvSpPr>
            <p:cNvPr id="247" name="圆角矩形 24"/>
            <p:cNvSpPr/>
            <p:nvPr/>
          </p:nvSpPr>
          <p:spPr>
            <a:xfrm>
              <a:off x="4928400" y="3037680"/>
              <a:ext cx="1728000" cy="20880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图片 25" descr=""/>
            <p:cNvPicPr/>
            <p:nvPr/>
          </p:nvPicPr>
          <p:blipFill>
            <a:blip r:embed="rId4"/>
            <a:srcRect l="10630" t="24853" r="10630" b="12134"/>
            <a:stretch/>
          </p:blipFill>
          <p:spPr>
            <a:xfrm>
              <a:off x="4359600" y="326628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组合 30"/>
          <p:cNvGrpSpPr/>
          <p:nvPr/>
        </p:nvGrpSpPr>
        <p:grpSpPr>
          <a:xfrm>
            <a:off x="6804360" y="1845000"/>
            <a:ext cx="1979280" cy="1359720"/>
            <a:chOff x="6804360" y="1845000"/>
            <a:chExt cx="1979280" cy="1359720"/>
          </a:xfrm>
        </p:grpSpPr>
        <p:sp>
          <p:nvSpPr>
            <p:cNvPr id="250" name="圆角矩形 31"/>
            <p:cNvSpPr/>
            <p:nvPr/>
          </p:nvSpPr>
          <p:spPr>
            <a:xfrm>
              <a:off x="7055640" y="2171520"/>
              <a:ext cx="1728000" cy="103320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  <a:reflection algn="bl" blurRad="6350" dir="5400000" endA="300" endPos="35000" rotWithShape="0" stA="52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文本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32" descr=""/>
            <p:cNvPicPr/>
            <p:nvPr/>
          </p:nvPicPr>
          <p:blipFill>
            <a:blip r:embed="rId5"/>
            <a:srcRect l="10630" t="24853" r="10630" b="12134"/>
            <a:stretch/>
          </p:blipFill>
          <p:spPr>
            <a:xfrm>
              <a:off x="6804360" y="1845000"/>
              <a:ext cx="1156680" cy="57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3640" y="5337360"/>
            <a:ext cx="77720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微软雅黑"/>
                <a:ea typeface="微软雅黑"/>
              </a:rPr>
              <a:t>谢谢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  <Words>96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03:59:06Z</dcterms:created>
  <dc:creator>www.pptbz.com</dc:creator>
  <dc:description/>
  <dc:language>en-US</dc:language>
  <cp:lastModifiedBy>王玉清</cp:lastModifiedBy>
  <dcterms:modified xsi:type="dcterms:W3CDTF">2016-03-06T03:10:02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