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BB92-EE4C-4777-BDC0-E9CBD711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8E5-0615-425E-9B18-3543B6A8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361-BA1C-46A8-8E96-35271FFD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D7E-EE6E-4EB6-9E9B-41DF8138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8925-45A3-42DE-942C-1E89CEE3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876F-B305-4BE0-BBE5-D23521BE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9C56-1D2D-4A61-B74A-3025207A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EE3B-EF69-4749-AD96-6F5A47A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A766-23A4-4722-96E8-8C3707BB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187560"/>
            <a:ext cx="8373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5D49-16F6-49BA-B6EA-3B0932DF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3C5-2ADB-4719-B33E-656E7493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0D2-7B9F-458F-834E-8D4ADEC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24BE-80BE-419B-9038-882DF3D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2740-032B-4B0E-BBC1-F7D91B3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9FB8-80D3-4015-8A1A-F9DF093E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0D74-A331-4A9B-8584-D060C69D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7243-2606-4AEB-AE55-DD0861D5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7EE-5296-4675-AA25-BB10DD06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82D-0A94-4F54-A13B-B39F5096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1A2-F4B7-4D87-A532-9FF8DAB0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87560"/>
            <a:ext cx="83739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1B7-C4A8-4054-A00F-3ADEAA1E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E4F-58DB-4093-8AFC-F02C0205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D0D-BE18-48A7-ADBF-2D50C94F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0F8F-7666-4971-A441-06201B5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F45D-AACC-4BE4-9FB2-34E8AB9FA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87560"/>
            <a:ext cx="8373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DFF9-C00F-4354-A316-DBE5757A6E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7280" y="528480"/>
            <a:ext cx="7413840" cy="13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方正粗倩简体"/>
                <a:ea typeface="方正粗倩简体"/>
              </a:rPr>
              <a:t>七彩夏天通用</a:t>
            </a:r>
            <a:r>
              <a:rPr b="0" lang="en-US" sz="4000" spc="-1" strike="noStrike">
                <a:solidFill>
                  <a:srgbClr val="6633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4000" spc="-1" strike="noStrike">
                <a:solidFill>
                  <a:srgbClr val="663300"/>
                </a:solidFill>
                <a:latin typeface="方正粗倩简体"/>
                <a:ea typeface="方正粗倩简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0" y="662796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af5f6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af5f6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409840" y="1765440"/>
            <a:ext cx="618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640" y="5133600"/>
            <a:ext cx="6189480" cy="77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</a:rPr>
              <a:t>谢谢欣赏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95280" y="6504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3:45:50Z</dcterms:created>
  <dc:creator/>
  <dc:description/>
  <cp:keywords/>
  <dc:language>en-US</dc:language>
  <cp:lastModifiedBy>王玉清</cp:lastModifiedBy>
  <cp:lastPrinted>1899-12-30T00:00:00Z</cp:lastPrinted>
  <dcterms:modified xsi:type="dcterms:W3CDTF">2016-02-21T03:37:05Z</dcterms:modified>
  <cp:revision>5</cp:revision>
  <dc:subject/>
  <dc:title>非凡图库：www.ffpic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