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04E-E6AA-4F00-9F54-EC3EF07A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64F-DC30-4B1A-9E64-195AE2A8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C0A-5135-427F-92DA-BA58EDF6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0D9-652F-42AA-96A9-6281E969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9EA-A07A-4677-B3FF-6365D1D9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5AA-6617-4376-A4C2-A7550427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3BA9-84B4-45C2-B61D-2E183A40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BB7-A938-458E-B115-18A8EF8F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9F5-711F-4753-8551-E4661DBF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E3A-F476-4398-AE7F-99CE3EBB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800-A1BA-472F-AB8B-EF0021D7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B3B-684C-4D82-87F7-8BA1A026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D26B-86D4-4C08-8FEA-D1FCAC00146B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3217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清爽简约绿色商务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2:51:15Z</dcterms:created>
  <dc:creator>ppt宝藏</dc:creator>
  <dc:description/>
  <dc:language>en-US</dc:language>
  <cp:lastModifiedBy>a</cp:lastModifiedBy>
  <dcterms:modified xsi:type="dcterms:W3CDTF">2015-07-25T06:21:39Z</dcterms:modified>
  <cp:revision>4</cp:revision>
  <dc:subject/>
  <dc:title>www.pptbz.com</dc:title>
</cp:coreProperties>
</file>