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6595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AEF8-331A-476F-912E-B5FCC0162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53760"/>
            <a:ext cx="8229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8CF6-A726-473D-BD91-8829127AD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53760"/>
            <a:ext cx="40158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53760"/>
            <a:ext cx="40158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A742-49FD-4D4E-A37B-14ECBD1A4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53760"/>
            <a:ext cx="2649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53760"/>
            <a:ext cx="2649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53760"/>
            <a:ext cx="2649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840"/>
            <a:ext cx="2649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840"/>
            <a:ext cx="2649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840"/>
            <a:ext cx="2649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7122-24AB-4FB4-8626-6E6301264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157CE-EACA-40C0-B75F-114E02D27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553760"/>
            <a:ext cx="8229600" cy="439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93C63-BD80-4AD5-8C8F-BB3F8341C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53760"/>
            <a:ext cx="822960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30B7F-DF79-4A2C-96C6-220781985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53760"/>
            <a:ext cx="401580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53760"/>
            <a:ext cx="401580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BAF3C-65BE-40EF-97AD-A5E686B5A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F963A-156F-4ACA-A207-B23349280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960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22E36-1FCD-433E-91E0-B02129B92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53760"/>
            <a:ext cx="40158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53760"/>
            <a:ext cx="401580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6BB9B-2CE2-4BCF-84C1-CF477B61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53760"/>
            <a:ext cx="8229600" cy="439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A786-349B-451C-9DD3-7012729B0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53760"/>
            <a:ext cx="401580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53760"/>
            <a:ext cx="40158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EE56F-D965-4151-AA46-564AC53A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53760"/>
            <a:ext cx="40158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53760"/>
            <a:ext cx="40158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60F44-2C08-46A3-8DDC-1B89FC04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53760"/>
            <a:ext cx="8229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2EF8E-BD9B-4C30-88DF-707664F4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53760"/>
            <a:ext cx="40158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53760"/>
            <a:ext cx="40158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FB741-6B7F-4AF4-A159-FF43CBD5E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53760"/>
            <a:ext cx="2649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553760"/>
            <a:ext cx="2649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553760"/>
            <a:ext cx="2649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49840"/>
            <a:ext cx="2649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49840"/>
            <a:ext cx="2649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49840"/>
            <a:ext cx="2649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8FE5B-52AD-4975-9410-E6DFBE991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53760"/>
            <a:ext cx="822960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D998-930F-462E-B5A2-E63A1C9D9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53760"/>
            <a:ext cx="401580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53760"/>
            <a:ext cx="401580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243C-926E-4ADD-A0A5-A2902E71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AC6E-20BC-43DF-8F68-9D2D757D7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960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BE7F-1A7A-4A6A-8F0A-C7DE2802F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53760"/>
            <a:ext cx="40158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53760"/>
            <a:ext cx="401580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7676-4638-49A4-8FED-61E212A4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53760"/>
            <a:ext cx="401580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53760"/>
            <a:ext cx="40158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2E3B-9FD9-4C06-BACE-64612064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53760"/>
            <a:ext cx="40158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53760"/>
            <a:ext cx="40158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FB7E-C2A7-4251-93B6-1C01ABBD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4680" y="-4680"/>
            <a:ext cx="9185040" cy="6677640"/>
          </a:xfrm>
          <a:prstGeom prst="rect">
            <a:avLst/>
          </a:prstGeom>
          <a:solidFill>
            <a:srgbClr val="99cc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53760"/>
            <a:ext cx="822960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064200"/>
            <a:ext cx="213372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064200"/>
            <a:ext cx="28958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064200"/>
            <a:ext cx="213372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FAA22-7E9F-4D6D-95C5-78F8763D89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622600"/>
            <a:ext cx="7772400" cy="14270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064200"/>
            <a:ext cx="213372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064200"/>
            <a:ext cx="28958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064200"/>
            <a:ext cx="213372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32700-D289-4546-9C37-AC664CD17E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558440"/>
            <a:ext cx="82292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622600"/>
            <a:ext cx="7772400" cy="14270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4133880"/>
            <a:ext cx="6400800" cy="10684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920" y="6354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71200" y="23508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日本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免费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53760"/>
            <a:ext cx="822960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55640" y="3762360"/>
            <a:ext cx="69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素材下载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3960"/>
            <a:ext cx="8207280" cy="55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000" y="1233000"/>
            <a:ext cx="8928000" cy="50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286760" y="324000"/>
            <a:ext cx="1388880" cy="3394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159F-DDF7-4761-8CC8-0646795E609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5:50:5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2:34:09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