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57F-DCD9-4EC7-BF6A-5238E10D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29A-497A-4954-BB20-20E8D179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A22D-02B5-452E-AD7F-2ECF153E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8A85-7B4F-49DB-BD3E-B1A68711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5B69-762D-42FF-B510-73099614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7A4-EF7E-451C-BAB3-EE99EB8F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5A4B-07B3-4D79-905C-B6C2A04C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515D-EF1D-492D-8632-7CDFDFBC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5FD-B1A8-43B3-9619-11F1631D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848-B8D5-42D7-956C-297DBBA9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5875-6555-4B34-B0D1-91FA8403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192-E09C-41DD-97DF-E217570F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9" descr="E:\图片资料\e-mail\stationery\abstract_H_Z\urban\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33"/>
          <p:cNvGrpSpPr/>
          <p:nvPr/>
        </p:nvGrpSpPr>
        <p:grpSpPr>
          <a:xfrm>
            <a:off x="6810480" y="304920"/>
            <a:ext cx="2376000" cy="6095520"/>
            <a:chOff x="6810480" y="304920"/>
            <a:chExt cx="2376000" cy="6095520"/>
          </a:xfrm>
        </p:grpSpPr>
        <p:pic>
          <p:nvPicPr>
            <p:cNvPr id="2" name="Picture 331" descr="E:\图片资料\e-mail\stationery\abstract_H_Z\urban\3.jpg"/>
            <p:cNvPicPr/>
            <p:nvPr/>
          </p:nvPicPr>
          <p:blipFill>
            <a:blip r:embed="rId3"/>
            <a:stretch/>
          </p:blipFill>
          <p:spPr>
            <a:xfrm>
              <a:off x="6810480" y="1537200"/>
              <a:ext cx="2361240" cy="48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327" descr="E:\图片资料\e-mail\stationery\abstract_H_Z\urban\urban_right.gif"/>
            <p:cNvPicPr/>
            <p:nvPr/>
          </p:nvPicPr>
          <p:blipFill>
            <a:blip r:embed="rId4"/>
            <a:stretch/>
          </p:blipFill>
          <p:spPr>
            <a:xfrm>
              <a:off x="6810480" y="304920"/>
              <a:ext cx="2376000" cy="1247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Picture 328" descr="E:\图片资料\e-mail\stationery\abstract_H_Z\urban\urban_top.gif"/>
          <p:cNvPicPr/>
          <p:nvPr/>
        </p:nvPicPr>
        <p:blipFill>
          <a:blip r:embed="rId5"/>
          <a:stretch/>
        </p:blipFill>
        <p:spPr>
          <a:xfrm>
            <a:off x="6708600" y="71280"/>
            <a:ext cx="2435400" cy="228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68" descr="E:\jll\河山图标.jpg"/>
          <p:cNvPicPr/>
          <p:nvPr/>
        </p:nvPicPr>
        <p:blipFill>
          <a:blip r:embed="rId6"/>
          <a:stretch/>
        </p:blipFill>
        <p:spPr>
          <a:xfrm>
            <a:off x="495288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330" descr="E:\图片资料\e-mail\stationery\abstract_H_Z\urban\2.jpg"/>
          <p:cNvPicPr/>
          <p:nvPr/>
        </p:nvPicPr>
        <p:blipFill>
          <a:blip r:embed="rId7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326" descr="E:\图片资料\e-mail\stationery\abstract_H_Z\urban\urban_bottom.gif"/>
          <p:cNvPicPr/>
          <p:nvPr/>
        </p:nvPicPr>
        <p:blipFill>
          <a:blip r:embed="rId8"/>
          <a:stretch/>
        </p:blipFill>
        <p:spPr>
          <a:xfrm>
            <a:off x="1219320" y="6114960"/>
            <a:ext cx="6858000" cy="7430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07EA-1004-4ACC-91C4-464F12249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人物剪影完整版商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5:39:43Z</dcterms:created>
  <dc:creator>ppt宝藏</dc:creator>
  <dc:description/>
  <dc:language>en-US</dc:language>
  <cp:lastModifiedBy>a</cp:lastModifiedBy>
  <dcterms:modified xsi:type="dcterms:W3CDTF">2015-07-25T07:30:30Z</dcterms:modified>
  <cp:revision>13</cp:revision>
  <dc:subject/>
  <dc:title>www.pptbz.com</dc:title>
</cp:coreProperties>
</file>