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B8F4-8D97-4AC4-846A-6D22CC9E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5F481-E4FB-4DA0-9982-244FA08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49A0B-9E09-4371-AB92-362CB42C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0C4D-7FCB-466B-87AB-F0996D1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5610-0E48-46D1-BF37-338DDA7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B86C-A087-4D20-A35A-00CFB300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1F1C1-C63F-43BA-B2D2-F8A20282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48CC1-38BD-4DEB-9C90-9D76549C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0CB42-B072-4818-8ACB-C944B67D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A6B7-EAF3-49FC-9BAF-FC766286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95823-71A9-4B25-B702-F48C8F3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4D01-4C3C-4850-B2FB-4DBE25B7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8E9B-9DEF-4359-826A-F16686A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E0C5-F59A-4820-90CF-AE347EA2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58CCA-1C90-4F67-BEAF-5419D173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CC71F-D31E-4211-97A4-EDFF7FE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4D36-200E-48A6-90E3-B07D4FE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16187-1EB4-4A9D-BE39-82C2BF9F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C2EC9-798C-4A3E-929E-0B6DDCE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DC87-DA96-4E2B-9894-DF22393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F40FE-0CFF-422B-A5A4-F63A7742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4D485-A523-466D-90E6-FB4E628B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80295-8BD7-4B9B-B98F-1911EFC6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4B576-BA32-4368-BDFB-083E8EE8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DE261-8F63-4299-BDAE-BD37BE5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E9149-F5B0-4631-9EC8-DEA7C7C3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35C01-CE0A-490F-92FF-1CFAB4AA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D7192-83ED-484C-9A97-E0A7257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2D47A-828A-4705-BCFF-35AF502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1A9C1-9519-4DEB-94C0-094A00B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993-43E0-4630-87FC-2FCE5CDC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A223-98D6-4667-9AC3-DE92A889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A8273-FA89-4672-9B5D-CE56AAC3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C15BE-DC71-4C42-BA4B-49F86D4F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2B3F5-18BE-41D7-BD6F-CB0B9519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AA78D-2937-4AED-BCE7-EA73FA96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846DF-6838-4972-9A55-FE63A52B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357D-92C9-47E0-9FAD-5A60F61A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B4CE6-C511-45F0-AB20-BF1C99B7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D6162-4AFF-4BCB-85E9-1C3261D5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B524A-085F-4535-9F9C-51A3912E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883-219E-4E5E-A27B-892E0658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2BEE7-27B5-4D22-9DD9-E1527D5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7D7DA-7D3B-4B7C-BA48-3ECB56A2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68723-4A2E-40B9-B8B8-79DF2B73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E76F8-EAB5-4F3B-BBA8-A260765C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728AE-459B-4C29-AACB-B9E65032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3761E-4001-4462-87FC-EAC8E06E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B2DCD-8E8E-47B8-A2FB-5A961DD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B14A5-11EF-400A-9F4F-F7217D76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2F9FF-DB6D-4A49-A402-32A8B8C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36B6D-8B66-4DE3-9BA9-9ECFD527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779-0F44-4BB7-A6E9-0A43A668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AA46C-3013-474F-93A6-AC759FDE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5776D-5FF6-419F-A08A-88620714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83EBD-C5EA-4950-8535-44785B9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4937A-2800-4CFC-9251-9924B70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A21D-8427-45AF-AA57-62C1E446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63F1-0F17-477F-9113-63A017A9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CF771-D998-4109-9D99-1D986DA7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126-D010-4B3B-892C-529776E2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7B4-C91D-41BD-A6A7-45D68C1A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544-5C21-491A-B330-306BFDB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784-E1A3-4CF7-850E-EE8F22C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F3A-B0B4-420A-97B7-2C722DA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6AD-C2AE-4B56-895F-F33BB5FE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1F8-7E96-495C-9261-A46C20D0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F7C-983F-4EB9-826B-7F3467F1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55E-3FE9-4C7E-B21D-82B25BA9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7846-0132-46A5-8294-BB58F45F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322F-2B65-40D3-BE0D-7A651873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94E4-6B77-43C9-8250-D4473F30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79B5-8FAD-4213-879C-18971C3F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451B-D717-4C87-A532-73A3C207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34E1-B579-4D68-9603-F2B88A96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070F-4962-4209-AE7F-D639C3A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BBB-F80A-442F-A350-305F0BD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78BB-588F-4438-AE84-89B81E5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EB31-1EA1-419E-8940-E2F9561D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2ADE-B128-43A6-986C-B42B37FF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1E88-DB07-4C59-BE65-D5FA8D4E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D985-7D96-4B6B-9009-7D7F7552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6061-929E-4459-8652-7ACBCC6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56C2-1872-4CCC-B937-091ADBD0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76B1-4346-4625-8A82-9716EEA5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51FD-A5CA-4964-8D66-2214AC68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F7D8-DB37-4B66-BD57-A5C0E70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BD2D-F444-468F-9F8F-750EA8E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5F47-B920-48E3-B26F-5151AA2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BF3B-E3D6-4B08-9B89-53E3CC80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7939-1A78-4DF4-8377-A4D01D2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1E71F-C682-431A-8106-26A2DC4E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54BB-A062-42A5-86D0-A98E1C1A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185D-A8D2-48C8-86B5-C658A5F9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AC51-A96D-4563-B83A-17D2AEF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8759-1192-4132-9EB8-5D6AD276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B032-2DAB-4542-9226-4E16C2FF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A44B-5BBE-48E3-9FCE-758A8F6A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2A1D-4D3C-40AF-B33C-7BF74F4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30BC6-5611-40AC-9544-C4ADC03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CB89-4A07-4D4E-AF36-7052984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716D-F618-479B-B9F4-AA863FF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844D-1D80-4C8C-B2EB-5885B3E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6E45-DE78-4CA4-8ED9-E51EBD8B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C9F1-0D20-48A7-A7EC-34CDDD2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B8575-E066-47F5-9722-EBFB8D70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BF6CD-DA98-4143-93D7-4FA0FDC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D4EE-A9DC-4DA7-8EF5-F0CA69F5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4FA5-465F-413D-B85A-2B7976A8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D4AF-E2EC-4571-A64D-83BBF8F4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5CD0-2C3F-4E5A-9A96-8A066DEB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4101F-D561-476F-8025-9AD3996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9BD2-2DAB-4B21-AE52-84E48285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8ED2-E606-48E2-8535-DB2A040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BC33-4C3C-42ED-BBCC-363D04E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A1AB-A972-4BE6-BC4A-73F40985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376C-44A9-4D89-A740-0B032A9F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0719-D2D5-4D74-9322-CBD74416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9EA1-AF0D-473B-9A5B-1BD893AC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A4F42-C4E5-41CA-A04A-E244C56B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D73A2-D8F6-4823-8786-E24A14F6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C530A-1B9D-4360-A19E-574D49B1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09EC6-497D-4302-BA79-224D0AD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C213-F9EC-4CCA-951E-39F506D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7B8A-DD79-4818-A507-2A83932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1B02-6C61-4E4F-8A3A-B5F6AD1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73152-0B50-407F-9B33-28CD168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28DA-8041-4F8E-9CC6-BE4E6B92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00E2-9415-48F3-A24B-529A8882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1939-4982-43AA-949A-20BF985B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7D8C-74CF-4830-87B4-38FFF724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42D2-3BF9-4A4F-9A20-76335D1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6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E2C4-DE4A-472F-A85D-785ED30B25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ABD9-27AF-4E6C-8C4D-DE74A7573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0B50-BD3F-4A09-B808-0BB9A490C9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74A4-4486-463C-ABD8-D065F27A91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ED52-C336-4F64-8DD0-B442ACECA0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57A0-4E20-4E3B-88BC-CEA60D9986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844D-BE93-42FF-8CB1-9F56DE86DD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EA3B-836E-40AE-AEA8-1A203FC50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79E-EDC2-4FAE-8E19-478C010136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44B-8489-4362-8397-7E69316775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5" descr=""/>
          <p:cNvPicPr/>
          <p:nvPr/>
        </p:nvPicPr>
        <p:blipFill>
          <a:blip r:embed="rId2"/>
          <a:stretch/>
        </p:blipFill>
        <p:spPr>
          <a:xfrm>
            <a:off x="7524720" y="1268280"/>
            <a:ext cx="1619280" cy="558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"/>
          <p:cNvPicPr/>
          <p:nvPr/>
        </p:nvPicPr>
        <p:blipFill>
          <a:blip r:embed="rId3"/>
          <a:stretch/>
        </p:blipFill>
        <p:spPr>
          <a:xfrm>
            <a:off x="7451640" y="836640"/>
            <a:ext cx="399960" cy="1390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"/>
          <p:cNvPicPr/>
          <p:nvPr/>
        </p:nvPicPr>
        <p:blipFill>
          <a:blip r:embed="rId4"/>
          <a:stretch/>
        </p:blipFill>
        <p:spPr>
          <a:xfrm>
            <a:off x="250920" y="5877000"/>
            <a:ext cx="2520720" cy="71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1" descr=""/>
          <p:cNvPicPr/>
          <p:nvPr/>
        </p:nvPicPr>
        <p:blipFill>
          <a:blip r:embed="rId5"/>
          <a:stretch/>
        </p:blipFill>
        <p:spPr>
          <a:xfrm>
            <a:off x="6156360" y="5419800"/>
            <a:ext cx="139068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2" descr=""/>
          <p:cNvPicPr/>
          <p:nvPr/>
        </p:nvPicPr>
        <p:blipFill>
          <a:blip r:embed="rId6"/>
          <a:stretch/>
        </p:blipFill>
        <p:spPr>
          <a:xfrm>
            <a:off x="6084720" y="4221000"/>
            <a:ext cx="151164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"/>
          <p:cNvPicPr/>
          <p:nvPr/>
        </p:nvPicPr>
        <p:blipFill>
          <a:blip r:embed="rId7"/>
          <a:stretch/>
        </p:blipFill>
        <p:spPr>
          <a:xfrm>
            <a:off x="5508720" y="5013360"/>
            <a:ext cx="1008000" cy="77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4" descr=""/>
          <p:cNvPicPr/>
          <p:nvPr/>
        </p:nvPicPr>
        <p:blipFill>
          <a:blip r:embed="rId8"/>
          <a:stretch/>
        </p:blipFill>
        <p:spPr>
          <a:xfrm>
            <a:off x="5292720" y="5013360"/>
            <a:ext cx="1152360" cy="88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5" descr=""/>
          <p:cNvPicPr/>
          <p:nvPr/>
        </p:nvPicPr>
        <p:blipFill>
          <a:blip r:embed="rId9"/>
          <a:stretch/>
        </p:blipFill>
        <p:spPr>
          <a:xfrm>
            <a:off x="5148360" y="48690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6" descr=""/>
          <p:cNvPicPr/>
          <p:nvPr/>
        </p:nvPicPr>
        <p:blipFill>
          <a:blip r:embed="rId10"/>
          <a:stretch/>
        </p:blipFill>
        <p:spPr>
          <a:xfrm>
            <a:off x="5148360" y="5157720"/>
            <a:ext cx="1152360" cy="17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"/>
          <p:cNvPicPr/>
          <p:nvPr/>
        </p:nvPicPr>
        <p:blipFill>
          <a:blip r:embed="rId11"/>
          <a:stretch/>
        </p:blipFill>
        <p:spPr>
          <a:xfrm>
            <a:off x="6156360" y="4797360"/>
            <a:ext cx="1152360" cy="88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8" descr=""/>
          <p:cNvPicPr/>
          <p:nvPr/>
        </p:nvPicPr>
        <p:blipFill>
          <a:blip r:embed="rId12"/>
          <a:stretch/>
        </p:blipFill>
        <p:spPr>
          <a:xfrm>
            <a:off x="6516720" y="4221000"/>
            <a:ext cx="1297080" cy="99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9" descr=""/>
          <p:cNvPicPr/>
          <p:nvPr/>
        </p:nvPicPr>
        <p:blipFill>
          <a:blip r:embed="rId13"/>
          <a:stretch/>
        </p:blipFill>
        <p:spPr>
          <a:xfrm>
            <a:off x="6084720" y="5300640"/>
            <a:ext cx="576360" cy="44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0" descr=""/>
          <p:cNvPicPr/>
          <p:nvPr/>
        </p:nvPicPr>
        <p:blipFill>
          <a:blip r:embed="rId14"/>
          <a:stretch/>
        </p:blipFill>
        <p:spPr>
          <a:xfrm>
            <a:off x="7020000" y="5229360"/>
            <a:ext cx="647640" cy="49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1" descr=""/>
          <p:cNvPicPr/>
          <p:nvPr/>
        </p:nvPicPr>
        <p:blipFill>
          <a:blip r:embed="rId15"/>
          <a:stretch/>
        </p:blipFill>
        <p:spPr>
          <a:xfrm>
            <a:off x="7308720" y="5805360"/>
            <a:ext cx="216000" cy="16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2" descr=""/>
          <p:cNvPicPr/>
          <p:nvPr/>
        </p:nvPicPr>
        <p:blipFill>
          <a:blip r:embed="rId16"/>
          <a:stretch/>
        </p:blipFill>
        <p:spPr>
          <a:xfrm>
            <a:off x="7164360" y="5516640"/>
            <a:ext cx="360360" cy="277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3" descr=""/>
          <p:cNvPicPr/>
          <p:nvPr/>
        </p:nvPicPr>
        <p:blipFill>
          <a:blip r:embed="rId17"/>
          <a:stretch/>
        </p:blipFill>
        <p:spPr>
          <a:xfrm>
            <a:off x="1403280" y="5805360"/>
            <a:ext cx="187164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C25-D226-4484-8538-2BF07C280A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2C42-4099-4431-AC96-392274BF8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2655-2F83-4596-90A4-202CAB1FC8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9C7E-5A89-42DA-8040-A342D45DB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9157-68A9-4065-8FBF-1D3905AB01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EF9C-D488-409E-8D33-2B035C7120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C932-948D-4A45-ACC0-DD33FBDA33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FC2E-2220-46C5-A88C-3A665C252D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5ABD-9954-4B85-B53C-ACDE2187D5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3146-A162-446C-A088-FAE2B49B21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120E-C147-428B-A72D-A940BAC6FC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F763-03CF-4BED-B934-9E6744ACEF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85800" y="3429000"/>
            <a:ext cx="46436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61840" y="1989000"/>
            <a:ext cx="73818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华文行楷"/>
                <a:ea typeface="华文行楷"/>
              </a:rPr>
              <a:t>手绘笑傲江湖动态</a:t>
            </a:r>
            <a:r>
              <a:rPr b="0" lang="en-US" sz="4000" spc="-1" strike="noStrike">
                <a:solidFill>
                  <a:srgbClr val="292929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292929"/>
                </a:solidFill>
                <a:latin typeface="华文行楷"/>
                <a:ea typeface="华文行楷"/>
              </a:rPr>
              <a:t>模板下载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d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548" name="图示 2" descr=""/>
          <p:cNvPicPr/>
          <p:nvPr/>
        </p:nvPicPr>
        <p:blipFill>
          <a:blip r:embed="rId1"/>
          <a:stretch/>
        </p:blipFill>
        <p:spPr>
          <a:xfrm>
            <a:off x="1511280" y="1395360"/>
            <a:ext cx="6127920" cy="40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示 2" descr=""/>
          <p:cNvPicPr/>
          <p:nvPr/>
        </p:nvPicPr>
        <p:blipFill>
          <a:blip r:embed="rId1"/>
          <a:stretch/>
        </p:blipFill>
        <p:spPr>
          <a:xfrm>
            <a:off x="1523880" y="1384200"/>
            <a:ext cx="6096240" cy="4089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示 2" descr=""/>
          <p:cNvPicPr/>
          <p:nvPr/>
        </p:nvPicPr>
        <p:blipFill>
          <a:blip r:embed="rId1"/>
          <a:stretch/>
        </p:blipFill>
        <p:spPr>
          <a:xfrm>
            <a:off x="1390680" y="82224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5:37:21Z</dcterms:created>
  <dc:creator>wq</dc:creator>
  <dc:description/>
  <cp:keywords/>
  <dc:language>en-US</dc:language>
  <cp:lastModifiedBy>王玉清</cp:lastModifiedBy>
  <dcterms:modified xsi:type="dcterms:W3CDTF">2016-02-19T07:28:54Z</dcterms:modified>
  <cp:revision>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7</vt:r8>
  </property>
</Properties>
</file>