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FAB-259C-4E6A-88F4-A011A1B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0B1-94B6-4F56-B9CC-C45B7D9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B45-1851-4011-B2C8-18A1AA1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5A3-DD53-48A4-ADFD-B24AAE9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4E5-4FA4-4743-A4E6-9A7B880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FEF-496E-405D-AC85-0C568473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44E-5B57-4901-8850-D2D32C8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D04-9A20-4881-9BA4-014083B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3ED-E00A-48B6-BC35-B40F55E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9E5-D4CE-4690-B918-D5B5905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941-43C9-473F-BEE3-0823AD8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87E-21F0-4091-B26F-1BD3702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jll\河山图标.jpg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1" descr="E:\图片资料\e-mail\stationery\abstract_A_G\binary_again\2020.jpg"/>
          <p:cNvPicPr/>
          <p:nvPr/>
        </p:nvPicPr>
        <p:blipFill>
          <a:blip r:embed="rId3"/>
          <a:stretch/>
        </p:blipFill>
        <p:spPr>
          <a:xfrm>
            <a:off x="228600" y="0"/>
            <a:ext cx="82296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1" descr="E:\图片资料\e-mail\stationery\abstract_A_G\binary_again\binary_again_left.gif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4"/>
          <p:cNvGrpSpPr/>
          <p:nvPr/>
        </p:nvGrpSpPr>
        <p:grpSpPr>
          <a:xfrm>
            <a:off x="8458200" y="0"/>
            <a:ext cx="685800" cy="6857640"/>
            <a:chOff x="8458200" y="0"/>
            <a:chExt cx="685800" cy="6857640"/>
          </a:xfrm>
        </p:grpSpPr>
        <p:pic>
          <p:nvPicPr>
            <p:cNvPr id="4" name="Picture 33" descr="E:\图片资料\e-mail\stationery\abstract_A_G\binary_again\binary_again_right.gif"/>
            <p:cNvPicPr/>
            <p:nvPr/>
          </p:nvPicPr>
          <p:blipFill>
            <a:blip r:embed="rId5"/>
            <a:stretch/>
          </p:blipFill>
          <p:spPr>
            <a:xfrm>
              <a:off x="8458200" y="3085920"/>
              <a:ext cx="685800" cy="37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83" descr="E:\图片资料\e-mail\stationery\abstract_A_G\binary_again\binary_again_right.gif"/>
            <p:cNvPicPr/>
            <p:nvPr/>
          </p:nvPicPr>
          <p:blipFill>
            <a:blip r:embed="rId6"/>
            <a:stretch/>
          </p:blipFill>
          <p:spPr>
            <a:xfrm>
              <a:off x="8458200" y="0"/>
              <a:ext cx="685800" cy="40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5B4-FB17-404D-81E5-F37B605D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数码便笺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8:51:17Z</dcterms:created>
  <dc:creator>ppt宝藏</dc:creator>
  <dc:description/>
  <dc:language>en-US</dc:language>
  <cp:lastModifiedBy>a</cp:lastModifiedBy>
  <dcterms:modified xsi:type="dcterms:W3CDTF">2015-07-25T03:13:04Z</dcterms:modified>
  <cp:revision>10</cp:revision>
  <dc:subject/>
  <dc:title>www.pptbz.com</dc:title>
</cp:coreProperties>
</file>