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070D-A895-47AB-88D2-C909F27F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0EAD-93B5-41B6-A17B-676DAEF9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1D1-9C34-480D-89B1-10EB50FC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ED6F-8AF7-4712-8D15-D5AD7074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4D94-C04A-4787-A6EE-6F33D8F0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F65C-A246-4002-A567-2A7793A0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3BA1-5119-42B9-B78F-CC8B1100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D60D-79B7-4AFB-B1B2-3F7119D1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61A0-942A-4293-87D5-2D70550C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D65E-803E-46A8-B1FF-9D5028AF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8B0D-E12B-4BC3-BFC8-9990D750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B652-D181-41A8-B927-1F5EA2D1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26F1-1E7A-4B0B-AAA3-58CEC0FE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A208-84CB-4AA6-9F35-77D04F89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CC3E-0E9B-4725-A0D4-FBA026E7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FC53-2537-4699-B747-AC1DC062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CF6A-ECEC-4412-BDA5-6348C45D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1C4-5EB2-41B4-B8D2-5880DAD2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C923-510C-44E6-B4E0-54CB03C8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5FCF-A843-4736-BC02-3E7957DB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A6B4-EEB1-42AD-8A92-EE381F83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CEC-3E10-4D42-9EF3-3AB6705E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8D50-857B-40C8-9734-BD8178AD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7C02-2B2C-4A2A-8DE2-30A1FFC5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936B-FA15-4A8B-A523-E357FA52B4AF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7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380880" y="3189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Rectangle 1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8095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28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0864-6F8A-4A83-832C-88DBFE2B211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商务创意通用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模板完整版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页脚占位符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1f6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ca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ca051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3ca051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0572c"/>
              </a:gs>
              <a:gs pos="50000">
                <a:srgbClr val="3ca051"/>
              </a:gs>
              <a:gs pos="100000">
                <a:srgbClr val="20572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266633"/>
              </a:gs>
              <a:gs pos="100000">
                <a:srgbClr val="3ca051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7adb5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7adb5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25e62"/>
              </a:gs>
              <a:gs pos="50000">
                <a:srgbClr val="97adb5"/>
              </a:gs>
              <a:gs pos="100000">
                <a:srgbClr val="525e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606e73"/>
              </a:gs>
              <a:gs pos="100000">
                <a:srgbClr val="97adb5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1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62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6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1f63a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1f63ad">
                  <a:alpha val="32156"/>
                </a:srgbClr>
              </a:gs>
              <a:gs pos="100000">
                <a:srgbClr val="0e2e5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1365e"/>
              </a:gs>
              <a:gs pos="50000">
                <a:srgbClr val="1f63ad"/>
              </a:gs>
              <a:gs pos="100000">
                <a:srgbClr val="11365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143f6e"/>
              </a:gs>
              <a:gs pos="100000">
                <a:srgbClr val="1f63a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1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72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4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6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77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1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页脚占位符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ca051"/>
              </a:gs>
              <a:gs pos="100000">
                <a:srgbClr val="1f63ad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Text Box 32"/>
          <p:cNvSpPr/>
          <p:nvPr/>
        </p:nvSpPr>
        <p:spPr>
          <a:xfrm>
            <a:off x="5334120" y="33526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190b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Oval 35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Oval 36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Oval 37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Oval 38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Oval 39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Text Box 40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Oval 41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5" name="Group 42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96" name="Oval 43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Oval 44"/>
            <p:cNvSpPr/>
            <p:nvPr/>
          </p:nvSpPr>
          <p:spPr>
            <a:xfrm>
              <a:off x="14148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8" name="Oval 45"/>
            <p:cNvSpPr/>
            <p:nvPr/>
          </p:nvSpPr>
          <p:spPr>
            <a:xfrm>
              <a:off x="14281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9" name="Oval 46"/>
            <p:cNvSpPr/>
            <p:nvPr/>
          </p:nvSpPr>
          <p:spPr>
            <a:xfrm>
              <a:off x="14997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Text Box 47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1" name="Oval 48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Oval 49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Oval 50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Oval 51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Oval 52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Text Box 53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Oval 54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Oval 55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Oval 56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Oval 57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Oval 58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Text Box 59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页脚占位符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77a0cd">
                  <a:alpha val="12156"/>
                </a:srgbClr>
              </a:gs>
              <a:gs pos="50000">
                <a:srgbClr val="1f63ad"/>
              </a:gs>
              <a:gs pos="100000">
                <a:srgbClr val="77a0cd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91c99d"/>
              </a:gs>
              <a:gs pos="100000">
                <a:srgbClr val="3ca05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fdfd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fdfd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fdfd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fdfd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fdfd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页脚占位符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5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26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2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33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4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5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6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7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8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0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41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4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55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59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60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1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2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3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4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65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页脚占位符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72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74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375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376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7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379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-360 h 376920"/>
                  <a:gd name="textAreaBottom" fmla="*/ 376920 h 37692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0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-36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82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87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388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0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1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392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393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394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5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397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-360 h 376920"/>
                  <a:gd name="textAreaBottom" fmla="*/ 376920 h 37692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8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-36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4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05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9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10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11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2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13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14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-360 h 376920"/>
                  <a:gd name="textAreaBottom" fmla="*/ 376920 h 37692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5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-36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16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17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22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23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4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5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6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27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28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29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0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32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-360 h 376920"/>
                  <a:gd name="textAreaBottom" fmla="*/ 376920 h 37692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3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-36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35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40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41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2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3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4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45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53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54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190b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190b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190b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190b"/>
                  </a:solidFill>
                  <a:latin typeface="Verdana"/>
                  <a:ea typeface="宋体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458" name="AutoShape 90"/>
            <p:cNvCxnSpPr>
              <a:stCxn id="454" idx="3"/>
              <a:endCxn id="455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99190b"/>
              </a:solidFill>
              <a:miter/>
              <a:tailEnd len="med" type="triangle" w="med"/>
            </a:ln>
          </p:spPr>
        </p:cxnSp>
        <p:cxnSp>
          <p:nvCxnSpPr>
            <p:cNvPr id="459" name="AutoShape 91"/>
            <p:cNvCxnSpPr>
              <a:stCxn id="455" idx="3"/>
              <a:endCxn id="456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99190b"/>
              </a:solidFill>
              <a:miter/>
              <a:tailEnd len="med" type="triangle" w="med"/>
            </a:ln>
          </p:spPr>
        </p:cxnSp>
        <p:cxnSp>
          <p:nvCxnSpPr>
            <p:cNvPr id="460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99190b"/>
              </a:solidFill>
              <a:miter/>
              <a:tailEnd len="med" type="triangle" w="med"/>
            </a:ln>
          </p:spPr>
        </p:cxnSp>
      </p:grpSp>
      <p:sp>
        <p:nvSpPr>
          <p:cNvPr id="461" name="Text Box 9"/>
          <p:cNvSpPr/>
          <p:nvPr/>
        </p:nvSpPr>
        <p:spPr>
          <a:xfrm>
            <a:off x="114480" y="6137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ca05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页脚占位符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4" name="Group 3"/>
          <p:cNvGrpSpPr/>
          <p:nvPr/>
        </p:nvGrpSpPr>
        <p:grpSpPr>
          <a:xfrm>
            <a:off x="1523880" y="1752480"/>
            <a:ext cx="1752840" cy="4267440"/>
            <a:chOff x="1523880" y="1752480"/>
            <a:chExt cx="1752840" cy="4267440"/>
          </a:xfrm>
        </p:grpSpPr>
        <p:sp>
          <p:nvSpPr>
            <p:cNvPr id="465" name="AutoShape 4"/>
            <p:cNvSpPr/>
            <p:nvPr/>
          </p:nvSpPr>
          <p:spPr>
            <a:xfrm>
              <a:off x="1600200" y="3352680"/>
              <a:ext cx="1600200" cy="26672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7240"/>
                <a:gd name="textAreaBottom" fmla="*/ 2630160 h 2667240"/>
              </a:gdLst>
              <a:ahLst/>
              <a:rect l="textAreaLeft" t="textAreaTop" r="textAreaRight" b="textAreaBottom"/>
              <a:pathLst>
                <a:path w="21600" h="36000">
                  <a:moveTo>
                    <a:pt x="1714" y="0"/>
                  </a:moveTo>
                  <a:arcTo wR="1714" hR="1714" stAng="16200000" swAng="-5400000"/>
                  <a:lnTo>
                    <a:pt x="0" y="34286"/>
                  </a:lnTo>
                  <a:arcTo wR="1714" hR="1714" stAng="10800000" swAng="-5400000"/>
                  <a:lnTo>
                    <a:pt x="19886" y="3600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794c01"/>
                </a:gs>
                <a:gs pos="100000">
                  <a:srgbClr val="d28302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Text Box 5"/>
            <p:cNvSpPr/>
            <p:nvPr/>
          </p:nvSpPr>
          <p:spPr>
            <a:xfrm>
              <a:off x="181800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AutoShape 6"/>
            <p:cNvSpPr/>
            <p:nvPr/>
          </p:nvSpPr>
          <p:spPr>
            <a:xfrm>
              <a:off x="1523880" y="1752480"/>
              <a:ext cx="1752840" cy="2057400"/>
            </a:xfrm>
            <a:custGeom>
              <a:avLst/>
              <a:gdLst>
                <a:gd name="textAreaLeft" fmla="*/ 89640 w 1752840"/>
                <a:gd name="textAreaRight" fmla="*/ 1663200 w 175284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2">
                  <a:moveTo>
                    <a:pt x="3782" y="0"/>
                  </a:moveTo>
                  <a:arcTo wR="3782" hR="3782" stAng="16200000" swAng="-5400000"/>
                  <a:lnTo>
                    <a:pt x="0" y="21570"/>
                  </a:lnTo>
                  <a:arcTo wR="3782" hR="3782" stAng="10800000" swAng="-5400000"/>
                  <a:lnTo>
                    <a:pt x="17818" y="2535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d28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AutoShape 7"/>
            <p:cNvSpPr/>
            <p:nvPr/>
          </p:nvSpPr>
          <p:spPr>
            <a:xfrm>
              <a:off x="1565280" y="3244680"/>
              <a:ext cx="167652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28302"/>
                </a:gs>
                <a:gs pos="100000">
                  <a:srgbClr val="e9c38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AutoShape 8"/>
            <p:cNvSpPr/>
            <p:nvPr/>
          </p:nvSpPr>
          <p:spPr>
            <a:xfrm>
              <a:off x="1565280" y="1774800"/>
              <a:ext cx="1676520" cy="50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d2a3"/>
                </a:gs>
                <a:gs pos="100000">
                  <a:srgbClr val="d283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Text Box 9"/>
            <p:cNvSpPr/>
            <p:nvPr/>
          </p:nvSpPr>
          <p:spPr>
            <a:xfrm>
              <a:off x="1983240" y="208764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4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AutoShape 10"/>
            <p:cNvSpPr/>
            <p:nvPr/>
          </p:nvSpPr>
          <p:spPr>
            <a:xfrm flipV="1">
              <a:off x="1709640" y="568584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28302"/>
                </a:gs>
                <a:gs pos="100000">
                  <a:srgbClr val="e6bb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2" name="Group 11"/>
          <p:cNvGrpSpPr/>
          <p:nvPr/>
        </p:nvGrpSpPr>
        <p:grpSpPr>
          <a:xfrm>
            <a:off x="6059520" y="2438280"/>
            <a:ext cx="1712880" cy="3581640"/>
            <a:chOff x="6059520" y="2438280"/>
            <a:chExt cx="1712880" cy="3581640"/>
          </a:xfrm>
        </p:grpSpPr>
        <p:sp>
          <p:nvSpPr>
            <p:cNvPr id="473" name="AutoShape 12"/>
            <p:cNvSpPr/>
            <p:nvPr/>
          </p:nvSpPr>
          <p:spPr>
            <a:xfrm>
              <a:off x="6121440" y="3809880"/>
              <a:ext cx="1600200" cy="22100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10040"/>
                <a:gd name="textAreaBottom" fmla="*/ 2172960 h 2210040"/>
              </a:gdLst>
              <a:ahLst/>
              <a:rect l="textAreaLeft" t="textAreaTop" r="textAreaRight" b="textAreaBottom"/>
              <a:pathLst>
                <a:path w="21600" h="29830">
                  <a:moveTo>
                    <a:pt x="1714" y="0"/>
                  </a:moveTo>
                  <a:arcTo wR="1714" hR="1714" stAng="16200000" swAng="-5400000"/>
                  <a:lnTo>
                    <a:pt x="0" y="28116"/>
                  </a:lnTo>
                  <a:arcTo wR="1714" hR="1714" stAng="10800000" swAng="-5400000"/>
                  <a:lnTo>
                    <a:pt x="19886" y="2983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65054"/>
                </a:gs>
                <a:gs pos="100000">
                  <a:srgbClr val="97adb5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Text Box 13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75" name="Group 14"/>
            <p:cNvGrpSpPr/>
            <p:nvPr/>
          </p:nvGrpSpPr>
          <p:grpSpPr>
            <a:xfrm>
              <a:off x="6059520" y="2438280"/>
              <a:ext cx="1712880" cy="1901880"/>
              <a:chOff x="6059520" y="2438280"/>
              <a:chExt cx="1712880" cy="1901880"/>
            </a:xfrm>
          </p:grpSpPr>
          <p:sp>
            <p:nvSpPr>
              <p:cNvPr id="476" name="AutoShape 15"/>
              <p:cNvSpPr/>
              <p:nvPr/>
            </p:nvSpPr>
            <p:spPr>
              <a:xfrm>
                <a:off x="6059520" y="2438280"/>
                <a:ext cx="1712880" cy="1901880"/>
              </a:xfrm>
              <a:custGeom>
                <a:avLst/>
                <a:gdLst>
                  <a:gd name="textAreaLeft" fmla="*/ 87840 w 1712880"/>
                  <a:gd name="textAreaRight" fmla="*/ 1625040 w 1712880"/>
                  <a:gd name="textAreaTop" fmla="*/ 87840 h 1901880"/>
                  <a:gd name="textAreaBottom" fmla="*/ 1814040 h 1901880"/>
                </a:gdLst>
                <a:ahLst/>
                <a:rect l="textAreaLeft" t="textAreaTop" r="textAreaRight" b="textAreaBottom"/>
                <a:pathLst>
                  <a:path w="21600" h="23983">
                    <a:moveTo>
                      <a:pt x="3782" y="0"/>
                    </a:moveTo>
                    <a:arcTo wR="3782" hR="3782" stAng="16200000" swAng="-5400000"/>
                    <a:lnTo>
                      <a:pt x="0" y="20201"/>
                    </a:lnTo>
                    <a:arcTo wR="3782" hR="3782" stAng="10800000" swAng="-5400000"/>
                    <a:lnTo>
                      <a:pt x="17818" y="2398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97ad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7" name="AutoShape 16"/>
              <p:cNvSpPr/>
              <p:nvPr/>
            </p:nvSpPr>
            <p:spPr>
              <a:xfrm>
                <a:off x="6099480" y="3818160"/>
                <a:ext cx="163980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7adb5"/>
                  </a:gs>
                  <a:gs pos="100000">
                    <a:srgbClr val="d3dc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8" name="AutoShape 17"/>
              <p:cNvSpPr/>
              <p:nvPr/>
            </p:nvSpPr>
            <p:spPr>
              <a:xfrm>
                <a:off x="6099480" y="2459160"/>
                <a:ext cx="1639800" cy="470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3dce0"/>
                  </a:gs>
                  <a:gs pos="100000">
                    <a:srgbClr val="97a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79" name="Text Box 18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4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AutoShape 19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7adb5"/>
                </a:gs>
                <a:gs pos="100000">
                  <a:srgbClr val="ecf0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1" name="Group 20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482" name="AutoShape 21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246131"/>
                </a:gs>
                <a:gs pos="100000">
                  <a:srgbClr val="3ca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3" name="Group 22"/>
            <p:cNvGrpSpPr/>
            <p:nvPr/>
          </p:nvGrpSpPr>
          <p:grpSpPr>
            <a:xfrm>
              <a:off x="3835440" y="2057400"/>
              <a:ext cx="1727280" cy="1981080"/>
              <a:chOff x="3835440" y="2057400"/>
              <a:chExt cx="1727280" cy="1981080"/>
            </a:xfrm>
          </p:grpSpPr>
          <p:sp>
            <p:nvSpPr>
              <p:cNvPr id="484" name="AutoShape 23"/>
              <p:cNvSpPr/>
              <p:nvPr/>
            </p:nvSpPr>
            <p:spPr>
              <a:xfrm>
                <a:off x="3835440" y="2057400"/>
                <a:ext cx="1727280" cy="1981080"/>
              </a:xfrm>
              <a:custGeom>
                <a:avLst/>
                <a:gdLst>
                  <a:gd name="textAreaLeft" fmla="*/ 88560 w 1727280"/>
                  <a:gd name="textAreaRight" fmla="*/ 1638720 w 1727280"/>
                  <a:gd name="textAreaTop" fmla="*/ 88560 h 1981080"/>
                  <a:gd name="textAreaBottom" fmla="*/ 1892520 h 1981080"/>
                </a:gdLst>
                <a:ahLst/>
                <a:rect l="textAreaLeft" t="textAreaTop" r="textAreaRight" b="textAreaBottom"/>
                <a:pathLst>
                  <a:path w="21600" h="24773">
                    <a:moveTo>
                      <a:pt x="3782" y="0"/>
                    </a:moveTo>
                    <a:arcTo wR="3782" hR="3782" stAng="16200000" swAng="-5400000"/>
                    <a:lnTo>
                      <a:pt x="0" y="20991"/>
                    </a:lnTo>
                    <a:arcTo wR="3782" hR="3782" stAng="10800000" swAng="-5400000"/>
                    <a:lnTo>
                      <a:pt x="17818" y="2477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3ca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AutoShape 24"/>
              <p:cNvSpPr/>
              <p:nvPr/>
            </p:nvSpPr>
            <p:spPr>
              <a:xfrm>
                <a:off x="3877200" y="3495600"/>
                <a:ext cx="1650960" cy="49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051"/>
                  </a:gs>
                  <a:gs pos="100000">
                    <a:srgbClr val="d0e8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6" name="AutoShape 25"/>
              <p:cNvSpPr/>
              <p:nvPr/>
            </p:nvSpPr>
            <p:spPr>
              <a:xfrm>
                <a:off x="3877200" y="2081520"/>
                <a:ext cx="1650960" cy="490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e8d5"/>
                  </a:gs>
                  <a:gs pos="100000">
                    <a:srgbClr val="3ca0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87" name="Text Box 26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Text Box 27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4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AutoShape 28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051"/>
                </a:gs>
                <a:gs pos="100000">
                  <a:srgbClr val="dcee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页脚占位符 3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6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497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ca051"/>
                </a:gs>
                <a:gs pos="100000">
                  <a:srgbClr val="1c4a25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98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499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0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1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2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03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1f6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4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05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6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7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8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09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3ca051"/>
                </a:gs>
                <a:gs pos="100000">
                  <a:srgbClr val="1c4a25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0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11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2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3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4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5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1f6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6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页脚占位符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838080" y="2395440"/>
          <a:ext cx="7467840" cy="31244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2830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2830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2830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2830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28302"/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页脚占位符 3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28" name="Group 21"/>
          <p:cNvGrpSpPr/>
          <p:nvPr/>
        </p:nvGrpSpPr>
        <p:grpSpPr>
          <a:xfrm>
            <a:off x="1325520" y="1455120"/>
            <a:ext cx="6599160" cy="4675680"/>
            <a:chOff x="1325520" y="1455120"/>
            <a:chExt cx="6599160" cy="4675680"/>
          </a:xfrm>
        </p:grpSpPr>
        <p:sp>
          <p:nvSpPr>
            <p:cNvPr id="529" name="Oval 3"/>
            <p:cNvSpPr/>
            <p:nvPr/>
          </p:nvSpPr>
          <p:spPr>
            <a:xfrm>
              <a:off x="2362320" y="4465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Oval 4"/>
            <p:cNvSpPr/>
            <p:nvPr/>
          </p:nvSpPr>
          <p:spPr>
            <a:xfrm rot="20601600">
              <a:off x="1636560" y="2352240"/>
              <a:ext cx="576288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Oval 5"/>
            <p:cNvSpPr/>
            <p:nvPr/>
          </p:nvSpPr>
          <p:spPr>
            <a:xfrm rot="20601600">
              <a:off x="169344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Arc 6"/>
            <p:cNvSpPr/>
            <p:nvPr/>
          </p:nvSpPr>
          <p:spPr>
            <a:xfrm rot="20601600">
              <a:off x="434988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ca051"/>
                </a:gs>
                <a:gs pos="100000">
                  <a:srgbClr val="83c390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Arc 7"/>
            <p:cNvSpPr/>
            <p:nvPr/>
          </p:nvSpPr>
          <p:spPr>
            <a:xfrm flipH="1" rot="20602200">
              <a:off x="1937160" y="39546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64579"/>
                </a:gs>
                <a:gs pos="100000">
                  <a:srgbClr val="1f63ad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Arc 8"/>
            <p:cNvSpPr/>
            <p:nvPr/>
          </p:nvSpPr>
          <p:spPr>
            <a:xfrm rot="20601600">
              <a:off x="2946240" y="2125800"/>
              <a:ext cx="3229200" cy="1417680"/>
            </a:xfrm>
            <a:custGeom>
              <a:avLst/>
              <a:gdLst>
                <a:gd name="textAreaLeft" fmla="*/ 0 w 3229200"/>
                <a:gd name="textAreaRight" fmla="*/ 3229560 w 322920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a9be2"/>
                </a:gs>
                <a:gs pos="100000">
                  <a:srgbClr val="3c6797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Arc 9"/>
            <p:cNvSpPr/>
            <p:nvPr/>
          </p:nvSpPr>
          <p:spPr>
            <a:xfrm flipH="1" rot="20602200">
              <a:off x="159444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28302"/>
                </a:gs>
                <a:gs pos="100000">
                  <a:srgbClr val="613d01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Freeform 10"/>
            <p:cNvSpPr/>
            <p:nvPr/>
          </p:nvSpPr>
          <p:spPr>
            <a:xfrm>
              <a:off x="568800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606e73"/>
                </a:gs>
                <a:gs pos="100000">
                  <a:srgbClr val="97ad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Arc 11"/>
            <p:cNvSpPr/>
            <p:nvPr/>
          </p:nvSpPr>
          <p:spPr>
            <a:xfrm rot="20539200">
              <a:off x="4732200" y="3011040"/>
              <a:ext cx="272916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65054"/>
                </a:gs>
                <a:gs pos="100000">
                  <a:srgbClr val="97adb5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Freeform 12"/>
            <p:cNvSpPr/>
            <p:nvPr/>
          </p:nvSpPr>
          <p:spPr>
            <a:xfrm>
              <a:off x="4699080" y="396252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6e7e83"/>
                </a:gs>
                <a:gs pos="100000">
                  <a:srgbClr val="97adb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Oval 13"/>
            <p:cNvSpPr/>
            <p:nvPr/>
          </p:nvSpPr>
          <p:spPr>
            <a:xfrm rot="20601600">
              <a:off x="315432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Text Box 14"/>
            <p:cNvSpPr/>
            <p:nvPr/>
          </p:nvSpPr>
          <p:spPr>
            <a:xfrm>
              <a:off x="214524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Text Box 15"/>
            <p:cNvSpPr/>
            <p:nvPr/>
          </p:nvSpPr>
          <p:spPr>
            <a:xfrm>
              <a:off x="405036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Text Box 16"/>
            <p:cNvSpPr/>
            <p:nvPr/>
          </p:nvSpPr>
          <p:spPr>
            <a:xfrm>
              <a:off x="587916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Text Box 17"/>
            <p:cNvSpPr/>
            <p:nvPr/>
          </p:nvSpPr>
          <p:spPr>
            <a:xfrm>
              <a:off x="557424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Text Box 18"/>
            <p:cNvSpPr/>
            <p:nvPr/>
          </p:nvSpPr>
          <p:spPr>
            <a:xfrm>
              <a:off x="336456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Freeform 19"/>
            <p:cNvSpPr/>
            <p:nvPr/>
          </p:nvSpPr>
          <p:spPr>
            <a:xfrm>
              <a:off x="461808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ca051">
                    <a:alpha val="19215"/>
                  </a:srgbClr>
                </a:gs>
                <a:gs pos="100000">
                  <a:srgbClr val="7dc0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Oval 20"/>
            <p:cNvSpPr/>
            <p:nvPr/>
          </p:nvSpPr>
          <p:spPr>
            <a:xfrm rot="20601600">
              <a:off x="3255840" y="3157200"/>
              <a:ext cx="258624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页脚占位符 3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97adb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051"/>
              </a:gs>
              <a:gs pos="50000">
                <a:srgbClr val="82c28f"/>
              </a:gs>
              <a:gs pos="100000">
                <a:srgbClr val="3ca05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554" name="Group 7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555" name="Group 8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556" name="Oval 9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8302"/>
                    </a:gs>
                    <a:gs pos="100000">
                      <a:srgbClr val="8553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10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>
                    <a:gd name="textAreaLeft" fmla="*/ 0 w 1146240"/>
                    <a:gd name="textAreaRight" fmla="*/ 1146600 w 1146240"/>
                    <a:gd name="textAreaTop" fmla="*/ 0 h 571320"/>
                    <a:gd name="textAreaBottom" fmla="*/ 571320 h 5713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2830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11"/>
              <p:cNvSpPr/>
              <p:nvPr/>
            </p:nvSpPr>
            <p:spPr>
              <a:xfrm>
                <a:off x="107280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9" name="Oval 12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60" name="Group 13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561" name="Group 14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562" name="Oval 15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3ca051"/>
                  </a:gs>
                  <a:gs pos="100000">
                    <a:srgbClr val="1f52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3" name="Freeform 16"/>
              <p:cNvSpPr/>
              <p:nvPr/>
            </p:nvSpPr>
            <p:spPr>
              <a:xfrm>
                <a:off x="2994480" y="43369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ca0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64" name="Text Box 17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Oval 18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66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567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568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1f63ad"/>
                  </a:gs>
                  <a:gs pos="100000">
                    <a:srgbClr val="1033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9" name="Freeform 22"/>
              <p:cNvSpPr/>
              <p:nvPr/>
            </p:nvSpPr>
            <p:spPr>
              <a:xfrm>
                <a:off x="5051880" y="4292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f63a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70" name="Text Box 23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Oval 24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72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573" name="Group 26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574" name="Group 27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575" name="Oval 28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7adb5"/>
                    </a:gs>
                    <a:gs pos="100000">
                      <a:srgbClr val="252a2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29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>
                    <a:gd name="textAreaLeft" fmla="*/ 0 w 1175760"/>
                    <a:gd name="textAreaRight" fmla="*/ 1176120 w 1175760"/>
                    <a:gd name="textAreaTop" fmla="*/ 0 h 578160"/>
                    <a:gd name="textAreaBottom" fmla="*/ 578520 h 5781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7adb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Text Box 30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78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79" name="Text Box 9"/>
          <p:cNvSpPr/>
          <p:nvPr/>
        </p:nvSpPr>
        <p:spPr>
          <a:xfrm>
            <a:off x="114480" y="6137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ca05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1" name="Group 61"/>
          <p:cNvGrpSpPr/>
          <p:nvPr/>
        </p:nvGrpSpPr>
        <p:grpSpPr>
          <a:xfrm>
            <a:off x="2209680" y="2057400"/>
            <a:ext cx="4724280" cy="685800"/>
            <a:chOff x="2209680" y="2057400"/>
            <a:chExt cx="4724280" cy="685800"/>
          </a:xfrm>
        </p:grpSpPr>
        <p:sp>
          <p:nvSpPr>
            <p:cNvPr id="92" name="AutoShape 62"/>
            <p:cNvSpPr/>
            <p:nvPr/>
          </p:nvSpPr>
          <p:spPr>
            <a:xfrm>
              <a:off x="2590560" y="21765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5e5c9"/>
                </a:gs>
                <a:gs pos="100000">
                  <a:srgbClr val="d28302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" name="AutoShape 63"/>
            <p:cNvSpPr/>
            <p:nvPr/>
          </p:nvSpPr>
          <p:spPr>
            <a:xfrm>
              <a:off x="2209680" y="2057400"/>
              <a:ext cx="685800" cy="685800"/>
            </a:xfrm>
            <a:prstGeom prst="diamond">
              <a:avLst/>
            </a:prstGeom>
            <a:solidFill>
              <a:srgbClr val="d2830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Text Box 64"/>
            <p:cNvSpPr/>
            <p:nvPr/>
          </p:nvSpPr>
          <p:spPr>
            <a:xfrm>
              <a:off x="2819160" y="22320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Text Box 65"/>
            <p:cNvSpPr/>
            <p:nvPr/>
          </p:nvSpPr>
          <p:spPr>
            <a:xfrm>
              <a:off x="2365560" y="21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66"/>
          <p:cNvGrpSpPr/>
          <p:nvPr/>
        </p:nvGrpSpPr>
        <p:grpSpPr>
          <a:xfrm>
            <a:off x="2209680" y="2895480"/>
            <a:ext cx="4724280" cy="685800"/>
            <a:chOff x="2209680" y="2895480"/>
            <a:chExt cx="4724280" cy="685800"/>
          </a:xfrm>
        </p:grpSpPr>
        <p:sp>
          <p:nvSpPr>
            <p:cNvPr id="97" name="AutoShape 67"/>
            <p:cNvSpPr/>
            <p:nvPr/>
          </p:nvSpPr>
          <p:spPr>
            <a:xfrm>
              <a:off x="2590560" y="30146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0deee"/>
                </a:gs>
                <a:gs pos="100000">
                  <a:srgbClr val="1f63ad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68"/>
            <p:cNvSpPr/>
            <p:nvPr/>
          </p:nvSpPr>
          <p:spPr>
            <a:xfrm>
              <a:off x="2209680" y="2895480"/>
              <a:ext cx="685800" cy="685800"/>
            </a:xfrm>
            <a:prstGeom prst="diamond">
              <a:avLst/>
            </a:prstGeom>
            <a:solidFill>
              <a:srgbClr val="1f63a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Text Box 69"/>
            <p:cNvSpPr/>
            <p:nvPr/>
          </p:nvSpPr>
          <p:spPr>
            <a:xfrm>
              <a:off x="2819160" y="30700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70"/>
            <p:cNvSpPr/>
            <p:nvPr/>
          </p:nvSpPr>
          <p:spPr>
            <a:xfrm>
              <a:off x="236556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71"/>
          <p:cNvGrpSpPr/>
          <p:nvPr/>
        </p:nvGrpSpPr>
        <p:grpSpPr>
          <a:xfrm>
            <a:off x="2209680" y="3733920"/>
            <a:ext cx="4724280" cy="685800"/>
            <a:chOff x="2209680" y="3733920"/>
            <a:chExt cx="4724280" cy="685800"/>
          </a:xfrm>
        </p:grpSpPr>
        <p:sp>
          <p:nvSpPr>
            <p:cNvPr id="102" name="AutoShape 72"/>
            <p:cNvSpPr/>
            <p:nvPr/>
          </p:nvSpPr>
          <p:spPr>
            <a:xfrm>
              <a:off x="2590560" y="38530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9cecb"/>
                </a:gs>
                <a:gs pos="100000">
                  <a:srgbClr val="99190b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AutoShape 73"/>
            <p:cNvSpPr/>
            <p:nvPr/>
          </p:nvSpPr>
          <p:spPr>
            <a:xfrm>
              <a:off x="2209680" y="3733920"/>
              <a:ext cx="685800" cy="685800"/>
            </a:xfrm>
            <a:prstGeom prst="diamond">
              <a:avLst/>
            </a:prstGeom>
            <a:solidFill>
              <a:srgbClr val="3ca05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Text Box 74"/>
            <p:cNvSpPr/>
            <p:nvPr/>
          </p:nvSpPr>
          <p:spPr>
            <a:xfrm>
              <a:off x="2819160" y="39085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Text Box 75"/>
            <p:cNvSpPr/>
            <p:nvPr/>
          </p:nvSpPr>
          <p:spPr>
            <a:xfrm>
              <a:off x="2365560" y="383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Group 76"/>
          <p:cNvGrpSpPr/>
          <p:nvPr/>
        </p:nvGrpSpPr>
        <p:grpSpPr>
          <a:xfrm>
            <a:off x="2209680" y="4648320"/>
            <a:ext cx="4724280" cy="685800"/>
            <a:chOff x="2209680" y="4648320"/>
            <a:chExt cx="4724280" cy="685800"/>
          </a:xfrm>
        </p:grpSpPr>
        <p:sp>
          <p:nvSpPr>
            <p:cNvPr id="107" name="AutoShape 77"/>
            <p:cNvSpPr/>
            <p:nvPr/>
          </p:nvSpPr>
          <p:spPr>
            <a:xfrm>
              <a:off x="2590560" y="47674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9eeef"/>
                </a:gs>
                <a:gs pos="100000">
                  <a:srgbClr val="97adb5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AutoShape 78"/>
            <p:cNvSpPr/>
            <p:nvPr/>
          </p:nvSpPr>
          <p:spPr>
            <a:xfrm>
              <a:off x="2209680" y="4648320"/>
              <a:ext cx="685800" cy="685800"/>
            </a:xfrm>
            <a:prstGeom prst="diamond">
              <a:avLst/>
            </a:prstGeom>
            <a:solidFill>
              <a:srgbClr val="97adb5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Text Box 79"/>
            <p:cNvSpPr/>
            <p:nvPr/>
          </p:nvSpPr>
          <p:spPr>
            <a:xfrm>
              <a:off x="2819160" y="48229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Text Box 80"/>
            <p:cNvSpPr/>
            <p:nvPr/>
          </p:nvSpPr>
          <p:spPr>
            <a:xfrm>
              <a:off x="2365560" y="4746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WordArt 5"/>
          <p:cNvSpPr txBox="1"/>
          <p:nvPr/>
        </p:nvSpPr>
        <p:spPr>
          <a:xfrm>
            <a:off x="2209680" y="304812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ddddd"/>
                  </a:gs>
                  <a:gs pos="100000">
                    <a:srgbClr val="666666"/>
                  </a:gs>
                </a:gsLst>
                <a:lin ang="0"/>
              </a:gradFill>
              <a:effectLst>
                <a:outerShdw dist="71785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644480"/>
            <a:ext cx="76057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1f63ad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1f63ad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1f63ad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1f63ad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28302"/>
              </a:gs>
              <a:gs pos="100000">
                <a:srgbClr val="e2b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ca051"/>
              </a:gs>
              <a:gs pos="100000">
                <a:srgbClr val="c1e1c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23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24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3ca051"/>
                  </a:gs>
                  <a:gs pos="100000">
                    <a:srgbClr val="1d4e2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5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a9d5b2"/>
                  </a:gs>
                  <a:gs pos="100000">
                    <a:srgbClr val="3ca05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6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0e2e50"/>
                </a:gs>
                <a:gs pos="100000">
                  <a:srgbClr val="1f6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1f63ad">
                    <a:alpha val="0"/>
                  </a:srgbClr>
                </a:gs>
                <a:gs pos="100000">
                  <a:srgbClr val="b1c9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194e89"/>
                </a:gs>
                <a:gs pos="100000">
                  <a:srgbClr val="1f63a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f63a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0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3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35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ca051"/>
                </a:gs>
                <a:gs pos="100000">
                  <a:srgbClr val="1537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1f63ad"/>
                </a:gs>
                <a:gs pos="100000">
                  <a:srgbClr val="0a1f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28302"/>
                </a:gs>
                <a:gs pos="100000">
                  <a:srgbClr val="4b2f0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7adb5"/>
                </a:gs>
                <a:gs pos="100000">
                  <a:srgbClr val="343c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53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54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页脚占位符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8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054"/>
                </a:gs>
                <a:gs pos="50000">
                  <a:srgbClr val="97adb5"/>
                </a:gs>
                <a:gs pos="100000">
                  <a:srgbClr val="4650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054"/>
                </a:gs>
                <a:gs pos="50000">
                  <a:srgbClr val="97adb5"/>
                </a:gs>
                <a:gs pos="100000">
                  <a:srgbClr val="4650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054"/>
                </a:gs>
                <a:gs pos="50000">
                  <a:srgbClr val="97adb5"/>
                </a:gs>
                <a:gs pos="100000">
                  <a:srgbClr val="4650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e2e50"/>
                </a:gs>
                <a:gs pos="50000">
                  <a:srgbClr val="1f63ad"/>
                </a:gs>
                <a:gs pos="100000">
                  <a:srgbClr val="0e2e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c4a25"/>
                </a:gs>
                <a:gs pos="50000">
                  <a:srgbClr val="3ca051"/>
                </a:gs>
                <a:gs pos="100000">
                  <a:srgbClr val="1c4a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6" name="Text Box 9"/>
          <p:cNvSpPr/>
          <p:nvPr/>
        </p:nvSpPr>
        <p:spPr>
          <a:xfrm>
            <a:off x="114480" y="6137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ca05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页脚占位符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0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81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9190b"/>
                  </a:gs>
                  <a:gs pos="100000">
                    <a:srgbClr val="d7a59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9190b"/>
                  </a:gs>
                  <a:gs pos="100000">
                    <a:srgbClr val="d7a5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9190b"/>
                  </a:gs>
                  <a:gs pos="100000">
                    <a:srgbClr val="d7a59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ca05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20572c"/>
                  </a:gs>
                  <a:gs pos="50000">
                    <a:srgbClr val="3ca051"/>
                  </a:gs>
                  <a:gs pos="100000">
                    <a:srgbClr val="20572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0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054"/>
                </a:gs>
                <a:gs pos="50000">
                  <a:srgbClr val="97adb5"/>
                </a:gs>
                <a:gs pos="100000">
                  <a:srgbClr val="4650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054"/>
                </a:gs>
                <a:gs pos="50000">
                  <a:srgbClr val="97adb5"/>
                </a:gs>
                <a:gs pos="100000">
                  <a:srgbClr val="4650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054"/>
                </a:gs>
                <a:gs pos="50000">
                  <a:srgbClr val="97adb5"/>
                </a:gs>
                <a:gs pos="100000">
                  <a:srgbClr val="4650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e2e50"/>
                </a:gs>
                <a:gs pos="50000">
                  <a:srgbClr val="1f63ad"/>
                </a:gs>
                <a:gs pos="100000">
                  <a:srgbClr val="0e2e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e2e50"/>
                </a:gs>
                <a:gs pos="50000">
                  <a:srgbClr val="1f63ad"/>
                </a:gs>
                <a:gs pos="100000">
                  <a:srgbClr val="0e2e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e2e50"/>
                </a:gs>
                <a:gs pos="50000">
                  <a:srgbClr val="1f63ad"/>
                </a:gs>
                <a:gs pos="100000">
                  <a:srgbClr val="0e2e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页脚占位符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1262160" y="260028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1262160" y="342756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1262160" y="429084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1262160" y="50976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9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0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13d01"/>
                </a:gs>
                <a:gs pos="50000">
                  <a:srgbClr val="d28302"/>
                </a:gs>
                <a:gs pos="100000">
                  <a:srgbClr val="613d0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>
                <a:gd name="textAreaLeft" fmla="*/ 0 w 3342960"/>
                <a:gd name="textAreaRight" fmla="*/ 3343320 w 33429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28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c4a25"/>
                </a:gs>
                <a:gs pos="50000">
                  <a:srgbClr val="3ca051"/>
                </a:gs>
                <a:gs pos="100000">
                  <a:srgbClr val="1c4a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>
                <a:gd name="textAreaLeft" fmla="*/ 0 w 3593520"/>
                <a:gd name="textAreaRight" fmla="*/ 3593880 w 35935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ca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65054"/>
                </a:gs>
                <a:gs pos="50000">
                  <a:srgbClr val="97adb5"/>
                </a:gs>
                <a:gs pos="100000">
                  <a:srgbClr val="4650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e2e50"/>
                </a:gs>
                <a:gs pos="50000">
                  <a:srgbClr val="1f63ad"/>
                </a:gs>
                <a:gs pos="100000">
                  <a:srgbClr val="0e2e5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>
                <a:gd name="textAreaLeft" fmla="*/ 0 w 4080960"/>
                <a:gd name="textAreaRight" fmla="*/ 4081320 w 40809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f6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2722680"/>
                <a:gd name="textAreaBottom" fmla="*/ 2723040 h 272268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985f01"/>
                </a:gs>
                <a:gs pos="50000">
                  <a:srgbClr val="d28302"/>
                </a:gs>
                <a:gs pos="100000">
                  <a:srgbClr val="985f0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2c743b"/>
                </a:gs>
                <a:gs pos="50000">
                  <a:srgbClr val="3ca051"/>
                </a:gs>
                <a:gs pos="100000">
                  <a:srgbClr val="2c743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>
                <a:gd name="textAreaLeft" fmla="*/ 0 w 3833640"/>
                <a:gd name="textAreaRight" fmla="*/ 3834000 w 383364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7a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e7e83"/>
                </a:gs>
                <a:gs pos="50000">
                  <a:srgbClr val="97adb5"/>
                </a:gs>
                <a:gs pos="100000">
                  <a:srgbClr val="6e7e8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6487e"/>
                </a:gs>
                <a:gs pos="50000">
                  <a:srgbClr val="1f63ad"/>
                </a:gs>
                <a:gs pos="100000">
                  <a:srgbClr val="16487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页脚占位符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2286000" y="1676520"/>
            <a:ext cx="4495320" cy="4514400"/>
            <a:chOff x="2286000" y="1676520"/>
            <a:chExt cx="4495320" cy="4514400"/>
          </a:xfrm>
        </p:grpSpPr>
        <p:sp>
          <p:nvSpPr>
            <p:cNvPr id="236" name="Puzzle3"/>
            <p:cNvSpPr/>
            <p:nvPr/>
          </p:nvSpPr>
          <p:spPr>
            <a:xfrm>
              <a:off x="4475160" y="1676520"/>
              <a:ext cx="1766880" cy="2399040"/>
            </a:xfrm>
            <a:custGeom>
              <a:avLst/>
              <a:gdLst>
                <a:gd name="textAreaLeft" fmla="*/ 185400 w 1766880"/>
                <a:gd name="textAreaRight" fmla="*/ 1567080 w 1766880"/>
                <a:gd name="textAreaTop" fmla="*/ 857160 h 2399040"/>
                <a:gd name="textAreaBottom" fmla="*/ 2247120 h 239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143f6e"/>
                </a:gs>
                <a:gs pos="100000">
                  <a:srgbClr val="1f63ad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Puzzle2"/>
            <p:cNvSpPr/>
            <p:nvPr/>
          </p:nvSpPr>
          <p:spPr>
            <a:xfrm>
              <a:off x="3961080" y="3424320"/>
              <a:ext cx="2820240" cy="218484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4840"/>
                <a:gd name="textAreaBottom" fmla="*/ 2067840 h 218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ebc78c"/>
                </a:gs>
                <a:gs pos="100000">
                  <a:srgbClr val="d28302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Puzzle4"/>
            <p:cNvSpPr/>
            <p:nvPr/>
          </p:nvSpPr>
          <p:spPr>
            <a:xfrm>
              <a:off x="2869560" y="3397320"/>
              <a:ext cx="1700280" cy="279360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600"/>
                <a:gd name="textAreaBottom" fmla="*/ 2066400 h 27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3ca051"/>
                </a:gs>
                <a:gs pos="100000">
                  <a:srgbClr val="9bcea6"/>
                </a:gs>
              </a:gsLst>
              <a:lin ang="189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Puzzle1"/>
            <p:cNvSpPr/>
            <p:nvPr/>
          </p:nvSpPr>
          <p:spPr>
            <a:xfrm>
              <a:off x="2286000" y="2402280"/>
              <a:ext cx="2855520" cy="166536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360"/>
                <a:gd name="textAreaBottom" fmla="*/ 1506960 h 16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97adb5"/>
                </a:gs>
                <a:gs pos="100000">
                  <a:srgbClr val="465054"/>
                </a:gs>
              </a:gsLst>
              <a:lin ang="27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0" name="Text Box 8"/>
          <p:cNvSpPr/>
          <p:nvPr/>
        </p:nvSpPr>
        <p:spPr>
          <a:xfrm>
            <a:off x="6477840" y="41911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838080" y="3581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2438280" y="16765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4267080" y="586728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www.pptbz.com</dc:creator>
  <dc:description/>
  <dc:language>en-US</dc:language>
  <cp:lastModifiedBy>王玉清</cp:lastModifiedBy>
  <dcterms:modified xsi:type="dcterms:W3CDTF">2016-03-06T04:16:52Z</dcterms:modified>
  <cp:revision>42</cp:revision>
  <dc:subject/>
  <dc:title>PowerPoint Template</dc:title>
</cp:coreProperties>
</file>