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83E-691C-4DB9-A574-FFC7FAB0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D73-1C53-49DB-ACF9-60BBB388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E60C-6040-4981-BC27-06E017F3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923-8D31-4E8C-BF4C-72AC21AE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9D59-43B4-47FB-B65F-8CDB09FD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32A2-3947-42E4-A24F-50A97FE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0F40-2300-4096-87DE-AD3CB41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CFFB-F8FA-4F10-BCCB-81CBC73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790B-E978-4724-9ED9-79E6723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8DB-F5D3-4FDA-8E47-6876A465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4BBD-ED20-4A22-924E-3B2B9209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7A5-C922-489F-94DA-CC8D0F0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293B-603F-4D4A-BA27-7DC5B2A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FAA9-28F8-4A85-AA6A-B31765F8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AF91-6038-4DB5-8EB5-1602C2BC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7949-DD87-4B61-878A-4B1E703E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B3F2-5EFC-4958-A102-B0ACB0B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6EE-AA45-4036-9605-A4309709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E51-F156-4992-8A27-DBD3C3B0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796-F26A-442A-B51C-674F2EC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9BD-7670-43BE-AB14-B66315C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1DC-7713-45BF-8B60-BE21B14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10D5-7DFB-4A2F-837F-9172AAF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E6B-D23D-4275-9C55-97D7F8C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11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3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9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5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0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3267-8589-4192-B7E0-6674C67205C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3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5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6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7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8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0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C354-AB55-48E5-85A4-81B55036C074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商务计划管理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模板完整版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商务计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资源需求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技术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人力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资源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财政、分配、激励等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外部需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需要从公司外部购买的产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服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技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风险和回报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风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所提议的项目的风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消除风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如何消除风险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回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评估预期的赢利（尤其是在筹集资金的情况下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关键问题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近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将关键性的决议和需要立即或近期解决的问题分离开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长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将需要长期解决方案的问题分离出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说明拖延作出决议的后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如果要筹集资金，则应说明细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任务陈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明确地陈述公司的长期任务。应使用有助于指明公司发展方向的语言，但要尽可能地简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队伍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列出执行总裁和高层管理人员的姓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显示有成就的人员（包括以前的成就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进入该业务领域的年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市场总结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过去、现在和未来的市场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回顾为公司的成功带来机遇的市场份额、领导层、参与者、市场变换、成本、定价或竞争方面发生的变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机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问题和机遇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用户的问题，定义由这些问题所带来的产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服务机遇的实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44400" y="6248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商务观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您的公司所依据的关键技术、观念或策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竞争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总结竞争状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概述公司的竞争优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目标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五年目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具体的可度量目标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市场份额方面的目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陈述收入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/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利润方面的目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宋体"/>
              </a:rPr>
              <a:t>财务计划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高层次的财务计划，它定义了财务模型、定价前提并评论了未来三年的预期年度销售额和利润额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请相应地用几张幻灯片来演示此材料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12:40Z</dcterms:created>
  <dc:creator>ppt宝藏</dc:creator>
  <dc:description/>
  <dc:language>en-US</dc:language>
  <cp:lastModifiedBy>a</cp:lastModifiedBy>
  <dcterms:modified xsi:type="dcterms:W3CDTF">2015-07-25T06:42:36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8362052</vt:lpwstr>
  </property>
</Properties>
</file>