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CE8-FABD-4131-8168-DE3EE14F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7467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7467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9782-EFDF-42C7-9A86-4180F56E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79080" y="159984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79080" y="386856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EFC-6DE0-4657-8721-A981009D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77320" y="159984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02360" y="159984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677320" y="386856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202360" y="386856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9EF-B4B1-4AF8-B278-1A681DD0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6F6A-B288-4291-8D4C-34F0B8B7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06AA-A3CA-4677-9E90-B1AFFCF9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9700-F8E2-4DA2-96EF-9EB5A9D7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64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9080" y="1599840"/>
            <a:ext cx="364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C7B9-D551-4119-9B5F-94A91213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5FC5-9668-4E05-A111-887C672D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D7D8-5313-4F42-A086-FD9743C5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79080" y="1599840"/>
            <a:ext cx="364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2B98-1AD5-4A68-AE8B-2923ACCB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4C1-9B7C-4203-BD95-682E6DCF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64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9080" y="159984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79080" y="386856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6164-4E3D-4EFC-94F4-FC2D3938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9080" y="159984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7467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019E-86DB-410F-86C9-396FB1F0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7467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2280" y="3868560"/>
            <a:ext cx="7467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E0D7-90C0-4FD6-8E8F-18399E7B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79080" y="159984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79080" y="386856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7284-6CA5-4E7B-9F51-1E12A6C5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77320" y="159984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02360" y="159984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2280" y="386856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77320" y="386856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202360" y="386856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A8F8-F32E-494F-BDF0-B9D457D1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E0F-8F9C-4742-8FD6-D05E9AFD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64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79080" y="1599840"/>
            <a:ext cx="364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AB9-FE48-460A-B72F-47084700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3B3-41E5-4394-AD4D-F7DDCEC1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3D6-8419-41DA-90CF-889C9386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9080" y="1599840"/>
            <a:ext cx="364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ACB-592E-4147-A505-5A66EDB2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64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9080" y="159984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79080" y="386856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5BF-D283-446A-BB62-F3C61B19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79080" y="1599840"/>
            <a:ext cx="3644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868560"/>
            <a:ext cx="7467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179-6D9B-4E6E-AF5C-106B28EC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44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hr 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de8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933920" indent="-2145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933920" indent="-2145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00160" y="609588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06700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512D-F1B1-4F2F-AF25-0C4E116005C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44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hr 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de8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52280" y="15998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933920" indent="-2145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933920" indent="-2145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192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000160" y="609588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06700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C4D6-F185-4257-A687-959C43A1F2B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ede8"/>
                </a:solidFill>
                <a:latin typeface="Arial"/>
                <a:ea typeface="宋体"/>
              </a:rPr>
              <a:t>商务行者商务</a:t>
            </a:r>
            <a:r>
              <a:rPr b="0" lang="en-US" sz="4000" spc="-1" strike="noStrike">
                <a:solidFill>
                  <a:srgbClr val="ffede8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ede8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ffede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1:50:52Z</dcterms:created>
  <dc:creator>ppt宝藏</dc:creator>
  <dc:description/>
  <dc:language>en-US</dc:language>
  <cp:lastModifiedBy>a</cp:lastModifiedBy>
  <dcterms:modified xsi:type="dcterms:W3CDTF">2015-07-25T03:13:06Z</dcterms:modified>
  <cp:revision>6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5 KMT Software, Inc. Images licensed from Hemera Technologies, Inc. © 2005. All Rights Reserved</vt:lpwstr>
  </property>
  <property fmtid="{D5CDD505-2E9C-101B-9397-08002B2CF9AE}" pid="3" name="Folder">
    <vt:lpwstr>Human Resources</vt:lpwstr>
  </property>
  <property fmtid="{D5CDD505-2E9C-101B-9397-08002B2CF9AE}" pid="4" name="Style">
    <vt:lpwstr>S</vt:lpwstr>
  </property>
  <property fmtid="{D5CDD505-2E9C-101B-9397-08002B2CF9AE}" pid="5" name="Template">
    <vt:lpwstr>Looking up</vt:lpwstr>
  </property>
</Properties>
</file>