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008-640D-44DB-903D-111C3C0E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C52-504F-4FEE-9664-FBAE6C85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255-3D51-46B8-B722-92E54C22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7773-098E-40A1-8F00-D7BCC68B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A27E-5077-449A-8A14-9C86F54E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616-AF5E-4C40-B72C-8F9B1FF6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752-058F-4665-81F2-3AD8D57B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7EF-2047-4893-8D22-52F1CC2A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62A4-4D4E-4988-BCA3-D555D3E1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C2F-71A6-4A7F-835D-9DF5E5DA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E1F-BDCD-4467-AA8F-B988919A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FE9-83FB-4244-BBEF-0EE74F13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:\Documents and Settings\Administrator\桌面\河山图标.jpg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D:\Documents and Settings\Administrator\桌面\20\新建文件夹\新建文件夹\02.jpg"/>
          <p:cNvPicPr/>
          <p:nvPr/>
        </p:nvPicPr>
        <p:blipFill>
          <a:blip r:embed="rId3"/>
          <a:stretch/>
        </p:blipFill>
        <p:spPr>
          <a:xfrm>
            <a:off x="0" y="7920"/>
            <a:ext cx="9144000" cy="68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9F43-866B-4A1B-8448-632733492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商务之手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07:05:08Z</dcterms:created>
  <dc:creator>ppt宝藏</dc:creator>
  <dc:description/>
  <dc:language>en-US</dc:language>
  <cp:lastModifiedBy>a</cp:lastModifiedBy>
  <dcterms:modified xsi:type="dcterms:W3CDTF">2015-07-25T03:13:00Z</dcterms:modified>
  <cp:revision>5</cp:revision>
  <dc:subject/>
  <dc:title>www.pptbz.com</dc:title>
</cp:coreProperties>
</file>