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9EE-2113-4B99-A494-FBC3FC1A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88D-32E5-43FF-ADC4-ED23666F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B83-AC7A-4F75-9987-19FF7FA4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678-4046-4DCF-BF29-AC3D206B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BFCD-E840-4E92-BB0B-CE9260FE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A931-E594-40FF-8239-EBEFD8AE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3460-36E5-4C87-ABCD-998CE75A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724A-11AB-48FA-A7B8-6D10DDAA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45FF-EDBF-43A5-BBD2-381F33AB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F194-C86C-4CB7-ACAF-49074022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9F4B-FB95-4D78-A594-F3930688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B5F-DD09-44F9-A77E-7E8FE61C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26AF-5691-41CE-9573-9959F33D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CAB0-C29E-401C-9C56-7BA1A970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A9DF-BC57-40D1-96D2-0C915E1B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F578-8A9A-446F-B8BA-582486CE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44DF-6344-4893-AE33-A68658EE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8D7-3BFB-4E78-ADD0-BD4280C1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EEA-4FE7-4E12-A0E4-6F0D2EBE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BE3-FD29-42DC-9590-93BA3976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8F6-BDF0-4F49-A966-20EB5598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0AC-F70C-4512-A460-27DEE088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224-4616-4948-BAD5-C547B7B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ABE-BE30-495D-AB4E-3B6D5EAB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8087-373F-4461-8091-ACC7C122B34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992B-AD46-47FF-B131-8A9278A969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672320" y="620640"/>
            <a:ext cx="118584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77777"/>
                </a:solidFill>
                <a:latin typeface="Arial"/>
                <a:ea typeface="华文仿宋"/>
              </a:rPr>
              <a:t>放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474320" y="1413000"/>
            <a:ext cx="3934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tangChe"/>
                <a:ea typeface="宋体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1428480" y="26676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雅卡通创意简约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目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537680" y="692280"/>
            <a:ext cx="850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131000" y="1365120"/>
            <a:ext cx="3106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幻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那個一直桎梏在籠中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过度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5003640" y="38037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200560" y="4438800"/>
            <a:ext cx="248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skerville Old Face"/>
                <a:ea typeface="宋体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内容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60440" y="333360"/>
            <a:ext cx="238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87360" y="1263600"/>
            <a:ext cx="6848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放飛就是遠離城市的喧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擺脫日常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家庭和事業的羈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縱情於山水之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不同的錦繡風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各地的風俗人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滿足好奇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求知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增加閱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賞心悅目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结束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280480" y="1974960"/>
            <a:ext cx="164268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謝謝觀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4080" y="6165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王玉清</cp:lastModifiedBy>
  <dcterms:modified xsi:type="dcterms:W3CDTF">2016-03-01T07:00:53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