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026A-2714-4557-9F40-F6BAB124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DEE0-2285-4614-82D3-1976E0AB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BA7-3F80-48FC-9D59-63F1A5B9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DAED-3356-4C1B-BF80-32E1B363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E162-574E-4D3B-B91D-9D1773C2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BA3-0EF2-4B08-95D4-87ED7C23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3119-54AA-4521-8CD1-00F2174F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277F-1CBE-433D-A1FA-AAE2F28F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6336-139B-4D21-887C-3BBF23CF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065D-5059-4654-9800-CA51EE14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908D-D2F8-460C-9A1A-06FA213E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1B0-24C4-4210-9CDA-EC7475F3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E786-7B16-4212-929B-50F45750B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971440"/>
            <a:ext cx="835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通向成功的桥商务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685800" y="4038480"/>
            <a:ext cx="6400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Times New Roman"/>
              </a:rPr>
              <a:t>Business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07:38:20Z</dcterms:created>
  <dc:creator>ppt宝藏</dc:creator>
  <dc:description/>
  <dc:language>en-US</dc:language>
  <cp:lastModifiedBy>a</cp:lastModifiedBy>
  <dcterms:modified xsi:type="dcterms:W3CDTF">2015-07-25T06:58:42Z</dcterms:modified>
  <cp:revision>4</cp:revision>
  <dc:subject/>
  <dc:title>www.pptbz.com</dc:title>
</cp:coreProperties>
</file>