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C562-5D19-467D-A0B8-5904E8B87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4D6B-577D-4240-96D6-152ED647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7474-8842-440D-84B8-E18D55AB4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DE64-E264-4C4A-A063-7541A6256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7540-E19B-4087-A1E7-B1095622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3543-54F0-42FB-AB24-5CFB87B7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C52C-2D85-469A-94AA-540C363B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F56C-BE8E-434A-881C-F42F2336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3872-1814-4C4A-9531-2A0C11A9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32FE-2BFF-4A03-9B38-F4B41501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15FE-DE6F-4148-A7A1-00E6F63E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10B0-339F-460D-B787-1EC4F7B0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5486-E3B8-4B97-A568-754036E1F4B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17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17.png"/><Relationship Id="rId22" Type="http://schemas.openxmlformats.org/officeDocument/2006/relationships/image" Target="../media/image25.png"/><Relationship Id="rId23" Type="http://schemas.openxmlformats.org/officeDocument/2006/relationships/image" Target="../media/image26.png"/><Relationship Id="rId24" Type="http://schemas.openxmlformats.org/officeDocument/2006/relationships/image" Target="../media/image17.png"/><Relationship Id="rId25" Type="http://schemas.openxmlformats.org/officeDocument/2006/relationships/image" Target="../media/image27.png"/><Relationship Id="rId26" Type="http://schemas.openxmlformats.org/officeDocument/2006/relationships/image" Target="../media/image28.png"/><Relationship Id="rId27" Type="http://schemas.openxmlformats.org/officeDocument/2006/relationships/image" Target="../media/image29.png"/><Relationship Id="rId28" Type="http://schemas.openxmlformats.org/officeDocument/2006/relationships/image" Target="../media/image30.png"/><Relationship Id="rId29" Type="http://schemas.openxmlformats.org/officeDocument/2006/relationships/image" Target="../media/image31.png"/><Relationship Id="rId30" Type="http://schemas.openxmlformats.org/officeDocument/2006/relationships/image" Target="../media/image17.png"/><Relationship Id="rId3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5143680" y="6427800"/>
            <a:ext cx="385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5974200" y="571680"/>
            <a:ext cx="147420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商务办公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8"/>
          <p:cNvSpPr/>
          <p:nvPr/>
        </p:nvSpPr>
        <p:spPr>
          <a:xfrm flipH="1">
            <a:off x="6924240" y="642960"/>
            <a:ext cx="1800" cy="300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"/>
          <p:cNvSpPr/>
          <p:nvPr/>
        </p:nvSpPr>
        <p:spPr>
          <a:xfrm>
            <a:off x="2287440" y="257040"/>
            <a:ext cx="454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盲目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12"/>
          <p:cNvSpPr/>
          <p:nvPr/>
        </p:nvSpPr>
        <p:spPr>
          <a:xfrm>
            <a:off x="3079800" y="2901960"/>
            <a:ext cx="4135320" cy="3240"/>
          </a:xfrm>
          <a:prstGeom prst="line">
            <a:avLst/>
          </a:prstGeom>
          <a:ln w="28440">
            <a:solidFill>
              <a:srgbClr val="959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12"/>
          <p:cNvSpPr/>
          <p:nvPr/>
        </p:nvSpPr>
        <p:spPr>
          <a:xfrm>
            <a:off x="3043080" y="4611600"/>
            <a:ext cx="4135680" cy="3240"/>
          </a:xfrm>
          <a:prstGeom prst="line">
            <a:avLst/>
          </a:prstGeom>
          <a:ln w="28440">
            <a:solidFill>
              <a:srgbClr val="959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椭圆 11"/>
          <p:cNvSpPr/>
          <p:nvPr/>
        </p:nvSpPr>
        <p:spPr>
          <a:xfrm>
            <a:off x="2682720" y="1835280"/>
            <a:ext cx="397080" cy="419040"/>
          </a:xfrm>
          <a:prstGeom prst="ellipse">
            <a:avLst/>
          </a:prstGeom>
          <a:noFill/>
          <a:ln w="76320">
            <a:solidFill>
              <a:srgbClr val="92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12"/>
          <p:cNvSpPr/>
          <p:nvPr/>
        </p:nvSpPr>
        <p:spPr>
          <a:xfrm>
            <a:off x="2682720" y="2690640"/>
            <a:ext cx="397080" cy="419400"/>
          </a:xfrm>
          <a:prstGeom prst="ellipse">
            <a:avLst/>
          </a:prstGeom>
          <a:noFill/>
          <a:ln w="76320">
            <a:solidFill>
              <a:srgbClr val="959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13"/>
          <p:cNvSpPr/>
          <p:nvPr/>
        </p:nvSpPr>
        <p:spPr>
          <a:xfrm>
            <a:off x="2682720" y="3544920"/>
            <a:ext cx="397080" cy="419040"/>
          </a:xfrm>
          <a:prstGeom prst="ellipse">
            <a:avLst/>
          </a:prstGeom>
          <a:noFill/>
          <a:ln w="76320">
            <a:solidFill>
              <a:srgbClr val="92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14"/>
          <p:cNvSpPr/>
          <p:nvPr/>
        </p:nvSpPr>
        <p:spPr>
          <a:xfrm>
            <a:off x="2682720" y="4398840"/>
            <a:ext cx="397080" cy="419400"/>
          </a:xfrm>
          <a:prstGeom prst="ellipse">
            <a:avLst/>
          </a:prstGeom>
          <a:noFill/>
          <a:ln w="76320">
            <a:solidFill>
              <a:srgbClr val="959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12"/>
          <p:cNvSpPr/>
          <p:nvPr/>
        </p:nvSpPr>
        <p:spPr>
          <a:xfrm>
            <a:off x="3079800" y="2044800"/>
            <a:ext cx="4135320" cy="3240"/>
          </a:xfrm>
          <a:prstGeom prst="line">
            <a:avLst/>
          </a:prstGeom>
          <a:ln w="28440">
            <a:solidFill>
              <a:srgbClr val="92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6"/>
          <p:cNvSpPr/>
          <p:nvPr/>
        </p:nvSpPr>
        <p:spPr>
          <a:xfrm>
            <a:off x="3665520" y="1785960"/>
            <a:ext cx="2803680" cy="458640"/>
          </a:xfrm>
          <a:prstGeom prst="rect">
            <a:avLst/>
          </a:prstGeom>
          <a:solidFill>
            <a:srgbClr val="921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12"/>
          <p:cNvSpPr/>
          <p:nvPr/>
        </p:nvSpPr>
        <p:spPr>
          <a:xfrm>
            <a:off x="3043080" y="3754440"/>
            <a:ext cx="4135680" cy="3240"/>
          </a:xfrm>
          <a:prstGeom prst="line">
            <a:avLst/>
          </a:prstGeom>
          <a:ln w="28440">
            <a:solidFill>
              <a:srgbClr val="921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8"/>
          <p:cNvSpPr/>
          <p:nvPr/>
        </p:nvSpPr>
        <p:spPr>
          <a:xfrm>
            <a:off x="3666960" y="2755800"/>
            <a:ext cx="2802240" cy="459000"/>
          </a:xfrm>
          <a:prstGeom prst="rect">
            <a:avLst/>
          </a:prstGeom>
          <a:solidFill>
            <a:srgbClr val="95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9"/>
          <p:cNvSpPr/>
          <p:nvPr/>
        </p:nvSpPr>
        <p:spPr>
          <a:xfrm>
            <a:off x="3683160" y="3500280"/>
            <a:ext cx="2801880" cy="459000"/>
          </a:xfrm>
          <a:prstGeom prst="rect">
            <a:avLst/>
          </a:prstGeom>
          <a:solidFill>
            <a:srgbClr val="921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0"/>
          <p:cNvSpPr/>
          <p:nvPr/>
        </p:nvSpPr>
        <p:spPr>
          <a:xfrm>
            <a:off x="3683160" y="4470480"/>
            <a:ext cx="2803320" cy="458640"/>
          </a:xfrm>
          <a:prstGeom prst="rect">
            <a:avLst/>
          </a:prstGeom>
          <a:solidFill>
            <a:srgbClr val="95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0"/>
          <p:cNvSpPr/>
          <p:nvPr/>
        </p:nvSpPr>
        <p:spPr>
          <a:xfrm>
            <a:off x="46090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1"/>
          <p:cNvSpPr/>
          <p:nvPr/>
        </p:nvSpPr>
        <p:spPr>
          <a:xfrm>
            <a:off x="46105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2"/>
          <p:cNvSpPr/>
          <p:nvPr/>
        </p:nvSpPr>
        <p:spPr>
          <a:xfrm>
            <a:off x="468036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1"/>
          <p:cNvSpPr/>
          <p:nvPr/>
        </p:nvSpPr>
        <p:spPr>
          <a:xfrm>
            <a:off x="4609080" y="1844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组合 33"/>
          <p:cNvGrpSpPr/>
          <p:nvPr/>
        </p:nvGrpSpPr>
        <p:grpSpPr>
          <a:xfrm>
            <a:off x="264960" y="2492280"/>
            <a:ext cx="8736120" cy="1936440"/>
            <a:chOff x="264960" y="2492280"/>
            <a:chExt cx="8736120" cy="1936440"/>
          </a:xfrm>
        </p:grpSpPr>
        <p:grpSp>
          <p:nvGrpSpPr>
            <p:cNvPr id="68" name="空心弧 10"/>
            <p:cNvGrpSpPr/>
            <p:nvPr/>
          </p:nvGrpSpPr>
          <p:grpSpPr>
            <a:xfrm>
              <a:off x="5083920" y="3457800"/>
              <a:ext cx="1932480" cy="970920"/>
              <a:chOff x="5083920" y="3457800"/>
              <a:chExt cx="1932480" cy="970920"/>
            </a:xfrm>
          </p:grpSpPr>
          <p:pic>
            <p:nvPicPr>
              <p:cNvPr id="69" name="空心弧 10" descr=""/>
              <p:cNvPicPr/>
              <p:nvPr/>
            </p:nvPicPr>
            <p:blipFill>
              <a:blip r:embed="rId1"/>
              <a:stretch/>
            </p:blipFill>
            <p:spPr>
              <a:xfrm>
                <a:off x="5083920" y="3457800"/>
                <a:ext cx="1929600" cy="97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"/>
              <p:cNvSpPr/>
              <p:nvPr/>
            </p:nvSpPr>
            <p:spPr>
              <a:xfrm rot="10800000">
                <a:off x="5084640" y="3459960"/>
                <a:ext cx="1931760" cy="96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组合 11"/>
            <p:cNvGrpSpPr/>
            <p:nvPr/>
          </p:nvGrpSpPr>
          <p:grpSpPr>
            <a:xfrm>
              <a:off x="264960" y="2806200"/>
              <a:ext cx="1480680" cy="860760"/>
              <a:chOff x="264960" y="2806200"/>
              <a:chExt cx="1480680" cy="860760"/>
            </a:xfrm>
          </p:grpSpPr>
          <p:grpSp>
            <p:nvGrpSpPr>
              <p:cNvPr id="72" name="椭圆 12"/>
              <p:cNvGrpSpPr/>
              <p:nvPr/>
            </p:nvGrpSpPr>
            <p:grpSpPr>
              <a:xfrm>
                <a:off x="264960" y="3109680"/>
                <a:ext cx="1478160" cy="557280"/>
                <a:chOff x="264960" y="3109680"/>
                <a:chExt cx="1478160" cy="557280"/>
              </a:xfrm>
            </p:grpSpPr>
            <p:pic>
              <p:nvPicPr>
                <p:cNvPr id="73" name="椭圆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64960" y="3109680"/>
                  <a:ext cx="147816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" name=""/>
                <p:cNvSpPr/>
                <p:nvPr/>
              </p:nvSpPr>
              <p:spPr>
                <a:xfrm rot="10800000">
                  <a:off x="484200" y="3190320"/>
                  <a:ext cx="1044720" cy="39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" name="矩形 13"/>
              <p:cNvSpPr/>
              <p:nvPr/>
            </p:nvSpPr>
            <p:spPr>
              <a:xfrm flipV="1">
                <a:off x="267840" y="2805840"/>
                <a:ext cx="1477800" cy="65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空心弧 14"/>
            <p:cNvGrpSpPr/>
            <p:nvPr/>
          </p:nvGrpSpPr>
          <p:grpSpPr>
            <a:xfrm>
              <a:off x="2181960" y="3457800"/>
              <a:ext cx="1938600" cy="970920"/>
              <a:chOff x="2181960" y="3457800"/>
              <a:chExt cx="1938600" cy="970920"/>
            </a:xfrm>
          </p:grpSpPr>
          <p:pic>
            <p:nvPicPr>
              <p:cNvPr id="77" name="空心弧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960" y="3457800"/>
                <a:ext cx="1938600" cy="97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" name=""/>
              <p:cNvSpPr/>
              <p:nvPr/>
            </p:nvSpPr>
            <p:spPr>
              <a:xfrm rot="10800000">
                <a:off x="2182680" y="3459960"/>
                <a:ext cx="1935000" cy="96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组合 15"/>
            <p:cNvGrpSpPr/>
            <p:nvPr/>
          </p:nvGrpSpPr>
          <p:grpSpPr>
            <a:xfrm>
              <a:off x="1698840" y="2806200"/>
              <a:ext cx="1480680" cy="860760"/>
              <a:chOff x="1698840" y="2806200"/>
              <a:chExt cx="1480680" cy="860760"/>
            </a:xfrm>
          </p:grpSpPr>
          <p:grpSp>
            <p:nvGrpSpPr>
              <p:cNvPr id="80" name="椭圆 16"/>
              <p:cNvGrpSpPr/>
              <p:nvPr/>
            </p:nvGrpSpPr>
            <p:grpSpPr>
              <a:xfrm>
                <a:off x="1700640" y="3109680"/>
                <a:ext cx="1478880" cy="557280"/>
                <a:chOff x="1700640" y="3109680"/>
                <a:chExt cx="1478880" cy="557280"/>
              </a:xfrm>
            </p:grpSpPr>
            <p:pic>
              <p:nvPicPr>
                <p:cNvPr id="81" name="椭圆 1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700640" y="3109680"/>
                  <a:ext cx="147888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" name=""/>
                <p:cNvSpPr/>
                <p:nvPr/>
              </p:nvSpPr>
              <p:spPr>
                <a:xfrm rot="10800000">
                  <a:off x="1915200" y="3190320"/>
                  <a:ext cx="1045440" cy="39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" name="矩形 17"/>
              <p:cNvSpPr/>
              <p:nvPr/>
            </p:nvSpPr>
            <p:spPr>
              <a:xfrm flipV="1">
                <a:off x="1698840" y="2805840"/>
                <a:ext cx="1478520" cy="65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空心弧 18"/>
            <p:cNvGrpSpPr/>
            <p:nvPr/>
          </p:nvGrpSpPr>
          <p:grpSpPr>
            <a:xfrm>
              <a:off x="731160" y="2492280"/>
              <a:ext cx="1932480" cy="971280"/>
              <a:chOff x="731160" y="2492280"/>
              <a:chExt cx="1932480" cy="971280"/>
            </a:xfrm>
          </p:grpSpPr>
          <p:pic>
            <p:nvPicPr>
              <p:cNvPr id="85" name="空心弧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731160" y="2492280"/>
                <a:ext cx="1930320" cy="97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" name=""/>
              <p:cNvSpPr/>
              <p:nvPr/>
            </p:nvSpPr>
            <p:spPr>
              <a:xfrm>
                <a:off x="731160" y="2494440"/>
                <a:ext cx="1932480" cy="9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组合 19"/>
            <p:cNvGrpSpPr/>
            <p:nvPr/>
          </p:nvGrpSpPr>
          <p:grpSpPr>
            <a:xfrm>
              <a:off x="3152160" y="2806200"/>
              <a:ext cx="1480680" cy="860760"/>
              <a:chOff x="3152160" y="2806200"/>
              <a:chExt cx="1480680" cy="860760"/>
            </a:xfrm>
          </p:grpSpPr>
          <p:grpSp>
            <p:nvGrpSpPr>
              <p:cNvPr id="88" name="椭圆 20"/>
              <p:cNvGrpSpPr/>
              <p:nvPr/>
            </p:nvGrpSpPr>
            <p:grpSpPr>
              <a:xfrm>
                <a:off x="3152160" y="3109680"/>
                <a:ext cx="1478160" cy="557280"/>
                <a:chOff x="3152160" y="3109680"/>
                <a:chExt cx="1478160" cy="557280"/>
              </a:xfrm>
            </p:grpSpPr>
            <p:pic>
              <p:nvPicPr>
                <p:cNvPr id="89" name="椭圆 20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152160" y="3109680"/>
                  <a:ext cx="147816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" name=""/>
                <p:cNvSpPr/>
                <p:nvPr/>
              </p:nvSpPr>
              <p:spPr>
                <a:xfrm rot="10800000">
                  <a:off x="3369240" y="3190320"/>
                  <a:ext cx="1044720" cy="39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" name="矩形 21"/>
              <p:cNvSpPr/>
              <p:nvPr/>
            </p:nvSpPr>
            <p:spPr>
              <a:xfrm flipV="1">
                <a:off x="3153240" y="2805840"/>
                <a:ext cx="1479600" cy="65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组合 22"/>
            <p:cNvGrpSpPr/>
            <p:nvPr/>
          </p:nvGrpSpPr>
          <p:grpSpPr>
            <a:xfrm>
              <a:off x="4586400" y="2806200"/>
              <a:ext cx="1480680" cy="860760"/>
              <a:chOff x="4586400" y="2806200"/>
              <a:chExt cx="1480680" cy="860760"/>
            </a:xfrm>
          </p:grpSpPr>
          <p:grpSp>
            <p:nvGrpSpPr>
              <p:cNvPr id="93" name="椭圆 23"/>
              <p:cNvGrpSpPr/>
              <p:nvPr/>
            </p:nvGrpSpPr>
            <p:grpSpPr>
              <a:xfrm>
                <a:off x="4586400" y="3109680"/>
                <a:ext cx="1478880" cy="557280"/>
                <a:chOff x="4586400" y="3109680"/>
                <a:chExt cx="1478880" cy="557280"/>
              </a:xfrm>
            </p:grpSpPr>
            <p:pic>
              <p:nvPicPr>
                <p:cNvPr id="94" name="椭圆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586400" y="3109680"/>
                  <a:ext cx="147888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" name=""/>
                <p:cNvSpPr/>
                <p:nvPr/>
              </p:nvSpPr>
              <p:spPr>
                <a:xfrm rot="10800000">
                  <a:off x="4804920" y="3190320"/>
                  <a:ext cx="1045440" cy="39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" name="矩形 24"/>
              <p:cNvSpPr/>
              <p:nvPr/>
            </p:nvSpPr>
            <p:spPr>
              <a:xfrm flipV="1">
                <a:off x="4588200" y="2805840"/>
                <a:ext cx="1478880" cy="65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组合 25"/>
            <p:cNvGrpSpPr/>
            <p:nvPr/>
          </p:nvGrpSpPr>
          <p:grpSpPr>
            <a:xfrm>
              <a:off x="6086520" y="2806200"/>
              <a:ext cx="1480680" cy="860760"/>
              <a:chOff x="6086520" y="2806200"/>
              <a:chExt cx="1480680" cy="860760"/>
            </a:xfrm>
          </p:grpSpPr>
          <p:grpSp>
            <p:nvGrpSpPr>
              <p:cNvPr id="98" name="椭圆 26"/>
              <p:cNvGrpSpPr/>
              <p:nvPr/>
            </p:nvGrpSpPr>
            <p:grpSpPr>
              <a:xfrm>
                <a:off x="6086520" y="3109680"/>
                <a:ext cx="1478520" cy="557280"/>
                <a:chOff x="6086520" y="3109680"/>
                <a:chExt cx="1478520" cy="557280"/>
              </a:xfrm>
            </p:grpSpPr>
            <p:pic>
              <p:nvPicPr>
                <p:cNvPr id="99" name="椭圆 2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086520" y="3109680"/>
                  <a:ext cx="147852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" name=""/>
                <p:cNvSpPr/>
                <p:nvPr/>
              </p:nvSpPr>
              <p:spPr>
                <a:xfrm rot="10800000">
                  <a:off x="6305040" y="3190320"/>
                  <a:ext cx="1045080" cy="39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矩形 27"/>
              <p:cNvSpPr/>
              <p:nvPr/>
            </p:nvSpPr>
            <p:spPr>
              <a:xfrm flipV="1">
                <a:off x="6089040" y="2805840"/>
                <a:ext cx="1478160" cy="65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组合 28"/>
            <p:cNvGrpSpPr/>
            <p:nvPr/>
          </p:nvGrpSpPr>
          <p:grpSpPr>
            <a:xfrm>
              <a:off x="7520400" y="2806200"/>
              <a:ext cx="1480680" cy="860760"/>
              <a:chOff x="7520400" y="2806200"/>
              <a:chExt cx="1480680" cy="860760"/>
            </a:xfrm>
          </p:grpSpPr>
          <p:grpSp>
            <p:nvGrpSpPr>
              <p:cNvPr id="103" name="椭圆 29"/>
              <p:cNvGrpSpPr/>
              <p:nvPr/>
            </p:nvGrpSpPr>
            <p:grpSpPr>
              <a:xfrm>
                <a:off x="7522560" y="3109680"/>
                <a:ext cx="1478520" cy="557280"/>
                <a:chOff x="7522560" y="3109680"/>
                <a:chExt cx="1478520" cy="557280"/>
              </a:xfrm>
            </p:grpSpPr>
            <p:pic>
              <p:nvPicPr>
                <p:cNvPr id="104" name="椭圆 29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522560" y="3109680"/>
                  <a:ext cx="1478520" cy="557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" name=""/>
                <p:cNvSpPr/>
                <p:nvPr/>
              </p:nvSpPr>
              <p:spPr>
                <a:xfrm rot="10800000">
                  <a:off x="7736400" y="3190320"/>
                  <a:ext cx="1045080" cy="39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" name="矩形 30"/>
              <p:cNvSpPr/>
              <p:nvPr/>
            </p:nvSpPr>
            <p:spPr>
              <a:xfrm flipV="1">
                <a:off x="7520400" y="2805840"/>
                <a:ext cx="1478160" cy="65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空心弧 31"/>
            <p:cNvGrpSpPr/>
            <p:nvPr/>
          </p:nvGrpSpPr>
          <p:grpSpPr>
            <a:xfrm>
              <a:off x="3633120" y="2492280"/>
              <a:ext cx="1938600" cy="971280"/>
              <a:chOff x="3633120" y="2492280"/>
              <a:chExt cx="1938600" cy="971280"/>
            </a:xfrm>
          </p:grpSpPr>
          <p:pic>
            <p:nvPicPr>
              <p:cNvPr id="108" name="空心弧 3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633120" y="2492280"/>
                <a:ext cx="1938600" cy="97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>
                <a:off x="3634920" y="2494440"/>
                <a:ext cx="1935000" cy="9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空心弧 32"/>
            <p:cNvGrpSpPr/>
            <p:nvPr/>
          </p:nvGrpSpPr>
          <p:grpSpPr>
            <a:xfrm>
              <a:off x="6535080" y="2492280"/>
              <a:ext cx="1932480" cy="971280"/>
              <a:chOff x="6535080" y="2492280"/>
              <a:chExt cx="1932480" cy="971280"/>
            </a:xfrm>
          </p:grpSpPr>
          <p:pic>
            <p:nvPicPr>
              <p:cNvPr id="111" name="空心弧 32" descr=""/>
              <p:cNvPicPr/>
              <p:nvPr/>
            </p:nvPicPr>
            <p:blipFill>
              <a:blip r:embed="rId11"/>
              <a:stretch/>
            </p:blipFill>
            <p:spPr>
              <a:xfrm>
                <a:off x="6537600" y="2492280"/>
                <a:ext cx="1929960" cy="97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>
                <a:off x="6535080" y="2494440"/>
                <a:ext cx="1932120" cy="9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2"/>
          <p:cNvSpPr/>
          <p:nvPr/>
        </p:nvSpPr>
        <p:spPr>
          <a:xfrm>
            <a:off x="99756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3"/>
          <p:cNvSpPr/>
          <p:nvPr/>
        </p:nvSpPr>
        <p:spPr>
          <a:xfrm>
            <a:off x="406908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4"/>
          <p:cNvSpPr/>
          <p:nvPr/>
        </p:nvSpPr>
        <p:spPr>
          <a:xfrm>
            <a:off x="73555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圆角矩形 10"/>
          <p:cNvSpPr/>
          <p:nvPr/>
        </p:nvSpPr>
        <p:spPr>
          <a:xfrm>
            <a:off x="2593800" y="2738520"/>
            <a:ext cx="4478400" cy="10540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921a1a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圆角矩形 11"/>
          <p:cNvSpPr/>
          <p:nvPr/>
        </p:nvSpPr>
        <p:spPr>
          <a:xfrm>
            <a:off x="2714760" y="2793960"/>
            <a:ext cx="4117680" cy="968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cecec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椭圆 2"/>
          <p:cNvGrpSpPr/>
          <p:nvPr/>
        </p:nvGrpSpPr>
        <p:grpSpPr>
          <a:xfrm>
            <a:off x="6504120" y="2786040"/>
            <a:ext cx="482040" cy="963720"/>
            <a:chOff x="6504120" y="2786040"/>
            <a:chExt cx="482040" cy="963720"/>
          </a:xfrm>
        </p:grpSpPr>
        <p:pic>
          <p:nvPicPr>
            <p:cNvPr id="129" name="椭圆 2" descr=""/>
            <p:cNvPicPr/>
            <p:nvPr/>
          </p:nvPicPr>
          <p:blipFill>
            <a:blip r:embed="rId1"/>
            <a:stretch/>
          </p:blipFill>
          <p:spPr>
            <a:xfrm>
              <a:off x="6507000" y="2787120"/>
              <a:ext cx="479160" cy="96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6504120" y="2786040"/>
              <a:ext cx="480960" cy="9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椭圆 2"/>
          <p:cNvGrpSpPr/>
          <p:nvPr/>
        </p:nvGrpSpPr>
        <p:grpSpPr>
          <a:xfrm>
            <a:off x="6711840" y="2901960"/>
            <a:ext cx="243000" cy="700200"/>
            <a:chOff x="6711840" y="2901960"/>
            <a:chExt cx="243000" cy="700200"/>
          </a:xfrm>
        </p:grpSpPr>
        <p:pic>
          <p:nvPicPr>
            <p:cNvPr id="132" name="椭圆 2" descr=""/>
            <p:cNvPicPr/>
            <p:nvPr/>
          </p:nvPicPr>
          <p:blipFill>
            <a:blip r:embed="rId2"/>
            <a:stretch/>
          </p:blipFill>
          <p:spPr>
            <a:xfrm>
              <a:off x="6712920" y="2901960"/>
              <a:ext cx="241560" cy="6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6711840" y="2901960"/>
              <a:ext cx="24300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等腰三角形 14"/>
          <p:cNvSpPr/>
          <p:nvPr/>
        </p:nvSpPr>
        <p:spPr>
          <a:xfrm rot="5400000">
            <a:off x="6617880" y="3186000"/>
            <a:ext cx="217440" cy="189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圆角矩形 15"/>
          <p:cNvSpPr/>
          <p:nvPr/>
        </p:nvSpPr>
        <p:spPr>
          <a:xfrm>
            <a:off x="2593800" y="1428840"/>
            <a:ext cx="4478400" cy="10540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921a1a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圆角矩形 16"/>
          <p:cNvSpPr/>
          <p:nvPr/>
        </p:nvSpPr>
        <p:spPr>
          <a:xfrm>
            <a:off x="2714760" y="1484280"/>
            <a:ext cx="4117680" cy="968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cecec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椭圆 2"/>
          <p:cNvGrpSpPr/>
          <p:nvPr/>
        </p:nvGrpSpPr>
        <p:grpSpPr>
          <a:xfrm>
            <a:off x="6504120" y="1463760"/>
            <a:ext cx="482040" cy="961920"/>
            <a:chOff x="6504120" y="1463760"/>
            <a:chExt cx="482040" cy="961920"/>
          </a:xfrm>
        </p:grpSpPr>
        <p:pic>
          <p:nvPicPr>
            <p:cNvPr id="138" name="椭圆 2" descr=""/>
            <p:cNvPicPr/>
            <p:nvPr/>
          </p:nvPicPr>
          <p:blipFill>
            <a:blip r:embed="rId3"/>
            <a:stretch/>
          </p:blipFill>
          <p:spPr>
            <a:xfrm>
              <a:off x="6507000" y="1466640"/>
              <a:ext cx="479160" cy="9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6504120" y="1463760"/>
              <a:ext cx="4809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椭圆 2"/>
          <p:cNvGrpSpPr/>
          <p:nvPr/>
        </p:nvGrpSpPr>
        <p:grpSpPr>
          <a:xfrm>
            <a:off x="6711840" y="1590840"/>
            <a:ext cx="243000" cy="701280"/>
            <a:chOff x="6711840" y="1590840"/>
            <a:chExt cx="243000" cy="701280"/>
          </a:xfrm>
        </p:grpSpPr>
        <p:pic>
          <p:nvPicPr>
            <p:cNvPr id="141" name="椭圆 2" descr=""/>
            <p:cNvPicPr/>
            <p:nvPr/>
          </p:nvPicPr>
          <p:blipFill>
            <a:blip r:embed="rId4"/>
            <a:stretch/>
          </p:blipFill>
          <p:spPr>
            <a:xfrm>
              <a:off x="6712920" y="1590840"/>
              <a:ext cx="24156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6711840" y="1591920"/>
              <a:ext cx="24300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等腰三角形 19"/>
          <p:cNvSpPr/>
          <p:nvPr/>
        </p:nvSpPr>
        <p:spPr>
          <a:xfrm rot="5400000">
            <a:off x="6617880" y="1882440"/>
            <a:ext cx="217440" cy="189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圆角矩形 20"/>
          <p:cNvSpPr/>
          <p:nvPr/>
        </p:nvSpPr>
        <p:spPr>
          <a:xfrm>
            <a:off x="2593800" y="4048200"/>
            <a:ext cx="4478400" cy="10540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921a1a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圆角矩形 21"/>
          <p:cNvSpPr/>
          <p:nvPr/>
        </p:nvSpPr>
        <p:spPr>
          <a:xfrm>
            <a:off x="2714760" y="4103640"/>
            <a:ext cx="4117680" cy="968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cecec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椭圆 2"/>
          <p:cNvGrpSpPr/>
          <p:nvPr/>
        </p:nvGrpSpPr>
        <p:grpSpPr>
          <a:xfrm>
            <a:off x="6504120" y="4095720"/>
            <a:ext cx="482040" cy="963720"/>
            <a:chOff x="6504120" y="4095720"/>
            <a:chExt cx="482040" cy="963720"/>
          </a:xfrm>
        </p:grpSpPr>
        <p:pic>
          <p:nvPicPr>
            <p:cNvPr id="147" name="椭圆 2" descr=""/>
            <p:cNvPicPr/>
            <p:nvPr/>
          </p:nvPicPr>
          <p:blipFill>
            <a:blip r:embed="rId5"/>
            <a:stretch/>
          </p:blipFill>
          <p:spPr>
            <a:xfrm>
              <a:off x="6507000" y="4096800"/>
              <a:ext cx="479160" cy="96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6504120" y="4095720"/>
              <a:ext cx="480960" cy="9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椭圆 2"/>
          <p:cNvGrpSpPr/>
          <p:nvPr/>
        </p:nvGrpSpPr>
        <p:grpSpPr>
          <a:xfrm>
            <a:off x="6711840" y="4211640"/>
            <a:ext cx="243000" cy="701640"/>
            <a:chOff x="6711840" y="4211640"/>
            <a:chExt cx="243000" cy="701640"/>
          </a:xfrm>
        </p:grpSpPr>
        <p:pic>
          <p:nvPicPr>
            <p:cNvPr id="150" name="椭圆 2" descr=""/>
            <p:cNvPicPr/>
            <p:nvPr/>
          </p:nvPicPr>
          <p:blipFill>
            <a:blip r:embed="rId6"/>
            <a:stretch/>
          </p:blipFill>
          <p:spPr>
            <a:xfrm>
              <a:off x="6712920" y="4211640"/>
              <a:ext cx="24156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6711840" y="4211640"/>
              <a:ext cx="2430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等腰三角形 24"/>
          <p:cNvSpPr/>
          <p:nvPr/>
        </p:nvSpPr>
        <p:spPr>
          <a:xfrm rot="5400000">
            <a:off x="6601680" y="4502880"/>
            <a:ext cx="217440" cy="18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组合 38"/>
          <p:cNvGrpSpPr/>
          <p:nvPr/>
        </p:nvGrpSpPr>
        <p:grpSpPr>
          <a:xfrm>
            <a:off x="3099600" y="2319840"/>
            <a:ext cx="163080" cy="569880"/>
            <a:chOff x="3099600" y="2319840"/>
            <a:chExt cx="163080" cy="569880"/>
          </a:xfrm>
        </p:grpSpPr>
        <p:sp>
          <p:nvSpPr>
            <p:cNvPr id="154" name="椭圆 26"/>
            <p:cNvSpPr/>
            <p:nvPr/>
          </p:nvSpPr>
          <p:spPr>
            <a:xfrm rot="4460400">
              <a:off x="3094560" y="2729520"/>
              <a:ext cx="172800" cy="12060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椭圆 27"/>
            <p:cNvSpPr/>
            <p:nvPr/>
          </p:nvSpPr>
          <p:spPr>
            <a:xfrm rot="4460400">
              <a:off x="3109320" y="2344320"/>
              <a:ext cx="142920" cy="12060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组合 41"/>
            <p:cNvGrpSpPr/>
            <p:nvPr/>
          </p:nvGrpSpPr>
          <p:grpSpPr>
            <a:xfrm>
              <a:off x="3135240" y="2363040"/>
              <a:ext cx="90000" cy="472320"/>
              <a:chOff x="3135240" y="2363040"/>
              <a:chExt cx="90000" cy="472320"/>
            </a:xfrm>
          </p:grpSpPr>
          <p:grpSp>
            <p:nvGrpSpPr>
              <p:cNvPr id="157" name="椭圆 29"/>
              <p:cNvGrpSpPr/>
              <p:nvPr/>
            </p:nvGrpSpPr>
            <p:grpSpPr>
              <a:xfrm>
                <a:off x="3135240" y="2712960"/>
                <a:ext cx="89280" cy="122400"/>
                <a:chOff x="3135240" y="2712960"/>
                <a:chExt cx="89280" cy="122400"/>
              </a:xfrm>
            </p:grpSpPr>
            <p:pic>
              <p:nvPicPr>
                <p:cNvPr id="158" name="椭圆 29" descr=""/>
                <p:cNvPicPr/>
                <p:nvPr/>
              </p:nvPicPr>
              <p:blipFill>
                <a:blip r:embed="rId7"/>
                <a:stretch/>
              </p:blipFill>
              <p:spPr>
                <a:xfrm rot="21599400">
                  <a:off x="3135240" y="2712600"/>
                  <a:ext cx="89280" cy="12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" name=""/>
                <p:cNvSpPr/>
                <p:nvPr/>
              </p:nvSpPr>
              <p:spPr>
                <a:xfrm rot="5440200">
                  <a:off x="3142440" y="2748240"/>
                  <a:ext cx="70560" cy="5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" name="椭圆 30"/>
              <p:cNvGrpSpPr/>
              <p:nvPr/>
            </p:nvGrpSpPr>
            <p:grpSpPr>
              <a:xfrm>
                <a:off x="3135960" y="2363040"/>
                <a:ext cx="89280" cy="116280"/>
                <a:chOff x="3135960" y="2363040"/>
                <a:chExt cx="89280" cy="116280"/>
              </a:xfrm>
            </p:grpSpPr>
            <p:pic>
              <p:nvPicPr>
                <p:cNvPr id="161" name="椭圆 30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3135960" y="2362680"/>
                  <a:ext cx="89280" cy="116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2" name=""/>
                <p:cNvSpPr/>
                <p:nvPr/>
              </p:nvSpPr>
              <p:spPr>
                <a:xfrm rot="5440200">
                  <a:off x="3143160" y="2396880"/>
                  <a:ext cx="70200" cy="5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矩形 31"/>
              <p:cNvSpPr/>
              <p:nvPr/>
            </p:nvSpPr>
            <p:spPr>
              <a:xfrm rot="5440800">
                <a:off x="2981520" y="2579760"/>
                <a:ext cx="373320" cy="47880"/>
              </a:xfrm>
              <a:prstGeom prst="rect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4" name="组合 45"/>
          <p:cNvGrpSpPr/>
          <p:nvPr/>
        </p:nvGrpSpPr>
        <p:grpSpPr>
          <a:xfrm>
            <a:off x="3242880" y="2321280"/>
            <a:ext cx="164520" cy="571680"/>
            <a:chOff x="3242880" y="2321280"/>
            <a:chExt cx="164520" cy="571680"/>
          </a:xfrm>
        </p:grpSpPr>
        <p:sp>
          <p:nvSpPr>
            <p:cNvPr id="165" name="椭圆 33"/>
            <p:cNvSpPr/>
            <p:nvPr/>
          </p:nvSpPr>
          <p:spPr>
            <a:xfrm rot="4460400">
              <a:off x="3238560" y="2731680"/>
              <a:ext cx="172800" cy="12240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椭圆 34"/>
            <p:cNvSpPr/>
            <p:nvPr/>
          </p:nvSpPr>
          <p:spPr>
            <a:xfrm rot="4460400">
              <a:off x="3253320" y="2345040"/>
              <a:ext cx="142560" cy="12240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组合 50"/>
            <p:cNvGrpSpPr/>
            <p:nvPr/>
          </p:nvGrpSpPr>
          <p:grpSpPr>
            <a:xfrm>
              <a:off x="3278160" y="2364840"/>
              <a:ext cx="91440" cy="473400"/>
              <a:chOff x="3278160" y="2364840"/>
              <a:chExt cx="91440" cy="473400"/>
            </a:xfrm>
          </p:grpSpPr>
          <p:grpSp>
            <p:nvGrpSpPr>
              <p:cNvPr id="168" name="椭圆 36"/>
              <p:cNvGrpSpPr/>
              <p:nvPr/>
            </p:nvGrpSpPr>
            <p:grpSpPr>
              <a:xfrm>
                <a:off x="3278160" y="2721600"/>
                <a:ext cx="90720" cy="116640"/>
                <a:chOff x="3278160" y="2721600"/>
                <a:chExt cx="90720" cy="116640"/>
              </a:xfrm>
            </p:grpSpPr>
            <p:pic>
              <p:nvPicPr>
                <p:cNvPr id="169" name="椭圆 36" descr=""/>
                <p:cNvPicPr/>
                <p:nvPr/>
              </p:nvPicPr>
              <p:blipFill>
                <a:blip r:embed="rId10"/>
                <a:stretch/>
              </p:blipFill>
              <p:spPr>
                <a:xfrm rot="21599400">
                  <a:off x="3278160" y="2721240"/>
                  <a:ext cx="9072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 rot="5440200">
                  <a:off x="3289320" y="2753280"/>
                  <a:ext cx="70920" cy="5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椭圆 37"/>
              <p:cNvGrpSpPr/>
              <p:nvPr/>
            </p:nvGrpSpPr>
            <p:grpSpPr>
              <a:xfrm>
                <a:off x="3278880" y="2364840"/>
                <a:ext cx="90720" cy="122400"/>
                <a:chOff x="3278880" y="2364840"/>
                <a:chExt cx="90720" cy="122400"/>
              </a:xfrm>
            </p:grpSpPr>
            <p:pic>
              <p:nvPicPr>
                <p:cNvPr id="172" name="椭圆 37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3278880" y="2364480"/>
                  <a:ext cx="90720" cy="12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 rot="5440200">
                  <a:off x="3290040" y="2399760"/>
                  <a:ext cx="70560" cy="5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" name="矩形 38"/>
              <p:cNvSpPr/>
              <p:nvPr/>
            </p:nvSpPr>
            <p:spPr>
              <a:xfrm rot="5440800">
                <a:off x="3126240" y="2584080"/>
                <a:ext cx="375840" cy="48600"/>
              </a:xfrm>
              <a:prstGeom prst="rect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5" name="组合 52"/>
          <p:cNvGrpSpPr/>
          <p:nvPr/>
        </p:nvGrpSpPr>
        <p:grpSpPr>
          <a:xfrm>
            <a:off x="6024240" y="2319480"/>
            <a:ext cx="164520" cy="570240"/>
            <a:chOff x="6024240" y="2319480"/>
            <a:chExt cx="164520" cy="570240"/>
          </a:xfrm>
        </p:grpSpPr>
        <p:sp>
          <p:nvSpPr>
            <p:cNvPr id="176" name="椭圆 40"/>
            <p:cNvSpPr/>
            <p:nvPr/>
          </p:nvSpPr>
          <p:spPr>
            <a:xfrm rot="4460400">
              <a:off x="6019920" y="2728440"/>
              <a:ext cx="172800" cy="12240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椭圆 41"/>
            <p:cNvSpPr/>
            <p:nvPr/>
          </p:nvSpPr>
          <p:spPr>
            <a:xfrm rot="4460400">
              <a:off x="6034680" y="2343600"/>
              <a:ext cx="142920" cy="12240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组合 57"/>
            <p:cNvGrpSpPr/>
            <p:nvPr/>
          </p:nvGrpSpPr>
          <p:grpSpPr>
            <a:xfrm>
              <a:off x="6059520" y="2363040"/>
              <a:ext cx="91440" cy="472320"/>
              <a:chOff x="6059520" y="2363040"/>
              <a:chExt cx="91440" cy="472320"/>
            </a:xfrm>
          </p:grpSpPr>
          <p:grpSp>
            <p:nvGrpSpPr>
              <p:cNvPr id="179" name="椭圆 43"/>
              <p:cNvGrpSpPr/>
              <p:nvPr/>
            </p:nvGrpSpPr>
            <p:grpSpPr>
              <a:xfrm>
                <a:off x="6059520" y="2712960"/>
                <a:ext cx="90720" cy="122400"/>
                <a:chOff x="6059520" y="2712960"/>
                <a:chExt cx="90720" cy="122400"/>
              </a:xfrm>
            </p:grpSpPr>
            <p:pic>
              <p:nvPicPr>
                <p:cNvPr id="180" name="椭圆 43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6059520" y="2712600"/>
                  <a:ext cx="90720" cy="12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1" name=""/>
                <p:cNvSpPr/>
                <p:nvPr/>
              </p:nvSpPr>
              <p:spPr>
                <a:xfrm rot="5440200">
                  <a:off x="6069240" y="2746080"/>
                  <a:ext cx="70560" cy="5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椭圆 44"/>
              <p:cNvGrpSpPr/>
              <p:nvPr/>
            </p:nvGrpSpPr>
            <p:grpSpPr>
              <a:xfrm>
                <a:off x="6060240" y="2363040"/>
                <a:ext cx="90720" cy="116280"/>
                <a:chOff x="6060240" y="2363040"/>
                <a:chExt cx="90720" cy="116280"/>
              </a:xfrm>
            </p:grpSpPr>
            <p:pic>
              <p:nvPicPr>
                <p:cNvPr id="183" name="椭圆 44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6060240" y="2362680"/>
                  <a:ext cx="90720" cy="116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" name=""/>
                <p:cNvSpPr/>
                <p:nvPr/>
              </p:nvSpPr>
              <p:spPr>
                <a:xfrm rot="5440200">
                  <a:off x="6070320" y="2394360"/>
                  <a:ext cx="70200" cy="5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" name="矩形 45"/>
              <p:cNvSpPr/>
              <p:nvPr/>
            </p:nvSpPr>
            <p:spPr>
              <a:xfrm rot="5440800">
                <a:off x="5907240" y="2578320"/>
                <a:ext cx="373320" cy="51120"/>
              </a:xfrm>
              <a:prstGeom prst="rect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" name="组合 59"/>
          <p:cNvGrpSpPr/>
          <p:nvPr/>
        </p:nvGrpSpPr>
        <p:grpSpPr>
          <a:xfrm>
            <a:off x="6167160" y="2321280"/>
            <a:ext cx="164520" cy="571680"/>
            <a:chOff x="6167160" y="2321280"/>
            <a:chExt cx="164520" cy="571680"/>
          </a:xfrm>
        </p:grpSpPr>
        <p:sp>
          <p:nvSpPr>
            <p:cNvPr id="187" name="椭圆 47"/>
            <p:cNvSpPr/>
            <p:nvPr/>
          </p:nvSpPr>
          <p:spPr>
            <a:xfrm rot="4460400">
              <a:off x="6162840" y="2731680"/>
              <a:ext cx="172800" cy="12240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椭圆 48"/>
            <p:cNvSpPr/>
            <p:nvPr/>
          </p:nvSpPr>
          <p:spPr>
            <a:xfrm rot="4460400">
              <a:off x="6177600" y="2345040"/>
              <a:ext cx="142560" cy="12240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组合 64"/>
            <p:cNvGrpSpPr/>
            <p:nvPr/>
          </p:nvGrpSpPr>
          <p:grpSpPr>
            <a:xfrm>
              <a:off x="6202440" y="2364840"/>
              <a:ext cx="91440" cy="473400"/>
              <a:chOff x="6202440" y="2364840"/>
              <a:chExt cx="91440" cy="473400"/>
            </a:xfrm>
          </p:grpSpPr>
          <p:grpSp>
            <p:nvGrpSpPr>
              <p:cNvPr id="190" name="椭圆 50"/>
              <p:cNvGrpSpPr/>
              <p:nvPr/>
            </p:nvGrpSpPr>
            <p:grpSpPr>
              <a:xfrm>
                <a:off x="6202440" y="2721600"/>
                <a:ext cx="90720" cy="116640"/>
                <a:chOff x="6202440" y="2721600"/>
                <a:chExt cx="90720" cy="116640"/>
              </a:xfrm>
            </p:grpSpPr>
            <p:pic>
              <p:nvPicPr>
                <p:cNvPr id="191" name="椭圆 50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6202440" y="2721240"/>
                  <a:ext cx="9072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2" name=""/>
                <p:cNvSpPr/>
                <p:nvPr/>
              </p:nvSpPr>
              <p:spPr>
                <a:xfrm rot="5440200">
                  <a:off x="6211800" y="2753280"/>
                  <a:ext cx="70920" cy="5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椭圆 51"/>
              <p:cNvGrpSpPr/>
              <p:nvPr/>
            </p:nvGrpSpPr>
            <p:grpSpPr>
              <a:xfrm>
                <a:off x="6203160" y="2364840"/>
                <a:ext cx="90720" cy="122400"/>
                <a:chOff x="6203160" y="2364840"/>
                <a:chExt cx="90720" cy="122400"/>
              </a:xfrm>
            </p:grpSpPr>
            <p:pic>
              <p:nvPicPr>
                <p:cNvPr id="194" name="椭圆 51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6203160" y="2364480"/>
                  <a:ext cx="90720" cy="12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" name=""/>
                <p:cNvSpPr/>
                <p:nvPr/>
              </p:nvSpPr>
              <p:spPr>
                <a:xfrm rot="5440200">
                  <a:off x="6212520" y="2399760"/>
                  <a:ext cx="70560" cy="5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6" name="矩形 52"/>
              <p:cNvSpPr/>
              <p:nvPr/>
            </p:nvSpPr>
            <p:spPr>
              <a:xfrm rot="5440800">
                <a:off x="6049080" y="2583720"/>
                <a:ext cx="375840" cy="48600"/>
              </a:xfrm>
              <a:prstGeom prst="rect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椭圆 53"/>
          <p:cNvSpPr/>
          <p:nvPr/>
        </p:nvSpPr>
        <p:spPr>
          <a:xfrm rot="4460400">
            <a:off x="3094560" y="4039200"/>
            <a:ext cx="172800" cy="12060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椭圆 54"/>
          <p:cNvSpPr/>
          <p:nvPr/>
        </p:nvSpPr>
        <p:spPr>
          <a:xfrm rot="4460400">
            <a:off x="3109320" y="3654000"/>
            <a:ext cx="142920" cy="12060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组合 71"/>
          <p:cNvGrpSpPr/>
          <p:nvPr/>
        </p:nvGrpSpPr>
        <p:grpSpPr>
          <a:xfrm>
            <a:off x="3135240" y="3673440"/>
            <a:ext cx="90720" cy="471960"/>
            <a:chOff x="3135240" y="3673440"/>
            <a:chExt cx="90720" cy="471960"/>
          </a:xfrm>
        </p:grpSpPr>
        <p:grpSp>
          <p:nvGrpSpPr>
            <p:cNvPr id="200" name="椭圆 56"/>
            <p:cNvGrpSpPr/>
            <p:nvPr/>
          </p:nvGrpSpPr>
          <p:grpSpPr>
            <a:xfrm>
              <a:off x="3135240" y="4027680"/>
              <a:ext cx="90000" cy="117720"/>
              <a:chOff x="3135240" y="4027680"/>
              <a:chExt cx="90000" cy="117720"/>
            </a:xfrm>
          </p:grpSpPr>
          <p:pic>
            <p:nvPicPr>
              <p:cNvPr id="201" name="椭圆 56" descr=""/>
              <p:cNvPicPr/>
              <p:nvPr/>
            </p:nvPicPr>
            <p:blipFill>
              <a:blip r:embed="rId19"/>
              <a:stretch/>
            </p:blipFill>
            <p:spPr>
              <a:xfrm rot="21599400">
                <a:off x="3135240" y="4027320"/>
                <a:ext cx="90000" cy="11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"/>
              <p:cNvSpPr/>
              <p:nvPr/>
            </p:nvSpPr>
            <p:spPr>
              <a:xfrm rot="5440200">
                <a:off x="3142800" y="4062600"/>
                <a:ext cx="71280" cy="5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椭圆 57"/>
            <p:cNvGrpSpPr/>
            <p:nvPr/>
          </p:nvGrpSpPr>
          <p:grpSpPr>
            <a:xfrm>
              <a:off x="3135960" y="3673440"/>
              <a:ext cx="90000" cy="117720"/>
              <a:chOff x="3135960" y="3673440"/>
              <a:chExt cx="90000" cy="117720"/>
            </a:xfrm>
          </p:grpSpPr>
          <p:pic>
            <p:nvPicPr>
              <p:cNvPr id="204" name="椭圆 57" descr=""/>
              <p:cNvPicPr/>
              <p:nvPr/>
            </p:nvPicPr>
            <p:blipFill>
              <a:blip r:embed="rId20"/>
              <a:stretch/>
            </p:blipFill>
            <p:spPr>
              <a:xfrm rot="21599400">
                <a:off x="3135960" y="3673080"/>
                <a:ext cx="90000" cy="11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5440200">
                <a:off x="3143520" y="3707280"/>
                <a:ext cx="71280" cy="5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矩形 58"/>
            <p:cNvSpPr/>
            <p:nvPr/>
          </p:nvSpPr>
          <p:spPr>
            <a:xfrm rot="5440800">
              <a:off x="2980080" y="3891600"/>
              <a:ext cx="377640" cy="48240"/>
            </a:xfrm>
            <a:prstGeom prst="rect">
              <a:avLst/>
            </a:prstGeom>
            <a:blipFill rotWithShape="0">
              <a:blip r:embed="rId2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椭圆 59"/>
          <p:cNvSpPr/>
          <p:nvPr/>
        </p:nvSpPr>
        <p:spPr>
          <a:xfrm rot="4460400">
            <a:off x="3238560" y="4041360"/>
            <a:ext cx="172800" cy="12240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椭圆 60"/>
          <p:cNvSpPr/>
          <p:nvPr/>
        </p:nvSpPr>
        <p:spPr>
          <a:xfrm rot="4460400">
            <a:off x="3251880" y="3656520"/>
            <a:ext cx="144360" cy="1209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组合 78"/>
          <p:cNvGrpSpPr/>
          <p:nvPr/>
        </p:nvGrpSpPr>
        <p:grpSpPr>
          <a:xfrm>
            <a:off x="3278160" y="3675240"/>
            <a:ext cx="90720" cy="473400"/>
            <a:chOff x="3278160" y="3675240"/>
            <a:chExt cx="90720" cy="473400"/>
          </a:xfrm>
        </p:grpSpPr>
        <p:grpSp>
          <p:nvGrpSpPr>
            <p:cNvPr id="210" name="椭圆 62"/>
            <p:cNvGrpSpPr/>
            <p:nvPr/>
          </p:nvGrpSpPr>
          <p:grpSpPr>
            <a:xfrm>
              <a:off x="3278160" y="4032000"/>
              <a:ext cx="90000" cy="116640"/>
              <a:chOff x="3278160" y="4032000"/>
              <a:chExt cx="90000" cy="116640"/>
            </a:xfrm>
          </p:grpSpPr>
          <p:pic>
            <p:nvPicPr>
              <p:cNvPr id="211" name="椭圆 62" descr=""/>
              <p:cNvPicPr/>
              <p:nvPr/>
            </p:nvPicPr>
            <p:blipFill>
              <a:blip r:embed="rId22"/>
              <a:stretch/>
            </p:blipFill>
            <p:spPr>
              <a:xfrm rot="21599400">
                <a:off x="3278160" y="4031640"/>
                <a:ext cx="9000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 rot="5440200">
                <a:off x="3288240" y="4063320"/>
                <a:ext cx="70920" cy="5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椭圆 63"/>
            <p:cNvGrpSpPr/>
            <p:nvPr/>
          </p:nvGrpSpPr>
          <p:grpSpPr>
            <a:xfrm>
              <a:off x="3278880" y="3675240"/>
              <a:ext cx="90000" cy="122400"/>
              <a:chOff x="3278880" y="3675240"/>
              <a:chExt cx="90000" cy="122400"/>
            </a:xfrm>
          </p:grpSpPr>
          <p:pic>
            <p:nvPicPr>
              <p:cNvPr id="214" name="椭圆 63" descr=""/>
              <p:cNvPicPr/>
              <p:nvPr/>
            </p:nvPicPr>
            <p:blipFill>
              <a:blip r:embed="rId23"/>
              <a:stretch/>
            </p:blipFill>
            <p:spPr>
              <a:xfrm rot="21599400">
                <a:off x="3278880" y="3674880"/>
                <a:ext cx="90000" cy="12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 rot="5440200">
                <a:off x="3288960" y="3710160"/>
                <a:ext cx="70560" cy="5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矩形 64"/>
            <p:cNvSpPr/>
            <p:nvPr/>
          </p:nvSpPr>
          <p:spPr>
            <a:xfrm rot="5440800">
              <a:off x="3125880" y="3894120"/>
              <a:ext cx="375840" cy="48240"/>
            </a:xfrm>
            <a:prstGeom prst="rect">
              <a:avLst/>
            </a:prstGeom>
            <a:blipFill rotWithShape="0">
              <a:blip r:embed="rId2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椭圆 65"/>
          <p:cNvSpPr/>
          <p:nvPr/>
        </p:nvSpPr>
        <p:spPr>
          <a:xfrm rot="4460400">
            <a:off x="6019920" y="4038120"/>
            <a:ext cx="172800" cy="12240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66"/>
          <p:cNvSpPr/>
          <p:nvPr/>
        </p:nvSpPr>
        <p:spPr>
          <a:xfrm rot="4460400">
            <a:off x="6034680" y="3653280"/>
            <a:ext cx="142920" cy="12240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组合 85"/>
          <p:cNvGrpSpPr/>
          <p:nvPr/>
        </p:nvGrpSpPr>
        <p:grpSpPr>
          <a:xfrm>
            <a:off x="6059520" y="3673440"/>
            <a:ext cx="90720" cy="471960"/>
            <a:chOff x="6059520" y="3673440"/>
            <a:chExt cx="90720" cy="471960"/>
          </a:xfrm>
        </p:grpSpPr>
        <p:grpSp>
          <p:nvGrpSpPr>
            <p:cNvPr id="220" name="椭圆 68"/>
            <p:cNvGrpSpPr/>
            <p:nvPr/>
          </p:nvGrpSpPr>
          <p:grpSpPr>
            <a:xfrm>
              <a:off x="6059520" y="4027680"/>
              <a:ext cx="90000" cy="117720"/>
              <a:chOff x="6059520" y="4027680"/>
              <a:chExt cx="90000" cy="117720"/>
            </a:xfrm>
          </p:grpSpPr>
          <p:pic>
            <p:nvPicPr>
              <p:cNvPr id="221" name="椭圆 68" descr=""/>
              <p:cNvPicPr/>
              <p:nvPr/>
            </p:nvPicPr>
            <p:blipFill>
              <a:blip r:embed="rId25"/>
              <a:stretch/>
            </p:blipFill>
            <p:spPr>
              <a:xfrm rot="21599400">
                <a:off x="6059520" y="4027320"/>
                <a:ext cx="90000" cy="11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" name=""/>
              <p:cNvSpPr/>
              <p:nvPr/>
            </p:nvSpPr>
            <p:spPr>
              <a:xfrm rot="5440200">
                <a:off x="6068160" y="4061160"/>
                <a:ext cx="71280" cy="5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椭圆 69"/>
            <p:cNvGrpSpPr/>
            <p:nvPr/>
          </p:nvGrpSpPr>
          <p:grpSpPr>
            <a:xfrm>
              <a:off x="6060240" y="3673440"/>
              <a:ext cx="90000" cy="117720"/>
              <a:chOff x="6060240" y="3673440"/>
              <a:chExt cx="90000" cy="117720"/>
            </a:xfrm>
          </p:grpSpPr>
          <p:pic>
            <p:nvPicPr>
              <p:cNvPr id="224" name="椭圆 69" descr=""/>
              <p:cNvPicPr/>
              <p:nvPr/>
            </p:nvPicPr>
            <p:blipFill>
              <a:blip r:embed="rId26"/>
              <a:stretch/>
            </p:blipFill>
            <p:spPr>
              <a:xfrm rot="21599400">
                <a:off x="6060240" y="3673080"/>
                <a:ext cx="90000" cy="11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"/>
              <p:cNvSpPr/>
              <p:nvPr/>
            </p:nvSpPr>
            <p:spPr>
              <a:xfrm rot="5440200">
                <a:off x="6068880" y="3705840"/>
                <a:ext cx="71280" cy="5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矩形 70"/>
            <p:cNvSpPr/>
            <p:nvPr/>
          </p:nvSpPr>
          <p:spPr>
            <a:xfrm rot="5440800">
              <a:off x="5904360" y="3890520"/>
              <a:ext cx="377640" cy="50760"/>
            </a:xfrm>
            <a:prstGeom prst="rect">
              <a:avLst/>
            </a:prstGeom>
            <a:blipFill rotWithShape="0">
              <a:blip r:embed="rId2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椭圆 71"/>
          <p:cNvSpPr/>
          <p:nvPr/>
        </p:nvSpPr>
        <p:spPr>
          <a:xfrm rot="4460400">
            <a:off x="6163200" y="4042440"/>
            <a:ext cx="172800" cy="12060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椭圆 72"/>
          <p:cNvSpPr/>
          <p:nvPr/>
        </p:nvSpPr>
        <p:spPr>
          <a:xfrm rot="4460400">
            <a:off x="6176880" y="3655800"/>
            <a:ext cx="144360" cy="12240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组合 92"/>
          <p:cNvGrpSpPr/>
          <p:nvPr/>
        </p:nvGrpSpPr>
        <p:grpSpPr>
          <a:xfrm>
            <a:off x="6202080" y="3675240"/>
            <a:ext cx="92520" cy="473400"/>
            <a:chOff x="6202080" y="3675240"/>
            <a:chExt cx="92520" cy="473400"/>
          </a:xfrm>
        </p:grpSpPr>
        <p:grpSp>
          <p:nvGrpSpPr>
            <p:cNvPr id="230" name="椭圆 74"/>
            <p:cNvGrpSpPr/>
            <p:nvPr/>
          </p:nvGrpSpPr>
          <p:grpSpPr>
            <a:xfrm>
              <a:off x="6202080" y="4032000"/>
              <a:ext cx="91800" cy="116640"/>
              <a:chOff x="6202080" y="4032000"/>
              <a:chExt cx="91800" cy="116640"/>
            </a:xfrm>
          </p:grpSpPr>
          <p:pic>
            <p:nvPicPr>
              <p:cNvPr id="231" name="椭圆 74" descr=""/>
              <p:cNvPicPr/>
              <p:nvPr/>
            </p:nvPicPr>
            <p:blipFill>
              <a:blip r:embed="rId28"/>
              <a:stretch/>
            </p:blipFill>
            <p:spPr>
              <a:xfrm rot="21599400">
                <a:off x="6202080" y="4031640"/>
                <a:ext cx="9180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2" name=""/>
              <p:cNvSpPr/>
              <p:nvPr/>
            </p:nvSpPr>
            <p:spPr>
              <a:xfrm rot="5440200">
                <a:off x="6211800" y="4062600"/>
                <a:ext cx="709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椭圆 75"/>
            <p:cNvGrpSpPr/>
            <p:nvPr/>
          </p:nvGrpSpPr>
          <p:grpSpPr>
            <a:xfrm>
              <a:off x="6202800" y="3675240"/>
              <a:ext cx="91800" cy="122400"/>
              <a:chOff x="6202800" y="3675240"/>
              <a:chExt cx="91800" cy="122400"/>
            </a:xfrm>
          </p:grpSpPr>
          <p:pic>
            <p:nvPicPr>
              <p:cNvPr id="234" name="椭圆 75" descr=""/>
              <p:cNvPicPr/>
              <p:nvPr/>
            </p:nvPicPr>
            <p:blipFill>
              <a:blip r:embed="rId29"/>
              <a:stretch/>
            </p:blipFill>
            <p:spPr>
              <a:xfrm rot="21599400">
                <a:off x="6202800" y="3674880"/>
                <a:ext cx="91800" cy="12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5" name=""/>
              <p:cNvSpPr/>
              <p:nvPr/>
            </p:nvSpPr>
            <p:spPr>
              <a:xfrm rot="5440200">
                <a:off x="6212880" y="3709080"/>
                <a:ext cx="7056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矩形 76"/>
            <p:cNvSpPr/>
            <p:nvPr/>
          </p:nvSpPr>
          <p:spPr>
            <a:xfrm rot="5440800">
              <a:off x="6049080" y="3893040"/>
              <a:ext cx="375840" cy="50400"/>
            </a:xfrm>
            <a:prstGeom prst="rect">
              <a:avLst/>
            </a:prstGeom>
            <a:blipFill rotWithShape="0">
              <a:blip r:embed="rId3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矩形 12"/>
          <p:cNvSpPr/>
          <p:nvPr/>
        </p:nvSpPr>
        <p:spPr>
          <a:xfrm>
            <a:off x="406908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13"/>
          <p:cNvSpPr/>
          <p:nvPr/>
        </p:nvSpPr>
        <p:spPr>
          <a:xfrm>
            <a:off x="406908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14"/>
          <p:cNvSpPr/>
          <p:nvPr/>
        </p:nvSpPr>
        <p:spPr>
          <a:xfrm>
            <a:off x="406908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组合 10"/>
          <p:cNvGrpSpPr/>
          <p:nvPr/>
        </p:nvGrpSpPr>
        <p:grpSpPr>
          <a:xfrm>
            <a:off x="785880" y="1755720"/>
            <a:ext cx="3136320" cy="3103560"/>
            <a:chOff x="785880" y="1755720"/>
            <a:chExt cx="3136320" cy="3103560"/>
          </a:xfrm>
        </p:grpSpPr>
        <p:grpSp>
          <p:nvGrpSpPr>
            <p:cNvPr id="241" name="椭圆 11"/>
            <p:cNvGrpSpPr/>
            <p:nvPr/>
          </p:nvGrpSpPr>
          <p:grpSpPr>
            <a:xfrm>
              <a:off x="785880" y="1755720"/>
              <a:ext cx="2859480" cy="2859120"/>
              <a:chOff x="785880" y="1755720"/>
              <a:chExt cx="2859480" cy="2859120"/>
            </a:xfrm>
          </p:grpSpPr>
          <p:pic>
            <p:nvPicPr>
              <p:cNvPr id="242" name="椭圆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785880" y="1755720"/>
                <a:ext cx="2859480" cy="285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"/>
              <p:cNvSpPr/>
              <p:nvPr/>
            </p:nvSpPr>
            <p:spPr>
              <a:xfrm rot="5400000">
                <a:off x="1204560" y="2173680"/>
                <a:ext cx="2021400" cy="202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椭圆 12"/>
            <p:cNvSpPr/>
            <p:nvPr/>
          </p:nvSpPr>
          <p:spPr>
            <a:xfrm rot="5400000">
              <a:off x="1061640" y="1998720"/>
              <a:ext cx="2859120" cy="286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椭圆 13"/>
          <p:cNvSpPr/>
          <p:nvPr/>
        </p:nvSpPr>
        <p:spPr>
          <a:xfrm>
            <a:off x="1392120" y="2225520"/>
            <a:ext cx="2887920" cy="2887920"/>
          </a:xfrm>
          <a:prstGeom prst="ellipse">
            <a:avLst/>
          </a:prstGeom>
          <a:solidFill>
            <a:srgbClr val="921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组合 14"/>
          <p:cNvGrpSpPr/>
          <p:nvPr/>
        </p:nvGrpSpPr>
        <p:grpSpPr>
          <a:xfrm>
            <a:off x="4751640" y="1643040"/>
            <a:ext cx="3136680" cy="3105000"/>
            <a:chOff x="4751640" y="1643040"/>
            <a:chExt cx="3136680" cy="3105000"/>
          </a:xfrm>
        </p:grpSpPr>
        <p:grpSp>
          <p:nvGrpSpPr>
            <p:cNvPr id="247" name="椭圆 15"/>
            <p:cNvGrpSpPr/>
            <p:nvPr/>
          </p:nvGrpSpPr>
          <p:grpSpPr>
            <a:xfrm>
              <a:off x="4751640" y="1643040"/>
              <a:ext cx="2863080" cy="2861640"/>
              <a:chOff x="4751640" y="1643040"/>
              <a:chExt cx="2863080" cy="2861640"/>
            </a:xfrm>
          </p:grpSpPr>
          <p:pic>
            <p:nvPicPr>
              <p:cNvPr id="248" name="椭圆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751640" y="1643040"/>
                <a:ext cx="2863080" cy="286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"/>
              <p:cNvSpPr/>
              <p:nvPr/>
            </p:nvSpPr>
            <p:spPr>
              <a:xfrm rot="5400000">
                <a:off x="5170680" y="2060640"/>
                <a:ext cx="2024280" cy="202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椭圆 16"/>
            <p:cNvSpPr/>
            <p:nvPr/>
          </p:nvSpPr>
          <p:spPr>
            <a:xfrm rot="5400000">
              <a:off x="5027400" y="1886760"/>
              <a:ext cx="2863440" cy="2858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椭圆 17"/>
          <p:cNvSpPr/>
          <p:nvPr/>
        </p:nvSpPr>
        <p:spPr>
          <a:xfrm>
            <a:off x="5357880" y="2112840"/>
            <a:ext cx="2887560" cy="2887920"/>
          </a:xfrm>
          <a:prstGeom prst="ellipse">
            <a:avLst/>
          </a:prstGeom>
          <a:solidFill>
            <a:srgbClr val="95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13"/>
          <p:cNvSpPr/>
          <p:nvPr/>
        </p:nvSpPr>
        <p:spPr>
          <a:xfrm>
            <a:off x="628380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14"/>
          <p:cNvSpPr/>
          <p:nvPr/>
        </p:nvSpPr>
        <p:spPr>
          <a:xfrm>
            <a:off x="23547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任意多边形 10"/>
          <p:cNvSpPr/>
          <p:nvPr/>
        </p:nvSpPr>
        <p:spPr>
          <a:xfrm rot="13500000">
            <a:off x="2304720" y="732600"/>
            <a:ext cx="5265720" cy="5265720"/>
          </a:xfrm>
          <a:custGeom>
            <a:avLst/>
            <a:gdLst/>
            <a:ahLst/>
            <a:rect l="l" t="t" r="r" b="b"/>
            <a:pathLst>
              <a:path w="5265878" h="5265877">
                <a:moveTo>
                  <a:pt x="2632940" y="5265877"/>
                </a:moveTo>
                <a:cubicBezTo>
                  <a:pt x="2137189" y="5265877"/>
                  <a:pt x="1735304" y="4863992"/>
                  <a:pt x="1735304" y="4368241"/>
                </a:cubicBezTo>
                <a:cubicBezTo>
                  <a:pt x="1735304" y="4182335"/>
                  <a:pt x="1791819" y="4009628"/>
                  <a:pt x="1888606" y="3866364"/>
                </a:cubicBezTo>
                <a:lnTo>
                  <a:pt x="1993903" y="3738743"/>
                </a:lnTo>
                <a:lnTo>
                  <a:pt x="1993903" y="3715131"/>
                </a:lnTo>
                <a:lnTo>
                  <a:pt x="2076944" y="3578441"/>
                </a:lnTo>
                <a:cubicBezTo>
                  <a:pt x="2172371" y="3402777"/>
                  <a:pt x="2242034" y="3211086"/>
                  <a:pt x="2280862" y="3008439"/>
                </a:cubicBezTo>
                <a:lnTo>
                  <a:pt x="2285296" y="2980582"/>
                </a:lnTo>
                <a:lnTo>
                  <a:pt x="2257440" y="2985016"/>
                </a:lnTo>
                <a:cubicBezTo>
                  <a:pt x="2054793" y="3023844"/>
                  <a:pt x="1863103" y="3093507"/>
                  <a:pt x="1687438" y="3188934"/>
                </a:cubicBezTo>
                <a:lnTo>
                  <a:pt x="1550748" y="3271975"/>
                </a:lnTo>
                <a:lnTo>
                  <a:pt x="1527134" y="3271975"/>
                </a:lnTo>
                <a:lnTo>
                  <a:pt x="1399513" y="3377272"/>
                </a:lnTo>
                <a:cubicBezTo>
                  <a:pt x="1256249" y="3474059"/>
                  <a:pt x="1083543" y="3530574"/>
                  <a:pt x="897636" y="3530574"/>
                </a:cubicBezTo>
                <a:cubicBezTo>
                  <a:pt x="401885" y="3530574"/>
                  <a:pt x="0" y="3128689"/>
                  <a:pt x="0" y="2632938"/>
                </a:cubicBezTo>
                <a:cubicBezTo>
                  <a:pt x="0" y="2137187"/>
                  <a:pt x="401885" y="1735302"/>
                  <a:pt x="897636" y="1735302"/>
                </a:cubicBezTo>
                <a:cubicBezTo>
                  <a:pt x="1083543" y="1735302"/>
                  <a:pt x="1256249" y="1791817"/>
                  <a:pt x="1399513" y="1888604"/>
                </a:cubicBezTo>
                <a:lnTo>
                  <a:pt x="1523865" y="1991204"/>
                </a:lnTo>
                <a:lnTo>
                  <a:pt x="1550766" y="1991204"/>
                </a:lnTo>
                <a:lnTo>
                  <a:pt x="1687438" y="2074234"/>
                </a:lnTo>
                <a:cubicBezTo>
                  <a:pt x="1863103" y="2169660"/>
                  <a:pt x="2054793" y="2239323"/>
                  <a:pt x="2257440" y="2278151"/>
                </a:cubicBezTo>
                <a:lnTo>
                  <a:pt x="2284853" y="2282514"/>
                </a:lnTo>
                <a:lnTo>
                  <a:pt x="2280862" y="2257439"/>
                </a:lnTo>
                <a:cubicBezTo>
                  <a:pt x="2242034" y="2054793"/>
                  <a:pt x="2172371" y="1863102"/>
                  <a:pt x="2076944" y="1687438"/>
                </a:cubicBezTo>
                <a:lnTo>
                  <a:pt x="1993903" y="1550748"/>
                </a:lnTo>
                <a:lnTo>
                  <a:pt x="1993903" y="1527134"/>
                </a:lnTo>
                <a:lnTo>
                  <a:pt x="1888606" y="1399513"/>
                </a:lnTo>
                <a:cubicBezTo>
                  <a:pt x="1791819" y="1256249"/>
                  <a:pt x="1735304" y="1083543"/>
                  <a:pt x="1735304" y="897636"/>
                </a:cubicBezTo>
                <a:cubicBezTo>
                  <a:pt x="1735304" y="401885"/>
                  <a:pt x="2137189" y="0"/>
                  <a:pt x="2632940" y="0"/>
                </a:cubicBezTo>
                <a:cubicBezTo>
                  <a:pt x="3128691" y="0"/>
                  <a:pt x="3530576" y="401885"/>
                  <a:pt x="3530576" y="897636"/>
                </a:cubicBezTo>
                <a:cubicBezTo>
                  <a:pt x="3530576" y="1083543"/>
                  <a:pt x="3474061" y="1256249"/>
                  <a:pt x="3377274" y="1399513"/>
                </a:cubicBezTo>
                <a:lnTo>
                  <a:pt x="3274674" y="1523865"/>
                </a:lnTo>
                <a:lnTo>
                  <a:pt x="3274674" y="1550766"/>
                </a:lnTo>
                <a:lnTo>
                  <a:pt x="3191644" y="1687438"/>
                </a:lnTo>
                <a:cubicBezTo>
                  <a:pt x="3096218" y="1863102"/>
                  <a:pt x="3026555" y="2054793"/>
                  <a:pt x="2987727" y="2257439"/>
                </a:cubicBezTo>
                <a:lnTo>
                  <a:pt x="2983806" y="2282072"/>
                </a:lnTo>
                <a:lnTo>
                  <a:pt x="3008440" y="2278151"/>
                </a:lnTo>
                <a:cubicBezTo>
                  <a:pt x="3211086" y="2239323"/>
                  <a:pt x="3402777" y="2169660"/>
                  <a:pt x="3578442" y="2074234"/>
                </a:cubicBezTo>
                <a:lnTo>
                  <a:pt x="3715114" y="1991204"/>
                </a:lnTo>
                <a:lnTo>
                  <a:pt x="3742013" y="1991204"/>
                </a:lnTo>
                <a:lnTo>
                  <a:pt x="3866365" y="1888604"/>
                </a:lnTo>
                <a:cubicBezTo>
                  <a:pt x="4009629" y="1791817"/>
                  <a:pt x="4182336" y="1735302"/>
                  <a:pt x="4368241" y="1735302"/>
                </a:cubicBezTo>
                <a:cubicBezTo>
                  <a:pt x="4863992" y="1735302"/>
                  <a:pt x="5265878" y="2137187"/>
                  <a:pt x="5265878" y="2632938"/>
                </a:cubicBezTo>
                <a:cubicBezTo>
                  <a:pt x="5265878" y="3128689"/>
                  <a:pt x="4863992" y="3530574"/>
                  <a:pt x="4368241" y="3530574"/>
                </a:cubicBezTo>
                <a:cubicBezTo>
                  <a:pt x="4182336" y="3530574"/>
                  <a:pt x="4009629" y="3474059"/>
                  <a:pt x="3866365" y="3377272"/>
                </a:cubicBezTo>
                <a:lnTo>
                  <a:pt x="3738744" y="3271975"/>
                </a:lnTo>
                <a:lnTo>
                  <a:pt x="3715132" y="3271975"/>
                </a:lnTo>
                <a:lnTo>
                  <a:pt x="3578442" y="3188934"/>
                </a:lnTo>
                <a:cubicBezTo>
                  <a:pt x="3402777" y="3093507"/>
                  <a:pt x="3211086" y="3023844"/>
                  <a:pt x="3008440" y="2985016"/>
                </a:cubicBezTo>
                <a:lnTo>
                  <a:pt x="2983363" y="2981025"/>
                </a:lnTo>
                <a:lnTo>
                  <a:pt x="2987727" y="3008439"/>
                </a:lnTo>
                <a:cubicBezTo>
                  <a:pt x="3026555" y="3211086"/>
                  <a:pt x="3096218" y="3402777"/>
                  <a:pt x="3191644" y="3578441"/>
                </a:cubicBezTo>
                <a:lnTo>
                  <a:pt x="3274674" y="3715113"/>
                </a:lnTo>
                <a:lnTo>
                  <a:pt x="3274674" y="3742012"/>
                </a:lnTo>
                <a:lnTo>
                  <a:pt x="3377274" y="3866364"/>
                </a:lnTo>
                <a:cubicBezTo>
                  <a:pt x="3474061" y="4009628"/>
                  <a:pt x="3530576" y="4182335"/>
                  <a:pt x="3530576" y="4368241"/>
                </a:cubicBezTo>
                <a:cubicBezTo>
                  <a:pt x="3530576" y="4863992"/>
                  <a:pt x="3128691" y="5265877"/>
                  <a:pt x="2632940" y="5265877"/>
                </a:cubicBezTo>
                <a:close/>
              </a:path>
            </a:pathLst>
          </a:custGeom>
          <a:solidFill>
            <a:srgbClr val="959494"/>
          </a:solidFill>
          <a:ln w="0">
            <a:noFill/>
          </a:ln>
          <a:effectLst>
            <a:outerShdw dist="63639" dir="2700000" blurRad="0" rotWithShape="0">
              <a:srgbClr val="000000">
                <a:alpha val="2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椭圆 12"/>
          <p:cNvSpPr/>
          <p:nvPr/>
        </p:nvSpPr>
        <p:spPr>
          <a:xfrm>
            <a:off x="2928960" y="1357200"/>
            <a:ext cx="1495440" cy="1495440"/>
          </a:xfrm>
          <a:prstGeom prst="ellipse">
            <a:avLst/>
          </a:prstGeom>
          <a:solidFill>
            <a:srgbClr val="921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椭圆 13"/>
          <p:cNvSpPr/>
          <p:nvPr/>
        </p:nvSpPr>
        <p:spPr>
          <a:xfrm>
            <a:off x="5429160" y="1357200"/>
            <a:ext cx="1495440" cy="1495440"/>
          </a:xfrm>
          <a:prstGeom prst="ellipse">
            <a:avLst/>
          </a:prstGeom>
          <a:solidFill>
            <a:srgbClr val="921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椭圆 14"/>
          <p:cNvSpPr/>
          <p:nvPr/>
        </p:nvSpPr>
        <p:spPr>
          <a:xfrm>
            <a:off x="2928960" y="3857760"/>
            <a:ext cx="1495440" cy="1495440"/>
          </a:xfrm>
          <a:prstGeom prst="ellipse">
            <a:avLst/>
          </a:prstGeom>
          <a:solidFill>
            <a:srgbClr val="921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椭圆 15"/>
          <p:cNvSpPr/>
          <p:nvPr/>
        </p:nvSpPr>
        <p:spPr>
          <a:xfrm>
            <a:off x="5433840" y="3862440"/>
            <a:ext cx="1495440" cy="1495440"/>
          </a:xfrm>
          <a:prstGeom prst="ellipse">
            <a:avLst/>
          </a:prstGeom>
          <a:solidFill>
            <a:srgbClr val="921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12"/>
          <p:cNvSpPr/>
          <p:nvPr/>
        </p:nvSpPr>
        <p:spPr>
          <a:xfrm>
            <a:off x="321192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13"/>
          <p:cNvSpPr/>
          <p:nvPr/>
        </p:nvSpPr>
        <p:spPr>
          <a:xfrm>
            <a:off x="571212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4"/>
          <p:cNvSpPr/>
          <p:nvPr/>
        </p:nvSpPr>
        <p:spPr>
          <a:xfrm>
            <a:off x="57121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15"/>
          <p:cNvSpPr/>
          <p:nvPr/>
        </p:nvSpPr>
        <p:spPr>
          <a:xfrm>
            <a:off x="32137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五边形 10"/>
          <p:cNvGrpSpPr/>
          <p:nvPr/>
        </p:nvGrpSpPr>
        <p:grpSpPr>
          <a:xfrm>
            <a:off x="590400" y="2077920"/>
            <a:ext cx="3152880" cy="2597400"/>
            <a:chOff x="590400" y="2077920"/>
            <a:chExt cx="3152880" cy="2597400"/>
          </a:xfrm>
        </p:grpSpPr>
        <p:pic>
          <p:nvPicPr>
            <p:cNvPr id="275" name="五边形 10" descr=""/>
            <p:cNvPicPr/>
            <p:nvPr/>
          </p:nvPicPr>
          <p:blipFill>
            <a:blip r:embed="rId1"/>
            <a:stretch/>
          </p:blipFill>
          <p:spPr>
            <a:xfrm>
              <a:off x="590400" y="2077920"/>
              <a:ext cx="3152880" cy="259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714240" y="2185920"/>
              <a:ext cx="2319480" cy="23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燕尾形 11"/>
          <p:cNvGrpSpPr/>
          <p:nvPr/>
        </p:nvGrpSpPr>
        <p:grpSpPr>
          <a:xfrm>
            <a:off x="2938320" y="2077920"/>
            <a:ext cx="3322800" cy="2597400"/>
            <a:chOff x="2938320" y="2077920"/>
            <a:chExt cx="3322800" cy="2597400"/>
          </a:xfrm>
        </p:grpSpPr>
        <p:pic>
          <p:nvPicPr>
            <p:cNvPr id="278" name="燕尾形 11" descr=""/>
            <p:cNvPicPr/>
            <p:nvPr/>
          </p:nvPicPr>
          <p:blipFill>
            <a:blip r:embed="rId2"/>
            <a:stretch/>
          </p:blipFill>
          <p:spPr>
            <a:xfrm>
              <a:off x="2938320" y="2077920"/>
              <a:ext cx="3322800" cy="259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4237200" y="2185920"/>
              <a:ext cx="723600" cy="23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燕尾形 12"/>
          <p:cNvGrpSpPr/>
          <p:nvPr/>
        </p:nvGrpSpPr>
        <p:grpSpPr>
          <a:xfrm>
            <a:off x="5376960" y="2036880"/>
            <a:ext cx="3328920" cy="2595600"/>
            <a:chOff x="5376960" y="2036880"/>
            <a:chExt cx="3328920" cy="2595600"/>
          </a:xfrm>
        </p:grpSpPr>
        <p:pic>
          <p:nvPicPr>
            <p:cNvPr id="281" name="燕尾形 12" descr=""/>
            <p:cNvPicPr/>
            <p:nvPr/>
          </p:nvPicPr>
          <p:blipFill>
            <a:blip r:embed="rId3"/>
            <a:stretch/>
          </p:blipFill>
          <p:spPr>
            <a:xfrm>
              <a:off x="5376960" y="2036880"/>
              <a:ext cx="3328920" cy="25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6678720" y="2143080"/>
              <a:ext cx="723960" cy="23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12"/>
          <p:cNvSpPr/>
          <p:nvPr/>
        </p:nvSpPr>
        <p:spPr>
          <a:xfrm>
            <a:off x="45691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13"/>
          <p:cNvSpPr/>
          <p:nvPr/>
        </p:nvSpPr>
        <p:spPr>
          <a:xfrm>
            <a:off x="69980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14"/>
          <p:cNvSpPr/>
          <p:nvPr/>
        </p:nvSpPr>
        <p:spPr>
          <a:xfrm>
            <a:off x="14259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ppt宝藏</dc:creator>
  <dc:description/>
  <dc:language>en-US</dc:language>
  <cp:lastModifiedBy>王玉清</cp:lastModifiedBy>
  <dcterms:modified xsi:type="dcterms:W3CDTF">2016-03-05T09:14:41Z</dcterms:modified>
  <cp:revision>291</cp:revision>
  <dc:subject/>
  <dc:title>www.pptbz.com</dc:title>
</cp:coreProperties>
</file>