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F649-9A65-445D-A10A-291F5CA4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9236-7194-4F2A-B960-F09310C6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D582-03E2-4ED2-A7C0-3613BECE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9974-5D1C-4B10-B479-028C3665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1175-CCEB-4507-960E-6626A919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1C6-1F2D-4155-8EB7-5B3D918C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F28-0855-40C1-81F7-7F55CFBA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20F2-7924-477B-839D-04C64E65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5955-6D61-498D-9FD5-132E3B04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26F0-3D96-41D8-940D-AE9D66EB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A7C9-5127-48EF-BCAC-54F39913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3D2-AC3A-45C1-B4D3-72090F57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1941-1595-4AE6-97A3-566572943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pt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1692360" y="30751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秘密通用</a:t>
            </a:r>
            <a:r>
              <a:rPr b="0" lang="en-US" sz="40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0" y="3886200"/>
            <a:ext cx="640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汉仪中楷简"/>
              </a:rPr>
              <a:t>你必须把你想要的一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0" y="4267080"/>
            <a:ext cx="5943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汉仪中楷简"/>
              </a:rPr>
              <a:t>填写在你生命的黑板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0" y="464832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汉仪中楷简"/>
              </a:rPr>
              <a:t>把过去对你毫无用处的一切都擦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0" y="4983120"/>
            <a:ext cx="601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汉仪中楷简"/>
              </a:rPr>
              <a:t>并感激它们把你带到现在这个地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push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52280" y="46944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汉仪中楷简"/>
                <a:ea typeface="汉仪中楷简"/>
              </a:rPr>
              <a:t>现在，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汉仪中楷简"/>
              </a:rPr>
              <a:t>“</a:t>
            </a:r>
            <a:r>
              <a:rPr b="0" lang="zh-CN" sz="2200" spc="-1" strike="noStrike">
                <a:solidFill>
                  <a:srgbClr val="ffffff"/>
                </a:solidFill>
                <a:latin typeface="汉仪中楷简"/>
                <a:ea typeface="汉仪中楷简"/>
              </a:rPr>
              <a:t>想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汉仪中楷简"/>
              </a:rPr>
              <a:t>”</a:t>
            </a:r>
            <a:r>
              <a:rPr b="0" lang="zh-CN" sz="2200" spc="-1" strike="noStrike">
                <a:solidFill>
                  <a:srgbClr val="ffffff"/>
                </a:solidFill>
                <a:latin typeface="汉仪中楷简"/>
                <a:ea typeface="汉仪中楷简"/>
              </a:rPr>
              <a:t>出你的生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汉仪中楷简"/>
                <a:ea typeface="汉仪中楷简"/>
              </a:rPr>
              <a:t>做那些你喜爱、能够带给你喜悦的事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汉仪中楷简"/>
                <a:ea typeface="汉仪中楷简"/>
              </a:rPr>
              <a:t>找出你的喜悦，并好好地生活！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12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4114800" y="10350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秘密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ecre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343400" y="19954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朗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拜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著    中国城市出版社出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114800" y="3016080"/>
            <a:ext cx="49528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汉仪中楷简"/>
              </a:rPr>
              <a:t>要求 相信 接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汉仪中楷简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汉仪中楷简"/>
              </a:rPr>
              <a:t>愿这秘密带给你一生爱和喜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248520" y="48909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欢迎转寄给你爱的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sh dir="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4067280" y="7570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汉仪中楷简"/>
              </a:rPr>
              <a:t>没有所谓的“绝境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400640" y="12286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汉仪中楷简"/>
              </a:rPr>
              <a:t>你生命的每个境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545000" y="17575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汉仪中楷简"/>
              </a:rPr>
              <a:t>都可以通过你的思想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227560" y="273996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细行楷简"/>
                <a:ea typeface="汉仪细行楷简"/>
              </a:rPr>
              <a:t>我们所处的世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细行楷简"/>
                <a:ea typeface="汉仪细行楷简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汉仪细行楷简"/>
                <a:ea typeface="汉仪细行楷简"/>
              </a:rPr>
              <a:t>都是前人思想的成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细行楷简"/>
                <a:ea typeface="汉仪细行楷简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汉仪细行楷简"/>
              </a:rPr>
              <a:t>—</a:t>
            </a:r>
            <a:r>
              <a:rPr b="0" lang="zh-CN" sz="2400" spc="-1" strike="noStrike">
                <a:solidFill>
                  <a:srgbClr val="ffffff"/>
                </a:solidFill>
                <a:latin typeface="汉仪细行楷简"/>
                <a:ea typeface="汉仪细行楷简"/>
              </a:rPr>
              <a:t>佛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635280" y="2462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汉仪中楷简"/>
              </a:rPr>
              <a:t>面对危机，信心比黄金更宝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52280" y="4495680"/>
            <a:ext cx="502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汉仪中楷简"/>
                <a:ea typeface="汉仪中楷简"/>
              </a:rPr>
              <a:t>一个人若是一直想着人生黑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52280" y="39625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思想的频率  决定着人生的频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52280" y="4830840"/>
            <a:ext cx="396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汉仪中楷简"/>
              </a:rPr>
              <a:t>活在过去的不幸和失望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52280" y="51055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汉仪中楷简"/>
              </a:rPr>
              <a:t>他就是在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汉仪中楷简"/>
              </a:rPr>
              <a:t>祈求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汉仪中楷简"/>
              </a:rPr>
              <a:t>未来只有不幸和失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2057400" y="198108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汉仪中楷简"/>
              </a:rPr>
              <a:t>喜悦、爱、自由、幸福、欢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汉仪中楷简"/>
              </a:rPr>
              <a:t>去感觉一切美好的事物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8600" y="1752480"/>
            <a:ext cx="502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汉仪中楷简"/>
                <a:ea typeface="汉仪中楷简"/>
              </a:rPr>
              <a:t>你拥有改变一切的力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28600" y="21337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汉仪中楷简"/>
              </a:rPr>
              <a:t>你是宇宙中吸引力最强的磁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8600" y="2514600"/>
            <a:ext cx="441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汉仪中楷简"/>
              </a:rPr>
              <a:t>你的思想散发出无法估量的磁引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828800" y="4572000"/>
            <a:ext cx="5791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汉仪中楷简"/>
              </a:rPr>
              <a:t>一切力量来自内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汉仪中楷简"/>
              </a:rPr>
              <a:t>所有都在我们掌握之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汉仪中楷简"/>
              </a:rPr>
              <a:t>不论你生命中发生过什么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汉仪中楷简"/>
              </a:rPr>
              <a:t>你都可以有意识地选择你的思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汉仪中楷简"/>
              </a:rPr>
              <a:t>从而改变生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trips dir="r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28600" y="449568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汉仪中楷简"/>
                <a:ea typeface="汉仪中楷简"/>
              </a:rPr>
              <a:t>爱所有的事物和人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汉仪中楷简"/>
                <a:ea typeface="汉仪中楷简"/>
              </a:rPr>
              <a:t>你要感觉美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汉仪中楷简"/>
                <a:ea typeface="汉仪中楷简"/>
              </a:rPr>
              <a:t>爱是最伟大的情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blinds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52280" y="545616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汉仪中楷简"/>
              </a:rPr>
              <a:t>相信已经得到  你就会得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汉仪中楷简"/>
              </a:rPr>
              <a:t>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汉仪中楷简"/>
              </a:rPr>
              <a:t>生命绝对不可以平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汉仪中楷简"/>
              </a:rPr>
              <a:t>    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汉仪中楷简"/>
              </a:rPr>
              <a:t>而且本来就该不平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over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52280" y="56386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汉仪中楷简"/>
                <a:ea typeface="汉仪中楷简"/>
              </a:rPr>
              <a:t>以爱和尊重对待自己，就会吸引爱你、尊重你的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汉仪中楷简"/>
                <a:ea typeface="汉仪中楷简"/>
              </a:rPr>
              <a:t>要让某种关系顺利，就把焦点放在对他人的欣赏上，而非抱怨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in" orient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8:11:21Z</dcterms:created>
  <dc:creator>User</dc:creator>
  <dc:description/>
  <dc:language>en-US</dc:language>
  <cp:lastModifiedBy>王玉清</cp:lastModifiedBy>
  <dcterms:modified xsi:type="dcterms:W3CDTF">2016-02-20T04:14:14Z</dcterms:modified>
  <cp:revision>53</cp:revision>
  <dc:subject/>
  <dc:title>幻灯片 1</dc:title>
</cp:coreProperties>
</file>