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FC68-D2A2-4FB8-B5F1-51034088E04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72AF-E6E5-440E-B2BD-0605A52B12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7B9D-C69B-4C12-8B54-CB171C0D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E203-A51F-4D04-9EA4-4BDC005F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B03-8DC9-4667-834F-5750E1E0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3EE-7CC7-4699-8564-09F3CE25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640-B86F-43A9-B556-DC53ACAA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584B-CB5A-4F0D-8F56-B25830AE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6CD6-A6E0-48C3-9FA4-82CBDA6B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2B92-7A8F-4E6A-874D-BEFEE4B9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809-54C2-4D93-933D-A3415AD8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998A-75BE-4CB1-AE3F-093984BD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497-D33B-45F7-83F2-F0A78429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794-EC96-4E30-8894-2DF8149C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3A7B-F056-436C-B600-6A81B30E03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1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6"/>
          <p:cNvSpPr/>
          <p:nvPr/>
        </p:nvSpPr>
        <p:spPr>
          <a:xfrm>
            <a:off x="714240" y="4195800"/>
            <a:ext cx="485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5357880" y="69840"/>
            <a:ext cx="38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6"/>
          <p:cNvSpPr/>
          <p:nvPr/>
        </p:nvSpPr>
        <p:spPr>
          <a:xfrm>
            <a:off x="785880" y="469584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"/>
          <p:cNvSpPr/>
          <p:nvPr/>
        </p:nvSpPr>
        <p:spPr>
          <a:xfrm>
            <a:off x="1693800" y="338472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涂鸦商务通用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燕尾形 7"/>
          <p:cNvSpPr/>
          <p:nvPr/>
        </p:nvSpPr>
        <p:spPr>
          <a:xfrm>
            <a:off x="1785960" y="1143000"/>
            <a:ext cx="3214800" cy="2357280"/>
          </a:xfrm>
          <a:custGeom>
            <a:avLst/>
            <a:gdLst>
              <a:gd name="textAreaLeft" fmla="*/ 0 w 3214800"/>
              <a:gd name="textAreaRight" fmla="*/ 3215160 w 3214800"/>
              <a:gd name="textAreaTop" fmla="*/ 0 h 2357280"/>
              <a:gd name="textAreaBottom" fmla="*/ 235764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91" y="0"/>
                </a:lnTo>
                <a:lnTo>
                  <a:pt x="21600" y="10800"/>
                </a:lnTo>
                <a:lnTo>
                  <a:pt x="17391" y="21600"/>
                </a:lnTo>
                <a:lnTo>
                  <a:pt x="0" y="21600"/>
                </a:lnTo>
                <a:lnTo>
                  <a:pt x="4209" y="10800"/>
                </a:lnTo>
                <a:close/>
              </a:path>
            </a:pathLst>
          </a:custGeom>
          <a:solidFill>
            <a:srgbClr val="74c9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燕尾形 8"/>
          <p:cNvSpPr/>
          <p:nvPr/>
        </p:nvSpPr>
        <p:spPr>
          <a:xfrm>
            <a:off x="4429080" y="1143000"/>
            <a:ext cx="3214800" cy="2357280"/>
          </a:xfrm>
          <a:custGeom>
            <a:avLst/>
            <a:gdLst>
              <a:gd name="textAreaLeft" fmla="*/ 0 w 3214800"/>
              <a:gd name="textAreaRight" fmla="*/ 3215160 w 3214800"/>
              <a:gd name="textAreaTop" fmla="*/ 0 h 2357280"/>
              <a:gd name="textAreaBottom" fmla="*/ 235764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91" y="0"/>
                </a:lnTo>
                <a:lnTo>
                  <a:pt x="21600" y="10800"/>
                </a:lnTo>
                <a:lnTo>
                  <a:pt x="17391" y="21600"/>
                </a:lnTo>
                <a:lnTo>
                  <a:pt x="0" y="21600"/>
                </a:lnTo>
                <a:lnTo>
                  <a:pt x="4209" y="10800"/>
                </a:lnTo>
                <a:close/>
              </a:path>
            </a:pathLst>
          </a:custGeom>
          <a:solidFill>
            <a:srgbClr val="ff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燕尾形 9"/>
          <p:cNvSpPr/>
          <p:nvPr/>
        </p:nvSpPr>
        <p:spPr>
          <a:xfrm>
            <a:off x="1785960" y="3571920"/>
            <a:ext cx="3214800" cy="2357280"/>
          </a:xfrm>
          <a:custGeom>
            <a:avLst/>
            <a:gdLst>
              <a:gd name="textAreaLeft" fmla="*/ 0 w 3214800"/>
              <a:gd name="textAreaRight" fmla="*/ 3215160 w 3214800"/>
              <a:gd name="textAreaTop" fmla="*/ 0 h 2357280"/>
              <a:gd name="textAreaBottom" fmla="*/ 235764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91" y="0"/>
                </a:lnTo>
                <a:lnTo>
                  <a:pt x="21600" y="10800"/>
                </a:lnTo>
                <a:lnTo>
                  <a:pt x="17391" y="21600"/>
                </a:lnTo>
                <a:lnTo>
                  <a:pt x="0" y="21600"/>
                </a:lnTo>
                <a:lnTo>
                  <a:pt x="4209" y="10800"/>
                </a:lnTo>
                <a:close/>
              </a:path>
            </a:pathLst>
          </a:custGeom>
          <a:solidFill>
            <a:srgbClr val="52a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燕尾形 10"/>
          <p:cNvSpPr/>
          <p:nvPr/>
        </p:nvSpPr>
        <p:spPr>
          <a:xfrm>
            <a:off x="4429080" y="3571920"/>
            <a:ext cx="3214800" cy="2357280"/>
          </a:xfrm>
          <a:custGeom>
            <a:avLst/>
            <a:gdLst>
              <a:gd name="textAreaLeft" fmla="*/ 0 w 3214800"/>
              <a:gd name="textAreaRight" fmla="*/ 3215160 w 3214800"/>
              <a:gd name="textAreaTop" fmla="*/ 0 h 2357280"/>
              <a:gd name="textAreaBottom" fmla="*/ 235764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91" y="0"/>
                </a:lnTo>
                <a:lnTo>
                  <a:pt x="21600" y="10800"/>
                </a:lnTo>
                <a:lnTo>
                  <a:pt x="17391" y="21600"/>
                </a:lnTo>
                <a:lnTo>
                  <a:pt x="0" y="21600"/>
                </a:lnTo>
                <a:lnTo>
                  <a:pt x="4209" y="10800"/>
                </a:lnTo>
                <a:close/>
              </a:path>
            </a:pathLst>
          </a:custGeom>
          <a:solidFill>
            <a:srgbClr val="ffc2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2"/>
          <p:cNvSpPr/>
          <p:nvPr/>
        </p:nvSpPr>
        <p:spPr>
          <a:xfrm>
            <a:off x="3140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2"/>
          <p:cNvSpPr/>
          <p:nvPr/>
        </p:nvSpPr>
        <p:spPr>
          <a:xfrm>
            <a:off x="3140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2"/>
          <p:cNvSpPr/>
          <p:nvPr/>
        </p:nvSpPr>
        <p:spPr>
          <a:xfrm>
            <a:off x="59979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2"/>
          <p:cNvSpPr/>
          <p:nvPr/>
        </p:nvSpPr>
        <p:spPr>
          <a:xfrm>
            <a:off x="57837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92120" y="6523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角三角形 9"/>
          <p:cNvSpPr/>
          <p:nvPr/>
        </p:nvSpPr>
        <p:spPr>
          <a:xfrm flipH="1" rot="16200000">
            <a:off x="3425040" y="2292840"/>
            <a:ext cx="199800" cy="192240"/>
          </a:xfrm>
          <a:prstGeom prst="rtTriangle">
            <a:avLst/>
          </a:prstGeom>
          <a:solidFill>
            <a:srgbClr val="7f7f7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五边形 10"/>
          <p:cNvSpPr/>
          <p:nvPr/>
        </p:nvSpPr>
        <p:spPr>
          <a:xfrm>
            <a:off x="3429000" y="1857240"/>
            <a:ext cx="2786040" cy="43200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26" y="0"/>
                </a:lnTo>
                <a:lnTo>
                  <a:pt x="21600" y="10800"/>
                </a:lnTo>
                <a:lnTo>
                  <a:pt x="199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角三角形 11"/>
          <p:cNvSpPr/>
          <p:nvPr/>
        </p:nvSpPr>
        <p:spPr>
          <a:xfrm flipH="1" rot="16200000">
            <a:off x="3425040" y="3078720"/>
            <a:ext cx="199800" cy="192240"/>
          </a:xfrm>
          <a:prstGeom prst="rtTriangle">
            <a:avLst/>
          </a:prstGeom>
          <a:solidFill>
            <a:srgbClr val="7f7f7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五边形 12"/>
          <p:cNvSpPr/>
          <p:nvPr/>
        </p:nvSpPr>
        <p:spPr>
          <a:xfrm>
            <a:off x="3429000" y="2643120"/>
            <a:ext cx="2786040" cy="43200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26" y="0"/>
                </a:lnTo>
                <a:lnTo>
                  <a:pt x="21600" y="10800"/>
                </a:lnTo>
                <a:lnTo>
                  <a:pt x="199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2a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角三角形 13"/>
          <p:cNvSpPr/>
          <p:nvPr/>
        </p:nvSpPr>
        <p:spPr>
          <a:xfrm flipH="1" rot="16200000">
            <a:off x="3425040" y="3804480"/>
            <a:ext cx="200160" cy="192240"/>
          </a:xfrm>
          <a:prstGeom prst="rtTriangle">
            <a:avLst/>
          </a:prstGeom>
          <a:solidFill>
            <a:srgbClr val="7f7f7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五边形 14"/>
          <p:cNvSpPr/>
          <p:nvPr/>
        </p:nvSpPr>
        <p:spPr>
          <a:xfrm>
            <a:off x="3429000" y="3368520"/>
            <a:ext cx="2786040" cy="43200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26" y="0"/>
                </a:lnTo>
                <a:lnTo>
                  <a:pt x="21600" y="10800"/>
                </a:lnTo>
                <a:lnTo>
                  <a:pt x="199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4c9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角三角形 15"/>
          <p:cNvSpPr/>
          <p:nvPr/>
        </p:nvSpPr>
        <p:spPr>
          <a:xfrm flipH="1" rot="16200000">
            <a:off x="3425040" y="4590000"/>
            <a:ext cx="199800" cy="192240"/>
          </a:xfrm>
          <a:prstGeom prst="rtTriangle">
            <a:avLst/>
          </a:prstGeom>
          <a:solidFill>
            <a:srgbClr val="7f7f7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五边形 16"/>
          <p:cNvSpPr/>
          <p:nvPr/>
        </p:nvSpPr>
        <p:spPr>
          <a:xfrm>
            <a:off x="3429000" y="4154400"/>
            <a:ext cx="2786040" cy="43200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26" y="0"/>
                </a:lnTo>
                <a:lnTo>
                  <a:pt x="21600" y="10800"/>
                </a:lnTo>
                <a:lnTo>
                  <a:pt x="199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2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0"/>
          <p:cNvSpPr/>
          <p:nvPr/>
        </p:nvSpPr>
        <p:spPr>
          <a:xfrm>
            <a:off x="4283640" y="270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1"/>
          <p:cNvSpPr/>
          <p:nvPr/>
        </p:nvSpPr>
        <p:spPr>
          <a:xfrm>
            <a:off x="4285080" y="3416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2"/>
          <p:cNvSpPr/>
          <p:nvPr/>
        </p:nvSpPr>
        <p:spPr>
          <a:xfrm>
            <a:off x="4283640" y="191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1"/>
          <p:cNvSpPr/>
          <p:nvPr/>
        </p:nvSpPr>
        <p:spPr>
          <a:xfrm>
            <a:off x="4285080" y="420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圆角矩形 10" descr=""/>
          <p:cNvPicPr/>
          <p:nvPr/>
        </p:nvPicPr>
        <p:blipFill>
          <a:blip r:embed="rId1"/>
          <a:stretch/>
        </p:blipFill>
        <p:spPr>
          <a:xfrm>
            <a:off x="1219320" y="1457280"/>
            <a:ext cx="7046640" cy="8319960"/>
          </a:xfrm>
          <a:prstGeom prst="rect">
            <a:avLst/>
          </a:prstGeom>
          <a:ln w="0">
            <a:noFill/>
          </a:ln>
        </p:spPr>
      </p:pic>
      <p:sp>
        <p:nvSpPr>
          <p:cNvPr id="76" name="直角三角形 11"/>
          <p:cNvSpPr/>
          <p:nvPr/>
        </p:nvSpPr>
        <p:spPr>
          <a:xfrm>
            <a:off x="3338640" y="1285920"/>
            <a:ext cx="83880" cy="1918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五边形 12"/>
          <p:cNvSpPr/>
          <p:nvPr/>
        </p:nvSpPr>
        <p:spPr>
          <a:xfrm rot="5400000">
            <a:off x="709920" y="2329560"/>
            <a:ext cx="3672000" cy="158436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4c910"/>
          </a:solidFill>
          <a:ln w="1260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角三角形 13"/>
          <p:cNvSpPr/>
          <p:nvPr/>
        </p:nvSpPr>
        <p:spPr>
          <a:xfrm>
            <a:off x="5499000" y="1285920"/>
            <a:ext cx="84240" cy="1918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五边形 14"/>
          <p:cNvSpPr/>
          <p:nvPr/>
        </p:nvSpPr>
        <p:spPr>
          <a:xfrm rot="5400000">
            <a:off x="2870280" y="2329560"/>
            <a:ext cx="3672000" cy="158436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206"/>
          </a:solidFill>
          <a:ln w="648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角三角形 15"/>
          <p:cNvSpPr/>
          <p:nvPr/>
        </p:nvSpPr>
        <p:spPr>
          <a:xfrm>
            <a:off x="7658280" y="1285920"/>
            <a:ext cx="85680" cy="1918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五边形 16"/>
          <p:cNvSpPr/>
          <p:nvPr/>
        </p:nvSpPr>
        <p:spPr>
          <a:xfrm rot="5400000">
            <a:off x="5029560" y="2329560"/>
            <a:ext cx="3672000" cy="158436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18"/>
          </a:solidFill>
          <a:ln w="1260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燕尾形 17"/>
          <p:cNvSpPr/>
          <p:nvPr/>
        </p:nvSpPr>
        <p:spPr>
          <a:xfrm>
            <a:off x="3422520" y="2732040"/>
            <a:ext cx="144720" cy="258840"/>
          </a:xfrm>
          <a:custGeom>
            <a:avLst/>
            <a:gdLst>
              <a:gd name="textAreaLeft" fmla="*/ 0 w 144720"/>
              <a:gd name="textAreaRight" fmla="*/ 145080 w 1447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燕尾形 18"/>
          <p:cNvSpPr/>
          <p:nvPr/>
        </p:nvSpPr>
        <p:spPr>
          <a:xfrm>
            <a:off x="3597120" y="2732040"/>
            <a:ext cx="144720" cy="258840"/>
          </a:xfrm>
          <a:custGeom>
            <a:avLst/>
            <a:gdLst>
              <a:gd name="textAreaLeft" fmla="*/ 0 w 144720"/>
              <a:gd name="textAreaRight" fmla="*/ 145080 w 1447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燕尾形 19"/>
          <p:cNvSpPr/>
          <p:nvPr/>
        </p:nvSpPr>
        <p:spPr>
          <a:xfrm>
            <a:off x="5586480" y="2732040"/>
            <a:ext cx="144360" cy="258840"/>
          </a:xfrm>
          <a:custGeom>
            <a:avLst/>
            <a:gdLst>
              <a:gd name="textAreaLeft" fmla="*/ 0 w 144360"/>
              <a:gd name="textAreaRight" fmla="*/ 144360 w 1443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燕尾形 20"/>
          <p:cNvSpPr/>
          <p:nvPr/>
        </p:nvSpPr>
        <p:spPr>
          <a:xfrm>
            <a:off x="5761080" y="2732040"/>
            <a:ext cx="144360" cy="258840"/>
          </a:xfrm>
          <a:custGeom>
            <a:avLst/>
            <a:gdLst>
              <a:gd name="textAreaLeft" fmla="*/ 0 w 144360"/>
              <a:gd name="textAreaRight" fmla="*/ 144360 w 1443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1959120" y="19130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3"/>
          <p:cNvSpPr/>
          <p:nvPr/>
        </p:nvSpPr>
        <p:spPr>
          <a:xfrm>
            <a:off x="4106880" y="1898640"/>
            <a:ext cx="11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5"/>
          <p:cNvSpPr/>
          <p:nvPr/>
        </p:nvSpPr>
        <p:spPr>
          <a:xfrm>
            <a:off x="6267600" y="18842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70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6355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42138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2343240" y="5006880"/>
            <a:ext cx="3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4498920" y="5006880"/>
            <a:ext cx="3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659640" y="5006880"/>
            <a:ext cx="3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4"/>
          <p:cNvSpPr/>
          <p:nvPr/>
        </p:nvSpPr>
        <p:spPr>
          <a:xfrm>
            <a:off x="2754360" y="2801880"/>
            <a:ext cx="1387440" cy="1874880"/>
          </a:xfrm>
          <a:custGeom>
            <a:avLst/>
            <a:gdLst>
              <a:gd name="textAreaLeft" fmla="*/ 0 w 1387440"/>
              <a:gd name="textAreaRight" fmla="*/ 1387800 w 1387440"/>
              <a:gd name="textAreaTop" fmla="*/ 0 h 1874880"/>
              <a:gd name="textAreaBottom" fmla="*/ 1875240 h 1874880"/>
            </a:gdLst>
            <a:ahLst/>
            <a:rect l="textAreaLeft" t="textAreaTop" r="textAreaRight" b="textAreaBottom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close/>
              </a:path>
            </a:pathLst>
          </a:cu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 rot="14400000">
            <a:off x="5032080" y="3195360"/>
            <a:ext cx="1333440" cy="20224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2022480"/>
              <a:gd name="textAreaBottom" fmla="*/ 2022840 h 2022480"/>
            </a:gdLst>
            <a:ahLst/>
            <a:rect l="textAreaLeft" t="textAreaTop" r="textAreaRight" b="textAreaBottom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close/>
              </a:path>
            </a:pathLst>
          </a:cu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5"/>
          <p:cNvSpPr/>
          <p:nvPr/>
        </p:nvSpPr>
        <p:spPr>
          <a:xfrm rot="7200000">
            <a:off x="4276080" y="926640"/>
            <a:ext cx="1308240" cy="1987560"/>
          </a:xfrm>
          <a:custGeom>
            <a:avLst/>
            <a:gdLst>
              <a:gd name="textAreaLeft" fmla="*/ 0 w 1308240"/>
              <a:gd name="textAreaRight" fmla="*/ 1308600 w 1308240"/>
              <a:gd name="textAreaTop" fmla="*/ 0 h 1987560"/>
              <a:gd name="textAreaBottom" fmla="*/ 1987920 h 1987560"/>
            </a:gdLst>
            <a:ahLst/>
            <a:rect l="textAreaLeft" t="textAreaTop" r="textAreaRight" b="textAreaBottom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椭圆 9"/>
          <p:cNvGrpSpPr/>
          <p:nvPr/>
        </p:nvGrpSpPr>
        <p:grpSpPr>
          <a:xfrm>
            <a:off x="2719440" y="1316160"/>
            <a:ext cx="3930480" cy="3932280"/>
            <a:chOff x="2719440" y="1316160"/>
            <a:chExt cx="3930480" cy="3932280"/>
          </a:xfrm>
        </p:grpSpPr>
        <p:pic>
          <p:nvPicPr>
            <p:cNvPr id="104" name="椭圆 9" descr=""/>
            <p:cNvPicPr/>
            <p:nvPr/>
          </p:nvPicPr>
          <p:blipFill>
            <a:blip r:embed="rId1"/>
            <a:stretch/>
          </p:blipFill>
          <p:spPr>
            <a:xfrm>
              <a:off x="2719440" y="1316160"/>
              <a:ext cx="3930480" cy="393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305160" y="1901880"/>
              <a:ext cx="2762280" cy="27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Freeform 14"/>
          <p:cNvGrpSpPr/>
          <p:nvPr/>
        </p:nvGrpSpPr>
        <p:grpSpPr>
          <a:xfrm>
            <a:off x="5088600" y="2052720"/>
            <a:ext cx="2326680" cy="2625840"/>
            <a:chOff x="5088600" y="2052720"/>
            <a:chExt cx="2326680" cy="2625840"/>
          </a:xfrm>
        </p:grpSpPr>
        <p:pic>
          <p:nvPicPr>
            <p:cNvPr id="107" name="Freeform 14" descr=""/>
            <p:cNvPicPr/>
            <p:nvPr/>
          </p:nvPicPr>
          <p:blipFill>
            <a:blip r:embed="rId2"/>
            <a:stretch/>
          </p:blipFill>
          <p:spPr>
            <a:xfrm>
              <a:off x="5370480" y="2395800"/>
              <a:ext cx="1557720" cy="225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14400000">
              <a:off x="5141160" y="2663280"/>
              <a:ext cx="2220840" cy="14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Freeform 18"/>
          <p:cNvGrpSpPr/>
          <p:nvPr/>
        </p:nvGrpSpPr>
        <p:grpSpPr>
          <a:xfrm>
            <a:off x="2749680" y="3949560"/>
            <a:ext cx="2388960" cy="1341720"/>
            <a:chOff x="2749680" y="3949560"/>
            <a:chExt cx="2388960" cy="1341720"/>
          </a:xfrm>
        </p:grpSpPr>
        <p:pic>
          <p:nvPicPr>
            <p:cNvPr id="110" name="Freeform 18" descr=""/>
            <p:cNvPicPr/>
            <p:nvPr/>
          </p:nvPicPr>
          <p:blipFill>
            <a:blip r:embed="rId3"/>
            <a:stretch/>
          </p:blipFill>
          <p:spPr>
            <a:xfrm>
              <a:off x="2752560" y="3949560"/>
              <a:ext cx="238572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749680" y="3951360"/>
              <a:ext cx="2388960" cy="13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Freeform 9"/>
          <p:cNvGrpSpPr/>
          <p:nvPr/>
        </p:nvGrpSpPr>
        <p:grpSpPr>
          <a:xfrm>
            <a:off x="2846520" y="853560"/>
            <a:ext cx="2243160" cy="2242440"/>
            <a:chOff x="2846520" y="853560"/>
            <a:chExt cx="2243160" cy="2242440"/>
          </a:xfrm>
        </p:grpSpPr>
        <p:pic>
          <p:nvPicPr>
            <p:cNvPr id="113" name="Freeform 9" descr=""/>
            <p:cNvPicPr/>
            <p:nvPr/>
          </p:nvPicPr>
          <p:blipFill>
            <a:blip r:embed="rId4"/>
            <a:stretch/>
          </p:blipFill>
          <p:spPr>
            <a:xfrm>
              <a:off x="2998800" y="1378080"/>
              <a:ext cx="209088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 rot="7200000">
              <a:off x="3019680" y="1264320"/>
              <a:ext cx="1768680" cy="14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矩形 13"/>
          <p:cNvSpPr/>
          <p:nvPr/>
        </p:nvSpPr>
        <p:spPr>
          <a:xfrm>
            <a:off x="3400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4"/>
          <p:cNvSpPr/>
          <p:nvPr/>
        </p:nvSpPr>
        <p:spPr>
          <a:xfrm flipH="1" rot="1630800">
            <a:off x="3715200" y="1055880"/>
            <a:ext cx="35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 flipH="1" rot="19556400">
            <a:off x="6073560" y="2379240"/>
            <a:ext cx="35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圆角矩形 6" descr=""/>
          <p:cNvPicPr/>
          <p:nvPr/>
        </p:nvPicPr>
        <p:blipFill>
          <a:blip r:embed="rId1"/>
          <a:stretch/>
        </p:blipFill>
        <p:spPr>
          <a:xfrm>
            <a:off x="596880" y="1627200"/>
            <a:ext cx="1854360" cy="1006560"/>
          </a:xfrm>
          <a:prstGeom prst="rect">
            <a:avLst/>
          </a:prstGeom>
          <a:ln w="0">
            <a:noFill/>
          </a:ln>
        </p:spPr>
      </p:pic>
      <p:pic>
        <p:nvPicPr>
          <p:cNvPr id="124" name="圆角矩形 3" descr=""/>
          <p:cNvPicPr/>
          <p:nvPr/>
        </p:nvPicPr>
        <p:blipFill>
          <a:blip r:embed="rId2"/>
          <a:stretch/>
        </p:blipFill>
        <p:spPr>
          <a:xfrm>
            <a:off x="590400" y="2371680"/>
            <a:ext cx="1860840" cy="5797440"/>
          </a:xfrm>
          <a:prstGeom prst="rect">
            <a:avLst/>
          </a:prstGeom>
          <a:ln w="0">
            <a:noFill/>
          </a:ln>
        </p:spPr>
      </p:pic>
      <p:grpSp>
        <p:nvGrpSpPr>
          <p:cNvPr id="125" name="圆角矩形 3"/>
          <p:cNvGrpSpPr/>
          <p:nvPr/>
        </p:nvGrpSpPr>
        <p:grpSpPr>
          <a:xfrm>
            <a:off x="579600" y="2371680"/>
            <a:ext cx="1882440" cy="3005280"/>
            <a:chOff x="579600" y="2371680"/>
            <a:chExt cx="1882440" cy="3005280"/>
          </a:xfrm>
        </p:grpSpPr>
        <p:pic>
          <p:nvPicPr>
            <p:cNvPr id="126" name="圆角矩形 3" descr=""/>
            <p:cNvPicPr/>
            <p:nvPr/>
          </p:nvPicPr>
          <p:blipFill>
            <a:blip r:embed="rId3"/>
            <a:stretch/>
          </p:blipFill>
          <p:spPr>
            <a:xfrm>
              <a:off x="579600" y="2371680"/>
              <a:ext cx="188244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49440" y="2384280"/>
              <a:ext cx="1746000" cy="28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圆角矩形 3"/>
          <p:cNvGrpSpPr/>
          <p:nvPr/>
        </p:nvGrpSpPr>
        <p:grpSpPr>
          <a:xfrm>
            <a:off x="774720" y="2535120"/>
            <a:ext cx="1481040" cy="2567160"/>
            <a:chOff x="774720" y="2535120"/>
            <a:chExt cx="1481040" cy="2567160"/>
          </a:xfrm>
        </p:grpSpPr>
        <p:pic>
          <p:nvPicPr>
            <p:cNvPr id="129" name="圆角矩形 3" descr=""/>
            <p:cNvPicPr/>
            <p:nvPr/>
          </p:nvPicPr>
          <p:blipFill>
            <a:blip r:embed="rId4"/>
            <a:stretch/>
          </p:blipFill>
          <p:spPr>
            <a:xfrm>
              <a:off x="774720" y="2535120"/>
              <a:ext cx="1481040" cy="25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97040" y="2558880"/>
              <a:ext cx="143820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12"/>
          <p:cNvSpPr/>
          <p:nvPr/>
        </p:nvSpPr>
        <p:spPr>
          <a:xfrm>
            <a:off x="10404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圆角矩形 11" descr=""/>
          <p:cNvPicPr/>
          <p:nvPr/>
        </p:nvPicPr>
        <p:blipFill>
          <a:blip r:embed="rId5"/>
          <a:stretch/>
        </p:blipFill>
        <p:spPr>
          <a:xfrm>
            <a:off x="2670120" y="1627200"/>
            <a:ext cx="1852560" cy="1006560"/>
          </a:xfrm>
          <a:prstGeom prst="rect">
            <a:avLst/>
          </a:prstGeom>
          <a:ln w="0">
            <a:noFill/>
          </a:ln>
        </p:spPr>
      </p:pic>
      <p:pic>
        <p:nvPicPr>
          <p:cNvPr id="133" name="圆角矩形 3" descr=""/>
          <p:cNvPicPr/>
          <p:nvPr/>
        </p:nvPicPr>
        <p:blipFill>
          <a:blip r:embed="rId6"/>
          <a:stretch/>
        </p:blipFill>
        <p:spPr>
          <a:xfrm>
            <a:off x="2664000" y="2371680"/>
            <a:ext cx="1858680" cy="5797440"/>
          </a:xfrm>
          <a:prstGeom prst="rect">
            <a:avLst/>
          </a:prstGeom>
          <a:ln w="0">
            <a:noFill/>
          </a:ln>
        </p:spPr>
      </p:pic>
      <p:grpSp>
        <p:nvGrpSpPr>
          <p:cNvPr id="134" name="圆角矩形 3"/>
          <p:cNvGrpSpPr/>
          <p:nvPr/>
        </p:nvGrpSpPr>
        <p:grpSpPr>
          <a:xfrm>
            <a:off x="2657520" y="2341440"/>
            <a:ext cx="1884240" cy="3011760"/>
            <a:chOff x="2657520" y="2341440"/>
            <a:chExt cx="1884240" cy="3011760"/>
          </a:xfrm>
        </p:grpSpPr>
        <p:pic>
          <p:nvPicPr>
            <p:cNvPr id="135" name="圆角矩形 3" descr=""/>
            <p:cNvPicPr/>
            <p:nvPr/>
          </p:nvPicPr>
          <p:blipFill>
            <a:blip r:embed="rId7"/>
            <a:stretch/>
          </p:blipFill>
          <p:spPr>
            <a:xfrm>
              <a:off x="2657520" y="2341440"/>
              <a:ext cx="1884240" cy="30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2725560" y="2357280"/>
              <a:ext cx="1746360" cy="28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圆角矩形 3"/>
          <p:cNvGrpSpPr/>
          <p:nvPr/>
        </p:nvGrpSpPr>
        <p:grpSpPr>
          <a:xfrm>
            <a:off x="2846520" y="2535120"/>
            <a:ext cx="1481040" cy="2567160"/>
            <a:chOff x="2846520" y="2535120"/>
            <a:chExt cx="1481040" cy="2567160"/>
          </a:xfrm>
        </p:grpSpPr>
        <p:pic>
          <p:nvPicPr>
            <p:cNvPr id="138" name="圆角矩形 3" descr=""/>
            <p:cNvPicPr/>
            <p:nvPr/>
          </p:nvPicPr>
          <p:blipFill>
            <a:blip r:embed="rId8"/>
            <a:stretch/>
          </p:blipFill>
          <p:spPr>
            <a:xfrm>
              <a:off x="2846520" y="2535120"/>
              <a:ext cx="1481040" cy="25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868480" y="2558880"/>
              <a:ext cx="143856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矩形 12"/>
          <p:cNvSpPr/>
          <p:nvPr/>
        </p:nvSpPr>
        <p:spPr>
          <a:xfrm>
            <a:off x="31118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圆角矩形 16" descr=""/>
          <p:cNvPicPr/>
          <p:nvPr/>
        </p:nvPicPr>
        <p:blipFill>
          <a:blip r:embed="rId9"/>
          <a:stretch/>
        </p:blipFill>
        <p:spPr>
          <a:xfrm>
            <a:off x="4668840" y="1646280"/>
            <a:ext cx="1854360" cy="1004760"/>
          </a:xfrm>
          <a:prstGeom prst="rect">
            <a:avLst/>
          </a:prstGeom>
          <a:ln w="0">
            <a:noFill/>
          </a:ln>
        </p:spPr>
      </p:pic>
      <p:pic>
        <p:nvPicPr>
          <p:cNvPr id="142" name="圆角矩形 3" descr=""/>
          <p:cNvPicPr/>
          <p:nvPr/>
        </p:nvPicPr>
        <p:blipFill>
          <a:blip r:embed="rId10"/>
          <a:stretch/>
        </p:blipFill>
        <p:spPr>
          <a:xfrm>
            <a:off x="4614840" y="2395440"/>
            <a:ext cx="1957320" cy="5791320"/>
          </a:xfrm>
          <a:prstGeom prst="rect">
            <a:avLst/>
          </a:prstGeom>
          <a:ln w="0">
            <a:noFill/>
          </a:ln>
        </p:spPr>
      </p:pic>
      <p:grpSp>
        <p:nvGrpSpPr>
          <p:cNvPr id="143" name="圆角矩形 3"/>
          <p:cNvGrpSpPr/>
          <p:nvPr/>
        </p:nvGrpSpPr>
        <p:grpSpPr>
          <a:xfrm>
            <a:off x="4651200" y="2389320"/>
            <a:ext cx="1882800" cy="3011400"/>
            <a:chOff x="4651200" y="2389320"/>
            <a:chExt cx="1882800" cy="3011400"/>
          </a:xfrm>
        </p:grpSpPr>
        <p:pic>
          <p:nvPicPr>
            <p:cNvPr id="144" name="圆角矩形 3" descr=""/>
            <p:cNvPicPr/>
            <p:nvPr/>
          </p:nvPicPr>
          <p:blipFill>
            <a:blip r:embed="rId11"/>
            <a:stretch/>
          </p:blipFill>
          <p:spPr>
            <a:xfrm>
              <a:off x="4651200" y="2389320"/>
              <a:ext cx="1882800" cy="30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21400" y="2405160"/>
              <a:ext cx="1746000" cy="28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圆角矩形 3"/>
          <p:cNvGrpSpPr/>
          <p:nvPr/>
        </p:nvGrpSpPr>
        <p:grpSpPr>
          <a:xfrm>
            <a:off x="4846680" y="2560680"/>
            <a:ext cx="1481040" cy="2560680"/>
            <a:chOff x="4846680" y="2560680"/>
            <a:chExt cx="1481040" cy="2560680"/>
          </a:xfrm>
        </p:grpSpPr>
        <p:pic>
          <p:nvPicPr>
            <p:cNvPr id="147" name="圆角矩形 3" descr=""/>
            <p:cNvPicPr/>
            <p:nvPr/>
          </p:nvPicPr>
          <p:blipFill>
            <a:blip r:embed="rId12"/>
            <a:stretch/>
          </p:blipFill>
          <p:spPr>
            <a:xfrm>
              <a:off x="4846680" y="2560680"/>
              <a:ext cx="1481040" cy="25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869000" y="2581200"/>
              <a:ext cx="1438200" cy="25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矩形 12"/>
          <p:cNvSpPr/>
          <p:nvPr/>
        </p:nvSpPr>
        <p:spPr>
          <a:xfrm>
            <a:off x="5112360" y="3592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圆角矩形 21" descr=""/>
          <p:cNvPicPr/>
          <p:nvPr/>
        </p:nvPicPr>
        <p:blipFill>
          <a:blip r:embed="rId13"/>
          <a:stretch/>
        </p:blipFill>
        <p:spPr>
          <a:xfrm>
            <a:off x="6692760" y="1646280"/>
            <a:ext cx="1951200" cy="1004760"/>
          </a:xfrm>
          <a:prstGeom prst="rect">
            <a:avLst/>
          </a:prstGeom>
          <a:ln w="0">
            <a:noFill/>
          </a:ln>
        </p:spPr>
      </p:pic>
      <p:pic>
        <p:nvPicPr>
          <p:cNvPr id="151" name="圆角矩形 3" descr=""/>
          <p:cNvPicPr/>
          <p:nvPr/>
        </p:nvPicPr>
        <p:blipFill>
          <a:blip r:embed="rId14"/>
          <a:stretch/>
        </p:blipFill>
        <p:spPr>
          <a:xfrm>
            <a:off x="6686640" y="2395440"/>
            <a:ext cx="1957320" cy="5791320"/>
          </a:xfrm>
          <a:prstGeom prst="rect">
            <a:avLst/>
          </a:prstGeom>
          <a:ln w="0">
            <a:noFill/>
          </a:ln>
        </p:spPr>
      </p:pic>
      <p:grpSp>
        <p:nvGrpSpPr>
          <p:cNvPr id="152" name="圆角矩形 3"/>
          <p:cNvGrpSpPr/>
          <p:nvPr/>
        </p:nvGrpSpPr>
        <p:grpSpPr>
          <a:xfrm>
            <a:off x="6724800" y="2389320"/>
            <a:ext cx="1882800" cy="3011400"/>
            <a:chOff x="6724800" y="2389320"/>
            <a:chExt cx="1882800" cy="3011400"/>
          </a:xfrm>
        </p:grpSpPr>
        <p:pic>
          <p:nvPicPr>
            <p:cNvPr id="153" name="圆角矩形 3" descr=""/>
            <p:cNvPicPr/>
            <p:nvPr/>
          </p:nvPicPr>
          <p:blipFill>
            <a:blip r:embed="rId15"/>
            <a:stretch/>
          </p:blipFill>
          <p:spPr>
            <a:xfrm>
              <a:off x="6724800" y="2389320"/>
              <a:ext cx="1882800" cy="30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792840" y="2405160"/>
              <a:ext cx="1746360" cy="28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圆角矩形 3"/>
          <p:cNvGrpSpPr/>
          <p:nvPr/>
        </p:nvGrpSpPr>
        <p:grpSpPr>
          <a:xfrm>
            <a:off x="6918480" y="2560680"/>
            <a:ext cx="1482480" cy="2560680"/>
            <a:chOff x="6918480" y="2560680"/>
            <a:chExt cx="1482480" cy="2560680"/>
          </a:xfrm>
        </p:grpSpPr>
        <p:pic>
          <p:nvPicPr>
            <p:cNvPr id="156" name="圆角矩形 3" descr=""/>
            <p:cNvPicPr/>
            <p:nvPr/>
          </p:nvPicPr>
          <p:blipFill>
            <a:blip r:embed="rId16"/>
            <a:stretch/>
          </p:blipFill>
          <p:spPr>
            <a:xfrm>
              <a:off x="6918480" y="2560680"/>
              <a:ext cx="1482480" cy="25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940440" y="2581200"/>
              <a:ext cx="1438560" cy="25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矩形 12"/>
          <p:cNvSpPr/>
          <p:nvPr/>
        </p:nvSpPr>
        <p:spPr>
          <a:xfrm>
            <a:off x="7183800" y="3592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6"/>
          <p:cNvSpPr/>
          <p:nvPr/>
        </p:nvSpPr>
        <p:spPr>
          <a:xfrm>
            <a:off x="3859200" y="2039760"/>
            <a:ext cx="712800" cy="2411640"/>
          </a:xfrm>
          <a:custGeom>
            <a:avLst/>
            <a:gdLst/>
            <a:ahLst/>
            <a:rect l="l" t="t" r="r" b="b"/>
            <a:pathLst>
              <a:path w="712519" h="2410691">
                <a:moveTo>
                  <a:pt x="676893" y="0"/>
                </a:moveTo>
                <a:lnTo>
                  <a:pt x="0" y="0"/>
                </a:lnTo>
                <a:lnTo>
                  <a:pt x="0" y="2410691"/>
                </a:lnTo>
                <a:lnTo>
                  <a:pt x="712519" y="2410691"/>
                </a:lnTo>
              </a:path>
            </a:pathLst>
          </a:custGeom>
          <a:noFill/>
          <a:ln w="25560">
            <a:solidFill>
              <a:srgbClr val="74c910"/>
            </a:solidFill>
            <a:prstDash val="sys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9"/>
          <p:cNvSpPr/>
          <p:nvPr/>
        </p:nvSpPr>
        <p:spPr>
          <a:xfrm>
            <a:off x="4600440" y="1357200"/>
            <a:ext cx="4129200" cy="1625760"/>
          </a:xfrm>
          <a:custGeom>
            <a:avLst/>
            <a:gdLst/>
            <a:ahLst/>
            <a:rect l="l" t="t" r="r" b="b"/>
            <a:pathLst>
              <a:path w="5166653" h="2369443">
                <a:moveTo>
                  <a:pt x="1350229" y="0"/>
                </a:moveTo>
                <a:lnTo>
                  <a:pt x="5166653" y="0"/>
                </a:lnTo>
                <a:lnTo>
                  <a:pt x="5166653" y="2369443"/>
                </a:lnTo>
                <a:lnTo>
                  <a:pt x="1350229" y="2369443"/>
                </a:lnTo>
                <a:lnTo>
                  <a:pt x="1350229" y="2153255"/>
                </a:lnTo>
                <a:cubicBezTo>
                  <a:pt x="1247686" y="2188856"/>
                  <a:pt x="1137525" y="2207687"/>
                  <a:pt x="1022966" y="2207687"/>
                </a:cubicBezTo>
                <a:cubicBezTo>
                  <a:pt x="457997" y="2207687"/>
                  <a:pt x="0" y="1749690"/>
                  <a:pt x="0" y="1184721"/>
                </a:cubicBezTo>
                <a:cubicBezTo>
                  <a:pt x="0" y="619752"/>
                  <a:pt x="457997" y="161755"/>
                  <a:pt x="1022966" y="161755"/>
                </a:cubicBezTo>
                <a:cubicBezTo>
                  <a:pt x="1137525" y="161755"/>
                  <a:pt x="1247686" y="180586"/>
                  <a:pt x="1350229" y="216187"/>
                </a:cubicBezTo>
                <a:lnTo>
                  <a:pt x="1350229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52a7ce"/>
            </a:solidFill>
            <a:round/>
          </a:ln>
          <a:effectLst>
            <a:outerShdw dist="63360" dir="5400000" blurRad="0" rotWithShape="0">
              <a:srgbClr val="52a7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4"/>
          <p:cNvSpPr/>
          <p:nvPr/>
        </p:nvSpPr>
        <p:spPr>
          <a:xfrm rot="1267200">
            <a:off x="4600080" y="1616040"/>
            <a:ext cx="1179720" cy="1179720"/>
          </a:xfrm>
          <a:prstGeom prst="ellipse">
            <a:avLst/>
          </a:prstGeom>
          <a:solidFill>
            <a:srgbClr val="52a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9"/>
          <p:cNvSpPr/>
          <p:nvPr/>
        </p:nvSpPr>
        <p:spPr>
          <a:xfrm rot="21389400">
            <a:off x="4848120" y="2568240"/>
            <a:ext cx="716040" cy="24588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0"/>
          <p:cNvSpPr/>
          <p:nvPr/>
        </p:nvSpPr>
        <p:spPr>
          <a:xfrm rot="2179200">
            <a:off x="4819320" y="1658880"/>
            <a:ext cx="774720" cy="7747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椭圆 11"/>
          <p:cNvGrpSpPr/>
          <p:nvPr/>
        </p:nvGrpSpPr>
        <p:grpSpPr>
          <a:xfrm>
            <a:off x="4730760" y="1736640"/>
            <a:ext cx="914400" cy="914400"/>
            <a:chOff x="4730760" y="1736640"/>
            <a:chExt cx="914400" cy="914400"/>
          </a:xfrm>
        </p:grpSpPr>
        <p:pic>
          <p:nvPicPr>
            <p:cNvPr id="170" name="椭圆 11" descr=""/>
            <p:cNvPicPr/>
            <p:nvPr/>
          </p:nvPicPr>
          <p:blipFill>
            <a:blip r:embed="rId1"/>
            <a:stretch/>
          </p:blipFill>
          <p:spPr>
            <a:xfrm>
              <a:off x="4730760" y="173664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1267200">
              <a:off x="4867200" y="1876320"/>
              <a:ext cx="6415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椭圆 9"/>
          <p:cNvSpPr/>
          <p:nvPr/>
        </p:nvSpPr>
        <p:spPr>
          <a:xfrm>
            <a:off x="4619520" y="3367080"/>
            <a:ext cx="4130640" cy="1625760"/>
          </a:xfrm>
          <a:custGeom>
            <a:avLst/>
            <a:gdLst/>
            <a:ahLst/>
            <a:rect l="l" t="t" r="r" b="b"/>
            <a:pathLst>
              <a:path w="5166653" h="2369443">
                <a:moveTo>
                  <a:pt x="1350229" y="0"/>
                </a:moveTo>
                <a:lnTo>
                  <a:pt x="5166653" y="0"/>
                </a:lnTo>
                <a:lnTo>
                  <a:pt x="5166653" y="2369443"/>
                </a:lnTo>
                <a:lnTo>
                  <a:pt x="1350229" y="2369443"/>
                </a:lnTo>
                <a:lnTo>
                  <a:pt x="1350229" y="2153255"/>
                </a:lnTo>
                <a:cubicBezTo>
                  <a:pt x="1247686" y="2188856"/>
                  <a:pt x="1137525" y="2207687"/>
                  <a:pt x="1022966" y="2207687"/>
                </a:cubicBezTo>
                <a:cubicBezTo>
                  <a:pt x="457997" y="2207687"/>
                  <a:pt x="0" y="1749690"/>
                  <a:pt x="0" y="1184721"/>
                </a:cubicBezTo>
                <a:cubicBezTo>
                  <a:pt x="0" y="619752"/>
                  <a:pt x="457997" y="161755"/>
                  <a:pt x="1022966" y="161755"/>
                </a:cubicBezTo>
                <a:cubicBezTo>
                  <a:pt x="1137525" y="161755"/>
                  <a:pt x="1247686" y="180586"/>
                  <a:pt x="1350229" y="216187"/>
                </a:cubicBezTo>
                <a:lnTo>
                  <a:pt x="1350229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18"/>
            </a:solidFill>
            <a:round/>
          </a:ln>
          <a:effectLst>
            <a:outerShdw dist="63360" dir="5400000" blurRad="0" rotWithShape="0">
              <a:srgbClr val="ff001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13"/>
          <p:cNvSpPr/>
          <p:nvPr/>
        </p:nvSpPr>
        <p:spPr>
          <a:xfrm rot="1267200">
            <a:off x="4619160" y="3625920"/>
            <a:ext cx="1179720" cy="1179360"/>
          </a:xfrm>
          <a:prstGeom prst="ellipse">
            <a:avLst/>
          </a:prstGeom>
          <a:solidFill>
            <a:srgbClr val="ff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4"/>
          <p:cNvSpPr/>
          <p:nvPr/>
        </p:nvSpPr>
        <p:spPr>
          <a:xfrm rot="21389400">
            <a:off x="4867200" y="4578120"/>
            <a:ext cx="716040" cy="24588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15"/>
          <p:cNvSpPr/>
          <p:nvPr/>
        </p:nvSpPr>
        <p:spPr>
          <a:xfrm rot="2179200">
            <a:off x="4839840" y="3668760"/>
            <a:ext cx="774720" cy="7747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椭圆 16"/>
          <p:cNvGrpSpPr/>
          <p:nvPr/>
        </p:nvGrpSpPr>
        <p:grpSpPr>
          <a:xfrm>
            <a:off x="4748040" y="3749760"/>
            <a:ext cx="914400" cy="914400"/>
            <a:chOff x="4748040" y="3749760"/>
            <a:chExt cx="914400" cy="914400"/>
          </a:xfrm>
        </p:grpSpPr>
        <p:pic>
          <p:nvPicPr>
            <p:cNvPr id="177" name="椭圆 16" descr=""/>
            <p:cNvPicPr/>
            <p:nvPr/>
          </p:nvPicPr>
          <p:blipFill>
            <a:blip r:embed="rId2"/>
            <a:stretch/>
          </p:blipFill>
          <p:spPr>
            <a:xfrm>
              <a:off x="4748040" y="37497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 rot="1267200">
              <a:off x="4888080" y="3886200"/>
              <a:ext cx="639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椭圆 9"/>
          <p:cNvSpPr/>
          <p:nvPr/>
        </p:nvSpPr>
        <p:spPr>
          <a:xfrm flipH="1">
            <a:off x="250920" y="2298600"/>
            <a:ext cx="4130640" cy="1627200"/>
          </a:xfrm>
          <a:custGeom>
            <a:avLst/>
            <a:gdLst/>
            <a:ahLst/>
            <a:rect l="l" t="t" r="r" b="b"/>
            <a:pathLst>
              <a:path w="5166653" h="2369443">
                <a:moveTo>
                  <a:pt x="1350229" y="0"/>
                </a:moveTo>
                <a:lnTo>
                  <a:pt x="5166653" y="0"/>
                </a:lnTo>
                <a:lnTo>
                  <a:pt x="5166653" y="2369443"/>
                </a:lnTo>
                <a:lnTo>
                  <a:pt x="1350229" y="2369443"/>
                </a:lnTo>
                <a:lnTo>
                  <a:pt x="1350229" y="2153255"/>
                </a:lnTo>
                <a:cubicBezTo>
                  <a:pt x="1247686" y="2188856"/>
                  <a:pt x="1137525" y="2207687"/>
                  <a:pt x="1022966" y="2207687"/>
                </a:cubicBezTo>
                <a:cubicBezTo>
                  <a:pt x="457997" y="2207687"/>
                  <a:pt x="0" y="1749690"/>
                  <a:pt x="0" y="1184721"/>
                </a:cubicBezTo>
                <a:cubicBezTo>
                  <a:pt x="0" y="619752"/>
                  <a:pt x="457997" y="161755"/>
                  <a:pt x="1022966" y="161755"/>
                </a:cubicBezTo>
                <a:cubicBezTo>
                  <a:pt x="1137525" y="161755"/>
                  <a:pt x="1247686" y="180586"/>
                  <a:pt x="1350229" y="216187"/>
                </a:cubicBezTo>
                <a:lnTo>
                  <a:pt x="1350229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c206"/>
            </a:solidFill>
            <a:round/>
          </a:ln>
          <a:effectLst>
            <a:outerShdw dist="63360" dir="5400000" blurRad="0" rotWithShape="0">
              <a:srgbClr val="ffc2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18"/>
          <p:cNvSpPr/>
          <p:nvPr/>
        </p:nvSpPr>
        <p:spPr>
          <a:xfrm flipH="1" rot="20332800">
            <a:off x="3201480" y="2558880"/>
            <a:ext cx="1179720" cy="1179720"/>
          </a:xfrm>
          <a:prstGeom prst="ellipse">
            <a:avLst/>
          </a:prstGeom>
          <a:solidFill>
            <a:srgbClr val="ffc2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19"/>
          <p:cNvSpPr/>
          <p:nvPr/>
        </p:nvSpPr>
        <p:spPr>
          <a:xfrm flipH="1" rot="210600">
            <a:off x="3417120" y="3511080"/>
            <a:ext cx="716040" cy="2462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20"/>
          <p:cNvSpPr/>
          <p:nvPr/>
        </p:nvSpPr>
        <p:spPr>
          <a:xfrm flipH="1" rot="19420800">
            <a:off x="3385800" y="2602080"/>
            <a:ext cx="774720" cy="774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椭圆 21"/>
          <p:cNvGrpSpPr/>
          <p:nvPr/>
        </p:nvGrpSpPr>
        <p:grpSpPr>
          <a:xfrm>
            <a:off x="3333600" y="2682720"/>
            <a:ext cx="914400" cy="914400"/>
            <a:chOff x="3333600" y="2682720"/>
            <a:chExt cx="914400" cy="914400"/>
          </a:xfrm>
        </p:grpSpPr>
        <p:pic>
          <p:nvPicPr>
            <p:cNvPr id="184" name="椭圆 21" descr=""/>
            <p:cNvPicPr/>
            <p:nvPr/>
          </p:nvPicPr>
          <p:blipFill>
            <a:blip r:embed="rId3"/>
            <a:stretch/>
          </p:blipFill>
          <p:spPr>
            <a:xfrm>
              <a:off x="3333600" y="2682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 rot="20332200">
              <a:off x="3473280" y="2817360"/>
              <a:ext cx="640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32"/>
          <p:cNvSpPr/>
          <p:nvPr/>
        </p:nvSpPr>
        <p:spPr>
          <a:xfrm>
            <a:off x="4829040" y="202104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4c91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3"/>
          <p:cNvSpPr/>
          <p:nvPr/>
        </p:nvSpPr>
        <p:spPr>
          <a:xfrm>
            <a:off x="3421080" y="296712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4c91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4"/>
          <p:cNvSpPr/>
          <p:nvPr/>
        </p:nvSpPr>
        <p:spPr>
          <a:xfrm>
            <a:off x="4859280" y="398448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4c91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2"/>
          <p:cNvSpPr/>
          <p:nvPr/>
        </p:nvSpPr>
        <p:spPr>
          <a:xfrm>
            <a:off x="12117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3"/>
          <p:cNvSpPr/>
          <p:nvPr/>
        </p:nvSpPr>
        <p:spPr>
          <a:xfrm>
            <a:off x="66409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4"/>
          <p:cNvSpPr/>
          <p:nvPr/>
        </p:nvSpPr>
        <p:spPr>
          <a:xfrm>
            <a:off x="63550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492120" y="6523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2"/>
          <p:cNvSpPr/>
          <p:nvPr/>
        </p:nvSpPr>
        <p:spPr>
          <a:xfrm>
            <a:off x="3142080" y="3059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3"/>
          <p:cNvSpPr/>
          <p:nvPr/>
        </p:nvSpPr>
        <p:spPr>
          <a:xfrm>
            <a:off x="6355080" y="291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4"/>
          <p:cNvSpPr/>
          <p:nvPr/>
        </p:nvSpPr>
        <p:spPr>
          <a:xfrm>
            <a:off x="47836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5"/>
          <p:cNvSpPr/>
          <p:nvPr/>
        </p:nvSpPr>
        <p:spPr>
          <a:xfrm>
            <a:off x="14976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10"/>
          <p:cNvSpPr/>
          <p:nvPr/>
        </p:nvSpPr>
        <p:spPr>
          <a:xfrm>
            <a:off x="0" y="3500280"/>
            <a:ext cx="1398600" cy="1620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11"/>
          <p:cNvSpPr/>
          <p:nvPr/>
        </p:nvSpPr>
        <p:spPr>
          <a:xfrm>
            <a:off x="2695680" y="3516480"/>
            <a:ext cx="287280" cy="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12"/>
          <p:cNvSpPr/>
          <p:nvPr/>
        </p:nvSpPr>
        <p:spPr>
          <a:xfrm>
            <a:off x="4219560" y="3516480"/>
            <a:ext cx="360360" cy="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13"/>
          <p:cNvSpPr/>
          <p:nvPr/>
        </p:nvSpPr>
        <p:spPr>
          <a:xfrm>
            <a:off x="5864400" y="3516480"/>
            <a:ext cx="358560" cy="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14"/>
          <p:cNvSpPr/>
          <p:nvPr/>
        </p:nvSpPr>
        <p:spPr>
          <a:xfrm flipV="1">
            <a:off x="7429680" y="3499920"/>
            <a:ext cx="1285560" cy="1116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15"/>
          <p:cNvSpPr/>
          <p:nvPr/>
        </p:nvSpPr>
        <p:spPr>
          <a:xfrm>
            <a:off x="8448840" y="3516480"/>
            <a:ext cx="684000" cy="0"/>
          </a:xfrm>
          <a:prstGeom prst="line">
            <a:avLst/>
          </a:prstGeom>
          <a:ln w="5724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等腰三角形 5"/>
          <p:cNvSpPr/>
          <p:nvPr/>
        </p:nvSpPr>
        <p:spPr>
          <a:xfrm>
            <a:off x="1398600" y="2357280"/>
            <a:ext cx="1297080" cy="1336680"/>
          </a:xfrm>
          <a:custGeom>
            <a:avLst/>
            <a:gdLst/>
            <a:ahLst/>
            <a:rect l="l" t="t" r="r" b="b"/>
            <a:pathLst>
              <a:path w="1152128" h="1188410">
                <a:moveTo>
                  <a:pt x="576064" y="0"/>
                </a:moveTo>
                <a:lnTo>
                  <a:pt x="720080" y="288032"/>
                </a:lnTo>
                <a:lnTo>
                  <a:pt x="647834" y="288032"/>
                </a:lnTo>
                <a:lnTo>
                  <a:pt x="783406" y="604369"/>
                </a:lnTo>
                <a:cubicBezTo>
                  <a:pt x="999361" y="686373"/>
                  <a:pt x="1152128" y="895549"/>
                  <a:pt x="1152128" y="1140405"/>
                </a:cubicBezTo>
                <a:lnTo>
                  <a:pt x="1149704" y="1188410"/>
                </a:lnTo>
                <a:cubicBezTo>
                  <a:pt x="1125742" y="892701"/>
                  <a:pt x="878037" y="660352"/>
                  <a:pt x="576064" y="660352"/>
                </a:cubicBezTo>
                <a:cubicBezTo>
                  <a:pt x="274091" y="660352"/>
                  <a:pt x="26386" y="892701"/>
                  <a:pt x="2424" y="1188410"/>
                </a:cubicBezTo>
                <a:cubicBezTo>
                  <a:pt x="667" y="1172607"/>
                  <a:pt x="0" y="1156583"/>
                  <a:pt x="0" y="1140405"/>
                </a:cubicBezTo>
                <a:cubicBezTo>
                  <a:pt x="0" y="895549"/>
                  <a:pt x="152767" y="686373"/>
                  <a:pt x="368722" y="604369"/>
                </a:cubicBezTo>
                <a:lnTo>
                  <a:pt x="504295" y="288032"/>
                </a:lnTo>
                <a:lnTo>
                  <a:pt x="432048" y="288032"/>
                </a:lnTo>
                <a:lnTo>
                  <a:pt x="576064" y="0"/>
                </a:lnTo>
                <a:close/>
              </a:path>
            </a:pathLst>
          </a:custGeom>
          <a:solidFill>
            <a:srgbClr val="ff0018"/>
          </a:solid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等腰三角形 5"/>
          <p:cNvSpPr/>
          <p:nvPr/>
        </p:nvSpPr>
        <p:spPr>
          <a:xfrm flipV="1">
            <a:off x="2982960" y="3260160"/>
            <a:ext cx="1297080" cy="1336680"/>
          </a:xfrm>
          <a:custGeom>
            <a:avLst/>
            <a:gdLst/>
            <a:ahLst/>
            <a:rect l="l" t="t" r="r" b="b"/>
            <a:pathLst>
              <a:path w="1152128" h="1188410">
                <a:moveTo>
                  <a:pt x="576064" y="0"/>
                </a:moveTo>
                <a:lnTo>
                  <a:pt x="720080" y="288032"/>
                </a:lnTo>
                <a:lnTo>
                  <a:pt x="647834" y="288032"/>
                </a:lnTo>
                <a:lnTo>
                  <a:pt x="783406" y="604369"/>
                </a:lnTo>
                <a:cubicBezTo>
                  <a:pt x="999361" y="686373"/>
                  <a:pt x="1152128" y="895549"/>
                  <a:pt x="1152128" y="1140405"/>
                </a:cubicBezTo>
                <a:lnTo>
                  <a:pt x="1149704" y="1188410"/>
                </a:lnTo>
                <a:cubicBezTo>
                  <a:pt x="1125742" y="892701"/>
                  <a:pt x="878037" y="660352"/>
                  <a:pt x="576064" y="660352"/>
                </a:cubicBezTo>
                <a:cubicBezTo>
                  <a:pt x="274091" y="660352"/>
                  <a:pt x="26386" y="892701"/>
                  <a:pt x="2424" y="1188410"/>
                </a:cubicBezTo>
                <a:cubicBezTo>
                  <a:pt x="667" y="1172607"/>
                  <a:pt x="0" y="1156583"/>
                  <a:pt x="0" y="1140405"/>
                </a:cubicBezTo>
                <a:cubicBezTo>
                  <a:pt x="0" y="895549"/>
                  <a:pt x="152767" y="686373"/>
                  <a:pt x="368722" y="604369"/>
                </a:cubicBezTo>
                <a:lnTo>
                  <a:pt x="504295" y="288032"/>
                </a:lnTo>
                <a:lnTo>
                  <a:pt x="432048" y="288032"/>
                </a:lnTo>
                <a:lnTo>
                  <a:pt x="576064" y="0"/>
                </a:lnTo>
                <a:close/>
              </a:path>
            </a:pathLst>
          </a:custGeom>
          <a:solidFill>
            <a:srgbClr val="52a7ce"/>
          </a:solid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等腰三角形 5"/>
          <p:cNvSpPr/>
          <p:nvPr/>
        </p:nvSpPr>
        <p:spPr>
          <a:xfrm>
            <a:off x="4567320" y="2357280"/>
            <a:ext cx="1297080" cy="1336680"/>
          </a:xfrm>
          <a:custGeom>
            <a:avLst/>
            <a:gdLst/>
            <a:ahLst/>
            <a:rect l="l" t="t" r="r" b="b"/>
            <a:pathLst>
              <a:path w="1152128" h="1188410">
                <a:moveTo>
                  <a:pt x="576064" y="0"/>
                </a:moveTo>
                <a:lnTo>
                  <a:pt x="720080" y="288032"/>
                </a:lnTo>
                <a:lnTo>
                  <a:pt x="647834" y="288032"/>
                </a:lnTo>
                <a:lnTo>
                  <a:pt x="783406" y="604369"/>
                </a:lnTo>
                <a:cubicBezTo>
                  <a:pt x="999361" y="686373"/>
                  <a:pt x="1152128" y="895549"/>
                  <a:pt x="1152128" y="1140405"/>
                </a:cubicBezTo>
                <a:lnTo>
                  <a:pt x="1149704" y="1188410"/>
                </a:lnTo>
                <a:cubicBezTo>
                  <a:pt x="1125742" y="892701"/>
                  <a:pt x="878037" y="660352"/>
                  <a:pt x="576064" y="660352"/>
                </a:cubicBezTo>
                <a:cubicBezTo>
                  <a:pt x="274091" y="660352"/>
                  <a:pt x="26386" y="892701"/>
                  <a:pt x="2424" y="1188410"/>
                </a:cubicBezTo>
                <a:cubicBezTo>
                  <a:pt x="667" y="1172607"/>
                  <a:pt x="0" y="1156583"/>
                  <a:pt x="0" y="1140405"/>
                </a:cubicBezTo>
                <a:cubicBezTo>
                  <a:pt x="0" y="895549"/>
                  <a:pt x="152767" y="686373"/>
                  <a:pt x="368722" y="604369"/>
                </a:cubicBezTo>
                <a:lnTo>
                  <a:pt x="504295" y="288032"/>
                </a:lnTo>
                <a:lnTo>
                  <a:pt x="432048" y="288032"/>
                </a:lnTo>
                <a:lnTo>
                  <a:pt x="576064" y="0"/>
                </a:lnTo>
                <a:close/>
              </a:path>
            </a:pathLst>
          </a:custGeom>
          <a:solidFill>
            <a:srgbClr val="ffc206"/>
          </a:solid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等腰三角形 5"/>
          <p:cNvSpPr/>
          <p:nvPr/>
        </p:nvSpPr>
        <p:spPr>
          <a:xfrm flipV="1">
            <a:off x="6151680" y="3260160"/>
            <a:ext cx="1295280" cy="1336680"/>
          </a:xfrm>
          <a:custGeom>
            <a:avLst/>
            <a:gdLst/>
            <a:ahLst/>
            <a:rect l="l" t="t" r="r" b="b"/>
            <a:pathLst>
              <a:path w="1152128" h="1188410">
                <a:moveTo>
                  <a:pt x="576064" y="0"/>
                </a:moveTo>
                <a:lnTo>
                  <a:pt x="720080" y="288032"/>
                </a:lnTo>
                <a:lnTo>
                  <a:pt x="647834" y="288032"/>
                </a:lnTo>
                <a:lnTo>
                  <a:pt x="783406" y="604369"/>
                </a:lnTo>
                <a:cubicBezTo>
                  <a:pt x="999361" y="686373"/>
                  <a:pt x="1152128" y="895549"/>
                  <a:pt x="1152128" y="1140405"/>
                </a:cubicBezTo>
                <a:lnTo>
                  <a:pt x="1149704" y="1188410"/>
                </a:lnTo>
                <a:cubicBezTo>
                  <a:pt x="1125742" y="892701"/>
                  <a:pt x="878037" y="660352"/>
                  <a:pt x="576064" y="660352"/>
                </a:cubicBezTo>
                <a:cubicBezTo>
                  <a:pt x="274091" y="660352"/>
                  <a:pt x="26386" y="892701"/>
                  <a:pt x="2424" y="1188410"/>
                </a:cubicBezTo>
                <a:cubicBezTo>
                  <a:pt x="667" y="1172607"/>
                  <a:pt x="0" y="1156583"/>
                  <a:pt x="0" y="1140405"/>
                </a:cubicBezTo>
                <a:cubicBezTo>
                  <a:pt x="0" y="895549"/>
                  <a:pt x="152767" y="686373"/>
                  <a:pt x="368722" y="604369"/>
                </a:cubicBezTo>
                <a:lnTo>
                  <a:pt x="504295" y="288032"/>
                </a:lnTo>
                <a:lnTo>
                  <a:pt x="432048" y="288032"/>
                </a:lnTo>
                <a:lnTo>
                  <a:pt x="576064" y="0"/>
                </a:lnTo>
                <a:close/>
              </a:path>
            </a:pathLst>
          </a:custGeom>
          <a:solidFill>
            <a:srgbClr val="74c910"/>
          </a:solid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25"/>
          <p:cNvGrpSpPr/>
          <p:nvPr/>
        </p:nvGrpSpPr>
        <p:grpSpPr>
          <a:xfrm>
            <a:off x="714240" y="2357280"/>
            <a:ext cx="7767720" cy="1454400"/>
            <a:chOff x="714240" y="2357280"/>
            <a:chExt cx="7767720" cy="1454400"/>
          </a:xfrm>
        </p:grpSpPr>
        <p:grpSp>
          <p:nvGrpSpPr>
            <p:cNvPr id="218" name="组合 15"/>
            <p:cNvGrpSpPr/>
            <p:nvPr/>
          </p:nvGrpSpPr>
          <p:grpSpPr>
            <a:xfrm>
              <a:off x="714240" y="2373120"/>
              <a:ext cx="3827520" cy="1438560"/>
              <a:chOff x="714240" y="2373120"/>
              <a:chExt cx="3827520" cy="1438560"/>
            </a:xfrm>
          </p:grpSpPr>
          <p:sp>
            <p:nvSpPr>
              <p:cNvPr id="219" name="Freeform 6"/>
              <p:cNvSpPr/>
              <p:nvPr/>
            </p:nvSpPr>
            <p:spPr>
              <a:xfrm>
                <a:off x="977040" y="2972520"/>
                <a:ext cx="635040" cy="834840"/>
              </a:xfrm>
              <a:custGeom>
                <a:avLst/>
                <a:gdLst>
                  <a:gd name="textAreaLeft" fmla="*/ 0 w 635040"/>
                  <a:gd name="textAreaRight" fmla="*/ 635400 w 635040"/>
                  <a:gd name="textAreaTop" fmla="*/ 0 h 834840"/>
                  <a:gd name="textAreaBottom" fmla="*/ 835200 h 834840"/>
                </a:gdLst>
                <a:ahLst/>
                <a:rect l="textAreaLeft" t="textAreaTop" r="textAreaRight" b="textAreaBottom"/>
                <a:pathLst>
                  <a:path w="599" h="787">
                    <a:moveTo>
                      <a:pt x="0" y="565"/>
                    </a:moveTo>
                    <a:lnTo>
                      <a:pt x="599" y="787"/>
                    </a:lnTo>
                    <a:lnTo>
                      <a:pt x="129" y="407"/>
                    </a:lnTo>
                    <a:lnTo>
                      <a:pt x="0" y="0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rgbClr val="52a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7"/>
              <p:cNvSpPr/>
              <p:nvPr/>
            </p:nvSpPr>
            <p:spPr>
              <a:xfrm>
                <a:off x="977760" y="2373120"/>
                <a:ext cx="1601640" cy="1198800"/>
              </a:xfrm>
              <a:custGeom>
                <a:avLst/>
                <a:gdLst>
                  <a:gd name="textAreaLeft" fmla="*/ 0 w 1601640"/>
                  <a:gd name="textAreaRight" fmla="*/ 1602000 w 1601640"/>
                  <a:gd name="textAreaTop" fmla="*/ 0 h 1198800"/>
                  <a:gd name="textAreaBottom" fmla="*/ 1199160 h 1198800"/>
                </a:gdLst>
                <a:ahLst/>
                <a:rect l="textAreaLeft" t="textAreaTop" r="textAreaRight" b="textAreaBottom"/>
                <a:pathLst>
                  <a:path w="1511" h="1130">
                    <a:moveTo>
                      <a:pt x="0" y="1130"/>
                    </a:moveTo>
                    <a:lnTo>
                      <a:pt x="1180" y="759"/>
                    </a:lnTo>
                    <a:lnTo>
                      <a:pt x="1511" y="0"/>
                    </a:lnTo>
                    <a:lnTo>
                      <a:pt x="0" y="565"/>
                    </a:lnTo>
                    <a:lnTo>
                      <a:pt x="0" y="1130"/>
                    </a:lnTo>
                    <a:close/>
                  </a:path>
                </a:pathLst>
              </a:custGeom>
              <a:solidFill>
                <a:srgbClr val="1737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8"/>
              <p:cNvSpPr/>
              <p:nvPr/>
            </p:nvSpPr>
            <p:spPr>
              <a:xfrm>
                <a:off x="714240" y="2373120"/>
                <a:ext cx="1865520" cy="805320"/>
              </a:xfrm>
              <a:custGeom>
                <a:avLst/>
                <a:gdLst>
                  <a:gd name="textAreaLeft" fmla="*/ 0 w 1865520"/>
                  <a:gd name="textAreaRight" fmla="*/ 1865880 w 1865520"/>
                  <a:gd name="textAreaTop" fmla="*/ 0 h 805320"/>
                  <a:gd name="textAreaBottom" fmla="*/ 805680 h 805320"/>
                </a:gdLst>
                <a:ahLst/>
                <a:rect l="textAreaLeft" t="textAreaTop" r="textAreaRight" b="textAreaBottom"/>
                <a:pathLst>
                  <a:path w="1759" h="759">
                    <a:moveTo>
                      <a:pt x="0" y="759"/>
                    </a:moveTo>
                    <a:lnTo>
                      <a:pt x="1428" y="759"/>
                    </a:lnTo>
                    <a:lnTo>
                      <a:pt x="1759" y="0"/>
                    </a:lnTo>
                    <a:lnTo>
                      <a:pt x="0" y="0"/>
                    </a:lnTo>
                    <a:lnTo>
                      <a:pt x="0" y="759"/>
                    </a:lnTo>
                    <a:close/>
                  </a:path>
                </a:pathLst>
              </a:custGeom>
              <a:solidFill>
                <a:srgbClr val="52a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矩形 12"/>
              <p:cNvSpPr/>
              <p:nvPr/>
            </p:nvSpPr>
            <p:spPr>
              <a:xfrm>
                <a:off x="1049400" y="265392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6"/>
              <p:cNvSpPr/>
              <p:nvPr/>
            </p:nvSpPr>
            <p:spPr>
              <a:xfrm>
                <a:off x="2939400" y="2976840"/>
                <a:ext cx="635040" cy="834840"/>
              </a:xfrm>
              <a:custGeom>
                <a:avLst/>
                <a:gdLst>
                  <a:gd name="textAreaLeft" fmla="*/ 0 w 635040"/>
                  <a:gd name="textAreaRight" fmla="*/ 635400 w 635040"/>
                  <a:gd name="textAreaTop" fmla="*/ 0 h 834840"/>
                  <a:gd name="textAreaBottom" fmla="*/ 835200 h 834840"/>
                </a:gdLst>
                <a:ahLst/>
                <a:rect l="textAreaLeft" t="textAreaTop" r="textAreaRight" b="textAreaBottom"/>
                <a:pathLst>
                  <a:path w="599" h="787">
                    <a:moveTo>
                      <a:pt x="0" y="565"/>
                    </a:moveTo>
                    <a:lnTo>
                      <a:pt x="599" y="787"/>
                    </a:lnTo>
                    <a:lnTo>
                      <a:pt x="129" y="407"/>
                    </a:lnTo>
                    <a:lnTo>
                      <a:pt x="0" y="0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rgbClr val="74c9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7"/>
              <p:cNvSpPr/>
              <p:nvPr/>
            </p:nvSpPr>
            <p:spPr>
              <a:xfrm>
                <a:off x="2940120" y="2377800"/>
                <a:ext cx="1601640" cy="1198800"/>
              </a:xfrm>
              <a:custGeom>
                <a:avLst/>
                <a:gdLst>
                  <a:gd name="textAreaLeft" fmla="*/ 0 w 1601640"/>
                  <a:gd name="textAreaRight" fmla="*/ 1602000 w 1601640"/>
                  <a:gd name="textAreaTop" fmla="*/ 0 h 1198800"/>
                  <a:gd name="textAreaBottom" fmla="*/ 1199160 h 1198800"/>
                </a:gdLst>
                <a:ahLst/>
                <a:rect l="textAreaLeft" t="textAreaTop" r="textAreaRight" b="textAreaBottom"/>
                <a:pathLst>
                  <a:path w="1511" h="1130">
                    <a:moveTo>
                      <a:pt x="0" y="1130"/>
                    </a:moveTo>
                    <a:lnTo>
                      <a:pt x="1180" y="759"/>
                    </a:lnTo>
                    <a:lnTo>
                      <a:pt x="1511" y="0"/>
                    </a:lnTo>
                    <a:lnTo>
                      <a:pt x="0" y="565"/>
                    </a:lnTo>
                    <a:lnTo>
                      <a:pt x="0" y="1130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8"/>
              <p:cNvSpPr/>
              <p:nvPr/>
            </p:nvSpPr>
            <p:spPr>
              <a:xfrm>
                <a:off x="2676240" y="2377080"/>
                <a:ext cx="1865520" cy="805320"/>
              </a:xfrm>
              <a:custGeom>
                <a:avLst/>
                <a:gdLst>
                  <a:gd name="textAreaLeft" fmla="*/ 0 w 1865520"/>
                  <a:gd name="textAreaRight" fmla="*/ 1865880 w 1865520"/>
                  <a:gd name="textAreaTop" fmla="*/ 0 h 805320"/>
                  <a:gd name="textAreaBottom" fmla="*/ 805680 h 805320"/>
                </a:gdLst>
                <a:ahLst/>
                <a:rect l="textAreaLeft" t="textAreaTop" r="textAreaRight" b="textAreaBottom"/>
                <a:pathLst>
                  <a:path w="1759" h="759">
                    <a:moveTo>
                      <a:pt x="0" y="759"/>
                    </a:moveTo>
                    <a:lnTo>
                      <a:pt x="1428" y="759"/>
                    </a:lnTo>
                    <a:lnTo>
                      <a:pt x="1759" y="0"/>
                    </a:lnTo>
                    <a:lnTo>
                      <a:pt x="0" y="0"/>
                    </a:lnTo>
                    <a:lnTo>
                      <a:pt x="0" y="759"/>
                    </a:lnTo>
                    <a:close/>
                  </a:path>
                </a:pathLst>
              </a:custGeom>
              <a:solidFill>
                <a:srgbClr val="74c9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矩形 12"/>
              <p:cNvSpPr/>
              <p:nvPr/>
            </p:nvSpPr>
            <p:spPr>
              <a:xfrm>
                <a:off x="3049920" y="26582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组合 16"/>
            <p:cNvGrpSpPr/>
            <p:nvPr/>
          </p:nvGrpSpPr>
          <p:grpSpPr>
            <a:xfrm>
              <a:off x="4654440" y="2357280"/>
              <a:ext cx="3827520" cy="1438560"/>
              <a:chOff x="4654440" y="2357280"/>
              <a:chExt cx="3827520" cy="1438560"/>
            </a:xfrm>
          </p:grpSpPr>
          <p:sp>
            <p:nvSpPr>
              <p:cNvPr id="228" name="Freeform 6"/>
              <p:cNvSpPr/>
              <p:nvPr/>
            </p:nvSpPr>
            <p:spPr>
              <a:xfrm>
                <a:off x="4917240" y="2956680"/>
                <a:ext cx="635040" cy="835200"/>
              </a:xfrm>
              <a:custGeom>
                <a:avLst/>
                <a:gdLst>
                  <a:gd name="textAreaLeft" fmla="*/ 0 w 635040"/>
                  <a:gd name="textAreaRight" fmla="*/ 635400 w 635040"/>
                  <a:gd name="textAreaTop" fmla="*/ 0 h 835200"/>
                  <a:gd name="textAreaBottom" fmla="*/ 835560 h 835200"/>
                </a:gdLst>
                <a:ahLst/>
                <a:rect l="textAreaLeft" t="textAreaTop" r="textAreaRight" b="textAreaBottom"/>
                <a:pathLst>
                  <a:path w="599" h="787">
                    <a:moveTo>
                      <a:pt x="0" y="565"/>
                    </a:moveTo>
                    <a:lnTo>
                      <a:pt x="599" y="787"/>
                    </a:lnTo>
                    <a:lnTo>
                      <a:pt x="129" y="407"/>
                    </a:lnTo>
                    <a:lnTo>
                      <a:pt x="0" y="0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rgbClr val="ff0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7"/>
              <p:cNvSpPr/>
              <p:nvPr/>
            </p:nvSpPr>
            <p:spPr>
              <a:xfrm>
                <a:off x="4917240" y="2357280"/>
                <a:ext cx="1602360" cy="1199160"/>
              </a:xfrm>
              <a:custGeom>
                <a:avLst/>
                <a:gdLst>
                  <a:gd name="textAreaLeft" fmla="*/ 0 w 1602360"/>
                  <a:gd name="textAreaRight" fmla="*/ 1602720 w 1602360"/>
                  <a:gd name="textAreaTop" fmla="*/ 0 h 1199160"/>
                  <a:gd name="textAreaBottom" fmla="*/ 1199520 h 1199160"/>
                </a:gdLst>
                <a:ahLst/>
                <a:rect l="textAreaLeft" t="textAreaTop" r="textAreaRight" b="textAreaBottom"/>
                <a:pathLst>
                  <a:path w="1511" h="1130">
                    <a:moveTo>
                      <a:pt x="0" y="1130"/>
                    </a:moveTo>
                    <a:lnTo>
                      <a:pt x="1180" y="759"/>
                    </a:lnTo>
                    <a:lnTo>
                      <a:pt x="1511" y="0"/>
                    </a:lnTo>
                    <a:lnTo>
                      <a:pt x="0" y="565"/>
                    </a:lnTo>
                    <a:lnTo>
                      <a:pt x="0" y="113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8"/>
              <p:cNvSpPr/>
              <p:nvPr/>
            </p:nvSpPr>
            <p:spPr>
              <a:xfrm>
                <a:off x="4654440" y="2357280"/>
                <a:ext cx="1865520" cy="805320"/>
              </a:xfrm>
              <a:custGeom>
                <a:avLst/>
                <a:gdLst>
                  <a:gd name="textAreaLeft" fmla="*/ 0 w 1865520"/>
                  <a:gd name="textAreaRight" fmla="*/ 1865880 w 1865520"/>
                  <a:gd name="textAreaTop" fmla="*/ 0 h 805320"/>
                  <a:gd name="textAreaBottom" fmla="*/ 805680 h 805320"/>
                </a:gdLst>
                <a:ahLst/>
                <a:rect l="textAreaLeft" t="textAreaTop" r="textAreaRight" b="textAreaBottom"/>
                <a:pathLst>
                  <a:path w="1759" h="759">
                    <a:moveTo>
                      <a:pt x="0" y="759"/>
                    </a:moveTo>
                    <a:lnTo>
                      <a:pt x="1428" y="759"/>
                    </a:lnTo>
                    <a:lnTo>
                      <a:pt x="1759" y="0"/>
                    </a:lnTo>
                    <a:lnTo>
                      <a:pt x="0" y="0"/>
                    </a:lnTo>
                    <a:lnTo>
                      <a:pt x="0" y="759"/>
                    </a:lnTo>
                    <a:close/>
                  </a:path>
                </a:pathLst>
              </a:custGeom>
              <a:solidFill>
                <a:srgbClr val="ff0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矩形 12"/>
              <p:cNvSpPr/>
              <p:nvPr/>
            </p:nvSpPr>
            <p:spPr>
              <a:xfrm>
                <a:off x="5050080" y="263808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6"/>
              <p:cNvSpPr/>
              <p:nvPr/>
            </p:nvSpPr>
            <p:spPr>
              <a:xfrm>
                <a:off x="6879600" y="2960640"/>
                <a:ext cx="635040" cy="835200"/>
              </a:xfrm>
              <a:custGeom>
                <a:avLst/>
                <a:gdLst>
                  <a:gd name="textAreaLeft" fmla="*/ 0 w 635040"/>
                  <a:gd name="textAreaRight" fmla="*/ 635400 w 635040"/>
                  <a:gd name="textAreaTop" fmla="*/ 0 h 835200"/>
                  <a:gd name="textAreaBottom" fmla="*/ 835560 h 835200"/>
                </a:gdLst>
                <a:ahLst/>
                <a:rect l="textAreaLeft" t="textAreaTop" r="textAreaRight" b="textAreaBottom"/>
                <a:pathLst>
                  <a:path w="599" h="787">
                    <a:moveTo>
                      <a:pt x="0" y="565"/>
                    </a:moveTo>
                    <a:lnTo>
                      <a:pt x="599" y="787"/>
                    </a:lnTo>
                    <a:lnTo>
                      <a:pt x="129" y="407"/>
                    </a:lnTo>
                    <a:lnTo>
                      <a:pt x="0" y="0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rgbClr val="ffc2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7"/>
              <p:cNvSpPr/>
              <p:nvPr/>
            </p:nvSpPr>
            <p:spPr>
              <a:xfrm>
                <a:off x="6880320" y="2361960"/>
                <a:ext cx="1601640" cy="1199160"/>
              </a:xfrm>
              <a:custGeom>
                <a:avLst/>
                <a:gdLst>
                  <a:gd name="textAreaLeft" fmla="*/ 0 w 1601640"/>
                  <a:gd name="textAreaRight" fmla="*/ 1602000 w 1601640"/>
                  <a:gd name="textAreaTop" fmla="*/ 0 h 1199160"/>
                  <a:gd name="textAreaBottom" fmla="*/ 1199520 h 1199160"/>
                </a:gdLst>
                <a:ahLst/>
                <a:rect l="textAreaLeft" t="textAreaTop" r="textAreaRight" b="textAreaBottom"/>
                <a:pathLst>
                  <a:path w="1511" h="1130">
                    <a:moveTo>
                      <a:pt x="0" y="1130"/>
                    </a:moveTo>
                    <a:lnTo>
                      <a:pt x="1180" y="759"/>
                    </a:lnTo>
                    <a:lnTo>
                      <a:pt x="1511" y="0"/>
                    </a:lnTo>
                    <a:lnTo>
                      <a:pt x="0" y="565"/>
                    </a:lnTo>
                    <a:lnTo>
                      <a:pt x="0" y="1130"/>
                    </a:lnTo>
                    <a:close/>
                  </a:path>
                </a:pathLst>
              </a:custGeom>
              <a:solidFill>
                <a:srgbClr val="9848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8"/>
              <p:cNvSpPr/>
              <p:nvPr/>
            </p:nvSpPr>
            <p:spPr>
              <a:xfrm>
                <a:off x="6616440" y="2361240"/>
                <a:ext cx="1865520" cy="805320"/>
              </a:xfrm>
              <a:custGeom>
                <a:avLst/>
                <a:gdLst>
                  <a:gd name="textAreaLeft" fmla="*/ 0 w 1865520"/>
                  <a:gd name="textAreaRight" fmla="*/ 1865880 w 1865520"/>
                  <a:gd name="textAreaTop" fmla="*/ 0 h 805320"/>
                  <a:gd name="textAreaBottom" fmla="*/ 805680 h 805320"/>
                </a:gdLst>
                <a:ahLst/>
                <a:rect l="textAreaLeft" t="textAreaTop" r="textAreaRight" b="textAreaBottom"/>
                <a:pathLst>
                  <a:path w="1759" h="759">
                    <a:moveTo>
                      <a:pt x="0" y="759"/>
                    </a:moveTo>
                    <a:lnTo>
                      <a:pt x="1428" y="759"/>
                    </a:lnTo>
                    <a:lnTo>
                      <a:pt x="1759" y="0"/>
                    </a:lnTo>
                    <a:lnTo>
                      <a:pt x="0" y="0"/>
                    </a:lnTo>
                    <a:lnTo>
                      <a:pt x="0" y="759"/>
                    </a:lnTo>
                    <a:close/>
                  </a:path>
                </a:pathLst>
              </a:custGeom>
              <a:solidFill>
                <a:srgbClr val="ffc2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矩形 12"/>
              <p:cNvSpPr/>
              <p:nvPr/>
            </p:nvSpPr>
            <p:spPr>
              <a:xfrm>
                <a:off x="6978960" y="26420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40"/>
          <p:cNvGrpSpPr/>
          <p:nvPr/>
        </p:nvGrpSpPr>
        <p:grpSpPr>
          <a:xfrm>
            <a:off x="785880" y="1778040"/>
            <a:ext cx="7747200" cy="3794040"/>
            <a:chOff x="785880" y="1778040"/>
            <a:chExt cx="7747200" cy="3794040"/>
          </a:xfrm>
        </p:grpSpPr>
        <p:sp>
          <p:nvSpPr>
            <p:cNvPr id="242" name="椭圆 6"/>
            <p:cNvSpPr/>
            <p:nvPr/>
          </p:nvSpPr>
          <p:spPr>
            <a:xfrm>
              <a:off x="909360" y="1778040"/>
              <a:ext cx="1404720" cy="1404720"/>
            </a:xfrm>
            <a:prstGeom prst="ellipse">
              <a:avLst/>
            </a:prstGeom>
            <a:solidFill>
              <a:srgbClr val="74c9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圆角矩形 12"/>
            <p:cNvSpPr/>
            <p:nvPr/>
          </p:nvSpPr>
          <p:spPr>
            <a:xfrm>
              <a:off x="785880" y="2779560"/>
              <a:ext cx="1673280" cy="2792520"/>
            </a:xfrm>
            <a:custGeom>
              <a:avLst/>
              <a:gdLst/>
              <a:ahLst/>
              <a:rect l="l" t="t" r="r" b="b"/>
              <a:pathLst>
                <a:path w="2520280" h="4203450">
                  <a:moveTo>
                    <a:pt x="877234" y="0"/>
                  </a:moveTo>
                  <a:lnTo>
                    <a:pt x="1643046" y="0"/>
                  </a:lnTo>
                  <a:cubicBezTo>
                    <a:pt x="2127529" y="0"/>
                    <a:pt x="2520280" y="392751"/>
                    <a:pt x="2520280" y="877234"/>
                  </a:cubicBezTo>
                  <a:lnTo>
                    <a:pt x="2520280" y="1899136"/>
                  </a:lnTo>
                  <a:lnTo>
                    <a:pt x="2520280" y="3155214"/>
                  </a:lnTo>
                  <a:lnTo>
                    <a:pt x="2520280" y="4059492"/>
                  </a:lnTo>
                  <a:cubicBezTo>
                    <a:pt x="2520280" y="4138998"/>
                    <a:pt x="2455828" y="4203450"/>
                    <a:pt x="2376322" y="4203450"/>
                  </a:cubicBezTo>
                  <a:lnTo>
                    <a:pt x="143958" y="4203450"/>
                  </a:lnTo>
                  <a:cubicBezTo>
                    <a:pt x="64452" y="4203450"/>
                    <a:pt x="0" y="4138998"/>
                    <a:pt x="0" y="4059492"/>
                  </a:cubicBezTo>
                  <a:lnTo>
                    <a:pt x="0" y="3155214"/>
                  </a:lnTo>
                  <a:lnTo>
                    <a:pt x="0" y="1899136"/>
                  </a:lnTo>
                  <a:lnTo>
                    <a:pt x="0" y="877234"/>
                  </a:lnTo>
                  <a:cubicBezTo>
                    <a:pt x="0" y="392751"/>
                    <a:pt x="392751" y="0"/>
                    <a:pt x="877234" y="0"/>
                  </a:cubicBez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  <a:effectLst>
              <a:outerShdw dist="1260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圆角矩形 12"/>
            <p:cNvSpPr/>
            <p:nvPr/>
          </p:nvSpPr>
          <p:spPr>
            <a:xfrm>
              <a:off x="785880" y="2676600"/>
              <a:ext cx="1673280" cy="2790720"/>
            </a:xfrm>
            <a:custGeom>
              <a:avLst/>
              <a:gdLst/>
              <a:ahLst/>
              <a:rect l="l" t="t" r="r" b="b"/>
              <a:pathLst>
                <a:path w="2520280" h="4203450">
                  <a:moveTo>
                    <a:pt x="877234" y="0"/>
                  </a:moveTo>
                  <a:lnTo>
                    <a:pt x="1643046" y="0"/>
                  </a:lnTo>
                  <a:cubicBezTo>
                    <a:pt x="2127529" y="0"/>
                    <a:pt x="2520280" y="392751"/>
                    <a:pt x="2520280" y="877234"/>
                  </a:cubicBezTo>
                  <a:lnTo>
                    <a:pt x="2520280" y="1899136"/>
                  </a:lnTo>
                  <a:lnTo>
                    <a:pt x="2520280" y="3155214"/>
                  </a:lnTo>
                  <a:lnTo>
                    <a:pt x="2520280" y="4059492"/>
                  </a:lnTo>
                  <a:cubicBezTo>
                    <a:pt x="2520280" y="4138998"/>
                    <a:pt x="2455828" y="4203450"/>
                    <a:pt x="2376322" y="4203450"/>
                  </a:cubicBezTo>
                  <a:lnTo>
                    <a:pt x="143958" y="4203450"/>
                  </a:lnTo>
                  <a:cubicBezTo>
                    <a:pt x="64452" y="4203450"/>
                    <a:pt x="0" y="4138998"/>
                    <a:pt x="0" y="4059492"/>
                  </a:cubicBezTo>
                  <a:lnTo>
                    <a:pt x="0" y="3155214"/>
                  </a:lnTo>
                  <a:lnTo>
                    <a:pt x="0" y="1899136"/>
                  </a:lnTo>
                  <a:lnTo>
                    <a:pt x="0" y="877234"/>
                  </a:lnTo>
                  <a:cubicBezTo>
                    <a:pt x="0" y="392751"/>
                    <a:pt x="392751" y="0"/>
                    <a:pt x="877234" y="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d9d9d9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椭圆 6"/>
            <p:cNvSpPr/>
            <p:nvPr/>
          </p:nvSpPr>
          <p:spPr>
            <a:xfrm rot="1267200">
              <a:off x="1086840" y="1960560"/>
              <a:ext cx="1036440" cy="1035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10"/>
            <p:cNvSpPr/>
            <p:nvPr/>
          </p:nvSpPr>
          <p:spPr>
            <a:xfrm>
              <a:off x="1252440" y="2341440"/>
              <a:ext cx="73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4c910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12"/>
            <p:cNvSpPr/>
            <p:nvPr/>
          </p:nvSpPr>
          <p:spPr>
            <a:xfrm>
              <a:off x="1263240" y="41616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椭圆 12"/>
            <p:cNvSpPr/>
            <p:nvPr/>
          </p:nvSpPr>
          <p:spPr>
            <a:xfrm>
              <a:off x="2930400" y="1778040"/>
              <a:ext cx="1404720" cy="1404720"/>
            </a:xfrm>
            <a:prstGeom prst="ellipse">
              <a:avLst/>
            </a:prstGeom>
            <a:solidFill>
              <a:srgbClr val="ffc2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圆角矩形 12"/>
            <p:cNvSpPr/>
            <p:nvPr/>
          </p:nvSpPr>
          <p:spPr>
            <a:xfrm>
              <a:off x="2806560" y="2779560"/>
              <a:ext cx="1673280" cy="2792520"/>
            </a:xfrm>
            <a:custGeom>
              <a:avLst/>
              <a:gdLst/>
              <a:ahLst/>
              <a:rect l="l" t="t" r="r" b="b"/>
              <a:pathLst>
                <a:path w="2520280" h="4203450">
                  <a:moveTo>
                    <a:pt x="877234" y="0"/>
                  </a:moveTo>
                  <a:lnTo>
                    <a:pt x="1643046" y="0"/>
                  </a:lnTo>
                  <a:cubicBezTo>
                    <a:pt x="2127529" y="0"/>
                    <a:pt x="2520280" y="392751"/>
                    <a:pt x="2520280" y="877234"/>
                  </a:cubicBezTo>
                  <a:lnTo>
                    <a:pt x="2520280" y="1899136"/>
                  </a:lnTo>
                  <a:lnTo>
                    <a:pt x="2520280" y="3155214"/>
                  </a:lnTo>
                  <a:lnTo>
                    <a:pt x="2520280" y="4059492"/>
                  </a:lnTo>
                  <a:cubicBezTo>
                    <a:pt x="2520280" y="4138998"/>
                    <a:pt x="2455828" y="4203450"/>
                    <a:pt x="2376322" y="4203450"/>
                  </a:cubicBezTo>
                  <a:lnTo>
                    <a:pt x="143958" y="4203450"/>
                  </a:lnTo>
                  <a:cubicBezTo>
                    <a:pt x="64452" y="4203450"/>
                    <a:pt x="0" y="4138998"/>
                    <a:pt x="0" y="4059492"/>
                  </a:cubicBezTo>
                  <a:lnTo>
                    <a:pt x="0" y="3155214"/>
                  </a:lnTo>
                  <a:lnTo>
                    <a:pt x="0" y="1899136"/>
                  </a:lnTo>
                  <a:lnTo>
                    <a:pt x="0" y="877234"/>
                  </a:lnTo>
                  <a:cubicBezTo>
                    <a:pt x="0" y="392751"/>
                    <a:pt x="392751" y="0"/>
                    <a:pt x="877234" y="0"/>
                  </a:cubicBezTo>
                  <a:close/>
                </a:path>
              </a:pathLst>
            </a:custGeom>
            <a:solidFill>
              <a:srgbClr val="984807"/>
            </a:solidFill>
            <a:ln w="0">
              <a:noFill/>
            </a:ln>
            <a:effectLst>
              <a:outerShdw dist="1260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圆角矩形 12"/>
            <p:cNvSpPr/>
            <p:nvPr/>
          </p:nvSpPr>
          <p:spPr>
            <a:xfrm>
              <a:off x="2806560" y="2676600"/>
              <a:ext cx="1673280" cy="2790720"/>
            </a:xfrm>
            <a:custGeom>
              <a:avLst/>
              <a:gdLst/>
              <a:ahLst/>
              <a:rect l="l" t="t" r="r" b="b"/>
              <a:pathLst>
                <a:path w="2520280" h="4203450">
                  <a:moveTo>
                    <a:pt x="877234" y="0"/>
                  </a:moveTo>
                  <a:lnTo>
                    <a:pt x="1643046" y="0"/>
                  </a:lnTo>
                  <a:cubicBezTo>
                    <a:pt x="2127529" y="0"/>
                    <a:pt x="2520280" y="392751"/>
                    <a:pt x="2520280" y="877234"/>
                  </a:cubicBezTo>
                  <a:lnTo>
                    <a:pt x="2520280" y="1899136"/>
                  </a:lnTo>
                  <a:lnTo>
                    <a:pt x="2520280" y="3155214"/>
                  </a:lnTo>
                  <a:lnTo>
                    <a:pt x="2520280" y="4059492"/>
                  </a:lnTo>
                  <a:cubicBezTo>
                    <a:pt x="2520280" y="4138998"/>
                    <a:pt x="2455828" y="4203450"/>
                    <a:pt x="2376322" y="4203450"/>
                  </a:cubicBezTo>
                  <a:lnTo>
                    <a:pt x="143958" y="4203450"/>
                  </a:lnTo>
                  <a:cubicBezTo>
                    <a:pt x="64452" y="4203450"/>
                    <a:pt x="0" y="4138998"/>
                    <a:pt x="0" y="4059492"/>
                  </a:cubicBezTo>
                  <a:lnTo>
                    <a:pt x="0" y="3155214"/>
                  </a:lnTo>
                  <a:lnTo>
                    <a:pt x="0" y="1899136"/>
                  </a:lnTo>
                  <a:lnTo>
                    <a:pt x="0" y="877234"/>
                  </a:lnTo>
                  <a:cubicBezTo>
                    <a:pt x="0" y="392751"/>
                    <a:pt x="392751" y="0"/>
                    <a:pt x="877234" y="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d9d9d9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6"/>
            <p:cNvSpPr/>
            <p:nvPr/>
          </p:nvSpPr>
          <p:spPr>
            <a:xfrm rot="1267200">
              <a:off x="3107880" y="1960560"/>
              <a:ext cx="1036440" cy="1035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16"/>
            <p:cNvSpPr/>
            <p:nvPr/>
          </p:nvSpPr>
          <p:spPr>
            <a:xfrm>
              <a:off x="3273480" y="2341440"/>
              <a:ext cx="73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206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12"/>
            <p:cNvSpPr/>
            <p:nvPr/>
          </p:nvSpPr>
          <p:spPr>
            <a:xfrm>
              <a:off x="3284280" y="41616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28"/>
            <p:cNvSpPr/>
            <p:nvPr/>
          </p:nvSpPr>
          <p:spPr>
            <a:xfrm>
              <a:off x="4962600" y="1778040"/>
              <a:ext cx="1404720" cy="1404720"/>
            </a:xfrm>
            <a:prstGeom prst="ellipse">
              <a:avLst/>
            </a:prstGeom>
            <a:solidFill>
              <a:srgbClr val="ff0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圆角矩形 12"/>
            <p:cNvSpPr/>
            <p:nvPr/>
          </p:nvSpPr>
          <p:spPr>
            <a:xfrm>
              <a:off x="4838760" y="2779560"/>
              <a:ext cx="1673280" cy="2792520"/>
            </a:xfrm>
            <a:custGeom>
              <a:avLst/>
              <a:gdLst/>
              <a:ahLst/>
              <a:rect l="l" t="t" r="r" b="b"/>
              <a:pathLst>
                <a:path w="2520280" h="4203450">
                  <a:moveTo>
                    <a:pt x="877234" y="0"/>
                  </a:moveTo>
                  <a:lnTo>
                    <a:pt x="1643046" y="0"/>
                  </a:lnTo>
                  <a:cubicBezTo>
                    <a:pt x="2127529" y="0"/>
                    <a:pt x="2520280" y="392751"/>
                    <a:pt x="2520280" y="877234"/>
                  </a:cubicBezTo>
                  <a:lnTo>
                    <a:pt x="2520280" y="1899136"/>
                  </a:lnTo>
                  <a:lnTo>
                    <a:pt x="2520280" y="3155214"/>
                  </a:lnTo>
                  <a:lnTo>
                    <a:pt x="2520280" y="4059492"/>
                  </a:lnTo>
                  <a:cubicBezTo>
                    <a:pt x="2520280" y="4138998"/>
                    <a:pt x="2455828" y="4203450"/>
                    <a:pt x="2376322" y="4203450"/>
                  </a:cubicBezTo>
                  <a:lnTo>
                    <a:pt x="143958" y="4203450"/>
                  </a:lnTo>
                  <a:cubicBezTo>
                    <a:pt x="64452" y="4203450"/>
                    <a:pt x="0" y="4138998"/>
                    <a:pt x="0" y="4059492"/>
                  </a:cubicBezTo>
                  <a:lnTo>
                    <a:pt x="0" y="3155214"/>
                  </a:lnTo>
                  <a:lnTo>
                    <a:pt x="0" y="1899136"/>
                  </a:lnTo>
                  <a:lnTo>
                    <a:pt x="0" y="877234"/>
                  </a:lnTo>
                  <a:cubicBezTo>
                    <a:pt x="0" y="392751"/>
                    <a:pt x="392751" y="0"/>
                    <a:pt x="877234" y="0"/>
                  </a:cubicBezTo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  <a:effectLst>
              <a:outerShdw dist="1260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圆角矩形 12"/>
            <p:cNvSpPr/>
            <p:nvPr/>
          </p:nvSpPr>
          <p:spPr>
            <a:xfrm>
              <a:off x="4838760" y="2676600"/>
              <a:ext cx="1673280" cy="2790720"/>
            </a:xfrm>
            <a:custGeom>
              <a:avLst/>
              <a:gdLst/>
              <a:ahLst/>
              <a:rect l="l" t="t" r="r" b="b"/>
              <a:pathLst>
                <a:path w="2520280" h="4203450">
                  <a:moveTo>
                    <a:pt x="877234" y="0"/>
                  </a:moveTo>
                  <a:lnTo>
                    <a:pt x="1643046" y="0"/>
                  </a:lnTo>
                  <a:cubicBezTo>
                    <a:pt x="2127529" y="0"/>
                    <a:pt x="2520280" y="392751"/>
                    <a:pt x="2520280" y="877234"/>
                  </a:cubicBezTo>
                  <a:lnTo>
                    <a:pt x="2520280" y="1899136"/>
                  </a:lnTo>
                  <a:lnTo>
                    <a:pt x="2520280" y="3155214"/>
                  </a:lnTo>
                  <a:lnTo>
                    <a:pt x="2520280" y="4059492"/>
                  </a:lnTo>
                  <a:cubicBezTo>
                    <a:pt x="2520280" y="4138998"/>
                    <a:pt x="2455828" y="4203450"/>
                    <a:pt x="2376322" y="4203450"/>
                  </a:cubicBezTo>
                  <a:lnTo>
                    <a:pt x="143958" y="4203450"/>
                  </a:lnTo>
                  <a:cubicBezTo>
                    <a:pt x="64452" y="4203450"/>
                    <a:pt x="0" y="4138998"/>
                    <a:pt x="0" y="4059492"/>
                  </a:cubicBezTo>
                  <a:lnTo>
                    <a:pt x="0" y="3155214"/>
                  </a:lnTo>
                  <a:lnTo>
                    <a:pt x="0" y="1899136"/>
                  </a:lnTo>
                  <a:lnTo>
                    <a:pt x="0" y="877234"/>
                  </a:lnTo>
                  <a:cubicBezTo>
                    <a:pt x="0" y="392751"/>
                    <a:pt x="392751" y="0"/>
                    <a:pt x="877234" y="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d9d9d9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椭圆 6"/>
            <p:cNvSpPr/>
            <p:nvPr/>
          </p:nvSpPr>
          <p:spPr>
            <a:xfrm rot="1267200">
              <a:off x="5140080" y="1960560"/>
              <a:ext cx="1035000" cy="1035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32"/>
            <p:cNvSpPr/>
            <p:nvPr/>
          </p:nvSpPr>
          <p:spPr>
            <a:xfrm>
              <a:off x="5305320" y="2341440"/>
              <a:ext cx="73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18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12"/>
            <p:cNvSpPr/>
            <p:nvPr/>
          </p:nvSpPr>
          <p:spPr>
            <a:xfrm>
              <a:off x="5315760" y="41616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椭圆 34"/>
            <p:cNvSpPr/>
            <p:nvPr/>
          </p:nvSpPr>
          <p:spPr>
            <a:xfrm>
              <a:off x="6983640" y="1778040"/>
              <a:ext cx="1404720" cy="1404720"/>
            </a:xfrm>
            <a:prstGeom prst="ellipse">
              <a:avLst/>
            </a:prstGeom>
            <a:solidFill>
              <a:srgbClr val="52a7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圆角矩形 12"/>
            <p:cNvSpPr/>
            <p:nvPr/>
          </p:nvSpPr>
          <p:spPr>
            <a:xfrm>
              <a:off x="6859800" y="2779560"/>
              <a:ext cx="1673280" cy="2792520"/>
            </a:xfrm>
            <a:custGeom>
              <a:avLst/>
              <a:gdLst/>
              <a:ahLst/>
              <a:rect l="l" t="t" r="r" b="b"/>
              <a:pathLst>
                <a:path w="2520280" h="4203450">
                  <a:moveTo>
                    <a:pt x="877234" y="0"/>
                  </a:moveTo>
                  <a:lnTo>
                    <a:pt x="1643046" y="0"/>
                  </a:lnTo>
                  <a:cubicBezTo>
                    <a:pt x="2127529" y="0"/>
                    <a:pt x="2520280" y="392751"/>
                    <a:pt x="2520280" y="877234"/>
                  </a:cubicBezTo>
                  <a:lnTo>
                    <a:pt x="2520280" y="1899136"/>
                  </a:lnTo>
                  <a:lnTo>
                    <a:pt x="2520280" y="3155214"/>
                  </a:lnTo>
                  <a:lnTo>
                    <a:pt x="2520280" y="4059492"/>
                  </a:lnTo>
                  <a:cubicBezTo>
                    <a:pt x="2520280" y="4138998"/>
                    <a:pt x="2455828" y="4203450"/>
                    <a:pt x="2376322" y="4203450"/>
                  </a:cubicBezTo>
                  <a:lnTo>
                    <a:pt x="143958" y="4203450"/>
                  </a:lnTo>
                  <a:cubicBezTo>
                    <a:pt x="64452" y="4203450"/>
                    <a:pt x="0" y="4138998"/>
                    <a:pt x="0" y="4059492"/>
                  </a:cubicBezTo>
                  <a:lnTo>
                    <a:pt x="0" y="3155214"/>
                  </a:lnTo>
                  <a:lnTo>
                    <a:pt x="0" y="1899136"/>
                  </a:lnTo>
                  <a:lnTo>
                    <a:pt x="0" y="877234"/>
                  </a:lnTo>
                  <a:cubicBezTo>
                    <a:pt x="0" y="392751"/>
                    <a:pt x="392751" y="0"/>
                    <a:pt x="877234" y="0"/>
                  </a:cubicBezTo>
                  <a:close/>
                </a:path>
              </a:pathLst>
            </a:custGeom>
            <a:solidFill>
              <a:srgbClr val="17375e"/>
            </a:solidFill>
            <a:ln w="0">
              <a:noFill/>
            </a:ln>
            <a:effectLst>
              <a:outerShdw dist="1260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圆角矩形 12"/>
            <p:cNvSpPr/>
            <p:nvPr/>
          </p:nvSpPr>
          <p:spPr>
            <a:xfrm>
              <a:off x="6859800" y="2676600"/>
              <a:ext cx="1673280" cy="2790720"/>
            </a:xfrm>
            <a:custGeom>
              <a:avLst/>
              <a:gdLst/>
              <a:ahLst/>
              <a:rect l="l" t="t" r="r" b="b"/>
              <a:pathLst>
                <a:path w="2520280" h="4203450">
                  <a:moveTo>
                    <a:pt x="877234" y="0"/>
                  </a:moveTo>
                  <a:lnTo>
                    <a:pt x="1643046" y="0"/>
                  </a:lnTo>
                  <a:cubicBezTo>
                    <a:pt x="2127529" y="0"/>
                    <a:pt x="2520280" y="392751"/>
                    <a:pt x="2520280" y="877234"/>
                  </a:cubicBezTo>
                  <a:lnTo>
                    <a:pt x="2520280" y="1899136"/>
                  </a:lnTo>
                  <a:lnTo>
                    <a:pt x="2520280" y="3155214"/>
                  </a:lnTo>
                  <a:lnTo>
                    <a:pt x="2520280" y="4059492"/>
                  </a:lnTo>
                  <a:cubicBezTo>
                    <a:pt x="2520280" y="4138998"/>
                    <a:pt x="2455828" y="4203450"/>
                    <a:pt x="2376322" y="4203450"/>
                  </a:cubicBezTo>
                  <a:lnTo>
                    <a:pt x="143958" y="4203450"/>
                  </a:lnTo>
                  <a:cubicBezTo>
                    <a:pt x="64452" y="4203450"/>
                    <a:pt x="0" y="4138998"/>
                    <a:pt x="0" y="4059492"/>
                  </a:cubicBezTo>
                  <a:lnTo>
                    <a:pt x="0" y="3155214"/>
                  </a:lnTo>
                  <a:lnTo>
                    <a:pt x="0" y="1899136"/>
                  </a:lnTo>
                  <a:lnTo>
                    <a:pt x="0" y="877234"/>
                  </a:lnTo>
                  <a:cubicBezTo>
                    <a:pt x="0" y="392751"/>
                    <a:pt x="392751" y="0"/>
                    <a:pt x="877234" y="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d9d9d9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椭圆 6"/>
            <p:cNvSpPr/>
            <p:nvPr/>
          </p:nvSpPr>
          <p:spPr>
            <a:xfrm rot="1267200">
              <a:off x="7161120" y="1960560"/>
              <a:ext cx="1035000" cy="1035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38"/>
            <p:cNvSpPr/>
            <p:nvPr/>
          </p:nvSpPr>
          <p:spPr>
            <a:xfrm>
              <a:off x="7326360" y="2341440"/>
              <a:ext cx="73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2a7ce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12"/>
            <p:cNvSpPr/>
            <p:nvPr/>
          </p:nvSpPr>
          <p:spPr>
            <a:xfrm>
              <a:off x="7284240" y="41616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4:40:39Z</dcterms:modified>
  <cp:revision>290</cp:revision>
  <dc:subject/>
  <dc:title>www.pptbz.com</dc:title>
</cp:coreProperties>
</file>