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audio1.wav" ContentType="audio/x-wav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12192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71B4D-BF99-4EAA-BA8D-AA8C50985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619200"/>
            <a:ext cx="10362960" cy="159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3680" y="2367000"/>
            <a:ext cx="10363320" cy="16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3680" y="4155480"/>
            <a:ext cx="10363320" cy="16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09E86-A600-4C0D-8BD0-66DB24924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619200"/>
            <a:ext cx="10362960" cy="159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3680" y="2367000"/>
            <a:ext cx="5057280" cy="16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224040" y="2367000"/>
            <a:ext cx="5057280" cy="16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3680" y="4155480"/>
            <a:ext cx="5057280" cy="16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224040" y="4155480"/>
            <a:ext cx="5057280" cy="16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B3E28-3527-4692-A8D1-575F1EB57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619200"/>
            <a:ext cx="10362960" cy="159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3680" y="2367000"/>
            <a:ext cx="3336840" cy="16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417920" y="2367000"/>
            <a:ext cx="3336840" cy="16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7921800" y="2367000"/>
            <a:ext cx="3336840" cy="16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3680" y="4155480"/>
            <a:ext cx="3336840" cy="16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4417920" y="4155480"/>
            <a:ext cx="3336840" cy="16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7921800" y="4155480"/>
            <a:ext cx="3336840" cy="16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42461-FD86-42B4-BAE2-B2C9A3C96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06A65-3752-4B51-BECA-A102DE026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400" y="619200"/>
            <a:ext cx="10362960" cy="159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913680" y="2367000"/>
            <a:ext cx="10363320" cy="342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466B2-819B-4CB0-B286-957B674F3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4400" y="619200"/>
            <a:ext cx="10362960" cy="159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13680" y="2367000"/>
            <a:ext cx="10363320" cy="342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A5878-00F6-42EB-B3D2-7ACC50D41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400" y="619200"/>
            <a:ext cx="10362960" cy="159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13680" y="2367000"/>
            <a:ext cx="5057280" cy="342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224040" y="2367000"/>
            <a:ext cx="5057280" cy="342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703B7-ED81-452D-B4B9-90291D243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619200"/>
            <a:ext cx="10362960" cy="159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7A37E-A04E-4DE4-99F7-D3A3D4738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914400" y="619200"/>
            <a:ext cx="10362960" cy="73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03A10-C4C9-4CED-9B81-D3EE2F3EC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619200"/>
            <a:ext cx="10362960" cy="159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3680" y="2367000"/>
            <a:ext cx="5057280" cy="16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4040" y="2367000"/>
            <a:ext cx="5057280" cy="342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913680" y="4155480"/>
            <a:ext cx="5057280" cy="16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97C4C-4F04-4B02-BAA5-0699BE366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619200"/>
            <a:ext cx="10362960" cy="159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3680" y="2367000"/>
            <a:ext cx="10363320" cy="342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6CE95-EDDD-4143-A116-C1C1BB47B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619200"/>
            <a:ext cx="10362960" cy="159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3680" y="2367000"/>
            <a:ext cx="5057280" cy="342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4040" y="2367000"/>
            <a:ext cx="5057280" cy="16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24040" y="4155480"/>
            <a:ext cx="5057280" cy="16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05C30-FB63-426E-B8B7-D8A7A2A26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619200"/>
            <a:ext cx="10362960" cy="159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3680" y="2367000"/>
            <a:ext cx="5057280" cy="16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24040" y="2367000"/>
            <a:ext cx="5057280" cy="16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13680" y="4155480"/>
            <a:ext cx="10363320" cy="16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01D2C-26AE-4BEF-96EE-B8F1172BC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619200"/>
            <a:ext cx="10362960" cy="159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3680" y="2367000"/>
            <a:ext cx="10363320" cy="16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913680" y="4155480"/>
            <a:ext cx="10363320" cy="16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8062C-F97C-49CD-94F2-2C6AE3687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619200"/>
            <a:ext cx="10362960" cy="159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3680" y="2367000"/>
            <a:ext cx="5057280" cy="16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224040" y="2367000"/>
            <a:ext cx="5057280" cy="16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913680" y="4155480"/>
            <a:ext cx="5057280" cy="16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224040" y="4155480"/>
            <a:ext cx="5057280" cy="16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6BCF6-7E13-48D2-BDC5-EF5929A9C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400" y="619200"/>
            <a:ext cx="10362960" cy="159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3680" y="2367000"/>
            <a:ext cx="3336840" cy="16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17920" y="2367000"/>
            <a:ext cx="3336840" cy="16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7921800" y="2367000"/>
            <a:ext cx="3336840" cy="16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913680" y="4155480"/>
            <a:ext cx="3336840" cy="16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417920" y="4155480"/>
            <a:ext cx="3336840" cy="16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7921800" y="4155480"/>
            <a:ext cx="3336840" cy="16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6D958-7361-435A-B5CC-AC7A8A00F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619200"/>
            <a:ext cx="10362960" cy="159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3680" y="2367000"/>
            <a:ext cx="10363320" cy="342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E9DE7-99F2-4A62-B421-567AEE34E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619200"/>
            <a:ext cx="10362960" cy="159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3680" y="2367000"/>
            <a:ext cx="5057280" cy="342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224040" y="2367000"/>
            <a:ext cx="5057280" cy="342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A486F-1143-4863-A79B-9C3F8F259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619200"/>
            <a:ext cx="10362960" cy="159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4E76F-3DC1-463E-9346-56B6CE401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619200"/>
            <a:ext cx="10362960" cy="73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D38E7-7754-48C7-B5B1-267BFB2F4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619200"/>
            <a:ext cx="10362960" cy="159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3680" y="2367000"/>
            <a:ext cx="5057280" cy="16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224040" y="2367000"/>
            <a:ext cx="5057280" cy="342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3680" y="4155480"/>
            <a:ext cx="5057280" cy="16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4A2D4-795D-40AB-863A-90FD11B5A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619200"/>
            <a:ext cx="10362960" cy="159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3680" y="2367000"/>
            <a:ext cx="5057280" cy="342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224040" y="2367000"/>
            <a:ext cx="5057280" cy="16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224040" y="4155480"/>
            <a:ext cx="5057280" cy="16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CC4BB-E0CF-458B-A933-EA1E4B72B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619200"/>
            <a:ext cx="10362960" cy="159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3680" y="2367000"/>
            <a:ext cx="5057280" cy="16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224040" y="2367000"/>
            <a:ext cx="5057280" cy="16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3680" y="4155480"/>
            <a:ext cx="10363320" cy="16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B2CCC-0A31-4888-B2B6-B5F10E50A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9b9b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6" descr="Droplets-HD-Title-R1d.png"/>
          <p:cNvPicPr/>
          <p:nvPr/>
        </p:nvPicPr>
        <p:blipFill>
          <a:blip r:embed="rId3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751040" y="1300680"/>
            <a:ext cx="8689680" cy="2508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0" lang="zh-CN" sz="4800" spc="-1" strike="noStrike" cap="all">
                <a:solidFill>
                  <a:srgbClr val="000000"/>
                </a:solidFill>
                <a:latin typeface="Tw Cen MT"/>
              </a:rPr>
              <a:t>单击此处编辑母版标题样式</a:t>
            </a:r>
            <a:endParaRPr b="0" lang="en-US" sz="4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7678800" y="58831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00" spc="-1" strike="noStrike">
                <a:solidFill>
                  <a:srgbClr val="000000"/>
                </a:solidFill>
                <a:latin typeface="Tw Cen M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914400" y="5883120"/>
            <a:ext cx="667188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10514160" y="5883120"/>
            <a:ext cx="76320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00" spc="-1" strike="noStrike">
                <a:solidFill>
                  <a:srgbClr val="000000"/>
                </a:solidFill>
                <a:latin typeface="Tw Cen M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1A184AB-DCE5-4755-8661-037933BDAF7D}" type="slidenum">
              <a:rPr b="0" lang="en-US" sz="1000" spc="-1" strike="noStrike">
                <a:solidFill>
                  <a:srgbClr val="000000"/>
                </a:solidFill>
                <a:latin typeface="Tw Cen MT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12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 cap="all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 cap="all">
              <a:solidFill>
                <a:srgbClr val="000000"/>
              </a:solidFill>
              <a:latin typeface="Tw Cen MT"/>
            </a:endParaRPr>
          </a:p>
          <a:p>
            <a:pPr lvl="1" marL="864000" indent="-324000">
              <a:lnSpc>
                <a:spcPct val="12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 cap="all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1600" spc="-1" strike="noStrike" cap="all">
              <a:solidFill>
                <a:srgbClr val="000000"/>
              </a:solidFill>
              <a:latin typeface="Tw Cen MT"/>
            </a:endParaRPr>
          </a:p>
          <a:p>
            <a:pPr lvl="2" marL="1296000" indent="-288000">
              <a:lnSpc>
                <a:spcPct val="12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 cap="all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1400" spc="-1" strike="noStrike" cap="all">
              <a:solidFill>
                <a:srgbClr val="000000"/>
              </a:solidFill>
              <a:latin typeface="Tw Cen MT"/>
            </a:endParaRPr>
          </a:p>
          <a:p>
            <a:pPr lvl="3" marL="1728000" indent="-216000">
              <a:lnSpc>
                <a:spcPct val="12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 cap="all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1400" spc="-1" strike="noStrike" cap="all">
              <a:solidFill>
                <a:srgbClr val="000000"/>
              </a:solidFill>
              <a:latin typeface="Tw Cen MT"/>
            </a:endParaRPr>
          </a:p>
          <a:p>
            <a:pPr lvl="4" marL="2160000" indent="-216000">
              <a:lnSpc>
                <a:spcPct val="12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 cap="all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 cap="all">
              <a:solidFill>
                <a:srgbClr val="000000"/>
              </a:solidFill>
              <a:latin typeface="Tw Cen MT"/>
            </a:endParaRPr>
          </a:p>
          <a:p>
            <a:pPr lvl="5" marL="2592000" indent="-216000">
              <a:lnSpc>
                <a:spcPct val="12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 cap="all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 cap="all">
              <a:solidFill>
                <a:srgbClr val="000000"/>
              </a:solidFill>
              <a:latin typeface="Tw Cen MT"/>
            </a:endParaRPr>
          </a:p>
          <a:p>
            <a:pPr lvl="6" marL="3024000" indent="-216000">
              <a:lnSpc>
                <a:spcPct val="12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 cap="all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 cap="all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9b9b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14400" y="619200"/>
            <a:ext cx="10362960" cy="15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0" lang="zh-CN" sz="3600" spc="-1" strike="noStrike" cap="all">
                <a:solidFill>
                  <a:srgbClr val="000000"/>
                </a:solidFill>
                <a:latin typeface="Tw Cen MT"/>
              </a:rPr>
              <a:t>单击此处编辑母版标题样式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913680" y="2367000"/>
            <a:ext cx="10363320" cy="342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000" spc="-1" strike="noStrike" cap="all">
                <a:solidFill>
                  <a:srgbClr val="000000"/>
                </a:solidFill>
                <a:latin typeface="Tw Cen MT"/>
              </a:rPr>
              <a:t>单击此处编辑母版文本样式</a:t>
            </a:r>
            <a:endParaRPr b="0" lang="en-US" sz="2000" spc="-1" strike="noStrike" cap="all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1800" spc="-1" strike="noStrike" cap="all">
                <a:solidFill>
                  <a:srgbClr val="000000"/>
                </a:solidFill>
                <a:latin typeface="Tw Cen MT"/>
              </a:rPr>
              <a:t>第二级</a:t>
            </a:r>
            <a:endParaRPr b="0" lang="en-US" sz="1800" spc="-1" strike="noStrike" cap="all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1600" spc="-1" strike="noStrike" cap="all">
                <a:solidFill>
                  <a:srgbClr val="000000"/>
                </a:solidFill>
                <a:latin typeface="Tw Cen MT"/>
              </a:rPr>
              <a:t>第三级</a:t>
            </a:r>
            <a:endParaRPr b="0" lang="en-US" sz="1600" spc="-1" strike="noStrike" cap="all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1400" spc="-1" strike="noStrike" cap="all">
                <a:solidFill>
                  <a:srgbClr val="000000"/>
                </a:solidFill>
                <a:latin typeface="Tw Cen MT"/>
              </a:rPr>
              <a:t>第四级</a:t>
            </a:r>
            <a:endParaRPr b="0" lang="en-US" sz="1400" spc="-1" strike="noStrike" cap="all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1400" spc="-1" strike="noStrike" cap="all">
                <a:solidFill>
                  <a:srgbClr val="000000"/>
                </a:solidFill>
                <a:latin typeface="Tw Cen MT"/>
              </a:rPr>
              <a:t>第五级</a:t>
            </a:r>
            <a:endParaRPr b="0" lang="en-US" sz="1400" spc="-1" strike="noStrike" cap="all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7678800" y="58831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00" spc="-1" strike="noStrike">
                <a:solidFill>
                  <a:srgbClr val="000000"/>
                </a:solidFill>
                <a:latin typeface="Tw Cen M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914400" y="5883120"/>
            <a:ext cx="667188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10514160" y="5883120"/>
            <a:ext cx="76320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00" spc="-1" strike="noStrike">
                <a:solidFill>
                  <a:srgbClr val="000000"/>
                </a:solidFill>
                <a:latin typeface="Tw Cen M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1A007DE-F53A-40AD-AF16-90B5F68DBBCB}" type="slidenum">
              <a:rPr b="0" lang="en-US" sz="1000" spc="-1" strike="noStrike">
                <a:solidFill>
                  <a:srgbClr val="000000"/>
                </a:solidFill>
                <a:latin typeface="Tw Cen MT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audio1.wav"/><Relationship Id="rId2" Type="http://schemas.openxmlformats.org/officeDocument/2006/relationships/audio" Target="../media/audio1.wav"/><Relationship Id="rId3" Type="http://schemas.openxmlformats.org/officeDocument/2006/relationships/audio" Target="../media/audio1.wav"/><Relationship Id="rId4" Type="http://schemas.openxmlformats.org/officeDocument/2006/relationships/audio" Target="../media/audio1.wav"/><Relationship Id="rId5" Type="http://schemas.openxmlformats.org/officeDocument/2006/relationships/audio" Target="../media/audio1.wav"/><Relationship Id="rId6" Type="http://schemas.openxmlformats.org/officeDocument/2006/relationships/audio" Target="../media/audio1.wav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9.xml"/><Relationship Id="rId3" Type="http://schemas.openxmlformats.org/officeDocument/2006/relationships/slide" Target="slide8.xml"/><Relationship Id="rId4" Type="http://schemas.openxmlformats.org/officeDocument/2006/relationships/slide" Target="slide7.xml"/><Relationship Id="rId5" Type="http://schemas.openxmlformats.org/officeDocument/2006/relationships/slide" Target="slide6.xml"/><Relationship Id="rId6" Type="http://schemas.openxmlformats.org/officeDocument/2006/relationships/slide" Target="slide5.xml"/><Relationship Id="rId7" Type="http://schemas.openxmlformats.org/officeDocument/2006/relationships/slide" Target="slide3.xml"/><Relationship Id="rId8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hyperlink" Target="http://www.eeppt.com/moban/" TargetMode="External"/><Relationship Id="rId5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组合 3"/>
          <p:cNvGrpSpPr/>
          <p:nvPr/>
        </p:nvGrpSpPr>
        <p:grpSpPr>
          <a:xfrm>
            <a:off x="9782280" y="5715000"/>
            <a:ext cx="1598400" cy="502920"/>
            <a:chOff x="9782280" y="5715000"/>
            <a:chExt cx="1598400" cy="502920"/>
          </a:xfrm>
        </p:grpSpPr>
        <p:sp>
          <p:nvSpPr>
            <p:cNvPr id="87" name="[动画大师]_Chevron 4"/>
            <p:cNvSpPr/>
            <p:nvPr/>
          </p:nvSpPr>
          <p:spPr>
            <a:xfrm>
              <a:off x="9782280" y="5715000"/>
              <a:ext cx="283680" cy="502920"/>
            </a:xfrm>
            <a:prstGeom prst="chevron">
              <a:avLst>
                <a:gd name="adj" fmla="val 50000"/>
              </a:avLst>
            </a:prstGeom>
            <a:solidFill>
              <a:schemeClr val="bg1">
                <a:lumMod val="65000"/>
              </a:schemeClr>
            </a:solidFill>
            <a:ln w="34925">
              <a:noFill/>
            </a:ln>
            <a:effectLst>
              <a:outerShdw algn="tl" blurRad="50760" dir="2700000" dist="37674" rotWithShape="0">
                <a:srgbClr val="000000">
                  <a:alpha val="40000"/>
                </a:srgbClr>
              </a:outerShdw>
              <a:softEdge rad="25560"/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Tw Cen MT"/>
                <a:ea typeface="宋体"/>
              </a:endParaRPr>
            </a:p>
          </p:txBody>
        </p:sp>
        <p:sp>
          <p:nvSpPr>
            <p:cNvPr id="88" name="[动画大师]_Chevron 5"/>
            <p:cNvSpPr/>
            <p:nvPr/>
          </p:nvSpPr>
          <p:spPr>
            <a:xfrm>
              <a:off x="10045080" y="5715000"/>
              <a:ext cx="283680" cy="502920"/>
            </a:xfrm>
            <a:prstGeom prst="chevron">
              <a:avLst>
                <a:gd name="adj" fmla="val 50000"/>
              </a:avLst>
            </a:prstGeom>
            <a:solidFill>
              <a:schemeClr val="bg1">
                <a:lumMod val="65000"/>
              </a:schemeClr>
            </a:solidFill>
            <a:ln w="34925">
              <a:noFill/>
            </a:ln>
            <a:effectLst>
              <a:outerShdw algn="tl" blurRad="50760" dir="2700000" dist="37674" rotWithShape="0">
                <a:srgbClr val="000000">
                  <a:alpha val="40000"/>
                </a:srgbClr>
              </a:outerShdw>
              <a:softEdge rad="25560"/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Tw Cen MT"/>
                <a:ea typeface="宋体"/>
              </a:endParaRPr>
            </a:p>
          </p:txBody>
        </p:sp>
        <p:sp>
          <p:nvSpPr>
            <p:cNvPr id="89" name="[动画大师]_Chevron 6"/>
            <p:cNvSpPr/>
            <p:nvPr/>
          </p:nvSpPr>
          <p:spPr>
            <a:xfrm>
              <a:off x="10307880" y="5715000"/>
              <a:ext cx="283680" cy="502920"/>
            </a:xfrm>
            <a:prstGeom prst="chevron">
              <a:avLst>
                <a:gd name="adj" fmla="val 50000"/>
              </a:avLst>
            </a:prstGeom>
            <a:solidFill>
              <a:schemeClr val="bg1">
                <a:lumMod val="65000"/>
              </a:schemeClr>
            </a:solidFill>
            <a:ln w="34925">
              <a:noFill/>
            </a:ln>
            <a:effectLst>
              <a:outerShdw algn="tl" blurRad="50760" dir="2700000" dist="37674" rotWithShape="0">
                <a:srgbClr val="000000">
                  <a:alpha val="40000"/>
                </a:srgbClr>
              </a:outerShdw>
              <a:softEdge rad="25560"/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Tw Cen MT"/>
                <a:ea typeface="宋体"/>
              </a:endParaRPr>
            </a:p>
          </p:txBody>
        </p:sp>
        <p:sp>
          <p:nvSpPr>
            <p:cNvPr id="90" name="[动画大师]_Chevron 6"/>
            <p:cNvSpPr/>
            <p:nvPr/>
          </p:nvSpPr>
          <p:spPr>
            <a:xfrm>
              <a:off x="10571040" y="5715000"/>
              <a:ext cx="283680" cy="502920"/>
            </a:xfrm>
            <a:prstGeom prst="chevron">
              <a:avLst>
                <a:gd name="adj" fmla="val 50000"/>
              </a:avLst>
            </a:prstGeom>
            <a:solidFill>
              <a:schemeClr val="bg1">
                <a:lumMod val="65000"/>
              </a:schemeClr>
            </a:solidFill>
            <a:ln w="34925">
              <a:noFill/>
            </a:ln>
            <a:effectLst>
              <a:outerShdw algn="tl" blurRad="50760" dir="2700000" dist="37674" rotWithShape="0">
                <a:srgbClr val="000000">
                  <a:alpha val="40000"/>
                </a:srgbClr>
              </a:outerShdw>
              <a:softEdge rad="25560"/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Tw Cen MT"/>
                <a:ea typeface="宋体"/>
              </a:endParaRPr>
            </a:p>
          </p:txBody>
        </p:sp>
        <p:sp>
          <p:nvSpPr>
            <p:cNvPr id="91" name="[动画大师]_Chevron 6"/>
            <p:cNvSpPr/>
            <p:nvPr/>
          </p:nvSpPr>
          <p:spPr>
            <a:xfrm>
              <a:off x="10833840" y="5715000"/>
              <a:ext cx="283680" cy="502920"/>
            </a:xfrm>
            <a:prstGeom prst="chevron">
              <a:avLst>
                <a:gd name="adj" fmla="val 50000"/>
              </a:avLst>
            </a:prstGeom>
            <a:solidFill>
              <a:schemeClr val="bg1">
                <a:lumMod val="65000"/>
              </a:schemeClr>
            </a:solidFill>
            <a:ln w="34925">
              <a:noFill/>
            </a:ln>
            <a:effectLst>
              <a:outerShdw algn="tl" blurRad="50760" dir="2700000" dist="37674" rotWithShape="0">
                <a:srgbClr val="000000">
                  <a:alpha val="40000"/>
                </a:srgbClr>
              </a:outerShdw>
              <a:softEdge rad="25560"/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Tw Cen MT"/>
                <a:ea typeface="宋体"/>
              </a:endParaRPr>
            </a:p>
          </p:txBody>
        </p:sp>
        <p:sp>
          <p:nvSpPr>
            <p:cNvPr id="92" name="[动画大师]_Chevron 6"/>
            <p:cNvSpPr/>
            <p:nvPr/>
          </p:nvSpPr>
          <p:spPr>
            <a:xfrm>
              <a:off x="11097000" y="5715000"/>
              <a:ext cx="283680" cy="502920"/>
            </a:xfrm>
            <a:prstGeom prst="chevron">
              <a:avLst>
                <a:gd name="adj" fmla="val 50000"/>
              </a:avLst>
            </a:prstGeom>
            <a:solidFill>
              <a:schemeClr val="bg1">
                <a:lumMod val="65000"/>
              </a:schemeClr>
            </a:solidFill>
            <a:ln w="34925">
              <a:noFill/>
            </a:ln>
            <a:effectLst>
              <a:outerShdw algn="tl" blurRad="50760" dir="2700000" dist="37674" rotWithShape="0">
                <a:srgbClr val="000000">
                  <a:alpha val="40000"/>
                </a:srgbClr>
              </a:outerShdw>
              <a:softEdge rad="25560"/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Tw Cen MT"/>
                <a:ea typeface="宋体"/>
              </a:endParaRPr>
            </a:p>
          </p:txBody>
        </p:sp>
      </p:grpSp>
      <p:sp>
        <p:nvSpPr>
          <p:cNvPr id="93" name="[动画大师]_Chevron 4"/>
          <p:cNvSpPr/>
          <p:nvPr/>
        </p:nvSpPr>
        <p:spPr>
          <a:xfrm>
            <a:off x="9771840" y="5715000"/>
            <a:ext cx="283680" cy="503640"/>
          </a:xfrm>
          <a:prstGeom prst="chevron">
            <a:avLst>
              <a:gd name="adj" fmla="val 50000"/>
            </a:avLst>
          </a:prstGeom>
          <a:solidFill>
            <a:srgbClr val="2e4fb8"/>
          </a:solidFill>
          <a:ln w="34925">
            <a:noFill/>
          </a:ln>
          <a:effectLst>
            <a:glow rad="50760">
              <a:srgbClr val="00b0f0">
                <a:alpha val="40000"/>
              </a:srgbClr>
            </a:glow>
            <a:innerShdw blurRad="127000">
              <a:srgbClr val="00b0f0">
                <a:alpha val="86000"/>
              </a:srgbClr>
            </a:innerShdw>
            <a:reflection algn="bl" blurRad="6350" dir="5400000" dist="101600" endA="275" endPos="40000" rotWithShape="0" stA="50000" sy="-100000"/>
            <a:softEdge rad="3816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Tw Cen MT"/>
              <a:ea typeface="宋体"/>
            </a:endParaRPr>
          </a:p>
        </p:txBody>
      </p:sp>
      <p:sp>
        <p:nvSpPr>
          <p:cNvPr id="94" name="[动画大师]_Chevron 5"/>
          <p:cNvSpPr/>
          <p:nvPr/>
        </p:nvSpPr>
        <p:spPr>
          <a:xfrm>
            <a:off x="10035000" y="5715000"/>
            <a:ext cx="283680" cy="503640"/>
          </a:xfrm>
          <a:prstGeom prst="chevron">
            <a:avLst>
              <a:gd name="adj" fmla="val 50000"/>
            </a:avLst>
          </a:prstGeom>
          <a:solidFill>
            <a:srgbClr val="2e4fb8"/>
          </a:solidFill>
          <a:ln w="34925">
            <a:noFill/>
          </a:ln>
          <a:effectLst>
            <a:glow rad="50760">
              <a:srgbClr val="00b0f0">
                <a:alpha val="40000"/>
              </a:srgbClr>
            </a:glow>
            <a:innerShdw blurRad="127000">
              <a:srgbClr val="00b0f0">
                <a:alpha val="86000"/>
              </a:srgbClr>
            </a:innerShdw>
            <a:reflection algn="bl" blurRad="6350" dir="5400000" dist="101600" endA="275" endPos="40000" rotWithShape="0" stA="50000" sy="-100000"/>
            <a:softEdge rad="3816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Tw Cen MT"/>
              <a:ea typeface="宋体"/>
            </a:endParaRPr>
          </a:p>
        </p:txBody>
      </p:sp>
      <p:sp>
        <p:nvSpPr>
          <p:cNvPr id="95" name="[动画大师]_Chevron 6"/>
          <p:cNvSpPr/>
          <p:nvPr/>
        </p:nvSpPr>
        <p:spPr>
          <a:xfrm>
            <a:off x="10297800" y="5715000"/>
            <a:ext cx="283680" cy="503640"/>
          </a:xfrm>
          <a:prstGeom prst="chevron">
            <a:avLst>
              <a:gd name="adj" fmla="val 50000"/>
            </a:avLst>
          </a:prstGeom>
          <a:solidFill>
            <a:srgbClr val="2e4fb8"/>
          </a:solidFill>
          <a:ln w="34925">
            <a:noFill/>
          </a:ln>
          <a:effectLst>
            <a:glow rad="50760">
              <a:srgbClr val="00b0f0">
                <a:alpha val="40000"/>
              </a:srgbClr>
            </a:glow>
            <a:innerShdw blurRad="127000">
              <a:srgbClr val="00b0f0">
                <a:alpha val="86000"/>
              </a:srgbClr>
            </a:innerShdw>
            <a:reflection algn="bl" blurRad="6350" dir="5400000" dist="101600" endA="275" endPos="40000" rotWithShape="0" stA="50000" sy="-100000"/>
            <a:softEdge rad="3816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Tw Cen MT"/>
              <a:ea typeface="宋体"/>
            </a:endParaRPr>
          </a:p>
        </p:txBody>
      </p:sp>
      <p:sp>
        <p:nvSpPr>
          <p:cNvPr id="96" name="[动画大师]_Chevron 6"/>
          <p:cNvSpPr/>
          <p:nvPr/>
        </p:nvSpPr>
        <p:spPr>
          <a:xfrm>
            <a:off x="10560960" y="5715000"/>
            <a:ext cx="283680" cy="503640"/>
          </a:xfrm>
          <a:prstGeom prst="chevron">
            <a:avLst>
              <a:gd name="adj" fmla="val 50000"/>
            </a:avLst>
          </a:prstGeom>
          <a:solidFill>
            <a:srgbClr val="2e4fb8"/>
          </a:solidFill>
          <a:ln w="34925">
            <a:noFill/>
          </a:ln>
          <a:effectLst>
            <a:glow rad="50760">
              <a:srgbClr val="00b0f0">
                <a:alpha val="40000"/>
              </a:srgbClr>
            </a:glow>
            <a:innerShdw blurRad="127000">
              <a:srgbClr val="00b0f0">
                <a:alpha val="86000"/>
              </a:srgbClr>
            </a:innerShdw>
            <a:reflection algn="bl" blurRad="6350" dir="5400000" dist="101600" endA="275" endPos="40000" rotWithShape="0" stA="50000" sy="-100000"/>
            <a:softEdge rad="3816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Tw Cen MT"/>
              <a:ea typeface="宋体"/>
            </a:endParaRPr>
          </a:p>
        </p:txBody>
      </p:sp>
      <p:sp>
        <p:nvSpPr>
          <p:cNvPr id="97" name="[动画大师]_Chevron 6"/>
          <p:cNvSpPr/>
          <p:nvPr/>
        </p:nvSpPr>
        <p:spPr>
          <a:xfrm>
            <a:off x="10823760" y="5715000"/>
            <a:ext cx="283680" cy="503640"/>
          </a:xfrm>
          <a:prstGeom prst="chevron">
            <a:avLst>
              <a:gd name="adj" fmla="val 50000"/>
            </a:avLst>
          </a:prstGeom>
          <a:solidFill>
            <a:srgbClr val="2e4fb8"/>
          </a:solidFill>
          <a:ln w="34925">
            <a:noFill/>
          </a:ln>
          <a:effectLst>
            <a:glow rad="50760">
              <a:srgbClr val="00b0f0">
                <a:alpha val="40000"/>
              </a:srgbClr>
            </a:glow>
            <a:innerShdw blurRad="127000">
              <a:srgbClr val="00b0f0">
                <a:alpha val="86000"/>
              </a:srgbClr>
            </a:innerShdw>
            <a:reflection algn="bl" blurRad="6350" dir="5400000" dist="101600" endA="275" endPos="40000" rotWithShape="0" stA="50000" sy="-100000"/>
            <a:softEdge rad="3816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Tw Cen MT"/>
              <a:ea typeface="宋体"/>
            </a:endParaRPr>
          </a:p>
        </p:txBody>
      </p:sp>
      <p:sp>
        <p:nvSpPr>
          <p:cNvPr id="98" name="[动画大师]_Chevron 6"/>
          <p:cNvSpPr/>
          <p:nvPr/>
        </p:nvSpPr>
        <p:spPr>
          <a:xfrm>
            <a:off x="11103120" y="5715000"/>
            <a:ext cx="283680" cy="503640"/>
          </a:xfrm>
          <a:prstGeom prst="chevron">
            <a:avLst>
              <a:gd name="adj" fmla="val 50000"/>
            </a:avLst>
          </a:prstGeom>
          <a:solidFill>
            <a:srgbClr val="2e4fb8"/>
          </a:solidFill>
          <a:ln w="34925">
            <a:noFill/>
          </a:ln>
          <a:effectLst>
            <a:glow rad="50760">
              <a:srgbClr val="00b0f0">
                <a:alpha val="40000"/>
              </a:srgbClr>
            </a:glow>
            <a:innerShdw blurRad="127000">
              <a:srgbClr val="00b0f0">
                <a:alpha val="86000"/>
              </a:srgbClr>
            </a:innerShdw>
            <a:reflection algn="bl" blurRad="6350" dir="5400000" dist="101600" endA="275" endPos="40000" rotWithShape="0" stA="50000" sy="-100000"/>
            <a:softEdge rad="3816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Tw Cen MT"/>
              <a:ea typeface="宋体"/>
            </a:endParaRPr>
          </a:p>
        </p:txBody>
      </p:sp>
      <p:sp>
        <p:nvSpPr>
          <p:cNvPr id="99" name="文本框 19"/>
          <p:cNvSpPr/>
          <p:nvPr/>
        </p:nvSpPr>
        <p:spPr>
          <a:xfrm>
            <a:off x="-6070680" y="2228760"/>
            <a:ext cx="457020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7200" spc="-1" strike="noStrike">
                <a:solidFill>
                  <a:schemeClr val="accent1"/>
                </a:solidFill>
                <a:latin typeface="微软雅黑"/>
                <a:ea typeface="微软雅黑"/>
              </a:rPr>
              <a:t>物流信息管理系统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1"/>
          <p:cNvSpPr/>
          <p:nvPr/>
        </p:nvSpPr>
        <p:spPr>
          <a:xfrm rot="3721800">
            <a:off x="-1197000" y="2653920"/>
            <a:ext cx="1492560" cy="349560"/>
          </a:xfrm>
          <a:prstGeom prst="rect">
            <a:avLst/>
          </a:prstGeom>
          <a:solidFill>
            <a:schemeClr val="bg1">
              <a:alpha val="88000"/>
            </a:schemeClr>
          </a:solidFill>
          <a:ln>
            <a:noFill/>
          </a:ln>
          <a:effectLst>
            <a:softEdge rad="15228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w Cen MT"/>
              <a:ea typeface="宋体"/>
            </a:endParaRPr>
          </a:p>
        </p:txBody>
      </p:sp>
      <p:sp>
        <p:nvSpPr>
          <p:cNvPr id="101" name="TextBox 2"/>
          <p:cNvSpPr/>
          <p:nvPr/>
        </p:nvSpPr>
        <p:spPr>
          <a:xfrm>
            <a:off x="1131120" y="5694840"/>
            <a:ext cx="10346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800" spc="-1" strike="noStrike">
                <a:solidFill>
                  <a:schemeClr val="accent1"/>
                </a:solidFill>
                <a:latin typeface="微软雅黑"/>
                <a:ea typeface="微软雅黑"/>
              </a:rPr>
              <a:t>团队成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7"/>
          <p:cNvSpPr/>
          <p:nvPr/>
        </p:nvSpPr>
        <p:spPr>
          <a:xfrm>
            <a:off x="3159000" y="5684040"/>
            <a:ext cx="8211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800" spc="-1" strike="noStrike">
                <a:solidFill>
                  <a:schemeClr val="accent1"/>
                </a:solidFill>
                <a:latin typeface="楷体"/>
                <a:ea typeface="楷体"/>
              </a:rPr>
              <a:t>方志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18"/>
          <p:cNvSpPr/>
          <p:nvPr/>
        </p:nvSpPr>
        <p:spPr>
          <a:xfrm>
            <a:off x="4421160" y="5684040"/>
            <a:ext cx="8211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800" spc="-1" strike="noStrike">
                <a:solidFill>
                  <a:schemeClr val="accent1"/>
                </a:solidFill>
                <a:latin typeface="楷体"/>
                <a:ea typeface="楷体"/>
              </a:rPr>
              <a:t>赵昌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20"/>
          <p:cNvSpPr/>
          <p:nvPr/>
        </p:nvSpPr>
        <p:spPr>
          <a:xfrm>
            <a:off x="5610240" y="5684040"/>
            <a:ext cx="60768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800" spc="-1" strike="noStrike">
                <a:solidFill>
                  <a:schemeClr val="accent1"/>
                </a:solidFill>
                <a:latin typeface="楷体"/>
                <a:ea typeface="楷体"/>
              </a:rPr>
              <a:t>陈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3"/>
          <p:cNvSpPr/>
          <p:nvPr/>
        </p:nvSpPr>
        <p:spPr>
          <a:xfrm>
            <a:off x="3715560" y="1521000"/>
            <a:ext cx="55864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000000"/>
                </a:solidFill>
                <a:latin typeface="Tw Cen MT"/>
                <a:ea typeface="宋体"/>
              </a:rPr>
              <a:t>物流信息管理系统通用</a:t>
            </a:r>
            <a:r>
              <a:rPr b="0" lang="en-US" sz="4000" spc="-1" strike="noStrike">
                <a:solidFill>
                  <a:srgbClr val="000000"/>
                </a:solidFill>
                <a:latin typeface="Tw Cen MT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Tw Cen MT"/>
                <a:ea typeface="宋体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restart="never" nodeType="withEffect" fill="hold" presetClass="entr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restart="never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" dur="1000" restart="never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  <p:audio isNarration="0">
                                      <p:cMediaNode showWhenStopped="1">
                                        <p:cTn>
                                          <p:stCondLst>
                                            <p:cond delay="0" evt="begin">
                                              <p:tn val="5"/>
                                            </p:cond>
                                          </p:stCondLst>
                                          <p:endCondLst>
                                            <p:cond delay="0" evt="onStopAudio"/>
                                          </p:endCondLst>
                                        </p:cTn>
                                        <p:tgtEl>
                                          <p:sndTgt r:embed="rId1" name="audio1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  <p:par>
                                <p:cTn id="8" nodeType="withEffect" fill="hold" presetClass="entr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  <p:set>
                                      <p:cBhvr>
                                        <p:cTn id="10" dur="1" restart="never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1" dur="800" restart="never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  <p:audio isNarration="0">
                                      <p:cMediaNode showWhenStopped="1">
                                        <p:cTn>
                                          <p:stCondLst>
                                            <p:cond delay="0" evt="begin">
                                              <p:tn val="8"/>
                                            </p:cond>
                                          </p:stCondLst>
                                          <p:endCondLst>
                                            <p:cond delay="0" evt="onStopAudio"/>
                                          </p:endCondLst>
                                        </p:cTn>
                                        <p:tgtEl>
                                          <p:sndTgt r:embed="rId2" name="audio1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  <p:par>
                                <p:cTn id="12" nodeType="withEffect" fill="hold" presetClass="entr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  <p:set>
                                      <p:cBhvr>
                                        <p:cTn id="14" dur="1" restart="never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5" dur="600" restart="never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  <p:audio isNarration="0">
                                      <p:cMediaNode showWhenStopped="1">
                                        <p:cTn>
                                          <p:stCondLst>
                                            <p:cond delay="0" evt="begin">
                                              <p:tn val="12"/>
                                            </p:cond>
                                          </p:stCondLst>
                                          <p:endCondLst>
                                            <p:cond delay="0" evt="onStopAudio"/>
                                          </p:endCondLst>
                                        </p:cTn>
                                        <p:tgtEl>
                                          <p:sndTgt r:embed="rId3" name="audio1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  <p:par>
                                <p:cTn id="16" nodeType="withEffect" fill="hold" presetClass="entr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  <p:set>
                                      <p:cBhvr>
                                        <p:cTn id="18" dur="1" restart="never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9" dur="400" restart="never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  <p:audio isNarration="0">
                                      <p:cMediaNode showWhenStopped="1">
                                        <p:cTn>
                                          <p:stCondLst>
                                            <p:cond delay="0" evt="begin">
                                              <p:tn val="16"/>
                                            </p:cond>
                                          </p:stCondLst>
                                          <p:endCondLst>
                                            <p:cond delay="0" evt="onStopAudio"/>
                                          </p:endCondLst>
                                        </p:cTn>
                                        <p:tgtEl>
                                          <p:sndTgt r:embed="rId4" name="audio1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  <p:par>
                                <p:cTn id="20" nodeType="withEffect" fill="hold" presetClass="entr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  <p:set>
                                      <p:cBhvr>
                                        <p:cTn id="22" dur="1" restart="never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3" dur="200" restart="never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  <p:audio isNarration="0">
                                      <p:cMediaNode showWhenStopped="1">
                                        <p:cTn>
                                          <p:stCondLst>
                                            <p:cond delay="0" evt="begin">
                                              <p:tn val="20"/>
                                            </p:cond>
                                          </p:stCondLst>
                                          <p:endCondLst>
                                            <p:cond delay="0" evt="onStopAudio"/>
                                          </p:endCondLst>
                                        </p:cTn>
                                        <p:tgtEl>
                                          <p:sndTgt r:embed="rId5" name="audio1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  <p:par>
                                <p:cTn id="24" nodeType="withEffect" fill="hold" presetClass="entr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  <p:set>
                                      <p:cBhvr>
                                        <p:cTn id="26" dur="1" restart="never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7" dur="1" restart="never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  <p:audio isNarration="0">
                                      <p:cMediaNode showWhenStopped="1">
                                        <p:cTn>
                                          <p:stCondLst>
                                            <p:cond delay="0" evt="begin">
                                              <p:tn val="24"/>
                                            </p:cond>
                                          </p:stCondLst>
                                          <p:endCondLst>
                                            <p:cond delay="0" evt="onStopAudio"/>
                                          </p:endCondLst>
                                        </p:cTn>
                                        <p:tgtEl>
                                          <p:sndTgt r:embed="rId6" name="audio1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  <p:par>
                                <p:cTn id="28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0 L 0.67826 0 E">
                                      <p:cBhvr>
                                        <p:cTn id="2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" nodeType="withEffect" fill="hold" presetClass="path" presetID="63" repeatCount="indefinite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0.1023 0 L 0.70883 0 E">
                                      <p:cBhvr>
                                        <p:cTn id="31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Box 3"/>
          <p:cNvSpPr/>
          <p:nvPr/>
        </p:nvSpPr>
        <p:spPr>
          <a:xfrm>
            <a:off x="4551120" y="2266920"/>
            <a:ext cx="308880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  <a:scene3d>
              <a:camera prst="orthographicFront">
                <a:rot lat="0" lon="0" rev="0"/>
              </a:camera>
              <a:lightRig dir="t" rig="contrasting">
                <a:rot lat="0" lon="0" rev="4500000"/>
              </a:lightRig>
            </a:scene3d>
            <a:sp3d contourW="6350" prstMaterial="metal">
              <a:bevelT prst="relaxedInset" w="127000" h="31750"/>
              <a:contourClr>
                <a:schemeClr val="accent1"/>
              </a:contourClr>
            </a:sp3d>
          </a:bodyPr>
          <a:p>
            <a:pPr>
              <a:lnSpc>
                <a:spcPct val="100000"/>
              </a:lnSpc>
            </a:pPr>
            <a:r>
              <a:rPr b="1" lang="zh-CN" sz="7200" spc="-1" strike="noStrike" cap="all">
                <a:solidFill>
                  <a:srgbClr val="3195ef"/>
                </a:solidFill>
                <a:latin typeface="微软雅黑"/>
                <a:ea typeface="微软雅黑"/>
              </a:rPr>
              <a:t>感 谢 观 看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矩形 1"/>
          <p:cNvSpPr/>
          <p:nvPr/>
        </p:nvSpPr>
        <p:spPr>
          <a:xfrm>
            <a:off x="12192120" y="657000"/>
            <a:ext cx="2352240" cy="952560"/>
          </a:xfrm>
          <a:prstGeom prst="rect">
            <a:avLst/>
          </a:prstGeom>
          <a:solidFill>
            <a:srgbClr val="2fa3ee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3200" spc="-1" strike="noStrike">
                <a:solidFill>
                  <a:schemeClr val="lt1"/>
                </a:solidFill>
                <a:latin typeface="微软雅黑"/>
                <a:ea typeface="微软雅黑"/>
              </a:rPr>
              <a:t>系统概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11"/>
          <p:cNvSpPr/>
          <p:nvPr/>
        </p:nvSpPr>
        <p:spPr>
          <a:xfrm>
            <a:off x="-1818720" y="2519640"/>
            <a:ext cx="1818360" cy="1818360"/>
          </a:xfrm>
          <a:prstGeom prst="rect">
            <a:avLst/>
          </a:prstGeom>
          <a:solidFill>
            <a:srgbClr val="008bce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w Cen MT"/>
              <a:ea typeface="宋体"/>
            </a:endParaRPr>
          </a:p>
        </p:txBody>
      </p:sp>
      <p:sp>
        <p:nvSpPr>
          <p:cNvPr id="109" name="矩形 5"/>
          <p:cNvSpPr/>
          <p:nvPr/>
        </p:nvSpPr>
        <p:spPr>
          <a:xfrm>
            <a:off x="-1818720" y="2519640"/>
            <a:ext cx="1818360" cy="1818360"/>
          </a:xfrm>
          <a:prstGeom prst="rect">
            <a:avLst/>
          </a:prstGeom>
          <a:solidFill>
            <a:srgbClr val="008bce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w Cen MT"/>
              <a:ea typeface="宋体"/>
            </a:endParaRPr>
          </a:p>
        </p:txBody>
      </p:sp>
      <p:sp>
        <p:nvSpPr>
          <p:cNvPr id="110" name="椭圆 4"/>
          <p:cNvSpPr/>
          <p:nvPr/>
        </p:nvSpPr>
        <p:spPr>
          <a:xfrm>
            <a:off x="5191200" y="1085760"/>
            <a:ext cx="1818360" cy="1818360"/>
          </a:xfrm>
          <a:prstGeom prst="ellipse">
            <a:avLst/>
          </a:prstGeom>
          <a:solidFill>
            <a:srgbClr val="008bce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7200" spc="-1" strike="noStrike">
                <a:solidFill>
                  <a:schemeClr val="lt1"/>
                </a:solidFill>
                <a:latin typeface="微软雅黑"/>
                <a:ea typeface="微软雅黑"/>
              </a:rPr>
              <a:t>卖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图片 2" descr=""/>
          <p:cNvPicPr/>
          <p:nvPr/>
        </p:nvPicPr>
        <p:blipFill>
          <a:blip r:embed="rId1"/>
          <a:stretch/>
        </p:blipFill>
        <p:spPr>
          <a:xfrm>
            <a:off x="-1818720" y="2519640"/>
            <a:ext cx="1818360" cy="1818360"/>
          </a:xfrm>
          <a:prstGeom prst="rect">
            <a:avLst/>
          </a:prstGeom>
          <a:ln w="0">
            <a:noFill/>
          </a:ln>
        </p:spPr>
      </p:pic>
      <p:sp>
        <p:nvSpPr>
          <p:cNvPr id="112" name="椭圆 3"/>
          <p:cNvSpPr/>
          <p:nvPr/>
        </p:nvSpPr>
        <p:spPr>
          <a:xfrm>
            <a:off x="5191200" y="3961800"/>
            <a:ext cx="1818360" cy="1818360"/>
          </a:xfrm>
          <a:prstGeom prst="ellipse">
            <a:avLst/>
          </a:prstGeom>
          <a:solidFill>
            <a:srgbClr val="008bce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7200" spc="-1" strike="noStrike">
                <a:solidFill>
                  <a:schemeClr val="lt1"/>
                </a:solidFill>
                <a:latin typeface="微软雅黑"/>
                <a:ea typeface="微软雅黑"/>
              </a:rPr>
              <a:t>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椭圆 12"/>
          <p:cNvSpPr/>
          <p:nvPr/>
        </p:nvSpPr>
        <p:spPr>
          <a:xfrm>
            <a:off x="5223600" y="1085760"/>
            <a:ext cx="1818360" cy="1818360"/>
          </a:xfrm>
          <a:prstGeom prst="ellipse">
            <a:avLst/>
          </a:prstGeom>
          <a:solidFill>
            <a:srgbClr val="008bce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7200" spc="-1" strike="noStrike">
                <a:solidFill>
                  <a:schemeClr val="lt1"/>
                </a:solidFill>
                <a:latin typeface="微软雅黑"/>
                <a:ea typeface="微软雅黑"/>
              </a:rPr>
              <a:t>管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椭圆 13"/>
          <p:cNvSpPr/>
          <p:nvPr/>
        </p:nvSpPr>
        <p:spPr>
          <a:xfrm>
            <a:off x="6760080" y="1085760"/>
            <a:ext cx="1818360" cy="1818360"/>
          </a:xfrm>
          <a:prstGeom prst="ellipse">
            <a:avLst/>
          </a:prstGeom>
          <a:solidFill>
            <a:srgbClr val="008bce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7200" spc="-1" strike="noStrike">
                <a:solidFill>
                  <a:schemeClr val="lt1"/>
                </a:solidFill>
                <a:latin typeface="微软雅黑"/>
                <a:ea typeface="微软雅黑"/>
              </a:rPr>
              <a:t>理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椭圆 14"/>
          <p:cNvSpPr/>
          <p:nvPr/>
        </p:nvSpPr>
        <p:spPr>
          <a:xfrm>
            <a:off x="5223600" y="3961800"/>
            <a:ext cx="1818360" cy="1818360"/>
          </a:xfrm>
          <a:prstGeom prst="ellipse">
            <a:avLst/>
          </a:prstGeom>
          <a:solidFill>
            <a:srgbClr val="008bce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7200" spc="-1" strike="noStrike">
                <a:solidFill>
                  <a:schemeClr val="lt1"/>
                </a:solidFill>
                <a:latin typeface="微软雅黑"/>
                <a:ea typeface="微软雅黑"/>
              </a:rPr>
              <a:t>查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椭圆 15"/>
          <p:cNvSpPr/>
          <p:nvPr/>
        </p:nvSpPr>
        <p:spPr>
          <a:xfrm>
            <a:off x="6760080" y="3961800"/>
            <a:ext cx="1818360" cy="1818360"/>
          </a:xfrm>
          <a:prstGeom prst="ellipse">
            <a:avLst/>
          </a:prstGeom>
          <a:solidFill>
            <a:srgbClr val="008bce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7200" spc="-1" strike="noStrike">
                <a:solidFill>
                  <a:schemeClr val="lt1"/>
                </a:solidFill>
                <a:latin typeface="微软雅黑"/>
                <a:ea typeface="微软雅黑"/>
              </a:rPr>
              <a:t>询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375E-006 2.22222E-006 L -0.19179 2.22222E-006 E">
                                      <p:cBhvr>
                                        <p:cTn id="4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0" nodeType="withEffect" fill="hold" presetClass="path" presetID="64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0.19179 2.22222E-006 L -0.19205 -0.09676 E">
                                      <p:cBhvr>
                                        <p:cTn id="5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2" nodeType="withEffect" fill="hold" presetClass="path" presetID="63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6.25E-007 0 L 0.19024 0 E">
                                      <p:cBhvr>
                                        <p:cTn id="5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4" nodeType="withEffect" fill="hold" presetClass="path" presetID="63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6.25E-007 0 L 0.57461 0 E">
                                      <p:cBhvr>
                                        <p:cTn id="5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6" nodeType="withEffect" fill="hold" presetClass="path" presetID="63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6.25E-007 0 L 0.57461 0 E">
                                      <p:cBhvr>
                                        <p:cTn id="5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8" nodeType="withEffect" fill="hold" presetClass="path" presetID="64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0.57461 0 L 0.57461 -0.20972 E">
                                      <p:cBhvr>
                                        <p:cTn id="5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" nodeType="withEffect" fill="hold" presetClass="path" presetID="42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0.57461 0 L 0.57461 0.21111 E">
                                      <p:cBhvr>
                                        <p:cTn id="6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path" presetID="35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-6.25E-007 -2.22222E-006 L -0.17773 -2.22222E-006 E">
                                      <p:cBhvr>
                                        <p:cTn id="6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0" nodeType="withEffect" fill="hold" presetClass="path" presetID="35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-6.25E-007 4.81481E-006 L -0.17773 4.81481E-006 E">
                                      <p:cBhvr>
                                        <p:cTn id="7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2" nodeType="withEffect" fill="hold" presetClass="emph" presetID="6">
                                  <p:stCondLst>
                                    <p:cond delay="3000"/>
                                  </p:stCondLst>
                                  <p:childTnLst>
                                    <p:animScale>
                                      <p:cBhvr>
                                        <p:cTn id="73" dur="500" fill="hold"/>
                                        <p:tgtEl>
                                          <p:spTgt spid="109"/>
                                        </p:tgtEl>
                                      </p:cBhvr>
                                      <p:by x="2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4" nodeType="withEffect" fill="hold" presetClass="path" presetID="63">
                                  <p:stCondLst>
                                    <p:cond delay="3000"/>
                                  </p:stCondLst>
                                  <p:childTnLst>
                                    <p:animMotion origin="layout" path="M 0.57461 0.21111 L 0.64961 0.21111 E">
                                      <p:cBhvr>
                                        <p:cTn id="7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6" nodeType="withEffect" fill="hold" presetClass="emph" presetID="6">
                                  <p:stCondLst>
                                    <p:cond delay="3000"/>
                                  </p:stCondLst>
                                  <p:childTnLst>
                                    <p:animScale>
                                      <p:cBhvr>
                                        <p:cTn id="77" dur="500" fill="hold"/>
                                        <p:tgtEl>
                                          <p:spTgt spid="108"/>
                                        </p:tgtEl>
                                      </p:cBhvr>
                                      <p:by x="2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8" nodeType="withEffect" fill="hold" presetClass="path" presetID="63">
                                  <p:stCondLst>
                                    <p:cond delay="3000"/>
                                  </p:stCondLst>
                                  <p:childTnLst>
                                    <p:animMotion origin="layout" path="M 0.57461 -0.20972 L 0.64935 -0.20972 E">
                                      <p:cBhvr>
                                        <p:cTn id="7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0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0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0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0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矩形 6"/>
          <p:cNvSpPr/>
          <p:nvPr/>
        </p:nvSpPr>
        <p:spPr>
          <a:xfrm>
            <a:off x="-2505240" y="1198440"/>
            <a:ext cx="2504880" cy="740880"/>
          </a:xfrm>
          <a:prstGeom prst="rect">
            <a:avLst/>
          </a:prstGeom>
          <a:solidFill>
            <a:srgbClr val="2fa3ee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2800" spc="-1" strike="noStrike">
                <a:solidFill>
                  <a:schemeClr val="lt1"/>
                </a:solidFill>
                <a:latin typeface="微软雅黑"/>
                <a:ea typeface="微软雅黑"/>
              </a:rPr>
              <a:t>基础信息管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矩形 7"/>
          <p:cNvSpPr/>
          <p:nvPr/>
        </p:nvSpPr>
        <p:spPr>
          <a:xfrm>
            <a:off x="-2505240" y="2128680"/>
            <a:ext cx="2504880" cy="740880"/>
          </a:xfrm>
          <a:prstGeom prst="rect">
            <a:avLst/>
          </a:prstGeom>
          <a:solidFill>
            <a:srgbClr val="2fa3ee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2800" spc="-1" strike="noStrike">
                <a:solidFill>
                  <a:schemeClr val="lt1"/>
                </a:solidFill>
                <a:latin typeface="微软雅黑"/>
                <a:ea typeface="微软雅黑"/>
              </a:rPr>
              <a:t>配送管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矩形 8"/>
          <p:cNvSpPr/>
          <p:nvPr/>
        </p:nvSpPr>
        <p:spPr>
          <a:xfrm>
            <a:off x="-2505240" y="3059280"/>
            <a:ext cx="2504880" cy="740880"/>
          </a:xfrm>
          <a:prstGeom prst="rect">
            <a:avLst/>
          </a:prstGeom>
          <a:solidFill>
            <a:srgbClr val="2fa3ee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2800" spc="-1" strike="noStrike">
                <a:solidFill>
                  <a:schemeClr val="lt1"/>
                </a:solidFill>
                <a:latin typeface="微软雅黑"/>
                <a:ea typeface="微软雅黑"/>
              </a:rPr>
              <a:t>仓库管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矩形 9"/>
          <p:cNvSpPr/>
          <p:nvPr/>
        </p:nvSpPr>
        <p:spPr>
          <a:xfrm>
            <a:off x="-2505240" y="3989520"/>
            <a:ext cx="2504880" cy="740880"/>
          </a:xfrm>
          <a:prstGeom prst="rect">
            <a:avLst/>
          </a:prstGeom>
          <a:solidFill>
            <a:srgbClr val="2fa3ee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2800" spc="-1" strike="noStrike">
                <a:solidFill>
                  <a:schemeClr val="lt1"/>
                </a:solidFill>
                <a:latin typeface="微软雅黑"/>
                <a:ea typeface="微软雅黑"/>
              </a:rPr>
              <a:t>系统管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矩形 10"/>
          <p:cNvSpPr/>
          <p:nvPr/>
        </p:nvSpPr>
        <p:spPr>
          <a:xfrm>
            <a:off x="-2505240" y="4919760"/>
            <a:ext cx="2504880" cy="740880"/>
          </a:xfrm>
          <a:prstGeom prst="rect">
            <a:avLst/>
          </a:prstGeom>
          <a:solidFill>
            <a:srgbClr val="2fa3ee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2800" spc="-1" strike="noStrike">
                <a:solidFill>
                  <a:schemeClr val="lt1"/>
                </a:solidFill>
                <a:latin typeface="微软雅黑"/>
                <a:ea typeface="微软雅黑"/>
              </a:rPr>
              <a:t>客户查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矩形 5">
            <a:hlinkClick r:id="rId1" action="ppaction://hlinksldjump"/>
          </p:cNvPr>
          <p:cNvSpPr/>
          <p:nvPr/>
        </p:nvSpPr>
        <p:spPr>
          <a:xfrm>
            <a:off x="-2505240" y="1200240"/>
            <a:ext cx="2504880" cy="4460400"/>
          </a:xfrm>
          <a:prstGeom prst="rect">
            <a:avLst/>
          </a:prstGeom>
          <a:solidFill>
            <a:srgbClr val="2fa3ee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6600" spc="-1" strike="noStrike">
                <a:solidFill>
                  <a:schemeClr val="lt1"/>
                </a:solidFill>
                <a:latin typeface="微软雅黑"/>
                <a:ea typeface="微软雅黑"/>
              </a:rPr>
              <a:t>系统功能简介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椭圆 11">
            <a:hlinkClick r:id="rId2" action="ppaction://hlinksldjump"/>
          </p:cNvPr>
          <p:cNvSpPr/>
          <p:nvPr/>
        </p:nvSpPr>
        <p:spPr>
          <a:xfrm>
            <a:off x="10715760" y="6019920"/>
            <a:ext cx="475920" cy="475920"/>
          </a:xfrm>
          <a:prstGeom prst="ellipse">
            <a:avLst/>
          </a:prstGeom>
          <a:solidFill>
            <a:srgbClr val="2fa3ee"/>
          </a:solidFill>
          <a:ln>
            <a:solidFill>
              <a:srgbClr val="2278b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Tw Cen MT"/>
                <a:ea typeface="宋体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椭圆 12">
            <a:hlinkClick r:id="rId3" action="ppaction://hlinksldjump"/>
          </p:cNvPr>
          <p:cNvSpPr/>
          <p:nvPr/>
        </p:nvSpPr>
        <p:spPr>
          <a:xfrm>
            <a:off x="10067760" y="6019920"/>
            <a:ext cx="475920" cy="475920"/>
          </a:xfrm>
          <a:prstGeom prst="ellipse">
            <a:avLst/>
          </a:prstGeom>
          <a:solidFill>
            <a:srgbClr val="2fa3ee"/>
          </a:solidFill>
          <a:ln>
            <a:solidFill>
              <a:srgbClr val="2278b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Tw Cen MT"/>
                <a:ea typeface="宋体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椭圆 13">
            <a:hlinkClick r:id="rId4" action="ppaction://hlinksldjump"/>
          </p:cNvPr>
          <p:cNvSpPr/>
          <p:nvPr/>
        </p:nvSpPr>
        <p:spPr>
          <a:xfrm>
            <a:off x="9420120" y="6019920"/>
            <a:ext cx="475920" cy="475920"/>
          </a:xfrm>
          <a:prstGeom prst="ellipse">
            <a:avLst/>
          </a:prstGeom>
          <a:solidFill>
            <a:srgbClr val="2fa3ee"/>
          </a:solidFill>
          <a:ln>
            <a:solidFill>
              <a:srgbClr val="2278b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Tw Cen MT"/>
                <a:ea typeface="宋体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椭圆 14">
            <a:hlinkClick r:id="rId5" action="ppaction://hlinksldjump"/>
          </p:cNvPr>
          <p:cNvSpPr/>
          <p:nvPr/>
        </p:nvSpPr>
        <p:spPr>
          <a:xfrm>
            <a:off x="8772480" y="6019920"/>
            <a:ext cx="475920" cy="475920"/>
          </a:xfrm>
          <a:prstGeom prst="ellipse">
            <a:avLst/>
          </a:prstGeom>
          <a:solidFill>
            <a:srgbClr val="2fa3ee"/>
          </a:solidFill>
          <a:ln>
            <a:solidFill>
              <a:srgbClr val="2278b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Tw Cen MT"/>
                <a:ea typeface="宋体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椭圆 15">
            <a:hlinkClick r:id="rId6" action="ppaction://hlinksldjump"/>
          </p:cNvPr>
          <p:cNvSpPr/>
          <p:nvPr/>
        </p:nvSpPr>
        <p:spPr>
          <a:xfrm>
            <a:off x="8124840" y="6019920"/>
            <a:ext cx="475920" cy="475920"/>
          </a:xfrm>
          <a:prstGeom prst="ellipse">
            <a:avLst/>
          </a:prstGeom>
          <a:solidFill>
            <a:srgbClr val="2fa3ee"/>
          </a:solidFill>
          <a:ln>
            <a:solidFill>
              <a:srgbClr val="2278b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Tw Cen MT"/>
                <a:ea typeface="宋体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2"/>
          <p:cNvSpPr/>
          <p:nvPr/>
        </p:nvSpPr>
        <p:spPr>
          <a:xfrm>
            <a:off x="7157880" y="5861160"/>
            <a:ext cx="4181040" cy="79344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w Cen MT"/>
              <a:ea typeface="宋体"/>
            </a:endParaRPr>
          </a:p>
        </p:txBody>
      </p:sp>
      <p:sp>
        <p:nvSpPr>
          <p:cNvPr id="129" name="五边形 16">
            <a:hlinkClick r:id="rId7" action="ppaction://hlinksldjump"/>
          </p:cNvPr>
          <p:cNvSpPr/>
          <p:nvPr/>
        </p:nvSpPr>
        <p:spPr>
          <a:xfrm>
            <a:off x="11377440" y="5985000"/>
            <a:ext cx="775800" cy="545760"/>
          </a:xfrm>
          <a:prstGeom prst="homePlate">
            <a:avLst>
              <a:gd name="adj" fmla="val 50000"/>
            </a:avLst>
          </a:prstGeom>
          <a:solidFill>
            <a:srgbClr val="2fa3ee"/>
          </a:solidFill>
          <a:ln>
            <a:solidFill>
              <a:srgbClr val="2278b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 u="sng">
                <a:solidFill>
                  <a:schemeClr val="lt1"/>
                </a:solidFill>
                <a:uFillTx/>
                <a:latin typeface="Tw Cen MT"/>
                <a:ea typeface="宋体"/>
                <a:hlinkClick r:id="" action="ppaction://hlinkshowjump?jump=lastslide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0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375E-006 -1.48148E-006 L 0.25 -1.48148E-006 E">
                                      <p:cBhvr>
                                        <p:cTn id="9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8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375E-006 -3.7037E-006 L 0.25 -3.7037E-006 E">
                                      <p:cBhvr>
                                        <p:cTn id="9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0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375E-006 -3.7037E-006 L 0.25 -3.7037E-006 E">
                                      <p:cBhvr>
                                        <p:cTn id="10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2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375E-006 -3.7037E-006 L 0.25 -3.7037E-006 E">
                                      <p:cBhvr>
                                        <p:cTn id="10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4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375E-006 -3.7037E-006 L 0.25 -3.7037E-006 E">
                                      <p:cBhvr>
                                        <p:cTn id="10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6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375E-006 -3.7037E-006 L 0.25 -3.7037E-006 E">
                                      <p:cBhvr>
                                        <p:cTn id="10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9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 -3.7037E-006 L 0.47057 -3.7037E-006 E">
                                      <p:cBhvr>
                                        <p:cTn id="11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1" nodeType="withEffect" fill="hold" presetClass="path" presetID="63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0.25 -3.7037E-006 L 0.47057 -3.7037E-006 E">
                                      <p:cBhvr>
                                        <p:cTn id="11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3" nodeType="withEffect" fill="hold" presetClass="path" presetID="63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0.25 -3.7037E-006 L 0.47057 -3.7037E-006 E">
                                      <p:cBhvr>
                                        <p:cTn id="11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5" nodeType="withEffect" fill="hold" presetClass="path" presetID="63">
                                  <p:stCondLst>
                                    <p:cond delay="600"/>
                                  </p:stCondLst>
                                  <p:childTnLst>
                                    <p:animMotion origin="layout" path="M 0.25 -3.7037E-006 L 0.47057 -3.7037E-006 E">
                                      <p:cBhvr>
                                        <p:cTn id="11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7" nodeType="withEffect" fill="hold" presetClass="path" presetID="63">
                                  <p:stCondLst>
                                    <p:cond delay="800"/>
                                  </p:stCondLst>
                                  <p:childTnLst>
                                    <p:animMotion origin="layout" path="M 0.25 -3.7037E-006 L 0.47057 -3.7037E-006 E">
                                      <p:cBhvr>
                                        <p:cTn id="11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7" restart="whenNotActive" nodeType="interactiveSeq" fill="hold">
                <p:stCondLst>
                  <p:cond delay="0" evt="onClick">
                    <p:tgtEl>
                      <p:spTgt spid="117"/>
                    </p:tgtEl>
                  </p:cond>
                </p:stCondLst>
                <p:childTnLst>
                  <p:par>
                    <p:cTn id="138" nodeType="clickEffect" fill="hold">
                      <p:stCondLst>
                        <p:cond delay="0" evt="onClick">
                          <p:tgtEl>
                            <p:spTgt spid="117"/>
                          </p:tgtEl>
                        </p:cond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7057 3.7037E-006 L 1.20742 3.7037E-006 E">
                                      <p:cBhvr>
                                        <p:cTn id="14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path" presetID="63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0.47057 1.85185E-006 L 1.20586 1.85185E-006 E">
                                      <p:cBhvr>
                                        <p:cTn id="14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6" nodeType="withEffect" fill="hold" presetClass="path" presetID="63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0.47057 0 L 1.20742 0 E">
                                      <p:cBhvr>
                                        <p:cTn id="14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8" nodeType="withEffect" fill="hold" presetClass="path" presetID="63">
                                  <p:stCondLst>
                                    <p:cond delay="600"/>
                                  </p:stCondLst>
                                  <p:childTnLst>
                                    <p:animMotion origin="layout" path="M 0.47058 -1.85185E-006 L 1.20742 -1.85185E-006 E">
                                      <p:cBhvr>
                                        <p:cTn id="14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0" nodeType="withEffect" fill="hold" presetClass="path" presetID="35">
                                  <p:stCondLst>
                                    <p:cond delay="800"/>
                                  </p:stCondLst>
                                  <p:childTnLst>
                                    <p:animMotion origin="layout" path="M 0.25 -1.48148E-006 L 4.375E-006 -1.48148E-006 E">
                                      <p:cBhvr>
                                        <p:cTn id="15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2" nodeType="withEffect" fill="hold" presetClass="path" presetID="42">
                                  <p:stCondLst>
                                    <p:cond delay="800"/>
                                  </p:stCondLst>
                                  <p:childTnLst>
                                    <p:animMotion origin="layout" path="M 0.47057 -3.7037E-006 L 0.91054 -0.0787 E">
                                      <p:cBhvr>
                                        <p:cTn id="15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4" nodeType="withEffect" fill="hold" presetClass="exit" presetID="10">
                                  <p:stCondLst>
                                    <p:cond delay="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xit" presetID="10">
                                  <p:stCondLst>
                                    <p:cond delay="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" nodeType="withEffect" fill="hold" presetClass="exit" presetID="10">
                                  <p:stCondLst>
                                    <p:cond delay="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xit" presetID="10">
                                  <p:stCondLst>
                                    <p:cond delay="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6" restart="whenNotActive" nodeType="interactiveSeq" fill="hold">
                <p:stCondLst>
                  <p:cond delay="0" evt="onClick">
                    <p:tgtEl>
                      <p:spTgt spid="118"/>
                    </p:tgtEl>
                  </p:cond>
                </p:stCondLst>
                <p:childTnLst>
                  <p:par>
                    <p:cTn id="167" nodeType="clickEffect" fill="hold">
                      <p:stCondLst>
                        <p:cond delay="0" evt="onClick">
                          <p:tgtEl>
                            <p:spTgt spid="118"/>
                          </p:tgtEl>
                        </p:cond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7057 3.7037E-006 L 1.20586 3.7037E-006 E">
                                      <p:cBhvr>
                                        <p:cTn id="17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path" presetID="63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0.47057 1.85185E-006 L 1.20742 1.85185E-006 E">
                                      <p:cBhvr>
                                        <p:cTn id="17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5" nodeType="withEffect" fill="hold" presetClass="path" presetID="63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0.47057 0 L 1.20586 0 E">
                                      <p:cBhvr>
                                        <p:cTn id="17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7" nodeType="withEffect" fill="hold" presetClass="path" presetID="63">
                                  <p:stCondLst>
                                    <p:cond delay="600"/>
                                  </p:stCondLst>
                                  <p:childTnLst>
                                    <p:animMotion origin="layout" path="M 0.47057 -3.7037E-006 L 1.20586 -3.7037E-006 E">
                                      <p:cBhvr>
                                        <p:cTn id="17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9" nodeType="withEffect" fill="hold" presetClass="path" presetID="35">
                                  <p:stCondLst>
                                    <p:cond delay="800"/>
                                  </p:stCondLst>
                                  <p:childTnLst>
                                    <p:animMotion origin="layout" path="M 0.25 -1.48148E-006 L 4.375E-006 -1.48148E-006 E">
                                      <p:cBhvr>
                                        <p:cTn id="18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1" nodeType="withEffect" fill="hold" presetClass="path" presetID="63">
                                  <p:stCondLst>
                                    <p:cond delay="800"/>
                                  </p:stCondLst>
                                  <p:childTnLst>
                                    <p:animMotion origin="layout" path="M 0.47057 -1.85185E-006 L 0.91054 -0.21435 E">
                                      <p:cBhvr>
                                        <p:cTn id="18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3" nodeType="withEffect" fill="hold" presetClass="exit" presetID="10">
                                  <p:stCondLst>
                                    <p:cond delay="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xit" presetID="10">
                                  <p:stCondLst>
                                    <p:cond delay="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xit" presetID="10">
                                  <p:stCondLst>
                                    <p:cond delay="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nodeType="withEffect" fill="hold" presetClass="exit" presetID="10">
                                  <p:stCondLst>
                                    <p:cond delay="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5" restart="whenNotActive" nodeType="interactiveSeq" fill="hold">
                <p:stCondLst>
                  <p:cond delay="0" evt="onClick">
                    <p:tgtEl>
                      <p:spTgt spid="119"/>
                    </p:tgtEl>
                  </p:cond>
                </p:stCondLst>
                <p:childTnLst>
                  <p:par>
                    <p:cTn id="196" nodeType="clickEffect" fill="hold">
                      <p:stCondLst>
                        <p:cond delay="0" evt="onClick">
                          <p:tgtEl>
                            <p:spTgt spid="119"/>
                          </p:tgtEl>
                        </p:cond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7058 3.7037E-006 L 1.20742 3.7037E-006 E">
                                      <p:cBhvr>
                                        <p:cTn id="19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path" presetID="63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0.47058 1.85185E-006 L 1.20586 1.85185E-006 E">
                                      <p:cBhvr>
                                        <p:cTn id="20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4" nodeType="withEffect" fill="hold" presetClass="path" presetID="63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0.47058 -1.85185E-006 L 1.20742 -1.85185E-006 E">
                                      <p:cBhvr>
                                        <p:cTn id="20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6" nodeType="withEffect" fill="hold" presetClass="path" presetID="63">
                                  <p:stCondLst>
                                    <p:cond delay="600"/>
                                  </p:stCondLst>
                                  <p:childTnLst>
                                    <p:animMotion origin="layout" path="M 0.47058 -3.7037E-006 L 1.20586 -3.7037E-006 E">
                                      <p:cBhvr>
                                        <p:cTn id="20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8" nodeType="withEffect" fill="hold" presetClass="path" presetID="63">
                                  <p:stCondLst>
                                    <p:cond delay="800"/>
                                  </p:stCondLst>
                                  <p:childTnLst>
                                    <p:animMotion origin="layout" path="M 0.47057 0 L 0.91211 -0.34722 E">
                                      <p:cBhvr>
                                        <p:cTn id="20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0" nodeType="withEffect" fill="hold" presetClass="path" presetID="35">
                                  <p:stCondLst>
                                    <p:cond delay="800"/>
                                  </p:stCondLst>
                                  <p:childTnLst>
                                    <p:animMotion origin="layout" path="M 0.25 -1.48148E-006 L 4.375E-006 -1.48148E-006 E">
                                      <p:cBhvr>
                                        <p:cTn id="21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2" nodeType="withEffect" fill="hold" presetClass="exit" presetID="10">
                                  <p:stCondLst>
                                    <p:cond delay="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xit" presetID="10">
                                  <p:stCondLst>
                                    <p:cond delay="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6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" nodeType="withEffect" fill="hold" presetClass="exit" presetID="10">
                                  <p:stCondLst>
                                    <p:cond delay="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xit" presetID="10">
                                  <p:stCondLst>
                                    <p:cond delay="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4" restart="whenNotActive" nodeType="interactiveSeq" fill="hold">
                <p:stCondLst>
                  <p:cond delay="0" evt="onClick">
                    <p:tgtEl>
                      <p:spTgt spid="120"/>
                    </p:tgtEl>
                  </p:cond>
                </p:stCondLst>
                <p:childTnLst>
                  <p:par>
                    <p:cTn id="225" nodeType="clickEffect" fill="hold">
                      <p:stCondLst>
                        <p:cond delay="0" evt="onClick">
                          <p:tgtEl>
                            <p:spTgt spid="120"/>
                          </p:tgtEl>
                        </p:cond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7058 3.7037E-006 L 1.20742 3.7037E-006 E">
                                      <p:cBhvr>
                                        <p:cTn id="22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path" presetID="63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0.47058 0 L 1.20586 0 E">
                                      <p:cBhvr>
                                        <p:cTn id="23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3" nodeType="withEffect" fill="hold" presetClass="path" presetID="63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0.47058 -1.85185E-006 L 1.20898 -1.85185E-006 E">
                                      <p:cBhvr>
                                        <p:cTn id="23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5" nodeType="withEffect" fill="hold" presetClass="path" presetID="63">
                                  <p:stCondLst>
                                    <p:cond delay="600"/>
                                  </p:stCondLst>
                                  <p:childTnLst>
                                    <p:animMotion origin="layout" path="M 0.47058 -3.7037E-006 L 1.20742 -3.7037E-006 E">
                                      <p:cBhvr>
                                        <p:cTn id="23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7" nodeType="withEffect" fill="hold" presetClass="path" presetID="63">
                                  <p:stCondLst>
                                    <p:cond delay="800"/>
                                  </p:stCondLst>
                                  <p:childTnLst>
                                    <p:animMotion origin="layout" path="M 0.47057 1.85185E-006 L 0.90742 -0.48287 E">
                                      <p:cBhvr>
                                        <p:cTn id="23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9" nodeType="withEffect" fill="hold" presetClass="path" presetID="35">
                                  <p:stCondLst>
                                    <p:cond delay="800"/>
                                  </p:stCondLst>
                                  <p:childTnLst>
                                    <p:animMotion origin="layout" path="M 0.25 -1.48148E-006 L 4.375E-006 -1.48148E-006 E">
                                      <p:cBhvr>
                                        <p:cTn id="24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1" nodeType="withEffect" fill="hold" presetClass="exit" presetID="10">
                                  <p:stCondLst>
                                    <p:cond delay="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" nodeType="withEffect" fill="hold" presetClass="exit" presetID="10">
                                  <p:stCondLst>
                                    <p:cond delay="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xit" presetID="10">
                                  <p:stCondLst>
                                    <p:cond delay="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" nodeType="withEffect" fill="hold" presetClass="exit" presetID="10">
                                  <p:stCondLst>
                                    <p:cond delay="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3" restart="whenNotActive" nodeType="interactiveSeq" fill="hold">
                <p:stCondLst>
                  <p:cond delay="0" evt="onClick">
                    <p:tgtEl>
                      <p:spTgt spid="121"/>
                    </p:tgtEl>
                  </p:cond>
                </p:stCondLst>
                <p:childTnLst>
                  <p:par>
                    <p:cTn id="254" nodeType="clickEffect" fill="hold">
                      <p:stCondLst>
                        <p:cond delay="0" evt="onClick">
                          <p:tgtEl>
                            <p:spTgt spid="121"/>
                          </p:tgtEl>
                        </p:cond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7057 1.85185E-006 L 1.20586 1.85185E-006 E">
                                      <p:cBhvr>
                                        <p:cTn id="25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0" nodeType="withEffect" fill="hold" presetClass="path" presetID="63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0.47057 0 L 1.20898 0 E">
                                      <p:cBhvr>
                                        <p:cTn id="26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2" nodeType="withEffect" fill="hold" presetClass="path" presetID="63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0.47058 -1.85185E-006 L 1.20742 -1.85185E-006 E">
                                      <p:cBhvr>
                                        <p:cTn id="26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4" nodeType="withEffect" fill="hold" presetClass="path" presetID="63">
                                  <p:stCondLst>
                                    <p:cond delay="600"/>
                                  </p:stCondLst>
                                  <p:childTnLst>
                                    <p:animMotion origin="layout" path="M 0.47058 -3.7037E-006 L 1.20742 -3.7037E-006 E">
                                      <p:cBhvr>
                                        <p:cTn id="26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6" nodeType="withEffect" fill="hold" presetClass="path" presetID="63">
                                  <p:stCondLst>
                                    <p:cond delay="800"/>
                                  </p:stCondLst>
                                  <p:childTnLst>
                                    <p:animMotion origin="layout" path="M 0.47058 -5.0307E-017 L 0.91367 -0.6213 E">
                                      <p:cBhvr>
                                        <p:cTn id="26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8" nodeType="withEffect" fill="hold" presetClass="path" presetID="35">
                                  <p:stCondLst>
                                    <p:cond delay="800"/>
                                  </p:stCondLst>
                                  <p:childTnLst>
                                    <p:animMotion origin="layout" path="M 0.25 -1.48148E-006 L 4.375E-006 -1.48148E-006 E">
                                      <p:cBhvr>
                                        <p:cTn id="26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0" nodeType="withEffect" fill="hold" presetClass="exit" presetID="10">
                                  <p:stCondLst>
                                    <p:cond delay="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exit" presetID="10">
                                  <p:stCondLst>
                                    <p:cond delay="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6" nodeType="withEffect" fill="hold" presetClass="exit" presetID="10">
                                  <p:stCondLst>
                                    <p:cond delay="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xit" presetID="10">
                                  <p:stCondLst>
                                    <p:cond delay="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矩形 2"/>
          <p:cNvSpPr/>
          <p:nvPr/>
        </p:nvSpPr>
        <p:spPr>
          <a:xfrm>
            <a:off x="8601120" y="665280"/>
            <a:ext cx="2504880" cy="740880"/>
          </a:xfrm>
          <a:prstGeom prst="rect">
            <a:avLst/>
          </a:prstGeom>
          <a:solidFill>
            <a:srgbClr val="2fa3ee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2800" spc="-1" strike="noStrike">
                <a:solidFill>
                  <a:schemeClr val="lt1"/>
                </a:solidFill>
                <a:latin typeface="微软雅黑"/>
                <a:ea typeface="微软雅黑"/>
              </a:rPr>
              <a:t>基础信息管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矩形 27"/>
          <p:cNvSpPr/>
          <p:nvPr/>
        </p:nvSpPr>
        <p:spPr>
          <a:xfrm>
            <a:off x="1792440" y="2039760"/>
            <a:ext cx="3001680" cy="1388880"/>
          </a:xfrm>
          <a:prstGeom prst="rect">
            <a:avLst/>
          </a:prstGeom>
          <a:solidFill>
            <a:srgbClr val="2fa3ee"/>
          </a:solidFill>
          <a:ln>
            <a:solidFill>
              <a:srgbClr val="2278b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3200" spc="-1" strike="noStrike">
                <a:solidFill>
                  <a:schemeClr val="lt1"/>
                </a:solidFill>
                <a:latin typeface="微软雅黑"/>
                <a:ea typeface="微软雅黑"/>
              </a:rPr>
              <a:t>增加员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直接连接符 33"/>
          <p:cNvCxnSpPr/>
          <p:nvPr/>
        </p:nvCxnSpPr>
        <p:spPr>
          <a:xfrm>
            <a:off x="1136520" y="1790640"/>
            <a:ext cx="11055600" cy="360"/>
          </a:xfrm>
          <a:prstGeom prst="straightConnector1">
            <a:avLst/>
          </a:prstGeom>
          <a:ln>
            <a:solidFill>
              <a:srgbClr val="2fa3ee"/>
            </a:solidFill>
            <a:round/>
          </a:ln>
        </p:spPr>
      </p:cxnSp>
      <p:cxnSp>
        <p:nvCxnSpPr>
          <p:cNvPr id="133" name="直接连接符 34"/>
          <p:cNvCxnSpPr/>
          <p:nvPr/>
        </p:nvCxnSpPr>
        <p:spPr>
          <a:xfrm>
            <a:off x="1136520" y="1790640"/>
            <a:ext cx="360" cy="4467600"/>
          </a:xfrm>
          <a:prstGeom prst="straightConnector1">
            <a:avLst/>
          </a:prstGeom>
          <a:ln>
            <a:solidFill>
              <a:srgbClr val="2fa3ee"/>
            </a:solidFill>
            <a:round/>
          </a:ln>
        </p:spPr>
      </p:cxnSp>
      <p:sp>
        <p:nvSpPr>
          <p:cNvPr id="134" name="矩形 35"/>
          <p:cNvSpPr/>
          <p:nvPr/>
        </p:nvSpPr>
        <p:spPr>
          <a:xfrm>
            <a:off x="5599080" y="2039760"/>
            <a:ext cx="3001680" cy="1388880"/>
          </a:xfrm>
          <a:prstGeom prst="rect">
            <a:avLst/>
          </a:prstGeom>
          <a:solidFill>
            <a:srgbClr val="2fa3ee"/>
          </a:solidFill>
          <a:ln>
            <a:solidFill>
              <a:srgbClr val="2278b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3200" spc="-1" strike="noStrike">
                <a:solidFill>
                  <a:schemeClr val="lt1"/>
                </a:solidFill>
                <a:latin typeface="微软雅黑"/>
                <a:ea typeface="微软雅黑"/>
              </a:rPr>
              <a:t>显示员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36"/>
          <p:cNvSpPr/>
          <p:nvPr/>
        </p:nvSpPr>
        <p:spPr>
          <a:xfrm>
            <a:off x="1792440" y="4024440"/>
            <a:ext cx="3001680" cy="1388880"/>
          </a:xfrm>
          <a:prstGeom prst="rect">
            <a:avLst/>
          </a:prstGeom>
          <a:solidFill>
            <a:srgbClr val="2fa3ee"/>
          </a:solidFill>
          <a:ln>
            <a:solidFill>
              <a:srgbClr val="2278b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3200" spc="-1" strike="noStrike">
                <a:solidFill>
                  <a:schemeClr val="lt1"/>
                </a:solidFill>
                <a:latin typeface="微软雅黑"/>
                <a:ea typeface="微软雅黑"/>
              </a:rPr>
              <a:t>删除员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五边形 41">
            <a:hlinkClick r:id="rId1" action="ppaction://hlinksldjump"/>
          </p:cNvPr>
          <p:cNvSpPr/>
          <p:nvPr/>
        </p:nvSpPr>
        <p:spPr>
          <a:xfrm flipH="1">
            <a:off x="9279720" y="5985000"/>
            <a:ext cx="834840" cy="545760"/>
          </a:xfrm>
          <a:prstGeom prst="homePlate">
            <a:avLst>
              <a:gd name="adj" fmla="val 50000"/>
            </a:avLst>
          </a:prstGeom>
          <a:solidFill>
            <a:srgbClr val="2fa3ee"/>
          </a:solidFill>
          <a:ln>
            <a:solidFill>
              <a:srgbClr val="2278b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 u="sng">
                <a:solidFill>
                  <a:schemeClr val="lt1"/>
                </a:solidFill>
                <a:uFillTx/>
                <a:latin typeface="Tw Cen MT"/>
                <a:ea typeface="宋体"/>
                <a:hlinkClick r:id="rId2" action="ppaction://hlinksldjump"/>
              </a:rPr>
              <a:t>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五边形 42">
            <a:hlinkClick r:id="rId3" action="ppaction://hlinksldjump"/>
          </p:cNvPr>
          <p:cNvSpPr/>
          <p:nvPr/>
        </p:nvSpPr>
        <p:spPr>
          <a:xfrm>
            <a:off x="11377440" y="5985000"/>
            <a:ext cx="775800" cy="545760"/>
          </a:xfrm>
          <a:prstGeom prst="homePlate">
            <a:avLst>
              <a:gd name="adj" fmla="val 50000"/>
            </a:avLst>
          </a:prstGeom>
          <a:solidFill>
            <a:srgbClr val="2fa3ee"/>
          </a:solidFill>
          <a:ln>
            <a:solidFill>
              <a:srgbClr val="2278b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 u="sng">
                <a:solidFill>
                  <a:schemeClr val="lt1"/>
                </a:solidFill>
                <a:uFillTx/>
                <a:latin typeface="Tw Cen MT"/>
                <a:ea typeface="宋体"/>
                <a:hlinkClick r:id="" action="ppaction://hlinkshowjump?jump=lastslide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nodeType="clickEffect" fill="hold">
                      <p:stCondLst>
                        <p:cond delay="0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xit" presetID="22" presetSubtype="2">
                                  <p:stCondLst>
                                    <p:cond delay="50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xit" presetID="22" presetSubtype="1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29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0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0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矩形 3"/>
          <p:cNvSpPr/>
          <p:nvPr/>
        </p:nvSpPr>
        <p:spPr>
          <a:xfrm>
            <a:off x="8601120" y="665280"/>
            <a:ext cx="2504880" cy="740880"/>
          </a:xfrm>
          <a:prstGeom prst="rect">
            <a:avLst/>
          </a:prstGeom>
          <a:solidFill>
            <a:srgbClr val="2fa3ee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2800" spc="-1" strike="noStrike">
                <a:solidFill>
                  <a:schemeClr val="lt1"/>
                </a:solidFill>
                <a:latin typeface="微软雅黑"/>
                <a:ea typeface="微软雅黑"/>
              </a:rPr>
              <a:t>配送管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五边形 4">
            <a:hlinkClick r:id="rId1" action="ppaction://hlinksldjump"/>
          </p:cNvPr>
          <p:cNvSpPr/>
          <p:nvPr/>
        </p:nvSpPr>
        <p:spPr>
          <a:xfrm flipH="1">
            <a:off x="9279720" y="5985000"/>
            <a:ext cx="834840" cy="545760"/>
          </a:xfrm>
          <a:prstGeom prst="homePlate">
            <a:avLst>
              <a:gd name="adj" fmla="val 50000"/>
            </a:avLst>
          </a:prstGeom>
          <a:solidFill>
            <a:srgbClr val="2fa3ee"/>
          </a:solidFill>
          <a:ln>
            <a:solidFill>
              <a:srgbClr val="2278b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 u="sng">
                <a:solidFill>
                  <a:schemeClr val="lt1"/>
                </a:solidFill>
                <a:uFillTx/>
                <a:latin typeface="Tw Cen MT"/>
                <a:ea typeface="宋体"/>
                <a:hlinkClick r:id="rId2" action="ppaction://hlinksldjump"/>
              </a:rPr>
              <a:t>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0" name="直接连接符 5"/>
          <p:cNvCxnSpPr/>
          <p:nvPr/>
        </p:nvCxnSpPr>
        <p:spPr>
          <a:xfrm>
            <a:off x="1136520" y="1790640"/>
            <a:ext cx="11055600" cy="360"/>
          </a:xfrm>
          <a:prstGeom prst="straightConnector1">
            <a:avLst/>
          </a:prstGeom>
          <a:ln>
            <a:solidFill>
              <a:srgbClr val="2fa3ee"/>
            </a:solidFill>
            <a:round/>
          </a:ln>
        </p:spPr>
      </p:cxnSp>
      <p:cxnSp>
        <p:nvCxnSpPr>
          <p:cNvPr id="141" name="直接连接符 6"/>
          <p:cNvCxnSpPr/>
          <p:nvPr/>
        </p:nvCxnSpPr>
        <p:spPr>
          <a:xfrm>
            <a:off x="1136520" y="1790640"/>
            <a:ext cx="360" cy="4467600"/>
          </a:xfrm>
          <a:prstGeom prst="straightConnector1">
            <a:avLst/>
          </a:prstGeom>
          <a:ln>
            <a:solidFill>
              <a:srgbClr val="2fa3ee"/>
            </a:solidFill>
            <a:round/>
          </a:ln>
        </p:spPr>
      </p:cxnSp>
      <p:sp>
        <p:nvSpPr>
          <p:cNvPr id="142" name="矩形 7"/>
          <p:cNvSpPr/>
          <p:nvPr/>
        </p:nvSpPr>
        <p:spPr>
          <a:xfrm>
            <a:off x="1792440" y="2039760"/>
            <a:ext cx="3001680" cy="1388880"/>
          </a:xfrm>
          <a:prstGeom prst="rect">
            <a:avLst/>
          </a:prstGeom>
          <a:solidFill>
            <a:srgbClr val="2fa3ee"/>
          </a:solidFill>
          <a:ln>
            <a:solidFill>
              <a:srgbClr val="2278b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3200" spc="-1" strike="noStrike">
                <a:solidFill>
                  <a:schemeClr val="lt1"/>
                </a:solidFill>
                <a:latin typeface="微软雅黑"/>
                <a:ea typeface="微软雅黑"/>
              </a:rPr>
              <a:t>配送申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8"/>
          <p:cNvSpPr/>
          <p:nvPr/>
        </p:nvSpPr>
        <p:spPr>
          <a:xfrm>
            <a:off x="5599080" y="2039760"/>
            <a:ext cx="3001680" cy="1388880"/>
          </a:xfrm>
          <a:prstGeom prst="rect">
            <a:avLst/>
          </a:prstGeom>
          <a:solidFill>
            <a:srgbClr val="2fa3ee"/>
          </a:solidFill>
          <a:ln>
            <a:solidFill>
              <a:srgbClr val="2278b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3200" spc="-1" strike="noStrike">
                <a:solidFill>
                  <a:schemeClr val="lt1"/>
                </a:solidFill>
                <a:latin typeface="微软雅黑"/>
                <a:ea typeface="微软雅黑"/>
              </a:rPr>
              <a:t>配送查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9"/>
          <p:cNvSpPr/>
          <p:nvPr/>
        </p:nvSpPr>
        <p:spPr>
          <a:xfrm>
            <a:off x="1792440" y="4024440"/>
            <a:ext cx="3001680" cy="1388880"/>
          </a:xfrm>
          <a:prstGeom prst="rect">
            <a:avLst/>
          </a:prstGeom>
          <a:solidFill>
            <a:srgbClr val="2fa3ee"/>
          </a:solidFill>
          <a:ln>
            <a:solidFill>
              <a:srgbClr val="2278b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3200" spc="-1" strike="noStrike">
                <a:solidFill>
                  <a:schemeClr val="lt1"/>
                </a:solidFill>
                <a:latin typeface="微软雅黑"/>
                <a:ea typeface="微软雅黑"/>
              </a:rPr>
              <a:t>更新信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五边形 11">
            <a:hlinkClick r:id="rId3" action="ppaction://hlinksldjump"/>
          </p:cNvPr>
          <p:cNvSpPr/>
          <p:nvPr/>
        </p:nvSpPr>
        <p:spPr>
          <a:xfrm>
            <a:off x="11377440" y="5985000"/>
            <a:ext cx="775800" cy="545760"/>
          </a:xfrm>
          <a:prstGeom prst="homePlate">
            <a:avLst>
              <a:gd name="adj" fmla="val 50000"/>
            </a:avLst>
          </a:prstGeom>
          <a:solidFill>
            <a:srgbClr val="2fa3ee"/>
          </a:solidFill>
          <a:ln>
            <a:solidFill>
              <a:srgbClr val="2278b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 u="sng">
                <a:solidFill>
                  <a:schemeClr val="lt1"/>
                </a:solidFill>
                <a:uFillTx/>
                <a:latin typeface="Tw Cen MT"/>
                <a:ea typeface="宋体"/>
                <a:hlinkClick r:id="" action="ppaction://hlinkshowjump?jump=lastslide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3"/>
          <p:cNvSpPr/>
          <p:nvPr/>
        </p:nvSpPr>
        <p:spPr>
          <a:xfrm>
            <a:off x="392040" y="6339600"/>
            <a:ext cx="5327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56bcfe"/>
                </a:solidFill>
                <a:uFillTx/>
                <a:latin typeface="Arial"/>
                <a:ea typeface="宋体"/>
                <a:hlinkClick r:id="rId4"/>
              </a:rPr>
              <a:t>免费ppt模板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nodeType="clickEffect" fill="hold">
                      <p:stCondLst>
                        <p:cond delay="0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xit" presetID="22" presetSubtype="2">
                                  <p:stCondLst>
                                    <p:cond delay="50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2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xit" presetID="22" presetSubtype="1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33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0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10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矩形 1"/>
          <p:cNvSpPr/>
          <p:nvPr/>
        </p:nvSpPr>
        <p:spPr>
          <a:xfrm>
            <a:off x="8601120" y="665280"/>
            <a:ext cx="2504880" cy="740880"/>
          </a:xfrm>
          <a:prstGeom prst="rect">
            <a:avLst/>
          </a:prstGeom>
          <a:solidFill>
            <a:srgbClr val="2fa3ee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2800" spc="-1" strike="noStrike">
                <a:solidFill>
                  <a:schemeClr val="lt1"/>
                </a:solidFill>
                <a:latin typeface="微软雅黑"/>
                <a:ea typeface="微软雅黑"/>
              </a:rPr>
              <a:t>仓库管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8" name="直接连接符 6"/>
          <p:cNvCxnSpPr/>
          <p:nvPr/>
        </p:nvCxnSpPr>
        <p:spPr>
          <a:xfrm>
            <a:off x="1136520" y="1790640"/>
            <a:ext cx="11055600" cy="360"/>
          </a:xfrm>
          <a:prstGeom prst="straightConnector1">
            <a:avLst/>
          </a:prstGeom>
          <a:ln>
            <a:solidFill>
              <a:srgbClr val="2fa3ee"/>
            </a:solidFill>
            <a:round/>
          </a:ln>
        </p:spPr>
      </p:cxnSp>
      <p:cxnSp>
        <p:nvCxnSpPr>
          <p:cNvPr id="149" name="直接连接符 7"/>
          <p:cNvCxnSpPr/>
          <p:nvPr/>
        </p:nvCxnSpPr>
        <p:spPr>
          <a:xfrm>
            <a:off x="1136520" y="1790640"/>
            <a:ext cx="360" cy="4467600"/>
          </a:xfrm>
          <a:prstGeom prst="straightConnector1">
            <a:avLst/>
          </a:prstGeom>
          <a:ln>
            <a:solidFill>
              <a:srgbClr val="2fa3ee"/>
            </a:solidFill>
            <a:round/>
          </a:ln>
        </p:spPr>
      </p:cxnSp>
      <p:sp>
        <p:nvSpPr>
          <p:cNvPr id="150" name="矩形 8"/>
          <p:cNvSpPr/>
          <p:nvPr/>
        </p:nvSpPr>
        <p:spPr>
          <a:xfrm>
            <a:off x="1792440" y="2039760"/>
            <a:ext cx="3001680" cy="1388880"/>
          </a:xfrm>
          <a:prstGeom prst="rect">
            <a:avLst/>
          </a:prstGeom>
          <a:solidFill>
            <a:srgbClr val="2fa3ee"/>
          </a:solidFill>
          <a:ln>
            <a:solidFill>
              <a:srgbClr val="2278b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3200" spc="-1" strike="noStrike">
                <a:solidFill>
                  <a:schemeClr val="lt1"/>
                </a:solidFill>
                <a:latin typeface="微软雅黑"/>
                <a:ea typeface="微软雅黑"/>
              </a:rPr>
              <a:t>货品入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9"/>
          <p:cNvSpPr/>
          <p:nvPr/>
        </p:nvSpPr>
        <p:spPr>
          <a:xfrm>
            <a:off x="5599080" y="2039760"/>
            <a:ext cx="3001680" cy="1388880"/>
          </a:xfrm>
          <a:prstGeom prst="rect">
            <a:avLst/>
          </a:prstGeom>
          <a:solidFill>
            <a:srgbClr val="2fa3ee"/>
          </a:solidFill>
          <a:ln>
            <a:solidFill>
              <a:srgbClr val="2278b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3200" spc="-1" strike="noStrike">
                <a:solidFill>
                  <a:schemeClr val="lt1"/>
                </a:solidFill>
                <a:latin typeface="微软雅黑"/>
                <a:ea typeface="微软雅黑"/>
              </a:rPr>
              <a:t>货品出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矩形 10"/>
          <p:cNvSpPr/>
          <p:nvPr/>
        </p:nvSpPr>
        <p:spPr>
          <a:xfrm>
            <a:off x="1792440" y="4024440"/>
            <a:ext cx="3001680" cy="1388880"/>
          </a:xfrm>
          <a:prstGeom prst="rect">
            <a:avLst/>
          </a:prstGeom>
          <a:solidFill>
            <a:srgbClr val="2fa3ee"/>
          </a:solidFill>
          <a:ln>
            <a:solidFill>
              <a:srgbClr val="2278b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3200" spc="-1" strike="noStrike">
                <a:solidFill>
                  <a:schemeClr val="lt1"/>
                </a:solidFill>
                <a:latin typeface="微软雅黑"/>
                <a:ea typeface="微软雅黑"/>
              </a:rPr>
              <a:t>货品查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11"/>
          <p:cNvSpPr/>
          <p:nvPr/>
        </p:nvSpPr>
        <p:spPr>
          <a:xfrm>
            <a:off x="5599080" y="4024440"/>
            <a:ext cx="3001680" cy="1388880"/>
          </a:xfrm>
          <a:prstGeom prst="rect">
            <a:avLst/>
          </a:prstGeom>
          <a:solidFill>
            <a:srgbClr val="2fa3ee"/>
          </a:solidFill>
          <a:ln>
            <a:solidFill>
              <a:srgbClr val="2278b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3200" spc="-1" strike="noStrike">
                <a:solidFill>
                  <a:schemeClr val="lt1"/>
                </a:solidFill>
                <a:latin typeface="微软雅黑"/>
                <a:ea typeface="微软雅黑"/>
              </a:rPr>
              <a:t>货品盘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五边形 12">
            <a:hlinkClick r:id="rId1" action="ppaction://hlinksldjump"/>
          </p:cNvPr>
          <p:cNvSpPr/>
          <p:nvPr/>
        </p:nvSpPr>
        <p:spPr>
          <a:xfrm flipH="1">
            <a:off x="9279720" y="5985000"/>
            <a:ext cx="834840" cy="545760"/>
          </a:xfrm>
          <a:prstGeom prst="homePlate">
            <a:avLst>
              <a:gd name="adj" fmla="val 50000"/>
            </a:avLst>
          </a:prstGeom>
          <a:solidFill>
            <a:srgbClr val="2fa3ee"/>
          </a:solidFill>
          <a:ln>
            <a:solidFill>
              <a:srgbClr val="2278b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 u="sng">
                <a:solidFill>
                  <a:schemeClr val="lt1"/>
                </a:solidFill>
                <a:uFillTx/>
                <a:latin typeface="Tw Cen MT"/>
                <a:ea typeface="宋体"/>
                <a:hlinkClick r:id="rId2" action="ppaction://hlinksldjump"/>
              </a:rPr>
              <a:t>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五边形 13">
            <a:hlinkClick r:id="rId3" action="ppaction://hlinksldjump"/>
          </p:cNvPr>
          <p:cNvSpPr/>
          <p:nvPr/>
        </p:nvSpPr>
        <p:spPr>
          <a:xfrm>
            <a:off x="11377440" y="5985000"/>
            <a:ext cx="775800" cy="545760"/>
          </a:xfrm>
          <a:prstGeom prst="homePlate">
            <a:avLst>
              <a:gd name="adj" fmla="val 50000"/>
            </a:avLst>
          </a:prstGeom>
          <a:solidFill>
            <a:srgbClr val="2fa3ee"/>
          </a:solidFill>
          <a:ln>
            <a:solidFill>
              <a:srgbClr val="2278b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 u="sng">
                <a:solidFill>
                  <a:schemeClr val="lt1"/>
                </a:solidFill>
                <a:uFillTx/>
                <a:latin typeface="Tw Cen MT"/>
                <a:ea typeface="宋体"/>
                <a:hlinkClick r:id="" action="ppaction://hlinkshowjump?jump=lastslide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nodeType="clickEffect" fill="hold">
                      <p:stCondLst>
                        <p:cond delay="0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xit" presetID="22" presetSubtype="2">
                                  <p:stCondLst>
                                    <p:cond delay="50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55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22" presetSubtype="1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35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10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10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10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矩形 1"/>
          <p:cNvSpPr/>
          <p:nvPr/>
        </p:nvSpPr>
        <p:spPr>
          <a:xfrm>
            <a:off x="8601120" y="665280"/>
            <a:ext cx="2504880" cy="740880"/>
          </a:xfrm>
          <a:prstGeom prst="rect">
            <a:avLst/>
          </a:prstGeom>
          <a:solidFill>
            <a:srgbClr val="2fa3ee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2800" spc="-1" strike="noStrike">
                <a:solidFill>
                  <a:schemeClr val="lt1"/>
                </a:solidFill>
                <a:latin typeface="微软雅黑"/>
                <a:ea typeface="微软雅黑"/>
              </a:rPr>
              <a:t>系统设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7" name="直接连接符 6"/>
          <p:cNvCxnSpPr/>
          <p:nvPr/>
        </p:nvCxnSpPr>
        <p:spPr>
          <a:xfrm>
            <a:off x="1136520" y="1790640"/>
            <a:ext cx="11055600" cy="360"/>
          </a:xfrm>
          <a:prstGeom prst="straightConnector1">
            <a:avLst/>
          </a:prstGeom>
          <a:ln>
            <a:solidFill>
              <a:srgbClr val="2fa3ee"/>
            </a:solidFill>
            <a:round/>
          </a:ln>
        </p:spPr>
      </p:cxnSp>
      <p:cxnSp>
        <p:nvCxnSpPr>
          <p:cNvPr id="158" name="直接连接符 7"/>
          <p:cNvCxnSpPr/>
          <p:nvPr/>
        </p:nvCxnSpPr>
        <p:spPr>
          <a:xfrm>
            <a:off x="1136520" y="1790640"/>
            <a:ext cx="360" cy="4467600"/>
          </a:xfrm>
          <a:prstGeom prst="straightConnector1">
            <a:avLst/>
          </a:prstGeom>
          <a:ln>
            <a:solidFill>
              <a:srgbClr val="2fa3ee"/>
            </a:solidFill>
            <a:round/>
          </a:ln>
        </p:spPr>
      </p:cxnSp>
      <p:sp>
        <p:nvSpPr>
          <p:cNvPr id="159" name="矩形 8"/>
          <p:cNvSpPr/>
          <p:nvPr/>
        </p:nvSpPr>
        <p:spPr>
          <a:xfrm>
            <a:off x="1792440" y="2039760"/>
            <a:ext cx="3001680" cy="1388880"/>
          </a:xfrm>
          <a:prstGeom prst="rect">
            <a:avLst/>
          </a:prstGeom>
          <a:solidFill>
            <a:srgbClr val="2fa3ee"/>
          </a:solidFill>
          <a:ln>
            <a:solidFill>
              <a:srgbClr val="2278b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3200" spc="-1" strike="noStrike">
                <a:solidFill>
                  <a:schemeClr val="lt1"/>
                </a:solidFill>
                <a:latin typeface="微软雅黑"/>
                <a:ea typeface="微软雅黑"/>
              </a:rPr>
              <a:t>权限设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矩形 9"/>
          <p:cNvSpPr/>
          <p:nvPr/>
        </p:nvSpPr>
        <p:spPr>
          <a:xfrm>
            <a:off x="5599080" y="2039760"/>
            <a:ext cx="3001680" cy="1388880"/>
          </a:xfrm>
          <a:prstGeom prst="rect">
            <a:avLst/>
          </a:prstGeom>
          <a:solidFill>
            <a:srgbClr val="2fa3ee"/>
          </a:solidFill>
          <a:ln>
            <a:solidFill>
              <a:srgbClr val="2278b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3200" spc="-1" strike="noStrike">
                <a:solidFill>
                  <a:schemeClr val="lt1"/>
                </a:solidFill>
                <a:latin typeface="微软雅黑"/>
                <a:ea typeface="微软雅黑"/>
              </a:rPr>
              <a:t>信息维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五边形 12">
            <a:hlinkClick r:id="rId1" action="ppaction://hlinksldjump"/>
          </p:cNvPr>
          <p:cNvSpPr/>
          <p:nvPr/>
        </p:nvSpPr>
        <p:spPr>
          <a:xfrm flipH="1">
            <a:off x="9279720" y="5985000"/>
            <a:ext cx="834840" cy="545760"/>
          </a:xfrm>
          <a:prstGeom prst="homePlate">
            <a:avLst>
              <a:gd name="adj" fmla="val 50000"/>
            </a:avLst>
          </a:prstGeom>
          <a:solidFill>
            <a:srgbClr val="2fa3ee"/>
          </a:solidFill>
          <a:ln>
            <a:solidFill>
              <a:srgbClr val="2278b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 u="sng">
                <a:solidFill>
                  <a:schemeClr val="lt1"/>
                </a:solidFill>
                <a:uFillTx/>
                <a:latin typeface="Tw Cen MT"/>
                <a:ea typeface="宋体"/>
                <a:hlinkClick r:id="rId2" action="ppaction://hlinksldjump"/>
              </a:rPr>
              <a:t>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五边形 13">
            <a:hlinkClick r:id="rId3" action="ppaction://hlinksldjump"/>
          </p:cNvPr>
          <p:cNvSpPr/>
          <p:nvPr/>
        </p:nvSpPr>
        <p:spPr>
          <a:xfrm>
            <a:off x="11377440" y="5985000"/>
            <a:ext cx="775800" cy="545760"/>
          </a:xfrm>
          <a:prstGeom prst="homePlate">
            <a:avLst>
              <a:gd name="adj" fmla="val 50000"/>
            </a:avLst>
          </a:prstGeom>
          <a:solidFill>
            <a:srgbClr val="2fa3ee"/>
          </a:solidFill>
          <a:ln>
            <a:solidFill>
              <a:srgbClr val="2278b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 u="sng">
                <a:solidFill>
                  <a:schemeClr val="lt1"/>
                </a:solidFill>
                <a:uFillTx/>
                <a:latin typeface="Tw Cen MT"/>
                <a:ea typeface="宋体"/>
                <a:hlinkClick r:id="" action="ppaction://hlinkshowjump?jump=lastslide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nodeType="clickEffect" fill="hold">
                      <p:stCondLst>
                        <p:cond delay="0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xit" presetID="22" presetSubtype="2">
                                  <p:stCondLst>
                                    <p:cond delay="50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89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1" nodeType="withEffect" fill="hold" presetClass="exit" presetID="22" presetSubtype="1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39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10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矩形 1"/>
          <p:cNvSpPr/>
          <p:nvPr/>
        </p:nvSpPr>
        <p:spPr>
          <a:xfrm>
            <a:off x="8601120" y="665280"/>
            <a:ext cx="2504880" cy="740880"/>
          </a:xfrm>
          <a:prstGeom prst="rect">
            <a:avLst/>
          </a:prstGeom>
          <a:solidFill>
            <a:srgbClr val="2fa3ee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2800" spc="-1" strike="noStrike">
                <a:solidFill>
                  <a:schemeClr val="lt1"/>
                </a:solidFill>
                <a:latin typeface="微软雅黑"/>
                <a:ea typeface="微软雅黑"/>
              </a:rPr>
              <a:t>客户查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4" name="直接连接符 6"/>
          <p:cNvCxnSpPr/>
          <p:nvPr/>
        </p:nvCxnSpPr>
        <p:spPr>
          <a:xfrm>
            <a:off x="1136520" y="1790640"/>
            <a:ext cx="11055600" cy="360"/>
          </a:xfrm>
          <a:prstGeom prst="straightConnector1">
            <a:avLst/>
          </a:prstGeom>
          <a:ln>
            <a:solidFill>
              <a:srgbClr val="2fa3ee"/>
            </a:solidFill>
            <a:round/>
          </a:ln>
        </p:spPr>
      </p:cxnSp>
      <p:cxnSp>
        <p:nvCxnSpPr>
          <p:cNvPr id="165" name="直接连接符 7"/>
          <p:cNvCxnSpPr/>
          <p:nvPr/>
        </p:nvCxnSpPr>
        <p:spPr>
          <a:xfrm>
            <a:off x="1136520" y="1790640"/>
            <a:ext cx="360" cy="4467600"/>
          </a:xfrm>
          <a:prstGeom prst="straightConnector1">
            <a:avLst/>
          </a:prstGeom>
          <a:ln>
            <a:solidFill>
              <a:srgbClr val="2fa3ee"/>
            </a:solidFill>
            <a:round/>
          </a:ln>
        </p:spPr>
      </p:cxnSp>
      <p:sp>
        <p:nvSpPr>
          <p:cNvPr id="166" name="矩形 8"/>
          <p:cNvSpPr/>
          <p:nvPr/>
        </p:nvSpPr>
        <p:spPr>
          <a:xfrm>
            <a:off x="1792440" y="2039760"/>
            <a:ext cx="3001680" cy="1388880"/>
          </a:xfrm>
          <a:prstGeom prst="rect">
            <a:avLst/>
          </a:prstGeom>
          <a:solidFill>
            <a:srgbClr val="2fa3ee"/>
          </a:solidFill>
          <a:ln>
            <a:solidFill>
              <a:srgbClr val="2278b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3200" spc="-1" strike="noStrike">
                <a:solidFill>
                  <a:schemeClr val="lt1"/>
                </a:solidFill>
                <a:latin typeface="微软雅黑"/>
                <a:ea typeface="微软雅黑"/>
              </a:rPr>
              <a:t>物流信息查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矩形 9"/>
          <p:cNvSpPr/>
          <p:nvPr/>
        </p:nvSpPr>
        <p:spPr>
          <a:xfrm>
            <a:off x="5599080" y="2039760"/>
            <a:ext cx="3001680" cy="1388880"/>
          </a:xfrm>
          <a:prstGeom prst="rect">
            <a:avLst/>
          </a:prstGeom>
          <a:solidFill>
            <a:srgbClr val="2fa3ee"/>
          </a:solidFill>
          <a:ln>
            <a:solidFill>
              <a:srgbClr val="2278b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3200" spc="-1" strike="noStrike">
                <a:solidFill>
                  <a:schemeClr val="lt1"/>
                </a:solidFill>
                <a:latin typeface="微软雅黑"/>
                <a:ea typeface="微软雅黑"/>
              </a:rPr>
              <a:t>运单信息查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五边形 12">
            <a:hlinkClick r:id="rId1" action="ppaction://hlinksldjump"/>
          </p:cNvPr>
          <p:cNvSpPr/>
          <p:nvPr/>
        </p:nvSpPr>
        <p:spPr>
          <a:xfrm flipH="1">
            <a:off x="9279720" y="5985000"/>
            <a:ext cx="834840" cy="545760"/>
          </a:xfrm>
          <a:prstGeom prst="homePlate">
            <a:avLst>
              <a:gd name="adj" fmla="val 50000"/>
            </a:avLst>
          </a:prstGeom>
          <a:solidFill>
            <a:srgbClr val="2fa3ee"/>
          </a:solidFill>
          <a:ln>
            <a:solidFill>
              <a:srgbClr val="2278b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 u="sng">
                <a:solidFill>
                  <a:schemeClr val="lt1"/>
                </a:solidFill>
                <a:uFillTx/>
                <a:latin typeface="Tw Cen MT"/>
                <a:ea typeface="宋体"/>
                <a:hlinkClick r:id="rId2" action="ppaction://hlinksldjump"/>
              </a:rPr>
              <a:t>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五边形 13">
            <a:hlinkClick r:id="rId3" action="ppaction://hlinksldjump"/>
          </p:cNvPr>
          <p:cNvSpPr/>
          <p:nvPr/>
        </p:nvSpPr>
        <p:spPr>
          <a:xfrm>
            <a:off x="11377440" y="5985000"/>
            <a:ext cx="775800" cy="545760"/>
          </a:xfrm>
          <a:prstGeom prst="homePlate">
            <a:avLst>
              <a:gd name="adj" fmla="val 50000"/>
            </a:avLst>
          </a:prstGeom>
          <a:solidFill>
            <a:srgbClr val="2fa3ee"/>
          </a:solidFill>
          <a:ln>
            <a:solidFill>
              <a:srgbClr val="2278b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 u="sng">
                <a:solidFill>
                  <a:schemeClr val="lt1"/>
                </a:solidFill>
                <a:uFillTx/>
                <a:latin typeface="Tw Cen MT"/>
                <a:ea typeface="宋体"/>
                <a:hlinkClick r:id="" action="ppaction://hlinkshowjump?jump=lastslide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nodeType="clickEffect" fill="hold">
                      <p:stCondLst>
                        <p:cond delay="0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nodeType="withEffect" fill="hold" presetClass="exit" presetID="22" presetSubtype="2">
                                  <p:stCondLst>
                                    <p:cond delay="50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41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9" nodeType="withEffect" fill="hold" presetClass="exit" presetID="22" presetSubtype="1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420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4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10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水滴">
  <a:themeElements>
    <a:clrScheme name="水滴">
      <a:dk1>
        <a:srgbClr val="000000"/>
      </a:dk1>
      <a:lt1>
        <a:srgbClr val="ffffff"/>
      </a:lt1>
      <a:dk2>
        <a:srgbClr val="355071"/>
      </a:dk2>
      <a:lt2>
        <a:srgbClr val="aabed7"/>
      </a:lt2>
      <a:accent1>
        <a:srgbClr val="2fa3ee"/>
      </a:accent1>
      <a:accent2>
        <a:srgbClr val="4bcaad"/>
      </a:accent2>
      <a:accent3>
        <a:srgbClr val="86c157"/>
      </a:accent3>
      <a:accent4>
        <a:srgbClr val="d99c3f"/>
      </a:accent4>
      <a:accent5>
        <a:srgbClr val="ce6633"/>
      </a:accent5>
      <a:accent6>
        <a:srgbClr val="a35dd1"/>
      </a:accent6>
      <a:hlink>
        <a:srgbClr val="56bcfe"/>
      </a:hlink>
      <a:folHlink>
        <a:srgbClr val="97c5e3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水滴">
  <a:themeElements>
    <a:clrScheme name="水滴">
      <a:dk1>
        <a:srgbClr val="000000"/>
      </a:dk1>
      <a:lt1>
        <a:srgbClr val="ffffff"/>
      </a:lt1>
      <a:dk2>
        <a:srgbClr val="355071"/>
      </a:dk2>
      <a:lt2>
        <a:srgbClr val="aabed7"/>
      </a:lt2>
      <a:accent1>
        <a:srgbClr val="2fa3ee"/>
      </a:accent1>
      <a:accent2>
        <a:srgbClr val="4bcaad"/>
      </a:accent2>
      <a:accent3>
        <a:srgbClr val="86c157"/>
      </a:accent3>
      <a:accent4>
        <a:srgbClr val="d99c3f"/>
      </a:accent4>
      <a:accent5>
        <a:srgbClr val="ce6633"/>
      </a:accent5>
      <a:accent6>
        <a:srgbClr val="a35dd1"/>
      </a:accent6>
      <a:hlink>
        <a:srgbClr val="56bcfe"/>
      </a:hlink>
      <a:folHlink>
        <a:srgbClr val="97c5e3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TC104033925[[fn=水滴]]</Template>
  <TotalTime>392</TotalTime>
  <Application>LibreOffice/7.4.7.2$Linux_X86_64 LibreOffice_project/40$Build-2</Application>
  <AppVersion>15.0000</AppVersion>
  <Words>120</Words>
  <Paragraphs>57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07T05:04:42Z</dcterms:created>
  <dc:creator>方志鹏</dc:creator>
  <dc:description/>
  <dc:language>en-US</dc:language>
  <cp:lastModifiedBy>王玉清</cp:lastModifiedBy>
  <dcterms:modified xsi:type="dcterms:W3CDTF">2016-02-24T02:47:08Z</dcterms:modified>
  <cp:revision>40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宽屏</vt:lpwstr>
  </property>
  <property fmtid="{D5CDD505-2E9C-101B-9397-08002B2CF9AE}" pid="3" name="Slides">
    <vt:r8>10</vt:r8>
  </property>
</Properties>
</file>