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ECDE-AF1A-493D-A72D-4294D4391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FB23-329F-448F-A817-2B903E9B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E87-9326-4127-8AF3-84CEA79B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DFB-F70F-445D-BD21-96597468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1268F3-7570-4A33-84BB-0A8DFF03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6E0F7-8BB3-466A-B4B9-2929D2CC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C77E89-1BEE-4D19-8CE3-54DAAA86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015C0-D257-4851-89A8-DEDD9020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E00CF-105C-4D23-805E-F2008EDA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812AC-F4E8-463D-BFF8-351CF995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846DA-C69E-4BD8-9B58-59ED6727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45D-D4CA-4741-8165-C85AF1CC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8AA73-E309-4733-AA2D-E4E2A4DC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7FD5F-0201-4FD9-AC93-C8722CDA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851EE-F9B5-4E88-A801-2906FB99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6EE72-25FF-4959-9CF9-4DB66753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4B7A0-32AC-492C-9B7D-32E38BFA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FDA2-F56C-4D0E-999D-B4C0A22C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C13E-7E01-417D-90FA-D40AFEE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DBE9-EE8F-4501-8E26-ED47A7C0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6FD4-9B1A-4B1B-98BD-378FF904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FD1-251A-42BF-9390-3A0129A8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30B-342C-4A89-94C1-78E9080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D12-41BB-4917-BEC3-FD79A450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61E6-BE7A-43A2-9DDE-EEBF48445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26520" y="6477120"/>
            <a:ext cx="25146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EA85-0C77-4A5F-9C2D-183ECBFE1D97}" type="slidenum">
              <a:rPr b="0" lang="ko-K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2" descr="1"/>
          <p:cNvPicPr/>
          <p:nvPr/>
        </p:nvPicPr>
        <p:blipFill>
          <a:blip r:embed="rId1"/>
          <a:stretch/>
        </p:blipFill>
        <p:spPr>
          <a:xfrm>
            <a:off x="581040" y="0"/>
            <a:ext cx="7572240" cy="7620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4"/>
          <p:cNvPicPr/>
          <p:nvPr/>
        </p:nvPicPr>
        <p:blipFill>
          <a:blip r:embed="rId2"/>
          <a:srcRect l="34213" t="19002" r="53712" b="66004"/>
          <a:stretch/>
        </p:blipFill>
        <p:spPr>
          <a:xfrm>
            <a:off x="3171960" y="14479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5"/>
          <p:cNvPicPr/>
          <p:nvPr/>
        </p:nvPicPr>
        <p:blipFill>
          <a:blip r:embed="rId3"/>
          <a:srcRect l="56355" t="5000" r="25537" b="81001"/>
          <a:stretch/>
        </p:blipFill>
        <p:spPr>
          <a:xfrm>
            <a:off x="4848120" y="3808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6"/>
          <p:cNvPicPr/>
          <p:nvPr/>
        </p:nvPicPr>
        <p:blipFill>
          <a:blip r:embed="rId4"/>
          <a:srcRect l="47297" t="20001" r="35600" b="67003"/>
          <a:stretch/>
        </p:blipFill>
        <p:spPr>
          <a:xfrm>
            <a:off x="4162320" y="1523880"/>
            <a:ext cx="129564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7"/>
          <p:cNvPicPr/>
          <p:nvPr/>
        </p:nvPicPr>
        <p:blipFill>
          <a:blip r:embed="rId5"/>
          <a:srcRect l="53334" t="4001" r="14468" b="69002"/>
          <a:stretch/>
        </p:blipFill>
        <p:spPr>
          <a:xfrm>
            <a:off x="4619520" y="30492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8"/>
          <p:cNvPicPr/>
          <p:nvPr/>
        </p:nvPicPr>
        <p:blipFill>
          <a:blip r:embed="rId6"/>
          <a:srcRect l="53334" t="13002" r="0" b="41002"/>
          <a:stretch/>
        </p:blipFill>
        <p:spPr>
          <a:xfrm>
            <a:off x="4619520" y="990720"/>
            <a:ext cx="3533760" cy="3504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9"/>
          <p:cNvPicPr/>
          <p:nvPr/>
        </p:nvPicPr>
        <p:blipFill>
          <a:blip r:embed="rId7"/>
          <a:srcRect l="11069" t="27000" r="26542" b="26001"/>
          <a:stretch/>
        </p:blipFill>
        <p:spPr>
          <a:xfrm>
            <a:off x="1419120" y="2057400"/>
            <a:ext cx="4724640" cy="3581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10"/>
          <p:cNvPicPr/>
          <p:nvPr/>
        </p:nvPicPr>
        <p:blipFill>
          <a:blip r:embed="rId8"/>
          <a:srcRect l="48303" t="57003" r="0" b="0"/>
          <a:stretch/>
        </p:blipFill>
        <p:spPr>
          <a:xfrm>
            <a:off x="4238640" y="4343400"/>
            <a:ext cx="391464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2"/>
          <p:cNvPicPr/>
          <p:nvPr/>
        </p:nvPicPr>
        <p:blipFill>
          <a:blip r:embed="rId9"/>
          <a:srcRect l="7043" t="0" r="39623" b="91002"/>
          <a:stretch/>
        </p:blipFill>
        <p:spPr>
          <a:xfrm>
            <a:off x="1114560" y="0"/>
            <a:ext cx="4038480" cy="685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3"/>
          <p:cNvPicPr/>
          <p:nvPr/>
        </p:nvPicPr>
        <p:blipFill>
          <a:blip r:embed="rId10"/>
          <a:srcRect l="0" t="19002" r="73839" b="41002"/>
          <a:stretch/>
        </p:blipFill>
        <p:spPr>
          <a:xfrm>
            <a:off x="581040" y="1447920"/>
            <a:ext cx="1981080" cy="3047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7" descr="蝴蝶"/>
          <p:cNvPicPr/>
          <p:nvPr/>
        </p:nvPicPr>
        <p:blipFill>
          <a:blip r:embed="rId11"/>
          <a:srcRect l="68429" t="32001" r="13458" b="59001"/>
          <a:stretch/>
        </p:blipFill>
        <p:spPr>
          <a:xfrm rot="17696400">
            <a:off x="7009920" y="83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蝴蝶"/>
          <p:cNvPicPr/>
          <p:nvPr/>
        </p:nvPicPr>
        <p:blipFill>
          <a:blip r:embed="rId12"/>
          <a:srcRect l="68429" t="32001" r="13458" b="59001"/>
          <a:stretch/>
        </p:blipFill>
        <p:spPr>
          <a:xfrm rot="2917200">
            <a:off x="1409400" y="4991400"/>
            <a:ext cx="1067040" cy="53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蝴蝶"/>
          <p:cNvPicPr/>
          <p:nvPr/>
        </p:nvPicPr>
        <p:blipFill>
          <a:blip r:embed="rId13"/>
          <a:srcRect l="68429" t="32001" r="13458" b="59001"/>
          <a:stretch/>
        </p:blipFill>
        <p:spPr>
          <a:xfrm rot="21272400">
            <a:off x="2514240" y="510516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95" name="矩形 1"/>
          <p:cNvSpPr/>
          <p:nvPr/>
        </p:nvSpPr>
        <p:spPr>
          <a:xfrm>
            <a:off x="2094480" y="18399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唯美花藤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PPT</a:t>
            </a:r>
            <a:r>
              <a:rPr b="0" lang="ko-KR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 Unicode MS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4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7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32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7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6"/>
          <p:cNvGrpSpPr/>
          <p:nvPr/>
        </p:nvGrpSpPr>
        <p:grpSpPr>
          <a:xfrm>
            <a:off x="1752480" y="2057400"/>
            <a:ext cx="5648400" cy="644400"/>
            <a:chOff x="1752480" y="2057400"/>
            <a:chExt cx="5648400" cy="644400"/>
          </a:xfrm>
        </p:grpSpPr>
        <p:sp>
          <p:nvSpPr>
            <p:cNvPr id="99" name="AutoShape 5"/>
            <p:cNvSpPr/>
            <p:nvPr/>
          </p:nvSpPr>
          <p:spPr>
            <a:xfrm>
              <a:off x="1752480" y="205740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6"/>
            <p:cNvSpPr/>
            <p:nvPr/>
          </p:nvSpPr>
          <p:spPr>
            <a:xfrm>
              <a:off x="2117520" y="2178000"/>
              <a:ext cx="4910400" cy="4190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1. Int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7"/>
          <p:cNvGrpSpPr/>
          <p:nvPr/>
        </p:nvGrpSpPr>
        <p:grpSpPr>
          <a:xfrm>
            <a:off x="1752480" y="2895480"/>
            <a:ext cx="5648400" cy="644400"/>
            <a:chOff x="1752480" y="2895480"/>
            <a:chExt cx="5648400" cy="644400"/>
          </a:xfrm>
        </p:grpSpPr>
        <p:sp>
          <p:nvSpPr>
            <p:cNvPr id="102" name="AutoShape 18"/>
            <p:cNvSpPr/>
            <p:nvPr/>
          </p:nvSpPr>
          <p:spPr>
            <a:xfrm>
              <a:off x="1752480" y="289548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9"/>
            <p:cNvSpPr/>
            <p:nvPr/>
          </p:nvSpPr>
          <p:spPr>
            <a:xfrm>
              <a:off x="2117520" y="3016080"/>
              <a:ext cx="4910400" cy="4190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2. Strateg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0"/>
          <p:cNvGrpSpPr/>
          <p:nvPr/>
        </p:nvGrpSpPr>
        <p:grpSpPr>
          <a:xfrm>
            <a:off x="1752480" y="3733920"/>
            <a:ext cx="5648400" cy="644400"/>
            <a:chOff x="1752480" y="3733920"/>
            <a:chExt cx="5648400" cy="644400"/>
          </a:xfrm>
        </p:grpSpPr>
        <p:sp>
          <p:nvSpPr>
            <p:cNvPr id="105" name="AutoShape 21"/>
            <p:cNvSpPr/>
            <p:nvPr/>
          </p:nvSpPr>
          <p:spPr>
            <a:xfrm>
              <a:off x="1752480" y="373392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2"/>
            <p:cNvSpPr/>
            <p:nvPr/>
          </p:nvSpPr>
          <p:spPr>
            <a:xfrm>
              <a:off x="2117520" y="3854520"/>
              <a:ext cx="4910400" cy="4190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3. Challenges forwar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3"/>
          <p:cNvGrpSpPr/>
          <p:nvPr/>
        </p:nvGrpSpPr>
        <p:grpSpPr>
          <a:xfrm>
            <a:off x="1752480" y="4572000"/>
            <a:ext cx="5648400" cy="644400"/>
            <a:chOff x="1752480" y="4572000"/>
            <a:chExt cx="5648400" cy="644400"/>
          </a:xfrm>
        </p:grpSpPr>
        <p:sp>
          <p:nvSpPr>
            <p:cNvPr id="108" name="AutoShape 24"/>
            <p:cNvSpPr/>
            <p:nvPr/>
          </p:nvSpPr>
          <p:spPr>
            <a:xfrm>
              <a:off x="1752480" y="4572000"/>
              <a:ext cx="5648400" cy="644400"/>
            </a:xfrm>
            <a:custGeom>
              <a:avLst/>
              <a:gdLst>
                <a:gd name="textAreaLeft" fmla="*/ 75960 w 5648400"/>
                <a:gd name="textAreaRight" fmla="*/ 5572440 w 5648400"/>
                <a:gd name="textAreaTop" fmla="*/ 75960 h 644400"/>
                <a:gd name="textAreaBottom" fmla="*/ 568440 h 644400"/>
              </a:gdLst>
              <a:ahLst/>
              <a:rect l="textAreaLeft" t="textAreaTop" r="textAreaRight" b="textAreaBottom"/>
              <a:pathLst>
                <a:path w="18923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85638" y="21600"/>
                  </a:lnTo>
                  <a:arcTo wR="3600" hR="3600" stAng="10800000" swAng="5400000"/>
                  <a:lnTo>
                    <a:pt x="189238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2117520" y="4692600"/>
              <a:ext cx="4910400" cy="41904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65080"/>
                  <a:tab algn="l" pos="1730520"/>
                  <a:tab algn="l" pos="2595600"/>
                  <a:tab algn="l" pos="3460680"/>
                  <a:tab algn="l" pos="4325760"/>
                  <a:tab algn="l" pos="5191200"/>
                  <a:tab algn="l" pos="6056280"/>
                  <a:tab algn="l" pos="6921360"/>
                  <a:tab algn="l" pos="7786800"/>
                  <a:tab algn="l" pos="8651880"/>
                  <a:tab algn="l" pos="9516960"/>
                  <a:tab algn="l" pos="10382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Verdana"/>
                  <a:ea typeface="DotumChe"/>
                </a:rPr>
                <a:t>4. Conclu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e Column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049400" y="1782720"/>
            <a:ext cx="7047000" cy="3487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2122560" y="2475000"/>
            <a:ext cx="5843520" cy="265896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371600" y="20574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4038480" y="35812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.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Column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762120" y="2286000"/>
            <a:ext cx="7618320" cy="1338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2251080" y="2405160"/>
            <a:ext cx="6016680" cy="109692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803160" y="232236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1.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762120" y="3809880"/>
            <a:ext cx="7618320" cy="1338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2251080" y="3929040"/>
            <a:ext cx="6016680" cy="1096920"/>
          </a:xfrm>
          <a:prstGeom prst="roundRect">
            <a:avLst>
              <a:gd name="adj" fmla="val 16667"/>
            </a:avLst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803160" y="38466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2.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2362320" y="1752480"/>
            <a:ext cx="2971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olumn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5813280" y="3573360"/>
            <a:ext cx="319320" cy="490680"/>
          </a:xfrm>
          <a:prstGeom prst="rightArrow">
            <a:avLst>
              <a:gd name="adj1" fmla="val 45981"/>
              <a:gd name="adj2" fmla="val 4629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3036960" y="3573360"/>
            <a:ext cx="318960" cy="490680"/>
          </a:xfrm>
          <a:prstGeom prst="rightArrow">
            <a:avLst>
              <a:gd name="adj1" fmla="val 45981"/>
              <a:gd name="adj2" fmla="val 46296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4"/>
          <p:cNvGrpSpPr/>
          <p:nvPr/>
        </p:nvGrpSpPr>
        <p:grpSpPr>
          <a:xfrm>
            <a:off x="665280" y="2341440"/>
            <a:ext cx="2241360" cy="2994120"/>
            <a:chOff x="665280" y="2341440"/>
            <a:chExt cx="2241360" cy="2994120"/>
          </a:xfrm>
        </p:grpSpPr>
        <p:sp>
          <p:nvSpPr>
            <p:cNvPr id="127" name="AutoShape 6"/>
            <p:cNvSpPr/>
            <p:nvPr/>
          </p:nvSpPr>
          <p:spPr>
            <a:xfrm>
              <a:off x="665280" y="234144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7"/>
            <p:cNvSpPr/>
            <p:nvPr/>
          </p:nvSpPr>
          <p:spPr>
            <a:xfrm>
              <a:off x="787320" y="2828880"/>
              <a:ext cx="1996560" cy="2390760"/>
            </a:xfrm>
            <a:custGeom>
              <a:avLst/>
              <a:gdLst>
                <a:gd name="textAreaLeft" fmla="*/ 97200 w 1996560"/>
                <a:gd name="textAreaRight" fmla="*/ 1899360 w 199656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64">
                  <a:moveTo>
                    <a:pt x="3600" y="0"/>
                  </a:moveTo>
                  <a:arcTo wR="3600" hR="3600" stAng="16200000" swAng="-5400000"/>
                  <a:lnTo>
                    <a:pt x="0" y="22264"/>
                  </a:lnTo>
                  <a:arcTo wR="3600" hR="3600" stAng="10800000" swAng="-5400000"/>
                  <a:lnTo>
                    <a:pt x="18000" y="258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"/>
            <p:cNvSpPr/>
            <p:nvPr/>
          </p:nvSpPr>
          <p:spPr>
            <a:xfrm>
              <a:off x="761760" y="2438280"/>
              <a:ext cx="20570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1.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3"/>
          <p:cNvGrpSpPr/>
          <p:nvPr/>
        </p:nvGrpSpPr>
        <p:grpSpPr>
          <a:xfrm>
            <a:off x="3436920" y="2347920"/>
            <a:ext cx="2241720" cy="2994120"/>
            <a:chOff x="3436920" y="2347920"/>
            <a:chExt cx="2241720" cy="2994120"/>
          </a:xfrm>
        </p:grpSpPr>
        <p:sp>
          <p:nvSpPr>
            <p:cNvPr id="131" name="AutoShape 10"/>
            <p:cNvSpPr/>
            <p:nvPr/>
          </p:nvSpPr>
          <p:spPr>
            <a:xfrm>
              <a:off x="3436920" y="2347920"/>
              <a:ext cx="2241720" cy="2994120"/>
            </a:xfrm>
            <a:custGeom>
              <a:avLst/>
              <a:gdLst>
                <a:gd name="textAreaLeft" fmla="*/ 109440 w 2241720"/>
                <a:gd name="textAreaRight" fmla="*/ 2132280 w 2241720"/>
                <a:gd name="textAreaTop" fmla="*/ 109440 h 2994120"/>
                <a:gd name="textAreaBottom" fmla="*/ 2884680 h 29941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>
              <a:off x="3559320" y="283536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9"/>
            <p:cNvSpPr/>
            <p:nvPr/>
          </p:nvSpPr>
          <p:spPr>
            <a:xfrm>
              <a:off x="3505320" y="2438280"/>
              <a:ext cx="20574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2.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2"/>
          <p:cNvGrpSpPr/>
          <p:nvPr/>
        </p:nvGrpSpPr>
        <p:grpSpPr>
          <a:xfrm>
            <a:off x="6248520" y="2347920"/>
            <a:ext cx="2241360" cy="2994120"/>
            <a:chOff x="6248520" y="2347920"/>
            <a:chExt cx="2241360" cy="2994120"/>
          </a:xfrm>
        </p:grpSpPr>
        <p:sp>
          <p:nvSpPr>
            <p:cNvPr id="135" name="AutoShape 14"/>
            <p:cNvSpPr/>
            <p:nvPr/>
          </p:nvSpPr>
          <p:spPr>
            <a:xfrm>
              <a:off x="6248520" y="2347920"/>
              <a:ext cx="2241360" cy="2994120"/>
            </a:xfrm>
            <a:custGeom>
              <a:avLst/>
              <a:gdLst>
                <a:gd name="textAreaLeft" fmla="*/ 109080 w 2241360"/>
                <a:gd name="textAreaRight" fmla="*/ 2132280 w 2241360"/>
                <a:gd name="textAreaTop" fmla="*/ 109080 h 2994120"/>
                <a:gd name="textAreaBottom" fmla="*/ 2885040 h 2994120"/>
              </a:gdLst>
              <a:ahLst/>
              <a:rect l="textAreaLeft" t="textAreaTop" r="textAreaRight" b="textAreaBottom"/>
              <a:pathLst>
                <a:path w="21600" h="28853">
                  <a:moveTo>
                    <a:pt x="3600" y="0"/>
                  </a:moveTo>
                  <a:arcTo wR="3600" hR="3600" stAng="16200000" swAng="-5400000"/>
                  <a:lnTo>
                    <a:pt x="0" y="25253"/>
                  </a:lnTo>
                  <a:arcTo wR="3600" hR="3600" stAng="10800000" swAng="-5400000"/>
                  <a:lnTo>
                    <a:pt x="18000" y="288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5"/>
            <p:cNvSpPr/>
            <p:nvPr/>
          </p:nvSpPr>
          <p:spPr>
            <a:xfrm>
              <a:off x="6400440" y="2819520"/>
              <a:ext cx="1996920" cy="2390760"/>
            </a:xfrm>
            <a:custGeom>
              <a:avLst/>
              <a:gdLst>
                <a:gd name="textAreaLeft" fmla="*/ 97200 w 1996920"/>
                <a:gd name="textAreaRight" fmla="*/ 1899720 w 1996920"/>
                <a:gd name="textAreaTop" fmla="*/ 97200 h 2390760"/>
                <a:gd name="textAreaBottom" fmla="*/ 2293560 h 2390760"/>
              </a:gdLst>
              <a:ahLst/>
              <a:rect l="textAreaLeft" t="textAreaTop" r="textAreaRight" b="textAreaBottom"/>
              <a:pathLst>
                <a:path w="21600" h="25859">
                  <a:moveTo>
                    <a:pt x="3600" y="0"/>
                  </a:moveTo>
                  <a:arcTo wR="3600" hR="3600" stAng="16200000" swAng="-5400000"/>
                  <a:lnTo>
                    <a:pt x="0" y="22259"/>
                  </a:lnTo>
                  <a:arcTo wR="3600" hR="3600" stAng="10800000" swAng="-5400000"/>
                  <a:lnTo>
                    <a:pt x="18000" y="258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0"/>
            <p:cNvSpPr/>
            <p:nvPr/>
          </p:nvSpPr>
          <p:spPr>
            <a:xfrm>
              <a:off x="6324480" y="2438280"/>
              <a:ext cx="2057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  <a:ea typeface="Gulim"/>
                </a:rPr>
                <a:t>3.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Rectangle 21"/>
          <p:cNvSpPr/>
          <p:nvPr/>
        </p:nvSpPr>
        <p:spPr>
          <a:xfrm>
            <a:off x="2362320" y="182880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Gulim"/>
              </a:rPr>
              <a:t>Sub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8600" y="62946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t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2133720" y="1676520"/>
          <a:ext cx="624816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76520"/>
                    <a:ext cx="624816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7:44:08Z</dcterms:modified>
  <cp:revision>1</cp:revision>
  <dc:subject/>
  <dc:title>PowerPoint 演示文稿</dc:title>
</cp:coreProperties>
</file>