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2E715A-95E2-4EF8-9C60-8D93F6631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To replace this picture, just select and delete it. Then use the Insert Picture icon to replace it with one of your ow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ACF4D5-4F1E-42ED-B8F8-A10245271C0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sldNum" idx="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C162F5-D939-40FE-A5D9-1F286287D6E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384012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95280" y="4315680"/>
            <a:ext cx="384012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95280" y="431568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3263040" y="431568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593800" y="228600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892320" y="228600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95280" y="431568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2593800" y="431568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3892320" y="431568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384012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384012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295280" y="304920"/>
            <a:ext cx="9600840" cy="60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95280" y="431568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384012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263040" y="431568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295280" y="4315680"/>
            <a:ext cx="384012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384012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295280" y="4315680"/>
            <a:ext cx="384012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295280" y="431568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3263040" y="431568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593800" y="228600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892320" y="228600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295280" y="431568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593800" y="431568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3892320" y="431568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384012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384012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384012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1295280" y="304920"/>
            <a:ext cx="9600840" cy="60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295280" y="431568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263040" y="431568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295280" y="4315680"/>
            <a:ext cx="384012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384012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1295280" y="4315680"/>
            <a:ext cx="384012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295280" y="431568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3263040" y="431568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2593800" y="228600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3892320" y="228600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1295280" y="431568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2593800" y="431568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3892320" y="431568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384012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384012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1295280" y="304920"/>
            <a:ext cx="9600840" cy="60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295280" y="431568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263040" y="431568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1295280" y="4315680"/>
            <a:ext cx="384012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384012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1295280" y="4315680"/>
            <a:ext cx="384012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1295280" y="431568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3263040" y="431568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2593800" y="228600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3892320" y="228600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1295280" y="431568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2593800" y="431568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3892320" y="431568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384012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384012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1295280" y="304920"/>
            <a:ext cx="9600840" cy="60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1295280" y="431568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3263040" y="431568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1295280" y="4315680"/>
            <a:ext cx="384012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384012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1295280" y="4315680"/>
            <a:ext cx="384012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1295280" y="431568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3263040" y="431568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295280" y="304920"/>
            <a:ext cx="9600840" cy="60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2593800" y="228600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3892320" y="228600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1295280" y="431568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2593800" y="431568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3892320" y="4315680"/>
            <a:ext cx="123624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95280" y="431568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38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263040" y="431568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63040" y="2286000"/>
            <a:ext cx="187380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95280" y="4315680"/>
            <a:ext cx="3840120" cy="18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3f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2" hidden="1"/>
          <p:cNvSpPr/>
          <p:nvPr/>
        </p:nvSpPr>
        <p:spPr>
          <a:xfrm flipH="1" flipV="1">
            <a:off x="10807560" y="1065960"/>
            <a:ext cx="1383840" cy="2166840"/>
          </a:xfrm>
          <a:custGeom>
            <a:avLst/>
            <a:gdLst>
              <a:gd name="textAreaLeft" fmla="*/ 360 w 1383840"/>
              <a:gd name="textAreaRight" fmla="*/ 1384560 w 1383840"/>
              <a:gd name="textAreaTop" fmla="*/ -360 h 2166840"/>
              <a:gd name="textAreaBottom" fmla="*/ 2166840 h 2166840"/>
            </a:gdLst>
            <a:ahLst/>
            <a:rect l="textAreaLeft" t="textAreaTop" r="textAreaRight" b="textAreaBottom"/>
            <a:pathLst>
              <a:path w="1384300" h="2167049">
                <a:moveTo>
                  <a:pt x="17187" y="2167049"/>
                </a:moveTo>
                <a:lnTo>
                  <a:pt x="0" y="2167049"/>
                </a:lnTo>
                <a:lnTo>
                  <a:pt x="0" y="1879736"/>
                </a:lnTo>
                <a:lnTo>
                  <a:pt x="123314" y="1550999"/>
                </a:lnTo>
                <a:cubicBezTo>
                  <a:pt x="168410" y="1433494"/>
                  <a:pt x="212488" y="1316669"/>
                  <a:pt x="250464" y="1199843"/>
                </a:cubicBezTo>
                <a:cubicBezTo>
                  <a:pt x="188076" y="1289499"/>
                  <a:pt x="82287" y="1433494"/>
                  <a:pt x="11762" y="1534018"/>
                </a:cubicBezTo>
                <a:lnTo>
                  <a:pt x="0" y="1548726"/>
                </a:lnTo>
                <a:lnTo>
                  <a:pt x="0" y="1512279"/>
                </a:lnTo>
                <a:lnTo>
                  <a:pt x="60587" y="1428400"/>
                </a:lnTo>
                <a:cubicBezTo>
                  <a:pt x="108057" y="1362855"/>
                  <a:pt x="155526" y="1297650"/>
                  <a:pt x="201639" y="1235162"/>
                </a:cubicBezTo>
                <a:cubicBezTo>
                  <a:pt x="212489" y="1216144"/>
                  <a:pt x="231477" y="1199843"/>
                  <a:pt x="231477" y="1178108"/>
                </a:cubicBezTo>
                <a:lnTo>
                  <a:pt x="0" y="1365667"/>
                </a:lnTo>
                <a:lnTo>
                  <a:pt x="0" y="1329417"/>
                </a:lnTo>
                <a:lnTo>
                  <a:pt x="179939" y="1180824"/>
                </a:lnTo>
                <a:cubicBezTo>
                  <a:pt x="188076" y="1175391"/>
                  <a:pt x="207064" y="1167240"/>
                  <a:pt x="204351" y="1153656"/>
                </a:cubicBezTo>
                <a:lnTo>
                  <a:pt x="0" y="1246276"/>
                </a:lnTo>
                <a:lnTo>
                  <a:pt x="0" y="1224474"/>
                </a:lnTo>
                <a:lnTo>
                  <a:pt x="201639" y="1129204"/>
                </a:lnTo>
                <a:lnTo>
                  <a:pt x="0" y="1160749"/>
                </a:lnTo>
                <a:lnTo>
                  <a:pt x="0" y="1131718"/>
                </a:lnTo>
                <a:lnTo>
                  <a:pt x="9727" y="1130223"/>
                </a:lnTo>
                <a:cubicBezTo>
                  <a:pt x="72115" y="1119695"/>
                  <a:pt x="133825" y="1107469"/>
                  <a:pt x="193501" y="1091168"/>
                </a:cubicBezTo>
                <a:cubicBezTo>
                  <a:pt x="166376" y="1087772"/>
                  <a:pt x="135690" y="1084545"/>
                  <a:pt x="102928" y="1081404"/>
                </a:cubicBezTo>
                <a:lnTo>
                  <a:pt x="0" y="1072159"/>
                </a:lnTo>
                <a:lnTo>
                  <a:pt x="0" y="1052490"/>
                </a:lnTo>
                <a:lnTo>
                  <a:pt x="2946" y="1052792"/>
                </a:lnTo>
                <a:cubicBezTo>
                  <a:pt x="73472" y="1059924"/>
                  <a:pt x="141963" y="1066716"/>
                  <a:pt x="196214" y="1072150"/>
                </a:cubicBezTo>
                <a:cubicBezTo>
                  <a:pt x="138573" y="1046340"/>
                  <a:pt x="79406" y="1021888"/>
                  <a:pt x="19391" y="998200"/>
                </a:cubicBezTo>
                <a:lnTo>
                  <a:pt x="0" y="990806"/>
                </a:lnTo>
                <a:lnTo>
                  <a:pt x="0" y="962359"/>
                </a:lnTo>
                <a:lnTo>
                  <a:pt x="193395" y="1034452"/>
                </a:lnTo>
                <a:lnTo>
                  <a:pt x="176842" y="1012554"/>
                </a:lnTo>
                <a:cubicBezTo>
                  <a:pt x="168216" y="1005642"/>
                  <a:pt x="157865" y="999422"/>
                  <a:pt x="148204" y="992510"/>
                </a:cubicBezTo>
                <a:cubicBezTo>
                  <a:pt x="105420" y="960716"/>
                  <a:pt x="59877" y="928232"/>
                  <a:pt x="13643" y="895402"/>
                </a:cubicBezTo>
                <a:lnTo>
                  <a:pt x="0" y="885646"/>
                </a:lnTo>
                <a:lnTo>
                  <a:pt x="0" y="854420"/>
                </a:lnTo>
                <a:lnTo>
                  <a:pt x="41261" y="884346"/>
                </a:lnTo>
                <a:lnTo>
                  <a:pt x="210792" y="999314"/>
                </a:lnTo>
                <a:lnTo>
                  <a:pt x="206600" y="988104"/>
                </a:lnTo>
                <a:cubicBezTo>
                  <a:pt x="195473" y="968665"/>
                  <a:pt x="175807" y="953114"/>
                  <a:pt x="159245" y="934452"/>
                </a:cubicBezTo>
                <a:lnTo>
                  <a:pt x="0" y="738974"/>
                </a:lnTo>
                <a:lnTo>
                  <a:pt x="0" y="692828"/>
                </a:lnTo>
                <a:lnTo>
                  <a:pt x="214450" y="956570"/>
                </a:lnTo>
                <a:cubicBezTo>
                  <a:pt x="219970" y="964863"/>
                  <a:pt x="231011" y="978687"/>
                  <a:pt x="242052" y="978687"/>
                </a:cubicBezTo>
                <a:cubicBezTo>
                  <a:pt x="164766" y="815572"/>
                  <a:pt x="93000" y="646929"/>
                  <a:pt x="15713" y="483814"/>
                </a:cubicBezTo>
                <a:lnTo>
                  <a:pt x="0" y="482959"/>
                </a:lnTo>
                <a:lnTo>
                  <a:pt x="0" y="387119"/>
                </a:lnTo>
                <a:lnTo>
                  <a:pt x="23994" y="381522"/>
                </a:lnTo>
                <a:cubicBezTo>
                  <a:pt x="65398" y="387051"/>
                  <a:pt x="32275" y="436815"/>
                  <a:pt x="35035" y="467226"/>
                </a:cubicBezTo>
                <a:cubicBezTo>
                  <a:pt x="35035" y="497637"/>
                  <a:pt x="73678" y="558460"/>
                  <a:pt x="93000" y="597165"/>
                </a:cubicBezTo>
                <a:cubicBezTo>
                  <a:pt x="139924" y="707751"/>
                  <a:pt x="186848" y="815572"/>
                  <a:pt x="236532" y="923394"/>
                </a:cubicBezTo>
                <a:cubicBezTo>
                  <a:pt x="244812" y="942746"/>
                  <a:pt x="253093" y="970393"/>
                  <a:pt x="272415" y="978687"/>
                </a:cubicBezTo>
                <a:cubicBezTo>
                  <a:pt x="242052" y="724339"/>
                  <a:pt x="186848" y="461697"/>
                  <a:pt x="148204" y="201820"/>
                </a:cubicBezTo>
                <a:cubicBezTo>
                  <a:pt x="115082" y="187996"/>
                  <a:pt x="57117" y="176938"/>
                  <a:pt x="62637" y="129939"/>
                </a:cubicBezTo>
                <a:cubicBezTo>
                  <a:pt x="65398" y="107822"/>
                  <a:pt x="95760" y="85704"/>
                  <a:pt x="128883" y="102292"/>
                </a:cubicBezTo>
                <a:cubicBezTo>
                  <a:pt x="134403" y="66352"/>
                  <a:pt x="197888" y="60822"/>
                  <a:pt x="206169" y="99528"/>
                </a:cubicBezTo>
                <a:cubicBezTo>
                  <a:pt x="217210" y="138233"/>
                  <a:pt x="178567" y="160350"/>
                  <a:pt x="175807" y="196290"/>
                </a:cubicBezTo>
                <a:cubicBezTo>
                  <a:pt x="173046" y="221172"/>
                  <a:pt x="186848" y="259877"/>
                  <a:pt x="192368" y="295818"/>
                </a:cubicBezTo>
                <a:cubicBezTo>
                  <a:pt x="228251" y="503167"/>
                  <a:pt x="266894" y="782396"/>
                  <a:pt x="308298" y="967628"/>
                </a:cubicBezTo>
                <a:cubicBezTo>
                  <a:pt x="319338" y="843219"/>
                  <a:pt x="330380" y="699457"/>
                  <a:pt x="344181" y="558460"/>
                </a:cubicBezTo>
                <a:cubicBezTo>
                  <a:pt x="349701" y="514225"/>
                  <a:pt x="366262" y="456168"/>
                  <a:pt x="357982" y="425756"/>
                </a:cubicBezTo>
                <a:cubicBezTo>
                  <a:pt x="346941" y="375993"/>
                  <a:pt x="275175" y="367699"/>
                  <a:pt x="277935" y="306876"/>
                </a:cubicBezTo>
                <a:cubicBezTo>
                  <a:pt x="283456" y="248819"/>
                  <a:pt x="363502" y="246054"/>
                  <a:pt x="380064" y="287524"/>
                </a:cubicBezTo>
                <a:cubicBezTo>
                  <a:pt x="399385" y="246054"/>
                  <a:pt x="476672" y="262642"/>
                  <a:pt x="473911" y="317935"/>
                </a:cubicBezTo>
                <a:cubicBezTo>
                  <a:pt x="471151" y="373228"/>
                  <a:pt x="396625" y="378757"/>
                  <a:pt x="380064" y="425756"/>
                </a:cubicBezTo>
                <a:cubicBezTo>
                  <a:pt x="369023" y="456168"/>
                  <a:pt x="371783" y="519755"/>
                  <a:pt x="366262" y="566754"/>
                </a:cubicBezTo>
                <a:cubicBezTo>
                  <a:pt x="355222" y="680104"/>
                  <a:pt x="344181" y="801749"/>
                  <a:pt x="333140" y="915100"/>
                </a:cubicBezTo>
                <a:cubicBezTo>
                  <a:pt x="330380" y="934452"/>
                  <a:pt x="316578" y="962099"/>
                  <a:pt x="335900" y="973157"/>
                </a:cubicBezTo>
                <a:cubicBezTo>
                  <a:pt x="418707" y="771338"/>
                  <a:pt x="490473" y="561224"/>
                  <a:pt x="570519" y="348346"/>
                </a:cubicBezTo>
                <a:cubicBezTo>
                  <a:pt x="581560" y="320700"/>
                  <a:pt x="603642" y="281995"/>
                  <a:pt x="603642" y="259877"/>
                </a:cubicBezTo>
                <a:cubicBezTo>
                  <a:pt x="600882" y="199055"/>
                  <a:pt x="515315" y="140997"/>
                  <a:pt x="545677" y="49764"/>
                </a:cubicBezTo>
                <a:cubicBezTo>
                  <a:pt x="553958" y="24882"/>
                  <a:pt x="581560" y="13823"/>
                  <a:pt x="606402" y="0"/>
                </a:cubicBezTo>
                <a:cubicBezTo>
                  <a:pt x="614683" y="0"/>
                  <a:pt x="622964" y="0"/>
                  <a:pt x="628484" y="0"/>
                </a:cubicBezTo>
                <a:cubicBezTo>
                  <a:pt x="664367" y="11059"/>
                  <a:pt x="694730" y="27647"/>
                  <a:pt x="697490" y="71881"/>
                </a:cubicBezTo>
                <a:cubicBezTo>
                  <a:pt x="766496" y="33176"/>
                  <a:pt x="843782" y="80175"/>
                  <a:pt x="827221" y="157585"/>
                </a:cubicBezTo>
                <a:cubicBezTo>
                  <a:pt x="810659" y="229466"/>
                  <a:pt x="694730" y="234995"/>
                  <a:pt x="634005" y="265407"/>
                </a:cubicBezTo>
                <a:cubicBezTo>
                  <a:pt x="548438" y="508696"/>
                  <a:pt x="446309" y="746456"/>
                  <a:pt x="369023" y="984216"/>
                </a:cubicBezTo>
                <a:cubicBezTo>
                  <a:pt x="432508" y="892983"/>
                  <a:pt x="540157" y="746456"/>
                  <a:pt x="611923" y="644164"/>
                </a:cubicBezTo>
                <a:cubicBezTo>
                  <a:pt x="634005" y="613753"/>
                  <a:pt x="686449" y="561224"/>
                  <a:pt x="689209" y="530813"/>
                </a:cubicBezTo>
                <a:cubicBezTo>
                  <a:pt x="694730" y="503167"/>
                  <a:pt x="683689" y="472756"/>
                  <a:pt x="683689" y="450638"/>
                </a:cubicBezTo>
                <a:cubicBezTo>
                  <a:pt x="683689" y="425756"/>
                  <a:pt x="686449" y="406404"/>
                  <a:pt x="705771" y="392581"/>
                </a:cubicBezTo>
                <a:cubicBezTo>
                  <a:pt x="744414" y="362169"/>
                  <a:pt x="791338" y="395345"/>
                  <a:pt x="788577" y="442344"/>
                </a:cubicBezTo>
                <a:cubicBezTo>
                  <a:pt x="841022" y="436815"/>
                  <a:pt x="863104" y="469991"/>
                  <a:pt x="857583" y="505931"/>
                </a:cubicBezTo>
                <a:cubicBezTo>
                  <a:pt x="846542" y="555695"/>
                  <a:pt x="763735" y="550166"/>
                  <a:pt x="705771" y="552930"/>
                </a:cubicBezTo>
                <a:cubicBezTo>
                  <a:pt x="611923" y="682869"/>
                  <a:pt x="512554" y="821102"/>
                  <a:pt x="418707" y="948276"/>
                </a:cubicBezTo>
                <a:cubicBezTo>
                  <a:pt x="407666" y="967628"/>
                  <a:pt x="388344" y="984216"/>
                  <a:pt x="388344" y="1006333"/>
                </a:cubicBezTo>
                <a:cubicBezTo>
                  <a:pt x="589841" y="845983"/>
                  <a:pt x="788577" y="682869"/>
                  <a:pt x="981794" y="514225"/>
                </a:cubicBezTo>
                <a:cubicBezTo>
                  <a:pt x="967992" y="422992"/>
                  <a:pt x="981794" y="306876"/>
                  <a:pt x="1072881" y="323464"/>
                </a:cubicBezTo>
                <a:cubicBezTo>
                  <a:pt x="1106004" y="331758"/>
                  <a:pt x="1125325" y="364934"/>
                  <a:pt x="1122565" y="414698"/>
                </a:cubicBezTo>
                <a:cubicBezTo>
                  <a:pt x="1166729" y="406404"/>
                  <a:pt x="1199852" y="431286"/>
                  <a:pt x="1205372" y="467226"/>
                </a:cubicBezTo>
                <a:cubicBezTo>
                  <a:pt x="1219173" y="566754"/>
                  <a:pt x="1092203" y="558460"/>
                  <a:pt x="1001115" y="544636"/>
                </a:cubicBezTo>
                <a:cubicBezTo>
                  <a:pt x="816180" y="691163"/>
                  <a:pt x="622964" y="854277"/>
                  <a:pt x="440789" y="1003569"/>
                </a:cubicBezTo>
                <a:cubicBezTo>
                  <a:pt x="432508" y="1009098"/>
                  <a:pt x="413186" y="1017392"/>
                  <a:pt x="415946" y="1031215"/>
                </a:cubicBezTo>
                <a:cubicBezTo>
                  <a:pt x="578800" y="953805"/>
                  <a:pt x="744414" y="881924"/>
                  <a:pt x="910028" y="807278"/>
                </a:cubicBezTo>
                <a:cubicBezTo>
                  <a:pt x="926589" y="757515"/>
                  <a:pt x="932109" y="671810"/>
                  <a:pt x="995595" y="677340"/>
                </a:cubicBezTo>
                <a:cubicBezTo>
                  <a:pt x="1025957" y="680104"/>
                  <a:pt x="1053559" y="713280"/>
                  <a:pt x="1034238" y="757515"/>
                </a:cubicBezTo>
                <a:cubicBezTo>
                  <a:pt x="1061840" y="765809"/>
                  <a:pt x="1078402" y="776867"/>
                  <a:pt x="1081162" y="804514"/>
                </a:cubicBezTo>
                <a:cubicBezTo>
                  <a:pt x="1083922" y="887453"/>
                  <a:pt x="967992" y="851513"/>
                  <a:pt x="921068" y="823866"/>
                </a:cubicBezTo>
                <a:cubicBezTo>
                  <a:pt x="839641" y="863954"/>
                  <a:pt x="754074" y="900585"/>
                  <a:pt x="668852" y="937908"/>
                </a:cubicBezTo>
                <a:lnTo>
                  <a:pt x="426233" y="1052541"/>
                </a:lnTo>
                <a:lnTo>
                  <a:pt x="439919" y="1049364"/>
                </a:lnTo>
                <a:lnTo>
                  <a:pt x="429786" y="1054364"/>
                </a:lnTo>
                <a:lnTo>
                  <a:pt x="642347" y="1021110"/>
                </a:lnTo>
                <a:lnTo>
                  <a:pt x="630067" y="1024289"/>
                </a:lnTo>
                <a:lnTo>
                  <a:pt x="789918" y="999473"/>
                </a:lnTo>
                <a:cubicBezTo>
                  <a:pt x="910286" y="979776"/>
                  <a:pt x="1030315" y="959400"/>
                  <a:pt x="1151023" y="939023"/>
                </a:cubicBezTo>
                <a:cubicBezTo>
                  <a:pt x="1186286" y="887402"/>
                  <a:pt x="1199848" y="770577"/>
                  <a:pt x="1292074" y="781444"/>
                </a:cubicBezTo>
                <a:cubicBezTo>
                  <a:pt x="1340900" y="784161"/>
                  <a:pt x="1373450" y="852083"/>
                  <a:pt x="1330049" y="900987"/>
                </a:cubicBezTo>
                <a:cubicBezTo>
                  <a:pt x="1362600" y="909137"/>
                  <a:pt x="1376162" y="933589"/>
                  <a:pt x="1384300" y="963475"/>
                </a:cubicBezTo>
                <a:cubicBezTo>
                  <a:pt x="1384300" y="966192"/>
                  <a:pt x="1384300" y="966192"/>
                  <a:pt x="1384300" y="968908"/>
                </a:cubicBezTo>
                <a:cubicBezTo>
                  <a:pt x="1378875" y="1044981"/>
                  <a:pt x="1300212" y="1047698"/>
                  <a:pt x="1237824" y="1009661"/>
                </a:cubicBezTo>
                <a:cubicBezTo>
                  <a:pt x="1216123" y="998794"/>
                  <a:pt x="1191711" y="968908"/>
                  <a:pt x="1167298" y="963475"/>
                </a:cubicBezTo>
                <a:cubicBezTo>
                  <a:pt x="1148310" y="960758"/>
                  <a:pt x="1102197" y="974342"/>
                  <a:pt x="1072360" y="979776"/>
                </a:cubicBezTo>
                <a:cubicBezTo>
                  <a:pt x="985559" y="993360"/>
                  <a:pt x="885195" y="1009661"/>
                  <a:pt x="795682" y="1025963"/>
                </a:cubicBezTo>
                <a:cubicBezTo>
                  <a:pt x="660056" y="1047698"/>
                  <a:pt x="540704" y="1063999"/>
                  <a:pt x="434916" y="1091168"/>
                </a:cubicBezTo>
                <a:cubicBezTo>
                  <a:pt x="616655" y="1112903"/>
                  <a:pt x="801107" y="1129204"/>
                  <a:pt x="982846" y="1148222"/>
                </a:cubicBezTo>
                <a:cubicBezTo>
                  <a:pt x="1026247" y="1115619"/>
                  <a:pt x="1083210" y="1055848"/>
                  <a:pt x="1104910" y="1134638"/>
                </a:cubicBezTo>
                <a:cubicBezTo>
                  <a:pt x="1110335" y="1156373"/>
                  <a:pt x="1088635" y="1161806"/>
                  <a:pt x="1080497" y="1178108"/>
                </a:cubicBezTo>
                <a:cubicBezTo>
                  <a:pt x="1104910" y="1207993"/>
                  <a:pt x="1077785" y="1237879"/>
                  <a:pt x="1053372" y="1237879"/>
                </a:cubicBezTo>
                <a:cubicBezTo>
                  <a:pt x="1012684" y="1240596"/>
                  <a:pt x="1009971" y="1186258"/>
                  <a:pt x="982846" y="1169957"/>
                </a:cubicBezTo>
                <a:cubicBezTo>
                  <a:pt x="801107" y="1153656"/>
                  <a:pt x="605805" y="1129204"/>
                  <a:pt x="429491" y="1118336"/>
                </a:cubicBezTo>
                <a:cubicBezTo>
                  <a:pt x="451191" y="1137355"/>
                  <a:pt x="486454" y="1145505"/>
                  <a:pt x="516292" y="1156373"/>
                </a:cubicBezTo>
                <a:cubicBezTo>
                  <a:pt x="687181" y="1221578"/>
                  <a:pt x="874345" y="1294933"/>
                  <a:pt x="1050659" y="1357421"/>
                </a:cubicBezTo>
                <a:cubicBezTo>
                  <a:pt x="1083210" y="1371006"/>
                  <a:pt x="1118472" y="1390024"/>
                  <a:pt x="1140173" y="1390024"/>
                </a:cubicBezTo>
                <a:cubicBezTo>
                  <a:pt x="1183573" y="1390024"/>
                  <a:pt x="1248674" y="1335686"/>
                  <a:pt x="1305637" y="1357421"/>
                </a:cubicBezTo>
                <a:cubicBezTo>
                  <a:pt x="1359887" y="1379156"/>
                  <a:pt x="1351750" y="1479680"/>
                  <a:pt x="1281224" y="1482397"/>
                </a:cubicBezTo>
                <a:cubicBezTo>
                  <a:pt x="1302924" y="1542168"/>
                  <a:pt x="1262236" y="1591072"/>
                  <a:pt x="1207986" y="1580205"/>
                </a:cubicBezTo>
                <a:cubicBezTo>
                  <a:pt x="1151023" y="1566620"/>
                  <a:pt x="1151023" y="1474247"/>
                  <a:pt x="1132035" y="1419909"/>
                </a:cubicBezTo>
                <a:cubicBezTo>
                  <a:pt x="896045" y="1327536"/>
                  <a:pt x="657343" y="1240596"/>
                  <a:pt x="421353" y="1148222"/>
                </a:cubicBezTo>
                <a:cubicBezTo>
                  <a:pt x="426778" y="1167240"/>
                  <a:pt x="448479" y="1178108"/>
                  <a:pt x="467466" y="1191692"/>
                </a:cubicBezTo>
                <a:cubicBezTo>
                  <a:pt x="551555" y="1254180"/>
                  <a:pt x="646493" y="1319385"/>
                  <a:pt x="736006" y="1384590"/>
                </a:cubicBezTo>
                <a:cubicBezTo>
                  <a:pt x="765844" y="1403608"/>
                  <a:pt x="817382" y="1452512"/>
                  <a:pt x="844507" y="1457945"/>
                </a:cubicBezTo>
                <a:cubicBezTo>
                  <a:pt x="882483" y="1463379"/>
                  <a:pt x="936733" y="1436210"/>
                  <a:pt x="977421" y="1449795"/>
                </a:cubicBezTo>
                <a:cubicBezTo>
                  <a:pt x="1028959" y="1468813"/>
                  <a:pt x="1020822" y="1566620"/>
                  <a:pt x="947583" y="1561187"/>
                </a:cubicBezTo>
                <a:cubicBezTo>
                  <a:pt x="958433" y="1623675"/>
                  <a:pt x="909608" y="1650843"/>
                  <a:pt x="866208" y="1631825"/>
                </a:cubicBezTo>
                <a:cubicBezTo>
                  <a:pt x="822807" y="1612807"/>
                  <a:pt x="839082" y="1528584"/>
                  <a:pt x="828232" y="1476964"/>
                </a:cubicBezTo>
                <a:cubicBezTo>
                  <a:pt x="687181" y="1373722"/>
                  <a:pt x="548842" y="1270481"/>
                  <a:pt x="402366" y="1175391"/>
                </a:cubicBezTo>
                <a:cubicBezTo>
                  <a:pt x="407791" y="1205276"/>
                  <a:pt x="434916" y="1224294"/>
                  <a:pt x="456616" y="1248746"/>
                </a:cubicBezTo>
                <a:cubicBezTo>
                  <a:pt x="575967" y="1392740"/>
                  <a:pt x="695318" y="1542168"/>
                  <a:pt x="817382" y="1691596"/>
                </a:cubicBezTo>
                <a:cubicBezTo>
                  <a:pt x="836370" y="1716048"/>
                  <a:pt x="860783" y="1754084"/>
                  <a:pt x="879770" y="1759518"/>
                </a:cubicBezTo>
                <a:cubicBezTo>
                  <a:pt x="939446" y="1781253"/>
                  <a:pt x="1007259" y="1756801"/>
                  <a:pt x="1058797" y="1789404"/>
                </a:cubicBezTo>
                <a:cubicBezTo>
                  <a:pt x="1126610" y="1830157"/>
                  <a:pt x="1096772" y="1963284"/>
                  <a:pt x="988271" y="1930681"/>
                </a:cubicBezTo>
                <a:cubicBezTo>
                  <a:pt x="999121" y="2031205"/>
                  <a:pt x="871633" y="2044790"/>
                  <a:pt x="841795" y="1979585"/>
                </a:cubicBezTo>
                <a:cubicBezTo>
                  <a:pt x="814670" y="1917097"/>
                  <a:pt x="849932" y="1849175"/>
                  <a:pt x="852645" y="1781253"/>
                </a:cubicBezTo>
                <a:cubicBezTo>
                  <a:pt x="703456" y="1601940"/>
                  <a:pt x="554267" y="1409042"/>
                  <a:pt x="402366" y="1227011"/>
                </a:cubicBezTo>
                <a:cubicBezTo>
                  <a:pt x="396941" y="1218861"/>
                  <a:pt x="386090" y="1205276"/>
                  <a:pt x="375240" y="1205276"/>
                </a:cubicBezTo>
                <a:cubicBezTo>
                  <a:pt x="451191" y="1365572"/>
                  <a:pt x="521717" y="1531301"/>
                  <a:pt x="597667" y="1691596"/>
                </a:cubicBezTo>
                <a:cubicBezTo>
                  <a:pt x="654631" y="1683446"/>
                  <a:pt x="708881" y="1773103"/>
                  <a:pt x="624793" y="1762235"/>
                </a:cubicBezTo>
                <a:cubicBezTo>
                  <a:pt x="619368" y="1783970"/>
                  <a:pt x="613943" y="1794838"/>
                  <a:pt x="589530" y="1792121"/>
                </a:cubicBezTo>
                <a:cubicBezTo>
                  <a:pt x="548842" y="1786687"/>
                  <a:pt x="581392" y="1737783"/>
                  <a:pt x="578680" y="1707898"/>
                </a:cubicBezTo>
                <a:cubicBezTo>
                  <a:pt x="578680" y="1678012"/>
                  <a:pt x="540704" y="1618241"/>
                  <a:pt x="521717" y="1580205"/>
                </a:cubicBezTo>
                <a:cubicBezTo>
                  <a:pt x="475604" y="1471530"/>
                  <a:pt x="429491" y="1365572"/>
                  <a:pt x="380665" y="1259614"/>
                </a:cubicBezTo>
                <a:cubicBezTo>
                  <a:pt x="372528" y="1240596"/>
                  <a:pt x="364390" y="1213427"/>
                  <a:pt x="345403" y="1205276"/>
                </a:cubicBezTo>
                <a:cubicBezTo>
                  <a:pt x="375240" y="1455229"/>
                  <a:pt x="429491" y="1713331"/>
                  <a:pt x="467466" y="1968717"/>
                </a:cubicBezTo>
                <a:cubicBezTo>
                  <a:pt x="500017" y="1982302"/>
                  <a:pt x="556980" y="1993169"/>
                  <a:pt x="551555" y="2039356"/>
                </a:cubicBezTo>
                <a:cubicBezTo>
                  <a:pt x="548842" y="2061091"/>
                  <a:pt x="519004" y="2082826"/>
                  <a:pt x="486454" y="2066525"/>
                </a:cubicBezTo>
                <a:cubicBezTo>
                  <a:pt x="481029" y="2101844"/>
                  <a:pt x="418641" y="2107278"/>
                  <a:pt x="410503" y="2069242"/>
                </a:cubicBezTo>
                <a:cubicBezTo>
                  <a:pt x="399653" y="2031205"/>
                  <a:pt x="437628" y="2009470"/>
                  <a:pt x="440341" y="1974151"/>
                </a:cubicBezTo>
                <a:cubicBezTo>
                  <a:pt x="443053" y="1949699"/>
                  <a:pt x="429491" y="1911663"/>
                  <a:pt x="424066" y="1876344"/>
                </a:cubicBezTo>
                <a:cubicBezTo>
                  <a:pt x="388803" y="1672578"/>
                  <a:pt x="350828" y="1398174"/>
                  <a:pt x="310140" y="1216144"/>
                </a:cubicBezTo>
                <a:cubicBezTo>
                  <a:pt x="299290" y="1338403"/>
                  <a:pt x="288439" y="1479680"/>
                  <a:pt x="274877" y="1618241"/>
                </a:cubicBezTo>
                <a:cubicBezTo>
                  <a:pt x="269452" y="1661711"/>
                  <a:pt x="253177" y="1718765"/>
                  <a:pt x="261314" y="1748651"/>
                </a:cubicBezTo>
                <a:cubicBezTo>
                  <a:pt x="272164" y="1797554"/>
                  <a:pt x="342690" y="1805705"/>
                  <a:pt x="339977" y="1865476"/>
                </a:cubicBezTo>
                <a:cubicBezTo>
                  <a:pt x="334553" y="1922530"/>
                  <a:pt x="255889" y="1925247"/>
                  <a:pt x="239614" y="1884494"/>
                </a:cubicBezTo>
                <a:cubicBezTo>
                  <a:pt x="220626" y="1925247"/>
                  <a:pt x="144676" y="1908946"/>
                  <a:pt x="147388" y="1854609"/>
                </a:cubicBezTo>
                <a:cubicBezTo>
                  <a:pt x="150101" y="1800271"/>
                  <a:pt x="223339" y="1794838"/>
                  <a:pt x="239614" y="1748651"/>
                </a:cubicBezTo>
                <a:cubicBezTo>
                  <a:pt x="250464" y="1718765"/>
                  <a:pt x="247752" y="1656277"/>
                  <a:pt x="253177" y="1610090"/>
                </a:cubicBezTo>
                <a:cubicBezTo>
                  <a:pt x="264027" y="1498698"/>
                  <a:pt x="274877" y="1379156"/>
                  <a:pt x="285727" y="1267764"/>
                </a:cubicBezTo>
                <a:cubicBezTo>
                  <a:pt x="288439" y="1248746"/>
                  <a:pt x="302002" y="1221578"/>
                  <a:pt x="283015" y="1210710"/>
                </a:cubicBezTo>
                <a:cubicBezTo>
                  <a:pt x="201639" y="1409042"/>
                  <a:pt x="131113" y="1615524"/>
                  <a:pt x="52450" y="1824723"/>
                </a:cubicBezTo>
                <a:cubicBezTo>
                  <a:pt x="41600" y="1851892"/>
                  <a:pt x="19899" y="1889928"/>
                  <a:pt x="19899" y="1911663"/>
                </a:cubicBezTo>
                <a:cubicBezTo>
                  <a:pt x="22612" y="1971434"/>
                  <a:pt x="106700" y="2028488"/>
                  <a:pt x="76863" y="2118145"/>
                </a:cubicBezTo>
                <a:cubicBezTo>
                  <a:pt x="68725" y="2142597"/>
                  <a:pt x="41600" y="2153465"/>
                  <a:pt x="17187" y="2167049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Freeform 20" hidden="1"/>
          <p:cNvSpPr/>
          <p:nvPr/>
        </p:nvSpPr>
        <p:spPr>
          <a:xfrm>
            <a:off x="0" y="4908960"/>
            <a:ext cx="1096920" cy="1948680"/>
          </a:xfrm>
          <a:custGeom>
            <a:avLst/>
            <a:gdLst>
              <a:gd name="textAreaLeft" fmla="*/ 0 w 1096920"/>
              <a:gd name="textAreaRight" fmla="*/ 1097280 w 1096920"/>
              <a:gd name="textAreaTop" fmla="*/ 0 h 1948680"/>
              <a:gd name="textAreaBottom" fmla="*/ 1949040 h 1948680"/>
            </a:gdLst>
            <a:ahLst/>
            <a:rect l="textAreaLeft" t="textAreaTop" r="textAreaRight" b="textAreaBottom"/>
            <a:pathLst>
              <a:path w="1097279" h="1949116">
                <a:moveTo>
                  <a:pt x="0" y="1695815"/>
                </a:moveTo>
                <a:lnTo>
                  <a:pt x="7867" y="1742679"/>
                </a:lnTo>
                <a:lnTo>
                  <a:pt x="42224" y="1949116"/>
                </a:lnTo>
                <a:lnTo>
                  <a:pt x="9113" y="1949116"/>
                </a:lnTo>
                <a:lnTo>
                  <a:pt x="0" y="1890647"/>
                </a:lnTo>
                <a:close/>
                <a:moveTo>
                  <a:pt x="0" y="1374109"/>
                </a:moveTo>
                <a:lnTo>
                  <a:pt x="92420" y="1572256"/>
                </a:lnTo>
                <a:cubicBezTo>
                  <a:pt x="133631" y="1663029"/>
                  <a:pt x="174458" y="1754186"/>
                  <a:pt x="216054" y="1844576"/>
                </a:cubicBezTo>
                <a:cubicBezTo>
                  <a:pt x="277678" y="1832320"/>
                  <a:pt x="342383" y="1936498"/>
                  <a:pt x="246866" y="1924242"/>
                </a:cubicBezTo>
                <a:cubicBezTo>
                  <a:pt x="243785" y="1934967"/>
                  <a:pt x="239933" y="1943393"/>
                  <a:pt x="233771" y="1948755"/>
                </a:cubicBezTo>
                <a:lnTo>
                  <a:pt x="232182" y="1949116"/>
                </a:lnTo>
                <a:lnTo>
                  <a:pt x="191813" y="1949116"/>
                </a:lnTo>
                <a:lnTo>
                  <a:pt x="185819" y="1942627"/>
                </a:lnTo>
                <a:cubicBezTo>
                  <a:pt x="176576" y="1923668"/>
                  <a:pt x="196796" y="1887473"/>
                  <a:pt x="194485" y="1859896"/>
                </a:cubicBezTo>
                <a:cubicBezTo>
                  <a:pt x="194485" y="1826192"/>
                  <a:pt x="151348" y="1761846"/>
                  <a:pt x="132861" y="1718949"/>
                </a:cubicBezTo>
                <a:cubicBezTo>
                  <a:pt x="105130" y="1659200"/>
                  <a:pt x="78940" y="1599450"/>
                  <a:pt x="52750" y="1540084"/>
                </a:cubicBezTo>
                <a:lnTo>
                  <a:pt x="0" y="1423822"/>
                </a:lnTo>
                <a:close/>
                <a:moveTo>
                  <a:pt x="0" y="1277040"/>
                </a:moveTo>
                <a:lnTo>
                  <a:pt x="4702" y="1291797"/>
                </a:lnTo>
                <a:cubicBezTo>
                  <a:pt x="16545" y="1313341"/>
                  <a:pt x="39654" y="1330577"/>
                  <a:pt x="55831" y="1351259"/>
                </a:cubicBezTo>
                <a:cubicBezTo>
                  <a:pt x="191404" y="1510591"/>
                  <a:pt x="326977" y="1676052"/>
                  <a:pt x="462550" y="1844576"/>
                </a:cubicBezTo>
                <a:cubicBezTo>
                  <a:pt x="484119" y="1872153"/>
                  <a:pt x="511850" y="1911986"/>
                  <a:pt x="533418" y="1918114"/>
                </a:cubicBezTo>
                <a:cubicBezTo>
                  <a:pt x="581947" y="1936499"/>
                  <a:pt x="637409" y="1927307"/>
                  <a:pt x="685505" y="1935781"/>
                </a:cubicBezTo>
                <a:lnTo>
                  <a:pt x="723012" y="1949116"/>
                </a:lnTo>
                <a:lnTo>
                  <a:pt x="501674" y="1949116"/>
                </a:lnTo>
                <a:lnTo>
                  <a:pt x="502606" y="1942627"/>
                </a:lnTo>
                <a:cubicBezTo>
                  <a:pt x="419414" y="1843044"/>
                  <a:pt x="335451" y="1739632"/>
                  <a:pt x="251102" y="1635836"/>
                </a:cubicBezTo>
                <a:lnTo>
                  <a:pt x="0" y="1330049"/>
                </a:lnTo>
                <a:close/>
                <a:moveTo>
                  <a:pt x="342383" y="447355"/>
                </a:moveTo>
                <a:cubicBezTo>
                  <a:pt x="373195" y="444291"/>
                  <a:pt x="382439" y="462676"/>
                  <a:pt x="394764" y="490252"/>
                </a:cubicBezTo>
                <a:cubicBezTo>
                  <a:pt x="431738" y="474932"/>
                  <a:pt x="450225" y="505573"/>
                  <a:pt x="450225" y="523957"/>
                </a:cubicBezTo>
                <a:cubicBezTo>
                  <a:pt x="450225" y="572983"/>
                  <a:pt x="385520" y="569919"/>
                  <a:pt x="345464" y="579111"/>
                </a:cubicBezTo>
                <a:cubicBezTo>
                  <a:pt x="237622" y="720058"/>
                  <a:pt x="132861" y="870198"/>
                  <a:pt x="28100" y="1014210"/>
                </a:cubicBezTo>
                <a:cubicBezTo>
                  <a:pt x="21938" y="1023403"/>
                  <a:pt x="13464" y="1033361"/>
                  <a:pt x="6532" y="1044085"/>
                </a:cubicBezTo>
                <a:lnTo>
                  <a:pt x="0" y="1056505"/>
                </a:lnTo>
                <a:lnTo>
                  <a:pt x="0" y="1010146"/>
                </a:lnTo>
                <a:lnTo>
                  <a:pt x="144416" y="816960"/>
                </a:lnTo>
                <a:cubicBezTo>
                  <a:pt x="204499" y="733081"/>
                  <a:pt x="263813" y="648053"/>
                  <a:pt x="323896" y="563790"/>
                </a:cubicBezTo>
                <a:cubicBezTo>
                  <a:pt x="305409" y="527021"/>
                  <a:pt x="290003" y="450419"/>
                  <a:pt x="342383" y="447355"/>
                </a:cubicBezTo>
                <a:close/>
                <a:moveTo>
                  <a:pt x="770671" y="263511"/>
                </a:moveTo>
                <a:cubicBezTo>
                  <a:pt x="835376" y="272703"/>
                  <a:pt x="860026" y="343177"/>
                  <a:pt x="853864" y="401394"/>
                </a:cubicBezTo>
                <a:cubicBezTo>
                  <a:pt x="989437" y="389138"/>
                  <a:pt x="1001762" y="579111"/>
                  <a:pt x="875432" y="597495"/>
                </a:cubicBezTo>
                <a:cubicBezTo>
                  <a:pt x="804564" y="606688"/>
                  <a:pt x="712128" y="566854"/>
                  <a:pt x="659747" y="576047"/>
                </a:cubicBezTo>
                <a:cubicBezTo>
                  <a:pt x="641260" y="579111"/>
                  <a:pt x="598123" y="618944"/>
                  <a:pt x="573474" y="640392"/>
                </a:cubicBezTo>
                <a:cubicBezTo>
                  <a:pt x="437901" y="750699"/>
                  <a:pt x="305409" y="861006"/>
                  <a:pt x="166754" y="971313"/>
                </a:cubicBezTo>
                <a:cubicBezTo>
                  <a:pt x="111292" y="1017274"/>
                  <a:pt x="55831" y="1060171"/>
                  <a:pt x="12694" y="1109197"/>
                </a:cubicBezTo>
                <a:cubicBezTo>
                  <a:pt x="200647" y="1029530"/>
                  <a:pt x="385520" y="943736"/>
                  <a:pt x="570392" y="861006"/>
                </a:cubicBezTo>
                <a:cubicBezTo>
                  <a:pt x="585798" y="805853"/>
                  <a:pt x="591961" y="716994"/>
                  <a:pt x="659747" y="713930"/>
                </a:cubicBezTo>
                <a:cubicBezTo>
                  <a:pt x="696722" y="713930"/>
                  <a:pt x="733696" y="753763"/>
                  <a:pt x="709047" y="805853"/>
                </a:cubicBezTo>
                <a:cubicBezTo>
                  <a:pt x="770671" y="805853"/>
                  <a:pt x="782996" y="906967"/>
                  <a:pt x="721372" y="919224"/>
                </a:cubicBezTo>
                <a:cubicBezTo>
                  <a:pt x="665910" y="931480"/>
                  <a:pt x="625854" y="882455"/>
                  <a:pt x="576555" y="885519"/>
                </a:cubicBezTo>
                <a:cubicBezTo>
                  <a:pt x="539580" y="885519"/>
                  <a:pt x="481037" y="928416"/>
                  <a:pt x="437901" y="946800"/>
                </a:cubicBezTo>
                <a:cubicBezTo>
                  <a:pt x="302327" y="1008082"/>
                  <a:pt x="145186" y="1072428"/>
                  <a:pt x="25019" y="1136773"/>
                </a:cubicBezTo>
                <a:cubicBezTo>
                  <a:pt x="299246" y="1096940"/>
                  <a:pt x="564230" y="1050979"/>
                  <a:pt x="835376" y="1008082"/>
                </a:cubicBezTo>
                <a:cubicBezTo>
                  <a:pt x="875432" y="949864"/>
                  <a:pt x="890838" y="821173"/>
                  <a:pt x="992518" y="830365"/>
                </a:cubicBezTo>
                <a:cubicBezTo>
                  <a:pt x="1047980" y="833429"/>
                  <a:pt x="1084954" y="910031"/>
                  <a:pt x="1038736" y="962121"/>
                </a:cubicBezTo>
                <a:cubicBezTo>
                  <a:pt x="1072629" y="974377"/>
                  <a:pt x="1088035" y="998890"/>
                  <a:pt x="1097279" y="1035659"/>
                </a:cubicBezTo>
                <a:cubicBezTo>
                  <a:pt x="1097279" y="1035659"/>
                  <a:pt x="1097279" y="1038723"/>
                  <a:pt x="1097279" y="1038723"/>
                </a:cubicBezTo>
                <a:cubicBezTo>
                  <a:pt x="1091117" y="1124517"/>
                  <a:pt x="1004843" y="1124517"/>
                  <a:pt x="933975" y="1084684"/>
                </a:cubicBezTo>
                <a:cubicBezTo>
                  <a:pt x="909325" y="1072428"/>
                  <a:pt x="881594" y="1038723"/>
                  <a:pt x="853864" y="1035659"/>
                </a:cubicBezTo>
                <a:cubicBezTo>
                  <a:pt x="832295" y="1032595"/>
                  <a:pt x="782996" y="1044851"/>
                  <a:pt x="749103" y="1050979"/>
                </a:cubicBezTo>
                <a:cubicBezTo>
                  <a:pt x="650504" y="1066299"/>
                  <a:pt x="539580" y="1084684"/>
                  <a:pt x="437901" y="1103068"/>
                </a:cubicBezTo>
                <a:cubicBezTo>
                  <a:pt x="283840" y="1127581"/>
                  <a:pt x="151348" y="1145966"/>
                  <a:pt x="34262" y="1176606"/>
                </a:cubicBezTo>
                <a:cubicBezTo>
                  <a:pt x="234541" y="1201119"/>
                  <a:pt x="444063" y="1216439"/>
                  <a:pt x="647423" y="1240952"/>
                </a:cubicBezTo>
                <a:cubicBezTo>
                  <a:pt x="696722" y="1204183"/>
                  <a:pt x="761427" y="1136773"/>
                  <a:pt x="782996" y="1225632"/>
                </a:cubicBezTo>
                <a:cubicBezTo>
                  <a:pt x="789158" y="1247080"/>
                  <a:pt x="767590" y="1253208"/>
                  <a:pt x="755265" y="1271593"/>
                </a:cubicBezTo>
                <a:cubicBezTo>
                  <a:pt x="782996" y="1305298"/>
                  <a:pt x="752184" y="1339003"/>
                  <a:pt x="727534" y="1339003"/>
                </a:cubicBezTo>
                <a:cubicBezTo>
                  <a:pt x="681316" y="1342067"/>
                  <a:pt x="678235" y="1280785"/>
                  <a:pt x="647423" y="1262401"/>
                </a:cubicBezTo>
                <a:cubicBezTo>
                  <a:pt x="444063" y="1244016"/>
                  <a:pt x="225297" y="1219503"/>
                  <a:pt x="28100" y="1204183"/>
                </a:cubicBezTo>
                <a:cubicBezTo>
                  <a:pt x="52749" y="1228696"/>
                  <a:pt x="89724" y="1234824"/>
                  <a:pt x="123617" y="1247080"/>
                </a:cubicBezTo>
                <a:cubicBezTo>
                  <a:pt x="317733" y="1320618"/>
                  <a:pt x="527256" y="1400284"/>
                  <a:pt x="724453" y="1473822"/>
                </a:cubicBezTo>
                <a:cubicBezTo>
                  <a:pt x="758346" y="1486079"/>
                  <a:pt x="801483" y="1507527"/>
                  <a:pt x="823052" y="1507527"/>
                </a:cubicBezTo>
                <a:cubicBezTo>
                  <a:pt x="872351" y="1510591"/>
                  <a:pt x="943219" y="1449309"/>
                  <a:pt x="1011005" y="1473822"/>
                </a:cubicBezTo>
                <a:cubicBezTo>
                  <a:pt x="1069548" y="1495271"/>
                  <a:pt x="1060305" y="1605578"/>
                  <a:pt x="983274" y="1611706"/>
                </a:cubicBezTo>
                <a:cubicBezTo>
                  <a:pt x="1007924" y="1679116"/>
                  <a:pt x="961706" y="1731205"/>
                  <a:pt x="900082" y="1718949"/>
                </a:cubicBezTo>
                <a:cubicBezTo>
                  <a:pt x="835376" y="1703628"/>
                  <a:pt x="835376" y="1599450"/>
                  <a:pt x="813808" y="1541232"/>
                </a:cubicBezTo>
                <a:cubicBezTo>
                  <a:pt x="551905" y="1437053"/>
                  <a:pt x="280759" y="1342067"/>
                  <a:pt x="15775" y="1240952"/>
                </a:cubicBezTo>
                <a:cubicBezTo>
                  <a:pt x="25019" y="1259336"/>
                  <a:pt x="49668" y="1274657"/>
                  <a:pt x="68156" y="1286913"/>
                </a:cubicBezTo>
                <a:cubicBezTo>
                  <a:pt x="163673" y="1357387"/>
                  <a:pt x="271515" y="1430925"/>
                  <a:pt x="370114" y="1501399"/>
                </a:cubicBezTo>
                <a:cubicBezTo>
                  <a:pt x="404007" y="1522848"/>
                  <a:pt x="459469" y="1578001"/>
                  <a:pt x="493362" y="1584129"/>
                </a:cubicBezTo>
                <a:cubicBezTo>
                  <a:pt x="533418" y="1590257"/>
                  <a:pt x="595042" y="1559617"/>
                  <a:pt x="641260" y="1574937"/>
                </a:cubicBezTo>
                <a:cubicBezTo>
                  <a:pt x="699803" y="1596386"/>
                  <a:pt x="690560" y="1703628"/>
                  <a:pt x="607367" y="1697500"/>
                </a:cubicBezTo>
                <a:cubicBezTo>
                  <a:pt x="619692" y="1767974"/>
                  <a:pt x="564230" y="1798615"/>
                  <a:pt x="518012" y="1777166"/>
                </a:cubicBezTo>
                <a:cubicBezTo>
                  <a:pt x="468713" y="1755718"/>
                  <a:pt x="484119" y="1663795"/>
                  <a:pt x="474875" y="1602514"/>
                </a:cubicBezTo>
                <a:cubicBezTo>
                  <a:pt x="396304" y="1545829"/>
                  <a:pt x="317733" y="1489143"/>
                  <a:pt x="238392" y="1433223"/>
                </a:cubicBezTo>
                <a:lnTo>
                  <a:pt x="0" y="1270382"/>
                </a:lnTo>
                <a:lnTo>
                  <a:pt x="0" y="1073676"/>
                </a:lnTo>
                <a:lnTo>
                  <a:pt x="128673" y="965281"/>
                </a:lnTo>
                <a:cubicBezTo>
                  <a:pt x="267471" y="849516"/>
                  <a:pt x="417103" y="727719"/>
                  <a:pt x="558068" y="612816"/>
                </a:cubicBezTo>
                <a:cubicBezTo>
                  <a:pt x="582717" y="591367"/>
                  <a:pt x="628935" y="566854"/>
                  <a:pt x="635098" y="545406"/>
                </a:cubicBezTo>
                <a:cubicBezTo>
                  <a:pt x="647423" y="514765"/>
                  <a:pt x="638179" y="477996"/>
                  <a:pt x="641260" y="450419"/>
                </a:cubicBezTo>
                <a:cubicBezTo>
                  <a:pt x="644341" y="364625"/>
                  <a:pt x="665910" y="254318"/>
                  <a:pt x="770671" y="263511"/>
                </a:cubicBezTo>
                <a:close/>
                <a:moveTo>
                  <a:pt x="70777" y="235050"/>
                </a:moveTo>
                <a:cubicBezTo>
                  <a:pt x="99163" y="243080"/>
                  <a:pt x="122946" y="266788"/>
                  <a:pt x="122946" y="300437"/>
                </a:cubicBezTo>
                <a:cubicBezTo>
                  <a:pt x="122946" y="367355"/>
                  <a:pt x="38363" y="389772"/>
                  <a:pt x="770" y="435317"/>
                </a:cubicBezTo>
                <a:lnTo>
                  <a:pt x="0" y="436584"/>
                </a:lnTo>
                <a:lnTo>
                  <a:pt x="0" y="256689"/>
                </a:lnTo>
                <a:lnTo>
                  <a:pt x="27143" y="235481"/>
                </a:lnTo>
                <a:cubicBezTo>
                  <a:pt x="41240" y="230940"/>
                  <a:pt x="56584" y="231035"/>
                  <a:pt x="70777" y="235050"/>
                </a:cubicBezTo>
                <a:close/>
                <a:moveTo>
                  <a:pt x="200647" y="0"/>
                </a:moveTo>
                <a:cubicBezTo>
                  <a:pt x="206810" y="0"/>
                  <a:pt x="216054" y="0"/>
                  <a:pt x="222216" y="0"/>
                </a:cubicBezTo>
                <a:cubicBezTo>
                  <a:pt x="222216" y="0"/>
                  <a:pt x="222216" y="3064"/>
                  <a:pt x="222216" y="3064"/>
                </a:cubicBezTo>
                <a:cubicBezTo>
                  <a:pt x="268434" y="6128"/>
                  <a:pt x="283840" y="33705"/>
                  <a:pt x="302327" y="64345"/>
                </a:cubicBezTo>
                <a:cubicBezTo>
                  <a:pt x="354708" y="12256"/>
                  <a:pt x="456388" y="55153"/>
                  <a:pt x="440982" y="137883"/>
                </a:cubicBezTo>
                <a:cubicBezTo>
                  <a:pt x="428657" y="214485"/>
                  <a:pt x="296165" y="242062"/>
                  <a:pt x="246866" y="275767"/>
                </a:cubicBezTo>
                <a:cubicBezTo>
                  <a:pt x="172917" y="471868"/>
                  <a:pt x="105130" y="671033"/>
                  <a:pt x="28100" y="870198"/>
                </a:cubicBezTo>
                <a:lnTo>
                  <a:pt x="0" y="937752"/>
                </a:lnTo>
                <a:lnTo>
                  <a:pt x="0" y="849367"/>
                </a:lnTo>
                <a:lnTo>
                  <a:pt x="222216" y="263511"/>
                </a:lnTo>
                <a:cubicBezTo>
                  <a:pt x="179079" y="199165"/>
                  <a:pt x="74318" y="52089"/>
                  <a:pt x="200647" y="0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Rectangle 7" hidden="1"/>
          <p:cNvSpPr/>
          <p:nvPr/>
        </p:nvSpPr>
        <p:spPr>
          <a:xfrm>
            <a:off x="0" y="0"/>
            <a:ext cx="12188520" cy="180360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cxnSp>
        <p:nvCxnSpPr>
          <p:cNvPr id="3" name="Straight Connector 9"/>
          <p:cNvCxnSpPr/>
          <p:nvPr/>
        </p:nvCxnSpPr>
        <p:spPr>
          <a:xfrm>
            <a:off x="1440" y="1803960"/>
            <a:ext cx="12189240" cy="360"/>
          </a:xfrm>
          <a:prstGeom prst="straightConnector1">
            <a:avLst/>
          </a:prstGeom>
          <a:ln w="50800">
            <a:solidFill>
              <a:srgbClr val="565a5c"/>
            </a:solidFill>
          </a:ln>
        </p:spPr>
      </p:cxnSp>
      <p:grpSp>
        <p:nvGrpSpPr>
          <p:cNvPr id="4" name="Group 146"/>
          <p:cNvGrpSpPr/>
          <p:nvPr/>
        </p:nvGrpSpPr>
        <p:grpSpPr>
          <a:xfrm>
            <a:off x="-3240" y="-1440"/>
            <a:ext cx="12196440" cy="6862320"/>
            <a:chOff x="-3240" y="-1440"/>
            <a:chExt cx="12196440" cy="6862320"/>
          </a:xfrm>
        </p:grpSpPr>
        <p:sp>
          <p:nvSpPr>
            <p:cNvPr id="5" name="Freeform 5"/>
            <p:cNvSpPr/>
            <p:nvPr/>
          </p:nvSpPr>
          <p:spPr>
            <a:xfrm>
              <a:off x="1515960" y="-1440"/>
              <a:ext cx="1025280" cy="6862320"/>
            </a:xfrm>
            <a:custGeom>
              <a:avLst/>
              <a:gdLst>
                <a:gd name="textAreaLeft" fmla="*/ 0 w 1025280"/>
                <a:gd name="textAreaRight" fmla="*/ 1025640 w 102528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323" h="2159">
                  <a:moveTo>
                    <a:pt x="125" y="74"/>
                  </a:moveTo>
                  <a:cubicBezTo>
                    <a:pt x="132" y="83"/>
                    <a:pt x="139" y="92"/>
                    <a:pt x="144" y="103"/>
                  </a:cubicBezTo>
                  <a:cubicBezTo>
                    <a:pt x="148" y="111"/>
                    <a:pt x="151" y="121"/>
                    <a:pt x="151" y="131"/>
                  </a:cubicBezTo>
                  <a:cubicBezTo>
                    <a:pt x="151" y="131"/>
                    <a:pt x="151" y="131"/>
                    <a:pt x="151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2" y="197"/>
                    <a:pt x="121" y="197"/>
                  </a:cubicBezTo>
                  <a:cubicBezTo>
                    <a:pt x="107" y="215"/>
                    <a:pt x="89" y="230"/>
                    <a:pt x="72" y="246"/>
                  </a:cubicBezTo>
                  <a:cubicBezTo>
                    <a:pt x="56" y="262"/>
                    <a:pt x="39" y="279"/>
                    <a:pt x="25" y="298"/>
                  </a:cubicBezTo>
                  <a:cubicBezTo>
                    <a:pt x="24" y="300"/>
                    <a:pt x="22" y="302"/>
                    <a:pt x="21" y="305"/>
                  </a:cubicBezTo>
                  <a:cubicBezTo>
                    <a:pt x="19" y="307"/>
                    <a:pt x="17" y="310"/>
                    <a:pt x="15" y="313"/>
                  </a:cubicBezTo>
                  <a:cubicBezTo>
                    <a:pt x="9" y="322"/>
                    <a:pt x="4" y="333"/>
                    <a:pt x="2" y="345"/>
                  </a:cubicBezTo>
                  <a:cubicBezTo>
                    <a:pt x="1" y="351"/>
                    <a:pt x="0" y="357"/>
                    <a:pt x="1" y="363"/>
                  </a:cubicBezTo>
                  <a:cubicBezTo>
                    <a:pt x="2" y="369"/>
                    <a:pt x="3" y="374"/>
                    <a:pt x="6" y="379"/>
                  </a:cubicBezTo>
                  <a:cubicBezTo>
                    <a:pt x="8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3" y="404"/>
                    <a:pt x="26" y="408"/>
                  </a:cubicBezTo>
                  <a:cubicBezTo>
                    <a:pt x="42" y="426"/>
                    <a:pt x="59" y="441"/>
                    <a:pt x="76" y="457"/>
                  </a:cubicBezTo>
                  <a:cubicBezTo>
                    <a:pt x="93" y="473"/>
                    <a:pt x="110" y="489"/>
                    <a:pt x="125" y="507"/>
                  </a:cubicBezTo>
                  <a:cubicBezTo>
                    <a:pt x="132" y="516"/>
                    <a:pt x="139" y="525"/>
                    <a:pt x="144" y="535"/>
                  </a:cubicBezTo>
                  <a:cubicBezTo>
                    <a:pt x="148" y="544"/>
                    <a:pt x="151" y="554"/>
                    <a:pt x="151" y="564"/>
                  </a:cubicBezTo>
                  <a:cubicBezTo>
                    <a:pt x="151" y="564"/>
                    <a:pt x="151" y="564"/>
                    <a:pt x="151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5"/>
                    <a:pt x="122" y="629"/>
                  </a:cubicBezTo>
                  <a:cubicBezTo>
                    <a:pt x="122" y="629"/>
                    <a:pt x="122" y="629"/>
                    <a:pt x="121" y="630"/>
                  </a:cubicBezTo>
                  <a:cubicBezTo>
                    <a:pt x="107" y="648"/>
                    <a:pt x="89" y="663"/>
                    <a:pt x="72" y="679"/>
                  </a:cubicBezTo>
                  <a:cubicBezTo>
                    <a:pt x="56" y="695"/>
                    <a:pt x="39" y="711"/>
                    <a:pt x="25" y="730"/>
                  </a:cubicBezTo>
                  <a:cubicBezTo>
                    <a:pt x="24" y="733"/>
                    <a:pt x="22" y="735"/>
                    <a:pt x="21" y="737"/>
                  </a:cubicBezTo>
                  <a:cubicBezTo>
                    <a:pt x="19" y="740"/>
                    <a:pt x="17" y="743"/>
                    <a:pt x="15" y="745"/>
                  </a:cubicBezTo>
                  <a:cubicBezTo>
                    <a:pt x="9" y="755"/>
                    <a:pt x="4" y="766"/>
                    <a:pt x="2" y="778"/>
                  </a:cubicBezTo>
                  <a:cubicBezTo>
                    <a:pt x="1" y="784"/>
                    <a:pt x="0" y="789"/>
                    <a:pt x="1" y="795"/>
                  </a:cubicBezTo>
                  <a:cubicBezTo>
                    <a:pt x="2" y="801"/>
                    <a:pt x="3" y="807"/>
                    <a:pt x="6" y="812"/>
                  </a:cubicBezTo>
                  <a:cubicBezTo>
                    <a:pt x="8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3" y="837"/>
                    <a:pt x="26" y="841"/>
                  </a:cubicBezTo>
                  <a:cubicBezTo>
                    <a:pt x="42" y="858"/>
                    <a:pt x="59" y="874"/>
                    <a:pt x="76" y="890"/>
                  </a:cubicBezTo>
                  <a:cubicBezTo>
                    <a:pt x="93" y="906"/>
                    <a:pt x="110" y="922"/>
                    <a:pt x="125" y="939"/>
                  </a:cubicBezTo>
                  <a:cubicBezTo>
                    <a:pt x="132" y="948"/>
                    <a:pt x="139" y="958"/>
                    <a:pt x="144" y="968"/>
                  </a:cubicBezTo>
                  <a:cubicBezTo>
                    <a:pt x="147" y="976"/>
                    <a:pt x="150" y="984"/>
                    <a:pt x="151" y="993"/>
                  </a:cubicBezTo>
                  <a:cubicBezTo>
                    <a:pt x="151" y="993"/>
                    <a:pt x="151" y="993"/>
                    <a:pt x="151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9" y="1065"/>
                    <a:pt x="103" y="1082"/>
                    <a:pt x="86" y="1098"/>
                  </a:cubicBezTo>
                  <a:cubicBezTo>
                    <a:pt x="70" y="1114"/>
                    <a:pt x="52" y="1130"/>
                    <a:pt x="37" y="1147"/>
                  </a:cubicBezTo>
                  <a:cubicBezTo>
                    <a:pt x="29" y="1156"/>
                    <a:pt x="21" y="1165"/>
                    <a:pt x="15" y="1175"/>
                  </a:cubicBezTo>
                  <a:cubicBezTo>
                    <a:pt x="9" y="1185"/>
                    <a:pt x="4" y="1195"/>
                    <a:pt x="2" y="1207"/>
                  </a:cubicBezTo>
                  <a:cubicBezTo>
                    <a:pt x="1" y="1213"/>
                    <a:pt x="0" y="1219"/>
                    <a:pt x="1" y="1225"/>
                  </a:cubicBezTo>
                  <a:cubicBezTo>
                    <a:pt x="2" y="1231"/>
                    <a:pt x="3" y="1236"/>
                    <a:pt x="6" y="1242"/>
                  </a:cubicBezTo>
                  <a:cubicBezTo>
                    <a:pt x="7" y="1243"/>
                    <a:pt x="7" y="1244"/>
                    <a:pt x="8" y="1245"/>
                  </a:cubicBezTo>
                  <a:cubicBezTo>
                    <a:pt x="10" y="1251"/>
                    <a:pt x="12" y="1256"/>
                    <a:pt x="15" y="1261"/>
                  </a:cubicBezTo>
                  <a:cubicBezTo>
                    <a:pt x="19" y="1261"/>
                    <a:pt x="19" y="1261"/>
                    <a:pt x="19" y="1261"/>
                  </a:cubicBezTo>
                  <a:cubicBezTo>
                    <a:pt x="21" y="1264"/>
                    <a:pt x="24" y="1267"/>
                    <a:pt x="26" y="1270"/>
                  </a:cubicBezTo>
                  <a:cubicBezTo>
                    <a:pt x="42" y="1288"/>
                    <a:pt x="59" y="1303"/>
                    <a:pt x="76" y="1319"/>
                  </a:cubicBezTo>
                  <a:cubicBezTo>
                    <a:pt x="93" y="1335"/>
                    <a:pt x="110" y="1351"/>
                    <a:pt x="125" y="1369"/>
                  </a:cubicBezTo>
                  <a:cubicBezTo>
                    <a:pt x="132" y="1378"/>
                    <a:pt x="139" y="1387"/>
                    <a:pt x="144" y="1398"/>
                  </a:cubicBezTo>
                  <a:cubicBezTo>
                    <a:pt x="148" y="1406"/>
                    <a:pt x="151" y="1415"/>
                    <a:pt x="151" y="1425"/>
                  </a:cubicBezTo>
                  <a:cubicBezTo>
                    <a:pt x="151" y="1425"/>
                    <a:pt x="151" y="1425"/>
                    <a:pt x="151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6" y="1485"/>
                    <a:pt x="120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3" y="1595"/>
                    <a:pt x="19" y="1600"/>
                    <a:pt x="15" y="1606"/>
                  </a:cubicBezTo>
                  <a:cubicBezTo>
                    <a:pt x="9" y="1616"/>
                    <a:pt x="4" y="1627"/>
                    <a:pt x="2" y="1639"/>
                  </a:cubicBezTo>
                  <a:cubicBezTo>
                    <a:pt x="1" y="1644"/>
                    <a:pt x="0" y="1650"/>
                    <a:pt x="1" y="1656"/>
                  </a:cubicBezTo>
                  <a:cubicBezTo>
                    <a:pt x="2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1" y="1681"/>
                  </a:cubicBezTo>
                  <a:cubicBezTo>
                    <a:pt x="12" y="1685"/>
                    <a:pt x="13" y="1688"/>
                    <a:pt x="15" y="1691"/>
                  </a:cubicBezTo>
                  <a:cubicBezTo>
                    <a:pt x="17" y="1691"/>
                    <a:pt x="17" y="1691"/>
                    <a:pt x="17" y="1691"/>
                  </a:cubicBezTo>
                  <a:cubicBezTo>
                    <a:pt x="20" y="1694"/>
                    <a:pt x="23" y="1698"/>
                    <a:pt x="26" y="1702"/>
                  </a:cubicBezTo>
                  <a:cubicBezTo>
                    <a:pt x="42" y="1719"/>
                    <a:pt x="59" y="1735"/>
                    <a:pt x="76" y="1751"/>
                  </a:cubicBezTo>
                  <a:cubicBezTo>
                    <a:pt x="93" y="1767"/>
                    <a:pt x="110" y="1783"/>
                    <a:pt x="125" y="1800"/>
                  </a:cubicBezTo>
                  <a:cubicBezTo>
                    <a:pt x="132" y="1809"/>
                    <a:pt x="139" y="1819"/>
                    <a:pt x="144" y="1829"/>
                  </a:cubicBezTo>
                  <a:cubicBezTo>
                    <a:pt x="148" y="1837"/>
                    <a:pt x="150" y="1846"/>
                    <a:pt x="151" y="1855"/>
                  </a:cubicBezTo>
                  <a:cubicBezTo>
                    <a:pt x="151" y="1855"/>
                    <a:pt x="151" y="1855"/>
                    <a:pt x="151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8" y="1959"/>
                    <a:pt x="80" y="1966"/>
                    <a:pt x="72" y="1973"/>
                  </a:cubicBezTo>
                  <a:cubicBezTo>
                    <a:pt x="61" y="1984"/>
                    <a:pt x="49" y="1995"/>
                    <a:pt x="39" y="2007"/>
                  </a:cubicBezTo>
                  <a:cubicBezTo>
                    <a:pt x="38" y="2008"/>
                    <a:pt x="37" y="2008"/>
                    <a:pt x="37" y="2009"/>
                  </a:cubicBezTo>
                  <a:cubicBezTo>
                    <a:pt x="29" y="2018"/>
                    <a:pt x="21" y="2027"/>
                    <a:pt x="15" y="2037"/>
                  </a:cubicBezTo>
                  <a:cubicBezTo>
                    <a:pt x="9" y="2047"/>
                    <a:pt x="4" y="2057"/>
                    <a:pt x="2" y="2069"/>
                  </a:cubicBezTo>
                  <a:cubicBezTo>
                    <a:pt x="1" y="2075"/>
                    <a:pt x="0" y="2081"/>
                    <a:pt x="1" y="2087"/>
                  </a:cubicBezTo>
                  <a:cubicBezTo>
                    <a:pt x="2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1" y="2114"/>
                    <a:pt x="13" y="2118"/>
                    <a:pt x="15" y="2122"/>
                  </a:cubicBezTo>
                  <a:cubicBezTo>
                    <a:pt x="18" y="2122"/>
                    <a:pt x="18" y="2122"/>
                    <a:pt x="18" y="2122"/>
                  </a:cubicBezTo>
                  <a:cubicBezTo>
                    <a:pt x="21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5" y="2137"/>
                    <a:pt x="34" y="2125"/>
                  </a:cubicBezTo>
                  <a:cubicBezTo>
                    <a:pt x="27" y="2117"/>
                    <a:pt x="21" y="2109"/>
                    <a:pt x="16" y="2101"/>
                  </a:cubicBezTo>
                  <a:cubicBezTo>
                    <a:pt x="15" y="2097"/>
                    <a:pt x="15" y="2093"/>
                    <a:pt x="14" y="2089"/>
                  </a:cubicBezTo>
                  <a:cubicBezTo>
                    <a:pt x="13" y="2068"/>
                    <a:pt x="21" y="2048"/>
                    <a:pt x="34" y="2030"/>
                  </a:cubicBezTo>
                  <a:cubicBezTo>
                    <a:pt x="47" y="2012"/>
                    <a:pt x="63" y="1997"/>
                    <a:pt x="80" y="1981"/>
                  </a:cubicBezTo>
                  <a:cubicBezTo>
                    <a:pt x="97" y="1965"/>
                    <a:pt x="115" y="1949"/>
                    <a:pt x="130" y="1931"/>
                  </a:cubicBezTo>
                  <a:cubicBezTo>
                    <a:pt x="138" y="1922"/>
                    <a:pt x="146" y="1912"/>
                    <a:pt x="151" y="1900"/>
                  </a:cubicBezTo>
                  <a:cubicBezTo>
                    <a:pt x="157" y="1889"/>
                    <a:pt x="162" y="1877"/>
                    <a:pt x="163" y="1863"/>
                  </a:cubicBezTo>
                  <a:cubicBezTo>
                    <a:pt x="163" y="1862"/>
                    <a:pt x="163" y="1860"/>
                    <a:pt x="163" y="1859"/>
                  </a:cubicBezTo>
                  <a:cubicBezTo>
                    <a:pt x="163" y="1860"/>
                    <a:pt x="163" y="1861"/>
                    <a:pt x="163" y="1862"/>
                  </a:cubicBezTo>
                  <a:cubicBezTo>
                    <a:pt x="164" y="1874"/>
                    <a:pt x="168" y="1886"/>
                    <a:pt x="173" y="1896"/>
                  </a:cubicBezTo>
                  <a:cubicBezTo>
                    <a:pt x="179" y="1907"/>
                    <a:pt x="186" y="1916"/>
                    <a:pt x="193" y="1925"/>
                  </a:cubicBezTo>
                  <a:cubicBezTo>
                    <a:pt x="208" y="1943"/>
                    <a:pt x="226" y="1958"/>
                    <a:pt x="242" y="1974"/>
                  </a:cubicBezTo>
                  <a:cubicBezTo>
                    <a:pt x="243" y="1975"/>
                    <a:pt x="243" y="1975"/>
                    <a:pt x="243" y="1975"/>
                  </a:cubicBezTo>
                  <a:cubicBezTo>
                    <a:pt x="250" y="1982"/>
                    <a:pt x="257" y="1988"/>
                    <a:pt x="264" y="1995"/>
                  </a:cubicBezTo>
                  <a:cubicBezTo>
                    <a:pt x="273" y="2004"/>
                    <a:pt x="282" y="2014"/>
                    <a:pt x="290" y="2025"/>
                  </a:cubicBezTo>
                  <a:cubicBezTo>
                    <a:pt x="296" y="2035"/>
                    <a:pt x="302" y="2045"/>
                    <a:pt x="306" y="2056"/>
                  </a:cubicBezTo>
                  <a:cubicBezTo>
                    <a:pt x="309" y="2067"/>
                    <a:pt x="311" y="2078"/>
                    <a:pt x="310" y="2090"/>
                  </a:cubicBezTo>
                  <a:cubicBezTo>
                    <a:pt x="309" y="2096"/>
                    <a:pt x="308" y="2102"/>
                    <a:pt x="306" y="2108"/>
                  </a:cubicBezTo>
                  <a:cubicBezTo>
                    <a:pt x="301" y="2116"/>
                    <a:pt x="295" y="2124"/>
                    <a:pt x="289" y="2131"/>
                  </a:cubicBezTo>
                  <a:cubicBezTo>
                    <a:pt x="280" y="2141"/>
                    <a:pt x="271" y="2150"/>
                    <a:pt x="261" y="2159"/>
                  </a:cubicBezTo>
                  <a:cubicBezTo>
                    <a:pt x="277" y="2159"/>
                    <a:pt x="277" y="2159"/>
                    <a:pt x="277" y="2159"/>
                  </a:cubicBezTo>
                  <a:cubicBezTo>
                    <a:pt x="284" y="2152"/>
                    <a:pt x="290" y="2145"/>
                    <a:pt x="297" y="2138"/>
                  </a:cubicBezTo>
                  <a:cubicBezTo>
                    <a:pt x="301" y="2133"/>
                    <a:pt x="305" y="2128"/>
                    <a:pt x="309" y="2122"/>
                  </a:cubicBezTo>
                  <a:cubicBezTo>
                    <a:pt x="309" y="2122"/>
                    <a:pt x="309" y="2122"/>
                    <a:pt x="309" y="2122"/>
                  </a:cubicBezTo>
                  <a:cubicBezTo>
                    <a:pt x="310" y="2122"/>
                    <a:pt x="310" y="2121"/>
                    <a:pt x="310" y="2120"/>
                  </a:cubicBezTo>
                  <a:cubicBezTo>
                    <a:pt x="313" y="2116"/>
                    <a:pt x="316" y="2112"/>
                    <a:pt x="318" y="2107"/>
                  </a:cubicBezTo>
                  <a:cubicBezTo>
                    <a:pt x="320" y="2102"/>
                    <a:pt x="322" y="2097"/>
                    <a:pt x="323" y="2092"/>
                  </a:cubicBezTo>
                  <a:cubicBezTo>
                    <a:pt x="322" y="2090"/>
                    <a:pt x="322" y="2088"/>
                    <a:pt x="322" y="2087"/>
                  </a:cubicBezTo>
                  <a:cubicBezTo>
                    <a:pt x="321" y="2081"/>
                    <a:pt x="322" y="2076"/>
                    <a:pt x="323" y="2071"/>
                  </a:cubicBezTo>
                  <a:cubicBezTo>
                    <a:pt x="322" y="2070"/>
                    <a:pt x="322" y="2069"/>
                    <a:pt x="322" y="2068"/>
                  </a:cubicBezTo>
                  <a:cubicBezTo>
                    <a:pt x="320" y="2055"/>
                    <a:pt x="314" y="2043"/>
                    <a:pt x="307" y="2033"/>
                  </a:cubicBezTo>
                  <a:cubicBezTo>
                    <a:pt x="306" y="2032"/>
                    <a:pt x="305" y="2030"/>
                    <a:pt x="304" y="2029"/>
                  </a:cubicBezTo>
                  <a:cubicBezTo>
                    <a:pt x="302" y="2026"/>
                    <a:pt x="300" y="2022"/>
                    <a:pt x="298" y="2019"/>
                  </a:cubicBezTo>
                  <a:cubicBezTo>
                    <a:pt x="284" y="1999"/>
                    <a:pt x="267" y="1982"/>
                    <a:pt x="250" y="1966"/>
                  </a:cubicBezTo>
                  <a:cubicBezTo>
                    <a:pt x="233" y="1950"/>
                    <a:pt x="216" y="1935"/>
                    <a:pt x="202" y="1917"/>
                  </a:cubicBezTo>
                  <a:cubicBezTo>
                    <a:pt x="188" y="1901"/>
                    <a:pt x="177" y="1881"/>
                    <a:pt x="175" y="1861"/>
                  </a:cubicBezTo>
                  <a:cubicBezTo>
                    <a:pt x="174" y="1852"/>
                    <a:pt x="177" y="1843"/>
                    <a:pt x="181" y="1833"/>
                  </a:cubicBezTo>
                  <a:cubicBezTo>
                    <a:pt x="186" y="1824"/>
                    <a:pt x="192" y="1815"/>
                    <a:pt x="199" y="1806"/>
                  </a:cubicBezTo>
                  <a:cubicBezTo>
                    <a:pt x="213" y="1789"/>
                    <a:pt x="230" y="1773"/>
                    <a:pt x="246" y="1757"/>
                  </a:cubicBezTo>
                  <a:cubicBezTo>
                    <a:pt x="263" y="1741"/>
                    <a:pt x="281" y="1726"/>
                    <a:pt x="297" y="1708"/>
                  </a:cubicBezTo>
                  <a:cubicBezTo>
                    <a:pt x="304" y="1698"/>
                    <a:pt x="312" y="1689"/>
                    <a:pt x="318" y="1677"/>
                  </a:cubicBezTo>
                  <a:cubicBezTo>
                    <a:pt x="320" y="1672"/>
                    <a:pt x="322" y="1667"/>
                    <a:pt x="323" y="1661"/>
                  </a:cubicBezTo>
                  <a:cubicBezTo>
                    <a:pt x="322" y="1660"/>
                    <a:pt x="322" y="1658"/>
                    <a:pt x="322" y="1656"/>
                  </a:cubicBezTo>
                  <a:cubicBezTo>
                    <a:pt x="321" y="1651"/>
                    <a:pt x="322" y="1646"/>
                    <a:pt x="323" y="1640"/>
                  </a:cubicBezTo>
                  <a:cubicBezTo>
                    <a:pt x="322" y="1639"/>
                    <a:pt x="322" y="1638"/>
                    <a:pt x="322" y="1637"/>
                  </a:cubicBezTo>
                  <a:cubicBezTo>
                    <a:pt x="320" y="1625"/>
                    <a:pt x="315" y="1614"/>
                    <a:pt x="308" y="1605"/>
                  </a:cubicBezTo>
                  <a:cubicBezTo>
                    <a:pt x="305" y="1599"/>
                    <a:pt x="302" y="1593"/>
                    <a:pt x="298" y="1588"/>
                  </a:cubicBezTo>
                  <a:cubicBezTo>
                    <a:pt x="284" y="1567"/>
                    <a:pt x="267" y="1551"/>
                    <a:pt x="250" y="1535"/>
                  </a:cubicBezTo>
                  <a:cubicBezTo>
                    <a:pt x="233" y="1519"/>
                    <a:pt x="216" y="1503"/>
                    <a:pt x="202" y="1486"/>
                  </a:cubicBezTo>
                  <a:cubicBezTo>
                    <a:pt x="188" y="1469"/>
                    <a:pt x="177" y="1450"/>
                    <a:pt x="175" y="1430"/>
                  </a:cubicBezTo>
                  <a:cubicBezTo>
                    <a:pt x="174" y="1421"/>
                    <a:pt x="177" y="1411"/>
                    <a:pt x="181" y="1402"/>
                  </a:cubicBezTo>
                  <a:cubicBezTo>
                    <a:pt x="186" y="1392"/>
                    <a:pt x="192" y="1383"/>
                    <a:pt x="199" y="1375"/>
                  </a:cubicBezTo>
                  <a:cubicBezTo>
                    <a:pt x="213" y="1357"/>
                    <a:pt x="230" y="1342"/>
                    <a:pt x="246" y="1326"/>
                  </a:cubicBezTo>
                  <a:cubicBezTo>
                    <a:pt x="263" y="1310"/>
                    <a:pt x="281" y="1294"/>
                    <a:pt x="297" y="1276"/>
                  </a:cubicBezTo>
                  <a:cubicBezTo>
                    <a:pt x="301" y="1271"/>
                    <a:pt x="305" y="1266"/>
                    <a:pt x="308" y="1261"/>
                  </a:cubicBezTo>
                  <a:cubicBezTo>
                    <a:pt x="309" y="1261"/>
                    <a:pt x="309" y="1261"/>
                    <a:pt x="309" y="1261"/>
                  </a:cubicBezTo>
                  <a:cubicBezTo>
                    <a:pt x="310" y="1259"/>
                    <a:pt x="311" y="1258"/>
                    <a:pt x="312" y="1256"/>
                  </a:cubicBezTo>
                  <a:cubicBezTo>
                    <a:pt x="314" y="1252"/>
                    <a:pt x="316" y="1249"/>
                    <a:pt x="318" y="1245"/>
                  </a:cubicBezTo>
                  <a:cubicBezTo>
                    <a:pt x="320" y="1240"/>
                    <a:pt x="322" y="1235"/>
                    <a:pt x="323" y="1230"/>
                  </a:cubicBezTo>
                  <a:cubicBezTo>
                    <a:pt x="322" y="1228"/>
                    <a:pt x="322" y="1226"/>
                    <a:pt x="322" y="1225"/>
                  </a:cubicBezTo>
                  <a:cubicBezTo>
                    <a:pt x="321" y="1219"/>
                    <a:pt x="322" y="1214"/>
                    <a:pt x="323" y="1209"/>
                  </a:cubicBezTo>
                  <a:cubicBezTo>
                    <a:pt x="322" y="1208"/>
                    <a:pt x="322" y="1207"/>
                    <a:pt x="322" y="1206"/>
                  </a:cubicBezTo>
                  <a:cubicBezTo>
                    <a:pt x="320" y="1193"/>
                    <a:pt x="314" y="1181"/>
                    <a:pt x="307" y="1171"/>
                  </a:cubicBezTo>
                  <a:cubicBezTo>
                    <a:pt x="305" y="1168"/>
                    <a:pt x="302" y="1164"/>
                    <a:pt x="300" y="1161"/>
                  </a:cubicBezTo>
                  <a:cubicBezTo>
                    <a:pt x="299" y="1160"/>
                    <a:pt x="299" y="1159"/>
                    <a:pt x="298" y="1158"/>
                  </a:cubicBezTo>
                  <a:cubicBezTo>
                    <a:pt x="284" y="1138"/>
                    <a:pt x="267" y="1122"/>
                    <a:pt x="250" y="1105"/>
                  </a:cubicBezTo>
                  <a:cubicBezTo>
                    <a:pt x="233" y="1089"/>
                    <a:pt x="216" y="1074"/>
                    <a:pt x="202" y="1057"/>
                  </a:cubicBezTo>
                  <a:cubicBezTo>
                    <a:pt x="188" y="1040"/>
                    <a:pt x="177" y="1020"/>
                    <a:pt x="175" y="1000"/>
                  </a:cubicBezTo>
                  <a:cubicBezTo>
                    <a:pt x="174" y="991"/>
                    <a:pt x="177" y="982"/>
                    <a:pt x="181" y="972"/>
                  </a:cubicBezTo>
                  <a:cubicBezTo>
                    <a:pt x="186" y="963"/>
                    <a:pt x="192" y="954"/>
                    <a:pt x="199" y="945"/>
                  </a:cubicBezTo>
                  <a:cubicBezTo>
                    <a:pt x="213" y="928"/>
                    <a:pt x="230" y="912"/>
                    <a:pt x="246" y="896"/>
                  </a:cubicBezTo>
                  <a:cubicBezTo>
                    <a:pt x="263" y="880"/>
                    <a:pt x="281" y="865"/>
                    <a:pt x="297" y="847"/>
                  </a:cubicBezTo>
                  <a:cubicBezTo>
                    <a:pt x="304" y="837"/>
                    <a:pt x="312" y="828"/>
                    <a:pt x="318" y="816"/>
                  </a:cubicBezTo>
                  <a:cubicBezTo>
                    <a:pt x="320" y="811"/>
                    <a:pt x="322" y="806"/>
                    <a:pt x="323" y="800"/>
                  </a:cubicBezTo>
                  <a:cubicBezTo>
                    <a:pt x="322" y="799"/>
                    <a:pt x="322" y="797"/>
                    <a:pt x="322" y="795"/>
                  </a:cubicBezTo>
                  <a:cubicBezTo>
                    <a:pt x="321" y="790"/>
                    <a:pt x="322" y="785"/>
                    <a:pt x="323" y="779"/>
                  </a:cubicBezTo>
                  <a:cubicBezTo>
                    <a:pt x="322" y="778"/>
                    <a:pt x="322" y="777"/>
                    <a:pt x="322" y="776"/>
                  </a:cubicBezTo>
                  <a:cubicBezTo>
                    <a:pt x="320" y="766"/>
                    <a:pt x="316" y="756"/>
                    <a:pt x="311" y="748"/>
                  </a:cubicBezTo>
                  <a:cubicBezTo>
                    <a:pt x="307" y="740"/>
                    <a:pt x="303" y="732"/>
                    <a:pt x="298" y="726"/>
                  </a:cubicBezTo>
                  <a:cubicBezTo>
                    <a:pt x="284" y="705"/>
                    <a:pt x="267" y="689"/>
                    <a:pt x="250" y="673"/>
                  </a:cubicBezTo>
                  <a:cubicBezTo>
                    <a:pt x="233" y="656"/>
                    <a:pt x="216" y="641"/>
                    <a:pt x="202" y="624"/>
                  </a:cubicBezTo>
                  <a:cubicBezTo>
                    <a:pt x="188" y="607"/>
                    <a:pt x="177" y="588"/>
                    <a:pt x="175" y="568"/>
                  </a:cubicBezTo>
                  <a:cubicBezTo>
                    <a:pt x="174" y="558"/>
                    <a:pt x="177" y="549"/>
                    <a:pt x="181" y="540"/>
                  </a:cubicBezTo>
                  <a:cubicBezTo>
                    <a:pt x="186" y="530"/>
                    <a:pt x="192" y="521"/>
                    <a:pt x="199" y="513"/>
                  </a:cubicBezTo>
                  <a:cubicBezTo>
                    <a:pt x="213" y="495"/>
                    <a:pt x="230" y="480"/>
                    <a:pt x="246" y="464"/>
                  </a:cubicBezTo>
                  <a:cubicBezTo>
                    <a:pt x="263" y="448"/>
                    <a:pt x="281" y="432"/>
                    <a:pt x="297" y="414"/>
                  </a:cubicBezTo>
                  <a:cubicBezTo>
                    <a:pt x="304" y="405"/>
                    <a:pt x="312" y="395"/>
                    <a:pt x="318" y="383"/>
                  </a:cubicBezTo>
                  <a:cubicBezTo>
                    <a:pt x="320" y="378"/>
                    <a:pt x="322" y="373"/>
                    <a:pt x="323" y="367"/>
                  </a:cubicBezTo>
                  <a:cubicBezTo>
                    <a:pt x="322" y="366"/>
                    <a:pt x="322" y="364"/>
                    <a:pt x="322" y="363"/>
                  </a:cubicBezTo>
                  <a:cubicBezTo>
                    <a:pt x="321" y="357"/>
                    <a:pt x="322" y="352"/>
                    <a:pt x="323" y="347"/>
                  </a:cubicBezTo>
                  <a:cubicBezTo>
                    <a:pt x="322" y="346"/>
                    <a:pt x="322" y="345"/>
                    <a:pt x="322" y="344"/>
                  </a:cubicBezTo>
                  <a:cubicBezTo>
                    <a:pt x="320" y="333"/>
                    <a:pt x="316" y="324"/>
                    <a:pt x="311" y="315"/>
                  </a:cubicBezTo>
                  <a:cubicBezTo>
                    <a:pt x="307" y="307"/>
                    <a:pt x="303" y="300"/>
                    <a:pt x="298" y="293"/>
                  </a:cubicBezTo>
                  <a:cubicBezTo>
                    <a:pt x="284" y="273"/>
                    <a:pt x="267" y="256"/>
                    <a:pt x="250" y="240"/>
                  </a:cubicBezTo>
                  <a:cubicBezTo>
                    <a:pt x="233" y="224"/>
                    <a:pt x="216" y="208"/>
                    <a:pt x="202" y="191"/>
                  </a:cubicBezTo>
                  <a:cubicBezTo>
                    <a:pt x="188" y="174"/>
                    <a:pt x="177" y="155"/>
                    <a:pt x="175" y="135"/>
                  </a:cubicBezTo>
                  <a:cubicBezTo>
                    <a:pt x="174" y="126"/>
                    <a:pt x="177" y="116"/>
                    <a:pt x="181" y="107"/>
                  </a:cubicBezTo>
                  <a:cubicBezTo>
                    <a:pt x="186" y="97"/>
                    <a:pt x="192" y="88"/>
                    <a:pt x="199" y="80"/>
                  </a:cubicBezTo>
                  <a:cubicBezTo>
                    <a:pt x="213" y="63"/>
                    <a:pt x="230" y="47"/>
                    <a:pt x="246" y="31"/>
                  </a:cubicBezTo>
                  <a:cubicBezTo>
                    <a:pt x="257" y="21"/>
                    <a:pt x="268" y="10"/>
                    <a:pt x="279" y="0"/>
                  </a:cubicBezTo>
                  <a:cubicBezTo>
                    <a:pt x="263" y="0"/>
                    <a:pt x="263" y="0"/>
                    <a:pt x="263" y="0"/>
                  </a:cubicBezTo>
                  <a:cubicBezTo>
                    <a:pt x="255" y="7"/>
                    <a:pt x="247" y="15"/>
                    <a:pt x="239" y="23"/>
                  </a:cubicBezTo>
                  <a:cubicBezTo>
                    <a:pt x="222" y="39"/>
                    <a:pt x="205" y="54"/>
                    <a:pt x="190" y="72"/>
                  </a:cubicBezTo>
                  <a:cubicBezTo>
                    <a:pt x="182" y="81"/>
                    <a:pt x="176" y="91"/>
                    <a:pt x="170" y="102"/>
                  </a:cubicBezTo>
                  <a:cubicBezTo>
                    <a:pt x="166" y="110"/>
                    <a:pt x="163" y="120"/>
                    <a:pt x="163" y="130"/>
                  </a:cubicBezTo>
                  <a:cubicBezTo>
                    <a:pt x="163" y="125"/>
                    <a:pt x="162" y="121"/>
                    <a:pt x="161" y="116"/>
                  </a:cubicBezTo>
                  <a:cubicBezTo>
                    <a:pt x="160" y="109"/>
                    <a:pt x="157" y="103"/>
                    <a:pt x="154" y="97"/>
                  </a:cubicBezTo>
                  <a:cubicBezTo>
                    <a:pt x="149" y="86"/>
                    <a:pt x="141" y="76"/>
                    <a:pt x="134" y="66"/>
                  </a:cubicBezTo>
                  <a:cubicBezTo>
                    <a:pt x="118" y="48"/>
                    <a:pt x="101" y="32"/>
                    <a:pt x="83" y="16"/>
                  </a:cubicBezTo>
                  <a:cubicBezTo>
                    <a:pt x="78" y="11"/>
                    <a:pt x="72" y="5"/>
                    <a:pt x="66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8" y="8"/>
                    <a:pt x="67" y="16"/>
                    <a:pt x="76" y="24"/>
                  </a:cubicBezTo>
                  <a:cubicBezTo>
                    <a:pt x="93" y="40"/>
                    <a:pt x="110" y="56"/>
                    <a:pt x="125" y="74"/>
                  </a:cubicBezTo>
                  <a:close/>
                  <a:moveTo>
                    <a:pt x="193" y="1493"/>
                  </a:moveTo>
                  <a:cubicBezTo>
                    <a:pt x="200" y="1502"/>
                    <a:pt x="208" y="1510"/>
                    <a:pt x="216" y="1517"/>
                  </a:cubicBezTo>
                  <a:cubicBezTo>
                    <a:pt x="220" y="1522"/>
                    <a:pt x="225" y="1526"/>
                    <a:pt x="229" y="1531"/>
                  </a:cubicBezTo>
                  <a:cubicBezTo>
                    <a:pt x="245" y="1547"/>
                    <a:pt x="263" y="1563"/>
                    <a:pt x="278" y="1580"/>
                  </a:cubicBezTo>
                  <a:cubicBezTo>
                    <a:pt x="280" y="1582"/>
                    <a:pt x="282" y="1584"/>
                    <a:pt x="284" y="1586"/>
                  </a:cubicBezTo>
                  <a:cubicBezTo>
                    <a:pt x="286" y="1589"/>
                    <a:pt x="288" y="1591"/>
                    <a:pt x="290" y="1594"/>
                  </a:cubicBezTo>
                  <a:cubicBezTo>
                    <a:pt x="296" y="1603"/>
                    <a:pt x="302" y="1613"/>
                    <a:pt x="306" y="1624"/>
                  </a:cubicBezTo>
                  <a:cubicBezTo>
                    <a:pt x="309" y="1635"/>
                    <a:pt x="311" y="1647"/>
                    <a:pt x="310" y="1658"/>
                  </a:cubicBezTo>
                  <a:cubicBezTo>
                    <a:pt x="309" y="1666"/>
                    <a:pt x="307" y="1673"/>
                    <a:pt x="304" y="1680"/>
                  </a:cubicBezTo>
                  <a:cubicBezTo>
                    <a:pt x="300" y="1687"/>
                    <a:pt x="294" y="1694"/>
                    <a:pt x="289" y="1701"/>
                  </a:cubicBezTo>
                  <a:cubicBezTo>
                    <a:pt x="273" y="1718"/>
                    <a:pt x="256" y="1733"/>
                    <a:pt x="239" y="1749"/>
                  </a:cubicBezTo>
                  <a:cubicBezTo>
                    <a:pt x="222" y="1765"/>
                    <a:pt x="205" y="1781"/>
                    <a:pt x="190" y="1799"/>
                  </a:cubicBezTo>
                  <a:cubicBezTo>
                    <a:pt x="182" y="1808"/>
                    <a:pt x="176" y="1818"/>
                    <a:pt x="170" y="1828"/>
                  </a:cubicBezTo>
                  <a:cubicBezTo>
                    <a:pt x="166" y="1837"/>
                    <a:pt x="163" y="1847"/>
                    <a:pt x="163" y="1857"/>
                  </a:cubicBezTo>
                  <a:cubicBezTo>
                    <a:pt x="163" y="1852"/>
                    <a:pt x="162" y="1847"/>
                    <a:pt x="161" y="1843"/>
                  </a:cubicBezTo>
                  <a:cubicBezTo>
                    <a:pt x="160" y="1836"/>
                    <a:pt x="157" y="1830"/>
                    <a:pt x="154" y="1824"/>
                  </a:cubicBezTo>
                  <a:cubicBezTo>
                    <a:pt x="149" y="1812"/>
                    <a:pt x="141" y="1802"/>
                    <a:pt x="134" y="1793"/>
                  </a:cubicBezTo>
                  <a:cubicBezTo>
                    <a:pt x="118" y="1774"/>
                    <a:pt x="101" y="1758"/>
                    <a:pt x="83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7" y="1671"/>
                  </a:cubicBezTo>
                  <a:cubicBezTo>
                    <a:pt x="15" y="1667"/>
                    <a:pt x="15" y="1662"/>
                    <a:pt x="14" y="1658"/>
                  </a:cubicBezTo>
                  <a:cubicBezTo>
                    <a:pt x="13" y="1637"/>
                    <a:pt x="21" y="1616"/>
                    <a:pt x="34" y="1599"/>
                  </a:cubicBezTo>
                  <a:cubicBezTo>
                    <a:pt x="47" y="1581"/>
                    <a:pt x="63" y="1565"/>
                    <a:pt x="80" y="1549"/>
                  </a:cubicBezTo>
                  <a:cubicBezTo>
                    <a:pt x="97" y="1534"/>
                    <a:pt x="115" y="1518"/>
                    <a:pt x="130" y="1499"/>
                  </a:cubicBezTo>
                  <a:cubicBezTo>
                    <a:pt x="138" y="1490"/>
                    <a:pt x="146" y="1480"/>
                    <a:pt x="151" y="1469"/>
                  </a:cubicBezTo>
                  <a:cubicBezTo>
                    <a:pt x="157" y="1458"/>
                    <a:pt x="162" y="1445"/>
                    <a:pt x="163" y="1432"/>
                  </a:cubicBezTo>
                  <a:cubicBezTo>
                    <a:pt x="163" y="1430"/>
                    <a:pt x="163" y="1429"/>
                    <a:pt x="163" y="1427"/>
                  </a:cubicBezTo>
                  <a:cubicBezTo>
                    <a:pt x="163" y="1428"/>
                    <a:pt x="163" y="1430"/>
                    <a:pt x="163" y="1431"/>
                  </a:cubicBezTo>
                  <a:cubicBezTo>
                    <a:pt x="164" y="1443"/>
                    <a:pt x="168" y="1454"/>
                    <a:pt x="173" y="1464"/>
                  </a:cubicBezTo>
                  <a:cubicBezTo>
                    <a:pt x="179" y="1475"/>
                    <a:pt x="186" y="1484"/>
                    <a:pt x="193" y="1493"/>
                  </a:cubicBezTo>
                  <a:close/>
                  <a:moveTo>
                    <a:pt x="193" y="1064"/>
                  </a:moveTo>
                  <a:cubicBezTo>
                    <a:pt x="208" y="1082"/>
                    <a:pt x="226" y="1098"/>
                    <a:pt x="242" y="1113"/>
                  </a:cubicBezTo>
                  <a:cubicBezTo>
                    <a:pt x="259" y="1129"/>
                    <a:pt x="276" y="1146"/>
                    <a:pt x="290" y="1164"/>
                  </a:cubicBezTo>
                  <a:cubicBezTo>
                    <a:pt x="296" y="1174"/>
                    <a:pt x="302" y="1184"/>
                    <a:pt x="306" y="1195"/>
                  </a:cubicBezTo>
                  <a:cubicBezTo>
                    <a:pt x="309" y="1206"/>
                    <a:pt x="311" y="1218"/>
                    <a:pt x="310" y="1229"/>
                  </a:cubicBezTo>
                  <a:cubicBezTo>
                    <a:pt x="309" y="1234"/>
                    <a:pt x="308" y="1239"/>
                    <a:pt x="307" y="1244"/>
                  </a:cubicBezTo>
                  <a:cubicBezTo>
                    <a:pt x="302" y="1253"/>
                    <a:pt x="295" y="1261"/>
                    <a:pt x="289" y="1269"/>
                  </a:cubicBezTo>
                  <a:cubicBezTo>
                    <a:pt x="273" y="1286"/>
                    <a:pt x="256" y="1302"/>
                    <a:pt x="239" y="1318"/>
                  </a:cubicBezTo>
                  <a:cubicBezTo>
                    <a:pt x="222" y="1333"/>
                    <a:pt x="205" y="1349"/>
                    <a:pt x="190" y="1367"/>
                  </a:cubicBezTo>
                  <a:cubicBezTo>
                    <a:pt x="182" y="1376"/>
                    <a:pt x="176" y="1386"/>
                    <a:pt x="170" y="1396"/>
                  </a:cubicBezTo>
                  <a:cubicBezTo>
                    <a:pt x="166" y="1405"/>
                    <a:pt x="163" y="1415"/>
                    <a:pt x="163" y="1425"/>
                  </a:cubicBezTo>
                  <a:cubicBezTo>
                    <a:pt x="163" y="1420"/>
                    <a:pt x="162" y="1415"/>
                    <a:pt x="161" y="1411"/>
                  </a:cubicBezTo>
                  <a:cubicBezTo>
                    <a:pt x="160" y="1404"/>
                    <a:pt x="157" y="1398"/>
                    <a:pt x="154" y="1392"/>
                  </a:cubicBezTo>
                  <a:cubicBezTo>
                    <a:pt x="149" y="1381"/>
                    <a:pt x="141" y="1371"/>
                    <a:pt x="134" y="1361"/>
                  </a:cubicBezTo>
                  <a:cubicBezTo>
                    <a:pt x="118" y="1343"/>
                    <a:pt x="101" y="1327"/>
                    <a:pt x="83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7" y="1255"/>
                    <a:pt x="20" y="1247"/>
                    <a:pt x="16" y="1238"/>
                  </a:cubicBezTo>
                  <a:cubicBezTo>
                    <a:pt x="15" y="1235"/>
                    <a:pt x="15" y="1232"/>
                    <a:pt x="14" y="1228"/>
                  </a:cubicBezTo>
                  <a:cubicBezTo>
                    <a:pt x="13" y="1207"/>
                    <a:pt x="21" y="1187"/>
                    <a:pt x="34" y="1169"/>
                  </a:cubicBezTo>
                  <a:cubicBezTo>
                    <a:pt x="47" y="1152"/>
                    <a:pt x="63" y="1136"/>
                    <a:pt x="80" y="1120"/>
                  </a:cubicBezTo>
                  <a:cubicBezTo>
                    <a:pt x="97" y="1104"/>
                    <a:pt x="115" y="1089"/>
                    <a:pt x="130" y="1070"/>
                  </a:cubicBezTo>
                  <a:cubicBezTo>
                    <a:pt x="138" y="1061"/>
                    <a:pt x="146" y="1051"/>
                    <a:pt x="151" y="1039"/>
                  </a:cubicBezTo>
                  <a:cubicBezTo>
                    <a:pt x="157" y="1028"/>
                    <a:pt x="162" y="1016"/>
                    <a:pt x="163" y="1002"/>
                  </a:cubicBezTo>
                  <a:cubicBezTo>
                    <a:pt x="163" y="1001"/>
                    <a:pt x="163" y="999"/>
                    <a:pt x="163" y="998"/>
                  </a:cubicBezTo>
                  <a:cubicBezTo>
                    <a:pt x="163" y="999"/>
                    <a:pt x="163" y="1000"/>
                    <a:pt x="163" y="1001"/>
                  </a:cubicBezTo>
                  <a:cubicBezTo>
                    <a:pt x="164" y="1013"/>
                    <a:pt x="168" y="1025"/>
                    <a:pt x="173" y="1035"/>
                  </a:cubicBezTo>
                  <a:cubicBezTo>
                    <a:pt x="179" y="1046"/>
                    <a:pt x="186" y="1055"/>
                    <a:pt x="193" y="1064"/>
                  </a:cubicBezTo>
                  <a:close/>
                  <a:moveTo>
                    <a:pt x="193" y="631"/>
                  </a:moveTo>
                  <a:cubicBezTo>
                    <a:pt x="196" y="635"/>
                    <a:pt x="199" y="638"/>
                    <a:pt x="203" y="642"/>
                  </a:cubicBezTo>
                  <a:cubicBezTo>
                    <a:pt x="211" y="652"/>
                    <a:pt x="220" y="661"/>
                    <a:pt x="229" y="670"/>
                  </a:cubicBezTo>
                  <a:cubicBezTo>
                    <a:pt x="245" y="686"/>
                    <a:pt x="263" y="702"/>
                    <a:pt x="278" y="719"/>
                  </a:cubicBezTo>
                  <a:cubicBezTo>
                    <a:pt x="283" y="724"/>
                    <a:pt x="288" y="730"/>
                    <a:pt x="292" y="735"/>
                  </a:cubicBezTo>
                  <a:cubicBezTo>
                    <a:pt x="298" y="744"/>
                    <a:pt x="302" y="753"/>
                    <a:pt x="306" y="762"/>
                  </a:cubicBezTo>
                  <a:cubicBezTo>
                    <a:pt x="309" y="773"/>
                    <a:pt x="311" y="785"/>
                    <a:pt x="310" y="796"/>
                  </a:cubicBezTo>
                  <a:cubicBezTo>
                    <a:pt x="309" y="805"/>
                    <a:pt x="307" y="813"/>
                    <a:pt x="303" y="821"/>
                  </a:cubicBezTo>
                  <a:cubicBezTo>
                    <a:pt x="299" y="827"/>
                    <a:pt x="294" y="834"/>
                    <a:pt x="289" y="840"/>
                  </a:cubicBezTo>
                  <a:cubicBezTo>
                    <a:pt x="273" y="857"/>
                    <a:pt x="256" y="872"/>
                    <a:pt x="239" y="888"/>
                  </a:cubicBezTo>
                  <a:cubicBezTo>
                    <a:pt x="222" y="904"/>
                    <a:pt x="205" y="920"/>
                    <a:pt x="190" y="938"/>
                  </a:cubicBezTo>
                  <a:cubicBezTo>
                    <a:pt x="182" y="947"/>
                    <a:pt x="176" y="957"/>
                    <a:pt x="170" y="967"/>
                  </a:cubicBezTo>
                  <a:cubicBezTo>
                    <a:pt x="166" y="976"/>
                    <a:pt x="163" y="986"/>
                    <a:pt x="163" y="996"/>
                  </a:cubicBezTo>
                  <a:cubicBezTo>
                    <a:pt x="163" y="991"/>
                    <a:pt x="162" y="986"/>
                    <a:pt x="161" y="982"/>
                  </a:cubicBezTo>
                  <a:cubicBezTo>
                    <a:pt x="160" y="975"/>
                    <a:pt x="157" y="969"/>
                    <a:pt x="154" y="963"/>
                  </a:cubicBezTo>
                  <a:cubicBezTo>
                    <a:pt x="149" y="951"/>
                    <a:pt x="141" y="941"/>
                    <a:pt x="134" y="932"/>
                  </a:cubicBezTo>
                  <a:cubicBezTo>
                    <a:pt x="118" y="913"/>
                    <a:pt x="101" y="897"/>
                    <a:pt x="83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8" y="827"/>
                    <a:pt x="22" y="819"/>
                    <a:pt x="17" y="811"/>
                  </a:cubicBezTo>
                  <a:cubicBezTo>
                    <a:pt x="16" y="806"/>
                    <a:pt x="15" y="801"/>
                    <a:pt x="14" y="795"/>
                  </a:cubicBezTo>
                  <a:cubicBezTo>
                    <a:pt x="13" y="774"/>
                    <a:pt x="21" y="754"/>
                    <a:pt x="34" y="737"/>
                  </a:cubicBezTo>
                  <a:cubicBezTo>
                    <a:pt x="47" y="719"/>
                    <a:pt x="63" y="703"/>
                    <a:pt x="80" y="687"/>
                  </a:cubicBezTo>
                  <a:cubicBezTo>
                    <a:pt x="97" y="671"/>
                    <a:pt x="115" y="656"/>
                    <a:pt x="130" y="637"/>
                  </a:cubicBezTo>
                  <a:cubicBezTo>
                    <a:pt x="138" y="628"/>
                    <a:pt x="146" y="618"/>
                    <a:pt x="151" y="607"/>
                  </a:cubicBezTo>
                  <a:cubicBezTo>
                    <a:pt x="157" y="595"/>
                    <a:pt x="162" y="583"/>
                    <a:pt x="163" y="570"/>
                  </a:cubicBezTo>
                  <a:cubicBezTo>
                    <a:pt x="163" y="568"/>
                    <a:pt x="163" y="567"/>
                    <a:pt x="163" y="565"/>
                  </a:cubicBezTo>
                  <a:cubicBezTo>
                    <a:pt x="163" y="566"/>
                    <a:pt x="163" y="568"/>
                    <a:pt x="163" y="569"/>
                  </a:cubicBezTo>
                  <a:cubicBezTo>
                    <a:pt x="164" y="580"/>
                    <a:pt x="168" y="592"/>
                    <a:pt x="173" y="602"/>
                  </a:cubicBezTo>
                  <a:cubicBezTo>
                    <a:pt x="179" y="613"/>
                    <a:pt x="186" y="622"/>
                    <a:pt x="193" y="631"/>
                  </a:cubicBezTo>
                  <a:close/>
                  <a:moveTo>
                    <a:pt x="163" y="137"/>
                  </a:moveTo>
                  <a:cubicBezTo>
                    <a:pt x="163" y="135"/>
                    <a:pt x="163" y="134"/>
                    <a:pt x="163" y="132"/>
                  </a:cubicBezTo>
                  <a:cubicBezTo>
                    <a:pt x="163" y="134"/>
                    <a:pt x="163" y="135"/>
                    <a:pt x="163" y="136"/>
                  </a:cubicBezTo>
                  <a:cubicBezTo>
                    <a:pt x="164" y="148"/>
                    <a:pt x="168" y="159"/>
                    <a:pt x="173" y="170"/>
                  </a:cubicBezTo>
                  <a:cubicBezTo>
                    <a:pt x="179" y="180"/>
                    <a:pt x="186" y="190"/>
                    <a:pt x="193" y="198"/>
                  </a:cubicBezTo>
                  <a:cubicBezTo>
                    <a:pt x="196" y="202"/>
                    <a:pt x="199" y="206"/>
                    <a:pt x="203" y="209"/>
                  </a:cubicBezTo>
                  <a:cubicBezTo>
                    <a:pt x="211" y="219"/>
                    <a:pt x="220" y="228"/>
                    <a:pt x="229" y="237"/>
                  </a:cubicBezTo>
                  <a:cubicBezTo>
                    <a:pt x="245" y="254"/>
                    <a:pt x="263" y="269"/>
                    <a:pt x="278" y="286"/>
                  </a:cubicBezTo>
                  <a:cubicBezTo>
                    <a:pt x="283" y="291"/>
                    <a:pt x="288" y="297"/>
                    <a:pt x="292" y="302"/>
                  </a:cubicBezTo>
                  <a:cubicBezTo>
                    <a:pt x="298" y="311"/>
                    <a:pt x="302" y="320"/>
                    <a:pt x="306" y="329"/>
                  </a:cubicBezTo>
                  <a:cubicBezTo>
                    <a:pt x="309" y="340"/>
                    <a:pt x="311" y="352"/>
                    <a:pt x="310" y="363"/>
                  </a:cubicBezTo>
                  <a:cubicBezTo>
                    <a:pt x="309" y="372"/>
                    <a:pt x="307" y="380"/>
                    <a:pt x="303" y="388"/>
                  </a:cubicBezTo>
                  <a:cubicBezTo>
                    <a:pt x="299" y="395"/>
                    <a:pt x="294" y="401"/>
                    <a:pt x="289" y="407"/>
                  </a:cubicBezTo>
                  <a:cubicBezTo>
                    <a:pt x="273" y="424"/>
                    <a:pt x="256" y="440"/>
                    <a:pt x="239" y="455"/>
                  </a:cubicBezTo>
                  <a:cubicBezTo>
                    <a:pt x="222" y="471"/>
                    <a:pt x="205" y="487"/>
                    <a:pt x="190" y="505"/>
                  </a:cubicBezTo>
                  <a:cubicBezTo>
                    <a:pt x="182" y="514"/>
                    <a:pt x="176" y="524"/>
                    <a:pt x="170" y="534"/>
                  </a:cubicBezTo>
                  <a:cubicBezTo>
                    <a:pt x="166" y="543"/>
                    <a:pt x="163" y="553"/>
                    <a:pt x="163" y="563"/>
                  </a:cubicBezTo>
                  <a:cubicBezTo>
                    <a:pt x="163" y="558"/>
                    <a:pt x="162" y="553"/>
                    <a:pt x="161" y="549"/>
                  </a:cubicBezTo>
                  <a:cubicBezTo>
                    <a:pt x="160" y="542"/>
                    <a:pt x="157" y="536"/>
                    <a:pt x="154" y="530"/>
                  </a:cubicBezTo>
                  <a:cubicBezTo>
                    <a:pt x="149" y="519"/>
                    <a:pt x="141" y="509"/>
                    <a:pt x="134" y="499"/>
                  </a:cubicBezTo>
                  <a:cubicBezTo>
                    <a:pt x="118" y="481"/>
                    <a:pt x="101" y="465"/>
                    <a:pt x="83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8" y="394"/>
                    <a:pt x="22" y="386"/>
                    <a:pt x="17" y="379"/>
                  </a:cubicBezTo>
                  <a:cubicBezTo>
                    <a:pt x="16" y="373"/>
                    <a:pt x="15" y="368"/>
                    <a:pt x="14" y="363"/>
                  </a:cubicBezTo>
                  <a:cubicBezTo>
                    <a:pt x="13" y="342"/>
                    <a:pt x="21" y="322"/>
                    <a:pt x="34" y="304"/>
                  </a:cubicBezTo>
                  <a:cubicBezTo>
                    <a:pt x="47" y="286"/>
                    <a:pt x="63" y="270"/>
                    <a:pt x="80" y="254"/>
                  </a:cubicBezTo>
                  <a:cubicBezTo>
                    <a:pt x="97" y="239"/>
                    <a:pt x="115" y="223"/>
                    <a:pt x="130" y="204"/>
                  </a:cubicBezTo>
                  <a:cubicBezTo>
                    <a:pt x="138" y="195"/>
                    <a:pt x="146" y="185"/>
                    <a:pt x="151" y="174"/>
                  </a:cubicBezTo>
                  <a:cubicBezTo>
                    <a:pt x="157" y="163"/>
                    <a:pt x="162" y="150"/>
                    <a:pt x="163" y="137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6" name="Freeform 6"/>
            <p:cNvSpPr/>
            <p:nvPr/>
          </p:nvSpPr>
          <p:spPr>
            <a:xfrm>
              <a:off x="495360" y="-1440"/>
              <a:ext cx="514080" cy="686232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2" h="2159">
                  <a:moveTo>
                    <a:pt x="124" y="74"/>
                  </a:moveTo>
                  <a:cubicBezTo>
                    <a:pt x="132" y="83"/>
                    <a:pt x="139" y="92"/>
                    <a:pt x="144" y="103"/>
                  </a:cubicBezTo>
                  <a:cubicBezTo>
                    <a:pt x="148" y="111"/>
                    <a:pt x="151" y="121"/>
                    <a:pt x="151" y="131"/>
                  </a:cubicBezTo>
                  <a:cubicBezTo>
                    <a:pt x="150" y="131"/>
                    <a:pt x="150" y="131"/>
                    <a:pt x="150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2" y="197"/>
                    <a:pt x="121" y="197"/>
                  </a:cubicBezTo>
                  <a:cubicBezTo>
                    <a:pt x="106" y="215"/>
                    <a:pt x="89" y="230"/>
                    <a:pt x="72" y="246"/>
                  </a:cubicBezTo>
                  <a:cubicBezTo>
                    <a:pt x="55" y="262"/>
                    <a:pt x="38" y="279"/>
                    <a:pt x="25" y="298"/>
                  </a:cubicBezTo>
                  <a:cubicBezTo>
                    <a:pt x="23" y="300"/>
                    <a:pt x="22" y="302"/>
                    <a:pt x="20" y="305"/>
                  </a:cubicBezTo>
                  <a:cubicBezTo>
                    <a:pt x="18" y="307"/>
                    <a:pt x="17" y="310"/>
                    <a:pt x="15" y="313"/>
                  </a:cubicBezTo>
                  <a:cubicBezTo>
                    <a:pt x="9" y="322"/>
                    <a:pt x="4" y="333"/>
                    <a:pt x="2" y="345"/>
                  </a:cubicBezTo>
                  <a:cubicBezTo>
                    <a:pt x="0" y="351"/>
                    <a:pt x="0" y="357"/>
                    <a:pt x="1" y="363"/>
                  </a:cubicBezTo>
                  <a:cubicBezTo>
                    <a:pt x="1" y="369"/>
                    <a:pt x="3" y="374"/>
                    <a:pt x="6" y="379"/>
                  </a:cubicBezTo>
                  <a:cubicBezTo>
                    <a:pt x="8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2" y="404"/>
                    <a:pt x="26" y="408"/>
                  </a:cubicBezTo>
                  <a:cubicBezTo>
                    <a:pt x="41" y="426"/>
                    <a:pt x="59" y="441"/>
                    <a:pt x="76" y="457"/>
                  </a:cubicBezTo>
                  <a:cubicBezTo>
                    <a:pt x="93" y="473"/>
                    <a:pt x="110" y="489"/>
                    <a:pt x="124" y="507"/>
                  </a:cubicBezTo>
                  <a:cubicBezTo>
                    <a:pt x="132" y="516"/>
                    <a:pt x="139" y="525"/>
                    <a:pt x="144" y="535"/>
                  </a:cubicBezTo>
                  <a:cubicBezTo>
                    <a:pt x="148" y="544"/>
                    <a:pt x="151" y="554"/>
                    <a:pt x="151" y="564"/>
                  </a:cubicBezTo>
                  <a:cubicBezTo>
                    <a:pt x="150" y="564"/>
                    <a:pt x="150" y="564"/>
                    <a:pt x="150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5"/>
                    <a:pt x="122" y="629"/>
                  </a:cubicBezTo>
                  <a:cubicBezTo>
                    <a:pt x="122" y="629"/>
                    <a:pt x="122" y="629"/>
                    <a:pt x="121" y="630"/>
                  </a:cubicBezTo>
                  <a:cubicBezTo>
                    <a:pt x="106" y="648"/>
                    <a:pt x="89" y="663"/>
                    <a:pt x="72" y="679"/>
                  </a:cubicBezTo>
                  <a:cubicBezTo>
                    <a:pt x="55" y="695"/>
                    <a:pt x="38" y="711"/>
                    <a:pt x="25" y="730"/>
                  </a:cubicBezTo>
                  <a:cubicBezTo>
                    <a:pt x="23" y="733"/>
                    <a:pt x="22" y="735"/>
                    <a:pt x="20" y="737"/>
                  </a:cubicBezTo>
                  <a:cubicBezTo>
                    <a:pt x="18" y="740"/>
                    <a:pt x="17" y="743"/>
                    <a:pt x="15" y="745"/>
                  </a:cubicBezTo>
                  <a:cubicBezTo>
                    <a:pt x="9" y="755"/>
                    <a:pt x="4" y="766"/>
                    <a:pt x="2" y="778"/>
                  </a:cubicBezTo>
                  <a:cubicBezTo>
                    <a:pt x="0" y="784"/>
                    <a:pt x="0" y="789"/>
                    <a:pt x="1" y="795"/>
                  </a:cubicBezTo>
                  <a:cubicBezTo>
                    <a:pt x="1" y="801"/>
                    <a:pt x="3" y="807"/>
                    <a:pt x="6" y="812"/>
                  </a:cubicBezTo>
                  <a:cubicBezTo>
                    <a:pt x="8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2" y="837"/>
                    <a:pt x="26" y="841"/>
                  </a:cubicBezTo>
                  <a:cubicBezTo>
                    <a:pt x="41" y="858"/>
                    <a:pt x="59" y="874"/>
                    <a:pt x="76" y="890"/>
                  </a:cubicBezTo>
                  <a:cubicBezTo>
                    <a:pt x="93" y="906"/>
                    <a:pt x="110" y="922"/>
                    <a:pt x="124" y="939"/>
                  </a:cubicBezTo>
                  <a:cubicBezTo>
                    <a:pt x="132" y="948"/>
                    <a:pt x="139" y="958"/>
                    <a:pt x="144" y="968"/>
                  </a:cubicBezTo>
                  <a:cubicBezTo>
                    <a:pt x="147" y="976"/>
                    <a:pt x="150" y="984"/>
                    <a:pt x="151" y="993"/>
                  </a:cubicBezTo>
                  <a:cubicBezTo>
                    <a:pt x="150" y="993"/>
                    <a:pt x="150" y="993"/>
                    <a:pt x="150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9" y="1065"/>
                    <a:pt x="103" y="1082"/>
                    <a:pt x="86" y="1098"/>
                  </a:cubicBezTo>
                  <a:cubicBezTo>
                    <a:pt x="70" y="1114"/>
                    <a:pt x="52" y="1130"/>
                    <a:pt x="36" y="1147"/>
                  </a:cubicBezTo>
                  <a:cubicBezTo>
                    <a:pt x="29" y="1156"/>
                    <a:pt x="21" y="1165"/>
                    <a:pt x="15" y="1175"/>
                  </a:cubicBezTo>
                  <a:cubicBezTo>
                    <a:pt x="9" y="1185"/>
                    <a:pt x="4" y="1195"/>
                    <a:pt x="2" y="1207"/>
                  </a:cubicBezTo>
                  <a:cubicBezTo>
                    <a:pt x="0" y="1213"/>
                    <a:pt x="0" y="1219"/>
                    <a:pt x="1" y="1225"/>
                  </a:cubicBezTo>
                  <a:cubicBezTo>
                    <a:pt x="1" y="1231"/>
                    <a:pt x="3" y="1236"/>
                    <a:pt x="6" y="1242"/>
                  </a:cubicBezTo>
                  <a:cubicBezTo>
                    <a:pt x="7" y="1243"/>
                    <a:pt x="7" y="1244"/>
                    <a:pt x="8" y="1245"/>
                  </a:cubicBezTo>
                  <a:cubicBezTo>
                    <a:pt x="10" y="1251"/>
                    <a:pt x="12" y="1256"/>
                    <a:pt x="15" y="1261"/>
                  </a:cubicBezTo>
                  <a:cubicBezTo>
                    <a:pt x="19" y="1261"/>
                    <a:pt x="19" y="1261"/>
                    <a:pt x="19" y="1261"/>
                  </a:cubicBezTo>
                  <a:cubicBezTo>
                    <a:pt x="21" y="1264"/>
                    <a:pt x="23" y="1267"/>
                    <a:pt x="26" y="1270"/>
                  </a:cubicBezTo>
                  <a:cubicBezTo>
                    <a:pt x="41" y="1288"/>
                    <a:pt x="59" y="1303"/>
                    <a:pt x="76" y="1319"/>
                  </a:cubicBezTo>
                  <a:cubicBezTo>
                    <a:pt x="93" y="1335"/>
                    <a:pt x="110" y="1351"/>
                    <a:pt x="124" y="1369"/>
                  </a:cubicBezTo>
                  <a:cubicBezTo>
                    <a:pt x="132" y="1378"/>
                    <a:pt x="139" y="1387"/>
                    <a:pt x="144" y="1398"/>
                  </a:cubicBezTo>
                  <a:cubicBezTo>
                    <a:pt x="148" y="1406"/>
                    <a:pt x="150" y="1415"/>
                    <a:pt x="151" y="1425"/>
                  </a:cubicBezTo>
                  <a:cubicBezTo>
                    <a:pt x="150" y="1425"/>
                    <a:pt x="150" y="1425"/>
                    <a:pt x="150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6" y="1485"/>
                    <a:pt x="120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3" y="1595"/>
                    <a:pt x="19" y="1600"/>
                    <a:pt x="15" y="1606"/>
                  </a:cubicBezTo>
                  <a:cubicBezTo>
                    <a:pt x="9" y="1616"/>
                    <a:pt x="4" y="1627"/>
                    <a:pt x="2" y="1639"/>
                  </a:cubicBezTo>
                  <a:cubicBezTo>
                    <a:pt x="0" y="1644"/>
                    <a:pt x="0" y="1650"/>
                    <a:pt x="1" y="1656"/>
                  </a:cubicBezTo>
                  <a:cubicBezTo>
                    <a:pt x="1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0" y="1681"/>
                  </a:cubicBezTo>
                  <a:cubicBezTo>
                    <a:pt x="12" y="1685"/>
                    <a:pt x="13" y="1688"/>
                    <a:pt x="15" y="1691"/>
                  </a:cubicBezTo>
                  <a:cubicBezTo>
                    <a:pt x="17" y="1691"/>
                    <a:pt x="17" y="1691"/>
                    <a:pt x="17" y="1691"/>
                  </a:cubicBezTo>
                  <a:cubicBezTo>
                    <a:pt x="20" y="1694"/>
                    <a:pt x="23" y="1698"/>
                    <a:pt x="26" y="1702"/>
                  </a:cubicBezTo>
                  <a:cubicBezTo>
                    <a:pt x="41" y="1719"/>
                    <a:pt x="59" y="1735"/>
                    <a:pt x="76" y="1751"/>
                  </a:cubicBezTo>
                  <a:cubicBezTo>
                    <a:pt x="93" y="1767"/>
                    <a:pt x="110" y="1783"/>
                    <a:pt x="124" y="1800"/>
                  </a:cubicBezTo>
                  <a:cubicBezTo>
                    <a:pt x="132" y="1809"/>
                    <a:pt x="139" y="1819"/>
                    <a:pt x="144" y="1829"/>
                  </a:cubicBezTo>
                  <a:cubicBezTo>
                    <a:pt x="147" y="1837"/>
                    <a:pt x="150" y="1846"/>
                    <a:pt x="151" y="1855"/>
                  </a:cubicBezTo>
                  <a:cubicBezTo>
                    <a:pt x="150" y="1855"/>
                    <a:pt x="150" y="1855"/>
                    <a:pt x="150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7" y="1959"/>
                    <a:pt x="80" y="1966"/>
                    <a:pt x="72" y="1973"/>
                  </a:cubicBezTo>
                  <a:cubicBezTo>
                    <a:pt x="61" y="1984"/>
                    <a:pt x="49" y="1995"/>
                    <a:pt x="39" y="2007"/>
                  </a:cubicBezTo>
                  <a:cubicBezTo>
                    <a:pt x="38" y="2008"/>
                    <a:pt x="37" y="2008"/>
                    <a:pt x="36" y="2009"/>
                  </a:cubicBezTo>
                  <a:cubicBezTo>
                    <a:pt x="29" y="2018"/>
                    <a:pt x="21" y="2027"/>
                    <a:pt x="15" y="2037"/>
                  </a:cubicBezTo>
                  <a:cubicBezTo>
                    <a:pt x="9" y="2047"/>
                    <a:pt x="4" y="2057"/>
                    <a:pt x="2" y="2069"/>
                  </a:cubicBezTo>
                  <a:cubicBezTo>
                    <a:pt x="0" y="2075"/>
                    <a:pt x="0" y="2081"/>
                    <a:pt x="1" y="2087"/>
                  </a:cubicBezTo>
                  <a:cubicBezTo>
                    <a:pt x="1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1" y="2114"/>
                    <a:pt x="13" y="2118"/>
                    <a:pt x="15" y="2122"/>
                  </a:cubicBezTo>
                  <a:cubicBezTo>
                    <a:pt x="18" y="2122"/>
                    <a:pt x="18" y="2122"/>
                    <a:pt x="18" y="2122"/>
                  </a:cubicBezTo>
                  <a:cubicBezTo>
                    <a:pt x="20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4" y="2137"/>
                    <a:pt x="34" y="2125"/>
                  </a:cubicBezTo>
                  <a:cubicBezTo>
                    <a:pt x="27" y="2117"/>
                    <a:pt x="21" y="2109"/>
                    <a:pt x="16" y="2101"/>
                  </a:cubicBezTo>
                  <a:cubicBezTo>
                    <a:pt x="15" y="2097"/>
                    <a:pt x="14" y="2093"/>
                    <a:pt x="14" y="2089"/>
                  </a:cubicBezTo>
                  <a:cubicBezTo>
                    <a:pt x="12" y="2068"/>
                    <a:pt x="21" y="2048"/>
                    <a:pt x="34" y="2030"/>
                  </a:cubicBezTo>
                  <a:cubicBezTo>
                    <a:pt x="46" y="2012"/>
                    <a:pt x="63" y="1997"/>
                    <a:pt x="80" y="1981"/>
                  </a:cubicBezTo>
                  <a:cubicBezTo>
                    <a:pt x="97" y="1965"/>
                    <a:pt x="114" y="1949"/>
                    <a:pt x="130" y="1931"/>
                  </a:cubicBezTo>
                  <a:cubicBezTo>
                    <a:pt x="138" y="1922"/>
                    <a:pt x="145" y="1912"/>
                    <a:pt x="151" y="1900"/>
                  </a:cubicBezTo>
                  <a:cubicBezTo>
                    <a:pt x="156" y="1891"/>
                    <a:pt x="160" y="1881"/>
                    <a:pt x="162" y="1870"/>
                  </a:cubicBezTo>
                  <a:cubicBezTo>
                    <a:pt x="161" y="1867"/>
                    <a:pt x="161" y="1865"/>
                    <a:pt x="161" y="1862"/>
                  </a:cubicBezTo>
                  <a:cubicBezTo>
                    <a:pt x="160" y="1857"/>
                    <a:pt x="161" y="1852"/>
                    <a:pt x="162" y="1846"/>
                  </a:cubicBezTo>
                  <a:cubicBezTo>
                    <a:pt x="162" y="1845"/>
                    <a:pt x="161" y="1844"/>
                    <a:pt x="161" y="1843"/>
                  </a:cubicBezTo>
                  <a:cubicBezTo>
                    <a:pt x="160" y="1836"/>
                    <a:pt x="157" y="1830"/>
                    <a:pt x="154" y="1824"/>
                  </a:cubicBezTo>
                  <a:cubicBezTo>
                    <a:pt x="149" y="1812"/>
                    <a:pt x="141" y="1802"/>
                    <a:pt x="133" y="1793"/>
                  </a:cubicBezTo>
                  <a:cubicBezTo>
                    <a:pt x="118" y="1774"/>
                    <a:pt x="100" y="1758"/>
                    <a:pt x="83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7" y="1671"/>
                  </a:cubicBezTo>
                  <a:cubicBezTo>
                    <a:pt x="15" y="1667"/>
                    <a:pt x="14" y="1662"/>
                    <a:pt x="14" y="1658"/>
                  </a:cubicBezTo>
                  <a:cubicBezTo>
                    <a:pt x="12" y="1637"/>
                    <a:pt x="21" y="1616"/>
                    <a:pt x="34" y="1599"/>
                  </a:cubicBezTo>
                  <a:cubicBezTo>
                    <a:pt x="46" y="1581"/>
                    <a:pt x="63" y="1565"/>
                    <a:pt x="80" y="1549"/>
                  </a:cubicBezTo>
                  <a:cubicBezTo>
                    <a:pt x="97" y="1534"/>
                    <a:pt x="114" y="1518"/>
                    <a:pt x="130" y="1499"/>
                  </a:cubicBezTo>
                  <a:cubicBezTo>
                    <a:pt x="138" y="1490"/>
                    <a:pt x="145" y="1480"/>
                    <a:pt x="151" y="1469"/>
                  </a:cubicBezTo>
                  <a:cubicBezTo>
                    <a:pt x="156" y="1459"/>
                    <a:pt x="160" y="1449"/>
                    <a:pt x="162" y="1438"/>
                  </a:cubicBezTo>
                  <a:cubicBezTo>
                    <a:pt x="161" y="1436"/>
                    <a:pt x="161" y="1433"/>
                    <a:pt x="161" y="1431"/>
                  </a:cubicBezTo>
                  <a:cubicBezTo>
                    <a:pt x="160" y="1425"/>
                    <a:pt x="161" y="1420"/>
                    <a:pt x="162" y="1415"/>
                  </a:cubicBezTo>
                  <a:cubicBezTo>
                    <a:pt x="162" y="1413"/>
                    <a:pt x="161" y="1412"/>
                    <a:pt x="161" y="1411"/>
                  </a:cubicBezTo>
                  <a:cubicBezTo>
                    <a:pt x="160" y="1404"/>
                    <a:pt x="157" y="1398"/>
                    <a:pt x="154" y="1392"/>
                  </a:cubicBezTo>
                  <a:cubicBezTo>
                    <a:pt x="149" y="1381"/>
                    <a:pt x="141" y="1371"/>
                    <a:pt x="133" y="1361"/>
                  </a:cubicBezTo>
                  <a:cubicBezTo>
                    <a:pt x="118" y="1343"/>
                    <a:pt x="100" y="1327"/>
                    <a:pt x="83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7" y="1255"/>
                    <a:pt x="20" y="1247"/>
                    <a:pt x="16" y="1238"/>
                  </a:cubicBezTo>
                  <a:cubicBezTo>
                    <a:pt x="15" y="1235"/>
                    <a:pt x="14" y="1232"/>
                    <a:pt x="14" y="1228"/>
                  </a:cubicBezTo>
                  <a:cubicBezTo>
                    <a:pt x="12" y="1207"/>
                    <a:pt x="21" y="1187"/>
                    <a:pt x="34" y="1169"/>
                  </a:cubicBezTo>
                  <a:cubicBezTo>
                    <a:pt x="46" y="1152"/>
                    <a:pt x="63" y="1136"/>
                    <a:pt x="80" y="1120"/>
                  </a:cubicBezTo>
                  <a:cubicBezTo>
                    <a:pt x="97" y="1104"/>
                    <a:pt x="114" y="1089"/>
                    <a:pt x="130" y="1070"/>
                  </a:cubicBezTo>
                  <a:cubicBezTo>
                    <a:pt x="138" y="1061"/>
                    <a:pt x="145" y="1051"/>
                    <a:pt x="151" y="1039"/>
                  </a:cubicBezTo>
                  <a:cubicBezTo>
                    <a:pt x="156" y="1030"/>
                    <a:pt x="160" y="1020"/>
                    <a:pt x="162" y="1009"/>
                  </a:cubicBezTo>
                  <a:cubicBezTo>
                    <a:pt x="161" y="1006"/>
                    <a:pt x="161" y="1004"/>
                    <a:pt x="161" y="1001"/>
                  </a:cubicBezTo>
                  <a:cubicBezTo>
                    <a:pt x="160" y="996"/>
                    <a:pt x="161" y="991"/>
                    <a:pt x="162" y="985"/>
                  </a:cubicBezTo>
                  <a:cubicBezTo>
                    <a:pt x="162" y="984"/>
                    <a:pt x="161" y="983"/>
                    <a:pt x="161" y="982"/>
                  </a:cubicBezTo>
                  <a:cubicBezTo>
                    <a:pt x="160" y="975"/>
                    <a:pt x="157" y="969"/>
                    <a:pt x="154" y="963"/>
                  </a:cubicBezTo>
                  <a:cubicBezTo>
                    <a:pt x="149" y="951"/>
                    <a:pt x="141" y="941"/>
                    <a:pt x="133" y="932"/>
                  </a:cubicBezTo>
                  <a:cubicBezTo>
                    <a:pt x="118" y="913"/>
                    <a:pt x="100" y="897"/>
                    <a:pt x="83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7" y="827"/>
                    <a:pt x="22" y="819"/>
                    <a:pt x="17" y="811"/>
                  </a:cubicBezTo>
                  <a:cubicBezTo>
                    <a:pt x="16" y="806"/>
                    <a:pt x="14" y="801"/>
                    <a:pt x="14" y="795"/>
                  </a:cubicBezTo>
                  <a:cubicBezTo>
                    <a:pt x="12" y="774"/>
                    <a:pt x="21" y="754"/>
                    <a:pt x="34" y="737"/>
                  </a:cubicBezTo>
                  <a:cubicBezTo>
                    <a:pt x="46" y="719"/>
                    <a:pt x="63" y="703"/>
                    <a:pt x="80" y="687"/>
                  </a:cubicBezTo>
                  <a:cubicBezTo>
                    <a:pt x="97" y="671"/>
                    <a:pt x="114" y="656"/>
                    <a:pt x="130" y="637"/>
                  </a:cubicBezTo>
                  <a:cubicBezTo>
                    <a:pt x="138" y="628"/>
                    <a:pt x="145" y="618"/>
                    <a:pt x="151" y="607"/>
                  </a:cubicBezTo>
                  <a:cubicBezTo>
                    <a:pt x="156" y="597"/>
                    <a:pt x="160" y="587"/>
                    <a:pt x="162" y="576"/>
                  </a:cubicBezTo>
                  <a:cubicBezTo>
                    <a:pt x="161" y="573"/>
                    <a:pt x="161" y="571"/>
                    <a:pt x="161" y="569"/>
                  </a:cubicBezTo>
                  <a:cubicBezTo>
                    <a:pt x="160" y="563"/>
                    <a:pt x="161" y="558"/>
                    <a:pt x="162" y="553"/>
                  </a:cubicBezTo>
                  <a:cubicBezTo>
                    <a:pt x="162" y="551"/>
                    <a:pt x="161" y="550"/>
                    <a:pt x="161" y="549"/>
                  </a:cubicBezTo>
                  <a:cubicBezTo>
                    <a:pt x="160" y="542"/>
                    <a:pt x="157" y="536"/>
                    <a:pt x="154" y="530"/>
                  </a:cubicBezTo>
                  <a:cubicBezTo>
                    <a:pt x="149" y="519"/>
                    <a:pt x="141" y="509"/>
                    <a:pt x="133" y="499"/>
                  </a:cubicBezTo>
                  <a:cubicBezTo>
                    <a:pt x="118" y="481"/>
                    <a:pt x="100" y="465"/>
                    <a:pt x="83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7" y="394"/>
                    <a:pt x="22" y="386"/>
                    <a:pt x="17" y="379"/>
                  </a:cubicBezTo>
                  <a:cubicBezTo>
                    <a:pt x="16" y="373"/>
                    <a:pt x="14" y="368"/>
                    <a:pt x="14" y="363"/>
                  </a:cubicBezTo>
                  <a:cubicBezTo>
                    <a:pt x="12" y="342"/>
                    <a:pt x="21" y="322"/>
                    <a:pt x="34" y="304"/>
                  </a:cubicBezTo>
                  <a:cubicBezTo>
                    <a:pt x="46" y="286"/>
                    <a:pt x="63" y="270"/>
                    <a:pt x="80" y="254"/>
                  </a:cubicBezTo>
                  <a:cubicBezTo>
                    <a:pt x="97" y="239"/>
                    <a:pt x="114" y="223"/>
                    <a:pt x="130" y="204"/>
                  </a:cubicBezTo>
                  <a:cubicBezTo>
                    <a:pt x="138" y="195"/>
                    <a:pt x="145" y="185"/>
                    <a:pt x="151" y="174"/>
                  </a:cubicBezTo>
                  <a:cubicBezTo>
                    <a:pt x="156" y="164"/>
                    <a:pt x="160" y="154"/>
                    <a:pt x="162" y="143"/>
                  </a:cubicBezTo>
                  <a:cubicBezTo>
                    <a:pt x="161" y="141"/>
                    <a:pt x="161" y="138"/>
                    <a:pt x="161" y="136"/>
                  </a:cubicBezTo>
                  <a:cubicBezTo>
                    <a:pt x="160" y="130"/>
                    <a:pt x="161" y="125"/>
                    <a:pt x="162" y="120"/>
                  </a:cubicBezTo>
                  <a:cubicBezTo>
                    <a:pt x="162" y="119"/>
                    <a:pt x="161" y="117"/>
                    <a:pt x="161" y="116"/>
                  </a:cubicBezTo>
                  <a:cubicBezTo>
                    <a:pt x="160" y="109"/>
                    <a:pt x="157" y="103"/>
                    <a:pt x="154" y="97"/>
                  </a:cubicBezTo>
                  <a:cubicBezTo>
                    <a:pt x="149" y="86"/>
                    <a:pt x="141" y="76"/>
                    <a:pt x="133" y="66"/>
                  </a:cubicBezTo>
                  <a:cubicBezTo>
                    <a:pt x="118" y="48"/>
                    <a:pt x="100" y="32"/>
                    <a:pt x="83" y="16"/>
                  </a:cubicBezTo>
                  <a:cubicBezTo>
                    <a:pt x="77" y="11"/>
                    <a:pt x="71" y="5"/>
                    <a:pt x="66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8" y="8"/>
                    <a:pt x="67" y="16"/>
                    <a:pt x="76" y="24"/>
                  </a:cubicBezTo>
                  <a:cubicBezTo>
                    <a:pt x="93" y="40"/>
                    <a:pt x="110" y="56"/>
                    <a:pt x="124" y="74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7" name="Freeform 7"/>
            <p:cNvSpPr/>
            <p:nvPr/>
          </p:nvSpPr>
          <p:spPr>
            <a:xfrm>
              <a:off x="4559400" y="-1440"/>
              <a:ext cx="1025280" cy="6862320"/>
            </a:xfrm>
            <a:custGeom>
              <a:avLst/>
              <a:gdLst>
                <a:gd name="textAreaLeft" fmla="*/ 0 w 1025280"/>
                <a:gd name="textAreaRight" fmla="*/ 1025640 w 102528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323" h="2159">
                  <a:moveTo>
                    <a:pt x="124" y="74"/>
                  </a:moveTo>
                  <a:cubicBezTo>
                    <a:pt x="132" y="83"/>
                    <a:pt x="138" y="92"/>
                    <a:pt x="143" y="103"/>
                  </a:cubicBezTo>
                  <a:cubicBezTo>
                    <a:pt x="148" y="111"/>
                    <a:pt x="151" y="121"/>
                    <a:pt x="151" y="131"/>
                  </a:cubicBezTo>
                  <a:cubicBezTo>
                    <a:pt x="150" y="131"/>
                    <a:pt x="150" y="131"/>
                    <a:pt x="150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1" y="197"/>
                    <a:pt x="121" y="197"/>
                  </a:cubicBezTo>
                  <a:cubicBezTo>
                    <a:pt x="106" y="215"/>
                    <a:pt x="89" y="230"/>
                    <a:pt x="72" y="246"/>
                  </a:cubicBezTo>
                  <a:cubicBezTo>
                    <a:pt x="55" y="262"/>
                    <a:pt x="38" y="279"/>
                    <a:pt x="25" y="298"/>
                  </a:cubicBezTo>
                  <a:cubicBezTo>
                    <a:pt x="23" y="300"/>
                    <a:pt x="22" y="302"/>
                    <a:pt x="20" y="305"/>
                  </a:cubicBezTo>
                  <a:cubicBezTo>
                    <a:pt x="18" y="307"/>
                    <a:pt x="17" y="310"/>
                    <a:pt x="15" y="313"/>
                  </a:cubicBezTo>
                  <a:cubicBezTo>
                    <a:pt x="9" y="322"/>
                    <a:pt x="4" y="333"/>
                    <a:pt x="1" y="345"/>
                  </a:cubicBezTo>
                  <a:cubicBezTo>
                    <a:pt x="0" y="351"/>
                    <a:pt x="0" y="357"/>
                    <a:pt x="0" y="363"/>
                  </a:cubicBezTo>
                  <a:cubicBezTo>
                    <a:pt x="1" y="369"/>
                    <a:pt x="3" y="374"/>
                    <a:pt x="6" y="379"/>
                  </a:cubicBezTo>
                  <a:cubicBezTo>
                    <a:pt x="8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2" y="404"/>
                    <a:pt x="26" y="408"/>
                  </a:cubicBezTo>
                  <a:cubicBezTo>
                    <a:pt x="41" y="426"/>
                    <a:pt x="59" y="441"/>
                    <a:pt x="76" y="457"/>
                  </a:cubicBezTo>
                  <a:cubicBezTo>
                    <a:pt x="93" y="473"/>
                    <a:pt x="110" y="489"/>
                    <a:pt x="124" y="507"/>
                  </a:cubicBezTo>
                  <a:cubicBezTo>
                    <a:pt x="132" y="516"/>
                    <a:pt x="138" y="525"/>
                    <a:pt x="143" y="535"/>
                  </a:cubicBezTo>
                  <a:cubicBezTo>
                    <a:pt x="148" y="544"/>
                    <a:pt x="151" y="554"/>
                    <a:pt x="151" y="564"/>
                  </a:cubicBezTo>
                  <a:cubicBezTo>
                    <a:pt x="150" y="564"/>
                    <a:pt x="150" y="564"/>
                    <a:pt x="150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5"/>
                    <a:pt x="122" y="629"/>
                  </a:cubicBezTo>
                  <a:cubicBezTo>
                    <a:pt x="122" y="629"/>
                    <a:pt x="121" y="629"/>
                    <a:pt x="121" y="630"/>
                  </a:cubicBezTo>
                  <a:cubicBezTo>
                    <a:pt x="106" y="648"/>
                    <a:pt x="89" y="663"/>
                    <a:pt x="72" y="679"/>
                  </a:cubicBezTo>
                  <a:cubicBezTo>
                    <a:pt x="55" y="695"/>
                    <a:pt x="38" y="711"/>
                    <a:pt x="25" y="730"/>
                  </a:cubicBezTo>
                  <a:cubicBezTo>
                    <a:pt x="23" y="733"/>
                    <a:pt x="22" y="735"/>
                    <a:pt x="20" y="737"/>
                  </a:cubicBezTo>
                  <a:cubicBezTo>
                    <a:pt x="18" y="740"/>
                    <a:pt x="17" y="743"/>
                    <a:pt x="15" y="745"/>
                  </a:cubicBezTo>
                  <a:cubicBezTo>
                    <a:pt x="9" y="755"/>
                    <a:pt x="4" y="766"/>
                    <a:pt x="1" y="778"/>
                  </a:cubicBezTo>
                  <a:cubicBezTo>
                    <a:pt x="0" y="784"/>
                    <a:pt x="0" y="789"/>
                    <a:pt x="0" y="795"/>
                  </a:cubicBezTo>
                  <a:cubicBezTo>
                    <a:pt x="1" y="801"/>
                    <a:pt x="3" y="807"/>
                    <a:pt x="6" y="812"/>
                  </a:cubicBezTo>
                  <a:cubicBezTo>
                    <a:pt x="8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2" y="837"/>
                    <a:pt x="26" y="841"/>
                  </a:cubicBezTo>
                  <a:cubicBezTo>
                    <a:pt x="41" y="858"/>
                    <a:pt x="59" y="874"/>
                    <a:pt x="76" y="890"/>
                  </a:cubicBezTo>
                  <a:cubicBezTo>
                    <a:pt x="93" y="906"/>
                    <a:pt x="110" y="922"/>
                    <a:pt x="124" y="939"/>
                  </a:cubicBezTo>
                  <a:cubicBezTo>
                    <a:pt x="132" y="948"/>
                    <a:pt x="138" y="958"/>
                    <a:pt x="143" y="968"/>
                  </a:cubicBezTo>
                  <a:cubicBezTo>
                    <a:pt x="147" y="976"/>
                    <a:pt x="150" y="984"/>
                    <a:pt x="150" y="993"/>
                  </a:cubicBezTo>
                  <a:cubicBezTo>
                    <a:pt x="150" y="993"/>
                    <a:pt x="150" y="993"/>
                    <a:pt x="150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8" y="1065"/>
                    <a:pt x="102" y="1082"/>
                    <a:pt x="86" y="1098"/>
                  </a:cubicBezTo>
                  <a:cubicBezTo>
                    <a:pt x="69" y="1114"/>
                    <a:pt x="52" y="1130"/>
                    <a:pt x="36" y="1147"/>
                  </a:cubicBezTo>
                  <a:cubicBezTo>
                    <a:pt x="28" y="1156"/>
                    <a:pt x="21" y="1165"/>
                    <a:pt x="15" y="1175"/>
                  </a:cubicBezTo>
                  <a:cubicBezTo>
                    <a:pt x="9" y="1185"/>
                    <a:pt x="4" y="1195"/>
                    <a:pt x="1" y="1207"/>
                  </a:cubicBezTo>
                  <a:cubicBezTo>
                    <a:pt x="0" y="1213"/>
                    <a:pt x="0" y="1219"/>
                    <a:pt x="0" y="1225"/>
                  </a:cubicBezTo>
                  <a:cubicBezTo>
                    <a:pt x="1" y="1231"/>
                    <a:pt x="3" y="1236"/>
                    <a:pt x="6" y="1242"/>
                  </a:cubicBezTo>
                  <a:cubicBezTo>
                    <a:pt x="6" y="1243"/>
                    <a:pt x="7" y="1244"/>
                    <a:pt x="8" y="1245"/>
                  </a:cubicBezTo>
                  <a:cubicBezTo>
                    <a:pt x="10" y="1251"/>
                    <a:pt x="12" y="1256"/>
                    <a:pt x="15" y="1261"/>
                  </a:cubicBezTo>
                  <a:cubicBezTo>
                    <a:pt x="18" y="1261"/>
                    <a:pt x="18" y="1261"/>
                    <a:pt x="18" y="1261"/>
                  </a:cubicBezTo>
                  <a:cubicBezTo>
                    <a:pt x="21" y="1264"/>
                    <a:pt x="23" y="1267"/>
                    <a:pt x="26" y="1270"/>
                  </a:cubicBezTo>
                  <a:cubicBezTo>
                    <a:pt x="41" y="1288"/>
                    <a:pt x="59" y="1303"/>
                    <a:pt x="76" y="1319"/>
                  </a:cubicBezTo>
                  <a:cubicBezTo>
                    <a:pt x="93" y="1335"/>
                    <a:pt x="110" y="1351"/>
                    <a:pt x="124" y="1369"/>
                  </a:cubicBezTo>
                  <a:cubicBezTo>
                    <a:pt x="132" y="1378"/>
                    <a:pt x="138" y="1387"/>
                    <a:pt x="143" y="1398"/>
                  </a:cubicBezTo>
                  <a:cubicBezTo>
                    <a:pt x="148" y="1406"/>
                    <a:pt x="150" y="1415"/>
                    <a:pt x="151" y="1425"/>
                  </a:cubicBezTo>
                  <a:cubicBezTo>
                    <a:pt x="150" y="1425"/>
                    <a:pt x="150" y="1425"/>
                    <a:pt x="150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5" y="1485"/>
                    <a:pt x="119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3" y="1595"/>
                    <a:pt x="18" y="1600"/>
                    <a:pt x="15" y="1606"/>
                  </a:cubicBezTo>
                  <a:cubicBezTo>
                    <a:pt x="9" y="1616"/>
                    <a:pt x="4" y="1627"/>
                    <a:pt x="1" y="1639"/>
                  </a:cubicBezTo>
                  <a:cubicBezTo>
                    <a:pt x="0" y="1644"/>
                    <a:pt x="0" y="1650"/>
                    <a:pt x="0" y="1656"/>
                  </a:cubicBezTo>
                  <a:cubicBezTo>
                    <a:pt x="1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0" y="1681"/>
                  </a:cubicBezTo>
                  <a:cubicBezTo>
                    <a:pt x="12" y="1685"/>
                    <a:pt x="13" y="1688"/>
                    <a:pt x="15" y="1691"/>
                  </a:cubicBezTo>
                  <a:cubicBezTo>
                    <a:pt x="17" y="1691"/>
                    <a:pt x="17" y="1691"/>
                    <a:pt x="17" y="1691"/>
                  </a:cubicBezTo>
                  <a:cubicBezTo>
                    <a:pt x="20" y="1694"/>
                    <a:pt x="23" y="1698"/>
                    <a:pt x="26" y="1702"/>
                  </a:cubicBezTo>
                  <a:cubicBezTo>
                    <a:pt x="41" y="1719"/>
                    <a:pt x="59" y="1735"/>
                    <a:pt x="76" y="1751"/>
                  </a:cubicBezTo>
                  <a:cubicBezTo>
                    <a:pt x="93" y="1767"/>
                    <a:pt x="110" y="1783"/>
                    <a:pt x="124" y="1800"/>
                  </a:cubicBezTo>
                  <a:cubicBezTo>
                    <a:pt x="132" y="1809"/>
                    <a:pt x="138" y="1819"/>
                    <a:pt x="143" y="1829"/>
                  </a:cubicBezTo>
                  <a:cubicBezTo>
                    <a:pt x="147" y="1837"/>
                    <a:pt x="150" y="1846"/>
                    <a:pt x="151" y="1855"/>
                  </a:cubicBezTo>
                  <a:cubicBezTo>
                    <a:pt x="150" y="1855"/>
                    <a:pt x="150" y="1855"/>
                    <a:pt x="150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7" y="1959"/>
                    <a:pt x="80" y="1966"/>
                    <a:pt x="72" y="1973"/>
                  </a:cubicBezTo>
                  <a:cubicBezTo>
                    <a:pt x="61" y="1984"/>
                    <a:pt x="49" y="1995"/>
                    <a:pt x="39" y="2007"/>
                  </a:cubicBezTo>
                  <a:cubicBezTo>
                    <a:pt x="38" y="2008"/>
                    <a:pt x="37" y="2008"/>
                    <a:pt x="36" y="2009"/>
                  </a:cubicBezTo>
                  <a:cubicBezTo>
                    <a:pt x="28" y="2018"/>
                    <a:pt x="21" y="2027"/>
                    <a:pt x="15" y="2037"/>
                  </a:cubicBezTo>
                  <a:cubicBezTo>
                    <a:pt x="9" y="2047"/>
                    <a:pt x="4" y="2057"/>
                    <a:pt x="1" y="2069"/>
                  </a:cubicBezTo>
                  <a:cubicBezTo>
                    <a:pt x="0" y="2075"/>
                    <a:pt x="0" y="2081"/>
                    <a:pt x="0" y="2087"/>
                  </a:cubicBezTo>
                  <a:cubicBezTo>
                    <a:pt x="1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0" y="2114"/>
                    <a:pt x="12" y="2118"/>
                    <a:pt x="15" y="2122"/>
                  </a:cubicBezTo>
                  <a:cubicBezTo>
                    <a:pt x="18" y="2122"/>
                    <a:pt x="18" y="2122"/>
                    <a:pt x="18" y="2122"/>
                  </a:cubicBezTo>
                  <a:cubicBezTo>
                    <a:pt x="20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4" y="2137"/>
                    <a:pt x="34" y="2125"/>
                  </a:cubicBezTo>
                  <a:cubicBezTo>
                    <a:pt x="27" y="2117"/>
                    <a:pt x="20" y="2109"/>
                    <a:pt x="16" y="2101"/>
                  </a:cubicBezTo>
                  <a:cubicBezTo>
                    <a:pt x="15" y="2097"/>
                    <a:pt x="14" y="2093"/>
                    <a:pt x="14" y="2089"/>
                  </a:cubicBezTo>
                  <a:cubicBezTo>
                    <a:pt x="12" y="2068"/>
                    <a:pt x="21" y="2048"/>
                    <a:pt x="33" y="2030"/>
                  </a:cubicBezTo>
                  <a:cubicBezTo>
                    <a:pt x="46" y="2012"/>
                    <a:pt x="63" y="1997"/>
                    <a:pt x="80" y="1981"/>
                  </a:cubicBezTo>
                  <a:cubicBezTo>
                    <a:pt x="97" y="1965"/>
                    <a:pt x="114" y="1949"/>
                    <a:pt x="130" y="1931"/>
                  </a:cubicBezTo>
                  <a:cubicBezTo>
                    <a:pt x="138" y="1922"/>
                    <a:pt x="145" y="1912"/>
                    <a:pt x="151" y="1900"/>
                  </a:cubicBezTo>
                  <a:cubicBezTo>
                    <a:pt x="157" y="1889"/>
                    <a:pt x="161" y="1877"/>
                    <a:pt x="163" y="1863"/>
                  </a:cubicBezTo>
                  <a:cubicBezTo>
                    <a:pt x="163" y="1862"/>
                    <a:pt x="163" y="1860"/>
                    <a:pt x="163" y="1859"/>
                  </a:cubicBezTo>
                  <a:cubicBezTo>
                    <a:pt x="163" y="1860"/>
                    <a:pt x="163" y="1861"/>
                    <a:pt x="163" y="1862"/>
                  </a:cubicBezTo>
                  <a:cubicBezTo>
                    <a:pt x="164" y="1874"/>
                    <a:pt x="168" y="1886"/>
                    <a:pt x="173" y="1896"/>
                  </a:cubicBezTo>
                  <a:cubicBezTo>
                    <a:pt x="178" y="1907"/>
                    <a:pt x="185" y="1916"/>
                    <a:pt x="193" y="1925"/>
                  </a:cubicBezTo>
                  <a:cubicBezTo>
                    <a:pt x="208" y="1943"/>
                    <a:pt x="225" y="1958"/>
                    <a:pt x="242" y="1974"/>
                  </a:cubicBezTo>
                  <a:cubicBezTo>
                    <a:pt x="242" y="1975"/>
                    <a:pt x="243" y="1975"/>
                    <a:pt x="243" y="1975"/>
                  </a:cubicBezTo>
                  <a:cubicBezTo>
                    <a:pt x="250" y="1982"/>
                    <a:pt x="257" y="1988"/>
                    <a:pt x="263" y="1995"/>
                  </a:cubicBezTo>
                  <a:cubicBezTo>
                    <a:pt x="273" y="2004"/>
                    <a:pt x="282" y="2014"/>
                    <a:pt x="289" y="2025"/>
                  </a:cubicBezTo>
                  <a:cubicBezTo>
                    <a:pt x="296" y="2035"/>
                    <a:pt x="302" y="2045"/>
                    <a:pt x="305" y="2056"/>
                  </a:cubicBezTo>
                  <a:cubicBezTo>
                    <a:pt x="309" y="2067"/>
                    <a:pt x="310" y="2078"/>
                    <a:pt x="309" y="2090"/>
                  </a:cubicBezTo>
                  <a:cubicBezTo>
                    <a:pt x="309" y="2096"/>
                    <a:pt x="307" y="2102"/>
                    <a:pt x="306" y="2108"/>
                  </a:cubicBezTo>
                  <a:cubicBezTo>
                    <a:pt x="301" y="2116"/>
                    <a:pt x="295" y="2124"/>
                    <a:pt x="288" y="2131"/>
                  </a:cubicBezTo>
                  <a:cubicBezTo>
                    <a:pt x="280" y="2141"/>
                    <a:pt x="270" y="2150"/>
                    <a:pt x="261" y="2159"/>
                  </a:cubicBezTo>
                  <a:cubicBezTo>
                    <a:pt x="276" y="2159"/>
                    <a:pt x="276" y="2159"/>
                    <a:pt x="276" y="2159"/>
                  </a:cubicBezTo>
                  <a:cubicBezTo>
                    <a:pt x="283" y="2152"/>
                    <a:pt x="290" y="2145"/>
                    <a:pt x="296" y="2138"/>
                  </a:cubicBezTo>
                  <a:cubicBezTo>
                    <a:pt x="301" y="2133"/>
                    <a:pt x="305" y="2128"/>
                    <a:pt x="309" y="2122"/>
                  </a:cubicBezTo>
                  <a:cubicBezTo>
                    <a:pt x="309" y="2122"/>
                    <a:pt x="309" y="2122"/>
                    <a:pt x="309" y="2122"/>
                  </a:cubicBezTo>
                  <a:cubicBezTo>
                    <a:pt x="309" y="2122"/>
                    <a:pt x="309" y="2121"/>
                    <a:pt x="310" y="2120"/>
                  </a:cubicBezTo>
                  <a:cubicBezTo>
                    <a:pt x="313" y="2116"/>
                    <a:pt x="315" y="2112"/>
                    <a:pt x="317" y="2107"/>
                  </a:cubicBezTo>
                  <a:cubicBezTo>
                    <a:pt x="320" y="2102"/>
                    <a:pt x="322" y="2097"/>
                    <a:pt x="323" y="2092"/>
                  </a:cubicBezTo>
                  <a:cubicBezTo>
                    <a:pt x="322" y="2090"/>
                    <a:pt x="322" y="2088"/>
                    <a:pt x="322" y="2087"/>
                  </a:cubicBezTo>
                  <a:cubicBezTo>
                    <a:pt x="321" y="2081"/>
                    <a:pt x="322" y="2076"/>
                    <a:pt x="322" y="2071"/>
                  </a:cubicBezTo>
                  <a:cubicBezTo>
                    <a:pt x="322" y="2070"/>
                    <a:pt x="322" y="2069"/>
                    <a:pt x="322" y="2068"/>
                  </a:cubicBezTo>
                  <a:cubicBezTo>
                    <a:pt x="319" y="2055"/>
                    <a:pt x="314" y="2043"/>
                    <a:pt x="307" y="2033"/>
                  </a:cubicBezTo>
                  <a:cubicBezTo>
                    <a:pt x="306" y="2032"/>
                    <a:pt x="305" y="2030"/>
                    <a:pt x="304" y="2029"/>
                  </a:cubicBezTo>
                  <a:cubicBezTo>
                    <a:pt x="302" y="2026"/>
                    <a:pt x="300" y="2022"/>
                    <a:pt x="298" y="2019"/>
                  </a:cubicBezTo>
                  <a:cubicBezTo>
                    <a:pt x="284" y="1999"/>
                    <a:pt x="267" y="1982"/>
                    <a:pt x="250" y="1966"/>
                  </a:cubicBezTo>
                  <a:cubicBezTo>
                    <a:pt x="233" y="1950"/>
                    <a:pt x="216" y="1935"/>
                    <a:pt x="202" y="1917"/>
                  </a:cubicBezTo>
                  <a:cubicBezTo>
                    <a:pt x="188" y="1901"/>
                    <a:pt x="177" y="1881"/>
                    <a:pt x="175" y="1861"/>
                  </a:cubicBezTo>
                  <a:cubicBezTo>
                    <a:pt x="174" y="1852"/>
                    <a:pt x="176" y="1843"/>
                    <a:pt x="181" y="1833"/>
                  </a:cubicBezTo>
                  <a:cubicBezTo>
                    <a:pt x="185" y="1824"/>
                    <a:pt x="192" y="1815"/>
                    <a:pt x="199" y="1806"/>
                  </a:cubicBezTo>
                  <a:cubicBezTo>
                    <a:pt x="213" y="1789"/>
                    <a:pt x="229" y="1773"/>
                    <a:pt x="246" y="1757"/>
                  </a:cubicBezTo>
                  <a:cubicBezTo>
                    <a:pt x="263" y="1741"/>
                    <a:pt x="280" y="1726"/>
                    <a:pt x="296" y="1708"/>
                  </a:cubicBezTo>
                  <a:cubicBezTo>
                    <a:pt x="304" y="1698"/>
                    <a:pt x="312" y="1689"/>
                    <a:pt x="317" y="1677"/>
                  </a:cubicBezTo>
                  <a:cubicBezTo>
                    <a:pt x="320" y="1672"/>
                    <a:pt x="322" y="1667"/>
                    <a:pt x="323" y="1661"/>
                  </a:cubicBezTo>
                  <a:cubicBezTo>
                    <a:pt x="322" y="1660"/>
                    <a:pt x="322" y="1658"/>
                    <a:pt x="322" y="1656"/>
                  </a:cubicBezTo>
                  <a:cubicBezTo>
                    <a:pt x="321" y="1651"/>
                    <a:pt x="322" y="1646"/>
                    <a:pt x="322" y="1640"/>
                  </a:cubicBezTo>
                  <a:cubicBezTo>
                    <a:pt x="322" y="1639"/>
                    <a:pt x="322" y="1638"/>
                    <a:pt x="322" y="1637"/>
                  </a:cubicBezTo>
                  <a:cubicBezTo>
                    <a:pt x="319" y="1625"/>
                    <a:pt x="314" y="1614"/>
                    <a:pt x="308" y="1605"/>
                  </a:cubicBezTo>
                  <a:cubicBezTo>
                    <a:pt x="305" y="1599"/>
                    <a:pt x="302" y="1593"/>
                    <a:pt x="298" y="1588"/>
                  </a:cubicBezTo>
                  <a:cubicBezTo>
                    <a:pt x="284" y="1567"/>
                    <a:pt x="267" y="1551"/>
                    <a:pt x="250" y="1535"/>
                  </a:cubicBezTo>
                  <a:cubicBezTo>
                    <a:pt x="233" y="1519"/>
                    <a:pt x="216" y="1503"/>
                    <a:pt x="202" y="1486"/>
                  </a:cubicBezTo>
                  <a:cubicBezTo>
                    <a:pt x="188" y="1469"/>
                    <a:pt x="177" y="1450"/>
                    <a:pt x="175" y="1430"/>
                  </a:cubicBezTo>
                  <a:cubicBezTo>
                    <a:pt x="174" y="1421"/>
                    <a:pt x="176" y="1411"/>
                    <a:pt x="181" y="1402"/>
                  </a:cubicBezTo>
                  <a:cubicBezTo>
                    <a:pt x="185" y="1392"/>
                    <a:pt x="192" y="1383"/>
                    <a:pt x="199" y="1375"/>
                  </a:cubicBezTo>
                  <a:cubicBezTo>
                    <a:pt x="213" y="1357"/>
                    <a:pt x="229" y="1342"/>
                    <a:pt x="246" y="1326"/>
                  </a:cubicBezTo>
                  <a:cubicBezTo>
                    <a:pt x="263" y="1310"/>
                    <a:pt x="280" y="1294"/>
                    <a:pt x="296" y="1276"/>
                  </a:cubicBezTo>
                  <a:cubicBezTo>
                    <a:pt x="300" y="1271"/>
                    <a:pt x="304" y="1266"/>
                    <a:pt x="308" y="1261"/>
                  </a:cubicBezTo>
                  <a:cubicBezTo>
                    <a:pt x="309" y="1261"/>
                    <a:pt x="309" y="1261"/>
                    <a:pt x="309" y="1261"/>
                  </a:cubicBezTo>
                  <a:cubicBezTo>
                    <a:pt x="310" y="1259"/>
                    <a:pt x="311" y="1258"/>
                    <a:pt x="312" y="1256"/>
                  </a:cubicBezTo>
                  <a:cubicBezTo>
                    <a:pt x="314" y="1252"/>
                    <a:pt x="316" y="1249"/>
                    <a:pt x="317" y="1245"/>
                  </a:cubicBezTo>
                  <a:cubicBezTo>
                    <a:pt x="320" y="1240"/>
                    <a:pt x="322" y="1235"/>
                    <a:pt x="323" y="1230"/>
                  </a:cubicBezTo>
                  <a:cubicBezTo>
                    <a:pt x="322" y="1228"/>
                    <a:pt x="322" y="1226"/>
                    <a:pt x="322" y="1225"/>
                  </a:cubicBezTo>
                  <a:cubicBezTo>
                    <a:pt x="321" y="1219"/>
                    <a:pt x="322" y="1214"/>
                    <a:pt x="322" y="1209"/>
                  </a:cubicBezTo>
                  <a:cubicBezTo>
                    <a:pt x="322" y="1208"/>
                    <a:pt x="322" y="1207"/>
                    <a:pt x="322" y="1206"/>
                  </a:cubicBezTo>
                  <a:cubicBezTo>
                    <a:pt x="319" y="1193"/>
                    <a:pt x="314" y="1181"/>
                    <a:pt x="307" y="1171"/>
                  </a:cubicBezTo>
                  <a:cubicBezTo>
                    <a:pt x="305" y="1168"/>
                    <a:pt x="302" y="1164"/>
                    <a:pt x="300" y="1161"/>
                  </a:cubicBezTo>
                  <a:cubicBezTo>
                    <a:pt x="299" y="1160"/>
                    <a:pt x="299" y="1159"/>
                    <a:pt x="298" y="1158"/>
                  </a:cubicBezTo>
                  <a:cubicBezTo>
                    <a:pt x="284" y="1138"/>
                    <a:pt x="267" y="1122"/>
                    <a:pt x="250" y="1105"/>
                  </a:cubicBezTo>
                  <a:cubicBezTo>
                    <a:pt x="233" y="1089"/>
                    <a:pt x="216" y="1074"/>
                    <a:pt x="202" y="1057"/>
                  </a:cubicBezTo>
                  <a:cubicBezTo>
                    <a:pt x="188" y="1040"/>
                    <a:pt x="177" y="1020"/>
                    <a:pt x="175" y="1000"/>
                  </a:cubicBezTo>
                  <a:cubicBezTo>
                    <a:pt x="174" y="991"/>
                    <a:pt x="176" y="982"/>
                    <a:pt x="181" y="972"/>
                  </a:cubicBezTo>
                  <a:cubicBezTo>
                    <a:pt x="185" y="963"/>
                    <a:pt x="192" y="954"/>
                    <a:pt x="199" y="945"/>
                  </a:cubicBezTo>
                  <a:cubicBezTo>
                    <a:pt x="213" y="928"/>
                    <a:pt x="229" y="912"/>
                    <a:pt x="246" y="896"/>
                  </a:cubicBezTo>
                  <a:cubicBezTo>
                    <a:pt x="263" y="880"/>
                    <a:pt x="280" y="865"/>
                    <a:pt x="296" y="847"/>
                  </a:cubicBezTo>
                  <a:cubicBezTo>
                    <a:pt x="304" y="837"/>
                    <a:pt x="312" y="828"/>
                    <a:pt x="317" y="816"/>
                  </a:cubicBezTo>
                  <a:cubicBezTo>
                    <a:pt x="320" y="811"/>
                    <a:pt x="322" y="806"/>
                    <a:pt x="323" y="800"/>
                  </a:cubicBezTo>
                  <a:cubicBezTo>
                    <a:pt x="322" y="799"/>
                    <a:pt x="322" y="797"/>
                    <a:pt x="322" y="795"/>
                  </a:cubicBezTo>
                  <a:cubicBezTo>
                    <a:pt x="321" y="790"/>
                    <a:pt x="322" y="785"/>
                    <a:pt x="322" y="779"/>
                  </a:cubicBezTo>
                  <a:cubicBezTo>
                    <a:pt x="322" y="778"/>
                    <a:pt x="322" y="777"/>
                    <a:pt x="322" y="776"/>
                  </a:cubicBezTo>
                  <a:cubicBezTo>
                    <a:pt x="320" y="766"/>
                    <a:pt x="316" y="756"/>
                    <a:pt x="311" y="748"/>
                  </a:cubicBezTo>
                  <a:cubicBezTo>
                    <a:pt x="307" y="740"/>
                    <a:pt x="303" y="732"/>
                    <a:pt x="298" y="726"/>
                  </a:cubicBezTo>
                  <a:cubicBezTo>
                    <a:pt x="284" y="705"/>
                    <a:pt x="267" y="689"/>
                    <a:pt x="250" y="673"/>
                  </a:cubicBezTo>
                  <a:cubicBezTo>
                    <a:pt x="233" y="656"/>
                    <a:pt x="216" y="641"/>
                    <a:pt x="202" y="624"/>
                  </a:cubicBezTo>
                  <a:cubicBezTo>
                    <a:pt x="188" y="607"/>
                    <a:pt x="177" y="588"/>
                    <a:pt x="175" y="568"/>
                  </a:cubicBezTo>
                  <a:cubicBezTo>
                    <a:pt x="174" y="558"/>
                    <a:pt x="176" y="549"/>
                    <a:pt x="181" y="540"/>
                  </a:cubicBezTo>
                  <a:cubicBezTo>
                    <a:pt x="185" y="530"/>
                    <a:pt x="192" y="521"/>
                    <a:pt x="199" y="513"/>
                  </a:cubicBezTo>
                  <a:cubicBezTo>
                    <a:pt x="213" y="495"/>
                    <a:pt x="229" y="480"/>
                    <a:pt x="246" y="464"/>
                  </a:cubicBezTo>
                  <a:cubicBezTo>
                    <a:pt x="263" y="448"/>
                    <a:pt x="280" y="432"/>
                    <a:pt x="296" y="414"/>
                  </a:cubicBezTo>
                  <a:cubicBezTo>
                    <a:pt x="304" y="405"/>
                    <a:pt x="312" y="395"/>
                    <a:pt x="317" y="383"/>
                  </a:cubicBezTo>
                  <a:cubicBezTo>
                    <a:pt x="320" y="378"/>
                    <a:pt x="322" y="373"/>
                    <a:pt x="323" y="367"/>
                  </a:cubicBezTo>
                  <a:cubicBezTo>
                    <a:pt x="322" y="366"/>
                    <a:pt x="322" y="364"/>
                    <a:pt x="322" y="363"/>
                  </a:cubicBezTo>
                  <a:cubicBezTo>
                    <a:pt x="321" y="357"/>
                    <a:pt x="322" y="352"/>
                    <a:pt x="322" y="347"/>
                  </a:cubicBezTo>
                  <a:cubicBezTo>
                    <a:pt x="322" y="346"/>
                    <a:pt x="322" y="345"/>
                    <a:pt x="322" y="344"/>
                  </a:cubicBezTo>
                  <a:cubicBezTo>
                    <a:pt x="320" y="333"/>
                    <a:pt x="316" y="324"/>
                    <a:pt x="311" y="315"/>
                  </a:cubicBezTo>
                  <a:cubicBezTo>
                    <a:pt x="307" y="307"/>
                    <a:pt x="303" y="300"/>
                    <a:pt x="298" y="293"/>
                  </a:cubicBezTo>
                  <a:cubicBezTo>
                    <a:pt x="284" y="273"/>
                    <a:pt x="267" y="256"/>
                    <a:pt x="250" y="240"/>
                  </a:cubicBezTo>
                  <a:cubicBezTo>
                    <a:pt x="233" y="224"/>
                    <a:pt x="216" y="208"/>
                    <a:pt x="202" y="191"/>
                  </a:cubicBezTo>
                  <a:cubicBezTo>
                    <a:pt x="188" y="174"/>
                    <a:pt x="177" y="155"/>
                    <a:pt x="175" y="135"/>
                  </a:cubicBezTo>
                  <a:cubicBezTo>
                    <a:pt x="174" y="126"/>
                    <a:pt x="176" y="116"/>
                    <a:pt x="181" y="107"/>
                  </a:cubicBezTo>
                  <a:cubicBezTo>
                    <a:pt x="185" y="97"/>
                    <a:pt x="192" y="88"/>
                    <a:pt x="199" y="80"/>
                  </a:cubicBezTo>
                  <a:cubicBezTo>
                    <a:pt x="213" y="63"/>
                    <a:pt x="229" y="47"/>
                    <a:pt x="246" y="31"/>
                  </a:cubicBezTo>
                  <a:cubicBezTo>
                    <a:pt x="257" y="21"/>
                    <a:pt x="268" y="10"/>
                    <a:pt x="279" y="0"/>
                  </a:cubicBezTo>
                  <a:cubicBezTo>
                    <a:pt x="263" y="0"/>
                    <a:pt x="263" y="0"/>
                    <a:pt x="263" y="0"/>
                  </a:cubicBezTo>
                  <a:cubicBezTo>
                    <a:pt x="255" y="7"/>
                    <a:pt x="247" y="15"/>
                    <a:pt x="239" y="23"/>
                  </a:cubicBezTo>
                  <a:cubicBezTo>
                    <a:pt x="222" y="39"/>
                    <a:pt x="205" y="54"/>
                    <a:pt x="190" y="72"/>
                  </a:cubicBezTo>
                  <a:cubicBezTo>
                    <a:pt x="182" y="81"/>
                    <a:pt x="175" y="91"/>
                    <a:pt x="170" y="102"/>
                  </a:cubicBezTo>
                  <a:cubicBezTo>
                    <a:pt x="166" y="110"/>
                    <a:pt x="163" y="120"/>
                    <a:pt x="163" y="130"/>
                  </a:cubicBezTo>
                  <a:cubicBezTo>
                    <a:pt x="163" y="125"/>
                    <a:pt x="162" y="121"/>
                    <a:pt x="161" y="116"/>
                  </a:cubicBezTo>
                  <a:cubicBezTo>
                    <a:pt x="159" y="109"/>
                    <a:pt x="157" y="103"/>
                    <a:pt x="154" y="97"/>
                  </a:cubicBezTo>
                  <a:cubicBezTo>
                    <a:pt x="148" y="86"/>
                    <a:pt x="141" y="76"/>
                    <a:pt x="133" y="66"/>
                  </a:cubicBezTo>
                  <a:cubicBezTo>
                    <a:pt x="118" y="48"/>
                    <a:pt x="100" y="32"/>
                    <a:pt x="83" y="16"/>
                  </a:cubicBezTo>
                  <a:cubicBezTo>
                    <a:pt x="77" y="11"/>
                    <a:pt x="71" y="5"/>
                    <a:pt x="65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8" y="8"/>
                    <a:pt x="67" y="16"/>
                    <a:pt x="76" y="24"/>
                  </a:cubicBezTo>
                  <a:cubicBezTo>
                    <a:pt x="93" y="40"/>
                    <a:pt x="110" y="56"/>
                    <a:pt x="124" y="74"/>
                  </a:cubicBezTo>
                  <a:close/>
                  <a:moveTo>
                    <a:pt x="193" y="1493"/>
                  </a:moveTo>
                  <a:cubicBezTo>
                    <a:pt x="200" y="1502"/>
                    <a:pt x="208" y="1510"/>
                    <a:pt x="216" y="1517"/>
                  </a:cubicBezTo>
                  <a:cubicBezTo>
                    <a:pt x="220" y="1522"/>
                    <a:pt x="224" y="1527"/>
                    <a:pt x="229" y="1531"/>
                  </a:cubicBezTo>
                  <a:cubicBezTo>
                    <a:pt x="245" y="1547"/>
                    <a:pt x="262" y="1563"/>
                    <a:pt x="278" y="1580"/>
                  </a:cubicBezTo>
                  <a:cubicBezTo>
                    <a:pt x="280" y="1582"/>
                    <a:pt x="282" y="1584"/>
                    <a:pt x="283" y="1586"/>
                  </a:cubicBezTo>
                  <a:cubicBezTo>
                    <a:pt x="285" y="1589"/>
                    <a:pt x="287" y="1591"/>
                    <a:pt x="289" y="1594"/>
                  </a:cubicBezTo>
                  <a:cubicBezTo>
                    <a:pt x="296" y="1603"/>
                    <a:pt x="302" y="1613"/>
                    <a:pt x="305" y="1624"/>
                  </a:cubicBezTo>
                  <a:cubicBezTo>
                    <a:pt x="309" y="1635"/>
                    <a:pt x="310" y="1647"/>
                    <a:pt x="309" y="1658"/>
                  </a:cubicBezTo>
                  <a:cubicBezTo>
                    <a:pt x="309" y="1666"/>
                    <a:pt x="307" y="1673"/>
                    <a:pt x="304" y="1680"/>
                  </a:cubicBezTo>
                  <a:cubicBezTo>
                    <a:pt x="300" y="1687"/>
                    <a:pt x="294" y="1694"/>
                    <a:pt x="288" y="1701"/>
                  </a:cubicBezTo>
                  <a:cubicBezTo>
                    <a:pt x="273" y="1718"/>
                    <a:pt x="256" y="1733"/>
                    <a:pt x="239" y="1749"/>
                  </a:cubicBezTo>
                  <a:cubicBezTo>
                    <a:pt x="222" y="1765"/>
                    <a:pt x="205" y="1781"/>
                    <a:pt x="190" y="1799"/>
                  </a:cubicBezTo>
                  <a:cubicBezTo>
                    <a:pt x="182" y="1808"/>
                    <a:pt x="175" y="1818"/>
                    <a:pt x="170" y="1828"/>
                  </a:cubicBezTo>
                  <a:cubicBezTo>
                    <a:pt x="166" y="1837"/>
                    <a:pt x="163" y="1847"/>
                    <a:pt x="163" y="1857"/>
                  </a:cubicBezTo>
                  <a:cubicBezTo>
                    <a:pt x="163" y="1852"/>
                    <a:pt x="162" y="1847"/>
                    <a:pt x="161" y="1843"/>
                  </a:cubicBezTo>
                  <a:cubicBezTo>
                    <a:pt x="159" y="1836"/>
                    <a:pt x="157" y="1830"/>
                    <a:pt x="154" y="1824"/>
                  </a:cubicBezTo>
                  <a:cubicBezTo>
                    <a:pt x="148" y="1812"/>
                    <a:pt x="141" y="1802"/>
                    <a:pt x="133" y="1793"/>
                  </a:cubicBezTo>
                  <a:cubicBezTo>
                    <a:pt x="118" y="1774"/>
                    <a:pt x="100" y="1758"/>
                    <a:pt x="83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6" y="1671"/>
                  </a:cubicBezTo>
                  <a:cubicBezTo>
                    <a:pt x="15" y="1667"/>
                    <a:pt x="14" y="1662"/>
                    <a:pt x="14" y="1658"/>
                  </a:cubicBezTo>
                  <a:cubicBezTo>
                    <a:pt x="12" y="1637"/>
                    <a:pt x="21" y="1616"/>
                    <a:pt x="33" y="1599"/>
                  </a:cubicBezTo>
                  <a:cubicBezTo>
                    <a:pt x="46" y="1581"/>
                    <a:pt x="63" y="1565"/>
                    <a:pt x="80" y="1549"/>
                  </a:cubicBezTo>
                  <a:cubicBezTo>
                    <a:pt x="97" y="1534"/>
                    <a:pt x="114" y="1518"/>
                    <a:pt x="130" y="1499"/>
                  </a:cubicBezTo>
                  <a:cubicBezTo>
                    <a:pt x="138" y="1490"/>
                    <a:pt x="145" y="1480"/>
                    <a:pt x="151" y="1469"/>
                  </a:cubicBezTo>
                  <a:cubicBezTo>
                    <a:pt x="157" y="1458"/>
                    <a:pt x="161" y="1445"/>
                    <a:pt x="163" y="1432"/>
                  </a:cubicBezTo>
                  <a:cubicBezTo>
                    <a:pt x="163" y="1430"/>
                    <a:pt x="163" y="1429"/>
                    <a:pt x="163" y="1427"/>
                  </a:cubicBezTo>
                  <a:cubicBezTo>
                    <a:pt x="163" y="1428"/>
                    <a:pt x="163" y="1430"/>
                    <a:pt x="163" y="1431"/>
                  </a:cubicBezTo>
                  <a:cubicBezTo>
                    <a:pt x="164" y="1443"/>
                    <a:pt x="168" y="1454"/>
                    <a:pt x="173" y="1464"/>
                  </a:cubicBezTo>
                  <a:cubicBezTo>
                    <a:pt x="178" y="1475"/>
                    <a:pt x="185" y="1484"/>
                    <a:pt x="193" y="1493"/>
                  </a:cubicBezTo>
                  <a:close/>
                  <a:moveTo>
                    <a:pt x="193" y="1064"/>
                  </a:moveTo>
                  <a:cubicBezTo>
                    <a:pt x="208" y="1082"/>
                    <a:pt x="225" y="1098"/>
                    <a:pt x="242" y="1113"/>
                  </a:cubicBezTo>
                  <a:cubicBezTo>
                    <a:pt x="259" y="1129"/>
                    <a:pt x="276" y="1146"/>
                    <a:pt x="289" y="1164"/>
                  </a:cubicBezTo>
                  <a:cubicBezTo>
                    <a:pt x="296" y="1174"/>
                    <a:pt x="302" y="1184"/>
                    <a:pt x="305" y="1195"/>
                  </a:cubicBezTo>
                  <a:cubicBezTo>
                    <a:pt x="309" y="1206"/>
                    <a:pt x="310" y="1218"/>
                    <a:pt x="309" y="1229"/>
                  </a:cubicBezTo>
                  <a:cubicBezTo>
                    <a:pt x="309" y="1234"/>
                    <a:pt x="308" y="1239"/>
                    <a:pt x="306" y="1244"/>
                  </a:cubicBezTo>
                  <a:cubicBezTo>
                    <a:pt x="301" y="1253"/>
                    <a:pt x="295" y="1261"/>
                    <a:pt x="288" y="1269"/>
                  </a:cubicBezTo>
                  <a:cubicBezTo>
                    <a:pt x="273" y="1286"/>
                    <a:pt x="256" y="1302"/>
                    <a:pt x="239" y="1318"/>
                  </a:cubicBezTo>
                  <a:cubicBezTo>
                    <a:pt x="222" y="1333"/>
                    <a:pt x="205" y="1349"/>
                    <a:pt x="190" y="1367"/>
                  </a:cubicBezTo>
                  <a:cubicBezTo>
                    <a:pt x="182" y="1376"/>
                    <a:pt x="175" y="1386"/>
                    <a:pt x="170" y="1396"/>
                  </a:cubicBezTo>
                  <a:cubicBezTo>
                    <a:pt x="166" y="1405"/>
                    <a:pt x="163" y="1415"/>
                    <a:pt x="163" y="1425"/>
                  </a:cubicBezTo>
                  <a:cubicBezTo>
                    <a:pt x="163" y="1420"/>
                    <a:pt x="162" y="1415"/>
                    <a:pt x="161" y="1411"/>
                  </a:cubicBezTo>
                  <a:cubicBezTo>
                    <a:pt x="159" y="1404"/>
                    <a:pt x="157" y="1398"/>
                    <a:pt x="154" y="1392"/>
                  </a:cubicBezTo>
                  <a:cubicBezTo>
                    <a:pt x="148" y="1381"/>
                    <a:pt x="141" y="1371"/>
                    <a:pt x="133" y="1361"/>
                  </a:cubicBezTo>
                  <a:cubicBezTo>
                    <a:pt x="118" y="1343"/>
                    <a:pt x="100" y="1327"/>
                    <a:pt x="83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7" y="1255"/>
                    <a:pt x="20" y="1247"/>
                    <a:pt x="15" y="1238"/>
                  </a:cubicBezTo>
                  <a:cubicBezTo>
                    <a:pt x="15" y="1235"/>
                    <a:pt x="14" y="1232"/>
                    <a:pt x="14" y="1228"/>
                  </a:cubicBezTo>
                  <a:cubicBezTo>
                    <a:pt x="12" y="1207"/>
                    <a:pt x="21" y="1187"/>
                    <a:pt x="33" y="1169"/>
                  </a:cubicBezTo>
                  <a:cubicBezTo>
                    <a:pt x="46" y="1152"/>
                    <a:pt x="63" y="1136"/>
                    <a:pt x="80" y="1120"/>
                  </a:cubicBezTo>
                  <a:cubicBezTo>
                    <a:pt x="97" y="1104"/>
                    <a:pt x="114" y="1089"/>
                    <a:pt x="130" y="1070"/>
                  </a:cubicBezTo>
                  <a:cubicBezTo>
                    <a:pt x="138" y="1061"/>
                    <a:pt x="145" y="1051"/>
                    <a:pt x="151" y="1039"/>
                  </a:cubicBezTo>
                  <a:cubicBezTo>
                    <a:pt x="157" y="1028"/>
                    <a:pt x="161" y="1016"/>
                    <a:pt x="163" y="1002"/>
                  </a:cubicBezTo>
                  <a:cubicBezTo>
                    <a:pt x="163" y="1001"/>
                    <a:pt x="163" y="999"/>
                    <a:pt x="163" y="998"/>
                  </a:cubicBezTo>
                  <a:cubicBezTo>
                    <a:pt x="163" y="999"/>
                    <a:pt x="163" y="1000"/>
                    <a:pt x="163" y="1001"/>
                  </a:cubicBezTo>
                  <a:cubicBezTo>
                    <a:pt x="164" y="1013"/>
                    <a:pt x="168" y="1025"/>
                    <a:pt x="173" y="1035"/>
                  </a:cubicBezTo>
                  <a:cubicBezTo>
                    <a:pt x="178" y="1046"/>
                    <a:pt x="185" y="1055"/>
                    <a:pt x="193" y="1064"/>
                  </a:cubicBezTo>
                  <a:close/>
                  <a:moveTo>
                    <a:pt x="193" y="631"/>
                  </a:moveTo>
                  <a:cubicBezTo>
                    <a:pt x="196" y="635"/>
                    <a:pt x="199" y="638"/>
                    <a:pt x="202" y="642"/>
                  </a:cubicBezTo>
                  <a:cubicBezTo>
                    <a:pt x="211" y="652"/>
                    <a:pt x="220" y="661"/>
                    <a:pt x="229" y="670"/>
                  </a:cubicBezTo>
                  <a:cubicBezTo>
                    <a:pt x="245" y="686"/>
                    <a:pt x="262" y="702"/>
                    <a:pt x="278" y="719"/>
                  </a:cubicBezTo>
                  <a:cubicBezTo>
                    <a:pt x="283" y="724"/>
                    <a:pt x="287" y="730"/>
                    <a:pt x="292" y="735"/>
                  </a:cubicBezTo>
                  <a:cubicBezTo>
                    <a:pt x="297" y="744"/>
                    <a:pt x="302" y="753"/>
                    <a:pt x="305" y="762"/>
                  </a:cubicBezTo>
                  <a:cubicBezTo>
                    <a:pt x="309" y="773"/>
                    <a:pt x="310" y="785"/>
                    <a:pt x="309" y="796"/>
                  </a:cubicBezTo>
                  <a:cubicBezTo>
                    <a:pt x="309" y="805"/>
                    <a:pt x="306" y="813"/>
                    <a:pt x="303" y="821"/>
                  </a:cubicBezTo>
                  <a:cubicBezTo>
                    <a:pt x="299" y="827"/>
                    <a:pt x="294" y="834"/>
                    <a:pt x="288" y="840"/>
                  </a:cubicBezTo>
                  <a:cubicBezTo>
                    <a:pt x="273" y="857"/>
                    <a:pt x="256" y="872"/>
                    <a:pt x="239" y="888"/>
                  </a:cubicBezTo>
                  <a:cubicBezTo>
                    <a:pt x="222" y="904"/>
                    <a:pt x="205" y="920"/>
                    <a:pt x="190" y="938"/>
                  </a:cubicBezTo>
                  <a:cubicBezTo>
                    <a:pt x="182" y="947"/>
                    <a:pt x="175" y="957"/>
                    <a:pt x="170" y="967"/>
                  </a:cubicBezTo>
                  <a:cubicBezTo>
                    <a:pt x="166" y="976"/>
                    <a:pt x="163" y="986"/>
                    <a:pt x="163" y="996"/>
                  </a:cubicBezTo>
                  <a:cubicBezTo>
                    <a:pt x="163" y="991"/>
                    <a:pt x="162" y="986"/>
                    <a:pt x="161" y="982"/>
                  </a:cubicBezTo>
                  <a:cubicBezTo>
                    <a:pt x="159" y="975"/>
                    <a:pt x="157" y="969"/>
                    <a:pt x="154" y="963"/>
                  </a:cubicBezTo>
                  <a:cubicBezTo>
                    <a:pt x="148" y="951"/>
                    <a:pt x="141" y="941"/>
                    <a:pt x="133" y="932"/>
                  </a:cubicBezTo>
                  <a:cubicBezTo>
                    <a:pt x="118" y="913"/>
                    <a:pt x="100" y="897"/>
                    <a:pt x="83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7" y="827"/>
                    <a:pt x="22" y="819"/>
                    <a:pt x="17" y="811"/>
                  </a:cubicBezTo>
                  <a:cubicBezTo>
                    <a:pt x="15" y="806"/>
                    <a:pt x="14" y="801"/>
                    <a:pt x="14" y="795"/>
                  </a:cubicBezTo>
                  <a:cubicBezTo>
                    <a:pt x="12" y="774"/>
                    <a:pt x="21" y="754"/>
                    <a:pt x="33" y="737"/>
                  </a:cubicBezTo>
                  <a:cubicBezTo>
                    <a:pt x="46" y="719"/>
                    <a:pt x="63" y="703"/>
                    <a:pt x="80" y="687"/>
                  </a:cubicBezTo>
                  <a:cubicBezTo>
                    <a:pt x="97" y="671"/>
                    <a:pt x="114" y="656"/>
                    <a:pt x="130" y="637"/>
                  </a:cubicBezTo>
                  <a:cubicBezTo>
                    <a:pt x="138" y="628"/>
                    <a:pt x="145" y="618"/>
                    <a:pt x="151" y="607"/>
                  </a:cubicBezTo>
                  <a:cubicBezTo>
                    <a:pt x="157" y="595"/>
                    <a:pt x="161" y="583"/>
                    <a:pt x="163" y="570"/>
                  </a:cubicBezTo>
                  <a:cubicBezTo>
                    <a:pt x="163" y="568"/>
                    <a:pt x="163" y="567"/>
                    <a:pt x="163" y="565"/>
                  </a:cubicBezTo>
                  <a:cubicBezTo>
                    <a:pt x="163" y="566"/>
                    <a:pt x="163" y="568"/>
                    <a:pt x="163" y="569"/>
                  </a:cubicBezTo>
                  <a:cubicBezTo>
                    <a:pt x="164" y="580"/>
                    <a:pt x="168" y="592"/>
                    <a:pt x="173" y="602"/>
                  </a:cubicBezTo>
                  <a:cubicBezTo>
                    <a:pt x="178" y="613"/>
                    <a:pt x="185" y="622"/>
                    <a:pt x="193" y="631"/>
                  </a:cubicBezTo>
                  <a:close/>
                  <a:moveTo>
                    <a:pt x="163" y="137"/>
                  </a:moveTo>
                  <a:cubicBezTo>
                    <a:pt x="163" y="135"/>
                    <a:pt x="163" y="134"/>
                    <a:pt x="163" y="132"/>
                  </a:cubicBezTo>
                  <a:cubicBezTo>
                    <a:pt x="163" y="134"/>
                    <a:pt x="163" y="135"/>
                    <a:pt x="163" y="136"/>
                  </a:cubicBezTo>
                  <a:cubicBezTo>
                    <a:pt x="164" y="148"/>
                    <a:pt x="168" y="159"/>
                    <a:pt x="173" y="170"/>
                  </a:cubicBezTo>
                  <a:cubicBezTo>
                    <a:pt x="178" y="180"/>
                    <a:pt x="185" y="190"/>
                    <a:pt x="193" y="198"/>
                  </a:cubicBezTo>
                  <a:cubicBezTo>
                    <a:pt x="196" y="202"/>
                    <a:pt x="199" y="206"/>
                    <a:pt x="202" y="209"/>
                  </a:cubicBezTo>
                  <a:cubicBezTo>
                    <a:pt x="211" y="219"/>
                    <a:pt x="220" y="228"/>
                    <a:pt x="229" y="237"/>
                  </a:cubicBezTo>
                  <a:cubicBezTo>
                    <a:pt x="245" y="254"/>
                    <a:pt x="262" y="269"/>
                    <a:pt x="278" y="286"/>
                  </a:cubicBezTo>
                  <a:cubicBezTo>
                    <a:pt x="283" y="291"/>
                    <a:pt x="287" y="297"/>
                    <a:pt x="292" y="302"/>
                  </a:cubicBezTo>
                  <a:cubicBezTo>
                    <a:pt x="297" y="311"/>
                    <a:pt x="302" y="320"/>
                    <a:pt x="305" y="329"/>
                  </a:cubicBezTo>
                  <a:cubicBezTo>
                    <a:pt x="309" y="340"/>
                    <a:pt x="310" y="352"/>
                    <a:pt x="309" y="363"/>
                  </a:cubicBezTo>
                  <a:cubicBezTo>
                    <a:pt x="309" y="372"/>
                    <a:pt x="306" y="380"/>
                    <a:pt x="303" y="388"/>
                  </a:cubicBezTo>
                  <a:cubicBezTo>
                    <a:pt x="299" y="395"/>
                    <a:pt x="294" y="401"/>
                    <a:pt x="288" y="407"/>
                  </a:cubicBezTo>
                  <a:cubicBezTo>
                    <a:pt x="273" y="424"/>
                    <a:pt x="256" y="440"/>
                    <a:pt x="239" y="455"/>
                  </a:cubicBezTo>
                  <a:cubicBezTo>
                    <a:pt x="222" y="471"/>
                    <a:pt x="205" y="487"/>
                    <a:pt x="190" y="505"/>
                  </a:cubicBezTo>
                  <a:cubicBezTo>
                    <a:pt x="182" y="514"/>
                    <a:pt x="175" y="524"/>
                    <a:pt x="170" y="534"/>
                  </a:cubicBezTo>
                  <a:cubicBezTo>
                    <a:pt x="166" y="543"/>
                    <a:pt x="163" y="553"/>
                    <a:pt x="163" y="563"/>
                  </a:cubicBezTo>
                  <a:cubicBezTo>
                    <a:pt x="163" y="558"/>
                    <a:pt x="162" y="553"/>
                    <a:pt x="161" y="549"/>
                  </a:cubicBezTo>
                  <a:cubicBezTo>
                    <a:pt x="159" y="542"/>
                    <a:pt x="157" y="536"/>
                    <a:pt x="154" y="530"/>
                  </a:cubicBezTo>
                  <a:cubicBezTo>
                    <a:pt x="148" y="519"/>
                    <a:pt x="141" y="509"/>
                    <a:pt x="133" y="499"/>
                  </a:cubicBezTo>
                  <a:cubicBezTo>
                    <a:pt x="118" y="481"/>
                    <a:pt x="100" y="465"/>
                    <a:pt x="83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7" y="394"/>
                    <a:pt x="22" y="386"/>
                    <a:pt x="17" y="379"/>
                  </a:cubicBezTo>
                  <a:cubicBezTo>
                    <a:pt x="15" y="373"/>
                    <a:pt x="14" y="368"/>
                    <a:pt x="14" y="363"/>
                  </a:cubicBezTo>
                  <a:cubicBezTo>
                    <a:pt x="12" y="342"/>
                    <a:pt x="21" y="322"/>
                    <a:pt x="33" y="304"/>
                  </a:cubicBezTo>
                  <a:cubicBezTo>
                    <a:pt x="46" y="286"/>
                    <a:pt x="63" y="270"/>
                    <a:pt x="80" y="254"/>
                  </a:cubicBezTo>
                  <a:cubicBezTo>
                    <a:pt x="97" y="239"/>
                    <a:pt x="114" y="223"/>
                    <a:pt x="130" y="204"/>
                  </a:cubicBezTo>
                  <a:cubicBezTo>
                    <a:pt x="138" y="195"/>
                    <a:pt x="145" y="185"/>
                    <a:pt x="151" y="174"/>
                  </a:cubicBezTo>
                  <a:cubicBezTo>
                    <a:pt x="157" y="163"/>
                    <a:pt x="161" y="150"/>
                    <a:pt x="163" y="137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8" name="Freeform 8"/>
            <p:cNvSpPr/>
            <p:nvPr/>
          </p:nvSpPr>
          <p:spPr>
            <a:xfrm>
              <a:off x="3540240" y="-1440"/>
              <a:ext cx="514080" cy="686232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2" h="2159">
                  <a:moveTo>
                    <a:pt x="124" y="74"/>
                  </a:moveTo>
                  <a:cubicBezTo>
                    <a:pt x="131" y="83"/>
                    <a:pt x="138" y="92"/>
                    <a:pt x="143" y="103"/>
                  </a:cubicBezTo>
                  <a:cubicBezTo>
                    <a:pt x="148" y="111"/>
                    <a:pt x="150" y="121"/>
                    <a:pt x="150" y="131"/>
                  </a:cubicBezTo>
                  <a:cubicBezTo>
                    <a:pt x="150" y="131"/>
                    <a:pt x="150" y="131"/>
                    <a:pt x="150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1" y="197"/>
                    <a:pt x="121" y="197"/>
                  </a:cubicBezTo>
                  <a:cubicBezTo>
                    <a:pt x="106" y="215"/>
                    <a:pt x="89" y="230"/>
                    <a:pt x="72" y="246"/>
                  </a:cubicBezTo>
                  <a:cubicBezTo>
                    <a:pt x="55" y="262"/>
                    <a:pt x="38" y="279"/>
                    <a:pt x="25" y="298"/>
                  </a:cubicBezTo>
                  <a:cubicBezTo>
                    <a:pt x="23" y="300"/>
                    <a:pt x="22" y="302"/>
                    <a:pt x="20" y="305"/>
                  </a:cubicBezTo>
                  <a:cubicBezTo>
                    <a:pt x="18" y="307"/>
                    <a:pt x="16" y="310"/>
                    <a:pt x="15" y="313"/>
                  </a:cubicBezTo>
                  <a:cubicBezTo>
                    <a:pt x="8" y="322"/>
                    <a:pt x="3" y="333"/>
                    <a:pt x="1" y="345"/>
                  </a:cubicBezTo>
                  <a:cubicBezTo>
                    <a:pt x="0" y="351"/>
                    <a:pt x="0" y="357"/>
                    <a:pt x="0" y="363"/>
                  </a:cubicBezTo>
                  <a:cubicBezTo>
                    <a:pt x="1" y="369"/>
                    <a:pt x="3" y="374"/>
                    <a:pt x="6" y="379"/>
                  </a:cubicBezTo>
                  <a:cubicBezTo>
                    <a:pt x="7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2" y="404"/>
                    <a:pt x="26" y="408"/>
                  </a:cubicBezTo>
                  <a:cubicBezTo>
                    <a:pt x="41" y="426"/>
                    <a:pt x="58" y="441"/>
                    <a:pt x="75" y="457"/>
                  </a:cubicBezTo>
                  <a:cubicBezTo>
                    <a:pt x="92" y="473"/>
                    <a:pt x="109" y="489"/>
                    <a:pt x="124" y="507"/>
                  </a:cubicBezTo>
                  <a:cubicBezTo>
                    <a:pt x="131" y="516"/>
                    <a:pt x="138" y="525"/>
                    <a:pt x="143" y="535"/>
                  </a:cubicBezTo>
                  <a:cubicBezTo>
                    <a:pt x="148" y="544"/>
                    <a:pt x="150" y="554"/>
                    <a:pt x="150" y="564"/>
                  </a:cubicBezTo>
                  <a:cubicBezTo>
                    <a:pt x="150" y="564"/>
                    <a:pt x="150" y="564"/>
                    <a:pt x="150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5"/>
                    <a:pt x="122" y="629"/>
                  </a:cubicBezTo>
                  <a:cubicBezTo>
                    <a:pt x="122" y="629"/>
                    <a:pt x="121" y="629"/>
                    <a:pt x="121" y="630"/>
                  </a:cubicBezTo>
                  <a:cubicBezTo>
                    <a:pt x="106" y="648"/>
                    <a:pt x="89" y="663"/>
                    <a:pt x="72" y="679"/>
                  </a:cubicBezTo>
                  <a:cubicBezTo>
                    <a:pt x="55" y="695"/>
                    <a:pt x="38" y="711"/>
                    <a:pt x="25" y="730"/>
                  </a:cubicBezTo>
                  <a:cubicBezTo>
                    <a:pt x="23" y="733"/>
                    <a:pt x="22" y="735"/>
                    <a:pt x="20" y="737"/>
                  </a:cubicBezTo>
                  <a:cubicBezTo>
                    <a:pt x="18" y="740"/>
                    <a:pt x="16" y="743"/>
                    <a:pt x="15" y="745"/>
                  </a:cubicBezTo>
                  <a:cubicBezTo>
                    <a:pt x="8" y="755"/>
                    <a:pt x="3" y="766"/>
                    <a:pt x="1" y="778"/>
                  </a:cubicBezTo>
                  <a:cubicBezTo>
                    <a:pt x="0" y="784"/>
                    <a:pt x="0" y="789"/>
                    <a:pt x="0" y="795"/>
                  </a:cubicBezTo>
                  <a:cubicBezTo>
                    <a:pt x="1" y="801"/>
                    <a:pt x="3" y="807"/>
                    <a:pt x="6" y="812"/>
                  </a:cubicBezTo>
                  <a:cubicBezTo>
                    <a:pt x="7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2" y="837"/>
                    <a:pt x="26" y="841"/>
                  </a:cubicBezTo>
                  <a:cubicBezTo>
                    <a:pt x="41" y="858"/>
                    <a:pt x="58" y="874"/>
                    <a:pt x="75" y="890"/>
                  </a:cubicBezTo>
                  <a:cubicBezTo>
                    <a:pt x="92" y="906"/>
                    <a:pt x="109" y="922"/>
                    <a:pt x="124" y="939"/>
                  </a:cubicBezTo>
                  <a:cubicBezTo>
                    <a:pt x="131" y="948"/>
                    <a:pt x="138" y="958"/>
                    <a:pt x="143" y="968"/>
                  </a:cubicBezTo>
                  <a:cubicBezTo>
                    <a:pt x="147" y="976"/>
                    <a:pt x="150" y="984"/>
                    <a:pt x="150" y="993"/>
                  </a:cubicBezTo>
                  <a:cubicBezTo>
                    <a:pt x="150" y="993"/>
                    <a:pt x="150" y="993"/>
                    <a:pt x="150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8" y="1065"/>
                    <a:pt x="102" y="1082"/>
                    <a:pt x="86" y="1098"/>
                  </a:cubicBezTo>
                  <a:cubicBezTo>
                    <a:pt x="69" y="1114"/>
                    <a:pt x="52" y="1130"/>
                    <a:pt x="36" y="1147"/>
                  </a:cubicBezTo>
                  <a:cubicBezTo>
                    <a:pt x="28" y="1156"/>
                    <a:pt x="21" y="1165"/>
                    <a:pt x="15" y="1175"/>
                  </a:cubicBezTo>
                  <a:cubicBezTo>
                    <a:pt x="8" y="1185"/>
                    <a:pt x="3" y="1195"/>
                    <a:pt x="1" y="1207"/>
                  </a:cubicBezTo>
                  <a:cubicBezTo>
                    <a:pt x="0" y="1213"/>
                    <a:pt x="0" y="1219"/>
                    <a:pt x="0" y="1225"/>
                  </a:cubicBezTo>
                  <a:cubicBezTo>
                    <a:pt x="1" y="1231"/>
                    <a:pt x="3" y="1236"/>
                    <a:pt x="6" y="1242"/>
                  </a:cubicBezTo>
                  <a:cubicBezTo>
                    <a:pt x="6" y="1243"/>
                    <a:pt x="7" y="1244"/>
                    <a:pt x="8" y="1245"/>
                  </a:cubicBezTo>
                  <a:cubicBezTo>
                    <a:pt x="9" y="1251"/>
                    <a:pt x="12" y="1256"/>
                    <a:pt x="15" y="1261"/>
                  </a:cubicBezTo>
                  <a:cubicBezTo>
                    <a:pt x="18" y="1261"/>
                    <a:pt x="18" y="1261"/>
                    <a:pt x="18" y="1261"/>
                  </a:cubicBezTo>
                  <a:cubicBezTo>
                    <a:pt x="21" y="1264"/>
                    <a:pt x="23" y="1267"/>
                    <a:pt x="26" y="1270"/>
                  </a:cubicBezTo>
                  <a:cubicBezTo>
                    <a:pt x="41" y="1288"/>
                    <a:pt x="58" y="1303"/>
                    <a:pt x="75" y="1319"/>
                  </a:cubicBezTo>
                  <a:cubicBezTo>
                    <a:pt x="92" y="1335"/>
                    <a:pt x="109" y="1351"/>
                    <a:pt x="124" y="1369"/>
                  </a:cubicBezTo>
                  <a:cubicBezTo>
                    <a:pt x="131" y="1378"/>
                    <a:pt x="138" y="1387"/>
                    <a:pt x="143" y="1398"/>
                  </a:cubicBezTo>
                  <a:cubicBezTo>
                    <a:pt x="147" y="1406"/>
                    <a:pt x="150" y="1415"/>
                    <a:pt x="150" y="1425"/>
                  </a:cubicBezTo>
                  <a:cubicBezTo>
                    <a:pt x="150" y="1425"/>
                    <a:pt x="150" y="1425"/>
                    <a:pt x="150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5" y="1485"/>
                    <a:pt x="119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2" y="1595"/>
                    <a:pt x="18" y="1600"/>
                    <a:pt x="15" y="1606"/>
                  </a:cubicBezTo>
                  <a:cubicBezTo>
                    <a:pt x="8" y="1616"/>
                    <a:pt x="3" y="1627"/>
                    <a:pt x="1" y="1639"/>
                  </a:cubicBezTo>
                  <a:cubicBezTo>
                    <a:pt x="0" y="1644"/>
                    <a:pt x="0" y="1650"/>
                    <a:pt x="0" y="1656"/>
                  </a:cubicBezTo>
                  <a:cubicBezTo>
                    <a:pt x="1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0" y="1681"/>
                  </a:cubicBezTo>
                  <a:cubicBezTo>
                    <a:pt x="11" y="1685"/>
                    <a:pt x="13" y="1688"/>
                    <a:pt x="15" y="1691"/>
                  </a:cubicBezTo>
                  <a:cubicBezTo>
                    <a:pt x="16" y="1691"/>
                    <a:pt x="16" y="1691"/>
                    <a:pt x="16" y="1691"/>
                  </a:cubicBezTo>
                  <a:cubicBezTo>
                    <a:pt x="19" y="1694"/>
                    <a:pt x="22" y="1698"/>
                    <a:pt x="26" y="1702"/>
                  </a:cubicBezTo>
                  <a:cubicBezTo>
                    <a:pt x="41" y="1719"/>
                    <a:pt x="58" y="1735"/>
                    <a:pt x="75" y="1751"/>
                  </a:cubicBezTo>
                  <a:cubicBezTo>
                    <a:pt x="92" y="1767"/>
                    <a:pt x="109" y="1783"/>
                    <a:pt x="124" y="1800"/>
                  </a:cubicBezTo>
                  <a:cubicBezTo>
                    <a:pt x="131" y="1809"/>
                    <a:pt x="138" y="1819"/>
                    <a:pt x="143" y="1829"/>
                  </a:cubicBezTo>
                  <a:cubicBezTo>
                    <a:pt x="147" y="1837"/>
                    <a:pt x="150" y="1846"/>
                    <a:pt x="150" y="1855"/>
                  </a:cubicBezTo>
                  <a:cubicBezTo>
                    <a:pt x="150" y="1855"/>
                    <a:pt x="150" y="1855"/>
                    <a:pt x="150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7" y="1959"/>
                    <a:pt x="79" y="1966"/>
                    <a:pt x="72" y="1973"/>
                  </a:cubicBezTo>
                  <a:cubicBezTo>
                    <a:pt x="60" y="1984"/>
                    <a:pt x="49" y="1995"/>
                    <a:pt x="38" y="2007"/>
                  </a:cubicBezTo>
                  <a:cubicBezTo>
                    <a:pt x="38" y="2008"/>
                    <a:pt x="37" y="2008"/>
                    <a:pt x="36" y="2009"/>
                  </a:cubicBezTo>
                  <a:cubicBezTo>
                    <a:pt x="28" y="2018"/>
                    <a:pt x="21" y="2027"/>
                    <a:pt x="15" y="2037"/>
                  </a:cubicBezTo>
                  <a:cubicBezTo>
                    <a:pt x="8" y="2047"/>
                    <a:pt x="3" y="2057"/>
                    <a:pt x="1" y="2069"/>
                  </a:cubicBezTo>
                  <a:cubicBezTo>
                    <a:pt x="0" y="2075"/>
                    <a:pt x="0" y="2081"/>
                    <a:pt x="0" y="2087"/>
                  </a:cubicBezTo>
                  <a:cubicBezTo>
                    <a:pt x="1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0" y="2114"/>
                    <a:pt x="12" y="2118"/>
                    <a:pt x="15" y="2122"/>
                  </a:cubicBezTo>
                  <a:cubicBezTo>
                    <a:pt x="17" y="2122"/>
                    <a:pt x="17" y="2122"/>
                    <a:pt x="17" y="2122"/>
                  </a:cubicBezTo>
                  <a:cubicBezTo>
                    <a:pt x="20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4" y="2137"/>
                    <a:pt x="34" y="2125"/>
                  </a:cubicBezTo>
                  <a:cubicBezTo>
                    <a:pt x="27" y="2117"/>
                    <a:pt x="20" y="2109"/>
                    <a:pt x="16" y="2101"/>
                  </a:cubicBezTo>
                  <a:cubicBezTo>
                    <a:pt x="15" y="2097"/>
                    <a:pt x="14" y="2093"/>
                    <a:pt x="14" y="2089"/>
                  </a:cubicBezTo>
                  <a:cubicBezTo>
                    <a:pt x="12" y="2068"/>
                    <a:pt x="21" y="2048"/>
                    <a:pt x="33" y="2030"/>
                  </a:cubicBezTo>
                  <a:cubicBezTo>
                    <a:pt x="46" y="2012"/>
                    <a:pt x="63" y="1997"/>
                    <a:pt x="80" y="1981"/>
                  </a:cubicBezTo>
                  <a:cubicBezTo>
                    <a:pt x="96" y="1965"/>
                    <a:pt x="114" y="1949"/>
                    <a:pt x="130" y="1931"/>
                  </a:cubicBezTo>
                  <a:cubicBezTo>
                    <a:pt x="138" y="1922"/>
                    <a:pt x="145" y="1912"/>
                    <a:pt x="151" y="1900"/>
                  </a:cubicBezTo>
                  <a:cubicBezTo>
                    <a:pt x="156" y="1891"/>
                    <a:pt x="160" y="1881"/>
                    <a:pt x="161" y="1870"/>
                  </a:cubicBezTo>
                  <a:cubicBezTo>
                    <a:pt x="161" y="1867"/>
                    <a:pt x="161" y="1865"/>
                    <a:pt x="161" y="1862"/>
                  </a:cubicBezTo>
                  <a:cubicBezTo>
                    <a:pt x="160" y="1857"/>
                    <a:pt x="160" y="1852"/>
                    <a:pt x="162" y="1846"/>
                  </a:cubicBezTo>
                  <a:cubicBezTo>
                    <a:pt x="161" y="1845"/>
                    <a:pt x="161" y="1844"/>
                    <a:pt x="161" y="1843"/>
                  </a:cubicBezTo>
                  <a:cubicBezTo>
                    <a:pt x="159" y="1836"/>
                    <a:pt x="157" y="1830"/>
                    <a:pt x="154" y="1824"/>
                  </a:cubicBezTo>
                  <a:cubicBezTo>
                    <a:pt x="148" y="1812"/>
                    <a:pt x="141" y="1802"/>
                    <a:pt x="133" y="1793"/>
                  </a:cubicBezTo>
                  <a:cubicBezTo>
                    <a:pt x="118" y="1774"/>
                    <a:pt x="100" y="1758"/>
                    <a:pt x="83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6" y="1671"/>
                  </a:cubicBezTo>
                  <a:cubicBezTo>
                    <a:pt x="15" y="1667"/>
                    <a:pt x="14" y="1662"/>
                    <a:pt x="14" y="1658"/>
                  </a:cubicBezTo>
                  <a:cubicBezTo>
                    <a:pt x="12" y="1637"/>
                    <a:pt x="21" y="1616"/>
                    <a:pt x="33" y="1599"/>
                  </a:cubicBezTo>
                  <a:cubicBezTo>
                    <a:pt x="46" y="1581"/>
                    <a:pt x="63" y="1565"/>
                    <a:pt x="80" y="1549"/>
                  </a:cubicBezTo>
                  <a:cubicBezTo>
                    <a:pt x="96" y="1534"/>
                    <a:pt x="114" y="1518"/>
                    <a:pt x="130" y="1499"/>
                  </a:cubicBezTo>
                  <a:cubicBezTo>
                    <a:pt x="138" y="1490"/>
                    <a:pt x="145" y="1480"/>
                    <a:pt x="151" y="1469"/>
                  </a:cubicBezTo>
                  <a:cubicBezTo>
                    <a:pt x="156" y="1459"/>
                    <a:pt x="160" y="1449"/>
                    <a:pt x="161" y="1438"/>
                  </a:cubicBezTo>
                  <a:cubicBezTo>
                    <a:pt x="161" y="1436"/>
                    <a:pt x="161" y="1433"/>
                    <a:pt x="161" y="1431"/>
                  </a:cubicBezTo>
                  <a:cubicBezTo>
                    <a:pt x="160" y="1425"/>
                    <a:pt x="160" y="1420"/>
                    <a:pt x="162" y="1415"/>
                  </a:cubicBezTo>
                  <a:cubicBezTo>
                    <a:pt x="161" y="1413"/>
                    <a:pt x="161" y="1412"/>
                    <a:pt x="161" y="1411"/>
                  </a:cubicBezTo>
                  <a:cubicBezTo>
                    <a:pt x="159" y="1404"/>
                    <a:pt x="157" y="1398"/>
                    <a:pt x="154" y="1392"/>
                  </a:cubicBezTo>
                  <a:cubicBezTo>
                    <a:pt x="148" y="1381"/>
                    <a:pt x="141" y="1371"/>
                    <a:pt x="133" y="1361"/>
                  </a:cubicBezTo>
                  <a:cubicBezTo>
                    <a:pt x="118" y="1343"/>
                    <a:pt x="100" y="1327"/>
                    <a:pt x="83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6" y="1255"/>
                    <a:pt x="20" y="1247"/>
                    <a:pt x="15" y="1238"/>
                  </a:cubicBezTo>
                  <a:cubicBezTo>
                    <a:pt x="15" y="1235"/>
                    <a:pt x="14" y="1232"/>
                    <a:pt x="14" y="1228"/>
                  </a:cubicBezTo>
                  <a:cubicBezTo>
                    <a:pt x="12" y="1207"/>
                    <a:pt x="21" y="1187"/>
                    <a:pt x="33" y="1169"/>
                  </a:cubicBezTo>
                  <a:cubicBezTo>
                    <a:pt x="46" y="1152"/>
                    <a:pt x="63" y="1136"/>
                    <a:pt x="80" y="1120"/>
                  </a:cubicBezTo>
                  <a:cubicBezTo>
                    <a:pt x="96" y="1104"/>
                    <a:pt x="114" y="1089"/>
                    <a:pt x="130" y="1070"/>
                  </a:cubicBezTo>
                  <a:cubicBezTo>
                    <a:pt x="138" y="1061"/>
                    <a:pt x="145" y="1051"/>
                    <a:pt x="151" y="1039"/>
                  </a:cubicBezTo>
                  <a:cubicBezTo>
                    <a:pt x="156" y="1030"/>
                    <a:pt x="160" y="1020"/>
                    <a:pt x="161" y="1009"/>
                  </a:cubicBezTo>
                  <a:cubicBezTo>
                    <a:pt x="161" y="1006"/>
                    <a:pt x="161" y="1004"/>
                    <a:pt x="161" y="1001"/>
                  </a:cubicBezTo>
                  <a:cubicBezTo>
                    <a:pt x="160" y="996"/>
                    <a:pt x="160" y="991"/>
                    <a:pt x="162" y="985"/>
                  </a:cubicBezTo>
                  <a:cubicBezTo>
                    <a:pt x="161" y="984"/>
                    <a:pt x="161" y="983"/>
                    <a:pt x="161" y="982"/>
                  </a:cubicBezTo>
                  <a:cubicBezTo>
                    <a:pt x="159" y="975"/>
                    <a:pt x="157" y="969"/>
                    <a:pt x="154" y="963"/>
                  </a:cubicBezTo>
                  <a:cubicBezTo>
                    <a:pt x="148" y="951"/>
                    <a:pt x="141" y="941"/>
                    <a:pt x="133" y="932"/>
                  </a:cubicBezTo>
                  <a:cubicBezTo>
                    <a:pt x="118" y="913"/>
                    <a:pt x="100" y="897"/>
                    <a:pt x="83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7" y="827"/>
                    <a:pt x="21" y="819"/>
                    <a:pt x="17" y="811"/>
                  </a:cubicBezTo>
                  <a:cubicBezTo>
                    <a:pt x="15" y="806"/>
                    <a:pt x="14" y="801"/>
                    <a:pt x="14" y="795"/>
                  </a:cubicBezTo>
                  <a:cubicBezTo>
                    <a:pt x="12" y="774"/>
                    <a:pt x="21" y="754"/>
                    <a:pt x="33" y="737"/>
                  </a:cubicBezTo>
                  <a:cubicBezTo>
                    <a:pt x="46" y="719"/>
                    <a:pt x="63" y="703"/>
                    <a:pt x="80" y="687"/>
                  </a:cubicBezTo>
                  <a:cubicBezTo>
                    <a:pt x="96" y="671"/>
                    <a:pt x="114" y="656"/>
                    <a:pt x="130" y="637"/>
                  </a:cubicBezTo>
                  <a:cubicBezTo>
                    <a:pt x="138" y="628"/>
                    <a:pt x="145" y="618"/>
                    <a:pt x="151" y="607"/>
                  </a:cubicBezTo>
                  <a:cubicBezTo>
                    <a:pt x="156" y="597"/>
                    <a:pt x="160" y="587"/>
                    <a:pt x="161" y="576"/>
                  </a:cubicBezTo>
                  <a:cubicBezTo>
                    <a:pt x="161" y="573"/>
                    <a:pt x="161" y="571"/>
                    <a:pt x="161" y="569"/>
                  </a:cubicBezTo>
                  <a:cubicBezTo>
                    <a:pt x="160" y="563"/>
                    <a:pt x="160" y="558"/>
                    <a:pt x="162" y="553"/>
                  </a:cubicBezTo>
                  <a:cubicBezTo>
                    <a:pt x="161" y="551"/>
                    <a:pt x="161" y="550"/>
                    <a:pt x="161" y="549"/>
                  </a:cubicBezTo>
                  <a:cubicBezTo>
                    <a:pt x="159" y="542"/>
                    <a:pt x="157" y="536"/>
                    <a:pt x="154" y="530"/>
                  </a:cubicBezTo>
                  <a:cubicBezTo>
                    <a:pt x="148" y="519"/>
                    <a:pt x="141" y="509"/>
                    <a:pt x="133" y="499"/>
                  </a:cubicBezTo>
                  <a:cubicBezTo>
                    <a:pt x="118" y="481"/>
                    <a:pt x="100" y="465"/>
                    <a:pt x="83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7" y="394"/>
                    <a:pt x="21" y="386"/>
                    <a:pt x="17" y="379"/>
                  </a:cubicBezTo>
                  <a:cubicBezTo>
                    <a:pt x="15" y="373"/>
                    <a:pt x="14" y="368"/>
                    <a:pt x="14" y="363"/>
                  </a:cubicBezTo>
                  <a:cubicBezTo>
                    <a:pt x="12" y="342"/>
                    <a:pt x="21" y="322"/>
                    <a:pt x="33" y="304"/>
                  </a:cubicBezTo>
                  <a:cubicBezTo>
                    <a:pt x="46" y="286"/>
                    <a:pt x="63" y="270"/>
                    <a:pt x="80" y="254"/>
                  </a:cubicBezTo>
                  <a:cubicBezTo>
                    <a:pt x="96" y="239"/>
                    <a:pt x="114" y="223"/>
                    <a:pt x="130" y="204"/>
                  </a:cubicBezTo>
                  <a:cubicBezTo>
                    <a:pt x="138" y="195"/>
                    <a:pt x="145" y="185"/>
                    <a:pt x="151" y="174"/>
                  </a:cubicBezTo>
                  <a:cubicBezTo>
                    <a:pt x="156" y="164"/>
                    <a:pt x="160" y="154"/>
                    <a:pt x="161" y="143"/>
                  </a:cubicBezTo>
                  <a:cubicBezTo>
                    <a:pt x="161" y="141"/>
                    <a:pt x="161" y="138"/>
                    <a:pt x="161" y="136"/>
                  </a:cubicBezTo>
                  <a:cubicBezTo>
                    <a:pt x="160" y="130"/>
                    <a:pt x="160" y="125"/>
                    <a:pt x="162" y="120"/>
                  </a:cubicBezTo>
                  <a:cubicBezTo>
                    <a:pt x="161" y="119"/>
                    <a:pt x="161" y="117"/>
                    <a:pt x="161" y="116"/>
                  </a:cubicBezTo>
                  <a:cubicBezTo>
                    <a:pt x="159" y="109"/>
                    <a:pt x="157" y="103"/>
                    <a:pt x="154" y="97"/>
                  </a:cubicBezTo>
                  <a:cubicBezTo>
                    <a:pt x="148" y="86"/>
                    <a:pt x="141" y="76"/>
                    <a:pt x="133" y="66"/>
                  </a:cubicBezTo>
                  <a:cubicBezTo>
                    <a:pt x="118" y="48"/>
                    <a:pt x="100" y="32"/>
                    <a:pt x="83" y="16"/>
                  </a:cubicBezTo>
                  <a:cubicBezTo>
                    <a:pt x="77" y="11"/>
                    <a:pt x="71" y="5"/>
                    <a:pt x="65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58" y="8"/>
                    <a:pt x="67" y="16"/>
                    <a:pt x="75" y="24"/>
                  </a:cubicBezTo>
                  <a:cubicBezTo>
                    <a:pt x="92" y="40"/>
                    <a:pt x="109" y="56"/>
                    <a:pt x="124" y="74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" name="Freeform 9"/>
            <p:cNvSpPr/>
            <p:nvPr/>
          </p:nvSpPr>
          <p:spPr>
            <a:xfrm>
              <a:off x="7612200" y="-1440"/>
              <a:ext cx="1026720" cy="6862320"/>
            </a:xfrm>
            <a:custGeom>
              <a:avLst/>
              <a:gdLst>
                <a:gd name="textAreaLeft" fmla="*/ 0 w 1026720"/>
                <a:gd name="textAreaRight" fmla="*/ 1027080 w 102672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323" h="2159">
                  <a:moveTo>
                    <a:pt x="125" y="74"/>
                  </a:moveTo>
                  <a:cubicBezTo>
                    <a:pt x="132" y="83"/>
                    <a:pt x="139" y="92"/>
                    <a:pt x="144" y="103"/>
                  </a:cubicBezTo>
                  <a:cubicBezTo>
                    <a:pt x="148" y="111"/>
                    <a:pt x="151" y="121"/>
                    <a:pt x="151" y="131"/>
                  </a:cubicBezTo>
                  <a:cubicBezTo>
                    <a:pt x="151" y="131"/>
                    <a:pt x="151" y="131"/>
                    <a:pt x="151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2" y="197"/>
                    <a:pt x="121" y="197"/>
                  </a:cubicBezTo>
                  <a:cubicBezTo>
                    <a:pt x="107" y="215"/>
                    <a:pt x="89" y="230"/>
                    <a:pt x="72" y="246"/>
                  </a:cubicBezTo>
                  <a:cubicBezTo>
                    <a:pt x="56" y="262"/>
                    <a:pt x="39" y="279"/>
                    <a:pt x="25" y="298"/>
                  </a:cubicBezTo>
                  <a:cubicBezTo>
                    <a:pt x="24" y="300"/>
                    <a:pt x="22" y="302"/>
                    <a:pt x="21" y="305"/>
                  </a:cubicBezTo>
                  <a:cubicBezTo>
                    <a:pt x="19" y="307"/>
                    <a:pt x="17" y="310"/>
                    <a:pt x="15" y="313"/>
                  </a:cubicBezTo>
                  <a:cubicBezTo>
                    <a:pt x="9" y="322"/>
                    <a:pt x="4" y="333"/>
                    <a:pt x="2" y="345"/>
                  </a:cubicBezTo>
                  <a:cubicBezTo>
                    <a:pt x="1" y="351"/>
                    <a:pt x="0" y="357"/>
                    <a:pt x="1" y="363"/>
                  </a:cubicBezTo>
                  <a:cubicBezTo>
                    <a:pt x="2" y="369"/>
                    <a:pt x="3" y="374"/>
                    <a:pt x="6" y="379"/>
                  </a:cubicBezTo>
                  <a:cubicBezTo>
                    <a:pt x="8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3" y="404"/>
                    <a:pt x="26" y="408"/>
                  </a:cubicBezTo>
                  <a:cubicBezTo>
                    <a:pt x="42" y="426"/>
                    <a:pt x="59" y="441"/>
                    <a:pt x="76" y="457"/>
                  </a:cubicBezTo>
                  <a:cubicBezTo>
                    <a:pt x="93" y="473"/>
                    <a:pt x="110" y="489"/>
                    <a:pt x="125" y="507"/>
                  </a:cubicBezTo>
                  <a:cubicBezTo>
                    <a:pt x="132" y="516"/>
                    <a:pt x="139" y="525"/>
                    <a:pt x="144" y="535"/>
                  </a:cubicBezTo>
                  <a:cubicBezTo>
                    <a:pt x="148" y="544"/>
                    <a:pt x="151" y="554"/>
                    <a:pt x="151" y="564"/>
                  </a:cubicBezTo>
                  <a:cubicBezTo>
                    <a:pt x="151" y="564"/>
                    <a:pt x="151" y="564"/>
                    <a:pt x="151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5"/>
                    <a:pt x="122" y="629"/>
                  </a:cubicBezTo>
                  <a:cubicBezTo>
                    <a:pt x="122" y="629"/>
                    <a:pt x="122" y="629"/>
                    <a:pt x="121" y="630"/>
                  </a:cubicBezTo>
                  <a:cubicBezTo>
                    <a:pt x="107" y="648"/>
                    <a:pt x="89" y="663"/>
                    <a:pt x="72" y="679"/>
                  </a:cubicBezTo>
                  <a:cubicBezTo>
                    <a:pt x="56" y="695"/>
                    <a:pt x="39" y="711"/>
                    <a:pt x="25" y="730"/>
                  </a:cubicBezTo>
                  <a:cubicBezTo>
                    <a:pt x="24" y="733"/>
                    <a:pt x="22" y="735"/>
                    <a:pt x="21" y="737"/>
                  </a:cubicBezTo>
                  <a:cubicBezTo>
                    <a:pt x="19" y="740"/>
                    <a:pt x="17" y="743"/>
                    <a:pt x="15" y="745"/>
                  </a:cubicBezTo>
                  <a:cubicBezTo>
                    <a:pt x="9" y="755"/>
                    <a:pt x="4" y="766"/>
                    <a:pt x="2" y="778"/>
                  </a:cubicBezTo>
                  <a:cubicBezTo>
                    <a:pt x="1" y="784"/>
                    <a:pt x="0" y="789"/>
                    <a:pt x="1" y="795"/>
                  </a:cubicBezTo>
                  <a:cubicBezTo>
                    <a:pt x="2" y="801"/>
                    <a:pt x="3" y="807"/>
                    <a:pt x="6" y="812"/>
                  </a:cubicBezTo>
                  <a:cubicBezTo>
                    <a:pt x="8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3" y="837"/>
                    <a:pt x="26" y="841"/>
                  </a:cubicBezTo>
                  <a:cubicBezTo>
                    <a:pt x="42" y="858"/>
                    <a:pt x="59" y="874"/>
                    <a:pt x="76" y="890"/>
                  </a:cubicBezTo>
                  <a:cubicBezTo>
                    <a:pt x="93" y="906"/>
                    <a:pt x="110" y="922"/>
                    <a:pt x="125" y="939"/>
                  </a:cubicBezTo>
                  <a:cubicBezTo>
                    <a:pt x="132" y="948"/>
                    <a:pt x="139" y="958"/>
                    <a:pt x="144" y="968"/>
                  </a:cubicBezTo>
                  <a:cubicBezTo>
                    <a:pt x="148" y="976"/>
                    <a:pt x="150" y="984"/>
                    <a:pt x="151" y="993"/>
                  </a:cubicBezTo>
                  <a:cubicBezTo>
                    <a:pt x="151" y="993"/>
                    <a:pt x="151" y="993"/>
                    <a:pt x="151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9" y="1065"/>
                    <a:pt x="103" y="1082"/>
                    <a:pt x="86" y="1098"/>
                  </a:cubicBezTo>
                  <a:cubicBezTo>
                    <a:pt x="70" y="1114"/>
                    <a:pt x="52" y="1130"/>
                    <a:pt x="37" y="1147"/>
                  </a:cubicBezTo>
                  <a:cubicBezTo>
                    <a:pt x="29" y="1156"/>
                    <a:pt x="21" y="1165"/>
                    <a:pt x="15" y="1175"/>
                  </a:cubicBezTo>
                  <a:cubicBezTo>
                    <a:pt x="9" y="1185"/>
                    <a:pt x="4" y="1195"/>
                    <a:pt x="2" y="1207"/>
                  </a:cubicBezTo>
                  <a:cubicBezTo>
                    <a:pt x="1" y="1213"/>
                    <a:pt x="0" y="1219"/>
                    <a:pt x="1" y="1225"/>
                  </a:cubicBezTo>
                  <a:cubicBezTo>
                    <a:pt x="2" y="1231"/>
                    <a:pt x="3" y="1236"/>
                    <a:pt x="6" y="1242"/>
                  </a:cubicBezTo>
                  <a:cubicBezTo>
                    <a:pt x="7" y="1243"/>
                    <a:pt x="7" y="1244"/>
                    <a:pt x="8" y="1245"/>
                  </a:cubicBezTo>
                  <a:cubicBezTo>
                    <a:pt x="10" y="1251"/>
                    <a:pt x="12" y="1256"/>
                    <a:pt x="15" y="1261"/>
                  </a:cubicBezTo>
                  <a:cubicBezTo>
                    <a:pt x="19" y="1261"/>
                    <a:pt x="19" y="1261"/>
                    <a:pt x="19" y="1261"/>
                  </a:cubicBezTo>
                  <a:cubicBezTo>
                    <a:pt x="21" y="1264"/>
                    <a:pt x="24" y="1267"/>
                    <a:pt x="26" y="1270"/>
                  </a:cubicBezTo>
                  <a:cubicBezTo>
                    <a:pt x="42" y="1288"/>
                    <a:pt x="59" y="1303"/>
                    <a:pt x="76" y="1319"/>
                  </a:cubicBezTo>
                  <a:cubicBezTo>
                    <a:pt x="93" y="1335"/>
                    <a:pt x="110" y="1351"/>
                    <a:pt x="125" y="1369"/>
                  </a:cubicBezTo>
                  <a:cubicBezTo>
                    <a:pt x="132" y="1378"/>
                    <a:pt x="139" y="1387"/>
                    <a:pt x="144" y="1398"/>
                  </a:cubicBezTo>
                  <a:cubicBezTo>
                    <a:pt x="148" y="1406"/>
                    <a:pt x="151" y="1415"/>
                    <a:pt x="151" y="1425"/>
                  </a:cubicBezTo>
                  <a:cubicBezTo>
                    <a:pt x="151" y="1425"/>
                    <a:pt x="151" y="1425"/>
                    <a:pt x="151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6" y="1485"/>
                    <a:pt x="120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3" y="1595"/>
                    <a:pt x="19" y="1600"/>
                    <a:pt x="15" y="1606"/>
                  </a:cubicBezTo>
                  <a:cubicBezTo>
                    <a:pt x="9" y="1616"/>
                    <a:pt x="4" y="1627"/>
                    <a:pt x="2" y="1639"/>
                  </a:cubicBezTo>
                  <a:cubicBezTo>
                    <a:pt x="1" y="1644"/>
                    <a:pt x="0" y="1650"/>
                    <a:pt x="1" y="1656"/>
                  </a:cubicBezTo>
                  <a:cubicBezTo>
                    <a:pt x="2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1" y="1681"/>
                  </a:cubicBezTo>
                  <a:cubicBezTo>
                    <a:pt x="12" y="1685"/>
                    <a:pt x="13" y="1688"/>
                    <a:pt x="15" y="1691"/>
                  </a:cubicBezTo>
                  <a:cubicBezTo>
                    <a:pt x="17" y="1691"/>
                    <a:pt x="17" y="1691"/>
                    <a:pt x="17" y="1691"/>
                  </a:cubicBezTo>
                  <a:cubicBezTo>
                    <a:pt x="20" y="1694"/>
                    <a:pt x="23" y="1698"/>
                    <a:pt x="26" y="1702"/>
                  </a:cubicBezTo>
                  <a:cubicBezTo>
                    <a:pt x="42" y="1719"/>
                    <a:pt x="59" y="1735"/>
                    <a:pt x="76" y="1751"/>
                  </a:cubicBezTo>
                  <a:cubicBezTo>
                    <a:pt x="93" y="1767"/>
                    <a:pt x="110" y="1783"/>
                    <a:pt x="125" y="1800"/>
                  </a:cubicBezTo>
                  <a:cubicBezTo>
                    <a:pt x="132" y="1809"/>
                    <a:pt x="139" y="1819"/>
                    <a:pt x="144" y="1829"/>
                  </a:cubicBezTo>
                  <a:cubicBezTo>
                    <a:pt x="148" y="1837"/>
                    <a:pt x="150" y="1846"/>
                    <a:pt x="151" y="1855"/>
                  </a:cubicBezTo>
                  <a:cubicBezTo>
                    <a:pt x="151" y="1855"/>
                    <a:pt x="151" y="1855"/>
                    <a:pt x="151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8" y="1959"/>
                    <a:pt x="80" y="1966"/>
                    <a:pt x="72" y="1973"/>
                  </a:cubicBezTo>
                  <a:cubicBezTo>
                    <a:pt x="61" y="1984"/>
                    <a:pt x="49" y="1995"/>
                    <a:pt x="39" y="2007"/>
                  </a:cubicBezTo>
                  <a:cubicBezTo>
                    <a:pt x="38" y="2008"/>
                    <a:pt x="37" y="2008"/>
                    <a:pt x="37" y="2009"/>
                  </a:cubicBezTo>
                  <a:cubicBezTo>
                    <a:pt x="29" y="2018"/>
                    <a:pt x="21" y="2027"/>
                    <a:pt x="15" y="2037"/>
                  </a:cubicBezTo>
                  <a:cubicBezTo>
                    <a:pt x="9" y="2047"/>
                    <a:pt x="4" y="2057"/>
                    <a:pt x="2" y="2069"/>
                  </a:cubicBezTo>
                  <a:cubicBezTo>
                    <a:pt x="1" y="2075"/>
                    <a:pt x="0" y="2081"/>
                    <a:pt x="1" y="2087"/>
                  </a:cubicBezTo>
                  <a:cubicBezTo>
                    <a:pt x="2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1" y="2114"/>
                    <a:pt x="13" y="2118"/>
                    <a:pt x="15" y="2122"/>
                  </a:cubicBezTo>
                  <a:cubicBezTo>
                    <a:pt x="18" y="2122"/>
                    <a:pt x="18" y="2122"/>
                    <a:pt x="18" y="2122"/>
                  </a:cubicBezTo>
                  <a:cubicBezTo>
                    <a:pt x="21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5" y="2137"/>
                    <a:pt x="34" y="2125"/>
                  </a:cubicBezTo>
                  <a:cubicBezTo>
                    <a:pt x="27" y="2117"/>
                    <a:pt x="21" y="2109"/>
                    <a:pt x="16" y="2101"/>
                  </a:cubicBezTo>
                  <a:cubicBezTo>
                    <a:pt x="15" y="2097"/>
                    <a:pt x="15" y="2093"/>
                    <a:pt x="14" y="2089"/>
                  </a:cubicBezTo>
                  <a:cubicBezTo>
                    <a:pt x="13" y="2068"/>
                    <a:pt x="21" y="2048"/>
                    <a:pt x="34" y="2030"/>
                  </a:cubicBezTo>
                  <a:cubicBezTo>
                    <a:pt x="47" y="2012"/>
                    <a:pt x="63" y="1997"/>
                    <a:pt x="80" y="1981"/>
                  </a:cubicBezTo>
                  <a:cubicBezTo>
                    <a:pt x="97" y="1965"/>
                    <a:pt x="115" y="1949"/>
                    <a:pt x="130" y="1931"/>
                  </a:cubicBezTo>
                  <a:cubicBezTo>
                    <a:pt x="138" y="1922"/>
                    <a:pt x="146" y="1912"/>
                    <a:pt x="151" y="1900"/>
                  </a:cubicBezTo>
                  <a:cubicBezTo>
                    <a:pt x="157" y="1889"/>
                    <a:pt x="162" y="1877"/>
                    <a:pt x="163" y="1863"/>
                  </a:cubicBezTo>
                  <a:cubicBezTo>
                    <a:pt x="163" y="1862"/>
                    <a:pt x="163" y="1860"/>
                    <a:pt x="163" y="1859"/>
                  </a:cubicBezTo>
                  <a:cubicBezTo>
                    <a:pt x="163" y="1860"/>
                    <a:pt x="163" y="1861"/>
                    <a:pt x="163" y="1862"/>
                  </a:cubicBezTo>
                  <a:cubicBezTo>
                    <a:pt x="164" y="1874"/>
                    <a:pt x="168" y="1886"/>
                    <a:pt x="173" y="1896"/>
                  </a:cubicBezTo>
                  <a:cubicBezTo>
                    <a:pt x="179" y="1907"/>
                    <a:pt x="186" y="1916"/>
                    <a:pt x="193" y="1925"/>
                  </a:cubicBezTo>
                  <a:cubicBezTo>
                    <a:pt x="208" y="1943"/>
                    <a:pt x="226" y="1958"/>
                    <a:pt x="242" y="1974"/>
                  </a:cubicBezTo>
                  <a:cubicBezTo>
                    <a:pt x="243" y="1975"/>
                    <a:pt x="243" y="1975"/>
                    <a:pt x="244" y="1975"/>
                  </a:cubicBezTo>
                  <a:cubicBezTo>
                    <a:pt x="250" y="1982"/>
                    <a:pt x="257" y="1988"/>
                    <a:pt x="264" y="1995"/>
                  </a:cubicBezTo>
                  <a:cubicBezTo>
                    <a:pt x="273" y="2004"/>
                    <a:pt x="282" y="2014"/>
                    <a:pt x="290" y="2025"/>
                  </a:cubicBezTo>
                  <a:cubicBezTo>
                    <a:pt x="296" y="2035"/>
                    <a:pt x="302" y="2045"/>
                    <a:pt x="306" y="2056"/>
                  </a:cubicBezTo>
                  <a:cubicBezTo>
                    <a:pt x="309" y="2067"/>
                    <a:pt x="311" y="2078"/>
                    <a:pt x="310" y="2090"/>
                  </a:cubicBezTo>
                  <a:cubicBezTo>
                    <a:pt x="309" y="2096"/>
                    <a:pt x="308" y="2102"/>
                    <a:pt x="306" y="2108"/>
                  </a:cubicBezTo>
                  <a:cubicBezTo>
                    <a:pt x="301" y="2116"/>
                    <a:pt x="295" y="2124"/>
                    <a:pt x="289" y="2131"/>
                  </a:cubicBezTo>
                  <a:cubicBezTo>
                    <a:pt x="280" y="2141"/>
                    <a:pt x="271" y="2150"/>
                    <a:pt x="261" y="2159"/>
                  </a:cubicBezTo>
                  <a:cubicBezTo>
                    <a:pt x="277" y="2159"/>
                    <a:pt x="277" y="2159"/>
                    <a:pt x="277" y="2159"/>
                  </a:cubicBezTo>
                  <a:cubicBezTo>
                    <a:pt x="284" y="2152"/>
                    <a:pt x="290" y="2145"/>
                    <a:pt x="297" y="2138"/>
                  </a:cubicBezTo>
                  <a:cubicBezTo>
                    <a:pt x="301" y="2133"/>
                    <a:pt x="305" y="2128"/>
                    <a:pt x="309" y="2122"/>
                  </a:cubicBezTo>
                  <a:cubicBezTo>
                    <a:pt x="309" y="2122"/>
                    <a:pt x="309" y="2122"/>
                    <a:pt x="309" y="2122"/>
                  </a:cubicBezTo>
                  <a:cubicBezTo>
                    <a:pt x="310" y="2122"/>
                    <a:pt x="310" y="2121"/>
                    <a:pt x="310" y="2120"/>
                  </a:cubicBezTo>
                  <a:cubicBezTo>
                    <a:pt x="313" y="2116"/>
                    <a:pt x="316" y="2112"/>
                    <a:pt x="318" y="2107"/>
                  </a:cubicBezTo>
                  <a:cubicBezTo>
                    <a:pt x="320" y="2102"/>
                    <a:pt x="322" y="2097"/>
                    <a:pt x="323" y="2092"/>
                  </a:cubicBezTo>
                  <a:cubicBezTo>
                    <a:pt x="323" y="2090"/>
                    <a:pt x="322" y="2088"/>
                    <a:pt x="322" y="2087"/>
                  </a:cubicBezTo>
                  <a:cubicBezTo>
                    <a:pt x="321" y="2081"/>
                    <a:pt x="322" y="2076"/>
                    <a:pt x="323" y="2071"/>
                  </a:cubicBezTo>
                  <a:cubicBezTo>
                    <a:pt x="323" y="2070"/>
                    <a:pt x="322" y="2069"/>
                    <a:pt x="322" y="2068"/>
                  </a:cubicBezTo>
                  <a:cubicBezTo>
                    <a:pt x="320" y="2055"/>
                    <a:pt x="314" y="2043"/>
                    <a:pt x="307" y="2033"/>
                  </a:cubicBezTo>
                  <a:cubicBezTo>
                    <a:pt x="306" y="2032"/>
                    <a:pt x="305" y="2030"/>
                    <a:pt x="304" y="2029"/>
                  </a:cubicBezTo>
                  <a:cubicBezTo>
                    <a:pt x="302" y="2026"/>
                    <a:pt x="300" y="2022"/>
                    <a:pt x="298" y="2019"/>
                  </a:cubicBezTo>
                  <a:cubicBezTo>
                    <a:pt x="284" y="1999"/>
                    <a:pt x="267" y="1982"/>
                    <a:pt x="250" y="1966"/>
                  </a:cubicBezTo>
                  <a:cubicBezTo>
                    <a:pt x="233" y="1950"/>
                    <a:pt x="216" y="1935"/>
                    <a:pt x="202" y="1917"/>
                  </a:cubicBezTo>
                  <a:cubicBezTo>
                    <a:pt x="188" y="1901"/>
                    <a:pt x="177" y="1881"/>
                    <a:pt x="175" y="1861"/>
                  </a:cubicBezTo>
                  <a:cubicBezTo>
                    <a:pt x="174" y="1852"/>
                    <a:pt x="177" y="1843"/>
                    <a:pt x="181" y="1833"/>
                  </a:cubicBezTo>
                  <a:cubicBezTo>
                    <a:pt x="186" y="1824"/>
                    <a:pt x="192" y="1815"/>
                    <a:pt x="199" y="1806"/>
                  </a:cubicBezTo>
                  <a:cubicBezTo>
                    <a:pt x="213" y="1789"/>
                    <a:pt x="230" y="1773"/>
                    <a:pt x="246" y="1757"/>
                  </a:cubicBezTo>
                  <a:cubicBezTo>
                    <a:pt x="263" y="1741"/>
                    <a:pt x="281" y="1726"/>
                    <a:pt x="297" y="1708"/>
                  </a:cubicBezTo>
                  <a:cubicBezTo>
                    <a:pt x="304" y="1698"/>
                    <a:pt x="312" y="1689"/>
                    <a:pt x="318" y="1677"/>
                  </a:cubicBezTo>
                  <a:cubicBezTo>
                    <a:pt x="320" y="1672"/>
                    <a:pt x="322" y="1667"/>
                    <a:pt x="323" y="1661"/>
                  </a:cubicBezTo>
                  <a:cubicBezTo>
                    <a:pt x="323" y="1660"/>
                    <a:pt x="322" y="1658"/>
                    <a:pt x="322" y="1656"/>
                  </a:cubicBezTo>
                  <a:cubicBezTo>
                    <a:pt x="321" y="1651"/>
                    <a:pt x="322" y="1646"/>
                    <a:pt x="323" y="1640"/>
                  </a:cubicBezTo>
                  <a:cubicBezTo>
                    <a:pt x="323" y="1639"/>
                    <a:pt x="322" y="1638"/>
                    <a:pt x="322" y="1637"/>
                  </a:cubicBezTo>
                  <a:cubicBezTo>
                    <a:pt x="320" y="1625"/>
                    <a:pt x="315" y="1614"/>
                    <a:pt x="308" y="1604"/>
                  </a:cubicBezTo>
                  <a:cubicBezTo>
                    <a:pt x="305" y="1599"/>
                    <a:pt x="302" y="1593"/>
                    <a:pt x="298" y="1588"/>
                  </a:cubicBezTo>
                  <a:cubicBezTo>
                    <a:pt x="284" y="1567"/>
                    <a:pt x="267" y="1551"/>
                    <a:pt x="250" y="1535"/>
                  </a:cubicBezTo>
                  <a:cubicBezTo>
                    <a:pt x="233" y="1519"/>
                    <a:pt x="216" y="1503"/>
                    <a:pt x="202" y="1486"/>
                  </a:cubicBezTo>
                  <a:cubicBezTo>
                    <a:pt x="188" y="1469"/>
                    <a:pt x="177" y="1450"/>
                    <a:pt x="175" y="1430"/>
                  </a:cubicBezTo>
                  <a:cubicBezTo>
                    <a:pt x="174" y="1421"/>
                    <a:pt x="177" y="1411"/>
                    <a:pt x="181" y="1402"/>
                  </a:cubicBezTo>
                  <a:cubicBezTo>
                    <a:pt x="186" y="1392"/>
                    <a:pt x="192" y="1383"/>
                    <a:pt x="199" y="1375"/>
                  </a:cubicBezTo>
                  <a:cubicBezTo>
                    <a:pt x="213" y="1357"/>
                    <a:pt x="230" y="1342"/>
                    <a:pt x="246" y="1326"/>
                  </a:cubicBezTo>
                  <a:cubicBezTo>
                    <a:pt x="263" y="1310"/>
                    <a:pt x="281" y="1294"/>
                    <a:pt x="297" y="1276"/>
                  </a:cubicBezTo>
                  <a:cubicBezTo>
                    <a:pt x="301" y="1271"/>
                    <a:pt x="305" y="1266"/>
                    <a:pt x="308" y="1261"/>
                  </a:cubicBezTo>
                  <a:cubicBezTo>
                    <a:pt x="309" y="1261"/>
                    <a:pt x="309" y="1261"/>
                    <a:pt x="309" y="1261"/>
                  </a:cubicBezTo>
                  <a:cubicBezTo>
                    <a:pt x="310" y="1259"/>
                    <a:pt x="311" y="1258"/>
                    <a:pt x="312" y="1256"/>
                  </a:cubicBezTo>
                  <a:cubicBezTo>
                    <a:pt x="314" y="1252"/>
                    <a:pt x="316" y="1249"/>
                    <a:pt x="318" y="1245"/>
                  </a:cubicBezTo>
                  <a:cubicBezTo>
                    <a:pt x="320" y="1240"/>
                    <a:pt x="322" y="1235"/>
                    <a:pt x="323" y="1230"/>
                  </a:cubicBezTo>
                  <a:cubicBezTo>
                    <a:pt x="323" y="1228"/>
                    <a:pt x="322" y="1226"/>
                    <a:pt x="322" y="1225"/>
                  </a:cubicBezTo>
                  <a:cubicBezTo>
                    <a:pt x="321" y="1219"/>
                    <a:pt x="322" y="1214"/>
                    <a:pt x="323" y="1209"/>
                  </a:cubicBezTo>
                  <a:cubicBezTo>
                    <a:pt x="323" y="1208"/>
                    <a:pt x="322" y="1207"/>
                    <a:pt x="322" y="1206"/>
                  </a:cubicBezTo>
                  <a:cubicBezTo>
                    <a:pt x="320" y="1193"/>
                    <a:pt x="314" y="1181"/>
                    <a:pt x="307" y="1171"/>
                  </a:cubicBezTo>
                  <a:cubicBezTo>
                    <a:pt x="305" y="1168"/>
                    <a:pt x="302" y="1164"/>
                    <a:pt x="300" y="1161"/>
                  </a:cubicBezTo>
                  <a:cubicBezTo>
                    <a:pt x="299" y="1160"/>
                    <a:pt x="299" y="1159"/>
                    <a:pt x="298" y="1158"/>
                  </a:cubicBezTo>
                  <a:cubicBezTo>
                    <a:pt x="284" y="1138"/>
                    <a:pt x="267" y="1122"/>
                    <a:pt x="250" y="1105"/>
                  </a:cubicBezTo>
                  <a:cubicBezTo>
                    <a:pt x="233" y="1089"/>
                    <a:pt x="216" y="1074"/>
                    <a:pt x="202" y="1057"/>
                  </a:cubicBezTo>
                  <a:cubicBezTo>
                    <a:pt x="188" y="1040"/>
                    <a:pt x="177" y="1020"/>
                    <a:pt x="175" y="1000"/>
                  </a:cubicBezTo>
                  <a:cubicBezTo>
                    <a:pt x="174" y="991"/>
                    <a:pt x="177" y="982"/>
                    <a:pt x="181" y="972"/>
                  </a:cubicBezTo>
                  <a:cubicBezTo>
                    <a:pt x="186" y="963"/>
                    <a:pt x="192" y="954"/>
                    <a:pt x="199" y="945"/>
                  </a:cubicBezTo>
                  <a:cubicBezTo>
                    <a:pt x="213" y="928"/>
                    <a:pt x="230" y="912"/>
                    <a:pt x="246" y="896"/>
                  </a:cubicBezTo>
                  <a:cubicBezTo>
                    <a:pt x="263" y="880"/>
                    <a:pt x="281" y="865"/>
                    <a:pt x="297" y="847"/>
                  </a:cubicBezTo>
                  <a:cubicBezTo>
                    <a:pt x="304" y="837"/>
                    <a:pt x="312" y="828"/>
                    <a:pt x="318" y="816"/>
                  </a:cubicBezTo>
                  <a:cubicBezTo>
                    <a:pt x="320" y="811"/>
                    <a:pt x="322" y="806"/>
                    <a:pt x="323" y="800"/>
                  </a:cubicBezTo>
                  <a:cubicBezTo>
                    <a:pt x="323" y="799"/>
                    <a:pt x="322" y="797"/>
                    <a:pt x="322" y="795"/>
                  </a:cubicBezTo>
                  <a:cubicBezTo>
                    <a:pt x="321" y="790"/>
                    <a:pt x="322" y="785"/>
                    <a:pt x="323" y="779"/>
                  </a:cubicBezTo>
                  <a:cubicBezTo>
                    <a:pt x="323" y="778"/>
                    <a:pt x="322" y="777"/>
                    <a:pt x="322" y="776"/>
                  </a:cubicBezTo>
                  <a:cubicBezTo>
                    <a:pt x="320" y="766"/>
                    <a:pt x="316" y="756"/>
                    <a:pt x="311" y="748"/>
                  </a:cubicBezTo>
                  <a:cubicBezTo>
                    <a:pt x="307" y="740"/>
                    <a:pt x="303" y="732"/>
                    <a:pt x="298" y="726"/>
                  </a:cubicBezTo>
                  <a:cubicBezTo>
                    <a:pt x="284" y="705"/>
                    <a:pt x="267" y="689"/>
                    <a:pt x="250" y="673"/>
                  </a:cubicBezTo>
                  <a:cubicBezTo>
                    <a:pt x="233" y="656"/>
                    <a:pt x="216" y="641"/>
                    <a:pt x="202" y="624"/>
                  </a:cubicBezTo>
                  <a:cubicBezTo>
                    <a:pt x="188" y="607"/>
                    <a:pt x="177" y="588"/>
                    <a:pt x="175" y="568"/>
                  </a:cubicBezTo>
                  <a:cubicBezTo>
                    <a:pt x="174" y="558"/>
                    <a:pt x="177" y="549"/>
                    <a:pt x="181" y="540"/>
                  </a:cubicBezTo>
                  <a:cubicBezTo>
                    <a:pt x="186" y="530"/>
                    <a:pt x="192" y="521"/>
                    <a:pt x="199" y="513"/>
                  </a:cubicBezTo>
                  <a:cubicBezTo>
                    <a:pt x="213" y="495"/>
                    <a:pt x="230" y="480"/>
                    <a:pt x="246" y="464"/>
                  </a:cubicBezTo>
                  <a:cubicBezTo>
                    <a:pt x="263" y="448"/>
                    <a:pt x="281" y="432"/>
                    <a:pt x="297" y="414"/>
                  </a:cubicBezTo>
                  <a:cubicBezTo>
                    <a:pt x="304" y="405"/>
                    <a:pt x="312" y="395"/>
                    <a:pt x="318" y="383"/>
                  </a:cubicBezTo>
                  <a:cubicBezTo>
                    <a:pt x="320" y="378"/>
                    <a:pt x="322" y="373"/>
                    <a:pt x="323" y="367"/>
                  </a:cubicBezTo>
                  <a:cubicBezTo>
                    <a:pt x="323" y="366"/>
                    <a:pt x="322" y="364"/>
                    <a:pt x="322" y="363"/>
                  </a:cubicBezTo>
                  <a:cubicBezTo>
                    <a:pt x="321" y="357"/>
                    <a:pt x="322" y="352"/>
                    <a:pt x="323" y="347"/>
                  </a:cubicBezTo>
                  <a:cubicBezTo>
                    <a:pt x="323" y="346"/>
                    <a:pt x="322" y="345"/>
                    <a:pt x="322" y="344"/>
                  </a:cubicBezTo>
                  <a:cubicBezTo>
                    <a:pt x="320" y="333"/>
                    <a:pt x="316" y="324"/>
                    <a:pt x="311" y="315"/>
                  </a:cubicBezTo>
                  <a:cubicBezTo>
                    <a:pt x="307" y="307"/>
                    <a:pt x="303" y="300"/>
                    <a:pt x="298" y="293"/>
                  </a:cubicBezTo>
                  <a:cubicBezTo>
                    <a:pt x="284" y="273"/>
                    <a:pt x="267" y="256"/>
                    <a:pt x="250" y="240"/>
                  </a:cubicBezTo>
                  <a:cubicBezTo>
                    <a:pt x="233" y="224"/>
                    <a:pt x="216" y="208"/>
                    <a:pt x="202" y="191"/>
                  </a:cubicBezTo>
                  <a:cubicBezTo>
                    <a:pt x="188" y="174"/>
                    <a:pt x="177" y="155"/>
                    <a:pt x="175" y="135"/>
                  </a:cubicBezTo>
                  <a:cubicBezTo>
                    <a:pt x="174" y="126"/>
                    <a:pt x="177" y="116"/>
                    <a:pt x="181" y="107"/>
                  </a:cubicBezTo>
                  <a:cubicBezTo>
                    <a:pt x="186" y="97"/>
                    <a:pt x="192" y="88"/>
                    <a:pt x="199" y="80"/>
                  </a:cubicBezTo>
                  <a:cubicBezTo>
                    <a:pt x="213" y="63"/>
                    <a:pt x="230" y="47"/>
                    <a:pt x="246" y="31"/>
                  </a:cubicBezTo>
                  <a:cubicBezTo>
                    <a:pt x="257" y="21"/>
                    <a:pt x="268" y="10"/>
                    <a:pt x="279" y="0"/>
                  </a:cubicBezTo>
                  <a:cubicBezTo>
                    <a:pt x="264" y="0"/>
                    <a:pt x="264" y="0"/>
                    <a:pt x="264" y="0"/>
                  </a:cubicBezTo>
                  <a:cubicBezTo>
                    <a:pt x="255" y="7"/>
                    <a:pt x="247" y="15"/>
                    <a:pt x="239" y="23"/>
                  </a:cubicBezTo>
                  <a:cubicBezTo>
                    <a:pt x="222" y="39"/>
                    <a:pt x="205" y="54"/>
                    <a:pt x="190" y="72"/>
                  </a:cubicBezTo>
                  <a:cubicBezTo>
                    <a:pt x="182" y="81"/>
                    <a:pt x="176" y="91"/>
                    <a:pt x="170" y="102"/>
                  </a:cubicBezTo>
                  <a:cubicBezTo>
                    <a:pt x="166" y="110"/>
                    <a:pt x="163" y="120"/>
                    <a:pt x="163" y="130"/>
                  </a:cubicBezTo>
                  <a:cubicBezTo>
                    <a:pt x="163" y="125"/>
                    <a:pt x="162" y="121"/>
                    <a:pt x="161" y="116"/>
                  </a:cubicBezTo>
                  <a:cubicBezTo>
                    <a:pt x="160" y="109"/>
                    <a:pt x="157" y="103"/>
                    <a:pt x="154" y="97"/>
                  </a:cubicBezTo>
                  <a:cubicBezTo>
                    <a:pt x="149" y="86"/>
                    <a:pt x="141" y="76"/>
                    <a:pt x="134" y="66"/>
                  </a:cubicBezTo>
                  <a:cubicBezTo>
                    <a:pt x="118" y="48"/>
                    <a:pt x="101" y="32"/>
                    <a:pt x="84" y="16"/>
                  </a:cubicBezTo>
                  <a:cubicBezTo>
                    <a:pt x="78" y="11"/>
                    <a:pt x="72" y="5"/>
                    <a:pt x="66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8" y="8"/>
                    <a:pt x="67" y="16"/>
                    <a:pt x="76" y="24"/>
                  </a:cubicBezTo>
                  <a:cubicBezTo>
                    <a:pt x="93" y="40"/>
                    <a:pt x="110" y="56"/>
                    <a:pt x="125" y="74"/>
                  </a:cubicBezTo>
                  <a:close/>
                  <a:moveTo>
                    <a:pt x="193" y="1493"/>
                  </a:moveTo>
                  <a:cubicBezTo>
                    <a:pt x="200" y="1502"/>
                    <a:pt x="208" y="1510"/>
                    <a:pt x="216" y="1517"/>
                  </a:cubicBezTo>
                  <a:cubicBezTo>
                    <a:pt x="220" y="1522"/>
                    <a:pt x="225" y="1526"/>
                    <a:pt x="229" y="1531"/>
                  </a:cubicBezTo>
                  <a:cubicBezTo>
                    <a:pt x="245" y="1547"/>
                    <a:pt x="263" y="1563"/>
                    <a:pt x="278" y="1580"/>
                  </a:cubicBezTo>
                  <a:cubicBezTo>
                    <a:pt x="280" y="1582"/>
                    <a:pt x="282" y="1584"/>
                    <a:pt x="284" y="1586"/>
                  </a:cubicBezTo>
                  <a:cubicBezTo>
                    <a:pt x="286" y="1589"/>
                    <a:pt x="288" y="1591"/>
                    <a:pt x="290" y="1594"/>
                  </a:cubicBezTo>
                  <a:cubicBezTo>
                    <a:pt x="296" y="1603"/>
                    <a:pt x="302" y="1613"/>
                    <a:pt x="306" y="1624"/>
                  </a:cubicBezTo>
                  <a:cubicBezTo>
                    <a:pt x="309" y="1635"/>
                    <a:pt x="311" y="1647"/>
                    <a:pt x="310" y="1658"/>
                  </a:cubicBezTo>
                  <a:cubicBezTo>
                    <a:pt x="309" y="1666"/>
                    <a:pt x="307" y="1673"/>
                    <a:pt x="304" y="1680"/>
                  </a:cubicBezTo>
                  <a:cubicBezTo>
                    <a:pt x="300" y="1687"/>
                    <a:pt x="294" y="1694"/>
                    <a:pt x="289" y="1701"/>
                  </a:cubicBezTo>
                  <a:cubicBezTo>
                    <a:pt x="273" y="1718"/>
                    <a:pt x="256" y="1733"/>
                    <a:pt x="239" y="1749"/>
                  </a:cubicBezTo>
                  <a:cubicBezTo>
                    <a:pt x="222" y="1765"/>
                    <a:pt x="205" y="1781"/>
                    <a:pt x="190" y="1799"/>
                  </a:cubicBezTo>
                  <a:cubicBezTo>
                    <a:pt x="182" y="1808"/>
                    <a:pt x="176" y="1818"/>
                    <a:pt x="170" y="1828"/>
                  </a:cubicBezTo>
                  <a:cubicBezTo>
                    <a:pt x="166" y="1837"/>
                    <a:pt x="163" y="1847"/>
                    <a:pt x="163" y="1857"/>
                  </a:cubicBezTo>
                  <a:cubicBezTo>
                    <a:pt x="163" y="1852"/>
                    <a:pt x="162" y="1847"/>
                    <a:pt x="161" y="1843"/>
                  </a:cubicBezTo>
                  <a:cubicBezTo>
                    <a:pt x="160" y="1836"/>
                    <a:pt x="157" y="1830"/>
                    <a:pt x="154" y="1824"/>
                  </a:cubicBezTo>
                  <a:cubicBezTo>
                    <a:pt x="149" y="1812"/>
                    <a:pt x="141" y="1802"/>
                    <a:pt x="134" y="1793"/>
                  </a:cubicBezTo>
                  <a:cubicBezTo>
                    <a:pt x="118" y="1774"/>
                    <a:pt x="101" y="1758"/>
                    <a:pt x="84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7" y="1671"/>
                  </a:cubicBezTo>
                  <a:cubicBezTo>
                    <a:pt x="15" y="1667"/>
                    <a:pt x="15" y="1662"/>
                    <a:pt x="14" y="1658"/>
                  </a:cubicBezTo>
                  <a:cubicBezTo>
                    <a:pt x="13" y="1637"/>
                    <a:pt x="21" y="1616"/>
                    <a:pt x="34" y="1599"/>
                  </a:cubicBezTo>
                  <a:cubicBezTo>
                    <a:pt x="47" y="1581"/>
                    <a:pt x="63" y="1565"/>
                    <a:pt x="80" y="1549"/>
                  </a:cubicBezTo>
                  <a:cubicBezTo>
                    <a:pt x="97" y="1534"/>
                    <a:pt x="115" y="1518"/>
                    <a:pt x="130" y="1499"/>
                  </a:cubicBezTo>
                  <a:cubicBezTo>
                    <a:pt x="138" y="1490"/>
                    <a:pt x="146" y="1480"/>
                    <a:pt x="151" y="1469"/>
                  </a:cubicBezTo>
                  <a:cubicBezTo>
                    <a:pt x="157" y="1458"/>
                    <a:pt x="162" y="1445"/>
                    <a:pt x="163" y="1432"/>
                  </a:cubicBezTo>
                  <a:cubicBezTo>
                    <a:pt x="163" y="1430"/>
                    <a:pt x="163" y="1429"/>
                    <a:pt x="163" y="1427"/>
                  </a:cubicBezTo>
                  <a:cubicBezTo>
                    <a:pt x="163" y="1428"/>
                    <a:pt x="163" y="1430"/>
                    <a:pt x="163" y="1431"/>
                  </a:cubicBezTo>
                  <a:cubicBezTo>
                    <a:pt x="164" y="1443"/>
                    <a:pt x="168" y="1454"/>
                    <a:pt x="173" y="1464"/>
                  </a:cubicBezTo>
                  <a:cubicBezTo>
                    <a:pt x="179" y="1475"/>
                    <a:pt x="186" y="1484"/>
                    <a:pt x="193" y="1493"/>
                  </a:cubicBezTo>
                  <a:close/>
                  <a:moveTo>
                    <a:pt x="193" y="1064"/>
                  </a:moveTo>
                  <a:cubicBezTo>
                    <a:pt x="208" y="1082"/>
                    <a:pt x="226" y="1098"/>
                    <a:pt x="242" y="1113"/>
                  </a:cubicBezTo>
                  <a:cubicBezTo>
                    <a:pt x="259" y="1129"/>
                    <a:pt x="276" y="1146"/>
                    <a:pt x="290" y="1164"/>
                  </a:cubicBezTo>
                  <a:cubicBezTo>
                    <a:pt x="296" y="1174"/>
                    <a:pt x="302" y="1184"/>
                    <a:pt x="306" y="1195"/>
                  </a:cubicBezTo>
                  <a:cubicBezTo>
                    <a:pt x="309" y="1206"/>
                    <a:pt x="311" y="1218"/>
                    <a:pt x="310" y="1229"/>
                  </a:cubicBezTo>
                  <a:cubicBezTo>
                    <a:pt x="309" y="1234"/>
                    <a:pt x="308" y="1239"/>
                    <a:pt x="307" y="1244"/>
                  </a:cubicBezTo>
                  <a:cubicBezTo>
                    <a:pt x="302" y="1253"/>
                    <a:pt x="295" y="1261"/>
                    <a:pt x="289" y="1269"/>
                  </a:cubicBezTo>
                  <a:cubicBezTo>
                    <a:pt x="273" y="1286"/>
                    <a:pt x="256" y="1302"/>
                    <a:pt x="239" y="1318"/>
                  </a:cubicBezTo>
                  <a:cubicBezTo>
                    <a:pt x="222" y="1333"/>
                    <a:pt x="205" y="1349"/>
                    <a:pt x="190" y="1367"/>
                  </a:cubicBezTo>
                  <a:cubicBezTo>
                    <a:pt x="182" y="1376"/>
                    <a:pt x="176" y="1386"/>
                    <a:pt x="170" y="1396"/>
                  </a:cubicBezTo>
                  <a:cubicBezTo>
                    <a:pt x="166" y="1405"/>
                    <a:pt x="163" y="1415"/>
                    <a:pt x="163" y="1425"/>
                  </a:cubicBezTo>
                  <a:cubicBezTo>
                    <a:pt x="163" y="1420"/>
                    <a:pt x="162" y="1415"/>
                    <a:pt x="161" y="1411"/>
                  </a:cubicBezTo>
                  <a:cubicBezTo>
                    <a:pt x="160" y="1404"/>
                    <a:pt x="157" y="1398"/>
                    <a:pt x="154" y="1392"/>
                  </a:cubicBezTo>
                  <a:cubicBezTo>
                    <a:pt x="149" y="1381"/>
                    <a:pt x="141" y="1371"/>
                    <a:pt x="134" y="1361"/>
                  </a:cubicBezTo>
                  <a:cubicBezTo>
                    <a:pt x="118" y="1343"/>
                    <a:pt x="101" y="1327"/>
                    <a:pt x="84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7" y="1255"/>
                    <a:pt x="20" y="1247"/>
                    <a:pt x="16" y="1238"/>
                  </a:cubicBezTo>
                  <a:cubicBezTo>
                    <a:pt x="15" y="1235"/>
                    <a:pt x="15" y="1232"/>
                    <a:pt x="14" y="1228"/>
                  </a:cubicBezTo>
                  <a:cubicBezTo>
                    <a:pt x="13" y="1207"/>
                    <a:pt x="21" y="1187"/>
                    <a:pt x="34" y="1169"/>
                  </a:cubicBezTo>
                  <a:cubicBezTo>
                    <a:pt x="47" y="1152"/>
                    <a:pt x="63" y="1136"/>
                    <a:pt x="80" y="1120"/>
                  </a:cubicBezTo>
                  <a:cubicBezTo>
                    <a:pt x="97" y="1104"/>
                    <a:pt x="115" y="1089"/>
                    <a:pt x="130" y="1070"/>
                  </a:cubicBezTo>
                  <a:cubicBezTo>
                    <a:pt x="138" y="1061"/>
                    <a:pt x="146" y="1051"/>
                    <a:pt x="151" y="1039"/>
                  </a:cubicBezTo>
                  <a:cubicBezTo>
                    <a:pt x="157" y="1028"/>
                    <a:pt x="162" y="1016"/>
                    <a:pt x="163" y="1002"/>
                  </a:cubicBezTo>
                  <a:cubicBezTo>
                    <a:pt x="163" y="1001"/>
                    <a:pt x="163" y="999"/>
                    <a:pt x="163" y="998"/>
                  </a:cubicBezTo>
                  <a:cubicBezTo>
                    <a:pt x="163" y="999"/>
                    <a:pt x="163" y="1000"/>
                    <a:pt x="163" y="1001"/>
                  </a:cubicBezTo>
                  <a:cubicBezTo>
                    <a:pt x="164" y="1013"/>
                    <a:pt x="168" y="1025"/>
                    <a:pt x="173" y="1035"/>
                  </a:cubicBezTo>
                  <a:cubicBezTo>
                    <a:pt x="179" y="1046"/>
                    <a:pt x="186" y="1055"/>
                    <a:pt x="193" y="1064"/>
                  </a:cubicBezTo>
                  <a:close/>
                  <a:moveTo>
                    <a:pt x="193" y="631"/>
                  </a:moveTo>
                  <a:cubicBezTo>
                    <a:pt x="196" y="635"/>
                    <a:pt x="199" y="638"/>
                    <a:pt x="203" y="642"/>
                  </a:cubicBezTo>
                  <a:cubicBezTo>
                    <a:pt x="211" y="652"/>
                    <a:pt x="220" y="661"/>
                    <a:pt x="229" y="670"/>
                  </a:cubicBezTo>
                  <a:cubicBezTo>
                    <a:pt x="245" y="686"/>
                    <a:pt x="263" y="702"/>
                    <a:pt x="278" y="719"/>
                  </a:cubicBezTo>
                  <a:cubicBezTo>
                    <a:pt x="283" y="724"/>
                    <a:pt x="288" y="730"/>
                    <a:pt x="292" y="735"/>
                  </a:cubicBezTo>
                  <a:cubicBezTo>
                    <a:pt x="298" y="744"/>
                    <a:pt x="302" y="753"/>
                    <a:pt x="306" y="762"/>
                  </a:cubicBezTo>
                  <a:cubicBezTo>
                    <a:pt x="309" y="773"/>
                    <a:pt x="311" y="785"/>
                    <a:pt x="310" y="796"/>
                  </a:cubicBezTo>
                  <a:cubicBezTo>
                    <a:pt x="309" y="805"/>
                    <a:pt x="307" y="813"/>
                    <a:pt x="303" y="821"/>
                  </a:cubicBezTo>
                  <a:cubicBezTo>
                    <a:pt x="299" y="827"/>
                    <a:pt x="294" y="834"/>
                    <a:pt x="289" y="840"/>
                  </a:cubicBezTo>
                  <a:cubicBezTo>
                    <a:pt x="273" y="857"/>
                    <a:pt x="256" y="872"/>
                    <a:pt x="239" y="888"/>
                  </a:cubicBezTo>
                  <a:cubicBezTo>
                    <a:pt x="222" y="904"/>
                    <a:pt x="205" y="920"/>
                    <a:pt x="190" y="938"/>
                  </a:cubicBezTo>
                  <a:cubicBezTo>
                    <a:pt x="182" y="947"/>
                    <a:pt x="176" y="957"/>
                    <a:pt x="170" y="967"/>
                  </a:cubicBezTo>
                  <a:cubicBezTo>
                    <a:pt x="166" y="976"/>
                    <a:pt x="163" y="986"/>
                    <a:pt x="163" y="996"/>
                  </a:cubicBezTo>
                  <a:cubicBezTo>
                    <a:pt x="163" y="991"/>
                    <a:pt x="162" y="986"/>
                    <a:pt x="161" y="982"/>
                  </a:cubicBezTo>
                  <a:cubicBezTo>
                    <a:pt x="160" y="975"/>
                    <a:pt x="157" y="969"/>
                    <a:pt x="154" y="963"/>
                  </a:cubicBezTo>
                  <a:cubicBezTo>
                    <a:pt x="149" y="951"/>
                    <a:pt x="141" y="941"/>
                    <a:pt x="134" y="932"/>
                  </a:cubicBezTo>
                  <a:cubicBezTo>
                    <a:pt x="118" y="913"/>
                    <a:pt x="101" y="897"/>
                    <a:pt x="84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8" y="827"/>
                    <a:pt x="22" y="819"/>
                    <a:pt x="17" y="811"/>
                  </a:cubicBezTo>
                  <a:cubicBezTo>
                    <a:pt x="16" y="806"/>
                    <a:pt x="15" y="801"/>
                    <a:pt x="14" y="795"/>
                  </a:cubicBezTo>
                  <a:cubicBezTo>
                    <a:pt x="13" y="774"/>
                    <a:pt x="21" y="754"/>
                    <a:pt x="34" y="737"/>
                  </a:cubicBezTo>
                  <a:cubicBezTo>
                    <a:pt x="47" y="719"/>
                    <a:pt x="63" y="703"/>
                    <a:pt x="80" y="687"/>
                  </a:cubicBezTo>
                  <a:cubicBezTo>
                    <a:pt x="97" y="671"/>
                    <a:pt x="115" y="656"/>
                    <a:pt x="130" y="637"/>
                  </a:cubicBezTo>
                  <a:cubicBezTo>
                    <a:pt x="138" y="628"/>
                    <a:pt x="146" y="618"/>
                    <a:pt x="151" y="607"/>
                  </a:cubicBezTo>
                  <a:cubicBezTo>
                    <a:pt x="157" y="595"/>
                    <a:pt x="162" y="583"/>
                    <a:pt x="163" y="570"/>
                  </a:cubicBezTo>
                  <a:cubicBezTo>
                    <a:pt x="163" y="568"/>
                    <a:pt x="163" y="567"/>
                    <a:pt x="163" y="565"/>
                  </a:cubicBezTo>
                  <a:cubicBezTo>
                    <a:pt x="163" y="566"/>
                    <a:pt x="163" y="568"/>
                    <a:pt x="163" y="569"/>
                  </a:cubicBezTo>
                  <a:cubicBezTo>
                    <a:pt x="164" y="580"/>
                    <a:pt x="168" y="592"/>
                    <a:pt x="173" y="602"/>
                  </a:cubicBezTo>
                  <a:cubicBezTo>
                    <a:pt x="179" y="613"/>
                    <a:pt x="186" y="622"/>
                    <a:pt x="193" y="631"/>
                  </a:cubicBezTo>
                  <a:close/>
                  <a:moveTo>
                    <a:pt x="163" y="137"/>
                  </a:moveTo>
                  <a:cubicBezTo>
                    <a:pt x="163" y="135"/>
                    <a:pt x="163" y="134"/>
                    <a:pt x="163" y="132"/>
                  </a:cubicBezTo>
                  <a:cubicBezTo>
                    <a:pt x="163" y="134"/>
                    <a:pt x="163" y="135"/>
                    <a:pt x="163" y="136"/>
                  </a:cubicBezTo>
                  <a:cubicBezTo>
                    <a:pt x="164" y="148"/>
                    <a:pt x="168" y="159"/>
                    <a:pt x="173" y="170"/>
                  </a:cubicBezTo>
                  <a:cubicBezTo>
                    <a:pt x="179" y="180"/>
                    <a:pt x="186" y="190"/>
                    <a:pt x="193" y="198"/>
                  </a:cubicBezTo>
                  <a:cubicBezTo>
                    <a:pt x="196" y="202"/>
                    <a:pt x="199" y="206"/>
                    <a:pt x="203" y="209"/>
                  </a:cubicBezTo>
                  <a:cubicBezTo>
                    <a:pt x="211" y="219"/>
                    <a:pt x="220" y="228"/>
                    <a:pt x="229" y="237"/>
                  </a:cubicBezTo>
                  <a:cubicBezTo>
                    <a:pt x="245" y="254"/>
                    <a:pt x="263" y="269"/>
                    <a:pt x="278" y="286"/>
                  </a:cubicBezTo>
                  <a:cubicBezTo>
                    <a:pt x="283" y="291"/>
                    <a:pt x="288" y="297"/>
                    <a:pt x="292" y="302"/>
                  </a:cubicBezTo>
                  <a:cubicBezTo>
                    <a:pt x="298" y="311"/>
                    <a:pt x="302" y="320"/>
                    <a:pt x="306" y="329"/>
                  </a:cubicBezTo>
                  <a:cubicBezTo>
                    <a:pt x="309" y="340"/>
                    <a:pt x="311" y="352"/>
                    <a:pt x="310" y="363"/>
                  </a:cubicBezTo>
                  <a:cubicBezTo>
                    <a:pt x="309" y="372"/>
                    <a:pt x="307" y="380"/>
                    <a:pt x="303" y="388"/>
                  </a:cubicBezTo>
                  <a:cubicBezTo>
                    <a:pt x="299" y="395"/>
                    <a:pt x="294" y="401"/>
                    <a:pt x="289" y="407"/>
                  </a:cubicBezTo>
                  <a:cubicBezTo>
                    <a:pt x="273" y="424"/>
                    <a:pt x="256" y="440"/>
                    <a:pt x="239" y="455"/>
                  </a:cubicBezTo>
                  <a:cubicBezTo>
                    <a:pt x="222" y="471"/>
                    <a:pt x="205" y="487"/>
                    <a:pt x="190" y="505"/>
                  </a:cubicBezTo>
                  <a:cubicBezTo>
                    <a:pt x="182" y="514"/>
                    <a:pt x="176" y="524"/>
                    <a:pt x="170" y="534"/>
                  </a:cubicBezTo>
                  <a:cubicBezTo>
                    <a:pt x="166" y="543"/>
                    <a:pt x="163" y="553"/>
                    <a:pt x="163" y="563"/>
                  </a:cubicBezTo>
                  <a:cubicBezTo>
                    <a:pt x="163" y="558"/>
                    <a:pt x="162" y="553"/>
                    <a:pt x="161" y="549"/>
                  </a:cubicBezTo>
                  <a:cubicBezTo>
                    <a:pt x="160" y="542"/>
                    <a:pt x="157" y="536"/>
                    <a:pt x="154" y="530"/>
                  </a:cubicBezTo>
                  <a:cubicBezTo>
                    <a:pt x="149" y="519"/>
                    <a:pt x="141" y="509"/>
                    <a:pt x="134" y="499"/>
                  </a:cubicBezTo>
                  <a:cubicBezTo>
                    <a:pt x="118" y="481"/>
                    <a:pt x="101" y="465"/>
                    <a:pt x="84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8" y="394"/>
                    <a:pt x="22" y="386"/>
                    <a:pt x="17" y="379"/>
                  </a:cubicBezTo>
                  <a:cubicBezTo>
                    <a:pt x="16" y="373"/>
                    <a:pt x="15" y="368"/>
                    <a:pt x="14" y="363"/>
                  </a:cubicBezTo>
                  <a:cubicBezTo>
                    <a:pt x="13" y="342"/>
                    <a:pt x="21" y="322"/>
                    <a:pt x="34" y="304"/>
                  </a:cubicBezTo>
                  <a:cubicBezTo>
                    <a:pt x="47" y="286"/>
                    <a:pt x="63" y="270"/>
                    <a:pt x="80" y="254"/>
                  </a:cubicBezTo>
                  <a:cubicBezTo>
                    <a:pt x="97" y="239"/>
                    <a:pt x="115" y="223"/>
                    <a:pt x="130" y="204"/>
                  </a:cubicBezTo>
                  <a:cubicBezTo>
                    <a:pt x="138" y="195"/>
                    <a:pt x="146" y="185"/>
                    <a:pt x="151" y="174"/>
                  </a:cubicBezTo>
                  <a:cubicBezTo>
                    <a:pt x="157" y="163"/>
                    <a:pt x="162" y="150"/>
                    <a:pt x="163" y="137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0" name="Freeform 10"/>
            <p:cNvSpPr/>
            <p:nvPr/>
          </p:nvSpPr>
          <p:spPr>
            <a:xfrm>
              <a:off x="6593040" y="-1440"/>
              <a:ext cx="514080" cy="686232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2" h="2159">
                  <a:moveTo>
                    <a:pt x="124" y="74"/>
                  </a:moveTo>
                  <a:cubicBezTo>
                    <a:pt x="132" y="83"/>
                    <a:pt x="139" y="92"/>
                    <a:pt x="144" y="103"/>
                  </a:cubicBezTo>
                  <a:cubicBezTo>
                    <a:pt x="148" y="111"/>
                    <a:pt x="151" y="121"/>
                    <a:pt x="151" y="131"/>
                  </a:cubicBezTo>
                  <a:cubicBezTo>
                    <a:pt x="150" y="131"/>
                    <a:pt x="150" y="131"/>
                    <a:pt x="150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2" y="197"/>
                    <a:pt x="121" y="197"/>
                  </a:cubicBezTo>
                  <a:cubicBezTo>
                    <a:pt x="106" y="215"/>
                    <a:pt x="89" y="230"/>
                    <a:pt x="72" y="246"/>
                  </a:cubicBezTo>
                  <a:cubicBezTo>
                    <a:pt x="55" y="262"/>
                    <a:pt x="38" y="279"/>
                    <a:pt x="25" y="298"/>
                  </a:cubicBezTo>
                  <a:cubicBezTo>
                    <a:pt x="23" y="300"/>
                    <a:pt x="22" y="302"/>
                    <a:pt x="20" y="305"/>
                  </a:cubicBezTo>
                  <a:cubicBezTo>
                    <a:pt x="18" y="307"/>
                    <a:pt x="17" y="310"/>
                    <a:pt x="15" y="313"/>
                  </a:cubicBezTo>
                  <a:cubicBezTo>
                    <a:pt x="9" y="322"/>
                    <a:pt x="4" y="333"/>
                    <a:pt x="2" y="345"/>
                  </a:cubicBezTo>
                  <a:cubicBezTo>
                    <a:pt x="1" y="351"/>
                    <a:pt x="0" y="357"/>
                    <a:pt x="1" y="363"/>
                  </a:cubicBezTo>
                  <a:cubicBezTo>
                    <a:pt x="1" y="369"/>
                    <a:pt x="3" y="374"/>
                    <a:pt x="6" y="379"/>
                  </a:cubicBezTo>
                  <a:cubicBezTo>
                    <a:pt x="8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2" y="404"/>
                    <a:pt x="26" y="408"/>
                  </a:cubicBezTo>
                  <a:cubicBezTo>
                    <a:pt x="41" y="426"/>
                    <a:pt x="59" y="441"/>
                    <a:pt x="76" y="457"/>
                  </a:cubicBezTo>
                  <a:cubicBezTo>
                    <a:pt x="93" y="473"/>
                    <a:pt x="110" y="489"/>
                    <a:pt x="124" y="507"/>
                  </a:cubicBezTo>
                  <a:cubicBezTo>
                    <a:pt x="132" y="516"/>
                    <a:pt x="139" y="525"/>
                    <a:pt x="144" y="535"/>
                  </a:cubicBezTo>
                  <a:cubicBezTo>
                    <a:pt x="148" y="544"/>
                    <a:pt x="151" y="554"/>
                    <a:pt x="151" y="564"/>
                  </a:cubicBezTo>
                  <a:cubicBezTo>
                    <a:pt x="150" y="564"/>
                    <a:pt x="150" y="564"/>
                    <a:pt x="150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4"/>
                    <a:pt x="122" y="629"/>
                  </a:cubicBezTo>
                  <a:cubicBezTo>
                    <a:pt x="122" y="629"/>
                    <a:pt x="122" y="629"/>
                    <a:pt x="121" y="630"/>
                  </a:cubicBezTo>
                  <a:cubicBezTo>
                    <a:pt x="106" y="648"/>
                    <a:pt x="89" y="663"/>
                    <a:pt x="72" y="679"/>
                  </a:cubicBezTo>
                  <a:cubicBezTo>
                    <a:pt x="55" y="695"/>
                    <a:pt x="38" y="711"/>
                    <a:pt x="25" y="730"/>
                  </a:cubicBezTo>
                  <a:cubicBezTo>
                    <a:pt x="23" y="733"/>
                    <a:pt x="22" y="735"/>
                    <a:pt x="20" y="737"/>
                  </a:cubicBezTo>
                  <a:cubicBezTo>
                    <a:pt x="18" y="740"/>
                    <a:pt x="17" y="743"/>
                    <a:pt x="15" y="745"/>
                  </a:cubicBezTo>
                  <a:cubicBezTo>
                    <a:pt x="9" y="755"/>
                    <a:pt x="4" y="766"/>
                    <a:pt x="2" y="778"/>
                  </a:cubicBezTo>
                  <a:cubicBezTo>
                    <a:pt x="1" y="784"/>
                    <a:pt x="0" y="789"/>
                    <a:pt x="1" y="795"/>
                  </a:cubicBezTo>
                  <a:cubicBezTo>
                    <a:pt x="1" y="801"/>
                    <a:pt x="3" y="807"/>
                    <a:pt x="6" y="812"/>
                  </a:cubicBezTo>
                  <a:cubicBezTo>
                    <a:pt x="8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2" y="837"/>
                    <a:pt x="26" y="841"/>
                  </a:cubicBezTo>
                  <a:cubicBezTo>
                    <a:pt x="41" y="858"/>
                    <a:pt x="59" y="874"/>
                    <a:pt x="76" y="890"/>
                  </a:cubicBezTo>
                  <a:cubicBezTo>
                    <a:pt x="93" y="906"/>
                    <a:pt x="110" y="922"/>
                    <a:pt x="124" y="939"/>
                  </a:cubicBezTo>
                  <a:cubicBezTo>
                    <a:pt x="132" y="948"/>
                    <a:pt x="139" y="958"/>
                    <a:pt x="144" y="968"/>
                  </a:cubicBezTo>
                  <a:cubicBezTo>
                    <a:pt x="147" y="976"/>
                    <a:pt x="150" y="984"/>
                    <a:pt x="151" y="993"/>
                  </a:cubicBezTo>
                  <a:cubicBezTo>
                    <a:pt x="150" y="993"/>
                    <a:pt x="150" y="993"/>
                    <a:pt x="150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9" y="1065"/>
                    <a:pt x="103" y="1082"/>
                    <a:pt x="86" y="1098"/>
                  </a:cubicBezTo>
                  <a:cubicBezTo>
                    <a:pt x="70" y="1114"/>
                    <a:pt x="52" y="1130"/>
                    <a:pt x="36" y="1147"/>
                  </a:cubicBezTo>
                  <a:cubicBezTo>
                    <a:pt x="29" y="1156"/>
                    <a:pt x="21" y="1165"/>
                    <a:pt x="15" y="1175"/>
                  </a:cubicBezTo>
                  <a:cubicBezTo>
                    <a:pt x="9" y="1185"/>
                    <a:pt x="4" y="1195"/>
                    <a:pt x="2" y="1207"/>
                  </a:cubicBezTo>
                  <a:cubicBezTo>
                    <a:pt x="1" y="1213"/>
                    <a:pt x="0" y="1219"/>
                    <a:pt x="1" y="1225"/>
                  </a:cubicBezTo>
                  <a:cubicBezTo>
                    <a:pt x="1" y="1231"/>
                    <a:pt x="3" y="1236"/>
                    <a:pt x="6" y="1242"/>
                  </a:cubicBezTo>
                  <a:cubicBezTo>
                    <a:pt x="7" y="1243"/>
                    <a:pt x="7" y="1244"/>
                    <a:pt x="8" y="1245"/>
                  </a:cubicBezTo>
                  <a:cubicBezTo>
                    <a:pt x="10" y="1251"/>
                    <a:pt x="12" y="1256"/>
                    <a:pt x="15" y="1261"/>
                  </a:cubicBezTo>
                  <a:cubicBezTo>
                    <a:pt x="19" y="1261"/>
                    <a:pt x="19" y="1261"/>
                    <a:pt x="19" y="1261"/>
                  </a:cubicBezTo>
                  <a:cubicBezTo>
                    <a:pt x="21" y="1264"/>
                    <a:pt x="23" y="1267"/>
                    <a:pt x="26" y="1270"/>
                  </a:cubicBezTo>
                  <a:cubicBezTo>
                    <a:pt x="41" y="1288"/>
                    <a:pt x="59" y="1303"/>
                    <a:pt x="76" y="1319"/>
                  </a:cubicBezTo>
                  <a:cubicBezTo>
                    <a:pt x="93" y="1335"/>
                    <a:pt x="110" y="1351"/>
                    <a:pt x="124" y="1369"/>
                  </a:cubicBezTo>
                  <a:cubicBezTo>
                    <a:pt x="132" y="1378"/>
                    <a:pt x="139" y="1387"/>
                    <a:pt x="144" y="1398"/>
                  </a:cubicBezTo>
                  <a:cubicBezTo>
                    <a:pt x="148" y="1406"/>
                    <a:pt x="150" y="1415"/>
                    <a:pt x="151" y="1425"/>
                  </a:cubicBezTo>
                  <a:cubicBezTo>
                    <a:pt x="150" y="1425"/>
                    <a:pt x="150" y="1425"/>
                    <a:pt x="150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6" y="1485"/>
                    <a:pt x="120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3" y="1595"/>
                    <a:pt x="19" y="1600"/>
                    <a:pt x="15" y="1606"/>
                  </a:cubicBezTo>
                  <a:cubicBezTo>
                    <a:pt x="9" y="1616"/>
                    <a:pt x="4" y="1627"/>
                    <a:pt x="2" y="1639"/>
                  </a:cubicBezTo>
                  <a:cubicBezTo>
                    <a:pt x="1" y="1644"/>
                    <a:pt x="0" y="1650"/>
                    <a:pt x="1" y="1656"/>
                  </a:cubicBezTo>
                  <a:cubicBezTo>
                    <a:pt x="1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1" y="1681"/>
                  </a:cubicBezTo>
                  <a:cubicBezTo>
                    <a:pt x="12" y="1685"/>
                    <a:pt x="13" y="1688"/>
                    <a:pt x="15" y="1691"/>
                  </a:cubicBezTo>
                  <a:cubicBezTo>
                    <a:pt x="17" y="1691"/>
                    <a:pt x="17" y="1691"/>
                    <a:pt x="17" y="1691"/>
                  </a:cubicBezTo>
                  <a:cubicBezTo>
                    <a:pt x="20" y="1694"/>
                    <a:pt x="23" y="1698"/>
                    <a:pt x="26" y="1702"/>
                  </a:cubicBezTo>
                  <a:cubicBezTo>
                    <a:pt x="41" y="1719"/>
                    <a:pt x="59" y="1735"/>
                    <a:pt x="76" y="1751"/>
                  </a:cubicBezTo>
                  <a:cubicBezTo>
                    <a:pt x="93" y="1767"/>
                    <a:pt x="110" y="1783"/>
                    <a:pt x="124" y="1800"/>
                  </a:cubicBezTo>
                  <a:cubicBezTo>
                    <a:pt x="132" y="1809"/>
                    <a:pt x="139" y="1819"/>
                    <a:pt x="144" y="1829"/>
                  </a:cubicBezTo>
                  <a:cubicBezTo>
                    <a:pt x="147" y="1837"/>
                    <a:pt x="150" y="1846"/>
                    <a:pt x="151" y="1855"/>
                  </a:cubicBezTo>
                  <a:cubicBezTo>
                    <a:pt x="150" y="1855"/>
                    <a:pt x="150" y="1855"/>
                    <a:pt x="150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7" y="1959"/>
                    <a:pt x="80" y="1966"/>
                    <a:pt x="72" y="1973"/>
                  </a:cubicBezTo>
                  <a:cubicBezTo>
                    <a:pt x="61" y="1984"/>
                    <a:pt x="49" y="1995"/>
                    <a:pt x="39" y="2007"/>
                  </a:cubicBezTo>
                  <a:cubicBezTo>
                    <a:pt x="38" y="2008"/>
                    <a:pt x="37" y="2008"/>
                    <a:pt x="36" y="2009"/>
                  </a:cubicBezTo>
                  <a:cubicBezTo>
                    <a:pt x="29" y="2018"/>
                    <a:pt x="21" y="2027"/>
                    <a:pt x="15" y="2037"/>
                  </a:cubicBezTo>
                  <a:cubicBezTo>
                    <a:pt x="9" y="2047"/>
                    <a:pt x="4" y="2057"/>
                    <a:pt x="2" y="2069"/>
                  </a:cubicBezTo>
                  <a:cubicBezTo>
                    <a:pt x="1" y="2075"/>
                    <a:pt x="0" y="2081"/>
                    <a:pt x="1" y="2087"/>
                  </a:cubicBezTo>
                  <a:cubicBezTo>
                    <a:pt x="1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1" y="2114"/>
                    <a:pt x="13" y="2118"/>
                    <a:pt x="15" y="2122"/>
                  </a:cubicBezTo>
                  <a:cubicBezTo>
                    <a:pt x="18" y="2122"/>
                    <a:pt x="18" y="2122"/>
                    <a:pt x="18" y="2122"/>
                  </a:cubicBezTo>
                  <a:cubicBezTo>
                    <a:pt x="20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4" y="2137"/>
                    <a:pt x="34" y="2125"/>
                  </a:cubicBezTo>
                  <a:cubicBezTo>
                    <a:pt x="27" y="2117"/>
                    <a:pt x="21" y="2109"/>
                    <a:pt x="16" y="2101"/>
                  </a:cubicBezTo>
                  <a:cubicBezTo>
                    <a:pt x="15" y="2097"/>
                    <a:pt x="14" y="2093"/>
                    <a:pt x="14" y="2089"/>
                  </a:cubicBezTo>
                  <a:cubicBezTo>
                    <a:pt x="12" y="2068"/>
                    <a:pt x="21" y="2048"/>
                    <a:pt x="34" y="2030"/>
                  </a:cubicBezTo>
                  <a:cubicBezTo>
                    <a:pt x="46" y="2012"/>
                    <a:pt x="63" y="1997"/>
                    <a:pt x="80" y="1981"/>
                  </a:cubicBezTo>
                  <a:cubicBezTo>
                    <a:pt x="97" y="1965"/>
                    <a:pt x="114" y="1949"/>
                    <a:pt x="130" y="1931"/>
                  </a:cubicBezTo>
                  <a:cubicBezTo>
                    <a:pt x="138" y="1922"/>
                    <a:pt x="145" y="1912"/>
                    <a:pt x="151" y="1900"/>
                  </a:cubicBezTo>
                  <a:cubicBezTo>
                    <a:pt x="156" y="1891"/>
                    <a:pt x="160" y="1881"/>
                    <a:pt x="162" y="1870"/>
                  </a:cubicBezTo>
                  <a:cubicBezTo>
                    <a:pt x="161" y="1867"/>
                    <a:pt x="161" y="1865"/>
                    <a:pt x="161" y="1862"/>
                  </a:cubicBezTo>
                  <a:cubicBezTo>
                    <a:pt x="160" y="1857"/>
                    <a:pt x="161" y="1852"/>
                    <a:pt x="162" y="1846"/>
                  </a:cubicBezTo>
                  <a:cubicBezTo>
                    <a:pt x="162" y="1845"/>
                    <a:pt x="161" y="1844"/>
                    <a:pt x="161" y="1843"/>
                  </a:cubicBezTo>
                  <a:cubicBezTo>
                    <a:pt x="160" y="1836"/>
                    <a:pt x="157" y="1830"/>
                    <a:pt x="154" y="1824"/>
                  </a:cubicBezTo>
                  <a:cubicBezTo>
                    <a:pt x="149" y="1812"/>
                    <a:pt x="141" y="1802"/>
                    <a:pt x="133" y="1793"/>
                  </a:cubicBezTo>
                  <a:cubicBezTo>
                    <a:pt x="118" y="1774"/>
                    <a:pt x="100" y="1758"/>
                    <a:pt x="83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7" y="1671"/>
                  </a:cubicBezTo>
                  <a:cubicBezTo>
                    <a:pt x="15" y="1667"/>
                    <a:pt x="14" y="1662"/>
                    <a:pt x="14" y="1658"/>
                  </a:cubicBezTo>
                  <a:cubicBezTo>
                    <a:pt x="12" y="1637"/>
                    <a:pt x="21" y="1616"/>
                    <a:pt x="34" y="1599"/>
                  </a:cubicBezTo>
                  <a:cubicBezTo>
                    <a:pt x="46" y="1581"/>
                    <a:pt x="63" y="1565"/>
                    <a:pt x="80" y="1549"/>
                  </a:cubicBezTo>
                  <a:cubicBezTo>
                    <a:pt x="97" y="1534"/>
                    <a:pt x="114" y="1518"/>
                    <a:pt x="130" y="1499"/>
                  </a:cubicBezTo>
                  <a:cubicBezTo>
                    <a:pt x="138" y="1490"/>
                    <a:pt x="145" y="1480"/>
                    <a:pt x="151" y="1469"/>
                  </a:cubicBezTo>
                  <a:cubicBezTo>
                    <a:pt x="156" y="1459"/>
                    <a:pt x="160" y="1449"/>
                    <a:pt x="162" y="1438"/>
                  </a:cubicBezTo>
                  <a:cubicBezTo>
                    <a:pt x="161" y="1436"/>
                    <a:pt x="161" y="1433"/>
                    <a:pt x="161" y="1431"/>
                  </a:cubicBezTo>
                  <a:cubicBezTo>
                    <a:pt x="160" y="1425"/>
                    <a:pt x="161" y="1420"/>
                    <a:pt x="162" y="1415"/>
                  </a:cubicBezTo>
                  <a:cubicBezTo>
                    <a:pt x="162" y="1413"/>
                    <a:pt x="161" y="1412"/>
                    <a:pt x="161" y="1411"/>
                  </a:cubicBezTo>
                  <a:cubicBezTo>
                    <a:pt x="160" y="1404"/>
                    <a:pt x="157" y="1398"/>
                    <a:pt x="154" y="1392"/>
                  </a:cubicBezTo>
                  <a:cubicBezTo>
                    <a:pt x="149" y="1381"/>
                    <a:pt x="141" y="1371"/>
                    <a:pt x="133" y="1361"/>
                  </a:cubicBezTo>
                  <a:cubicBezTo>
                    <a:pt x="118" y="1343"/>
                    <a:pt x="100" y="1327"/>
                    <a:pt x="83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7" y="1255"/>
                    <a:pt x="20" y="1247"/>
                    <a:pt x="16" y="1238"/>
                  </a:cubicBezTo>
                  <a:cubicBezTo>
                    <a:pt x="15" y="1235"/>
                    <a:pt x="14" y="1232"/>
                    <a:pt x="14" y="1228"/>
                  </a:cubicBezTo>
                  <a:cubicBezTo>
                    <a:pt x="12" y="1207"/>
                    <a:pt x="21" y="1187"/>
                    <a:pt x="34" y="1169"/>
                  </a:cubicBezTo>
                  <a:cubicBezTo>
                    <a:pt x="46" y="1152"/>
                    <a:pt x="63" y="1136"/>
                    <a:pt x="80" y="1120"/>
                  </a:cubicBezTo>
                  <a:cubicBezTo>
                    <a:pt x="97" y="1104"/>
                    <a:pt x="114" y="1089"/>
                    <a:pt x="130" y="1070"/>
                  </a:cubicBezTo>
                  <a:cubicBezTo>
                    <a:pt x="138" y="1061"/>
                    <a:pt x="145" y="1051"/>
                    <a:pt x="151" y="1039"/>
                  </a:cubicBezTo>
                  <a:cubicBezTo>
                    <a:pt x="156" y="1030"/>
                    <a:pt x="160" y="1020"/>
                    <a:pt x="162" y="1009"/>
                  </a:cubicBezTo>
                  <a:cubicBezTo>
                    <a:pt x="161" y="1006"/>
                    <a:pt x="161" y="1004"/>
                    <a:pt x="161" y="1001"/>
                  </a:cubicBezTo>
                  <a:cubicBezTo>
                    <a:pt x="160" y="996"/>
                    <a:pt x="161" y="991"/>
                    <a:pt x="162" y="985"/>
                  </a:cubicBezTo>
                  <a:cubicBezTo>
                    <a:pt x="162" y="984"/>
                    <a:pt x="161" y="983"/>
                    <a:pt x="161" y="982"/>
                  </a:cubicBezTo>
                  <a:cubicBezTo>
                    <a:pt x="160" y="975"/>
                    <a:pt x="157" y="969"/>
                    <a:pt x="154" y="963"/>
                  </a:cubicBezTo>
                  <a:cubicBezTo>
                    <a:pt x="149" y="951"/>
                    <a:pt x="141" y="941"/>
                    <a:pt x="133" y="932"/>
                  </a:cubicBezTo>
                  <a:cubicBezTo>
                    <a:pt x="118" y="913"/>
                    <a:pt x="100" y="897"/>
                    <a:pt x="83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8" y="827"/>
                    <a:pt x="22" y="819"/>
                    <a:pt x="17" y="811"/>
                  </a:cubicBezTo>
                  <a:cubicBezTo>
                    <a:pt x="16" y="806"/>
                    <a:pt x="14" y="801"/>
                    <a:pt x="14" y="795"/>
                  </a:cubicBezTo>
                  <a:cubicBezTo>
                    <a:pt x="12" y="774"/>
                    <a:pt x="21" y="754"/>
                    <a:pt x="34" y="737"/>
                  </a:cubicBezTo>
                  <a:cubicBezTo>
                    <a:pt x="46" y="719"/>
                    <a:pt x="63" y="703"/>
                    <a:pt x="80" y="687"/>
                  </a:cubicBezTo>
                  <a:cubicBezTo>
                    <a:pt x="97" y="671"/>
                    <a:pt x="114" y="656"/>
                    <a:pt x="130" y="637"/>
                  </a:cubicBezTo>
                  <a:cubicBezTo>
                    <a:pt x="138" y="628"/>
                    <a:pt x="145" y="618"/>
                    <a:pt x="151" y="607"/>
                  </a:cubicBezTo>
                  <a:cubicBezTo>
                    <a:pt x="156" y="597"/>
                    <a:pt x="160" y="587"/>
                    <a:pt x="162" y="576"/>
                  </a:cubicBezTo>
                  <a:cubicBezTo>
                    <a:pt x="161" y="573"/>
                    <a:pt x="161" y="571"/>
                    <a:pt x="161" y="569"/>
                  </a:cubicBezTo>
                  <a:cubicBezTo>
                    <a:pt x="160" y="563"/>
                    <a:pt x="161" y="558"/>
                    <a:pt x="162" y="553"/>
                  </a:cubicBezTo>
                  <a:cubicBezTo>
                    <a:pt x="162" y="551"/>
                    <a:pt x="161" y="550"/>
                    <a:pt x="161" y="549"/>
                  </a:cubicBezTo>
                  <a:cubicBezTo>
                    <a:pt x="160" y="542"/>
                    <a:pt x="157" y="536"/>
                    <a:pt x="154" y="530"/>
                  </a:cubicBezTo>
                  <a:cubicBezTo>
                    <a:pt x="149" y="519"/>
                    <a:pt x="141" y="509"/>
                    <a:pt x="133" y="499"/>
                  </a:cubicBezTo>
                  <a:cubicBezTo>
                    <a:pt x="118" y="481"/>
                    <a:pt x="100" y="465"/>
                    <a:pt x="83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8" y="394"/>
                    <a:pt x="22" y="386"/>
                    <a:pt x="17" y="379"/>
                  </a:cubicBezTo>
                  <a:cubicBezTo>
                    <a:pt x="16" y="373"/>
                    <a:pt x="14" y="368"/>
                    <a:pt x="14" y="363"/>
                  </a:cubicBezTo>
                  <a:cubicBezTo>
                    <a:pt x="12" y="342"/>
                    <a:pt x="21" y="322"/>
                    <a:pt x="34" y="304"/>
                  </a:cubicBezTo>
                  <a:cubicBezTo>
                    <a:pt x="46" y="286"/>
                    <a:pt x="63" y="270"/>
                    <a:pt x="80" y="254"/>
                  </a:cubicBezTo>
                  <a:cubicBezTo>
                    <a:pt x="97" y="239"/>
                    <a:pt x="114" y="223"/>
                    <a:pt x="130" y="204"/>
                  </a:cubicBezTo>
                  <a:cubicBezTo>
                    <a:pt x="138" y="195"/>
                    <a:pt x="145" y="185"/>
                    <a:pt x="151" y="174"/>
                  </a:cubicBezTo>
                  <a:cubicBezTo>
                    <a:pt x="156" y="164"/>
                    <a:pt x="160" y="154"/>
                    <a:pt x="162" y="143"/>
                  </a:cubicBezTo>
                  <a:cubicBezTo>
                    <a:pt x="161" y="141"/>
                    <a:pt x="161" y="138"/>
                    <a:pt x="161" y="136"/>
                  </a:cubicBezTo>
                  <a:cubicBezTo>
                    <a:pt x="160" y="130"/>
                    <a:pt x="161" y="125"/>
                    <a:pt x="162" y="120"/>
                  </a:cubicBezTo>
                  <a:cubicBezTo>
                    <a:pt x="162" y="119"/>
                    <a:pt x="161" y="117"/>
                    <a:pt x="161" y="116"/>
                  </a:cubicBezTo>
                  <a:cubicBezTo>
                    <a:pt x="160" y="109"/>
                    <a:pt x="157" y="103"/>
                    <a:pt x="154" y="97"/>
                  </a:cubicBezTo>
                  <a:cubicBezTo>
                    <a:pt x="149" y="86"/>
                    <a:pt x="141" y="76"/>
                    <a:pt x="133" y="66"/>
                  </a:cubicBezTo>
                  <a:cubicBezTo>
                    <a:pt x="118" y="48"/>
                    <a:pt x="100" y="32"/>
                    <a:pt x="83" y="16"/>
                  </a:cubicBezTo>
                  <a:cubicBezTo>
                    <a:pt x="77" y="11"/>
                    <a:pt x="71" y="5"/>
                    <a:pt x="66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8" y="8"/>
                    <a:pt x="67" y="16"/>
                    <a:pt x="76" y="24"/>
                  </a:cubicBezTo>
                  <a:cubicBezTo>
                    <a:pt x="93" y="40"/>
                    <a:pt x="110" y="56"/>
                    <a:pt x="124" y="74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1" name="Freeform 11"/>
            <p:cNvSpPr/>
            <p:nvPr/>
          </p:nvSpPr>
          <p:spPr>
            <a:xfrm>
              <a:off x="-3240" y="-1440"/>
              <a:ext cx="495000" cy="686232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56" h="2159">
                  <a:moveTo>
                    <a:pt x="25" y="1925"/>
                  </a:moveTo>
                  <a:cubicBezTo>
                    <a:pt x="40" y="1943"/>
                    <a:pt x="57" y="1958"/>
                    <a:pt x="74" y="1974"/>
                  </a:cubicBezTo>
                  <a:cubicBezTo>
                    <a:pt x="74" y="1975"/>
                    <a:pt x="75" y="1975"/>
                    <a:pt x="75" y="1975"/>
                  </a:cubicBezTo>
                  <a:cubicBezTo>
                    <a:pt x="82" y="1982"/>
                    <a:pt x="88" y="1988"/>
                    <a:pt x="95" y="1995"/>
                  </a:cubicBezTo>
                  <a:cubicBezTo>
                    <a:pt x="104" y="2004"/>
                    <a:pt x="113" y="2014"/>
                    <a:pt x="121" y="2025"/>
                  </a:cubicBezTo>
                  <a:cubicBezTo>
                    <a:pt x="128" y="2035"/>
                    <a:pt x="133" y="2045"/>
                    <a:pt x="137" y="2056"/>
                  </a:cubicBezTo>
                  <a:cubicBezTo>
                    <a:pt x="141" y="2067"/>
                    <a:pt x="142" y="2078"/>
                    <a:pt x="141" y="2090"/>
                  </a:cubicBezTo>
                  <a:cubicBezTo>
                    <a:pt x="140" y="2096"/>
                    <a:pt x="139" y="2102"/>
                    <a:pt x="137" y="2108"/>
                  </a:cubicBezTo>
                  <a:cubicBezTo>
                    <a:pt x="132" y="2116"/>
                    <a:pt x="126" y="2124"/>
                    <a:pt x="120" y="2131"/>
                  </a:cubicBezTo>
                  <a:cubicBezTo>
                    <a:pt x="111" y="2141"/>
                    <a:pt x="102" y="2150"/>
                    <a:pt x="93" y="2159"/>
                  </a:cubicBezTo>
                  <a:cubicBezTo>
                    <a:pt x="108" y="2159"/>
                    <a:pt x="108" y="2159"/>
                    <a:pt x="108" y="2159"/>
                  </a:cubicBezTo>
                  <a:cubicBezTo>
                    <a:pt x="115" y="2152"/>
                    <a:pt x="122" y="2145"/>
                    <a:pt x="128" y="2138"/>
                  </a:cubicBezTo>
                  <a:cubicBezTo>
                    <a:pt x="132" y="2133"/>
                    <a:pt x="136" y="2128"/>
                    <a:pt x="140" y="2122"/>
                  </a:cubicBezTo>
                  <a:cubicBezTo>
                    <a:pt x="141" y="2122"/>
                    <a:pt x="141" y="2122"/>
                    <a:pt x="141" y="2122"/>
                  </a:cubicBezTo>
                  <a:cubicBezTo>
                    <a:pt x="141" y="2122"/>
                    <a:pt x="141" y="2121"/>
                    <a:pt x="141" y="2120"/>
                  </a:cubicBezTo>
                  <a:cubicBezTo>
                    <a:pt x="144" y="2116"/>
                    <a:pt x="147" y="2112"/>
                    <a:pt x="149" y="2107"/>
                  </a:cubicBezTo>
                  <a:cubicBezTo>
                    <a:pt x="152" y="2101"/>
                    <a:pt x="154" y="2095"/>
                    <a:pt x="155" y="2088"/>
                  </a:cubicBezTo>
                  <a:cubicBezTo>
                    <a:pt x="156" y="2080"/>
                    <a:pt x="155" y="2074"/>
                    <a:pt x="154" y="2068"/>
                  </a:cubicBezTo>
                  <a:cubicBezTo>
                    <a:pt x="151" y="2055"/>
                    <a:pt x="145" y="2043"/>
                    <a:pt x="139" y="2033"/>
                  </a:cubicBezTo>
                  <a:cubicBezTo>
                    <a:pt x="138" y="2032"/>
                    <a:pt x="137" y="2030"/>
                    <a:pt x="136" y="2029"/>
                  </a:cubicBezTo>
                  <a:cubicBezTo>
                    <a:pt x="134" y="2026"/>
                    <a:pt x="132" y="2022"/>
                    <a:pt x="130" y="2019"/>
                  </a:cubicBezTo>
                  <a:cubicBezTo>
                    <a:pt x="115" y="1999"/>
                    <a:pt x="98" y="1982"/>
                    <a:pt x="81" y="1966"/>
                  </a:cubicBezTo>
                  <a:cubicBezTo>
                    <a:pt x="65" y="1950"/>
                    <a:pt x="48" y="1935"/>
                    <a:pt x="33" y="1917"/>
                  </a:cubicBezTo>
                  <a:cubicBezTo>
                    <a:pt x="19" y="1901"/>
                    <a:pt x="8" y="1881"/>
                    <a:pt x="7" y="1861"/>
                  </a:cubicBezTo>
                  <a:cubicBezTo>
                    <a:pt x="6" y="1852"/>
                    <a:pt x="8" y="1843"/>
                    <a:pt x="13" y="1833"/>
                  </a:cubicBezTo>
                  <a:cubicBezTo>
                    <a:pt x="17" y="1824"/>
                    <a:pt x="23" y="1815"/>
                    <a:pt x="30" y="1806"/>
                  </a:cubicBezTo>
                  <a:cubicBezTo>
                    <a:pt x="44" y="1789"/>
                    <a:pt x="61" y="1773"/>
                    <a:pt x="78" y="1757"/>
                  </a:cubicBezTo>
                  <a:cubicBezTo>
                    <a:pt x="95" y="1741"/>
                    <a:pt x="112" y="1726"/>
                    <a:pt x="128" y="1708"/>
                  </a:cubicBezTo>
                  <a:cubicBezTo>
                    <a:pt x="136" y="1698"/>
                    <a:pt x="144" y="1689"/>
                    <a:pt x="149" y="1677"/>
                  </a:cubicBezTo>
                  <a:cubicBezTo>
                    <a:pt x="152" y="1671"/>
                    <a:pt x="154" y="1664"/>
                    <a:pt x="155" y="1657"/>
                  </a:cubicBezTo>
                  <a:cubicBezTo>
                    <a:pt x="156" y="1650"/>
                    <a:pt x="155" y="1644"/>
                    <a:pt x="154" y="1637"/>
                  </a:cubicBezTo>
                  <a:cubicBezTo>
                    <a:pt x="151" y="1625"/>
                    <a:pt x="146" y="1614"/>
                    <a:pt x="140" y="1605"/>
                  </a:cubicBezTo>
                  <a:cubicBezTo>
                    <a:pt x="137" y="1599"/>
                    <a:pt x="133" y="1593"/>
                    <a:pt x="130" y="1588"/>
                  </a:cubicBezTo>
                  <a:cubicBezTo>
                    <a:pt x="115" y="1567"/>
                    <a:pt x="98" y="1551"/>
                    <a:pt x="81" y="1535"/>
                  </a:cubicBezTo>
                  <a:cubicBezTo>
                    <a:pt x="65" y="1519"/>
                    <a:pt x="48" y="1503"/>
                    <a:pt x="33" y="1486"/>
                  </a:cubicBezTo>
                  <a:cubicBezTo>
                    <a:pt x="19" y="1469"/>
                    <a:pt x="8" y="1450"/>
                    <a:pt x="7" y="1430"/>
                  </a:cubicBezTo>
                  <a:cubicBezTo>
                    <a:pt x="6" y="1421"/>
                    <a:pt x="8" y="1411"/>
                    <a:pt x="13" y="1402"/>
                  </a:cubicBezTo>
                  <a:cubicBezTo>
                    <a:pt x="17" y="1392"/>
                    <a:pt x="23" y="1383"/>
                    <a:pt x="30" y="1375"/>
                  </a:cubicBezTo>
                  <a:cubicBezTo>
                    <a:pt x="44" y="1357"/>
                    <a:pt x="61" y="1342"/>
                    <a:pt x="78" y="1326"/>
                  </a:cubicBezTo>
                  <a:cubicBezTo>
                    <a:pt x="95" y="1310"/>
                    <a:pt x="112" y="1294"/>
                    <a:pt x="128" y="1276"/>
                  </a:cubicBezTo>
                  <a:cubicBezTo>
                    <a:pt x="132" y="1271"/>
                    <a:pt x="136" y="1266"/>
                    <a:pt x="140" y="1261"/>
                  </a:cubicBezTo>
                  <a:cubicBezTo>
                    <a:pt x="141" y="1261"/>
                    <a:pt x="141" y="1261"/>
                    <a:pt x="141" y="1261"/>
                  </a:cubicBezTo>
                  <a:cubicBezTo>
                    <a:pt x="142" y="1259"/>
                    <a:pt x="142" y="1258"/>
                    <a:pt x="143" y="1256"/>
                  </a:cubicBezTo>
                  <a:cubicBezTo>
                    <a:pt x="145" y="1252"/>
                    <a:pt x="147" y="1249"/>
                    <a:pt x="149" y="1245"/>
                  </a:cubicBezTo>
                  <a:cubicBezTo>
                    <a:pt x="152" y="1239"/>
                    <a:pt x="154" y="1233"/>
                    <a:pt x="155" y="1226"/>
                  </a:cubicBezTo>
                  <a:cubicBezTo>
                    <a:pt x="156" y="1218"/>
                    <a:pt x="155" y="1212"/>
                    <a:pt x="154" y="1206"/>
                  </a:cubicBezTo>
                  <a:cubicBezTo>
                    <a:pt x="151" y="1193"/>
                    <a:pt x="145" y="1181"/>
                    <a:pt x="139" y="1171"/>
                  </a:cubicBezTo>
                  <a:cubicBezTo>
                    <a:pt x="136" y="1168"/>
                    <a:pt x="134" y="1164"/>
                    <a:pt x="131" y="1161"/>
                  </a:cubicBezTo>
                  <a:cubicBezTo>
                    <a:pt x="131" y="1160"/>
                    <a:pt x="130" y="1159"/>
                    <a:pt x="130" y="1158"/>
                  </a:cubicBezTo>
                  <a:cubicBezTo>
                    <a:pt x="115" y="1138"/>
                    <a:pt x="98" y="1122"/>
                    <a:pt x="81" y="1105"/>
                  </a:cubicBezTo>
                  <a:cubicBezTo>
                    <a:pt x="65" y="1089"/>
                    <a:pt x="48" y="1074"/>
                    <a:pt x="33" y="1057"/>
                  </a:cubicBezTo>
                  <a:cubicBezTo>
                    <a:pt x="19" y="1040"/>
                    <a:pt x="8" y="1020"/>
                    <a:pt x="7" y="1000"/>
                  </a:cubicBezTo>
                  <a:cubicBezTo>
                    <a:pt x="6" y="991"/>
                    <a:pt x="8" y="982"/>
                    <a:pt x="13" y="972"/>
                  </a:cubicBezTo>
                  <a:cubicBezTo>
                    <a:pt x="17" y="963"/>
                    <a:pt x="23" y="954"/>
                    <a:pt x="30" y="945"/>
                  </a:cubicBezTo>
                  <a:cubicBezTo>
                    <a:pt x="44" y="928"/>
                    <a:pt x="61" y="912"/>
                    <a:pt x="78" y="896"/>
                  </a:cubicBezTo>
                  <a:cubicBezTo>
                    <a:pt x="95" y="880"/>
                    <a:pt x="112" y="865"/>
                    <a:pt x="128" y="847"/>
                  </a:cubicBezTo>
                  <a:cubicBezTo>
                    <a:pt x="136" y="837"/>
                    <a:pt x="144" y="828"/>
                    <a:pt x="149" y="816"/>
                  </a:cubicBezTo>
                  <a:cubicBezTo>
                    <a:pt x="152" y="810"/>
                    <a:pt x="154" y="803"/>
                    <a:pt x="155" y="796"/>
                  </a:cubicBezTo>
                  <a:cubicBezTo>
                    <a:pt x="156" y="789"/>
                    <a:pt x="155" y="783"/>
                    <a:pt x="154" y="776"/>
                  </a:cubicBezTo>
                  <a:cubicBezTo>
                    <a:pt x="151" y="766"/>
                    <a:pt x="147" y="756"/>
                    <a:pt x="142" y="748"/>
                  </a:cubicBezTo>
                  <a:cubicBezTo>
                    <a:pt x="139" y="740"/>
                    <a:pt x="134" y="732"/>
                    <a:pt x="130" y="726"/>
                  </a:cubicBezTo>
                  <a:cubicBezTo>
                    <a:pt x="115" y="705"/>
                    <a:pt x="98" y="689"/>
                    <a:pt x="81" y="673"/>
                  </a:cubicBezTo>
                  <a:cubicBezTo>
                    <a:pt x="65" y="656"/>
                    <a:pt x="48" y="641"/>
                    <a:pt x="33" y="624"/>
                  </a:cubicBezTo>
                  <a:cubicBezTo>
                    <a:pt x="19" y="607"/>
                    <a:pt x="8" y="588"/>
                    <a:pt x="7" y="568"/>
                  </a:cubicBezTo>
                  <a:cubicBezTo>
                    <a:pt x="6" y="558"/>
                    <a:pt x="8" y="549"/>
                    <a:pt x="13" y="540"/>
                  </a:cubicBezTo>
                  <a:cubicBezTo>
                    <a:pt x="17" y="530"/>
                    <a:pt x="23" y="521"/>
                    <a:pt x="30" y="513"/>
                  </a:cubicBezTo>
                  <a:cubicBezTo>
                    <a:pt x="44" y="495"/>
                    <a:pt x="61" y="480"/>
                    <a:pt x="78" y="464"/>
                  </a:cubicBezTo>
                  <a:cubicBezTo>
                    <a:pt x="95" y="448"/>
                    <a:pt x="112" y="432"/>
                    <a:pt x="128" y="414"/>
                  </a:cubicBezTo>
                  <a:cubicBezTo>
                    <a:pt x="136" y="405"/>
                    <a:pt x="144" y="395"/>
                    <a:pt x="149" y="383"/>
                  </a:cubicBezTo>
                  <a:cubicBezTo>
                    <a:pt x="152" y="377"/>
                    <a:pt x="154" y="371"/>
                    <a:pt x="155" y="364"/>
                  </a:cubicBezTo>
                  <a:cubicBezTo>
                    <a:pt x="156" y="356"/>
                    <a:pt x="155" y="350"/>
                    <a:pt x="154" y="344"/>
                  </a:cubicBezTo>
                  <a:cubicBezTo>
                    <a:pt x="151" y="333"/>
                    <a:pt x="147" y="324"/>
                    <a:pt x="142" y="315"/>
                  </a:cubicBezTo>
                  <a:cubicBezTo>
                    <a:pt x="139" y="307"/>
                    <a:pt x="134" y="300"/>
                    <a:pt x="130" y="293"/>
                  </a:cubicBezTo>
                  <a:cubicBezTo>
                    <a:pt x="115" y="273"/>
                    <a:pt x="98" y="256"/>
                    <a:pt x="81" y="240"/>
                  </a:cubicBezTo>
                  <a:cubicBezTo>
                    <a:pt x="65" y="224"/>
                    <a:pt x="48" y="208"/>
                    <a:pt x="33" y="191"/>
                  </a:cubicBezTo>
                  <a:cubicBezTo>
                    <a:pt x="19" y="174"/>
                    <a:pt x="8" y="155"/>
                    <a:pt x="7" y="135"/>
                  </a:cubicBezTo>
                  <a:cubicBezTo>
                    <a:pt x="6" y="126"/>
                    <a:pt x="8" y="116"/>
                    <a:pt x="13" y="107"/>
                  </a:cubicBezTo>
                  <a:cubicBezTo>
                    <a:pt x="17" y="97"/>
                    <a:pt x="23" y="88"/>
                    <a:pt x="30" y="80"/>
                  </a:cubicBezTo>
                  <a:cubicBezTo>
                    <a:pt x="44" y="63"/>
                    <a:pt x="61" y="47"/>
                    <a:pt x="78" y="31"/>
                  </a:cubicBezTo>
                  <a:cubicBezTo>
                    <a:pt x="89" y="21"/>
                    <a:pt x="100" y="10"/>
                    <a:pt x="110" y="0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87" y="7"/>
                    <a:pt x="79" y="15"/>
                    <a:pt x="70" y="23"/>
                  </a:cubicBezTo>
                  <a:cubicBezTo>
                    <a:pt x="53" y="39"/>
                    <a:pt x="36" y="54"/>
                    <a:pt x="21" y="72"/>
                  </a:cubicBezTo>
                  <a:cubicBezTo>
                    <a:pt x="14" y="81"/>
                    <a:pt x="7" y="91"/>
                    <a:pt x="2" y="102"/>
                  </a:cubicBezTo>
                  <a:cubicBezTo>
                    <a:pt x="1" y="103"/>
                    <a:pt x="1" y="104"/>
                    <a:pt x="0" y="106"/>
                  </a:cubicBezTo>
                  <a:cubicBezTo>
                    <a:pt x="0" y="159"/>
                    <a:pt x="0" y="159"/>
                    <a:pt x="0" y="159"/>
                  </a:cubicBezTo>
                  <a:cubicBezTo>
                    <a:pt x="1" y="162"/>
                    <a:pt x="3" y="166"/>
                    <a:pt x="5" y="170"/>
                  </a:cubicBezTo>
                  <a:cubicBezTo>
                    <a:pt x="10" y="180"/>
                    <a:pt x="17" y="190"/>
                    <a:pt x="25" y="198"/>
                  </a:cubicBezTo>
                  <a:cubicBezTo>
                    <a:pt x="28" y="202"/>
                    <a:pt x="31" y="206"/>
                    <a:pt x="34" y="209"/>
                  </a:cubicBezTo>
                  <a:cubicBezTo>
                    <a:pt x="42" y="219"/>
                    <a:pt x="51" y="228"/>
                    <a:pt x="60" y="237"/>
                  </a:cubicBezTo>
                  <a:cubicBezTo>
                    <a:pt x="77" y="254"/>
                    <a:pt x="94" y="269"/>
                    <a:pt x="110" y="286"/>
                  </a:cubicBezTo>
                  <a:cubicBezTo>
                    <a:pt x="115" y="291"/>
                    <a:pt x="119" y="297"/>
                    <a:pt x="123" y="302"/>
                  </a:cubicBezTo>
                  <a:cubicBezTo>
                    <a:pt x="129" y="311"/>
                    <a:pt x="134" y="320"/>
                    <a:pt x="137" y="329"/>
                  </a:cubicBezTo>
                  <a:cubicBezTo>
                    <a:pt x="141" y="340"/>
                    <a:pt x="142" y="352"/>
                    <a:pt x="141" y="363"/>
                  </a:cubicBezTo>
                  <a:cubicBezTo>
                    <a:pt x="140" y="372"/>
                    <a:pt x="138" y="380"/>
                    <a:pt x="134" y="388"/>
                  </a:cubicBezTo>
                  <a:cubicBezTo>
                    <a:pt x="130" y="395"/>
                    <a:pt x="125" y="401"/>
                    <a:pt x="120" y="407"/>
                  </a:cubicBezTo>
                  <a:cubicBezTo>
                    <a:pt x="105" y="424"/>
                    <a:pt x="87" y="440"/>
                    <a:pt x="70" y="455"/>
                  </a:cubicBezTo>
                  <a:cubicBezTo>
                    <a:pt x="53" y="471"/>
                    <a:pt x="36" y="487"/>
                    <a:pt x="21" y="505"/>
                  </a:cubicBezTo>
                  <a:cubicBezTo>
                    <a:pt x="14" y="514"/>
                    <a:pt x="7" y="524"/>
                    <a:pt x="2" y="534"/>
                  </a:cubicBezTo>
                  <a:cubicBezTo>
                    <a:pt x="1" y="536"/>
                    <a:pt x="1" y="537"/>
                    <a:pt x="0" y="538"/>
                  </a:cubicBezTo>
                  <a:cubicBezTo>
                    <a:pt x="0" y="592"/>
                    <a:pt x="0" y="592"/>
                    <a:pt x="0" y="592"/>
                  </a:cubicBezTo>
                  <a:cubicBezTo>
                    <a:pt x="1" y="595"/>
                    <a:pt x="3" y="599"/>
                    <a:pt x="5" y="602"/>
                  </a:cubicBezTo>
                  <a:cubicBezTo>
                    <a:pt x="10" y="613"/>
                    <a:pt x="17" y="622"/>
                    <a:pt x="25" y="631"/>
                  </a:cubicBezTo>
                  <a:cubicBezTo>
                    <a:pt x="28" y="635"/>
                    <a:pt x="31" y="638"/>
                    <a:pt x="34" y="642"/>
                  </a:cubicBezTo>
                  <a:cubicBezTo>
                    <a:pt x="42" y="652"/>
                    <a:pt x="51" y="661"/>
                    <a:pt x="60" y="670"/>
                  </a:cubicBezTo>
                  <a:cubicBezTo>
                    <a:pt x="77" y="686"/>
                    <a:pt x="94" y="702"/>
                    <a:pt x="110" y="719"/>
                  </a:cubicBezTo>
                  <a:cubicBezTo>
                    <a:pt x="115" y="724"/>
                    <a:pt x="119" y="730"/>
                    <a:pt x="123" y="735"/>
                  </a:cubicBezTo>
                  <a:cubicBezTo>
                    <a:pt x="129" y="744"/>
                    <a:pt x="134" y="753"/>
                    <a:pt x="137" y="762"/>
                  </a:cubicBezTo>
                  <a:cubicBezTo>
                    <a:pt x="141" y="773"/>
                    <a:pt x="142" y="785"/>
                    <a:pt x="141" y="796"/>
                  </a:cubicBezTo>
                  <a:cubicBezTo>
                    <a:pt x="140" y="805"/>
                    <a:pt x="138" y="813"/>
                    <a:pt x="134" y="821"/>
                  </a:cubicBezTo>
                  <a:cubicBezTo>
                    <a:pt x="130" y="827"/>
                    <a:pt x="125" y="834"/>
                    <a:pt x="120" y="840"/>
                  </a:cubicBezTo>
                  <a:cubicBezTo>
                    <a:pt x="105" y="857"/>
                    <a:pt x="87" y="872"/>
                    <a:pt x="70" y="888"/>
                  </a:cubicBezTo>
                  <a:cubicBezTo>
                    <a:pt x="53" y="904"/>
                    <a:pt x="36" y="920"/>
                    <a:pt x="21" y="938"/>
                  </a:cubicBezTo>
                  <a:cubicBezTo>
                    <a:pt x="14" y="947"/>
                    <a:pt x="7" y="957"/>
                    <a:pt x="2" y="967"/>
                  </a:cubicBezTo>
                  <a:cubicBezTo>
                    <a:pt x="1" y="968"/>
                    <a:pt x="1" y="970"/>
                    <a:pt x="0" y="971"/>
                  </a:cubicBezTo>
                  <a:cubicBezTo>
                    <a:pt x="0" y="1024"/>
                    <a:pt x="0" y="1024"/>
                    <a:pt x="0" y="1024"/>
                  </a:cubicBezTo>
                  <a:cubicBezTo>
                    <a:pt x="1" y="1028"/>
                    <a:pt x="3" y="1032"/>
                    <a:pt x="5" y="1035"/>
                  </a:cubicBezTo>
                  <a:cubicBezTo>
                    <a:pt x="10" y="1046"/>
                    <a:pt x="17" y="1055"/>
                    <a:pt x="25" y="1064"/>
                  </a:cubicBezTo>
                  <a:cubicBezTo>
                    <a:pt x="40" y="1082"/>
                    <a:pt x="57" y="1098"/>
                    <a:pt x="74" y="1113"/>
                  </a:cubicBezTo>
                  <a:cubicBezTo>
                    <a:pt x="91" y="1129"/>
                    <a:pt x="108" y="1146"/>
                    <a:pt x="121" y="1164"/>
                  </a:cubicBezTo>
                  <a:cubicBezTo>
                    <a:pt x="128" y="1174"/>
                    <a:pt x="133" y="1184"/>
                    <a:pt x="137" y="1195"/>
                  </a:cubicBezTo>
                  <a:cubicBezTo>
                    <a:pt x="141" y="1206"/>
                    <a:pt x="142" y="1218"/>
                    <a:pt x="141" y="1229"/>
                  </a:cubicBezTo>
                  <a:cubicBezTo>
                    <a:pt x="141" y="1234"/>
                    <a:pt x="140" y="1239"/>
                    <a:pt x="138" y="1244"/>
                  </a:cubicBezTo>
                  <a:cubicBezTo>
                    <a:pt x="133" y="1253"/>
                    <a:pt x="127" y="1261"/>
                    <a:pt x="120" y="1269"/>
                  </a:cubicBezTo>
                  <a:cubicBezTo>
                    <a:pt x="105" y="1286"/>
                    <a:pt x="87" y="1302"/>
                    <a:pt x="70" y="1318"/>
                  </a:cubicBezTo>
                  <a:cubicBezTo>
                    <a:pt x="53" y="1333"/>
                    <a:pt x="36" y="1349"/>
                    <a:pt x="21" y="1367"/>
                  </a:cubicBezTo>
                  <a:cubicBezTo>
                    <a:pt x="14" y="1376"/>
                    <a:pt x="7" y="1386"/>
                    <a:pt x="2" y="1396"/>
                  </a:cubicBezTo>
                  <a:cubicBezTo>
                    <a:pt x="1" y="1398"/>
                    <a:pt x="1" y="1399"/>
                    <a:pt x="0" y="1400"/>
                  </a:cubicBezTo>
                  <a:cubicBezTo>
                    <a:pt x="0" y="1454"/>
                    <a:pt x="0" y="1454"/>
                    <a:pt x="0" y="1454"/>
                  </a:cubicBezTo>
                  <a:cubicBezTo>
                    <a:pt x="1" y="1457"/>
                    <a:pt x="3" y="1461"/>
                    <a:pt x="5" y="1464"/>
                  </a:cubicBezTo>
                  <a:cubicBezTo>
                    <a:pt x="10" y="1475"/>
                    <a:pt x="17" y="1484"/>
                    <a:pt x="25" y="1493"/>
                  </a:cubicBezTo>
                  <a:cubicBezTo>
                    <a:pt x="32" y="1502"/>
                    <a:pt x="39" y="1510"/>
                    <a:pt x="47" y="1517"/>
                  </a:cubicBezTo>
                  <a:cubicBezTo>
                    <a:pt x="52" y="1522"/>
                    <a:pt x="56" y="1526"/>
                    <a:pt x="60" y="1531"/>
                  </a:cubicBezTo>
                  <a:cubicBezTo>
                    <a:pt x="77" y="1547"/>
                    <a:pt x="94" y="1563"/>
                    <a:pt x="110" y="1580"/>
                  </a:cubicBezTo>
                  <a:cubicBezTo>
                    <a:pt x="112" y="1582"/>
                    <a:pt x="113" y="1584"/>
                    <a:pt x="115" y="1586"/>
                  </a:cubicBezTo>
                  <a:cubicBezTo>
                    <a:pt x="117" y="1589"/>
                    <a:pt x="119" y="1591"/>
                    <a:pt x="121" y="1594"/>
                  </a:cubicBezTo>
                  <a:cubicBezTo>
                    <a:pt x="128" y="1603"/>
                    <a:pt x="133" y="1613"/>
                    <a:pt x="137" y="1624"/>
                  </a:cubicBezTo>
                  <a:cubicBezTo>
                    <a:pt x="141" y="1635"/>
                    <a:pt x="142" y="1647"/>
                    <a:pt x="141" y="1658"/>
                  </a:cubicBezTo>
                  <a:cubicBezTo>
                    <a:pt x="140" y="1666"/>
                    <a:pt x="139" y="1673"/>
                    <a:pt x="136" y="1680"/>
                  </a:cubicBezTo>
                  <a:cubicBezTo>
                    <a:pt x="131" y="1687"/>
                    <a:pt x="126" y="1694"/>
                    <a:pt x="120" y="1701"/>
                  </a:cubicBezTo>
                  <a:cubicBezTo>
                    <a:pt x="105" y="1718"/>
                    <a:pt x="87" y="1733"/>
                    <a:pt x="70" y="1749"/>
                  </a:cubicBezTo>
                  <a:cubicBezTo>
                    <a:pt x="53" y="1765"/>
                    <a:pt x="36" y="1781"/>
                    <a:pt x="21" y="1799"/>
                  </a:cubicBezTo>
                  <a:cubicBezTo>
                    <a:pt x="14" y="1808"/>
                    <a:pt x="7" y="1818"/>
                    <a:pt x="2" y="1828"/>
                  </a:cubicBezTo>
                  <a:cubicBezTo>
                    <a:pt x="1" y="1829"/>
                    <a:pt x="1" y="1831"/>
                    <a:pt x="0" y="1832"/>
                  </a:cubicBezTo>
                  <a:cubicBezTo>
                    <a:pt x="0" y="1885"/>
                    <a:pt x="0" y="1885"/>
                    <a:pt x="0" y="1885"/>
                  </a:cubicBezTo>
                  <a:cubicBezTo>
                    <a:pt x="1" y="1889"/>
                    <a:pt x="3" y="1893"/>
                    <a:pt x="5" y="1896"/>
                  </a:cubicBezTo>
                  <a:cubicBezTo>
                    <a:pt x="10" y="1907"/>
                    <a:pt x="17" y="1916"/>
                    <a:pt x="25" y="1925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2" name="Freeform 12"/>
            <p:cNvSpPr/>
            <p:nvPr/>
          </p:nvSpPr>
          <p:spPr>
            <a:xfrm>
              <a:off x="1009800" y="-1440"/>
              <a:ext cx="509400" cy="6862320"/>
            </a:xfrm>
            <a:custGeom>
              <a:avLst/>
              <a:gdLst>
                <a:gd name="textAreaLeft" fmla="*/ 0 w 509400"/>
                <a:gd name="textAreaRight" fmla="*/ 509760 w 50940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0" h="2159">
                  <a:moveTo>
                    <a:pt x="26" y="72"/>
                  </a:moveTo>
                  <a:cubicBezTo>
                    <a:pt x="18" y="81"/>
                    <a:pt x="11" y="91"/>
                    <a:pt x="6" y="102"/>
                  </a:cubicBezTo>
                  <a:cubicBezTo>
                    <a:pt x="3" y="107"/>
                    <a:pt x="1" y="113"/>
                    <a:pt x="0" y="120"/>
                  </a:cubicBezTo>
                  <a:cubicBezTo>
                    <a:pt x="0" y="123"/>
                    <a:pt x="1" y="127"/>
                    <a:pt x="1" y="131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32"/>
                    <a:pt x="1" y="133"/>
                    <a:pt x="1" y="135"/>
                  </a:cubicBezTo>
                  <a:cubicBezTo>
                    <a:pt x="1" y="135"/>
                    <a:pt x="1" y="136"/>
                    <a:pt x="1" y="137"/>
                  </a:cubicBezTo>
                  <a:cubicBezTo>
                    <a:pt x="0" y="139"/>
                    <a:pt x="0" y="141"/>
                    <a:pt x="0" y="143"/>
                  </a:cubicBezTo>
                  <a:cubicBezTo>
                    <a:pt x="1" y="152"/>
                    <a:pt x="5" y="161"/>
                    <a:pt x="9" y="170"/>
                  </a:cubicBezTo>
                  <a:cubicBezTo>
                    <a:pt x="14" y="180"/>
                    <a:pt x="21" y="190"/>
                    <a:pt x="29" y="198"/>
                  </a:cubicBezTo>
                  <a:cubicBezTo>
                    <a:pt x="32" y="202"/>
                    <a:pt x="35" y="206"/>
                    <a:pt x="38" y="209"/>
                  </a:cubicBezTo>
                  <a:cubicBezTo>
                    <a:pt x="47" y="219"/>
                    <a:pt x="55" y="228"/>
                    <a:pt x="65" y="237"/>
                  </a:cubicBezTo>
                  <a:cubicBezTo>
                    <a:pt x="81" y="254"/>
                    <a:pt x="98" y="269"/>
                    <a:pt x="114" y="286"/>
                  </a:cubicBezTo>
                  <a:cubicBezTo>
                    <a:pt x="119" y="291"/>
                    <a:pt x="123" y="297"/>
                    <a:pt x="128" y="302"/>
                  </a:cubicBezTo>
                  <a:cubicBezTo>
                    <a:pt x="133" y="311"/>
                    <a:pt x="138" y="320"/>
                    <a:pt x="141" y="329"/>
                  </a:cubicBezTo>
                  <a:cubicBezTo>
                    <a:pt x="145" y="340"/>
                    <a:pt x="146" y="352"/>
                    <a:pt x="145" y="363"/>
                  </a:cubicBezTo>
                  <a:cubicBezTo>
                    <a:pt x="144" y="372"/>
                    <a:pt x="142" y="380"/>
                    <a:pt x="139" y="388"/>
                  </a:cubicBezTo>
                  <a:cubicBezTo>
                    <a:pt x="134" y="395"/>
                    <a:pt x="129" y="401"/>
                    <a:pt x="124" y="407"/>
                  </a:cubicBezTo>
                  <a:cubicBezTo>
                    <a:pt x="109" y="424"/>
                    <a:pt x="92" y="440"/>
                    <a:pt x="75" y="455"/>
                  </a:cubicBezTo>
                  <a:cubicBezTo>
                    <a:pt x="58" y="471"/>
                    <a:pt x="40" y="487"/>
                    <a:pt x="26" y="505"/>
                  </a:cubicBezTo>
                  <a:cubicBezTo>
                    <a:pt x="18" y="514"/>
                    <a:pt x="11" y="524"/>
                    <a:pt x="6" y="534"/>
                  </a:cubicBezTo>
                  <a:cubicBezTo>
                    <a:pt x="3" y="540"/>
                    <a:pt x="1" y="546"/>
                    <a:pt x="0" y="553"/>
                  </a:cubicBezTo>
                  <a:cubicBezTo>
                    <a:pt x="0" y="556"/>
                    <a:pt x="1" y="560"/>
                    <a:pt x="1" y="564"/>
                  </a:cubicBezTo>
                  <a:cubicBezTo>
                    <a:pt x="0" y="564"/>
                    <a:pt x="0" y="564"/>
                    <a:pt x="0" y="564"/>
                  </a:cubicBezTo>
                  <a:cubicBezTo>
                    <a:pt x="0" y="565"/>
                    <a:pt x="1" y="566"/>
                    <a:pt x="1" y="567"/>
                  </a:cubicBezTo>
                  <a:cubicBezTo>
                    <a:pt x="1" y="568"/>
                    <a:pt x="1" y="569"/>
                    <a:pt x="1" y="570"/>
                  </a:cubicBezTo>
                  <a:cubicBezTo>
                    <a:pt x="0" y="572"/>
                    <a:pt x="0" y="574"/>
                    <a:pt x="0" y="576"/>
                  </a:cubicBezTo>
                  <a:cubicBezTo>
                    <a:pt x="1" y="585"/>
                    <a:pt x="5" y="594"/>
                    <a:pt x="9" y="602"/>
                  </a:cubicBezTo>
                  <a:cubicBezTo>
                    <a:pt x="14" y="613"/>
                    <a:pt x="21" y="622"/>
                    <a:pt x="29" y="631"/>
                  </a:cubicBezTo>
                  <a:cubicBezTo>
                    <a:pt x="32" y="635"/>
                    <a:pt x="35" y="638"/>
                    <a:pt x="38" y="642"/>
                  </a:cubicBezTo>
                  <a:cubicBezTo>
                    <a:pt x="47" y="652"/>
                    <a:pt x="55" y="661"/>
                    <a:pt x="65" y="670"/>
                  </a:cubicBezTo>
                  <a:cubicBezTo>
                    <a:pt x="81" y="686"/>
                    <a:pt x="98" y="702"/>
                    <a:pt x="114" y="719"/>
                  </a:cubicBezTo>
                  <a:cubicBezTo>
                    <a:pt x="119" y="724"/>
                    <a:pt x="123" y="730"/>
                    <a:pt x="128" y="735"/>
                  </a:cubicBezTo>
                  <a:cubicBezTo>
                    <a:pt x="133" y="744"/>
                    <a:pt x="138" y="753"/>
                    <a:pt x="141" y="762"/>
                  </a:cubicBezTo>
                  <a:cubicBezTo>
                    <a:pt x="145" y="773"/>
                    <a:pt x="146" y="785"/>
                    <a:pt x="145" y="796"/>
                  </a:cubicBezTo>
                  <a:cubicBezTo>
                    <a:pt x="144" y="805"/>
                    <a:pt x="142" y="813"/>
                    <a:pt x="139" y="821"/>
                  </a:cubicBezTo>
                  <a:cubicBezTo>
                    <a:pt x="134" y="827"/>
                    <a:pt x="129" y="834"/>
                    <a:pt x="124" y="840"/>
                  </a:cubicBezTo>
                  <a:cubicBezTo>
                    <a:pt x="109" y="857"/>
                    <a:pt x="92" y="872"/>
                    <a:pt x="75" y="888"/>
                  </a:cubicBezTo>
                  <a:cubicBezTo>
                    <a:pt x="58" y="904"/>
                    <a:pt x="40" y="920"/>
                    <a:pt x="26" y="938"/>
                  </a:cubicBezTo>
                  <a:cubicBezTo>
                    <a:pt x="18" y="947"/>
                    <a:pt x="11" y="957"/>
                    <a:pt x="6" y="967"/>
                  </a:cubicBezTo>
                  <a:cubicBezTo>
                    <a:pt x="3" y="973"/>
                    <a:pt x="1" y="979"/>
                    <a:pt x="0" y="985"/>
                  </a:cubicBezTo>
                  <a:cubicBezTo>
                    <a:pt x="0" y="988"/>
                    <a:pt x="1" y="990"/>
                    <a:pt x="1" y="993"/>
                  </a:cubicBezTo>
                  <a:cubicBezTo>
                    <a:pt x="0" y="993"/>
                    <a:pt x="0" y="993"/>
                    <a:pt x="0" y="993"/>
                  </a:cubicBezTo>
                  <a:cubicBezTo>
                    <a:pt x="0" y="994"/>
                    <a:pt x="1" y="996"/>
                    <a:pt x="1" y="998"/>
                  </a:cubicBezTo>
                  <a:cubicBezTo>
                    <a:pt x="1" y="999"/>
                    <a:pt x="1" y="1001"/>
                    <a:pt x="1" y="1002"/>
                  </a:cubicBezTo>
                  <a:cubicBezTo>
                    <a:pt x="0" y="1004"/>
                    <a:pt x="0" y="1007"/>
                    <a:pt x="0" y="1009"/>
                  </a:cubicBezTo>
                  <a:cubicBezTo>
                    <a:pt x="1" y="1018"/>
                    <a:pt x="5" y="1027"/>
                    <a:pt x="9" y="1035"/>
                  </a:cubicBezTo>
                  <a:cubicBezTo>
                    <a:pt x="14" y="1046"/>
                    <a:pt x="21" y="1055"/>
                    <a:pt x="29" y="1064"/>
                  </a:cubicBezTo>
                  <a:cubicBezTo>
                    <a:pt x="44" y="1082"/>
                    <a:pt x="61" y="1098"/>
                    <a:pt x="78" y="1113"/>
                  </a:cubicBezTo>
                  <a:cubicBezTo>
                    <a:pt x="95" y="1129"/>
                    <a:pt x="112" y="1146"/>
                    <a:pt x="125" y="1164"/>
                  </a:cubicBezTo>
                  <a:cubicBezTo>
                    <a:pt x="132" y="1174"/>
                    <a:pt x="138" y="1184"/>
                    <a:pt x="141" y="1195"/>
                  </a:cubicBezTo>
                  <a:cubicBezTo>
                    <a:pt x="145" y="1206"/>
                    <a:pt x="146" y="1218"/>
                    <a:pt x="145" y="1229"/>
                  </a:cubicBezTo>
                  <a:cubicBezTo>
                    <a:pt x="145" y="1234"/>
                    <a:pt x="144" y="1239"/>
                    <a:pt x="142" y="1244"/>
                  </a:cubicBezTo>
                  <a:cubicBezTo>
                    <a:pt x="137" y="1253"/>
                    <a:pt x="131" y="1261"/>
                    <a:pt x="124" y="1269"/>
                  </a:cubicBezTo>
                  <a:cubicBezTo>
                    <a:pt x="109" y="1286"/>
                    <a:pt x="92" y="1302"/>
                    <a:pt x="75" y="1318"/>
                  </a:cubicBezTo>
                  <a:cubicBezTo>
                    <a:pt x="58" y="1333"/>
                    <a:pt x="40" y="1349"/>
                    <a:pt x="26" y="1367"/>
                  </a:cubicBezTo>
                  <a:cubicBezTo>
                    <a:pt x="18" y="1376"/>
                    <a:pt x="11" y="1386"/>
                    <a:pt x="6" y="1396"/>
                  </a:cubicBezTo>
                  <a:cubicBezTo>
                    <a:pt x="3" y="1402"/>
                    <a:pt x="1" y="1408"/>
                    <a:pt x="0" y="1415"/>
                  </a:cubicBezTo>
                  <a:cubicBezTo>
                    <a:pt x="0" y="1418"/>
                    <a:pt x="1" y="1421"/>
                    <a:pt x="1" y="1425"/>
                  </a:cubicBezTo>
                  <a:cubicBezTo>
                    <a:pt x="0" y="1425"/>
                    <a:pt x="0" y="1425"/>
                    <a:pt x="0" y="1425"/>
                  </a:cubicBezTo>
                  <a:cubicBezTo>
                    <a:pt x="0" y="1426"/>
                    <a:pt x="1" y="1427"/>
                    <a:pt x="1" y="1429"/>
                  </a:cubicBezTo>
                  <a:cubicBezTo>
                    <a:pt x="1" y="1430"/>
                    <a:pt x="1" y="1431"/>
                    <a:pt x="1" y="1432"/>
                  </a:cubicBezTo>
                  <a:cubicBezTo>
                    <a:pt x="0" y="1434"/>
                    <a:pt x="0" y="1436"/>
                    <a:pt x="0" y="1438"/>
                  </a:cubicBezTo>
                  <a:cubicBezTo>
                    <a:pt x="1" y="1447"/>
                    <a:pt x="5" y="1456"/>
                    <a:pt x="9" y="1464"/>
                  </a:cubicBezTo>
                  <a:cubicBezTo>
                    <a:pt x="14" y="1475"/>
                    <a:pt x="21" y="1484"/>
                    <a:pt x="29" y="1493"/>
                  </a:cubicBezTo>
                  <a:cubicBezTo>
                    <a:pt x="36" y="1502"/>
                    <a:pt x="44" y="1510"/>
                    <a:pt x="51" y="1517"/>
                  </a:cubicBezTo>
                  <a:cubicBezTo>
                    <a:pt x="56" y="1522"/>
                    <a:pt x="60" y="1526"/>
                    <a:pt x="65" y="1531"/>
                  </a:cubicBezTo>
                  <a:cubicBezTo>
                    <a:pt x="81" y="1547"/>
                    <a:pt x="98" y="1563"/>
                    <a:pt x="114" y="1580"/>
                  </a:cubicBezTo>
                  <a:cubicBezTo>
                    <a:pt x="116" y="1582"/>
                    <a:pt x="118" y="1584"/>
                    <a:pt x="119" y="1586"/>
                  </a:cubicBezTo>
                  <a:cubicBezTo>
                    <a:pt x="121" y="1589"/>
                    <a:pt x="123" y="1591"/>
                    <a:pt x="125" y="1594"/>
                  </a:cubicBezTo>
                  <a:cubicBezTo>
                    <a:pt x="132" y="1603"/>
                    <a:pt x="138" y="1613"/>
                    <a:pt x="141" y="1624"/>
                  </a:cubicBezTo>
                  <a:cubicBezTo>
                    <a:pt x="145" y="1635"/>
                    <a:pt x="146" y="1647"/>
                    <a:pt x="145" y="1658"/>
                  </a:cubicBezTo>
                  <a:cubicBezTo>
                    <a:pt x="145" y="1666"/>
                    <a:pt x="143" y="1673"/>
                    <a:pt x="140" y="1680"/>
                  </a:cubicBezTo>
                  <a:cubicBezTo>
                    <a:pt x="135" y="1687"/>
                    <a:pt x="130" y="1694"/>
                    <a:pt x="124" y="1701"/>
                  </a:cubicBezTo>
                  <a:cubicBezTo>
                    <a:pt x="109" y="1718"/>
                    <a:pt x="92" y="1733"/>
                    <a:pt x="75" y="1749"/>
                  </a:cubicBezTo>
                  <a:cubicBezTo>
                    <a:pt x="58" y="1765"/>
                    <a:pt x="40" y="1781"/>
                    <a:pt x="26" y="1799"/>
                  </a:cubicBezTo>
                  <a:cubicBezTo>
                    <a:pt x="18" y="1808"/>
                    <a:pt x="11" y="1818"/>
                    <a:pt x="6" y="1828"/>
                  </a:cubicBezTo>
                  <a:cubicBezTo>
                    <a:pt x="3" y="1834"/>
                    <a:pt x="1" y="1840"/>
                    <a:pt x="0" y="1846"/>
                  </a:cubicBezTo>
                  <a:cubicBezTo>
                    <a:pt x="0" y="1849"/>
                    <a:pt x="1" y="1852"/>
                    <a:pt x="1" y="1855"/>
                  </a:cubicBezTo>
                  <a:cubicBezTo>
                    <a:pt x="0" y="1855"/>
                    <a:pt x="0" y="1855"/>
                    <a:pt x="0" y="1855"/>
                  </a:cubicBezTo>
                  <a:cubicBezTo>
                    <a:pt x="0" y="1856"/>
                    <a:pt x="1" y="1858"/>
                    <a:pt x="1" y="1859"/>
                  </a:cubicBezTo>
                  <a:cubicBezTo>
                    <a:pt x="1" y="1861"/>
                    <a:pt x="1" y="1862"/>
                    <a:pt x="1" y="1863"/>
                  </a:cubicBezTo>
                  <a:cubicBezTo>
                    <a:pt x="0" y="1865"/>
                    <a:pt x="0" y="1867"/>
                    <a:pt x="0" y="1870"/>
                  </a:cubicBezTo>
                  <a:cubicBezTo>
                    <a:pt x="1" y="1879"/>
                    <a:pt x="5" y="1888"/>
                    <a:pt x="9" y="1896"/>
                  </a:cubicBezTo>
                  <a:cubicBezTo>
                    <a:pt x="14" y="1907"/>
                    <a:pt x="21" y="1916"/>
                    <a:pt x="29" y="1925"/>
                  </a:cubicBezTo>
                  <a:cubicBezTo>
                    <a:pt x="44" y="1943"/>
                    <a:pt x="61" y="1958"/>
                    <a:pt x="78" y="1974"/>
                  </a:cubicBezTo>
                  <a:cubicBezTo>
                    <a:pt x="78" y="1975"/>
                    <a:pt x="79" y="1975"/>
                    <a:pt x="79" y="1975"/>
                  </a:cubicBezTo>
                  <a:cubicBezTo>
                    <a:pt x="86" y="1982"/>
                    <a:pt x="93" y="1988"/>
                    <a:pt x="99" y="1995"/>
                  </a:cubicBezTo>
                  <a:cubicBezTo>
                    <a:pt x="109" y="2005"/>
                    <a:pt x="117" y="2014"/>
                    <a:pt x="125" y="2025"/>
                  </a:cubicBezTo>
                  <a:cubicBezTo>
                    <a:pt x="132" y="2035"/>
                    <a:pt x="138" y="2045"/>
                    <a:pt x="141" y="2056"/>
                  </a:cubicBezTo>
                  <a:cubicBezTo>
                    <a:pt x="145" y="2067"/>
                    <a:pt x="146" y="2078"/>
                    <a:pt x="145" y="2090"/>
                  </a:cubicBezTo>
                  <a:cubicBezTo>
                    <a:pt x="145" y="2096"/>
                    <a:pt x="143" y="2102"/>
                    <a:pt x="141" y="2108"/>
                  </a:cubicBezTo>
                  <a:cubicBezTo>
                    <a:pt x="137" y="2116"/>
                    <a:pt x="131" y="2124"/>
                    <a:pt x="124" y="2131"/>
                  </a:cubicBezTo>
                  <a:cubicBezTo>
                    <a:pt x="116" y="2141"/>
                    <a:pt x="106" y="2150"/>
                    <a:pt x="97" y="2159"/>
                  </a:cubicBezTo>
                  <a:cubicBezTo>
                    <a:pt x="112" y="2159"/>
                    <a:pt x="112" y="2159"/>
                    <a:pt x="112" y="2159"/>
                  </a:cubicBezTo>
                  <a:cubicBezTo>
                    <a:pt x="119" y="2152"/>
                    <a:pt x="126" y="2145"/>
                    <a:pt x="132" y="2138"/>
                  </a:cubicBezTo>
                  <a:cubicBezTo>
                    <a:pt x="136" y="2133"/>
                    <a:pt x="141" y="2128"/>
                    <a:pt x="145" y="2122"/>
                  </a:cubicBezTo>
                  <a:cubicBezTo>
                    <a:pt x="145" y="2122"/>
                    <a:pt x="145" y="2122"/>
                    <a:pt x="145" y="2122"/>
                  </a:cubicBezTo>
                  <a:cubicBezTo>
                    <a:pt x="145" y="2122"/>
                    <a:pt x="145" y="2121"/>
                    <a:pt x="146" y="2120"/>
                  </a:cubicBezTo>
                  <a:cubicBezTo>
                    <a:pt x="148" y="2116"/>
                    <a:pt x="151" y="2112"/>
                    <a:pt x="153" y="2107"/>
                  </a:cubicBezTo>
                  <a:cubicBezTo>
                    <a:pt x="156" y="2101"/>
                    <a:pt x="158" y="2095"/>
                    <a:pt x="159" y="2088"/>
                  </a:cubicBezTo>
                  <a:cubicBezTo>
                    <a:pt x="160" y="2080"/>
                    <a:pt x="159" y="2074"/>
                    <a:pt x="158" y="2068"/>
                  </a:cubicBezTo>
                  <a:cubicBezTo>
                    <a:pt x="155" y="2055"/>
                    <a:pt x="150" y="2043"/>
                    <a:pt x="143" y="2033"/>
                  </a:cubicBezTo>
                  <a:cubicBezTo>
                    <a:pt x="142" y="2032"/>
                    <a:pt x="141" y="2030"/>
                    <a:pt x="140" y="2029"/>
                  </a:cubicBezTo>
                  <a:cubicBezTo>
                    <a:pt x="138" y="2026"/>
                    <a:pt x="136" y="2022"/>
                    <a:pt x="134" y="2019"/>
                  </a:cubicBezTo>
                  <a:cubicBezTo>
                    <a:pt x="120" y="1999"/>
                    <a:pt x="102" y="1982"/>
                    <a:pt x="86" y="1966"/>
                  </a:cubicBezTo>
                  <a:cubicBezTo>
                    <a:pt x="69" y="1950"/>
                    <a:pt x="52" y="1935"/>
                    <a:pt x="38" y="1917"/>
                  </a:cubicBezTo>
                  <a:cubicBezTo>
                    <a:pt x="24" y="1901"/>
                    <a:pt x="12" y="1881"/>
                    <a:pt x="11" y="1861"/>
                  </a:cubicBezTo>
                  <a:cubicBezTo>
                    <a:pt x="10" y="1852"/>
                    <a:pt x="12" y="1843"/>
                    <a:pt x="17" y="1833"/>
                  </a:cubicBezTo>
                  <a:cubicBezTo>
                    <a:pt x="21" y="1824"/>
                    <a:pt x="28" y="1815"/>
                    <a:pt x="35" y="1806"/>
                  </a:cubicBezTo>
                  <a:cubicBezTo>
                    <a:pt x="49" y="1789"/>
                    <a:pt x="65" y="1773"/>
                    <a:pt x="82" y="1757"/>
                  </a:cubicBezTo>
                  <a:cubicBezTo>
                    <a:pt x="99" y="1741"/>
                    <a:pt x="116" y="1726"/>
                    <a:pt x="132" y="1708"/>
                  </a:cubicBezTo>
                  <a:cubicBezTo>
                    <a:pt x="140" y="1698"/>
                    <a:pt x="148" y="1689"/>
                    <a:pt x="153" y="1677"/>
                  </a:cubicBezTo>
                  <a:cubicBezTo>
                    <a:pt x="156" y="1671"/>
                    <a:pt x="158" y="1664"/>
                    <a:pt x="159" y="1657"/>
                  </a:cubicBezTo>
                  <a:cubicBezTo>
                    <a:pt x="160" y="1650"/>
                    <a:pt x="159" y="1644"/>
                    <a:pt x="158" y="1637"/>
                  </a:cubicBezTo>
                  <a:cubicBezTo>
                    <a:pt x="155" y="1625"/>
                    <a:pt x="150" y="1614"/>
                    <a:pt x="144" y="1605"/>
                  </a:cubicBezTo>
                  <a:cubicBezTo>
                    <a:pt x="141" y="1599"/>
                    <a:pt x="138" y="1593"/>
                    <a:pt x="134" y="1588"/>
                  </a:cubicBezTo>
                  <a:cubicBezTo>
                    <a:pt x="120" y="1567"/>
                    <a:pt x="102" y="1551"/>
                    <a:pt x="86" y="1535"/>
                  </a:cubicBezTo>
                  <a:cubicBezTo>
                    <a:pt x="69" y="1519"/>
                    <a:pt x="52" y="1503"/>
                    <a:pt x="38" y="1486"/>
                  </a:cubicBezTo>
                  <a:cubicBezTo>
                    <a:pt x="24" y="1469"/>
                    <a:pt x="12" y="1450"/>
                    <a:pt x="11" y="1430"/>
                  </a:cubicBezTo>
                  <a:cubicBezTo>
                    <a:pt x="10" y="1421"/>
                    <a:pt x="12" y="1411"/>
                    <a:pt x="17" y="1402"/>
                  </a:cubicBezTo>
                  <a:cubicBezTo>
                    <a:pt x="21" y="1392"/>
                    <a:pt x="28" y="1383"/>
                    <a:pt x="35" y="1375"/>
                  </a:cubicBezTo>
                  <a:cubicBezTo>
                    <a:pt x="49" y="1357"/>
                    <a:pt x="65" y="1342"/>
                    <a:pt x="82" y="1326"/>
                  </a:cubicBezTo>
                  <a:cubicBezTo>
                    <a:pt x="99" y="1310"/>
                    <a:pt x="116" y="1294"/>
                    <a:pt x="132" y="1276"/>
                  </a:cubicBezTo>
                  <a:cubicBezTo>
                    <a:pt x="136" y="1271"/>
                    <a:pt x="140" y="1266"/>
                    <a:pt x="144" y="1261"/>
                  </a:cubicBezTo>
                  <a:cubicBezTo>
                    <a:pt x="145" y="1261"/>
                    <a:pt x="145" y="1261"/>
                    <a:pt x="145" y="1261"/>
                  </a:cubicBezTo>
                  <a:cubicBezTo>
                    <a:pt x="146" y="1259"/>
                    <a:pt x="147" y="1258"/>
                    <a:pt x="148" y="1256"/>
                  </a:cubicBezTo>
                  <a:cubicBezTo>
                    <a:pt x="150" y="1252"/>
                    <a:pt x="152" y="1249"/>
                    <a:pt x="153" y="1245"/>
                  </a:cubicBezTo>
                  <a:cubicBezTo>
                    <a:pt x="156" y="1239"/>
                    <a:pt x="158" y="1233"/>
                    <a:pt x="159" y="1226"/>
                  </a:cubicBezTo>
                  <a:cubicBezTo>
                    <a:pt x="160" y="1218"/>
                    <a:pt x="159" y="1212"/>
                    <a:pt x="158" y="1206"/>
                  </a:cubicBezTo>
                  <a:cubicBezTo>
                    <a:pt x="155" y="1193"/>
                    <a:pt x="150" y="1181"/>
                    <a:pt x="143" y="1171"/>
                  </a:cubicBezTo>
                  <a:cubicBezTo>
                    <a:pt x="141" y="1168"/>
                    <a:pt x="138" y="1164"/>
                    <a:pt x="136" y="1161"/>
                  </a:cubicBezTo>
                  <a:cubicBezTo>
                    <a:pt x="135" y="1160"/>
                    <a:pt x="134" y="1159"/>
                    <a:pt x="134" y="1158"/>
                  </a:cubicBezTo>
                  <a:cubicBezTo>
                    <a:pt x="120" y="1138"/>
                    <a:pt x="102" y="1122"/>
                    <a:pt x="86" y="1105"/>
                  </a:cubicBezTo>
                  <a:cubicBezTo>
                    <a:pt x="69" y="1089"/>
                    <a:pt x="52" y="1074"/>
                    <a:pt x="38" y="1057"/>
                  </a:cubicBezTo>
                  <a:cubicBezTo>
                    <a:pt x="24" y="1040"/>
                    <a:pt x="12" y="1020"/>
                    <a:pt x="11" y="1000"/>
                  </a:cubicBezTo>
                  <a:cubicBezTo>
                    <a:pt x="10" y="991"/>
                    <a:pt x="12" y="982"/>
                    <a:pt x="17" y="972"/>
                  </a:cubicBezTo>
                  <a:cubicBezTo>
                    <a:pt x="21" y="963"/>
                    <a:pt x="28" y="954"/>
                    <a:pt x="35" y="945"/>
                  </a:cubicBezTo>
                  <a:cubicBezTo>
                    <a:pt x="49" y="928"/>
                    <a:pt x="65" y="912"/>
                    <a:pt x="82" y="896"/>
                  </a:cubicBezTo>
                  <a:cubicBezTo>
                    <a:pt x="99" y="880"/>
                    <a:pt x="116" y="865"/>
                    <a:pt x="132" y="847"/>
                  </a:cubicBezTo>
                  <a:cubicBezTo>
                    <a:pt x="140" y="837"/>
                    <a:pt x="148" y="828"/>
                    <a:pt x="153" y="816"/>
                  </a:cubicBezTo>
                  <a:cubicBezTo>
                    <a:pt x="156" y="810"/>
                    <a:pt x="158" y="803"/>
                    <a:pt x="159" y="796"/>
                  </a:cubicBezTo>
                  <a:cubicBezTo>
                    <a:pt x="160" y="789"/>
                    <a:pt x="159" y="783"/>
                    <a:pt x="158" y="776"/>
                  </a:cubicBezTo>
                  <a:cubicBezTo>
                    <a:pt x="156" y="766"/>
                    <a:pt x="152" y="756"/>
                    <a:pt x="147" y="748"/>
                  </a:cubicBezTo>
                  <a:cubicBezTo>
                    <a:pt x="143" y="740"/>
                    <a:pt x="139" y="732"/>
                    <a:pt x="134" y="726"/>
                  </a:cubicBezTo>
                  <a:cubicBezTo>
                    <a:pt x="120" y="705"/>
                    <a:pt x="102" y="689"/>
                    <a:pt x="86" y="673"/>
                  </a:cubicBezTo>
                  <a:cubicBezTo>
                    <a:pt x="69" y="656"/>
                    <a:pt x="52" y="641"/>
                    <a:pt x="38" y="624"/>
                  </a:cubicBezTo>
                  <a:cubicBezTo>
                    <a:pt x="24" y="607"/>
                    <a:pt x="12" y="588"/>
                    <a:pt x="11" y="568"/>
                  </a:cubicBezTo>
                  <a:cubicBezTo>
                    <a:pt x="10" y="558"/>
                    <a:pt x="12" y="549"/>
                    <a:pt x="17" y="540"/>
                  </a:cubicBezTo>
                  <a:cubicBezTo>
                    <a:pt x="21" y="530"/>
                    <a:pt x="28" y="521"/>
                    <a:pt x="35" y="513"/>
                  </a:cubicBezTo>
                  <a:cubicBezTo>
                    <a:pt x="49" y="495"/>
                    <a:pt x="65" y="480"/>
                    <a:pt x="82" y="464"/>
                  </a:cubicBezTo>
                  <a:cubicBezTo>
                    <a:pt x="99" y="448"/>
                    <a:pt x="116" y="432"/>
                    <a:pt x="132" y="414"/>
                  </a:cubicBezTo>
                  <a:cubicBezTo>
                    <a:pt x="140" y="405"/>
                    <a:pt x="148" y="395"/>
                    <a:pt x="153" y="383"/>
                  </a:cubicBezTo>
                  <a:cubicBezTo>
                    <a:pt x="156" y="377"/>
                    <a:pt x="158" y="371"/>
                    <a:pt x="159" y="364"/>
                  </a:cubicBezTo>
                  <a:cubicBezTo>
                    <a:pt x="160" y="356"/>
                    <a:pt x="159" y="350"/>
                    <a:pt x="158" y="344"/>
                  </a:cubicBezTo>
                  <a:cubicBezTo>
                    <a:pt x="156" y="333"/>
                    <a:pt x="152" y="324"/>
                    <a:pt x="147" y="315"/>
                  </a:cubicBezTo>
                  <a:cubicBezTo>
                    <a:pt x="143" y="307"/>
                    <a:pt x="139" y="300"/>
                    <a:pt x="134" y="293"/>
                  </a:cubicBezTo>
                  <a:cubicBezTo>
                    <a:pt x="120" y="273"/>
                    <a:pt x="102" y="256"/>
                    <a:pt x="86" y="240"/>
                  </a:cubicBezTo>
                  <a:cubicBezTo>
                    <a:pt x="69" y="224"/>
                    <a:pt x="52" y="208"/>
                    <a:pt x="38" y="191"/>
                  </a:cubicBezTo>
                  <a:cubicBezTo>
                    <a:pt x="24" y="174"/>
                    <a:pt x="12" y="155"/>
                    <a:pt x="11" y="135"/>
                  </a:cubicBezTo>
                  <a:cubicBezTo>
                    <a:pt x="10" y="126"/>
                    <a:pt x="12" y="116"/>
                    <a:pt x="17" y="107"/>
                  </a:cubicBezTo>
                  <a:cubicBezTo>
                    <a:pt x="21" y="97"/>
                    <a:pt x="28" y="88"/>
                    <a:pt x="35" y="80"/>
                  </a:cubicBezTo>
                  <a:cubicBezTo>
                    <a:pt x="49" y="63"/>
                    <a:pt x="65" y="47"/>
                    <a:pt x="82" y="31"/>
                  </a:cubicBezTo>
                  <a:cubicBezTo>
                    <a:pt x="93" y="21"/>
                    <a:pt x="104" y="10"/>
                    <a:pt x="114" y="0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91" y="7"/>
                    <a:pt x="83" y="15"/>
                    <a:pt x="75" y="23"/>
                  </a:cubicBezTo>
                  <a:cubicBezTo>
                    <a:pt x="58" y="39"/>
                    <a:pt x="40" y="54"/>
                    <a:pt x="26" y="72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3" name="Freeform 13"/>
            <p:cNvSpPr/>
            <p:nvPr/>
          </p:nvSpPr>
          <p:spPr>
            <a:xfrm>
              <a:off x="2541600" y="-1440"/>
              <a:ext cx="991800" cy="6862320"/>
            </a:xfrm>
            <a:custGeom>
              <a:avLst/>
              <a:gdLst>
                <a:gd name="textAreaLeft" fmla="*/ 0 w 991800"/>
                <a:gd name="textAreaRight" fmla="*/ 992160 w 99180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312" h="2159">
                  <a:moveTo>
                    <a:pt x="123" y="74"/>
                  </a:moveTo>
                  <a:cubicBezTo>
                    <a:pt x="130" y="83"/>
                    <a:pt x="137" y="92"/>
                    <a:pt x="142" y="103"/>
                  </a:cubicBezTo>
                  <a:cubicBezTo>
                    <a:pt x="146" y="111"/>
                    <a:pt x="149" y="121"/>
                    <a:pt x="149" y="131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46" y="149"/>
                    <a:pt x="139" y="167"/>
                    <a:pt x="129" y="183"/>
                  </a:cubicBezTo>
                  <a:cubicBezTo>
                    <a:pt x="127" y="187"/>
                    <a:pt x="124" y="192"/>
                    <a:pt x="121" y="196"/>
                  </a:cubicBezTo>
                  <a:cubicBezTo>
                    <a:pt x="120" y="196"/>
                    <a:pt x="120" y="197"/>
                    <a:pt x="120" y="197"/>
                  </a:cubicBezTo>
                  <a:cubicBezTo>
                    <a:pt x="105" y="215"/>
                    <a:pt x="87" y="230"/>
                    <a:pt x="71" y="246"/>
                  </a:cubicBezTo>
                  <a:cubicBezTo>
                    <a:pt x="54" y="262"/>
                    <a:pt x="37" y="279"/>
                    <a:pt x="23" y="298"/>
                  </a:cubicBezTo>
                  <a:cubicBezTo>
                    <a:pt x="22" y="300"/>
                    <a:pt x="20" y="302"/>
                    <a:pt x="19" y="305"/>
                  </a:cubicBezTo>
                  <a:cubicBezTo>
                    <a:pt x="17" y="307"/>
                    <a:pt x="15" y="310"/>
                    <a:pt x="13" y="313"/>
                  </a:cubicBezTo>
                  <a:cubicBezTo>
                    <a:pt x="7" y="322"/>
                    <a:pt x="2" y="333"/>
                    <a:pt x="0" y="345"/>
                  </a:cubicBezTo>
                  <a:cubicBezTo>
                    <a:pt x="0" y="345"/>
                    <a:pt x="0" y="346"/>
                    <a:pt x="0" y="347"/>
                  </a:cubicBezTo>
                  <a:cubicBezTo>
                    <a:pt x="1" y="352"/>
                    <a:pt x="1" y="357"/>
                    <a:pt x="0" y="364"/>
                  </a:cubicBezTo>
                  <a:cubicBezTo>
                    <a:pt x="0" y="365"/>
                    <a:pt x="0" y="366"/>
                    <a:pt x="0" y="367"/>
                  </a:cubicBezTo>
                  <a:cubicBezTo>
                    <a:pt x="1" y="372"/>
                    <a:pt x="2" y="376"/>
                    <a:pt x="4" y="379"/>
                  </a:cubicBezTo>
                  <a:cubicBezTo>
                    <a:pt x="6" y="383"/>
                    <a:pt x="8" y="387"/>
                    <a:pt x="10" y="390"/>
                  </a:cubicBezTo>
                  <a:cubicBezTo>
                    <a:pt x="11" y="392"/>
                    <a:pt x="12" y="394"/>
                    <a:pt x="13" y="396"/>
                  </a:cubicBezTo>
                  <a:cubicBezTo>
                    <a:pt x="14" y="396"/>
                    <a:pt x="14" y="396"/>
                    <a:pt x="14" y="396"/>
                  </a:cubicBezTo>
                  <a:cubicBezTo>
                    <a:pt x="17" y="400"/>
                    <a:pt x="21" y="404"/>
                    <a:pt x="24" y="408"/>
                  </a:cubicBezTo>
                  <a:cubicBezTo>
                    <a:pt x="40" y="426"/>
                    <a:pt x="57" y="441"/>
                    <a:pt x="74" y="457"/>
                  </a:cubicBezTo>
                  <a:cubicBezTo>
                    <a:pt x="91" y="473"/>
                    <a:pt x="108" y="489"/>
                    <a:pt x="123" y="507"/>
                  </a:cubicBezTo>
                  <a:cubicBezTo>
                    <a:pt x="130" y="516"/>
                    <a:pt x="137" y="525"/>
                    <a:pt x="142" y="535"/>
                  </a:cubicBezTo>
                  <a:cubicBezTo>
                    <a:pt x="146" y="544"/>
                    <a:pt x="149" y="554"/>
                    <a:pt x="149" y="564"/>
                  </a:cubicBezTo>
                  <a:cubicBezTo>
                    <a:pt x="149" y="564"/>
                    <a:pt x="149" y="564"/>
                    <a:pt x="149" y="564"/>
                  </a:cubicBezTo>
                  <a:cubicBezTo>
                    <a:pt x="146" y="582"/>
                    <a:pt x="139" y="600"/>
                    <a:pt x="129" y="616"/>
                  </a:cubicBezTo>
                  <a:cubicBezTo>
                    <a:pt x="127" y="620"/>
                    <a:pt x="124" y="625"/>
                    <a:pt x="121" y="629"/>
                  </a:cubicBezTo>
                  <a:cubicBezTo>
                    <a:pt x="120" y="629"/>
                    <a:pt x="120" y="629"/>
                    <a:pt x="120" y="630"/>
                  </a:cubicBezTo>
                  <a:cubicBezTo>
                    <a:pt x="105" y="648"/>
                    <a:pt x="87" y="663"/>
                    <a:pt x="71" y="679"/>
                  </a:cubicBezTo>
                  <a:cubicBezTo>
                    <a:pt x="54" y="695"/>
                    <a:pt x="37" y="711"/>
                    <a:pt x="23" y="730"/>
                  </a:cubicBezTo>
                  <a:cubicBezTo>
                    <a:pt x="22" y="733"/>
                    <a:pt x="20" y="735"/>
                    <a:pt x="19" y="737"/>
                  </a:cubicBezTo>
                  <a:cubicBezTo>
                    <a:pt x="17" y="740"/>
                    <a:pt x="15" y="743"/>
                    <a:pt x="13" y="745"/>
                  </a:cubicBezTo>
                  <a:cubicBezTo>
                    <a:pt x="7" y="755"/>
                    <a:pt x="2" y="766"/>
                    <a:pt x="0" y="778"/>
                  </a:cubicBezTo>
                  <a:cubicBezTo>
                    <a:pt x="0" y="778"/>
                    <a:pt x="0" y="779"/>
                    <a:pt x="0" y="779"/>
                  </a:cubicBezTo>
                  <a:cubicBezTo>
                    <a:pt x="1" y="785"/>
                    <a:pt x="1" y="790"/>
                    <a:pt x="0" y="796"/>
                  </a:cubicBezTo>
                  <a:cubicBezTo>
                    <a:pt x="0" y="798"/>
                    <a:pt x="0" y="799"/>
                    <a:pt x="0" y="800"/>
                  </a:cubicBezTo>
                  <a:cubicBezTo>
                    <a:pt x="1" y="804"/>
                    <a:pt x="2" y="808"/>
                    <a:pt x="4" y="812"/>
                  </a:cubicBezTo>
                  <a:cubicBezTo>
                    <a:pt x="6" y="816"/>
                    <a:pt x="8" y="819"/>
                    <a:pt x="10" y="823"/>
                  </a:cubicBezTo>
                  <a:cubicBezTo>
                    <a:pt x="11" y="825"/>
                    <a:pt x="12" y="827"/>
                    <a:pt x="13" y="828"/>
                  </a:cubicBezTo>
                  <a:cubicBezTo>
                    <a:pt x="14" y="828"/>
                    <a:pt x="14" y="828"/>
                    <a:pt x="14" y="828"/>
                  </a:cubicBezTo>
                  <a:cubicBezTo>
                    <a:pt x="17" y="833"/>
                    <a:pt x="21" y="837"/>
                    <a:pt x="24" y="841"/>
                  </a:cubicBezTo>
                  <a:cubicBezTo>
                    <a:pt x="40" y="858"/>
                    <a:pt x="57" y="874"/>
                    <a:pt x="74" y="890"/>
                  </a:cubicBezTo>
                  <a:cubicBezTo>
                    <a:pt x="91" y="906"/>
                    <a:pt x="108" y="922"/>
                    <a:pt x="123" y="939"/>
                  </a:cubicBezTo>
                  <a:cubicBezTo>
                    <a:pt x="130" y="948"/>
                    <a:pt x="137" y="958"/>
                    <a:pt x="142" y="968"/>
                  </a:cubicBezTo>
                  <a:cubicBezTo>
                    <a:pt x="146" y="976"/>
                    <a:pt x="148" y="984"/>
                    <a:pt x="149" y="993"/>
                  </a:cubicBezTo>
                  <a:cubicBezTo>
                    <a:pt x="149" y="993"/>
                    <a:pt x="149" y="993"/>
                    <a:pt x="149" y="993"/>
                  </a:cubicBezTo>
                  <a:cubicBezTo>
                    <a:pt x="146" y="1012"/>
                    <a:pt x="139" y="1029"/>
                    <a:pt x="129" y="1045"/>
                  </a:cubicBezTo>
                  <a:cubicBezTo>
                    <a:pt x="117" y="1065"/>
                    <a:pt x="101" y="1082"/>
                    <a:pt x="84" y="1098"/>
                  </a:cubicBezTo>
                  <a:cubicBezTo>
                    <a:pt x="68" y="1114"/>
                    <a:pt x="51" y="1130"/>
                    <a:pt x="35" y="1147"/>
                  </a:cubicBezTo>
                  <a:cubicBezTo>
                    <a:pt x="27" y="1156"/>
                    <a:pt x="20" y="1165"/>
                    <a:pt x="13" y="1175"/>
                  </a:cubicBezTo>
                  <a:cubicBezTo>
                    <a:pt x="7" y="1185"/>
                    <a:pt x="2" y="1195"/>
                    <a:pt x="0" y="1207"/>
                  </a:cubicBezTo>
                  <a:cubicBezTo>
                    <a:pt x="0" y="1208"/>
                    <a:pt x="0" y="1208"/>
                    <a:pt x="0" y="1209"/>
                  </a:cubicBezTo>
                  <a:cubicBezTo>
                    <a:pt x="1" y="1214"/>
                    <a:pt x="1" y="1220"/>
                    <a:pt x="0" y="1226"/>
                  </a:cubicBezTo>
                  <a:cubicBezTo>
                    <a:pt x="0" y="1227"/>
                    <a:pt x="0" y="1228"/>
                    <a:pt x="0" y="1230"/>
                  </a:cubicBezTo>
                  <a:cubicBezTo>
                    <a:pt x="1" y="1234"/>
                    <a:pt x="2" y="1238"/>
                    <a:pt x="4" y="1242"/>
                  </a:cubicBezTo>
                  <a:cubicBezTo>
                    <a:pt x="5" y="1243"/>
                    <a:pt x="6" y="1244"/>
                    <a:pt x="6" y="1245"/>
                  </a:cubicBezTo>
                  <a:cubicBezTo>
                    <a:pt x="8" y="1251"/>
                    <a:pt x="10" y="1256"/>
                    <a:pt x="13" y="1261"/>
                  </a:cubicBezTo>
                  <a:cubicBezTo>
                    <a:pt x="17" y="1261"/>
                    <a:pt x="17" y="1261"/>
                    <a:pt x="17" y="1261"/>
                  </a:cubicBezTo>
                  <a:cubicBezTo>
                    <a:pt x="19" y="1264"/>
                    <a:pt x="22" y="1267"/>
                    <a:pt x="24" y="1270"/>
                  </a:cubicBezTo>
                  <a:cubicBezTo>
                    <a:pt x="40" y="1288"/>
                    <a:pt x="57" y="1303"/>
                    <a:pt x="74" y="1319"/>
                  </a:cubicBezTo>
                  <a:cubicBezTo>
                    <a:pt x="91" y="1335"/>
                    <a:pt x="108" y="1351"/>
                    <a:pt x="123" y="1369"/>
                  </a:cubicBezTo>
                  <a:cubicBezTo>
                    <a:pt x="130" y="1378"/>
                    <a:pt x="137" y="1387"/>
                    <a:pt x="142" y="1398"/>
                  </a:cubicBezTo>
                  <a:cubicBezTo>
                    <a:pt x="146" y="1406"/>
                    <a:pt x="149" y="1415"/>
                    <a:pt x="149" y="1425"/>
                  </a:cubicBezTo>
                  <a:cubicBezTo>
                    <a:pt x="149" y="1425"/>
                    <a:pt x="149" y="1425"/>
                    <a:pt x="149" y="1425"/>
                  </a:cubicBezTo>
                  <a:cubicBezTo>
                    <a:pt x="146" y="1443"/>
                    <a:pt x="139" y="1461"/>
                    <a:pt x="129" y="1477"/>
                  </a:cubicBezTo>
                  <a:cubicBezTo>
                    <a:pt x="124" y="1485"/>
                    <a:pt x="118" y="1493"/>
                    <a:pt x="111" y="1501"/>
                  </a:cubicBezTo>
                  <a:cubicBezTo>
                    <a:pt x="99" y="1515"/>
                    <a:pt x="84" y="1528"/>
                    <a:pt x="71" y="1541"/>
                  </a:cubicBezTo>
                  <a:cubicBezTo>
                    <a:pt x="55" y="1556"/>
                    <a:pt x="39" y="1572"/>
                    <a:pt x="26" y="1590"/>
                  </a:cubicBezTo>
                  <a:cubicBezTo>
                    <a:pt x="21" y="1595"/>
                    <a:pt x="17" y="1600"/>
                    <a:pt x="13" y="1606"/>
                  </a:cubicBezTo>
                  <a:cubicBezTo>
                    <a:pt x="7" y="1616"/>
                    <a:pt x="2" y="1627"/>
                    <a:pt x="0" y="1639"/>
                  </a:cubicBezTo>
                  <a:cubicBezTo>
                    <a:pt x="0" y="1639"/>
                    <a:pt x="0" y="1640"/>
                    <a:pt x="0" y="1640"/>
                  </a:cubicBezTo>
                  <a:cubicBezTo>
                    <a:pt x="1" y="1646"/>
                    <a:pt x="1" y="1651"/>
                    <a:pt x="0" y="1657"/>
                  </a:cubicBezTo>
                  <a:cubicBezTo>
                    <a:pt x="0" y="1659"/>
                    <a:pt x="0" y="1660"/>
                    <a:pt x="0" y="1661"/>
                  </a:cubicBezTo>
                  <a:cubicBezTo>
                    <a:pt x="1" y="1665"/>
                    <a:pt x="2" y="1669"/>
                    <a:pt x="4" y="1673"/>
                  </a:cubicBezTo>
                  <a:cubicBezTo>
                    <a:pt x="6" y="1676"/>
                    <a:pt x="7" y="1679"/>
                    <a:pt x="9" y="1681"/>
                  </a:cubicBezTo>
                  <a:cubicBezTo>
                    <a:pt x="10" y="1685"/>
                    <a:pt x="12" y="1688"/>
                    <a:pt x="13" y="1691"/>
                  </a:cubicBezTo>
                  <a:cubicBezTo>
                    <a:pt x="15" y="1691"/>
                    <a:pt x="15" y="1691"/>
                    <a:pt x="15" y="1691"/>
                  </a:cubicBezTo>
                  <a:cubicBezTo>
                    <a:pt x="18" y="1694"/>
                    <a:pt x="21" y="1698"/>
                    <a:pt x="24" y="1702"/>
                  </a:cubicBezTo>
                  <a:cubicBezTo>
                    <a:pt x="40" y="1719"/>
                    <a:pt x="57" y="1735"/>
                    <a:pt x="74" y="1751"/>
                  </a:cubicBezTo>
                  <a:cubicBezTo>
                    <a:pt x="91" y="1767"/>
                    <a:pt x="108" y="1783"/>
                    <a:pt x="123" y="1800"/>
                  </a:cubicBezTo>
                  <a:cubicBezTo>
                    <a:pt x="130" y="1809"/>
                    <a:pt x="137" y="1819"/>
                    <a:pt x="142" y="1829"/>
                  </a:cubicBezTo>
                  <a:cubicBezTo>
                    <a:pt x="146" y="1837"/>
                    <a:pt x="149" y="1846"/>
                    <a:pt x="149" y="1855"/>
                  </a:cubicBezTo>
                  <a:cubicBezTo>
                    <a:pt x="149" y="1855"/>
                    <a:pt x="149" y="1855"/>
                    <a:pt x="149" y="1855"/>
                  </a:cubicBezTo>
                  <a:cubicBezTo>
                    <a:pt x="146" y="1874"/>
                    <a:pt x="139" y="1891"/>
                    <a:pt x="129" y="1907"/>
                  </a:cubicBezTo>
                  <a:cubicBezTo>
                    <a:pt x="119" y="1923"/>
                    <a:pt x="107" y="1938"/>
                    <a:pt x="93" y="1951"/>
                  </a:cubicBezTo>
                  <a:cubicBezTo>
                    <a:pt x="86" y="1959"/>
                    <a:pt x="78" y="1966"/>
                    <a:pt x="71" y="1973"/>
                  </a:cubicBezTo>
                  <a:cubicBezTo>
                    <a:pt x="59" y="1984"/>
                    <a:pt x="48" y="1995"/>
                    <a:pt x="37" y="2007"/>
                  </a:cubicBezTo>
                  <a:cubicBezTo>
                    <a:pt x="36" y="2008"/>
                    <a:pt x="36" y="2008"/>
                    <a:pt x="35" y="2009"/>
                  </a:cubicBezTo>
                  <a:cubicBezTo>
                    <a:pt x="27" y="2018"/>
                    <a:pt x="20" y="2027"/>
                    <a:pt x="13" y="2037"/>
                  </a:cubicBezTo>
                  <a:cubicBezTo>
                    <a:pt x="7" y="2047"/>
                    <a:pt x="2" y="2057"/>
                    <a:pt x="0" y="2069"/>
                  </a:cubicBezTo>
                  <a:cubicBezTo>
                    <a:pt x="0" y="2070"/>
                    <a:pt x="0" y="2070"/>
                    <a:pt x="0" y="2071"/>
                  </a:cubicBezTo>
                  <a:cubicBezTo>
                    <a:pt x="1" y="2076"/>
                    <a:pt x="1" y="2082"/>
                    <a:pt x="0" y="2088"/>
                  </a:cubicBezTo>
                  <a:cubicBezTo>
                    <a:pt x="0" y="2089"/>
                    <a:pt x="0" y="2090"/>
                    <a:pt x="0" y="2092"/>
                  </a:cubicBezTo>
                  <a:cubicBezTo>
                    <a:pt x="1" y="2096"/>
                    <a:pt x="2" y="2100"/>
                    <a:pt x="4" y="2104"/>
                  </a:cubicBezTo>
                  <a:cubicBezTo>
                    <a:pt x="5" y="2106"/>
                    <a:pt x="6" y="2107"/>
                    <a:pt x="7" y="2109"/>
                  </a:cubicBezTo>
                  <a:cubicBezTo>
                    <a:pt x="9" y="2114"/>
                    <a:pt x="11" y="2118"/>
                    <a:pt x="13" y="2122"/>
                  </a:cubicBezTo>
                  <a:cubicBezTo>
                    <a:pt x="16" y="2122"/>
                    <a:pt x="16" y="2122"/>
                    <a:pt x="16" y="2122"/>
                  </a:cubicBezTo>
                  <a:cubicBezTo>
                    <a:pt x="19" y="2126"/>
                    <a:pt x="22" y="2129"/>
                    <a:pt x="24" y="2132"/>
                  </a:cubicBezTo>
                  <a:cubicBezTo>
                    <a:pt x="33" y="2142"/>
                    <a:pt x="41" y="2150"/>
                    <a:pt x="50" y="2159"/>
                  </a:cubicBezTo>
                  <a:cubicBezTo>
                    <a:pt x="66" y="2159"/>
                    <a:pt x="66" y="2159"/>
                    <a:pt x="66" y="2159"/>
                  </a:cubicBezTo>
                  <a:cubicBezTo>
                    <a:pt x="54" y="2148"/>
                    <a:pt x="43" y="2137"/>
                    <a:pt x="32" y="2125"/>
                  </a:cubicBezTo>
                  <a:cubicBezTo>
                    <a:pt x="25" y="2117"/>
                    <a:pt x="19" y="2109"/>
                    <a:pt x="14" y="2101"/>
                  </a:cubicBezTo>
                  <a:cubicBezTo>
                    <a:pt x="13" y="2097"/>
                    <a:pt x="13" y="2093"/>
                    <a:pt x="13" y="2089"/>
                  </a:cubicBezTo>
                  <a:cubicBezTo>
                    <a:pt x="11" y="2068"/>
                    <a:pt x="19" y="2048"/>
                    <a:pt x="32" y="2030"/>
                  </a:cubicBezTo>
                  <a:cubicBezTo>
                    <a:pt x="45" y="2012"/>
                    <a:pt x="61" y="1997"/>
                    <a:pt x="78" y="1981"/>
                  </a:cubicBezTo>
                  <a:cubicBezTo>
                    <a:pt x="95" y="1965"/>
                    <a:pt x="113" y="1949"/>
                    <a:pt x="129" y="1931"/>
                  </a:cubicBezTo>
                  <a:cubicBezTo>
                    <a:pt x="136" y="1922"/>
                    <a:pt x="144" y="1912"/>
                    <a:pt x="150" y="1900"/>
                  </a:cubicBezTo>
                  <a:cubicBezTo>
                    <a:pt x="152" y="1895"/>
                    <a:pt x="155" y="1890"/>
                    <a:pt x="156" y="1884"/>
                  </a:cubicBezTo>
                  <a:cubicBezTo>
                    <a:pt x="158" y="1888"/>
                    <a:pt x="160" y="1892"/>
                    <a:pt x="161" y="1896"/>
                  </a:cubicBezTo>
                  <a:cubicBezTo>
                    <a:pt x="167" y="1907"/>
                    <a:pt x="174" y="1916"/>
                    <a:pt x="181" y="1925"/>
                  </a:cubicBezTo>
                  <a:cubicBezTo>
                    <a:pt x="196" y="1943"/>
                    <a:pt x="214" y="1958"/>
                    <a:pt x="231" y="1974"/>
                  </a:cubicBezTo>
                  <a:cubicBezTo>
                    <a:pt x="231" y="1975"/>
                    <a:pt x="231" y="1975"/>
                    <a:pt x="232" y="1975"/>
                  </a:cubicBezTo>
                  <a:cubicBezTo>
                    <a:pt x="238" y="1982"/>
                    <a:pt x="245" y="1988"/>
                    <a:pt x="252" y="1995"/>
                  </a:cubicBezTo>
                  <a:cubicBezTo>
                    <a:pt x="261" y="2004"/>
                    <a:pt x="270" y="2014"/>
                    <a:pt x="278" y="2025"/>
                  </a:cubicBezTo>
                  <a:cubicBezTo>
                    <a:pt x="284" y="2035"/>
                    <a:pt x="290" y="2045"/>
                    <a:pt x="294" y="2056"/>
                  </a:cubicBezTo>
                  <a:cubicBezTo>
                    <a:pt x="297" y="2067"/>
                    <a:pt x="299" y="2078"/>
                    <a:pt x="298" y="2090"/>
                  </a:cubicBezTo>
                  <a:cubicBezTo>
                    <a:pt x="297" y="2096"/>
                    <a:pt x="296" y="2102"/>
                    <a:pt x="294" y="2108"/>
                  </a:cubicBezTo>
                  <a:cubicBezTo>
                    <a:pt x="289" y="2116"/>
                    <a:pt x="283" y="2124"/>
                    <a:pt x="277" y="2131"/>
                  </a:cubicBezTo>
                  <a:cubicBezTo>
                    <a:pt x="268" y="2141"/>
                    <a:pt x="259" y="2150"/>
                    <a:pt x="249" y="2159"/>
                  </a:cubicBezTo>
                  <a:cubicBezTo>
                    <a:pt x="265" y="2159"/>
                    <a:pt x="265" y="2159"/>
                    <a:pt x="265" y="2159"/>
                  </a:cubicBezTo>
                  <a:cubicBezTo>
                    <a:pt x="272" y="2152"/>
                    <a:pt x="278" y="2145"/>
                    <a:pt x="285" y="2138"/>
                  </a:cubicBezTo>
                  <a:cubicBezTo>
                    <a:pt x="289" y="2133"/>
                    <a:pt x="293" y="2128"/>
                    <a:pt x="297" y="2122"/>
                  </a:cubicBezTo>
                  <a:cubicBezTo>
                    <a:pt x="297" y="2122"/>
                    <a:pt x="297" y="2122"/>
                    <a:pt x="297" y="2122"/>
                  </a:cubicBezTo>
                  <a:cubicBezTo>
                    <a:pt x="298" y="2122"/>
                    <a:pt x="298" y="2121"/>
                    <a:pt x="298" y="2120"/>
                  </a:cubicBezTo>
                  <a:cubicBezTo>
                    <a:pt x="301" y="2116"/>
                    <a:pt x="304" y="2112"/>
                    <a:pt x="306" y="2107"/>
                  </a:cubicBezTo>
                  <a:cubicBezTo>
                    <a:pt x="309" y="2101"/>
                    <a:pt x="311" y="2095"/>
                    <a:pt x="312" y="2088"/>
                  </a:cubicBezTo>
                  <a:cubicBezTo>
                    <a:pt x="312" y="2080"/>
                    <a:pt x="311" y="2074"/>
                    <a:pt x="310" y="2068"/>
                  </a:cubicBezTo>
                  <a:cubicBezTo>
                    <a:pt x="308" y="2055"/>
                    <a:pt x="302" y="2043"/>
                    <a:pt x="295" y="2033"/>
                  </a:cubicBezTo>
                  <a:cubicBezTo>
                    <a:pt x="294" y="2032"/>
                    <a:pt x="293" y="2030"/>
                    <a:pt x="293" y="2029"/>
                  </a:cubicBezTo>
                  <a:cubicBezTo>
                    <a:pt x="291" y="2026"/>
                    <a:pt x="289" y="2022"/>
                    <a:pt x="286" y="2019"/>
                  </a:cubicBezTo>
                  <a:cubicBezTo>
                    <a:pt x="272" y="1999"/>
                    <a:pt x="255" y="1982"/>
                    <a:pt x="238" y="1966"/>
                  </a:cubicBezTo>
                  <a:cubicBezTo>
                    <a:pt x="221" y="1950"/>
                    <a:pt x="204" y="1935"/>
                    <a:pt x="190" y="1917"/>
                  </a:cubicBezTo>
                  <a:cubicBezTo>
                    <a:pt x="176" y="1901"/>
                    <a:pt x="165" y="1881"/>
                    <a:pt x="163" y="1861"/>
                  </a:cubicBezTo>
                  <a:cubicBezTo>
                    <a:pt x="163" y="1852"/>
                    <a:pt x="165" y="1843"/>
                    <a:pt x="169" y="1833"/>
                  </a:cubicBezTo>
                  <a:cubicBezTo>
                    <a:pt x="174" y="1824"/>
                    <a:pt x="180" y="1815"/>
                    <a:pt x="187" y="1806"/>
                  </a:cubicBezTo>
                  <a:cubicBezTo>
                    <a:pt x="201" y="1789"/>
                    <a:pt x="218" y="1773"/>
                    <a:pt x="235" y="1757"/>
                  </a:cubicBezTo>
                  <a:cubicBezTo>
                    <a:pt x="251" y="1741"/>
                    <a:pt x="269" y="1726"/>
                    <a:pt x="285" y="1708"/>
                  </a:cubicBezTo>
                  <a:cubicBezTo>
                    <a:pt x="293" y="1698"/>
                    <a:pt x="300" y="1689"/>
                    <a:pt x="306" y="1677"/>
                  </a:cubicBezTo>
                  <a:cubicBezTo>
                    <a:pt x="309" y="1671"/>
                    <a:pt x="311" y="1664"/>
                    <a:pt x="312" y="1657"/>
                  </a:cubicBezTo>
                  <a:cubicBezTo>
                    <a:pt x="312" y="1650"/>
                    <a:pt x="311" y="1644"/>
                    <a:pt x="310" y="1637"/>
                  </a:cubicBezTo>
                  <a:cubicBezTo>
                    <a:pt x="308" y="1625"/>
                    <a:pt x="303" y="1614"/>
                    <a:pt x="296" y="1605"/>
                  </a:cubicBezTo>
                  <a:cubicBezTo>
                    <a:pt x="293" y="1599"/>
                    <a:pt x="290" y="1593"/>
                    <a:pt x="286" y="1588"/>
                  </a:cubicBezTo>
                  <a:cubicBezTo>
                    <a:pt x="272" y="1567"/>
                    <a:pt x="255" y="1551"/>
                    <a:pt x="238" y="1535"/>
                  </a:cubicBezTo>
                  <a:cubicBezTo>
                    <a:pt x="221" y="1519"/>
                    <a:pt x="204" y="1503"/>
                    <a:pt x="190" y="1486"/>
                  </a:cubicBezTo>
                  <a:cubicBezTo>
                    <a:pt x="176" y="1469"/>
                    <a:pt x="165" y="1450"/>
                    <a:pt x="163" y="1430"/>
                  </a:cubicBezTo>
                  <a:cubicBezTo>
                    <a:pt x="163" y="1421"/>
                    <a:pt x="165" y="1411"/>
                    <a:pt x="169" y="1402"/>
                  </a:cubicBezTo>
                  <a:cubicBezTo>
                    <a:pt x="174" y="1392"/>
                    <a:pt x="180" y="1383"/>
                    <a:pt x="187" y="1375"/>
                  </a:cubicBezTo>
                  <a:cubicBezTo>
                    <a:pt x="201" y="1357"/>
                    <a:pt x="218" y="1342"/>
                    <a:pt x="235" y="1326"/>
                  </a:cubicBezTo>
                  <a:cubicBezTo>
                    <a:pt x="251" y="1310"/>
                    <a:pt x="269" y="1294"/>
                    <a:pt x="285" y="1276"/>
                  </a:cubicBezTo>
                  <a:cubicBezTo>
                    <a:pt x="289" y="1271"/>
                    <a:pt x="293" y="1266"/>
                    <a:pt x="296" y="1261"/>
                  </a:cubicBezTo>
                  <a:cubicBezTo>
                    <a:pt x="297" y="1261"/>
                    <a:pt x="297" y="1261"/>
                    <a:pt x="297" y="1261"/>
                  </a:cubicBezTo>
                  <a:cubicBezTo>
                    <a:pt x="298" y="1259"/>
                    <a:pt x="299" y="1258"/>
                    <a:pt x="300" y="1256"/>
                  </a:cubicBezTo>
                  <a:cubicBezTo>
                    <a:pt x="302" y="1252"/>
                    <a:pt x="304" y="1249"/>
                    <a:pt x="306" y="1245"/>
                  </a:cubicBezTo>
                  <a:cubicBezTo>
                    <a:pt x="309" y="1239"/>
                    <a:pt x="311" y="1233"/>
                    <a:pt x="312" y="1226"/>
                  </a:cubicBezTo>
                  <a:cubicBezTo>
                    <a:pt x="312" y="1218"/>
                    <a:pt x="311" y="1212"/>
                    <a:pt x="310" y="1206"/>
                  </a:cubicBezTo>
                  <a:cubicBezTo>
                    <a:pt x="308" y="1193"/>
                    <a:pt x="302" y="1181"/>
                    <a:pt x="295" y="1171"/>
                  </a:cubicBezTo>
                  <a:cubicBezTo>
                    <a:pt x="293" y="1168"/>
                    <a:pt x="291" y="1164"/>
                    <a:pt x="288" y="1161"/>
                  </a:cubicBezTo>
                  <a:cubicBezTo>
                    <a:pt x="287" y="1160"/>
                    <a:pt x="287" y="1159"/>
                    <a:pt x="286" y="1158"/>
                  </a:cubicBezTo>
                  <a:cubicBezTo>
                    <a:pt x="272" y="1138"/>
                    <a:pt x="255" y="1122"/>
                    <a:pt x="238" y="1105"/>
                  </a:cubicBezTo>
                  <a:cubicBezTo>
                    <a:pt x="221" y="1089"/>
                    <a:pt x="204" y="1074"/>
                    <a:pt x="190" y="1057"/>
                  </a:cubicBezTo>
                  <a:cubicBezTo>
                    <a:pt x="176" y="1040"/>
                    <a:pt x="165" y="1020"/>
                    <a:pt x="163" y="1000"/>
                  </a:cubicBezTo>
                  <a:cubicBezTo>
                    <a:pt x="163" y="991"/>
                    <a:pt x="165" y="982"/>
                    <a:pt x="169" y="972"/>
                  </a:cubicBezTo>
                  <a:cubicBezTo>
                    <a:pt x="174" y="963"/>
                    <a:pt x="180" y="954"/>
                    <a:pt x="187" y="945"/>
                  </a:cubicBezTo>
                  <a:cubicBezTo>
                    <a:pt x="201" y="928"/>
                    <a:pt x="218" y="912"/>
                    <a:pt x="235" y="896"/>
                  </a:cubicBezTo>
                  <a:cubicBezTo>
                    <a:pt x="251" y="880"/>
                    <a:pt x="269" y="865"/>
                    <a:pt x="285" y="847"/>
                  </a:cubicBezTo>
                  <a:cubicBezTo>
                    <a:pt x="293" y="837"/>
                    <a:pt x="300" y="828"/>
                    <a:pt x="306" y="816"/>
                  </a:cubicBezTo>
                  <a:cubicBezTo>
                    <a:pt x="309" y="810"/>
                    <a:pt x="311" y="803"/>
                    <a:pt x="312" y="796"/>
                  </a:cubicBezTo>
                  <a:cubicBezTo>
                    <a:pt x="312" y="789"/>
                    <a:pt x="311" y="783"/>
                    <a:pt x="310" y="776"/>
                  </a:cubicBezTo>
                  <a:cubicBezTo>
                    <a:pt x="308" y="766"/>
                    <a:pt x="304" y="756"/>
                    <a:pt x="299" y="748"/>
                  </a:cubicBezTo>
                  <a:cubicBezTo>
                    <a:pt x="295" y="740"/>
                    <a:pt x="291" y="732"/>
                    <a:pt x="286" y="726"/>
                  </a:cubicBezTo>
                  <a:cubicBezTo>
                    <a:pt x="272" y="705"/>
                    <a:pt x="255" y="689"/>
                    <a:pt x="238" y="673"/>
                  </a:cubicBezTo>
                  <a:cubicBezTo>
                    <a:pt x="221" y="656"/>
                    <a:pt x="204" y="641"/>
                    <a:pt x="190" y="624"/>
                  </a:cubicBezTo>
                  <a:cubicBezTo>
                    <a:pt x="176" y="607"/>
                    <a:pt x="165" y="588"/>
                    <a:pt x="163" y="568"/>
                  </a:cubicBezTo>
                  <a:cubicBezTo>
                    <a:pt x="163" y="558"/>
                    <a:pt x="165" y="549"/>
                    <a:pt x="169" y="540"/>
                  </a:cubicBezTo>
                  <a:cubicBezTo>
                    <a:pt x="174" y="530"/>
                    <a:pt x="180" y="521"/>
                    <a:pt x="187" y="513"/>
                  </a:cubicBezTo>
                  <a:cubicBezTo>
                    <a:pt x="201" y="495"/>
                    <a:pt x="218" y="480"/>
                    <a:pt x="235" y="464"/>
                  </a:cubicBezTo>
                  <a:cubicBezTo>
                    <a:pt x="251" y="448"/>
                    <a:pt x="269" y="432"/>
                    <a:pt x="285" y="414"/>
                  </a:cubicBezTo>
                  <a:cubicBezTo>
                    <a:pt x="293" y="405"/>
                    <a:pt x="300" y="395"/>
                    <a:pt x="306" y="383"/>
                  </a:cubicBezTo>
                  <a:cubicBezTo>
                    <a:pt x="309" y="377"/>
                    <a:pt x="311" y="371"/>
                    <a:pt x="312" y="364"/>
                  </a:cubicBezTo>
                  <a:cubicBezTo>
                    <a:pt x="312" y="356"/>
                    <a:pt x="311" y="350"/>
                    <a:pt x="310" y="344"/>
                  </a:cubicBezTo>
                  <a:cubicBezTo>
                    <a:pt x="308" y="333"/>
                    <a:pt x="304" y="324"/>
                    <a:pt x="299" y="315"/>
                  </a:cubicBezTo>
                  <a:cubicBezTo>
                    <a:pt x="295" y="307"/>
                    <a:pt x="291" y="300"/>
                    <a:pt x="286" y="293"/>
                  </a:cubicBezTo>
                  <a:cubicBezTo>
                    <a:pt x="272" y="273"/>
                    <a:pt x="255" y="256"/>
                    <a:pt x="238" y="240"/>
                  </a:cubicBezTo>
                  <a:cubicBezTo>
                    <a:pt x="221" y="224"/>
                    <a:pt x="204" y="208"/>
                    <a:pt x="190" y="191"/>
                  </a:cubicBezTo>
                  <a:cubicBezTo>
                    <a:pt x="176" y="174"/>
                    <a:pt x="165" y="155"/>
                    <a:pt x="163" y="135"/>
                  </a:cubicBezTo>
                  <a:cubicBezTo>
                    <a:pt x="163" y="126"/>
                    <a:pt x="165" y="116"/>
                    <a:pt x="169" y="107"/>
                  </a:cubicBezTo>
                  <a:cubicBezTo>
                    <a:pt x="174" y="97"/>
                    <a:pt x="180" y="88"/>
                    <a:pt x="187" y="80"/>
                  </a:cubicBezTo>
                  <a:cubicBezTo>
                    <a:pt x="201" y="63"/>
                    <a:pt x="218" y="47"/>
                    <a:pt x="235" y="31"/>
                  </a:cubicBezTo>
                  <a:cubicBezTo>
                    <a:pt x="245" y="21"/>
                    <a:pt x="256" y="10"/>
                    <a:pt x="267" y="0"/>
                  </a:cubicBezTo>
                  <a:cubicBezTo>
                    <a:pt x="252" y="0"/>
                    <a:pt x="252" y="0"/>
                    <a:pt x="252" y="0"/>
                  </a:cubicBezTo>
                  <a:cubicBezTo>
                    <a:pt x="243" y="7"/>
                    <a:pt x="235" y="15"/>
                    <a:pt x="227" y="23"/>
                  </a:cubicBezTo>
                  <a:cubicBezTo>
                    <a:pt x="210" y="39"/>
                    <a:pt x="193" y="54"/>
                    <a:pt x="178" y="72"/>
                  </a:cubicBezTo>
                  <a:cubicBezTo>
                    <a:pt x="171" y="81"/>
                    <a:pt x="164" y="91"/>
                    <a:pt x="159" y="102"/>
                  </a:cubicBezTo>
                  <a:cubicBezTo>
                    <a:pt x="158" y="103"/>
                    <a:pt x="157" y="105"/>
                    <a:pt x="156" y="106"/>
                  </a:cubicBezTo>
                  <a:cubicBezTo>
                    <a:pt x="155" y="103"/>
                    <a:pt x="154" y="100"/>
                    <a:pt x="153" y="97"/>
                  </a:cubicBezTo>
                  <a:cubicBezTo>
                    <a:pt x="147" y="86"/>
                    <a:pt x="140" y="76"/>
                    <a:pt x="132" y="66"/>
                  </a:cubicBezTo>
                  <a:cubicBezTo>
                    <a:pt x="116" y="48"/>
                    <a:pt x="99" y="32"/>
                    <a:pt x="82" y="16"/>
                  </a:cubicBezTo>
                  <a:cubicBezTo>
                    <a:pt x="76" y="11"/>
                    <a:pt x="70" y="5"/>
                    <a:pt x="64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57" y="8"/>
                    <a:pt x="65" y="16"/>
                    <a:pt x="74" y="24"/>
                  </a:cubicBezTo>
                  <a:cubicBezTo>
                    <a:pt x="91" y="40"/>
                    <a:pt x="108" y="56"/>
                    <a:pt x="123" y="74"/>
                  </a:cubicBezTo>
                  <a:close/>
                  <a:moveTo>
                    <a:pt x="181" y="1493"/>
                  </a:moveTo>
                  <a:cubicBezTo>
                    <a:pt x="188" y="1502"/>
                    <a:pt x="196" y="1510"/>
                    <a:pt x="204" y="1517"/>
                  </a:cubicBezTo>
                  <a:cubicBezTo>
                    <a:pt x="208" y="1522"/>
                    <a:pt x="213" y="1526"/>
                    <a:pt x="217" y="1531"/>
                  </a:cubicBezTo>
                  <a:cubicBezTo>
                    <a:pt x="234" y="1547"/>
                    <a:pt x="251" y="1563"/>
                    <a:pt x="267" y="1580"/>
                  </a:cubicBezTo>
                  <a:cubicBezTo>
                    <a:pt x="268" y="1582"/>
                    <a:pt x="270" y="1584"/>
                    <a:pt x="272" y="1586"/>
                  </a:cubicBezTo>
                  <a:cubicBezTo>
                    <a:pt x="274" y="1589"/>
                    <a:pt x="276" y="1591"/>
                    <a:pt x="278" y="1594"/>
                  </a:cubicBezTo>
                  <a:cubicBezTo>
                    <a:pt x="284" y="1603"/>
                    <a:pt x="290" y="1613"/>
                    <a:pt x="294" y="1624"/>
                  </a:cubicBezTo>
                  <a:cubicBezTo>
                    <a:pt x="297" y="1635"/>
                    <a:pt x="299" y="1647"/>
                    <a:pt x="298" y="1658"/>
                  </a:cubicBezTo>
                  <a:cubicBezTo>
                    <a:pt x="297" y="1666"/>
                    <a:pt x="295" y="1673"/>
                    <a:pt x="293" y="1680"/>
                  </a:cubicBezTo>
                  <a:cubicBezTo>
                    <a:pt x="288" y="1687"/>
                    <a:pt x="282" y="1694"/>
                    <a:pt x="277" y="1701"/>
                  </a:cubicBezTo>
                  <a:cubicBezTo>
                    <a:pt x="261" y="1718"/>
                    <a:pt x="244" y="1733"/>
                    <a:pt x="227" y="1749"/>
                  </a:cubicBezTo>
                  <a:cubicBezTo>
                    <a:pt x="210" y="1765"/>
                    <a:pt x="193" y="1781"/>
                    <a:pt x="178" y="1799"/>
                  </a:cubicBezTo>
                  <a:cubicBezTo>
                    <a:pt x="171" y="1808"/>
                    <a:pt x="164" y="1818"/>
                    <a:pt x="159" y="1828"/>
                  </a:cubicBezTo>
                  <a:cubicBezTo>
                    <a:pt x="158" y="1830"/>
                    <a:pt x="157" y="1831"/>
                    <a:pt x="156" y="1833"/>
                  </a:cubicBezTo>
                  <a:cubicBezTo>
                    <a:pt x="155" y="1830"/>
                    <a:pt x="154" y="1827"/>
                    <a:pt x="153" y="1824"/>
                  </a:cubicBezTo>
                  <a:cubicBezTo>
                    <a:pt x="147" y="1812"/>
                    <a:pt x="140" y="1802"/>
                    <a:pt x="132" y="1793"/>
                  </a:cubicBezTo>
                  <a:cubicBezTo>
                    <a:pt x="116" y="1774"/>
                    <a:pt x="99" y="1758"/>
                    <a:pt x="82" y="1743"/>
                  </a:cubicBezTo>
                  <a:cubicBezTo>
                    <a:pt x="65" y="1727"/>
                    <a:pt x="47" y="1712"/>
                    <a:pt x="32" y="1695"/>
                  </a:cubicBezTo>
                  <a:cubicBezTo>
                    <a:pt x="26" y="1687"/>
                    <a:pt x="19" y="1679"/>
                    <a:pt x="15" y="1671"/>
                  </a:cubicBezTo>
                  <a:cubicBezTo>
                    <a:pt x="14" y="1667"/>
                    <a:pt x="13" y="1662"/>
                    <a:pt x="13" y="1658"/>
                  </a:cubicBezTo>
                  <a:cubicBezTo>
                    <a:pt x="11" y="1637"/>
                    <a:pt x="19" y="1616"/>
                    <a:pt x="32" y="1599"/>
                  </a:cubicBezTo>
                  <a:cubicBezTo>
                    <a:pt x="45" y="1581"/>
                    <a:pt x="61" y="1565"/>
                    <a:pt x="78" y="1549"/>
                  </a:cubicBezTo>
                  <a:cubicBezTo>
                    <a:pt x="95" y="1534"/>
                    <a:pt x="113" y="1518"/>
                    <a:pt x="129" y="1499"/>
                  </a:cubicBezTo>
                  <a:cubicBezTo>
                    <a:pt x="136" y="1490"/>
                    <a:pt x="144" y="1480"/>
                    <a:pt x="150" y="1469"/>
                  </a:cubicBezTo>
                  <a:cubicBezTo>
                    <a:pt x="152" y="1464"/>
                    <a:pt x="155" y="1458"/>
                    <a:pt x="156" y="1453"/>
                  </a:cubicBezTo>
                  <a:cubicBezTo>
                    <a:pt x="158" y="1457"/>
                    <a:pt x="160" y="1461"/>
                    <a:pt x="161" y="1464"/>
                  </a:cubicBezTo>
                  <a:cubicBezTo>
                    <a:pt x="167" y="1475"/>
                    <a:pt x="174" y="1484"/>
                    <a:pt x="181" y="1493"/>
                  </a:cubicBezTo>
                  <a:close/>
                  <a:moveTo>
                    <a:pt x="181" y="1064"/>
                  </a:moveTo>
                  <a:cubicBezTo>
                    <a:pt x="196" y="1082"/>
                    <a:pt x="214" y="1098"/>
                    <a:pt x="231" y="1113"/>
                  </a:cubicBezTo>
                  <a:cubicBezTo>
                    <a:pt x="247" y="1129"/>
                    <a:pt x="264" y="1146"/>
                    <a:pt x="278" y="1164"/>
                  </a:cubicBezTo>
                  <a:cubicBezTo>
                    <a:pt x="284" y="1174"/>
                    <a:pt x="290" y="1184"/>
                    <a:pt x="294" y="1195"/>
                  </a:cubicBezTo>
                  <a:cubicBezTo>
                    <a:pt x="297" y="1206"/>
                    <a:pt x="299" y="1218"/>
                    <a:pt x="298" y="1229"/>
                  </a:cubicBezTo>
                  <a:cubicBezTo>
                    <a:pt x="297" y="1234"/>
                    <a:pt x="296" y="1239"/>
                    <a:pt x="295" y="1244"/>
                  </a:cubicBezTo>
                  <a:cubicBezTo>
                    <a:pt x="290" y="1253"/>
                    <a:pt x="283" y="1261"/>
                    <a:pt x="277" y="1269"/>
                  </a:cubicBezTo>
                  <a:cubicBezTo>
                    <a:pt x="261" y="1286"/>
                    <a:pt x="244" y="1302"/>
                    <a:pt x="227" y="1318"/>
                  </a:cubicBezTo>
                  <a:cubicBezTo>
                    <a:pt x="210" y="1333"/>
                    <a:pt x="193" y="1349"/>
                    <a:pt x="178" y="1367"/>
                  </a:cubicBezTo>
                  <a:cubicBezTo>
                    <a:pt x="171" y="1376"/>
                    <a:pt x="164" y="1386"/>
                    <a:pt x="159" y="1396"/>
                  </a:cubicBezTo>
                  <a:cubicBezTo>
                    <a:pt x="158" y="1398"/>
                    <a:pt x="157" y="1400"/>
                    <a:pt x="156" y="1401"/>
                  </a:cubicBezTo>
                  <a:cubicBezTo>
                    <a:pt x="155" y="1398"/>
                    <a:pt x="154" y="1395"/>
                    <a:pt x="153" y="1392"/>
                  </a:cubicBezTo>
                  <a:cubicBezTo>
                    <a:pt x="147" y="1381"/>
                    <a:pt x="140" y="1371"/>
                    <a:pt x="132" y="1361"/>
                  </a:cubicBezTo>
                  <a:cubicBezTo>
                    <a:pt x="116" y="1343"/>
                    <a:pt x="99" y="1327"/>
                    <a:pt x="82" y="1311"/>
                  </a:cubicBezTo>
                  <a:cubicBezTo>
                    <a:pt x="65" y="1295"/>
                    <a:pt x="47" y="1280"/>
                    <a:pt x="32" y="1263"/>
                  </a:cubicBezTo>
                  <a:cubicBezTo>
                    <a:pt x="25" y="1255"/>
                    <a:pt x="19" y="1247"/>
                    <a:pt x="14" y="1238"/>
                  </a:cubicBezTo>
                  <a:cubicBezTo>
                    <a:pt x="13" y="1235"/>
                    <a:pt x="13" y="1232"/>
                    <a:pt x="13" y="1228"/>
                  </a:cubicBezTo>
                  <a:cubicBezTo>
                    <a:pt x="11" y="1207"/>
                    <a:pt x="19" y="1187"/>
                    <a:pt x="32" y="1169"/>
                  </a:cubicBezTo>
                  <a:cubicBezTo>
                    <a:pt x="45" y="1152"/>
                    <a:pt x="61" y="1136"/>
                    <a:pt x="78" y="1120"/>
                  </a:cubicBezTo>
                  <a:cubicBezTo>
                    <a:pt x="95" y="1104"/>
                    <a:pt x="113" y="1089"/>
                    <a:pt x="129" y="1070"/>
                  </a:cubicBezTo>
                  <a:cubicBezTo>
                    <a:pt x="136" y="1061"/>
                    <a:pt x="144" y="1051"/>
                    <a:pt x="150" y="1039"/>
                  </a:cubicBezTo>
                  <a:cubicBezTo>
                    <a:pt x="152" y="1034"/>
                    <a:pt x="155" y="1029"/>
                    <a:pt x="156" y="1024"/>
                  </a:cubicBezTo>
                  <a:cubicBezTo>
                    <a:pt x="158" y="1027"/>
                    <a:pt x="160" y="1031"/>
                    <a:pt x="161" y="1035"/>
                  </a:cubicBezTo>
                  <a:cubicBezTo>
                    <a:pt x="167" y="1046"/>
                    <a:pt x="174" y="1055"/>
                    <a:pt x="181" y="1064"/>
                  </a:cubicBezTo>
                  <a:close/>
                  <a:moveTo>
                    <a:pt x="181" y="631"/>
                  </a:moveTo>
                  <a:cubicBezTo>
                    <a:pt x="184" y="635"/>
                    <a:pt x="188" y="638"/>
                    <a:pt x="191" y="642"/>
                  </a:cubicBezTo>
                  <a:cubicBezTo>
                    <a:pt x="199" y="652"/>
                    <a:pt x="208" y="661"/>
                    <a:pt x="217" y="670"/>
                  </a:cubicBezTo>
                  <a:cubicBezTo>
                    <a:pt x="234" y="686"/>
                    <a:pt x="251" y="702"/>
                    <a:pt x="267" y="719"/>
                  </a:cubicBezTo>
                  <a:cubicBezTo>
                    <a:pt x="271" y="724"/>
                    <a:pt x="276" y="730"/>
                    <a:pt x="280" y="735"/>
                  </a:cubicBezTo>
                  <a:cubicBezTo>
                    <a:pt x="286" y="744"/>
                    <a:pt x="290" y="753"/>
                    <a:pt x="294" y="762"/>
                  </a:cubicBezTo>
                  <a:cubicBezTo>
                    <a:pt x="297" y="773"/>
                    <a:pt x="299" y="785"/>
                    <a:pt x="298" y="796"/>
                  </a:cubicBezTo>
                  <a:cubicBezTo>
                    <a:pt x="297" y="805"/>
                    <a:pt x="295" y="813"/>
                    <a:pt x="291" y="821"/>
                  </a:cubicBezTo>
                  <a:cubicBezTo>
                    <a:pt x="287" y="827"/>
                    <a:pt x="282" y="834"/>
                    <a:pt x="277" y="840"/>
                  </a:cubicBezTo>
                  <a:cubicBezTo>
                    <a:pt x="261" y="857"/>
                    <a:pt x="244" y="872"/>
                    <a:pt x="227" y="888"/>
                  </a:cubicBezTo>
                  <a:cubicBezTo>
                    <a:pt x="210" y="904"/>
                    <a:pt x="193" y="920"/>
                    <a:pt x="178" y="938"/>
                  </a:cubicBezTo>
                  <a:cubicBezTo>
                    <a:pt x="171" y="947"/>
                    <a:pt x="164" y="957"/>
                    <a:pt x="159" y="967"/>
                  </a:cubicBezTo>
                  <a:cubicBezTo>
                    <a:pt x="158" y="969"/>
                    <a:pt x="157" y="970"/>
                    <a:pt x="156" y="972"/>
                  </a:cubicBezTo>
                  <a:cubicBezTo>
                    <a:pt x="155" y="969"/>
                    <a:pt x="154" y="966"/>
                    <a:pt x="153" y="963"/>
                  </a:cubicBezTo>
                  <a:cubicBezTo>
                    <a:pt x="147" y="951"/>
                    <a:pt x="140" y="941"/>
                    <a:pt x="132" y="932"/>
                  </a:cubicBezTo>
                  <a:cubicBezTo>
                    <a:pt x="116" y="913"/>
                    <a:pt x="99" y="897"/>
                    <a:pt x="82" y="882"/>
                  </a:cubicBezTo>
                  <a:cubicBezTo>
                    <a:pt x="65" y="866"/>
                    <a:pt x="47" y="851"/>
                    <a:pt x="32" y="834"/>
                  </a:cubicBezTo>
                  <a:cubicBezTo>
                    <a:pt x="26" y="827"/>
                    <a:pt x="20" y="819"/>
                    <a:pt x="16" y="811"/>
                  </a:cubicBezTo>
                  <a:cubicBezTo>
                    <a:pt x="14" y="806"/>
                    <a:pt x="13" y="801"/>
                    <a:pt x="13" y="795"/>
                  </a:cubicBezTo>
                  <a:cubicBezTo>
                    <a:pt x="11" y="774"/>
                    <a:pt x="19" y="754"/>
                    <a:pt x="32" y="737"/>
                  </a:cubicBezTo>
                  <a:cubicBezTo>
                    <a:pt x="45" y="719"/>
                    <a:pt x="61" y="703"/>
                    <a:pt x="78" y="687"/>
                  </a:cubicBezTo>
                  <a:cubicBezTo>
                    <a:pt x="95" y="671"/>
                    <a:pt x="113" y="656"/>
                    <a:pt x="129" y="637"/>
                  </a:cubicBezTo>
                  <a:cubicBezTo>
                    <a:pt x="136" y="628"/>
                    <a:pt x="144" y="618"/>
                    <a:pt x="150" y="607"/>
                  </a:cubicBezTo>
                  <a:cubicBezTo>
                    <a:pt x="152" y="602"/>
                    <a:pt x="155" y="596"/>
                    <a:pt x="156" y="591"/>
                  </a:cubicBezTo>
                  <a:cubicBezTo>
                    <a:pt x="158" y="595"/>
                    <a:pt x="160" y="599"/>
                    <a:pt x="161" y="602"/>
                  </a:cubicBezTo>
                  <a:cubicBezTo>
                    <a:pt x="167" y="613"/>
                    <a:pt x="174" y="622"/>
                    <a:pt x="181" y="631"/>
                  </a:cubicBezTo>
                  <a:close/>
                  <a:moveTo>
                    <a:pt x="156" y="158"/>
                  </a:moveTo>
                  <a:cubicBezTo>
                    <a:pt x="158" y="162"/>
                    <a:pt x="160" y="166"/>
                    <a:pt x="161" y="170"/>
                  </a:cubicBezTo>
                  <a:cubicBezTo>
                    <a:pt x="167" y="180"/>
                    <a:pt x="174" y="190"/>
                    <a:pt x="181" y="198"/>
                  </a:cubicBezTo>
                  <a:cubicBezTo>
                    <a:pt x="184" y="202"/>
                    <a:pt x="188" y="206"/>
                    <a:pt x="191" y="209"/>
                  </a:cubicBezTo>
                  <a:cubicBezTo>
                    <a:pt x="199" y="219"/>
                    <a:pt x="208" y="228"/>
                    <a:pt x="217" y="237"/>
                  </a:cubicBezTo>
                  <a:cubicBezTo>
                    <a:pt x="234" y="254"/>
                    <a:pt x="251" y="269"/>
                    <a:pt x="267" y="286"/>
                  </a:cubicBezTo>
                  <a:cubicBezTo>
                    <a:pt x="271" y="291"/>
                    <a:pt x="276" y="297"/>
                    <a:pt x="280" y="302"/>
                  </a:cubicBezTo>
                  <a:cubicBezTo>
                    <a:pt x="286" y="311"/>
                    <a:pt x="290" y="320"/>
                    <a:pt x="294" y="329"/>
                  </a:cubicBezTo>
                  <a:cubicBezTo>
                    <a:pt x="297" y="340"/>
                    <a:pt x="299" y="352"/>
                    <a:pt x="298" y="363"/>
                  </a:cubicBezTo>
                  <a:cubicBezTo>
                    <a:pt x="297" y="372"/>
                    <a:pt x="295" y="380"/>
                    <a:pt x="291" y="388"/>
                  </a:cubicBezTo>
                  <a:cubicBezTo>
                    <a:pt x="287" y="395"/>
                    <a:pt x="282" y="401"/>
                    <a:pt x="277" y="407"/>
                  </a:cubicBezTo>
                  <a:cubicBezTo>
                    <a:pt x="261" y="424"/>
                    <a:pt x="244" y="440"/>
                    <a:pt x="227" y="455"/>
                  </a:cubicBezTo>
                  <a:cubicBezTo>
                    <a:pt x="210" y="471"/>
                    <a:pt x="193" y="487"/>
                    <a:pt x="178" y="505"/>
                  </a:cubicBezTo>
                  <a:cubicBezTo>
                    <a:pt x="171" y="514"/>
                    <a:pt x="164" y="524"/>
                    <a:pt x="159" y="534"/>
                  </a:cubicBezTo>
                  <a:cubicBezTo>
                    <a:pt x="158" y="536"/>
                    <a:pt x="157" y="538"/>
                    <a:pt x="156" y="539"/>
                  </a:cubicBezTo>
                  <a:cubicBezTo>
                    <a:pt x="155" y="536"/>
                    <a:pt x="154" y="533"/>
                    <a:pt x="153" y="530"/>
                  </a:cubicBezTo>
                  <a:cubicBezTo>
                    <a:pt x="147" y="519"/>
                    <a:pt x="140" y="509"/>
                    <a:pt x="132" y="499"/>
                  </a:cubicBezTo>
                  <a:cubicBezTo>
                    <a:pt x="116" y="481"/>
                    <a:pt x="99" y="465"/>
                    <a:pt x="82" y="449"/>
                  </a:cubicBezTo>
                  <a:cubicBezTo>
                    <a:pt x="65" y="433"/>
                    <a:pt x="47" y="418"/>
                    <a:pt x="32" y="401"/>
                  </a:cubicBezTo>
                  <a:cubicBezTo>
                    <a:pt x="26" y="394"/>
                    <a:pt x="20" y="386"/>
                    <a:pt x="16" y="379"/>
                  </a:cubicBezTo>
                  <a:cubicBezTo>
                    <a:pt x="14" y="373"/>
                    <a:pt x="13" y="368"/>
                    <a:pt x="13" y="363"/>
                  </a:cubicBezTo>
                  <a:cubicBezTo>
                    <a:pt x="11" y="342"/>
                    <a:pt x="19" y="322"/>
                    <a:pt x="32" y="304"/>
                  </a:cubicBezTo>
                  <a:cubicBezTo>
                    <a:pt x="45" y="286"/>
                    <a:pt x="61" y="270"/>
                    <a:pt x="78" y="254"/>
                  </a:cubicBezTo>
                  <a:cubicBezTo>
                    <a:pt x="95" y="239"/>
                    <a:pt x="113" y="223"/>
                    <a:pt x="129" y="204"/>
                  </a:cubicBezTo>
                  <a:cubicBezTo>
                    <a:pt x="136" y="195"/>
                    <a:pt x="144" y="185"/>
                    <a:pt x="150" y="174"/>
                  </a:cubicBezTo>
                  <a:cubicBezTo>
                    <a:pt x="152" y="169"/>
                    <a:pt x="155" y="163"/>
                    <a:pt x="156" y="158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" name="Freeform 14"/>
            <p:cNvSpPr/>
            <p:nvPr/>
          </p:nvSpPr>
          <p:spPr>
            <a:xfrm>
              <a:off x="4051440" y="-1440"/>
              <a:ext cx="507600" cy="686232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0" h="2159">
                  <a:moveTo>
                    <a:pt x="26" y="72"/>
                  </a:moveTo>
                  <a:cubicBezTo>
                    <a:pt x="19" y="81"/>
                    <a:pt x="12" y="91"/>
                    <a:pt x="7" y="102"/>
                  </a:cubicBezTo>
                  <a:cubicBezTo>
                    <a:pt x="4" y="107"/>
                    <a:pt x="2" y="113"/>
                    <a:pt x="1" y="120"/>
                  </a:cubicBezTo>
                  <a:cubicBezTo>
                    <a:pt x="1" y="123"/>
                    <a:pt x="1" y="127"/>
                    <a:pt x="2" y="131"/>
                  </a:cubicBezTo>
                  <a:cubicBezTo>
                    <a:pt x="1" y="131"/>
                    <a:pt x="1" y="131"/>
                    <a:pt x="1" y="131"/>
                  </a:cubicBezTo>
                  <a:cubicBezTo>
                    <a:pt x="1" y="132"/>
                    <a:pt x="1" y="133"/>
                    <a:pt x="1" y="135"/>
                  </a:cubicBezTo>
                  <a:cubicBezTo>
                    <a:pt x="1" y="135"/>
                    <a:pt x="1" y="136"/>
                    <a:pt x="1" y="137"/>
                  </a:cubicBezTo>
                  <a:cubicBezTo>
                    <a:pt x="1" y="139"/>
                    <a:pt x="1" y="141"/>
                    <a:pt x="0" y="143"/>
                  </a:cubicBezTo>
                  <a:cubicBezTo>
                    <a:pt x="2" y="152"/>
                    <a:pt x="5" y="161"/>
                    <a:pt x="10" y="170"/>
                  </a:cubicBezTo>
                  <a:cubicBezTo>
                    <a:pt x="15" y="180"/>
                    <a:pt x="22" y="190"/>
                    <a:pt x="29" y="198"/>
                  </a:cubicBezTo>
                  <a:cubicBezTo>
                    <a:pt x="33" y="202"/>
                    <a:pt x="36" y="206"/>
                    <a:pt x="39" y="209"/>
                  </a:cubicBezTo>
                  <a:cubicBezTo>
                    <a:pt x="47" y="219"/>
                    <a:pt x="56" y="228"/>
                    <a:pt x="65" y="237"/>
                  </a:cubicBezTo>
                  <a:cubicBezTo>
                    <a:pt x="82" y="254"/>
                    <a:pt x="99" y="269"/>
                    <a:pt x="115" y="286"/>
                  </a:cubicBezTo>
                  <a:cubicBezTo>
                    <a:pt x="120" y="291"/>
                    <a:pt x="124" y="297"/>
                    <a:pt x="128" y="303"/>
                  </a:cubicBezTo>
                  <a:cubicBezTo>
                    <a:pt x="134" y="311"/>
                    <a:pt x="139" y="320"/>
                    <a:pt x="142" y="329"/>
                  </a:cubicBezTo>
                  <a:cubicBezTo>
                    <a:pt x="146" y="340"/>
                    <a:pt x="147" y="352"/>
                    <a:pt x="146" y="363"/>
                  </a:cubicBezTo>
                  <a:cubicBezTo>
                    <a:pt x="145" y="372"/>
                    <a:pt x="143" y="380"/>
                    <a:pt x="139" y="388"/>
                  </a:cubicBezTo>
                  <a:cubicBezTo>
                    <a:pt x="135" y="395"/>
                    <a:pt x="130" y="401"/>
                    <a:pt x="125" y="407"/>
                  </a:cubicBezTo>
                  <a:cubicBezTo>
                    <a:pt x="110" y="424"/>
                    <a:pt x="92" y="440"/>
                    <a:pt x="75" y="455"/>
                  </a:cubicBezTo>
                  <a:cubicBezTo>
                    <a:pt x="58" y="471"/>
                    <a:pt x="41" y="487"/>
                    <a:pt x="26" y="505"/>
                  </a:cubicBezTo>
                  <a:cubicBezTo>
                    <a:pt x="19" y="514"/>
                    <a:pt x="12" y="524"/>
                    <a:pt x="7" y="534"/>
                  </a:cubicBezTo>
                  <a:cubicBezTo>
                    <a:pt x="4" y="540"/>
                    <a:pt x="2" y="546"/>
                    <a:pt x="1" y="553"/>
                  </a:cubicBezTo>
                  <a:cubicBezTo>
                    <a:pt x="1" y="556"/>
                    <a:pt x="1" y="560"/>
                    <a:pt x="2" y="564"/>
                  </a:cubicBezTo>
                  <a:cubicBezTo>
                    <a:pt x="1" y="564"/>
                    <a:pt x="1" y="564"/>
                    <a:pt x="1" y="564"/>
                  </a:cubicBezTo>
                  <a:cubicBezTo>
                    <a:pt x="1" y="565"/>
                    <a:pt x="1" y="566"/>
                    <a:pt x="1" y="567"/>
                  </a:cubicBezTo>
                  <a:cubicBezTo>
                    <a:pt x="1" y="568"/>
                    <a:pt x="1" y="569"/>
                    <a:pt x="1" y="570"/>
                  </a:cubicBezTo>
                  <a:cubicBezTo>
                    <a:pt x="1" y="572"/>
                    <a:pt x="1" y="574"/>
                    <a:pt x="0" y="576"/>
                  </a:cubicBezTo>
                  <a:cubicBezTo>
                    <a:pt x="2" y="585"/>
                    <a:pt x="5" y="594"/>
                    <a:pt x="10" y="602"/>
                  </a:cubicBezTo>
                  <a:cubicBezTo>
                    <a:pt x="15" y="613"/>
                    <a:pt x="22" y="622"/>
                    <a:pt x="29" y="631"/>
                  </a:cubicBezTo>
                  <a:cubicBezTo>
                    <a:pt x="33" y="635"/>
                    <a:pt x="36" y="638"/>
                    <a:pt x="39" y="642"/>
                  </a:cubicBezTo>
                  <a:cubicBezTo>
                    <a:pt x="47" y="652"/>
                    <a:pt x="56" y="661"/>
                    <a:pt x="65" y="670"/>
                  </a:cubicBezTo>
                  <a:cubicBezTo>
                    <a:pt x="82" y="686"/>
                    <a:pt x="99" y="702"/>
                    <a:pt x="115" y="719"/>
                  </a:cubicBezTo>
                  <a:cubicBezTo>
                    <a:pt x="120" y="724"/>
                    <a:pt x="124" y="730"/>
                    <a:pt x="128" y="735"/>
                  </a:cubicBezTo>
                  <a:cubicBezTo>
                    <a:pt x="134" y="744"/>
                    <a:pt x="139" y="753"/>
                    <a:pt x="142" y="762"/>
                  </a:cubicBezTo>
                  <a:cubicBezTo>
                    <a:pt x="146" y="773"/>
                    <a:pt x="147" y="785"/>
                    <a:pt x="146" y="796"/>
                  </a:cubicBezTo>
                  <a:cubicBezTo>
                    <a:pt x="145" y="805"/>
                    <a:pt x="143" y="813"/>
                    <a:pt x="139" y="821"/>
                  </a:cubicBezTo>
                  <a:cubicBezTo>
                    <a:pt x="135" y="827"/>
                    <a:pt x="130" y="834"/>
                    <a:pt x="125" y="840"/>
                  </a:cubicBezTo>
                  <a:cubicBezTo>
                    <a:pt x="110" y="857"/>
                    <a:pt x="92" y="872"/>
                    <a:pt x="75" y="888"/>
                  </a:cubicBezTo>
                  <a:cubicBezTo>
                    <a:pt x="58" y="904"/>
                    <a:pt x="41" y="920"/>
                    <a:pt x="26" y="938"/>
                  </a:cubicBezTo>
                  <a:cubicBezTo>
                    <a:pt x="19" y="947"/>
                    <a:pt x="12" y="957"/>
                    <a:pt x="7" y="967"/>
                  </a:cubicBezTo>
                  <a:cubicBezTo>
                    <a:pt x="4" y="973"/>
                    <a:pt x="2" y="979"/>
                    <a:pt x="1" y="985"/>
                  </a:cubicBezTo>
                  <a:cubicBezTo>
                    <a:pt x="1" y="988"/>
                    <a:pt x="1" y="990"/>
                    <a:pt x="1" y="993"/>
                  </a:cubicBezTo>
                  <a:cubicBezTo>
                    <a:pt x="1" y="993"/>
                    <a:pt x="1" y="993"/>
                    <a:pt x="1" y="993"/>
                  </a:cubicBezTo>
                  <a:cubicBezTo>
                    <a:pt x="1" y="994"/>
                    <a:pt x="1" y="996"/>
                    <a:pt x="2" y="998"/>
                  </a:cubicBezTo>
                  <a:cubicBezTo>
                    <a:pt x="2" y="999"/>
                    <a:pt x="1" y="1001"/>
                    <a:pt x="1" y="1002"/>
                  </a:cubicBezTo>
                  <a:cubicBezTo>
                    <a:pt x="1" y="1004"/>
                    <a:pt x="1" y="1007"/>
                    <a:pt x="0" y="1009"/>
                  </a:cubicBezTo>
                  <a:cubicBezTo>
                    <a:pt x="2" y="1018"/>
                    <a:pt x="5" y="1027"/>
                    <a:pt x="10" y="1035"/>
                  </a:cubicBezTo>
                  <a:cubicBezTo>
                    <a:pt x="15" y="1046"/>
                    <a:pt x="22" y="1055"/>
                    <a:pt x="29" y="1064"/>
                  </a:cubicBezTo>
                  <a:cubicBezTo>
                    <a:pt x="45" y="1082"/>
                    <a:pt x="62" y="1098"/>
                    <a:pt x="79" y="1113"/>
                  </a:cubicBezTo>
                  <a:cubicBezTo>
                    <a:pt x="96" y="1129"/>
                    <a:pt x="112" y="1146"/>
                    <a:pt x="126" y="1164"/>
                  </a:cubicBezTo>
                  <a:cubicBezTo>
                    <a:pt x="133" y="1174"/>
                    <a:pt x="138" y="1184"/>
                    <a:pt x="142" y="1195"/>
                  </a:cubicBezTo>
                  <a:cubicBezTo>
                    <a:pt x="146" y="1206"/>
                    <a:pt x="147" y="1218"/>
                    <a:pt x="146" y="1229"/>
                  </a:cubicBezTo>
                  <a:cubicBezTo>
                    <a:pt x="145" y="1234"/>
                    <a:pt x="144" y="1239"/>
                    <a:pt x="143" y="1244"/>
                  </a:cubicBezTo>
                  <a:cubicBezTo>
                    <a:pt x="138" y="1253"/>
                    <a:pt x="132" y="1261"/>
                    <a:pt x="125" y="1269"/>
                  </a:cubicBezTo>
                  <a:cubicBezTo>
                    <a:pt x="110" y="1286"/>
                    <a:pt x="92" y="1302"/>
                    <a:pt x="75" y="1318"/>
                  </a:cubicBezTo>
                  <a:cubicBezTo>
                    <a:pt x="58" y="1333"/>
                    <a:pt x="41" y="1349"/>
                    <a:pt x="26" y="1367"/>
                  </a:cubicBezTo>
                  <a:cubicBezTo>
                    <a:pt x="19" y="1376"/>
                    <a:pt x="12" y="1386"/>
                    <a:pt x="7" y="1396"/>
                  </a:cubicBezTo>
                  <a:cubicBezTo>
                    <a:pt x="4" y="1402"/>
                    <a:pt x="2" y="1408"/>
                    <a:pt x="1" y="1415"/>
                  </a:cubicBezTo>
                  <a:cubicBezTo>
                    <a:pt x="1" y="1418"/>
                    <a:pt x="1" y="1421"/>
                    <a:pt x="2" y="1425"/>
                  </a:cubicBezTo>
                  <a:cubicBezTo>
                    <a:pt x="1" y="1425"/>
                    <a:pt x="1" y="1425"/>
                    <a:pt x="1" y="1425"/>
                  </a:cubicBezTo>
                  <a:cubicBezTo>
                    <a:pt x="1" y="1426"/>
                    <a:pt x="1" y="1427"/>
                    <a:pt x="1" y="1429"/>
                  </a:cubicBezTo>
                  <a:cubicBezTo>
                    <a:pt x="1" y="1430"/>
                    <a:pt x="1" y="1431"/>
                    <a:pt x="1" y="1432"/>
                  </a:cubicBezTo>
                  <a:cubicBezTo>
                    <a:pt x="1" y="1434"/>
                    <a:pt x="1" y="1436"/>
                    <a:pt x="0" y="1438"/>
                  </a:cubicBezTo>
                  <a:cubicBezTo>
                    <a:pt x="2" y="1447"/>
                    <a:pt x="5" y="1456"/>
                    <a:pt x="10" y="1464"/>
                  </a:cubicBezTo>
                  <a:cubicBezTo>
                    <a:pt x="15" y="1475"/>
                    <a:pt x="22" y="1484"/>
                    <a:pt x="29" y="1493"/>
                  </a:cubicBezTo>
                  <a:cubicBezTo>
                    <a:pt x="37" y="1502"/>
                    <a:pt x="44" y="1510"/>
                    <a:pt x="52" y="1517"/>
                  </a:cubicBezTo>
                  <a:cubicBezTo>
                    <a:pt x="56" y="1522"/>
                    <a:pt x="61" y="1526"/>
                    <a:pt x="65" y="1531"/>
                  </a:cubicBezTo>
                  <a:cubicBezTo>
                    <a:pt x="82" y="1547"/>
                    <a:pt x="99" y="1563"/>
                    <a:pt x="115" y="1580"/>
                  </a:cubicBezTo>
                  <a:cubicBezTo>
                    <a:pt x="117" y="1582"/>
                    <a:pt x="118" y="1584"/>
                    <a:pt x="120" y="1586"/>
                  </a:cubicBezTo>
                  <a:cubicBezTo>
                    <a:pt x="122" y="1589"/>
                    <a:pt x="124" y="1591"/>
                    <a:pt x="126" y="1594"/>
                  </a:cubicBezTo>
                  <a:cubicBezTo>
                    <a:pt x="133" y="1603"/>
                    <a:pt x="138" y="1613"/>
                    <a:pt x="142" y="1624"/>
                  </a:cubicBezTo>
                  <a:cubicBezTo>
                    <a:pt x="146" y="1635"/>
                    <a:pt x="147" y="1647"/>
                    <a:pt x="146" y="1658"/>
                  </a:cubicBezTo>
                  <a:cubicBezTo>
                    <a:pt x="145" y="1666"/>
                    <a:pt x="143" y="1673"/>
                    <a:pt x="141" y="1680"/>
                  </a:cubicBezTo>
                  <a:cubicBezTo>
                    <a:pt x="136" y="1687"/>
                    <a:pt x="131" y="1694"/>
                    <a:pt x="125" y="1701"/>
                  </a:cubicBezTo>
                  <a:cubicBezTo>
                    <a:pt x="110" y="1718"/>
                    <a:pt x="92" y="1733"/>
                    <a:pt x="75" y="1749"/>
                  </a:cubicBezTo>
                  <a:cubicBezTo>
                    <a:pt x="58" y="1765"/>
                    <a:pt x="41" y="1781"/>
                    <a:pt x="26" y="1799"/>
                  </a:cubicBezTo>
                  <a:cubicBezTo>
                    <a:pt x="19" y="1808"/>
                    <a:pt x="12" y="1818"/>
                    <a:pt x="7" y="1828"/>
                  </a:cubicBezTo>
                  <a:cubicBezTo>
                    <a:pt x="4" y="1834"/>
                    <a:pt x="2" y="1840"/>
                    <a:pt x="1" y="1846"/>
                  </a:cubicBezTo>
                  <a:cubicBezTo>
                    <a:pt x="1" y="1849"/>
                    <a:pt x="1" y="1852"/>
                    <a:pt x="1" y="1855"/>
                  </a:cubicBezTo>
                  <a:cubicBezTo>
                    <a:pt x="1" y="1855"/>
                    <a:pt x="1" y="1855"/>
                    <a:pt x="1" y="1855"/>
                  </a:cubicBezTo>
                  <a:cubicBezTo>
                    <a:pt x="1" y="1856"/>
                    <a:pt x="1" y="1858"/>
                    <a:pt x="2" y="1859"/>
                  </a:cubicBezTo>
                  <a:cubicBezTo>
                    <a:pt x="2" y="1861"/>
                    <a:pt x="1" y="1862"/>
                    <a:pt x="1" y="1863"/>
                  </a:cubicBezTo>
                  <a:cubicBezTo>
                    <a:pt x="1" y="1865"/>
                    <a:pt x="1" y="1867"/>
                    <a:pt x="0" y="1870"/>
                  </a:cubicBezTo>
                  <a:cubicBezTo>
                    <a:pt x="2" y="1879"/>
                    <a:pt x="5" y="1888"/>
                    <a:pt x="10" y="1896"/>
                  </a:cubicBezTo>
                  <a:cubicBezTo>
                    <a:pt x="15" y="1907"/>
                    <a:pt x="22" y="1916"/>
                    <a:pt x="29" y="1925"/>
                  </a:cubicBezTo>
                  <a:cubicBezTo>
                    <a:pt x="45" y="1943"/>
                    <a:pt x="62" y="1958"/>
                    <a:pt x="79" y="1974"/>
                  </a:cubicBezTo>
                  <a:cubicBezTo>
                    <a:pt x="79" y="1975"/>
                    <a:pt x="79" y="1975"/>
                    <a:pt x="80" y="1975"/>
                  </a:cubicBezTo>
                  <a:cubicBezTo>
                    <a:pt x="86" y="1982"/>
                    <a:pt x="93" y="1988"/>
                    <a:pt x="100" y="1995"/>
                  </a:cubicBezTo>
                  <a:cubicBezTo>
                    <a:pt x="109" y="2005"/>
                    <a:pt x="118" y="2014"/>
                    <a:pt x="126" y="2025"/>
                  </a:cubicBezTo>
                  <a:cubicBezTo>
                    <a:pt x="133" y="2035"/>
                    <a:pt x="138" y="2045"/>
                    <a:pt x="142" y="2056"/>
                  </a:cubicBezTo>
                  <a:cubicBezTo>
                    <a:pt x="146" y="2067"/>
                    <a:pt x="147" y="2078"/>
                    <a:pt x="146" y="2090"/>
                  </a:cubicBezTo>
                  <a:cubicBezTo>
                    <a:pt x="145" y="2096"/>
                    <a:pt x="144" y="2102"/>
                    <a:pt x="142" y="2108"/>
                  </a:cubicBezTo>
                  <a:cubicBezTo>
                    <a:pt x="137" y="2116"/>
                    <a:pt x="131" y="2124"/>
                    <a:pt x="125" y="2131"/>
                  </a:cubicBezTo>
                  <a:cubicBezTo>
                    <a:pt x="116" y="2141"/>
                    <a:pt x="107" y="2150"/>
                    <a:pt x="97" y="2159"/>
                  </a:cubicBezTo>
                  <a:cubicBezTo>
                    <a:pt x="113" y="2159"/>
                    <a:pt x="113" y="2159"/>
                    <a:pt x="113" y="2159"/>
                  </a:cubicBezTo>
                  <a:cubicBezTo>
                    <a:pt x="120" y="2152"/>
                    <a:pt x="127" y="2145"/>
                    <a:pt x="133" y="2138"/>
                  </a:cubicBezTo>
                  <a:cubicBezTo>
                    <a:pt x="137" y="2133"/>
                    <a:pt x="141" y="2128"/>
                    <a:pt x="145" y="2122"/>
                  </a:cubicBezTo>
                  <a:cubicBezTo>
                    <a:pt x="146" y="2122"/>
                    <a:pt x="146" y="2122"/>
                    <a:pt x="146" y="2122"/>
                  </a:cubicBezTo>
                  <a:cubicBezTo>
                    <a:pt x="146" y="2122"/>
                    <a:pt x="146" y="2121"/>
                    <a:pt x="146" y="2120"/>
                  </a:cubicBezTo>
                  <a:cubicBezTo>
                    <a:pt x="149" y="2116"/>
                    <a:pt x="152" y="2112"/>
                    <a:pt x="154" y="2107"/>
                  </a:cubicBezTo>
                  <a:cubicBezTo>
                    <a:pt x="157" y="2101"/>
                    <a:pt x="159" y="2095"/>
                    <a:pt x="160" y="2088"/>
                  </a:cubicBezTo>
                  <a:cubicBezTo>
                    <a:pt x="160" y="2080"/>
                    <a:pt x="160" y="2074"/>
                    <a:pt x="158" y="2068"/>
                  </a:cubicBezTo>
                  <a:cubicBezTo>
                    <a:pt x="156" y="2055"/>
                    <a:pt x="150" y="2043"/>
                    <a:pt x="143" y="2033"/>
                  </a:cubicBezTo>
                  <a:cubicBezTo>
                    <a:pt x="143" y="2032"/>
                    <a:pt x="142" y="2030"/>
                    <a:pt x="141" y="2029"/>
                  </a:cubicBezTo>
                  <a:cubicBezTo>
                    <a:pt x="139" y="2026"/>
                    <a:pt x="137" y="2022"/>
                    <a:pt x="135" y="2019"/>
                  </a:cubicBezTo>
                  <a:cubicBezTo>
                    <a:pt x="120" y="1999"/>
                    <a:pt x="103" y="1982"/>
                    <a:pt x="86" y="1966"/>
                  </a:cubicBezTo>
                  <a:cubicBezTo>
                    <a:pt x="70" y="1950"/>
                    <a:pt x="53" y="1935"/>
                    <a:pt x="38" y="1917"/>
                  </a:cubicBezTo>
                  <a:cubicBezTo>
                    <a:pt x="24" y="1901"/>
                    <a:pt x="13" y="1881"/>
                    <a:pt x="12" y="1861"/>
                  </a:cubicBezTo>
                  <a:cubicBezTo>
                    <a:pt x="11" y="1852"/>
                    <a:pt x="13" y="1843"/>
                    <a:pt x="18" y="1833"/>
                  </a:cubicBezTo>
                  <a:cubicBezTo>
                    <a:pt x="22" y="1824"/>
                    <a:pt x="28" y="1815"/>
                    <a:pt x="35" y="1806"/>
                  </a:cubicBezTo>
                  <a:cubicBezTo>
                    <a:pt x="49" y="1789"/>
                    <a:pt x="66" y="1773"/>
                    <a:pt x="83" y="1757"/>
                  </a:cubicBezTo>
                  <a:cubicBezTo>
                    <a:pt x="100" y="1741"/>
                    <a:pt x="117" y="1726"/>
                    <a:pt x="133" y="1708"/>
                  </a:cubicBezTo>
                  <a:cubicBezTo>
                    <a:pt x="141" y="1698"/>
                    <a:pt x="148" y="1689"/>
                    <a:pt x="154" y="1677"/>
                  </a:cubicBezTo>
                  <a:cubicBezTo>
                    <a:pt x="157" y="1671"/>
                    <a:pt x="159" y="1664"/>
                    <a:pt x="160" y="1657"/>
                  </a:cubicBezTo>
                  <a:cubicBezTo>
                    <a:pt x="160" y="1650"/>
                    <a:pt x="160" y="1644"/>
                    <a:pt x="158" y="1637"/>
                  </a:cubicBezTo>
                  <a:cubicBezTo>
                    <a:pt x="156" y="1625"/>
                    <a:pt x="151" y="1614"/>
                    <a:pt x="145" y="1605"/>
                  </a:cubicBezTo>
                  <a:cubicBezTo>
                    <a:pt x="142" y="1599"/>
                    <a:pt x="138" y="1593"/>
                    <a:pt x="135" y="1588"/>
                  </a:cubicBezTo>
                  <a:cubicBezTo>
                    <a:pt x="120" y="1567"/>
                    <a:pt x="103" y="1551"/>
                    <a:pt x="86" y="1535"/>
                  </a:cubicBezTo>
                  <a:cubicBezTo>
                    <a:pt x="70" y="1519"/>
                    <a:pt x="53" y="1503"/>
                    <a:pt x="38" y="1486"/>
                  </a:cubicBezTo>
                  <a:cubicBezTo>
                    <a:pt x="24" y="1469"/>
                    <a:pt x="13" y="1450"/>
                    <a:pt x="12" y="1430"/>
                  </a:cubicBezTo>
                  <a:cubicBezTo>
                    <a:pt x="11" y="1421"/>
                    <a:pt x="13" y="1411"/>
                    <a:pt x="18" y="1402"/>
                  </a:cubicBezTo>
                  <a:cubicBezTo>
                    <a:pt x="22" y="1392"/>
                    <a:pt x="28" y="1383"/>
                    <a:pt x="35" y="1375"/>
                  </a:cubicBezTo>
                  <a:cubicBezTo>
                    <a:pt x="49" y="1357"/>
                    <a:pt x="66" y="1342"/>
                    <a:pt x="83" y="1326"/>
                  </a:cubicBezTo>
                  <a:cubicBezTo>
                    <a:pt x="100" y="1310"/>
                    <a:pt x="117" y="1294"/>
                    <a:pt x="133" y="1276"/>
                  </a:cubicBezTo>
                  <a:cubicBezTo>
                    <a:pt x="137" y="1271"/>
                    <a:pt x="141" y="1266"/>
                    <a:pt x="145" y="1261"/>
                  </a:cubicBezTo>
                  <a:cubicBezTo>
                    <a:pt x="146" y="1261"/>
                    <a:pt x="146" y="1261"/>
                    <a:pt x="146" y="1261"/>
                  </a:cubicBezTo>
                  <a:cubicBezTo>
                    <a:pt x="147" y="1259"/>
                    <a:pt x="147" y="1258"/>
                    <a:pt x="148" y="1256"/>
                  </a:cubicBezTo>
                  <a:cubicBezTo>
                    <a:pt x="150" y="1252"/>
                    <a:pt x="152" y="1249"/>
                    <a:pt x="154" y="1245"/>
                  </a:cubicBezTo>
                  <a:cubicBezTo>
                    <a:pt x="157" y="1239"/>
                    <a:pt x="159" y="1233"/>
                    <a:pt x="160" y="1226"/>
                  </a:cubicBezTo>
                  <a:cubicBezTo>
                    <a:pt x="160" y="1218"/>
                    <a:pt x="160" y="1212"/>
                    <a:pt x="158" y="1206"/>
                  </a:cubicBezTo>
                  <a:cubicBezTo>
                    <a:pt x="156" y="1193"/>
                    <a:pt x="150" y="1181"/>
                    <a:pt x="143" y="1171"/>
                  </a:cubicBezTo>
                  <a:cubicBezTo>
                    <a:pt x="141" y="1168"/>
                    <a:pt x="139" y="1164"/>
                    <a:pt x="136" y="1161"/>
                  </a:cubicBezTo>
                  <a:cubicBezTo>
                    <a:pt x="136" y="1160"/>
                    <a:pt x="135" y="1159"/>
                    <a:pt x="135" y="1158"/>
                  </a:cubicBezTo>
                  <a:cubicBezTo>
                    <a:pt x="120" y="1138"/>
                    <a:pt x="103" y="1122"/>
                    <a:pt x="86" y="1105"/>
                  </a:cubicBezTo>
                  <a:cubicBezTo>
                    <a:pt x="70" y="1089"/>
                    <a:pt x="53" y="1074"/>
                    <a:pt x="38" y="1057"/>
                  </a:cubicBezTo>
                  <a:cubicBezTo>
                    <a:pt x="24" y="1040"/>
                    <a:pt x="13" y="1020"/>
                    <a:pt x="12" y="1000"/>
                  </a:cubicBezTo>
                  <a:cubicBezTo>
                    <a:pt x="11" y="991"/>
                    <a:pt x="13" y="982"/>
                    <a:pt x="18" y="972"/>
                  </a:cubicBezTo>
                  <a:cubicBezTo>
                    <a:pt x="22" y="963"/>
                    <a:pt x="28" y="954"/>
                    <a:pt x="35" y="945"/>
                  </a:cubicBezTo>
                  <a:cubicBezTo>
                    <a:pt x="49" y="928"/>
                    <a:pt x="66" y="912"/>
                    <a:pt x="83" y="896"/>
                  </a:cubicBezTo>
                  <a:cubicBezTo>
                    <a:pt x="100" y="880"/>
                    <a:pt x="117" y="865"/>
                    <a:pt x="133" y="847"/>
                  </a:cubicBezTo>
                  <a:cubicBezTo>
                    <a:pt x="141" y="837"/>
                    <a:pt x="148" y="828"/>
                    <a:pt x="154" y="816"/>
                  </a:cubicBezTo>
                  <a:cubicBezTo>
                    <a:pt x="157" y="810"/>
                    <a:pt x="159" y="803"/>
                    <a:pt x="160" y="796"/>
                  </a:cubicBezTo>
                  <a:cubicBezTo>
                    <a:pt x="160" y="789"/>
                    <a:pt x="160" y="783"/>
                    <a:pt x="158" y="776"/>
                  </a:cubicBezTo>
                  <a:cubicBezTo>
                    <a:pt x="156" y="766"/>
                    <a:pt x="152" y="756"/>
                    <a:pt x="147" y="748"/>
                  </a:cubicBezTo>
                  <a:cubicBezTo>
                    <a:pt x="144" y="740"/>
                    <a:pt x="139" y="732"/>
                    <a:pt x="135" y="726"/>
                  </a:cubicBezTo>
                  <a:cubicBezTo>
                    <a:pt x="120" y="705"/>
                    <a:pt x="103" y="689"/>
                    <a:pt x="86" y="673"/>
                  </a:cubicBezTo>
                  <a:cubicBezTo>
                    <a:pt x="70" y="656"/>
                    <a:pt x="53" y="641"/>
                    <a:pt x="38" y="624"/>
                  </a:cubicBezTo>
                  <a:cubicBezTo>
                    <a:pt x="24" y="607"/>
                    <a:pt x="13" y="588"/>
                    <a:pt x="12" y="568"/>
                  </a:cubicBezTo>
                  <a:cubicBezTo>
                    <a:pt x="11" y="558"/>
                    <a:pt x="13" y="549"/>
                    <a:pt x="18" y="540"/>
                  </a:cubicBezTo>
                  <a:cubicBezTo>
                    <a:pt x="22" y="530"/>
                    <a:pt x="28" y="521"/>
                    <a:pt x="35" y="513"/>
                  </a:cubicBezTo>
                  <a:cubicBezTo>
                    <a:pt x="49" y="495"/>
                    <a:pt x="66" y="480"/>
                    <a:pt x="83" y="464"/>
                  </a:cubicBezTo>
                  <a:cubicBezTo>
                    <a:pt x="100" y="448"/>
                    <a:pt x="117" y="432"/>
                    <a:pt x="133" y="414"/>
                  </a:cubicBezTo>
                  <a:cubicBezTo>
                    <a:pt x="141" y="405"/>
                    <a:pt x="148" y="395"/>
                    <a:pt x="154" y="383"/>
                  </a:cubicBezTo>
                  <a:cubicBezTo>
                    <a:pt x="157" y="377"/>
                    <a:pt x="159" y="371"/>
                    <a:pt x="160" y="364"/>
                  </a:cubicBezTo>
                  <a:cubicBezTo>
                    <a:pt x="160" y="356"/>
                    <a:pt x="160" y="350"/>
                    <a:pt x="158" y="344"/>
                  </a:cubicBezTo>
                  <a:cubicBezTo>
                    <a:pt x="156" y="333"/>
                    <a:pt x="152" y="324"/>
                    <a:pt x="147" y="315"/>
                  </a:cubicBezTo>
                  <a:cubicBezTo>
                    <a:pt x="144" y="307"/>
                    <a:pt x="139" y="300"/>
                    <a:pt x="135" y="293"/>
                  </a:cubicBezTo>
                  <a:cubicBezTo>
                    <a:pt x="120" y="273"/>
                    <a:pt x="103" y="256"/>
                    <a:pt x="86" y="240"/>
                  </a:cubicBezTo>
                  <a:cubicBezTo>
                    <a:pt x="70" y="224"/>
                    <a:pt x="53" y="208"/>
                    <a:pt x="38" y="191"/>
                  </a:cubicBezTo>
                  <a:cubicBezTo>
                    <a:pt x="24" y="174"/>
                    <a:pt x="13" y="155"/>
                    <a:pt x="12" y="135"/>
                  </a:cubicBezTo>
                  <a:cubicBezTo>
                    <a:pt x="11" y="126"/>
                    <a:pt x="13" y="116"/>
                    <a:pt x="18" y="107"/>
                  </a:cubicBezTo>
                  <a:cubicBezTo>
                    <a:pt x="22" y="97"/>
                    <a:pt x="28" y="88"/>
                    <a:pt x="35" y="80"/>
                  </a:cubicBezTo>
                  <a:cubicBezTo>
                    <a:pt x="49" y="63"/>
                    <a:pt x="66" y="47"/>
                    <a:pt x="83" y="31"/>
                  </a:cubicBezTo>
                  <a:cubicBezTo>
                    <a:pt x="94" y="21"/>
                    <a:pt x="105" y="10"/>
                    <a:pt x="115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92" y="7"/>
                    <a:pt x="83" y="15"/>
                    <a:pt x="75" y="23"/>
                  </a:cubicBezTo>
                  <a:cubicBezTo>
                    <a:pt x="58" y="39"/>
                    <a:pt x="41" y="54"/>
                    <a:pt x="26" y="72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5" name="Freeform 15"/>
            <p:cNvSpPr/>
            <p:nvPr/>
          </p:nvSpPr>
          <p:spPr>
            <a:xfrm>
              <a:off x="5581800" y="-1440"/>
              <a:ext cx="506160" cy="686232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59" h="2159">
                  <a:moveTo>
                    <a:pt x="124" y="74"/>
                  </a:moveTo>
                  <a:cubicBezTo>
                    <a:pt x="131" y="83"/>
                    <a:pt x="138" y="92"/>
                    <a:pt x="143" y="103"/>
                  </a:cubicBezTo>
                  <a:cubicBezTo>
                    <a:pt x="147" y="111"/>
                    <a:pt x="150" y="121"/>
                    <a:pt x="150" y="131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47" y="149"/>
                    <a:pt x="140" y="167"/>
                    <a:pt x="130" y="183"/>
                  </a:cubicBezTo>
                  <a:cubicBezTo>
                    <a:pt x="127" y="187"/>
                    <a:pt x="124" y="192"/>
                    <a:pt x="121" y="196"/>
                  </a:cubicBezTo>
                  <a:cubicBezTo>
                    <a:pt x="121" y="196"/>
                    <a:pt x="121" y="197"/>
                    <a:pt x="120" y="197"/>
                  </a:cubicBezTo>
                  <a:cubicBezTo>
                    <a:pt x="105" y="215"/>
                    <a:pt x="88" y="230"/>
                    <a:pt x="71" y="246"/>
                  </a:cubicBezTo>
                  <a:cubicBezTo>
                    <a:pt x="54" y="262"/>
                    <a:pt x="38" y="279"/>
                    <a:pt x="24" y="298"/>
                  </a:cubicBezTo>
                  <a:cubicBezTo>
                    <a:pt x="22" y="300"/>
                    <a:pt x="21" y="302"/>
                    <a:pt x="19" y="305"/>
                  </a:cubicBezTo>
                  <a:cubicBezTo>
                    <a:pt x="18" y="307"/>
                    <a:pt x="16" y="310"/>
                    <a:pt x="14" y="313"/>
                  </a:cubicBezTo>
                  <a:cubicBezTo>
                    <a:pt x="8" y="322"/>
                    <a:pt x="3" y="333"/>
                    <a:pt x="1" y="345"/>
                  </a:cubicBezTo>
                  <a:cubicBezTo>
                    <a:pt x="1" y="345"/>
                    <a:pt x="0" y="346"/>
                    <a:pt x="0" y="347"/>
                  </a:cubicBezTo>
                  <a:cubicBezTo>
                    <a:pt x="1" y="352"/>
                    <a:pt x="2" y="357"/>
                    <a:pt x="1" y="364"/>
                  </a:cubicBezTo>
                  <a:cubicBezTo>
                    <a:pt x="1" y="365"/>
                    <a:pt x="1" y="366"/>
                    <a:pt x="1" y="367"/>
                  </a:cubicBezTo>
                  <a:cubicBezTo>
                    <a:pt x="2" y="372"/>
                    <a:pt x="3" y="376"/>
                    <a:pt x="5" y="379"/>
                  </a:cubicBezTo>
                  <a:cubicBezTo>
                    <a:pt x="7" y="383"/>
                    <a:pt x="9" y="387"/>
                    <a:pt x="11" y="390"/>
                  </a:cubicBezTo>
                  <a:cubicBezTo>
                    <a:pt x="12" y="392"/>
                    <a:pt x="13" y="394"/>
                    <a:pt x="14" y="396"/>
                  </a:cubicBezTo>
                  <a:cubicBezTo>
                    <a:pt x="15" y="396"/>
                    <a:pt x="15" y="396"/>
                    <a:pt x="15" y="396"/>
                  </a:cubicBezTo>
                  <a:cubicBezTo>
                    <a:pt x="18" y="400"/>
                    <a:pt x="22" y="404"/>
                    <a:pt x="25" y="408"/>
                  </a:cubicBezTo>
                  <a:cubicBezTo>
                    <a:pt x="41" y="426"/>
                    <a:pt x="58" y="441"/>
                    <a:pt x="75" y="457"/>
                  </a:cubicBezTo>
                  <a:cubicBezTo>
                    <a:pt x="92" y="473"/>
                    <a:pt x="109" y="489"/>
                    <a:pt x="124" y="507"/>
                  </a:cubicBezTo>
                  <a:cubicBezTo>
                    <a:pt x="131" y="516"/>
                    <a:pt x="138" y="525"/>
                    <a:pt x="143" y="535"/>
                  </a:cubicBezTo>
                  <a:cubicBezTo>
                    <a:pt x="147" y="544"/>
                    <a:pt x="150" y="554"/>
                    <a:pt x="150" y="564"/>
                  </a:cubicBezTo>
                  <a:cubicBezTo>
                    <a:pt x="149" y="564"/>
                    <a:pt x="149" y="564"/>
                    <a:pt x="149" y="564"/>
                  </a:cubicBezTo>
                  <a:cubicBezTo>
                    <a:pt x="147" y="582"/>
                    <a:pt x="140" y="600"/>
                    <a:pt x="130" y="616"/>
                  </a:cubicBezTo>
                  <a:cubicBezTo>
                    <a:pt x="127" y="620"/>
                    <a:pt x="124" y="625"/>
                    <a:pt x="121" y="629"/>
                  </a:cubicBezTo>
                  <a:cubicBezTo>
                    <a:pt x="121" y="629"/>
                    <a:pt x="121" y="629"/>
                    <a:pt x="120" y="630"/>
                  </a:cubicBezTo>
                  <a:cubicBezTo>
                    <a:pt x="105" y="648"/>
                    <a:pt x="88" y="663"/>
                    <a:pt x="71" y="679"/>
                  </a:cubicBezTo>
                  <a:cubicBezTo>
                    <a:pt x="54" y="695"/>
                    <a:pt x="38" y="711"/>
                    <a:pt x="24" y="730"/>
                  </a:cubicBezTo>
                  <a:cubicBezTo>
                    <a:pt x="22" y="733"/>
                    <a:pt x="21" y="735"/>
                    <a:pt x="19" y="737"/>
                  </a:cubicBezTo>
                  <a:cubicBezTo>
                    <a:pt x="18" y="740"/>
                    <a:pt x="16" y="743"/>
                    <a:pt x="14" y="745"/>
                  </a:cubicBezTo>
                  <a:cubicBezTo>
                    <a:pt x="8" y="755"/>
                    <a:pt x="3" y="766"/>
                    <a:pt x="1" y="778"/>
                  </a:cubicBezTo>
                  <a:cubicBezTo>
                    <a:pt x="1" y="778"/>
                    <a:pt x="0" y="779"/>
                    <a:pt x="0" y="779"/>
                  </a:cubicBezTo>
                  <a:cubicBezTo>
                    <a:pt x="1" y="785"/>
                    <a:pt x="2" y="790"/>
                    <a:pt x="1" y="796"/>
                  </a:cubicBezTo>
                  <a:cubicBezTo>
                    <a:pt x="1" y="798"/>
                    <a:pt x="1" y="799"/>
                    <a:pt x="1" y="800"/>
                  </a:cubicBezTo>
                  <a:cubicBezTo>
                    <a:pt x="2" y="804"/>
                    <a:pt x="3" y="808"/>
                    <a:pt x="5" y="812"/>
                  </a:cubicBezTo>
                  <a:cubicBezTo>
                    <a:pt x="7" y="816"/>
                    <a:pt x="9" y="819"/>
                    <a:pt x="11" y="823"/>
                  </a:cubicBezTo>
                  <a:cubicBezTo>
                    <a:pt x="12" y="825"/>
                    <a:pt x="13" y="827"/>
                    <a:pt x="14" y="828"/>
                  </a:cubicBezTo>
                  <a:cubicBezTo>
                    <a:pt x="15" y="828"/>
                    <a:pt x="15" y="828"/>
                    <a:pt x="15" y="828"/>
                  </a:cubicBezTo>
                  <a:cubicBezTo>
                    <a:pt x="18" y="833"/>
                    <a:pt x="22" y="837"/>
                    <a:pt x="25" y="841"/>
                  </a:cubicBezTo>
                  <a:cubicBezTo>
                    <a:pt x="41" y="858"/>
                    <a:pt x="58" y="874"/>
                    <a:pt x="75" y="890"/>
                  </a:cubicBezTo>
                  <a:cubicBezTo>
                    <a:pt x="92" y="906"/>
                    <a:pt x="109" y="922"/>
                    <a:pt x="124" y="939"/>
                  </a:cubicBezTo>
                  <a:cubicBezTo>
                    <a:pt x="131" y="948"/>
                    <a:pt x="138" y="958"/>
                    <a:pt x="143" y="968"/>
                  </a:cubicBezTo>
                  <a:cubicBezTo>
                    <a:pt x="146" y="976"/>
                    <a:pt x="149" y="984"/>
                    <a:pt x="150" y="993"/>
                  </a:cubicBezTo>
                  <a:cubicBezTo>
                    <a:pt x="149" y="993"/>
                    <a:pt x="149" y="993"/>
                    <a:pt x="149" y="993"/>
                  </a:cubicBezTo>
                  <a:cubicBezTo>
                    <a:pt x="147" y="1012"/>
                    <a:pt x="140" y="1029"/>
                    <a:pt x="130" y="1045"/>
                  </a:cubicBezTo>
                  <a:cubicBezTo>
                    <a:pt x="118" y="1065"/>
                    <a:pt x="102" y="1082"/>
                    <a:pt x="85" y="1098"/>
                  </a:cubicBezTo>
                  <a:cubicBezTo>
                    <a:pt x="69" y="1114"/>
                    <a:pt x="51" y="1130"/>
                    <a:pt x="36" y="1147"/>
                  </a:cubicBezTo>
                  <a:cubicBezTo>
                    <a:pt x="28" y="1156"/>
                    <a:pt x="20" y="1165"/>
                    <a:pt x="14" y="1175"/>
                  </a:cubicBezTo>
                  <a:cubicBezTo>
                    <a:pt x="8" y="1185"/>
                    <a:pt x="3" y="1195"/>
                    <a:pt x="1" y="1207"/>
                  </a:cubicBezTo>
                  <a:cubicBezTo>
                    <a:pt x="1" y="1208"/>
                    <a:pt x="0" y="1208"/>
                    <a:pt x="0" y="1209"/>
                  </a:cubicBezTo>
                  <a:cubicBezTo>
                    <a:pt x="1" y="1214"/>
                    <a:pt x="2" y="1220"/>
                    <a:pt x="1" y="1226"/>
                  </a:cubicBezTo>
                  <a:cubicBezTo>
                    <a:pt x="1" y="1227"/>
                    <a:pt x="1" y="1228"/>
                    <a:pt x="1" y="1230"/>
                  </a:cubicBezTo>
                  <a:cubicBezTo>
                    <a:pt x="2" y="1234"/>
                    <a:pt x="3" y="1238"/>
                    <a:pt x="5" y="1242"/>
                  </a:cubicBezTo>
                  <a:cubicBezTo>
                    <a:pt x="6" y="1243"/>
                    <a:pt x="6" y="1244"/>
                    <a:pt x="7" y="1245"/>
                  </a:cubicBezTo>
                  <a:cubicBezTo>
                    <a:pt x="9" y="1251"/>
                    <a:pt x="11" y="1256"/>
                    <a:pt x="14" y="1261"/>
                  </a:cubicBezTo>
                  <a:cubicBezTo>
                    <a:pt x="18" y="1261"/>
                    <a:pt x="18" y="1261"/>
                    <a:pt x="18" y="1261"/>
                  </a:cubicBezTo>
                  <a:cubicBezTo>
                    <a:pt x="20" y="1264"/>
                    <a:pt x="22" y="1267"/>
                    <a:pt x="25" y="1270"/>
                  </a:cubicBezTo>
                  <a:cubicBezTo>
                    <a:pt x="41" y="1288"/>
                    <a:pt x="58" y="1303"/>
                    <a:pt x="75" y="1319"/>
                  </a:cubicBezTo>
                  <a:cubicBezTo>
                    <a:pt x="92" y="1335"/>
                    <a:pt x="109" y="1351"/>
                    <a:pt x="124" y="1369"/>
                  </a:cubicBezTo>
                  <a:cubicBezTo>
                    <a:pt x="131" y="1378"/>
                    <a:pt x="138" y="1387"/>
                    <a:pt x="143" y="1398"/>
                  </a:cubicBezTo>
                  <a:cubicBezTo>
                    <a:pt x="147" y="1406"/>
                    <a:pt x="149" y="1415"/>
                    <a:pt x="150" y="1425"/>
                  </a:cubicBezTo>
                  <a:cubicBezTo>
                    <a:pt x="149" y="1425"/>
                    <a:pt x="149" y="1425"/>
                    <a:pt x="149" y="1425"/>
                  </a:cubicBezTo>
                  <a:cubicBezTo>
                    <a:pt x="147" y="1443"/>
                    <a:pt x="140" y="1461"/>
                    <a:pt x="130" y="1477"/>
                  </a:cubicBezTo>
                  <a:cubicBezTo>
                    <a:pt x="125" y="1485"/>
                    <a:pt x="119" y="1493"/>
                    <a:pt x="112" y="1501"/>
                  </a:cubicBezTo>
                  <a:cubicBezTo>
                    <a:pt x="99" y="1515"/>
                    <a:pt x="85" y="1528"/>
                    <a:pt x="71" y="1541"/>
                  </a:cubicBezTo>
                  <a:cubicBezTo>
                    <a:pt x="55" y="1556"/>
                    <a:pt x="39" y="1572"/>
                    <a:pt x="26" y="1590"/>
                  </a:cubicBezTo>
                  <a:cubicBezTo>
                    <a:pt x="22" y="1595"/>
                    <a:pt x="18" y="1600"/>
                    <a:pt x="14" y="1606"/>
                  </a:cubicBezTo>
                  <a:cubicBezTo>
                    <a:pt x="8" y="1616"/>
                    <a:pt x="3" y="1627"/>
                    <a:pt x="1" y="1639"/>
                  </a:cubicBezTo>
                  <a:cubicBezTo>
                    <a:pt x="1" y="1639"/>
                    <a:pt x="0" y="1640"/>
                    <a:pt x="0" y="1640"/>
                  </a:cubicBezTo>
                  <a:cubicBezTo>
                    <a:pt x="1" y="1646"/>
                    <a:pt x="2" y="1651"/>
                    <a:pt x="1" y="1657"/>
                  </a:cubicBezTo>
                  <a:cubicBezTo>
                    <a:pt x="1" y="1659"/>
                    <a:pt x="1" y="1660"/>
                    <a:pt x="1" y="1661"/>
                  </a:cubicBezTo>
                  <a:cubicBezTo>
                    <a:pt x="2" y="1665"/>
                    <a:pt x="3" y="1669"/>
                    <a:pt x="5" y="1673"/>
                  </a:cubicBezTo>
                  <a:cubicBezTo>
                    <a:pt x="6" y="1676"/>
                    <a:pt x="8" y="1679"/>
                    <a:pt x="10" y="1681"/>
                  </a:cubicBezTo>
                  <a:cubicBezTo>
                    <a:pt x="11" y="1685"/>
                    <a:pt x="12" y="1688"/>
                    <a:pt x="14" y="1691"/>
                  </a:cubicBezTo>
                  <a:cubicBezTo>
                    <a:pt x="16" y="1691"/>
                    <a:pt x="16" y="1691"/>
                    <a:pt x="16" y="1691"/>
                  </a:cubicBezTo>
                  <a:cubicBezTo>
                    <a:pt x="19" y="1694"/>
                    <a:pt x="22" y="1698"/>
                    <a:pt x="25" y="1702"/>
                  </a:cubicBezTo>
                  <a:cubicBezTo>
                    <a:pt x="41" y="1719"/>
                    <a:pt x="58" y="1735"/>
                    <a:pt x="75" y="1751"/>
                  </a:cubicBezTo>
                  <a:cubicBezTo>
                    <a:pt x="92" y="1767"/>
                    <a:pt x="109" y="1783"/>
                    <a:pt x="124" y="1800"/>
                  </a:cubicBezTo>
                  <a:cubicBezTo>
                    <a:pt x="131" y="1809"/>
                    <a:pt x="138" y="1819"/>
                    <a:pt x="143" y="1829"/>
                  </a:cubicBezTo>
                  <a:cubicBezTo>
                    <a:pt x="147" y="1837"/>
                    <a:pt x="149" y="1846"/>
                    <a:pt x="150" y="1855"/>
                  </a:cubicBezTo>
                  <a:cubicBezTo>
                    <a:pt x="149" y="1855"/>
                    <a:pt x="149" y="1855"/>
                    <a:pt x="149" y="1855"/>
                  </a:cubicBezTo>
                  <a:cubicBezTo>
                    <a:pt x="147" y="1874"/>
                    <a:pt x="140" y="1891"/>
                    <a:pt x="130" y="1907"/>
                  </a:cubicBezTo>
                  <a:cubicBezTo>
                    <a:pt x="120" y="1923"/>
                    <a:pt x="107" y="1938"/>
                    <a:pt x="94" y="1951"/>
                  </a:cubicBezTo>
                  <a:cubicBezTo>
                    <a:pt x="87" y="1959"/>
                    <a:pt x="79" y="1966"/>
                    <a:pt x="71" y="1973"/>
                  </a:cubicBezTo>
                  <a:cubicBezTo>
                    <a:pt x="60" y="1984"/>
                    <a:pt x="48" y="1995"/>
                    <a:pt x="38" y="2007"/>
                  </a:cubicBezTo>
                  <a:cubicBezTo>
                    <a:pt x="37" y="2008"/>
                    <a:pt x="36" y="2008"/>
                    <a:pt x="36" y="2009"/>
                  </a:cubicBezTo>
                  <a:cubicBezTo>
                    <a:pt x="28" y="2018"/>
                    <a:pt x="20" y="2027"/>
                    <a:pt x="14" y="2037"/>
                  </a:cubicBezTo>
                  <a:cubicBezTo>
                    <a:pt x="8" y="2047"/>
                    <a:pt x="3" y="2057"/>
                    <a:pt x="1" y="2069"/>
                  </a:cubicBezTo>
                  <a:cubicBezTo>
                    <a:pt x="1" y="2070"/>
                    <a:pt x="0" y="2070"/>
                    <a:pt x="0" y="2071"/>
                  </a:cubicBezTo>
                  <a:cubicBezTo>
                    <a:pt x="1" y="2076"/>
                    <a:pt x="2" y="2082"/>
                    <a:pt x="1" y="2088"/>
                  </a:cubicBezTo>
                  <a:cubicBezTo>
                    <a:pt x="1" y="2089"/>
                    <a:pt x="1" y="2090"/>
                    <a:pt x="1" y="2092"/>
                  </a:cubicBezTo>
                  <a:cubicBezTo>
                    <a:pt x="2" y="2096"/>
                    <a:pt x="3" y="2100"/>
                    <a:pt x="5" y="2104"/>
                  </a:cubicBezTo>
                  <a:cubicBezTo>
                    <a:pt x="6" y="2106"/>
                    <a:pt x="7" y="2107"/>
                    <a:pt x="8" y="2109"/>
                  </a:cubicBezTo>
                  <a:cubicBezTo>
                    <a:pt x="10" y="2114"/>
                    <a:pt x="12" y="2118"/>
                    <a:pt x="14" y="2122"/>
                  </a:cubicBezTo>
                  <a:cubicBezTo>
                    <a:pt x="17" y="2122"/>
                    <a:pt x="17" y="2122"/>
                    <a:pt x="17" y="2122"/>
                  </a:cubicBezTo>
                  <a:cubicBezTo>
                    <a:pt x="19" y="2126"/>
                    <a:pt x="22" y="2129"/>
                    <a:pt x="25" y="2132"/>
                  </a:cubicBezTo>
                  <a:cubicBezTo>
                    <a:pt x="33" y="2142"/>
                    <a:pt x="42" y="2150"/>
                    <a:pt x="51" y="2159"/>
                  </a:cubicBezTo>
                  <a:cubicBezTo>
                    <a:pt x="67" y="2159"/>
                    <a:pt x="67" y="2159"/>
                    <a:pt x="67" y="2159"/>
                  </a:cubicBezTo>
                  <a:cubicBezTo>
                    <a:pt x="55" y="2148"/>
                    <a:pt x="43" y="2137"/>
                    <a:pt x="33" y="2125"/>
                  </a:cubicBezTo>
                  <a:cubicBezTo>
                    <a:pt x="26" y="2117"/>
                    <a:pt x="20" y="2109"/>
                    <a:pt x="15" y="2101"/>
                  </a:cubicBezTo>
                  <a:cubicBezTo>
                    <a:pt x="14" y="2097"/>
                    <a:pt x="13" y="2093"/>
                    <a:pt x="13" y="2089"/>
                  </a:cubicBezTo>
                  <a:cubicBezTo>
                    <a:pt x="12" y="2068"/>
                    <a:pt x="20" y="2048"/>
                    <a:pt x="33" y="2030"/>
                  </a:cubicBezTo>
                  <a:cubicBezTo>
                    <a:pt x="45" y="2012"/>
                    <a:pt x="62" y="1997"/>
                    <a:pt x="79" y="1981"/>
                  </a:cubicBezTo>
                  <a:cubicBezTo>
                    <a:pt x="96" y="1965"/>
                    <a:pt x="113" y="1949"/>
                    <a:pt x="129" y="1931"/>
                  </a:cubicBezTo>
                  <a:cubicBezTo>
                    <a:pt x="137" y="1922"/>
                    <a:pt x="144" y="1912"/>
                    <a:pt x="150" y="1900"/>
                  </a:cubicBezTo>
                  <a:cubicBezTo>
                    <a:pt x="154" y="1894"/>
                    <a:pt x="157" y="1886"/>
                    <a:pt x="159" y="1879"/>
                  </a:cubicBezTo>
                  <a:cubicBezTo>
                    <a:pt x="159" y="1838"/>
                    <a:pt x="159" y="1838"/>
                    <a:pt x="159" y="1838"/>
                  </a:cubicBezTo>
                  <a:cubicBezTo>
                    <a:pt x="157" y="1833"/>
                    <a:pt x="156" y="1828"/>
                    <a:pt x="153" y="1824"/>
                  </a:cubicBezTo>
                  <a:cubicBezTo>
                    <a:pt x="148" y="1812"/>
                    <a:pt x="140" y="1802"/>
                    <a:pt x="133" y="1793"/>
                  </a:cubicBezTo>
                  <a:cubicBezTo>
                    <a:pt x="117" y="1774"/>
                    <a:pt x="100" y="1758"/>
                    <a:pt x="82" y="1743"/>
                  </a:cubicBezTo>
                  <a:cubicBezTo>
                    <a:pt x="65" y="1727"/>
                    <a:pt x="48" y="1712"/>
                    <a:pt x="33" y="1695"/>
                  </a:cubicBezTo>
                  <a:cubicBezTo>
                    <a:pt x="26" y="1687"/>
                    <a:pt x="20" y="1679"/>
                    <a:pt x="16" y="1671"/>
                  </a:cubicBezTo>
                  <a:cubicBezTo>
                    <a:pt x="14" y="1667"/>
                    <a:pt x="14" y="1662"/>
                    <a:pt x="13" y="1658"/>
                  </a:cubicBezTo>
                  <a:cubicBezTo>
                    <a:pt x="12" y="1637"/>
                    <a:pt x="20" y="1616"/>
                    <a:pt x="33" y="1599"/>
                  </a:cubicBezTo>
                  <a:cubicBezTo>
                    <a:pt x="45" y="1581"/>
                    <a:pt x="62" y="1565"/>
                    <a:pt x="79" y="1549"/>
                  </a:cubicBezTo>
                  <a:cubicBezTo>
                    <a:pt x="96" y="1534"/>
                    <a:pt x="113" y="1518"/>
                    <a:pt x="129" y="1499"/>
                  </a:cubicBezTo>
                  <a:cubicBezTo>
                    <a:pt x="137" y="1490"/>
                    <a:pt x="144" y="1480"/>
                    <a:pt x="150" y="1469"/>
                  </a:cubicBezTo>
                  <a:cubicBezTo>
                    <a:pt x="154" y="1462"/>
                    <a:pt x="157" y="1455"/>
                    <a:pt x="159" y="1447"/>
                  </a:cubicBezTo>
                  <a:cubicBezTo>
                    <a:pt x="159" y="1406"/>
                    <a:pt x="159" y="1406"/>
                    <a:pt x="159" y="1406"/>
                  </a:cubicBezTo>
                  <a:cubicBezTo>
                    <a:pt x="157" y="1401"/>
                    <a:pt x="156" y="1397"/>
                    <a:pt x="153" y="1392"/>
                  </a:cubicBezTo>
                  <a:cubicBezTo>
                    <a:pt x="148" y="1381"/>
                    <a:pt x="140" y="1371"/>
                    <a:pt x="133" y="1361"/>
                  </a:cubicBezTo>
                  <a:cubicBezTo>
                    <a:pt x="117" y="1343"/>
                    <a:pt x="100" y="1327"/>
                    <a:pt x="82" y="1311"/>
                  </a:cubicBezTo>
                  <a:cubicBezTo>
                    <a:pt x="65" y="1295"/>
                    <a:pt x="48" y="1280"/>
                    <a:pt x="33" y="1263"/>
                  </a:cubicBezTo>
                  <a:cubicBezTo>
                    <a:pt x="26" y="1255"/>
                    <a:pt x="19" y="1247"/>
                    <a:pt x="15" y="1238"/>
                  </a:cubicBezTo>
                  <a:cubicBezTo>
                    <a:pt x="14" y="1235"/>
                    <a:pt x="13" y="1232"/>
                    <a:pt x="13" y="1228"/>
                  </a:cubicBezTo>
                  <a:cubicBezTo>
                    <a:pt x="12" y="1207"/>
                    <a:pt x="20" y="1187"/>
                    <a:pt x="33" y="1169"/>
                  </a:cubicBezTo>
                  <a:cubicBezTo>
                    <a:pt x="45" y="1152"/>
                    <a:pt x="62" y="1136"/>
                    <a:pt x="79" y="1120"/>
                  </a:cubicBezTo>
                  <a:cubicBezTo>
                    <a:pt x="96" y="1104"/>
                    <a:pt x="113" y="1089"/>
                    <a:pt x="129" y="1070"/>
                  </a:cubicBezTo>
                  <a:cubicBezTo>
                    <a:pt x="137" y="1061"/>
                    <a:pt x="144" y="1051"/>
                    <a:pt x="150" y="1039"/>
                  </a:cubicBezTo>
                  <a:cubicBezTo>
                    <a:pt x="154" y="1033"/>
                    <a:pt x="157" y="1025"/>
                    <a:pt x="159" y="1018"/>
                  </a:cubicBezTo>
                  <a:cubicBezTo>
                    <a:pt x="159" y="977"/>
                    <a:pt x="159" y="977"/>
                    <a:pt x="159" y="977"/>
                  </a:cubicBezTo>
                  <a:cubicBezTo>
                    <a:pt x="157" y="972"/>
                    <a:pt x="156" y="967"/>
                    <a:pt x="153" y="963"/>
                  </a:cubicBezTo>
                  <a:cubicBezTo>
                    <a:pt x="148" y="951"/>
                    <a:pt x="140" y="941"/>
                    <a:pt x="133" y="932"/>
                  </a:cubicBezTo>
                  <a:cubicBezTo>
                    <a:pt x="117" y="913"/>
                    <a:pt x="100" y="897"/>
                    <a:pt x="82" y="882"/>
                  </a:cubicBezTo>
                  <a:cubicBezTo>
                    <a:pt x="65" y="866"/>
                    <a:pt x="48" y="851"/>
                    <a:pt x="33" y="834"/>
                  </a:cubicBezTo>
                  <a:cubicBezTo>
                    <a:pt x="27" y="827"/>
                    <a:pt x="21" y="819"/>
                    <a:pt x="16" y="811"/>
                  </a:cubicBezTo>
                  <a:cubicBezTo>
                    <a:pt x="15" y="806"/>
                    <a:pt x="14" y="801"/>
                    <a:pt x="13" y="795"/>
                  </a:cubicBezTo>
                  <a:cubicBezTo>
                    <a:pt x="12" y="774"/>
                    <a:pt x="20" y="754"/>
                    <a:pt x="33" y="737"/>
                  </a:cubicBezTo>
                  <a:cubicBezTo>
                    <a:pt x="45" y="719"/>
                    <a:pt x="62" y="703"/>
                    <a:pt x="79" y="687"/>
                  </a:cubicBezTo>
                  <a:cubicBezTo>
                    <a:pt x="96" y="671"/>
                    <a:pt x="113" y="656"/>
                    <a:pt x="129" y="637"/>
                  </a:cubicBezTo>
                  <a:cubicBezTo>
                    <a:pt x="137" y="628"/>
                    <a:pt x="144" y="618"/>
                    <a:pt x="150" y="607"/>
                  </a:cubicBezTo>
                  <a:cubicBezTo>
                    <a:pt x="154" y="600"/>
                    <a:pt x="157" y="593"/>
                    <a:pt x="159" y="585"/>
                  </a:cubicBezTo>
                  <a:cubicBezTo>
                    <a:pt x="159" y="544"/>
                    <a:pt x="159" y="544"/>
                    <a:pt x="159" y="544"/>
                  </a:cubicBezTo>
                  <a:cubicBezTo>
                    <a:pt x="157" y="539"/>
                    <a:pt x="156" y="535"/>
                    <a:pt x="153" y="530"/>
                  </a:cubicBezTo>
                  <a:cubicBezTo>
                    <a:pt x="148" y="519"/>
                    <a:pt x="140" y="509"/>
                    <a:pt x="133" y="499"/>
                  </a:cubicBezTo>
                  <a:cubicBezTo>
                    <a:pt x="117" y="481"/>
                    <a:pt x="100" y="465"/>
                    <a:pt x="82" y="449"/>
                  </a:cubicBezTo>
                  <a:cubicBezTo>
                    <a:pt x="65" y="433"/>
                    <a:pt x="48" y="418"/>
                    <a:pt x="33" y="401"/>
                  </a:cubicBezTo>
                  <a:cubicBezTo>
                    <a:pt x="27" y="394"/>
                    <a:pt x="21" y="386"/>
                    <a:pt x="16" y="379"/>
                  </a:cubicBezTo>
                  <a:cubicBezTo>
                    <a:pt x="15" y="373"/>
                    <a:pt x="14" y="368"/>
                    <a:pt x="13" y="363"/>
                  </a:cubicBezTo>
                  <a:cubicBezTo>
                    <a:pt x="12" y="342"/>
                    <a:pt x="20" y="322"/>
                    <a:pt x="33" y="304"/>
                  </a:cubicBezTo>
                  <a:cubicBezTo>
                    <a:pt x="45" y="286"/>
                    <a:pt x="62" y="270"/>
                    <a:pt x="79" y="254"/>
                  </a:cubicBezTo>
                  <a:cubicBezTo>
                    <a:pt x="96" y="239"/>
                    <a:pt x="113" y="223"/>
                    <a:pt x="129" y="204"/>
                  </a:cubicBezTo>
                  <a:cubicBezTo>
                    <a:pt x="137" y="195"/>
                    <a:pt x="144" y="185"/>
                    <a:pt x="150" y="174"/>
                  </a:cubicBezTo>
                  <a:cubicBezTo>
                    <a:pt x="154" y="167"/>
                    <a:pt x="157" y="160"/>
                    <a:pt x="159" y="152"/>
                  </a:cubicBezTo>
                  <a:cubicBezTo>
                    <a:pt x="159" y="111"/>
                    <a:pt x="159" y="111"/>
                    <a:pt x="159" y="111"/>
                  </a:cubicBezTo>
                  <a:cubicBezTo>
                    <a:pt x="157" y="107"/>
                    <a:pt x="156" y="102"/>
                    <a:pt x="153" y="97"/>
                  </a:cubicBezTo>
                  <a:cubicBezTo>
                    <a:pt x="148" y="86"/>
                    <a:pt x="140" y="76"/>
                    <a:pt x="133" y="66"/>
                  </a:cubicBezTo>
                  <a:cubicBezTo>
                    <a:pt x="117" y="48"/>
                    <a:pt x="100" y="32"/>
                    <a:pt x="82" y="16"/>
                  </a:cubicBezTo>
                  <a:cubicBezTo>
                    <a:pt x="76" y="11"/>
                    <a:pt x="71" y="5"/>
                    <a:pt x="65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57" y="8"/>
                    <a:pt x="66" y="16"/>
                    <a:pt x="75" y="24"/>
                  </a:cubicBezTo>
                  <a:cubicBezTo>
                    <a:pt x="92" y="40"/>
                    <a:pt x="109" y="56"/>
                    <a:pt x="124" y="74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6" name="Freeform 16"/>
            <p:cNvSpPr/>
            <p:nvPr/>
          </p:nvSpPr>
          <p:spPr>
            <a:xfrm>
              <a:off x="6087960" y="-1440"/>
              <a:ext cx="501120" cy="6862320"/>
            </a:xfrm>
            <a:custGeom>
              <a:avLst/>
              <a:gdLst>
                <a:gd name="textAreaLeft" fmla="*/ 0 w 501120"/>
                <a:gd name="textAreaRight" fmla="*/ 501480 w 50112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58" h="2159">
                  <a:moveTo>
                    <a:pt x="23" y="72"/>
                  </a:moveTo>
                  <a:cubicBezTo>
                    <a:pt x="16" y="81"/>
                    <a:pt x="9" y="91"/>
                    <a:pt x="4" y="102"/>
                  </a:cubicBezTo>
                  <a:cubicBezTo>
                    <a:pt x="3" y="104"/>
                    <a:pt x="1" y="107"/>
                    <a:pt x="0" y="110"/>
                  </a:cubicBezTo>
                  <a:cubicBezTo>
                    <a:pt x="0" y="133"/>
                    <a:pt x="0" y="133"/>
                    <a:pt x="0" y="133"/>
                  </a:cubicBezTo>
                  <a:cubicBezTo>
                    <a:pt x="0" y="144"/>
                    <a:pt x="0" y="144"/>
                    <a:pt x="0" y="144"/>
                  </a:cubicBezTo>
                  <a:cubicBezTo>
                    <a:pt x="0" y="154"/>
                    <a:pt x="0" y="154"/>
                    <a:pt x="0" y="154"/>
                  </a:cubicBezTo>
                  <a:cubicBezTo>
                    <a:pt x="2" y="159"/>
                    <a:pt x="4" y="164"/>
                    <a:pt x="7" y="170"/>
                  </a:cubicBezTo>
                  <a:cubicBezTo>
                    <a:pt x="12" y="180"/>
                    <a:pt x="19" y="190"/>
                    <a:pt x="27" y="198"/>
                  </a:cubicBezTo>
                  <a:cubicBezTo>
                    <a:pt x="30" y="202"/>
                    <a:pt x="33" y="206"/>
                    <a:pt x="36" y="209"/>
                  </a:cubicBezTo>
                  <a:cubicBezTo>
                    <a:pt x="44" y="219"/>
                    <a:pt x="53" y="228"/>
                    <a:pt x="62" y="237"/>
                  </a:cubicBezTo>
                  <a:cubicBezTo>
                    <a:pt x="79" y="254"/>
                    <a:pt x="96" y="269"/>
                    <a:pt x="112" y="286"/>
                  </a:cubicBezTo>
                  <a:cubicBezTo>
                    <a:pt x="117" y="291"/>
                    <a:pt x="121" y="297"/>
                    <a:pt x="125" y="302"/>
                  </a:cubicBezTo>
                  <a:cubicBezTo>
                    <a:pt x="131" y="311"/>
                    <a:pt x="136" y="320"/>
                    <a:pt x="139" y="329"/>
                  </a:cubicBezTo>
                  <a:cubicBezTo>
                    <a:pt x="143" y="340"/>
                    <a:pt x="144" y="352"/>
                    <a:pt x="143" y="363"/>
                  </a:cubicBezTo>
                  <a:cubicBezTo>
                    <a:pt x="142" y="372"/>
                    <a:pt x="140" y="380"/>
                    <a:pt x="137" y="388"/>
                  </a:cubicBezTo>
                  <a:cubicBezTo>
                    <a:pt x="132" y="395"/>
                    <a:pt x="127" y="401"/>
                    <a:pt x="122" y="407"/>
                  </a:cubicBezTo>
                  <a:cubicBezTo>
                    <a:pt x="107" y="424"/>
                    <a:pt x="89" y="440"/>
                    <a:pt x="72" y="455"/>
                  </a:cubicBezTo>
                  <a:cubicBezTo>
                    <a:pt x="55" y="471"/>
                    <a:pt x="38" y="487"/>
                    <a:pt x="23" y="505"/>
                  </a:cubicBezTo>
                  <a:cubicBezTo>
                    <a:pt x="16" y="514"/>
                    <a:pt x="9" y="524"/>
                    <a:pt x="4" y="534"/>
                  </a:cubicBezTo>
                  <a:cubicBezTo>
                    <a:pt x="3" y="537"/>
                    <a:pt x="1" y="540"/>
                    <a:pt x="0" y="543"/>
                  </a:cubicBezTo>
                  <a:cubicBezTo>
                    <a:pt x="0" y="566"/>
                    <a:pt x="0" y="566"/>
                    <a:pt x="0" y="566"/>
                  </a:cubicBezTo>
                  <a:cubicBezTo>
                    <a:pt x="0" y="577"/>
                    <a:pt x="0" y="577"/>
                    <a:pt x="0" y="577"/>
                  </a:cubicBezTo>
                  <a:cubicBezTo>
                    <a:pt x="0" y="587"/>
                    <a:pt x="0" y="587"/>
                    <a:pt x="0" y="587"/>
                  </a:cubicBezTo>
                  <a:cubicBezTo>
                    <a:pt x="2" y="592"/>
                    <a:pt x="4" y="597"/>
                    <a:pt x="7" y="602"/>
                  </a:cubicBezTo>
                  <a:cubicBezTo>
                    <a:pt x="12" y="613"/>
                    <a:pt x="19" y="622"/>
                    <a:pt x="27" y="631"/>
                  </a:cubicBezTo>
                  <a:cubicBezTo>
                    <a:pt x="30" y="635"/>
                    <a:pt x="33" y="638"/>
                    <a:pt x="36" y="642"/>
                  </a:cubicBezTo>
                  <a:cubicBezTo>
                    <a:pt x="44" y="652"/>
                    <a:pt x="53" y="661"/>
                    <a:pt x="62" y="670"/>
                  </a:cubicBezTo>
                  <a:cubicBezTo>
                    <a:pt x="79" y="686"/>
                    <a:pt x="96" y="702"/>
                    <a:pt x="112" y="719"/>
                  </a:cubicBezTo>
                  <a:cubicBezTo>
                    <a:pt x="117" y="724"/>
                    <a:pt x="121" y="730"/>
                    <a:pt x="125" y="735"/>
                  </a:cubicBezTo>
                  <a:cubicBezTo>
                    <a:pt x="131" y="744"/>
                    <a:pt x="136" y="753"/>
                    <a:pt x="139" y="762"/>
                  </a:cubicBezTo>
                  <a:cubicBezTo>
                    <a:pt x="143" y="773"/>
                    <a:pt x="144" y="785"/>
                    <a:pt x="143" y="796"/>
                  </a:cubicBezTo>
                  <a:cubicBezTo>
                    <a:pt x="142" y="805"/>
                    <a:pt x="140" y="813"/>
                    <a:pt x="137" y="821"/>
                  </a:cubicBezTo>
                  <a:cubicBezTo>
                    <a:pt x="132" y="827"/>
                    <a:pt x="127" y="834"/>
                    <a:pt x="122" y="840"/>
                  </a:cubicBezTo>
                  <a:cubicBezTo>
                    <a:pt x="107" y="857"/>
                    <a:pt x="89" y="872"/>
                    <a:pt x="72" y="888"/>
                  </a:cubicBezTo>
                  <a:cubicBezTo>
                    <a:pt x="55" y="904"/>
                    <a:pt x="38" y="920"/>
                    <a:pt x="23" y="938"/>
                  </a:cubicBezTo>
                  <a:cubicBezTo>
                    <a:pt x="16" y="947"/>
                    <a:pt x="9" y="957"/>
                    <a:pt x="4" y="967"/>
                  </a:cubicBezTo>
                  <a:cubicBezTo>
                    <a:pt x="3" y="970"/>
                    <a:pt x="1" y="973"/>
                    <a:pt x="0" y="976"/>
                  </a:cubicBezTo>
                  <a:cubicBezTo>
                    <a:pt x="0" y="995"/>
                    <a:pt x="0" y="995"/>
                    <a:pt x="0" y="995"/>
                  </a:cubicBezTo>
                  <a:cubicBezTo>
                    <a:pt x="0" y="1006"/>
                    <a:pt x="0" y="1006"/>
                    <a:pt x="0" y="1006"/>
                  </a:cubicBezTo>
                  <a:cubicBezTo>
                    <a:pt x="0" y="1019"/>
                    <a:pt x="0" y="1019"/>
                    <a:pt x="0" y="1019"/>
                  </a:cubicBezTo>
                  <a:cubicBezTo>
                    <a:pt x="2" y="1025"/>
                    <a:pt x="4" y="1030"/>
                    <a:pt x="7" y="1035"/>
                  </a:cubicBezTo>
                  <a:cubicBezTo>
                    <a:pt x="12" y="1046"/>
                    <a:pt x="19" y="1055"/>
                    <a:pt x="27" y="1064"/>
                  </a:cubicBezTo>
                  <a:cubicBezTo>
                    <a:pt x="42" y="1082"/>
                    <a:pt x="59" y="1098"/>
                    <a:pt x="76" y="1113"/>
                  </a:cubicBezTo>
                  <a:cubicBezTo>
                    <a:pt x="93" y="1129"/>
                    <a:pt x="110" y="1146"/>
                    <a:pt x="123" y="1164"/>
                  </a:cubicBezTo>
                  <a:cubicBezTo>
                    <a:pt x="130" y="1174"/>
                    <a:pt x="135" y="1184"/>
                    <a:pt x="139" y="1195"/>
                  </a:cubicBezTo>
                  <a:cubicBezTo>
                    <a:pt x="143" y="1206"/>
                    <a:pt x="144" y="1218"/>
                    <a:pt x="143" y="1229"/>
                  </a:cubicBezTo>
                  <a:cubicBezTo>
                    <a:pt x="143" y="1234"/>
                    <a:pt x="142" y="1239"/>
                    <a:pt x="140" y="1244"/>
                  </a:cubicBezTo>
                  <a:cubicBezTo>
                    <a:pt x="135" y="1253"/>
                    <a:pt x="129" y="1261"/>
                    <a:pt x="122" y="1269"/>
                  </a:cubicBezTo>
                  <a:cubicBezTo>
                    <a:pt x="107" y="1286"/>
                    <a:pt x="89" y="1302"/>
                    <a:pt x="72" y="1318"/>
                  </a:cubicBezTo>
                  <a:cubicBezTo>
                    <a:pt x="55" y="1333"/>
                    <a:pt x="38" y="1349"/>
                    <a:pt x="23" y="1367"/>
                  </a:cubicBezTo>
                  <a:cubicBezTo>
                    <a:pt x="16" y="1376"/>
                    <a:pt x="9" y="1386"/>
                    <a:pt x="4" y="1396"/>
                  </a:cubicBezTo>
                  <a:cubicBezTo>
                    <a:pt x="3" y="1399"/>
                    <a:pt x="1" y="1402"/>
                    <a:pt x="0" y="1405"/>
                  </a:cubicBezTo>
                  <a:cubicBezTo>
                    <a:pt x="0" y="1427"/>
                    <a:pt x="0" y="1427"/>
                    <a:pt x="0" y="1427"/>
                  </a:cubicBezTo>
                  <a:cubicBezTo>
                    <a:pt x="0" y="1438"/>
                    <a:pt x="0" y="1438"/>
                    <a:pt x="0" y="1438"/>
                  </a:cubicBezTo>
                  <a:cubicBezTo>
                    <a:pt x="0" y="1449"/>
                    <a:pt x="0" y="1449"/>
                    <a:pt x="0" y="1449"/>
                  </a:cubicBezTo>
                  <a:cubicBezTo>
                    <a:pt x="2" y="1454"/>
                    <a:pt x="4" y="1459"/>
                    <a:pt x="7" y="1464"/>
                  </a:cubicBezTo>
                  <a:cubicBezTo>
                    <a:pt x="12" y="1475"/>
                    <a:pt x="19" y="1484"/>
                    <a:pt x="27" y="1493"/>
                  </a:cubicBezTo>
                  <a:cubicBezTo>
                    <a:pt x="34" y="1502"/>
                    <a:pt x="41" y="1510"/>
                    <a:pt x="49" y="1517"/>
                  </a:cubicBezTo>
                  <a:cubicBezTo>
                    <a:pt x="54" y="1522"/>
                    <a:pt x="58" y="1526"/>
                    <a:pt x="62" y="1531"/>
                  </a:cubicBezTo>
                  <a:cubicBezTo>
                    <a:pt x="79" y="1547"/>
                    <a:pt x="96" y="1563"/>
                    <a:pt x="112" y="1580"/>
                  </a:cubicBezTo>
                  <a:cubicBezTo>
                    <a:pt x="114" y="1582"/>
                    <a:pt x="115" y="1584"/>
                    <a:pt x="117" y="1586"/>
                  </a:cubicBezTo>
                  <a:cubicBezTo>
                    <a:pt x="119" y="1589"/>
                    <a:pt x="121" y="1591"/>
                    <a:pt x="123" y="1594"/>
                  </a:cubicBezTo>
                  <a:cubicBezTo>
                    <a:pt x="130" y="1603"/>
                    <a:pt x="135" y="1613"/>
                    <a:pt x="139" y="1624"/>
                  </a:cubicBezTo>
                  <a:cubicBezTo>
                    <a:pt x="143" y="1635"/>
                    <a:pt x="144" y="1647"/>
                    <a:pt x="143" y="1658"/>
                  </a:cubicBezTo>
                  <a:cubicBezTo>
                    <a:pt x="142" y="1666"/>
                    <a:pt x="141" y="1673"/>
                    <a:pt x="138" y="1680"/>
                  </a:cubicBezTo>
                  <a:cubicBezTo>
                    <a:pt x="133" y="1687"/>
                    <a:pt x="128" y="1694"/>
                    <a:pt x="122" y="1701"/>
                  </a:cubicBezTo>
                  <a:cubicBezTo>
                    <a:pt x="107" y="1718"/>
                    <a:pt x="89" y="1733"/>
                    <a:pt x="72" y="1749"/>
                  </a:cubicBezTo>
                  <a:cubicBezTo>
                    <a:pt x="55" y="1765"/>
                    <a:pt x="38" y="1781"/>
                    <a:pt x="23" y="1799"/>
                  </a:cubicBezTo>
                  <a:cubicBezTo>
                    <a:pt x="16" y="1808"/>
                    <a:pt x="9" y="1818"/>
                    <a:pt x="4" y="1828"/>
                  </a:cubicBezTo>
                  <a:cubicBezTo>
                    <a:pt x="3" y="1831"/>
                    <a:pt x="1" y="1834"/>
                    <a:pt x="0" y="1837"/>
                  </a:cubicBezTo>
                  <a:cubicBezTo>
                    <a:pt x="0" y="1857"/>
                    <a:pt x="0" y="1857"/>
                    <a:pt x="0" y="1857"/>
                  </a:cubicBezTo>
                  <a:cubicBezTo>
                    <a:pt x="0" y="1868"/>
                    <a:pt x="0" y="1868"/>
                    <a:pt x="0" y="1868"/>
                  </a:cubicBezTo>
                  <a:cubicBezTo>
                    <a:pt x="0" y="1880"/>
                    <a:pt x="0" y="1880"/>
                    <a:pt x="0" y="1880"/>
                  </a:cubicBezTo>
                  <a:cubicBezTo>
                    <a:pt x="2" y="1886"/>
                    <a:pt x="4" y="1891"/>
                    <a:pt x="7" y="1896"/>
                  </a:cubicBezTo>
                  <a:cubicBezTo>
                    <a:pt x="12" y="1907"/>
                    <a:pt x="19" y="1916"/>
                    <a:pt x="27" y="1925"/>
                  </a:cubicBezTo>
                  <a:cubicBezTo>
                    <a:pt x="42" y="1943"/>
                    <a:pt x="59" y="1958"/>
                    <a:pt x="76" y="1974"/>
                  </a:cubicBezTo>
                  <a:cubicBezTo>
                    <a:pt x="76" y="1975"/>
                    <a:pt x="76" y="1975"/>
                    <a:pt x="77" y="1975"/>
                  </a:cubicBezTo>
                  <a:cubicBezTo>
                    <a:pt x="84" y="1982"/>
                    <a:pt x="90" y="1988"/>
                    <a:pt x="97" y="1995"/>
                  </a:cubicBezTo>
                  <a:cubicBezTo>
                    <a:pt x="106" y="2004"/>
                    <a:pt x="115" y="2014"/>
                    <a:pt x="123" y="2025"/>
                  </a:cubicBezTo>
                  <a:cubicBezTo>
                    <a:pt x="130" y="2035"/>
                    <a:pt x="135" y="2045"/>
                    <a:pt x="139" y="2056"/>
                  </a:cubicBezTo>
                  <a:cubicBezTo>
                    <a:pt x="143" y="2067"/>
                    <a:pt x="144" y="2078"/>
                    <a:pt x="143" y="2090"/>
                  </a:cubicBezTo>
                  <a:cubicBezTo>
                    <a:pt x="142" y="2096"/>
                    <a:pt x="141" y="2102"/>
                    <a:pt x="139" y="2108"/>
                  </a:cubicBezTo>
                  <a:cubicBezTo>
                    <a:pt x="134" y="2116"/>
                    <a:pt x="128" y="2124"/>
                    <a:pt x="122" y="2131"/>
                  </a:cubicBezTo>
                  <a:cubicBezTo>
                    <a:pt x="113" y="2141"/>
                    <a:pt x="104" y="2150"/>
                    <a:pt x="95" y="2159"/>
                  </a:cubicBezTo>
                  <a:cubicBezTo>
                    <a:pt x="110" y="2159"/>
                    <a:pt x="110" y="2159"/>
                    <a:pt x="110" y="2159"/>
                  </a:cubicBezTo>
                  <a:cubicBezTo>
                    <a:pt x="117" y="2152"/>
                    <a:pt x="124" y="2145"/>
                    <a:pt x="130" y="2138"/>
                  </a:cubicBezTo>
                  <a:cubicBezTo>
                    <a:pt x="134" y="2133"/>
                    <a:pt x="138" y="2128"/>
                    <a:pt x="142" y="2122"/>
                  </a:cubicBezTo>
                  <a:cubicBezTo>
                    <a:pt x="143" y="2122"/>
                    <a:pt x="143" y="2122"/>
                    <a:pt x="143" y="2122"/>
                  </a:cubicBezTo>
                  <a:cubicBezTo>
                    <a:pt x="143" y="2122"/>
                    <a:pt x="143" y="2121"/>
                    <a:pt x="143" y="2120"/>
                  </a:cubicBezTo>
                  <a:cubicBezTo>
                    <a:pt x="146" y="2116"/>
                    <a:pt x="149" y="2112"/>
                    <a:pt x="151" y="2107"/>
                  </a:cubicBezTo>
                  <a:cubicBezTo>
                    <a:pt x="154" y="2101"/>
                    <a:pt x="156" y="2095"/>
                    <a:pt x="157" y="2088"/>
                  </a:cubicBezTo>
                  <a:cubicBezTo>
                    <a:pt x="158" y="2080"/>
                    <a:pt x="157" y="2074"/>
                    <a:pt x="156" y="2068"/>
                  </a:cubicBezTo>
                  <a:cubicBezTo>
                    <a:pt x="153" y="2055"/>
                    <a:pt x="147" y="2043"/>
                    <a:pt x="141" y="2033"/>
                  </a:cubicBezTo>
                  <a:cubicBezTo>
                    <a:pt x="140" y="2032"/>
                    <a:pt x="139" y="2030"/>
                    <a:pt x="138" y="2029"/>
                  </a:cubicBezTo>
                  <a:cubicBezTo>
                    <a:pt x="136" y="2026"/>
                    <a:pt x="134" y="2022"/>
                    <a:pt x="132" y="2019"/>
                  </a:cubicBezTo>
                  <a:cubicBezTo>
                    <a:pt x="117" y="1999"/>
                    <a:pt x="100" y="1982"/>
                    <a:pt x="83" y="1966"/>
                  </a:cubicBezTo>
                  <a:cubicBezTo>
                    <a:pt x="67" y="1950"/>
                    <a:pt x="50" y="1935"/>
                    <a:pt x="35" y="1917"/>
                  </a:cubicBezTo>
                  <a:cubicBezTo>
                    <a:pt x="21" y="1901"/>
                    <a:pt x="10" y="1881"/>
                    <a:pt x="9" y="1861"/>
                  </a:cubicBezTo>
                  <a:cubicBezTo>
                    <a:pt x="8" y="1852"/>
                    <a:pt x="10" y="1843"/>
                    <a:pt x="15" y="1833"/>
                  </a:cubicBezTo>
                  <a:cubicBezTo>
                    <a:pt x="19" y="1824"/>
                    <a:pt x="25" y="1815"/>
                    <a:pt x="32" y="1806"/>
                  </a:cubicBezTo>
                  <a:cubicBezTo>
                    <a:pt x="46" y="1789"/>
                    <a:pt x="63" y="1773"/>
                    <a:pt x="80" y="1757"/>
                  </a:cubicBezTo>
                  <a:cubicBezTo>
                    <a:pt x="97" y="1741"/>
                    <a:pt x="114" y="1726"/>
                    <a:pt x="130" y="1708"/>
                  </a:cubicBezTo>
                  <a:cubicBezTo>
                    <a:pt x="138" y="1698"/>
                    <a:pt x="146" y="1689"/>
                    <a:pt x="151" y="1677"/>
                  </a:cubicBezTo>
                  <a:cubicBezTo>
                    <a:pt x="154" y="1671"/>
                    <a:pt x="156" y="1664"/>
                    <a:pt x="157" y="1657"/>
                  </a:cubicBezTo>
                  <a:cubicBezTo>
                    <a:pt x="158" y="1650"/>
                    <a:pt x="157" y="1644"/>
                    <a:pt x="156" y="1637"/>
                  </a:cubicBezTo>
                  <a:cubicBezTo>
                    <a:pt x="153" y="1625"/>
                    <a:pt x="148" y="1614"/>
                    <a:pt x="142" y="1605"/>
                  </a:cubicBezTo>
                  <a:cubicBezTo>
                    <a:pt x="139" y="1599"/>
                    <a:pt x="135" y="1593"/>
                    <a:pt x="132" y="1588"/>
                  </a:cubicBezTo>
                  <a:cubicBezTo>
                    <a:pt x="117" y="1567"/>
                    <a:pt x="100" y="1551"/>
                    <a:pt x="83" y="1535"/>
                  </a:cubicBezTo>
                  <a:cubicBezTo>
                    <a:pt x="67" y="1519"/>
                    <a:pt x="50" y="1503"/>
                    <a:pt x="35" y="1486"/>
                  </a:cubicBezTo>
                  <a:cubicBezTo>
                    <a:pt x="21" y="1469"/>
                    <a:pt x="10" y="1450"/>
                    <a:pt x="9" y="1430"/>
                  </a:cubicBezTo>
                  <a:cubicBezTo>
                    <a:pt x="8" y="1421"/>
                    <a:pt x="10" y="1411"/>
                    <a:pt x="15" y="1402"/>
                  </a:cubicBezTo>
                  <a:cubicBezTo>
                    <a:pt x="19" y="1392"/>
                    <a:pt x="25" y="1383"/>
                    <a:pt x="32" y="1375"/>
                  </a:cubicBezTo>
                  <a:cubicBezTo>
                    <a:pt x="46" y="1357"/>
                    <a:pt x="63" y="1342"/>
                    <a:pt x="80" y="1326"/>
                  </a:cubicBezTo>
                  <a:cubicBezTo>
                    <a:pt x="97" y="1310"/>
                    <a:pt x="114" y="1294"/>
                    <a:pt x="130" y="1276"/>
                  </a:cubicBezTo>
                  <a:cubicBezTo>
                    <a:pt x="134" y="1271"/>
                    <a:pt x="138" y="1266"/>
                    <a:pt x="142" y="1261"/>
                  </a:cubicBezTo>
                  <a:cubicBezTo>
                    <a:pt x="143" y="1261"/>
                    <a:pt x="143" y="1261"/>
                    <a:pt x="143" y="1261"/>
                  </a:cubicBezTo>
                  <a:cubicBezTo>
                    <a:pt x="144" y="1259"/>
                    <a:pt x="144" y="1258"/>
                    <a:pt x="145" y="1256"/>
                  </a:cubicBezTo>
                  <a:cubicBezTo>
                    <a:pt x="147" y="1252"/>
                    <a:pt x="149" y="1249"/>
                    <a:pt x="151" y="1245"/>
                  </a:cubicBezTo>
                  <a:cubicBezTo>
                    <a:pt x="154" y="1239"/>
                    <a:pt x="156" y="1233"/>
                    <a:pt x="157" y="1226"/>
                  </a:cubicBezTo>
                  <a:cubicBezTo>
                    <a:pt x="158" y="1218"/>
                    <a:pt x="157" y="1212"/>
                    <a:pt x="156" y="1206"/>
                  </a:cubicBezTo>
                  <a:cubicBezTo>
                    <a:pt x="153" y="1193"/>
                    <a:pt x="147" y="1181"/>
                    <a:pt x="141" y="1171"/>
                  </a:cubicBezTo>
                  <a:cubicBezTo>
                    <a:pt x="138" y="1168"/>
                    <a:pt x="136" y="1164"/>
                    <a:pt x="133" y="1161"/>
                  </a:cubicBezTo>
                  <a:cubicBezTo>
                    <a:pt x="133" y="1160"/>
                    <a:pt x="132" y="1159"/>
                    <a:pt x="132" y="1158"/>
                  </a:cubicBezTo>
                  <a:cubicBezTo>
                    <a:pt x="117" y="1138"/>
                    <a:pt x="100" y="1122"/>
                    <a:pt x="83" y="1105"/>
                  </a:cubicBezTo>
                  <a:cubicBezTo>
                    <a:pt x="67" y="1089"/>
                    <a:pt x="50" y="1074"/>
                    <a:pt x="35" y="1057"/>
                  </a:cubicBezTo>
                  <a:cubicBezTo>
                    <a:pt x="21" y="1040"/>
                    <a:pt x="10" y="1020"/>
                    <a:pt x="9" y="1000"/>
                  </a:cubicBezTo>
                  <a:cubicBezTo>
                    <a:pt x="8" y="991"/>
                    <a:pt x="10" y="982"/>
                    <a:pt x="15" y="972"/>
                  </a:cubicBezTo>
                  <a:cubicBezTo>
                    <a:pt x="19" y="963"/>
                    <a:pt x="25" y="954"/>
                    <a:pt x="32" y="945"/>
                  </a:cubicBezTo>
                  <a:cubicBezTo>
                    <a:pt x="46" y="928"/>
                    <a:pt x="63" y="912"/>
                    <a:pt x="80" y="896"/>
                  </a:cubicBezTo>
                  <a:cubicBezTo>
                    <a:pt x="97" y="880"/>
                    <a:pt x="114" y="865"/>
                    <a:pt x="130" y="847"/>
                  </a:cubicBezTo>
                  <a:cubicBezTo>
                    <a:pt x="138" y="837"/>
                    <a:pt x="146" y="828"/>
                    <a:pt x="151" y="816"/>
                  </a:cubicBezTo>
                  <a:cubicBezTo>
                    <a:pt x="154" y="810"/>
                    <a:pt x="156" y="803"/>
                    <a:pt x="157" y="796"/>
                  </a:cubicBezTo>
                  <a:cubicBezTo>
                    <a:pt x="158" y="789"/>
                    <a:pt x="157" y="783"/>
                    <a:pt x="156" y="776"/>
                  </a:cubicBezTo>
                  <a:cubicBezTo>
                    <a:pt x="153" y="766"/>
                    <a:pt x="149" y="756"/>
                    <a:pt x="144" y="748"/>
                  </a:cubicBezTo>
                  <a:cubicBezTo>
                    <a:pt x="141" y="740"/>
                    <a:pt x="136" y="732"/>
                    <a:pt x="132" y="726"/>
                  </a:cubicBezTo>
                  <a:cubicBezTo>
                    <a:pt x="117" y="705"/>
                    <a:pt x="100" y="689"/>
                    <a:pt x="83" y="673"/>
                  </a:cubicBezTo>
                  <a:cubicBezTo>
                    <a:pt x="67" y="656"/>
                    <a:pt x="50" y="641"/>
                    <a:pt x="35" y="624"/>
                  </a:cubicBezTo>
                  <a:cubicBezTo>
                    <a:pt x="21" y="607"/>
                    <a:pt x="10" y="588"/>
                    <a:pt x="9" y="568"/>
                  </a:cubicBezTo>
                  <a:cubicBezTo>
                    <a:pt x="8" y="558"/>
                    <a:pt x="10" y="549"/>
                    <a:pt x="15" y="540"/>
                  </a:cubicBezTo>
                  <a:cubicBezTo>
                    <a:pt x="19" y="530"/>
                    <a:pt x="25" y="521"/>
                    <a:pt x="32" y="513"/>
                  </a:cubicBezTo>
                  <a:cubicBezTo>
                    <a:pt x="46" y="495"/>
                    <a:pt x="63" y="480"/>
                    <a:pt x="80" y="464"/>
                  </a:cubicBezTo>
                  <a:cubicBezTo>
                    <a:pt x="97" y="448"/>
                    <a:pt x="114" y="432"/>
                    <a:pt x="130" y="414"/>
                  </a:cubicBezTo>
                  <a:cubicBezTo>
                    <a:pt x="138" y="405"/>
                    <a:pt x="146" y="395"/>
                    <a:pt x="151" y="383"/>
                  </a:cubicBezTo>
                  <a:cubicBezTo>
                    <a:pt x="154" y="377"/>
                    <a:pt x="156" y="371"/>
                    <a:pt x="157" y="364"/>
                  </a:cubicBezTo>
                  <a:cubicBezTo>
                    <a:pt x="158" y="356"/>
                    <a:pt x="157" y="350"/>
                    <a:pt x="156" y="344"/>
                  </a:cubicBezTo>
                  <a:cubicBezTo>
                    <a:pt x="153" y="333"/>
                    <a:pt x="149" y="324"/>
                    <a:pt x="144" y="315"/>
                  </a:cubicBezTo>
                  <a:cubicBezTo>
                    <a:pt x="141" y="307"/>
                    <a:pt x="136" y="300"/>
                    <a:pt x="132" y="293"/>
                  </a:cubicBezTo>
                  <a:cubicBezTo>
                    <a:pt x="117" y="273"/>
                    <a:pt x="100" y="256"/>
                    <a:pt x="83" y="240"/>
                  </a:cubicBezTo>
                  <a:cubicBezTo>
                    <a:pt x="67" y="224"/>
                    <a:pt x="50" y="208"/>
                    <a:pt x="35" y="191"/>
                  </a:cubicBezTo>
                  <a:cubicBezTo>
                    <a:pt x="21" y="174"/>
                    <a:pt x="10" y="155"/>
                    <a:pt x="9" y="135"/>
                  </a:cubicBezTo>
                  <a:cubicBezTo>
                    <a:pt x="8" y="126"/>
                    <a:pt x="10" y="116"/>
                    <a:pt x="15" y="107"/>
                  </a:cubicBezTo>
                  <a:cubicBezTo>
                    <a:pt x="19" y="97"/>
                    <a:pt x="25" y="88"/>
                    <a:pt x="32" y="80"/>
                  </a:cubicBezTo>
                  <a:cubicBezTo>
                    <a:pt x="46" y="63"/>
                    <a:pt x="63" y="47"/>
                    <a:pt x="80" y="31"/>
                  </a:cubicBezTo>
                  <a:cubicBezTo>
                    <a:pt x="91" y="21"/>
                    <a:pt x="102" y="10"/>
                    <a:pt x="112" y="0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89" y="7"/>
                    <a:pt x="81" y="15"/>
                    <a:pt x="72" y="23"/>
                  </a:cubicBezTo>
                  <a:cubicBezTo>
                    <a:pt x="55" y="39"/>
                    <a:pt x="38" y="54"/>
                    <a:pt x="23" y="72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7" name="Freeform 17"/>
            <p:cNvSpPr/>
            <p:nvPr/>
          </p:nvSpPr>
          <p:spPr>
            <a:xfrm>
              <a:off x="7107120" y="-1440"/>
              <a:ext cx="507600" cy="686232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0" h="2159">
                  <a:moveTo>
                    <a:pt x="26" y="72"/>
                  </a:moveTo>
                  <a:cubicBezTo>
                    <a:pt x="18" y="81"/>
                    <a:pt x="11" y="91"/>
                    <a:pt x="6" y="102"/>
                  </a:cubicBezTo>
                  <a:cubicBezTo>
                    <a:pt x="3" y="107"/>
                    <a:pt x="1" y="113"/>
                    <a:pt x="0" y="120"/>
                  </a:cubicBezTo>
                  <a:cubicBezTo>
                    <a:pt x="0" y="123"/>
                    <a:pt x="1" y="127"/>
                    <a:pt x="1" y="131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32"/>
                    <a:pt x="1" y="133"/>
                    <a:pt x="1" y="135"/>
                  </a:cubicBezTo>
                  <a:cubicBezTo>
                    <a:pt x="1" y="135"/>
                    <a:pt x="1" y="136"/>
                    <a:pt x="1" y="137"/>
                  </a:cubicBezTo>
                  <a:cubicBezTo>
                    <a:pt x="0" y="139"/>
                    <a:pt x="0" y="141"/>
                    <a:pt x="0" y="143"/>
                  </a:cubicBezTo>
                  <a:cubicBezTo>
                    <a:pt x="1" y="152"/>
                    <a:pt x="5" y="161"/>
                    <a:pt x="9" y="170"/>
                  </a:cubicBezTo>
                  <a:cubicBezTo>
                    <a:pt x="14" y="180"/>
                    <a:pt x="21" y="190"/>
                    <a:pt x="29" y="198"/>
                  </a:cubicBezTo>
                  <a:cubicBezTo>
                    <a:pt x="32" y="202"/>
                    <a:pt x="35" y="206"/>
                    <a:pt x="38" y="209"/>
                  </a:cubicBezTo>
                  <a:cubicBezTo>
                    <a:pt x="47" y="219"/>
                    <a:pt x="56" y="228"/>
                    <a:pt x="65" y="237"/>
                  </a:cubicBezTo>
                  <a:cubicBezTo>
                    <a:pt x="81" y="254"/>
                    <a:pt x="98" y="269"/>
                    <a:pt x="114" y="286"/>
                  </a:cubicBezTo>
                  <a:cubicBezTo>
                    <a:pt x="119" y="291"/>
                    <a:pt x="123" y="297"/>
                    <a:pt x="128" y="302"/>
                  </a:cubicBezTo>
                  <a:cubicBezTo>
                    <a:pt x="133" y="311"/>
                    <a:pt x="138" y="320"/>
                    <a:pt x="141" y="329"/>
                  </a:cubicBezTo>
                  <a:cubicBezTo>
                    <a:pt x="145" y="340"/>
                    <a:pt x="146" y="352"/>
                    <a:pt x="145" y="363"/>
                  </a:cubicBezTo>
                  <a:cubicBezTo>
                    <a:pt x="144" y="372"/>
                    <a:pt x="142" y="380"/>
                    <a:pt x="139" y="388"/>
                  </a:cubicBezTo>
                  <a:cubicBezTo>
                    <a:pt x="134" y="395"/>
                    <a:pt x="130" y="401"/>
                    <a:pt x="124" y="407"/>
                  </a:cubicBezTo>
                  <a:cubicBezTo>
                    <a:pt x="109" y="424"/>
                    <a:pt x="92" y="440"/>
                    <a:pt x="75" y="455"/>
                  </a:cubicBezTo>
                  <a:cubicBezTo>
                    <a:pt x="58" y="471"/>
                    <a:pt x="40" y="487"/>
                    <a:pt x="26" y="505"/>
                  </a:cubicBezTo>
                  <a:cubicBezTo>
                    <a:pt x="18" y="514"/>
                    <a:pt x="11" y="524"/>
                    <a:pt x="6" y="534"/>
                  </a:cubicBezTo>
                  <a:cubicBezTo>
                    <a:pt x="3" y="540"/>
                    <a:pt x="1" y="546"/>
                    <a:pt x="0" y="553"/>
                  </a:cubicBezTo>
                  <a:cubicBezTo>
                    <a:pt x="0" y="556"/>
                    <a:pt x="1" y="560"/>
                    <a:pt x="1" y="564"/>
                  </a:cubicBezTo>
                  <a:cubicBezTo>
                    <a:pt x="0" y="564"/>
                    <a:pt x="0" y="564"/>
                    <a:pt x="0" y="564"/>
                  </a:cubicBezTo>
                  <a:cubicBezTo>
                    <a:pt x="0" y="565"/>
                    <a:pt x="1" y="566"/>
                    <a:pt x="1" y="567"/>
                  </a:cubicBezTo>
                  <a:cubicBezTo>
                    <a:pt x="1" y="568"/>
                    <a:pt x="1" y="569"/>
                    <a:pt x="1" y="570"/>
                  </a:cubicBezTo>
                  <a:cubicBezTo>
                    <a:pt x="0" y="572"/>
                    <a:pt x="0" y="574"/>
                    <a:pt x="0" y="576"/>
                  </a:cubicBezTo>
                  <a:cubicBezTo>
                    <a:pt x="1" y="585"/>
                    <a:pt x="5" y="594"/>
                    <a:pt x="9" y="602"/>
                  </a:cubicBezTo>
                  <a:cubicBezTo>
                    <a:pt x="14" y="613"/>
                    <a:pt x="21" y="622"/>
                    <a:pt x="29" y="631"/>
                  </a:cubicBezTo>
                  <a:cubicBezTo>
                    <a:pt x="32" y="635"/>
                    <a:pt x="35" y="638"/>
                    <a:pt x="38" y="642"/>
                  </a:cubicBezTo>
                  <a:cubicBezTo>
                    <a:pt x="47" y="652"/>
                    <a:pt x="56" y="661"/>
                    <a:pt x="65" y="670"/>
                  </a:cubicBezTo>
                  <a:cubicBezTo>
                    <a:pt x="81" y="686"/>
                    <a:pt x="98" y="702"/>
                    <a:pt x="114" y="719"/>
                  </a:cubicBezTo>
                  <a:cubicBezTo>
                    <a:pt x="119" y="724"/>
                    <a:pt x="123" y="730"/>
                    <a:pt x="128" y="735"/>
                  </a:cubicBezTo>
                  <a:cubicBezTo>
                    <a:pt x="133" y="744"/>
                    <a:pt x="138" y="753"/>
                    <a:pt x="141" y="762"/>
                  </a:cubicBezTo>
                  <a:cubicBezTo>
                    <a:pt x="145" y="773"/>
                    <a:pt x="146" y="785"/>
                    <a:pt x="145" y="796"/>
                  </a:cubicBezTo>
                  <a:cubicBezTo>
                    <a:pt x="144" y="805"/>
                    <a:pt x="142" y="813"/>
                    <a:pt x="139" y="821"/>
                  </a:cubicBezTo>
                  <a:cubicBezTo>
                    <a:pt x="134" y="827"/>
                    <a:pt x="130" y="834"/>
                    <a:pt x="124" y="840"/>
                  </a:cubicBezTo>
                  <a:cubicBezTo>
                    <a:pt x="109" y="857"/>
                    <a:pt x="92" y="872"/>
                    <a:pt x="75" y="888"/>
                  </a:cubicBezTo>
                  <a:cubicBezTo>
                    <a:pt x="58" y="904"/>
                    <a:pt x="40" y="920"/>
                    <a:pt x="26" y="938"/>
                  </a:cubicBezTo>
                  <a:cubicBezTo>
                    <a:pt x="18" y="947"/>
                    <a:pt x="11" y="957"/>
                    <a:pt x="6" y="967"/>
                  </a:cubicBezTo>
                  <a:cubicBezTo>
                    <a:pt x="3" y="973"/>
                    <a:pt x="1" y="979"/>
                    <a:pt x="0" y="985"/>
                  </a:cubicBezTo>
                  <a:cubicBezTo>
                    <a:pt x="0" y="988"/>
                    <a:pt x="1" y="990"/>
                    <a:pt x="1" y="993"/>
                  </a:cubicBezTo>
                  <a:cubicBezTo>
                    <a:pt x="0" y="993"/>
                    <a:pt x="0" y="993"/>
                    <a:pt x="0" y="993"/>
                  </a:cubicBezTo>
                  <a:cubicBezTo>
                    <a:pt x="0" y="994"/>
                    <a:pt x="1" y="996"/>
                    <a:pt x="1" y="998"/>
                  </a:cubicBezTo>
                  <a:cubicBezTo>
                    <a:pt x="1" y="999"/>
                    <a:pt x="1" y="1001"/>
                    <a:pt x="1" y="1002"/>
                  </a:cubicBezTo>
                  <a:cubicBezTo>
                    <a:pt x="0" y="1004"/>
                    <a:pt x="0" y="1007"/>
                    <a:pt x="0" y="1009"/>
                  </a:cubicBezTo>
                  <a:cubicBezTo>
                    <a:pt x="1" y="1018"/>
                    <a:pt x="5" y="1027"/>
                    <a:pt x="9" y="1035"/>
                  </a:cubicBezTo>
                  <a:cubicBezTo>
                    <a:pt x="14" y="1046"/>
                    <a:pt x="21" y="1055"/>
                    <a:pt x="29" y="1064"/>
                  </a:cubicBezTo>
                  <a:cubicBezTo>
                    <a:pt x="44" y="1082"/>
                    <a:pt x="61" y="1098"/>
                    <a:pt x="78" y="1113"/>
                  </a:cubicBezTo>
                  <a:cubicBezTo>
                    <a:pt x="95" y="1129"/>
                    <a:pt x="112" y="1146"/>
                    <a:pt x="125" y="1164"/>
                  </a:cubicBezTo>
                  <a:cubicBezTo>
                    <a:pt x="132" y="1174"/>
                    <a:pt x="138" y="1184"/>
                    <a:pt x="141" y="1195"/>
                  </a:cubicBezTo>
                  <a:cubicBezTo>
                    <a:pt x="145" y="1206"/>
                    <a:pt x="146" y="1218"/>
                    <a:pt x="145" y="1229"/>
                  </a:cubicBezTo>
                  <a:cubicBezTo>
                    <a:pt x="145" y="1234"/>
                    <a:pt x="144" y="1239"/>
                    <a:pt x="142" y="1244"/>
                  </a:cubicBezTo>
                  <a:cubicBezTo>
                    <a:pt x="137" y="1253"/>
                    <a:pt x="131" y="1261"/>
                    <a:pt x="124" y="1269"/>
                  </a:cubicBezTo>
                  <a:cubicBezTo>
                    <a:pt x="109" y="1286"/>
                    <a:pt x="92" y="1302"/>
                    <a:pt x="75" y="1318"/>
                  </a:cubicBezTo>
                  <a:cubicBezTo>
                    <a:pt x="58" y="1333"/>
                    <a:pt x="40" y="1349"/>
                    <a:pt x="26" y="1367"/>
                  </a:cubicBezTo>
                  <a:cubicBezTo>
                    <a:pt x="18" y="1376"/>
                    <a:pt x="11" y="1386"/>
                    <a:pt x="6" y="1396"/>
                  </a:cubicBezTo>
                  <a:cubicBezTo>
                    <a:pt x="3" y="1402"/>
                    <a:pt x="1" y="1408"/>
                    <a:pt x="0" y="1415"/>
                  </a:cubicBezTo>
                  <a:cubicBezTo>
                    <a:pt x="0" y="1418"/>
                    <a:pt x="1" y="1421"/>
                    <a:pt x="1" y="1425"/>
                  </a:cubicBezTo>
                  <a:cubicBezTo>
                    <a:pt x="0" y="1425"/>
                    <a:pt x="0" y="1425"/>
                    <a:pt x="0" y="1425"/>
                  </a:cubicBezTo>
                  <a:cubicBezTo>
                    <a:pt x="0" y="1426"/>
                    <a:pt x="1" y="1427"/>
                    <a:pt x="1" y="1429"/>
                  </a:cubicBezTo>
                  <a:cubicBezTo>
                    <a:pt x="1" y="1430"/>
                    <a:pt x="1" y="1431"/>
                    <a:pt x="1" y="1432"/>
                  </a:cubicBezTo>
                  <a:cubicBezTo>
                    <a:pt x="0" y="1434"/>
                    <a:pt x="0" y="1436"/>
                    <a:pt x="0" y="1438"/>
                  </a:cubicBezTo>
                  <a:cubicBezTo>
                    <a:pt x="1" y="1447"/>
                    <a:pt x="5" y="1456"/>
                    <a:pt x="9" y="1464"/>
                  </a:cubicBezTo>
                  <a:cubicBezTo>
                    <a:pt x="14" y="1475"/>
                    <a:pt x="21" y="1484"/>
                    <a:pt x="29" y="1493"/>
                  </a:cubicBezTo>
                  <a:cubicBezTo>
                    <a:pt x="36" y="1502"/>
                    <a:pt x="44" y="1510"/>
                    <a:pt x="51" y="1518"/>
                  </a:cubicBezTo>
                  <a:cubicBezTo>
                    <a:pt x="56" y="1522"/>
                    <a:pt x="60" y="1527"/>
                    <a:pt x="65" y="1531"/>
                  </a:cubicBezTo>
                  <a:cubicBezTo>
                    <a:pt x="81" y="1547"/>
                    <a:pt x="98" y="1563"/>
                    <a:pt x="114" y="1580"/>
                  </a:cubicBezTo>
                  <a:cubicBezTo>
                    <a:pt x="116" y="1582"/>
                    <a:pt x="118" y="1584"/>
                    <a:pt x="119" y="1586"/>
                  </a:cubicBezTo>
                  <a:cubicBezTo>
                    <a:pt x="121" y="1589"/>
                    <a:pt x="123" y="1591"/>
                    <a:pt x="125" y="1594"/>
                  </a:cubicBezTo>
                  <a:cubicBezTo>
                    <a:pt x="132" y="1603"/>
                    <a:pt x="138" y="1613"/>
                    <a:pt x="141" y="1624"/>
                  </a:cubicBezTo>
                  <a:cubicBezTo>
                    <a:pt x="145" y="1635"/>
                    <a:pt x="146" y="1647"/>
                    <a:pt x="145" y="1658"/>
                  </a:cubicBezTo>
                  <a:cubicBezTo>
                    <a:pt x="145" y="1666"/>
                    <a:pt x="143" y="1673"/>
                    <a:pt x="140" y="1680"/>
                  </a:cubicBezTo>
                  <a:cubicBezTo>
                    <a:pt x="136" y="1687"/>
                    <a:pt x="130" y="1694"/>
                    <a:pt x="124" y="1701"/>
                  </a:cubicBezTo>
                  <a:cubicBezTo>
                    <a:pt x="109" y="1718"/>
                    <a:pt x="92" y="1733"/>
                    <a:pt x="75" y="1749"/>
                  </a:cubicBezTo>
                  <a:cubicBezTo>
                    <a:pt x="58" y="1765"/>
                    <a:pt x="40" y="1781"/>
                    <a:pt x="26" y="1799"/>
                  </a:cubicBezTo>
                  <a:cubicBezTo>
                    <a:pt x="18" y="1808"/>
                    <a:pt x="11" y="1818"/>
                    <a:pt x="6" y="1828"/>
                  </a:cubicBezTo>
                  <a:cubicBezTo>
                    <a:pt x="3" y="1834"/>
                    <a:pt x="1" y="1840"/>
                    <a:pt x="0" y="1846"/>
                  </a:cubicBezTo>
                  <a:cubicBezTo>
                    <a:pt x="0" y="1849"/>
                    <a:pt x="1" y="1852"/>
                    <a:pt x="1" y="1855"/>
                  </a:cubicBezTo>
                  <a:cubicBezTo>
                    <a:pt x="0" y="1855"/>
                    <a:pt x="0" y="1855"/>
                    <a:pt x="0" y="1855"/>
                  </a:cubicBezTo>
                  <a:cubicBezTo>
                    <a:pt x="0" y="1856"/>
                    <a:pt x="1" y="1858"/>
                    <a:pt x="1" y="1859"/>
                  </a:cubicBezTo>
                  <a:cubicBezTo>
                    <a:pt x="1" y="1861"/>
                    <a:pt x="1" y="1862"/>
                    <a:pt x="1" y="1863"/>
                  </a:cubicBezTo>
                  <a:cubicBezTo>
                    <a:pt x="0" y="1865"/>
                    <a:pt x="0" y="1867"/>
                    <a:pt x="0" y="1870"/>
                  </a:cubicBezTo>
                  <a:cubicBezTo>
                    <a:pt x="1" y="1879"/>
                    <a:pt x="5" y="1888"/>
                    <a:pt x="9" y="1896"/>
                  </a:cubicBezTo>
                  <a:cubicBezTo>
                    <a:pt x="14" y="1907"/>
                    <a:pt x="21" y="1916"/>
                    <a:pt x="29" y="1925"/>
                  </a:cubicBezTo>
                  <a:cubicBezTo>
                    <a:pt x="44" y="1943"/>
                    <a:pt x="61" y="1958"/>
                    <a:pt x="78" y="1974"/>
                  </a:cubicBezTo>
                  <a:cubicBezTo>
                    <a:pt x="78" y="1975"/>
                    <a:pt x="79" y="1975"/>
                    <a:pt x="79" y="1975"/>
                  </a:cubicBezTo>
                  <a:cubicBezTo>
                    <a:pt x="86" y="1982"/>
                    <a:pt x="93" y="1988"/>
                    <a:pt x="99" y="1995"/>
                  </a:cubicBezTo>
                  <a:cubicBezTo>
                    <a:pt x="109" y="2005"/>
                    <a:pt x="118" y="2014"/>
                    <a:pt x="125" y="2025"/>
                  </a:cubicBezTo>
                  <a:cubicBezTo>
                    <a:pt x="132" y="2035"/>
                    <a:pt x="138" y="2045"/>
                    <a:pt x="141" y="2056"/>
                  </a:cubicBezTo>
                  <a:cubicBezTo>
                    <a:pt x="145" y="2067"/>
                    <a:pt x="146" y="2078"/>
                    <a:pt x="145" y="2090"/>
                  </a:cubicBezTo>
                  <a:cubicBezTo>
                    <a:pt x="145" y="2096"/>
                    <a:pt x="143" y="2102"/>
                    <a:pt x="141" y="2108"/>
                  </a:cubicBezTo>
                  <a:cubicBezTo>
                    <a:pt x="137" y="2116"/>
                    <a:pt x="131" y="2124"/>
                    <a:pt x="124" y="2131"/>
                  </a:cubicBezTo>
                  <a:cubicBezTo>
                    <a:pt x="116" y="2141"/>
                    <a:pt x="106" y="2150"/>
                    <a:pt x="97" y="2159"/>
                  </a:cubicBezTo>
                  <a:cubicBezTo>
                    <a:pt x="112" y="2159"/>
                    <a:pt x="112" y="2159"/>
                    <a:pt x="112" y="2159"/>
                  </a:cubicBezTo>
                  <a:cubicBezTo>
                    <a:pt x="119" y="2152"/>
                    <a:pt x="126" y="2145"/>
                    <a:pt x="132" y="2138"/>
                  </a:cubicBezTo>
                  <a:cubicBezTo>
                    <a:pt x="137" y="2133"/>
                    <a:pt x="141" y="2128"/>
                    <a:pt x="145" y="2122"/>
                  </a:cubicBezTo>
                  <a:cubicBezTo>
                    <a:pt x="145" y="2122"/>
                    <a:pt x="145" y="2122"/>
                    <a:pt x="145" y="2122"/>
                  </a:cubicBezTo>
                  <a:cubicBezTo>
                    <a:pt x="145" y="2122"/>
                    <a:pt x="145" y="2121"/>
                    <a:pt x="146" y="2120"/>
                  </a:cubicBezTo>
                  <a:cubicBezTo>
                    <a:pt x="148" y="2116"/>
                    <a:pt x="151" y="2112"/>
                    <a:pt x="153" y="2107"/>
                  </a:cubicBezTo>
                  <a:cubicBezTo>
                    <a:pt x="156" y="2101"/>
                    <a:pt x="158" y="2095"/>
                    <a:pt x="159" y="2088"/>
                  </a:cubicBezTo>
                  <a:cubicBezTo>
                    <a:pt x="160" y="2080"/>
                    <a:pt x="159" y="2074"/>
                    <a:pt x="158" y="2068"/>
                  </a:cubicBezTo>
                  <a:cubicBezTo>
                    <a:pt x="155" y="2055"/>
                    <a:pt x="150" y="2043"/>
                    <a:pt x="143" y="2033"/>
                  </a:cubicBezTo>
                  <a:cubicBezTo>
                    <a:pt x="142" y="2032"/>
                    <a:pt x="141" y="2030"/>
                    <a:pt x="140" y="2029"/>
                  </a:cubicBezTo>
                  <a:cubicBezTo>
                    <a:pt x="138" y="2026"/>
                    <a:pt x="136" y="2022"/>
                    <a:pt x="134" y="2019"/>
                  </a:cubicBezTo>
                  <a:cubicBezTo>
                    <a:pt x="120" y="1999"/>
                    <a:pt x="103" y="1982"/>
                    <a:pt x="86" y="1966"/>
                  </a:cubicBezTo>
                  <a:cubicBezTo>
                    <a:pt x="69" y="1950"/>
                    <a:pt x="52" y="1935"/>
                    <a:pt x="38" y="1917"/>
                  </a:cubicBezTo>
                  <a:cubicBezTo>
                    <a:pt x="24" y="1901"/>
                    <a:pt x="12" y="1881"/>
                    <a:pt x="11" y="1861"/>
                  </a:cubicBezTo>
                  <a:cubicBezTo>
                    <a:pt x="10" y="1852"/>
                    <a:pt x="12" y="1843"/>
                    <a:pt x="17" y="1833"/>
                  </a:cubicBezTo>
                  <a:cubicBezTo>
                    <a:pt x="21" y="1824"/>
                    <a:pt x="28" y="1815"/>
                    <a:pt x="35" y="1806"/>
                  </a:cubicBezTo>
                  <a:cubicBezTo>
                    <a:pt x="49" y="1789"/>
                    <a:pt x="65" y="1773"/>
                    <a:pt x="82" y="1757"/>
                  </a:cubicBezTo>
                  <a:cubicBezTo>
                    <a:pt x="99" y="1741"/>
                    <a:pt x="116" y="1726"/>
                    <a:pt x="132" y="1708"/>
                  </a:cubicBezTo>
                  <a:cubicBezTo>
                    <a:pt x="140" y="1698"/>
                    <a:pt x="148" y="1689"/>
                    <a:pt x="153" y="1677"/>
                  </a:cubicBezTo>
                  <a:cubicBezTo>
                    <a:pt x="156" y="1671"/>
                    <a:pt x="158" y="1664"/>
                    <a:pt x="159" y="1657"/>
                  </a:cubicBezTo>
                  <a:cubicBezTo>
                    <a:pt x="160" y="1650"/>
                    <a:pt x="159" y="1644"/>
                    <a:pt x="158" y="1637"/>
                  </a:cubicBezTo>
                  <a:cubicBezTo>
                    <a:pt x="155" y="1625"/>
                    <a:pt x="150" y="1614"/>
                    <a:pt x="144" y="1605"/>
                  </a:cubicBezTo>
                  <a:cubicBezTo>
                    <a:pt x="141" y="1599"/>
                    <a:pt x="138" y="1593"/>
                    <a:pt x="134" y="1588"/>
                  </a:cubicBezTo>
                  <a:cubicBezTo>
                    <a:pt x="120" y="1567"/>
                    <a:pt x="103" y="1551"/>
                    <a:pt x="86" y="1535"/>
                  </a:cubicBezTo>
                  <a:cubicBezTo>
                    <a:pt x="69" y="1519"/>
                    <a:pt x="52" y="1503"/>
                    <a:pt x="38" y="1486"/>
                  </a:cubicBezTo>
                  <a:cubicBezTo>
                    <a:pt x="24" y="1469"/>
                    <a:pt x="12" y="1450"/>
                    <a:pt x="11" y="1430"/>
                  </a:cubicBezTo>
                  <a:cubicBezTo>
                    <a:pt x="10" y="1421"/>
                    <a:pt x="12" y="1411"/>
                    <a:pt x="17" y="1402"/>
                  </a:cubicBezTo>
                  <a:cubicBezTo>
                    <a:pt x="21" y="1392"/>
                    <a:pt x="28" y="1383"/>
                    <a:pt x="35" y="1375"/>
                  </a:cubicBezTo>
                  <a:cubicBezTo>
                    <a:pt x="49" y="1357"/>
                    <a:pt x="65" y="1342"/>
                    <a:pt x="82" y="1326"/>
                  </a:cubicBezTo>
                  <a:cubicBezTo>
                    <a:pt x="99" y="1310"/>
                    <a:pt x="116" y="1294"/>
                    <a:pt x="132" y="1276"/>
                  </a:cubicBezTo>
                  <a:cubicBezTo>
                    <a:pt x="136" y="1271"/>
                    <a:pt x="140" y="1266"/>
                    <a:pt x="144" y="1261"/>
                  </a:cubicBezTo>
                  <a:cubicBezTo>
                    <a:pt x="145" y="1261"/>
                    <a:pt x="145" y="1261"/>
                    <a:pt x="145" y="1261"/>
                  </a:cubicBezTo>
                  <a:cubicBezTo>
                    <a:pt x="146" y="1259"/>
                    <a:pt x="147" y="1258"/>
                    <a:pt x="148" y="1256"/>
                  </a:cubicBezTo>
                  <a:cubicBezTo>
                    <a:pt x="150" y="1252"/>
                    <a:pt x="152" y="1249"/>
                    <a:pt x="153" y="1245"/>
                  </a:cubicBezTo>
                  <a:cubicBezTo>
                    <a:pt x="156" y="1239"/>
                    <a:pt x="158" y="1233"/>
                    <a:pt x="159" y="1226"/>
                  </a:cubicBezTo>
                  <a:cubicBezTo>
                    <a:pt x="160" y="1218"/>
                    <a:pt x="159" y="1212"/>
                    <a:pt x="158" y="1206"/>
                  </a:cubicBezTo>
                  <a:cubicBezTo>
                    <a:pt x="155" y="1193"/>
                    <a:pt x="150" y="1181"/>
                    <a:pt x="143" y="1171"/>
                  </a:cubicBezTo>
                  <a:cubicBezTo>
                    <a:pt x="141" y="1168"/>
                    <a:pt x="138" y="1164"/>
                    <a:pt x="136" y="1161"/>
                  </a:cubicBezTo>
                  <a:cubicBezTo>
                    <a:pt x="135" y="1160"/>
                    <a:pt x="134" y="1159"/>
                    <a:pt x="134" y="1158"/>
                  </a:cubicBezTo>
                  <a:cubicBezTo>
                    <a:pt x="120" y="1138"/>
                    <a:pt x="103" y="1122"/>
                    <a:pt x="86" y="1105"/>
                  </a:cubicBezTo>
                  <a:cubicBezTo>
                    <a:pt x="69" y="1089"/>
                    <a:pt x="52" y="1074"/>
                    <a:pt x="38" y="1057"/>
                  </a:cubicBezTo>
                  <a:cubicBezTo>
                    <a:pt x="24" y="1040"/>
                    <a:pt x="12" y="1020"/>
                    <a:pt x="11" y="1000"/>
                  </a:cubicBezTo>
                  <a:cubicBezTo>
                    <a:pt x="10" y="991"/>
                    <a:pt x="12" y="982"/>
                    <a:pt x="17" y="972"/>
                  </a:cubicBezTo>
                  <a:cubicBezTo>
                    <a:pt x="21" y="963"/>
                    <a:pt x="28" y="954"/>
                    <a:pt x="35" y="945"/>
                  </a:cubicBezTo>
                  <a:cubicBezTo>
                    <a:pt x="49" y="928"/>
                    <a:pt x="65" y="912"/>
                    <a:pt x="82" y="896"/>
                  </a:cubicBezTo>
                  <a:cubicBezTo>
                    <a:pt x="99" y="880"/>
                    <a:pt x="116" y="865"/>
                    <a:pt x="132" y="847"/>
                  </a:cubicBezTo>
                  <a:cubicBezTo>
                    <a:pt x="140" y="837"/>
                    <a:pt x="148" y="828"/>
                    <a:pt x="153" y="816"/>
                  </a:cubicBezTo>
                  <a:cubicBezTo>
                    <a:pt x="156" y="810"/>
                    <a:pt x="158" y="803"/>
                    <a:pt x="159" y="796"/>
                  </a:cubicBezTo>
                  <a:cubicBezTo>
                    <a:pt x="160" y="789"/>
                    <a:pt x="159" y="783"/>
                    <a:pt x="158" y="776"/>
                  </a:cubicBezTo>
                  <a:cubicBezTo>
                    <a:pt x="156" y="766"/>
                    <a:pt x="152" y="756"/>
                    <a:pt x="147" y="748"/>
                  </a:cubicBezTo>
                  <a:cubicBezTo>
                    <a:pt x="143" y="740"/>
                    <a:pt x="139" y="732"/>
                    <a:pt x="134" y="726"/>
                  </a:cubicBezTo>
                  <a:cubicBezTo>
                    <a:pt x="120" y="705"/>
                    <a:pt x="103" y="689"/>
                    <a:pt x="86" y="673"/>
                  </a:cubicBezTo>
                  <a:cubicBezTo>
                    <a:pt x="69" y="656"/>
                    <a:pt x="52" y="641"/>
                    <a:pt x="38" y="624"/>
                  </a:cubicBezTo>
                  <a:cubicBezTo>
                    <a:pt x="24" y="607"/>
                    <a:pt x="12" y="588"/>
                    <a:pt x="11" y="568"/>
                  </a:cubicBezTo>
                  <a:cubicBezTo>
                    <a:pt x="10" y="558"/>
                    <a:pt x="12" y="549"/>
                    <a:pt x="17" y="540"/>
                  </a:cubicBezTo>
                  <a:cubicBezTo>
                    <a:pt x="21" y="530"/>
                    <a:pt x="28" y="521"/>
                    <a:pt x="35" y="513"/>
                  </a:cubicBezTo>
                  <a:cubicBezTo>
                    <a:pt x="49" y="495"/>
                    <a:pt x="65" y="480"/>
                    <a:pt x="82" y="464"/>
                  </a:cubicBezTo>
                  <a:cubicBezTo>
                    <a:pt x="99" y="448"/>
                    <a:pt x="116" y="432"/>
                    <a:pt x="132" y="414"/>
                  </a:cubicBezTo>
                  <a:cubicBezTo>
                    <a:pt x="140" y="405"/>
                    <a:pt x="148" y="395"/>
                    <a:pt x="153" y="383"/>
                  </a:cubicBezTo>
                  <a:cubicBezTo>
                    <a:pt x="156" y="377"/>
                    <a:pt x="158" y="371"/>
                    <a:pt x="159" y="364"/>
                  </a:cubicBezTo>
                  <a:cubicBezTo>
                    <a:pt x="160" y="356"/>
                    <a:pt x="159" y="350"/>
                    <a:pt x="158" y="344"/>
                  </a:cubicBezTo>
                  <a:cubicBezTo>
                    <a:pt x="156" y="333"/>
                    <a:pt x="152" y="324"/>
                    <a:pt x="147" y="315"/>
                  </a:cubicBezTo>
                  <a:cubicBezTo>
                    <a:pt x="143" y="307"/>
                    <a:pt x="139" y="300"/>
                    <a:pt x="134" y="293"/>
                  </a:cubicBezTo>
                  <a:cubicBezTo>
                    <a:pt x="120" y="273"/>
                    <a:pt x="103" y="256"/>
                    <a:pt x="86" y="240"/>
                  </a:cubicBezTo>
                  <a:cubicBezTo>
                    <a:pt x="69" y="224"/>
                    <a:pt x="52" y="208"/>
                    <a:pt x="38" y="191"/>
                  </a:cubicBezTo>
                  <a:cubicBezTo>
                    <a:pt x="24" y="174"/>
                    <a:pt x="12" y="155"/>
                    <a:pt x="11" y="135"/>
                  </a:cubicBezTo>
                  <a:cubicBezTo>
                    <a:pt x="10" y="126"/>
                    <a:pt x="12" y="116"/>
                    <a:pt x="17" y="107"/>
                  </a:cubicBezTo>
                  <a:cubicBezTo>
                    <a:pt x="21" y="97"/>
                    <a:pt x="28" y="88"/>
                    <a:pt x="35" y="80"/>
                  </a:cubicBezTo>
                  <a:cubicBezTo>
                    <a:pt x="49" y="63"/>
                    <a:pt x="65" y="47"/>
                    <a:pt x="82" y="31"/>
                  </a:cubicBezTo>
                  <a:cubicBezTo>
                    <a:pt x="93" y="21"/>
                    <a:pt x="104" y="10"/>
                    <a:pt x="114" y="0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91" y="7"/>
                    <a:pt x="83" y="15"/>
                    <a:pt x="75" y="23"/>
                  </a:cubicBezTo>
                  <a:cubicBezTo>
                    <a:pt x="58" y="39"/>
                    <a:pt x="40" y="54"/>
                    <a:pt x="26" y="72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8" name="Freeform 18"/>
            <p:cNvSpPr/>
            <p:nvPr/>
          </p:nvSpPr>
          <p:spPr>
            <a:xfrm>
              <a:off x="10665000" y="-1440"/>
              <a:ext cx="1026720" cy="6862320"/>
            </a:xfrm>
            <a:custGeom>
              <a:avLst/>
              <a:gdLst>
                <a:gd name="textAreaLeft" fmla="*/ 0 w 1026720"/>
                <a:gd name="textAreaRight" fmla="*/ 1027080 w 102672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323" h="2159">
                  <a:moveTo>
                    <a:pt x="125" y="74"/>
                  </a:moveTo>
                  <a:cubicBezTo>
                    <a:pt x="132" y="83"/>
                    <a:pt x="139" y="92"/>
                    <a:pt x="144" y="103"/>
                  </a:cubicBezTo>
                  <a:cubicBezTo>
                    <a:pt x="148" y="111"/>
                    <a:pt x="151" y="121"/>
                    <a:pt x="151" y="131"/>
                  </a:cubicBezTo>
                  <a:cubicBezTo>
                    <a:pt x="151" y="131"/>
                    <a:pt x="151" y="131"/>
                    <a:pt x="151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2" y="197"/>
                    <a:pt x="121" y="197"/>
                  </a:cubicBezTo>
                  <a:cubicBezTo>
                    <a:pt x="107" y="215"/>
                    <a:pt x="89" y="230"/>
                    <a:pt x="72" y="246"/>
                  </a:cubicBezTo>
                  <a:cubicBezTo>
                    <a:pt x="56" y="262"/>
                    <a:pt x="39" y="279"/>
                    <a:pt x="25" y="298"/>
                  </a:cubicBezTo>
                  <a:cubicBezTo>
                    <a:pt x="24" y="300"/>
                    <a:pt x="22" y="302"/>
                    <a:pt x="21" y="305"/>
                  </a:cubicBezTo>
                  <a:cubicBezTo>
                    <a:pt x="19" y="307"/>
                    <a:pt x="17" y="310"/>
                    <a:pt x="15" y="313"/>
                  </a:cubicBezTo>
                  <a:cubicBezTo>
                    <a:pt x="9" y="322"/>
                    <a:pt x="4" y="333"/>
                    <a:pt x="2" y="345"/>
                  </a:cubicBezTo>
                  <a:cubicBezTo>
                    <a:pt x="1" y="351"/>
                    <a:pt x="0" y="357"/>
                    <a:pt x="1" y="363"/>
                  </a:cubicBezTo>
                  <a:cubicBezTo>
                    <a:pt x="2" y="369"/>
                    <a:pt x="3" y="374"/>
                    <a:pt x="6" y="379"/>
                  </a:cubicBezTo>
                  <a:cubicBezTo>
                    <a:pt x="8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3" y="404"/>
                    <a:pt x="26" y="408"/>
                  </a:cubicBezTo>
                  <a:cubicBezTo>
                    <a:pt x="42" y="426"/>
                    <a:pt x="59" y="441"/>
                    <a:pt x="76" y="457"/>
                  </a:cubicBezTo>
                  <a:cubicBezTo>
                    <a:pt x="93" y="473"/>
                    <a:pt x="110" y="489"/>
                    <a:pt x="125" y="507"/>
                  </a:cubicBezTo>
                  <a:cubicBezTo>
                    <a:pt x="132" y="516"/>
                    <a:pt x="139" y="525"/>
                    <a:pt x="144" y="535"/>
                  </a:cubicBezTo>
                  <a:cubicBezTo>
                    <a:pt x="148" y="544"/>
                    <a:pt x="151" y="554"/>
                    <a:pt x="151" y="564"/>
                  </a:cubicBezTo>
                  <a:cubicBezTo>
                    <a:pt x="151" y="564"/>
                    <a:pt x="151" y="564"/>
                    <a:pt x="151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5"/>
                    <a:pt x="122" y="629"/>
                  </a:cubicBezTo>
                  <a:cubicBezTo>
                    <a:pt x="122" y="629"/>
                    <a:pt x="122" y="629"/>
                    <a:pt x="121" y="630"/>
                  </a:cubicBezTo>
                  <a:cubicBezTo>
                    <a:pt x="107" y="648"/>
                    <a:pt x="89" y="663"/>
                    <a:pt x="72" y="679"/>
                  </a:cubicBezTo>
                  <a:cubicBezTo>
                    <a:pt x="56" y="695"/>
                    <a:pt x="39" y="711"/>
                    <a:pt x="25" y="730"/>
                  </a:cubicBezTo>
                  <a:cubicBezTo>
                    <a:pt x="24" y="733"/>
                    <a:pt x="22" y="735"/>
                    <a:pt x="21" y="737"/>
                  </a:cubicBezTo>
                  <a:cubicBezTo>
                    <a:pt x="19" y="740"/>
                    <a:pt x="17" y="743"/>
                    <a:pt x="15" y="745"/>
                  </a:cubicBezTo>
                  <a:cubicBezTo>
                    <a:pt x="9" y="755"/>
                    <a:pt x="4" y="766"/>
                    <a:pt x="2" y="778"/>
                  </a:cubicBezTo>
                  <a:cubicBezTo>
                    <a:pt x="1" y="784"/>
                    <a:pt x="0" y="789"/>
                    <a:pt x="1" y="795"/>
                  </a:cubicBezTo>
                  <a:cubicBezTo>
                    <a:pt x="2" y="801"/>
                    <a:pt x="3" y="807"/>
                    <a:pt x="6" y="812"/>
                  </a:cubicBezTo>
                  <a:cubicBezTo>
                    <a:pt x="8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3" y="837"/>
                    <a:pt x="26" y="841"/>
                  </a:cubicBezTo>
                  <a:cubicBezTo>
                    <a:pt x="42" y="858"/>
                    <a:pt x="59" y="874"/>
                    <a:pt x="76" y="890"/>
                  </a:cubicBezTo>
                  <a:cubicBezTo>
                    <a:pt x="93" y="906"/>
                    <a:pt x="110" y="922"/>
                    <a:pt x="125" y="939"/>
                  </a:cubicBezTo>
                  <a:cubicBezTo>
                    <a:pt x="132" y="948"/>
                    <a:pt x="139" y="958"/>
                    <a:pt x="144" y="968"/>
                  </a:cubicBezTo>
                  <a:cubicBezTo>
                    <a:pt x="147" y="976"/>
                    <a:pt x="150" y="984"/>
                    <a:pt x="151" y="993"/>
                  </a:cubicBezTo>
                  <a:cubicBezTo>
                    <a:pt x="151" y="993"/>
                    <a:pt x="151" y="993"/>
                    <a:pt x="151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9" y="1065"/>
                    <a:pt x="103" y="1082"/>
                    <a:pt x="86" y="1098"/>
                  </a:cubicBezTo>
                  <a:cubicBezTo>
                    <a:pt x="70" y="1114"/>
                    <a:pt x="52" y="1130"/>
                    <a:pt x="37" y="1147"/>
                  </a:cubicBezTo>
                  <a:cubicBezTo>
                    <a:pt x="29" y="1156"/>
                    <a:pt x="21" y="1165"/>
                    <a:pt x="15" y="1175"/>
                  </a:cubicBezTo>
                  <a:cubicBezTo>
                    <a:pt x="9" y="1185"/>
                    <a:pt x="4" y="1195"/>
                    <a:pt x="2" y="1207"/>
                  </a:cubicBezTo>
                  <a:cubicBezTo>
                    <a:pt x="1" y="1213"/>
                    <a:pt x="0" y="1219"/>
                    <a:pt x="1" y="1225"/>
                  </a:cubicBezTo>
                  <a:cubicBezTo>
                    <a:pt x="2" y="1231"/>
                    <a:pt x="3" y="1236"/>
                    <a:pt x="6" y="1242"/>
                  </a:cubicBezTo>
                  <a:cubicBezTo>
                    <a:pt x="7" y="1243"/>
                    <a:pt x="7" y="1244"/>
                    <a:pt x="8" y="1245"/>
                  </a:cubicBezTo>
                  <a:cubicBezTo>
                    <a:pt x="10" y="1251"/>
                    <a:pt x="12" y="1256"/>
                    <a:pt x="15" y="1261"/>
                  </a:cubicBezTo>
                  <a:cubicBezTo>
                    <a:pt x="19" y="1261"/>
                    <a:pt x="19" y="1261"/>
                    <a:pt x="19" y="1261"/>
                  </a:cubicBezTo>
                  <a:cubicBezTo>
                    <a:pt x="21" y="1264"/>
                    <a:pt x="24" y="1267"/>
                    <a:pt x="26" y="1270"/>
                  </a:cubicBezTo>
                  <a:cubicBezTo>
                    <a:pt x="42" y="1288"/>
                    <a:pt x="59" y="1303"/>
                    <a:pt x="76" y="1319"/>
                  </a:cubicBezTo>
                  <a:cubicBezTo>
                    <a:pt x="93" y="1335"/>
                    <a:pt x="110" y="1351"/>
                    <a:pt x="125" y="1369"/>
                  </a:cubicBezTo>
                  <a:cubicBezTo>
                    <a:pt x="132" y="1378"/>
                    <a:pt x="139" y="1387"/>
                    <a:pt x="144" y="1398"/>
                  </a:cubicBezTo>
                  <a:cubicBezTo>
                    <a:pt x="148" y="1406"/>
                    <a:pt x="151" y="1415"/>
                    <a:pt x="151" y="1425"/>
                  </a:cubicBezTo>
                  <a:cubicBezTo>
                    <a:pt x="151" y="1425"/>
                    <a:pt x="151" y="1425"/>
                    <a:pt x="151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6" y="1485"/>
                    <a:pt x="120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3" y="1595"/>
                    <a:pt x="19" y="1600"/>
                    <a:pt x="15" y="1606"/>
                  </a:cubicBezTo>
                  <a:cubicBezTo>
                    <a:pt x="9" y="1616"/>
                    <a:pt x="4" y="1627"/>
                    <a:pt x="2" y="1639"/>
                  </a:cubicBezTo>
                  <a:cubicBezTo>
                    <a:pt x="1" y="1644"/>
                    <a:pt x="0" y="1650"/>
                    <a:pt x="1" y="1656"/>
                  </a:cubicBezTo>
                  <a:cubicBezTo>
                    <a:pt x="2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1" y="1681"/>
                  </a:cubicBezTo>
                  <a:cubicBezTo>
                    <a:pt x="12" y="1685"/>
                    <a:pt x="13" y="1688"/>
                    <a:pt x="15" y="1691"/>
                  </a:cubicBezTo>
                  <a:cubicBezTo>
                    <a:pt x="17" y="1691"/>
                    <a:pt x="17" y="1691"/>
                    <a:pt x="17" y="1691"/>
                  </a:cubicBezTo>
                  <a:cubicBezTo>
                    <a:pt x="20" y="1694"/>
                    <a:pt x="23" y="1698"/>
                    <a:pt x="26" y="1702"/>
                  </a:cubicBezTo>
                  <a:cubicBezTo>
                    <a:pt x="42" y="1719"/>
                    <a:pt x="59" y="1735"/>
                    <a:pt x="76" y="1751"/>
                  </a:cubicBezTo>
                  <a:cubicBezTo>
                    <a:pt x="93" y="1767"/>
                    <a:pt x="110" y="1783"/>
                    <a:pt x="125" y="1800"/>
                  </a:cubicBezTo>
                  <a:cubicBezTo>
                    <a:pt x="132" y="1809"/>
                    <a:pt x="139" y="1819"/>
                    <a:pt x="144" y="1829"/>
                  </a:cubicBezTo>
                  <a:cubicBezTo>
                    <a:pt x="148" y="1837"/>
                    <a:pt x="150" y="1846"/>
                    <a:pt x="151" y="1855"/>
                  </a:cubicBezTo>
                  <a:cubicBezTo>
                    <a:pt x="151" y="1855"/>
                    <a:pt x="151" y="1855"/>
                    <a:pt x="151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8" y="1959"/>
                    <a:pt x="80" y="1966"/>
                    <a:pt x="72" y="1973"/>
                  </a:cubicBezTo>
                  <a:cubicBezTo>
                    <a:pt x="61" y="1984"/>
                    <a:pt x="49" y="1995"/>
                    <a:pt x="39" y="2007"/>
                  </a:cubicBezTo>
                  <a:cubicBezTo>
                    <a:pt x="38" y="2008"/>
                    <a:pt x="37" y="2008"/>
                    <a:pt x="37" y="2009"/>
                  </a:cubicBezTo>
                  <a:cubicBezTo>
                    <a:pt x="29" y="2018"/>
                    <a:pt x="21" y="2027"/>
                    <a:pt x="15" y="2037"/>
                  </a:cubicBezTo>
                  <a:cubicBezTo>
                    <a:pt x="9" y="2047"/>
                    <a:pt x="4" y="2057"/>
                    <a:pt x="2" y="2069"/>
                  </a:cubicBezTo>
                  <a:cubicBezTo>
                    <a:pt x="1" y="2075"/>
                    <a:pt x="0" y="2081"/>
                    <a:pt x="1" y="2087"/>
                  </a:cubicBezTo>
                  <a:cubicBezTo>
                    <a:pt x="2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1" y="2114"/>
                    <a:pt x="13" y="2118"/>
                    <a:pt x="15" y="2122"/>
                  </a:cubicBezTo>
                  <a:cubicBezTo>
                    <a:pt x="18" y="2122"/>
                    <a:pt x="18" y="2122"/>
                    <a:pt x="18" y="2122"/>
                  </a:cubicBezTo>
                  <a:cubicBezTo>
                    <a:pt x="21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5" y="2137"/>
                    <a:pt x="34" y="2125"/>
                  </a:cubicBezTo>
                  <a:cubicBezTo>
                    <a:pt x="27" y="2117"/>
                    <a:pt x="21" y="2109"/>
                    <a:pt x="16" y="2101"/>
                  </a:cubicBezTo>
                  <a:cubicBezTo>
                    <a:pt x="15" y="2097"/>
                    <a:pt x="15" y="2093"/>
                    <a:pt x="14" y="2089"/>
                  </a:cubicBezTo>
                  <a:cubicBezTo>
                    <a:pt x="13" y="2068"/>
                    <a:pt x="21" y="2048"/>
                    <a:pt x="34" y="2030"/>
                  </a:cubicBezTo>
                  <a:cubicBezTo>
                    <a:pt x="47" y="2012"/>
                    <a:pt x="63" y="1997"/>
                    <a:pt x="80" y="1981"/>
                  </a:cubicBezTo>
                  <a:cubicBezTo>
                    <a:pt x="97" y="1965"/>
                    <a:pt x="115" y="1949"/>
                    <a:pt x="130" y="1931"/>
                  </a:cubicBezTo>
                  <a:cubicBezTo>
                    <a:pt x="138" y="1922"/>
                    <a:pt x="146" y="1912"/>
                    <a:pt x="151" y="1900"/>
                  </a:cubicBezTo>
                  <a:cubicBezTo>
                    <a:pt x="157" y="1889"/>
                    <a:pt x="162" y="1877"/>
                    <a:pt x="163" y="1863"/>
                  </a:cubicBezTo>
                  <a:cubicBezTo>
                    <a:pt x="163" y="1862"/>
                    <a:pt x="163" y="1860"/>
                    <a:pt x="163" y="1859"/>
                  </a:cubicBezTo>
                  <a:cubicBezTo>
                    <a:pt x="163" y="1860"/>
                    <a:pt x="163" y="1861"/>
                    <a:pt x="163" y="1862"/>
                  </a:cubicBezTo>
                  <a:cubicBezTo>
                    <a:pt x="164" y="1874"/>
                    <a:pt x="168" y="1886"/>
                    <a:pt x="173" y="1896"/>
                  </a:cubicBezTo>
                  <a:cubicBezTo>
                    <a:pt x="179" y="1907"/>
                    <a:pt x="186" y="1916"/>
                    <a:pt x="193" y="1925"/>
                  </a:cubicBezTo>
                  <a:cubicBezTo>
                    <a:pt x="208" y="1943"/>
                    <a:pt x="226" y="1958"/>
                    <a:pt x="242" y="1974"/>
                  </a:cubicBezTo>
                  <a:cubicBezTo>
                    <a:pt x="243" y="1975"/>
                    <a:pt x="243" y="1975"/>
                    <a:pt x="243" y="1975"/>
                  </a:cubicBezTo>
                  <a:cubicBezTo>
                    <a:pt x="250" y="1982"/>
                    <a:pt x="257" y="1988"/>
                    <a:pt x="264" y="1995"/>
                  </a:cubicBezTo>
                  <a:cubicBezTo>
                    <a:pt x="273" y="2004"/>
                    <a:pt x="282" y="2014"/>
                    <a:pt x="290" y="2025"/>
                  </a:cubicBezTo>
                  <a:cubicBezTo>
                    <a:pt x="296" y="2035"/>
                    <a:pt x="302" y="2045"/>
                    <a:pt x="306" y="2056"/>
                  </a:cubicBezTo>
                  <a:cubicBezTo>
                    <a:pt x="309" y="2067"/>
                    <a:pt x="311" y="2078"/>
                    <a:pt x="310" y="2090"/>
                  </a:cubicBezTo>
                  <a:cubicBezTo>
                    <a:pt x="309" y="2096"/>
                    <a:pt x="308" y="2102"/>
                    <a:pt x="306" y="2108"/>
                  </a:cubicBezTo>
                  <a:cubicBezTo>
                    <a:pt x="301" y="2116"/>
                    <a:pt x="295" y="2124"/>
                    <a:pt x="289" y="2131"/>
                  </a:cubicBezTo>
                  <a:cubicBezTo>
                    <a:pt x="280" y="2141"/>
                    <a:pt x="271" y="2150"/>
                    <a:pt x="261" y="2159"/>
                  </a:cubicBezTo>
                  <a:cubicBezTo>
                    <a:pt x="277" y="2159"/>
                    <a:pt x="277" y="2159"/>
                    <a:pt x="277" y="2159"/>
                  </a:cubicBezTo>
                  <a:cubicBezTo>
                    <a:pt x="284" y="2152"/>
                    <a:pt x="290" y="2145"/>
                    <a:pt x="297" y="2138"/>
                  </a:cubicBezTo>
                  <a:cubicBezTo>
                    <a:pt x="301" y="2133"/>
                    <a:pt x="305" y="2128"/>
                    <a:pt x="309" y="2122"/>
                  </a:cubicBezTo>
                  <a:cubicBezTo>
                    <a:pt x="309" y="2122"/>
                    <a:pt x="309" y="2122"/>
                    <a:pt x="309" y="2122"/>
                  </a:cubicBezTo>
                  <a:cubicBezTo>
                    <a:pt x="310" y="2122"/>
                    <a:pt x="310" y="2121"/>
                    <a:pt x="310" y="2120"/>
                  </a:cubicBezTo>
                  <a:cubicBezTo>
                    <a:pt x="313" y="2116"/>
                    <a:pt x="316" y="2112"/>
                    <a:pt x="318" y="2107"/>
                  </a:cubicBezTo>
                  <a:cubicBezTo>
                    <a:pt x="320" y="2102"/>
                    <a:pt x="322" y="2097"/>
                    <a:pt x="323" y="2092"/>
                  </a:cubicBezTo>
                  <a:cubicBezTo>
                    <a:pt x="322" y="2090"/>
                    <a:pt x="322" y="2088"/>
                    <a:pt x="322" y="2087"/>
                  </a:cubicBezTo>
                  <a:cubicBezTo>
                    <a:pt x="321" y="2081"/>
                    <a:pt x="322" y="2076"/>
                    <a:pt x="323" y="2071"/>
                  </a:cubicBezTo>
                  <a:cubicBezTo>
                    <a:pt x="322" y="2070"/>
                    <a:pt x="322" y="2069"/>
                    <a:pt x="322" y="2068"/>
                  </a:cubicBezTo>
                  <a:cubicBezTo>
                    <a:pt x="320" y="2055"/>
                    <a:pt x="314" y="2043"/>
                    <a:pt x="307" y="2033"/>
                  </a:cubicBezTo>
                  <a:cubicBezTo>
                    <a:pt x="306" y="2032"/>
                    <a:pt x="305" y="2030"/>
                    <a:pt x="304" y="2029"/>
                  </a:cubicBezTo>
                  <a:cubicBezTo>
                    <a:pt x="302" y="2026"/>
                    <a:pt x="300" y="2022"/>
                    <a:pt x="298" y="2019"/>
                  </a:cubicBezTo>
                  <a:cubicBezTo>
                    <a:pt x="284" y="1999"/>
                    <a:pt x="267" y="1982"/>
                    <a:pt x="250" y="1966"/>
                  </a:cubicBezTo>
                  <a:cubicBezTo>
                    <a:pt x="233" y="1950"/>
                    <a:pt x="216" y="1935"/>
                    <a:pt x="202" y="1917"/>
                  </a:cubicBezTo>
                  <a:cubicBezTo>
                    <a:pt x="188" y="1901"/>
                    <a:pt x="177" y="1881"/>
                    <a:pt x="175" y="1861"/>
                  </a:cubicBezTo>
                  <a:cubicBezTo>
                    <a:pt x="174" y="1852"/>
                    <a:pt x="177" y="1843"/>
                    <a:pt x="181" y="1833"/>
                  </a:cubicBezTo>
                  <a:cubicBezTo>
                    <a:pt x="186" y="1824"/>
                    <a:pt x="192" y="1815"/>
                    <a:pt x="199" y="1806"/>
                  </a:cubicBezTo>
                  <a:cubicBezTo>
                    <a:pt x="213" y="1789"/>
                    <a:pt x="230" y="1773"/>
                    <a:pt x="246" y="1757"/>
                  </a:cubicBezTo>
                  <a:cubicBezTo>
                    <a:pt x="263" y="1741"/>
                    <a:pt x="281" y="1726"/>
                    <a:pt x="297" y="1708"/>
                  </a:cubicBezTo>
                  <a:cubicBezTo>
                    <a:pt x="304" y="1698"/>
                    <a:pt x="312" y="1689"/>
                    <a:pt x="318" y="1677"/>
                  </a:cubicBezTo>
                  <a:cubicBezTo>
                    <a:pt x="320" y="1672"/>
                    <a:pt x="322" y="1667"/>
                    <a:pt x="323" y="1661"/>
                  </a:cubicBezTo>
                  <a:cubicBezTo>
                    <a:pt x="322" y="1660"/>
                    <a:pt x="322" y="1658"/>
                    <a:pt x="322" y="1656"/>
                  </a:cubicBezTo>
                  <a:cubicBezTo>
                    <a:pt x="321" y="1651"/>
                    <a:pt x="322" y="1646"/>
                    <a:pt x="323" y="1640"/>
                  </a:cubicBezTo>
                  <a:cubicBezTo>
                    <a:pt x="322" y="1639"/>
                    <a:pt x="322" y="1638"/>
                    <a:pt x="322" y="1637"/>
                  </a:cubicBezTo>
                  <a:cubicBezTo>
                    <a:pt x="320" y="1625"/>
                    <a:pt x="315" y="1614"/>
                    <a:pt x="308" y="1605"/>
                  </a:cubicBezTo>
                  <a:cubicBezTo>
                    <a:pt x="305" y="1599"/>
                    <a:pt x="302" y="1593"/>
                    <a:pt x="298" y="1588"/>
                  </a:cubicBezTo>
                  <a:cubicBezTo>
                    <a:pt x="284" y="1567"/>
                    <a:pt x="267" y="1551"/>
                    <a:pt x="250" y="1535"/>
                  </a:cubicBezTo>
                  <a:cubicBezTo>
                    <a:pt x="233" y="1519"/>
                    <a:pt x="216" y="1503"/>
                    <a:pt x="202" y="1486"/>
                  </a:cubicBezTo>
                  <a:cubicBezTo>
                    <a:pt x="188" y="1469"/>
                    <a:pt x="177" y="1450"/>
                    <a:pt x="175" y="1430"/>
                  </a:cubicBezTo>
                  <a:cubicBezTo>
                    <a:pt x="174" y="1421"/>
                    <a:pt x="177" y="1411"/>
                    <a:pt x="181" y="1402"/>
                  </a:cubicBezTo>
                  <a:cubicBezTo>
                    <a:pt x="186" y="1392"/>
                    <a:pt x="192" y="1383"/>
                    <a:pt x="199" y="1375"/>
                  </a:cubicBezTo>
                  <a:cubicBezTo>
                    <a:pt x="213" y="1357"/>
                    <a:pt x="230" y="1342"/>
                    <a:pt x="246" y="1326"/>
                  </a:cubicBezTo>
                  <a:cubicBezTo>
                    <a:pt x="263" y="1310"/>
                    <a:pt x="281" y="1294"/>
                    <a:pt x="297" y="1276"/>
                  </a:cubicBezTo>
                  <a:cubicBezTo>
                    <a:pt x="301" y="1271"/>
                    <a:pt x="305" y="1266"/>
                    <a:pt x="308" y="1261"/>
                  </a:cubicBezTo>
                  <a:cubicBezTo>
                    <a:pt x="309" y="1261"/>
                    <a:pt x="309" y="1261"/>
                    <a:pt x="309" y="1261"/>
                  </a:cubicBezTo>
                  <a:cubicBezTo>
                    <a:pt x="310" y="1259"/>
                    <a:pt x="311" y="1258"/>
                    <a:pt x="312" y="1256"/>
                  </a:cubicBezTo>
                  <a:cubicBezTo>
                    <a:pt x="314" y="1252"/>
                    <a:pt x="316" y="1249"/>
                    <a:pt x="318" y="1245"/>
                  </a:cubicBezTo>
                  <a:cubicBezTo>
                    <a:pt x="320" y="1240"/>
                    <a:pt x="322" y="1235"/>
                    <a:pt x="323" y="1230"/>
                  </a:cubicBezTo>
                  <a:cubicBezTo>
                    <a:pt x="322" y="1228"/>
                    <a:pt x="322" y="1226"/>
                    <a:pt x="322" y="1225"/>
                  </a:cubicBezTo>
                  <a:cubicBezTo>
                    <a:pt x="321" y="1219"/>
                    <a:pt x="322" y="1214"/>
                    <a:pt x="323" y="1209"/>
                  </a:cubicBezTo>
                  <a:cubicBezTo>
                    <a:pt x="322" y="1208"/>
                    <a:pt x="322" y="1207"/>
                    <a:pt x="322" y="1206"/>
                  </a:cubicBezTo>
                  <a:cubicBezTo>
                    <a:pt x="320" y="1193"/>
                    <a:pt x="314" y="1181"/>
                    <a:pt x="307" y="1171"/>
                  </a:cubicBezTo>
                  <a:cubicBezTo>
                    <a:pt x="305" y="1168"/>
                    <a:pt x="302" y="1164"/>
                    <a:pt x="300" y="1161"/>
                  </a:cubicBezTo>
                  <a:cubicBezTo>
                    <a:pt x="299" y="1160"/>
                    <a:pt x="299" y="1159"/>
                    <a:pt x="298" y="1158"/>
                  </a:cubicBezTo>
                  <a:cubicBezTo>
                    <a:pt x="284" y="1138"/>
                    <a:pt x="267" y="1122"/>
                    <a:pt x="250" y="1105"/>
                  </a:cubicBezTo>
                  <a:cubicBezTo>
                    <a:pt x="233" y="1089"/>
                    <a:pt x="216" y="1074"/>
                    <a:pt x="202" y="1057"/>
                  </a:cubicBezTo>
                  <a:cubicBezTo>
                    <a:pt x="188" y="1040"/>
                    <a:pt x="177" y="1020"/>
                    <a:pt x="175" y="1000"/>
                  </a:cubicBezTo>
                  <a:cubicBezTo>
                    <a:pt x="174" y="991"/>
                    <a:pt x="177" y="982"/>
                    <a:pt x="181" y="972"/>
                  </a:cubicBezTo>
                  <a:cubicBezTo>
                    <a:pt x="186" y="963"/>
                    <a:pt x="192" y="954"/>
                    <a:pt x="199" y="945"/>
                  </a:cubicBezTo>
                  <a:cubicBezTo>
                    <a:pt x="213" y="928"/>
                    <a:pt x="230" y="912"/>
                    <a:pt x="246" y="896"/>
                  </a:cubicBezTo>
                  <a:cubicBezTo>
                    <a:pt x="263" y="880"/>
                    <a:pt x="281" y="865"/>
                    <a:pt x="297" y="847"/>
                  </a:cubicBezTo>
                  <a:cubicBezTo>
                    <a:pt x="304" y="837"/>
                    <a:pt x="312" y="828"/>
                    <a:pt x="318" y="816"/>
                  </a:cubicBezTo>
                  <a:cubicBezTo>
                    <a:pt x="320" y="811"/>
                    <a:pt x="322" y="806"/>
                    <a:pt x="323" y="800"/>
                  </a:cubicBezTo>
                  <a:cubicBezTo>
                    <a:pt x="322" y="799"/>
                    <a:pt x="322" y="797"/>
                    <a:pt x="322" y="795"/>
                  </a:cubicBezTo>
                  <a:cubicBezTo>
                    <a:pt x="321" y="790"/>
                    <a:pt x="322" y="785"/>
                    <a:pt x="323" y="779"/>
                  </a:cubicBezTo>
                  <a:cubicBezTo>
                    <a:pt x="322" y="778"/>
                    <a:pt x="322" y="777"/>
                    <a:pt x="322" y="776"/>
                  </a:cubicBezTo>
                  <a:cubicBezTo>
                    <a:pt x="320" y="766"/>
                    <a:pt x="316" y="756"/>
                    <a:pt x="311" y="748"/>
                  </a:cubicBezTo>
                  <a:cubicBezTo>
                    <a:pt x="307" y="740"/>
                    <a:pt x="303" y="732"/>
                    <a:pt x="298" y="726"/>
                  </a:cubicBezTo>
                  <a:cubicBezTo>
                    <a:pt x="284" y="705"/>
                    <a:pt x="267" y="689"/>
                    <a:pt x="250" y="673"/>
                  </a:cubicBezTo>
                  <a:cubicBezTo>
                    <a:pt x="233" y="656"/>
                    <a:pt x="216" y="641"/>
                    <a:pt x="202" y="624"/>
                  </a:cubicBezTo>
                  <a:cubicBezTo>
                    <a:pt x="188" y="607"/>
                    <a:pt x="177" y="588"/>
                    <a:pt x="175" y="568"/>
                  </a:cubicBezTo>
                  <a:cubicBezTo>
                    <a:pt x="174" y="558"/>
                    <a:pt x="177" y="549"/>
                    <a:pt x="181" y="540"/>
                  </a:cubicBezTo>
                  <a:cubicBezTo>
                    <a:pt x="186" y="530"/>
                    <a:pt x="192" y="521"/>
                    <a:pt x="199" y="513"/>
                  </a:cubicBezTo>
                  <a:cubicBezTo>
                    <a:pt x="213" y="495"/>
                    <a:pt x="230" y="480"/>
                    <a:pt x="246" y="464"/>
                  </a:cubicBezTo>
                  <a:cubicBezTo>
                    <a:pt x="263" y="448"/>
                    <a:pt x="281" y="432"/>
                    <a:pt x="297" y="414"/>
                  </a:cubicBezTo>
                  <a:cubicBezTo>
                    <a:pt x="304" y="405"/>
                    <a:pt x="312" y="395"/>
                    <a:pt x="318" y="383"/>
                  </a:cubicBezTo>
                  <a:cubicBezTo>
                    <a:pt x="320" y="378"/>
                    <a:pt x="322" y="373"/>
                    <a:pt x="323" y="367"/>
                  </a:cubicBezTo>
                  <a:cubicBezTo>
                    <a:pt x="322" y="366"/>
                    <a:pt x="322" y="364"/>
                    <a:pt x="322" y="363"/>
                  </a:cubicBezTo>
                  <a:cubicBezTo>
                    <a:pt x="321" y="357"/>
                    <a:pt x="322" y="352"/>
                    <a:pt x="323" y="347"/>
                  </a:cubicBezTo>
                  <a:cubicBezTo>
                    <a:pt x="322" y="346"/>
                    <a:pt x="322" y="345"/>
                    <a:pt x="322" y="344"/>
                  </a:cubicBezTo>
                  <a:cubicBezTo>
                    <a:pt x="320" y="333"/>
                    <a:pt x="316" y="324"/>
                    <a:pt x="311" y="315"/>
                  </a:cubicBezTo>
                  <a:cubicBezTo>
                    <a:pt x="307" y="307"/>
                    <a:pt x="303" y="300"/>
                    <a:pt x="298" y="293"/>
                  </a:cubicBezTo>
                  <a:cubicBezTo>
                    <a:pt x="284" y="273"/>
                    <a:pt x="267" y="256"/>
                    <a:pt x="250" y="240"/>
                  </a:cubicBezTo>
                  <a:cubicBezTo>
                    <a:pt x="233" y="224"/>
                    <a:pt x="216" y="208"/>
                    <a:pt x="202" y="191"/>
                  </a:cubicBezTo>
                  <a:cubicBezTo>
                    <a:pt x="188" y="174"/>
                    <a:pt x="177" y="155"/>
                    <a:pt x="175" y="135"/>
                  </a:cubicBezTo>
                  <a:cubicBezTo>
                    <a:pt x="174" y="126"/>
                    <a:pt x="177" y="116"/>
                    <a:pt x="181" y="107"/>
                  </a:cubicBezTo>
                  <a:cubicBezTo>
                    <a:pt x="186" y="97"/>
                    <a:pt x="192" y="88"/>
                    <a:pt x="199" y="80"/>
                  </a:cubicBezTo>
                  <a:cubicBezTo>
                    <a:pt x="213" y="63"/>
                    <a:pt x="230" y="47"/>
                    <a:pt x="246" y="31"/>
                  </a:cubicBezTo>
                  <a:cubicBezTo>
                    <a:pt x="257" y="21"/>
                    <a:pt x="268" y="10"/>
                    <a:pt x="279" y="0"/>
                  </a:cubicBezTo>
                  <a:cubicBezTo>
                    <a:pt x="263" y="0"/>
                    <a:pt x="263" y="0"/>
                    <a:pt x="263" y="0"/>
                  </a:cubicBezTo>
                  <a:cubicBezTo>
                    <a:pt x="255" y="7"/>
                    <a:pt x="247" y="15"/>
                    <a:pt x="239" y="23"/>
                  </a:cubicBezTo>
                  <a:cubicBezTo>
                    <a:pt x="222" y="39"/>
                    <a:pt x="205" y="54"/>
                    <a:pt x="190" y="72"/>
                  </a:cubicBezTo>
                  <a:cubicBezTo>
                    <a:pt x="182" y="81"/>
                    <a:pt x="176" y="91"/>
                    <a:pt x="170" y="102"/>
                  </a:cubicBezTo>
                  <a:cubicBezTo>
                    <a:pt x="166" y="110"/>
                    <a:pt x="163" y="120"/>
                    <a:pt x="163" y="130"/>
                  </a:cubicBezTo>
                  <a:cubicBezTo>
                    <a:pt x="163" y="125"/>
                    <a:pt x="162" y="121"/>
                    <a:pt x="161" y="116"/>
                  </a:cubicBezTo>
                  <a:cubicBezTo>
                    <a:pt x="160" y="109"/>
                    <a:pt x="157" y="103"/>
                    <a:pt x="154" y="97"/>
                  </a:cubicBezTo>
                  <a:cubicBezTo>
                    <a:pt x="149" y="86"/>
                    <a:pt x="141" y="76"/>
                    <a:pt x="134" y="66"/>
                  </a:cubicBezTo>
                  <a:cubicBezTo>
                    <a:pt x="118" y="48"/>
                    <a:pt x="101" y="32"/>
                    <a:pt x="84" y="16"/>
                  </a:cubicBezTo>
                  <a:cubicBezTo>
                    <a:pt x="78" y="11"/>
                    <a:pt x="72" y="5"/>
                    <a:pt x="66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8" y="8"/>
                    <a:pt x="67" y="16"/>
                    <a:pt x="76" y="24"/>
                  </a:cubicBezTo>
                  <a:cubicBezTo>
                    <a:pt x="93" y="40"/>
                    <a:pt x="110" y="56"/>
                    <a:pt x="125" y="74"/>
                  </a:cubicBezTo>
                  <a:close/>
                  <a:moveTo>
                    <a:pt x="193" y="1493"/>
                  </a:moveTo>
                  <a:cubicBezTo>
                    <a:pt x="200" y="1502"/>
                    <a:pt x="208" y="1510"/>
                    <a:pt x="216" y="1517"/>
                  </a:cubicBezTo>
                  <a:cubicBezTo>
                    <a:pt x="220" y="1522"/>
                    <a:pt x="225" y="1526"/>
                    <a:pt x="229" y="1531"/>
                  </a:cubicBezTo>
                  <a:cubicBezTo>
                    <a:pt x="245" y="1547"/>
                    <a:pt x="263" y="1563"/>
                    <a:pt x="278" y="1580"/>
                  </a:cubicBezTo>
                  <a:cubicBezTo>
                    <a:pt x="280" y="1582"/>
                    <a:pt x="282" y="1584"/>
                    <a:pt x="284" y="1586"/>
                  </a:cubicBezTo>
                  <a:cubicBezTo>
                    <a:pt x="286" y="1589"/>
                    <a:pt x="288" y="1591"/>
                    <a:pt x="290" y="1594"/>
                  </a:cubicBezTo>
                  <a:cubicBezTo>
                    <a:pt x="296" y="1603"/>
                    <a:pt x="302" y="1613"/>
                    <a:pt x="306" y="1624"/>
                  </a:cubicBezTo>
                  <a:cubicBezTo>
                    <a:pt x="309" y="1635"/>
                    <a:pt x="311" y="1647"/>
                    <a:pt x="310" y="1658"/>
                  </a:cubicBezTo>
                  <a:cubicBezTo>
                    <a:pt x="309" y="1666"/>
                    <a:pt x="307" y="1673"/>
                    <a:pt x="304" y="1680"/>
                  </a:cubicBezTo>
                  <a:cubicBezTo>
                    <a:pt x="300" y="1687"/>
                    <a:pt x="294" y="1694"/>
                    <a:pt x="289" y="1701"/>
                  </a:cubicBezTo>
                  <a:cubicBezTo>
                    <a:pt x="273" y="1718"/>
                    <a:pt x="256" y="1733"/>
                    <a:pt x="239" y="1749"/>
                  </a:cubicBezTo>
                  <a:cubicBezTo>
                    <a:pt x="222" y="1765"/>
                    <a:pt x="205" y="1781"/>
                    <a:pt x="190" y="1799"/>
                  </a:cubicBezTo>
                  <a:cubicBezTo>
                    <a:pt x="182" y="1808"/>
                    <a:pt x="176" y="1818"/>
                    <a:pt x="170" y="1828"/>
                  </a:cubicBezTo>
                  <a:cubicBezTo>
                    <a:pt x="166" y="1837"/>
                    <a:pt x="163" y="1847"/>
                    <a:pt x="163" y="1857"/>
                  </a:cubicBezTo>
                  <a:cubicBezTo>
                    <a:pt x="163" y="1852"/>
                    <a:pt x="162" y="1847"/>
                    <a:pt x="161" y="1843"/>
                  </a:cubicBezTo>
                  <a:cubicBezTo>
                    <a:pt x="160" y="1836"/>
                    <a:pt x="157" y="1830"/>
                    <a:pt x="154" y="1824"/>
                  </a:cubicBezTo>
                  <a:cubicBezTo>
                    <a:pt x="149" y="1812"/>
                    <a:pt x="141" y="1802"/>
                    <a:pt x="134" y="1793"/>
                  </a:cubicBezTo>
                  <a:cubicBezTo>
                    <a:pt x="118" y="1774"/>
                    <a:pt x="101" y="1758"/>
                    <a:pt x="84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7" y="1671"/>
                  </a:cubicBezTo>
                  <a:cubicBezTo>
                    <a:pt x="15" y="1667"/>
                    <a:pt x="15" y="1662"/>
                    <a:pt x="14" y="1658"/>
                  </a:cubicBezTo>
                  <a:cubicBezTo>
                    <a:pt x="13" y="1637"/>
                    <a:pt x="21" y="1616"/>
                    <a:pt x="34" y="1599"/>
                  </a:cubicBezTo>
                  <a:cubicBezTo>
                    <a:pt x="47" y="1581"/>
                    <a:pt x="63" y="1565"/>
                    <a:pt x="80" y="1549"/>
                  </a:cubicBezTo>
                  <a:cubicBezTo>
                    <a:pt x="97" y="1534"/>
                    <a:pt x="115" y="1518"/>
                    <a:pt x="130" y="1499"/>
                  </a:cubicBezTo>
                  <a:cubicBezTo>
                    <a:pt x="138" y="1490"/>
                    <a:pt x="146" y="1480"/>
                    <a:pt x="151" y="1469"/>
                  </a:cubicBezTo>
                  <a:cubicBezTo>
                    <a:pt x="157" y="1458"/>
                    <a:pt x="162" y="1445"/>
                    <a:pt x="163" y="1432"/>
                  </a:cubicBezTo>
                  <a:cubicBezTo>
                    <a:pt x="163" y="1430"/>
                    <a:pt x="163" y="1429"/>
                    <a:pt x="163" y="1427"/>
                  </a:cubicBezTo>
                  <a:cubicBezTo>
                    <a:pt x="163" y="1428"/>
                    <a:pt x="163" y="1430"/>
                    <a:pt x="163" y="1431"/>
                  </a:cubicBezTo>
                  <a:cubicBezTo>
                    <a:pt x="164" y="1443"/>
                    <a:pt x="168" y="1454"/>
                    <a:pt x="173" y="1464"/>
                  </a:cubicBezTo>
                  <a:cubicBezTo>
                    <a:pt x="179" y="1475"/>
                    <a:pt x="186" y="1484"/>
                    <a:pt x="193" y="1493"/>
                  </a:cubicBezTo>
                  <a:close/>
                  <a:moveTo>
                    <a:pt x="193" y="1064"/>
                  </a:moveTo>
                  <a:cubicBezTo>
                    <a:pt x="208" y="1082"/>
                    <a:pt x="226" y="1098"/>
                    <a:pt x="242" y="1113"/>
                  </a:cubicBezTo>
                  <a:cubicBezTo>
                    <a:pt x="259" y="1129"/>
                    <a:pt x="276" y="1146"/>
                    <a:pt x="290" y="1164"/>
                  </a:cubicBezTo>
                  <a:cubicBezTo>
                    <a:pt x="296" y="1174"/>
                    <a:pt x="302" y="1184"/>
                    <a:pt x="306" y="1195"/>
                  </a:cubicBezTo>
                  <a:cubicBezTo>
                    <a:pt x="309" y="1206"/>
                    <a:pt x="311" y="1218"/>
                    <a:pt x="310" y="1229"/>
                  </a:cubicBezTo>
                  <a:cubicBezTo>
                    <a:pt x="309" y="1234"/>
                    <a:pt x="308" y="1239"/>
                    <a:pt x="307" y="1244"/>
                  </a:cubicBezTo>
                  <a:cubicBezTo>
                    <a:pt x="302" y="1253"/>
                    <a:pt x="295" y="1261"/>
                    <a:pt x="289" y="1269"/>
                  </a:cubicBezTo>
                  <a:cubicBezTo>
                    <a:pt x="273" y="1286"/>
                    <a:pt x="256" y="1302"/>
                    <a:pt x="239" y="1318"/>
                  </a:cubicBezTo>
                  <a:cubicBezTo>
                    <a:pt x="222" y="1333"/>
                    <a:pt x="205" y="1349"/>
                    <a:pt x="190" y="1367"/>
                  </a:cubicBezTo>
                  <a:cubicBezTo>
                    <a:pt x="182" y="1376"/>
                    <a:pt x="176" y="1386"/>
                    <a:pt x="170" y="1396"/>
                  </a:cubicBezTo>
                  <a:cubicBezTo>
                    <a:pt x="166" y="1405"/>
                    <a:pt x="163" y="1415"/>
                    <a:pt x="163" y="1425"/>
                  </a:cubicBezTo>
                  <a:cubicBezTo>
                    <a:pt x="163" y="1420"/>
                    <a:pt x="162" y="1415"/>
                    <a:pt x="161" y="1411"/>
                  </a:cubicBezTo>
                  <a:cubicBezTo>
                    <a:pt x="160" y="1404"/>
                    <a:pt x="157" y="1398"/>
                    <a:pt x="154" y="1392"/>
                  </a:cubicBezTo>
                  <a:cubicBezTo>
                    <a:pt x="149" y="1381"/>
                    <a:pt x="141" y="1371"/>
                    <a:pt x="134" y="1361"/>
                  </a:cubicBezTo>
                  <a:cubicBezTo>
                    <a:pt x="118" y="1343"/>
                    <a:pt x="101" y="1327"/>
                    <a:pt x="84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7" y="1255"/>
                    <a:pt x="20" y="1247"/>
                    <a:pt x="16" y="1238"/>
                  </a:cubicBezTo>
                  <a:cubicBezTo>
                    <a:pt x="15" y="1235"/>
                    <a:pt x="15" y="1232"/>
                    <a:pt x="14" y="1228"/>
                  </a:cubicBezTo>
                  <a:cubicBezTo>
                    <a:pt x="13" y="1207"/>
                    <a:pt x="21" y="1187"/>
                    <a:pt x="34" y="1169"/>
                  </a:cubicBezTo>
                  <a:cubicBezTo>
                    <a:pt x="47" y="1152"/>
                    <a:pt x="63" y="1136"/>
                    <a:pt x="80" y="1120"/>
                  </a:cubicBezTo>
                  <a:cubicBezTo>
                    <a:pt x="97" y="1104"/>
                    <a:pt x="115" y="1089"/>
                    <a:pt x="130" y="1070"/>
                  </a:cubicBezTo>
                  <a:cubicBezTo>
                    <a:pt x="138" y="1061"/>
                    <a:pt x="146" y="1051"/>
                    <a:pt x="151" y="1039"/>
                  </a:cubicBezTo>
                  <a:cubicBezTo>
                    <a:pt x="157" y="1028"/>
                    <a:pt x="162" y="1016"/>
                    <a:pt x="163" y="1002"/>
                  </a:cubicBezTo>
                  <a:cubicBezTo>
                    <a:pt x="163" y="1001"/>
                    <a:pt x="163" y="999"/>
                    <a:pt x="163" y="998"/>
                  </a:cubicBezTo>
                  <a:cubicBezTo>
                    <a:pt x="163" y="999"/>
                    <a:pt x="163" y="1000"/>
                    <a:pt x="163" y="1001"/>
                  </a:cubicBezTo>
                  <a:cubicBezTo>
                    <a:pt x="164" y="1013"/>
                    <a:pt x="168" y="1025"/>
                    <a:pt x="173" y="1035"/>
                  </a:cubicBezTo>
                  <a:cubicBezTo>
                    <a:pt x="179" y="1046"/>
                    <a:pt x="186" y="1055"/>
                    <a:pt x="193" y="1064"/>
                  </a:cubicBezTo>
                  <a:close/>
                  <a:moveTo>
                    <a:pt x="193" y="631"/>
                  </a:moveTo>
                  <a:cubicBezTo>
                    <a:pt x="196" y="635"/>
                    <a:pt x="199" y="638"/>
                    <a:pt x="203" y="642"/>
                  </a:cubicBezTo>
                  <a:cubicBezTo>
                    <a:pt x="211" y="652"/>
                    <a:pt x="220" y="661"/>
                    <a:pt x="229" y="670"/>
                  </a:cubicBezTo>
                  <a:cubicBezTo>
                    <a:pt x="245" y="686"/>
                    <a:pt x="263" y="702"/>
                    <a:pt x="278" y="719"/>
                  </a:cubicBezTo>
                  <a:cubicBezTo>
                    <a:pt x="283" y="724"/>
                    <a:pt x="288" y="730"/>
                    <a:pt x="292" y="735"/>
                  </a:cubicBezTo>
                  <a:cubicBezTo>
                    <a:pt x="298" y="744"/>
                    <a:pt x="302" y="753"/>
                    <a:pt x="306" y="762"/>
                  </a:cubicBezTo>
                  <a:cubicBezTo>
                    <a:pt x="309" y="773"/>
                    <a:pt x="311" y="785"/>
                    <a:pt x="310" y="796"/>
                  </a:cubicBezTo>
                  <a:cubicBezTo>
                    <a:pt x="309" y="805"/>
                    <a:pt x="307" y="813"/>
                    <a:pt x="303" y="821"/>
                  </a:cubicBezTo>
                  <a:cubicBezTo>
                    <a:pt x="299" y="827"/>
                    <a:pt x="294" y="834"/>
                    <a:pt x="289" y="840"/>
                  </a:cubicBezTo>
                  <a:cubicBezTo>
                    <a:pt x="273" y="857"/>
                    <a:pt x="256" y="872"/>
                    <a:pt x="239" y="888"/>
                  </a:cubicBezTo>
                  <a:cubicBezTo>
                    <a:pt x="222" y="904"/>
                    <a:pt x="205" y="920"/>
                    <a:pt x="190" y="938"/>
                  </a:cubicBezTo>
                  <a:cubicBezTo>
                    <a:pt x="182" y="947"/>
                    <a:pt x="176" y="957"/>
                    <a:pt x="170" y="967"/>
                  </a:cubicBezTo>
                  <a:cubicBezTo>
                    <a:pt x="166" y="976"/>
                    <a:pt x="163" y="986"/>
                    <a:pt x="163" y="996"/>
                  </a:cubicBezTo>
                  <a:cubicBezTo>
                    <a:pt x="163" y="991"/>
                    <a:pt x="162" y="986"/>
                    <a:pt x="161" y="982"/>
                  </a:cubicBezTo>
                  <a:cubicBezTo>
                    <a:pt x="160" y="975"/>
                    <a:pt x="157" y="969"/>
                    <a:pt x="154" y="963"/>
                  </a:cubicBezTo>
                  <a:cubicBezTo>
                    <a:pt x="149" y="951"/>
                    <a:pt x="141" y="941"/>
                    <a:pt x="134" y="932"/>
                  </a:cubicBezTo>
                  <a:cubicBezTo>
                    <a:pt x="118" y="913"/>
                    <a:pt x="101" y="897"/>
                    <a:pt x="84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8" y="827"/>
                    <a:pt x="22" y="819"/>
                    <a:pt x="17" y="811"/>
                  </a:cubicBezTo>
                  <a:cubicBezTo>
                    <a:pt x="16" y="806"/>
                    <a:pt x="15" y="801"/>
                    <a:pt x="14" y="795"/>
                  </a:cubicBezTo>
                  <a:cubicBezTo>
                    <a:pt x="13" y="774"/>
                    <a:pt x="21" y="754"/>
                    <a:pt x="34" y="737"/>
                  </a:cubicBezTo>
                  <a:cubicBezTo>
                    <a:pt x="47" y="719"/>
                    <a:pt x="63" y="703"/>
                    <a:pt x="80" y="687"/>
                  </a:cubicBezTo>
                  <a:cubicBezTo>
                    <a:pt x="97" y="671"/>
                    <a:pt x="115" y="656"/>
                    <a:pt x="130" y="637"/>
                  </a:cubicBezTo>
                  <a:cubicBezTo>
                    <a:pt x="138" y="628"/>
                    <a:pt x="146" y="618"/>
                    <a:pt x="151" y="607"/>
                  </a:cubicBezTo>
                  <a:cubicBezTo>
                    <a:pt x="157" y="595"/>
                    <a:pt x="162" y="583"/>
                    <a:pt x="163" y="570"/>
                  </a:cubicBezTo>
                  <a:cubicBezTo>
                    <a:pt x="163" y="568"/>
                    <a:pt x="163" y="567"/>
                    <a:pt x="163" y="565"/>
                  </a:cubicBezTo>
                  <a:cubicBezTo>
                    <a:pt x="163" y="566"/>
                    <a:pt x="163" y="568"/>
                    <a:pt x="163" y="569"/>
                  </a:cubicBezTo>
                  <a:cubicBezTo>
                    <a:pt x="164" y="580"/>
                    <a:pt x="168" y="592"/>
                    <a:pt x="173" y="602"/>
                  </a:cubicBezTo>
                  <a:cubicBezTo>
                    <a:pt x="179" y="613"/>
                    <a:pt x="186" y="622"/>
                    <a:pt x="193" y="631"/>
                  </a:cubicBezTo>
                  <a:close/>
                  <a:moveTo>
                    <a:pt x="163" y="137"/>
                  </a:moveTo>
                  <a:cubicBezTo>
                    <a:pt x="163" y="135"/>
                    <a:pt x="163" y="134"/>
                    <a:pt x="163" y="132"/>
                  </a:cubicBezTo>
                  <a:cubicBezTo>
                    <a:pt x="163" y="134"/>
                    <a:pt x="163" y="135"/>
                    <a:pt x="163" y="136"/>
                  </a:cubicBezTo>
                  <a:cubicBezTo>
                    <a:pt x="164" y="148"/>
                    <a:pt x="168" y="159"/>
                    <a:pt x="173" y="170"/>
                  </a:cubicBezTo>
                  <a:cubicBezTo>
                    <a:pt x="179" y="180"/>
                    <a:pt x="186" y="190"/>
                    <a:pt x="193" y="198"/>
                  </a:cubicBezTo>
                  <a:cubicBezTo>
                    <a:pt x="196" y="202"/>
                    <a:pt x="199" y="206"/>
                    <a:pt x="203" y="209"/>
                  </a:cubicBezTo>
                  <a:cubicBezTo>
                    <a:pt x="211" y="219"/>
                    <a:pt x="220" y="228"/>
                    <a:pt x="229" y="237"/>
                  </a:cubicBezTo>
                  <a:cubicBezTo>
                    <a:pt x="245" y="254"/>
                    <a:pt x="263" y="269"/>
                    <a:pt x="278" y="286"/>
                  </a:cubicBezTo>
                  <a:cubicBezTo>
                    <a:pt x="283" y="291"/>
                    <a:pt x="288" y="297"/>
                    <a:pt x="292" y="302"/>
                  </a:cubicBezTo>
                  <a:cubicBezTo>
                    <a:pt x="298" y="311"/>
                    <a:pt x="302" y="320"/>
                    <a:pt x="306" y="329"/>
                  </a:cubicBezTo>
                  <a:cubicBezTo>
                    <a:pt x="309" y="340"/>
                    <a:pt x="311" y="352"/>
                    <a:pt x="310" y="363"/>
                  </a:cubicBezTo>
                  <a:cubicBezTo>
                    <a:pt x="309" y="372"/>
                    <a:pt x="307" y="380"/>
                    <a:pt x="303" y="388"/>
                  </a:cubicBezTo>
                  <a:cubicBezTo>
                    <a:pt x="299" y="395"/>
                    <a:pt x="294" y="401"/>
                    <a:pt x="289" y="407"/>
                  </a:cubicBezTo>
                  <a:cubicBezTo>
                    <a:pt x="273" y="424"/>
                    <a:pt x="256" y="440"/>
                    <a:pt x="239" y="455"/>
                  </a:cubicBezTo>
                  <a:cubicBezTo>
                    <a:pt x="222" y="471"/>
                    <a:pt x="205" y="487"/>
                    <a:pt x="190" y="505"/>
                  </a:cubicBezTo>
                  <a:cubicBezTo>
                    <a:pt x="182" y="514"/>
                    <a:pt x="176" y="524"/>
                    <a:pt x="170" y="534"/>
                  </a:cubicBezTo>
                  <a:cubicBezTo>
                    <a:pt x="166" y="543"/>
                    <a:pt x="163" y="553"/>
                    <a:pt x="163" y="563"/>
                  </a:cubicBezTo>
                  <a:cubicBezTo>
                    <a:pt x="163" y="558"/>
                    <a:pt x="162" y="553"/>
                    <a:pt x="161" y="549"/>
                  </a:cubicBezTo>
                  <a:cubicBezTo>
                    <a:pt x="160" y="542"/>
                    <a:pt x="157" y="536"/>
                    <a:pt x="154" y="530"/>
                  </a:cubicBezTo>
                  <a:cubicBezTo>
                    <a:pt x="149" y="519"/>
                    <a:pt x="141" y="509"/>
                    <a:pt x="134" y="499"/>
                  </a:cubicBezTo>
                  <a:cubicBezTo>
                    <a:pt x="118" y="481"/>
                    <a:pt x="101" y="465"/>
                    <a:pt x="84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8" y="394"/>
                    <a:pt x="22" y="386"/>
                    <a:pt x="17" y="379"/>
                  </a:cubicBezTo>
                  <a:cubicBezTo>
                    <a:pt x="16" y="373"/>
                    <a:pt x="15" y="368"/>
                    <a:pt x="14" y="363"/>
                  </a:cubicBezTo>
                  <a:cubicBezTo>
                    <a:pt x="13" y="342"/>
                    <a:pt x="21" y="322"/>
                    <a:pt x="34" y="304"/>
                  </a:cubicBezTo>
                  <a:cubicBezTo>
                    <a:pt x="47" y="286"/>
                    <a:pt x="63" y="270"/>
                    <a:pt x="80" y="254"/>
                  </a:cubicBezTo>
                  <a:cubicBezTo>
                    <a:pt x="97" y="239"/>
                    <a:pt x="115" y="223"/>
                    <a:pt x="130" y="204"/>
                  </a:cubicBezTo>
                  <a:cubicBezTo>
                    <a:pt x="138" y="195"/>
                    <a:pt x="146" y="185"/>
                    <a:pt x="151" y="174"/>
                  </a:cubicBezTo>
                  <a:cubicBezTo>
                    <a:pt x="157" y="163"/>
                    <a:pt x="162" y="150"/>
                    <a:pt x="163" y="137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9" name="Freeform 19"/>
            <p:cNvSpPr/>
            <p:nvPr/>
          </p:nvSpPr>
          <p:spPr>
            <a:xfrm>
              <a:off x="9645480" y="-1440"/>
              <a:ext cx="514080" cy="686232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2" h="2159">
                  <a:moveTo>
                    <a:pt x="124" y="74"/>
                  </a:moveTo>
                  <a:cubicBezTo>
                    <a:pt x="132" y="83"/>
                    <a:pt x="139" y="92"/>
                    <a:pt x="144" y="103"/>
                  </a:cubicBezTo>
                  <a:cubicBezTo>
                    <a:pt x="148" y="111"/>
                    <a:pt x="151" y="121"/>
                    <a:pt x="151" y="131"/>
                  </a:cubicBezTo>
                  <a:cubicBezTo>
                    <a:pt x="150" y="131"/>
                    <a:pt x="150" y="131"/>
                    <a:pt x="150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2" y="197"/>
                    <a:pt x="121" y="197"/>
                  </a:cubicBezTo>
                  <a:cubicBezTo>
                    <a:pt x="106" y="215"/>
                    <a:pt x="89" y="230"/>
                    <a:pt x="72" y="246"/>
                  </a:cubicBezTo>
                  <a:cubicBezTo>
                    <a:pt x="55" y="262"/>
                    <a:pt x="38" y="279"/>
                    <a:pt x="25" y="298"/>
                  </a:cubicBezTo>
                  <a:cubicBezTo>
                    <a:pt x="23" y="300"/>
                    <a:pt x="22" y="302"/>
                    <a:pt x="20" y="305"/>
                  </a:cubicBezTo>
                  <a:cubicBezTo>
                    <a:pt x="18" y="307"/>
                    <a:pt x="17" y="310"/>
                    <a:pt x="15" y="313"/>
                  </a:cubicBezTo>
                  <a:cubicBezTo>
                    <a:pt x="9" y="322"/>
                    <a:pt x="4" y="333"/>
                    <a:pt x="2" y="345"/>
                  </a:cubicBezTo>
                  <a:cubicBezTo>
                    <a:pt x="0" y="351"/>
                    <a:pt x="0" y="357"/>
                    <a:pt x="1" y="363"/>
                  </a:cubicBezTo>
                  <a:cubicBezTo>
                    <a:pt x="1" y="369"/>
                    <a:pt x="3" y="374"/>
                    <a:pt x="6" y="379"/>
                  </a:cubicBezTo>
                  <a:cubicBezTo>
                    <a:pt x="8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2" y="404"/>
                    <a:pt x="26" y="408"/>
                  </a:cubicBezTo>
                  <a:cubicBezTo>
                    <a:pt x="41" y="426"/>
                    <a:pt x="59" y="441"/>
                    <a:pt x="76" y="457"/>
                  </a:cubicBezTo>
                  <a:cubicBezTo>
                    <a:pt x="93" y="473"/>
                    <a:pt x="110" y="489"/>
                    <a:pt x="124" y="507"/>
                  </a:cubicBezTo>
                  <a:cubicBezTo>
                    <a:pt x="132" y="516"/>
                    <a:pt x="139" y="525"/>
                    <a:pt x="144" y="535"/>
                  </a:cubicBezTo>
                  <a:cubicBezTo>
                    <a:pt x="148" y="544"/>
                    <a:pt x="151" y="554"/>
                    <a:pt x="151" y="564"/>
                  </a:cubicBezTo>
                  <a:cubicBezTo>
                    <a:pt x="150" y="564"/>
                    <a:pt x="150" y="564"/>
                    <a:pt x="150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5"/>
                    <a:pt x="122" y="629"/>
                  </a:cubicBezTo>
                  <a:cubicBezTo>
                    <a:pt x="122" y="629"/>
                    <a:pt x="122" y="629"/>
                    <a:pt x="121" y="630"/>
                  </a:cubicBezTo>
                  <a:cubicBezTo>
                    <a:pt x="106" y="648"/>
                    <a:pt x="89" y="663"/>
                    <a:pt x="72" y="679"/>
                  </a:cubicBezTo>
                  <a:cubicBezTo>
                    <a:pt x="55" y="695"/>
                    <a:pt x="38" y="711"/>
                    <a:pt x="25" y="730"/>
                  </a:cubicBezTo>
                  <a:cubicBezTo>
                    <a:pt x="23" y="733"/>
                    <a:pt x="22" y="735"/>
                    <a:pt x="20" y="737"/>
                  </a:cubicBezTo>
                  <a:cubicBezTo>
                    <a:pt x="18" y="740"/>
                    <a:pt x="17" y="743"/>
                    <a:pt x="15" y="745"/>
                  </a:cubicBezTo>
                  <a:cubicBezTo>
                    <a:pt x="9" y="755"/>
                    <a:pt x="4" y="766"/>
                    <a:pt x="2" y="778"/>
                  </a:cubicBezTo>
                  <a:cubicBezTo>
                    <a:pt x="0" y="784"/>
                    <a:pt x="0" y="789"/>
                    <a:pt x="1" y="795"/>
                  </a:cubicBezTo>
                  <a:cubicBezTo>
                    <a:pt x="1" y="801"/>
                    <a:pt x="3" y="807"/>
                    <a:pt x="6" y="812"/>
                  </a:cubicBezTo>
                  <a:cubicBezTo>
                    <a:pt x="8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2" y="837"/>
                    <a:pt x="26" y="841"/>
                  </a:cubicBezTo>
                  <a:cubicBezTo>
                    <a:pt x="41" y="858"/>
                    <a:pt x="59" y="874"/>
                    <a:pt x="76" y="890"/>
                  </a:cubicBezTo>
                  <a:cubicBezTo>
                    <a:pt x="93" y="906"/>
                    <a:pt x="110" y="922"/>
                    <a:pt x="124" y="939"/>
                  </a:cubicBezTo>
                  <a:cubicBezTo>
                    <a:pt x="132" y="948"/>
                    <a:pt x="139" y="958"/>
                    <a:pt x="144" y="968"/>
                  </a:cubicBezTo>
                  <a:cubicBezTo>
                    <a:pt x="147" y="976"/>
                    <a:pt x="150" y="984"/>
                    <a:pt x="151" y="993"/>
                  </a:cubicBezTo>
                  <a:cubicBezTo>
                    <a:pt x="150" y="993"/>
                    <a:pt x="150" y="993"/>
                    <a:pt x="150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9" y="1065"/>
                    <a:pt x="103" y="1082"/>
                    <a:pt x="86" y="1098"/>
                  </a:cubicBezTo>
                  <a:cubicBezTo>
                    <a:pt x="70" y="1114"/>
                    <a:pt x="52" y="1130"/>
                    <a:pt x="36" y="1147"/>
                  </a:cubicBezTo>
                  <a:cubicBezTo>
                    <a:pt x="29" y="1156"/>
                    <a:pt x="21" y="1165"/>
                    <a:pt x="15" y="1175"/>
                  </a:cubicBezTo>
                  <a:cubicBezTo>
                    <a:pt x="9" y="1185"/>
                    <a:pt x="4" y="1195"/>
                    <a:pt x="2" y="1207"/>
                  </a:cubicBezTo>
                  <a:cubicBezTo>
                    <a:pt x="0" y="1213"/>
                    <a:pt x="0" y="1219"/>
                    <a:pt x="1" y="1225"/>
                  </a:cubicBezTo>
                  <a:cubicBezTo>
                    <a:pt x="1" y="1231"/>
                    <a:pt x="3" y="1236"/>
                    <a:pt x="6" y="1242"/>
                  </a:cubicBezTo>
                  <a:cubicBezTo>
                    <a:pt x="7" y="1243"/>
                    <a:pt x="7" y="1244"/>
                    <a:pt x="8" y="1245"/>
                  </a:cubicBezTo>
                  <a:cubicBezTo>
                    <a:pt x="10" y="1251"/>
                    <a:pt x="12" y="1256"/>
                    <a:pt x="15" y="1261"/>
                  </a:cubicBezTo>
                  <a:cubicBezTo>
                    <a:pt x="19" y="1261"/>
                    <a:pt x="19" y="1261"/>
                    <a:pt x="19" y="1261"/>
                  </a:cubicBezTo>
                  <a:cubicBezTo>
                    <a:pt x="21" y="1264"/>
                    <a:pt x="23" y="1267"/>
                    <a:pt x="26" y="1270"/>
                  </a:cubicBezTo>
                  <a:cubicBezTo>
                    <a:pt x="41" y="1288"/>
                    <a:pt x="59" y="1303"/>
                    <a:pt x="76" y="1319"/>
                  </a:cubicBezTo>
                  <a:cubicBezTo>
                    <a:pt x="93" y="1335"/>
                    <a:pt x="110" y="1351"/>
                    <a:pt x="124" y="1369"/>
                  </a:cubicBezTo>
                  <a:cubicBezTo>
                    <a:pt x="132" y="1378"/>
                    <a:pt x="139" y="1387"/>
                    <a:pt x="144" y="1398"/>
                  </a:cubicBezTo>
                  <a:cubicBezTo>
                    <a:pt x="148" y="1406"/>
                    <a:pt x="150" y="1415"/>
                    <a:pt x="151" y="1425"/>
                  </a:cubicBezTo>
                  <a:cubicBezTo>
                    <a:pt x="150" y="1425"/>
                    <a:pt x="150" y="1425"/>
                    <a:pt x="150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6" y="1485"/>
                    <a:pt x="120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3" y="1595"/>
                    <a:pt x="19" y="1600"/>
                    <a:pt x="15" y="1606"/>
                  </a:cubicBezTo>
                  <a:cubicBezTo>
                    <a:pt x="9" y="1616"/>
                    <a:pt x="4" y="1627"/>
                    <a:pt x="2" y="1639"/>
                  </a:cubicBezTo>
                  <a:cubicBezTo>
                    <a:pt x="0" y="1644"/>
                    <a:pt x="0" y="1650"/>
                    <a:pt x="1" y="1656"/>
                  </a:cubicBezTo>
                  <a:cubicBezTo>
                    <a:pt x="1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0" y="1681"/>
                  </a:cubicBezTo>
                  <a:cubicBezTo>
                    <a:pt x="12" y="1685"/>
                    <a:pt x="13" y="1688"/>
                    <a:pt x="15" y="1691"/>
                  </a:cubicBezTo>
                  <a:cubicBezTo>
                    <a:pt x="17" y="1691"/>
                    <a:pt x="17" y="1691"/>
                    <a:pt x="17" y="1691"/>
                  </a:cubicBezTo>
                  <a:cubicBezTo>
                    <a:pt x="20" y="1694"/>
                    <a:pt x="23" y="1698"/>
                    <a:pt x="26" y="1702"/>
                  </a:cubicBezTo>
                  <a:cubicBezTo>
                    <a:pt x="41" y="1719"/>
                    <a:pt x="59" y="1735"/>
                    <a:pt x="76" y="1751"/>
                  </a:cubicBezTo>
                  <a:cubicBezTo>
                    <a:pt x="93" y="1767"/>
                    <a:pt x="110" y="1783"/>
                    <a:pt x="124" y="1800"/>
                  </a:cubicBezTo>
                  <a:cubicBezTo>
                    <a:pt x="132" y="1809"/>
                    <a:pt x="139" y="1819"/>
                    <a:pt x="144" y="1829"/>
                  </a:cubicBezTo>
                  <a:cubicBezTo>
                    <a:pt x="147" y="1837"/>
                    <a:pt x="150" y="1846"/>
                    <a:pt x="151" y="1855"/>
                  </a:cubicBezTo>
                  <a:cubicBezTo>
                    <a:pt x="150" y="1855"/>
                    <a:pt x="150" y="1855"/>
                    <a:pt x="150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7" y="1959"/>
                    <a:pt x="80" y="1966"/>
                    <a:pt x="72" y="1973"/>
                  </a:cubicBezTo>
                  <a:cubicBezTo>
                    <a:pt x="61" y="1984"/>
                    <a:pt x="49" y="1995"/>
                    <a:pt x="39" y="2007"/>
                  </a:cubicBezTo>
                  <a:cubicBezTo>
                    <a:pt x="38" y="2008"/>
                    <a:pt x="37" y="2008"/>
                    <a:pt x="36" y="2009"/>
                  </a:cubicBezTo>
                  <a:cubicBezTo>
                    <a:pt x="29" y="2018"/>
                    <a:pt x="21" y="2027"/>
                    <a:pt x="15" y="2037"/>
                  </a:cubicBezTo>
                  <a:cubicBezTo>
                    <a:pt x="9" y="2047"/>
                    <a:pt x="4" y="2057"/>
                    <a:pt x="2" y="2069"/>
                  </a:cubicBezTo>
                  <a:cubicBezTo>
                    <a:pt x="0" y="2075"/>
                    <a:pt x="0" y="2081"/>
                    <a:pt x="1" y="2087"/>
                  </a:cubicBezTo>
                  <a:cubicBezTo>
                    <a:pt x="1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1" y="2114"/>
                    <a:pt x="13" y="2118"/>
                    <a:pt x="15" y="2122"/>
                  </a:cubicBezTo>
                  <a:cubicBezTo>
                    <a:pt x="18" y="2122"/>
                    <a:pt x="18" y="2122"/>
                    <a:pt x="18" y="2122"/>
                  </a:cubicBezTo>
                  <a:cubicBezTo>
                    <a:pt x="20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4" y="2137"/>
                    <a:pt x="34" y="2125"/>
                  </a:cubicBezTo>
                  <a:cubicBezTo>
                    <a:pt x="27" y="2117"/>
                    <a:pt x="21" y="2109"/>
                    <a:pt x="16" y="2101"/>
                  </a:cubicBezTo>
                  <a:cubicBezTo>
                    <a:pt x="15" y="2097"/>
                    <a:pt x="14" y="2093"/>
                    <a:pt x="14" y="2089"/>
                  </a:cubicBezTo>
                  <a:cubicBezTo>
                    <a:pt x="12" y="2068"/>
                    <a:pt x="21" y="2048"/>
                    <a:pt x="34" y="2030"/>
                  </a:cubicBezTo>
                  <a:cubicBezTo>
                    <a:pt x="46" y="2012"/>
                    <a:pt x="63" y="1997"/>
                    <a:pt x="80" y="1981"/>
                  </a:cubicBezTo>
                  <a:cubicBezTo>
                    <a:pt x="97" y="1965"/>
                    <a:pt x="114" y="1949"/>
                    <a:pt x="130" y="1931"/>
                  </a:cubicBezTo>
                  <a:cubicBezTo>
                    <a:pt x="138" y="1922"/>
                    <a:pt x="145" y="1912"/>
                    <a:pt x="151" y="1900"/>
                  </a:cubicBezTo>
                  <a:cubicBezTo>
                    <a:pt x="156" y="1891"/>
                    <a:pt x="160" y="1881"/>
                    <a:pt x="162" y="1870"/>
                  </a:cubicBezTo>
                  <a:cubicBezTo>
                    <a:pt x="161" y="1867"/>
                    <a:pt x="161" y="1865"/>
                    <a:pt x="161" y="1862"/>
                  </a:cubicBezTo>
                  <a:cubicBezTo>
                    <a:pt x="160" y="1857"/>
                    <a:pt x="161" y="1852"/>
                    <a:pt x="162" y="1846"/>
                  </a:cubicBezTo>
                  <a:cubicBezTo>
                    <a:pt x="162" y="1845"/>
                    <a:pt x="161" y="1844"/>
                    <a:pt x="161" y="1843"/>
                  </a:cubicBezTo>
                  <a:cubicBezTo>
                    <a:pt x="160" y="1836"/>
                    <a:pt x="157" y="1830"/>
                    <a:pt x="154" y="1824"/>
                  </a:cubicBezTo>
                  <a:cubicBezTo>
                    <a:pt x="149" y="1812"/>
                    <a:pt x="141" y="1802"/>
                    <a:pt x="133" y="1793"/>
                  </a:cubicBezTo>
                  <a:cubicBezTo>
                    <a:pt x="118" y="1774"/>
                    <a:pt x="100" y="1758"/>
                    <a:pt x="83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7" y="1671"/>
                  </a:cubicBezTo>
                  <a:cubicBezTo>
                    <a:pt x="15" y="1667"/>
                    <a:pt x="14" y="1662"/>
                    <a:pt x="14" y="1658"/>
                  </a:cubicBezTo>
                  <a:cubicBezTo>
                    <a:pt x="12" y="1637"/>
                    <a:pt x="21" y="1616"/>
                    <a:pt x="34" y="1599"/>
                  </a:cubicBezTo>
                  <a:cubicBezTo>
                    <a:pt x="46" y="1581"/>
                    <a:pt x="63" y="1565"/>
                    <a:pt x="80" y="1549"/>
                  </a:cubicBezTo>
                  <a:cubicBezTo>
                    <a:pt x="97" y="1534"/>
                    <a:pt x="114" y="1518"/>
                    <a:pt x="130" y="1499"/>
                  </a:cubicBezTo>
                  <a:cubicBezTo>
                    <a:pt x="138" y="1490"/>
                    <a:pt x="145" y="1480"/>
                    <a:pt x="151" y="1469"/>
                  </a:cubicBezTo>
                  <a:cubicBezTo>
                    <a:pt x="156" y="1459"/>
                    <a:pt x="160" y="1449"/>
                    <a:pt x="162" y="1438"/>
                  </a:cubicBezTo>
                  <a:cubicBezTo>
                    <a:pt x="161" y="1436"/>
                    <a:pt x="161" y="1433"/>
                    <a:pt x="161" y="1431"/>
                  </a:cubicBezTo>
                  <a:cubicBezTo>
                    <a:pt x="160" y="1425"/>
                    <a:pt x="161" y="1420"/>
                    <a:pt x="162" y="1415"/>
                  </a:cubicBezTo>
                  <a:cubicBezTo>
                    <a:pt x="162" y="1413"/>
                    <a:pt x="161" y="1412"/>
                    <a:pt x="161" y="1411"/>
                  </a:cubicBezTo>
                  <a:cubicBezTo>
                    <a:pt x="160" y="1404"/>
                    <a:pt x="157" y="1398"/>
                    <a:pt x="154" y="1392"/>
                  </a:cubicBezTo>
                  <a:cubicBezTo>
                    <a:pt x="149" y="1381"/>
                    <a:pt x="141" y="1371"/>
                    <a:pt x="133" y="1361"/>
                  </a:cubicBezTo>
                  <a:cubicBezTo>
                    <a:pt x="118" y="1343"/>
                    <a:pt x="100" y="1327"/>
                    <a:pt x="83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7" y="1255"/>
                    <a:pt x="20" y="1247"/>
                    <a:pt x="16" y="1238"/>
                  </a:cubicBezTo>
                  <a:cubicBezTo>
                    <a:pt x="15" y="1235"/>
                    <a:pt x="14" y="1232"/>
                    <a:pt x="14" y="1228"/>
                  </a:cubicBezTo>
                  <a:cubicBezTo>
                    <a:pt x="12" y="1207"/>
                    <a:pt x="21" y="1187"/>
                    <a:pt x="34" y="1169"/>
                  </a:cubicBezTo>
                  <a:cubicBezTo>
                    <a:pt x="46" y="1152"/>
                    <a:pt x="63" y="1136"/>
                    <a:pt x="80" y="1120"/>
                  </a:cubicBezTo>
                  <a:cubicBezTo>
                    <a:pt x="97" y="1104"/>
                    <a:pt x="114" y="1089"/>
                    <a:pt x="130" y="1070"/>
                  </a:cubicBezTo>
                  <a:cubicBezTo>
                    <a:pt x="138" y="1061"/>
                    <a:pt x="145" y="1051"/>
                    <a:pt x="151" y="1039"/>
                  </a:cubicBezTo>
                  <a:cubicBezTo>
                    <a:pt x="156" y="1030"/>
                    <a:pt x="160" y="1020"/>
                    <a:pt x="162" y="1009"/>
                  </a:cubicBezTo>
                  <a:cubicBezTo>
                    <a:pt x="161" y="1006"/>
                    <a:pt x="161" y="1004"/>
                    <a:pt x="161" y="1001"/>
                  </a:cubicBezTo>
                  <a:cubicBezTo>
                    <a:pt x="160" y="996"/>
                    <a:pt x="161" y="991"/>
                    <a:pt x="162" y="985"/>
                  </a:cubicBezTo>
                  <a:cubicBezTo>
                    <a:pt x="162" y="984"/>
                    <a:pt x="161" y="983"/>
                    <a:pt x="161" y="982"/>
                  </a:cubicBezTo>
                  <a:cubicBezTo>
                    <a:pt x="160" y="975"/>
                    <a:pt x="157" y="969"/>
                    <a:pt x="154" y="963"/>
                  </a:cubicBezTo>
                  <a:cubicBezTo>
                    <a:pt x="149" y="951"/>
                    <a:pt x="141" y="941"/>
                    <a:pt x="133" y="932"/>
                  </a:cubicBezTo>
                  <a:cubicBezTo>
                    <a:pt x="118" y="913"/>
                    <a:pt x="100" y="897"/>
                    <a:pt x="83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8" y="827"/>
                    <a:pt x="22" y="819"/>
                    <a:pt x="17" y="811"/>
                  </a:cubicBezTo>
                  <a:cubicBezTo>
                    <a:pt x="16" y="806"/>
                    <a:pt x="14" y="801"/>
                    <a:pt x="14" y="795"/>
                  </a:cubicBezTo>
                  <a:cubicBezTo>
                    <a:pt x="12" y="774"/>
                    <a:pt x="21" y="754"/>
                    <a:pt x="34" y="737"/>
                  </a:cubicBezTo>
                  <a:cubicBezTo>
                    <a:pt x="46" y="719"/>
                    <a:pt x="63" y="703"/>
                    <a:pt x="80" y="687"/>
                  </a:cubicBezTo>
                  <a:cubicBezTo>
                    <a:pt x="97" y="671"/>
                    <a:pt x="114" y="656"/>
                    <a:pt x="130" y="637"/>
                  </a:cubicBezTo>
                  <a:cubicBezTo>
                    <a:pt x="138" y="628"/>
                    <a:pt x="145" y="618"/>
                    <a:pt x="151" y="607"/>
                  </a:cubicBezTo>
                  <a:cubicBezTo>
                    <a:pt x="156" y="597"/>
                    <a:pt x="160" y="587"/>
                    <a:pt x="162" y="576"/>
                  </a:cubicBezTo>
                  <a:cubicBezTo>
                    <a:pt x="161" y="573"/>
                    <a:pt x="161" y="571"/>
                    <a:pt x="161" y="569"/>
                  </a:cubicBezTo>
                  <a:cubicBezTo>
                    <a:pt x="160" y="563"/>
                    <a:pt x="161" y="558"/>
                    <a:pt x="162" y="553"/>
                  </a:cubicBezTo>
                  <a:cubicBezTo>
                    <a:pt x="162" y="551"/>
                    <a:pt x="161" y="550"/>
                    <a:pt x="161" y="549"/>
                  </a:cubicBezTo>
                  <a:cubicBezTo>
                    <a:pt x="160" y="542"/>
                    <a:pt x="157" y="536"/>
                    <a:pt x="154" y="530"/>
                  </a:cubicBezTo>
                  <a:cubicBezTo>
                    <a:pt x="149" y="519"/>
                    <a:pt x="141" y="509"/>
                    <a:pt x="133" y="499"/>
                  </a:cubicBezTo>
                  <a:cubicBezTo>
                    <a:pt x="118" y="481"/>
                    <a:pt x="100" y="465"/>
                    <a:pt x="83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8" y="394"/>
                    <a:pt x="22" y="386"/>
                    <a:pt x="17" y="379"/>
                  </a:cubicBezTo>
                  <a:cubicBezTo>
                    <a:pt x="16" y="373"/>
                    <a:pt x="14" y="368"/>
                    <a:pt x="14" y="363"/>
                  </a:cubicBezTo>
                  <a:cubicBezTo>
                    <a:pt x="12" y="342"/>
                    <a:pt x="21" y="322"/>
                    <a:pt x="34" y="304"/>
                  </a:cubicBezTo>
                  <a:cubicBezTo>
                    <a:pt x="46" y="286"/>
                    <a:pt x="63" y="270"/>
                    <a:pt x="80" y="254"/>
                  </a:cubicBezTo>
                  <a:cubicBezTo>
                    <a:pt x="97" y="239"/>
                    <a:pt x="114" y="223"/>
                    <a:pt x="130" y="204"/>
                  </a:cubicBezTo>
                  <a:cubicBezTo>
                    <a:pt x="138" y="195"/>
                    <a:pt x="145" y="185"/>
                    <a:pt x="151" y="174"/>
                  </a:cubicBezTo>
                  <a:cubicBezTo>
                    <a:pt x="156" y="164"/>
                    <a:pt x="160" y="154"/>
                    <a:pt x="162" y="143"/>
                  </a:cubicBezTo>
                  <a:cubicBezTo>
                    <a:pt x="161" y="141"/>
                    <a:pt x="161" y="138"/>
                    <a:pt x="161" y="136"/>
                  </a:cubicBezTo>
                  <a:cubicBezTo>
                    <a:pt x="160" y="130"/>
                    <a:pt x="161" y="125"/>
                    <a:pt x="162" y="120"/>
                  </a:cubicBezTo>
                  <a:cubicBezTo>
                    <a:pt x="162" y="119"/>
                    <a:pt x="161" y="117"/>
                    <a:pt x="161" y="116"/>
                  </a:cubicBezTo>
                  <a:cubicBezTo>
                    <a:pt x="160" y="109"/>
                    <a:pt x="157" y="103"/>
                    <a:pt x="154" y="97"/>
                  </a:cubicBezTo>
                  <a:cubicBezTo>
                    <a:pt x="149" y="86"/>
                    <a:pt x="141" y="76"/>
                    <a:pt x="133" y="66"/>
                  </a:cubicBezTo>
                  <a:cubicBezTo>
                    <a:pt x="118" y="48"/>
                    <a:pt x="100" y="32"/>
                    <a:pt x="83" y="16"/>
                  </a:cubicBezTo>
                  <a:cubicBezTo>
                    <a:pt x="77" y="11"/>
                    <a:pt x="71" y="5"/>
                    <a:pt x="66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8" y="8"/>
                    <a:pt x="67" y="16"/>
                    <a:pt x="76" y="24"/>
                  </a:cubicBezTo>
                  <a:cubicBezTo>
                    <a:pt x="93" y="40"/>
                    <a:pt x="110" y="56"/>
                    <a:pt x="124" y="74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0" name="Freeform 20"/>
            <p:cNvSpPr/>
            <p:nvPr/>
          </p:nvSpPr>
          <p:spPr>
            <a:xfrm>
              <a:off x="8639280" y="-1440"/>
              <a:ext cx="1002960" cy="6862320"/>
            </a:xfrm>
            <a:custGeom>
              <a:avLst/>
              <a:gdLst>
                <a:gd name="textAreaLeft" fmla="*/ 0 w 1002960"/>
                <a:gd name="textAreaRight" fmla="*/ 1003320 w 100296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316" h="2159">
                  <a:moveTo>
                    <a:pt x="123" y="74"/>
                  </a:moveTo>
                  <a:cubicBezTo>
                    <a:pt x="130" y="83"/>
                    <a:pt x="137" y="92"/>
                    <a:pt x="142" y="103"/>
                  </a:cubicBezTo>
                  <a:cubicBezTo>
                    <a:pt x="146" y="111"/>
                    <a:pt x="149" y="121"/>
                    <a:pt x="149" y="131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46" y="149"/>
                    <a:pt x="139" y="167"/>
                    <a:pt x="129" y="183"/>
                  </a:cubicBezTo>
                  <a:cubicBezTo>
                    <a:pt x="127" y="187"/>
                    <a:pt x="124" y="192"/>
                    <a:pt x="121" y="196"/>
                  </a:cubicBezTo>
                  <a:cubicBezTo>
                    <a:pt x="120" y="196"/>
                    <a:pt x="120" y="197"/>
                    <a:pt x="120" y="197"/>
                  </a:cubicBezTo>
                  <a:cubicBezTo>
                    <a:pt x="105" y="215"/>
                    <a:pt x="87" y="230"/>
                    <a:pt x="71" y="246"/>
                  </a:cubicBezTo>
                  <a:cubicBezTo>
                    <a:pt x="54" y="262"/>
                    <a:pt x="37" y="279"/>
                    <a:pt x="23" y="298"/>
                  </a:cubicBezTo>
                  <a:cubicBezTo>
                    <a:pt x="22" y="300"/>
                    <a:pt x="20" y="302"/>
                    <a:pt x="19" y="305"/>
                  </a:cubicBezTo>
                  <a:cubicBezTo>
                    <a:pt x="17" y="307"/>
                    <a:pt x="15" y="310"/>
                    <a:pt x="13" y="313"/>
                  </a:cubicBezTo>
                  <a:cubicBezTo>
                    <a:pt x="7" y="322"/>
                    <a:pt x="2" y="333"/>
                    <a:pt x="0" y="345"/>
                  </a:cubicBezTo>
                  <a:cubicBezTo>
                    <a:pt x="0" y="345"/>
                    <a:pt x="0" y="346"/>
                    <a:pt x="0" y="347"/>
                  </a:cubicBezTo>
                  <a:cubicBezTo>
                    <a:pt x="1" y="352"/>
                    <a:pt x="1" y="357"/>
                    <a:pt x="0" y="364"/>
                  </a:cubicBezTo>
                  <a:cubicBezTo>
                    <a:pt x="0" y="365"/>
                    <a:pt x="0" y="366"/>
                    <a:pt x="0" y="367"/>
                  </a:cubicBezTo>
                  <a:cubicBezTo>
                    <a:pt x="1" y="372"/>
                    <a:pt x="2" y="376"/>
                    <a:pt x="4" y="379"/>
                  </a:cubicBezTo>
                  <a:cubicBezTo>
                    <a:pt x="6" y="383"/>
                    <a:pt x="8" y="387"/>
                    <a:pt x="10" y="390"/>
                  </a:cubicBezTo>
                  <a:cubicBezTo>
                    <a:pt x="11" y="392"/>
                    <a:pt x="12" y="394"/>
                    <a:pt x="13" y="396"/>
                  </a:cubicBezTo>
                  <a:cubicBezTo>
                    <a:pt x="14" y="396"/>
                    <a:pt x="14" y="396"/>
                    <a:pt x="14" y="396"/>
                  </a:cubicBezTo>
                  <a:cubicBezTo>
                    <a:pt x="17" y="400"/>
                    <a:pt x="21" y="404"/>
                    <a:pt x="24" y="408"/>
                  </a:cubicBezTo>
                  <a:cubicBezTo>
                    <a:pt x="40" y="426"/>
                    <a:pt x="57" y="441"/>
                    <a:pt x="74" y="457"/>
                  </a:cubicBezTo>
                  <a:cubicBezTo>
                    <a:pt x="91" y="473"/>
                    <a:pt x="108" y="489"/>
                    <a:pt x="123" y="507"/>
                  </a:cubicBezTo>
                  <a:cubicBezTo>
                    <a:pt x="130" y="516"/>
                    <a:pt x="137" y="525"/>
                    <a:pt x="142" y="535"/>
                  </a:cubicBezTo>
                  <a:cubicBezTo>
                    <a:pt x="146" y="544"/>
                    <a:pt x="149" y="554"/>
                    <a:pt x="149" y="564"/>
                  </a:cubicBezTo>
                  <a:cubicBezTo>
                    <a:pt x="149" y="564"/>
                    <a:pt x="149" y="564"/>
                    <a:pt x="149" y="564"/>
                  </a:cubicBezTo>
                  <a:cubicBezTo>
                    <a:pt x="146" y="582"/>
                    <a:pt x="139" y="600"/>
                    <a:pt x="129" y="616"/>
                  </a:cubicBezTo>
                  <a:cubicBezTo>
                    <a:pt x="127" y="620"/>
                    <a:pt x="124" y="624"/>
                    <a:pt x="121" y="629"/>
                  </a:cubicBezTo>
                  <a:cubicBezTo>
                    <a:pt x="120" y="629"/>
                    <a:pt x="120" y="629"/>
                    <a:pt x="120" y="630"/>
                  </a:cubicBezTo>
                  <a:cubicBezTo>
                    <a:pt x="105" y="648"/>
                    <a:pt x="87" y="663"/>
                    <a:pt x="71" y="679"/>
                  </a:cubicBezTo>
                  <a:cubicBezTo>
                    <a:pt x="54" y="695"/>
                    <a:pt x="37" y="711"/>
                    <a:pt x="23" y="730"/>
                  </a:cubicBezTo>
                  <a:cubicBezTo>
                    <a:pt x="22" y="733"/>
                    <a:pt x="20" y="735"/>
                    <a:pt x="19" y="737"/>
                  </a:cubicBezTo>
                  <a:cubicBezTo>
                    <a:pt x="17" y="740"/>
                    <a:pt x="15" y="743"/>
                    <a:pt x="13" y="745"/>
                  </a:cubicBezTo>
                  <a:cubicBezTo>
                    <a:pt x="7" y="755"/>
                    <a:pt x="2" y="766"/>
                    <a:pt x="0" y="778"/>
                  </a:cubicBezTo>
                  <a:cubicBezTo>
                    <a:pt x="0" y="778"/>
                    <a:pt x="0" y="779"/>
                    <a:pt x="0" y="779"/>
                  </a:cubicBezTo>
                  <a:cubicBezTo>
                    <a:pt x="1" y="785"/>
                    <a:pt x="1" y="790"/>
                    <a:pt x="0" y="796"/>
                  </a:cubicBezTo>
                  <a:cubicBezTo>
                    <a:pt x="0" y="798"/>
                    <a:pt x="0" y="799"/>
                    <a:pt x="0" y="800"/>
                  </a:cubicBezTo>
                  <a:cubicBezTo>
                    <a:pt x="1" y="804"/>
                    <a:pt x="2" y="808"/>
                    <a:pt x="4" y="812"/>
                  </a:cubicBezTo>
                  <a:cubicBezTo>
                    <a:pt x="6" y="816"/>
                    <a:pt x="8" y="819"/>
                    <a:pt x="10" y="823"/>
                  </a:cubicBezTo>
                  <a:cubicBezTo>
                    <a:pt x="11" y="825"/>
                    <a:pt x="12" y="827"/>
                    <a:pt x="13" y="828"/>
                  </a:cubicBezTo>
                  <a:cubicBezTo>
                    <a:pt x="14" y="828"/>
                    <a:pt x="14" y="828"/>
                    <a:pt x="14" y="828"/>
                  </a:cubicBezTo>
                  <a:cubicBezTo>
                    <a:pt x="17" y="833"/>
                    <a:pt x="21" y="837"/>
                    <a:pt x="24" y="841"/>
                  </a:cubicBezTo>
                  <a:cubicBezTo>
                    <a:pt x="40" y="858"/>
                    <a:pt x="57" y="874"/>
                    <a:pt x="74" y="890"/>
                  </a:cubicBezTo>
                  <a:cubicBezTo>
                    <a:pt x="91" y="906"/>
                    <a:pt x="108" y="922"/>
                    <a:pt x="123" y="939"/>
                  </a:cubicBezTo>
                  <a:cubicBezTo>
                    <a:pt x="130" y="948"/>
                    <a:pt x="137" y="958"/>
                    <a:pt x="142" y="968"/>
                  </a:cubicBezTo>
                  <a:cubicBezTo>
                    <a:pt x="146" y="976"/>
                    <a:pt x="148" y="984"/>
                    <a:pt x="149" y="993"/>
                  </a:cubicBezTo>
                  <a:cubicBezTo>
                    <a:pt x="149" y="993"/>
                    <a:pt x="149" y="993"/>
                    <a:pt x="149" y="993"/>
                  </a:cubicBezTo>
                  <a:cubicBezTo>
                    <a:pt x="146" y="1012"/>
                    <a:pt x="139" y="1029"/>
                    <a:pt x="129" y="1045"/>
                  </a:cubicBezTo>
                  <a:cubicBezTo>
                    <a:pt x="117" y="1065"/>
                    <a:pt x="101" y="1082"/>
                    <a:pt x="84" y="1098"/>
                  </a:cubicBezTo>
                  <a:cubicBezTo>
                    <a:pt x="68" y="1114"/>
                    <a:pt x="51" y="1130"/>
                    <a:pt x="35" y="1147"/>
                  </a:cubicBezTo>
                  <a:cubicBezTo>
                    <a:pt x="27" y="1156"/>
                    <a:pt x="20" y="1165"/>
                    <a:pt x="13" y="1175"/>
                  </a:cubicBezTo>
                  <a:cubicBezTo>
                    <a:pt x="7" y="1185"/>
                    <a:pt x="2" y="1195"/>
                    <a:pt x="0" y="1207"/>
                  </a:cubicBezTo>
                  <a:cubicBezTo>
                    <a:pt x="0" y="1208"/>
                    <a:pt x="0" y="1208"/>
                    <a:pt x="0" y="1209"/>
                  </a:cubicBezTo>
                  <a:cubicBezTo>
                    <a:pt x="1" y="1214"/>
                    <a:pt x="1" y="1220"/>
                    <a:pt x="0" y="1226"/>
                  </a:cubicBezTo>
                  <a:cubicBezTo>
                    <a:pt x="0" y="1227"/>
                    <a:pt x="0" y="1228"/>
                    <a:pt x="0" y="1230"/>
                  </a:cubicBezTo>
                  <a:cubicBezTo>
                    <a:pt x="1" y="1234"/>
                    <a:pt x="2" y="1238"/>
                    <a:pt x="4" y="1242"/>
                  </a:cubicBezTo>
                  <a:cubicBezTo>
                    <a:pt x="5" y="1243"/>
                    <a:pt x="6" y="1244"/>
                    <a:pt x="6" y="1245"/>
                  </a:cubicBezTo>
                  <a:cubicBezTo>
                    <a:pt x="8" y="1251"/>
                    <a:pt x="10" y="1256"/>
                    <a:pt x="13" y="1261"/>
                  </a:cubicBezTo>
                  <a:cubicBezTo>
                    <a:pt x="17" y="1261"/>
                    <a:pt x="17" y="1261"/>
                    <a:pt x="17" y="1261"/>
                  </a:cubicBezTo>
                  <a:cubicBezTo>
                    <a:pt x="19" y="1264"/>
                    <a:pt x="22" y="1267"/>
                    <a:pt x="24" y="1270"/>
                  </a:cubicBezTo>
                  <a:cubicBezTo>
                    <a:pt x="40" y="1288"/>
                    <a:pt x="57" y="1303"/>
                    <a:pt x="74" y="1319"/>
                  </a:cubicBezTo>
                  <a:cubicBezTo>
                    <a:pt x="91" y="1335"/>
                    <a:pt x="108" y="1351"/>
                    <a:pt x="123" y="1369"/>
                  </a:cubicBezTo>
                  <a:cubicBezTo>
                    <a:pt x="130" y="1378"/>
                    <a:pt x="137" y="1387"/>
                    <a:pt x="142" y="1398"/>
                  </a:cubicBezTo>
                  <a:cubicBezTo>
                    <a:pt x="146" y="1406"/>
                    <a:pt x="149" y="1415"/>
                    <a:pt x="149" y="1425"/>
                  </a:cubicBezTo>
                  <a:cubicBezTo>
                    <a:pt x="149" y="1425"/>
                    <a:pt x="149" y="1425"/>
                    <a:pt x="149" y="1425"/>
                  </a:cubicBezTo>
                  <a:cubicBezTo>
                    <a:pt x="146" y="1443"/>
                    <a:pt x="139" y="1461"/>
                    <a:pt x="129" y="1477"/>
                  </a:cubicBezTo>
                  <a:cubicBezTo>
                    <a:pt x="124" y="1485"/>
                    <a:pt x="118" y="1493"/>
                    <a:pt x="111" y="1501"/>
                  </a:cubicBezTo>
                  <a:cubicBezTo>
                    <a:pt x="99" y="1515"/>
                    <a:pt x="84" y="1528"/>
                    <a:pt x="71" y="1541"/>
                  </a:cubicBezTo>
                  <a:cubicBezTo>
                    <a:pt x="55" y="1556"/>
                    <a:pt x="39" y="1572"/>
                    <a:pt x="26" y="1590"/>
                  </a:cubicBezTo>
                  <a:cubicBezTo>
                    <a:pt x="21" y="1595"/>
                    <a:pt x="17" y="1600"/>
                    <a:pt x="13" y="1606"/>
                  </a:cubicBezTo>
                  <a:cubicBezTo>
                    <a:pt x="7" y="1616"/>
                    <a:pt x="2" y="1627"/>
                    <a:pt x="0" y="1639"/>
                  </a:cubicBezTo>
                  <a:cubicBezTo>
                    <a:pt x="0" y="1639"/>
                    <a:pt x="0" y="1640"/>
                    <a:pt x="0" y="1640"/>
                  </a:cubicBezTo>
                  <a:cubicBezTo>
                    <a:pt x="1" y="1646"/>
                    <a:pt x="1" y="1651"/>
                    <a:pt x="0" y="1657"/>
                  </a:cubicBezTo>
                  <a:cubicBezTo>
                    <a:pt x="0" y="1659"/>
                    <a:pt x="0" y="1660"/>
                    <a:pt x="0" y="1661"/>
                  </a:cubicBezTo>
                  <a:cubicBezTo>
                    <a:pt x="1" y="1665"/>
                    <a:pt x="2" y="1669"/>
                    <a:pt x="4" y="1673"/>
                  </a:cubicBezTo>
                  <a:cubicBezTo>
                    <a:pt x="6" y="1676"/>
                    <a:pt x="7" y="1679"/>
                    <a:pt x="9" y="1681"/>
                  </a:cubicBezTo>
                  <a:cubicBezTo>
                    <a:pt x="10" y="1685"/>
                    <a:pt x="12" y="1688"/>
                    <a:pt x="13" y="1691"/>
                  </a:cubicBezTo>
                  <a:cubicBezTo>
                    <a:pt x="15" y="1691"/>
                    <a:pt x="15" y="1691"/>
                    <a:pt x="15" y="1691"/>
                  </a:cubicBezTo>
                  <a:cubicBezTo>
                    <a:pt x="18" y="1694"/>
                    <a:pt x="21" y="1698"/>
                    <a:pt x="24" y="1702"/>
                  </a:cubicBezTo>
                  <a:cubicBezTo>
                    <a:pt x="40" y="1719"/>
                    <a:pt x="57" y="1735"/>
                    <a:pt x="74" y="1751"/>
                  </a:cubicBezTo>
                  <a:cubicBezTo>
                    <a:pt x="91" y="1767"/>
                    <a:pt x="108" y="1783"/>
                    <a:pt x="123" y="1800"/>
                  </a:cubicBezTo>
                  <a:cubicBezTo>
                    <a:pt x="130" y="1809"/>
                    <a:pt x="137" y="1819"/>
                    <a:pt x="142" y="1829"/>
                  </a:cubicBezTo>
                  <a:cubicBezTo>
                    <a:pt x="146" y="1837"/>
                    <a:pt x="149" y="1846"/>
                    <a:pt x="149" y="1855"/>
                  </a:cubicBezTo>
                  <a:cubicBezTo>
                    <a:pt x="149" y="1855"/>
                    <a:pt x="149" y="1855"/>
                    <a:pt x="149" y="1855"/>
                  </a:cubicBezTo>
                  <a:cubicBezTo>
                    <a:pt x="146" y="1874"/>
                    <a:pt x="139" y="1891"/>
                    <a:pt x="129" y="1907"/>
                  </a:cubicBezTo>
                  <a:cubicBezTo>
                    <a:pt x="119" y="1923"/>
                    <a:pt x="107" y="1938"/>
                    <a:pt x="93" y="1951"/>
                  </a:cubicBezTo>
                  <a:cubicBezTo>
                    <a:pt x="86" y="1959"/>
                    <a:pt x="78" y="1966"/>
                    <a:pt x="71" y="1973"/>
                  </a:cubicBezTo>
                  <a:cubicBezTo>
                    <a:pt x="59" y="1984"/>
                    <a:pt x="48" y="1995"/>
                    <a:pt x="37" y="2007"/>
                  </a:cubicBezTo>
                  <a:cubicBezTo>
                    <a:pt x="36" y="2008"/>
                    <a:pt x="36" y="2008"/>
                    <a:pt x="35" y="2009"/>
                  </a:cubicBezTo>
                  <a:cubicBezTo>
                    <a:pt x="27" y="2018"/>
                    <a:pt x="20" y="2027"/>
                    <a:pt x="13" y="2037"/>
                  </a:cubicBezTo>
                  <a:cubicBezTo>
                    <a:pt x="7" y="2047"/>
                    <a:pt x="2" y="2057"/>
                    <a:pt x="0" y="2069"/>
                  </a:cubicBezTo>
                  <a:cubicBezTo>
                    <a:pt x="0" y="2070"/>
                    <a:pt x="0" y="2070"/>
                    <a:pt x="0" y="2071"/>
                  </a:cubicBezTo>
                  <a:cubicBezTo>
                    <a:pt x="1" y="2076"/>
                    <a:pt x="1" y="2082"/>
                    <a:pt x="0" y="2088"/>
                  </a:cubicBezTo>
                  <a:cubicBezTo>
                    <a:pt x="0" y="2089"/>
                    <a:pt x="0" y="2090"/>
                    <a:pt x="0" y="2092"/>
                  </a:cubicBezTo>
                  <a:cubicBezTo>
                    <a:pt x="1" y="2096"/>
                    <a:pt x="2" y="2100"/>
                    <a:pt x="4" y="2104"/>
                  </a:cubicBezTo>
                  <a:cubicBezTo>
                    <a:pt x="5" y="2106"/>
                    <a:pt x="6" y="2107"/>
                    <a:pt x="7" y="2109"/>
                  </a:cubicBezTo>
                  <a:cubicBezTo>
                    <a:pt x="9" y="2114"/>
                    <a:pt x="11" y="2118"/>
                    <a:pt x="13" y="2122"/>
                  </a:cubicBezTo>
                  <a:cubicBezTo>
                    <a:pt x="16" y="2122"/>
                    <a:pt x="16" y="2122"/>
                    <a:pt x="16" y="2122"/>
                  </a:cubicBezTo>
                  <a:cubicBezTo>
                    <a:pt x="19" y="2126"/>
                    <a:pt x="22" y="2129"/>
                    <a:pt x="24" y="2132"/>
                  </a:cubicBezTo>
                  <a:cubicBezTo>
                    <a:pt x="33" y="2142"/>
                    <a:pt x="41" y="2150"/>
                    <a:pt x="50" y="2159"/>
                  </a:cubicBezTo>
                  <a:cubicBezTo>
                    <a:pt x="66" y="2159"/>
                    <a:pt x="66" y="2159"/>
                    <a:pt x="66" y="2159"/>
                  </a:cubicBezTo>
                  <a:cubicBezTo>
                    <a:pt x="54" y="2148"/>
                    <a:pt x="43" y="2137"/>
                    <a:pt x="32" y="2125"/>
                  </a:cubicBezTo>
                  <a:cubicBezTo>
                    <a:pt x="25" y="2117"/>
                    <a:pt x="19" y="2109"/>
                    <a:pt x="14" y="2101"/>
                  </a:cubicBezTo>
                  <a:cubicBezTo>
                    <a:pt x="13" y="2097"/>
                    <a:pt x="13" y="2093"/>
                    <a:pt x="13" y="2089"/>
                  </a:cubicBezTo>
                  <a:cubicBezTo>
                    <a:pt x="11" y="2068"/>
                    <a:pt x="19" y="2048"/>
                    <a:pt x="32" y="2030"/>
                  </a:cubicBezTo>
                  <a:cubicBezTo>
                    <a:pt x="45" y="2012"/>
                    <a:pt x="61" y="1997"/>
                    <a:pt x="78" y="1981"/>
                  </a:cubicBezTo>
                  <a:cubicBezTo>
                    <a:pt x="95" y="1965"/>
                    <a:pt x="113" y="1949"/>
                    <a:pt x="129" y="1931"/>
                  </a:cubicBezTo>
                  <a:cubicBezTo>
                    <a:pt x="136" y="1922"/>
                    <a:pt x="144" y="1912"/>
                    <a:pt x="150" y="1900"/>
                  </a:cubicBezTo>
                  <a:cubicBezTo>
                    <a:pt x="153" y="1894"/>
                    <a:pt x="156" y="1886"/>
                    <a:pt x="158" y="1879"/>
                  </a:cubicBezTo>
                  <a:cubicBezTo>
                    <a:pt x="158" y="1880"/>
                    <a:pt x="158" y="1880"/>
                    <a:pt x="158" y="1880"/>
                  </a:cubicBezTo>
                  <a:cubicBezTo>
                    <a:pt x="160" y="1886"/>
                    <a:pt x="162" y="1891"/>
                    <a:pt x="165" y="1896"/>
                  </a:cubicBezTo>
                  <a:cubicBezTo>
                    <a:pt x="170" y="1907"/>
                    <a:pt x="177" y="1916"/>
                    <a:pt x="185" y="1925"/>
                  </a:cubicBezTo>
                  <a:cubicBezTo>
                    <a:pt x="200" y="1943"/>
                    <a:pt x="217" y="1958"/>
                    <a:pt x="234" y="1974"/>
                  </a:cubicBezTo>
                  <a:cubicBezTo>
                    <a:pt x="234" y="1975"/>
                    <a:pt x="235" y="1975"/>
                    <a:pt x="235" y="1975"/>
                  </a:cubicBezTo>
                  <a:cubicBezTo>
                    <a:pt x="242" y="1982"/>
                    <a:pt x="248" y="1988"/>
                    <a:pt x="255" y="1995"/>
                  </a:cubicBezTo>
                  <a:cubicBezTo>
                    <a:pt x="264" y="2004"/>
                    <a:pt x="273" y="2014"/>
                    <a:pt x="281" y="2025"/>
                  </a:cubicBezTo>
                  <a:cubicBezTo>
                    <a:pt x="288" y="2035"/>
                    <a:pt x="293" y="2045"/>
                    <a:pt x="297" y="2056"/>
                  </a:cubicBezTo>
                  <a:cubicBezTo>
                    <a:pt x="301" y="2067"/>
                    <a:pt x="302" y="2078"/>
                    <a:pt x="301" y="2090"/>
                  </a:cubicBezTo>
                  <a:cubicBezTo>
                    <a:pt x="300" y="2096"/>
                    <a:pt x="299" y="2102"/>
                    <a:pt x="297" y="2108"/>
                  </a:cubicBezTo>
                  <a:cubicBezTo>
                    <a:pt x="292" y="2116"/>
                    <a:pt x="286" y="2124"/>
                    <a:pt x="280" y="2131"/>
                  </a:cubicBezTo>
                  <a:cubicBezTo>
                    <a:pt x="271" y="2141"/>
                    <a:pt x="262" y="2150"/>
                    <a:pt x="253" y="2159"/>
                  </a:cubicBezTo>
                  <a:cubicBezTo>
                    <a:pt x="268" y="2159"/>
                    <a:pt x="268" y="2159"/>
                    <a:pt x="268" y="2159"/>
                  </a:cubicBezTo>
                  <a:cubicBezTo>
                    <a:pt x="275" y="2152"/>
                    <a:pt x="282" y="2145"/>
                    <a:pt x="288" y="2138"/>
                  </a:cubicBezTo>
                  <a:cubicBezTo>
                    <a:pt x="292" y="2133"/>
                    <a:pt x="296" y="2128"/>
                    <a:pt x="300" y="2122"/>
                  </a:cubicBezTo>
                  <a:cubicBezTo>
                    <a:pt x="301" y="2122"/>
                    <a:pt x="301" y="2122"/>
                    <a:pt x="301" y="2122"/>
                  </a:cubicBezTo>
                  <a:cubicBezTo>
                    <a:pt x="301" y="2122"/>
                    <a:pt x="301" y="2121"/>
                    <a:pt x="301" y="2120"/>
                  </a:cubicBezTo>
                  <a:cubicBezTo>
                    <a:pt x="304" y="2116"/>
                    <a:pt x="307" y="2112"/>
                    <a:pt x="309" y="2107"/>
                  </a:cubicBezTo>
                  <a:cubicBezTo>
                    <a:pt x="312" y="2101"/>
                    <a:pt x="314" y="2095"/>
                    <a:pt x="315" y="2088"/>
                  </a:cubicBezTo>
                  <a:cubicBezTo>
                    <a:pt x="316" y="2080"/>
                    <a:pt x="315" y="2074"/>
                    <a:pt x="314" y="2068"/>
                  </a:cubicBezTo>
                  <a:cubicBezTo>
                    <a:pt x="311" y="2055"/>
                    <a:pt x="305" y="2043"/>
                    <a:pt x="299" y="2033"/>
                  </a:cubicBezTo>
                  <a:cubicBezTo>
                    <a:pt x="298" y="2032"/>
                    <a:pt x="297" y="2030"/>
                    <a:pt x="296" y="2029"/>
                  </a:cubicBezTo>
                  <a:cubicBezTo>
                    <a:pt x="294" y="2026"/>
                    <a:pt x="292" y="2022"/>
                    <a:pt x="290" y="2019"/>
                  </a:cubicBezTo>
                  <a:cubicBezTo>
                    <a:pt x="275" y="1999"/>
                    <a:pt x="258" y="1982"/>
                    <a:pt x="241" y="1966"/>
                  </a:cubicBezTo>
                  <a:cubicBezTo>
                    <a:pt x="225" y="1950"/>
                    <a:pt x="208" y="1935"/>
                    <a:pt x="193" y="1917"/>
                  </a:cubicBezTo>
                  <a:cubicBezTo>
                    <a:pt x="179" y="1901"/>
                    <a:pt x="168" y="1881"/>
                    <a:pt x="167" y="1861"/>
                  </a:cubicBezTo>
                  <a:cubicBezTo>
                    <a:pt x="166" y="1852"/>
                    <a:pt x="168" y="1843"/>
                    <a:pt x="173" y="1833"/>
                  </a:cubicBezTo>
                  <a:cubicBezTo>
                    <a:pt x="177" y="1824"/>
                    <a:pt x="183" y="1815"/>
                    <a:pt x="190" y="1806"/>
                  </a:cubicBezTo>
                  <a:cubicBezTo>
                    <a:pt x="204" y="1789"/>
                    <a:pt x="221" y="1773"/>
                    <a:pt x="238" y="1757"/>
                  </a:cubicBezTo>
                  <a:cubicBezTo>
                    <a:pt x="255" y="1741"/>
                    <a:pt x="272" y="1726"/>
                    <a:pt x="288" y="1708"/>
                  </a:cubicBezTo>
                  <a:cubicBezTo>
                    <a:pt x="296" y="1698"/>
                    <a:pt x="304" y="1689"/>
                    <a:pt x="309" y="1677"/>
                  </a:cubicBezTo>
                  <a:cubicBezTo>
                    <a:pt x="312" y="1671"/>
                    <a:pt x="314" y="1664"/>
                    <a:pt x="315" y="1657"/>
                  </a:cubicBezTo>
                  <a:cubicBezTo>
                    <a:pt x="316" y="1650"/>
                    <a:pt x="315" y="1644"/>
                    <a:pt x="314" y="1637"/>
                  </a:cubicBezTo>
                  <a:cubicBezTo>
                    <a:pt x="311" y="1625"/>
                    <a:pt x="306" y="1614"/>
                    <a:pt x="300" y="1605"/>
                  </a:cubicBezTo>
                  <a:cubicBezTo>
                    <a:pt x="297" y="1599"/>
                    <a:pt x="293" y="1593"/>
                    <a:pt x="290" y="1588"/>
                  </a:cubicBezTo>
                  <a:cubicBezTo>
                    <a:pt x="275" y="1567"/>
                    <a:pt x="258" y="1551"/>
                    <a:pt x="241" y="1535"/>
                  </a:cubicBezTo>
                  <a:cubicBezTo>
                    <a:pt x="225" y="1519"/>
                    <a:pt x="208" y="1503"/>
                    <a:pt x="193" y="1486"/>
                  </a:cubicBezTo>
                  <a:cubicBezTo>
                    <a:pt x="179" y="1469"/>
                    <a:pt x="168" y="1450"/>
                    <a:pt x="167" y="1430"/>
                  </a:cubicBezTo>
                  <a:cubicBezTo>
                    <a:pt x="166" y="1421"/>
                    <a:pt x="168" y="1411"/>
                    <a:pt x="173" y="1402"/>
                  </a:cubicBezTo>
                  <a:cubicBezTo>
                    <a:pt x="177" y="1392"/>
                    <a:pt x="183" y="1383"/>
                    <a:pt x="190" y="1375"/>
                  </a:cubicBezTo>
                  <a:cubicBezTo>
                    <a:pt x="204" y="1357"/>
                    <a:pt x="221" y="1342"/>
                    <a:pt x="238" y="1326"/>
                  </a:cubicBezTo>
                  <a:cubicBezTo>
                    <a:pt x="255" y="1310"/>
                    <a:pt x="272" y="1294"/>
                    <a:pt x="288" y="1276"/>
                  </a:cubicBezTo>
                  <a:cubicBezTo>
                    <a:pt x="292" y="1271"/>
                    <a:pt x="296" y="1266"/>
                    <a:pt x="300" y="1261"/>
                  </a:cubicBezTo>
                  <a:cubicBezTo>
                    <a:pt x="301" y="1261"/>
                    <a:pt x="301" y="1261"/>
                    <a:pt x="301" y="1261"/>
                  </a:cubicBezTo>
                  <a:cubicBezTo>
                    <a:pt x="302" y="1259"/>
                    <a:pt x="302" y="1258"/>
                    <a:pt x="303" y="1256"/>
                  </a:cubicBezTo>
                  <a:cubicBezTo>
                    <a:pt x="305" y="1252"/>
                    <a:pt x="307" y="1249"/>
                    <a:pt x="309" y="1245"/>
                  </a:cubicBezTo>
                  <a:cubicBezTo>
                    <a:pt x="312" y="1239"/>
                    <a:pt x="314" y="1233"/>
                    <a:pt x="315" y="1226"/>
                  </a:cubicBezTo>
                  <a:cubicBezTo>
                    <a:pt x="316" y="1218"/>
                    <a:pt x="315" y="1212"/>
                    <a:pt x="314" y="1206"/>
                  </a:cubicBezTo>
                  <a:cubicBezTo>
                    <a:pt x="311" y="1193"/>
                    <a:pt x="305" y="1181"/>
                    <a:pt x="299" y="1171"/>
                  </a:cubicBezTo>
                  <a:cubicBezTo>
                    <a:pt x="296" y="1168"/>
                    <a:pt x="294" y="1164"/>
                    <a:pt x="291" y="1161"/>
                  </a:cubicBezTo>
                  <a:cubicBezTo>
                    <a:pt x="291" y="1160"/>
                    <a:pt x="290" y="1159"/>
                    <a:pt x="290" y="1158"/>
                  </a:cubicBezTo>
                  <a:cubicBezTo>
                    <a:pt x="275" y="1138"/>
                    <a:pt x="258" y="1122"/>
                    <a:pt x="241" y="1105"/>
                  </a:cubicBezTo>
                  <a:cubicBezTo>
                    <a:pt x="225" y="1089"/>
                    <a:pt x="208" y="1074"/>
                    <a:pt x="193" y="1057"/>
                  </a:cubicBezTo>
                  <a:cubicBezTo>
                    <a:pt x="179" y="1040"/>
                    <a:pt x="168" y="1020"/>
                    <a:pt x="167" y="1000"/>
                  </a:cubicBezTo>
                  <a:cubicBezTo>
                    <a:pt x="166" y="991"/>
                    <a:pt x="168" y="982"/>
                    <a:pt x="173" y="972"/>
                  </a:cubicBezTo>
                  <a:cubicBezTo>
                    <a:pt x="177" y="963"/>
                    <a:pt x="183" y="954"/>
                    <a:pt x="190" y="945"/>
                  </a:cubicBezTo>
                  <a:cubicBezTo>
                    <a:pt x="204" y="928"/>
                    <a:pt x="221" y="912"/>
                    <a:pt x="238" y="896"/>
                  </a:cubicBezTo>
                  <a:cubicBezTo>
                    <a:pt x="255" y="880"/>
                    <a:pt x="272" y="865"/>
                    <a:pt x="288" y="847"/>
                  </a:cubicBezTo>
                  <a:cubicBezTo>
                    <a:pt x="296" y="837"/>
                    <a:pt x="304" y="828"/>
                    <a:pt x="309" y="816"/>
                  </a:cubicBezTo>
                  <a:cubicBezTo>
                    <a:pt x="312" y="810"/>
                    <a:pt x="314" y="803"/>
                    <a:pt x="315" y="796"/>
                  </a:cubicBezTo>
                  <a:cubicBezTo>
                    <a:pt x="316" y="789"/>
                    <a:pt x="315" y="783"/>
                    <a:pt x="314" y="776"/>
                  </a:cubicBezTo>
                  <a:cubicBezTo>
                    <a:pt x="311" y="766"/>
                    <a:pt x="307" y="756"/>
                    <a:pt x="302" y="748"/>
                  </a:cubicBezTo>
                  <a:cubicBezTo>
                    <a:pt x="299" y="740"/>
                    <a:pt x="294" y="732"/>
                    <a:pt x="290" y="726"/>
                  </a:cubicBezTo>
                  <a:cubicBezTo>
                    <a:pt x="275" y="705"/>
                    <a:pt x="258" y="689"/>
                    <a:pt x="241" y="673"/>
                  </a:cubicBezTo>
                  <a:cubicBezTo>
                    <a:pt x="225" y="656"/>
                    <a:pt x="208" y="641"/>
                    <a:pt x="193" y="624"/>
                  </a:cubicBezTo>
                  <a:cubicBezTo>
                    <a:pt x="179" y="607"/>
                    <a:pt x="168" y="588"/>
                    <a:pt x="167" y="568"/>
                  </a:cubicBezTo>
                  <a:cubicBezTo>
                    <a:pt x="166" y="558"/>
                    <a:pt x="168" y="549"/>
                    <a:pt x="173" y="540"/>
                  </a:cubicBezTo>
                  <a:cubicBezTo>
                    <a:pt x="177" y="530"/>
                    <a:pt x="183" y="521"/>
                    <a:pt x="190" y="513"/>
                  </a:cubicBezTo>
                  <a:cubicBezTo>
                    <a:pt x="204" y="495"/>
                    <a:pt x="221" y="480"/>
                    <a:pt x="238" y="464"/>
                  </a:cubicBezTo>
                  <a:cubicBezTo>
                    <a:pt x="255" y="448"/>
                    <a:pt x="272" y="432"/>
                    <a:pt x="288" y="414"/>
                  </a:cubicBezTo>
                  <a:cubicBezTo>
                    <a:pt x="296" y="405"/>
                    <a:pt x="304" y="395"/>
                    <a:pt x="309" y="383"/>
                  </a:cubicBezTo>
                  <a:cubicBezTo>
                    <a:pt x="312" y="377"/>
                    <a:pt x="314" y="371"/>
                    <a:pt x="315" y="364"/>
                  </a:cubicBezTo>
                  <a:cubicBezTo>
                    <a:pt x="316" y="356"/>
                    <a:pt x="315" y="350"/>
                    <a:pt x="314" y="344"/>
                  </a:cubicBezTo>
                  <a:cubicBezTo>
                    <a:pt x="311" y="333"/>
                    <a:pt x="307" y="324"/>
                    <a:pt x="302" y="315"/>
                  </a:cubicBezTo>
                  <a:cubicBezTo>
                    <a:pt x="299" y="307"/>
                    <a:pt x="294" y="300"/>
                    <a:pt x="290" y="293"/>
                  </a:cubicBezTo>
                  <a:cubicBezTo>
                    <a:pt x="275" y="273"/>
                    <a:pt x="258" y="256"/>
                    <a:pt x="241" y="240"/>
                  </a:cubicBezTo>
                  <a:cubicBezTo>
                    <a:pt x="225" y="224"/>
                    <a:pt x="208" y="208"/>
                    <a:pt x="193" y="191"/>
                  </a:cubicBezTo>
                  <a:cubicBezTo>
                    <a:pt x="179" y="174"/>
                    <a:pt x="168" y="155"/>
                    <a:pt x="167" y="135"/>
                  </a:cubicBezTo>
                  <a:cubicBezTo>
                    <a:pt x="166" y="126"/>
                    <a:pt x="168" y="116"/>
                    <a:pt x="173" y="107"/>
                  </a:cubicBezTo>
                  <a:cubicBezTo>
                    <a:pt x="177" y="97"/>
                    <a:pt x="183" y="88"/>
                    <a:pt x="190" y="80"/>
                  </a:cubicBezTo>
                  <a:cubicBezTo>
                    <a:pt x="204" y="63"/>
                    <a:pt x="221" y="47"/>
                    <a:pt x="238" y="31"/>
                  </a:cubicBezTo>
                  <a:cubicBezTo>
                    <a:pt x="249" y="21"/>
                    <a:pt x="260" y="10"/>
                    <a:pt x="270" y="0"/>
                  </a:cubicBezTo>
                  <a:cubicBezTo>
                    <a:pt x="255" y="0"/>
                    <a:pt x="255" y="0"/>
                    <a:pt x="255" y="0"/>
                  </a:cubicBezTo>
                  <a:cubicBezTo>
                    <a:pt x="247" y="7"/>
                    <a:pt x="239" y="15"/>
                    <a:pt x="230" y="23"/>
                  </a:cubicBezTo>
                  <a:cubicBezTo>
                    <a:pt x="213" y="39"/>
                    <a:pt x="196" y="54"/>
                    <a:pt x="181" y="72"/>
                  </a:cubicBezTo>
                  <a:cubicBezTo>
                    <a:pt x="174" y="81"/>
                    <a:pt x="167" y="91"/>
                    <a:pt x="162" y="102"/>
                  </a:cubicBezTo>
                  <a:cubicBezTo>
                    <a:pt x="160" y="104"/>
                    <a:pt x="159" y="107"/>
                    <a:pt x="158" y="110"/>
                  </a:cubicBezTo>
                  <a:cubicBezTo>
                    <a:pt x="158" y="111"/>
                    <a:pt x="158" y="111"/>
                    <a:pt x="158" y="111"/>
                  </a:cubicBezTo>
                  <a:cubicBezTo>
                    <a:pt x="157" y="107"/>
                    <a:pt x="155" y="102"/>
                    <a:pt x="153" y="97"/>
                  </a:cubicBezTo>
                  <a:cubicBezTo>
                    <a:pt x="147" y="86"/>
                    <a:pt x="140" y="76"/>
                    <a:pt x="132" y="66"/>
                  </a:cubicBezTo>
                  <a:cubicBezTo>
                    <a:pt x="116" y="48"/>
                    <a:pt x="99" y="32"/>
                    <a:pt x="82" y="16"/>
                  </a:cubicBezTo>
                  <a:cubicBezTo>
                    <a:pt x="76" y="11"/>
                    <a:pt x="70" y="5"/>
                    <a:pt x="64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57" y="8"/>
                    <a:pt x="65" y="16"/>
                    <a:pt x="74" y="24"/>
                  </a:cubicBezTo>
                  <a:cubicBezTo>
                    <a:pt x="91" y="40"/>
                    <a:pt x="108" y="56"/>
                    <a:pt x="123" y="74"/>
                  </a:cubicBezTo>
                  <a:close/>
                  <a:moveTo>
                    <a:pt x="185" y="1493"/>
                  </a:moveTo>
                  <a:cubicBezTo>
                    <a:pt x="192" y="1502"/>
                    <a:pt x="199" y="1510"/>
                    <a:pt x="207" y="1517"/>
                  </a:cubicBezTo>
                  <a:cubicBezTo>
                    <a:pt x="212" y="1522"/>
                    <a:pt x="216" y="1526"/>
                    <a:pt x="220" y="1531"/>
                  </a:cubicBezTo>
                  <a:cubicBezTo>
                    <a:pt x="237" y="1547"/>
                    <a:pt x="254" y="1563"/>
                    <a:pt x="270" y="1580"/>
                  </a:cubicBezTo>
                  <a:cubicBezTo>
                    <a:pt x="272" y="1582"/>
                    <a:pt x="273" y="1584"/>
                    <a:pt x="275" y="1586"/>
                  </a:cubicBezTo>
                  <a:cubicBezTo>
                    <a:pt x="277" y="1589"/>
                    <a:pt x="279" y="1591"/>
                    <a:pt x="281" y="1594"/>
                  </a:cubicBezTo>
                  <a:cubicBezTo>
                    <a:pt x="288" y="1603"/>
                    <a:pt x="293" y="1613"/>
                    <a:pt x="297" y="1624"/>
                  </a:cubicBezTo>
                  <a:cubicBezTo>
                    <a:pt x="301" y="1635"/>
                    <a:pt x="302" y="1647"/>
                    <a:pt x="301" y="1658"/>
                  </a:cubicBezTo>
                  <a:cubicBezTo>
                    <a:pt x="300" y="1666"/>
                    <a:pt x="299" y="1673"/>
                    <a:pt x="296" y="1680"/>
                  </a:cubicBezTo>
                  <a:cubicBezTo>
                    <a:pt x="291" y="1687"/>
                    <a:pt x="286" y="1694"/>
                    <a:pt x="280" y="1701"/>
                  </a:cubicBezTo>
                  <a:cubicBezTo>
                    <a:pt x="265" y="1718"/>
                    <a:pt x="247" y="1733"/>
                    <a:pt x="230" y="1749"/>
                  </a:cubicBezTo>
                  <a:cubicBezTo>
                    <a:pt x="213" y="1765"/>
                    <a:pt x="196" y="1781"/>
                    <a:pt x="181" y="1799"/>
                  </a:cubicBezTo>
                  <a:cubicBezTo>
                    <a:pt x="174" y="1808"/>
                    <a:pt x="167" y="1818"/>
                    <a:pt x="162" y="1828"/>
                  </a:cubicBezTo>
                  <a:cubicBezTo>
                    <a:pt x="160" y="1831"/>
                    <a:pt x="159" y="1834"/>
                    <a:pt x="158" y="1837"/>
                  </a:cubicBezTo>
                  <a:cubicBezTo>
                    <a:pt x="158" y="1838"/>
                    <a:pt x="158" y="1838"/>
                    <a:pt x="158" y="1838"/>
                  </a:cubicBezTo>
                  <a:cubicBezTo>
                    <a:pt x="157" y="1833"/>
                    <a:pt x="155" y="1828"/>
                    <a:pt x="153" y="1824"/>
                  </a:cubicBezTo>
                  <a:cubicBezTo>
                    <a:pt x="147" y="1812"/>
                    <a:pt x="140" y="1802"/>
                    <a:pt x="132" y="1793"/>
                  </a:cubicBezTo>
                  <a:cubicBezTo>
                    <a:pt x="116" y="1774"/>
                    <a:pt x="99" y="1758"/>
                    <a:pt x="82" y="1743"/>
                  </a:cubicBezTo>
                  <a:cubicBezTo>
                    <a:pt x="65" y="1727"/>
                    <a:pt x="47" y="1712"/>
                    <a:pt x="32" y="1695"/>
                  </a:cubicBezTo>
                  <a:cubicBezTo>
                    <a:pt x="26" y="1687"/>
                    <a:pt x="19" y="1679"/>
                    <a:pt x="15" y="1671"/>
                  </a:cubicBezTo>
                  <a:cubicBezTo>
                    <a:pt x="14" y="1667"/>
                    <a:pt x="13" y="1662"/>
                    <a:pt x="13" y="1658"/>
                  </a:cubicBezTo>
                  <a:cubicBezTo>
                    <a:pt x="11" y="1637"/>
                    <a:pt x="19" y="1616"/>
                    <a:pt x="32" y="1599"/>
                  </a:cubicBezTo>
                  <a:cubicBezTo>
                    <a:pt x="45" y="1581"/>
                    <a:pt x="61" y="1565"/>
                    <a:pt x="78" y="1549"/>
                  </a:cubicBezTo>
                  <a:cubicBezTo>
                    <a:pt x="95" y="1534"/>
                    <a:pt x="113" y="1518"/>
                    <a:pt x="129" y="1499"/>
                  </a:cubicBezTo>
                  <a:cubicBezTo>
                    <a:pt x="136" y="1490"/>
                    <a:pt x="144" y="1480"/>
                    <a:pt x="150" y="1469"/>
                  </a:cubicBezTo>
                  <a:cubicBezTo>
                    <a:pt x="153" y="1462"/>
                    <a:pt x="156" y="1455"/>
                    <a:pt x="158" y="1447"/>
                  </a:cubicBezTo>
                  <a:cubicBezTo>
                    <a:pt x="158" y="1449"/>
                    <a:pt x="158" y="1449"/>
                    <a:pt x="158" y="1449"/>
                  </a:cubicBezTo>
                  <a:cubicBezTo>
                    <a:pt x="160" y="1454"/>
                    <a:pt x="162" y="1459"/>
                    <a:pt x="165" y="1464"/>
                  </a:cubicBezTo>
                  <a:cubicBezTo>
                    <a:pt x="170" y="1475"/>
                    <a:pt x="177" y="1484"/>
                    <a:pt x="185" y="1493"/>
                  </a:cubicBezTo>
                  <a:close/>
                  <a:moveTo>
                    <a:pt x="185" y="1064"/>
                  </a:moveTo>
                  <a:cubicBezTo>
                    <a:pt x="200" y="1082"/>
                    <a:pt x="217" y="1098"/>
                    <a:pt x="234" y="1113"/>
                  </a:cubicBezTo>
                  <a:cubicBezTo>
                    <a:pt x="251" y="1129"/>
                    <a:pt x="268" y="1146"/>
                    <a:pt x="281" y="1164"/>
                  </a:cubicBezTo>
                  <a:cubicBezTo>
                    <a:pt x="288" y="1174"/>
                    <a:pt x="293" y="1184"/>
                    <a:pt x="297" y="1195"/>
                  </a:cubicBezTo>
                  <a:cubicBezTo>
                    <a:pt x="301" y="1206"/>
                    <a:pt x="302" y="1218"/>
                    <a:pt x="301" y="1229"/>
                  </a:cubicBezTo>
                  <a:cubicBezTo>
                    <a:pt x="301" y="1234"/>
                    <a:pt x="300" y="1239"/>
                    <a:pt x="298" y="1244"/>
                  </a:cubicBezTo>
                  <a:cubicBezTo>
                    <a:pt x="293" y="1253"/>
                    <a:pt x="287" y="1261"/>
                    <a:pt x="280" y="1269"/>
                  </a:cubicBezTo>
                  <a:cubicBezTo>
                    <a:pt x="265" y="1286"/>
                    <a:pt x="247" y="1302"/>
                    <a:pt x="230" y="1318"/>
                  </a:cubicBezTo>
                  <a:cubicBezTo>
                    <a:pt x="213" y="1333"/>
                    <a:pt x="196" y="1349"/>
                    <a:pt x="181" y="1367"/>
                  </a:cubicBezTo>
                  <a:cubicBezTo>
                    <a:pt x="174" y="1376"/>
                    <a:pt x="167" y="1386"/>
                    <a:pt x="162" y="1396"/>
                  </a:cubicBezTo>
                  <a:cubicBezTo>
                    <a:pt x="160" y="1399"/>
                    <a:pt x="159" y="1402"/>
                    <a:pt x="158" y="1405"/>
                  </a:cubicBezTo>
                  <a:cubicBezTo>
                    <a:pt x="158" y="1406"/>
                    <a:pt x="158" y="1406"/>
                    <a:pt x="158" y="1406"/>
                  </a:cubicBezTo>
                  <a:cubicBezTo>
                    <a:pt x="157" y="1401"/>
                    <a:pt x="155" y="1397"/>
                    <a:pt x="153" y="1392"/>
                  </a:cubicBezTo>
                  <a:cubicBezTo>
                    <a:pt x="147" y="1381"/>
                    <a:pt x="140" y="1371"/>
                    <a:pt x="132" y="1361"/>
                  </a:cubicBezTo>
                  <a:cubicBezTo>
                    <a:pt x="116" y="1343"/>
                    <a:pt x="99" y="1327"/>
                    <a:pt x="82" y="1311"/>
                  </a:cubicBezTo>
                  <a:cubicBezTo>
                    <a:pt x="65" y="1295"/>
                    <a:pt x="47" y="1280"/>
                    <a:pt x="32" y="1263"/>
                  </a:cubicBezTo>
                  <a:cubicBezTo>
                    <a:pt x="25" y="1255"/>
                    <a:pt x="19" y="1247"/>
                    <a:pt x="14" y="1238"/>
                  </a:cubicBezTo>
                  <a:cubicBezTo>
                    <a:pt x="13" y="1235"/>
                    <a:pt x="13" y="1232"/>
                    <a:pt x="13" y="1228"/>
                  </a:cubicBezTo>
                  <a:cubicBezTo>
                    <a:pt x="11" y="1207"/>
                    <a:pt x="19" y="1187"/>
                    <a:pt x="32" y="1169"/>
                  </a:cubicBezTo>
                  <a:cubicBezTo>
                    <a:pt x="45" y="1152"/>
                    <a:pt x="61" y="1136"/>
                    <a:pt x="78" y="1120"/>
                  </a:cubicBezTo>
                  <a:cubicBezTo>
                    <a:pt x="95" y="1104"/>
                    <a:pt x="113" y="1089"/>
                    <a:pt x="129" y="1070"/>
                  </a:cubicBezTo>
                  <a:cubicBezTo>
                    <a:pt x="136" y="1061"/>
                    <a:pt x="144" y="1051"/>
                    <a:pt x="150" y="1039"/>
                  </a:cubicBezTo>
                  <a:cubicBezTo>
                    <a:pt x="153" y="1033"/>
                    <a:pt x="156" y="1025"/>
                    <a:pt x="158" y="1018"/>
                  </a:cubicBezTo>
                  <a:cubicBezTo>
                    <a:pt x="158" y="1019"/>
                    <a:pt x="158" y="1019"/>
                    <a:pt x="158" y="1019"/>
                  </a:cubicBezTo>
                  <a:cubicBezTo>
                    <a:pt x="160" y="1025"/>
                    <a:pt x="162" y="1030"/>
                    <a:pt x="165" y="1035"/>
                  </a:cubicBezTo>
                  <a:cubicBezTo>
                    <a:pt x="170" y="1046"/>
                    <a:pt x="177" y="1055"/>
                    <a:pt x="185" y="1064"/>
                  </a:cubicBezTo>
                  <a:close/>
                  <a:moveTo>
                    <a:pt x="185" y="631"/>
                  </a:moveTo>
                  <a:cubicBezTo>
                    <a:pt x="188" y="635"/>
                    <a:pt x="191" y="638"/>
                    <a:pt x="194" y="642"/>
                  </a:cubicBezTo>
                  <a:cubicBezTo>
                    <a:pt x="202" y="652"/>
                    <a:pt x="211" y="661"/>
                    <a:pt x="220" y="670"/>
                  </a:cubicBezTo>
                  <a:cubicBezTo>
                    <a:pt x="237" y="686"/>
                    <a:pt x="254" y="702"/>
                    <a:pt x="270" y="719"/>
                  </a:cubicBezTo>
                  <a:cubicBezTo>
                    <a:pt x="275" y="724"/>
                    <a:pt x="279" y="730"/>
                    <a:pt x="283" y="735"/>
                  </a:cubicBezTo>
                  <a:cubicBezTo>
                    <a:pt x="289" y="744"/>
                    <a:pt x="294" y="753"/>
                    <a:pt x="297" y="762"/>
                  </a:cubicBezTo>
                  <a:cubicBezTo>
                    <a:pt x="301" y="773"/>
                    <a:pt x="302" y="785"/>
                    <a:pt x="301" y="796"/>
                  </a:cubicBezTo>
                  <a:cubicBezTo>
                    <a:pt x="300" y="805"/>
                    <a:pt x="298" y="813"/>
                    <a:pt x="294" y="821"/>
                  </a:cubicBezTo>
                  <a:cubicBezTo>
                    <a:pt x="290" y="827"/>
                    <a:pt x="285" y="834"/>
                    <a:pt x="280" y="840"/>
                  </a:cubicBezTo>
                  <a:cubicBezTo>
                    <a:pt x="265" y="857"/>
                    <a:pt x="247" y="872"/>
                    <a:pt x="230" y="888"/>
                  </a:cubicBezTo>
                  <a:cubicBezTo>
                    <a:pt x="213" y="904"/>
                    <a:pt x="196" y="920"/>
                    <a:pt x="181" y="938"/>
                  </a:cubicBezTo>
                  <a:cubicBezTo>
                    <a:pt x="174" y="947"/>
                    <a:pt x="167" y="957"/>
                    <a:pt x="162" y="967"/>
                  </a:cubicBezTo>
                  <a:cubicBezTo>
                    <a:pt x="160" y="970"/>
                    <a:pt x="159" y="973"/>
                    <a:pt x="158" y="976"/>
                  </a:cubicBezTo>
                  <a:cubicBezTo>
                    <a:pt x="158" y="977"/>
                    <a:pt x="158" y="977"/>
                    <a:pt x="158" y="977"/>
                  </a:cubicBezTo>
                  <a:cubicBezTo>
                    <a:pt x="157" y="972"/>
                    <a:pt x="155" y="967"/>
                    <a:pt x="153" y="963"/>
                  </a:cubicBezTo>
                  <a:cubicBezTo>
                    <a:pt x="147" y="951"/>
                    <a:pt x="140" y="941"/>
                    <a:pt x="132" y="932"/>
                  </a:cubicBezTo>
                  <a:cubicBezTo>
                    <a:pt x="116" y="913"/>
                    <a:pt x="99" y="897"/>
                    <a:pt x="82" y="882"/>
                  </a:cubicBezTo>
                  <a:cubicBezTo>
                    <a:pt x="65" y="866"/>
                    <a:pt x="47" y="851"/>
                    <a:pt x="32" y="834"/>
                  </a:cubicBezTo>
                  <a:cubicBezTo>
                    <a:pt x="26" y="827"/>
                    <a:pt x="20" y="819"/>
                    <a:pt x="16" y="811"/>
                  </a:cubicBezTo>
                  <a:cubicBezTo>
                    <a:pt x="14" y="806"/>
                    <a:pt x="13" y="801"/>
                    <a:pt x="13" y="795"/>
                  </a:cubicBezTo>
                  <a:cubicBezTo>
                    <a:pt x="11" y="774"/>
                    <a:pt x="19" y="754"/>
                    <a:pt x="32" y="737"/>
                  </a:cubicBezTo>
                  <a:cubicBezTo>
                    <a:pt x="45" y="719"/>
                    <a:pt x="61" y="703"/>
                    <a:pt x="78" y="687"/>
                  </a:cubicBezTo>
                  <a:cubicBezTo>
                    <a:pt x="95" y="671"/>
                    <a:pt x="113" y="656"/>
                    <a:pt x="129" y="637"/>
                  </a:cubicBezTo>
                  <a:cubicBezTo>
                    <a:pt x="136" y="628"/>
                    <a:pt x="144" y="618"/>
                    <a:pt x="150" y="607"/>
                  </a:cubicBezTo>
                  <a:cubicBezTo>
                    <a:pt x="153" y="600"/>
                    <a:pt x="156" y="593"/>
                    <a:pt x="158" y="585"/>
                  </a:cubicBezTo>
                  <a:cubicBezTo>
                    <a:pt x="158" y="587"/>
                    <a:pt x="158" y="587"/>
                    <a:pt x="158" y="587"/>
                  </a:cubicBezTo>
                  <a:cubicBezTo>
                    <a:pt x="160" y="592"/>
                    <a:pt x="162" y="597"/>
                    <a:pt x="165" y="602"/>
                  </a:cubicBezTo>
                  <a:cubicBezTo>
                    <a:pt x="170" y="613"/>
                    <a:pt x="177" y="622"/>
                    <a:pt x="185" y="631"/>
                  </a:cubicBezTo>
                  <a:close/>
                  <a:moveTo>
                    <a:pt x="158" y="152"/>
                  </a:moveTo>
                  <a:cubicBezTo>
                    <a:pt x="158" y="154"/>
                    <a:pt x="158" y="154"/>
                    <a:pt x="158" y="154"/>
                  </a:cubicBezTo>
                  <a:cubicBezTo>
                    <a:pt x="160" y="159"/>
                    <a:pt x="162" y="164"/>
                    <a:pt x="165" y="170"/>
                  </a:cubicBezTo>
                  <a:cubicBezTo>
                    <a:pt x="170" y="180"/>
                    <a:pt x="177" y="190"/>
                    <a:pt x="185" y="198"/>
                  </a:cubicBezTo>
                  <a:cubicBezTo>
                    <a:pt x="188" y="202"/>
                    <a:pt x="191" y="206"/>
                    <a:pt x="194" y="209"/>
                  </a:cubicBezTo>
                  <a:cubicBezTo>
                    <a:pt x="202" y="219"/>
                    <a:pt x="211" y="228"/>
                    <a:pt x="220" y="237"/>
                  </a:cubicBezTo>
                  <a:cubicBezTo>
                    <a:pt x="237" y="254"/>
                    <a:pt x="254" y="269"/>
                    <a:pt x="270" y="286"/>
                  </a:cubicBezTo>
                  <a:cubicBezTo>
                    <a:pt x="275" y="291"/>
                    <a:pt x="279" y="297"/>
                    <a:pt x="283" y="302"/>
                  </a:cubicBezTo>
                  <a:cubicBezTo>
                    <a:pt x="289" y="311"/>
                    <a:pt x="294" y="320"/>
                    <a:pt x="297" y="329"/>
                  </a:cubicBezTo>
                  <a:cubicBezTo>
                    <a:pt x="301" y="340"/>
                    <a:pt x="302" y="352"/>
                    <a:pt x="301" y="363"/>
                  </a:cubicBezTo>
                  <a:cubicBezTo>
                    <a:pt x="300" y="372"/>
                    <a:pt x="298" y="380"/>
                    <a:pt x="294" y="388"/>
                  </a:cubicBezTo>
                  <a:cubicBezTo>
                    <a:pt x="290" y="395"/>
                    <a:pt x="285" y="401"/>
                    <a:pt x="280" y="407"/>
                  </a:cubicBezTo>
                  <a:cubicBezTo>
                    <a:pt x="265" y="424"/>
                    <a:pt x="247" y="440"/>
                    <a:pt x="230" y="455"/>
                  </a:cubicBezTo>
                  <a:cubicBezTo>
                    <a:pt x="213" y="471"/>
                    <a:pt x="196" y="487"/>
                    <a:pt x="181" y="505"/>
                  </a:cubicBezTo>
                  <a:cubicBezTo>
                    <a:pt x="174" y="514"/>
                    <a:pt x="167" y="524"/>
                    <a:pt x="162" y="534"/>
                  </a:cubicBezTo>
                  <a:cubicBezTo>
                    <a:pt x="160" y="537"/>
                    <a:pt x="159" y="540"/>
                    <a:pt x="158" y="543"/>
                  </a:cubicBezTo>
                  <a:cubicBezTo>
                    <a:pt x="158" y="544"/>
                    <a:pt x="158" y="544"/>
                    <a:pt x="158" y="544"/>
                  </a:cubicBezTo>
                  <a:cubicBezTo>
                    <a:pt x="157" y="539"/>
                    <a:pt x="155" y="535"/>
                    <a:pt x="153" y="530"/>
                  </a:cubicBezTo>
                  <a:cubicBezTo>
                    <a:pt x="147" y="519"/>
                    <a:pt x="140" y="509"/>
                    <a:pt x="132" y="499"/>
                  </a:cubicBezTo>
                  <a:cubicBezTo>
                    <a:pt x="116" y="481"/>
                    <a:pt x="99" y="465"/>
                    <a:pt x="82" y="449"/>
                  </a:cubicBezTo>
                  <a:cubicBezTo>
                    <a:pt x="65" y="433"/>
                    <a:pt x="47" y="418"/>
                    <a:pt x="32" y="401"/>
                  </a:cubicBezTo>
                  <a:cubicBezTo>
                    <a:pt x="26" y="394"/>
                    <a:pt x="20" y="386"/>
                    <a:pt x="16" y="379"/>
                  </a:cubicBezTo>
                  <a:cubicBezTo>
                    <a:pt x="14" y="373"/>
                    <a:pt x="13" y="368"/>
                    <a:pt x="13" y="363"/>
                  </a:cubicBezTo>
                  <a:cubicBezTo>
                    <a:pt x="11" y="342"/>
                    <a:pt x="19" y="322"/>
                    <a:pt x="32" y="304"/>
                  </a:cubicBezTo>
                  <a:cubicBezTo>
                    <a:pt x="45" y="286"/>
                    <a:pt x="61" y="270"/>
                    <a:pt x="78" y="254"/>
                  </a:cubicBezTo>
                  <a:cubicBezTo>
                    <a:pt x="95" y="239"/>
                    <a:pt x="113" y="223"/>
                    <a:pt x="129" y="204"/>
                  </a:cubicBezTo>
                  <a:cubicBezTo>
                    <a:pt x="136" y="195"/>
                    <a:pt x="144" y="185"/>
                    <a:pt x="150" y="174"/>
                  </a:cubicBezTo>
                  <a:cubicBezTo>
                    <a:pt x="153" y="167"/>
                    <a:pt x="156" y="160"/>
                    <a:pt x="158" y="152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1" name="Freeform 21"/>
            <p:cNvSpPr/>
            <p:nvPr/>
          </p:nvSpPr>
          <p:spPr>
            <a:xfrm>
              <a:off x="10159920" y="-1440"/>
              <a:ext cx="507600" cy="686232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0" h="2159">
                  <a:moveTo>
                    <a:pt x="26" y="72"/>
                  </a:moveTo>
                  <a:cubicBezTo>
                    <a:pt x="18" y="81"/>
                    <a:pt x="11" y="91"/>
                    <a:pt x="6" y="102"/>
                  </a:cubicBezTo>
                  <a:cubicBezTo>
                    <a:pt x="3" y="107"/>
                    <a:pt x="1" y="113"/>
                    <a:pt x="0" y="120"/>
                  </a:cubicBezTo>
                  <a:cubicBezTo>
                    <a:pt x="0" y="123"/>
                    <a:pt x="1" y="127"/>
                    <a:pt x="1" y="131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32"/>
                    <a:pt x="1" y="133"/>
                    <a:pt x="1" y="135"/>
                  </a:cubicBezTo>
                  <a:cubicBezTo>
                    <a:pt x="1" y="135"/>
                    <a:pt x="1" y="136"/>
                    <a:pt x="1" y="137"/>
                  </a:cubicBezTo>
                  <a:cubicBezTo>
                    <a:pt x="0" y="139"/>
                    <a:pt x="0" y="141"/>
                    <a:pt x="0" y="143"/>
                  </a:cubicBezTo>
                  <a:cubicBezTo>
                    <a:pt x="1" y="152"/>
                    <a:pt x="5" y="161"/>
                    <a:pt x="9" y="170"/>
                  </a:cubicBezTo>
                  <a:cubicBezTo>
                    <a:pt x="14" y="180"/>
                    <a:pt x="21" y="190"/>
                    <a:pt x="29" y="198"/>
                  </a:cubicBezTo>
                  <a:cubicBezTo>
                    <a:pt x="32" y="202"/>
                    <a:pt x="35" y="206"/>
                    <a:pt x="38" y="209"/>
                  </a:cubicBezTo>
                  <a:cubicBezTo>
                    <a:pt x="47" y="219"/>
                    <a:pt x="55" y="228"/>
                    <a:pt x="65" y="237"/>
                  </a:cubicBezTo>
                  <a:cubicBezTo>
                    <a:pt x="81" y="254"/>
                    <a:pt x="98" y="269"/>
                    <a:pt x="114" y="286"/>
                  </a:cubicBezTo>
                  <a:cubicBezTo>
                    <a:pt x="119" y="291"/>
                    <a:pt x="123" y="297"/>
                    <a:pt x="128" y="302"/>
                  </a:cubicBezTo>
                  <a:cubicBezTo>
                    <a:pt x="133" y="311"/>
                    <a:pt x="138" y="320"/>
                    <a:pt x="141" y="329"/>
                  </a:cubicBezTo>
                  <a:cubicBezTo>
                    <a:pt x="145" y="340"/>
                    <a:pt x="146" y="352"/>
                    <a:pt x="145" y="363"/>
                  </a:cubicBezTo>
                  <a:cubicBezTo>
                    <a:pt x="144" y="372"/>
                    <a:pt x="142" y="380"/>
                    <a:pt x="139" y="388"/>
                  </a:cubicBezTo>
                  <a:cubicBezTo>
                    <a:pt x="134" y="395"/>
                    <a:pt x="129" y="401"/>
                    <a:pt x="124" y="407"/>
                  </a:cubicBezTo>
                  <a:cubicBezTo>
                    <a:pt x="109" y="424"/>
                    <a:pt x="92" y="440"/>
                    <a:pt x="75" y="455"/>
                  </a:cubicBezTo>
                  <a:cubicBezTo>
                    <a:pt x="58" y="471"/>
                    <a:pt x="40" y="487"/>
                    <a:pt x="26" y="505"/>
                  </a:cubicBezTo>
                  <a:cubicBezTo>
                    <a:pt x="18" y="514"/>
                    <a:pt x="11" y="524"/>
                    <a:pt x="6" y="534"/>
                  </a:cubicBezTo>
                  <a:cubicBezTo>
                    <a:pt x="3" y="540"/>
                    <a:pt x="1" y="546"/>
                    <a:pt x="0" y="553"/>
                  </a:cubicBezTo>
                  <a:cubicBezTo>
                    <a:pt x="0" y="556"/>
                    <a:pt x="1" y="560"/>
                    <a:pt x="1" y="564"/>
                  </a:cubicBezTo>
                  <a:cubicBezTo>
                    <a:pt x="0" y="564"/>
                    <a:pt x="0" y="564"/>
                    <a:pt x="0" y="564"/>
                  </a:cubicBezTo>
                  <a:cubicBezTo>
                    <a:pt x="0" y="565"/>
                    <a:pt x="1" y="566"/>
                    <a:pt x="1" y="567"/>
                  </a:cubicBezTo>
                  <a:cubicBezTo>
                    <a:pt x="1" y="568"/>
                    <a:pt x="1" y="569"/>
                    <a:pt x="1" y="570"/>
                  </a:cubicBezTo>
                  <a:cubicBezTo>
                    <a:pt x="0" y="572"/>
                    <a:pt x="0" y="574"/>
                    <a:pt x="0" y="576"/>
                  </a:cubicBezTo>
                  <a:cubicBezTo>
                    <a:pt x="1" y="585"/>
                    <a:pt x="5" y="594"/>
                    <a:pt x="9" y="602"/>
                  </a:cubicBezTo>
                  <a:cubicBezTo>
                    <a:pt x="14" y="613"/>
                    <a:pt x="21" y="622"/>
                    <a:pt x="29" y="631"/>
                  </a:cubicBezTo>
                  <a:cubicBezTo>
                    <a:pt x="32" y="635"/>
                    <a:pt x="35" y="638"/>
                    <a:pt x="38" y="642"/>
                  </a:cubicBezTo>
                  <a:cubicBezTo>
                    <a:pt x="47" y="652"/>
                    <a:pt x="55" y="661"/>
                    <a:pt x="65" y="670"/>
                  </a:cubicBezTo>
                  <a:cubicBezTo>
                    <a:pt x="81" y="686"/>
                    <a:pt x="98" y="702"/>
                    <a:pt x="114" y="719"/>
                  </a:cubicBezTo>
                  <a:cubicBezTo>
                    <a:pt x="119" y="724"/>
                    <a:pt x="123" y="730"/>
                    <a:pt x="128" y="735"/>
                  </a:cubicBezTo>
                  <a:cubicBezTo>
                    <a:pt x="133" y="744"/>
                    <a:pt x="138" y="753"/>
                    <a:pt x="141" y="762"/>
                  </a:cubicBezTo>
                  <a:cubicBezTo>
                    <a:pt x="145" y="773"/>
                    <a:pt x="146" y="785"/>
                    <a:pt x="145" y="796"/>
                  </a:cubicBezTo>
                  <a:cubicBezTo>
                    <a:pt x="144" y="805"/>
                    <a:pt x="142" y="813"/>
                    <a:pt x="139" y="821"/>
                  </a:cubicBezTo>
                  <a:cubicBezTo>
                    <a:pt x="134" y="827"/>
                    <a:pt x="129" y="834"/>
                    <a:pt x="124" y="840"/>
                  </a:cubicBezTo>
                  <a:cubicBezTo>
                    <a:pt x="109" y="857"/>
                    <a:pt x="92" y="872"/>
                    <a:pt x="75" y="888"/>
                  </a:cubicBezTo>
                  <a:cubicBezTo>
                    <a:pt x="58" y="904"/>
                    <a:pt x="40" y="920"/>
                    <a:pt x="26" y="938"/>
                  </a:cubicBezTo>
                  <a:cubicBezTo>
                    <a:pt x="18" y="947"/>
                    <a:pt x="11" y="957"/>
                    <a:pt x="6" y="967"/>
                  </a:cubicBezTo>
                  <a:cubicBezTo>
                    <a:pt x="3" y="973"/>
                    <a:pt x="1" y="979"/>
                    <a:pt x="0" y="985"/>
                  </a:cubicBezTo>
                  <a:cubicBezTo>
                    <a:pt x="0" y="988"/>
                    <a:pt x="1" y="990"/>
                    <a:pt x="1" y="993"/>
                  </a:cubicBezTo>
                  <a:cubicBezTo>
                    <a:pt x="0" y="993"/>
                    <a:pt x="0" y="993"/>
                    <a:pt x="0" y="993"/>
                  </a:cubicBezTo>
                  <a:cubicBezTo>
                    <a:pt x="0" y="994"/>
                    <a:pt x="1" y="996"/>
                    <a:pt x="1" y="998"/>
                  </a:cubicBezTo>
                  <a:cubicBezTo>
                    <a:pt x="1" y="999"/>
                    <a:pt x="1" y="1001"/>
                    <a:pt x="1" y="1002"/>
                  </a:cubicBezTo>
                  <a:cubicBezTo>
                    <a:pt x="0" y="1004"/>
                    <a:pt x="0" y="1007"/>
                    <a:pt x="0" y="1009"/>
                  </a:cubicBezTo>
                  <a:cubicBezTo>
                    <a:pt x="1" y="1018"/>
                    <a:pt x="5" y="1027"/>
                    <a:pt x="9" y="1035"/>
                  </a:cubicBezTo>
                  <a:cubicBezTo>
                    <a:pt x="14" y="1046"/>
                    <a:pt x="21" y="1055"/>
                    <a:pt x="29" y="1064"/>
                  </a:cubicBezTo>
                  <a:cubicBezTo>
                    <a:pt x="44" y="1082"/>
                    <a:pt x="61" y="1098"/>
                    <a:pt x="78" y="1113"/>
                  </a:cubicBezTo>
                  <a:cubicBezTo>
                    <a:pt x="95" y="1129"/>
                    <a:pt x="112" y="1146"/>
                    <a:pt x="125" y="1164"/>
                  </a:cubicBezTo>
                  <a:cubicBezTo>
                    <a:pt x="132" y="1174"/>
                    <a:pt x="138" y="1184"/>
                    <a:pt x="141" y="1195"/>
                  </a:cubicBezTo>
                  <a:cubicBezTo>
                    <a:pt x="145" y="1206"/>
                    <a:pt x="146" y="1218"/>
                    <a:pt x="145" y="1229"/>
                  </a:cubicBezTo>
                  <a:cubicBezTo>
                    <a:pt x="145" y="1234"/>
                    <a:pt x="144" y="1239"/>
                    <a:pt x="142" y="1244"/>
                  </a:cubicBezTo>
                  <a:cubicBezTo>
                    <a:pt x="137" y="1253"/>
                    <a:pt x="131" y="1261"/>
                    <a:pt x="124" y="1269"/>
                  </a:cubicBezTo>
                  <a:cubicBezTo>
                    <a:pt x="109" y="1286"/>
                    <a:pt x="92" y="1302"/>
                    <a:pt x="75" y="1318"/>
                  </a:cubicBezTo>
                  <a:cubicBezTo>
                    <a:pt x="58" y="1333"/>
                    <a:pt x="40" y="1349"/>
                    <a:pt x="26" y="1367"/>
                  </a:cubicBezTo>
                  <a:cubicBezTo>
                    <a:pt x="18" y="1376"/>
                    <a:pt x="11" y="1386"/>
                    <a:pt x="6" y="1396"/>
                  </a:cubicBezTo>
                  <a:cubicBezTo>
                    <a:pt x="3" y="1402"/>
                    <a:pt x="1" y="1408"/>
                    <a:pt x="0" y="1415"/>
                  </a:cubicBezTo>
                  <a:cubicBezTo>
                    <a:pt x="0" y="1418"/>
                    <a:pt x="1" y="1421"/>
                    <a:pt x="1" y="1425"/>
                  </a:cubicBezTo>
                  <a:cubicBezTo>
                    <a:pt x="0" y="1425"/>
                    <a:pt x="0" y="1425"/>
                    <a:pt x="0" y="1425"/>
                  </a:cubicBezTo>
                  <a:cubicBezTo>
                    <a:pt x="0" y="1426"/>
                    <a:pt x="1" y="1427"/>
                    <a:pt x="1" y="1429"/>
                  </a:cubicBezTo>
                  <a:cubicBezTo>
                    <a:pt x="1" y="1430"/>
                    <a:pt x="1" y="1431"/>
                    <a:pt x="1" y="1432"/>
                  </a:cubicBezTo>
                  <a:cubicBezTo>
                    <a:pt x="0" y="1434"/>
                    <a:pt x="0" y="1436"/>
                    <a:pt x="0" y="1438"/>
                  </a:cubicBezTo>
                  <a:cubicBezTo>
                    <a:pt x="1" y="1447"/>
                    <a:pt x="5" y="1456"/>
                    <a:pt x="9" y="1464"/>
                  </a:cubicBezTo>
                  <a:cubicBezTo>
                    <a:pt x="14" y="1475"/>
                    <a:pt x="21" y="1484"/>
                    <a:pt x="29" y="1493"/>
                  </a:cubicBezTo>
                  <a:cubicBezTo>
                    <a:pt x="36" y="1502"/>
                    <a:pt x="44" y="1510"/>
                    <a:pt x="51" y="1517"/>
                  </a:cubicBezTo>
                  <a:cubicBezTo>
                    <a:pt x="56" y="1522"/>
                    <a:pt x="60" y="1526"/>
                    <a:pt x="65" y="1531"/>
                  </a:cubicBezTo>
                  <a:cubicBezTo>
                    <a:pt x="81" y="1547"/>
                    <a:pt x="98" y="1563"/>
                    <a:pt x="114" y="1580"/>
                  </a:cubicBezTo>
                  <a:cubicBezTo>
                    <a:pt x="116" y="1582"/>
                    <a:pt x="118" y="1584"/>
                    <a:pt x="119" y="1586"/>
                  </a:cubicBezTo>
                  <a:cubicBezTo>
                    <a:pt x="121" y="1589"/>
                    <a:pt x="123" y="1591"/>
                    <a:pt x="125" y="1594"/>
                  </a:cubicBezTo>
                  <a:cubicBezTo>
                    <a:pt x="132" y="1603"/>
                    <a:pt x="138" y="1613"/>
                    <a:pt x="141" y="1624"/>
                  </a:cubicBezTo>
                  <a:cubicBezTo>
                    <a:pt x="145" y="1635"/>
                    <a:pt x="146" y="1647"/>
                    <a:pt x="145" y="1658"/>
                  </a:cubicBezTo>
                  <a:cubicBezTo>
                    <a:pt x="145" y="1666"/>
                    <a:pt x="143" y="1673"/>
                    <a:pt x="140" y="1680"/>
                  </a:cubicBezTo>
                  <a:cubicBezTo>
                    <a:pt x="135" y="1687"/>
                    <a:pt x="130" y="1694"/>
                    <a:pt x="124" y="1701"/>
                  </a:cubicBezTo>
                  <a:cubicBezTo>
                    <a:pt x="109" y="1718"/>
                    <a:pt x="92" y="1733"/>
                    <a:pt x="75" y="1749"/>
                  </a:cubicBezTo>
                  <a:cubicBezTo>
                    <a:pt x="58" y="1765"/>
                    <a:pt x="40" y="1781"/>
                    <a:pt x="26" y="1799"/>
                  </a:cubicBezTo>
                  <a:cubicBezTo>
                    <a:pt x="18" y="1808"/>
                    <a:pt x="11" y="1818"/>
                    <a:pt x="6" y="1828"/>
                  </a:cubicBezTo>
                  <a:cubicBezTo>
                    <a:pt x="3" y="1834"/>
                    <a:pt x="1" y="1840"/>
                    <a:pt x="0" y="1846"/>
                  </a:cubicBezTo>
                  <a:cubicBezTo>
                    <a:pt x="0" y="1849"/>
                    <a:pt x="1" y="1852"/>
                    <a:pt x="1" y="1855"/>
                  </a:cubicBezTo>
                  <a:cubicBezTo>
                    <a:pt x="0" y="1855"/>
                    <a:pt x="0" y="1855"/>
                    <a:pt x="0" y="1855"/>
                  </a:cubicBezTo>
                  <a:cubicBezTo>
                    <a:pt x="0" y="1856"/>
                    <a:pt x="1" y="1858"/>
                    <a:pt x="1" y="1859"/>
                  </a:cubicBezTo>
                  <a:cubicBezTo>
                    <a:pt x="1" y="1861"/>
                    <a:pt x="1" y="1862"/>
                    <a:pt x="1" y="1863"/>
                  </a:cubicBezTo>
                  <a:cubicBezTo>
                    <a:pt x="0" y="1865"/>
                    <a:pt x="0" y="1867"/>
                    <a:pt x="0" y="1870"/>
                  </a:cubicBezTo>
                  <a:cubicBezTo>
                    <a:pt x="1" y="1879"/>
                    <a:pt x="5" y="1888"/>
                    <a:pt x="9" y="1896"/>
                  </a:cubicBezTo>
                  <a:cubicBezTo>
                    <a:pt x="14" y="1907"/>
                    <a:pt x="21" y="1916"/>
                    <a:pt x="29" y="1925"/>
                  </a:cubicBezTo>
                  <a:cubicBezTo>
                    <a:pt x="44" y="1943"/>
                    <a:pt x="61" y="1958"/>
                    <a:pt x="78" y="1974"/>
                  </a:cubicBezTo>
                  <a:cubicBezTo>
                    <a:pt x="78" y="1975"/>
                    <a:pt x="79" y="1975"/>
                    <a:pt x="79" y="1975"/>
                  </a:cubicBezTo>
                  <a:cubicBezTo>
                    <a:pt x="86" y="1982"/>
                    <a:pt x="93" y="1988"/>
                    <a:pt x="99" y="1995"/>
                  </a:cubicBezTo>
                  <a:cubicBezTo>
                    <a:pt x="109" y="2005"/>
                    <a:pt x="117" y="2014"/>
                    <a:pt x="125" y="2025"/>
                  </a:cubicBezTo>
                  <a:cubicBezTo>
                    <a:pt x="132" y="2035"/>
                    <a:pt x="138" y="2045"/>
                    <a:pt x="141" y="2056"/>
                  </a:cubicBezTo>
                  <a:cubicBezTo>
                    <a:pt x="145" y="2067"/>
                    <a:pt x="146" y="2078"/>
                    <a:pt x="145" y="2090"/>
                  </a:cubicBezTo>
                  <a:cubicBezTo>
                    <a:pt x="145" y="2096"/>
                    <a:pt x="143" y="2102"/>
                    <a:pt x="141" y="2108"/>
                  </a:cubicBezTo>
                  <a:cubicBezTo>
                    <a:pt x="137" y="2116"/>
                    <a:pt x="131" y="2124"/>
                    <a:pt x="124" y="2131"/>
                  </a:cubicBezTo>
                  <a:cubicBezTo>
                    <a:pt x="116" y="2141"/>
                    <a:pt x="106" y="2150"/>
                    <a:pt x="97" y="2159"/>
                  </a:cubicBezTo>
                  <a:cubicBezTo>
                    <a:pt x="112" y="2159"/>
                    <a:pt x="112" y="2159"/>
                    <a:pt x="112" y="2159"/>
                  </a:cubicBezTo>
                  <a:cubicBezTo>
                    <a:pt x="119" y="2152"/>
                    <a:pt x="126" y="2145"/>
                    <a:pt x="132" y="2138"/>
                  </a:cubicBezTo>
                  <a:cubicBezTo>
                    <a:pt x="136" y="2133"/>
                    <a:pt x="141" y="2128"/>
                    <a:pt x="145" y="2122"/>
                  </a:cubicBezTo>
                  <a:cubicBezTo>
                    <a:pt x="145" y="2122"/>
                    <a:pt x="145" y="2122"/>
                    <a:pt x="145" y="2122"/>
                  </a:cubicBezTo>
                  <a:cubicBezTo>
                    <a:pt x="145" y="2122"/>
                    <a:pt x="145" y="2121"/>
                    <a:pt x="146" y="2120"/>
                  </a:cubicBezTo>
                  <a:cubicBezTo>
                    <a:pt x="148" y="2116"/>
                    <a:pt x="151" y="2112"/>
                    <a:pt x="153" y="2107"/>
                  </a:cubicBezTo>
                  <a:cubicBezTo>
                    <a:pt x="156" y="2101"/>
                    <a:pt x="158" y="2095"/>
                    <a:pt x="159" y="2088"/>
                  </a:cubicBezTo>
                  <a:cubicBezTo>
                    <a:pt x="160" y="2080"/>
                    <a:pt x="159" y="2074"/>
                    <a:pt x="158" y="2068"/>
                  </a:cubicBezTo>
                  <a:cubicBezTo>
                    <a:pt x="155" y="2055"/>
                    <a:pt x="150" y="2043"/>
                    <a:pt x="143" y="2033"/>
                  </a:cubicBezTo>
                  <a:cubicBezTo>
                    <a:pt x="142" y="2032"/>
                    <a:pt x="141" y="2030"/>
                    <a:pt x="140" y="2029"/>
                  </a:cubicBezTo>
                  <a:cubicBezTo>
                    <a:pt x="138" y="2026"/>
                    <a:pt x="136" y="2022"/>
                    <a:pt x="134" y="2019"/>
                  </a:cubicBezTo>
                  <a:cubicBezTo>
                    <a:pt x="120" y="1999"/>
                    <a:pt x="102" y="1982"/>
                    <a:pt x="86" y="1966"/>
                  </a:cubicBezTo>
                  <a:cubicBezTo>
                    <a:pt x="69" y="1950"/>
                    <a:pt x="52" y="1935"/>
                    <a:pt x="38" y="1917"/>
                  </a:cubicBezTo>
                  <a:cubicBezTo>
                    <a:pt x="24" y="1901"/>
                    <a:pt x="12" y="1881"/>
                    <a:pt x="11" y="1861"/>
                  </a:cubicBezTo>
                  <a:cubicBezTo>
                    <a:pt x="10" y="1852"/>
                    <a:pt x="12" y="1843"/>
                    <a:pt x="17" y="1833"/>
                  </a:cubicBezTo>
                  <a:cubicBezTo>
                    <a:pt x="21" y="1824"/>
                    <a:pt x="28" y="1815"/>
                    <a:pt x="35" y="1806"/>
                  </a:cubicBezTo>
                  <a:cubicBezTo>
                    <a:pt x="49" y="1789"/>
                    <a:pt x="65" y="1773"/>
                    <a:pt x="82" y="1757"/>
                  </a:cubicBezTo>
                  <a:cubicBezTo>
                    <a:pt x="99" y="1741"/>
                    <a:pt x="116" y="1726"/>
                    <a:pt x="132" y="1708"/>
                  </a:cubicBezTo>
                  <a:cubicBezTo>
                    <a:pt x="140" y="1698"/>
                    <a:pt x="148" y="1689"/>
                    <a:pt x="153" y="1677"/>
                  </a:cubicBezTo>
                  <a:cubicBezTo>
                    <a:pt x="156" y="1671"/>
                    <a:pt x="158" y="1664"/>
                    <a:pt x="159" y="1657"/>
                  </a:cubicBezTo>
                  <a:cubicBezTo>
                    <a:pt x="160" y="1650"/>
                    <a:pt x="159" y="1644"/>
                    <a:pt x="158" y="1637"/>
                  </a:cubicBezTo>
                  <a:cubicBezTo>
                    <a:pt x="155" y="1625"/>
                    <a:pt x="150" y="1614"/>
                    <a:pt x="144" y="1605"/>
                  </a:cubicBezTo>
                  <a:cubicBezTo>
                    <a:pt x="141" y="1599"/>
                    <a:pt x="138" y="1593"/>
                    <a:pt x="134" y="1588"/>
                  </a:cubicBezTo>
                  <a:cubicBezTo>
                    <a:pt x="120" y="1567"/>
                    <a:pt x="102" y="1551"/>
                    <a:pt x="86" y="1535"/>
                  </a:cubicBezTo>
                  <a:cubicBezTo>
                    <a:pt x="69" y="1519"/>
                    <a:pt x="52" y="1503"/>
                    <a:pt x="38" y="1486"/>
                  </a:cubicBezTo>
                  <a:cubicBezTo>
                    <a:pt x="24" y="1469"/>
                    <a:pt x="12" y="1450"/>
                    <a:pt x="11" y="1430"/>
                  </a:cubicBezTo>
                  <a:cubicBezTo>
                    <a:pt x="10" y="1421"/>
                    <a:pt x="12" y="1411"/>
                    <a:pt x="17" y="1402"/>
                  </a:cubicBezTo>
                  <a:cubicBezTo>
                    <a:pt x="21" y="1392"/>
                    <a:pt x="28" y="1383"/>
                    <a:pt x="35" y="1375"/>
                  </a:cubicBezTo>
                  <a:cubicBezTo>
                    <a:pt x="49" y="1357"/>
                    <a:pt x="65" y="1342"/>
                    <a:pt x="82" y="1326"/>
                  </a:cubicBezTo>
                  <a:cubicBezTo>
                    <a:pt x="99" y="1310"/>
                    <a:pt x="116" y="1294"/>
                    <a:pt x="132" y="1276"/>
                  </a:cubicBezTo>
                  <a:cubicBezTo>
                    <a:pt x="136" y="1271"/>
                    <a:pt x="140" y="1266"/>
                    <a:pt x="144" y="1261"/>
                  </a:cubicBezTo>
                  <a:cubicBezTo>
                    <a:pt x="145" y="1261"/>
                    <a:pt x="145" y="1261"/>
                    <a:pt x="145" y="1261"/>
                  </a:cubicBezTo>
                  <a:cubicBezTo>
                    <a:pt x="146" y="1259"/>
                    <a:pt x="147" y="1258"/>
                    <a:pt x="148" y="1256"/>
                  </a:cubicBezTo>
                  <a:cubicBezTo>
                    <a:pt x="150" y="1252"/>
                    <a:pt x="152" y="1249"/>
                    <a:pt x="153" y="1245"/>
                  </a:cubicBezTo>
                  <a:cubicBezTo>
                    <a:pt x="156" y="1239"/>
                    <a:pt x="158" y="1233"/>
                    <a:pt x="159" y="1226"/>
                  </a:cubicBezTo>
                  <a:cubicBezTo>
                    <a:pt x="160" y="1218"/>
                    <a:pt x="159" y="1212"/>
                    <a:pt x="158" y="1206"/>
                  </a:cubicBezTo>
                  <a:cubicBezTo>
                    <a:pt x="155" y="1193"/>
                    <a:pt x="150" y="1181"/>
                    <a:pt x="143" y="1171"/>
                  </a:cubicBezTo>
                  <a:cubicBezTo>
                    <a:pt x="141" y="1168"/>
                    <a:pt x="138" y="1164"/>
                    <a:pt x="136" y="1161"/>
                  </a:cubicBezTo>
                  <a:cubicBezTo>
                    <a:pt x="135" y="1160"/>
                    <a:pt x="134" y="1159"/>
                    <a:pt x="134" y="1158"/>
                  </a:cubicBezTo>
                  <a:cubicBezTo>
                    <a:pt x="120" y="1138"/>
                    <a:pt x="102" y="1122"/>
                    <a:pt x="86" y="1105"/>
                  </a:cubicBezTo>
                  <a:cubicBezTo>
                    <a:pt x="69" y="1089"/>
                    <a:pt x="52" y="1074"/>
                    <a:pt x="38" y="1057"/>
                  </a:cubicBezTo>
                  <a:cubicBezTo>
                    <a:pt x="24" y="1040"/>
                    <a:pt x="12" y="1020"/>
                    <a:pt x="11" y="1000"/>
                  </a:cubicBezTo>
                  <a:cubicBezTo>
                    <a:pt x="10" y="991"/>
                    <a:pt x="12" y="982"/>
                    <a:pt x="17" y="972"/>
                  </a:cubicBezTo>
                  <a:cubicBezTo>
                    <a:pt x="21" y="963"/>
                    <a:pt x="28" y="954"/>
                    <a:pt x="35" y="945"/>
                  </a:cubicBezTo>
                  <a:cubicBezTo>
                    <a:pt x="49" y="928"/>
                    <a:pt x="65" y="912"/>
                    <a:pt x="82" y="896"/>
                  </a:cubicBezTo>
                  <a:cubicBezTo>
                    <a:pt x="99" y="880"/>
                    <a:pt x="116" y="865"/>
                    <a:pt x="132" y="847"/>
                  </a:cubicBezTo>
                  <a:cubicBezTo>
                    <a:pt x="140" y="837"/>
                    <a:pt x="148" y="828"/>
                    <a:pt x="153" y="816"/>
                  </a:cubicBezTo>
                  <a:cubicBezTo>
                    <a:pt x="156" y="810"/>
                    <a:pt x="158" y="803"/>
                    <a:pt x="159" y="796"/>
                  </a:cubicBezTo>
                  <a:cubicBezTo>
                    <a:pt x="160" y="789"/>
                    <a:pt x="159" y="783"/>
                    <a:pt x="158" y="776"/>
                  </a:cubicBezTo>
                  <a:cubicBezTo>
                    <a:pt x="156" y="766"/>
                    <a:pt x="152" y="756"/>
                    <a:pt x="147" y="748"/>
                  </a:cubicBezTo>
                  <a:cubicBezTo>
                    <a:pt x="143" y="740"/>
                    <a:pt x="139" y="732"/>
                    <a:pt x="134" y="726"/>
                  </a:cubicBezTo>
                  <a:cubicBezTo>
                    <a:pt x="120" y="705"/>
                    <a:pt x="102" y="689"/>
                    <a:pt x="86" y="673"/>
                  </a:cubicBezTo>
                  <a:cubicBezTo>
                    <a:pt x="69" y="656"/>
                    <a:pt x="52" y="641"/>
                    <a:pt x="38" y="624"/>
                  </a:cubicBezTo>
                  <a:cubicBezTo>
                    <a:pt x="24" y="607"/>
                    <a:pt x="12" y="588"/>
                    <a:pt x="11" y="568"/>
                  </a:cubicBezTo>
                  <a:cubicBezTo>
                    <a:pt x="10" y="558"/>
                    <a:pt x="12" y="549"/>
                    <a:pt x="17" y="540"/>
                  </a:cubicBezTo>
                  <a:cubicBezTo>
                    <a:pt x="21" y="530"/>
                    <a:pt x="28" y="521"/>
                    <a:pt x="35" y="513"/>
                  </a:cubicBezTo>
                  <a:cubicBezTo>
                    <a:pt x="49" y="495"/>
                    <a:pt x="65" y="480"/>
                    <a:pt x="82" y="464"/>
                  </a:cubicBezTo>
                  <a:cubicBezTo>
                    <a:pt x="99" y="448"/>
                    <a:pt x="116" y="432"/>
                    <a:pt x="132" y="414"/>
                  </a:cubicBezTo>
                  <a:cubicBezTo>
                    <a:pt x="140" y="405"/>
                    <a:pt x="148" y="395"/>
                    <a:pt x="153" y="383"/>
                  </a:cubicBezTo>
                  <a:cubicBezTo>
                    <a:pt x="156" y="377"/>
                    <a:pt x="158" y="371"/>
                    <a:pt x="159" y="364"/>
                  </a:cubicBezTo>
                  <a:cubicBezTo>
                    <a:pt x="160" y="356"/>
                    <a:pt x="159" y="350"/>
                    <a:pt x="158" y="344"/>
                  </a:cubicBezTo>
                  <a:cubicBezTo>
                    <a:pt x="156" y="333"/>
                    <a:pt x="152" y="324"/>
                    <a:pt x="147" y="315"/>
                  </a:cubicBezTo>
                  <a:cubicBezTo>
                    <a:pt x="143" y="307"/>
                    <a:pt x="139" y="300"/>
                    <a:pt x="134" y="293"/>
                  </a:cubicBezTo>
                  <a:cubicBezTo>
                    <a:pt x="120" y="273"/>
                    <a:pt x="102" y="256"/>
                    <a:pt x="86" y="240"/>
                  </a:cubicBezTo>
                  <a:cubicBezTo>
                    <a:pt x="69" y="224"/>
                    <a:pt x="52" y="208"/>
                    <a:pt x="38" y="191"/>
                  </a:cubicBezTo>
                  <a:cubicBezTo>
                    <a:pt x="24" y="174"/>
                    <a:pt x="12" y="155"/>
                    <a:pt x="11" y="135"/>
                  </a:cubicBezTo>
                  <a:cubicBezTo>
                    <a:pt x="10" y="126"/>
                    <a:pt x="12" y="116"/>
                    <a:pt x="17" y="107"/>
                  </a:cubicBezTo>
                  <a:cubicBezTo>
                    <a:pt x="21" y="97"/>
                    <a:pt x="28" y="88"/>
                    <a:pt x="35" y="80"/>
                  </a:cubicBezTo>
                  <a:cubicBezTo>
                    <a:pt x="49" y="63"/>
                    <a:pt x="65" y="47"/>
                    <a:pt x="82" y="31"/>
                  </a:cubicBezTo>
                  <a:cubicBezTo>
                    <a:pt x="93" y="21"/>
                    <a:pt x="104" y="10"/>
                    <a:pt x="114" y="0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91" y="7"/>
                    <a:pt x="83" y="15"/>
                    <a:pt x="75" y="23"/>
                  </a:cubicBezTo>
                  <a:cubicBezTo>
                    <a:pt x="58" y="39"/>
                    <a:pt x="40" y="54"/>
                    <a:pt x="26" y="72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" name="Freeform 22"/>
            <p:cNvSpPr/>
            <p:nvPr/>
          </p:nvSpPr>
          <p:spPr>
            <a:xfrm>
              <a:off x="11692080" y="-1440"/>
              <a:ext cx="501120" cy="6862320"/>
            </a:xfrm>
            <a:custGeom>
              <a:avLst/>
              <a:gdLst>
                <a:gd name="textAreaLeft" fmla="*/ 0 w 501120"/>
                <a:gd name="textAreaRight" fmla="*/ 501480 w 50112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58" h="2159">
                  <a:moveTo>
                    <a:pt x="123" y="74"/>
                  </a:moveTo>
                  <a:cubicBezTo>
                    <a:pt x="130" y="83"/>
                    <a:pt x="137" y="92"/>
                    <a:pt x="142" y="103"/>
                  </a:cubicBezTo>
                  <a:cubicBezTo>
                    <a:pt x="146" y="111"/>
                    <a:pt x="149" y="121"/>
                    <a:pt x="149" y="131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46" y="149"/>
                    <a:pt x="139" y="167"/>
                    <a:pt x="129" y="183"/>
                  </a:cubicBezTo>
                  <a:cubicBezTo>
                    <a:pt x="127" y="187"/>
                    <a:pt x="124" y="192"/>
                    <a:pt x="121" y="196"/>
                  </a:cubicBezTo>
                  <a:cubicBezTo>
                    <a:pt x="120" y="196"/>
                    <a:pt x="120" y="197"/>
                    <a:pt x="120" y="197"/>
                  </a:cubicBezTo>
                  <a:cubicBezTo>
                    <a:pt x="105" y="215"/>
                    <a:pt x="87" y="230"/>
                    <a:pt x="71" y="246"/>
                  </a:cubicBezTo>
                  <a:cubicBezTo>
                    <a:pt x="54" y="262"/>
                    <a:pt x="37" y="279"/>
                    <a:pt x="23" y="298"/>
                  </a:cubicBezTo>
                  <a:cubicBezTo>
                    <a:pt x="22" y="300"/>
                    <a:pt x="20" y="302"/>
                    <a:pt x="19" y="305"/>
                  </a:cubicBezTo>
                  <a:cubicBezTo>
                    <a:pt x="17" y="307"/>
                    <a:pt x="15" y="310"/>
                    <a:pt x="13" y="313"/>
                  </a:cubicBezTo>
                  <a:cubicBezTo>
                    <a:pt x="7" y="322"/>
                    <a:pt x="2" y="333"/>
                    <a:pt x="0" y="345"/>
                  </a:cubicBezTo>
                  <a:cubicBezTo>
                    <a:pt x="0" y="345"/>
                    <a:pt x="0" y="346"/>
                    <a:pt x="0" y="347"/>
                  </a:cubicBezTo>
                  <a:cubicBezTo>
                    <a:pt x="1" y="352"/>
                    <a:pt x="1" y="357"/>
                    <a:pt x="0" y="364"/>
                  </a:cubicBezTo>
                  <a:cubicBezTo>
                    <a:pt x="0" y="365"/>
                    <a:pt x="0" y="366"/>
                    <a:pt x="0" y="367"/>
                  </a:cubicBezTo>
                  <a:cubicBezTo>
                    <a:pt x="1" y="372"/>
                    <a:pt x="2" y="376"/>
                    <a:pt x="4" y="379"/>
                  </a:cubicBezTo>
                  <a:cubicBezTo>
                    <a:pt x="6" y="383"/>
                    <a:pt x="8" y="387"/>
                    <a:pt x="10" y="390"/>
                  </a:cubicBezTo>
                  <a:cubicBezTo>
                    <a:pt x="11" y="392"/>
                    <a:pt x="12" y="394"/>
                    <a:pt x="13" y="396"/>
                  </a:cubicBezTo>
                  <a:cubicBezTo>
                    <a:pt x="14" y="396"/>
                    <a:pt x="14" y="396"/>
                    <a:pt x="14" y="396"/>
                  </a:cubicBezTo>
                  <a:cubicBezTo>
                    <a:pt x="17" y="400"/>
                    <a:pt x="21" y="404"/>
                    <a:pt x="24" y="408"/>
                  </a:cubicBezTo>
                  <a:cubicBezTo>
                    <a:pt x="40" y="426"/>
                    <a:pt x="57" y="441"/>
                    <a:pt x="74" y="457"/>
                  </a:cubicBezTo>
                  <a:cubicBezTo>
                    <a:pt x="91" y="473"/>
                    <a:pt x="108" y="489"/>
                    <a:pt x="123" y="507"/>
                  </a:cubicBezTo>
                  <a:cubicBezTo>
                    <a:pt x="130" y="516"/>
                    <a:pt x="137" y="525"/>
                    <a:pt x="142" y="535"/>
                  </a:cubicBezTo>
                  <a:cubicBezTo>
                    <a:pt x="146" y="544"/>
                    <a:pt x="149" y="554"/>
                    <a:pt x="149" y="564"/>
                  </a:cubicBezTo>
                  <a:cubicBezTo>
                    <a:pt x="149" y="564"/>
                    <a:pt x="149" y="564"/>
                    <a:pt x="149" y="564"/>
                  </a:cubicBezTo>
                  <a:cubicBezTo>
                    <a:pt x="146" y="582"/>
                    <a:pt x="139" y="600"/>
                    <a:pt x="129" y="616"/>
                  </a:cubicBezTo>
                  <a:cubicBezTo>
                    <a:pt x="127" y="620"/>
                    <a:pt x="124" y="625"/>
                    <a:pt x="121" y="629"/>
                  </a:cubicBezTo>
                  <a:cubicBezTo>
                    <a:pt x="120" y="629"/>
                    <a:pt x="120" y="629"/>
                    <a:pt x="120" y="630"/>
                  </a:cubicBezTo>
                  <a:cubicBezTo>
                    <a:pt x="105" y="648"/>
                    <a:pt x="87" y="663"/>
                    <a:pt x="71" y="679"/>
                  </a:cubicBezTo>
                  <a:cubicBezTo>
                    <a:pt x="54" y="695"/>
                    <a:pt x="37" y="711"/>
                    <a:pt x="23" y="730"/>
                  </a:cubicBezTo>
                  <a:cubicBezTo>
                    <a:pt x="22" y="733"/>
                    <a:pt x="20" y="735"/>
                    <a:pt x="19" y="737"/>
                  </a:cubicBezTo>
                  <a:cubicBezTo>
                    <a:pt x="17" y="740"/>
                    <a:pt x="15" y="743"/>
                    <a:pt x="13" y="745"/>
                  </a:cubicBezTo>
                  <a:cubicBezTo>
                    <a:pt x="7" y="755"/>
                    <a:pt x="2" y="766"/>
                    <a:pt x="0" y="778"/>
                  </a:cubicBezTo>
                  <a:cubicBezTo>
                    <a:pt x="0" y="778"/>
                    <a:pt x="0" y="779"/>
                    <a:pt x="0" y="779"/>
                  </a:cubicBezTo>
                  <a:cubicBezTo>
                    <a:pt x="1" y="785"/>
                    <a:pt x="1" y="790"/>
                    <a:pt x="0" y="796"/>
                  </a:cubicBezTo>
                  <a:cubicBezTo>
                    <a:pt x="0" y="798"/>
                    <a:pt x="0" y="799"/>
                    <a:pt x="0" y="800"/>
                  </a:cubicBezTo>
                  <a:cubicBezTo>
                    <a:pt x="1" y="804"/>
                    <a:pt x="2" y="808"/>
                    <a:pt x="4" y="812"/>
                  </a:cubicBezTo>
                  <a:cubicBezTo>
                    <a:pt x="6" y="816"/>
                    <a:pt x="8" y="819"/>
                    <a:pt x="10" y="823"/>
                  </a:cubicBezTo>
                  <a:cubicBezTo>
                    <a:pt x="11" y="825"/>
                    <a:pt x="12" y="827"/>
                    <a:pt x="13" y="828"/>
                  </a:cubicBezTo>
                  <a:cubicBezTo>
                    <a:pt x="14" y="828"/>
                    <a:pt x="14" y="828"/>
                    <a:pt x="14" y="828"/>
                  </a:cubicBezTo>
                  <a:cubicBezTo>
                    <a:pt x="17" y="833"/>
                    <a:pt x="21" y="837"/>
                    <a:pt x="24" y="841"/>
                  </a:cubicBezTo>
                  <a:cubicBezTo>
                    <a:pt x="40" y="858"/>
                    <a:pt x="57" y="874"/>
                    <a:pt x="74" y="890"/>
                  </a:cubicBezTo>
                  <a:cubicBezTo>
                    <a:pt x="91" y="906"/>
                    <a:pt x="108" y="922"/>
                    <a:pt x="123" y="939"/>
                  </a:cubicBezTo>
                  <a:cubicBezTo>
                    <a:pt x="130" y="948"/>
                    <a:pt x="137" y="958"/>
                    <a:pt x="142" y="968"/>
                  </a:cubicBezTo>
                  <a:cubicBezTo>
                    <a:pt x="146" y="976"/>
                    <a:pt x="148" y="984"/>
                    <a:pt x="149" y="993"/>
                  </a:cubicBezTo>
                  <a:cubicBezTo>
                    <a:pt x="149" y="993"/>
                    <a:pt x="149" y="993"/>
                    <a:pt x="149" y="993"/>
                  </a:cubicBezTo>
                  <a:cubicBezTo>
                    <a:pt x="146" y="1012"/>
                    <a:pt x="139" y="1029"/>
                    <a:pt x="129" y="1045"/>
                  </a:cubicBezTo>
                  <a:cubicBezTo>
                    <a:pt x="117" y="1065"/>
                    <a:pt x="101" y="1082"/>
                    <a:pt x="84" y="1098"/>
                  </a:cubicBezTo>
                  <a:cubicBezTo>
                    <a:pt x="68" y="1114"/>
                    <a:pt x="51" y="1130"/>
                    <a:pt x="35" y="1147"/>
                  </a:cubicBezTo>
                  <a:cubicBezTo>
                    <a:pt x="27" y="1156"/>
                    <a:pt x="20" y="1165"/>
                    <a:pt x="13" y="1175"/>
                  </a:cubicBezTo>
                  <a:cubicBezTo>
                    <a:pt x="7" y="1185"/>
                    <a:pt x="2" y="1195"/>
                    <a:pt x="0" y="1207"/>
                  </a:cubicBezTo>
                  <a:cubicBezTo>
                    <a:pt x="0" y="1208"/>
                    <a:pt x="0" y="1208"/>
                    <a:pt x="0" y="1209"/>
                  </a:cubicBezTo>
                  <a:cubicBezTo>
                    <a:pt x="1" y="1214"/>
                    <a:pt x="1" y="1220"/>
                    <a:pt x="0" y="1226"/>
                  </a:cubicBezTo>
                  <a:cubicBezTo>
                    <a:pt x="0" y="1227"/>
                    <a:pt x="0" y="1228"/>
                    <a:pt x="0" y="1230"/>
                  </a:cubicBezTo>
                  <a:cubicBezTo>
                    <a:pt x="1" y="1234"/>
                    <a:pt x="2" y="1238"/>
                    <a:pt x="4" y="1242"/>
                  </a:cubicBezTo>
                  <a:cubicBezTo>
                    <a:pt x="5" y="1243"/>
                    <a:pt x="6" y="1244"/>
                    <a:pt x="6" y="1245"/>
                  </a:cubicBezTo>
                  <a:cubicBezTo>
                    <a:pt x="8" y="1251"/>
                    <a:pt x="10" y="1256"/>
                    <a:pt x="13" y="1261"/>
                  </a:cubicBezTo>
                  <a:cubicBezTo>
                    <a:pt x="17" y="1261"/>
                    <a:pt x="17" y="1261"/>
                    <a:pt x="17" y="1261"/>
                  </a:cubicBezTo>
                  <a:cubicBezTo>
                    <a:pt x="19" y="1264"/>
                    <a:pt x="22" y="1267"/>
                    <a:pt x="24" y="1270"/>
                  </a:cubicBezTo>
                  <a:cubicBezTo>
                    <a:pt x="40" y="1288"/>
                    <a:pt x="57" y="1303"/>
                    <a:pt x="74" y="1319"/>
                  </a:cubicBezTo>
                  <a:cubicBezTo>
                    <a:pt x="91" y="1335"/>
                    <a:pt x="108" y="1351"/>
                    <a:pt x="123" y="1369"/>
                  </a:cubicBezTo>
                  <a:cubicBezTo>
                    <a:pt x="130" y="1378"/>
                    <a:pt x="137" y="1387"/>
                    <a:pt x="142" y="1398"/>
                  </a:cubicBezTo>
                  <a:cubicBezTo>
                    <a:pt x="146" y="1406"/>
                    <a:pt x="149" y="1415"/>
                    <a:pt x="149" y="1425"/>
                  </a:cubicBezTo>
                  <a:cubicBezTo>
                    <a:pt x="149" y="1425"/>
                    <a:pt x="149" y="1425"/>
                    <a:pt x="149" y="1425"/>
                  </a:cubicBezTo>
                  <a:cubicBezTo>
                    <a:pt x="146" y="1443"/>
                    <a:pt x="139" y="1461"/>
                    <a:pt x="129" y="1477"/>
                  </a:cubicBezTo>
                  <a:cubicBezTo>
                    <a:pt x="124" y="1485"/>
                    <a:pt x="118" y="1493"/>
                    <a:pt x="111" y="1501"/>
                  </a:cubicBezTo>
                  <a:cubicBezTo>
                    <a:pt x="99" y="1515"/>
                    <a:pt x="84" y="1528"/>
                    <a:pt x="71" y="1541"/>
                  </a:cubicBezTo>
                  <a:cubicBezTo>
                    <a:pt x="55" y="1556"/>
                    <a:pt x="39" y="1572"/>
                    <a:pt x="26" y="1590"/>
                  </a:cubicBezTo>
                  <a:cubicBezTo>
                    <a:pt x="21" y="1595"/>
                    <a:pt x="17" y="1600"/>
                    <a:pt x="13" y="1606"/>
                  </a:cubicBezTo>
                  <a:cubicBezTo>
                    <a:pt x="7" y="1616"/>
                    <a:pt x="2" y="1627"/>
                    <a:pt x="0" y="1639"/>
                  </a:cubicBezTo>
                  <a:cubicBezTo>
                    <a:pt x="0" y="1639"/>
                    <a:pt x="0" y="1640"/>
                    <a:pt x="0" y="1640"/>
                  </a:cubicBezTo>
                  <a:cubicBezTo>
                    <a:pt x="1" y="1646"/>
                    <a:pt x="1" y="1651"/>
                    <a:pt x="0" y="1657"/>
                  </a:cubicBezTo>
                  <a:cubicBezTo>
                    <a:pt x="0" y="1659"/>
                    <a:pt x="0" y="1660"/>
                    <a:pt x="0" y="1661"/>
                  </a:cubicBezTo>
                  <a:cubicBezTo>
                    <a:pt x="1" y="1665"/>
                    <a:pt x="2" y="1669"/>
                    <a:pt x="4" y="1673"/>
                  </a:cubicBezTo>
                  <a:cubicBezTo>
                    <a:pt x="6" y="1676"/>
                    <a:pt x="7" y="1679"/>
                    <a:pt x="9" y="1681"/>
                  </a:cubicBezTo>
                  <a:cubicBezTo>
                    <a:pt x="10" y="1685"/>
                    <a:pt x="12" y="1688"/>
                    <a:pt x="13" y="1691"/>
                  </a:cubicBezTo>
                  <a:cubicBezTo>
                    <a:pt x="15" y="1691"/>
                    <a:pt x="15" y="1691"/>
                    <a:pt x="15" y="1691"/>
                  </a:cubicBezTo>
                  <a:cubicBezTo>
                    <a:pt x="18" y="1694"/>
                    <a:pt x="21" y="1698"/>
                    <a:pt x="24" y="1702"/>
                  </a:cubicBezTo>
                  <a:cubicBezTo>
                    <a:pt x="40" y="1719"/>
                    <a:pt x="57" y="1735"/>
                    <a:pt x="74" y="1751"/>
                  </a:cubicBezTo>
                  <a:cubicBezTo>
                    <a:pt x="91" y="1767"/>
                    <a:pt x="108" y="1783"/>
                    <a:pt x="123" y="1800"/>
                  </a:cubicBezTo>
                  <a:cubicBezTo>
                    <a:pt x="130" y="1809"/>
                    <a:pt x="137" y="1819"/>
                    <a:pt x="142" y="1829"/>
                  </a:cubicBezTo>
                  <a:cubicBezTo>
                    <a:pt x="146" y="1837"/>
                    <a:pt x="149" y="1846"/>
                    <a:pt x="149" y="1855"/>
                  </a:cubicBezTo>
                  <a:cubicBezTo>
                    <a:pt x="149" y="1855"/>
                    <a:pt x="149" y="1855"/>
                    <a:pt x="149" y="1855"/>
                  </a:cubicBezTo>
                  <a:cubicBezTo>
                    <a:pt x="146" y="1874"/>
                    <a:pt x="139" y="1891"/>
                    <a:pt x="129" y="1907"/>
                  </a:cubicBezTo>
                  <a:cubicBezTo>
                    <a:pt x="119" y="1923"/>
                    <a:pt x="107" y="1938"/>
                    <a:pt x="93" y="1951"/>
                  </a:cubicBezTo>
                  <a:cubicBezTo>
                    <a:pt x="86" y="1959"/>
                    <a:pt x="78" y="1966"/>
                    <a:pt x="71" y="1973"/>
                  </a:cubicBezTo>
                  <a:cubicBezTo>
                    <a:pt x="59" y="1984"/>
                    <a:pt x="48" y="1995"/>
                    <a:pt x="37" y="2007"/>
                  </a:cubicBezTo>
                  <a:cubicBezTo>
                    <a:pt x="36" y="2008"/>
                    <a:pt x="36" y="2008"/>
                    <a:pt x="35" y="2009"/>
                  </a:cubicBezTo>
                  <a:cubicBezTo>
                    <a:pt x="27" y="2018"/>
                    <a:pt x="20" y="2027"/>
                    <a:pt x="13" y="2037"/>
                  </a:cubicBezTo>
                  <a:cubicBezTo>
                    <a:pt x="7" y="2047"/>
                    <a:pt x="2" y="2057"/>
                    <a:pt x="0" y="2069"/>
                  </a:cubicBezTo>
                  <a:cubicBezTo>
                    <a:pt x="0" y="2070"/>
                    <a:pt x="0" y="2070"/>
                    <a:pt x="0" y="2071"/>
                  </a:cubicBezTo>
                  <a:cubicBezTo>
                    <a:pt x="1" y="2076"/>
                    <a:pt x="1" y="2082"/>
                    <a:pt x="0" y="2088"/>
                  </a:cubicBezTo>
                  <a:cubicBezTo>
                    <a:pt x="0" y="2089"/>
                    <a:pt x="0" y="2090"/>
                    <a:pt x="0" y="2092"/>
                  </a:cubicBezTo>
                  <a:cubicBezTo>
                    <a:pt x="1" y="2096"/>
                    <a:pt x="2" y="2100"/>
                    <a:pt x="4" y="2104"/>
                  </a:cubicBezTo>
                  <a:cubicBezTo>
                    <a:pt x="5" y="2106"/>
                    <a:pt x="6" y="2107"/>
                    <a:pt x="7" y="2109"/>
                  </a:cubicBezTo>
                  <a:cubicBezTo>
                    <a:pt x="9" y="2114"/>
                    <a:pt x="11" y="2118"/>
                    <a:pt x="13" y="2122"/>
                  </a:cubicBezTo>
                  <a:cubicBezTo>
                    <a:pt x="16" y="2122"/>
                    <a:pt x="16" y="2122"/>
                    <a:pt x="16" y="2122"/>
                  </a:cubicBezTo>
                  <a:cubicBezTo>
                    <a:pt x="19" y="2126"/>
                    <a:pt x="22" y="2129"/>
                    <a:pt x="24" y="2132"/>
                  </a:cubicBezTo>
                  <a:cubicBezTo>
                    <a:pt x="33" y="2142"/>
                    <a:pt x="41" y="2150"/>
                    <a:pt x="50" y="2159"/>
                  </a:cubicBezTo>
                  <a:cubicBezTo>
                    <a:pt x="66" y="2159"/>
                    <a:pt x="66" y="2159"/>
                    <a:pt x="66" y="2159"/>
                  </a:cubicBezTo>
                  <a:cubicBezTo>
                    <a:pt x="54" y="2148"/>
                    <a:pt x="43" y="2137"/>
                    <a:pt x="32" y="2125"/>
                  </a:cubicBezTo>
                  <a:cubicBezTo>
                    <a:pt x="25" y="2117"/>
                    <a:pt x="19" y="2109"/>
                    <a:pt x="14" y="2101"/>
                  </a:cubicBezTo>
                  <a:cubicBezTo>
                    <a:pt x="13" y="2097"/>
                    <a:pt x="13" y="2093"/>
                    <a:pt x="13" y="2089"/>
                  </a:cubicBezTo>
                  <a:cubicBezTo>
                    <a:pt x="11" y="2068"/>
                    <a:pt x="19" y="2048"/>
                    <a:pt x="32" y="2030"/>
                  </a:cubicBezTo>
                  <a:cubicBezTo>
                    <a:pt x="45" y="2012"/>
                    <a:pt x="61" y="1997"/>
                    <a:pt x="78" y="1981"/>
                  </a:cubicBezTo>
                  <a:cubicBezTo>
                    <a:pt x="95" y="1965"/>
                    <a:pt x="113" y="1949"/>
                    <a:pt x="129" y="1931"/>
                  </a:cubicBezTo>
                  <a:cubicBezTo>
                    <a:pt x="136" y="1922"/>
                    <a:pt x="144" y="1912"/>
                    <a:pt x="150" y="1900"/>
                  </a:cubicBezTo>
                  <a:cubicBezTo>
                    <a:pt x="152" y="1895"/>
                    <a:pt x="155" y="1890"/>
                    <a:pt x="156" y="1884"/>
                  </a:cubicBezTo>
                  <a:cubicBezTo>
                    <a:pt x="157" y="1886"/>
                    <a:pt x="158" y="1887"/>
                    <a:pt x="158" y="1889"/>
                  </a:cubicBezTo>
                  <a:cubicBezTo>
                    <a:pt x="158" y="1829"/>
                    <a:pt x="158" y="1829"/>
                    <a:pt x="158" y="1829"/>
                  </a:cubicBezTo>
                  <a:cubicBezTo>
                    <a:pt x="158" y="1830"/>
                    <a:pt x="157" y="1832"/>
                    <a:pt x="156" y="1833"/>
                  </a:cubicBezTo>
                  <a:cubicBezTo>
                    <a:pt x="155" y="1830"/>
                    <a:pt x="154" y="1827"/>
                    <a:pt x="153" y="1824"/>
                  </a:cubicBezTo>
                  <a:cubicBezTo>
                    <a:pt x="147" y="1812"/>
                    <a:pt x="140" y="1802"/>
                    <a:pt x="132" y="1793"/>
                  </a:cubicBezTo>
                  <a:cubicBezTo>
                    <a:pt x="116" y="1774"/>
                    <a:pt x="99" y="1758"/>
                    <a:pt x="82" y="1743"/>
                  </a:cubicBezTo>
                  <a:cubicBezTo>
                    <a:pt x="65" y="1727"/>
                    <a:pt x="47" y="1712"/>
                    <a:pt x="32" y="1695"/>
                  </a:cubicBezTo>
                  <a:cubicBezTo>
                    <a:pt x="26" y="1687"/>
                    <a:pt x="19" y="1679"/>
                    <a:pt x="15" y="1671"/>
                  </a:cubicBezTo>
                  <a:cubicBezTo>
                    <a:pt x="14" y="1667"/>
                    <a:pt x="13" y="1662"/>
                    <a:pt x="13" y="1658"/>
                  </a:cubicBezTo>
                  <a:cubicBezTo>
                    <a:pt x="11" y="1637"/>
                    <a:pt x="19" y="1616"/>
                    <a:pt x="32" y="1599"/>
                  </a:cubicBezTo>
                  <a:cubicBezTo>
                    <a:pt x="45" y="1581"/>
                    <a:pt x="61" y="1565"/>
                    <a:pt x="78" y="1549"/>
                  </a:cubicBezTo>
                  <a:cubicBezTo>
                    <a:pt x="95" y="1534"/>
                    <a:pt x="113" y="1518"/>
                    <a:pt x="129" y="1499"/>
                  </a:cubicBezTo>
                  <a:cubicBezTo>
                    <a:pt x="136" y="1490"/>
                    <a:pt x="144" y="1480"/>
                    <a:pt x="150" y="1469"/>
                  </a:cubicBezTo>
                  <a:cubicBezTo>
                    <a:pt x="152" y="1464"/>
                    <a:pt x="155" y="1458"/>
                    <a:pt x="156" y="1453"/>
                  </a:cubicBezTo>
                  <a:cubicBezTo>
                    <a:pt x="157" y="1454"/>
                    <a:pt x="158" y="1456"/>
                    <a:pt x="158" y="1457"/>
                  </a:cubicBezTo>
                  <a:cubicBezTo>
                    <a:pt x="158" y="1398"/>
                    <a:pt x="158" y="1398"/>
                    <a:pt x="158" y="1398"/>
                  </a:cubicBezTo>
                  <a:cubicBezTo>
                    <a:pt x="158" y="1399"/>
                    <a:pt x="157" y="1400"/>
                    <a:pt x="156" y="1401"/>
                  </a:cubicBezTo>
                  <a:cubicBezTo>
                    <a:pt x="155" y="1398"/>
                    <a:pt x="154" y="1395"/>
                    <a:pt x="153" y="1392"/>
                  </a:cubicBezTo>
                  <a:cubicBezTo>
                    <a:pt x="147" y="1381"/>
                    <a:pt x="140" y="1371"/>
                    <a:pt x="132" y="1361"/>
                  </a:cubicBezTo>
                  <a:cubicBezTo>
                    <a:pt x="116" y="1343"/>
                    <a:pt x="99" y="1327"/>
                    <a:pt x="82" y="1311"/>
                  </a:cubicBezTo>
                  <a:cubicBezTo>
                    <a:pt x="65" y="1295"/>
                    <a:pt x="47" y="1280"/>
                    <a:pt x="32" y="1263"/>
                  </a:cubicBezTo>
                  <a:cubicBezTo>
                    <a:pt x="25" y="1255"/>
                    <a:pt x="19" y="1247"/>
                    <a:pt x="14" y="1238"/>
                  </a:cubicBezTo>
                  <a:cubicBezTo>
                    <a:pt x="13" y="1235"/>
                    <a:pt x="13" y="1232"/>
                    <a:pt x="13" y="1228"/>
                  </a:cubicBezTo>
                  <a:cubicBezTo>
                    <a:pt x="11" y="1207"/>
                    <a:pt x="19" y="1187"/>
                    <a:pt x="32" y="1169"/>
                  </a:cubicBezTo>
                  <a:cubicBezTo>
                    <a:pt x="45" y="1152"/>
                    <a:pt x="61" y="1136"/>
                    <a:pt x="78" y="1120"/>
                  </a:cubicBezTo>
                  <a:cubicBezTo>
                    <a:pt x="95" y="1104"/>
                    <a:pt x="113" y="1089"/>
                    <a:pt x="129" y="1070"/>
                  </a:cubicBezTo>
                  <a:cubicBezTo>
                    <a:pt x="136" y="1061"/>
                    <a:pt x="144" y="1051"/>
                    <a:pt x="150" y="1039"/>
                  </a:cubicBezTo>
                  <a:cubicBezTo>
                    <a:pt x="152" y="1034"/>
                    <a:pt x="155" y="1029"/>
                    <a:pt x="156" y="1024"/>
                  </a:cubicBezTo>
                  <a:cubicBezTo>
                    <a:pt x="157" y="1025"/>
                    <a:pt x="158" y="1026"/>
                    <a:pt x="158" y="1028"/>
                  </a:cubicBezTo>
                  <a:cubicBezTo>
                    <a:pt x="158" y="968"/>
                    <a:pt x="158" y="968"/>
                    <a:pt x="158" y="968"/>
                  </a:cubicBezTo>
                  <a:cubicBezTo>
                    <a:pt x="158" y="969"/>
                    <a:pt x="157" y="971"/>
                    <a:pt x="156" y="972"/>
                  </a:cubicBezTo>
                  <a:cubicBezTo>
                    <a:pt x="155" y="969"/>
                    <a:pt x="154" y="966"/>
                    <a:pt x="153" y="963"/>
                  </a:cubicBezTo>
                  <a:cubicBezTo>
                    <a:pt x="147" y="951"/>
                    <a:pt x="140" y="941"/>
                    <a:pt x="132" y="932"/>
                  </a:cubicBezTo>
                  <a:cubicBezTo>
                    <a:pt x="116" y="913"/>
                    <a:pt x="99" y="897"/>
                    <a:pt x="82" y="882"/>
                  </a:cubicBezTo>
                  <a:cubicBezTo>
                    <a:pt x="65" y="866"/>
                    <a:pt x="47" y="851"/>
                    <a:pt x="32" y="834"/>
                  </a:cubicBezTo>
                  <a:cubicBezTo>
                    <a:pt x="26" y="827"/>
                    <a:pt x="20" y="819"/>
                    <a:pt x="16" y="811"/>
                  </a:cubicBezTo>
                  <a:cubicBezTo>
                    <a:pt x="14" y="806"/>
                    <a:pt x="13" y="801"/>
                    <a:pt x="13" y="795"/>
                  </a:cubicBezTo>
                  <a:cubicBezTo>
                    <a:pt x="11" y="774"/>
                    <a:pt x="19" y="754"/>
                    <a:pt x="32" y="737"/>
                  </a:cubicBezTo>
                  <a:cubicBezTo>
                    <a:pt x="45" y="719"/>
                    <a:pt x="61" y="703"/>
                    <a:pt x="78" y="687"/>
                  </a:cubicBezTo>
                  <a:cubicBezTo>
                    <a:pt x="95" y="671"/>
                    <a:pt x="113" y="656"/>
                    <a:pt x="129" y="637"/>
                  </a:cubicBezTo>
                  <a:cubicBezTo>
                    <a:pt x="136" y="628"/>
                    <a:pt x="144" y="618"/>
                    <a:pt x="150" y="607"/>
                  </a:cubicBezTo>
                  <a:cubicBezTo>
                    <a:pt x="152" y="602"/>
                    <a:pt x="155" y="596"/>
                    <a:pt x="156" y="591"/>
                  </a:cubicBezTo>
                  <a:cubicBezTo>
                    <a:pt x="157" y="592"/>
                    <a:pt x="158" y="594"/>
                    <a:pt x="158" y="595"/>
                  </a:cubicBezTo>
                  <a:cubicBezTo>
                    <a:pt x="158" y="535"/>
                    <a:pt x="158" y="535"/>
                    <a:pt x="158" y="535"/>
                  </a:cubicBezTo>
                  <a:cubicBezTo>
                    <a:pt x="158" y="537"/>
                    <a:pt x="157" y="538"/>
                    <a:pt x="156" y="539"/>
                  </a:cubicBezTo>
                  <a:cubicBezTo>
                    <a:pt x="155" y="536"/>
                    <a:pt x="154" y="533"/>
                    <a:pt x="153" y="530"/>
                  </a:cubicBezTo>
                  <a:cubicBezTo>
                    <a:pt x="147" y="519"/>
                    <a:pt x="140" y="509"/>
                    <a:pt x="132" y="499"/>
                  </a:cubicBezTo>
                  <a:cubicBezTo>
                    <a:pt x="116" y="481"/>
                    <a:pt x="99" y="465"/>
                    <a:pt x="82" y="449"/>
                  </a:cubicBezTo>
                  <a:cubicBezTo>
                    <a:pt x="65" y="433"/>
                    <a:pt x="47" y="418"/>
                    <a:pt x="32" y="401"/>
                  </a:cubicBezTo>
                  <a:cubicBezTo>
                    <a:pt x="26" y="394"/>
                    <a:pt x="20" y="386"/>
                    <a:pt x="16" y="379"/>
                  </a:cubicBezTo>
                  <a:cubicBezTo>
                    <a:pt x="14" y="373"/>
                    <a:pt x="13" y="368"/>
                    <a:pt x="13" y="363"/>
                  </a:cubicBezTo>
                  <a:cubicBezTo>
                    <a:pt x="11" y="342"/>
                    <a:pt x="19" y="322"/>
                    <a:pt x="32" y="304"/>
                  </a:cubicBezTo>
                  <a:cubicBezTo>
                    <a:pt x="45" y="286"/>
                    <a:pt x="61" y="270"/>
                    <a:pt x="78" y="254"/>
                  </a:cubicBezTo>
                  <a:cubicBezTo>
                    <a:pt x="95" y="239"/>
                    <a:pt x="113" y="223"/>
                    <a:pt x="129" y="204"/>
                  </a:cubicBezTo>
                  <a:cubicBezTo>
                    <a:pt x="136" y="195"/>
                    <a:pt x="144" y="185"/>
                    <a:pt x="150" y="174"/>
                  </a:cubicBezTo>
                  <a:cubicBezTo>
                    <a:pt x="152" y="169"/>
                    <a:pt x="155" y="163"/>
                    <a:pt x="156" y="158"/>
                  </a:cubicBezTo>
                  <a:cubicBezTo>
                    <a:pt x="157" y="159"/>
                    <a:pt x="158" y="161"/>
                    <a:pt x="158" y="162"/>
                  </a:cubicBezTo>
                  <a:cubicBezTo>
                    <a:pt x="158" y="103"/>
                    <a:pt x="158" y="103"/>
                    <a:pt x="158" y="103"/>
                  </a:cubicBezTo>
                  <a:cubicBezTo>
                    <a:pt x="158" y="104"/>
                    <a:pt x="157" y="105"/>
                    <a:pt x="156" y="106"/>
                  </a:cubicBezTo>
                  <a:cubicBezTo>
                    <a:pt x="155" y="103"/>
                    <a:pt x="154" y="100"/>
                    <a:pt x="153" y="97"/>
                  </a:cubicBezTo>
                  <a:cubicBezTo>
                    <a:pt x="147" y="86"/>
                    <a:pt x="140" y="76"/>
                    <a:pt x="132" y="66"/>
                  </a:cubicBezTo>
                  <a:cubicBezTo>
                    <a:pt x="116" y="48"/>
                    <a:pt x="99" y="32"/>
                    <a:pt x="82" y="16"/>
                  </a:cubicBezTo>
                  <a:cubicBezTo>
                    <a:pt x="76" y="11"/>
                    <a:pt x="70" y="5"/>
                    <a:pt x="64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57" y="8"/>
                    <a:pt x="65" y="16"/>
                    <a:pt x="74" y="24"/>
                  </a:cubicBezTo>
                  <a:cubicBezTo>
                    <a:pt x="91" y="40"/>
                    <a:pt x="108" y="56"/>
                    <a:pt x="123" y="74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grpSp>
          <p:nvGrpSpPr>
            <p:cNvPr id="23" name="Group 165"/>
            <p:cNvGrpSpPr/>
            <p:nvPr/>
          </p:nvGrpSpPr>
          <p:grpSpPr>
            <a:xfrm>
              <a:off x="-3240" y="-1440"/>
              <a:ext cx="12196440" cy="6862320"/>
              <a:chOff x="-3240" y="-1440"/>
              <a:chExt cx="12196440" cy="6862320"/>
            </a:xfrm>
          </p:grpSpPr>
          <p:sp>
            <p:nvSpPr>
              <p:cNvPr id="24" name="Freeform 23"/>
              <p:cNvSpPr/>
              <p:nvPr/>
            </p:nvSpPr>
            <p:spPr>
              <a:xfrm>
                <a:off x="1620720" y="6353280"/>
                <a:ext cx="786960" cy="50760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4" y="11"/>
                    </a:move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5" name="Freeform 24"/>
              <p:cNvSpPr/>
              <p:nvPr/>
            </p:nvSpPr>
            <p:spPr>
              <a:xfrm>
                <a:off x="603360" y="6353280"/>
                <a:ext cx="788760" cy="50760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5" y="11"/>
                    </a:move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1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7" y="103"/>
                    </a:cubicBezTo>
                    <a:cubicBezTo>
                      <a:pt x="248" y="77"/>
                      <a:pt x="245" y="25"/>
                      <a:pt x="195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6" name="Freeform 25"/>
              <p:cNvSpPr/>
              <p:nvPr/>
            </p:nvSpPr>
            <p:spPr>
              <a:xfrm>
                <a:off x="-3240" y="6359400"/>
                <a:ext cx="380520" cy="50112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120" h="158">
                    <a:moveTo>
                      <a:pt x="108" y="101"/>
                    </a:moveTo>
                    <a:cubicBezTo>
                      <a:pt x="120" y="75"/>
                      <a:pt x="116" y="23"/>
                      <a:pt x="66" y="9"/>
                    </a:cubicBezTo>
                    <a:cubicBezTo>
                      <a:pt x="35" y="0"/>
                      <a:pt x="10" y="15"/>
                      <a:pt x="0" y="22"/>
                    </a:cubicBezTo>
                    <a:cubicBezTo>
                      <a:pt x="0" y="158"/>
                      <a:pt x="0" y="158"/>
                      <a:pt x="0" y="158"/>
                    </a:cubicBezTo>
                    <a:cubicBezTo>
                      <a:pt x="55" y="158"/>
                      <a:pt x="55" y="158"/>
                      <a:pt x="55" y="158"/>
                    </a:cubicBezTo>
                    <a:cubicBezTo>
                      <a:pt x="77" y="141"/>
                      <a:pt x="99" y="120"/>
                      <a:pt x="108" y="1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7" name="Freeform 26"/>
              <p:cNvSpPr/>
              <p:nvPr/>
            </p:nvSpPr>
            <p:spPr>
              <a:xfrm>
                <a:off x="4660920" y="6353280"/>
                <a:ext cx="790200" cy="50760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9" h="160">
                    <a:moveTo>
                      <a:pt x="195" y="11"/>
                    </a:move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21" y="122"/>
                      <a:pt x="43" y="143"/>
                      <a:pt x="65" y="160"/>
                    </a:cubicBezTo>
                    <a:cubicBezTo>
                      <a:pt x="185" y="160"/>
                      <a:pt x="185" y="160"/>
                      <a:pt x="185" y="160"/>
                    </a:cubicBezTo>
                    <a:cubicBezTo>
                      <a:pt x="207" y="143"/>
                      <a:pt x="228" y="122"/>
                      <a:pt x="237" y="103"/>
                    </a:cubicBezTo>
                    <a:cubicBezTo>
                      <a:pt x="249" y="77"/>
                      <a:pt x="246" y="25"/>
                      <a:pt x="195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8" name="Freeform 27"/>
              <p:cNvSpPr/>
              <p:nvPr/>
            </p:nvSpPr>
            <p:spPr>
              <a:xfrm>
                <a:off x="3648240" y="6353280"/>
                <a:ext cx="786960" cy="50760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4" y="11"/>
                    </a:move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9" name="Freeform 28"/>
              <p:cNvSpPr/>
              <p:nvPr/>
            </p:nvSpPr>
            <p:spPr>
              <a:xfrm>
                <a:off x="7716960" y="6353280"/>
                <a:ext cx="788760" cy="50760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4" y="11"/>
                    </a:move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0" name="Freeform 29"/>
              <p:cNvSpPr/>
              <p:nvPr/>
            </p:nvSpPr>
            <p:spPr>
              <a:xfrm>
                <a:off x="6700680" y="6353280"/>
                <a:ext cx="786960" cy="50760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5" y="11"/>
                    </a:move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1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7" y="103"/>
                    </a:cubicBezTo>
                    <a:cubicBezTo>
                      <a:pt x="248" y="77"/>
                      <a:pt x="245" y="25"/>
                      <a:pt x="195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1" name="Freeform 30"/>
              <p:cNvSpPr/>
              <p:nvPr/>
            </p:nvSpPr>
            <p:spPr>
              <a:xfrm>
                <a:off x="1620720" y="496404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2" name="Freeform 31"/>
              <p:cNvSpPr/>
              <p:nvPr/>
            </p:nvSpPr>
            <p:spPr>
              <a:xfrm>
                <a:off x="603360" y="496404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3" name="Freeform 32"/>
              <p:cNvSpPr/>
              <p:nvPr/>
            </p:nvSpPr>
            <p:spPr>
              <a:xfrm>
                <a:off x="-3240" y="4970520"/>
                <a:ext cx="380520" cy="61884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618840"/>
                  <a:gd name="textAreaBottom" fmla="*/ 619200 h 618840"/>
                </a:gdLst>
                <a:ahLst/>
                <a:rect l="textAreaLeft" t="textAreaTop" r="textAreaRight" b="textAreaBottom"/>
                <a:pathLst>
                  <a:path w="120" h="195">
                    <a:moveTo>
                      <a:pt x="108" y="100"/>
                    </a:moveTo>
                    <a:cubicBezTo>
                      <a:pt x="120" y="74"/>
                      <a:pt x="116" y="22"/>
                      <a:pt x="66" y="8"/>
                    </a:cubicBezTo>
                    <a:cubicBezTo>
                      <a:pt x="35" y="0"/>
                      <a:pt x="10" y="15"/>
                      <a:pt x="0" y="22"/>
                    </a:cubicBezTo>
                    <a:cubicBezTo>
                      <a:pt x="0" y="195"/>
                      <a:pt x="0" y="195"/>
                      <a:pt x="0" y="195"/>
                    </a:cubicBezTo>
                    <a:cubicBezTo>
                      <a:pt x="19" y="184"/>
                      <a:pt x="90" y="139"/>
                      <a:pt x="108" y="1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4" name="Freeform 33"/>
              <p:cNvSpPr/>
              <p:nvPr/>
            </p:nvSpPr>
            <p:spPr>
              <a:xfrm>
                <a:off x="98280" y="566568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5" name="Freeform 34"/>
              <p:cNvSpPr/>
              <p:nvPr/>
            </p:nvSpPr>
            <p:spPr>
              <a:xfrm>
                <a:off x="1122480" y="566568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9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6" name="Freeform 35"/>
              <p:cNvSpPr/>
              <p:nvPr/>
            </p:nvSpPr>
            <p:spPr>
              <a:xfrm>
                <a:off x="2131920" y="566568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7" name="Freeform 36"/>
              <p:cNvSpPr/>
              <p:nvPr/>
            </p:nvSpPr>
            <p:spPr>
              <a:xfrm>
                <a:off x="4660920" y="4964040"/>
                <a:ext cx="790200" cy="63468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54" y="10"/>
                    </a:moveTo>
                    <a:cubicBezTo>
                      <a:pt x="4" y="24"/>
                      <a:pt x="0" y="76"/>
                      <a:pt x="12" y="102"/>
                    </a:cubicBezTo>
                    <a:cubicBezTo>
                      <a:pt x="32" y="146"/>
                      <a:pt x="119" y="197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ubicBezTo>
                      <a:pt x="249" y="76"/>
                      <a:pt x="246" y="24"/>
                      <a:pt x="195" y="10"/>
                    </a:cubicBezTo>
                    <a:cubicBezTo>
                      <a:pt x="157" y="0"/>
                      <a:pt x="126" y="26"/>
                      <a:pt x="125" y="28"/>
                    </a:cubicBezTo>
                    <a:cubicBezTo>
                      <a:pt x="123" y="26"/>
                      <a:pt x="93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8" name="Freeform 37"/>
              <p:cNvSpPr/>
              <p:nvPr/>
            </p:nvSpPr>
            <p:spPr>
              <a:xfrm>
                <a:off x="3648240" y="496404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6" y="102"/>
                    </a:move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9" name="Freeform 38"/>
              <p:cNvSpPr/>
              <p:nvPr/>
            </p:nvSpPr>
            <p:spPr>
              <a:xfrm>
                <a:off x="3141720" y="566568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40" name="Freeform 39"/>
              <p:cNvSpPr/>
              <p:nvPr/>
            </p:nvSpPr>
            <p:spPr>
              <a:xfrm>
                <a:off x="4162320" y="566568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41" name="Freeform 40"/>
              <p:cNvSpPr/>
              <p:nvPr/>
            </p:nvSpPr>
            <p:spPr>
              <a:xfrm>
                <a:off x="5175360" y="566568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42" name="Freeform 41"/>
              <p:cNvSpPr/>
              <p:nvPr/>
            </p:nvSpPr>
            <p:spPr>
              <a:xfrm>
                <a:off x="7716960" y="496404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43" name="Freeform 42"/>
              <p:cNvSpPr/>
              <p:nvPr/>
            </p:nvSpPr>
            <p:spPr>
              <a:xfrm>
                <a:off x="6700680" y="496404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44" name="Freeform 43"/>
              <p:cNvSpPr/>
              <p:nvPr/>
            </p:nvSpPr>
            <p:spPr>
              <a:xfrm>
                <a:off x="6195960" y="566568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45" name="Freeform 44"/>
              <p:cNvSpPr/>
              <p:nvPr/>
            </p:nvSpPr>
            <p:spPr>
              <a:xfrm>
                <a:off x="7218360" y="566568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9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46" name="Freeform 45"/>
              <p:cNvSpPr/>
              <p:nvPr/>
            </p:nvSpPr>
            <p:spPr>
              <a:xfrm>
                <a:off x="8228160" y="566568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47" name="Freeform 46"/>
              <p:cNvSpPr/>
              <p:nvPr/>
            </p:nvSpPr>
            <p:spPr>
              <a:xfrm>
                <a:off x="1620720" y="361620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48" name="Freeform 47"/>
              <p:cNvSpPr/>
              <p:nvPr/>
            </p:nvSpPr>
            <p:spPr>
              <a:xfrm>
                <a:off x="603360" y="361620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49" name="Freeform 48"/>
              <p:cNvSpPr/>
              <p:nvPr/>
            </p:nvSpPr>
            <p:spPr>
              <a:xfrm>
                <a:off x="-3240" y="3622680"/>
                <a:ext cx="380520" cy="61884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618840"/>
                  <a:gd name="textAreaBottom" fmla="*/ 619200 h 618840"/>
                </a:gdLst>
                <a:ahLst/>
                <a:rect l="textAreaLeft" t="textAreaTop" r="textAreaRight" b="textAreaBottom"/>
                <a:pathLst>
                  <a:path w="120" h="195">
                    <a:moveTo>
                      <a:pt x="108" y="100"/>
                    </a:moveTo>
                    <a:cubicBezTo>
                      <a:pt x="120" y="74"/>
                      <a:pt x="116" y="22"/>
                      <a:pt x="66" y="8"/>
                    </a:cubicBezTo>
                    <a:cubicBezTo>
                      <a:pt x="35" y="0"/>
                      <a:pt x="10" y="15"/>
                      <a:pt x="0" y="22"/>
                    </a:cubicBezTo>
                    <a:cubicBezTo>
                      <a:pt x="0" y="195"/>
                      <a:pt x="0" y="195"/>
                      <a:pt x="0" y="195"/>
                    </a:cubicBezTo>
                    <a:cubicBezTo>
                      <a:pt x="19" y="184"/>
                      <a:pt x="90" y="139"/>
                      <a:pt x="108" y="1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0" name="Freeform 49"/>
              <p:cNvSpPr/>
              <p:nvPr/>
            </p:nvSpPr>
            <p:spPr>
              <a:xfrm>
                <a:off x="98280" y="43178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1" name="Freeform 50"/>
              <p:cNvSpPr/>
              <p:nvPr/>
            </p:nvSpPr>
            <p:spPr>
              <a:xfrm>
                <a:off x="1122480" y="431784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2" name="Freeform 51"/>
              <p:cNvSpPr/>
              <p:nvPr/>
            </p:nvSpPr>
            <p:spPr>
              <a:xfrm>
                <a:off x="2131920" y="43178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3" name="Freeform 52"/>
              <p:cNvSpPr/>
              <p:nvPr/>
            </p:nvSpPr>
            <p:spPr>
              <a:xfrm>
                <a:off x="4660920" y="3616200"/>
                <a:ext cx="790200" cy="63468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54" y="10"/>
                    </a:moveTo>
                    <a:cubicBezTo>
                      <a:pt x="4" y="24"/>
                      <a:pt x="0" y="76"/>
                      <a:pt x="12" y="102"/>
                    </a:cubicBezTo>
                    <a:cubicBezTo>
                      <a:pt x="32" y="146"/>
                      <a:pt x="119" y="197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ubicBezTo>
                      <a:pt x="249" y="76"/>
                      <a:pt x="246" y="24"/>
                      <a:pt x="195" y="10"/>
                    </a:cubicBezTo>
                    <a:cubicBezTo>
                      <a:pt x="157" y="0"/>
                      <a:pt x="126" y="26"/>
                      <a:pt x="125" y="28"/>
                    </a:cubicBezTo>
                    <a:cubicBezTo>
                      <a:pt x="123" y="26"/>
                      <a:pt x="93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4" name="Freeform 53"/>
              <p:cNvSpPr/>
              <p:nvPr/>
            </p:nvSpPr>
            <p:spPr>
              <a:xfrm>
                <a:off x="3648240" y="361620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6" y="102"/>
                    </a:move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5" name="Freeform 54"/>
              <p:cNvSpPr/>
              <p:nvPr/>
            </p:nvSpPr>
            <p:spPr>
              <a:xfrm>
                <a:off x="3141720" y="431784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6" name="Freeform 55"/>
              <p:cNvSpPr/>
              <p:nvPr/>
            </p:nvSpPr>
            <p:spPr>
              <a:xfrm>
                <a:off x="4162320" y="43178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7" name="Freeform 56"/>
              <p:cNvSpPr/>
              <p:nvPr/>
            </p:nvSpPr>
            <p:spPr>
              <a:xfrm>
                <a:off x="5175360" y="431784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8" name="Freeform 57"/>
              <p:cNvSpPr/>
              <p:nvPr/>
            </p:nvSpPr>
            <p:spPr>
              <a:xfrm>
                <a:off x="7716960" y="361620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9" name="Freeform 58"/>
              <p:cNvSpPr/>
              <p:nvPr/>
            </p:nvSpPr>
            <p:spPr>
              <a:xfrm>
                <a:off x="6700680" y="361620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0" name="Freeform 59"/>
              <p:cNvSpPr/>
              <p:nvPr/>
            </p:nvSpPr>
            <p:spPr>
              <a:xfrm>
                <a:off x="6195960" y="43178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1" name="Freeform 60"/>
              <p:cNvSpPr/>
              <p:nvPr/>
            </p:nvSpPr>
            <p:spPr>
              <a:xfrm>
                <a:off x="7218360" y="431784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2" name="Freeform 61"/>
              <p:cNvSpPr/>
              <p:nvPr/>
            </p:nvSpPr>
            <p:spPr>
              <a:xfrm>
                <a:off x="8228160" y="431784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3" name="Freeform 62"/>
              <p:cNvSpPr/>
              <p:nvPr/>
            </p:nvSpPr>
            <p:spPr>
              <a:xfrm>
                <a:off x="1620720" y="225576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4" name="Freeform 63"/>
              <p:cNvSpPr/>
              <p:nvPr/>
            </p:nvSpPr>
            <p:spPr>
              <a:xfrm>
                <a:off x="603360" y="225576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5" name="Freeform 64"/>
              <p:cNvSpPr/>
              <p:nvPr/>
            </p:nvSpPr>
            <p:spPr>
              <a:xfrm>
                <a:off x="-3240" y="2262240"/>
                <a:ext cx="380520" cy="61884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618840"/>
                  <a:gd name="textAreaBottom" fmla="*/ 619200 h 618840"/>
                </a:gdLst>
                <a:ahLst/>
                <a:rect l="textAreaLeft" t="textAreaTop" r="textAreaRight" b="textAreaBottom"/>
                <a:pathLst>
                  <a:path w="120" h="195">
                    <a:moveTo>
                      <a:pt x="108" y="100"/>
                    </a:moveTo>
                    <a:cubicBezTo>
                      <a:pt x="120" y="74"/>
                      <a:pt x="116" y="22"/>
                      <a:pt x="66" y="8"/>
                    </a:cubicBezTo>
                    <a:cubicBezTo>
                      <a:pt x="35" y="0"/>
                      <a:pt x="10" y="15"/>
                      <a:pt x="0" y="22"/>
                    </a:cubicBezTo>
                    <a:cubicBezTo>
                      <a:pt x="0" y="195"/>
                      <a:pt x="0" y="195"/>
                      <a:pt x="0" y="195"/>
                    </a:cubicBezTo>
                    <a:cubicBezTo>
                      <a:pt x="19" y="184"/>
                      <a:pt x="90" y="139"/>
                      <a:pt x="108" y="1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6" name="Freeform 65"/>
              <p:cNvSpPr/>
              <p:nvPr/>
            </p:nvSpPr>
            <p:spPr>
              <a:xfrm>
                <a:off x="98280" y="295740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7" name="Freeform 66"/>
              <p:cNvSpPr/>
              <p:nvPr/>
            </p:nvSpPr>
            <p:spPr>
              <a:xfrm>
                <a:off x="1122480" y="295740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8" name="Freeform 67"/>
              <p:cNvSpPr/>
              <p:nvPr/>
            </p:nvSpPr>
            <p:spPr>
              <a:xfrm>
                <a:off x="2131920" y="295740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9" name="Freeform 68"/>
              <p:cNvSpPr/>
              <p:nvPr/>
            </p:nvSpPr>
            <p:spPr>
              <a:xfrm>
                <a:off x="4660920" y="2255760"/>
                <a:ext cx="790200" cy="63468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54" y="10"/>
                    </a:moveTo>
                    <a:cubicBezTo>
                      <a:pt x="4" y="24"/>
                      <a:pt x="0" y="76"/>
                      <a:pt x="12" y="102"/>
                    </a:cubicBezTo>
                    <a:cubicBezTo>
                      <a:pt x="32" y="146"/>
                      <a:pt x="119" y="197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ubicBezTo>
                      <a:pt x="249" y="76"/>
                      <a:pt x="246" y="24"/>
                      <a:pt x="195" y="10"/>
                    </a:cubicBezTo>
                    <a:cubicBezTo>
                      <a:pt x="157" y="0"/>
                      <a:pt x="126" y="26"/>
                      <a:pt x="125" y="28"/>
                    </a:cubicBezTo>
                    <a:cubicBezTo>
                      <a:pt x="123" y="26"/>
                      <a:pt x="93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70" name="Freeform 69"/>
              <p:cNvSpPr/>
              <p:nvPr/>
            </p:nvSpPr>
            <p:spPr>
              <a:xfrm>
                <a:off x="3648240" y="225576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6" y="102"/>
                    </a:move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71" name="Freeform 70"/>
              <p:cNvSpPr/>
              <p:nvPr/>
            </p:nvSpPr>
            <p:spPr>
              <a:xfrm>
                <a:off x="3141720" y="295740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72" name="Freeform 71"/>
              <p:cNvSpPr/>
              <p:nvPr/>
            </p:nvSpPr>
            <p:spPr>
              <a:xfrm>
                <a:off x="4162320" y="295740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73" name="Freeform 72"/>
              <p:cNvSpPr/>
              <p:nvPr/>
            </p:nvSpPr>
            <p:spPr>
              <a:xfrm>
                <a:off x="5175360" y="295740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74" name="Freeform 73"/>
              <p:cNvSpPr/>
              <p:nvPr/>
            </p:nvSpPr>
            <p:spPr>
              <a:xfrm>
                <a:off x="7716960" y="225576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75" name="Freeform 74"/>
              <p:cNvSpPr/>
              <p:nvPr/>
            </p:nvSpPr>
            <p:spPr>
              <a:xfrm>
                <a:off x="6700680" y="225576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76" name="Freeform 75"/>
              <p:cNvSpPr/>
              <p:nvPr/>
            </p:nvSpPr>
            <p:spPr>
              <a:xfrm>
                <a:off x="8734320" y="2255760"/>
                <a:ext cx="793440" cy="634680"/>
              </a:xfrm>
              <a:custGeom>
                <a:avLst/>
                <a:gdLst>
                  <a:gd name="textAreaLeft" fmla="*/ 0 w 793440"/>
                  <a:gd name="textAreaRight" fmla="*/ 793800 w 79344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50" h="200">
                    <a:moveTo>
                      <a:pt x="128" y="24"/>
                    </a:moveTo>
                    <a:cubicBezTo>
                      <a:pt x="126" y="26"/>
                      <a:pt x="124" y="27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199"/>
                      <a:pt x="128" y="197"/>
                    </a:cubicBezTo>
                    <a:cubicBezTo>
                      <a:pt x="128" y="198"/>
                      <a:pt x="128" y="198"/>
                      <a:pt x="128" y="198"/>
                    </a:cubicBezTo>
                    <a:cubicBezTo>
                      <a:pt x="144" y="189"/>
                      <a:pt x="220" y="142"/>
                      <a:pt x="238" y="102"/>
                    </a:cubicBezTo>
                    <a:cubicBezTo>
                      <a:pt x="250" y="76"/>
                      <a:pt x="246" y="24"/>
                      <a:pt x="196" y="10"/>
                    </a:cubicBezTo>
                    <a:cubicBezTo>
                      <a:pt x="163" y="1"/>
                      <a:pt x="137" y="19"/>
                      <a:pt x="128" y="25"/>
                    </a:cubicBezTo>
                    <a:lnTo>
                      <a:pt x="128" y="24"/>
                    </a:ln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77" name="Freeform 76"/>
              <p:cNvSpPr/>
              <p:nvPr/>
            </p:nvSpPr>
            <p:spPr>
              <a:xfrm>
                <a:off x="6195960" y="295740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78" name="Freeform 77"/>
              <p:cNvSpPr/>
              <p:nvPr/>
            </p:nvSpPr>
            <p:spPr>
              <a:xfrm>
                <a:off x="7218360" y="295740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79" name="Freeform 78"/>
              <p:cNvSpPr/>
              <p:nvPr/>
            </p:nvSpPr>
            <p:spPr>
              <a:xfrm>
                <a:off x="8228160" y="295740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80" name="Freeform 79"/>
              <p:cNvSpPr/>
              <p:nvPr/>
            </p:nvSpPr>
            <p:spPr>
              <a:xfrm>
                <a:off x="1620720" y="863640"/>
                <a:ext cx="786960" cy="6379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54" y="11"/>
                    </a:move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81" name="Freeform 80"/>
              <p:cNvSpPr/>
              <p:nvPr/>
            </p:nvSpPr>
            <p:spPr>
              <a:xfrm>
                <a:off x="603360" y="863640"/>
                <a:ext cx="788760" cy="63792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7" y="103"/>
                    </a:moveTo>
                    <a:cubicBezTo>
                      <a:pt x="248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82" name="Freeform 81"/>
              <p:cNvSpPr/>
              <p:nvPr/>
            </p:nvSpPr>
            <p:spPr>
              <a:xfrm>
                <a:off x="-3240" y="870120"/>
                <a:ext cx="380520" cy="62208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622080"/>
                  <a:gd name="textAreaBottom" fmla="*/ 622440 h 622080"/>
                </a:gdLst>
                <a:ahLst/>
                <a:rect l="textAreaLeft" t="textAreaTop" r="textAreaRight" b="textAreaBottom"/>
                <a:pathLst>
                  <a:path w="120" h="196">
                    <a:moveTo>
                      <a:pt x="108" y="101"/>
                    </a:moveTo>
                    <a:cubicBezTo>
                      <a:pt x="120" y="75"/>
                      <a:pt x="116" y="23"/>
                      <a:pt x="66" y="9"/>
                    </a:cubicBezTo>
                    <a:cubicBezTo>
                      <a:pt x="35" y="0"/>
                      <a:pt x="10" y="15"/>
                      <a:pt x="0" y="23"/>
                    </a:cubicBezTo>
                    <a:cubicBezTo>
                      <a:pt x="0" y="196"/>
                      <a:pt x="0" y="196"/>
                      <a:pt x="0" y="196"/>
                    </a:cubicBezTo>
                    <a:cubicBezTo>
                      <a:pt x="19" y="184"/>
                      <a:pt x="90" y="140"/>
                      <a:pt x="108" y="1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83" name="Freeform 82"/>
              <p:cNvSpPr/>
              <p:nvPr/>
            </p:nvSpPr>
            <p:spPr>
              <a:xfrm>
                <a:off x="98280" y="1568520"/>
                <a:ext cx="790200" cy="63612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124" y="200"/>
                    </a:moveTo>
                    <a:cubicBezTo>
                      <a:pt x="124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ubicBezTo>
                      <a:pt x="249" y="77"/>
                      <a:pt x="245" y="24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84" name="Freeform 83"/>
              <p:cNvSpPr/>
              <p:nvPr/>
            </p:nvSpPr>
            <p:spPr>
              <a:xfrm>
                <a:off x="1122480" y="1568520"/>
                <a:ext cx="786960" cy="6361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6" y="103"/>
                    </a:moveTo>
                    <a:cubicBezTo>
                      <a:pt x="248" y="77"/>
                      <a:pt x="245" y="24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4"/>
                      <a:pt x="0" y="77"/>
                      <a:pt x="11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6" y="146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85" name="Freeform 84"/>
              <p:cNvSpPr/>
              <p:nvPr/>
            </p:nvSpPr>
            <p:spPr>
              <a:xfrm>
                <a:off x="2131920" y="1568520"/>
                <a:ext cx="790200" cy="63612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237" y="103"/>
                    </a:moveTo>
                    <a:cubicBezTo>
                      <a:pt x="249" y="77"/>
                      <a:pt x="245" y="24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86" name="Freeform 85"/>
              <p:cNvSpPr/>
              <p:nvPr/>
            </p:nvSpPr>
            <p:spPr>
              <a:xfrm>
                <a:off x="4660920" y="863640"/>
                <a:ext cx="790200" cy="63792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54" y="11"/>
                    </a:move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5" y="200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ubicBezTo>
                      <a:pt x="249" y="77"/>
                      <a:pt x="246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87" name="Freeform 86"/>
              <p:cNvSpPr/>
              <p:nvPr/>
            </p:nvSpPr>
            <p:spPr>
              <a:xfrm>
                <a:off x="5692680" y="6353280"/>
                <a:ext cx="788760" cy="50760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4" y="11"/>
                    </a:move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88" name="Freeform 87"/>
              <p:cNvSpPr/>
              <p:nvPr/>
            </p:nvSpPr>
            <p:spPr>
              <a:xfrm>
                <a:off x="5692680" y="496404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124" y="200"/>
                    </a:move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89" name="Freeform 88"/>
              <p:cNvSpPr/>
              <p:nvPr/>
            </p:nvSpPr>
            <p:spPr>
              <a:xfrm>
                <a:off x="5692680" y="361620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124" y="200"/>
                    </a:move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90" name="Freeform 89"/>
              <p:cNvSpPr/>
              <p:nvPr/>
            </p:nvSpPr>
            <p:spPr>
              <a:xfrm>
                <a:off x="5692680" y="225576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124" y="200"/>
                    </a:move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91" name="Freeform 90"/>
              <p:cNvSpPr/>
              <p:nvPr/>
            </p:nvSpPr>
            <p:spPr>
              <a:xfrm>
                <a:off x="5692680" y="863640"/>
                <a:ext cx="788760" cy="63792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124" y="201"/>
                    </a:move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92" name="Freeform 91"/>
              <p:cNvSpPr/>
              <p:nvPr/>
            </p:nvSpPr>
            <p:spPr>
              <a:xfrm>
                <a:off x="3648240" y="863640"/>
                <a:ext cx="786960" cy="6379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93" name="Freeform 92"/>
              <p:cNvSpPr/>
              <p:nvPr/>
            </p:nvSpPr>
            <p:spPr>
              <a:xfrm>
                <a:off x="2639880" y="6353280"/>
                <a:ext cx="786960" cy="50760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4" y="11"/>
                    </a:move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94" name="Freeform 93"/>
              <p:cNvSpPr/>
              <p:nvPr/>
            </p:nvSpPr>
            <p:spPr>
              <a:xfrm>
                <a:off x="2639880" y="496404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95" name="Freeform 94"/>
              <p:cNvSpPr/>
              <p:nvPr/>
            </p:nvSpPr>
            <p:spPr>
              <a:xfrm>
                <a:off x="2639880" y="361620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96" name="Freeform 95"/>
              <p:cNvSpPr/>
              <p:nvPr/>
            </p:nvSpPr>
            <p:spPr>
              <a:xfrm>
                <a:off x="2639880" y="225576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97" name="Freeform 96"/>
              <p:cNvSpPr/>
              <p:nvPr/>
            </p:nvSpPr>
            <p:spPr>
              <a:xfrm>
                <a:off x="2639880" y="863640"/>
                <a:ext cx="786960" cy="6379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54" y="11"/>
                    </a:move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98" name="Freeform 97"/>
              <p:cNvSpPr/>
              <p:nvPr/>
            </p:nvSpPr>
            <p:spPr>
              <a:xfrm>
                <a:off x="3141720" y="1568520"/>
                <a:ext cx="791640" cy="63612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124" y="200"/>
                    </a:move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ubicBezTo>
                      <a:pt x="249" y="77"/>
                      <a:pt x="245" y="24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4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99" name="Freeform 98"/>
              <p:cNvSpPr/>
              <p:nvPr/>
            </p:nvSpPr>
            <p:spPr>
              <a:xfrm>
                <a:off x="4162320" y="1568520"/>
                <a:ext cx="790200" cy="63612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237" y="103"/>
                    </a:moveTo>
                    <a:cubicBezTo>
                      <a:pt x="249" y="77"/>
                      <a:pt x="245" y="24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00" name="Freeform 99"/>
              <p:cNvSpPr/>
              <p:nvPr/>
            </p:nvSpPr>
            <p:spPr>
              <a:xfrm>
                <a:off x="5175360" y="1568520"/>
                <a:ext cx="786960" cy="6361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6" y="103"/>
                    </a:moveTo>
                    <a:cubicBezTo>
                      <a:pt x="248" y="77"/>
                      <a:pt x="245" y="24"/>
                      <a:pt x="194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4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01" name="Freeform 100"/>
              <p:cNvSpPr/>
              <p:nvPr/>
            </p:nvSpPr>
            <p:spPr>
              <a:xfrm>
                <a:off x="7716960" y="863640"/>
                <a:ext cx="788760" cy="63792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54" y="11"/>
                    </a:move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02" name="Freeform 101"/>
              <p:cNvSpPr/>
              <p:nvPr/>
            </p:nvSpPr>
            <p:spPr>
              <a:xfrm>
                <a:off x="6700680" y="863640"/>
                <a:ext cx="786960" cy="6379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7" y="103"/>
                    </a:moveTo>
                    <a:cubicBezTo>
                      <a:pt x="248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03" name="Freeform 102"/>
              <p:cNvSpPr/>
              <p:nvPr/>
            </p:nvSpPr>
            <p:spPr>
              <a:xfrm>
                <a:off x="8734320" y="863640"/>
                <a:ext cx="793440" cy="637920"/>
              </a:xfrm>
              <a:custGeom>
                <a:avLst/>
                <a:gdLst>
                  <a:gd name="textAreaLeft" fmla="*/ 0 w 793440"/>
                  <a:gd name="textAreaRight" fmla="*/ 793800 w 79344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50" h="201">
                    <a:moveTo>
                      <a:pt x="54" y="11"/>
                    </a:move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199"/>
                      <a:pt x="128" y="198"/>
                    </a:cubicBezTo>
                    <a:cubicBezTo>
                      <a:pt x="128" y="199"/>
                      <a:pt x="128" y="199"/>
                      <a:pt x="128" y="199"/>
                    </a:cubicBezTo>
                    <a:cubicBezTo>
                      <a:pt x="144" y="189"/>
                      <a:pt x="220" y="143"/>
                      <a:pt x="238" y="103"/>
                    </a:cubicBezTo>
                    <a:cubicBezTo>
                      <a:pt x="250" y="77"/>
                      <a:pt x="246" y="25"/>
                      <a:pt x="196" y="11"/>
                    </a:cubicBezTo>
                    <a:cubicBezTo>
                      <a:pt x="163" y="2"/>
                      <a:pt x="137" y="19"/>
                      <a:pt x="128" y="26"/>
                    </a:cubicBezTo>
                    <a:cubicBezTo>
                      <a:pt x="128" y="25"/>
                      <a:pt x="128" y="25"/>
                      <a:pt x="128" y="25"/>
                    </a:cubicBezTo>
                    <a:cubicBezTo>
                      <a:pt x="126" y="27"/>
                      <a:pt x="124" y="28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04" name="Freeform 103"/>
              <p:cNvSpPr/>
              <p:nvPr/>
            </p:nvSpPr>
            <p:spPr>
              <a:xfrm>
                <a:off x="6195960" y="1568520"/>
                <a:ext cx="790200" cy="63612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124" y="200"/>
                    </a:moveTo>
                    <a:cubicBezTo>
                      <a:pt x="124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ubicBezTo>
                      <a:pt x="249" y="77"/>
                      <a:pt x="245" y="24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05" name="Freeform 104"/>
              <p:cNvSpPr/>
              <p:nvPr/>
            </p:nvSpPr>
            <p:spPr>
              <a:xfrm>
                <a:off x="7218360" y="1568520"/>
                <a:ext cx="786960" cy="6361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6" y="103"/>
                    </a:moveTo>
                    <a:cubicBezTo>
                      <a:pt x="248" y="77"/>
                      <a:pt x="245" y="24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4"/>
                      <a:pt x="0" y="77"/>
                      <a:pt x="11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6" y="146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06" name="Freeform 105"/>
              <p:cNvSpPr/>
              <p:nvPr/>
            </p:nvSpPr>
            <p:spPr>
              <a:xfrm>
                <a:off x="8228160" y="1568520"/>
                <a:ext cx="791640" cy="63612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237" y="103"/>
                    </a:moveTo>
                    <a:cubicBezTo>
                      <a:pt x="249" y="77"/>
                      <a:pt x="245" y="24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07" name="Freeform 106"/>
              <p:cNvSpPr/>
              <p:nvPr/>
            </p:nvSpPr>
            <p:spPr>
              <a:xfrm>
                <a:off x="184644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0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08" name="Freeform 107"/>
              <p:cNvSpPr/>
              <p:nvPr/>
            </p:nvSpPr>
            <p:spPr>
              <a:xfrm>
                <a:off x="286560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0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09" name="Freeform 108"/>
              <p:cNvSpPr/>
              <p:nvPr/>
            </p:nvSpPr>
            <p:spPr>
              <a:xfrm>
                <a:off x="5918040" y="-1440"/>
                <a:ext cx="337680" cy="110880"/>
              </a:xfrm>
              <a:custGeom>
                <a:avLst/>
                <a:gdLst>
                  <a:gd name="textAreaLeft" fmla="*/ 0 w 337680"/>
                  <a:gd name="textAreaRight" fmla="*/ 338040 w 3376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0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10" name="Freeform 109"/>
              <p:cNvSpPr/>
              <p:nvPr/>
            </p:nvSpPr>
            <p:spPr>
              <a:xfrm>
                <a:off x="828720" y="-1440"/>
                <a:ext cx="337680" cy="110880"/>
              </a:xfrm>
              <a:custGeom>
                <a:avLst/>
                <a:gdLst>
                  <a:gd name="textAreaLeft" fmla="*/ 0 w 337680"/>
                  <a:gd name="textAreaRight" fmla="*/ 338040 w 3376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1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11" name="Freeform 110"/>
              <p:cNvSpPr/>
              <p:nvPr/>
            </p:nvSpPr>
            <p:spPr>
              <a:xfrm>
                <a:off x="-3240" y="-1440"/>
                <a:ext cx="151920" cy="10116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48" h="32">
                    <a:moveTo>
                      <a:pt x="0" y="0"/>
                    </a:moveTo>
                    <a:cubicBezTo>
                      <a:pt x="0" y="32"/>
                      <a:pt x="0" y="32"/>
                      <a:pt x="0" y="32"/>
                    </a:cubicBezTo>
                    <a:cubicBezTo>
                      <a:pt x="9" y="27"/>
                      <a:pt x="28" y="15"/>
                      <a:pt x="48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12" name="Freeform 111"/>
              <p:cNvSpPr/>
              <p:nvPr/>
            </p:nvSpPr>
            <p:spPr>
              <a:xfrm>
                <a:off x="98280" y="1760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8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13" name="Freeform 112"/>
              <p:cNvSpPr/>
              <p:nvPr/>
            </p:nvSpPr>
            <p:spPr>
              <a:xfrm>
                <a:off x="1122480" y="17604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9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14" name="Freeform 113"/>
              <p:cNvSpPr/>
              <p:nvPr/>
            </p:nvSpPr>
            <p:spPr>
              <a:xfrm>
                <a:off x="2131920" y="1760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" y="103"/>
                    </a:moveTo>
                    <a:cubicBezTo>
                      <a:pt x="32" y="147"/>
                      <a:pt x="119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15" name="Freeform 114"/>
              <p:cNvSpPr/>
              <p:nvPr/>
            </p:nvSpPr>
            <p:spPr>
              <a:xfrm>
                <a:off x="488952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0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5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16" name="Freeform 115"/>
              <p:cNvSpPr/>
              <p:nvPr/>
            </p:nvSpPr>
            <p:spPr>
              <a:xfrm>
                <a:off x="387360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0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17" name="Freeform 116"/>
              <p:cNvSpPr/>
              <p:nvPr/>
            </p:nvSpPr>
            <p:spPr>
              <a:xfrm>
                <a:off x="3141720" y="17604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8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18" name="Freeform 117"/>
              <p:cNvSpPr/>
              <p:nvPr/>
            </p:nvSpPr>
            <p:spPr>
              <a:xfrm>
                <a:off x="4162320" y="1760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19" name="Freeform 118"/>
              <p:cNvSpPr/>
              <p:nvPr/>
            </p:nvSpPr>
            <p:spPr>
              <a:xfrm>
                <a:off x="5175360" y="17604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12" y="103"/>
                    </a:moveTo>
                    <a:cubicBezTo>
                      <a:pt x="31" y="147"/>
                      <a:pt x="118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7" y="147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20" name="Freeform 119"/>
              <p:cNvSpPr/>
              <p:nvPr/>
            </p:nvSpPr>
            <p:spPr>
              <a:xfrm>
                <a:off x="794232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0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21" name="Freeform 120"/>
              <p:cNvSpPr/>
              <p:nvPr/>
            </p:nvSpPr>
            <p:spPr>
              <a:xfrm>
                <a:off x="692640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1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22" name="Freeform 121"/>
              <p:cNvSpPr/>
              <p:nvPr/>
            </p:nvSpPr>
            <p:spPr>
              <a:xfrm>
                <a:off x="8959680" y="-1440"/>
                <a:ext cx="339480" cy="110880"/>
              </a:xfrm>
              <a:custGeom>
                <a:avLst/>
                <a:gdLst>
                  <a:gd name="textAreaLeft" fmla="*/ 0 w 339480"/>
                  <a:gd name="textAreaRight" fmla="*/ 339840 w 3394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7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4" y="35"/>
                      <a:pt x="55" y="34"/>
                      <a:pt x="57" y="33"/>
                    </a:cubicBezTo>
                    <a:cubicBezTo>
                      <a:pt x="57" y="33"/>
                      <a:pt x="57" y="33"/>
                      <a:pt x="57" y="33"/>
                    </a:cubicBezTo>
                    <a:cubicBezTo>
                      <a:pt x="65" y="29"/>
                      <a:pt x="86" y="16"/>
                      <a:pt x="107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23" name="Freeform 122"/>
              <p:cNvSpPr/>
              <p:nvPr/>
            </p:nvSpPr>
            <p:spPr>
              <a:xfrm>
                <a:off x="6195960" y="1760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8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24" name="Freeform 123"/>
              <p:cNvSpPr/>
              <p:nvPr/>
            </p:nvSpPr>
            <p:spPr>
              <a:xfrm>
                <a:off x="7218360" y="17604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9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25" name="Freeform 124"/>
              <p:cNvSpPr/>
              <p:nvPr/>
            </p:nvSpPr>
            <p:spPr>
              <a:xfrm>
                <a:off x="8228160" y="17604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" y="103"/>
                    </a:moveTo>
                    <a:cubicBezTo>
                      <a:pt x="32" y="147"/>
                      <a:pt x="119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26" name="Freeform 125"/>
              <p:cNvSpPr/>
              <p:nvPr/>
            </p:nvSpPr>
            <p:spPr>
              <a:xfrm>
                <a:off x="10769760" y="6353280"/>
                <a:ext cx="788760" cy="50760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4" y="11"/>
                    </a:move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27" name="Freeform 126"/>
              <p:cNvSpPr/>
              <p:nvPr/>
            </p:nvSpPr>
            <p:spPr>
              <a:xfrm>
                <a:off x="9753480" y="6353280"/>
                <a:ext cx="786960" cy="50760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5" y="11"/>
                    </a:move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1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7" y="103"/>
                    </a:cubicBezTo>
                    <a:cubicBezTo>
                      <a:pt x="248" y="77"/>
                      <a:pt x="245" y="25"/>
                      <a:pt x="195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28" name="Freeform 127"/>
              <p:cNvSpPr/>
              <p:nvPr/>
            </p:nvSpPr>
            <p:spPr>
              <a:xfrm>
                <a:off x="8734320" y="6353280"/>
                <a:ext cx="793440" cy="507600"/>
              </a:xfrm>
              <a:custGeom>
                <a:avLst/>
                <a:gdLst>
                  <a:gd name="textAreaLeft" fmla="*/ 0 w 793440"/>
                  <a:gd name="textAreaRight" fmla="*/ 793800 w 79344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50" h="160">
                    <a:moveTo>
                      <a:pt x="196" y="11"/>
                    </a:moveTo>
                    <a:cubicBezTo>
                      <a:pt x="163" y="2"/>
                      <a:pt x="137" y="19"/>
                      <a:pt x="128" y="26"/>
                    </a:cubicBezTo>
                    <a:cubicBezTo>
                      <a:pt x="128" y="25"/>
                      <a:pt x="128" y="25"/>
                      <a:pt x="128" y="25"/>
                    </a:cubicBezTo>
                    <a:cubicBezTo>
                      <a:pt x="126" y="27"/>
                      <a:pt x="124" y="28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28" y="160"/>
                      <a:pt x="128" y="160"/>
                      <a:pt x="128" y="160"/>
                    </a:cubicBezTo>
                    <a:cubicBezTo>
                      <a:pt x="185" y="160"/>
                      <a:pt x="185" y="160"/>
                      <a:pt x="185" y="160"/>
                    </a:cubicBezTo>
                    <a:cubicBezTo>
                      <a:pt x="207" y="143"/>
                      <a:pt x="229" y="122"/>
                      <a:pt x="238" y="103"/>
                    </a:cubicBezTo>
                    <a:cubicBezTo>
                      <a:pt x="250" y="77"/>
                      <a:pt x="246" y="25"/>
                      <a:pt x="196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29" name="Freeform 128"/>
              <p:cNvSpPr/>
              <p:nvPr/>
            </p:nvSpPr>
            <p:spPr>
              <a:xfrm>
                <a:off x="10769760" y="496404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30" name="Freeform 129"/>
              <p:cNvSpPr/>
              <p:nvPr/>
            </p:nvSpPr>
            <p:spPr>
              <a:xfrm>
                <a:off x="9753480" y="496404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31" name="Freeform 130"/>
              <p:cNvSpPr/>
              <p:nvPr/>
            </p:nvSpPr>
            <p:spPr>
              <a:xfrm>
                <a:off x="8734320" y="4964040"/>
                <a:ext cx="793440" cy="634680"/>
              </a:xfrm>
              <a:custGeom>
                <a:avLst/>
                <a:gdLst>
                  <a:gd name="textAreaLeft" fmla="*/ 0 w 793440"/>
                  <a:gd name="textAreaRight" fmla="*/ 793800 w 79344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50" h="200">
                    <a:moveTo>
                      <a:pt x="128" y="24"/>
                    </a:moveTo>
                    <a:cubicBezTo>
                      <a:pt x="126" y="26"/>
                      <a:pt x="124" y="27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199"/>
                      <a:pt x="128" y="197"/>
                    </a:cubicBezTo>
                    <a:cubicBezTo>
                      <a:pt x="128" y="198"/>
                      <a:pt x="128" y="198"/>
                      <a:pt x="128" y="198"/>
                    </a:cubicBezTo>
                    <a:cubicBezTo>
                      <a:pt x="144" y="189"/>
                      <a:pt x="220" y="142"/>
                      <a:pt x="238" y="102"/>
                    </a:cubicBezTo>
                    <a:cubicBezTo>
                      <a:pt x="250" y="76"/>
                      <a:pt x="246" y="24"/>
                      <a:pt x="196" y="10"/>
                    </a:cubicBezTo>
                    <a:cubicBezTo>
                      <a:pt x="163" y="1"/>
                      <a:pt x="137" y="19"/>
                      <a:pt x="128" y="25"/>
                    </a:cubicBezTo>
                    <a:lnTo>
                      <a:pt x="128" y="24"/>
                    </a:ln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32" name="Freeform 131"/>
              <p:cNvSpPr/>
              <p:nvPr/>
            </p:nvSpPr>
            <p:spPr>
              <a:xfrm>
                <a:off x="9248760" y="566568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33" name="Freeform 132"/>
              <p:cNvSpPr/>
              <p:nvPr/>
            </p:nvSpPr>
            <p:spPr>
              <a:xfrm>
                <a:off x="10271160" y="5665680"/>
                <a:ext cx="788760" cy="63936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9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34" name="Freeform 133"/>
              <p:cNvSpPr/>
              <p:nvPr/>
            </p:nvSpPr>
            <p:spPr>
              <a:xfrm>
                <a:off x="11282400" y="566568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35" name="Freeform 134"/>
              <p:cNvSpPr/>
              <p:nvPr/>
            </p:nvSpPr>
            <p:spPr>
              <a:xfrm>
                <a:off x="10769760" y="361620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36" name="Freeform 135"/>
              <p:cNvSpPr/>
              <p:nvPr/>
            </p:nvSpPr>
            <p:spPr>
              <a:xfrm>
                <a:off x="9753480" y="361620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37" name="Freeform 136"/>
              <p:cNvSpPr/>
              <p:nvPr/>
            </p:nvSpPr>
            <p:spPr>
              <a:xfrm>
                <a:off x="8734320" y="3616200"/>
                <a:ext cx="793440" cy="634680"/>
              </a:xfrm>
              <a:custGeom>
                <a:avLst/>
                <a:gdLst>
                  <a:gd name="textAreaLeft" fmla="*/ 0 w 793440"/>
                  <a:gd name="textAreaRight" fmla="*/ 793800 w 79344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50" h="200">
                    <a:moveTo>
                      <a:pt x="128" y="24"/>
                    </a:moveTo>
                    <a:cubicBezTo>
                      <a:pt x="126" y="26"/>
                      <a:pt x="124" y="27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199"/>
                      <a:pt x="128" y="197"/>
                    </a:cubicBezTo>
                    <a:cubicBezTo>
                      <a:pt x="128" y="198"/>
                      <a:pt x="128" y="198"/>
                      <a:pt x="128" y="198"/>
                    </a:cubicBezTo>
                    <a:cubicBezTo>
                      <a:pt x="144" y="189"/>
                      <a:pt x="220" y="142"/>
                      <a:pt x="238" y="102"/>
                    </a:cubicBezTo>
                    <a:cubicBezTo>
                      <a:pt x="250" y="76"/>
                      <a:pt x="246" y="24"/>
                      <a:pt x="196" y="10"/>
                    </a:cubicBezTo>
                    <a:cubicBezTo>
                      <a:pt x="163" y="1"/>
                      <a:pt x="137" y="19"/>
                      <a:pt x="128" y="25"/>
                    </a:cubicBezTo>
                    <a:lnTo>
                      <a:pt x="128" y="24"/>
                    </a:ln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38" name="Freeform 137"/>
              <p:cNvSpPr/>
              <p:nvPr/>
            </p:nvSpPr>
            <p:spPr>
              <a:xfrm>
                <a:off x="9248760" y="43178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39" name="Freeform 138"/>
              <p:cNvSpPr/>
              <p:nvPr/>
            </p:nvSpPr>
            <p:spPr>
              <a:xfrm>
                <a:off x="10271160" y="4317840"/>
                <a:ext cx="788760" cy="63936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40" name="Freeform 139"/>
              <p:cNvSpPr/>
              <p:nvPr/>
            </p:nvSpPr>
            <p:spPr>
              <a:xfrm>
                <a:off x="11282400" y="43178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41" name="Freeform 140"/>
              <p:cNvSpPr/>
              <p:nvPr/>
            </p:nvSpPr>
            <p:spPr>
              <a:xfrm>
                <a:off x="10769760" y="225576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42" name="Freeform 141"/>
              <p:cNvSpPr/>
              <p:nvPr/>
            </p:nvSpPr>
            <p:spPr>
              <a:xfrm>
                <a:off x="9753480" y="225576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43" name="Freeform 142"/>
              <p:cNvSpPr/>
              <p:nvPr/>
            </p:nvSpPr>
            <p:spPr>
              <a:xfrm>
                <a:off x="9248760" y="295740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44" name="Freeform 143"/>
              <p:cNvSpPr/>
              <p:nvPr/>
            </p:nvSpPr>
            <p:spPr>
              <a:xfrm>
                <a:off x="10271160" y="2957400"/>
                <a:ext cx="788760" cy="63936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45" name="Freeform 144"/>
              <p:cNvSpPr/>
              <p:nvPr/>
            </p:nvSpPr>
            <p:spPr>
              <a:xfrm>
                <a:off x="11282400" y="295740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46" name="Freeform 145"/>
              <p:cNvSpPr/>
              <p:nvPr/>
            </p:nvSpPr>
            <p:spPr>
              <a:xfrm>
                <a:off x="10769760" y="863640"/>
                <a:ext cx="788760" cy="63792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54" y="11"/>
                    </a:move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47" name="Freeform 146"/>
              <p:cNvSpPr/>
              <p:nvPr/>
            </p:nvSpPr>
            <p:spPr>
              <a:xfrm>
                <a:off x="9753480" y="863640"/>
                <a:ext cx="786960" cy="6379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7" y="103"/>
                    </a:moveTo>
                    <a:cubicBezTo>
                      <a:pt x="248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48" name="Freeform 147"/>
              <p:cNvSpPr/>
              <p:nvPr/>
            </p:nvSpPr>
            <p:spPr>
              <a:xfrm>
                <a:off x="9248760" y="1568520"/>
                <a:ext cx="790200" cy="63612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124" y="200"/>
                    </a:moveTo>
                    <a:cubicBezTo>
                      <a:pt x="124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ubicBezTo>
                      <a:pt x="249" y="77"/>
                      <a:pt x="245" y="24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49" name="Freeform 148"/>
              <p:cNvSpPr/>
              <p:nvPr/>
            </p:nvSpPr>
            <p:spPr>
              <a:xfrm>
                <a:off x="10271160" y="1568520"/>
                <a:ext cx="788760" cy="63612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6" y="103"/>
                    </a:moveTo>
                    <a:cubicBezTo>
                      <a:pt x="248" y="77"/>
                      <a:pt x="245" y="24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4"/>
                      <a:pt x="0" y="77"/>
                      <a:pt x="11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6" y="146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50" name="Freeform 149"/>
              <p:cNvSpPr/>
              <p:nvPr/>
            </p:nvSpPr>
            <p:spPr>
              <a:xfrm>
                <a:off x="11282400" y="1568520"/>
                <a:ext cx="790200" cy="63612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237" y="103"/>
                    </a:moveTo>
                    <a:cubicBezTo>
                      <a:pt x="249" y="77"/>
                      <a:pt x="245" y="24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51" name="Freeform 150"/>
              <p:cNvSpPr/>
              <p:nvPr/>
            </p:nvSpPr>
            <p:spPr>
              <a:xfrm>
                <a:off x="11790360" y="6353280"/>
                <a:ext cx="402840" cy="507600"/>
              </a:xfrm>
              <a:custGeom>
                <a:avLst/>
                <a:gdLst>
                  <a:gd name="textAreaLeft" fmla="*/ 0 w 402840"/>
                  <a:gd name="textAreaRight" fmla="*/ 403200 w 40284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127" h="160">
                    <a:moveTo>
                      <a:pt x="54" y="11"/>
                    </a:move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27" y="160"/>
                      <a:pt x="127" y="160"/>
                      <a:pt x="127" y="160"/>
                    </a:cubicBezTo>
                    <a:cubicBezTo>
                      <a:pt x="127" y="26"/>
                      <a:pt x="127" y="26"/>
                      <a:pt x="127" y="26"/>
                    </a:cubicBezTo>
                    <a:cubicBezTo>
                      <a:pt x="125" y="27"/>
                      <a:pt x="124" y="28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52" name="Freeform 151"/>
              <p:cNvSpPr/>
              <p:nvPr/>
            </p:nvSpPr>
            <p:spPr>
              <a:xfrm>
                <a:off x="11790360" y="4964040"/>
                <a:ext cx="402840" cy="634680"/>
              </a:xfrm>
              <a:custGeom>
                <a:avLst/>
                <a:gdLst>
                  <a:gd name="textAreaLeft" fmla="*/ 0 w 402840"/>
                  <a:gd name="textAreaRight" fmla="*/ 403200 w 40284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127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199"/>
                      <a:pt x="127" y="198"/>
                    </a:cubicBezTo>
                    <a:cubicBezTo>
                      <a:pt x="127" y="25"/>
                      <a:pt x="127" y="25"/>
                      <a:pt x="127" y="25"/>
                    </a:cubicBezTo>
                    <a:cubicBezTo>
                      <a:pt x="125" y="27"/>
                      <a:pt x="124" y="28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53" name="Freeform 152"/>
              <p:cNvSpPr/>
              <p:nvPr/>
            </p:nvSpPr>
            <p:spPr>
              <a:xfrm>
                <a:off x="11790360" y="3616200"/>
                <a:ext cx="402840" cy="634680"/>
              </a:xfrm>
              <a:custGeom>
                <a:avLst/>
                <a:gdLst>
                  <a:gd name="textAreaLeft" fmla="*/ 0 w 402840"/>
                  <a:gd name="textAreaRight" fmla="*/ 403200 w 40284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127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199"/>
                      <a:pt x="127" y="198"/>
                    </a:cubicBezTo>
                    <a:cubicBezTo>
                      <a:pt x="127" y="25"/>
                      <a:pt x="127" y="25"/>
                      <a:pt x="127" y="25"/>
                    </a:cubicBezTo>
                    <a:cubicBezTo>
                      <a:pt x="125" y="27"/>
                      <a:pt x="124" y="27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54" name="Freeform 153"/>
              <p:cNvSpPr/>
              <p:nvPr/>
            </p:nvSpPr>
            <p:spPr>
              <a:xfrm>
                <a:off x="11790360" y="2255760"/>
                <a:ext cx="402840" cy="634680"/>
              </a:xfrm>
              <a:custGeom>
                <a:avLst/>
                <a:gdLst>
                  <a:gd name="textAreaLeft" fmla="*/ 0 w 402840"/>
                  <a:gd name="textAreaRight" fmla="*/ 403200 w 40284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127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199"/>
                      <a:pt x="127" y="198"/>
                    </a:cubicBezTo>
                    <a:cubicBezTo>
                      <a:pt x="127" y="25"/>
                      <a:pt x="127" y="25"/>
                      <a:pt x="127" y="25"/>
                    </a:cubicBezTo>
                    <a:cubicBezTo>
                      <a:pt x="125" y="26"/>
                      <a:pt x="124" y="27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55" name="Freeform 154"/>
              <p:cNvSpPr/>
              <p:nvPr/>
            </p:nvSpPr>
            <p:spPr>
              <a:xfrm>
                <a:off x="11790360" y="863640"/>
                <a:ext cx="402840" cy="637920"/>
              </a:xfrm>
              <a:custGeom>
                <a:avLst/>
                <a:gdLst>
                  <a:gd name="textAreaLeft" fmla="*/ 0 w 402840"/>
                  <a:gd name="textAreaRight" fmla="*/ 403200 w 40284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127" h="201">
                    <a:moveTo>
                      <a:pt x="54" y="11"/>
                    </a:move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200"/>
                      <a:pt x="127" y="199"/>
                    </a:cubicBezTo>
                    <a:cubicBezTo>
                      <a:pt x="127" y="26"/>
                      <a:pt x="127" y="26"/>
                      <a:pt x="127" y="26"/>
                    </a:cubicBezTo>
                    <a:cubicBezTo>
                      <a:pt x="125" y="27"/>
                      <a:pt x="124" y="28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56" name="Freeform 155"/>
              <p:cNvSpPr/>
              <p:nvPr/>
            </p:nvSpPr>
            <p:spPr>
              <a:xfrm>
                <a:off x="1099656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0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57" name="Freeform 156"/>
              <p:cNvSpPr/>
              <p:nvPr/>
            </p:nvSpPr>
            <p:spPr>
              <a:xfrm>
                <a:off x="12015720" y="-1440"/>
                <a:ext cx="177480" cy="11088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5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4" y="35"/>
                      <a:pt x="55" y="34"/>
                      <a:pt x="56" y="33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58" name="Freeform 157"/>
              <p:cNvSpPr/>
              <p:nvPr/>
            </p:nvSpPr>
            <p:spPr>
              <a:xfrm>
                <a:off x="997920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1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59" name="Freeform 158"/>
              <p:cNvSpPr/>
              <p:nvPr/>
            </p:nvSpPr>
            <p:spPr>
              <a:xfrm>
                <a:off x="9248760" y="1760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8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60" name="Freeform 159"/>
              <p:cNvSpPr/>
              <p:nvPr/>
            </p:nvSpPr>
            <p:spPr>
              <a:xfrm>
                <a:off x="10271160" y="176040"/>
                <a:ext cx="788760" cy="63936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9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161" name="Freeform 160"/>
              <p:cNvSpPr/>
              <p:nvPr/>
            </p:nvSpPr>
            <p:spPr>
              <a:xfrm>
                <a:off x="11282400" y="1760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" y="103"/>
                    </a:moveTo>
                    <a:cubicBezTo>
                      <a:pt x="32" y="147"/>
                      <a:pt x="119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</p:grpSp>
      <p:sp>
        <p:nvSpPr>
          <p:cNvPr id="162" name="Rectangle 310"/>
          <p:cNvSpPr/>
          <p:nvPr/>
        </p:nvSpPr>
        <p:spPr>
          <a:xfrm>
            <a:off x="1440" y="1828800"/>
            <a:ext cx="12188520" cy="32000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cxnSp>
        <p:nvCxnSpPr>
          <p:cNvPr id="163" name="Straight Connector 311"/>
          <p:cNvCxnSpPr/>
          <p:nvPr/>
        </p:nvCxnSpPr>
        <p:spPr>
          <a:xfrm>
            <a:off x="1440" y="1828800"/>
            <a:ext cx="12189240" cy="360"/>
          </a:xfrm>
          <a:prstGeom prst="straightConnector1">
            <a:avLst/>
          </a:prstGeom>
          <a:ln w="50800">
            <a:solidFill>
              <a:srgbClr val="ffffff"/>
            </a:solidFill>
          </a:ln>
        </p:spPr>
      </p:cxnSp>
      <p:cxnSp>
        <p:nvCxnSpPr>
          <p:cNvPr id="164" name="Straight Connector 312"/>
          <p:cNvCxnSpPr/>
          <p:nvPr/>
        </p:nvCxnSpPr>
        <p:spPr>
          <a:xfrm>
            <a:off x="1440" y="5029200"/>
            <a:ext cx="12189240" cy="360"/>
          </a:xfrm>
          <a:prstGeom prst="straightConnector1">
            <a:avLst/>
          </a:prstGeom>
          <a:ln w="50800">
            <a:solidFill>
              <a:srgbClr val="ffffff"/>
            </a:solidFill>
          </a:ln>
        </p:spPr>
      </p:cxnSp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-216720" y="-1101240"/>
            <a:ext cx="13624560" cy="81946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95280" y="2040480"/>
            <a:ext cx="6192360" cy="164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565a5c"/>
                </a:solidFill>
                <a:latin typeface="Century Gothic"/>
              </a:rPr>
              <a:t>Click to edit Master title styl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Freeform 331"/>
          <p:cNvSpPr/>
          <p:nvPr/>
        </p:nvSpPr>
        <p:spPr>
          <a:xfrm>
            <a:off x="7846920" y="0"/>
            <a:ext cx="4341600" cy="6857640"/>
          </a:xfrm>
          <a:custGeom>
            <a:avLst/>
            <a:gdLst>
              <a:gd name="textAreaLeft" fmla="*/ 0 w 4341600"/>
              <a:gd name="textAreaRight" fmla="*/ 4341960 w 434160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4341813" h="6857999">
                <a:moveTo>
                  <a:pt x="360311" y="0"/>
                </a:moveTo>
                <a:lnTo>
                  <a:pt x="4341813" y="0"/>
                </a:lnTo>
                <a:lnTo>
                  <a:pt x="4341813" y="6857999"/>
                </a:lnTo>
                <a:lnTo>
                  <a:pt x="358165" y="6857999"/>
                </a:lnTo>
                <a:cubicBezTo>
                  <a:pt x="357915" y="6857790"/>
                  <a:pt x="357699" y="6857550"/>
                  <a:pt x="357483" y="6857309"/>
                </a:cubicBezTo>
                <a:cubicBezTo>
                  <a:pt x="188317" y="6665845"/>
                  <a:pt x="95755" y="6394603"/>
                  <a:pt x="95755" y="6072305"/>
                </a:cubicBezTo>
                <a:cubicBezTo>
                  <a:pt x="95755" y="5982955"/>
                  <a:pt x="102138" y="5893604"/>
                  <a:pt x="118097" y="5801063"/>
                </a:cubicBezTo>
                <a:cubicBezTo>
                  <a:pt x="137248" y="5657465"/>
                  <a:pt x="181933" y="5478765"/>
                  <a:pt x="226619" y="5287300"/>
                </a:cubicBezTo>
                <a:cubicBezTo>
                  <a:pt x="315989" y="4920327"/>
                  <a:pt x="418127" y="4502296"/>
                  <a:pt x="418127" y="4148087"/>
                </a:cubicBezTo>
                <a:cubicBezTo>
                  <a:pt x="418127" y="3848126"/>
                  <a:pt x="344716" y="3653470"/>
                  <a:pt x="194701" y="3557738"/>
                </a:cubicBezTo>
                <a:cubicBezTo>
                  <a:pt x="0" y="3430095"/>
                  <a:pt x="0" y="3430095"/>
                  <a:pt x="0" y="3430095"/>
                </a:cubicBezTo>
                <a:lnTo>
                  <a:pt x="194701" y="3302452"/>
                </a:lnTo>
                <a:cubicBezTo>
                  <a:pt x="344716" y="3203528"/>
                  <a:pt x="418127" y="3012064"/>
                  <a:pt x="418127" y="2712103"/>
                </a:cubicBezTo>
                <a:cubicBezTo>
                  <a:pt x="418127" y="2357894"/>
                  <a:pt x="315989" y="1939863"/>
                  <a:pt x="226619" y="1569698"/>
                </a:cubicBezTo>
                <a:cubicBezTo>
                  <a:pt x="181933" y="1381425"/>
                  <a:pt x="137248" y="1199533"/>
                  <a:pt x="118097" y="1059126"/>
                </a:cubicBezTo>
                <a:cubicBezTo>
                  <a:pt x="102138" y="966585"/>
                  <a:pt x="95755" y="874044"/>
                  <a:pt x="95755" y="787885"/>
                </a:cubicBezTo>
                <a:cubicBezTo>
                  <a:pt x="95755" y="465586"/>
                  <a:pt x="188317" y="194345"/>
                  <a:pt x="357483" y="2880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Freeform 332"/>
          <p:cNvSpPr/>
          <p:nvPr/>
        </p:nvSpPr>
        <p:spPr>
          <a:xfrm>
            <a:off x="8082360" y="-1440"/>
            <a:ext cx="4123440" cy="6859080"/>
          </a:xfrm>
          <a:custGeom>
            <a:avLst/>
            <a:gdLst>
              <a:gd name="textAreaLeft" fmla="*/ 0 w 4123440"/>
              <a:gd name="textAreaRight" fmla="*/ 4123800 w 4123440"/>
              <a:gd name="textAreaTop" fmla="*/ 0 h 6859080"/>
              <a:gd name="textAreaBottom" fmla="*/ 6859440 h 6859080"/>
            </a:gdLst>
            <a:ahLst/>
            <a:rect l="textAreaLeft" t="textAreaTop" r="textAreaRight" b="textAreaBottom"/>
            <a:pathLst>
              <a:path w="4123825" h="6859588">
                <a:moveTo>
                  <a:pt x="339164" y="0"/>
                </a:moveTo>
                <a:lnTo>
                  <a:pt x="4123825" y="0"/>
                </a:lnTo>
                <a:lnTo>
                  <a:pt x="4123825" y="6859588"/>
                </a:lnTo>
                <a:lnTo>
                  <a:pt x="337195" y="6859588"/>
                </a:lnTo>
                <a:lnTo>
                  <a:pt x="308262" y="6836249"/>
                </a:lnTo>
                <a:cubicBezTo>
                  <a:pt x="279371" y="6810237"/>
                  <a:pt x="251005" y="6781885"/>
                  <a:pt x="223173" y="6751035"/>
                </a:cubicBezTo>
                <a:cubicBezTo>
                  <a:pt x="21642" y="6526966"/>
                  <a:pt x="-33617" y="6176249"/>
                  <a:pt x="18391" y="5819037"/>
                </a:cubicBezTo>
                <a:cubicBezTo>
                  <a:pt x="112656" y="5198787"/>
                  <a:pt x="642487" y="3831640"/>
                  <a:pt x="28143" y="3432212"/>
                </a:cubicBezTo>
                <a:cubicBezTo>
                  <a:pt x="642487" y="3032784"/>
                  <a:pt x="112656" y="1662389"/>
                  <a:pt x="18391" y="1042140"/>
                </a:cubicBezTo>
                <a:cubicBezTo>
                  <a:pt x="-33617" y="684928"/>
                  <a:pt x="21642" y="334210"/>
                  <a:pt x="223173" y="110141"/>
                </a:cubicBezTo>
                <a:cubicBezTo>
                  <a:pt x="251006" y="79291"/>
                  <a:pt x="279371" y="50940"/>
                  <a:pt x="308262" y="24928"/>
                </a:cubicBezTo>
                <a:close/>
              </a:path>
            </a:pathLst>
          </a:custGeom>
          <a:solidFill>
            <a:schemeClr val="tx1"/>
          </a:solidFill>
          <a:ln w="50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117640" y="-1440"/>
            <a:ext cx="4088160" cy="6859080"/>
          </a:xfrm>
          <a:prstGeom prst="rect">
            <a:avLst/>
          </a:prstGeom>
          <a:solidFill>
            <a:srgbClr val="f9d9da"/>
          </a:solidFill>
          <a:ln w="0">
            <a:noFill/>
          </a:ln>
        </p:spPr>
        <p:txBody>
          <a:bodyPr lIns="90000" rIns="90000" tIns="365760" bIns="45000" anchor="t">
            <a:no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3f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reeform 22" hidden="1"/>
          <p:cNvSpPr/>
          <p:nvPr/>
        </p:nvSpPr>
        <p:spPr>
          <a:xfrm flipH="1" flipV="1">
            <a:off x="10807560" y="1065960"/>
            <a:ext cx="1383840" cy="2166840"/>
          </a:xfrm>
          <a:custGeom>
            <a:avLst/>
            <a:gdLst>
              <a:gd name="textAreaLeft" fmla="*/ 360 w 1383840"/>
              <a:gd name="textAreaRight" fmla="*/ 1384560 w 1383840"/>
              <a:gd name="textAreaTop" fmla="*/ -360 h 2166840"/>
              <a:gd name="textAreaBottom" fmla="*/ 2166840 h 2166840"/>
            </a:gdLst>
            <a:ahLst/>
            <a:rect l="textAreaLeft" t="textAreaTop" r="textAreaRight" b="textAreaBottom"/>
            <a:pathLst>
              <a:path w="1384300" h="2167049">
                <a:moveTo>
                  <a:pt x="17187" y="2167049"/>
                </a:moveTo>
                <a:lnTo>
                  <a:pt x="0" y="2167049"/>
                </a:lnTo>
                <a:lnTo>
                  <a:pt x="0" y="1879736"/>
                </a:lnTo>
                <a:lnTo>
                  <a:pt x="123314" y="1550999"/>
                </a:lnTo>
                <a:cubicBezTo>
                  <a:pt x="168410" y="1433494"/>
                  <a:pt x="212488" y="1316669"/>
                  <a:pt x="250464" y="1199843"/>
                </a:cubicBezTo>
                <a:cubicBezTo>
                  <a:pt x="188076" y="1289499"/>
                  <a:pt x="82287" y="1433494"/>
                  <a:pt x="11762" y="1534018"/>
                </a:cubicBezTo>
                <a:lnTo>
                  <a:pt x="0" y="1548726"/>
                </a:lnTo>
                <a:lnTo>
                  <a:pt x="0" y="1512279"/>
                </a:lnTo>
                <a:lnTo>
                  <a:pt x="60587" y="1428400"/>
                </a:lnTo>
                <a:cubicBezTo>
                  <a:pt x="108057" y="1362855"/>
                  <a:pt x="155526" y="1297650"/>
                  <a:pt x="201639" y="1235162"/>
                </a:cubicBezTo>
                <a:cubicBezTo>
                  <a:pt x="212489" y="1216144"/>
                  <a:pt x="231477" y="1199843"/>
                  <a:pt x="231477" y="1178108"/>
                </a:cubicBezTo>
                <a:lnTo>
                  <a:pt x="0" y="1365667"/>
                </a:lnTo>
                <a:lnTo>
                  <a:pt x="0" y="1329417"/>
                </a:lnTo>
                <a:lnTo>
                  <a:pt x="179939" y="1180824"/>
                </a:lnTo>
                <a:cubicBezTo>
                  <a:pt x="188076" y="1175391"/>
                  <a:pt x="207064" y="1167240"/>
                  <a:pt x="204351" y="1153656"/>
                </a:cubicBezTo>
                <a:lnTo>
                  <a:pt x="0" y="1246276"/>
                </a:lnTo>
                <a:lnTo>
                  <a:pt x="0" y="1224474"/>
                </a:lnTo>
                <a:lnTo>
                  <a:pt x="201639" y="1129204"/>
                </a:lnTo>
                <a:lnTo>
                  <a:pt x="0" y="1160749"/>
                </a:lnTo>
                <a:lnTo>
                  <a:pt x="0" y="1131718"/>
                </a:lnTo>
                <a:lnTo>
                  <a:pt x="9727" y="1130223"/>
                </a:lnTo>
                <a:cubicBezTo>
                  <a:pt x="72115" y="1119695"/>
                  <a:pt x="133825" y="1107469"/>
                  <a:pt x="193501" y="1091168"/>
                </a:cubicBezTo>
                <a:cubicBezTo>
                  <a:pt x="166376" y="1087772"/>
                  <a:pt x="135690" y="1084545"/>
                  <a:pt x="102928" y="1081404"/>
                </a:cubicBezTo>
                <a:lnTo>
                  <a:pt x="0" y="1072159"/>
                </a:lnTo>
                <a:lnTo>
                  <a:pt x="0" y="1052490"/>
                </a:lnTo>
                <a:lnTo>
                  <a:pt x="2946" y="1052792"/>
                </a:lnTo>
                <a:cubicBezTo>
                  <a:pt x="73472" y="1059924"/>
                  <a:pt x="141963" y="1066716"/>
                  <a:pt x="196214" y="1072150"/>
                </a:cubicBezTo>
                <a:cubicBezTo>
                  <a:pt x="138573" y="1046340"/>
                  <a:pt x="79406" y="1021888"/>
                  <a:pt x="19391" y="998200"/>
                </a:cubicBezTo>
                <a:lnTo>
                  <a:pt x="0" y="990806"/>
                </a:lnTo>
                <a:lnTo>
                  <a:pt x="0" y="962359"/>
                </a:lnTo>
                <a:lnTo>
                  <a:pt x="193395" y="1034452"/>
                </a:lnTo>
                <a:lnTo>
                  <a:pt x="176842" y="1012554"/>
                </a:lnTo>
                <a:cubicBezTo>
                  <a:pt x="168216" y="1005642"/>
                  <a:pt x="157865" y="999422"/>
                  <a:pt x="148204" y="992510"/>
                </a:cubicBezTo>
                <a:cubicBezTo>
                  <a:pt x="105420" y="960716"/>
                  <a:pt x="59877" y="928232"/>
                  <a:pt x="13643" y="895402"/>
                </a:cubicBezTo>
                <a:lnTo>
                  <a:pt x="0" y="885646"/>
                </a:lnTo>
                <a:lnTo>
                  <a:pt x="0" y="854420"/>
                </a:lnTo>
                <a:lnTo>
                  <a:pt x="41261" y="884346"/>
                </a:lnTo>
                <a:lnTo>
                  <a:pt x="210792" y="999314"/>
                </a:lnTo>
                <a:lnTo>
                  <a:pt x="206600" y="988104"/>
                </a:lnTo>
                <a:cubicBezTo>
                  <a:pt x="195473" y="968665"/>
                  <a:pt x="175807" y="953114"/>
                  <a:pt x="159245" y="934452"/>
                </a:cubicBezTo>
                <a:lnTo>
                  <a:pt x="0" y="738974"/>
                </a:lnTo>
                <a:lnTo>
                  <a:pt x="0" y="692828"/>
                </a:lnTo>
                <a:lnTo>
                  <a:pt x="214450" y="956570"/>
                </a:lnTo>
                <a:cubicBezTo>
                  <a:pt x="219970" y="964863"/>
                  <a:pt x="231011" y="978687"/>
                  <a:pt x="242052" y="978687"/>
                </a:cubicBezTo>
                <a:cubicBezTo>
                  <a:pt x="164766" y="815572"/>
                  <a:pt x="93000" y="646929"/>
                  <a:pt x="15713" y="483814"/>
                </a:cubicBezTo>
                <a:lnTo>
                  <a:pt x="0" y="482959"/>
                </a:lnTo>
                <a:lnTo>
                  <a:pt x="0" y="387119"/>
                </a:lnTo>
                <a:lnTo>
                  <a:pt x="23994" y="381522"/>
                </a:lnTo>
                <a:cubicBezTo>
                  <a:pt x="65398" y="387051"/>
                  <a:pt x="32275" y="436815"/>
                  <a:pt x="35035" y="467226"/>
                </a:cubicBezTo>
                <a:cubicBezTo>
                  <a:pt x="35035" y="497637"/>
                  <a:pt x="73678" y="558460"/>
                  <a:pt x="93000" y="597165"/>
                </a:cubicBezTo>
                <a:cubicBezTo>
                  <a:pt x="139924" y="707751"/>
                  <a:pt x="186848" y="815572"/>
                  <a:pt x="236532" y="923394"/>
                </a:cubicBezTo>
                <a:cubicBezTo>
                  <a:pt x="244812" y="942746"/>
                  <a:pt x="253093" y="970393"/>
                  <a:pt x="272415" y="978687"/>
                </a:cubicBezTo>
                <a:cubicBezTo>
                  <a:pt x="242052" y="724339"/>
                  <a:pt x="186848" y="461697"/>
                  <a:pt x="148204" y="201820"/>
                </a:cubicBezTo>
                <a:cubicBezTo>
                  <a:pt x="115082" y="187996"/>
                  <a:pt x="57117" y="176938"/>
                  <a:pt x="62637" y="129939"/>
                </a:cubicBezTo>
                <a:cubicBezTo>
                  <a:pt x="65398" y="107822"/>
                  <a:pt x="95760" y="85704"/>
                  <a:pt x="128883" y="102292"/>
                </a:cubicBezTo>
                <a:cubicBezTo>
                  <a:pt x="134403" y="66352"/>
                  <a:pt x="197888" y="60822"/>
                  <a:pt x="206169" y="99528"/>
                </a:cubicBezTo>
                <a:cubicBezTo>
                  <a:pt x="217210" y="138233"/>
                  <a:pt x="178567" y="160350"/>
                  <a:pt x="175807" y="196290"/>
                </a:cubicBezTo>
                <a:cubicBezTo>
                  <a:pt x="173046" y="221172"/>
                  <a:pt x="186848" y="259877"/>
                  <a:pt x="192368" y="295818"/>
                </a:cubicBezTo>
                <a:cubicBezTo>
                  <a:pt x="228251" y="503167"/>
                  <a:pt x="266894" y="782396"/>
                  <a:pt x="308298" y="967628"/>
                </a:cubicBezTo>
                <a:cubicBezTo>
                  <a:pt x="319338" y="843219"/>
                  <a:pt x="330380" y="699457"/>
                  <a:pt x="344181" y="558460"/>
                </a:cubicBezTo>
                <a:cubicBezTo>
                  <a:pt x="349701" y="514225"/>
                  <a:pt x="366262" y="456168"/>
                  <a:pt x="357982" y="425756"/>
                </a:cubicBezTo>
                <a:cubicBezTo>
                  <a:pt x="346941" y="375993"/>
                  <a:pt x="275175" y="367699"/>
                  <a:pt x="277935" y="306876"/>
                </a:cubicBezTo>
                <a:cubicBezTo>
                  <a:pt x="283456" y="248819"/>
                  <a:pt x="363502" y="246054"/>
                  <a:pt x="380064" y="287524"/>
                </a:cubicBezTo>
                <a:cubicBezTo>
                  <a:pt x="399385" y="246054"/>
                  <a:pt x="476672" y="262642"/>
                  <a:pt x="473911" y="317935"/>
                </a:cubicBezTo>
                <a:cubicBezTo>
                  <a:pt x="471151" y="373228"/>
                  <a:pt x="396625" y="378757"/>
                  <a:pt x="380064" y="425756"/>
                </a:cubicBezTo>
                <a:cubicBezTo>
                  <a:pt x="369023" y="456168"/>
                  <a:pt x="371783" y="519755"/>
                  <a:pt x="366262" y="566754"/>
                </a:cubicBezTo>
                <a:cubicBezTo>
                  <a:pt x="355222" y="680104"/>
                  <a:pt x="344181" y="801749"/>
                  <a:pt x="333140" y="915100"/>
                </a:cubicBezTo>
                <a:cubicBezTo>
                  <a:pt x="330380" y="934452"/>
                  <a:pt x="316578" y="962099"/>
                  <a:pt x="335900" y="973157"/>
                </a:cubicBezTo>
                <a:cubicBezTo>
                  <a:pt x="418707" y="771338"/>
                  <a:pt x="490473" y="561224"/>
                  <a:pt x="570519" y="348346"/>
                </a:cubicBezTo>
                <a:cubicBezTo>
                  <a:pt x="581560" y="320700"/>
                  <a:pt x="603642" y="281995"/>
                  <a:pt x="603642" y="259877"/>
                </a:cubicBezTo>
                <a:cubicBezTo>
                  <a:pt x="600882" y="199055"/>
                  <a:pt x="515315" y="140997"/>
                  <a:pt x="545677" y="49764"/>
                </a:cubicBezTo>
                <a:cubicBezTo>
                  <a:pt x="553958" y="24882"/>
                  <a:pt x="581560" y="13823"/>
                  <a:pt x="606402" y="0"/>
                </a:cubicBezTo>
                <a:cubicBezTo>
                  <a:pt x="614683" y="0"/>
                  <a:pt x="622964" y="0"/>
                  <a:pt x="628484" y="0"/>
                </a:cubicBezTo>
                <a:cubicBezTo>
                  <a:pt x="664367" y="11059"/>
                  <a:pt x="694730" y="27647"/>
                  <a:pt x="697490" y="71881"/>
                </a:cubicBezTo>
                <a:cubicBezTo>
                  <a:pt x="766496" y="33176"/>
                  <a:pt x="843782" y="80175"/>
                  <a:pt x="827221" y="157585"/>
                </a:cubicBezTo>
                <a:cubicBezTo>
                  <a:pt x="810659" y="229466"/>
                  <a:pt x="694730" y="234995"/>
                  <a:pt x="634005" y="265407"/>
                </a:cubicBezTo>
                <a:cubicBezTo>
                  <a:pt x="548438" y="508696"/>
                  <a:pt x="446309" y="746456"/>
                  <a:pt x="369023" y="984216"/>
                </a:cubicBezTo>
                <a:cubicBezTo>
                  <a:pt x="432508" y="892983"/>
                  <a:pt x="540157" y="746456"/>
                  <a:pt x="611923" y="644164"/>
                </a:cubicBezTo>
                <a:cubicBezTo>
                  <a:pt x="634005" y="613753"/>
                  <a:pt x="686449" y="561224"/>
                  <a:pt x="689209" y="530813"/>
                </a:cubicBezTo>
                <a:cubicBezTo>
                  <a:pt x="694730" y="503167"/>
                  <a:pt x="683689" y="472756"/>
                  <a:pt x="683689" y="450638"/>
                </a:cubicBezTo>
                <a:cubicBezTo>
                  <a:pt x="683689" y="425756"/>
                  <a:pt x="686449" y="406404"/>
                  <a:pt x="705771" y="392581"/>
                </a:cubicBezTo>
                <a:cubicBezTo>
                  <a:pt x="744414" y="362169"/>
                  <a:pt x="791338" y="395345"/>
                  <a:pt x="788577" y="442344"/>
                </a:cubicBezTo>
                <a:cubicBezTo>
                  <a:pt x="841022" y="436815"/>
                  <a:pt x="863104" y="469991"/>
                  <a:pt x="857583" y="505931"/>
                </a:cubicBezTo>
                <a:cubicBezTo>
                  <a:pt x="846542" y="555695"/>
                  <a:pt x="763735" y="550166"/>
                  <a:pt x="705771" y="552930"/>
                </a:cubicBezTo>
                <a:cubicBezTo>
                  <a:pt x="611923" y="682869"/>
                  <a:pt x="512554" y="821102"/>
                  <a:pt x="418707" y="948276"/>
                </a:cubicBezTo>
                <a:cubicBezTo>
                  <a:pt x="407666" y="967628"/>
                  <a:pt x="388344" y="984216"/>
                  <a:pt x="388344" y="1006333"/>
                </a:cubicBezTo>
                <a:cubicBezTo>
                  <a:pt x="589841" y="845983"/>
                  <a:pt x="788577" y="682869"/>
                  <a:pt x="981794" y="514225"/>
                </a:cubicBezTo>
                <a:cubicBezTo>
                  <a:pt x="967992" y="422992"/>
                  <a:pt x="981794" y="306876"/>
                  <a:pt x="1072881" y="323464"/>
                </a:cubicBezTo>
                <a:cubicBezTo>
                  <a:pt x="1106004" y="331758"/>
                  <a:pt x="1125325" y="364934"/>
                  <a:pt x="1122565" y="414698"/>
                </a:cubicBezTo>
                <a:cubicBezTo>
                  <a:pt x="1166729" y="406404"/>
                  <a:pt x="1199852" y="431286"/>
                  <a:pt x="1205372" y="467226"/>
                </a:cubicBezTo>
                <a:cubicBezTo>
                  <a:pt x="1219173" y="566754"/>
                  <a:pt x="1092203" y="558460"/>
                  <a:pt x="1001115" y="544636"/>
                </a:cubicBezTo>
                <a:cubicBezTo>
                  <a:pt x="816180" y="691163"/>
                  <a:pt x="622964" y="854277"/>
                  <a:pt x="440789" y="1003569"/>
                </a:cubicBezTo>
                <a:cubicBezTo>
                  <a:pt x="432508" y="1009098"/>
                  <a:pt x="413186" y="1017392"/>
                  <a:pt x="415946" y="1031215"/>
                </a:cubicBezTo>
                <a:cubicBezTo>
                  <a:pt x="578800" y="953805"/>
                  <a:pt x="744414" y="881924"/>
                  <a:pt x="910028" y="807278"/>
                </a:cubicBezTo>
                <a:cubicBezTo>
                  <a:pt x="926589" y="757515"/>
                  <a:pt x="932109" y="671810"/>
                  <a:pt x="995595" y="677340"/>
                </a:cubicBezTo>
                <a:cubicBezTo>
                  <a:pt x="1025957" y="680104"/>
                  <a:pt x="1053559" y="713280"/>
                  <a:pt x="1034238" y="757515"/>
                </a:cubicBezTo>
                <a:cubicBezTo>
                  <a:pt x="1061840" y="765809"/>
                  <a:pt x="1078402" y="776867"/>
                  <a:pt x="1081162" y="804514"/>
                </a:cubicBezTo>
                <a:cubicBezTo>
                  <a:pt x="1083922" y="887453"/>
                  <a:pt x="967992" y="851513"/>
                  <a:pt x="921068" y="823866"/>
                </a:cubicBezTo>
                <a:cubicBezTo>
                  <a:pt x="839641" y="863954"/>
                  <a:pt x="754074" y="900585"/>
                  <a:pt x="668852" y="937908"/>
                </a:cubicBezTo>
                <a:lnTo>
                  <a:pt x="426233" y="1052541"/>
                </a:lnTo>
                <a:lnTo>
                  <a:pt x="439919" y="1049364"/>
                </a:lnTo>
                <a:lnTo>
                  <a:pt x="429786" y="1054364"/>
                </a:lnTo>
                <a:lnTo>
                  <a:pt x="642347" y="1021110"/>
                </a:lnTo>
                <a:lnTo>
                  <a:pt x="630067" y="1024289"/>
                </a:lnTo>
                <a:lnTo>
                  <a:pt x="789918" y="999473"/>
                </a:lnTo>
                <a:cubicBezTo>
                  <a:pt x="910286" y="979776"/>
                  <a:pt x="1030315" y="959400"/>
                  <a:pt x="1151023" y="939023"/>
                </a:cubicBezTo>
                <a:cubicBezTo>
                  <a:pt x="1186286" y="887402"/>
                  <a:pt x="1199848" y="770577"/>
                  <a:pt x="1292074" y="781444"/>
                </a:cubicBezTo>
                <a:cubicBezTo>
                  <a:pt x="1340900" y="784161"/>
                  <a:pt x="1373450" y="852083"/>
                  <a:pt x="1330049" y="900987"/>
                </a:cubicBezTo>
                <a:cubicBezTo>
                  <a:pt x="1362600" y="909137"/>
                  <a:pt x="1376162" y="933589"/>
                  <a:pt x="1384300" y="963475"/>
                </a:cubicBezTo>
                <a:cubicBezTo>
                  <a:pt x="1384300" y="966192"/>
                  <a:pt x="1384300" y="966192"/>
                  <a:pt x="1384300" y="968908"/>
                </a:cubicBezTo>
                <a:cubicBezTo>
                  <a:pt x="1378875" y="1044981"/>
                  <a:pt x="1300212" y="1047698"/>
                  <a:pt x="1237824" y="1009661"/>
                </a:cubicBezTo>
                <a:cubicBezTo>
                  <a:pt x="1216123" y="998794"/>
                  <a:pt x="1191711" y="968908"/>
                  <a:pt x="1167298" y="963475"/>
                </a:cubicBezTo>
                <a:cubicBezTo>
                  <a:pt x="1148310" y="960758"/>
                  <a:pt x="1102197" y="974342"/>
                  <a:pt x="1072360" y="979776"/>
                </a:cubicBezTo>
                <a:cubicBezTo>
                  <a:pt x="985559" y="993360"/>
                  <a:pt x="885195" y="1009661"/>
                  <a:pt x="795682" y="1025963"/>
                </a:cubicBezTo>
                <a:cubicBezTo>
                  <a:pt x="660056" y="1047698"/>
                  <a:pt x="540704" y="1063999"/>
                  <a:pt x="434916" y="1091168"/>
                </a:cubicBezTo>
                <a:cubicBezTo>
                  <a:pt x="616655" y="1112903"/>
                  <a:pt x="801107" y="1129204"/>
                  <a:pt x="982846" y="1148222"/>
                </a:cubicBezTo>
                <a:cubicBezTo>
                  <a:pt x="1026247" y="1115619"/>
                  <a:pt x="1083210" y="1055848"/>
                  <a:pt x="1104910" y="1134638"/>
                </a:cubicBezTo>
                <a:cubicBezTo>
                  <a:pt x="1110335" y="1156373"/>
                  <a:pt x="1088635" y="1161806"/>
                  <a:pt x="1080497" y="1178108"/>
                </a:cubicBezTo>
                <a:cubicBezTo>
                  <a:pt x="1104910" y="1207993"/>
                  <a:pt x="1077785" y="1237879"/>
                  <a:pt x="1053372" y="1237879"/>
                </a:cubicBezTo>
                <a:cubicBezTo>
                  <a:pt x="1012684" y="1240596"/>
                  <a:pt x="1009971" y="1186258"/>
                  <a:pt x="982846" y="1169957"/>
                </a:cubicBezTo>
                <a:cubicBezTo>
                  <a:pt x="801107" y="1153656"/>
                  <a:pt x="605805" y="1129204"/>
                  <a:pt x="429491" y="1118336"/>
                </a:cubicBezTo>
                <a:cubicBezTo>
                  <a:pt x="451191" y="1137355"/>
                  <a:pt x="486454" y="1145505"/>
                  <a:pt x="516292" y="1156373"/>
                </a:cubicBezTo>
                <a:cubicBezTo>
                  <a:pt x="687181" y="1221578"/>
                  <a:pt x="874345" y="1294933"/>
                  <a:pt x="1050659" y="1357421"/>
                </a:cubicBezTo>
                <a:cubicBezTo>
                  <a:pt x="1083210" y="1371006"/>
                  <a:pt x="1118472" y="1390024"/>
                  <a:pt x="1140173" y="1390024"/>
                </a:cubicBezTo>
                <a:cubicBezTo>
                  <a:pt x="1183573" y="1390024"/>
                  <a:pt x="1248674" y="1335686"/>
                  <a:pt x="1305637" y="1357421"/>
                </a:cubicBezTo>
                <a:cubicBezTo>
                  <a:pt x="1359887" y="1379156"/>
                  <a:pt x="1351750" y="1479680"/>
                  <a:pt x="1281224" y="1482397"/>
                </a:cubicBezTo>
                <a:cubicBezTo>
                  <a:pt x="1302924" y="1542168"/>
                  <a:pt x="1262236" y="1591072"/>
                  <a:pt x="1207986" y="1580205"/>
                </a:cubicBezTo>
                <a:cubicBezTo>
                  <a:pt x="1151023" y="1566620"/>
                  <a:pt x="1151023" y="1474247"/>
                  <a:pt x="1132035" y="1419909"/>
                </a:cubicBezTo>
                <a:cubicBezTo>
                  <a:pt x="896045" y="1327536"/>
                  <a:pt x="657343" y="1240596"/>
                  <a:pt x="421353" y="1148222"/>
                </a:cubicBezTo>
                <a:cubicBezTo>
                  <a:pt x="426778" y="1167240"/>
                  <a:pt x="448479" y="1178108"/>
                  <a:pt x="467466" y="1191692"/>
                </a:cubicBezTo>
                <a:cubicBezTo>
                  <a:pt x="551555" y="1254180"/>
                  <a:pt x="646493" y="1319385"/>
                  <a:pt x="736006" y="1384590"/>
                </a:cubicBezTo>
                <a:cubicBezTo>
                  <a:pt x="765844" y="1403608"/>
                  <a:pt x="817382" y="1452512"/>
                  <a:pt x="844507" y="1457945"/>
                </a:cubicBezTo>
                <a:cubicBezTo>
                  <a:pt x="882483" y="1463379"/>
                  <a:pt x="936733" y="1436210"/>
                  <a:pt x="977421" y="1449795"/>
                </a:cubicBezTo>
                <a:cubicBezTo>
                  <a:pt x="1028959" y="1468813"/>
                  <a:pt x="1020822" y="1566620"/>
                  <a:pt x="947583" y="1561187"/>
                </a:cubicBezTo>
                <a:cubicBezTo>
                  <a:pt x="958433" y="1623675"/>
                  <a:pt x="909608" y="1650843"/>
                  <a:pt x="866208" y="1631825"/>
                </a:cubicBezTo>
                <a:cubicBezTo>
                  <a:pt x="822807" y="1612807"/>
                  <a:pt x="839082" y="1528584"/>
                  <a:pt x="828232" y="1476964"/>
                </a:cubicBezTo>
                <a:cubicBezTo>
                  <a:pt x="687181" y="1373722"/>
                  <a:pt x="548842" y="1270481"/>
                  <a:pt x="402366" y="1175391"/>
                </a:cubicBezTo>
                <a:cubicBezTo>
                  <a:pt x="407791" y="1205276"/>
                  <a:pt x="434916" y="1224294"/>
                  <a:pt x="456616" y="1248746"/>
                </a:cubicBezTo>
                <a:cubicBezTo>
                  <a:pt x="575967" y="1392740"/>
                  <a:pt x="695318" y="1542168"/>
                  <a:pt x="817382" y="1691596"/>
                </a:cubicBezTo>
                <a:cubicBezTo>
                  <a:pt x="836370" y="1716048"/>
                  <a:pt x="860783" y="1754084"/>
                  <a:pt x="879770" y="1759518"/>
                </a:cubicBezTo>
                <a:cubicBezTo>
                  <a:pt x="939446" y="1781253"/>
                  <a:pt x="1007259" y="1756801"/>
                  <a:pt x="1058797" y="1789404"/>
                </a:cubicBezTo>
                <a:cubicBezTo>
                  <a:pt x="1126610" y="1830157"/>
                  <a:pt x="1096772" y="1963284"/>
                  <a:pt x="988271" y="1930681"/>
                </a:cubicBezTo>
                <a:cubicBezTo>
                  <a:pt x="999121" y="2031205"/>
                  <a:pt x="871633" y="2044790"/>
                  <a:pt x="841795" y="1979585"/>
                </a:cubicBezTo>
                <a:cubicBezTo>
                  <a:pt x="814670" y="1917097"/>
                  <a:pt x="849932" y="1849175"/>
                  <a:pt x="852645" y="1781253"/>
                </a:cubicBezTo>
                <a:cubicBezTo>
                  <a:pt x="703456" y="1601940"/>
                  <a:pt x="554267" y="1409042"/>
                  <a:pt x="402366" y="1227011"/>
                </a:cubicBezTo>
                <a:cubicBezTo>
                  <a:pt x="396941" y="1218861"/>
                  <a:pt x="386090" y="1205276"/>
                  <a:pt x="375240" y="1205276"/>
                </a:cubicBezTo>
                <a:cubicBezTo>
                  <a:pt x="451191" y="1365572"/>
                  <a:pt x="521717" y="1531301"/>
                  <a:pt x="597667" y="1691596"/>
                </a:cubicBezTo>
                <a:cubicBezTo>
                  <a:pt x="654631" y="1683446"/>
                  <a:pt x="708881" y="1773103"/>
                  <a:pt x="624793" y="1762235"/>
                </a:cubicBezTo>
                <a:cubicBezTo>
                  <a:pt x="619368" y="1783970"/>
                  <a:pt x="613943" y="1794838"/>
                  <a:pt x="589530" y="1792121"/>
                </a:cubicBezTo>
                <a:cubicBezTo>
                  <a:pt x="548842" y="1786687"/>
                  <a:pt x="581392" y="1737783"/>
                  <a:pt x="578680" y="1707898"/>
                </a:cubicBezTo>
                <a:cubicBezTo>
                  <a:pt x="578680" y="1678012"/>
                  <a:pt x="540704" y="1618241"/>
                  <a:pt x="521717" y="1580205"/>
                </a:cubicBezTo>
                <a:cubicBezTo>
                  <a:pt x="475604" y="1471530"/>
                  <a:pt x="429491" y="1365572"/>
                  <a:pt x="380665" y="1259614"/>
                </a:cubicBezTo>
                <a:cubicBezTo>
                  <a:pt x="372528" y="1240596"/>
                  <a:pt x="364390" y="1213427"/>
                  <a:pt x="345403" y="1205276"/>
                </a:cubicBezTo>
                <a:cubicBezTo>
                  <a:pt x="375240" y="1455229"/>
                  <a:pt x="429491" y="1713331"/>
                  <a:pt x="467466" y="1968717"/>
                </a:cubicBezTo>
                <a:cubicBezTo>
                  <a:pt x="500017" y="1982302"/>
                  <a:pt x="556980" y="1993169"/>
                  <a:pt x="551555" y="2039356"/>
                </a:cubicBezTo>
                <a:cubicBezTo>
                  <a:pt x="548842" y="2061091"/>
                  <a:pt x="519004" y="2082826"/>
                  <a:pt x="486454" y="2066525"/>
                </a:cubicBezTo>
                <a:cubicBezTo>
                  <a:pt x="481029" y="2101844"/>
                  <a:pt x="418641" y="2107278"/>
                  <a:pt x="410503" y="2069242"/>
                </a:cubicBezTo>
                <a:cubicBezTo>
                  <a:pt x="399653" y="2031205"/>
                  <a:pt x="437628" y="2009470"/>
                  <a:pt x="440341" y="1974151"/>
                </a:cubicBezTo>
                <a:cubicBezTo>
                  <a:pt x="443053" y="1949699"/>
                  <a:pt x="429491" y="1911663"/>
                  <a:pt x="424066" y="1876344"/>
                </a:cubicBezTo>
                <a:cubicBezTo>
                  <a:pt x="388803" y="1672578"/>
                  <a:pt x="350828" y="1398174"/>
                  <a:pt x="310140" y="1216144"/>
                </a:cubicBezTo>
                <a:cubicBezTo>
                  <a:pt x="299290" y="1338403"/>
                  <a:pt x="288439" y="1479680"/>
                  <a:pt x="274877" y="1618241"/>
                </a:cubicBezTo>
                <a:cubicBezTo>
                  <a:pt x="269452" y="1661711"/>
                  <a:pt x="253177" y="1718765"/>
                  <a:pt x="261314" y="1748651"/>
                </a:cubicBezTo>
                <a:cubicBezTo>
                  <a:pt x="272164" y="1797554"/>
                  <a:pt x="342690" y="1805705"/>
                  <a:pt x="339977" y="1865476"/>
                </a:cubicBezTo>
                <a:cubicBezTo>
                  <a:pt x="334553" y="1922530"/>
                  <a:pt x="255889" y="1925247"/>
                  <a:pt x="239614" y="1884494"/>
                </a:cubicBezTo>
                <a:cubicBezTo>
                  <a:pt x="220626" y="1925247"/>
                  <a:pt x="144676" y="1908946"/>
                  <a:pt x="147388" y="1854609"/>
                </a:cubicBezTo>
                <a:cubicBezTo>
                  <a:pt x="150101" y="1800271"/>
                  <a:pt x="223339" y="1794838"/>
                  <a:pt x="239614" y="1748651"/>
                </a:cubicBezTo>
                <a:cubicBezTo>
                  <a:pt x="250464" y="1718765"/>
                  <a:pt x="247752" y="1656277"/>
                  <a:pt x="253177" y="1610090"/>
                </a:cubicBezTo>
                <a:cubicBezTo>
                  <a:pt x="264027" y="1498698"/>
                  <a:pt x="274877" y="1379156"/>
                  <a:pt x="285727" y="1267764"/>
                </a:cubicBezTo>
                <a:cubicBezTo>
                  <a:pt x="288439" y="1248746"/>
                  <a:pt x="302002" y="1221578"/>
                  <a:pt x="283015" y="1210710"/>
                </a:cubicBezTo>
                <a:cubicBezTo>
                  <a:pt x="201639" y="1409042"/>
                  <a:pt x="131113" y="1615524"/>
                  <a:pt x="52450" y="1824723"/>
                </a:cubicBezTo>
                <a:cubicBezTo>
                  <a:pt x="41600" y="1851892"/>
                  <a:pt x="19899" y="1889928"/>
                  <a:pt x="19899" y="1911663"/>
                </a:cubicBezTo>
                <a:cubicBezTo>
                  <a:pt x="22612" y="1971434"/>
                  <a:pt x="106700" y="2028488"/>
                  <a:pt x="76863" y="2118145"/>
                </a:cubicBezTo>
                <a:cubicBezTo>
                  <a:pt x="68725" y="2142597"/>
                  <a:pt x="41600" y="2153465"/>
                  <a:pt x="17187" y="2167049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Freeform 20" hidden="1"/>
          <p:cNvSpPr/>
          <p:nvPr/>
        </p:nvSpPr>
        <p:spPr>
          <a:xfrm>
            <a:off x="0" y="4908960"/>
            <a:ext cx="1096920" cy="1948680"/>
          </a:xfrm>
          <a:custGeom>
            <a:avLst/>
            <a:gdLst>
              <a:gd name="textAreaLeft" fmla="*/ 0 w 1096920"/>
              <a:gd name="textAreaRight" fmla="*/ 1097280 w 1096920"/>
              <a:gd name="textAreaTop" fmla="*/ 0 h 1948680"/>
              <a:gd name="textAreaBottom" fmla="*/ 1949040 h 1948680"/>
            </a:gdLst>
            <a:ahLst/>
            <a:rect l="textAreaLeft" t="textAreaTop" r="textAreaRight" b="textAreaBottom"/>
            <a:pathLst>
              <a:path w="1097279" h="1949116">
                <a:moveTo>
                  <a:pt x="0" y="1695815"/>
                </a:moveTo>
                <a:lnTo>
                  <a:pt x="7867" y="1742679"/>
                </a:lnTo>
                <a:lnTo>
                  <a:pt x="42224" y="1949116"/>
                </a:lnTo>
                <a:lnTo>
                  <a:pt x="9113" y="1949116"/>
                </a:lnTo>
                <a:lnTo>
                  <a:pt x="0" y="1890647"/>
                </a:lnTo>
                <a:close/>
                <a:moveTo>
                  <a:pt x="0" y="1374109"/>
                </a:moveTo>
                <a:lnTo>
                  <a:pt x="92420" y="1572256"/>
                </a:lnTo>
                <a:cubicBezTo>
                  <a:pt x="133631" y="1663029"/>
                  <a:pt x="174458" y="1754186"/>
                  <a:pt x="216054" y="1844576"/>
                </a:cubicBezTo>
                <a:cubicBezTo>
                  <a:pt x="277678" y="1832320"/>
                  <a:pt x="342383" y="1936498"/>
                  <a:pt x="246866" y="1924242"/>
                </a:cubicBezTo>
                <a:cubicBezTo>
                  <a:pt x="243785" y="1934967"/>
                  <a:pt x="239933" y="1943393"/>
                  <a:pt x="233771" y="1948755"/>
                </a:cubicBezTo>
                <a:lnTo>
                  <a:pt x="232182" y="1949116"/>
                </a:lnTo>
                <a:lnTo>
                  <a:pt x="191813" y="1949116"/>
                </a:lnTo>
                <a:lnTo>
                  <a:pt x="185819" y="1942627"/>
                </a:lnTo>
                <a:cubicBezTo>
                  <a:pt x="176576" y="1923668"/>
                  <a:pt x="196796" y="1887473"/>
                  <a:pt x="194485" y="1859896"/>
                </a:cubicBezTo>
                <a:cubicBezTo>
                  <a:pt x="194485" y="1826192"/>
                  <a:pt x="151348" y="1761846"/>
                  <a:pt x="132861" y="1718949"/>
                </a:cubicBezTo>
                <a:cubicBezTo>
                  <a:pt x="105130" y="1659200"/>
                  <a:pt x="78940" y="1599450"/>
                  <a:pt x="52750" y="1540084"/>
                </a:cubicBezTo>
                <a:lnTo>
                  <a:pt x="0" y="1423822"/>
                </a:lnTo>
                <a:close/>
                <a:moveTo>
                  <a:pt x="0" y="1277040"/>
                </a:moveTo>
                <a:lnTo>
                  <a:pt x="4702" y="1291797"/>
                </a:lnTo>
                <a:cubicBezTo>
                  <a:pt x="16545" y="1313341"/>
                  <a:pt x="39654" y="1330577"/>
                  <a:pt x="55831" y="1351259"/>
                </a:cubicBezTo>
                <a:cubicBezTo>
                  <a:pt x="191404" y="1510591"/>
                  <a:pt x="326977" y="1676052"/>
                  <a:pt x="462550" y="1844576"/>
                </a:cubicBezTo>
                <a:cubicBezTo>
                  <a:pt x="484119" y="1872153"/>
                  <a:pt x="511850" y="1911986"/>
                  <a:pt x="533418" y="1918114"/>
                </a:cubicBezTo>
                <a:cubicBezTo>
                  <a:pt x="581947" y="1936499"/>
                  <a:pt x="637409" y="1927307"/>
                  <a:pt x="685505" y="1935781"/>
                </a:cubicBezTo>
                <a:lnTo>
                  <a:pt x="723012" y="1949116"/>
                </a:lnTo>
                <a:lnTo>
                  <a:pt x="501674" y="1949116"/>
                </a:lnTo>
                <a:lnTo>
                  <a:pt x="502606" y="1942627"/>
                </a:lnTo>
                <a:cubicBezTo>
                  <a:pt x="419414" y="1843044"/>
                  <a:pt x="335451" y="1739632"/>
                  <a:pt x="251102" y="1635836"/>
                </a:cubicBezTo>
                <a:lnTo>
                  <a:pt x="0" y="1330049"/>
                </a:lnTo>
                <a:close/>
                <a:moveTo>
                  <a:pt x="342383" y="447355"/>
                </a:moveTo>
                <a:cubicBezTo>
                  <a:pt x="373195" y="444291"/>
                  <a:pt x="382439" y="462676"/>
                  <a:pt x="394764" y="490252"/>
                </a:cubicBezTo>
                <a:cubicBezTo>
                  <a:pt x="431738" y="474932"/>
                  <a:pt x="450225" y="505573"/>
                  <a:pt x="450225" y="523957"/>
                </a:cubicBezTo>
                <a:cubicBezTo>
                  <a:pt x="450225" y="572983"/>
                  <a:pt x="385520" y="569919"/>
                  <a:pt x="345464" y="579111"/>
                </a:cubicBezTo>
                <a:cubicBezTo>
                  <a:pt x="237622" y="720058"/>
                  <a:pt x="132861" y="870198"/>
                  <a:pt x="28100" y="1014210"/>
                </a:cubicBezTo>
                <a:cubicBezTo>
                  <a:pt x="21938" y="1023403"/>
                  <a:pt x="13464" y="1033361"/>
                  <a:pt x="6532" y="1044085"/>
                </a:cubicBezTo>
                <a:lnTo>
                  <a:pt x="0" y="1056505"/>
                </a:lnTo>
                <a:lnTo>
                  <a:pt x="0" y="1010146"/>
                </a:lnTo>
                <a:lnTo>
                  <a:pt x="144416" y="816960"/>
                </a:lnTo>
                <a:cubicBezTo>
                  <a:pt x="204499" y="733081"/>
                  <a:pt x="263813" y="648053"/>
                  <a:pt x="323896" y="563790"/>
                </a:cubicBezTo>
                <a:cubicBezTo>
                  <a:pt x="305409" y="527021"/>
                  <a:pt x="290003" y="450419"/>
                  <a:pt x="342383" y="447355"/>
                </a:cubicBezTo>
                <a:close/>
                <a:moveTo>
                  <a:pt x="770671" y="263511"/>
                </a:moveTo>
                <a:cubicBezTo>
                  <a:pt x="835376" y="272703"/>
                  <a:pt x="860026" y="343177"/>
                  <a:pt x="853864" y="401394"/>
                </a:cubicBezTo>
                <a:cubicBezTo>
                  <a:pt x="989437" y="389138"/>
                  <a:pt x="1001762" y="579111"/>
                  <a:pt x="875432" y="597495"/>
                </a:cubicBezTo>
                <a:cubicBezTo>
                  <a:pt x="804564" y="606688"/>
                  <a:pt x="712128" y="566854"/>
                  <a:pt x="659747" y="576047"/>
                </a:cubicBezTo>
                <a:cubicBezTo>
                  <a:pt x="641260" y="579111"/>
                  <a:pt x="598123" y="618944"/>
                  <a:pt x="573474" y="640392"/>
                </a:cubicBezTo>
                <a:cubicBezTo>
                  <a:pt x="437901" y="750699"/>
                  <a:pt x="305409" y="861006"/>
                  <a:pt x="166754" y="971313"/>
                </a:cubicBezTo>
                <a:cubicBezTo>
                  <a:pt x="111292" y="1017274"/>
                  <a:pt x="55831" y="1060171"/>
                  <a:pt x="12694" y="1109197"/>
                </a:cubicBezTo>
                <a:cubicBezTo>
                  <a:pt x="200647" y="1029530"/>
                  <a:pt x="385520" y="943736"/>
                  <a:pt x="570392" y="861006"/>
                </a:cubicBezTo>
                <a:cubicBezTo>
                  <a:pt x="585798" y="805853"/>
                  <a:pt x="591961" y="716994"/>
                  <a:pt x="659747" y="713930"/>
                </a:cubicBezTo>
                <a:cubicBezTo>
                  <a:pt x="696722" y="713930"/>
                  <a:pt x="733696" y="753763"/>
                  <a:pt x="709047" y="805853"/>
                </a:cubicBezTo>
                <a:cubicBezTo>
                  <a:pt x="770671" y="805853"/>
                  <a:pt x="782996" y="906967"/>
                  <a:pt x="721372" y="919224"/>
                </a:cubicBezTo>
                <a:cubicBezTo>
                  <a:pt x="665910" y="931480"/>
                  <a:pt x="625854" y="882455"/>
                  <a:pt x="576555" y="885519"/>
                </a:cubicBezTo>
                <a:cubicBezTo>
                  <a:pt x="539580" y="885519"/>
                  <a:pt x="481037" y="928416"/>
                  <a:pt x="437901" y="946800"/>
                </a:cubicBezTo>
                <a:cubicBezTo>
                  <a:pt x="302327" y="1008082"/>
                  <a:pt x="145186" y="1072428"/>
                  <a:pt x="25019" y="1136773"/>
                </a:cubicBezTo>
                <a:cubicBezTo>
                  <a:pt x="299246" y="1096940"/>
                  <a:pt x="564230" y="1050979"/>
                  <a:pt x="835376" y="1008082"/>
                </a:cubicBezTo>
                <a:cubicBezTo>
                  <a:pt x="875432" y="949864"/>
                  <a:pt x="890838" y="821173"/>
                  <a:pt x="992518" y="830365"/>
                </a:cubicBezTo>
                <a:cubicBezTo>
                  <a:pt x="1047980" y="833429"/>
                  <a:pt x="1084954" y="910031"/>
                  <a:pt x="1038736" y="962121"/>
                </a:cubicBezTo>
                <a:cubicBezTo>
                  <a:pt x="1072629" y="974377"/>
                  <a:pt x="1088035" y="998890"/>
                  <a:pt x="1097279" y="1035659"/>
                </a:cubicBezTo>
                <a:cubicBezTo>
                  <a:pt x="1097279" y="1035659"/>
                  <a:pt x="1097279" y="1038723"/>
                  <a:pt x="1097279" y="1038723"/>
                </a:cubicBezTo>
                <a:cubicBezTo>
                  <a:pt x="1091117" y="1124517"/>
                  <a:pt x="1004843" y="1124517"/>
                  <a:pt x="933975" y="1084684"/>
                </a:cubicBezTo>
                <a:cubicBezTo>
                  <a:pt x="909325" y="1072428"/>
                  <a:pt x="881594" y="1038723"/>
                  <a:pt x="853864" y="1035659"/>
                </a:cubicBezTo>
                <a:cubicBezTo>
                  <a:pt x="832295" y="1032595"/>
                  <a:pt x="782996" y="1044851"/>
                  <a:pt x="749103" y="1050979"/>
                </a:cubicBezTo>
                <a:cubicBezTo>
                  <a:pt x="650504" y="1066299"/>
                  <a:pt x="539580" y="1084684"/>
                  <a:pt x="437901" y="1103068"/>
                </a:cubicBezTo>
                <a:cubicBezTo>
                  <a:pt x="283840" y="1127581"/>
                  <a:pt x="151348" y="1145966"/>
                  <a:pt x="34262" y="1176606"/>
                </a:cubicBezTo>
                <a:cubicBezTo>
                  <a:pt x="234541" y="1201119"/>
                  <a:pt x="444063" y="1216439"/>
                  <a:pt x="647423" y="1240952"/>
                </a:cubicBezTo>
                <a:cubicBezTo>
                  <a:pt x="696722" y="1204183"/>
                  <a:pt x="761427" y="1136773"/>
                  <a:pt x="782996" y="1225632"/>
                </a:cubicBezTo>
                <a:cubicBezTo>
                  <a:pt x="789158" y="1247080"/>
                  <a:pt x="767590" y="1253208"/>
                  <a:pt x="755265" y="1271593"/>
                </a:cubicBezTo>
                <a:cubicBezTo>
                  <a:pt x="782996" y="1305298"/>
                  <a:pt x="752184" y="1339003"/>
                  <a:pt x="727534" y="1339003"/>
                </a:cubicBezTo>
                <a:cubicBezTo>
                  <a:pt x="681316" y="1342067"/>
                  <a:pt x="678235" y="1280785"/>
                  <a:pt x="647423" y="1262401"/>
                </a:cubicBezTo>
                <a:cubicBezTo>
                  <a:pt x="444063" y="1244016"/>
                  <a:pt x="225297" y="1219503"/>
                  <a:pt x="28100" y="1204183"/>
                </a:cubicBezTo>
                <a:cubicBezTo>
                  <a:pt x="52749" y="1228696"/>
                  <a:pt x="89724" y="1234824"/>
                  <a:pt x="123617" y="1247080"/>
                </a:cubicBezTo>
                <a:cubicBezTo>
                  <a:pt x="317733" y="1320618"/>
                  <a:pt x="527256" y="1400284"/>
                  <a:pt x="724453" y="1473822"/>
                </a:cubicBezTo>
                <a:cubicBezTo>
                  <a:pt x="758346" y="1486079"/>
                  <a:pt x="801483" y="1507527"/>
                  <a:pt x="823052" y="1507527"/>
                </a:cubicBezTo>
                <a:cubicBezTo>
                  <a:pt x="872351" y="1510591"/>
                  <a:pt x="943219" y="1449309"/>
                  <a:pt x="1011005" y="1473822"/>
                </a:cubicBezTo>
                <a:cubicBezTo>
                  <a:pt x="1069548" y="1495271"/>
                  <a:pt x="1060305" y="1605578"/>
                  <a:pt x="983274" y="1611706"/>
                </a:cubicBezTo>
                <a:cubicBezTo>
                  <a:pt x="1007924" y="1679116"/>
                  <a:pt x="961706" y="1731205"/>
                  <a:pt x="900082" y="1718949"/>
                </a:cubicBezTo>
                <a:cubicBezTo>
                  <a:pt x="835376" y="1703628"/>
                  <a:pt x="835376" y="1599450"/>
                  <a:pt x="813808" y="1541232"/>
                </a:cubicBezTo>
                <a:cubicBezTo>
                  <a:pt x="551905" y="1437053"/>
                  <a:pt x="280759" y="1342067"/>
                  <a:pt x="15775" y="1240952"/>
                </a:cubicBezTo>
                <a:cubicBezTo>
                  <a:pt x="25019" y="1259336"/>
                  <a:pt x="49668" y="1274657"/>
                  <a:pt x="68156" y="1286913"/>
                </a:cubicBezTo>
                <a:cubicBezTo>
                  <a:pt x="163673" y="1357387"/>
                  <a:pt x="271515" y="1430925"/>
                  <a:pt x="370114" y="1501399"/>
                </a:cubicBezTo>
                <a:cubicBezTo>
                  <a:pt x="404007" y="1522848"/>
                  <a:pt x="459469" y="1578001"/>
                  <a:pt x="493362" y="1584129"/>
                </a:cubicBezTo>
                <a:cubicBezTo>
                  <a:pt x="533418" y="1590257"/>
                  <a:pt x="595042" y="1559617"/>
                  <a:pt x="641260" y="1574937"/>
                </a:cubicBezTo>
                <a:cubicBezTo>
                  <a:pt x="699803" y="1596386"/>
                  <a:pt x="690560" y="1703628"/>
                  <a:pt x="607367" y="1697500"/>
                </a:cubicBezTo>
                <a:cubicBezTo>
                  <a:pt x="619692" y="1767974"/>
                  <a:pt x="564230" y="1798615"/>
                  <a:pt x="518012" y="1777166"/>
                </a:cubicBezTo>
                <a:cubicBezTo>
                  <a:pt x="468713" y="1755718"/>
                  <a:pt x="484119" y="1663795"/>
                  <a:pt x="474875" y="1602514"/>
                </a:cubicBezTo>
                <a:cubicBezTo>
                  <a:pt x="396304" y="1545829"/>
                  <a:pt x="317733" y="1489143"/>
                  <a:pt x="238392" y="1433223"/>
                </a:cubicBezTo>
                <a:lnTo>
                  <a:pt x="0" y="1270382"/>
                </a:lnTo>
                <a:lnTo>
                  <a:pt x="0" y="1073676"/>
                </a:lnTo>
                <a:lnTo>
                  <a:pt x="128673" y="965281"/>
                </a:lnTo>
                <a:cubicBezTo>
                  <a:pt x="267471" y="849516"/>
                  <a:pt x="417103" y="727719"/>
                  <a:pt x="558068" y="612816"/>
                </a:cubicBezTo>
                <a:cubicBezTo>
                  <a:pt x="582717" y="591367"/>
                  <a:pt x="628935" y="566854"/>
                  <a:pt x="635098" y="545406"/>
                </a:cubicBezTo>
                <a:cubicBezTo>
                  <a:pt x="647423" y="514765"/>
                  <a:pt x="638179" y="477996"/>
                  <a:pt x="641260" y="450419"/>
                </a:cubicBezTo>
                <a:cubicBezTo>
                  <a:pt x="644341" y="364625"/>
                  <a:pt x="665910" y="254318"/>
                  <a:pt x="770671" y="263511"/>
                </a:cubicBezTo>
                <a:close/>
                <a:moveTo>
                  <a:pt x="70777" y="235050"/>
                </a:moveTo>
                <a:cubicBezTo>
                  <a:pt x="99163" y="243080"/>
                  <a:pt x="122946" y="266788"/>
                  <a:pt x="122946" y="300437"/>
                </a:cubicBezTo>
                <a:cubicBezTo>
                  <a:pt x="122946" y="367355"/>
                  <a:pt x="38363" y="389772"/>
                  <a:pt x="770" y="435317"/>
                </a:cubicBezTo>
                <a:lnTo>
                  <a:pt x="0" y="436584"/>
                </a:lnTo>
                <a:lnTo>
                  <a:pt x="0" y="256689"/>
                </a:lnTo>
                <a:lnTo>
                  <a:pt x="27143" y="235481"/>
                </a:lnTo>
                <a:cubicBezTo>
                  <a:pt x="41240" y="230940"/>
                  <a:pt x="56584" y="231035"/>
                  <a:pt x="70777" y="235050"/>
                </a:cubicBezTo>
                <a:close/>
                <a:moveTo>
                  <a:pt x="200647" y="0"/>
                </a:moveTo>
                <a:cubicBezTo>
                  <a:pt x="206810" y="0"/>
                  <a:pt x="216054" y="0"/>
                  <a:pt x="222216" y="0"/>
                </a:cubicBezTo>
                <a:cubicBezTo>
                  <a:pt x="222216" y="0"/>
                  <a:pt x="222216" y="3064"/>
                  <a:pt x="222216" y="3064"/>
                </a:cubicBezTo>
                <a:cubicBezTo>
                  <a:pt x="268434" y="6128"/>
                  <a:pt x="283840" y="33705"/>
                  <a:pt x="302327" y="64345"/>
                </a:cubicBezTo>
                <a:cubicBezTo>
                  <a:pt x="354708" y="12256"/>
                  <a:pt x="456388" y="55153"/>
                  <a:pt x="440982" y="137883"/>
                </a:cubicBezTo>
                <a:cubicBezTo>
                  <a:pt x="428657" y="214485"/>
                  <a:pt x="296165" y="242062"/>
                  <a:pt x="246866" y="275767"/>
                </a:cubicBezTo>
                <a:cubicBezTo>
                  <a:pt x="172917" y="471868"/>
                  <a:pt x="105130" y="671033"/>
                  <a:pt x="28100" y="870198"/>
                </a:cubicBezTo>
                <a:lnTo>
                  <a:pt x="0" y="937752"/>
                </a:lnTo>
                <a:lnTo>
                  <a:pt x="0" y="849367"/>
                </a:lnTo>
                <a:lnTo>
                  <a:pt x="222216" y="263511"/>
                </a:lnTo>
                <a:cubicBezTo>
                  <a:pt x="179079" y="199165"/>
                  <a:pt x="74318" y="52089"/>
                  <a:pt x="200647" y="0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Rectangle 7" hidden="1"/>
          <p:cNvSpPr/>
          <p:nvPr/>
        </p:nvSpPr>
        <p:spPr>
          <a:xfrm>
            <a:off x="0" y="0"/>
            <a:ext cx="12188520" cy="180360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cxnSp>
        <p:nvCxnSpPr>
          <p:cNvPr id="209" name="Straight Connector 9"/>
          <p:cNvCxnSpPr/>
          <p:nvPr/>
        </p:nvCxnSpPr>
        <p:spPr>
          <a:xfrm>
            <a:off x="1440" y="1803960"/>
            <a:ext cx="12189240" cy="360"/>
          </a:xfrm>
          <a:prstGeom prst="straightConnector1">
            <a:avLst/>
          </a:prstGeom>
          <a:ln w="50800">
            <a:solidFill>
              <a:srgbClr val="565a5c"/>
            </a:solidFill>
          </a:ln>
        </p:spPr>
      </p:cxnSp>
      <p:grpSp>
        <p:nvGrpSpPr>
          <p:cNvPr id="210" name="Group 6"/>
          <p:cNvGrpSpPr/>
          <p:nvPr/>
        </p:nvGrpSpPr>
        <p:grpSpPr>
          <a:xfrm>
            <a:off x="-3240" y="-1440"/>
            <a:ext cx="12196440" cy="6862320"/>
            <a:chOff x="-3240" y="-1440"/>
            <a:chExt cx="12196440" cy="6862320"/>
          </a:xfrm>
        </p:grpSpPr>
        <p:sp>
          <p:nvSpPr>
            <p:cNvPr id="211" name="Freeform 5"/>
            <p:cNvSpPr/>
            <p:nvPr/>
          </p:nvSpPr>
          <p:spPr>
            <a:xfrm>
              <a:off x="1515960" y="-1440"/>
              <a:ext cx="1025280" cy="6862320"/>
            </a:xfrm>
            <a:custGeom>
              <a:avLst/>
              <a:gdLst>
                <a:gd name="textAreaLeft" fmla="*/ 0 w 1025280"/>
                <a:gd name="textAreaRight" fmla="*/ 1025640 w 102528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323" h="2159">
                  <a:moveTo>
                    <a:pt x="125" y="74"/>
                  </a:moveTo>
                  <a:cubicBezTo>
                    <a:pt x="132" y="83"/>
                    <a:pt x="139" y="92"/>
                    <a:pt x="144" y="103"/>
                  </a:cubicBezTo>
                  <a:cubicBezTo>
                    <a:pt x="148" y="111"/>
                    <a:pt x="151" y="121"/>
                    <a:pt x="151" y="131"/>
                  </a:cubicBezTo>
                  <a:cubicBezTo>
                    <a:pt x="151" y="131"/>
                    <a:pt x="151" y="131"/>
                    <a:pt x="151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2" y="197"/>
                    <a:pt x="121" y="197"/>
                  </a:cubicBezTo>
                  <a:cubicBezTo>
                    <a:pt x="107" y="215"/>
                    <a:pt x="89" y="230"/>
                    <a:pt x="72" y="246"/>
                  </a:cubicBezTo>
                  <a:cubicBezTo>
                    <a:pt x="56" y="262"/>
                    <a:pt x="39" y="279"/>
                    <a:pt x="25" y="298"/>
                  </a:cubicBezTo>
                  <a:cubicBezTo>
                    <a:pt x="24" y="300"/>
                    <a:pt x="22" y="302"/>
                    <a:pt x="21" y="305"/>
                  </a:cubicBezTo>
                  <a:cubicBezTo>
                    <a:pt x="19" y="307"/>
                    <a:pt x="17" y="310"/>
                    <a:pt x="15" y="313"/>
                  </a:cubicBezTo>
                  <a:cubicBezTo>
                    <a:pt x="9" y="322"/>
                    <a:pt x="4" y="333"/>
                    <a:pt x="2" y="345"/>
                  </a:cubicBezTo>
                  <a:cubicBezTo>
                    <a:pt x="1" y="351"/>
                    <a:pt x="0" y="357"/>
                    <a:pt x="1" y="363"/>
                  </a:cubicBezTo>
                  <a:cubicBezTo>
                    <a:pt x="2" y="369"/>
                    <a:pt x="3" y="374"/>
                    <a:pt x="6" y="379"/>
                  </a:cubicBezTo>
                  <a:cubicBezTo>
                    <a:pt x="8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3" y="404"/>
                    <a:pt x="26" y="408"/>
                  </a:cubicBezTo>
                  <a:cubicBezTo>
                    <a:pt x="42" y="426"/>
                    <a:pt x="59" y="441"/>
                    <a:pt x="76" y="457"/>
                  </a:cubicBezTo>
                  <a:cubicBezTo>
                    <a:pt x="93" y="473"/>
                    <a:pt x="110" y="489"/>
                    <a:pt x="125" y="507"/>
                  </a:cubicBezTo>
                  <a:cubicBezTo>
                    <a:pt x="132" y="516"/>
                    <a:pt x="139" y="525"/>
                    <a:pt x="144" y="535"/>
                  </a:cubicBezTo>
                  <a:cubicBezTo>
                    <a:pt x="148" y="544"/>
                    <a:pt x="151" y="554"/>
                    <a:pt x="151" y="564"/>
                  </a:cubicBezTo>
                  <a:cubicBezTo>
                    <a:pt x="151" y="564"/>
                    <a:pt x="151" y="564"/>
                    <a:pt x="151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5"/>
                    <a:pt x="122" y="629"/>
                  </a:cubicBezTo>
                  <a:cubicBezTo>
                    <a:pt x="122" y="629"/>
                    <a:pt x="122" y="629"/>
                    <a:pt x="121" y="630"/>
                  </a:cubicBezTo>
                  <a:cubicBezTo>
                    <a:pt x="107" y="648"/>
                    <a:pt x="89" y="663"/>
                    <a:pt x="72" y="679"/>
                  </a:cubicBezTo>
                  <a:cubicBezTo>
                    <a:pt x="56" y="695"/>
                    <a:pt x="39" y="711"/>
                    <a:pt x="25" y="730"/>
                  </a:cubicBezTo>
                  <a:cubicBezTo>
                    <a:pt x="24" y="733"/>
                    <a:pt x="22" y="735"/>
                    <a:pt x="21" y="737"/>
                  </a:cubicBezTo>
                  <a:cubicBezTo>
                    <a:pt x="19" y="740"/>
                    <a:pt x="17" y="743"/>
                    <a:pt x="15" y="745"/>
                  </a:cubicBezTo>
                  <a:cubicBezTo>
                    <a:pt x="9" y="755"/>
                    <a:pt x="4" y="766"/>
                    <a:pt x="2" y="778"/>
                  </a:cubicBezTo>
                  <a:cubicBezTo>
                    <a:pt x="1" y="784"/>
                    <a:pt x="0" y="789"/>
                    <a:pt x="1" y="795"/>
                  </a:cubicBezTo>
                  <a:cubicBezTo>
                    <a:pt x="2" y="801"/>
                    <a:pt x="3" y="807"/>
                    <a:pt x="6" y="812"/>
                  </a:cubicBezTo>
                  <a:cubicBezTo>
                    <a:pt x="8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3" y="837"/>
                    <a:pt x="26" y="841"/>
                  </a:cubicBezTo>
                  <a:cubicBezTo>
                    <a:pt x="42" y="858"/>
                    <a:pt x="59" y="874"/>
                    <a:pt x="76" y="890"/>
                  </a:cubicBezTo>
                  <a:cubicBezTo>
                    <a:pt x="93" y="906"/>
                    <a:pt x="110" y="922"/>
                    <a:pt x="125" y="939"/>
                  </a:cubicBezTo>
                  <a:cubicBezTo>
                    <a:pt x="132" y="948"/>
                    <a:pt x="139" y="958"/>
                    <a:pt x="144" y="968"/>
                  </a:cubicBezTo>
                  <a:cubicBezTo>
                    <a:pt x="147" y="976"/>
                    <a:pt x="150" y="984"/>
                    <a:pt x="151" y="993"/>
                  </a:cubicBezTo>
                  <a:cubicBezTo>
                    <a:pt x="151" y="993"/>
                    <a:pt x="151" y="993"/>
                    <a:pt x="151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9" y="1065"/>
                    <a:pt x="103" y="1082"/>
                    <a:pt x="86" y="1098"/>
                  </a:cubicBezTo>
                  <a:cubicBezTo>
                    <a:pt x="70" y="1114"/>
                    <a:pt x="52" y="1130"/>
                    <a:pt x="37" y="1147"/>
                  </a:cubicBezTo>
                  <a:cubicBezTo>
                    <a:pt x="29" y="1156"/>
                    <a:pt x="21" y="1165"/>
                    <a:pt x="15" y="1175"/>
                  </a:cubicBezTo>
                  <a:cubicBezTo>
                    <a:pt x="9" y="1185"/>
                    <a:pt x="4" y="1195"/>
                    <a:pt x="2" y="1207"/>
                  </a:cubicBezTo>
                  <a:cubicBezTo>
                    <a:pt x="1" y="1213"/>
                    <a:pt x="0" y="1219"/>
                    <a:pt x="1" y="1225"/>
                  </a:cubicBezTo>
                  <a:cubicBezTo>
                    <a:pt x="2" y="1231"/>
                    <a:pt x="3" y="1236"/>
                    <a:pt x="6" y="1242"/>
                  </a:cubicBezTo>
                  <a:cubicBezTo>
                    <a:pt x="7" y="1243"/>
                    <a:pt x="7" y="1244"/>
                    <a:pt x="8" y="1245"/>
                  </a:cubicBezTo>
                  <a:cubicBezTo>
                    <a:pt x="10" y="1251"/>
                    <a:pt x="12" y="1256"/>
                    <a:pt x="15" y="1261"/>
                  </a:cubicBezTo>
                  <a:cubicBezTo>
                    <a:pt x="19" y="1261"/>
                    <a:pt x="19" y="1261"/>
                    <a:pt x="19" y="1261"/>
                  </a:cubicBezTo>
                  <a:cubicBezTo>
                    <a:pt x="21" y="1264"/>
                    <a:pt x="24" y="1267"/>
                    <a:pt x="26" y="1270"/>
                  </a:cubicBezTo>
                  <a:cubicBezTo>
                    <a:pt x="42" y="1288"/>
                    <a:pt x="59" y="1303"/>
                    <a:pt x="76" y="1319"/>
                  </a:cubicBezTo>
                  <a:cubicBezTo>
                    <a:pt x="93" y="1335"/>
                    <a:pt x="110" y="1351"/>
                    <a:pt x="125" y="1369"/>
                  </a:cubicBezTo>
                  <a:cubicBezTo>
                    <a:pt x="132" y="1378"/>
                    <a:pt x="139" y="1387"/>
                    <a:pt x="144" y="1398"/>
                  </a:cubicBezTo>
                  <a:cubicBezTo>
                    <a:pt x="148" y="1406"/>
                    <a:pt x="151" y="1415"/>
                    <a:pt x="151" y="1425"/>
                  </a:cubicBezTo>
                  <a:cubicBezTo>
                    <a:pt x="151" y="1425"/>
                    <a:pt x="151" y="1425"/>
                    <a:pt x="151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6" y="1485"/>
                    <a:pt x="120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3" y="1595"/>
                    <a:pt x="19" y="1600"/>
                    <a:pt x="15" y="1606"/>
                  </a:cubicBezTo>
                  <a:cubicBezTo>
                    <a:pt x="9" y="1616"/>
                    <a:pt x="4" y="1627"/>
                    <a:pt x="2" y="1639"/>
                  </a:cubicBezTo>
                  <a:cubicBezTo>
                    <a:pt x="1" y="1644"/>
                    <a:pt x="0" y="1650"/>
                    <a:pt x="1" y="1656"/>
                  </a:cubicBezTo>
                  <a:cubicBezTo>
                    <a:pt x="2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1" y="1681"/>
                  </a:cubicBezTo>
                  <a:cubicBezTo>
                    <a:pt x="12" y="1685"/>
                    <a:pt x="13" y="1688"/>
                    <a:pt x="15" y="1691"/>
                  </a:cubicBezTo>
                  <a:cubicBezTo>
                    <a:pt x="17" y="1691"/>
                    <a:pt x="17" y="1691"/>
                    <a:pt x="17" y="1691"/>
                  </a:cubicBezTo>
                  <a:cubicBezTo>
                    <a:pt x="20" y="1694"/>
                    <a:pt x="23" y="1698"/>
                    <a:pt x="26" y="1702"/>
                  </a:cubicBezTo>
                  <a:cubicBezTo>
                    <a:pt x="42" y="1719"/>
                    <a:pt x="59" y="1735"/>
                    <a:pt x="76" y="1751"/>
                  </a:cubicBezTo>
                  <a:cubicBezTo>
                    <a:pt x="93" y="1767"/>
                    <a:pt x="110" y="1783"/>
                    <a:pt x="125" y="1800"/>
                  </a:cubicBezTo>
                  <a:cubicBezTo>
                    <a:pt x="132" y="1809"/>
                    <a:pt x="139" y="1819"/>
                    <a:pt x="144" y="1829"/>
                  </a:cubicBezTo>
                  <a:cubicBezTo>
                    <a:pt x="148" y="1837"/>
                    <a:pt x="150" y="1846"/>
                    <a:pt x="151" y="1855"/>
                  </a:cubicBezTo>
                  <a:cubicBezTo>
                    <a:pt x="151" y="1855"/>
                    <a:pt x="151" y="1855"/>
                    <a:pt x="151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8" y="1959"/>
                    <a:pt x="80" y="1966"/>
                    <a:pt x="72" y="1973"/>
                  </a:cubicBezTo>
                  <a:cubicBezTo>
                    <a:pt x="61" y="1984"/>
                    <a:pt x="49" y="1995"/>
                    <a:pt x="39" y="2007"/>
                  </a:cubicBezTo>
                  <a:cubicBezTo>
                    <a:pt x="38" y="2008"/>
                    <a:pt x="37" y="2008"/>
                    <a:pt x="37" y="2009"/>
                  </a:cubicBezTo>
                  <a:cubicBezTo>
                    <a:pt x="29" y="2018"/>
                    <a:pt x="21" y="2027"/>
                    <a:pt x="15" y="2037"/>
                  </a:cubicBezTo>
                  <a:cubicBezTo>
                    <a:pt x="9" y="2047"/>
                    <a:pt x="4" y="2057"/>
                    <a:pt x="2" y="2069"/>
                  </a:cubicBezTo>
                  <a:cubicBezTo>
                    <a:pt x="1" y="2075"/>
                    <a:pt x="0" y="2081"/>
                    <a:pt x="1" y="2087"/>
                  </a:cubicBezTo>
                  <a:cubicBezTo>
                    <a:pt x="2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1" y="2114"/>
                    <a:pt x="13" y="2118"/>
                    <a:pt x="15" y="2122"/>
                  </a:cubicBezTo>
                  <a:cubicBezTo>
                    <a:pt x="18" y="2122"/>
                    <a:pt x="18" y="2122"/>
                    <a:pt x="18" y="2122"/>
                  </a:cubicBezTo>
                  <a:cubicBezTo>
                    <a:pt x="21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5" y="2137"/>
                    <a:pt x="34" y="2125"/>
                  </a:cubicBezTo>
                  <a:cubicBezTo>
                    <a:pt x="27" y="2117"/>
                    <a:pt x="21" y="2109"/>
                    <a:pt x="16" y="2101"/>
                  </a:cubicBezTo>
                  <a:cubicBezTo>
                    <a:pt x="15" y="2097"/>
                    <a:pt x="15" y="2093"/>
                    <a:pt x="14" y="2089"/>
                  </a:cubicBezTo>
                  <a:cubicBezTo>
                    <a:pt x="13" y="2068"/>
                    <a:pt x="21" y="2048"/>
                    <a:pt x="34" y="2030"/>
                  </a:cubicBezTo>
                  <a:cubicBezTo>
                    <a:pt x="47" y="2012"/>
                    <a:pt x="63" y="1997"/>
                    <a:pt x="80" y="1981"/>
                  </a:cubicBezTo>
                  <a:cubicBezTo>
                    <a:pt x="97" y="1965"/>
                    <a:pt x="115" y="1949"/>
                    <a:pt x="130" y="1931"/>
                  </a:cubicBezTo>
                  <a:cubicBezTo>
                    <a:pt x="138" y="1922"/>
                    <a:pt x="146" y="1912"/>
                    <a:pt x="151" y="1900"/>
                  </a:cubicBezTo>
                  <a:cubicBezTo>
                    <a:pt x="157" y="1889"/>
                    <a:pt x="162" y="1877"/>
                    <a:pt x="163" y="1863"/>
                  </a:cubicBezTo>
                  <a:cubicBezTo>
                    <a:pt x="163" y="1862"/>
                    <a:pt x="163" y="1860"/>
                    <a:pt x="163" y="1859"/>
                  </a:cubicBezTo>
                  <a:cubicBezTo>
                    <a:pt x="163" y="1860"/>
                    <a:pt x="163" y="1861"/>
                    <a:pt x="163" y="1862"/>
                  </a:cubicBezTo>
                  <a:cubicBezTo>
                    <a:pt x="164" y="1874"/>
                    <a:pt x="168" y="1886"/>
                    <a:pt x="173" y="1896"/>
                  </a:cubicBezTo>
                  <a:cubicBezTo>
                    <a:pt x="179" y="1907"/>
                    <a:pt x="186" y="1916"/>
                    <a:pt x="193" y="1925"/>
                  </a:cubicBezTo>
                  <a:cubicBezTo>
                    <a:pt x="208" y="1943"/>
                    <a:pt x="226" y="1958"/>
                    <a:pt x="242" y="1974"/>
                  </a:cubicBezTo>
                  <a:cubicBezTo>
                    <a:pt x="243" y="1975"/>
                    <a:pt x="243" y="1975"/>
                    <a:pt x="243" y="1975"/>
                  </a:cubicBezTo>
                  <a:cubicBezTo>
                    <a:pt x="250" y="1982"/>
                    <a:pt x="257" y="1988"/>
                    <a:pt x="264" y="1995"/>
                  </a:cubicBezTo>
                  <a:cubicBezTo>
                    <a:pt x="273" y="2004"/>
                    <a:pt x="282" y="2014"/>
                    <a:pt x="290" y="2025"/>
                  </a:cubicBezTo>
                  <a:cubicBezTo>
                    <a:pt x="296" y="2035"/>
                    <a:pt x="302" y="2045"/>
                    <a:pt x="306" y="2056"/>
                  </a:cubicBezTo>
                  <a:cubicBezTo>
                    <a:pt x="309" y="2067"/>
                    <a:pt x="311" y="2078"/>
                    <a:pt x="310" y="2090"/>
                  </a:cubicBezTo>
                  <a:cubicBezTo>
                    <a:pt x="309" y="2096"/>
                    <a:pt x="308" y="2102"/>
                    <a:pt x="306" y="2108"/>
                  </a:cubicBezTo>
                  <a:cubicBezTo>
                    <a:pt x="301" y="2116"/>
                    <a:pt x="295" y="2124"/>
                    <a:pt x="289" y="2131"/>
                  </a:cubicBezTo>
                  <a:cubicBezTo>
                    <a:pt x="280" y="2141"/>
                    <a:pt x="271" y="2150"/>
                    <a:pt x="261" y="2159"/>
                  </a:cubicBezTo>
                  <a:cubicBezTo>
                    <a:pt x="277" y="2159"/>
                    <a:pt x="277" y="2159"/>
                    <a:pt x="277" y="2159"/>
                  </a:cubicBezTo>
                  <a:cubicBezTo>
                    <a:pt x="284" y="2152"/>
                    <a:pt x="290" y="2145"/>
                    <a:pt x="297" y="2138"/>
                  </a:cubicBezTo>
                  <a:cubicBezTo>
                    <a:pt x="301" y="2133"/>
                    <a:pt x="305" y="2128"/>
                    <a:pt x="309" y="2122"/>
                  </a:cubicBezTo>
                  <a:cubicBezTo>
                    <a:pt x="309" y="2122"/>
                    <a:pt x="309" y="2122"/>
                    <a:pt x="309" y="2122"/>
                  </a:cubicBezTo>
                  <a:cubicBezTo>
                    <a:pt x="310" y="2122"/>
                    <a:pt x="310" y="2121"/>
                    <a:pt x="310" y="2120"/>
                  </a:cubicBezTo>
                  <a:cubicBezTo>
                    <a:pt x="313" y="2116"/>
                    <a:pt x="316" y="2112"/>
                    <a:pt x="318" y="2107"/>
                  </a:cubicBezTo>
                  <a:cubicBezTo>
                    <a:pt x="320" y="2102"/>
                    <a:pt x="322" y="2097"/>
                    <a:pt x="323" y="2092"/>
                  </a:cubicBezTo>
                  <a:cubicBezTo>
                    <a:pt x="322" y="2090"/>
                    <a:pt x="322" y="2088"/>
                    <a:pt x="322" y="2087"/>
                  </a:cubicBezTo>
                  <a:cubicBezTo>
                    <a:pt x="321" y="2081"/>
                    <a:pt x="322" y="2076"/>
                    <a:pt x="323" y="2071"/>
                  </a:cubicBezTo>
                  <a:cubicBezTo>
                    <a:pt x="322" y="2070"/>
                    <a:pt x="322" y="2069"/>
                    <a:pt x="322" y="2068"/>
                  </a:cubicBezTo>
                  <a:cubicBezTo>
                    <a:pt x="320" y="2055"/>
                    <a:pt x="314" y="2043"/>
                    <a:pt x="307" y="2033"/>
                  </a:cubicBezTo>
                  <a:cubicBezTo>
                    <a:pt x="306" y="2032"/>
                    <a:pt x="305" y="2030"/>
                    <a:pt x="304" y="2029"/>
                  </a:cubicBezTo>
                  <a:cubicBezTo>
                    <a:pt x="302" y="2026"/>
                    <a:pt x="300" y="2022"/>
                    <a:pt x="298" y="2019"/>
                  </a:cubicBezTo>
                  <a:cubicBezTo>
                    <a:pt x="284" y="1999"/>
                    <a:pt x="267" y="1982"/>
                    <a:pt x="250" y="1966"/>
                  </a:cubicBezTo>
                  <a:cubicBezTo>
                    <a:pt x="233" y="1950"/>
                    <a:pt x="216" y="1935"/>
                    <a:pt x="202" y="1917"/>
                  </a:cubicBezTo>
                  <a:cubicBezTo>
                    <a:pt x="188" y="1901"/>
                    <a:pt x="177" y="1881"/>
                    <a:pt x="175" y="1861"/>
                  </a:cubicBezTo>
                  <a:cubicBezTo>
                    <a:pt x="174" y="1852"/>
                    <a:pt x="177" y="1843"/>
                    <a:pt x="181" y="1833"/>
                  </a:cubicBezTo>
                  <a:cubicBezTo>
                    <a:pt x="186" y="1824"/>
                    <a:pt x="192" y="1815"/>
                    <a:pt x="199" y="1806"/>
                  </a:cubicBezTo>
                  <a:cubicBezTo>
                    <a:pt x="213" y="1789"/>
                    <a:pt x="230" y="1773"/>
                    <a:pt x="246" y="1757"/>
                  </a:cubicBezTo>
                  <a:cubicBezTo>
                    <a:pt x="263" y="1741"/>
                    <a:pt x="281" y="1726"/>
                    <a:pt x="297" y="1708"/>
                  </a:cubicBezTo>
                  <a:cubicBezTo>
                    <a:pt x="304" y="1698"/>
                    <a:pt x="312" y="1689"/>
                    <a:pt x="318" y="1677"/>
                  </a:cubicBezTo>
                  <a:cubicBezTo>
                    <a:pt x="320" y="1672"/>
                    <a:pt x="322" y="1667"/>
                    <a:pt x="323" y="1661"/>
                  </a:cubicBezTo>
                  <a:cubicBezTo>
                    <a:pt x="322" y="1660"/>
                    <a:pt x="322" y="1658"/>
                    <a:pt x="322" y="1656"/>
                  </a:cubicBezTo>
                  <a:cubicBezTo>
                    <a:pt x="321" y="1651"/>
                    <a:pt x="322" y="1646"/>
                    <a:pt x="323" y="1640"/>
                  </a:cubicBezTo>
                  <a:cubicBezTo>
                    <a:pt x="322" y="1639"/>
                    <a:pt x="322" y="1638"/>
                    <a:pt x="322" y="1637"/>
                  </a:cubicBezTo>
                  <a:cubicBezTo>
                    <a:pt x="320" y="1625"/>
                    <a:pt x="315" y="1614"/>
                    <a:pt x="308" y="1605"/>
                  </a:cubicBezTo>
                  <a:cubicBezTo>
                    <a:pt x="305" y="1599"/>
                    <a:pt x="302" y="1593"/>
                    <a:pt x="298" y="1588"/>
                  </a:cubicBezTo>
                  <a:cubicBezTo>
                    <a:pt x="284" y="1567"/>
                    <a:pt x="267" y="1551"/>
                    <a:pt x="250" y="1535"/>
                  </a:cubicBezTo>
                  <a:cubicBezTo>
                    <a:pt x="233" y="1519"/>
                    <a:pt x="216" y="1503"/>
                    <a:pt x="202" y="1486"/>
                  </a:cubicBezTo>
                  <a:cubicBezTo>
                    <a:pt x="188" y="1469"/>
                    <a:pt x="177" y="1450"/>
                    <a:pt x="175" y="1430"/>
                  </a:cubicBezTo>
                  <a:cubicBezTo>
                    <a:pt x="174" y="1421"/>
                    <a:pt x="177" y="1411"/>
                    <a:pt x="181" y="1402"/>
                  </a:cubicBezTo>
                  <a:cubicBezTo>
                    <a:pt x="186" y="1392"/>
                    <a:pt x="192" y="1383"/>
                    <a:pt x="199" y="1375"/>
                  </a:cubicBezTo>
                  <a:cubicBezTo>
                    <a:pt x="213" y="1357"/>
                    <a:pt x="230" y="1342"/>
                    <a:pt x="246" y="1326"/>
                  </a:cubicBezTo>
                  <a:cubicBezTo>
                    <a:pt x="263" y="1310"/>
                    <a:pt x="281" y="1294"/>
                    <a:pt x="297" y="1276"/>
                  </a:cubicBezTo>
                  <a:cubicBezTo>
                    <a:pt x="301" y="1271"/>
                    <a:pt x="305" y="1266"/>
                    <a:pt x="308" y="1261"/>
                  </a:cubicBezTo>
                  <a:cubicBezTo>
                    <a:pt x="309" y="1261"/>
                    <a:pt x="309" y="1261"/>
                    <a:pt x="309" y="1261"/>
                  </a:cubicBezTo>
                  <a:cubicBezTo>
                    <a:pt x="310" y="1259"/>
                    <a:pt x="311" y="1258"/>
                    <a:pt x="312" y="1256"/>
                  </a:cubicBezTo>
                  <a:cubicBezTo>
                    <a:pt x="314" y="1252"/>
                    <a:pt x="316" y="1249"/>
                    <a:pt x="318" y="1245"/>
                  </a:cubicBezTo>
                  <a:cubicBezTo>
                    <a:pt x="320" y="1240"/>
                    <a:pt x="322" y="1235"/>
                    <a:pt x="323" y="1230"/>
                  </a:cubicBezTo>
                  <a:cubicBezTo>
                    <a:pt x="322" y="1228"/>
                    <a:pt x="322" y="1226"/>
                    <a:pt x="322" y="1225"/>
                  </a:cubicBezTo>
                  <a:cubicBezTo>
                    <a:pt x="321" y="1219"/>
                    <a:pt x="322" y="1214"/>
                    <a:pt x="323" y="1209"/>
                  </a:cubicBezTo>
                  <a:cubicBezTo>
                    <a:pt x="322" y="1208"/>
                    <a:pt x="322" y="1207"/>
                    <a:pt x="322" y="1206"/>
                  </a:cubicBezTo>
                  <a:cubicBezTo>
                    <a:pt x="320" y="1193"/>
                    <a:pt x="314" y="1181"/>
                    <a:pt x="307" y="1171"/>
                  </a:cubicBezTo>
                  <a:cubicBezTo>
                    <a:pt x="305" y="1168"/>
                    <a:pt x="302" y="1164"/>
                    <a:pt x="300" y="1161"/>
                  </a:cubicBezTo>
                  <a:cubicBezTo>
                    <a:pt x="299" y="1160"/>
                    <a:pt x="299" y="1159"/>
                    <a:pt x="298" y="1158"/>
                  </a:cubicBezTo>
                  <a:cubicBezTo>
                    <a:pt x="284" y="1138"/>
                    <a:pt x="267" y="1122"/>
                    <a:pt x="250" y="1105"/>
                  </a:cubicBezTo>
                  <a:cubicBezTo>
                    <a:pt x="233" y="1089"/>
                    <a:pt x="216" y="1074"/>
                    <a:pt x="202" y="1057"/>
                  </a:cubicBezTo>
                  <a:cubicBezTo>
                    <a:pt x="188" y="1040"/>
                    <a:pt x="177" y="1020"/>
                    <a:pt x="175" y="1000"/>
                  </a:cubicBezTo>
                  <a:cubicBezTo>
                    <a:pt x="174" y="991"/>
                    <a:pt x="177" y="982"/>
                    <a:pt x="181" y="972"/>
                  </a:cubicBezTo>
                  <a:cubicBezTo>
                    <a:pt x="186" y="963"/>
                    <a:pt x="192" y="954"/>
                    <a:pt x="199" y="945"/>
                  </a:cubicBezTo>
                  <a:cubicBezTo>
                    <a:pt x="213" y="928"/>
                    <a:pt x="230" y="912"/>
                    <a:pt x="246" y="896"/>
                  </a:cubicBezTo>
                  <a:cubicBezTo>
                    <a:pt x="263" y="880"/>
                    <a:pt x="281" y="865"/>
                    <a:pt x="297" y="847"/>
                  </a:cubicBezTo>
                  <a:cubicBezTo>
                    <a:pt x="304" y="837"/>
                    <a:pt x="312" y="828"/>
                    <a:pt x="318" y="816"/>
                  </a:cubicBezTo>
                  <a:cubicBezTo>
                    <a:pt x="320" y="811"/>
                    <a:pt x="322" y="806"/>
                    <a:pt x="323" y="800"/>
                  </a:cubicBezTo>
                  <a:cubicBezTo>
                    <a:pt x="322" y="799"/>
                    <a:pt x="322" y="797"/>
                    <a:pt x="322" y="795"/>
                  </a:cubicBezTo>
                  <a:cubicBezTo>
                    <a:pt x="321" y="790"/>
                    <a:pt x="322" y="785"/>
                    <a:pt x="323" y="779"/>
                  </a:cubicBezTo>
                  <a:cubicBezTo>
                    <a:pt x="322" y="778"/>
                    <a:pt x="322" y="777"/>
                    <a:pt x="322" y="776"/>
                  </a:cubicBezTo>
                  <a:cubicBezTo>
                    <a:pt x="320" y="766"/>
                    <a:pt x="316" y="756"/>
                    <a:pt x="311" y="748"/>
                  </a:cubicBezTo>
                  <a:cubicBezTo>
                    <a:pt x="307" y="740"/>
                    <a:pt x="303" y="732"/>
                    <a:pt x="298" y="726"/>
                  </a:cubicBezTo>
                  <a:cubicBezTo>
                    <a:pt x="284" y="705"/>
                    <a:pt x="267" y="689"/>
                    <a:pt x="250" y="673"/>
                  </a:cubicBezTo>
                  <a:cubicBezTo>
                    <a:pt x="233" y="656"/>
                    <a:pt x="216" y="641"/>
                    <a:pt x="202" y="624"/>
                  </a:cubicBezTo>
                  <a:cubicBezTo>
                    <a:pt x="188" y="607"/>
                    <a:pt x="177" y="588"/>
                    <a:pt x="175" y="568"/>
                  </a:cubicBezTo>
                  <a:cubicBezTo>
                    <a:pt x="174" y="558"/>
                    <a:pt x="177" y="549"/>
                    <a:pt x="181" y="540"/>
                  </a:cubicBezTo>
                  <a:cubicBezTo>
                    <a:pt x="186" y="530"/>
                    <a:pt x="192" y="521"/>
                    <a:pt x="199" y="513"/>
                  </a:cubicBezTo>
                  <a:cubicBezTo>
                    <a:pt x="213" y="495"/>
                    <a:pt x="230" y="480"/>
                    <a:pt x="246" y="464"/>
                  </a:cubicBezTo>
                  <a:cubicBezTo>
                    <a:pt x="263" y="448"/>
                    <a:pt x="281" y="432"/>
                    <a:pt x="297" y="414"/>
                  </a:cubicBezTo>
                  <a:cubicBezTo>
                    <a:pt x="304" y="405"/>
                    <a:pt x="312" y="395"/>
                    <a:pt x="318" y="383"/>
                  </a:cubicBezTo>
                  <a:cubicBezTo>
                    <a:pt x="320" y="378"/>
                    <a:pt x="322" y="373"/>
                    <a:pt x="323" y="367"/>
                  </a:cubicBezTo>
                  <a:cubicBezTo>
                    <a:pt x="322" y="366"/>
                    <a:pt x="322" y="364"/>
                    <a:pt x="322" y="363"/>
                  </a:cubicBezTo>
                  <a:cubicBezTo>
                    <a:pt x="321" y="357"/>
                    <a:pt x="322" y="352"/>
                    <a:pt x="323" y="347"/>
                  </a:cubicBezTo>
                  <a:cubicBezTo>
                    <a:pt x="322" y="346"/>
                    <a:pt x="322" y="345"/>
                    <a:pt x="322" y="344"/>
                  </a:cubicBezTo>
                  <a:cubicBezTo>
                    <a:pt x="320" y="333"/>
                    <a:pt x="316" y="324"/>
                    <a:pt x="311" y="315"/>
                  </a:cubicBezTo>
                  <a:cubicBezTo>
                    <a:pt x="307" y="307"/>
                    <a:pt x="303" y="300"/>
                    <a:pt x="298" y="293"/>
                  </a:cubicBezTo>
                  <a:cubicBezTo>
                    <a:pt x="284" y="273"/>
                    <a:pt x="267" y="256"/>
                    <a:pt x="250" y="240"/>
                  </a:cubicBezTo>
                  <a:cubicBezTo>
                    <a:pt x="233" y="224"/>
                    <a:pt x="216" y="208"/>
                    <a:pt x="202" y="191"/>
                  </a:cubicBezTo>
                  <a:cubicBezTo>
                    <a:pt x="188" y="174"/>
                    <a:pt x="177" y="155"/>
                    <a:pt x="175" y="135"/>
                  </a:cubicBezTo>
                  <a:cubicBezTo>
                    <a:pt x="174" y="126"/>
                    <a:pt x="177" y="116"/>
                    <a:pt x="181" y="107"/>
                  </a:cubicBezTo>
                  <a:cubicBezTo>
                    <a:pt x="186" y="97"/>
                    <a:pt x="192" y="88"/>
                    <a:pt x="199" y="80"/>
                  </a:cubicBezTo>
                  <a:cubicBezTo>
                    <a:pt x="213" y="63"/>
                    <a:pt x="230" y="47"/>
                    <a:pt x="246" y="31"/>
                  </a:cubicBezTo>
                  <a:cubicBezTo>
                    <a:pt x="257" y="21"/>
                    <a:pt x="268" y="10"/>
                    <a:pt x="279" y="0"/>
                  </a:cubicBezTo>
                  <a:cubicBezTo>
                    <a:pt x="263" y="0"/>
                    <a:pt x="263" y="0"/>
                    <a:pt x="263" y="0"/>
                  </a:cubicBezTo>
                  <a:cubicBezTo>
                    <a:pt x="255" y="7"/>
                    <a:pt x="247" y="15"/>
                    <a:pt x="239" y="23"/>
                  </a:cubicBezTo>
                  <a:cubicBezTo>
                    <a:pt x="222" y="39"/>
                    <a:pt x="205" y="54"/>
                    <a:pt x="190" y="72"/>
                  </a:cubicBezTo>
                  <a:cubicBezTo>
                    <a:pt x="182" y="81"/>
                    <a:pt x="176" y="91"/>
                    <a:pt x="170" y="102"/>
                  </a:cubicBezTo>
                  <a:cubicBezTo>
                    <a:pt x="166" y="110"/>
                    <a:pt x="163" y="120"/>
                    <a:pt x="163" y="130"/>
                  </a:cubicBezTo>
                  <a:cubicBezTo>
                    <a:pt x="163" y="125"/>
                    <a:pt x="162" y="121"/>
                    <a:pt x="161" y="116"/>
                  </a:cubicBezTo>
                  <a:cubicBezTo>
                    <a:pt x="160" y="109"/>
                    <a:pt x="157" y="103"/>
                    <a:pt x="154" y="97"/>
                  </a:cubicBezTo>
                  <a:cubicBezTo>
                    <a:pt x="149" y="86"/>
                    <a:pt x="141" y="76"/>
                    <a:pt x="134" y="66"/>
                  </a:cubicBezTo>
                  <a:cubicBezTo>
                    <a:pt x="118" y="48"/>
                    <a:pt x="101" y="32"/>
                    <a:pt x="83" y="16"/>
                  </a:cubicBezTo>
                  <a:cubicBezTo>
                    <a:pt x="78" y="11"/>
                    <a:pt x="72" y="5"/>
                    <a:pt x="66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8" y="8"/>
                    <a:pt x="67" y="16"/>
                    <a:pt x="76" y="24"/>
                  </a:cubicBezTo>
                  <a:cubicBezTo>
                    <a:pt x="93" y="40"/>
                    <a:pt x="110" y="56"/>
                    <a:pt x="125" y="74"/>
                  </a:cubicBezTo>
                  <a:close/>
                  <a:moveTo>
                    <a:pt x="193" y="1493"/>
                  </a:moveTo>
                  <a:cubicBezTo>
                    <a:pt x="200" y="1502"/>
                    <a:pt x="208" y="1510"/>
                    <a:pt x="216" y="1517"/>
                  </a:cubicBezTo>
                  <a:cubicBezTo>
                    <a:pt x="220" y="1522"/>
                    <a:pt x="225" y="1526"/>
                    <a:pt x="229" y="1531"/>
                  </a:cubicBezTo>
                  <a:cubicBezTo>
                    <a:pt x="245" y="1547"/>
                    <a:pt x="263" y="1563"/>
                    <a:pt x="278" y="1580"/>
                  </a:cubicBezTo>
                  <a:cubicBezTo>
                    <a:pt x="280" y="1582"/>
                    <a:pt x="282" y="1584"/>
                    <a:pt x="284" y="1586"/>
                  </a:cubicBezTo>
                  <a:cubicBezTo>
                    <a:pt x="286" y="1589"/>
                    <a:pt x="288" y="1591"/>
                    <a:pt x="290" y="1594"/>
                  </a:cubicBezTo>
                  <a:cubicBezTo>
                    <a:pt x="296" y="1603"/>
                    <a:pt x="302" y="1613"/>
                    <a:pt x="306" y="1624"/>
                  </a:cubicBezTo>
                  <a:cubicBezTo>
                    <a:pt x="309" y="1635"/>
                    <a:pt x="311" y="1647"/>
                    <a:pt x="310" y="1658"/>
                  </a:cubicBezTo>
                  <a:cubicBezTo>
                    <a:pt x="309" y="1666"/>
                    <a:pt x="307" y="1673"/>
                    <a:pt x="304" y="1680"/>
                  </a:cubicBezTo>
                  <a:cubicBezTo>
                    <a:pt x="300" y="1687"/>
                    <a:pt x="294" y="1694"/>
                    <a:pt x="289" y="1701"/>
                  </a:cubicBezTo>
                  <a:cubicBezTo>
                    <a:pt x="273" y="1718"/>
                    <a:pt x="256" y="1733"/>
                    <a:pt x="239" y="1749"/>
                  </a:cubicBezTo>
                  <a:cubicBezTo>
                    <a:pt x="222" y="1765"/>
                    <a:pt x="205" y="1781"/>
                    <a:pt x="190" y="1799"/>
                  </a:cubicBezTo>
                  <a:cubicBezTo>
                    <a:pt x="182" y="1808"/>
                    <a:pt x="176" y="1818"/>
                    <a:pt x="170" y="1828"/>
                  </a:cubicBezTo>
                  <a:cubicBezTo>
                    <a:pt x="166" y="1837"/>
                    <a:pt x="163" y="1847"/>
                    <a:pt x="163" y="1857"/>
                  </a:cubicBezTo>
                  <a:cubicBezTo>
                    <a:pt x="163" y="1852"/>
                    <a:pt x="162" y="1847"/>
                    <a:pt x="161" y="1843"/>
                  </a:cubicBezTo>
                  <a:cubicBezTo>
                    <a:pt x="160" y="1836"/>
                    <a:pt x="157" y="1830"/>
                    <a:pt x="154" y="1824"/>
                  </a:cubicBezTo>
                  <a:cubicBezTo>
                    <a:pt x="149" y="1812"/>
                    <a:pt x="141" y="1802"/>
                    <a:pt x="134" y="1793"/>
                  </a:cubicBezTo>
                  <a:cubicBezTo>
                    <a:pt x="118" y="1774"/>
                    <a:pt x="101" y="1758"/>
                    <a:pt x="83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7" y="1671"/>
                  </a:cubicBezTo>
                  <a:cubicBezTo>
                    <a:pt x="15" y="1667"/>
                    <a:pt x="15" y="1662"/>
                    <a:pt x="14" y="1658"/>
                  </a:cubicBezTo>
                  <a:cubicBezTo>
                    <a:pt x="13" y="1637"/>
                    <a:pt x="21" y="1616"/>
                    <a:pt x="34" y="1599"/>
                  </a:cubicBezTo>
                  <a:cubicBezTo>
                    <a:pt x="47" y="1581"/>
                    <a:pt x="63" y="1565"/>
                    <a:pt x="80" y="1549"/>
                  </a:cubicBezTo>
                  <a:cubicBezTo>
                    <a:pt x="97" y="1534"/>
                    <a:pt x="115" y="1518"/>
                    <a:pt x="130" y="1499"/>
                  </a:cubicBezTo>
                  <a:cubicBezTo>
                    <a:pt x="138" y="1490"/>
                    <a:pt x="146" y="1480"/>
                    <a:pt x="151" y="1469"/>
                  </a:cubicBezTo>
                  <a:cubicBezTo>
                    <a:pt x="157" y="1458"/>
                    <a:pt x="162" y="1445"/>
                    <a:pt x="163" y="1432"/>
                  </a:cubicBezTo>
                  <a:cubicBezTo>
                    <a:pt x="163" y="1430"/>
                    <a:pt x="163" y="1429"/>
                    <a:pt x="163" y="1427"/>
                  </a:cubicBezTo>
                  <a:cubicBezTo>
                    <a:pt x="163" y="1428"/>
                    <a:pt x="163" y="1430"/>
                    <a:pt x="163" y="1431"/>
                  </a:cubicBezTo>
                  <a:cubicBezTo>
                    <a:pt x="164" y="1443"/>
                    <a:pt x="168" y="1454"/>
                    <a:pt x="173" y="1464"/>
                  </a:cubicBezTo>
                  <a:cubicBezTo>
                    <a:pt x="179" y="1475"/>
                    <a:pt x="186" y="1484"/>
                    <a:pt x="193" y="1493"/>
                  </a:cubicBezTo>
                  <a:close/>
                  <a:moveTo>
                    <a:pt x="193" y="1064"/>
                  </a:moveTo>
                  <a:cubicBezTo>
                    <a:pt x="208" y="1082"/>
                    <a:pt x="226" y="1098"/>
                    <a:pt x="242" y="1113"/>
                  </a:cubicBezTo>
                  <a:cubicBezTo>
                    <a:pt x="259" y="1129"/>
                    <a:pt x="276" y="1146"/>
                    <a:pt x="290" y="1164"/>
                  </a:cubicBezTo>
                  <a:cubicBezTo>
                    <a:pt x="296" y="1174"/>
                    <a:pt x="302" y="1184"/>
                    <a:pt x="306" y="1195"/>
                  </a:cubicBezTo>
                  <a:cubicBezTo>
                    <a:pt x="309" y="1206"/>
                    <a:pt x="311" y="1218"/>
                    <a:pt x="310" y="1229"/>
                  </a:cubicBezTo>
                  <a:cubicBezTo>
                    <a:pt x="309" y="1234"/>
                    <a:pt x="308" y="1239"/>
                    <a:pt x="307" y="1244"/>
                  </a:cubicBezTo>
                  <a:cubicBezTo>
                    <a:pt x="302" y="1253"/>
                    <a:pt x="295" y="1261"/>
                    <a:pt x="289" y="1269"/>
                  </a:cubicBezTo>
                  <a:cubicBezTo>
                    <a:pt x="273" y="1286"/>
                    <a:pt x="256" y="1302"/>
                    <a:pt x="239" y="1318"/>
                  </a:cubicBezTo>
                  <a:cubicBezTo>
                    <a:pt x="222" y="1333"/>
                    <a:pt x="205" y="1349"/>
                    <a:pt x="190" y="1367"/>
                  </a:cubicBezTo>
                  <a:cubicBezTo>
                    <a:pt x="182" y="1376"/>
                    <a:pt x="176" y="1386"/>
                    <a:pt x="170" y="1396"/>
                  </a:cubicBezTo>
                  <a:cubicBezTo>
                    <a:pt x="166" y="1405"/>
                    <a:pt x="163" y="1415"/>
                    <a:pt x="163" y="1425"/>
                  </a:cubicBezTo>
                  <a:cubicBezTo>
                    <a:pt x="163" y="1420"/>
                    <a:pt x="162" y="1415"/>
                    <a:pt x="161" y="1411"/>
                  </a:cubicBezTo>
                  <a:cubicBezTo>
                    <a:pt x="160" y="1404"/>
                    <a:pt x="157" y="1398"/>
                    <a:pt x="154" y="1392"/>
                  </a:cubicBezTo>
                  <a:cubicBezTo>
                    <a:pt x="149" y="1381"/>
                    <a:pt x="141" y="1371"/>
                    <a:pt x="134" y="1361"/>
                  </a:cubicBezTo>
                  <a:cubicBezTo>
                    <a:pt x="118" y="1343"/>
                    <a:pt x="101" y="1327"/>
                    <a:pt x="83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7" y="1255"/>
                    <a:pt x="20" y="1247"/>
                    <a:pt x="16" y="1238"/>
                  </a:cubicBezTo>
                  <a:cubicBezTo>
                    <a:pt x="15" y="1235"/>
                    <a:pt x="15" y="1232"/>
                    <a:pt x="14" y="1228"/>
                  </a:cubicBezTo>
                  <a:cubicBezTo>
                    <a:pt x="13" y="1207"/>
                    <a:pt x="21" y="1187"/>
                    <a:pt x="34" y="1169"/>
                  </a:cubicBezTo>
                  <a:cubicBezTo>
                    <a:pt x="47" y="1152"/>
                    <a:pt x="63" y="1136"/>
                    <a:pt x="80" y="1120"/>
                  </a:cubicBezTo>
                  <a:cubicBezTo>
                    <a:pt x="97" y="1104"/>
                    <a:pt x="115" y="1089"/>
                    <a:pt x="130" y="1070"/>
                  </a:cubicBezTo>
                  <a:cubicBezTo>
                    <a:pt x="138" y="1061"/>
                    <a:pt x="146" y="1051"/>
                    <a:pt x="151" y="1039"/>
                  </a:cubicBezTo>
                  <a:cubicBezTo>
                    <a:pt x="157" y="1028"/>
                    <a:pt x="162" y="1016"/>
                    <a:pt x="163" y="1002"/>
                  </a:cubicBezTo>
                  <a:cubicBezTo>
                    <a:pt x="163" y="1001"/>
                    <a:pt x="163" y="999"/>
                    <a:pt x="163" y="998"/>
                  </a:cubicBezTo>
                  <a:cubicBezTo>
                    <a:pt x="163" y="999"/>
                    <a:pt x="163" y="1000"/>
                    <a:pt x="163" y="1001"/>
                  </a:cubicBezTo>
                  <a:cubicBezTo>
                    <a:pt x="164" y="1013"/>
                    <a:pt x="168" y="1025"/>
                    <a:pt x="173" y="1035"/>
                  </a:cubicBezTo>
                  <a:cubicBezTo>
                    <a:pt x="179" y="1046"/>
                    <a:pt x="186" y="1055"/>
                    <a:pt x="193" y="1064"/>
                  </a:cubicBezTo>
                  <a:close/>
                  <a:moveTo>
                    <a:pt x="193" y="631"/>
                  </a:moveTo>
                  <a:cubicBezTo>
                    <a:pt x="196" y="635"/>
                    <a:pt x="199" y="638"/>
                    <a:pt x="203" y="642"/>
                  </a:cubicBezTo>
                  <a:cubicBezTo>
                    <a:pt x="211" y="652"/>
                    <a:pt x="220" y="661"/>
                    <a:pt x="229" y="670"/>
                  </a:cubicBezTo>
                  <a:cubicBezTo>
                    <a:pt x="245" y="686"/>
                    <a:pt x="263" y="702"/>
                    <a:pt x="278" y="719"/>
                  </a:cubicBezTo>
                  <a:cubicBezTo>
                    <a:pt x="283" y="724"/>
                    <a:pt x="288" y="730"/>
                    <a:pt x="292" y="735"/>
                  </a:cubicBezTo>
                  <a:cubicBezTo>
                    <a:pt x="298" y="744"/>
                    <a:pt x="302" y="753"/>
                    <a:pt x="306" y="762"/>
                  </a:cubicBezTo>
                  <a:cubicBezTo>
                    <a:pt x="309" y="773"/>
                    <a:pt x="311" y="785"/>
                    <a:pt x="310" y="796"/>
                  </a:cubicBezTo>
                  <a:cubicBezTo>
                    <a:pt x="309" y="805"/>
                    <a:pt x="307" y="813"/>
                    <a:pt x="303" y="821"/>
                  </a:cubicBezTo>
                  <a:cubicBezTo>
                    <a:pt x="299" y="827"/>
                    <a:pt x="294" y="834"/>
                    <a:pt x="289" y="840"/>
                  </a:cubicBezTo>
                  <a:cubicBezTo>
                    <a:pt x="273" y="857"/>
                    <a:pt x="256" y="872"/>
                    <a:pt x="239" y="888"/>
                  </a:cubicBezTo>
                  <a:cubicBezTo>
                    <a:pt x="222" y="904"/>
                    <a:pt x="205" y="920"/>
                    <a:pt x="190" y="938"/>
                  </a:cubicBezTo>
                  <a:cubicBezTo>
                    <a:pt x="182" y="947"/>
                    <a:pt x="176" y="957"/>
                    <a:pt x="170" y="967"/>
                  </a:cubicBezTo>
                  <a:cubicBezTo>
                    <a:pt x="166" y="976"/>
                    <a:pt x="163" y="986"/>
                    <a:pt x="163" y="996"/>
                  </a:cubicBezTo>
                  <a:cubicBezTo>
                    <a:pt x="163" y="991"/>
                    <a:pt x="162" y="986"/>
                    <a:pt x="161" y="982"/>
                  </a:cubicBezTo>
                  <a:cubicBezTo>
                    <a:pt x="160" y="975"/>
                    <a:pt x="157" y="969"/>
                    <a:pt x="154" y="963"/>
                  </a:cubicBezTo>
                  <a:cubicBezTo>
                    <a:pt x="149" y="951"/>
                    <a:pt x="141" y="941"/>
                    <a:pt x="134" y="932"/>
                  </a:cubicBezTo>
                  <a:cubicBezTo>
                    <a:pt x="118" y="913"/>
                    <a:pt x="101" y="897"/>
                    <a:pt x="83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8" y="827"/>
                    <a:pt x="22" y="819"/>
                    <a:pt x="17" y="811"/>
                  </a:cubicBezTo>
                  <a:cubicBezTo>
                    <a:pt x="16" y="806"/>
                    <a:pt x="15" y="801"/>
                    <a:pt x="14" y="795"/>
                  </a:cubicBezTo>
                  <a:cubicBezTo>
                    <a:pt x="13" y="774"/>
                    <a:pt x="21" y="754"/>
                    <a:pt x="34" y="737"/>
                  </a:cubicBezTo>
                  <a:cubicBezTo>
                    <a:pt x="47" y="719"/>
                    <a:pt x="63" y="703"/>
                    <a:pt x="80" y="687"/>
                  </a:cubicBezTo>
                  <a:cubicBezTo>
                    <a:pt x="97" y="671"/>
                    <a:pt x="115" y="656"/>
                    <a:pt x="130" y="637"/>
                  </a:cubicBezTo>
                  <a:cubicBezTo>
                    <a:pt x="138" y="628"/>
                    <a:pt x="146" y="618"/>
                    <a:pt x="151" y="607"/>
                  </a:cubicBezTo>
                  <a:cubicBezTo>
                    <a:pt x="157" y="595"/>
                    <a:pt x="162" y="583"/>
                    <a:pt x="163" y="570"/>
                  </a:cubicBezTo>
                  <a:cubicBezTo>
                    <a:pt x="163" y="568"/>
                    <a:pt x="163" y="567"/>
                    <a:pt x="163" y="565"/>
                  </a:cubicBezTo>
                  <a:cubicBezTo>
                    <a:pt x="163" y="566"/>
                    <a:pt x="163" y="568"/>
                    <a:pt x="163" y="569"/>
                  </a:cubicBezTo>
                  <a:cubicBezTo>
                    <a:pt x="164" y="580"/>
                    <a:pt x="168" y="592"/>
                    <a:pt x="173" y="602"/>
                  </a:cubicBezTo>
                  <a:cubicBezTo>
                    <a:pt x="179" y="613"/>
                    <a:pt x="186" y="622"/>
                    <a:pt x="193" y="631"/>
                  </a:cubicBezTo>
                  <a:close/>
                  <a:moveTo>
                    <a:pt x="163" y="137"/>
                  </a:moveTo>
                  <a:cubicBezTo>
                    <a:pt x="163" y="135"/>
                    <a:pt x="163" y="134"/>
                    <a:pt x="163" y="132"/>
                  </a:cubicBezTo>
                  <a:cubicBezTo>
                    <a:pt x="163" y="134"/>
                    <a:pt x="163" y="135"/>
                    <a:pt x="163" y="136"/>
                  </a:cubicBezTo>
                  <a:cubicBezTo>
                    <a:pt x="164" y="148"/>
                    <a:pt x="168" y="159"/>
                    <a:pt x="173" y="170"/>
                  </a:cubicBezTo>
                  <a:cubicBezTo>
                    <a:pt x="179" y="180"/>
                    <a:pt x="186" y="190"/>
                    <a:pt x="193" y="198"/>
                  </a:cubicBezTo>
                  <a:cubicBezTo>
                    <a:pt x="196" y="202"/>
                    <a:pt x="199" y="206"/>
                    <a:pt x="203" y="209"/>
                  </a:cubicBezTo>
                  <a:cubicBezTo>
                    <a:pt x="211" y="219"/>
                    <a:pt x="220" y="228"/>
                    <a:pt x="229" y="237"/>
                  </a:cubicBezTo>
                  <a:cubicBezTo>
                    <a:pt x="245" y="254"/>
                    <a:pt x="263" y="269"/>
                    <a:pt x="278" y="286"/>
                  </a:cubicBezTo>
                  <a:cubicBezTo>
                    <a:pt x="283" y="291"/>
                    <a:pt x="288" y="297"/>
                    <a:pt x="292" y="302"/>
                  </a:cubicBezTo>
                  <a:cubicBezTo>
                    <a:pt x="298" y="311"/>
                    <a:pt x="302" y="320"/>
                    <a:pt x="306" y="329"/>
                  </a:cubicBezTo>
                  <a:cubicBezTo>
                    <a:pt x="309" y="340"/>
                    <a:pt x="311" y="352"/>
                    <a:pt x="310" y="363"/>
                  </a:cubicBezTo>
                  <a:cubicBezTo>
                    <a:pt x="309" y="372"/>
                    <a:pt x="307" y="380"/>
                    <a:pt x="303" y="388"/>
                  </a:cubicBezTo>
                  <a:cubicBezTo>
                    <a:pt x="299" y="395"/>
                    <a:pt x="294" y="401"/>
                    <a:pt x="289" y="407"/>
                  </a:cubicBezTo>
                  <a:cubicBezTo>
                    <a:pt x="273" y="424"/>
                    <a:pt x="256" y="440"/>
                    <a:pt x="239" y="455"/>
                  </a:cubicBezTo>
                  <a:cubicBezTo>
                    <a:pt x="222" y="471"/>
                    <a:pt x="205" y="487"/>
                    <a:pt x="190" y="505"/>
                  </a:cubicBezTo>
                  <a:cubicBezTo>
                    <a:pt x="182" y="514"/>
                    <a:pt x="176" y="524"/>
                    <a:pt x="170" y="534"/>
                  </a:cubicBezTo>
                  <a:cubicBezTo>
                    <a:pt x="166" y="543"/>
                    <a:pt x="163" y="553"/>
                    <a:pt x="163" y="563"/>
                  </a:cubicBezTo>
                  <a:cubicBezTo>
                    <a:pt x="163" y="558"/>
                    <a:pt x="162" y="553"/>
                    <a:pt x="161" y="549"/>
                  </a:cubicBezTo>
                  <a:cubicBezTo>
                    <a:pt x="160" y="542"/>
                    <a:pt x="157" y="536"/>
                    <a:pt x="154" y="530"/>
                  </a:cubicBezTo>
                  <a:cubicBezTo>
                    <a:pt x="149" y="519"/>
                    <a:pt x="141" y="509"/>
                    <a:pt x="134" y="499"/>
                  </a:cubicBezTo>
                  <a:cubicBezTo>
                    <a:pt x="118" y="481"/>
                    <a:pt x="101" y="465"/>
                    <a:pt x="83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8" y="394"/>
                    <a:pt x="22" y="386"/>
                    <a:pt x="17" y="379"/>
                  </a:cubicBezTo>
                  <a:cubicBezTo>
                    <a:pt x="16" y="373"/>
                    <a:pt x="15" y="368"/>
                    <a:pt x="14" y="363"/>
                  </a:cubicBezTo>
                  <a:cubicBezTo>
                    <a:pt x="13" y="342"/>
                    <a:pt x="21" y="322"/>
                    <a:pt x="34" y="304"/>
                  </a:cubicBezTo>
                  <a:cubicBezTo>
                    <a:pt x="47" y="286"/>
                    <a:pt x="63" y="270"/>
                    <a:pt x="80" y="254"/>
                  </a:cubicBezTo>
                  <a:cubicBezTo>
                    <a:pt x="97" y="239"/>
                    <a:pt x="115" y="223"/>
                    <a:pt x="130" y="204"/>
                  </a:cubicBezTo>
                  <a:cubicBezTo>
                    <a:pt x="138" y="195"/>
                    <a:pt x="146" y="185"/>
                    <a:pt x="151" y="174"/>
                  </a:cubicBezTo>
                  <a:cubicBezTo>
                    <a:pt x="157" y="163"/>
                    <a:pt x="162" y="150"/>
                    <a:pt x="163" y="137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12" name="Freeform 6"/>
            <p:cNvSpPr/>
            <p:nvPr/>
          </p:nvSpPr>
          <p:spPr>
            <a:xfrm>
              <a:off x="495360" y="-1440"/>
              <a:ext cx="514080" cy="686232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2" h="2159">
                  <a:moveTo>
                    <a:pt x="124" y="74"/>
                  </a:moveTo>
                  <a:cubicBezTo>
                    <a:pt x="132" y="83"/>
                    <a:pt x="139" y="92"/>
                    <a:pt x="144" y="103"/>
                  </a:cubicBezTo>
                  <a:cubicBezTo>
                    <a:pt x="148" y="111"/>
                    <a:pt x="151" y="121"/>
                    <a:pt x="151" y="131"/>
                  </a:cubicBezTo>
                  <a:cubicBezTo>
                    <a:pt x="150" y="131"/>
                    <a:pt x="150" y="131"/>
                    <a:pt x="150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2" y="197"/>
                    <a:pt x="121" y="197"/>
                  </a:cubicBezTo>
                  <a:cubicBezTo>
                    <a:pt x="106" y="215"/>
                    <a:pt x="89" y="230"/>
                    <a:pt x="72" y="246"/>
                  </a:cubicBezTo>
                  <a:cubicBezTo>
                    <a:pt x="55" y="262"/>
                    <a:pt x="38" y="279"/>
                    <a:pt x="25" y="298"/>
                  </a:cubicBezTo>
                  <a:cubicBezTo>
                    <a:pt x="23" y="300"/>
                    <a:pt x="22" y="302"/>
                    <a:pt x="20" y="305"/>
                  </a:cubicBezTo>
                  <a:cubicBezTo>
                    <a:pt x="18" y="307"/>
                    <a:pt x="17" y="310"/>
                    <a:pt x="15" y="313"/>
                  </a:cubicBezTo>
                  <a:cubicBezTo>
                    <a:pt x="9" y="322"/>
                    <a:pt x="4" y="333"/>
                    <a:pt x="2" y="345"/>
                  </a:cubicBezTo>
                  <a:cubicBezTo>
                    <a:pt x="0" y="351"/>
                    <a:pt x="0" y="357"/>
                    <a:pt x="1" y="363"/>
                  </a:cubicBezTo>
                  <a:cubicBezTo>
                    <a:pt x="1" y="369"/>
                    <a:pt x="3" y="374"/>
                    <a:pt x="6" y="379"/>
                  </a:cubicBezTo>
                  <a:cubicBezTo>
                    <a:pt x="8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2" y="404"/>
                    <a:pt x="26" y="408"/>
                  </a:cubicBezTo>
                  <a:cubicBezTo>
                    <a:pt x="41" y="426"/>
                    <a:pt x="59" y="441"/>
                    <a:pt x="76" y="457"/>
                  </a:cubicBezTo>
                  <a:cubicBezTo>
                    <a:pt x="93" y="473"/>
                    <a:pt x="110" y="489"/>
                    <a:pt x="124" y="507"/>
                  </a:cubicBezTo>
                  <a:cubicBezTo>
                    <a:pt x="132" y="516"/>
                    <a:pt x="139" y="525"/>
                    <a:pt x="144" y="535"/>
                  </a:cubicBezTo>
                  <a:cubicBezTo>
                    <a:pt x="148" y="544"/>
                    <a:pt x="151" y="554"/>
                    <a:pt x="151" y="564"/>
                  </a:cubicBezTo>
                  <a:cubicBezTo>
                    <a:pt x="150" y="564"/>
                    <a:pt x="150" y="564"/>
                    <a:pt x="150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5"/>
                    <a:pt x="122" y="629"/>
                  </a:cubicBezTo>
                  <a:cubicBezTo>
                    <a:pt x="122" y="629"/>
                    <a:pt x="122" y="629"/>
                    <a:pt x="121" y="630"/>
                  </a:cubicBezTo>
                  <a:cubicBezTo>
                    <a:pt x="106" y="648"/>
                    <a:pt x="89" y="663"/>
                    <a:pt x="72" y="679"/>
                  </a:cubicBezTo>
                  <a:cubicBezTo>
                    <a:pt x="55" y="695"/>
                    <a:pt x="38" y="711"/>
                    <a:pt x="25" y="730"/>
                  </a:cubicBezTo>
                  <a:cubicBezTo>
                    <a:pt x="23" y="733"/>
                    <a:pt x="22" y="735"/>
                    <a:pt x="20" y="737"/>
                  </a:cubicBezTo>
                  <a:cubicBezTo>
                    <a:pt x="18" y="740"/>
                    <a:pt x="17" y="743"/>
                    <a:pt x="15" y="745"/>
                  </a:cubicBezTo>
                  <a:cubicBezTo>
                    <a:pt x="9" y="755"/>
                    <a:pt x="4" y="766"/>
                    <a:pt x="2" y="778"/>
                  </a:cubicBezTo>
                  <a:cubicBezTo>
                    <a:pt x="0" y="784"/>
                    <a:pt x="0" y="789"/>
                    <a:pt x="1" y="795"/>
                  </a:cubicBezTo>
                  <a:cubicBezTo>
                    <a:pt x="1" y="801"/>
                    <a:pt x="3" y="807"/>
                    <a:pt x="6" y="812"/>
                  </a:cubicBezTo>
                  <a:cubicBezTo>
                    <a:pt x="8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2" y="837"/>
                    <a:pt x="26" y="841"/>
                  </a:cubicBezTo>
                  <a:cubicBezTo>
                    <a:pt x="41" y="858"/>
                    <a:pt x="59" y="874"/>
                    <a:pt x="76" y="890"/>
                  </a:cubicBezTo>
                  <a:cubicBezTo>
                    <a:pt x="93" y="906"/>
                    <a:pt x="110" y="922"/>
                    <a:pt x="124" y="939"/>
                  </a:cubicBezTo>
                  <a:cubicBezTo>
                    <a:pt x="132" y="948"/>
                    <a:pt x="139" y="958"/>
                    <a:pt x="144" y="968"/>
                  </a:cubicBezTo>
                  <a:cubicBezTo>
                    <a:pt x="147" y="976"/>
                    <a:pt x="150" y="984"/>
                    <a:pt x="151" y="993"/>
                  </a:cubicBezTo>
                  <a:cubicBezTo>
                    <a:pt x="150" y="993"/>
                    <a:pt x="150" y="993"/>
                    <a:pt x="150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9" y="1065"/>
                    <a:pt x="103" y="1082"/>
                    <a:pt x="86" y="1098"/>
                  </a:cubicBezTo>
                  <a:cubicBezTo>
                    <a:pt x="70" y="1114"/>
                    <a:pt x="52" y="1130"/>
                    <a:pt x="36" y="1147"/>
                  </a:cubicBezTo>
                  <a:cubicBezTo>
                    <a:pt x="29" y="1156"/>
                    <a:pt x="21" y="1165"/>
                    <a:pt x="15" y="1175"/>
                  </a:cubicBezTo>
                  <a:cubicBezTo>
                    <a:pt x="9" y="1185"/>
                    <a:pt x="4" y="1195"/>
                    <a:pt x="2" y="1207"/>
                  </a:cubicBezTo>
                  <a:cubicBezTo>
                    <a:pt x="0" y="1213"/>
                    <a:pt x="0" y="1219"/>
                    <a:pt x="1" y="1225"/>
                  </a:cubicBezTo>
                  <a:cubicBezTo>
                    <a:pt x="1" y="1231"/>
                    <a:pt x="3" y="1236"/>
                    <a:pt x="6" y="1242"/>
                  </a:cubicBezTo>
                  <a:cubicBezTo>
                    <a:pt x="7" y="1243"/>
                    <a:pt x="7" y="1244"/>
                    <a:pt x="8" y="1245"/>
                  </a:cubicBezTo>
                  <a:cubicBezTo>
                    <a:pt x="10" y="1251"/>
                    <a:pt x="12" y="1256"/>
                    <a:pt x="15" y="1261"/>
                  </a:cubicBezTo>
                  <a:cubicBezTo>
                    <a:pt x="19" y="1261"/>
                    <a:pt x="19" y="1261"/>
                    <a:pt x="19" y="1261"/>
                  </a:cubicBezTo>
                  <a:cubicBezTo>
                    <a:pt x="21" y="1264"/>
                    <a:pt x="23" y="1267"/>
                    <a:pt x="26" y="1270"/>
                  </a:cubicBezTo>
                  <a:cubicBezTo>
                    <a:pt x="41" y="1288"/>
                    <a:pt x="59" y="1303"/>
                    <a:pt x="76" y="1319"/>
                  </a:cubicBezTo>
                  <a:cubicBezTo>
                    <a:pt x="93" y="1335"/>
                    <a:pt x="110" y="1351"/>
                    <a:pt x="124" y="1369"/>
                  </a:cubicBezTo>
                  <a:cubicBezTo>
                    <a:pt x="132" y="1378"/>
                    <a:pt x="139" y="1387"/>
                    <a:pt x="144" y="1398"/>
                  </a:cubicBezTo>
                  <a:cubicBezTo>
                    <a:pt x="148" y="1406"/>
                    <a:pt x="150" y="1415"/>
                    <a:pt x="151" y="1425"/>
                  </a:cubicBezTo>
                  <a:cubicBezTo>
                    <a:pt x="150" y="1425"/>
                    <a:pt x="150" y="1425"/>
                    <a:pt x="150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6" y="1485"/>
                    <a:pt x="120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3" y="1595"/>
                    <a:pt x="19" y="1600"/>
                    <a:pt x="15" y="1606"/>
                  </a:cubicBezTo>
                  <a:cubicBezTo>
                    <a:pt x="9" y="1616"/>
                    <a:pt x="4" y="1627"/>
                    <a:pt x="2" y="1639"/>
                  </a:cubicBezTo>
                  <a:cubicBezTo>
                    <a:pt x="0" y="1644"/>
                    <a:pt x="0" y="1650"/>
                    <a:pt x="1" y="1656"/>
                  </a:cubicBezTo>
                  <a:cubicBezTo>
                    <a:pt x="1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0" y="1681"/>
                  </a:cubicBezTo>
                  <a:cubicBezTo>
                    <a:pt x="12" y="1685"/>
                    <a:pt x="13" y="1688"/>
                    <a:pt x="15" y="1691"/>
                  </a:cubicBezTo>
                  <a:cubicBezTo>
                    <a:pt x="17" y="1691"/>
                    <a:pt x="17" y="1691"/>
                    <a:pt x="17" y="1691"/>
                  </a:cubicBezTo>
                  <a:cubicBezTo>
                    <a:pt x="20" y="1694"/>
                    <a:pt x="23" y="1698"/>
                    <a:pt x="26" y="1702"/>
                  </a:cubicBezTo>
                  <a:cubicBezTo>
                    <a:pt x="41" y="1719"/>
                    <a:pt x="59" y="1735"/>
                    <a:pt x="76" y="1751"/>
                  </a:cubicBezTo>
                  <a:cubicBezTo>
                    <a:pt x="93" y="1767"/>
                    <a:pt x="110" y="1783"/>
                    <a:pt x="124" y="1800"/>
                  </a:cubicBezTo>
                  <a:cubicBezTo>
                    <a:pt x="132" y="1809"/>
                    <a:pt x="139" y="1819"/>
                    <a:pt x="144" y="1829"/>
                  </a:cubicBezTo>
                  <a:cubicBezTo>
                    <a:pt x="147" y="1837"/>
                    <a:pt x="150" y="1846"/>
                    <a:pt x="151" y="1855"/>
                  </a:cubicBezTo>
                  <a:cubicBezTo>
                    <a:pt x="150" y="1855"/>
                    <a:pt x="150" y="1855"/>
                    <a:pt x="150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7" y="1959"/>
                    <a:pt x="80" y="1966"/>
                    <a:pt x="72" y="1973"/>
                  </a:cubicBezTo>
                  <a:cubicBezTo>
                    <a:pt x="61" y="1984"/>
                    <a:pt x="49" y="1995"/>
                    <a:pt x="39" y="2007"/>
                  </a:cubicBezTo>
                  <a:cubicBezTo>
                    <a:pt x="38" y="2008"/>
                    <a:pt x="37" y="2008"/>
                    <a:pt x="36" y="2009"/>
                  </a:cubicBezTo>
                  <a:cubicBezTo>
                    <a:pt x="29" y="2018"/>
                    <a:pt x="21" y="2027"/>
                    <a:pt x="15" y="2037"/>
                  </a:cubicBezTo>
                  <a:cubicBezTo>
                    <a:pt x="9" y="2047"/>
                    <a:pt x="4" y="2057"/>
                    <a:pt x="2" y="2069"/>
                  </a:cubicBezTo>
                  <a:cubicBezTo>
                    <a:pt x="0" y="2075"/>
                    <a:pt x="0" y="2081"/>
                    <a:pt x="1" y="2087"/>
                  </a:cubicBezTo>
                  <a:cubicBezTo>
                    <a:pt x="1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1" y="2114"/>
                    <a:pt x="13" y="2118"/>
                    <a:pt x="15" y="2122"/>
                  </a:cubicBezTo>
                  <a:cubicBezTo>
                    <a:pt x="18" y="2122"/>
                    <a:pt x="18" y="2122"/>
                    <a:pt x="18" y="2122"/>
                  </a:cubicBezTo>
                  <a:cubicBezTo>
                    <a:pt x="20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4" y="2137"/>
                    <a:pt x="34" y="2125"/>
                  </a:cubicBezTo>
                  <a:cubicBezTo>
                    <a:pt x="27" y="2117"/>
                    <a:pt x="21" y="2109"/>
                    <a:pt x="16" y="2101"/>
                  </a:cubicBezTo>
                  <a:cubicBezTo>
                    <a:pt x="15" y="2097"/>
                    <a:pt x="14" y="2093"/>
                    <a:pt x="14" y="2089"/>
                  </a:cubicBezTo>
                  <a:cubicBezTo>
                    <a:pt x="12" y="2068"/>
                    <a:pt x="21" y="2048"/>
                    <a:pt x="34" y="2030"/>
                  </a:cubicBezTo>
                  <a:cubicBezTo>
                    <a:pt x="46" y="2012"/>
                    <a:pt x="63" y="1997"/>
                    <a:pt x="80" y="1981"/>
                  </a:cubicBezTo>
                  <a:cubicBezTo>
                    <a:pt x="97" y="1965"/>
                    <a:pt x="114" y="1949"/>
                    <a:pt x="130" y="1931"/>
                  </a:cubicBezTo>
                  <a:cubicBezTo>
                    <a:pt x="138" y="1922"/>
                    <a:pt x="145" y="1912"/>
                    <a:pt x="151" y="1900"/>
                  </a:cubicBezTo>
                  <a:cubicBezTo>
                    <a:pt x="156" y="1891"/>
                    <a:pt x="160" y="1881"/>
                    <a:pt x="162" y="1870"/>
                  </a:cubicBezTo>
                  <a:cubicBezTo>
                    <a:pt x="161" y="1867"/>
                    <a:pt x="161" y="1865"/>
                    <a:pt x="161" y="1862"/>
                  </a:cubicBezTo>
                  <a:cubicBezTo>
                    <a:pt x="160" y="1857"/>
                    <a:pt x="161" y="1852"/>
                    <a:pt x="162" y="1846"/>
                  </a:cubicBezTo>
                  <a:cubicBezTo>
                    <a:pt x="162" y="1845"/>
                    <a:pt x="161" y="1844"/>
                    <a:pt x="161" y="1843"/>
                  </a:cubicBezTo>
                  <a:cubicBezTo>
                    <a:pt x="160" y="1836"/>
                    <a:pt x="157" y="1830"/>
                    <a:pt x="154" y="1824"/>
                  </a:cubicBezTo>
                  <a:cubicBezTo>
                    <a:pt x="149" y="1812"/>
                    <a:pt x="141" y="1802"/>
                    <a:pt x="133" y="1793"/>
                  </a:cubicBezTo>
                  <a:cubicBezTo>
                    <a:pt x="118" y="1774"/>
                    <a:pt x="100" y="1758"/>
                    <a:pt x="83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7" y="1671"/>
                  </a:cubicBezTo>
                  <a:cubicBezTo>
                    <a:pt x="15" y="1667"/>
                    <a:pt x="14" y="1662"/>
                    <a:pt x="14" y="1658"/>
                  </a:cubicBezTo>
                  <a:cubicBezTo>
                    <a:pt x="12" y="1637"/>
                    <a:pt x="21" y="1616"/>
                    <a:pt x="34" y="1599"/>
                  </a:cubicBezTo>
                  <a:cubicBezTo>
                    <a:pt x="46" y="1581"/>
                    <a:pt x="63" y="1565"/>
                    <a:pt x="80" y="1549"/>
                  </a:cubicBezTo>
                  <a:cubicBezTo>
                    <a:pt x="97" y="1534"/>
                    <a:pt x="114" y="1518"/>
                    <a:pt x="130" y="1499"/>
                  </a:cubicBezTo>
                  <a:cubicBezTo>
                    <a:pt x="138" y="1490"/>
                    <a:pt x="145" y="1480"/>
                    <a:pt x="151" y="1469"/>
                  </a:cubicBezTo>
                  <a:cubicBezTo>
                    <a:pt x="156" y="1459"/>
                    <a:pt x="160" y="1449"/>
                    <a:pt x="162" y="1438"/>
                  </a:cubicBezTo>
                  <a:cubicBezTo>
                    <a:pt x="161" y="1436"/>
                    <a:pt x="161" y="1433"/>
                    <a:pt x="161" y="1431"/>
                  </a:cubicBezTo>
                  <a:cubicBezTo>
                    <a:pt x="160" y="1425"/>
                    <a:pt x="161" y="1420"/>
                    <a:pt x="162" y="1415"/>
                  </a:cubicBezTo>
                  <a:cubicBezTo>
                    <a:pt x="162" y="1413"/>
                    <a:pt x="161" y="1412"/>
                    <a:pt x="161" y="1411"/>
                  </a:cubicBezTo>
                  <a:cubicBezTo>
                    <a:pt x="160" y="1404"/>
                    <a:pt x="157" y="1398"/>
                    <a:pt x="154" y="1392"/>
                  </a:cubicBezTo>
                  <a:cubicBezTo>
                    <a:pt x="149" y="1381"/>
                    <a:pt x="141" y="1371"/>
                    <a:pt x="133" y="1361"/>
                  </a:cubicBezTo>
                  <a:cubicBezTo>
                    <a:pt x="118" y="1343"/>
                    <a:pt x="100" y="1327"/>
                    <a:pt x="83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7" y="1255"/>
                    <a:pt x="20" y="1247"/>
                    <a:pt x="16" y="1238"/>
                  </a:cubicBezTo>
                  <a:cubicBezTo>
                    <a:pt x="15" y="1235"/>
                    <a:pt x="14" y="1232"/>
                    <a:pt x="14" y="1228"/>
                  </a:cubicBezTo>
                  <a:cubicBezTo>
                    <a:pt x="12" y="1207"/>
                    <a:pt x="21" y="1187"/>
                    <a:pt x="34" y="1169"/>
                  </a:cubicBezTo>
                  <a:cubicBezTo>
                    <a:pt x="46" y="1152"/>
                    <a:pt x="63" y="1136"/>
                    <a:pt x="80" y="1120"/>
                  </a:cubicBezTo>
                  <a:cubicBezTo>
                    <a:pt x="97" y="1104"/>
                    <a:pt x="114" y="1089"/>
                    <a:pt x="130" y="1070"/>
                  </a:cubicBezTo>
                  <a:cubicBezTo>
                    <a:pt x="138" y="1061"/>
                    <a:pt x="145" y="1051"/>
                    <a:pt x="151" y="1039"/>
                  </a:cubicBezTo>
                  <a:cubicBezTo>
                    <a:pt x="156" y="1030"/>
                    <a:pt x="160" y="1020"/>
                    <a:pt x="162" y="1009"/>
                  </a:cubicBezTo>
                  <a:cubicBezTo>
                    <a:pt x="161" y="1006"/>
                    <a:pt x="161" y="1004"/>
                    <a:pt x="161" y="1001"/>
                  </a:cubicBezTo>
                  <a:cubicBezTo>
                    <a:pt x="160" y="996"/>
                    <a:pt x="161" y="991"/>
                    <a:pt x="162" y="985"/>
                  </a:cubicBezTo>
                  <a:cubicBezTo>
                    <a:pt x="162" y="984"/>
                    <a:pt x="161" y="983"/>
                    <a:pt x="161" y="982"/>
                  </a:cubicBezTo>
                  <a:cubicBezTo>
                    <a:pt x="160" y="975"/>
                    <a:pt x="157" y="969"/>
                    <a:pt x="154" y="963"/>
                  </a:cubicBezTo>
                  <a:cubicBezTo>
                    <a:pt x="149" y="951"/>
                    <a:pt x="141" y="941"/>
                    <a:pt x="133" y="932"/>
                  </a:cubicBezTo>
                  <a:cubicBezTo>
                    <a:pt x="118" y="913"/>
                    <a:pt x="100" y="897"/>
                    <a:pt x="83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7" y="827"/>
                    <a:pt x="22" y="819"/>
                    <a:pt x="17" y="811"/>
                  </a:cubicBezTo>
                  <a:cubicBezTo>
                    <a:pt x="16" y="806"/>
                    <a:pt x="14" y="801"/>
                    <a:pt x="14" y="795"/>
                  </a:cubicBezTo>
                  <a:cubicBezTo>
                    <a:pt x="12" y="774"/>
                    <a:pt x="21" y="754"/>
                    <a:pt x="34" y="737"/>
                  </a:cubicBezTo>
                  <a:cubicBezTo>
                    <a:pt x="46" y="719"/>
                    <a:pt x="63" y="703"/>
                    <a:pt x="80" y="687"/>
                  </a:cubicBezTo>
                  <a:cubicBezTo>
                    <a:pt x="97" y="671"/>
                    <a:pt x="114" y="656"/>
                    <a:pt x="130" y="637"/>
                  </a:cubicBezTo>
                  <a:cubicBezTo>
                    <a:pt x="138" y="628"/>
                    <a:pt x="145" y="618"/>
                    <a:pt x="151" y="607"/>
                  </a:cubicBezTo>
                  <a:cubicBezTo>
                    <a:pt x="156" y="597"/>
                    <a:pt x="160" y="587"/>
                    <a:pt x="162" y="576"/>
                  </a:cubicBezTo>
                  <a:cubicBezTo>
                    <a:pt x="161" y="573"/>
                    <a:pt x="161" y="571"/>
                    <a:pt x="161" y="569"/>
                  </a:cubicBezTo>
                  <a:cubicBezTo>
                    <a:pt x="160" y="563"/>
                    <a:pt x="161" y="558"/>
                    <a:pt x="162" y="553"/>
                  </a:cubicBezTo>
                  <a:cubicBezTo>
                    <a:pt x="162" y="551"/>
                    <a:pt x="161" y="550"/>
                    <a:pt x="161" y="549"/>
                  </a:cubicBezTo>
                  <a:cubicBezTo>
                    <a:pt x="160" y="542"/>
                    <a:pt x="157" y="536"/>
                    <a:pt x="154" y="530"/>
                  </a:cubicBezTo>
                  <a:cubicBezTo>
                    <a:pt x="149" y="519"/>
                    <a:pt x="141" y="509"/>
                    <a:pt x="133" y="499"/>
                  </a:cubicBezTo>
                  <a:cubicBezTo>
                    <a:pt x="118" y="481"/>
                    <a:pt x="100" y="465"/>
                    <a:pt x="83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7" y="394"/>
                    <a:pt x="22" y="386"/>
                    <a:pt x="17" y="379"/>
                  </a:cubicBezTo>
                  <a:cubicBezTo>
                    <a:pt x="16" y="373"/>
                    <a:pt x="14" y="368"/>
                    <a:pt x="14" y="363"/>
                  </a:cubicBezTo>
                  <a:cubicBezTo>
                    <a:pt x="12" y="342"/>
                    <a:pt x="21" y="322"/>
                    <a:pt x="34" y="304"/>
                  </a:cubicBezTo>
                  <a:cubicBezTo>
                    <a:pt x="46" y="286"/>
                    <a:pt x="63" y="270"/>
                    <a:pt x="80" y="254"/>
                  </a:cubicBezTo>
                  <a:cubicBezTo>
                    <a:pt x="97" y="239"/>
                    <a:pt x="114" y="223"/>
                    <a:pt x="130" y="204"/>
                  </a:cubicBezTo>
                  <a:cubicBezTo>
                    <a:pt x="138" y="195"/>
                    <a:pt x="145" y="185"/>
                    <a:pt x="151" y="174"/>
                  </a:cubicBezTo>
                  <a:cubicBezTo>
                    <a:pt x="156" y="164"/>
                    <a:pt x="160" y="154"/>
                    <a:pt x="162" y="143"/>
                  </a:cubicBezTo>
                  <a:cubicBezTo>
                    <a:pt x="161" y="141"/>
                    <a:pt x="161" y="138"/>
                    <a:pt x="161" y="136"/>
                  </a:cubicBezTo>
                  <a:cubicBezTo>
                    <a:pt x="160" y="130"/>
                    <a:pt x="161" y="125"/>
                    <a:pt x="162" y="120"/>
                  </a:cubicBezTo>
                  <a:cubicBezTo>
                    <a:pt x="162" y="119"/>
                    <a:pt x="161" y="117"/>
                    <a:pt x="161" y="116"/>
                  </a:cubicBezTo>
                  <a:cubicBezTo>
                    <a:pt x="160" y="109"/>
                    <a:pt x="157" y="103"/>
                    <a:pt x="154" y="97"/>
                  </a:cubicBezTo>
                  <a:cubicBezTo>
                    <a:pt x="149" y="86"/>
                    <a:pt x="141" y="76"/>
                    <a:pt x="133" y="66"/>
                  </a:cubicBezTo>
                  <a:cubicBezTo>
                    <a:pt x="118" y="48"/>
                    <a:pt x="100" y="32"/>
                    <a:pt x="83" y="16"/>
                  </a:cubicBezTo>
                  <a:cubicBezTo>
                    <a:pt x="77" y="11"/>
                    <a:pt x="71" y="5"/>
                    <a:pt x="66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8" y="8"/>
                    <a:pt x="67" y="16"/>
                    <a:pt x="76" y="24"/>
                  </a:cubicBezTo>
                  <a:cubicBezTo>
                    <a:pt x="93" y="40"/>
                    <a:pt x="110" y="56"/>
                    <a:pt x="124" y="74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13" name="Freeform 7"/>
            <p:cNvSpPr/>
            <p:nvPr/>
          </p:nvSpPr>
          <p:spPr>
            <a:xfrm>
              <a:off x="4559400" y="-1440"/>
              <a:ext cx="1025280" cy="6862320"/>
            </a:xfrm>
            <a:custGeom>
              <a:avLst/>
              <a:gdLst>
                <a:gd name="textAreaLeft" fmla="*/ 0 w 1025280"/>
                <a:gd name="textAreaRight" fmla="*/ 1025640 w 102528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323" h="2159">
                  <a:moveTo>
                    <a:pt x="124" y="74"/>
                  </a:moveTo>
                  <a:cubicBezTo>
                    <a:pt x="132" y="83"/>
                    <a:pt x="138" y="92"/>
                    <a:pt x="143" y="103"/>
                  </a:cubicBezTo>
                  <a:cubicBezTo>
                    <a:pt x="148" y="111"/>
                    <a:pt x="151" y="121"/>
                    <a:pt x="151" y="131"/>
                  </a:cubicBezTo>
                  <a:cubicBezTo>
                    <a:pt x="150" y="131"/>
                    <a:pt x="150" y="131"/>
                    <a:pt x="150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1" y="197"/>
                    <a:pt x="121" y="197"/>
                  </a:cubicBezTo>
                  <a:cubicBezTo>
                    <a:pt x="106" y="215"/>
                    <a:pt x="89" y="230"/>
                    <a:pt x="72" y="246"/>
                  </a:cubicBezTo>
                  <a:cubicBezTo>
                    <a:pt x="55" y="262"/>
                    <a:pt x="38" y="279"/>
                    <a:pt x="25" y="298"/>
                  </a:cubicBezTo>
                  <a:cubicBezTo>
                    <a:pt x="23" y="300"/>
                    <a:pt x="22" y="302"/>
                    <a:pt x="20" y="305"/>
                  </a:cubicBezTo>
                  <a:cubicBezTo>
                    <a:pt x="18" y="307"/>
                    <a:pt x="17" y="310"/>
                    <a:pt x="15" y="313"/>
                  </a:cubicBezTo>
                  <a:cubicBezTo>
                    <a:pt x="9" y="322"/>
                    <a:pt x="4" y="333"/>
                    <a:pt x="1" y="345"/>
                  </a:cubicBezTo>
                  <a:cubicBezTo>
                    <a:pt x="0" y="351"/>
                    <a:pt x="0" y="357"/>
                    <a:pt x="0" y="363"/>
                  </a:cubicBezTo>
                  <a:cubicBezTo>
                    <a:pt x="1" y="369"/>
                    <a:pt x="3" y="374"/>
                    <a:pt x="6" y="379"/>
                  </a:cubicBezTo>
                  <a:cubicBezTo>
                    <a:pt x="8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2" y="404"/>
                    <a:pt x="26" y="408"/>
                  </a:cubicBezTo>
                  <a:cubicBezTo>
                    <a:pt x="41" y="426"/>
                    <a:pt x="59" y="441"/>
                    <a:pt x="76" y="457"/>
                  </a:cubicBezTo>
                  <a:cubicBezTo>
                    <a:pt x="93" y="473"/>
                    <a:pt x="110" y="489"/>
                    <a:pt x="124" y="507"/>
                  </a:cubicBezTo>
                  <a:cubicBezTo>
                    <a:pt x="132" y="516"/>
                    <a:pt x="138" y="525"/>
                    <a:pt x="143" y="535"/>
                  </a:cubicBezTo>
                  <a:cubicBezTo>
                    <a:pt x="148" y="544"/>
                    <a:pt x="151" y="554"/>
                    <a:pt x="151" y="564"/>
                  </a:cubicBezTo>
                  <a:cubicBezTo>
                    <a:pt x="150" y="564"/>
                    <a:pt x="150" y="564"/>
                    <a:pt x="150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5"/>
                    <a:pt x="122" y="629"/>
                  </a:cubicBezTo>
                  <a:cubicBezTo>
                    <a:pt x="122" y="629"/>
                    <a:pt x="121" y="629"/>
                    <a:pt x="121" y="630"/>
                  </a:cubicBezTo>
                  <a:cubicBezTo>
                    <a:pt x="106" y="648"/>
                    <a:pt x="89" y="663"/>
                    <a:pt x="72" y="679"/>
                  </a:cubicBezTo>
                  <a:cubicBezTo>
                    <a:pt x="55" y="695"/>
                    <a:pt x="38" y="711"/>
                    <a:pt x="25" y="730"/>
                  </a:cubicBezTo>
                  <a:cubicBezTo>
                    <a:pt x="23" y="733"/>
                    <a:pt x="22" y="735"/>
                    <a:pt x="20" y="737"/>
                  </a:cubicBezTo>
                  <a:cubicBezTo>
                    <a:pt x="18" y="740"/>
                    <a:pt x="17" y="743"/>
                    <a:pt x="15" y="745"/>
                  </a:cubicBezTo>
                  <a:cubicBezTo>
                    <a:pt x="9" y="755"/>
                    <a:pt x="4" y="766"/>
                    <a:pt x="1" y="778"/>
                  </a:cubicBezTo>
                  <a:cubicBezTo>
                    <a:pt x="0" y="784"/>
                    <a:pt x="0" y="789"/>
                    <a:pt x="0" y="795"/>
                  </a:cubicBezTo>
                  <a:cubicBezTo>
                    <a:pt x="1" y="801"/>
                    <a:pt x="3" y="807"/>
                    <a:pt x="6" y="812"/>
                  </a:cubicBezTo>
                  <a:cubicBezTo>
                    <a:pt x="8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2" y="837"/>
                    <a:pt x="26" y="841"/>
                  </a:cubicBezTo>
                  <a:cubicBezTo>
                    <a:pt x="41" y="858"/>
                    <a:pt x="59" y="874"/>
                    <a:pt x="76" y="890"/>
                  </a:cubicBezTo>
                  <a:cubicBezTo>
                    <a:pt x="93" y="906"/>
                    <a:pt x="110" y="922"/>
                    <a:pt x="124" y="939"/>
                  </a:cubicBezTo>
                  <a:cubicBezTo>
                    <a:pt x="132" y="948"/>
                    <a:pt x="138" y="958"/>
                    <a:pt x="143" y="968"/>
                  </a:cubicBezTo>
                  <a:cubicBezTo>
                    <a:pt x="147" y="976"/>
                    <a:pt x="150" y="984"/>
                    <a:pt x="150" y="993"/>
                  </a:cubicBezTo>
                  <a:cubicBezTo>
                    <a:pt x="150" y="993"/>
                    <a:pt x="150" y="993"/>
                    <a:pt x="150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8" y="1065"/>
                    <a:pt x="102" y="1082"/>
                    <a:pt x="86" y="1098"/>
                  </a:cubicBezTo>
                  <a:cubicBezTo>
                    <a:pt x="69" y="1114"/>
                    <a:pt x="52" y="1130"/>
                    <a:pt x="36" y="1147"/>
                  </a:cubicBezTo>
                  <a:cubicBezTo>
                    <a:pt x="28" y="1156"/>
                    <a:pt x="21" y="1165"/>
                    <a:pt x="15" y="1175"/>
                  </a:cubicBezTo>
                  <a:cubicBezTo>
                    <a:pt x="9" y="1185"/>
                    <a:pt x="4" y="1195"/>
                    <a:pt x="1" y="1207"/>
                  </a:cubicBezTo>
                  <a:cubicBezTo>
                    <a:pt x="0" y="1213"/>
                    <a:pt x="0" y="1219"/>
                    <a:pt x="0" y="1225"/>
                  </a:cubicBezTo>
                  <a:cubicBezTo>
                    <a:pt x="1" y="1231"/>
                    <a:pt x="3" y="1236"/>
                    <a:pt x="6" y="1242"/>
                  </a:cubicBezTo>
                  <a:cubicBezTo>
                    <a:pt x="6" y="1243"/>
                    <a:pt x="7" y="1244"/>
                    <a:pt x="8" y="1245"/>
                  </a:cubicBezTo>
                  <a:cubicBezTo>
                    <a:pt x="10" y="1251"/>
                    <a:pt x="12" y="1256"/>
                    <a:pt x="15" y="1261"/>
                  </a:cubicBezTo>
                  <a:cubicBezTo>
                    <a:pt x="18" y="1261"/>
                    <a:pt x="18" y="1261"/>
                    <a:pt x="18" y="1261"/>
                  </a:cubicBezTo>
                  <a:cubicBezTo>
                    <a:pt x="21" y="1264"/>
                    <a:pt x="23" y="1267"/>
                    <a:pt x="26" y="1270"/>
                  </a:cubicBezTo>
                  <a:cubicBezTo>
                    <a:pt x="41" y="1288"/>
                    <a:pt x="59" y="1303"/>
                    <a:pt x="76" y="1319"/>
                  </a:cubicBezTo>
                  <a:cubicBezTo>
                    <a:pt x="93" y="1335"/>
                    <a:pt x="110" y="1351"/>
                    <a:pt x="124" y="1369"/>
                  </a:cubicBezTo>
                  <a:cubicBezTo>
                    <a:pt x="132" y="1378"/>
                    <a:pt x="138" y="1387"/>
                    <a:pt x="143" y="1398"/>
                  </a:cubicBezTo>
                  <a:cubicBezTo>
                    <a:pt x="148" y="1406"/>
                    <a:pt x="150" y="1415"/>
                    <a:pt x="151" y="1425"/>
                  </a:cubicBezTo>
                  <a:cubicBezTo>
                    <a:pt x="150" y="1425"/>
                    <a:pt x="150" y="1425"/>
                    <a:pt x="150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5" y="1485"/>
                    <a:pt x="119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3" y="1595"/>
                    <a:pt x="18" y="1600"/>
                    <a:pt x="15" y="1606"/>
                  </a:cubicBezTo>
                  <a:cubicBezTo>
                    <a:pt x="9" y="1616"/>
                    <a:pt x="4" y="1627"/>
                    <a:pt x="1" y="1639"/>
                  </a:cubicBezTo>
                  <a:cubicBezTo>
                    <a:pt x="0" y="1644"/>
                    <a:pt x="0" y="1650"/>
                    <a:pt x="0" y="1656"/>
                  </a:cubicBezTo>
                  <a:cubicBezTo>
                    <a:pt x="1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0" y="1681"/>
                  </a:cubicBezTo>
                  <a:cubicBezTo>
                    <a:pt x="12" y="1685"/>
                    <a:pt x="13" y="1688"/>
                    <a:pt x="15" y="1691"/>
                  </a:cubicBezTo>
                  <a:cubicBezTo>
                    <a:pt x="17" y="1691"/>
                    <a:pt x="17" y="1691"/>
                    <a:pt x="17" y="1691"/>
                  </a:cubicBezTo>
                  <a:cubicBezTo>
                    <a:pt x="20" y="1694"/>
                    <a:pt x="23" y="1698"/>
                    <a:pt x="26" y="1702"/>
                  </a:cubicBezTo>
                  <a:cubicBezTo>
                    <a:pt x="41" y="1719"/>
                    <a:pt x="59" y="1735"/>
                    <a:pt x="76" y="1751"/>
                  </a:cubicBezTo>
                  <a:cubicBezTo>
                    <a:pt x="93" y="1767"/>
                    <a:pt x="110" y="1783"/>
                    <a:pt x="124" y="1800"/>
                  </a:cubicBezTo>
                  <a:cubicBezTo>
                    <a:pt x="132" y="1809"/>
                    <a:pt x="138" y="1819"/>
                    <a:pt x="143" y="1829"/>
                  </a:cubicBezTo>
                  <a:cubicBezTo>
                    <a:pt x="147" y="1837"/>
                    <a:pt x="150" y="1846"/>
                    <a:pt x="151" y="1855"/>
                  </a:cubicBezTo>
                  <a:cubicBezTo>
                    <a:pt x="150" y="1855"/>
                    <a:pt x="150" y="1855"/>
                    <a:pt x="150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7" y="1959"/>
                    <a:pt x="80" y="1966"/>
                    <a:pt x="72" y="1973"/>
                  </a:cubicBezTo>
                  <a:cubicBezTo>
                    <a:pt x="61" y="1984"/>
                    <a:pt x="49" y="1995"/>
                    <a:pt x="39" y="2007"/>
                  </a:cubicBezTo>
                  <a:cubicBezTo>
                    <a:pt x="38" y="2008"/>
                    <a:pt x="37" y="2008"/>
                    <a:pt x="36" y="2009"/>
                  </a:cubicBezTo>
                  <a:cubicBezTo>
                    <a:pt x="28" y="2018"/>
                    <a:pt x="21" y="2027"/>
                    <a:pt x="15" y="2037"/>
                  </a:cubicBezTo>
                  <a:cubicBezTo>
                    <a:pt x="9" y="2047"/>
                    <a:pt x="4" y="2057"/>
                    <a:pt x="1" y="2069"/>
                  </a:cubicBezTo>
                  <a:cubicBezTo>
                    <a:pt x="0" y="2075"/>
                    <a:pt x="0" y="2081"/>
                    <a:pt x="0" y="2087"/>
                  </a:cubicBezTo>
                  <a:cubicBezTo>
                    <a:pt x="1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0" y="2114"/>
                    <a:pt x="12" y="2118"/>
                    <a:pt x="15" y="2122"/>
                  </a:cubicBezTo>
                  <a:cubicBezTo>
                    <a:pt x="18" y="2122"/>
                    <a:pt x="18" y="2122"/>
                    <a:pt x="18" y="2122"/>
                  </a:cubicBezTo>
                  <a:cubicBezTo>
                    <a:pt x="20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4" y="2137"/>
                    <a:pt x="34" y="2125"/>
                  </a:cubicBezTo>
                  <a:cubicBezTo>
                    <a:pt x="27" y="2117"/>
                    <a:pt x="20" y="2109"/>
                    <a:pt x="16" y="2101"/>
                  </a:cubicBezTo>
                  <a:cubicBezTo>
                    <a:pt x="15" y="2097"/>
                    <a:pt x="14" y="2093"/>
                    <a:pt x="14" y="2089"/>
                  </a:cubicBezTo>
                  <a:cubicBezTo>
                    <a:pt x="12" y="2068"/>
                    <a:pt x="21" y="2048"/>
                    <a:pt x="33" y="2030"/>
                  </a:cubicBezTo>
                  <a:cubicBezTo>
                    <a:pt x="46" y="2012"/>
                    <a:pt x="63" y="1997"/>
                    <a:pt x="80" y="1981"/>
                  </a:cubicBezTo>
                  <a:cubicBezTo>
                    <a:pt x="97" y="1965"/>
                    <a:pt x="114" y="1949"/>
                    <a:pt x="130" y="1931"/>
                  </a:cubicBezTo>
                  <a:cubicBezTo>
                    <a:pt x="138" y="1922"/>
                    <a:pt x="145" y="1912"/>
                    <a:pt x="151" y="1900"/>
                  </a:cubicBezTo>
                  <a:cubicBezTo>
                    <a:pt x="157" y="1889"/>
                    <a:pt x="161" y="1877"/>
                    <a:pt x="163" y="1863"/>
                  </a:cubicBezTo>
                  <a:cubicBezTo>
                    <a:pt x="163" y="1862"/>
                    <a:pt x="163" y="1860"/>
                    <a:pt x="163" y="1859"/>
                  </a:cubicBezTo>
                  <a:cubicBezTo>
                    <a:pt x="163" y="1860"/>
                    <a:pt x="163" y="1861"/>
                    <a:pt x="163" y="1862"/>
                  </a:cubicBezTo>
                  <a:cubicBezTo>
                    <a:pt x="164" y="1874"/>
                    <a:pt x="168" y="1886"/>
                    <a:pt x="173" y="1896"/>
                  </a:cubicBezTo>
                  <a:cubicBezTo>
                    <a:pt x="178" y="1907"/>
                    <a:pt x="185" y="1916"/>
                    <a:pt x="193" y="1925"/>
                  </a:cubicBezTo>
                  <a:cubicBezTo>
                    <a:pt x="208" y="1943"/>
                    <a:pt x="225" y="1958"/>
                    <a:pt x="242" y="1974"/>
                  </a:cubicBezTo>
                  <a:cubicBezTo>
                    <a:pt x="242" y="1975"/>
                    <a:pt x="243" y="1975"/>
                    <a:pt x="243" y="1975"/>
                  </a:cubicBezTo>
                  <a:cubicBezTo>
                    <a:pt x="250" y="1982"/>
                    <a:pt x="257" y="1988"/>
                    <a:pt x="263" y="1995"/>
                  </a:cubicBezTo>
                  <a:cubicBezTo>
                    <a:pt x="273" y="2004"/>
                    <a:pt x="282" y="2014"/>
                    <a:pt x="289" y="2025"/>
                  </a:cubicBezTo>
                  <a:cubicBezTo>
                    <a:pt x="296" y="2035"/>
                    <a:pt x="302" y="2045"/>
                    <a:pt x="305" y="2056"/>
                  </a:cubicBezTo>
                  <a:cubicBezTo>
                    <a:pt x="309" y="2067"/>
                    <a:pt x="310" y="2078"/>
                    <a:pt x="309" y="2090"/>
                  </a:cubicBezTo>
                  <a:cubicBezTo>
                    <a:pt x="309" y="2096"/>
                    <a:pt x="307" y="2102"/>
                    <a:pt x="306" y="2108"/>
                  </a:cubicBezTo>
                  <a:cubicBezTo>
                    <a:pt x="301" y="2116"/>
                    <a:pt x="295" y="2124"/>
                    <a:pt x="288" y="2131"/>
                  </a:cubicBezTo>
                  <a:cubicBezTo>
                    <a:pt x="280" y="2141"/>
                    <a:pt x="270" y="2150"/>
                    <a:pt x="261" y="2159"/>
                  </a:cubicBezTo>
                  <a:cubicBezTo>
                    <a:pt x="276" y="2159"/>
                    <a:pt x="276" y="2159"/>
                    <a:pt x="276" y="2159"/>
                  </a:cubicBezTo>
                  <a:cubicBezTo>
                    <a:pt x="283" y="2152"/>
                    <a:pt x="290" y="2145"/>
                    <a:pt x="296" y="2138"/>
                  </a:cubicBezTo>
                  <a:cubicBezTo>
                    <a:pt x="301" y="2133"/>
                    <a:pt x="305" y="2128"/>
                    <a:pt x="309" y="2122"/>
                  </a:cubicBezTo>
                  <a:cubicBezTo>
                    <a:pt x="309" y="2122"/>
                    <a:pt x="309" y="2122"/>
                    <a:pt x="309" y="2122"/>
                  </a:cubicBezTo>
                  <a:cubicBezTo>
                    <a:pt x="309" y="2122"/>
                    <a:pt x="309" y="2121"/>
                    <a:pt x="310" y="2120"/>
                  </a:cubicBezTo>
                  <a:cubicBezTo>
                    <a:pt x="313" y="2116"/>
                    <a:pt x="315" y="2112"/>
                    <a:pt x="317" y="2107"/>
                  </a:cubicBezTo>
                  <a:cubicBezTo>
                    <a:pt x="320" y="2102"/>
                    <a:pt x="322" y="2097"/>
                    <a:pt x="323" y="2092"/>
                  </a:cubicBezTo>
                  <a:cubicBezTo>
                    <a:pt x="322" y="2090"/>
                    <a:pt x="322" y="2088"/>
                    <a:pt x="322" y="2087"/>
                  </a:cubicBezTo>
                  <a:cubicBezTo>
                    <a:pt x="321" y="2081"/>
                    <a:pt x="322" y="2076"/>
                    <a:pt x="322" y="2071"/>
                  </a:cubicBezTo>
                  <a:cubicBezTo>
                    <a:pt x="322" y="2070"/>
                    <a:pt x="322" y="2069"/>
                    <a:pt x="322" y="2068"/>
                  </a:cubicBezTo>
                  <a:cubicBezTo>
                    <a:pt x="319" y="2055"/>
                    <a:pt x="314" y="2043"/>
                    <a:pt x="307" y="2033"/>
                  </a:cubicBezTo>
                  <a:cubicBezTo>
                    <a:pt x="306" y="2032"/>
                    <a:pt x="305" y="2030"/>
                    <a:pt x="304" y="2029"/>
                  </a:cubicBezTo>
                  <a:cubicBezTo>
                    <a:pt x="302" y="2026"/>
                    <a:pt x="300" y="2022"/>
                    <a:pt x="298" y="2019"/>
                  </a:cubicBezTo>
                  <a:cubicBezTo>
                    <a:pt x="284" y="1999"/>
                    <a:pt x="267" y="1982"/>
                    <a:pt x="250" y="1966"/>
                  </a:cubicBezTo>
                  <a:cubicBezTo>
                    <a:pt x="233" y="1950"/>
                    <a:pt x="216" y="1935"/>
                    <a:pt x="202" y="1917"/>
                  </a:cubicBezTo>
                  <a:cubicBezTo>
                    <a:pt x="188" y="1901"/>
                    <a:pt x="177" y="1881"/>
                    <a:pt x="175" y="1861"/>
                  </a:cubicBezTo>
                  <a:cubicBezTo>
                    <a:pt x="174" y="1852"/>
                    <a:pt x="176" y="1843"/>
                    <a:pt x="181" y="1833"/>
                  </a:cubicBezTo>
                  <a:cubicBezTo>
                    <a:pt x="185" y="1824"/>
                    <a:pt x="192" y="1815"/>
                    <a:pt x="199" y="1806"/>
                  </a:cubicBezTo>
                  <a:cubicBezTo>
                    <a:pt x="213" y="1789"/>
                    <a:pt x="229" y="1773"/>
                    <a:pt x="246" y="1757"/>
                  </a:cubicBezTo>
                  <a:cubicBezTo>
                    <a:pt x="263" y="1741"/>
                    <a:pt x="280" y="1726"/>
                    <a:pt x="296" y="1708"/>
                  </a:cubicBezTo>
                  <a:cubicBezTo>
                    <a:pt x="304" y="1698"/>
                    <a:pt x="312" y="1689"/>
                    <a:pt x="317" y="1677"/>
                  </a:cubicBezTo>
                  <a:cubicBezTo>
                    <a:pt x="320" y="1672"/>
                    <a:pt x="322" y="1667"/>
                    <a:pt x="323" y="1661"/>
                  </a:cubicBezTo>
                  <a:cubicBezTo>
                    <a:pt x="322" y="1660"/>
                    <a:pt x="322" y="1658"/>
                    <a:pt x="322" y="1656"/>
                  </a:cubicBezTo>
                  <a:cubicBezTo>
                    <a:pt x="321" y="1651"/>
                    <a:pt x="322" y="1646"/>
                    <a:pt x="322" y="1640"/>
                  </a:cubicBezTo>
                  <a:cubicBezTo>
                    <a:pt x="322" y="1639"/>
                    <a:pt x="322" y="1638"/>
                    <a:pt x="322" y="1637"/>
                  </a:cubicBezTo>
                  <a:cubicBezTo>
                    <a:pt x="319" y="1625"/>
                    <a:pt x="314" y="1614"/>
                    <a:pt x="308" y="1605"/>
                  </a:cubicBezTo>
                  <a:cubicBezTo>
                    <a:pt x="305" y="1599"/>
                    <a:pt x="302" y="1593"/>
                    <a:pt x="298" y="1588"/>
                  </a:cubicBezTo>
                  <a:cubicBezTo>
                    <a:pt x="284" y="1567"/>
                    <a:pt x="267" y="1551"/>
                    <a:pt x="250" y="1535"/>
                  </a:cubicBezTo>
                  <a:cubicBezTo>
                    <a:pt x="233" y="1519"/>
                    <a:pt x="216" y="1503"/>
                    <a:pt x="202" y="1486"/>
                  </a:cubicBezTo>
                  <a:cubicBezTo>
                    <a:pt x="188" y="1469"/>
                    <a:pt x="177" y="1450"/>
                    <a:pt x="175" y="1430"/>
                  </a:cubicBezTo>
                  <a:cubicBezTo>
                    <a:pt x="174" y="1421"/>
                    <a:pt x="176" y="1411"/>
                    <a:pt x="181" y="1402"/>
                  </a:cubicBezTo>
                  <a:cubicBezTo>
                    <a:pt x="185" y="1392"/>
                    <a:pt x="192" y="1383"/>
                    <a:pt x="199" y="1375"/>
                  </a:cubicBezTo>
                  <a:cubicBezTo>
                    <a:pt x="213" y="1357"/>
                    <a:pt x="229" y="1342"/>
                    <a:pt x="246" y="1326"/>
                  </a:cubicBezTo>
                  <a:cubicBezTo>
                    <a:pt x="263" y="1310"/>
                    <a:pt x="280" y="1294"/>
                    <a:pt x="296" y="1276"/>
                  </a:cubicBezTo>
                  <a:cubicBezTo>
                    <a:pt x="300" y="1271"/>
                    <a:pt x="304" y="1266"/>
                    <a:pt x="308" y="1261"/>
                  </a:cubicBezTo>
                  <a:cubicBezTo>
                    <a:pt x="309" y="1261"/>
                    <a:pt x="309" y="1261"/>
                    <a:pt x="309" y="1261"/>
                  </a:cubicBezTo>
                  <a:cubicBezTo>
                    <a:pt x="310" y="1259"/>
                    <a:pt x="311" y="1258"/>
                    <a:pt x="312" y="1256"/>
                  </a:cubicBezTo>
                  <a:cubicBezTo>
                    <a:pt x="314" y="1252"/>
                    <a:pt x="316" y="1249"/>
                    <a:pt x="317" y="1245"/>
                  </a:cubicBezTo>
                  <a:cubicBezTo>
                    <a:pt x="320" y="1240"/>
                    <a:pt x="322" y="1235"/>
                    <a:pt x="323" y="1230"/>
                  </a:cubicBezTo>
                  <a:cubicBezTo>
                    <a:pt x="322" y="1228"/>
                    <a:pt x="322" y="1226"/>
                    <a:pt x="322" y="1225"/>
                  </a:cubicBezTo>
                  <a:cubicBezTo>
                    <a:pt x="321" y="1219"/>
                    <a:pt x="322" y="1214"/>
                    <a:pt x="322" y="1209"/>
                  </a:cubicBezTo>
                  <a:cubicBezTo>
                    <a:pt x="322" y="1208"/>
                    <a:pt x="322" y="1207"/>
                    <a:pt x="322" y="1206"/>
                  </a:cubicBezTo>
                  <a:cubicBezTo>
                    <a:pt x="319" y="1193"/>
                    <a:pt x="314" y="1181"/>
                    <a:pt x="307" y="1171"/>
                  </a:cubicBezTo>
                  <a:cubicBezTo>
                    <a:pt x="305" y="1168"/>
                    <a:pt x="302" y="1164"/>
                    <a:pt x="300" y="1161"/>
                  </a:cubicBezTo>
                  <a:cubicBezTo>
                    <a:pt x="299" y="1160"/>
                    <a:pt x="299" y="1159"/>
                    <a:pt x="298" y="1158"/>
                  </a:cubicBezTo>
                  <a:cubicBezTo>
                    <a:pt x="284" y="1138"/>
                    <a:pt x="267" y="1122"/>
                    <a:pt x="250" y="1105"/>
                  </a:cubicBezTo>
                  <a:cubicBezTo>
                    <a:pt x="233" y="1089"/>
                    <a:pt x="216" y="1074"/>
                    <a:pt x="202" y="1057"/>
                  </a:cubicBezTo>
                  <a:cubicBezTo>
                    <a:pt x="188" y="1040"/>
                    <a:pt x="177" y="1020"/>
                    <a:pt x="175" y="1000"/>
                  </a:cubicBezTo>
                  <a:cubicBezTo>
                    <a:pt x="174" y="991"/>
                    <a:pt x="176" y="982"/>
                    <a:pt x="181" y="972"/>
                  </a:cubicBezTo>
                  <a:cubicBezTo>
                    <a:pt x="185" y="963"/>
                    <a:pt x="192" y="954"/>
                    <a:pt x="199" y="945"/>
                  </a:cubicBezTo>
                  <a:cubicBezTo>
                    <a:pt x="213" y="928"/>
                    <a:pt x="229" y="912"/>
                    <a:pt x="246" y="896"/>
                  </a:cubicBezTo>
                  <a:cubicBezTo>
                    <a:pt x="263" y="880"/>
                    <a:pt x="280" y="865"/>
                    <a:pt x="296" y="847"/>
                  </a:cubicBezTo>
                  <a:cubicBezTo>
                    <a:pt x="304" y="837"/>
                    <a:pt x="312" y="828"/>
                    <a:pt x="317" y="816"/>
                  </a:cubicBezTo>
                  <a:cubicBezTo>
                    <a:pt x="320" y="811"/>
                    <a:pt x="322" y="806"/>
                    <a:pt x="323" y="800"/>
                  </a:cubicBezTo>
                  <a:cubicBezTo>
                    <a:pt x="322" y="799"/>
                    <a:pt x="322" y="797"/>
                    <a:pt x="322" y="795"/>
                  </a:cubicBezTo>
                  <a:cubicBezTo>
                    <a:pt x="321" y="790"/>
                    <a:pt x="322" y="785"/>
                    <a:pt x="322" y="779"/>
                  </a:cubicBezTo>
                  <a:cubicBezTo>
                    <a:pt x="322" y="778"/>
                    <a:pt x="322" y="777"/>
                    <a:pt x="322" y="776"/>
                  </a:cubicBezTo>
                  <a:cubicBezTo>
                    <a:pt x="320" y="766"/>
                    <a:pt x="316" y="756"/>
                    <a:pt x="311" y="748"/>
                  </a:cubicBezTo>
                  <a:cubicBezTo>
                    <a:pt x="307" y="740"/>
                    <a:pt x="303" y="732"/>
                    <a:pt x="298" y="726"/>
                  </a:cubicBezTo>
                  <a:cubicBezTo>
                    <a:pt x="284" y="705"/>
                    <a:pt x="267" y="689"/>
                    <a:pt x="250" y="673"/>
                  </a:cubicBezTo>
                  <a:cubicBezTo>
                    <a:pt x="233" y="656"/>
                    <a:pt x="216" y="641"/>
                    <a:pt x="202" y="624"/>
                  </a:cubicBezTo>
                  <a:cubicBezTo>
                    <a:pt x="188" y="607"/>
                    <a:pt x="177" y="588"/>
                    <a:pt x="175" y="568"/>
                  </a:cubicBezTo>
                  <a:cubicBezTo>
                    <a:pt x="174" y="558"/>
                    <a:pt x="176" y="549"/>
                    <a:pt x="181" y="540"/>
                  </a:cubicBezTo>
                  <a:cubicBezTo>
                    <a:pt x="185" y="530"/>
                    <a:pt x="192" y="521"/>
                    <a:pt x="199" y="513"/>
                  </a:cubicBezTo>
                  <a:cubicBezTo>
                    <a:pt x="213" y="495"/>
                    <a:pt x="229" y="480"/>
                    <a:pt x="246" y="464"/>
                  </a:cubicBezTo>
                  <a:cubicBezTo>
                    <a:pt x="263" y="448"/>
                    <a:pt x="280" y="432"/>
                    <a:pt x="296" y="414"/>
                  </a:cubicBezTo>
                  <a:cubicBezTo>
                    <a:pt x="304" y="405"/>
                    <a:pt x="312" y="395"/>
                    <a:pt x="317" y="383"/>
                  </a:cubicBezTo>
                  <a:cubicBezTo>
                    <a:pt x="320" y="378"/>
                    <a:pt x="322" y="373"/>
                    <a:pt x="323" y="367"/>
                  </a:cubicBezTo>
                  <a:cubicBezTo>
                    <a:pt x="322" y="366"/>
                    <a:pt x="322" y="364"/>
                    <a:pt x="322" y="363"/>
                  </a:cubicBezTo>
                  <a:cubicBezTo>
                    <a:pt x="321" y="357"/>
                    <a:pt x="322" y="352"/>
                    <a:pt x="322" y="347"/>
                  </a:cubicBezTo>
                  <a:cubicBezTo>
                    <a:pt x="322" y="346"/>
                    <a:pt x="322" y="345"/>
                    <a:pt x="322" y="344"/>
                  </a:cubicBezTo>
                  <a:cubicBezTo>
                    <a:pt x="320" y="333"/>
                    <a:pt x="316" y="324"/>
                    <a:pt x="311" y="315"/>
                  </a:cubicBezTo>
                  <a:cubicBezTo>
                    <a:pt x="307" y="307"/>
                    <a:pt x="303" y="300"/>
                    <a:pt x="298" y="293"/>
                  </a:cubicBezTo>
                  <a:cubicBezTo>
                    <a:pt x="284" y="273"/>
                    <a:pt x="267" y="256"/>
                    <a:pt x="250" y="240"/>
                  </a:cubicBezTo>
                  <a:cubicBezTo>
                    <a:pt x="233" y="224"/>
                    <a:pt x="216" y="208"/>
                    <a:pt x="202" y="191"/>
                  </a:cubicBezTo>
                  <a:cubicBezTo>
                    <a:pt x="188" y="174"/>
                    <a:pt x="177" y="155"/>
                    <a:pt x="175" y="135"/>
                  </a:cubicBezTo>
                  <a:cubicBezTo>
                    <a:pt x="174" y="126"/>
                    <a:pt x="176" y="116"/>
                    <a:pt x="181" y="107"/>
                  </a:cubicBezTo>
                  <a:cubicBezTo>
                    <a:pt x="185" y="97"/>
                    <a:pt x="192" y="88"/>
                    <a:pt x="199" y="80"/>
                  </a:cubicBezTo>
                  <a:cubicBezTo>
                    <a:pt x="213" y="63"/>
                    <a:pt x="229" y="47"/>
                    <a:pt x="246" y="31"/>
                  </a:cubicBezTo>
                  <a:cubicBezTo>
                    <a:pt x="257" y="21"/>
                    <a:pt x="268" y="10"/>
                    <a:pt x="279" y="0"/>
                  </a:cubicBezTo>
                  <a:cubicBezTo>
                    <a:pt x="263" y="0"/>
                    <a:pt x="263" y="0"/>
                    <a:pt x="263" y="0"/>
                  </a:cubicBezTo>
                  <a:cubicBezTo>
                    <a:pt x="255" y="7"/>
                    <a:pt x="247" y="15"/>
                    <a:pt x="239" y="23"/>
                  </a:cubicBezTo>
                  <a:cubicBezTo>
                    <a:pt x="222" y="39"/>
                    <a:pt x="205" y="54"/>
                    <a:pt x="190" y="72"/>
                  </a:cubicBezTo>
                  <a:cubicBezTo>
                    <a:pt x="182" y="81"/>
                    <a:pt x="175" y="91"/>
                    <a:pt x="170" y="102"/>
                  </a:cubicBezTo>
                  <a:cubicBezTo>
                    <a:pt x="166" y="110"/>
                    <a:pt x="163" y="120"/>
                    <a:pt x="163" y="130"/>
                  </a:cubicBezTo>
                  <a:cubicBezTo>
                    <a:pt x="163" y="125"/>
                    <a:pt x="162" y="121"/>
                    <a:pt x="161" y="116"/>
                  </a:cubicBezTo>
                  <a:cubicBezTo>
                    <a:pt x="159" y="109"/>
                    <a:pt x="157" y="103"/>
                    <a:pt x="154" y="97"/>
                  </a:cubicBezTo>
                  <a:cubicBezTo>
                    <a:pt x="148" y="86"/>
                    <a:pt x="141" y="76"/>
                    <a:pt x="133" y="66"/>
                  </a:cubicBezTo>
                  <a:cubicBezTo>
                    <a:pt x="118" y="48"/>
                    <a:pt x="100" y="32"/>
                    <a:pt x="83" y="16"/>
                  </a:cubicBezTo>
                  <a:cubicBezTo>
                    <a:pt x="77" y="11"/>
                    <a:pt x="71" y="5"/>
                    <a:pt x="65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8" y="8"/>
                    <a:pt x="67" y="16"/>
                    <a:pt x="76" y="24"/>
                  </a:cubicBezTo>
                  <a:cubicBezTo>
                    <a:pt x="93" y="40"/>
                    <a:pt x="110" y="56"/>
                    <a:pt x="124" y="74"/>
                  </a:cubicBezTo>
                  <a:close/>
                  <a:moveTo>
                    <a:pt x="193" y="1493"/>
                  </a:moveTo>
                  <a:cubicBezTo>
                    <a:pt x="200" y="1502"/>
                    <a:pt x="208" y="1510"/>
                    <a:pt x="216" y="1517"/>
                  </a:cubicBezTo>
                  <a:cubicBezTo>
                    <a:pt x="220" y="1522"/>
                    <a:pt x="224" y="1527"/>
                    <a:pt x="229" y="1531"/>
                  </a:cubicBezTo>
                  <a:cubicBezTo>
                    <a:pt x="245" y="1547"/>
                    <a:pt x="262" y="1563"/>
                    <a:pt x="278" y="1580"/>
                  </a:cubicBezTo>
                  <a:cubicBezTo>
                    <a:pt x="280" y="1582"/>
                    <a:pt x="282" y="1584"/>
                    <a:pt x="283" y="1586"/>
                  </a:cubicBezTo>
                  <a:cubicBezTo>
                    <a:pt x="285" y="1589"/>
                    <a:pt x="287" y="1591"/>
                    <a:pt x="289" y="1594"/>
                  </a:cubicBezTo>
                  <a:cubicBezTo>
                    <a:pt x="296" y="1603"/>
                    <a:pt x="302" y="1613"/>
                    <a:pt x="305" y="1624"/>
                  </a:cubicBezTo>
                  <a:cubicBezTo>
                    <a:pt x="309" y="1635"/>
                    <a:pt x="310" y="1647"/>
                    <a:pt x="309" y="1658"/>
                  </a:cubicBezTo>
                  <a:cubicBezTo>
                    <a:pt x="309" y="1666"/>
                    <a:pt x="307" y="1673"/>
                    <a:pt x="304" y="1680"/>
                  </a:cubicBezTo>
                  <a:cubicBezTo>
                    <a:pt x="300" y="1687"/>
                    <a:pt x="294" y="1694"/>
                    <a:pt x="288" y="1701"/>
                  </a:cubicBezTo>
                  <a:cubicBezTo>
                    <a:pt x="273" y="1718"/>
                    <a:pt x="256" y="1733"/>
                    <a:pt x="239" y="1749"/>
                  </a:cubicBezTo>
                  <a:cubicBezTo>
                    <a:pt x="222" y="1765"/>
                    <a:pt x="205" y="1781"/>
                    <a:pt x="190" y="1799"/>
                  </a:cubicBezTo>
                  <a:cubicBezTo>
                    <a:pt x="182" y="1808"/>
                    <a:pt x="175" y="1818"/>
                    <a:pt x="170" y="1828"/>
                  </a:cubicBezTo>
                  <a:cubicBezTo>
                    <a:pt x="166" y="1837"/>
                    <a:pt x="163" y="1847"/>
                    <a:pt x="163" y="1857"/>
                  </a:cubicBezTo>
                  <a:cubicBezTo>
                    <a:pt x="163" y="1852"/>
                    <a:pt x="162" y="1847"/>
                    <a:pt x="161" y="1843"/>
                  </a:cubicBezTo>
                  <a:cubicBezTo>
                    <a:pt x="159" y="1836"/>
                    <a:pt x="157" y="1830"/>
                    <a:pt x="154" y="1824"/>
                  </a:cubicBezTo>
                  <a:cubicBezTo>
                    <a:pt x="148" y="1812"/>
                    <a:pt x="141" y="1802"/>
                    <a:pt x="133" y="1793"/>
                  </a:cubicBezTo>
                  <a:cubicBezTo>
                    <a:pt x="118" y="1774"/>
                    <a:pt x="100" y="1758"/>
                    <a:pt x="83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6" y="1671"/>
                  </a:cubicBezTo>
                  <a:cubicBezTo>
                    <a:pt x="15" y="1667"/>
                    <a:pt x="14" y="1662"/>
                    <a:pt x="14" y="1658"/>
                  </a:cubicBezTo>
                  <a:cubicBezTo>
                    <a:pt x="12" y="1637"/>
                    <a:pt x="21" y="1616"/>
                    <a:pt x="33" y="1599"/>
                  </a:cubicBezTo>
                  <a:cubicBezTo>
                    <a:pt x="46" y="1581"/>
                    <a:pt x="63" y="1565"/>
                    <a:pt x="80" y="1549"/>
                  </a:cubicBezTo>
                  <a:cubicBezTo>
                    <a:pt x="97" y="1534"/>
                    <a:pt x="114" y="1518"/>
                    <a:pt x="130" y="1499"/>
                  </a:cubicBezTo>
                  <a:cubicBezTo>
                    <a:pt x="138" y="1490"/>
                    <a:pt x="145" y="1480"/>
                    <a:pt x="151" y="1469"/>
                  </a:cubicBezTo>
                  <a:cubicBezTo>
                    <a:pt x="157" y="1458"/>
                    <a:pt x="161" y="1445"/>
                    <a:pt x="163" y="1432"/>
                  </a:cubicBezTo>
                  <a:cubicBezTo>
                    <a:pt x="163" y="1430"/>
                    <a:pt x="163" y="1429"/>
                    <a:pt x="163" y="1427"/>
                  </a:cubicBezTo>
                  <a:cubicBezTo>
                    <a:pt x="163" y="1428"/>
                    <a:pt x="163" y="1430"/>
                    <a:pt x="163" y="1431"/>
                  </a:cubicBezTo>
                  <a:cubicBezTo>
                    <a:pt x="164" y="1443"/>
                    <a:pt x="168" y="1454"/>
                    <a:pt x="173" y="1464"/>
                  </a:cubicBezTo>
                  <a:cubicBezTo>
                    <a:pt x="178" y="1475"/>
                    <a:pt x="185" y="1484"/>
                    <a:pt x="193" y="1493"/>
                  </a:cubicBezTo>
                  <a:close/>
                  <a:moveTo>
                    <a:pt x="193" y="1064"/>
                  </a:moveTo>
                  <a:cubicBezTo>
                    <a:pt x="208" y="1082"/>
                    <a:pt x="225" y="1098"/>
                    <a:pt x="242" y="1113"/>
                  </a:cubicBezTo>
                  <a:cubicBezTo>
                    <a:pt x="259" y="1129"/>
                    <a:pt x="276" y="1146"/>
                    <a:pt x="289" y="1164"/>
                  </a:cubicBezTo>
                  <a:cubicBezTo>
                    <a:pt x="296" y="1174"/>
                    <a:pt x="302" y="1184"/>
                    <a:pt x="305" y="1195"/>
                  </a:cubicBezTo>
                  <a:cubicBezTo>
                    <a:pt x="309" y="1206"/>
                    <a:pt x="310" y="1218"/>
                    <a:pt x="309" y="1229"/>
                  </a:cubicBezTo>
                  <a:cubicBezTo>
                    <a:pt x="309" y="1234"/>
                    <a:pt x="308" y="1239"/>
                    <a:pt x="306" y="1244"/>
                  </a:cubicBezTo>
                  <a:cubicBezTo>
                    <a:pt x="301" y="1253"/>
                    <a:pt x="295" y="1261"/>
                    <a:pt x="288" y="1269"/>
                  </a:cubicBezTo>
                  <a:cubicBezTo>
                    <a:pt x="273" y="1286"/>
                    <a:pt x="256" y="1302"/>
                    <a:pt x="239" y="1318"/>
                  </a:cubicBezTo>
                  <a:cubicBezTo>
                    <a:pt x="222" y="1333"/>
                    <a:pt x="205" y="1349"/>
                    <a:pt x="190" y="1367"/>
                  </a:cubicBezTo>
                  <a:cubicBezTo>
                    <a:pt x="182" y="1376"/>
                    <a:pt x="175" y="1386"/>
                    <a:pt x="170" y="1396"/>
                  </a:cubicBezTo>
                  <a:cubicBezTo>
                    <a:pt x="166" y="1405"/>
                    <a:pt x="163" y="1415"/>
                    <a:pt x="163" y="1425"/>
                  </a:cubicBezTo>
                  <a:cubicBezTo>
                    <a:pt x="163" y="1420"/>
                    <a:pt x="162" y="1415"/>
                    <a:pt x="161" y="1411"/>
                  </a:cubicBezTo>
                  <a:cubicBezTo>
                    <a:pt x="159" y="1404"/>
                    <a:pt x="157" y="1398"/>
                    <a:pt x="154" y="1392"/>
                  </a:cubicBezTo>
                  <a:cubicBezTo>
                    <a:pt x="148" y="1381"/>
                    <a:pt x="141" y="1371"/>
                    <a:pt x="133" y="1361"/>
                  </a:cubicBezTo>
                  <a:cubicBezTo>
                    <a:pt x="118" y="1343"/>
                    <a:pt x="100" y="1327"/>
                    <a:pt x="83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7" y="1255"/>
                    <a:pt x="20" y="1247"/>
                    <a:pt x="15" y="1238"/>
                  </a:cubicBezTo>
                  <a:cubicBezTo>
                    <a:pt x="15" y="1235"/>
                    <a:pt x="14" y="1232"/>
                    <a:pt x="14" y="1228"/>
                  </a:cubicBezTo>
                  <a:cubicBezTo>
                    <a:pt x="12" y="1207"/>
                    <a:pt x="21" y="1187"/>
                    <a:pt x="33" y="1169"/>
                  </a:cubicBezTo>
                  <a:cubicBezTo>
                    <a:pt x="46" y="1152"/>
                    <a:pt x="63" y="1136"/>
                    <a:pt x="80" y="1120"/>
                  </a:cubicBezTo>
                  <a:cubicBezTo>
                    <a:pt x="97" y="1104"/>
                    <a:pt x="114" y="1089"/>
                    <a:pt x="130" y="1070"/>
                  </a:cubicBezTo>
                  <a:cubicBezTo>
                    <a:pt x="138" y="1061"/>
                    <a:pt x="145" y="1051"/>
                    <a:pt x="151" y="1039"/>
                  </a:cubicBezTo>
                  <a:cubicBezTo>
                    <a:pt x="157" y="1028"/>
                    <a:pt x="161" y="1016"/>
                    <a:pt x="163" y="1002"/>
                  </a:cubicBezTo>
                  <a:cubicBezTo>
                    <a:pt x="163" y="1001"/>
                    <a:pt x="163" y="999"/>
                    <a:pt x="163" y="998"/>
                  </a:cubicBezTo>
                  <a:cubicBezTo>
                    <a:pt x="163" y="999"/>
                    <a:pt x="163" y="1000"/>
                    <a:pt x="163" y="1001"/>
                  </a:cubicBezTo>
                  <a:cubicBezTo>
                    <a:pt x="164" y="1013"/>
                    <a:pt x="168" y="1025"/>
                    <a:pt x="173" y="1035"/>
                  </a:cubicBezTo>
                  <a:cubicBezTo>
                    <a:pt x="178" y="1046"/>
                    <a:pt x="185" y="1055"/>
                    <a:pt x="193" y="1064"/>
                  </a:cubicBezTo>
                  <a:close/>
                  <a:moveTo>
                    <a:pt x="193" y="631"/>
                  </a:moveTo>
                  <a:cubicBezTo>
                    <a:pt x="196" y="635"/>
                    <a:pt x="199" y="638"/>
                    <a:pt x="202" y="642"/>
                  </a:cubicBezTo>
                  <a:cubicBezTo>
                    <a:pt x="211" y="652"/>
                    <a:pt x="220" y="661"/>
                    <a:pt x="229" y="670"/>
                  </a:cubicBezTo>
                  <a:cubicBezTo>
                    <a:pt x="245" y="686"/>
                    <a:pt x="262" y="702"/>
                    <a:pt x="278" y="719"/>
                  </a:cubicBezTo>
                  <a:cubicBezTo>
                    <a:pt x="283" y="724"/>
                    <a:pt x="287" y="730"/>
                    <a:pt x="292" y="735"/>
                  </a:cubicBezTo>
                  <a:cubicBezTo>
                    <a:pt x="297" y="744"/>
                    <a:pt x="302" y="753"/>
                    <a:pt x="305" y="762"/>
                  </a:cubicBezTo>
                  <a:cubicBezTo>
                    <a:pt x="309" y="773"/>
                    <a:pt x="310" y="785"/>
                    <a:pt x="309" y="796"/>
                  </a:cubicBezTo>
                  <a:cubicBezTo>
                    <a:pt x="309" y="805"/>
                    <a:pt x="306" y="813"/>
                    <a:pt x="303" y="821"/>
                  </a:cubicBezTo>
                  <a:cubicBezTo>
                    <a:pt x="299" y="827"/>
                    <a:pt x="294" y="834"/>
                    <a:pt x="288" y="840"/>
                  </a:cubicBezTo>
                  <a:cubicBezTo>
                    <a:pt x="273" y="857"/>
                    <a:pt x="256" y="872"/>
                    <a:pt x="239" y="888"/>
                  </a:cubicBezTo>
                  <a:cubicBezTo>
                    <a:pt x="222" y="904"/>
                    <a:pt x="205" y="920"/>
                    <a:pt x="190" y="938"/>
                  </a:cubicBezTo>
                  <a:cubicBezTo>
                    <a:pt x="182" y="947"/>
                    <a:pt x="175" y="957"/>
                    <a:pt x="170" y="967"/>
                  </a:cubicBezTo>
                  <a:cubicBezTo>
                    <a:pt x="166" y="976"/>
                    <a:pt x="163" y="986"/>
                    <a:pt x="163" y="996"/>
                  </a:cubicBezTo>
                  <a:cubicBezTo>
                    <a:pt x="163" y="991"/>
                    <a:pt x="162" y="986"/>
                    <a:pt x="161" y="982"/>
                  </a:cubicBezTo>
                  <a:cubicBezTo>
                    <a:pt x="159" y="975"/>
                    <a:pt x="157" y="969"/>
                    <a:pt x="154" y="963"/>
                  </a:cubicBezTo>
                  <a:cubicBezTo>
                    <a:pt x="148" y="951"/>
                    <a:pt x="141" y="941"/>
                    <a:pt x="133" y="932"/>
                  </a:cubicBezTo>
                  <a:cubicBezTo>
                    <a:pt x="118" y="913"/>
                    <a:pt x="100" y="897"/>
                    <a:pt x="83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7" y="827"/>
                    <a:pt x="22" y="819"/>
                    <a:pt x="17" y="811"/>
                  </a:cubicBezTo>
                  <a:cubicBezTo>
                    <a:pt x="15" y="806"/>
                    <a:pt x="14" y="801"/>
                    <a:pt x="14" y="795"/>
                  </a:cubicBezTo>
                  <a:cubicBezTo>
                    <a:pt x="12" y="774"/>
                    <a:pt x="21" y="754"/>
                    <a:pt x="33" y="737"/>
                  </a:cubicBezTo>
                  <a:cubicBezTo>
                    <a:pt x="46" y="719"/>
                    <a:pt x="63" y="703"/>
                    <a:pt x="80" y="687"/>
                  </a:cubicBezTo>
                  <a:cubicBezTo>
                    <a:pt x="97" y="671"/>
                    <a:pt x="114" y="656"/>
                    <a:pt x="130" y="637"/>
                  </a:cubicBezTo>
                  <a:cubicBezTo>
                    <a:pt x="138" y="628"/>
                    <a:pt x="145" y="618"/>
                    <a:pt x="151" y="607"/>
                  </a:cubicBezTo>
                  <a:cubicBezTo>
                    <a:pt x="157" y="595"/>
                    <a:pt x="161" y="583"/>
                    <a:pt x="163" y="570"/>
                  </a:cubicBezTo>
                  <a:cubicBezTo>
                    <a:pt x="163" y="568"/>
                    <a:pt x="163" y="567"/>
                    <a:pt x="163" y="565"/>
                  </a:cubicBezTo>
                  <a:cubicBezTo>
                    <a:pt x="163" y="566"/>
                    <a:pt x="163" y="568"/>
                    <a:pt x="163" y="569"/>
                  </a:cubicBezTo>
                  <a:cubicBezTo>
                    <a:pt x="164" y="580"/>
                    <a:pt x="168" y="592"/>
                    <a:pt x="173" y="602"/>
                  </a:cubicBezTo>
                  <a:cubicBezTo>
                    <a:pt x="178" y="613"/>
                    <a:pt x="185" y="622"/>
                    <a:pt x="193" y="631"/>
                  </a:cubicBezTo>
                  <a:close/>
                  <a:moveTo>
                    <a:pt x="163" y="137"/>
                  </a:moveTo>
                  <a:cubicBezTo>
                    <a:pt x="163" y="135"/>
                    <a:pt x="163" y="134"/>
                    <a:pt x="163" y="132"/>
                  </a:cubicBezTo>
                  <a:cubicBezTo>
                    <a:pt x="163" y="134"/>
                    <a:pt x="163" y="135"/>
                    <a:pt x="163" y="136"/>
                  </a:cubicBezTo>
                  <a:cubicBezTo>
                    <a:pt x="164" y="148"/>
                    <a:pt x="168" y="159"/>
                    <a:pt x="173" y="170"/>
                  </a:cubicBezTo>
                  <a:cubicBezTo>
                    <a:pt x="178" y="180"/>
                    <a:pt x="185" y="190"/>
                    <a:pt x="193" y="198"/>
                  </a:cubicBezTo>
                  <a:cubicBezTo>
                    <a:pt x="196" y="202"/>
                    <a:pt x="199" y="206"/>
                    <a:pt x="202" y="209"/>
                  </a:cubicBezTo>
                  <a:cubicBezTo>
                    <a:pt x="211" y="219"/>
                    <a:pt x="220" y="228"/>
                    <a:pt x="229" y="237"/>
                  </a:cubicBezTo>
                  <a:cubicBezTo>
                    <a:pt x="245" y="254"/>
                    <a:pt x="262" y="269"/>
                    <a:pt x="278" y="286"/>
                  </a:cubicBezTo>
                  <a:cubicBezTo>
                    <a:pt x="283" y="291"/>
                    <a:pt x="287" y="297"/>
                    <a:pt x="292" y="302"/>
                  </a:cubicBezTo>
                  <a:cubicBezTo>
                    <a:pt x="297" y="311"/>
                    <a:pt x="302" y="320"/>
                    <a:pt x="305" y="329"/>
                  </a:cubicBezTo>
                  <a:cubicBezTo>
                    <a:pt x="309" y="340"/>
                    <a:pt x="310" y="352"/>
                    <a:pt x="309" y="363"/>
                  </a:cubicBezTo>
                  <a:cubicBezTo>
                    <a:pt x="309" y="372"/>
                    <a:pt x="306" y="380"/>
                    <a:pt x="303" y="388"/>
                  </a:cubicBezTo>
                  <a:cubicBezTo>
                    <a:pt x="299" y="395"/>
                    <a:pt x="294" y="401"/>
                    <a:pt x="288" y="407"/>
                  </a:cubicBezTo>
                  <a:cubicBezTo>
                    <a:pt x="273" y="424"/>
                    <a:pt x="256" y="440"/>
                    <a:pt x="239" y="455"/>
                  </a:cubicBezTo>
                  <a:cubicBezTo>
                    <a:pt x="222" y="471"/>
                    <a:pt x="205" y="487"/>
                    <a:pt x="190" y="505"/>
                  </a:cubicBezTo>
                  <a:cubicBezTo>
                    <a:pt x="182" y="514"/>
                    <a:pt x="175" y="524"/>
                    <a:pt x="170" y="534"/>
                  </a:cubicBezTo>
                  <a:cubicBezTo>
                    <a:pt x="166" y="543"/>
                    <a:pt x="163" y="553"/>
                    <a:pt x="163" y="563"/>
                  </a:cubicBezTo>
                  <a:cubicBezTo>
                    <a:pt x="163" y="558"/>
                    <a:pt x="162" y="553"/>
                    <a:pt x="161" y="549"/>
                  </a:cubicBezTo>
                  <a:cubicBezTo>
                    <a:pt x="159" y="542"/>
                    <a:pt x="157" y="536"/>
                    <a:pt x="154" y="530"/>
                  </a:cubicBezTo>
                  <a:cubicBezTo>
                    <a:pt x="148" y="519"/>
                    <a:pt x="141" y="509"/>
                    <a:pt x="133" y="499"/>
                  </a:cubicBezTo>
                  <a:cubicBezTo>
                    <a:pt x="118" y="481"/>
                    <a:pt x="100" y="465"/>
                    <a:pt x="83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7" y="394"/>
                    <a:pt x="22" y="386"/>
                    <a:pt x="17" y="379"/>
                  </a:cubicBezTo>
                  <a:cubicBezTo>
                    <a:pt x="15" y="373"/>
                    <a:pt x="14" y="368"/>
                    <a:pt x="14" y="363"/>
                  </a:cubicBezTo>
                  <a:cubicBezTo>
                    <a:pt x="12" y="342"/>
                    <a:pt x="21" y="322"/>
                    <a:pt x="33" y="304"/>
                  </a:cubicBezTo>
                  <a:cubicBezTo>
                    <a:pt x="46" y="286"/>
                    <a:pt x="63" y="270"/>
                    <a:pt x="80" y="254"/>
                  </a:cubicBezTo>
                  <a:cubicBezTo>
                    <a:pt x="97" y="239"/>
                    <a:pt x="114" y="223"/>
                    <a:pt x="130" y="204"/>
                  </a:cubicBezTo>
                  <a:cubicBezTo>
                    <a:pt x="138" y="195"/>
                    <a:pt x="145" y="185"/>
                    <a:pt x="151" y="174"/>
                  </a:cubicBezTo>
                  <a:cubicBezTo>
                    <a:pt x="157" y="163"/>
                    <a:pt x="161" y="150"/>
                    <a:pt x="163" y="137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14" name="Freeform 8"/>
            <p:cNvSpPr/>
            <p:nvPr/>
          </p:nvSpPr>
          <p:spPr>
            <a:xfrm>
              <a:off x="3540240" y="-1440"/>
              <a:ext cx="514080" cy="686232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2" h="2159">
                  <a:moveTo>
                    <a:pt x="124" y="74"/>
                  </a:moveTo>
                  <a:cubicBezTo>
                    <a:pt x="131" y="83"/>
                    <a:pt x="138" y="92"/>
                    <a:pt x="143" y="103"/>
                  </a:cubicBezTo>
                  <a:cubicBezTo>
                    <a:pt x="148" y="111"/>
                    <a:pt x="150" y="121"/>
                    <a:pt x="150" y="131"/>
                  </a:cubicBezTo>
                  <a:cubicBezTo>
                    <a:pt x="150" y="131"/>
                    <a:pt x="150" y="131"/>
                    <a:pt x="150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1" y="197"/>
                    <a:pt x="121" y="197"/>
                  </a:cubicBezTo>
                  <a:cubicBezTo>
                    <a:pt x="106" y="215"/>
                    <a:pt x="89" y="230"/>
                    <a:pt x="72" y="246"/>
                  </a:cubicBezTo>
                  <a:cubicBezTo>
                    <a:pt x="55" y="262"/>
                    <a:pt x="38" y="279"/>
                    <a:pt x="25" y="298"/>
                  </a:cubicBezTo>
                  <a:cubicBezTo>
                    <a:pt x="23" y="300"/>
                    <a:pt x="22" y="302"/>
                    <a:pt x="20" y="305"/>
                  </a:cubicBezTo>
                  <a:cubicBezTo>
                    <a:pt x="18" y="307"/>
                    <a:pt x="16" y="310"/>
                    <a:pt x="15" y="313"/>
                  </a:cubicBezTo>
                  <a:cubicBezTo>
                    <a:pt x="8" y="322"/>
                    <a:pt x="3" y="333"/>
                    <a:pt x="1" y="345"/>
                  </a:cubicBezTo>
                  <a:cubicBezTo>
                    <a:pt x="0" y="351"/>
                    <a:pt x="0" y="357"/>
                    <a:pt x="0" y="363"/>
                  </a:cubicBezTo>
                  <a:cubicBezTo>
                    <a:pt x="1" y="369"/>
                    <a:pt x="3" y="374"/>
                    <a:pt x="6" y="379"/>
                  </a:cubicBezTo>
                  <a:cubicBezTo>
                    <a:pt x="7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2" y="404"/>
                    <a:pt x="26" y="408"/>
                  </a:cubicBezTo>
                  <a:cubicBezTo>
                    <a:pt x="41" y="426"/>
                    <a:pt x="58" y="441"/>
                    <a:pt x="75" y="457"/>
                  </a:cubicBezTo>
                  <a:cubicBezTo>
                    <a:pt x="92" y="473"/>
                    <a:pt x="109" y="489"/>
                    <a:pt x="124" y="507"/>
                  </a:cubicBezTo>
                  <a:cubicBezTo>
                    <a:pt x="131" y="516"/>
                    <a:pt x="138" y="525"/>
                    <a:pt x="143" y="535"/>
                  </a:cubicBezTo>
                  <a:cubicBezTo>
                    <a:pt x="148" y="544"/>
                    <a:pt x="150" y="554"/>
                    <a:pt x="150" y="564"/>
                  </a:cubicBezTo>
                  <a:cubicBezTo>
                    <a:pt x="150" y="564"/>
                    <a:pt x="150" y="564"/>
                    <a:pt x="150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5"/>
                    <a:pt x="122" y="629"/>
                  </a:cubicBezTo>
                  <a:cubicBezTo>
                    <a:pt x="122" y="629"/>
                    <a:pt x="121" y="629"/>
                    <a:pt x="121" y="630"/>
                  </a:cubicBezTo>
                  <a:cubicBezTo>
                    <a:pt x="106" y="648"/>
                    <a:pt x="89" y="663"/>
                    <a:pt x="72" y="679"/>
                  </a:cubicBezTo>
                  <a:cubicBezTo>
                    <a:pt x="55" y="695"/>
                    <a:pt x="38" y="711"/>
                    <a:pt x="25" y="730"/>
                  </a:cubicBezTo>
                  <a:cubicBezTo>
                    <a:pt x="23" y="733"/>
                    <a:pt x="22" y="735"/>
                    <a:pt x="20" y="737"/>
                  </a:cubicBezTo>
                  <a:cubicBezTo>
                    <a:pt x="18" y="740"/>
                    <a:pt x="16" y="743"/>
                    <a:pt x="15" y="745"/>
                  </a:cubicBezTo>
                  <a:cubicBezTo>
                    <a:pt x="8" y="755"/>
                    <a:pt x="3" y="766"/>
                    <a:pt x="1" y="778"/>
                  </a:cubicBezTo>
                  <a:cubicBezTo>
                    <a:pt x="0" y="784"/>
                    <a:pt x="0" y="789"/>
                    <a:pt x="0" y="795"/>
                  </a:cubicBezTo>
                  <a:cubicBezTo>
                    <a:pt x="1" y="801"/>
                    <a:pt x="3" y="807"/>
                    <a:pt x="6" y="812"/>
                  </a:cubicBezTo>
                  <a:cubicBezTo>
                    <a:pt x="7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2" y="837"/>
                    <a:pt x="26" y="841"/>
                  </a:cubicBezTo>
                  <a:cubicBezTo>
                    <a:pt x="41" y="858"/>
                    <a:pt x="58" y="874"/>
                    <a:pt x="75" y="890"/>
                  </a:cubicBezTo>
                  <a:cubicBezTo>
                    <a:pt x="92" y="906"/>
                    <a:pt x="109" y="922"/>
                    <a:pt x="124" y="939"/>
                  </a:cubicBezTo>
                  <a:cubicBezTo>
                    <a:pt x="131" y="948"/>
                    <a:pt x="138" y="958"/>
                    <a:pt x="143" y="968"/>
                  </a:cubicBezTo>
                  <a:cubicBezTo>
                    <a:pt x="147" y="976"/>
                    <a:pt x="150" y="984"/>
                    <a:pt x="150" y="993"/>
                  </a:cubicBezTo>
                  <a:cubicBezTo>
                    <a:pt x="150" y="993"/>
                    <a:pt x="150" y="993"/>
                    <a:pt x="150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8" y="1065"/>
                    <a:pt x="102" y="1082"/>
                    <a:pt x="86" y="1098"/>
                  </a:cubicBezTo>
                  <a:cubicBezTo>
                    <a:pt x="69" y="1114"/>
                    <a:pt x="52" y="1130"/>
                    <a:pt x="36" y="1147"/>
                  </a:cubicBezTo>
                  <a:cubicBezTo>
                    <a:pt x="28" y="1156"/>
                    <a:pt x="21" y="1165"/>
                    <a:pt x="15" y="1175"/>
                  </a:cubicBezTo>
                  <a:cubicBezTo>
                    <a:pt x="8" y="1185"/>
                    <a:pt x="3" y="1195"/>
                    <a:pt x="1" y="1207"/>
                  </a:cubicBezTo>
                  <a:cubicBezTo>
                    <a:pt x="0" y="1213"/>
                    <a:pt x="0" y="1219"/>
                    <a:pt x="0" y="1225"/>
                  </a:cubicBezTo>
                  <a:cubicBezTo>
                    <a:pt x="1" y="1231"/>
                    <a:pt x="3" y="1236"/>
                    <a:pt x="6" y="1242"/>
                  </a:cubicBezTo>
                  <a:cubicBezTo>
                    <a:pt x="6" y="1243"/>
                    <a:pt x="7" y="1244"/>
                    <a:pt x="8" y="1245"/>
                  </a:cubicBezTo>
                  <a:cubicBezTo>
                    <a:pt x="9" y="1251"/>
                    <a:pt x="12" y="1256"/>
                    <a:pt x="15" y="1261"/>
                  </a:cubicBezTo>
                  <a:cubicBezTo>
                    <a:pt x="18" y="1261"/>
                    <a:pt x="18" y="1261"/>
                    <a:pt x="18" y="1261"/>
                  </a:cubicBezTo>
                  <a:cubicBezTo>
                    <a:pt x="21" y="1264"/>
                    <a:pt x="23" y="1267"/>
                    <a:pt x="26" y="1270"/>
                  </a:cubicBezTo>
                  <a:cubicBezTo>
                    <a:pt x="41" y="1288"/>
                    <a:pt x="58" y="1303"/>
                    <a:pt x="75" y="1319"/>
                  </a:cubicBezTo>
                  <a:cubicBezTo>
                    <a:pt x="92" y="1335"/>
                    <a:pt x="109" y="1351"/>
                    <a:pt x="124" y="1369"/>
                  </a:cubicBezTo>
                  <a:cubicBezTo>
                    <a:pt x="131" y="1378"/>
                    <a:pt x="138" y="1387"/>
                    <a:pt x="143" y="1398"/>
                  </a:cubicBezTo>
                  <a:cubicBezTo>
                    <a:pt x="147" y="1406"/>
                    <a:pt x="150" y="1415"/>
                    <a:pt x="150" y="1425"/>
                  </a:cubicBezTo>
                  <a:cubicBezTo>
                    <a:pt x="150" y="1425"/>
                    <a:pt x="150" y="1425"/>
                    <a:pt x="150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5" y="1485"/>
                    <a:pt x="119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2" y="1595"/>
                    <a:pt x="18" y="1600"/>
                    <a:pt x="15" y="1606"/>
                  </a:cubicBezTo>
                  <a:cubicBezTo>
                    <a:pt x="8" y="1616"/>
                    <a:pt x="3" y="1627"/>
                    <a:pt x="1" y="1639"/>
                  </a:cubicBezTo>
                  <a:cubicBezTo>
                    <a:pt x="0" y="1644"/>
                    <a:pt x="0" y="1650"/>
                    <a:pt x="0" y="1656"/>
                  </a:cubicBezTo>
                  <a:cubicBezTo>
                    <a:pt x="1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0" y="1681"/>
                  </a:cubicBezTo>
                  <a:cubicBezTo>
                    <a:pt x="11" y="1685"/>
                    <a:pt x="13" y="1688"/>
                    <a:pt x="15" y="1691"/>
                  </a:cubicBezTo>
                  <a:cubicBezTo>
                    <a:pt x="16" y="1691"/>
                    <a:pt x="16" y="1691"/>
                    <a:pt x="16" y="1691"/>
                  </a:cubicBezTo>
                  <a:cubicBezTo>
                    <a:pt x="19" y="1694"/>
                    <a:pt x="22" y="1698"/>
                    <a:pt x="26" y="1702"/>
                  </a:cubicBezTo>
                  <a:cubicBezTo>
                    <a:pt x="41" y="1719"/>
                    <a:pt x="58" y="1735"/>
                    <a:pt x="75" y="1751"/>
                  </a:cubicBezTo>
                  <a:cubicBezTo>
                    <a:pt x="92" y="1767"/>
                    <a:pt x="109" y="1783"/>
                    <a:pt x="124" y="1800"/>
                  </a:cubicBezTo>
                  <a:cubicBezTo>
                    <a:pt x="131" y="1809"/>
                    <a:pt x="138" y="1819"/>
                    <a:pt x="143" y="1829"/>
                  </a:cubicBezTo>
                  <a:cubicBezTo>
                    <a:pt x="147" y="1837"/>
                    <a:pt x="150" y="1846"/>
                    <a:pt x="150" y="1855"/>
                  </a:cubicBezTo>
                  <a:cubicBezTo>
                    <a:pt x="150" y="1855"/>
                    <a:pt x="150" y="1855"/>
                    <a:pt x="150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7" y="1959"/>
                    <a:pt x="79" y="1966"/>
                    <a:pt x="72" y="1973"/>
                  </a:cubicBezTo>
                  <a:cubicBezTo>
                    <a:pt x="60" y="1984"/>
                    <a:pt x="49" y="1995"/>
                    <a:pt x="38" y="2007"/>
                  </a:cubicBezTo>
                  <a:cubicBezTo>
                    <a:pt x="38" y="2008"/>
                    <a:pt x="37" y="2008"/>
                    <a:pt x="36" y="2009"/>
                  </a:cubicBezTo>
                  <a:cubicBezTo>
                    <a:pt x="28" y="2018"/>
                    <a:pt x="21" y="2027"/>
                    <a:pt x="15" y="2037"/>
                  </a:cubicBezTo>
                  <a:cubicBezTo>
                    <a:pt x="8" y="2047"/>
                    <a:pt x="3" y="2057"/>
                    <a:pt x="1" y="2069"/>
                  </a:cubicBezTo>
                  <a:cubicBezTo>
                    <a:pt x="0" y="2075"/>
                    <a:pt x="0" y="2081"/>
                    <a:pt x="0" y="2087"/>
                  </a:cubicBezTo>
                  <a:cubicBezTo>
                    <a:pt x="1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0" y="2114"/>
                    <a:pt x="12" y="2118"/>
                    <a:pt x="15" y="2122"/>
                  </a:cubicBezTo>
                  <a:cubicBezTo>
                    <a:pt x="17" y="2122"/>
                    <a:pt x="17" y="2122"/>
                    <a:pt x="17" y="2122"/>
                  </a:cubicBezTo>
                  <a:cubicBezTo>
                    <a:pt x="20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4" y="2137"/>
                    <a:pt x="34" y="2125"/>
                  </a:cubicBezTo>
                  <a:cubicBezTo>
                    <a:pt x="27" y="2117"/>
                    <a:pt x="20" y="2109"/>
                    <a:pt x="16" y="2101"/>
                  </a:cubicBezTo>
                  <a:cubicBezTo>
                    <a:pt x="15" y="2097"/>
                    <a:pt x="14" y="2093"/>
                    <a:pt x="14" y="2089"/>
                  </a:cubicBezTo>
                  <a:cubicBezTo>
                    <a:pt x="12" y="2068"/>
                    <a:pt x="21" y="2048"/>
                    <a:pt x="33" y="2030"/>
                  </a:cubicBezTo>
                  <a:cubicBezTo>
                    <a:pt x="46" y="2012"/>
                    <a:pt x="63" y="1997"/>
                    <a:pt x="80" y="1981"/>
                  </a:cubicBezTo>
                  <a:cubicBezTo>
                    <a:pt x="96" y="1965"/>
                    <a:pt x="114" y="1949"/>
                    <a:pt x="130" y="1931"/>
                  </a:cubicBezTo>
                  <a:cubicBezTo>
                    <a:pt x="138" y="1922"/>
                    <a:pt x="145" y="1912"/>
                    <a:pt x="151" y="1900"/>
                  </a:cubicBezTo>
                  <a:cubicBezTo>
                    <a:pt x="156" y="1891"/>
                    <a:pt x="160" y="1881"/>
                    <a:pt x="161" y="1870"/>
                  </a:cubicBezTo>
                  <a:cubicBezTo>
                    <a:pt x="161" y="1867"/>
                    <a:pt x="161" y="1865"/>
                    <a:pt x="161" y="1862"/>
                  </a:cubicBezTo>
                  <a:cubicBezTo>
                    <a:pt x="160" y="1857"/>
                    <a:pt x="160" y="1852"/>
                    <a:pt x="162" y="1846"/>
                  </a:cubicBezTo>
                  <a:cubicBezTo>
                    <a:pt x="161" y="1845"/>
                    <a:pt x="161" y="1844"/>
                    <a:pt x="161" y="1843"/>
                  </a:cubicBezTo>
                  <a:cubicBezTo>
                    <a:pt x="159" y="1836"/>
                    <a:pt x="157" y="1830"/>
                    <a:pt x="154" y="1824"/>
                  </a:cubicBezTo>
                  <a:cubicBezTo>
                    <a:pt x="148" y="1812"/>
                    <a:pt x="141" y="1802"/>
                    <a:pt x="133" y="1793"/>
                  </a:cubicBezTo>
                  <a:cubicBezTo>
                    <a:pt x="118" y="1774"/>
                    <a:pt x="100" y="1758"/>
                    <a:pt x="83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6" y="1671"/>
                  </a:cubicBezTo>
                  <a:cubicBezTo>
                    <a:pt x="15" y="1667"/>
                    <a:pt x="14" y="1662"/>
                    <a:pt x="14" y="1658"/>
                  </a:cubicBezTo>
                  <a:cubicBezTo>
                    <a:pt x="12" y="1637"/>
                    <a:pt x="21" y="1616"/>
                    <a:pt x="33" y="1599"/>
                  </a:cubicBezTo>
                  <a:cubicBezTo>
                    <a:pt x="46" y="1581"/>
                    <a:pt x="63" y="1565"/>
                    <a:pt x="80" y="1549"/>
                  </a:cubicBezTo>
                  <a:cubicBezTo>
                    <a:pt x="96" y="1534"/>
                    <a:pt x="114" y="1518"/>
                    <a:pt x="130" y="1499"/>
                  </a:cubicBezTo>
                  <a:cubicBezTo>
                    <a:pt x="138" y="1490"/>
                    <a:pt x="145" y="1480"/>
                    <a:pt x="151" y="1469"/>
                  </a:cubicBezTo>
                  <a:cubicBezTo>
                    <a:pt x="156" y="1459"/>
                    <a:pt x="160" y="1449"/>
                    <a:pt x="161" y="1438"/>
                  </a:cubicBezTo>
                  <a:cubicBezTo>
                    <a:pt x="161" y="1436"/>
                    <a:pt x="161" y="1433"/>
                    <a:pt x="161" y="1431"/>
                  </a:cubicBezTo>
                  <a:cubicBezTo>
                    <a:pt x="160" y="1425"/>
                    <a:pt x="160" y="1420"/>
                    <a:pt x="162" y="1415"/>
                  </a:cubicBezTo>
                  <a:cubicBezTo>
                    <a:pt x="161" y="1413"/>
                    <a:pt x="161" y="1412"/>
                    <a:pt x="161" y="1411"/>
                  </a:cubicBezTo>
                  <a:cubicBezTo>
                    <a:pt x="159" y="1404"/>
                    <a:pt x="157" y="1398"/>
                    <a:pt x="154" y="1392"/>
                  </a:cubicBezTo>
                  <a:cubicBezTo>
                    <a:pt x="148" y="1381"/>
                    <a:pt x="141" y="1371"/>
                    <a:pt x="133" y="1361"/>
                  </a:cubicBezTo>
                  <a:cubicBezTo>
                    <a:pt x="118" y="1343"/>
                    <a:pt x="100" y="1327"/>
                    <a:pt x="83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6" y="1255"/>
                    <a:pt x="20" y="1247"/>
                    <a:pt x="15" y="1238"/>
                  </a:cubicBezTo>
                  <a:cubicBezTo>
                    <a:pt x="15" y="1235"/>
                    <a:pt x="14" y="1232"/>
                    <a:pt x="14" y="1228"/>
                  </a:cubicBezTo>
                  <a:cubicBezTo>
                    <a:pt x="12" y="1207"/>
                    <a:pt x="21" y="1187"/>
                    <a:pt x="33" y="1169"/>
                  </a:cubicBezTo>
                  <a:cubicBezTo>
                    <a:pt x="46" y="1152"/>
                    <a:pt x="63" y="1136"/>
                    <a:pt x="80" y="1120"/>
                  </a:cubicBezTo>
                  <a:cubicBezTo>
                    <a:pt x="96" y="1104"/>
                    <a:pt x="114" y="1089"/>
                    <a:pt x="130" y="1070"/>
                  </a:cubicBezTo>
                  <a:cubicBezTo>
                    <a:pt x="138" y="1061"/>
                    <a:pt x="145" y="1051"/>
                    <a:pt x="151" y="1039"/>
                  </a:cubicBezTo>
                  <a:cubicBezTo>
                    <a:pt x="156" y="1030"/>
                    <a:pt x="160" y="1020"/>
                    <a:pt x="161" y="1009"/>
                  </a:cubicBezTo>
                  <a:cubicBezTo>
                    <a:pt x="161" y="1006"/>
                    <a:pt x="161" y="1004"/>
                    <a:pt x="161" y="1001"/>
                  </a:cubicBezTo>
                  <a:cubicBezTo>
                    <a:pt x="160" y="996"/>
                    <a:pt x="160" y="991"/>
                    <a:pt x="162" y="985"/>
                  </a:cubicBezTo>
                  <a:cubicBezTo>
                    <a:pt x="161" y="984"/>
                    <a:pt x="161" y="983"/>
                    <a:pt x="161" y="982"/>
                  </a:cubicBezTo>
                  <a:cubicBezTo>
                    <a:pt x="159" y="975"/>
                    <a:pt x="157" y="969"/>
                    <a:pt x="154" y="963"/>
                  </a:cubicBezTo>
                  <a:cubicBezTo>
                    <a:pt x="148" y="951"/>
                    <a:pt x="141" y="941"/>
                    <a:pt x="133" y="932"/>
                  </a:cubicBezTo>
                  <a:cubicBezTo>
                    <a:pt x="118" y="913"/>
                    <a:pt x="100" y="897"/>
                    <a:pt x="83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7" y="827"/>
                    <a:pt x="21" y="819"/>
                    <a:pt x="17" y="811"/>
                  </a:cubicBezTo>
                  <a:cubicBezTo>
                    <a:pt x="15" y="806"/>
                    <a:pt x="14" y="801"/>
                    <a:pt x="14" y="795"/>
                  </a:cubicBezTo>
                  <a:cubicBezTo>
                    <a:pt x="12" y="774"/>
                    <a:pt x="21" y="754"/>
                    <a:pt x="33" y="737"/>
                  </a:cubicBezTo>
                  <a:cubicBezTo>
                    <a:pt x="46" y="719"/>
                    <a:pt x="63" y="703"/>
                    <a:pt x="80" y="687"/>
                  </a:cubicBezTo>
                  <a:cubicBezTo>
                    <a:pt x="96" y="671"/>
                    <a:pt x="114" y="656"/>
                    <a:pt x="130" y="637"/>
                  </a:cubicBezTo>
                  <a:cubicBezTo>
                    <a:pt x="138" y="628"/>
                    <a:pt x="145" y="618"/>
                    <a:pt x="151" y="607"/>
                  </a:cubicBezTo>
                  <a:cubicBezTo>
                    <a:pt x="156" y="597"/>
                    <a:pt x="160" y="587"/>
                    <a:pt x="161" y="576"/>
                  </a:cubicBezTo>
                  <a:cubicBezTo>
                    <a:pt x="161" y="573"/>
                    <a:pt x="161" y="571"/>
                    <a:pt x="161" y="569"/>
                  </a:cubicBezTo>
                  <a:cubicBezTo>
                    <a:pt x="160" y="563"/>
                    <a:pt x="160" y="558"/>
                    <a:pt x="162" y="553"/>
                  </a:cubicBezTo>
                  <a:cubicBezTo>
                    <a:pt x="161" y="551"/>
                    <a:pt x="161" y="550"/>
                    <a:pt x="161" y="549"/>
                  </a:cubicBezTo>
                  <a:cubicBezTo>
                    <a:pt x="159" y="542"/>
                    <a:pt x="157" y="536"/>
                    <a:pt x="154" y="530"/>
                  </a:cubicBezTo>
                  <a:cubicBezTo>
                    <a:pt x="148" y="519"/>
                    <a:pt x="141" y="509"/>
                    <a:pt x="133" y="499"/>
                  </a:cubicBezTo>
                  <a:cubicBezTo>
                    <a:pt x="118" y="481"/>
                    <a:pt x="100" y="465"/>
                    <a:pt x="83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7" y="394"/>
                    <a:pt x="21" y="386"/>
                    <a:pt x="17" y="379"/>
                  </a:cubicBezTo>
                  <a:cubicBezTo>
                    <a:pt x="15" y="373"/>
                    <a:pt x="14" y="368"/>
                    <a:pt x="14" y="363"/>
                  </a:cubicBezTo>
                  <a:cubicBezTo>
                    <a:pt x="12" y="342"/>
                    <a:pt x="21" y="322"/>
                    <a:pt x="33" y="304"/>
                  </a:cubicBezTo>
                  <a:cubicBezTo>
                    <a:pt x="46" y="286"/>
                    <a:pt x="63" y="270"/>
                    <a:pt x="80" y="254"/>
                  </a:cubicBezTo>
                  <a:cubicBezTo>
                    <a:pt x="96" y="239"/>
                    <a:pt x="114" y="223"/>
                    <a:pt x="130" y="204"/>
                  </a:cubicBezTo>
                  <a:cubicBezTo>
                    <a:pt x="138" y="195"/>
                    <a:pt x="145" y="185"/>
                    <a:pt x="151" y="174"/>
                  </a:cubicBezTo>
                  <a:cubicBezTo>
                    <a:pt x="156" y="164"/>
                    <a:pt x="160" y="154"/>
                    <a:pt x="161" y="143"/>
                  </a:cubicBezTo>
                  <a:cubicBezTo>
                    <a:pt x="161" y="141"/>
                    <a:pt x="161" y="138"/>
                    <a:pt x="161" y="136"/>
                  </a:cubicBezTo>
                  <a:cubicBezTo>
                    <a:pt x="160" y="130"/>
                    <a:pt x="160" y="125"/>
                    <a:pt x="162" y="120"/>
                  </a:cubicBezTo>
                  <a:cubicBezTo>
                    <a:pt x="161" y="119"/>
                    <a:pt x="161" y="117"/>
                    <a:pt x="161" y="116"/>
                  </a:cubicBezTo>
                  <a:cubicBezTo>
                    <a:pt x="159" y="109"/>
                    <a:pt x="157" y="103"/>
                    <a:pt x="154" y="97"/>
                  </a:cubicBezTo>
                  <a:cubicBezTo>
                    <a:pt x="148" y="86"/>
                    <a:pt x="141" y="76"/>
                    <a:pt x="133" y="66"/>
                  </a:cubicBezTo>
                  <a:cubicBezTo>
                    <a:pt x="118" y="48"/>
                    <a:pt x="100" y="32"/>
                    <a:pt x="83" y="16"/>
                  </a:cubicBezTo>
                  <a:cubicBezTo>
                    <a:pt x="77" y="11"/>
                    <a:pt x="71" y="5"/>
                    <a:pt x="65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58" y="8"/>
                    <a:pt x="67" y="16"/>
                    <a:pt x="75" y="24"/>
                  </a:cubicBezTo>
                  <a:cubicBezTo>
                    <a:pt x="92" y="40"/>
                    <a:pt x="109" y="56"/>
                    <a:pt x="124" y="74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15" name="Freeform 9"/>
            <p:cNvSpPr/>
            <p:nvPr/>
          </p:nvSpPr>
          <p:spPr>
            <a:xfrm>
              <a:off x="7612200" y="-1440"/>
              <a:ext cx="1026720" cy="6862320"/>
            </a:xfrm>
            <a:custGeom>
              <a:avLst/>
              <a:gdLst>
                <a:gd name="textAreaLeft" fmla="*/ 0 w 1026720"/>
                <a:gd name="textAreaRight" fmla="*/ 1027080 w 102672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323" h="2159">
                  <a:moveTo>
                    <a:pt x="125" y="74"/>
                  </a:moveTo>
                  <a:cubicBezTo>
                    <a:pt x="132" y="83"/>
                    <a:pt x="139" y="92"/>
                    <a:pt x="144" y="103"/>
                  </a:cubicBezTo>
                  <a:cubicBezTo>
                    <a:pt x="148" y="111"/>
                    <a:pt x="151" y="121"/>
                    <a:pt x="151" y="131"/>
                  </a:cubicBezTo>
                  <a:cubicBezTo>
                    <a:pt x="151" y="131"/>
                    <a:pt x="151" y="131"/>
                    <a:pt x="151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2" y="197"/>
                    <a:pt x="121" y="197"/>
                  </a:cubicBezTo>
                  <a:cubicBezTo>
                    <a:pt x="107" y="215"/>
                    <a:pt x="89" y="230"/>
                    <a:pt x="72" y="246"/>
                  </a:cubicBezTo>
                  <a:cubicBezTo>
                    <a:pt x="56" y="262"/>
                    <a:pt x="39" y="279"/>
                    <a:pt x="25" y="298"/>
                  </a:cubicBezTo>
                  <a:cubicBezTo>
                    <a:pt x="24" y="300"/>
                    <a:pt x="22" y="302"/>
                    <a:pt x="21" y="305"/>
                  </a:cubicBezTo>
                  <a:cubicBezTo>
                    <a:pt x="19" y="307"/>
                    <a:pt x="17" y="310"/>
                    <a:pt x="15" y="313"/>
                  </a:cubicBezTo>
                  <a:cubicBezTo>
                    <a:pt x="9" y="322"/>
                    <a:pt x="4" y="333"/>
                    <a:pt x="2" y="345"/>
                  </a:cubicBezTo>
                  <a:cubicBezTo>
                    <a:pt x="1" y="351"/>
                    <a:pt x="0" y="357"/>
                    <a:pt x="1" y="363"/>
                  </a:cubicBezTo>
                  <a:cubicBezTo>
                    <a:pt x="2" y="369"/>
                    <a:pt x="3" y="374"/>
                    <a:pt x="6" y="379"/>
                  </a:cubicBezTo>
                  <a:cubicBezTo>
                    <a:pt x="8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3" y="404"/>
                    <a:pt x="26" y="408"/>
                  </a:cubicBezTo>
                  <a:cubicBezTo>
                    <a:pt x="42" y="426"/>
                    <a:pt x="59" y="441"/>
                    <a:pt x="76" y="457"/>
                  </a:cubicBezTo>
                  <a:cubicBezTo>
                    <a:pt x="93" y="473"/>
                    <a:pt x="110" y="489"/>
                    <a:pt x="125" y="507"/>
                  </a:cubicBezTo>
                  <a:cubicBezTo>
                    <a:pt x="132" y="516"/>
                    <a:pt x="139" y="525"/>
                    <a:pt x="144" y="535"/>
                  </a:cubicBezTo>
                  <a:cubicBezTo>
                    <a:pt x="148" y="544"/>
                    <a:pt x="151" y="554"/>
                    <a:pt x="151" y="564"/>
                  </a:cubicBezTo>
                  <a:cubicBezTo>
                    <a:pt x="151" y="564"/>
                    <a:pt x="151" y="564"/>
                    <a:pt x="151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5"/>
                    <a:pt x="122" y="629"/>
                  </a:cubicBezTo>
                  <a:cubicBezTo>
                    <a:pt x="122" y="629"/>
                    <a:pt x="122" y="629"/>
                    <a:pt x="121" y="630"/>
                  </a:cubicBezTo>
                  <a:cubicBezTo>
                    <a:pt x="107" y="648"/>
                    <a:pt x="89" y="663"/>
                    <a:pt x="72" y="679"/>
                  </a:cubicBezTo>
                  <a:cubicBezTo>
                    <a:pt x="56" y="695"/>
                    <a:pt x="39" y="711"/>
                    <a:pt x="25" y="730"/>
                  </a:cubicBezTo>
                  <a:cubicBezTo>
                    <a:pt x="24" y="733"/>
                    <a:pt x="22" y="735"/>
                    <a:pt x="21" y="737"/>
                  </a:cubicBezTo>
                  <a:cubicBezTo>
                    <a:pt x="19" y="740"/>
                    <a:pt x="17" y="743"/>
                    <a:pt x="15" y="745"/>
                  </a:cubicBezTo>
                  <a:cubicBezTo>
                    <a:pt x="9" y="755"/>
                    <a:pt x="4" y="766"/>
                    <a:pt x="2" y="778"/>
                  </a:cubicBezTo>
                  <a:cubicBezTo>
                    <a:pt x="1" y="784"/>
                    <a:pt x="0" y="789"/>
                    <a:pt x="1" y="795"/>
                  </a:cubicBezTo>
                  <a:cubicBezTo>
                    <a:pt x="2" y="801"/>
                    <a:pt x="3" y="807"/>
                    <a:pt x="6" y="812"/>
                  </a:cubicBezTo>
                  <a:cubicBezTo>
                    <a:pt x="8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3" y="837"/>
                    <a:pt x="26" y="841"/>
                  </a:cubicBezTo>
                  <a:cubicBezTo>
                    <a:pt x="42" y="858"/>
                    <a:pt x="59" y="874"/>
                    <a:pt x="76" y="890"/>
                  </a:cubicBezTo>
                  <a:cubicBezTo>
                    <a:pt x="93" y="906"/>
                    <a:pt x="110" y="922"/>
                    <a:pt x="125" y="939"/>
                  </a:cubicBezTo>
                  <a:cubicBezTo>
                    <a:pt x="132" y="948"/>
                    <a:pt x="139" y="958"/>
                    <a:pt x="144" y="968"/>
                  </a:cubicBezTo>
                  <a:cubicBezTo>
                    <a:pt x="148" y="976"/>
                    <a:pt x="150" y="984"/>
                    <a:pt x="151" y="993"/>
                  </a:cubicBezTo>
                  <a:cubicBezTo>
                    <a:pt x="151" y="993"/>
                    <a:pt x="151" y="993"/>
                    <a:pt x="151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9" y="1065"/>
                    <a:pt x="103" y="1082"/>
                    <a:pt x="86" y="1098"/>
                  </a:cubicBezTo>
                  <a:cubicBezTo>
                    <a:pt x="70" y="1114"/>
                    <a:pt x="52" y="1130"/>
                    <a:pt x="37" y="1147"/>
                  </a:cubicBezTo>
                  <a:cubicBezTo>
                    <a:pt x="29" y="1156"/>
                    <a:pt x="21" y="1165"/>
                    <a:pt x="15" y="1175"/>
                  </a:cubicBezTo>
                  <a:cubicBezTo>
                    <a:pt x="9" y="1185"/>
                    <a:pt x="4" y="1195"/>
                    <a:pt x="2" y="1207"/>
                  </a:cubicBezTo>
                  <a:cubicBezTo>
                    <a:pt x="1" y="1213"/>
                    <a:pt x="0" y="1219"/>
                    <a:pt x="1" y="1225"/>
                  </a:cubicBezTo>
                  <a:cubicBezTo>
                    <a:pt x="2" y="1231"/>
                    <a:pt x="3" y="1236"/>
                    <a:pt x="6" y="1242"/>
                  </a:cubicBezTo>
                  <a:cubicBezTo>
                    <a:pt x="7" y="1243"/>
                    <a:pt x="7" y="1244"/>
                    <a:pt x="8" y="1245"/>
                  </a:cubicBezTo>
                  <a:cubicBezTo>
                    <a:pt x="10" y="1251"/>
                    <a:pt x="12" y="1256"/>
                    <a:pt x="15" y="1261"/>
                  </a:cubicBezTo>
                  <a:cubicBezTo>
                    <a:pt x="19" y="1261"/>
                    <a:pt x="19" y="1261"/>
                    <a:pt x="19" y="1261"/>
                  </a:cubicBezTo>
                  <a:cubicBezTo>
                    <a:pt x="21" y="1264"/>
                    <a:pt x="24" y="1267"/>
                    <a:pt x="26" y="1270"/>
                  </a:cubicBezTo>
                  <a:cubicBezTo>
                    <a:pt x="42" y="1288"/>
                    <a:pt x="59" y="1303"/>
                    <a:pt x="76" y="1319"/>
                  </a:cubicBezTo>
                  <a:cubicBezTo>
                    <a:pt x="93" y="1335"/>
                    <a:pt x="110" y="1351"/>
                    <a:pt x="125" y="1369"/>
                  </a:cubicBezTo>
                  <a:cubicBezTo>
                    <a:pt x="132" y="1378"/>
                    <a:pt x="139" y="1387"/>
                    <a:pt x="144" y="1398"/>
                  </a:cubicBezTo>
                  <a:cubicBezTo>
                    <a:pt x="148" y="1406"/>
                    <a:pt x="151" y="1415"/>
                    <a:pt x="151" y="1425"/>
                  </a:cubicBezTo>
                  <a:cubicBezTo>
                    <a:pt x="151" y="1425"/>
                    <a:pt x="151" y="1425"/>
                    <a:pt x="151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6" y="1485"/>
                    <a:pt x="120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3" y="1595"/>
                    <a:pt x="19" y="1600"/>
                    <a:pt x="15" y="1606"/>
                  </a:cubicBezTo>
                  <a:cubicBezTo>
                    <a:pt x="9" y="1616"/>
                    <a:pt x="4" y="1627"/>
                    <a:pt x="2" y="1639"/>
                  </a:cubicBezTo>
                  <a:cubicBezTo>
                    <a:pt x="1" y="1644"/>
                    <a:pt x="0" y="1650"/>
                    <a:pt x="1" y="1656"/>
                  </a:cubicBezTo>
                  <a:cubicBezTo>
                    <a:pt x="2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1" y="1681"/>
                  </a:cubicBezTo>
                  <a:cubicBezTo>
                    <a:pt x="12" y="1685"/>
                    <a:pt x="13" y="1688"/>
                    <a:pt x="15" y="1691"/>
                  </a:cubicBezTo>
                  <a:cubicBezTo>
                    <a:pt x="17" y="1691"/>
                    <a:pt x="17" y="1691"/>
                    <a:pt x="17" y="1691"/>
                  </a:cubicBezTo>
                  <a:cubicBezTo>
                    <a:pt x="20" y="1694"/>
                    <a:pt x="23" y="1698"/>
                    <a:pt x="26" y="1702"/>
                  </a:cubicBezTo>
                  <a:cubicBezTo>
                    <a:pt x="42" y="1719"/>
                    <a:pt x="59" y="1735"/>
                    <a:pt x="76" y="1751"/>
                  </a:cubicBezTo>
                  <a:cubicBezTo>
                    <a:pt x="93" y="1767"/>
                    <a:pt x="110" y="1783"/>
                    <a:pt x="125" y="1800"/>
                  </a:cubicBezTo>
                  <a:cubicBezTo>
                    <a:pt x="132" y="1809"/>
                    <a:pt x="139" y="1819"/>
                    <a:pt x="144" y="1829"/>
                  </a:cubicBezTo>
                  <a:cubicBezTo>
                    <a:pt x="148" y="1837"/>
                    <a:pt x="150" y="1846"/>
                    <a:pt x="151" y="1855"/>
                  </a:cubicBezTo>
                  <a:cubicBezTo>
                    <a:pt x="151" y="1855"/>
                    <a:pt x="151" y="1855"/>
                    <a:pt x="151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8" y="1959"/>
                    <a:pt x="80" y="1966"/>
                    <a:pt x="72" y="1973"/>
                  </a:cubicBezTo>
                  <a:cubicBezTo>
                    <a:pt x="61" y="1984"/>
                    <a:pt x="49" y="1995"/>
                    <a:pt x="39" y="2007"/>
                  </a:cubicBezTo>
                  <a:cubicBezTo>
                    <a:pt x="38" y="2008"/>
                    <a:pt x="37" y="2008"/>
                    <a:pt x="37" y="2009"/>
                  </a:cubicBezTo>
                  <a:cubicBezTo>
                    <a:pt x="29" y="2018"/>
                    <a:pt x="21" y="2027"/>
                    <a:pt x="15" y="2037"/>
                  </a:cubicBezTo>
                  <a:cubicBezTo>
                    <a:pt x="9" y="2047"/>
                    <a:pt x="4" y="2057"/>
                    <a:pt x="2" y="2069"/>
                  </a:cubicBezTo>
                  <a:cubicBezTo>
                    <a:pt x="1" y="2075"/>
                    <a:pt x="0" y="2081"/>
                    <a:pt x="1" y="2087"/>
                  </a:cubicBezTo>
                  <a:cubicBezTo>
                    <a:pt x="2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1" y="2114"/>
                    <a:pt x="13" y="2118"/>
                    <a:pt x="15" y="2122"/>
                  </a:cubicBezTo>
                  <a:cubicBezTo>
                    <a:pt x="18" y="2122"/>
                    <a:pt x="18" y="2122"/>
                    <a:pt x="18" y="2122"/>
                  </a:cubicBezTo>
                  <a:cubicBezTo>
                    <a:pt x="21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5" y="2137"/>
                    <a:pt x="34" y="2125"/>
                  </a:cubicBezTo>
                  <a:cubicBezTo>
                    <a:pt x="27" y="2117"/>
                    <a:pt x="21" y="2109"/>
                    <a:pt x="16" y="2101"/>
                  </a:cubicBezTo>
                  <a:cubicBezTo>
                    <a:pt x="15" y="2097"/>
                    <a:pt x="15" y="2093"/>
                    <a:pt x="14" y="2089"/>
                  </a:cubicBezTo>
                  <a:cubicBezTo>
                    <a:pt x="13" y="2068"/>
                    <a:pt x="21" y="2048"/>
                    <a:pt x="34" y="2030"/>
                  </a:cubicBezTo>
                  <a:cubicBezTo>
                    <a:pt x="47" y="2012"/>
                    <a:pt x="63" y="1997"/>
                    <a:pt x="80" y="1981"/>
                  </a:cubicBezTo>
                  <a:cubicBezTo>
                    <a:pt x="97" y="1965"/>
                    <a:pt x="115" y="1949"/>
                    <a:pt x="130" y="1931"/>
                  </a:cubicBezTo>
                  <a:cubicBezTo>
                    <a:pt x="138" y="1922"/>
                    <a:pt x="146" y="1912"/>
                    <a:pt x="151" y="1900"/>
                  </a:cubicBezTo>
                  <a:cubicBezTo>
                    <a:pt x="157" y="1889"/>
                    <a:pt x="162" y="1877"/>
                    <a:pt x="163" y="1863"/>
                  </a:cubicBezTo>
                  <a:cubicBezTo>
                    <a:pt x="163" y="1862"/>
                    <a:pt x="163" y="1860"/>
                    <a:pt x="163" y="1859"/>
                  </a:cubicBezTo>
                  <a:cubicBezTo>
                    <a:pt x="163" y="1860"/>
                    <a:pt x="163" y="1861"/>
                    <a:pt x="163" y="1862"/>
                  </a:cubicBezTo>
                  <a:cubicBezTo>
                    <a:pt x="164" y="1874"/>
                    <a:pt x="168" y="1886"/>
                    <a:pt x="173" y="1896"/>
                  </a:cubicBezTo>
                  <a:cubicBezTo>
                    <a:pt x="179" y="1907"/>
                    <a:pt x="186" y="1916"/>
                    <a:pt x="193" y="1925"/>
                  </a:cubicBezTo>
                  <a:cubicBezTo>
                    <a:pt x="208" y="1943"/>
                    <a:pt x="226" y="1958"/>
                    <a:pt x="242" y="1974"/>
                  </a:cubicBezTo>
                  <a:cubicBezTo>
                    <a:pt x="243" y="1975"/>
                    <a:pt x="243" y="1975"/>
                    <a:pt x="244" y="1975"/>
                  </a:cubicBezTo>
                  <a:cubicBezTo>
                    <a:pt x="250" y="1982"/>
                    <a:pt x="257" y="1988"/>
                    <a:pt x="264" y="1995"/>
                  </a:cubicBezTo>
                  <a:cubicBezTo>
                    <a:pt x="273" y="2004"/>
                    <a:pt x="282" y="2014"/>
                    <a:pt x="290" y="2025"/>
                  </a:cubicBezTo>
                  <a:cubicBezTo>
                    <a:pt x="296" y="2035"/>
                    <a:pt x="302" y="2045"/>
                    <a:pt x="306" y="2056"/>
                  </a:cubicBezTo>
                  <a:cubicBezTo>
                    <a:pt x="309" y="2067"/>
                    <a:pt x="311" y="2078"/>
                    <a:pt x="310" y="2090"/>
                  </a:cubicBezTo>
                  <a:cubicBezTo>
                    <a:pt x="309" y="2096"/>
                    <a:pt x="308" y="2102"/>
                    <a:pt x="306" y="2108"/>
                  </a:cubicBezTo>
                  <a:cubicBezTo>
                    <a:pt x="301" y="2116"/>
                    <a:pt x="295" y="2124"/>
                    <a:pt x="289" y="2131"/>
                  </a:cubicBezTo>
                  <a:cubicBezTo>
                    <a:pt x="280" y="2141"/>
                    <a:pt x="271" y="2150"/>
                    <a:pt x="261" y="2159"/>
                  </a:cubicBezTo>
                  <a:cubicBezTo>
                    <a:pt x="277" y="2159"/>
                    <a:pt x="277" y="2159"/>
                    <a:pt x="277" y="2159"/>
                  </a:cubicBezTo>
                  <a:cubicBezTo>
                    <a:pt x="284" y="2152"/>
                    <a:pt x="290" y="2145"/>
                    <a:pt x="297" y="2138"/>
                  </a:cubicBezTo>
                  <a:cubicBezTo>
                    <a:pt x="301" y="2133"/>
                    <a:pt x="305" y="2128"/>
                    <a:pt x="309" y="2122"/>
                  </a:cubicBezTo>
                  <a:cubicBezTo>
                    <a:pt x="309" y="2122"/>
                    <a:pt x="309" y="2122"/>
                    <a:pt x="309" y="2122"/>
                  </a:cubicBezTo>
                  <a:cubicBezTo>
                    <a:pt x="310" y="2122"/>
                    <a:pt x="310" y="2121"/>
                    <a:pt x="310" y="2120"/>
                  </a:cubicBezTo>
                  <a:cubicBezTo>
                    <a:pt x="313" y="2116"/>
                    <a:pt x="316" y="2112"/>
                    <a:pt x="318" y="2107"/>
                  </a:cubicBezTo>
                  <a:cubicBezTo>
                    <a:pt x="320" y="2102"/>
                    <a:pt x="322" y="2097"/>
                    <a:pt x="323" y="2092"/>
                  </a:cubicBezTo>
                  <a:cubicBezTo>
                    <a:pt x="323" y="2090"/>
                    <a:pt x="322" y="2088"/>
                    <a:pt x="322" y="2087"/>
                  </a:cubicBezTo>
                  <a:cubicBezTo>
                    <a:pt x="321" y="2081"/>
                    <a:pt x="322" y="2076"/>
                    <a:pt x="323" y="2071"/>
                  </a:cubicBezTo>
                  <a:cubicBezTo>
                    <a:pt x="323" y="2070"/>
                    <a:pt x="322" y="2069"/>
                    <a:pt x="322" y="2068"/>
                  </a:cubicBezTo>
                  <a:cubicBezTo>
                    <a:pt x="320" y="2055"/>
                    <a:pt x="314" y="2043"/>
                    <a:pt x="307" y="2033"/>
                  </a:cubicBezTo>
                  <a:cubicBezTo>
                    <a:pt x="306" y="2032"/>
                    <a:pt x="305" y="2030"/>
                    <a:pt x="304" y="2029"/>
                  </a:cubicBezTo>
                  <a:cubicBezTo>
                    <a:pt x="302" y="2026"/>
                    <a:pt x="300" y="2022"/>
                    <a:pt x="298" y="2019"/>
                  </a:cubicBezTo>
                  <a:cubicBezTo>
                    <a:pt x="284" y="1999"/>
                    <a:pt x="267" y="1982"/>
                    <a:pt x="250" y="1966"/>
                  </a:cubicBezTo>
                  <a:cubicBezTo>
                    <a:pt x="233" y="1950"/>
                    <a:pt x="216" y="1935"/>
                    <a:pt x="202" y="1917"/>
                  </a:cubicBezTo>
                  <a:cubicBezTo>
                    <a:pt x="188" y="1901"/>
                    <a:pt x="177" y="1881"/>
                    <a:pt x="175" y="1861"/>
                  </a:cubicBezTo>
                  <a:cubicBezTo>
                    <a:pt x="174" y="1852"/>
                    <a:pt x="177" y="1843"/>
                    <a:pt x="181" y="1833"/>
                  </a:cubicBezTo>
                  <a:cubicBezTo>
                    <a:pt x="186" y="1824"/>
                    <a:pt x="192" y="1815"/>
                    <a:pt x="199" y="1806"/>
                  </a:cubicBezTo>
                  <a:cubicBezTo>
                    <a:pt x="213" y="1789"/>
                    <a:pt x="230" y="1773"/>
                    <a:pt x="246" y="1757"/>
                  </a:cubicBezTo>
                  <a:cubicBezTo>
                    <a:pt x="263" y="1741"/>
                    <a:pt x="281" y="1726"/>
                    <a:pt x="297" y="1708"/>
                  </a:cubicBezTo>
                  <a:cubicBezTo>
                    <a:pt x="304" y="1698"/>
                    <a:pt x="312" y="1689"/>
                    <a:pt x="318" y="1677"/>
                  </a:cubicBezTo>
                  <a:cubicBezTo>
                    <a:pt x="320" y="1672"/>
                    <a:pt x="322" y="1667"/>
                    <a:pt x="323" y="1661"/>
                  </a:cubicBezTo>
                  <a:cubicBezTo>
                    <a:pt x="323" y="1660"/>
                    <a:pt x="322" y="1658"/>
                    <a:pt x="322" y="1656"/>
                  </a:cubicBezTo>
                  <a:cubicBezTo>
                    <a:pt x="321" y="1651"/>
                    <a:pt x="322" y="1646"/>
                    <a:pt x="323" y="1640"/>
                  </a:cubicBezTo>
                  <a:cubicBezTo>
                    <a:pt x="323" y="1639"/>
                    <a:pt x="322" y="1638"/>
                    <a:pt x="322" y="1637"/>
                  </a:cubicBezTo>
                  <a:cubicBezTo>
                    <a:pt x="320" y="1625"/>
                    <a:pt x="315" y="1614"/>
                    <a:pt x="308" y="1604"/>
                  </a:cubicBezTo>
                  <a:cubicBezTo>
                    <a:pt x="305" y="1599"/>
                    <a:pt x="302" y="1593"/>
                    <a:pt x="298" y="1588"/>
                  </a:cubicBezTo>
                  <a:cubicBezTo>
                    <a:pt x="284" y="1567"/>
                    <a:pt x="267" y="1551"/>
                    <a:pt x="250" y="1535"/>
                  </a:cubicBezTo>
                  <a:cubicBezTo>
                    <a:pt x="233" y="1519"/>
                    <a:pt x="216" y="1503"/>
                    <a:pt x="202" y="1486"/>
                  </a:cubicBezTo>
                  <a:cubicBezTo>
                    <a:pt x="188" y="1469"/>
                    <a:pt x="177" y="1450"/>
                    <a:pt x="175" y="1430"/>
                  </a:cubicBezTo>
                  <a:cubicBezTo>
                    <a:pt x="174" y="1421"/>
                    <a:pt x="177" y="1411"/>
                    <a:pt x="181" y="1402"/>
                  </a:cubicBezTo>
                  <a:cubicBezTo>
                    <a:pt x="186" y="1392"/>
                    <a:pt x="192" y="1383"/>
                    <a:pt x="199" y="1375"/>
                  </a:cubicBezTo>
                  <a:cubicBezTo>
                    <a:pt x="213" y="1357"/>
                    <a:pt x="230" y="1342"/>
                    <a:pt x="246" y="1326"/>
                  </a:cubicBezTo>
                  <a:cubicBezTo>
                    <a:pt x="263" y="1310"/>
                    <a:pt x="281" y="1294"/>
                    <a:pt x="297" y="1276"/>
                  </a:cubicBezTo>
                  <a:cubicBezTo>
                    <a:pt x="301" y="1271"/>
                    <a:pt x="305" y="1266"/>
                    <a:pt x="308" y="1261"/>
                  </a:cubicBezTo>
                  <a:cubicBezTo>
                    <a:pt x="309" y="1261"/>
                    <a:pt x="309" y="1261"/>
                    <a:pt x="309" y="1261"/>
                  </a:cubicBezTo>
                  <a:cubicBezTo>
                    <a:pt x="310" y="1259"/>
                    <a:pt x="311" y="1258"/>
                    <a:pt x="312" y="1256"/>
                  </a:cubicBezTo>
                  <a:cubicBezTo>
                    <a:pt x="314" y="1252"/>
                    <a:pt x="316" y="1249"/>
                    <a:pt x="318" y="1245"/>
                  </a:cubicBezTo>
                  <a:cubicBezTo>
                    <a:pt x="320" y="1240"/>
                    <a:pt x="322" y="1235"/>
                    <a:pt x="323" y="1230"/>
                  </a:cubicBezTo>
                  <a:cubicBezTo>
                    <a:pt x="323" y="1228"/>
                    <a:pt x="322" y="1226"/>
                    <a:pt x="322" y="1225"/>
                  </a:cubicBezTo>
                  <a:cubicBezTo>
                    <a:pt x="321" y="1219"/>
                    <a:pt x="322" y="1214"/>
                    <a:pt x="323" y="1209"/>
                  </a:cubicBezTo>
                  <a:cubicBezTo>
                    <a:pt x="323" y="1208"/>
                    <a:pt x="322" y="1207"/>
                    <a:pt x="322" y="1206"/>
                  </a:cubicBezTo>
                  <a:cubicBezTo>
                    <a:pt x="320" y="1193"/>
                    <a:pt x="314" y="1181"/>
                    <a:pt x="307" y="1171"/>
                  </a:cubicBezTo>
                  <a:cubicBezTo>
                    <a:pt x="305" y="1168"/>
                    <a:pt x="302" y="1164"/>
                    <a:pt x="300" y="1161"/>
                  </a:cubicBezTo>
                  <a:cubicBezTo>
                    <a:pt x="299" y="1160"/>
                    <a:pt x="299" y="1159"/>
                    <a:pt x="298" y="1158"/>
                  </a:cubicBezTo>
                  <a:cubicBezTo>
                    <a:pt x="284" y="1138"/>
                    <a:pt x="267" y="1122"/>
                    <a:pt x="250" y="1105"/>
                  </a:cubicBezTo>
                  <a:cubicBezTo>
                    <a:pt x="233" y="1089"/>
                    <a:pt x="216" y="1074"/>
                    <a:pt x="202" y="1057"/>
                  </a:cubicBezTo>
                  <a:cubicBezTo>
                    <a:pt x="188" y="1040"/>
                    <a:pt x="177" y="1020"/>
                    <a:pt x="175" y="1000"/>
                  </a:cubicBezTo>
                  <a:cubicBezTo>
                    <a:pt x="174" y="991"/>
                    <a:pt x="177" y="982"/>
                    <a:pt x="181" y="972"/>
                  </a:cubicBezTo>
                  <a:cubicBezTo>
                    <a:pt x="186" y="963"/>
                    <a:pt x="192" y="954"/>
                    <a:pt x="199" y="945"/>
                  </a:cubicBezTo>
                  <a:cubicBezTo>
                    <a:pt x="213" y="928"/>
                    <a:pt x="230" y="912"/>
                    <a:pt x="246" y="896"/>
                  </a:cubicBezTo>
                  <a:cubicBezTo>
                    <a:pt x="263" y="880"/>
                    <a:pt x="281" y="865"/>
                    <a:pt x="297" y="847"/>
                  </a:cubicBezTo>
                  <a:cubicBezTo>
                    <a:pt x="304" y="837"/>
                    <a:pt x="312" y="828"/>
                    <a:pt x="318" y="816"/>
                  </a:cubicBezTo>
                  <a:cubicBezTo>
                    <a:pt x="320" y="811"/>
                    <a:pt x="322" y="806"/>
                    <a:pt x="323" y="800"/>
                  </a:cubicBezTo>
                  <a:cubicBezTo>
                    <a:pt x="323" y="799"/>
                    <a:pt x="322" y="797"/>
                    <a:pt x="322" y="795"/>
                  </a:cubicBezTo>
                  <a:cubicBezTo>
                    <a:pt x="321" y="790"/>
                    <a:pt x="322" y="785"/>
                    <a:pt x="323" y="779"/>
                  </a:cubicBezTo>
                  <a:cubicBezTo>
                    <a:pt x="323" y="778"/>
                    <a:pt x="322" y="777"/>
                    <a:pt x="322" y="776"/>
                  </a:cubicBezTo>
                  <a:cubicBezTo>
                    <a:pt x="320" y="766"/>
                    <a:pt x="316" y="756"/>
                    <a:pt x="311" y="748"/>
                  </a:cubicBezTo>
                  <a:cubicBezTo>
                    <a:pt x="307" y="740"/>
                    <a:pt x="303" y="732"/>
                    <a:pt x="298" y="726"/>
                  </a:cubicBezTo>
                  <a:cubicBezTo>
                    <a:pt x="284" y="705"/>
                    <a:pt x="267" y="689"/>
                    <a:pt x="250" y="673"/>
                  </a:cubicBezTo>
                  <a:cubicBezTo>
                    <a:pt x="233" y="656"/>
                    <a:pt x="216" y="641"/>
                    <a:pt x="202" y="624"/>
                  </a:cubicBezTo>
                  <a:cubicBezTo>
                    <a:pt x="188" y="607"/>
                    <a:pt x="177" y="588"/>
                    <a:pt x="175" y="568"/>
                  </a:cubicBezTo>
                  <a:cubicBezTo>
                    <a:pt x="174" y="558"/>
                    <a:pt x="177" y="549"/>
                    <a:pt x="181" y="540"/>
                  </a:cubicBezTo>
                  <a:cubicBezTo>
                    <a:pt x="186" y="530"/>
                    <a:pt x="192" y="521"/>
                    <a:pt x="199" y="513"/>
                  </a:cubicBezTo>
                  <a:cubicBezTo>
                    <a:pt x="213" y="495"/>
                    <a:pt x="230" y="480"/>
                    <a:pt x="246" y="464"/>
                  </a:cubicBezTo>
                  <a:cubicBezTo>
                    <a:pt x="263" y="448"/>
                    <a:pt x="281" y="432"/>
                    <a:pt x="297" y="414"/>
                  </a:cubicBezTo>
                  <a:cubicBezTo>
                    <a:pt x="304" y="405"/>
                    <a:pt x="312" y="395"/>
                    <a:pt x="318" y="383"/>
                  </a:cubicBezTo>
                  <a:cubicBezTo>
                    <a:pt x="320" y="378"/>
                    <a:pt x="322" y="373"/>
                    <a:pt x="323" y="367"/>
                  </a:cubicBezTo>
                  <a:cubicBezTo>
                    <a:pt x="323" y="366"/>
                    <a:pt x="322" y="364"/>
                    <a:pt x="322" y="363"/>
                  </a:cubicBezTo>
                  <a:cubicBezTo>
                    <a:pt x="321" y="357"/>
                    <a:pt x="322" y="352"/>
                    <a:pt x="323" y="347"/>
                  </a:cubicBezTo>
                  <a:cubicBezTo>
                    <a:pt x="323" y="346"/>
                    <a:pt x="322" y="345"/>
                    <a:pt x="322" y="344"/>
                  </a:cubicBezTo>
                  <a:cubicBezTo>
                    <a:pt x="320" y="333"/>
                    <a:pt x="316" y="324"/>
                    <a:pt x="311" y="315"/>
                  </a:cubicBezTo>
                  <a:cubicBezTo>
                    <a:pt x="307" y="307"/>
                    <a:pt x="303" y="300"/>
                    <a:pt x="298" y="293"/>
                  </a:cubicBezTo>
                  <a:cubicBezTo>
                    <a:pt x="284" y="273"/>
                    <a:pt x="267" y="256"/>
                    <a:pt x="250" y="240"/>
                  </a:cubicBezTo>
                  <a:cubicBezTo>
                    <a:pt x="233" y="224"/>
                    <a:pt x="216" y="208"/>
                    <a:pt x="202" y="191"/>
                  </a:cubicBezTo>
                  <a:cubicBezTo>
                    <a:pt x="188" y="174"/>
                    <a:pt x="177" y="155"/>
                    <a:pt x="175" y="135"/>
                  </a:cubicBezTo>
                  <a:cubicBezTo>
                    <a:pt x="174" y="126"/>
                    <a:pt x="177" y="116"/>
                    <a:pt x="181" y="107"/>
                  </a:cubicBezTo>
                  <a:cubicBezTo>
                    <a:pt x="186" y="97"/>
                    <a:pt x="192" y="88"/>
                    <a:pt x="199" y="80"/>
                  </a:cubicBezTo>
                  <a:cubicBezTo>
                    <a:pt x="213" y="63"/>
                    <a:pt x="230" y="47"/>
                    <a:pt x="246" y="31"/>
                  </a:cubicBezTo>
                  <a:cubicBezTo>
                    <a:pt x="257" y="21"/>
                    <a:pt x="268" y="10"/>
                    <a:pt x="279" y="0"/>
                  </a:cubicBezTo>
                  <a:cubicBezTo>
                    <a:pt x="264" y="0"/>
                    <a:pt x="264" y="0"/>
                    <a:pt x="264" y="0"/>
                  </a:cubicBezTo>
                  <a:cubicBezTo>
                    <a:pt x="255" y="7"/>
                    <a:pt x="247" y="15"/>
                    <a:pt x="239" y="23"/>
                  </a:cubicBezTo>
                  <a:cubicBezTo>
                    <a:pt x="222" y="39"/>
                    <a:pt x="205" y="54"/>
                    <a:pt x="190" y="72"/>
                  </a:cubicBezTo>
                  <a:cubicBezTo>
                    <a:pt x="182" y="81"/>
                    <a:pt x="176" y="91"/>
                    <a:pt x="170" y="102"/>
                  </a:cubicBezTo>
                  <a:cubicBezTo>
                    <a:pt x="166" y="110"/>
                    <a:pt x="163" y="120"/>
                    <a:pt x="163" y="130"/>
                  </a:cubicBezTo>
                  <a:cubicBezTo>
                    <a:pt x="163" y="125"/>
                    <a:pt x="162" y="121"/>
                    <a:pt x="161" y="116"/>
                  </a:cubicBezTo>
                  <a:cubicBezTo>
                    <a:pt x="160" y="109"/>
                    <a:pt x="157" y="103"/>
                    <a:pt x="154" y="97"/>
                  </a:cubicBezTo>
                  <a:cubicBezTo>
                    <a:pt x="149" y="86"/>
                    <a:pt x="141" y="76"/>
                    <a:pt x="134" y="66"/>
                  </a:cubicBezTo>
                  <a:cubicBezTo>
                    <a:pt x="118" y="48"/>
                    <a:pt x="101" y="32"/>
                    <a:pt x="84" y="16"/>
                  </a:cubicBezTo>
                  <a:cubicBezTo>
                    <a:pt x="78" y="11"/>
                    <a:pt x="72" y="5"/>
                    <a:pt x="66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8" y="8"/>
                    <a:pt x="67" y="16"/>
                    <a:pt x="76" y="24"/>
                  </a:cubicBezTo>
                  <a:cubicBezTo>
                    <a:pt x="93" y="40"/>
                    <a:pt x="110" y="56"/>
                    <a:pt x="125" y="74"/>
                  </a:cubicBezTo>
                  <a:close/>
                  <a:moveTo>
                    <a:pt x="193" y="1493"/>
                  </a:moveTo>
                  <a:cubicBezTo>
                    <a:pt x="200" y="1502"/>
                    <a:pt x="208" y="1510"/>
                    <a:pt x="216" y="1517"/>
                  </a:cubicBezTo>
                  <a:cubicBezTo>
                    <a:pt x="220" y="1522"/>
                    <a:pt x="225" y="1526"/>
                    <a:pt x="229" y="1531"/>
                  </a:cubicBezTo>
                  <a:cubicBezTo>
                    <a:pt x="245" y="1547"/>
                    <a:pt x="263" y="1563"/>
                    <a:pt x="278" y="1580"/>
                  </a:cubicBezTo>
                  <a:cubicBezTo>
                    <a:pt x="280" y="1582"/>
                    <a:pt x="282" y="1584"/>
                    <a:pt x="284" y="1586"/>
                  </a:cubicBezTo>
                  <a:cubicBezTo>
                    <a:pt x="286" y="1589"/>
                    <a:pt x="288" y="1591"/>
                    <a:pt x="290" y="1594"/>
                  </a:cubicBezTo>
                  <a:cubicBezTo>
                    <a:pt x="296" y="1603"/>
                    <a:pt x="302" y="1613"/>
                    <a:pt x="306" y="1624"/>
                  </a:cubicBezTo>
                  <a:cubicBezTo>
                    <a:pt x="309" y="1635"/>
                    <a:pt x="311" y="1647"/>
                    <a:pt x="310" y="1658"/>
                  </a:cubicBezTo>
                  <a:cubicBezTo>
                    <a:pt x="309" y="1666"/>
                    <a:pt x="307" y="1673"/>
                    <a:pt x="304" y="1680"/>
                  </a:cubicBezTo>
                  <a:cubicBezTo>
                    <a:pt x="300" y="1687"/>
                    <a:pt x="294" y="1694"/>
                    <a:pt x="289" y="1701"/>
                  </a:cubicBezTo>
                  <a:cubicBezTo>
                    <a:pt x="273" y="1718"/>
                    <a:pt x="256" y="1733"/>
                    <a:pt x="239" y="1749"/>
                  </a:cubicBezTo>
                  <a:cubicBezTo>
                    <a:pt x="222" y="1765"/>
                    <a:pt x="205" y="1781"/>
                    <a:pt x="190" y="1799"/>
                  </a:cubicBezTo>
                  <a:cubicBezTo>
                    <a:pt x="182" y="1808"/>
                    <a:pt x="176" y="1818"/>
                    <a:pt x="170" y="1828"/>
                  </a:cubicBezTo>
                  <a:cubicBezTo>
                    <a:pt x="166" y="1837"/>
                    <a:pt x="163" y="1847"/>
                    <a:pt x="163" y="1857"/>
                  </a:cubicBezTo>
                  <a:cubicBezTo>
                    <a:pt x="163" y="1852"/>
                    <a:pt x="162" y="1847"/>
                    <a:pt x="161" y="1843"/>
                  </a:cubicBezTo>
                  <a:cubicBezTo>
                    <a:pt x="160" y="1836"/>
                    <a:pt x="157" y="1830"/>
                    <a:pt x="154" y="1824"/>
                  </a:cubicBezTo>
                  <a:cubicBezTo>
                    <a:pt x="149" y="1812"/>
                    <a:pt x="141" y="1802"/>
                    <a:pt x="134" y="1793"/>
                  </a:cubicBezTo>
                  <a:cubicBezTo>
                    <a:pt x="118" y="1774"/>
                    <a:pt x="101" y="1758"/>
                    <a:pt x="84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7" y="1671"/>
                  </a:cubicBezTo>
                  <a:cubicBezTo>
                    <a:pt x="15" y="1667"/>
                    <a:pt x="15" y="1662"/>
                    <a:pt x="14" y="1658"/>
                  </a:cubicBezTo>
                  <a:cubicBezTo>
                    <a:pt x="13" y="1637"/>
                    <a:pt x="21" y="1616"/>
                    <a:pt x="34" y="1599"/>
                  </a:cubicBezTo>
                  <a:cubicBezTo>
                    <a:pt x="47" y="1581"/>
                    <a:pt x="63" y="1565"/>
                    <a:pt x="80" y="1549"/>
                  </a:cubicBezTo>
                  <a:cubicBezTo>
                    <a:pt x="97" y="1534"/>
                    <a:pt x="115" y="1518"/>
                    <a:pt x="130" y="1499"/>
                  </a:cubicBezTo>
                  <a:cubicBezTo>
                    <a:pt x="138" y="1490"/>
                    <a:pt x="146" y="1480"/>
                    <a:pt x="151" y="1469"/>
                  </a:cubicBezTo>
                  <a:cubicBezTo>
                    <a:pt x="157" y="1458"/>
                    <a:pt x="162" y="1445"/>
                    <a:pt x="163" y="1432"/>
                  </a:cubicBezTo>
                  <a:cubicBezTo>
                    <a:pt x="163" y="1430"/>
                    <a:pt x="163" y="1429"/>
                    <a:pt x="163" y="1427"/>
                  </a:cubicBezTo>
                  <a:cubicBezTo>
                    <a:pt x="163" y="1428"/>
                    <a:pt x="163" y="1430"/>
                    <a:pt x="163" y="1431"/>
                  </a:cubicBezTo>
                  <a:cubicBezTo>
                    <a:pt x="164" y="1443"/>
                    <a:pt x="168" y="1454"/>
                    <a:pt x="173" y="1464"/>
                  </a:cubicBezTo>
                  <a:cubicBezTo>
                    <a:pt x="179" y="1475"/>
                    <a:pt x="186" y="1484"/>
                    <a:pt x="193" y="1493"/>
                  </a:cubicBezTo>
                  <a:close/>
                  <a:moveTo>
                    <a:pt x="193" y="1064"/>
                  </a:moveTo>
                  <a:cubicBezTo>
                    <a:pt x="208" y="1082"/>
                    <a:pt x="226" y="1098"/>
                    <a:pt x="242" y="1113"/>
                  </a:cubicBezTo>
                  <a:cubicBezTo>
                    <a:pt x="259" y="1129"/>
                    <a:pt x="276" y="1146"/>
                    <a:pt x="290" y="1164"/>
                  </a:cubicBezTo>
                  <a:cubicBezTo>
                    <a:pt x="296" y="1174"/>
                    <a:pt x="302" y="1184"/>
                    <a:pt x="306" y="1195"/>
                  </a:cubicBezTo>
                  <a:cubicBezTo>
                    <a:pt x="309" y="1206"/>
                    <a:pt x="311" y="1218"/>
                    <a:pt x="310" y="1229"/>
                  </a:cubicBezTo>
                  <a:cubicBezTo>
                    <a:pt x="309" y="1234"/>
                    <a:pt x="308" y="1239"/>
                    <a:pt x="307" y="1244"/>
                  </a:cubicBezTo>
                  <a:cubicBezTo>
                    <a:pt x="302" y="1253"/>
                    <a:pt x="295" y="1261"/>
                    <a:pt x="289" y="1269"/>
                  </a:cubicBezTo>
                  <a:cubicBezTo>
                    <a:pt x="273" y="1286"/>
                    <a:pt x="256" y="1302"/>
                    <a:pt x="239" y="1318"/>
                  </a:cubicBezTo>
                  <a:cubicBezTo>
                    <a:pt x="222" y="1333"/>
                    <a:pt x="205" y="1349"/>
                    <a:pt x="190" y="1367"/>
                  </a:cubicBezTo>
                  <a:cubicBezTo>
                    <a:pt x="182" y="1376"/>
                    <a:pt x="176" y="1386"/>
                    <a:pt x="170" y="1396"/>
                  </a:cubicBezTo>
                  <a:cubicBezTo>
                    <a:pt x="166" y="1405"/>
                    <a:pt x="163" y="1415"/>
                    <a:pt x="163" y="1425"/>
                  </a:cubicBezTo>
                  <a:cubicBezTo>
                    <a:pt x="163" y="1420"/>
                    <a:pt x="162" y="1415"/>
                    <a:pt x="161" y="1411"/>
                  </a:cubicBezTo>
                  <a:cubicBezTo>
                    <a:pt x="160" y="1404"/>
                    <a:pt x="157" y="1398"/>
                    <a:pt x="154" y="1392"/>
                  </a:cubicBezTo>
                  <a:cubicBezTo>
                    <a:pt x="149" y="1381"/>
                    <a:pt x="141" y="1371"/>
                    <a:pt x="134" y="1361"/>
                  </a:cubicBezTo>
                  <a:cubicBezTo>
                    <a:pt x="118" y="1343"/>
                    <a:pt x="101" y="1327"/>
                    <a:pt x="84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7" y="1255"/>
                    <a:pt x="20" y="1247"/>
                    <a:pt x="16" y="1238"/>
                  </a:cubicBezTo>
                  <a:cubicBezTo>
                    <a:pt x="15" y="1235"/>
                    <a:pt x="15" y="1232"/>
                    <a:pt x="14" y="1228"/>
                  </a:cubicBezTo>
                  <a:cubicBezTo>
                    <a:pt x="13" y="1207"/>
                    <a:pt x="21" y="1187"/>
                    <a:pt x="34" y="1169"/>
                  </a:cubicBezTo>
                  <a:cubicBezTo>
                    <a:pt x="47" y="1152"/>
                    <a:pt x="63" y="1136"/>
                    <a:pt x="80" y="1120"/>
                  </a:cubicBezTo>
                  <a:cubicBezTo>
                    <a:pt x="97" y="1104"/>
                    <a:pt x="115" y="1089"/>
                    <a:pt x="130" y="1070"/>
                  </a:cubicBezTo>
                  <a:cubicBezTo>
                    <a:pt x="138" y="1061"/>
                    <a:pt x="146" y="1051"/>
                    <a:pt x="151" y="1039"/>
                  </a:cubicBezTo>
                  <a:cubicBezTo>
                    <a:pt x="157" y="1028"/>
                    <a:pt x="162" y="1016"/>
                    <a:pt x="163" y="1002"/>
                  </a:cubicBezTo>
                  <a:cubicBezTo>
                    <a:pt x="163" y="1001"/>
                    <a:pt x="163" y="999"/>
                    <a:pt x="163" y="998"/>
                  </a:cubicBezTo>
                  <a:cubicBezTo>
                    <a:pt x="163" y="999"/>
                    <a:pt x="163" y="1000"/>
                    <a:pt x="163" y="1001"/>
                  </a:cubicBezTo>
                  <a:cubicBezTo>
                    <a:pt x="164" y="1013"/>
                    <a:pt x="168" y="1025"/>
                    <a:pt x="173" y="1035"/>
                  </a:cubicBezTo>
                  <a:cubicBezTo>
                    <a:pt x="179" y="1046"/>
                    <a:pt x="186" y="1055"/>
                    <a:pt x="193" y="1064"/>
                  </a:cubicBezTo>
                  <a:close/>
                  <a:moveTo>
                    <a:pt x="193" y="631"/>
                  </a:moveTo>
                  <a:cubicBezTo>
                    <a:pt x="196" y="635"/>
                    <a:pt x="199" y="638"/>
                    <a:pt x="203" y="642"/>
                  </a:cubicBezTo>
                  <a:cubicBezTo>
                    <a:pt x="211" y="652"/>
                    <a:pt x="220" y="661"/>
                    <a:pt x="229" y="670"/>
                  </a:cubicBezTo>
                  <a:cubicBezTo>
                    <a:pt x="245" y="686"/>
                    <a:pt x="263" y="702"/>
                    <a:pt x="278" y="719"/>
                  </a:cubicBezTo>
                  <a:cubicBezTo>
                    <a:pt x="283" y="724"/>
                    <a:pt x="288" y="730"/>
                    <a:pt x="292" y="735"/>
                  </a:cubicBezTo>
                  <a:cubicBezTo>
                    <a:pt x="298" y="744"/>
                    <a:pt x="302" y="753"/>
                    <a:pt x="306" y="762"/>
                  </a:cubicBezTo>
                  <a:cubicBezTo>
                    <a:pt x="309" y="773"/>
                    <a:pt x="311" y="785"/>
                    <a:pt x="310" y="796"/>
                  </a:cubicBezTo>
                  <a:cubicBezTo>
                    <a:pt x="309" y="805"/>
                    <a:pt x="307" y="813"/>
                    <a:pt x="303" y="821"/>
                  </a:cubicBezTo>
                  <a:cubicBezTo>
                    <a:pt x="299" y="827"/>
                    <a:pt x="294" y="834"/>
                    <a:pt x="289" y="840"/>
                  </a:cubicBezTo>
                  <a:cubicBezTo>
                    <a:pt x="273" y="857"/>
                    <a:pt x="256" y="872"/>
                    <a:pt x="239" y="888"/>
                  </a:cubicBezTo>
                  <a:cubicBezTo>
                    <a:pt x="222" y="904"/>
                    <a:pt x="205" y="920"/>
                    <a:pt x="190" y="938"/>
                  </a:cubicBezTo>
                  <a:cubicBezTo>
                    <a:pt x="182" y="947"/>
                    <a:pt x="176" y="957"/>
                    <a:pt x="170" y="967"/>
                  </a:cubicBezTo>
                  <a:cubicBezTo>
                    <a:pt x="166" y="976"/>
                    <a:pt x="163" y="986"/>
                    <a:pt x="163" y="996"/>
                  </a:cubicBezTo>
                  <a:cubicBezTo>
                    <a:pt x="163" y="991"/>
                    <a:pt x="162" y="986"/>
                    <a:pt x="161" y="982"/>
                  </a:cubicBezTo>
                  <a:cubicBezTo>
                    <a:pt x="160" y="975"/>
                    <a:pt x="157" y="969"/>
                    <a:pt x="154" y="963"/>
                  </a:cubicBezTo>
                  <a:cubicBezTo>
                    <a:pt x="149" y="951"/>
                    <a:pt x="141" y="941"/>
                    <a:pt x="134" y="932"/>
                  </a:cubicBezTo>
                  <a:cubicBezTo>
                    <a:pt x="118" y="913"/>
                    <a:pt x="101" y="897"/>
                    <a:pt x="84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8" y="827"/>
                    <a:pt x="22" y="819"/>
                    <a:pt x="17" y="811"/>
                  </a:cubicBezTo>
                  <a:cubicBezTo>
                    <a:pt x="16" y="806"/>
                    <a:pt x="15" y="801"/>
                    <a:pt x="14" y="795"/>
                  </a:cubicBezTo>
                  <a:cubicBezTo>
                    <a:pt x="13" y="774"/>
                    <a:pt x="21" y="754"/>
                    <a:pt x="34" y="737"/>
                  </a:cubicBezTo>
                  <a:cubicBezTo>
                    <a:pt x="47" y="719"/>
                    <a:pt x="63" y="703"/>
                    <a:pt x="80" y="687"/>
                  </a:cubicBezTo>
                  <a:cubicBezTo>
                    <a:pt x="97" y="671"/>
                    <a:pt x="115" y="656"/>
                    <a:pt x="130" y="637"/>
                  </a:cubicBezTo>
                  <a:cubicBezTo>
                    <a:pt x="138" y="628"/>
                    <a:pt x="146" y="618"/>
                    <a:pt x="151" y="607"/>
                  </a:cubicBezTo>
                  <a:cubicBezTo>
                    <a:pt x="157" y="595"/>
                    <a:pt x="162" y="583"/>
                    <a:pt x="163" y="570"/>
                  </a:cubicBezTo>
                  <a:cubicBezTo>
                    <a:pt x="163" y="568"/>
                    <a:pt x="163" y="567"/>
                    <a:pt x="163" y="565"/>
                  </a:cubicBezTo>
                  <a:cubicBezTo>
                    <a:pt x="163" y="566"/>
                    <a:pt x="163" y="568"/>
                    <a:pt x="163" y="569"/>
                  </a:cubicBezTo>
                  <a:cubicBezTo>
                    <a:pt x="164" y="580"/>
                    <a:pt x="168" y="592"/>
                    <a:pt x="173" y="602"/>
                  </a:cubicBezTo>
                  <a:cubicBezTo>
                    <a:pt x="179" y="613"/>
                    <a:pt x="186" y="622"/>
                    <a:pt x="193" y="631"/>
                  </a:cubicBezTo>
                  <a:close/>
                  <a:moveTo>
                    <a:pt x="163" y="137"/>
                  </a:moveTo>
                  <a:cubicBezTo>
                    <a:pt x="163" y="135"/>
                    <a:pt x="163" y="134"/>
                    <a:pt x="163" y="132"/>
                  </a:cubicBezTo>
                  <a:cubicBezTo>
                    <a:pt x="163" y="134"/>
                    <a:pt x="163" y="135"/>
                    <a:pt x="163" y="136"/>
                  </a:cubicBezTo>
                  <a:cubicBezTo>
                    <a:pt x="164" y="148"/>
                    <a:pt x="168" y="159"/>
                    <a:pt x="173" y="170"/>
                  </a:cubicBezTo>
                  <a:cubicBezTo>
                    <a:pt x="179" y="180"/>
                    <a:pt x="186" y="190"/>
                    <a:pt x="193" y="198"/>
                  </a:cubicBezTo>
                  <a:cubicBezTo>
                    <a:pt x="196" y="202"/>
                    <a:pt x="199" y="206"/>
                    <a:pt x="203" y="209"/>
                  </a:cubicBezTo>
                  <a:cubicBezTo>
                    <a:pt x="211" y="219"/>
                    <a:pt x="220" y="228"/>
                    <a:pt x="229" y="237"/>
                  </a:cubicBezTo>
                  <a:cubicBezTo>
                    <a:pt x="245" y="254"/>
                    <a:pt x="263" y="269"/>
                    <a:pt x="278" y="286"/>
                  </a:cubicBezTo>
                  <a:cubicBezTo>
                    <a:pt x="283" y="291"/>
                    <a:pt x="288" y="297"/>
                    <a:pt x="292" y="302"/>
                  </a:cubicBezTo>
                  <a:cubicBezTo>
                    <a:pt x="298" y="311"/>
                    <a:pt x="302" y="320"/>
                    <a:pt x="306" y="329"/>
                  </a:cubicBezTo>
                  <a:cubicBezTo>
                    <a:pt x="309" y="340"/>
                    <a:pt x="311" y="352"/>
                    <a:pt x="310" y="363"/>
                  </a:cubicBezTo>
                  <a:cubicBezTo>
                    <a:pt x="309" y="372"/>
                    <a:pt x="307" y="380"/>
                    <a:pt x="303" y="388"/>
                  </a:cubicBezTo>
                  <a:cubicBezTo>
                    <a:pt x="299" y="395"/>
                    <a:pt x="294" y="401"/>
                    <a:pt x="289" y="407"/>
                  </a:cubicBezTo>
                  <a:cubicBezTo>
                    <a:pt x="273" y="424"/>
                    <a:pt x="256" y="440"/>
                    <a:pt x="239" y="455"/>
                  </a:cubicBezTo>
                  <a:cubicBezTo>
                    <a:pt x="222" y="471"/>
                    <a:pt x="205" y="487"/>
                    <a:pt x="190" y="505"/>
                  </a:cubicBezTo>
                  <a:cubicBezTo>
                    <a:pt x="182" y="514"/>
                    <a:pt x="176" y="524"/>
                    <a:pt x="170" y="534"/>
                  </a:cubicBezTo>
                  <a:cubicBezTo>
                    <a:pt x="166" y="543"/>
                    <a:pt x="163" y="553"/>
                    <a:pt x="163" y="563"/>
                  </a:cubicBezTo>
                  <a:cubicBezTo>
                    <a:pt x="163" y="558"/>
                    <a:pt x="162" y="553"/>
                    <a:pt x="161" y="549"/>
                  </a:cubicBezTo>
                  <a:cubicBezTo>
                    <a:pt x="160" y="542"/>
                    <a:pt x="157" y="536"/>
                    <a:pt x="154" y="530"/>
                  </a:cubicBezTo>
                  <a:cubicBezTo>
                    <a:pt x="149" y="519"/>
                    <a:pt x="141" y="509"/>
                    <a:pt x="134" y="499"/>
                  </a:cubicBezTo>
                  <a:cubicBezTo>
                    <a:pt x="118" y="481"/>
                    <a:pt x="101" y="465"/>
                    <a:pt x="84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8" y="394"/>
                    <a:pt x="22" y="386"/>
                    <a:pt x="17" y="379"/>
                  </a:cubicBezTo>
                  <a:cubicBezTo>
                    <a:pt x="16" y="373"/>
                    <a:pt x="15" y="368"/>
                    <a:pt x="14" y="363"/>
                  </a:cubicBezTo>
                  <a:cubicBezTo>
                    <a:pt x="13" y="342"/>
                    <a:pt x="21" y="322"/>
                    <a:pt x="34" y="304"/>
                  </a:cubicBezTo>
                  <a:cubicBezTo>
                    <a:pt x="47" y="286"/>
                    <a:pt x="63" y="270"/>
                    <a:pt x="80" y="254"/>
                  </a:cubicBezTo>
                  <a:cubicBezTo>
                    <a:pt x="97" y="239"/>
                    <a:pt x="115" y="223"/>
                    <a:pt x="130" y="204"/>
                  </a:cubicBezTo>
                  <a:cubicBezTo>
                    <a:pt x="138" y="195"/>
                    <a:pt x="146" y="185"/>
                    <a:pt x="151" y="174"/>
                  </a:cubicBezTo>
                  <a:cubicBezTo>
                    <a:pt x="157" y="163"/>
                    <a:pt x="162" y="150"/>
                    <a:pt x="163" y="137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16" name="Freeform 10"/>
            <p:cNvSpPr/>
            <p:nvPr/>
          </p:nvSpPr>
          <p:spPr>
            <a:xfrm>
              <a:off x="6593040" y="-1440"/>
              <a:ext cx="514080" cy="686232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2" h="2159">
                  <a:moveTo>
                    <a:pt x="124" y="74"/>
                  </a:moveTo>
                  <a:cubicBezTo>
                    <a:pt x="132" y="83"/>
                    <a:pt x="139" y="92"/>
                    <a:pt x="144" y="103"/>
                  </a:cubicBezTo>
                  <a:cubicBezTo>
                    <a:pt x="148" y="111"/>
                    <a:pt x="151" y="121"/>
                    <a:pt x="151" y="131"/>
                  </a:cubicBezTo>
                  <a:cubicBezTo>
                    <a:pt x="150" y="131"/>
                    <a:pt x="150" y="131"/>
                    <a:pt x="150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2" y="197"/>
                    <a:pt x="121" y="197"/>
                  </a:cubicBezTo>
                  <a:cubicBezTo>
                    <a:pt x="106" y="215"/>
                    <a:pt x="89" y="230"/>
                    <a:pt x="72" y="246"/>
                  </a:cubicBezTo>
                  <a:cubicBezTo>
                    <a:pt x="55" y="262"/>
                    <a:pt x="38" y="279"/>
                    <a:pt x="25" y="298"/>
                  </a:cubicBezTo>
                  <a:cubicBezTo>
                    <a:pt x="23" y="300"/>
                    <a:pt x="22" y="302"/>
                    <a:pt x="20" y="305"/>
                  </a:cubicBezTo>
                  <a:cubicBezTo>
                    <a:pt x="18" y="307"/>
                    <a:pt x="17" y="310"/>
                    <a:pt x="15" y="313"/>
                  </a:cubicBezTo>
                  <a:cubicBezTo>
                    <a:pt x="9" y="322"/>
                    <a:pt x="4" y="333"/>
                    <a:pt x="2" y="345"/>
                  </a:cubicBezTo>
                  <a:cubicBezTo>
                    <a:pt x="1" y="351"/>
                    <a:pt x="0" y="357"/>
                    <a:pt x="1" y="363"/>
                  </a:cubicBezTo>
                  <a:cubicBezTo>
                    <a:pt x="1" y="369"/>
                    <a:pt x="3" y="374"/>
                    <a:pt x="6" y="379"/>
                  </a:cubicBezTo>
                  <a:cubicBezTo>
                    <a:pt x="8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2" y="404"/>
                    <a:pt x="26" y="408"/>
                  </a:cubicBezTo>
                  <a:cubicBezTo>
                    <a:pt x="41" y="426"/>
                    <a:pt x="59" y="441"/>
                    <a:pt x="76" y="457"/>
                  </a:cubicBezTo>
                  <a:cubicBezTo>
                    <a:pt x="93" y="473"/>
                    <a:pt x="110" y="489"/>
                    <a:pt x="124" y="507"/>
                  </a:cubicBezTo>
                  <a:cubicBezTo>
                    <a:pt x="132" y="516"/>
                    <a:pt x="139" y="525"/>
                    <a:pt x="144" y="535"/>
                  </a:cubicBezTo>
                  <a:cubicBezTo>
                    <a:pt x="148" y="544"/>
                    <a:pt x="151" y="554"/>
                    <a:pt x="151" y="564"/>
                  </a:cubicBezTo>
                  <a:cubicBezTo>
                    <a:pt x="150" y="564"/>
                    <a:pt x="150" y="564"/>
                    <a:pt x="150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4"/>
                    <a:pt x="122" y="629"/>
                  </a:cubicBezTo>
                  <a:cubicBezTo>
                    <a:pt x="122" y="629"/>
                    <a:pt x="122" y="629"/>
                    <a:pt x="121" y="630"/>
                  </a:cubicBezTo>
                  <a:cubicBezTo>
                    <a:pt x="106" y="648"/>
                    <a:pt x="89" y="663"/>
                    <a:pt x="72" y="679"/>
                  </a:cubicBezTo>
                  <a:cubicBezTo>
                    <a:pt x="55" y="695"/>
                    <a:pt x="38" y="711"/>
                    <a:pt x="25" y="730"/>
                  </a:cubicBezTo>
                  <a:cubicBezTo>
                    <a:pt x="23" y="733"/>
                    <a:pt x="22" y="735"/>
                    <a:pt x="20" y="737"/>
                  </a:cubicBezTo>
                  <a:cubicBezTo>
                    <a:pt x="18" y="740"/>
                    <a:pt x="17" y="743"/>
                    <a:pt x="15" y="745"/>
                  </a:cubicBezTo>
                  <a:cubicBezTo>
                    <a:pt x="9" y="755"/>
                    <a:pt x="4" y="766"/>
                    <a:pt x="2" y="778"/>
                  </a:cubicBezTo>
                  <a:cubicBezTo>
                    <a:pt x="1" y="784"/>
                    <a:pt x="0" y="789"/>
                    <a:pt x="1" y="795"/>
                  </a:cubicBezTo>
                  <a:cubicBezTo>
                    <a:pt x="1" y="801"/>
                    <a:pt x="3" y="807"/>
                    <a:pt x="6" y="812"/>
                  </a:cubicBezTo>
                  <a:cubicBezTo>
                    <a:pt x="8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2" y="837"/>
                    <a:pt x="26" y="841"/>
                  </a:cubicBezTo>
                  <a:cubicBezTo>
                    <a:pt x="41" y="858"/>
                    <a:pt x="59" y="874"/>
                    <a:pt x="76" y="890"/>
                  </a:cubicBezTo>
                  <a:cubicBezTo>
                    <a:pt x="93" y="906"/>
                    <a:pt x="110" y="922"/>
                    <a:pt x="124" y="939"/>
                  </a:cubicBezTo>
                  <a:cubicBezTo>
                    <a:pt x="132" y="948"/>
                    <a:pt x="139" y="958"/>
                    <a:pt x="144" y="968"/>
                  </a:cubicBezTo>
                  <a:cubicBezTo>
                    <a:pt x="147" y="976"/>
                    <a:pt x="150" y="984"/>
                    <a:pt x="151" y="993"/>
                  </a:cubicBezTo>
                  <a:cubicBezTo>
                    <a:pt x="150" y="993"/>
                    <a:pt x="150" y="993"/>
                    <a:pt x="150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9" y="1065"/>
                    <a:pt x="103" y="1082"/>
                    <a:pt x="86" y="1098"/>
                  </a:cubicBezTo>
                  <a:cubicBezTo>
                    <a:pt x="70" y="1114"/>
                    <a:pt x="52" y="1130"/>
                    <a:pt x="36" y="1147"/>
                  </a:cubicBezTo>
                  <a:cubicBezTo>
                    <a:pt x="29" y="1156"/>
                    <a:pt x="21" y="1165"/>
                    <a:pt x="15" y="1175"/>
                  </a:cubicBezTo>
                  <a:cubicBezTo>
                    <a:pt x="9" y="1185"/>
                    <a:pt x="4" y="1195"/>
                    <a:pt x="2" y="1207"/>
                  </a:cubicBezTo>
                  <a:cubicBezTo>
                    <a:pt x="1" y="1213"/>
                    <a:pt x="0" y="1219"/>
                    <a:pt x="1" y="1225"/>
                  </a:cubicBezTo>
                  <a:cubicBezTo>
                    <a:pt x="1" y="1231"/>
                    <a:pt x="3" y="1236"/>
                    <a:pt x="6" y="1242"/>
                  </a:cubicBezTo>
                  <a:cubicBezTo>
                    <a:pt x="7" y="1243"/>
                    <a:pt x="7" y="1244"/>
                    <a:pt x="8" y="1245"/>
                  </a:cubicBezTo>
                  <a:cubicBezTo>
                    <a:pt x="10" y="1251"/>
                    <a:pt x="12" y="1256"/>
                    <a:pt x="15" y="1261"/>
                  </a:cubicBezTo>
                  <a:cubicBezTo>
                    <a:pt x="19" y="1261"/>
                    <a:pt x="19" y="1261"/>
                    <a:pt x="19" y="1261"/>
                  </a:cubicBezTo>
                  <a:cubicBezTo>
                    <a:pt x="21" y="1264"/>
                    <a:pt x="23" y="1267"/>
                    <a:pt x="26" y="1270"/>
                  </a:cubicBezTo>
                  <a:cubicBezTo>
                    <a:pt x="41" y="1288"/>
                    <a:pt x="59" y="1303"/>
                    <a:pt x="76" y="1319"/>
                  </a:cubicBezTo>
                  <a:cubicBezTo>
                    <a:pt x="93" y="1335"/>
                    <a:pt x="110" y="1351"/>
                    <a:pt x="124" y="1369"/>
                  </a:cubicBezTo>
                  <a:cubicBezTo>
                    <a:pt x="132" y="1378"/>
                    <a:pt x="139" y="1387"/>
                    <a:pt x="144" y="1398"/>
                  </a:cubicBezTo>
                  <a:cubicBezTo>
                    <a:pt x="148" y="1406"/>
                    <a:pt x="150" y="1415"/>
                    <a:pt x="151" y="1425"/>
                  </a:cubicBezTo>
                  <a:cubicBezTo>
                    <a:pt x="150" y="1425"/>
                    <a:pt x="150" y="1425"/>
                    <a:pt x="150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6" y="1485"/>
                    <a:pt x="120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3" y="1595"/>
                    <a:pt x="19" y="1600"/>
                    <a:pt x="15" y="1606"/>
                  </a:cubicBezTo>
                  <a:cubicBezTo>
                    <a:pt x="9" y="1616"/>
                    <a:pt x="4" y="1627"/>
                    <a:pt x="2" y="1639"/>
                  </a:cubicBezTo>
                  <a:cubicBezTo>
                    <a:pt x="1" y="1644"/>
                    <a:pt x="0" y="1650"/>
                    <a:pt x="1" y="1656"/>
                  </a:cubicBezTo>
                  <a:cubicBezTo>
                    <a:pt x="1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1" y="1681"/>
                  </a:cubicBezTo>
                  <a:cubicBezTo>
                    <a:pt x="12" y="1685"/>
                    <a:pt x="13" y="1688"/>
                    <a:pt x="15" y="1691"/>
                  </a:cubicBezTo>
                  <a:cubicBezTo>
                    <a:pt x="17" y="1691"/>
                    <a:pt x="17" y="1691"/>
                    <a:pt x="17" y="1691"/>
                  </a:cubicBezTo>
                  <a:cubicBezTo>
                    <a:pt x="20" y="1694"/>
                    <a:pt x="23" y="1698"/>
                    <a:pt x="26" y="1702"/>
                  </a:cubicBezTo>
                  <a:cubicBezTo>
                    <a:pt x="41" y="1719"/>
                    <a:pt x="59" y="1735"/>
                    <a:pt x="76" y="1751"/>
                  </a:cubicBezTo>
                  <a:cubicBezTo>
                    <a:pt x="93" y="1767"/>
                    <a:pt x="110" y="1783"/>
                    <a:pt x="124" y="1800"/>
                  </a:cubicBezTo>
                  <a:cubicBezTo>
                    <a:pt x="132" y="1809"/>
                    <a:pt x="139" y="1819"/>
                    <a:pt x="144" y="1829"/>
                  </a:cubicBezTo>
                  <a:cubicBezTo>
                    <a:pt x="147" y="1837"/>
                    <a:pt x="150" y="1846"/>
                    <a:pt x="151" y="1855"/>
                  </a:cubicBezTo>
                  <a:cubicBezTo>
                    <a:pt x="150" y="1855"/>
                    <a:pt x="150" y="1855"/>
                    <a:pt x="150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7" y="1959"/>
                    <a:pt x="80" y="1966"/>
                    <a:pt x="72" y="1973"/>
                  </a:cubicBezTo>
                  <a:cubicBezTo>
                    <a:pt x="61" y="1984"/>
                    <a:pt x="49" y="1995"/>
                    <a:pt x="39" y="2007"/>
                  </a:cubicBezTo>
                  <a:cubicBezTo>
                    <a:pt x="38" y="2008"/>
                    <a:pt x="37" y="2008"/>
                    <a:pt x="36" y="2009"/>
                  </a:cubicBezTo>
                  <a:cubicBezTo>
                    <a:pt x="29" y="2018"/>
                    <a:pt x="21" y="2027"/>
                    <a:pt x="15" y="2037"/>
                  </a:cubicBezTo>
                  <a:cubicBezTo>
                    <a:pt x="9" y="2047"/>
                    <a:pt x="4" y="2057"/>
                    <a:pt x="2" y="2069"/>
                  </a:cubicBezTo>
                  <a:cubicBezTo>
                    <a:pt x="1" y="2075"/>
                    <a:pt x="0" y="2081"/>
                    <a:pt x="1" y="2087"/>
                  </a:cubicBezTo>
                  <a:cubicBezTo>
                    <a:pt x="1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1" y="2114"/>
                    <a:pt x="13" y="2118"/>
                    <a:pt x="15" y="2122"/>
                  </a:cubicBezTo>
                  <a:cubicBezTo>
                    <a:pt x="18" y="2122"/>
                    <a:pt x="18" y="2122"/>
                    <a:pt x="18" y="2122"/>
                  </a:cubicBezTo>
                  <a:cubicBezTo>
                    <a:pt x="20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4" y="2137"/>
                    <a:pt x="34" y="2125"/>
                  </a:cubicBezTo>
                  <a:cubicBezTo>
                    <a:pt x="27" y="2117"/>
                    <a:pt x="21" y="2109"/>
                    <a:pt x="16" y="2101"/>
                  </a:cubicBezTo>
                  <a:cubicBezTo>
                    <a:pt x="15" y="2097"/>
                    <a:pt x="14" y="2093"/>
                    <a:pt x="14" y="2089"/>
                  </a:cubicBezTo>
                  <a:cubicBezTo>
                    <a:pt x="12" y="2068"/>
                    <a:pt x="21" y="2048"/>
                    <a:pt x="34" y="2030"/>
                  </a:cubicBezTo>
                  <a:cubicBezTo>
                    <a:pt x="46" y="2012"/>
                    <a:pt x="63" y="1997"/>
                    <a:pt x="80" y="1981"/>
                  </a:cubicBezTo>
                  <a:cubicBezTo>
                    <a:pt x="97" y="1965"/>
                    <a:pt x="114" y="1949"/>
                    <a:pt x="130" y="1931"/>
                  </a:cubicBezTo>
                  <a:cubicBezTo>
                    <a:pt x="138" y="1922"/>
                    <a:pt x="145" y="1912"/>
                    <a:pt x="151" y="1900"/>
                  </a:cubicBezTo>
                  <a:cubicBezTo>
                    <a:pt x="156" y="1891"/>
                    <a:pt x="160" y="1881"/>
                    <a:pt x="162" y="1870"/>
                  </a:cubicBezTo>
                  <a:cubicBezTo>
                    <a:pt x="161" y="1867"/>
                    <a:pt x="161" y="1865"/>
                    <a:pt x="161" y="1862"/>
                  </a:cubicBezTo>
                  <a:cubicBezTo>
                    <a:pt x="160" y="1857"/>
                    <a:pt x="161" y="1852"/>
                    <a:pt x="162" y="1846"/>
                  </a:cubicBezTo>
                  <a:cubicBezTo>
                    <a:pt x="162" y="1845"/>
                    <a:pt x="161" y="1844"/>
                    <a:pt x="161" y="1843"/>
                  </a:cubicBezTo>
                  <a:cubicBezTo>
                    <a:pt x="160" y="1836"/>
                    <a:pt x="157" y="1830"/>
                    <a:pt x="154" y="1824"/>
                  </a:cubicBezTo>
                  <a:cubicBezTo>
                    <a:pt x="149" y="1812"/>
                    <a:pt x="141" y="1802"/>
                    <a:pt x="133" y="1793"/>
                  </a:cubicBezTo>
                  <a:cubicBezTo>
                    <a:pt x="118" y="1774"/>
                    <a:pt x="100" y="1758"/>
                    <a:pt x="83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7" y="1671"/>
                  </a:cubicBezTo>
                  <a:cubicBezTo>
                    <a:pt x="15" y="1667"/>
                    <a:pt x="14" y="1662"/>
                    <a:pt x="14" y="1658"/>
                  </a:cubicBezTo>
                  <a:cubicBezTo>
                    <a:pt x="12" y="1637"/>
                    <a:pt x="21" y="1616"/>
                    <a:pt x="34" y="1599"/>
                  </a:cubicBezTo>
                  <a:cubicBezTo>
                    <a:pt x="46" y="1581"/>
                    <a:pt x="63" y="1565"/>
                    <a:pt x="80" y="1549"/>
                  </a:cubicBezTo>
                  <a:cubicBezTo>
                    <a:pt x="97" y="1534"/>
                    <a:pt x="114" y="1518"/>
                    <a:pt x="130" y="1499"/>
                  </a:cubicBezTo>
                  <a:cubicBezTo>
                    <a:pt x="138" y="1490"/>
                    <a:pt x="145" y="1480"/>
                    <a:pt x="151" y="1469"/>
                  </a:cubicBezTo>
                  <a:cubicBezTo>
                    <a:pt x="156" y="1459"/>
                    <a:pt x="160" y="1449"/>
                    <a:pt x="162" y="1438"/>
                  </a:cubicBezTo>
                  <a:cubicBezTo>
                    <a:pt x="161" y="1436"/>
                    <a:pt x="161" y="1433"/>
                    <a:pt x="161" y="1431"/>
                  </a:cubicBezTo>
                  <a:cubicBezTo>
                    <a:pt x="160" y="1425"/>
                    <a:pt x="161" y="1420"/>
                    <a:pt x="162" y="1415"/>
                  </a:cubicBezTo>
                  <a:cubicBezTo>
                    <a:pt x="162" y="1413"/>
                    <a:pt x="161" y="1412"/>
                    <a:pt x="161" y="1411"/>
                  </a:cubicBezTo>
                  <a:cubicBezTo>
                    <a:pt x="160" y="1404"/>
                    <a:pt x="157" y="1398"/>
                    <a:pt x="154" y="1392"/>
                  </a:cubicBezTo>
                  <a:cubicBezTo>
                    <a:pt x="149" y="1381"/>
                    <a:pt x="141" y="1371"/>
                    <a:pt x="133" y="1361"/>
                  </a:cubicBezTo>
                  <a:cubicBezTo>
                    <a:pt x="118" y="1343"/>
                    <a:pt x="100" y="1327"/>
                    <a:pt x="83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7" y="1255"/>
                    <a:pt x="20" y="1247"/>
                    <a:pt x="16" y="1238"/>
                  </a:cubicBezTo>
                  <a:cubicBezTo>
                    <a:pt x="15" y="1235"/>
                    <a:pt x="14" y="1232"/>
                    <a:pt x="14" y="1228"/>
                  </a:cubicBezTo>
                  <a:cubicBezTo>
                    <a:pt x="12" y="1207"/>
                    <a:pt x="21" y="1187"/>
                    <a:pt x="34" y="1169"/>
                  </a:cubicBezTo>
                  <a:cubicBezTo>
                    <a:pt x="46" y="1152"/>
                    <a:pt x="63" y="1136"/>
                    <a:pt x="80" y="1120"/>
                  </a:cubicBezTo>
                  <a:cubicBezTo>
                    <a:pt x="97" y="1104"/>
                    <a:pt x="114" y="1089"/>
                    <a:pt x="130" y="1070"/>
                  </a:cubicBezTo>
                  <a:cubicBezTo>
                    <a:pt x="138" y="1061"/>
                    <a:pt x="145" y="1051"/>
                    <a:pt x="151" y="1039"/>
                  </a:cubicBezTo>
                  <a:cubicBezTo>
                    <a:pt x="156" y="1030"/>
                    <a:pt x="160" y="1020"/>
                    <a:pt x="162" y="1009"/>
                  </a:cubicBezTo>
                  <a:cubicBezTo>
                    <a:pt x="161" y="1006"/>
                    <a:pt x="161" y="1004"/>
                    <a:pt x="161" y="1001"/>
                  </a:cubicBezTo>
                  <a:cubicBezTo>
                    <a:pt x="160" y="996"/>
                    <a:pt x="161" y="991"/>
                    <a:pt x="162" y="985"/>
                  </a:cubicBezTo>
                  <a:cubicBezTo>
                    <a:pt x="162" y="984"/>
                    <a:pt x="161" y="983"/>
                    <a:pt x="161" y="982"/>
                  </a:cubicBezTo>
                  <a:cubicBezTo>
                    <a:pt x="160" y="975"/>
                    <a:pt x="157" y="969"/>
                    <a:pt x="154" y="963"/>
                  </a:cubicBezTo>
                  <a:cubicBezTo>
                    <a:pt x="149" y="951"/>
                    <a:pt x="141" y="941"/>
                    <a:pt x="133" y="932"/>
                  </a:cubicBezTo>
                  <a:cubicBezTo>
                    <a:pt x="118" y="913"/>
                    <a:pt x="100" y="897"/>
                    <a:pt x="83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8" y="827"/>
                    <a:pt x="22" y="819"/>
                    <a:pt x="17" y="811"/>
                  </a:cubicBezTo>
                  <a:cubicBezTo>
                    <a:pt x="16" y="806"/>
                    <a:pt x="14" y="801"/>
                    <a:pt x="14" y="795"/>
                  </a:cubicBezTo>
                  <a:cubicBezTo>
                    <a:pt x="12" y="774"/>
                    <a:pt x="21" y="754"/>
                    <a:pt x="34" y="737"/>
                  </a:cubicBezTo>
                  <a:cubicBezTo>
                    <a:pt x="46" y="719"/>
                    <a:pt x="63" y="703"/>
                    <a:pt x="80" y="687"/>
                  </a:cubicBezTo>
                  <a:cubicBezTo>
                    <a:pt x="97" y="671"/>
                    <a:pt x="114" y="656"/>
                    <a:pt x="130" y="637"/>
                  </a:cubicBezTo>
                  <a:cubicBezTo>
                    <a:pt x="138" y="628"/>
                    <a:pt x="145" y="618"/>
                    <a:pt x="151" y="607"/>
                  </a:cubicBezTo>
                  <a:cubicBezTo>
                    <a:pt x="156" y="597"/>
                    <a:pt x="160" y="587"/>
                    <a:pt x="162" y="576"/>
                  </a:cubicBezTo>
                  <a:cubicBezTo>
                    <a:pt x="161" y="573"/>
                    <a:pt x="161" y="571"/>
                    <a:pt x="161" y="569"/>
                  </a:cubicBezTo>
                  <a:cubicBezTo>
                    <a:pt x="160" y="563"/>
                    <a:pt x="161" y="558"/>
                    <a:pt x="162" y="553"/>
                  </a:cubicBezTo>
                  <a:cubicBezTo>
                    <a:pt x="162" y="551"/>
                    <a:pt x="161" y="550"/>
                    <a:pt x="161" y="549"/>
                  </a:cubicBezTo>
                  <a:cubicBezTo>
                    <a:pt x="160" y="542"/>
                    <a:pt x="157" y="536"/>
                    <a:pt x="154" y="530"/>
                  </a:cubicBezTo>
                  <a:cubicBezTo>
                    <a:pt x="149" y="519"/>
                    <a:pt x="141" y="509"/>
                    <a:pt x="133" y="499"/>
                  </a:cubicBezTo>
                  <a:cubicBezTo>
                    <a:pt x="118" y="481"/>
                    <a:pt x="100" y="465"/>
                    <a:pt x="83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8" y="394"/>
                    <a:pt x="22" y="386"/>
                    <a:pt x="17" y="379"/>
                  </a:cubicBezTo>
                  <a:cubicBezTo>
                    <a:pt x="16" y="373"/>
                    <a:pt x="14" y="368"/>
                    <a:pt x="14" y="363"/>
                  </a:cubicBezTo>
                  <a:cubicBezTo>
                    <a:pt x="12" y="342"/>
                    <a:pt x="21" y="322"/>
                    <a:pt x="34" y="304"/>
                  </a:cubicBezTo>
                  <a:cubicBezTo>
                    <a:pt x="46" y="286"/>
                    <a:pt x="63" y="270"/>
                    <a:pt x="80" y="254"/>
                  </a:cubicBezTo>
                  <a:cubicBezTo>
                    <a:pt x="97" y="239"/>
                    <a:pt x="114" y="223"/>
                    <a:pt x="130" y="204"/>
                  </a:cubicBezTo>
                  <a:cubicBezTo>
                    <a:pt x="138" y="195"/>
                    <a:pt x="145" y="185"/>
                    <a:pt x="151" y="174"/>
                  </a:cubicBezTo>
                  <a:cubicBezTo>
                    <a:pt x="156" y="164"/>
                    <a:pt x="160" y="154"/>
                    <a:pt x="162" y="143"/>
                  </a:cubicBezTo>
                  <a:cubicBezTo>
                    <a:pt x="161" y="141"/>
                    <a:pt x="161" y="138"/>
                    <a:pt x="161" y="136"/>
                  </a:cubicBezTo>
                  <a:cubicBezTo>
                    <a:pt x="160" y="130"/>
                    <a:pt x="161" y="125"/>
                    <a:pt x="162" y="120"/>
                  </a:cubicBezTo>
                  <a:cubicBezTo>
                    <a:pt x="162" y="119"/>
                    <a:pt x="161" y="117"/>
                    <a:pt x="161" y="116"/>
                  </a:cubicBezTo>
                  <a:cubicBezTo>
                    <a:pt x="160" y="109"/>
                    <a:pt x="157" y="103"/>
                    <a:pt x="154" y="97"/>
                  </a:cubicBezTo>
                  <a:cubicBezTo>
                    <a:pt x="149" y="86"/>
                    <a:pt x="141" y="76"/>
                    <a:pt x="133" y="66"/>
                  </a:cubicBezTo>
                  <a:cubicBezTo>
                    <a:pt x="118" y="48"/>
                    <a:pt x="100" y="32"/>
                    <a:pt x="83" y="16"/>
                  </a:cubicBezTo>
                  <a:cubicBezTo>
                    <a:pt x="77" y="11"/>
                    <a:pt x="71" y="5"/>
                    <a:pt x="66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8" y="8"/>
                    <a:pt x="67" y="16"/>
                    <a:pt x="76" y="24"/>
                  </a:cubicBezTo>
                  <a:cubicBezTo>
                    <a:pt x="93" y="40"/>
                    <a:pt x="110" y="56"/>
                    <a:pt x="124" y="74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17" name="Freeform 11"/>
            <p:cNvSpPr/>
            <p:nvPr/>
          </p:nvSpPr>
          <p:spPr>
            <a:xfrm>
              <a:off x="-3240" y="-1440"/>
              <a:ext cx="495000" cy="686232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56" h="2159">
                  <a:moveTo>
                    <a:pt x="25" y="1925"/>
                  </a:moveTo>
                  <a:cubicBezTo>
                    <a:pt x="40" y="1943"/>
                    <a:pt x="57" y="1958"/>
                    <a:pt x="74" y="1974"/>
                  </a:cubicBezTo>
                  <a:cubicBezTo>
                    <a:pt x="74" y="1975"/>
                    <a:pt x="75" y="1975"/>
                    <a:pt x="75" y="1975"/>
                  </a:cubicBezTo>
                  <a:cubicBezTo>
                    <a:pt x="82" y="1982"/>
                    <a:pt x="88" y="1988"/>
                    <a:pt x="95" y="1995"/>
                  </a:cubicBezTo>
                  <a:cubicBezTo>
                    <a:pt x="104" y="2004"/>
                    <a:pt x="113" y="2014"/>
                    <a:pt x="121" y="2025"/>
                  </a:cubicBezTo>
                  <a:cubicBezTo>
                    <a:pt x="128" y="2035"/>
                    <a:pt x="133" y="2045"/>
                    <a:pt x="137" y="2056"/>
                  </a:cubicBezTo>
                  <a:cubicBezTo>
                    <a:pt x="141" y="2067"/>
                    <a:pt x="142" y="2078"/>
                    <a:pt x="141" y="2090"/>
                  </a:cubicBezTo>
                  <a:cubicBezTo>
                    <a:pt x="140" y="2096"/>
                    <a:pt x="139" y="2102"/>
                    <a:pt x="137" y="2108"/>
                  </a:cubicBezTo>
                  <a:cubicBezTo>
                    <a:pt x="132" y="2116"/>
                    <a:pt x="126" y="2124"/>
                    <a:pt x="120" y="2131"/>
                  </a:cubicBezTo>
                  <a:cubicBezTo>
                    <a:pt x="111" y="2141"/>
                    <a:pt x="102" y="2150"/>
                    <a:pt x="93" y="2159"/>
                  </a:cubicBezTo>
                  <a:cubicBezTo>
                    <a:pt x="108" y="2159"/>
                    <a:pt x="108" y="2159"/>
                    <a:pt x="108" y="2159"/>
                  </a:cubicBezTo>
                  <a:cubicBezTo>
                    <a:pt x="115" y="2152"/>
                    <a:pt x="122" y="2145"/>
                    <a:pt x="128" y="2138"/>
                  </a:cubicBezTo>
                  <a:cubicBezTo>
                    <a:pt x="132" y="2133"/>
                    <a:pt x="136" y="2128"/>
                    <a:pt x="140" y="2122"/>
                  </a:cubicBezTo>
                  <a:cubicBezTo>
                    <a:pt x="141" y="2122"/>
                    <a:pt x="141" y="2122"/>
                    <a:pt x="141" y="2122"/>
                  </a:cubicBezTo>
                  <a:cubicBezTo>
                    <a:pt x="141" y="2122"/>
                    <a:pt x="141" y="2121"/>
                    <a:pt x="141" y="2120"/>
                  </a:cubicBezTo>
                  <a:cubicBezTo>
                    <a:pt x="144" y="2116"/>
                    <a:pt x="147" y="2112"/>
                    <a:pt x="149" y="2107"/>
                  </a:cubicBezTo>
                  <a:cubicBezTo>
                    <a:pt x="152" y="2101"/>
                    <a:pt x="154" y="2095"/>
                    <a:pt x="155" y="2088"/>
                  </a:cubicBezTo>
                  <a:cubicBezTo>
                    <a:pt x="156" y="2080"/>
                    <a:pt x="155" y="2074"/>
                    <a:pt x="154" y="2068"/>
                  </a:cubicBezTo>
                  <a:cubicBezTo>
                    <a:pt x="151" y="2055"/>
                    <a:pt x="145" y="2043"/>
                    <a:pt x="139" y="2033"/>
                  </a:cubicBezTo>
                  <a:cubicBezTo>
                    <a:pt x="138" y="2032"/>
                    <a:pt x="137" y="2030"/>
                    <a:pt x="136" y="2029"/>
                  </a:cubicBezTo>
                  <a:cubicBezTo>
                    <a:pt x="134" y="2026"/>
                    <a:pt x="132" y="2022"/>
                    <a:pt x="130" y="2019"/>
                  </a:cubicBezTo>
                  <a:cubicBezTo>
                    <a:pt x="115" y="1999"/>
                    <a:pt x="98" y="1982"/>
                    <a:pt x="81" y="1966"/>
                  </a:cubicBezTo>
                  <a:cubicBezTo>
                    <a:pt x="65" y="1950"/>
                    <a:pt x="48" y="1935"/>
                    <a:pt x="33" y="1917"/>
                  </a:cubicBezTo>
                  <a:cubicBezTo>
                    <a:pt x="19" y="1901"/>
                    <a:pt x="8" y="1881"/>
                    <a:pt x="7" y="1861"/>
                  </a:cubicBezTo>
                  <a:cubicBezTo>
                    <a:pt x="6" y="1852"/>
                    <a:pt x="8" y="1843"/>
                    <a:pt x="13" y="1833"/>
                  </a:cubicBezTo>
                  <a:cubicBezTo>
                    <a:pt x="17" y="1824"/>
                    <a:pt x="23" y="1815"/>
                    <a:pt x="30" y="1806"/>
                  </a:cubicBezTo>
                  <a:cubicBezTo>
                    <a:pt x="44" y="1789"/>
                    <a:pt x="61" y="1773"/>
                    <a:pt x="78" y="1757"/>
                  </a:cubicBezTo>
                  <a:cubicBezTo>
                    <a:pt x="95" y="1741"/>
                    <a:pt x="112" y="1726"/>
                    <a:pt x="128" y="1708"/>
                  </a:cubicBezTo>
                  <a:cubicBezTo>
                    <a:pt x="136" y="1698"/>
                    <a:pt x="144" y="1689"/>
                    <a:pt x="149" y="1677"/>
                  </a:cubicBezTo>
                  <a:cubicBezTo>
                    <a:pt x="152" y="1671"/>
                    <a:pt x="154" y="1664"/>
                    <a:pt x="155" y="1657"/>
                  </a:cubicBezTo>
                  <a:cubicBezTo>
                    <a:pt x="156" y="1650"/>
                    <a:pt x="155" y="1644"/>
                    <a:pt x="154" y="1637"/>
                  </a:cubicBezTo>
                  <a:cubicBezTo>
                    <a:pt x="151" y="1625"/>
                    <a:pt x="146" y="1614"/>
                    <a:pt x="140" y="1605"/>
                  </a:cubicBezTo>
                  <a:cubicBezTo>
                    <a:pt x="137" y="1599"/>
                    <a:pt x="133" y="1593"/>
                    <a:pt x="130" y="1588"/>
                  </a:cubicBezTo>
                  <a:cubicBezTo>
                    <a:pt x="115" y="1567"/>
                    <a:pt x="98" y="1551"/>
                    <a:pt x="81" y="1535"/>
                  </a:cubicBezTo>
                  <a:cubicBezTo>
                    <a:pt x="65" y="1519"/>
                    <a:pt x="48" y="1503"/>
                    <a:pt x="33" y="1486"/>
                  </a:cubicBezTo>
                  <a:cubicBezTo>
                    <a:pt x="19" y="1469"/>
                    <a:pt x="8" y="1450"/>
                    <a:pt x="7" y="1430"/>
                  </a:cubicBezTo>
                  <a:cubicBezTo>
                    <a:pt x="6" y="1421"/>
                    <a:pt x="8" y="1411"/>
                    <a:pt x="13" y="1402"/>
                  </a:cubicBezTo>
                  <a:cubicBezTo>
                    <a:pt x="17" y="1392"/>
                    <a:pt x="23" y="1383"/>
                    <a:pt x="30" y="1375"/>
                  </a:cubicBezTo>
                  <a:cubicBezTo>
                    <a:pt x="44" y="1357"/>
                    <a:pt x="61" y="1342"/>
                    <a:pt x="78" y="1326"/>
                  </a:cubicBezTo>
                  <a:cubicBezTo>
                    <a:pt x="95" y="1310"/>
                    <a:pt x="112" y="1294"/>
                    <a:pt x="128" y="1276"/>
                  </a:cubicBezTo>
                  <a:cubicBezTo>
                    <a:pt x="132" y="1271"/>
                    <a:pt x="136" y="1266"/>
                    <a:pt x="140" y="1261"/>
                  </a:cubicBezTo>
                  <a:cubicBezTo>
                    <a:pt x="141" y="1261"/>
                    <a:pt x="141" y="1261"/>
                    <a:pt x="141" y="1261"/>
                  </a:cubicBezTo>
                  <a:cubicBezTo>
                    <a:pt x="142" y="1259"/>
                    <a:pt x="142" y="1258"/>
                    <a:pt x="143" y="1256"/>
                  </a:cubicBezTo>
                  <a:cubicBezTo>
                    <a:pt x="145" y="1252"/>
                    <a:pt x="147" y="1249"/>
                    <a:pt x="149" y="1245"/>
                  </a:cubicBezTo>
                  <a:cubicBezTo>
                    <a:pt x="152" y="1239"/>
                    <a:pt x="154" y="1233"/>
                    <a:pt x="155" y="1226"/>
                  </a:cubicBezTo>
                  <a:cubicBezTo>
                    <a:pt x="156" y="1218"/>
                    <a:pt x="155" y="1212"/>
                    <a:pt x="154" y="1206"/>
                  </a:cubicBezTo>
                  <a:cubicBezTo>
                    <a:pt x="151" y="1193"/>
                    <a:pt x="145" y="1181"/>
                    <a:pt x="139" y="1171"/>
                  </a:cubicBezTo>
                  <a:cubicBezTo>
                    <a:pt x="136" y="1168"/>
                    <a:pt x="134" y="1164"/>
                    <a:pt x="131" y="1161"/>
                  </a:cubicBezTo>
                  <a:cubicBezTo>
                    <a:pt x="131" y="1160"/>
                    <a:pt x="130" y="1159"/>
                    <a:pt x="130" y="1158"/>
                  </a:cubicBezTo>
                  <a:cubicBezTo>
                    <a:pt x="115" y="1138"/>
                    <a:pt x="98" y="1122"/>
                    <a:pt x="81" y="1105"/>
                  </a:cubicBezTo>
                  <a:cubicBezTo>
                    <a:pt x="65" y="1089"/>
                    <a:pt x="48" y="1074"/>
                    <a:pt x="33" y="1057"/>
                  </a:cubicBezTo>
                  <a:cubicBezTo>
                    <a:pt x="19" y="1040"/>
                    <a:pt x="8" y="1020"/>
                    <a:pt x="7" y="1000"/>
                  </a:cubicBezTo>
                  <a:cubicBezTo>
                    <a:pt x="6" y="991"/>
                    <a:pt x="8" y="982"/>
                    <a:pt x="13" y="972"/>
                  </a:cubicBezTo>
                  <a:cubicBezTo>
                    <a:pt x="17" y="963"/>
                    <a:pt x="23" y="954"/>
                    <a:pt x="30" y="945"/>
                  </a:cubicBezTo>
                  <a:cubicBezTo>
                    <a:pt x="44" y="928"/>
                    <a:pt x="61" y="912"/>
                    <a:pt x="78" y="896"/>
                  </a:cubicBezTo>
                  <a:cubicBezTo>
                    <a:pt x="95" y="880"/>
                    <a:pt x="112" y="865"/>
                    <a:pt x="128" y="847"/>
                  </a:cubicBezTo>
                  <a:cubicBezTo>
                    <a:pt x="136" y="837"/>
                    <a:pt x="144" y="828"/>
                    <a:pt x="149" y="816"/>
                  </a:cubicBezTo>
                  <a:cubicBezTo>
                    <a:pt x="152" y="810"/>
                    <a:pt x="154" y="803"/>
                    <a:pt x="155" y="796"/>
                  </a:cubicBezTo>
                  <a:cubicBezTo>
                    <a:pt x="156" y="789"/>
                    <a:pt x="155" y="783"/>
                    <a:pt x="154" y="776"/>
                  </a:cubicBezTo>
                  <a:cubicBezTo>
                    <a:pt x="151" y="766"/>
                    <a:pt x="147" y="756"/>
                    <a:pt x="142" y="748"/>
                  </a:cubicBezTo>
                  <a:cubicBezTo>
                    <a:pt x="139" y="740"/>
                    <a:pt x="134" y="732"/>
                    <a:pt x="130" y="726"/>
                  </a:cubicBezTo>
                  <a:cubicBezTo>
                    <a:pt x="115" y="705"/>
                    <a:pt x="98" y="689"/>
                    <a:pt x="81" y="673"/>
                  </a:cubicBezTo>
                  <a:cubicBezTo>
                    <a:pt x="65" y="656"/>
                    <a:pt x="48" y="641"/>
                    <a:pt x="33" y="624"/>
                  </a:cubicBezTo>
                  <a:cubicBezTo>
                    <a:pt x="19" y="607"/>
                    <a:pt x="8" y="588"/>
                    <a:pt x="7" y="568"/>
                  </a:cubicBezTo>
                  <a:cubicBezTo>
                    <a:pt x="6" y="558"/>
                    <a:pt x="8" y="549"/>
                    <a:pt x="13" y="540"/>
                  </a:cubicBezTo>
                  <a:cubicBezTo>
                    <a:pt x="17" y="530"/>
                    <a:pt x="23" y="521"/>
                    <a:pt x="30" y="513"/>
                  </a:cubicBezTo>
                  <a:cubicBezTo>
                    <a:pt x="44" y="495"/>
                    <a:pt x="61" y="480"/>
                    <a:pt x="78" y="464"/>
                  </a:cubicBezTo>
                  <a:cubicBezTo>
                    <a:pt x="95" y="448"/>
                    <a:pt x="112" y="432"/>
                    <a:pt x="128" y="414"/>
                  </a:cubicBezTo>
                  <a:cubicBezTo>
                    <a:pt x="136" y="405"/>
                    <a:pt x="144" y="395"/>
                    <a:pt x="149" y="383"/>
                  </a:cubicBezTo>
                  <a:cubicBezTo>
                    <a:pt x="152" y="377"/>
                    <a:pt x="154" y="371"/>
                    <a:pt x="155" y="364"/>
                  </a:cubicBezTo>
                  <a:cubicBezTo>
                    <a:pt x="156" y="356"/>
                    <a:pt x="155" y="350"/>
                    <a:pt x="154" y="344"/>
                  </a:cubicBezTo>
                  <a:cubicBezTo>
                    <a:pt x="151" y="333"/>
                    <a:pt x="147" y="324"/>
                    <a:pt x="142" y="315"/>
                  </a:cubicBezTo>
                  <a:cubicBezTo>
                    <a:pt x="139" y="307"/>
                    <a:pt x="134" y="300"/>
                    <a:pt x="130" y="293"/>
                  </a:cubicBezTo>
                  <a:cubicBezTo>
                    <a:pt x="115" y="273"/>
                    <a:pt x="98" y="256"/>
                    <a:pt x="81" y="240"/>
                  </a:cubicBezTo>
                  <a:cubicBezTo>
                    <a:pt x="65" y="224"/>
                    <a:pt x="48" y="208"/>
                    <a:pt x="33" y="191"/>
                  </a:cubicBezTo>
                  <a:cubicBezTo>
                    <a:pt x="19" y="174"/>
                    <a:pt x="8" y="155"/>
                    <a:pt x="7" y="135"/>
                  </a:cubicBezTo>
                  <a:cubicBezTo>
                    <a:pt x="6" y="126"/>
                    <a:pt x="8" y="116"/>
                    <a:pt x="13" y="107"/>
                  </a:cubicBezTo>
                  <a:cubicBezTo>
                    <a:pt x="17" y="97"/>
                    <a:pt x="23" y="88"/>
                    <a:pt x="30" y="80"/>
                  </a:cubicBezTo>
                  <a:cubicBezTo>
                    <a:pt x="44" y="63"/>
                    <a:pt x="61" y="47"/>
                    <a:pt x="78" y="31"/>
                  </a:cubicBezTo>
                  <a:cubicBezTo>
                    <a:pt x="89" y="21"/>
                    <a:pt x="100" y="10"/>
                    <a:pt x="110" y="0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87" y="7"/>
                    <a:pt x="79" y="15"/>
                    <a:pt x="70" y="23"/>
                  </a:cubicBezTo>
                  <a:cubicBezTo>
                    <a:pt x="53" y="39"/>
                    <a:pt x="36" y="54"/>
                    <a:pt x="21" y="72"/>
                  </a:cubicBezTo>
                  <a:cubicBezTo>
                    <a:pt x="14" y="81"/>
                    <a:pt x="7" y="91"/>
                    <a:pt x="2" y="102"/>
                  </a:cubicBezTo>
                  <a:cubicBezTo>
                    <a:pt x="1" y="103"/>
                    <a:pt x="1" y="104"/>
                    <a:pt x="0" y="106"/>
                  </a:cubicBezTo>
                  <a:cubicBezTo>
                    <a:pt x="0" y="159"/>
                    <a:pt x="0" y="159"/>
                    <a:pt x="0" y="159"/>
                  </a:cubicBezTo>
                  <a:cubicBezTo>
                    <a:pt x="1" y="162"/>
                    <a:pt x="3" y="166"/>
                    <a:pt x="5" y="170"/>
                  </a:cubicBezTo>
                  <a:cubicBezTo>
                    <a:pt x="10" y="180"/>
                    <a:pt x="17" y="190"/>
                    <a:pt x="25" y="198"/>
                  </a:cubicBezTo>
                  <a:cubicBezTo>
                    <a:pt x="28" y="202"/>
                    <a:pt x="31" y="206"/>
                    <a:pt x="34" y="209"/>
                  </a:cubicBezTo>
                  <a:cubicBezTo>
                    <a:pt x="42" y="219"/>
                    <a:pt x="51" y="228"/>
                    <a:pt x="60" y="237"/>
                  </a:cubicBezTo>
                  <a:cubicBezTo>
                    <a:pt x="77" y="254"/>
                    <a:pt x="94" y="269"/>
                    <a:pt x="110" y="286"/>
                  </a:cubicBezTo>
                  <a:cubicBezTo>
                    <a:pt x="115" y="291"/>
                    <a:pt x="119" y="297"/>
                    <a:pt x="123" y="302"/>
                  </a:cubicBezTo>
                  <a:cubicBezTo>
                    <a:pt x="129" y="311"/>
                    <a:pt x="134" y="320"/>
                    <a:pt x="137" y="329"/>
                  </a:cubicBezTo>
                  <a:cubicBezTo>
                    <a:pt x="141" y="340"/>
                    <a:pt x="142" y="352"/>
                    <a:pt x="141" y="363"/>
                  </a:cubicBezTo>
                  <a:cubicBezTo>
                    <a:pt x="140" y="372"/>
                    <a:pt x="138" y="380"/>
                    <a:pt x="134" y="388"/>
                  </a:cubicBezTo>
                  <a:cubicBezTo>
                    <a:pt x="130" y="395"/>
                    <a:pt x="125" y="401"/>
                    <a:pt x="120" y="407"/>
                  </a:cubicBezTo>
                  <a:cubicBezTo>
                    <a:pt x="105" y="424"/>
                    <a:pt x="87" y="440"/>
                    <a:pt x="70" y="455"/>
                  </a:cubicBezTo>
                  <a:cubicBezTo>
                    <a:pt x="53" y="471"/>
                    <a:pt x="36" y="487"/>
                    <a:pt x="21" y="505"/>
                  </a:cubicBezTo>
                  <a:cubicBezTo>
                    <a:pt x="14" y="514"/>
                    <a:pt x="7" y="524"/>
                    <a:pt x="2" y="534"/>
                  </a:cubicBezTo>
                  <a:cubicBezTo>
                    <a:pt x="1" y="536"/>
                    <a:pt x="1" y="537"/>
                    <a:pt x="0" y="538"/>
                  </a:cubicBezTo>
                  <a:cubicBezTo>
                    <a:pt x="0" y="592"/>
                    <a:pt x="0" y="592"/>
                    <a:pt x="0" y="592"/>
                  </a:cubicBezTo>
                  <a:cubicBezTo>
                    <a:pt x="1" y="595"/>
                    <a:pt x="3" y="599"/>
                    <a:pt x="5" y="602"/>
                  </a:cubicBezTo>
                  <a:cubicBezTo>
                    <a:pt x="10" y="613"/>
                    <a:pt x="17" y="622"/>
                    <a:pt x="25" y="631"/>
                  </a:cubicBezTo>
                  <a:cubicBezTo>
                    <a:pt x="28" y="635"/>
                    <a:pt x="31" y="638"/>
                    <a:pt x="34" y="642"/>
                  </a:cubicBezTo>
                  <a:cubicBezTo>
                    <a:pt x="42" y="652"/>
                    <a:pt x="51" y="661"/>
                    <a:pt x="60" y="670"/>
                  </a:cubicBezTo>
                  <a:cubicBezTo>
                    <a:pt x="77" y="686"/>
                    <a:pt x="94" y="702"/>
                    <a:pt x="110" y="719"/>
                  </a:cubicBezTo>
                  <a:cubicBezTo>
                    <a:pt x="115" y="724"/>
                    <a:pt x="119" y="730"/>
                    <a:pt x="123" y="735"/>
                  </a:cubicBezTo>
                  <a:cubicBezTo>
                    <a:pt x="129" y="744"/>
                    <a:pt x="134" y="753"/>
                    <a:pt x="137" y="762"/>
                  </a:cubicBezTo>
                  <a:cubicBezTo>
                    <a:pt x="141" y="773"/>
                    <a:pt x="142" y="785"/>
                    <a:pt x="141" y="796"/>
                  </a:cubicBezTo>
                  <a:cubicBezTo>
                    <a:pt x="140" y="805"/>
                    <a:pt x="138" y="813"/>
                    <a:pt x="134" y="821"/>
                  </a:cubicBezTo>
                  <a:cubicBezTo>
                    <a:pt x="130" y="827"/>
                    <a:pt x="125" y="834"/>
                    <a:pt x="120" y="840"/>
                  </a:cubicBezTo>
                  <a:cubicBezTo>
                    <a:pt x="105" y="857"/>
                    <a:pt x="87" y="872"/>
                    <a:pt x="70" y="888"/>
                  </a:cubicBezTo>
                  <a:cubicBezTo>
                    <a:pt x="53" y="904"/>
                    <a:pt x="36" y="920"/>
                    <a:pt x="21" y="938"/>
                  </a:cubicBezTo>
                  <a:cubicBezTo>
                    <a:pt x="14" y="947"/>
                    <a:pt x="7" y="957"/>
                    <a:pt x="2" y="967"/>
                  </a:cubicBezTo>
                  <a:cubicBezTo>
                    <a:pt x="1" y="968"/>
                    <a:pt x="1" y="970"/>
                    <a:pt x="0" y="971"/>
                  </a:cubicBezTo>
                  <a:cubicBezTo>
                    <a:pt x="0" y="1024"/>
                    <a:pt x="0" y="1024"/>
                    <a:pt x="0" y="1024"/>
                  </a:cubicBezTo>
                  <a:cubicBezTo>
                    <a:pt x="1" y="1028"/>
                    <a:pt x="3" y="1032"/>
                    <a:pt x="5" y="1035"/>
                  </a:cubicBezTo>
                  <a:cubicBezTo>
                    <a:pt x="10" y="1046"/>
                    <a:pt x="17" y="1055"/>
                    <a:pt x="25" y="1064"/>
                  </a:cubicBezTo>
                  <a:cubicBezTo>
                    <a:pt x="40" y="1082"/>
                    <a:pt x="57" y="1098"/>
                    <a:pt x="74" y="1113"/>
                  </a:cubicBezTo>
                  <a:cubicBezTo>
                    <a:pt x="91" y="1129"/>
                    <a:pt x="108" y="1146"/>
                    <a:pt x="121" y="1164"/>
                  </a:cubicBezTo>
                  <a:cubicBezTo>
                    <a:pt x="128" y="1174"/>
                    <a:pt x="133" y="1184"/>
                    <a:pt x="137" y="1195"/>
                  </a:cubicBezTo>
                  <a:cubicBezTo>
                    <a:pt x="141" y="1206"/>
                    <a:pt x="142" y="1218"/>
                    <a:pt x="141" y="1229"/>
                  </a:cubicBezTo>
                  <a:cubicBezTo>
                    <a:pt x="141" y="1234"/>
                    <a:pt x="140" y="1239"/>
                    <a:pt x="138" y="1244"/>
                  </a:cubicBezTo>
                  <a:cubicBezTo>
                    <a:pt x="133" y="1253"/>
                    <a:pt x="127" y="1261"/>
                    <a:pt x="120" y="1269"/>
                  </a:cubicBezTo>
                  <a:cubicBezTo>
                    <a:pt x="105" y="1286"/>
                    <a:pt x="87" y="1302"/>
                    <a:pt x="70" y="1318"/>
                  </a:cubicBezTo>
                  <a:cubicBezTo>
                    <a:pt x="53" y="1333"/>
                    <a:pt x="36" y="1349"/>
                    <a:pt x="21" y="1367"/>
                  </a:cubicBezTo>
                  <a:cubicBezTo>
                    <a:pt x="14" y="1376"/>
                    <a:pt x="7" y="1386"/>
                    <a:pt x="2" y="1396"/>
                  </a:cubicBezTo>
                  <a:cubicBezTo>
                    <a:pt x="1" y="1398"/>
                    <a:pt x="1" y="1399"/>
                    <a:pt x="0" y="1400"/>
                  </a:cubicBezTo>
                  <a:cubicBezTo>
                    <a:pt x="0" y="1454"/>
                    <a:pt x="0" y="1454"/>
                    <a:pt x="0" y="1454"/>
                  </a:cubicBezTo>
                  <a:cubicBezTo>
                    <a:pt x="1" y="1457"/>
                    <a:pt x="3" y="1461"/>
                    <a:pt x="5" y="1464"/>
                  </a:cubicBezTo>
                  <a:cubicBezTo>
                    <a:pt x="10" y="1475"/>
                    <a:pt x="17" y="1484"/>
                    <a:pt x="25" y="1493"/>
                  </a:cubicBezTo>
                  <a:cubicBezTo>
                    <a:pt x="32" y="1502"/>
                    <a:pt x="39" y="1510"/>
                    <a:pt x="47" y="1517"/>
                  </a:cubicBezTo>
                  <a:cubicBezTo>
                    <a:pt x="52" y="1522"/>
                    <a:pt x="56" y="1526"/>
                    <a:pt x="60" y="1531"/>
                  </a:cubicBezTo>
                  <a:cubicBezTo>
                    <a:pt x="77" y="1547"/>
                    <a:pt x="94" y="1563"/>
                    <a:pt x="110" y="1580"/>
                  </a:cubicBezTo>
                  <a:cubicBezTo>
                    <a:pt x="112" y="1582"/>
                    <a:pt x="113" y="1584"/>
                    <a:pt x="115" y="1586"/>
                  </a:cubicBezTo>
                  <a:cubicBezTo>
                    <a:pt x="117" y="1589"/>
                    <a:pt x="119" y="1591"/>
                    <a:pt x="121" y="1594"/>
                  </a:cubicBezTo>
                  <a:cubicBezTo>
                    <a:pt x="128" y="1603"/>
                    <a:pt x="133" y="1613"/>
                    <a:pt x="137" y="1624"/>
                  </a:cubicBezTo>
                  <a:cubicBezTo>
                    <a:pt x="141" y="1635"/>
                    <a:pt x="142" y="1647"/>
                    <a:pt x="141" y="1658"/>
                  </a:cubicBezTo>
                  <a:cubicBezTo>
                    <a:pt x="140" y="1666"/>
                    <a:pt x="139" y="1673"/>
                    <a:pt x="136" y="1680"/>
                  </a:cubicBezTo>
                  <a:cubicBezTo>
                    <a:pt x="131" y="1687"/>
                    <a:pt x="126" y="1694"/>
                    <a:pt x="120" y="1701"/>
                  </a:cubicBezTo>
                  <a:cubicBezTo>
                    <a:pt x="105" y="1718"/>
                    <a:pt x="87" y="1733"/>
                    <a:pt x="70" y="1749"/>
                  </a:cubicBezTo>
                  <a:cubicBezTo>
                    <a:pt x="53" y="1765"/>
                    <a:pt x="36" y="1781"/>
                    <a:pt x="21" y="1799"/>
                  </a:cubicBezTo>
                  <a:cubicBezTo>
                    <a:pt x="14" y="1808"/>
                    <a:pt x="7" y="1818"/>
                    <a:pt x="2" y="1828"/>
                  </a:cubicBezTo>
                  <a:cubicBezTo>
                    <a:pt x="1" y="1829"/>
                    <a:pt x="1" y="1831"/>
                    <a:pt x="0" y="1832"/>
                  </a:cubicBezTo>
                  <a:cubicBezTo>
                    <a:pt x="0" y="1885"/>
                    <a:pt x="0" y="1885"/>
                    <a:pt x="0" y="1885"/>
                  </a:cubicBezTo>
                  <a:cubicBezTo>
                    <a:pt x="1" y="1889"/>
                    <a:pt x="3" y="1893"/>
                    <a:pt x="5" y="1896"/>
                  </a:cubicBezTo>
                  <a:cubicBezTo>
                    <a:pt x="10" y="1907"/>
                    <a:pt x="17" y="1916"/>
                    <a:pt x="25" y="1925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18" name="Freeform 12"/>
            <p:cNvSpPr/>
            <p:nvPr/>
          </p:nvSpPr>
          <p:spPr>
            <a:xfrm>
              <a:off x="1009800" y="-1440"/>
              <a:ext cx="509400" cy="6862320"/>
            </a:xfrm>
            <a:custGeom>
              <a:avLst/>
              <a:gdLst>
                <a:gd name="textAreaLeft" fmla="*/ 0 w 509400"/>
                <a:gd name="textAreaRight" fmla="*/ 509760 w 50940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0" h="2159">
                  <a:moveTo>
                    <a:pt x="26" y="72"/>
                  </a:moveTo>
                  <a:cubicBezTo>
                    <a:pt x="18" y="81"/>
                    <a:pt x="11" y="91"/>
                    <a:pt x="6" y="102"/>
                  </a:cubicBezTo>
                  <a:cubicBezTo>
                    <a:pt x="3" y="107"/>
                    <a:pt x="1" y="113"/>
                    <a:pt x="0" y="120"/>
                  </a:cubicBezTo>
                  <a:cubicBezTo>
                    <a:pt x="0" y="123"/>
                    <a:pt x="1" y="127"/>
                    <a:pt x="1" y="131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32"/>
                    <a:pt x="1" y="133"/>
                    <a:pt x="1" y="135"/>
                  </a:cubicBezTo>
                  <a:cubicBezTo>
                    <a:pt x="1" y="135"/>
                    <a:pt x="1" y="136"/>
                    <a:pt x="1" y="137"/>
                  </a:cubicBezTo>
                  <a:cubicBezTo>
                    <a:pt x="0" y="139"/>
                    <a:pt x="0" y="141"/>
                    <a:pt x="0" y="143"/>
                  </a:cubicBezTo>
                  <a:cubicBezTo>
                    <a:pt x="1" y="152"/>
                    <a:pt x="5" y="161"/>
                    <a:pt x="9" y="170"/>
                  </a:cubicBezTo>
                  <a:cubicBezTo>
                    <a:pt x="14" y="180"/>
                    <a:pt x="21" y="190"/>
                    <a:pt x="29" y="198"/>
                  </a:cubicBezTo>
                  <a:cubicBezTo>
                    <a:pt x="32" y="202"/>
                    <a:pt x="35" y="206"/>
                    <a:pt x="38" y="209"/>
                  </a:cubicBezTo>
                  <a:cubicBezTo>
                    <a:pt x="47" y="219"/>
                    <a:pt x="55" y="228"/>
                    <a:pt x="65" y="237"/>
                  </a:cubicBezTo>
                  <a:cubicBezTo>
                    <a:pt x="81" y="254"/>
                    <a:pt x="98" y="269"/>
                    <a:pt x="114" y="286"/>
                  </a:cubicBezTo>
                  <a:cubicBezTo>
                    <a:pt x="119" y="291"/>
                    <a:pt x="123" y="297"/>
                    <a:pt x="128" y="302"/>
                  </a:cubicBezTo>
                  <a:cubicBezTo>
                    <a:pt x="133" y="311"/>
                    <a:pt x="138" y="320"/>
                    <a:pt x="141" y="329"/>
                  </a:cubicBezTo>
                  <a:cubicBezTo>
                    <a:pt x="145" y="340"/>
                    <a:pt x="146" y="352"/>
                    <a:pt x="145" y="363"/>
                  </a:cubicBezTo>
                  <a:cubicBezTo>
                    <a:pt x="144" y="372"/>
                    <a:pt x="142" y="380"/>
                    <a:pt x="139" y="388"/>
                  </a:cubicBezTo>
                  <a:cubicBezTo>
                    <a:pt x="134" y="395"/>
                    <a:pt x="129" y="401"/>
                    <a:pt x="124" y="407"/>
                  </a:cubicBezTo>
                  <a:cubicBezTo>
                    <a:pt x="109" y="424"/>
                    <a:pt x="92" y="440"/>
                    <a:pt x="75" y="455"/>
                  </a:cubicBezTo>
                  <a:cubicBezTo>
                    <a:pt x="58" y="471"/>
                    <a:pt x="40" y="487"/>
                    <a:pt x="26" y="505"/>
                  </a:cubicBezTo>
                  <a:cubicBezTo>
                    <a:pt x="18" y="514"/>
                    <a:pt x="11" y="524"/>
                    <a:pt x="6" y="534"/>
                  </a:cubicBezTo>
                  <a:cubicBezTo>
                    <a:pt x="3" y="540"/>
                    <a:pt x="1" y="546"/>
                    <a:pt x="0" y="553"/>
                  </a:cubicBezTo>
                  <a:cubicBezTo>
                    <a:pt x="0" y="556"/>
                    <a:pt x="1" y="560"/>
                    <a:pt x="1" y="564"/>
                  </a:cubicBezTo>
                  <a:cubicBezTo>
                    <a:pt x="0" y="564"/>
                    <a:pt x="0" y="564"/>
                    <a:pt x="0" y="564"/>
                  </a:cubicBezTo>
                  <a:cubicBezTo>
                    <a:pt x="0" y="565"/>
                    <a:pt x="1" y="566"/>
                    <a:pt x="1" y="567"/>
                  </a:cubicBezTo>
                  <a:cubicBezTo>
                    <a:pt x="1" y="568"/>
                    <a:pt x="1" y="569"/>
                    <a:pt x="1" y="570"/>
                  </a:cubicBezTo>
                  <a:cubicBezTo>
                    <a:pt x="0" y="572"/>
                    <a:pt x="0" y="574"/>
                    <a:pt x="0" y="576"/>
                  </a:cubicBezTo>
                  <a:cubicBezTo>
                    <a:pt x="1" y="585"/>
                    <a:pt x="5" y="594"/>
                    <a:pt x="9" y="602"/>
                  </a:cubicBezTo>
                  <a:cubicBezTo>
                    <a:pt x="14" y="613"/>
                    <a:pt x="21" y="622"/>
                    <a:pt x="29" y="631"/>
                  </a:cubicBezTo>
                  <a:cubicBezTo>
                    <a:pt x="32" y="635"/>
                    <a:pt x="35" y="638"/>
                    <a:pt x="38" y="642"/>
                  </a:cubicBezTo>
                  <a:cubicBezTo>
                    <a:pt x="47" y="652"/>
                    <a:pt x="55" y="661"/>
                    <a:pt x="65" y="670"/>
                  </a:cubicBezTo>
                  <a:cubicBezTo>
                    <a:pt x="81" y="686"/>
                    <a:pt x="98" y="702"/>
                    <a:pt x="114" y="719"/>
                  </a:cubicBezTo>
                  <a:cubicBezTo>
                    <a:pt x="119" y="724"/>
                    <a:pt x="123" y="730"/>
                    <a:pt x="128" y="735"/>
                  </a:cubicBezTo>
                  <a:cubicBezTo>
                    <a:pt x="133" y="744"/>
                    <a:pt x="138" y="753"/>
                    <a:pt x="141" y="762"/>
                  </a:cubicBezTo>
                  <a:cubicBezTo>
                    <a:pt x="145" y="773"/>
                    <a:pt x="146" y="785"/>
                    <a:pt x="145" y="796"/>
                  </a:cubicBezTo>
                  <a:cubicBezTo>
                    <a:pt x="144" y="805"/>
                    <a:pt x="142" y="813"/>
                    <a:pt x="139" y="821"/>
                  </a:cubicBezTo>
                  <a:cubicBezTo>
                    <a:pt x="134" y="827"/>
                    <a:pt x="129" y="834"/>
                    <a:pt x="124" y="840"/>
                  </a:cubicBezTo>
                  <a:cubicBezTo>
                    <a:pt x="109" y="857"/>
                    <a:pt x="92" y="872"/>
                    <a:pt x="75" y="888"/>
                  </a:cubicBezTo>
                  <a:cubicBezTo>
                    <a:pt x="58" y="904"/>
                    <a:pt x="40" y="920"/>
                    <a:pt x="26" y="938"/>
                  </a:cubicBezTo>
                  <a:cubicBezTo>
                    <a:pt x="18" y="947"/>
                    <a:pt x="11" y="957"/>
                    <a:pt x="6" y="967"/>
                  </a:cubicBezTo>
                  <a:cubicBezTo>
                    <a:pt x="3" y="973"/>
                    <a:pt x="1" y="979"/>
                    <a:pt x="0" y="985"/>
                  </a:cubicBezTo>
                  <a:cubicBezTo>
                    <a:pt x="0" y="988"/>
                    <a:pt x="1" y="990"/>
                    <a:pt x="1" y="993"/>
                  </a:cubicBezTo>
                  <a:cubicBezTo>
                    <a:pt x="0" y="993"/>
                    <a:pt x="0" y="993"/>
                    <a:pt x="0" y="993"/>
                  </a:cubicBezTo>
                  <a:cubicBezTo>
                    <a:pt x="0" y="994"/>
                    <a:pt x="1" y="996"/>
                    <a:pt x="1" y="998"/>
                  </a:cubicBezTo>
                  <a:cubicBezTo>
                    <a:pt x="1" y="999"/>
                    <a:pt x="1" y="1001"/>
                    <a:pt x="1" y="1002"/>
                  </a:cubicBezTo>
                  <a:cubicBezTo>
                    <a:pt x="0" y="1004"/>
                    <a:pt x="0" y="1007"/>
                    <a:pt x="0" y="1009"/>
                  </a:cubicBezTo>
                  <a:cubicBezTo>
                    <a:pt x="1" y="1018"/>
                    <a:pt x="5" y="1027"/>
                    <a:pt x="9" y="1035"/>
                  </a:cubicBezTo>
                  <a:cubicBezTo>
                    <a:pt x="14" y="1046"/>
                    <a:pt x="21" y="1055"/>
                    <a:pt x="29" y="1064"/>
                  </a:cubicBezTo>
                  <a:cubicBezTo>
                    <a:pt x="44" y="1082"/>
                    <a:pt x="61" y="1098"/>
                    <a:pt x="78" y="1113"/>
                  </a:cubicBezTo>
                  <a:cubicBezTo>
                    <a:pt x="95" y="1129"/>
                    <a:pt x="112" y="1146"/>
                    <a:pt x="125" y="1164"/>
                  </a:cubicBezTo>
                  <a:cubicBezTo>
                    <a:pt x="132" y="1174"/>
                    <a:pt x="138" y="1184"/>
                    <a:pt x="141" y="1195"/>
                  </a:cubicBezTo>
                  <a:cubicBezTo>
                    <a:pt x="145" y="1206"/>
                    <a:pt x="146" y="1218"/>
                    <a:pt x="145" y="1229"/>
                  </a:cubicBezTo>
                  <a:cubicBezTo>
                    <a:pt x="145" y="1234"/>
                    <a:pt x="144" y="1239"/>
                    <a:pt x="142" y="1244"/>
                  </a:cubicBezTo>
                  <a:cubicBezTo>
                    <a:pt x="137" y="1253"/>
                    <a:pt x="131" y="1261"/>
                    <a:pt x="124" y="1269"/>
                  </a:cubicBezTo>
                  <a:cubicBezTo>
                    <a:pt x="109" y="1286"/>
                    <a:pt x="92" y="1302"/>
                    <a:pt x="75" y="1318"/>
                  </a:cubicBezTo>
                  <a:cubicBezTo>
                    <a:pt x="58" y="1333"/>
                    <a:pt x="40" y="1349"/>
                    <a:pt x="26" y="1367"/>
                  </a:cubicBezTo>
                  <a:cubicBezTo>
                    <a:pt x="18" y="1376"/>
                    <a:pt x="11" y="1386"/>
                    <a:pt x="6" y="1396"/>
                  </a:cubicBezTo>
                  <a:cubicBezTo>
                    <a:pt x="3" y="1402"/>
                    <a:pt x="1" y="1408"/>
                    <a:pt x="0" y="1415"/>
                  </a:cubicBezTo>
                  <a:cubicBezTo>
                    <a:pt x="0" y="1418"/>
                    <a:pt x="1" y="1421"/>
                    <a:pt x="1" y="1425"/>
                  </a:cubicBezTo>
                  <a:cubicBezTo>
                    <a:pt x="0" y="1425"/>
                    <a:pt x="0" y="1425"/>
                    <a:pt x="0" y="1425"/>
                  </a:cubicBezTo>
                  <a:cubicBezTo>
                    <a:pt x="0" y="1426"/>
                    <a:pt x="1" y="1427"/>
                    <a:pt x="1" y="1429"/>
                  </a:cubicBezTo>
                  <a:cubicBezTo>
                    <a:pt x="1" y="1430"/>
                    <a:pt x="1" y="1431"/>
                    <a:pt x="1" y="1432"/>
                  </a:cubicBezTo>
                  <a:cubicBezTo>
                    <a:pt x="0" y="1434"/>
                    <a:pt x="0" y="1436"/>
                    <a:pt x="0" y="1438"/>
                  </a:cubicBezTo>
                  <a:cubicBezTo>
                    <a:pt x="1" y="1447"/>
                    <a:pt x="5" y="1456"/>
                    <a:pt x="9" y="1464"/>
                  </a:cubicBezTo>
                  <a:cubicBezTo>
                    <a:pt x="14" y="1475"/>
                    <a:pt x="21" y="1484"/>
                    <a:pt x="29" y="1493"/>
                  </a:cubicBezTo>
                  <a:cubicBezTo>
                    <a:pt x="36" y="1502"/>
                    <a:pt x="44" y="1510"/>
                    <a:pt x="51" y="1517"/>
                  </a:cubicBezTo>
                  <a:cubicBezTo>
                    <a:pt x="56" y="1522"/>
                    <a:pt x="60" y="1526"/>
                    <a:pt x="65" y="1531"/>
                  </a:cubicBezTo>
                  <a:cubicBezTo>
                    <a:pt x="81" y="1547"/>
                    <a:pt x="98" y="1563"/>
                    <a:pt x="114" y="1580"/>
                  </a:cubicBezTo>
                  <a:cubicBezTo>
                    <a:pt x="116" y="1582"/>
                    <a:pt x="118" y="1584"/>
                    <a:pt x="119" y="1586"/>
                  </a:cubicBezTo>
                  <a:cubicBezTo>
                    <a:pt x="121" y="1589"/>
                    <a:pt x="123" y="1591"/>
                    <a:pt x="125" y="1594"/>
                  </a:cubicBezTo>
                  <a:cubicBezTo>
                    <a:pt x="132" y="1603"/>
                    <a:pt x="138" y="1613"/>
                    <a:pt x="141" y="1624"/>
                  </a:cubicBezTo>
                  <a:cubicBezTo>
                    <a:pt x="145" y="1635"/>
                    <a:pt x="146" y="1647"/>
                    <a:pt x="145" y="1658"/>
                  </a:cubicBezTo>
                  <a:cubicBezTo>
                    <a:pt x="145" y="1666"/>
                    <a:pt x="143" y="1673"/>
                    <a:pt x="140" y="1680"/>
                  </a:cubicBezTo>
                  <a:cubicBezTo>
                    <a:pt x="135" y="1687"/>
                    <a:pt x="130" y="1694"/>
                    <a:pt x="124" y="1701"/>
                  </a:cubicBezTo>
                  <a:cubicBezTo>
                    <a:pt x="109" y="1718"/>
                    <a:pt x="92" y="1733"/>
                    <a:pt x="75" y="1749"/>
                  </a:cubicBezTo>
                  <a:cubicBezTo>
                    <a:pt x="58" y="1765"/>
                    <a:pt x="40" y="1781"/>
                    <a:pt x="26" y="1799"/>
                  </a:cubicBezTo>
                  <a:cubicBezTo>
                    <a:pt x="18" y="1808"/>
                    <a:pt x="11" y="1818"/>
                    <a:pt x="6" y="1828"/>
                  </a:cubicBezTo>
                  <a:cubicBezTo>
                    <a:pt x="3" y="1834"/>
                    <a:pt x="1" y="1840"/>
                    <a:pt x="0" y="1846"/>
                  </a:cubicBezTo>
                  <a:cubicBezTo>
                    <a:pt x="0" y="1849"/>
                    <a:pt x="1" y="1852"/>
                    <a:pt x="1" y="1855"/>
                  </a:cubicBezTo>
                  <a:cubicBezTo>
                    <a:pt x="0" y="1855"/>
                    <a:pt x="0" y="1855"/>
                    <a:pt x="0" y="1855"/>
                  </a:cubicBezTo>
                  <a:cubicBezTo>
                    <a:pt x="0" y="1856"/>
                    <a:pt x="1" y="1858"/>
                    <a:pt x="1" y="1859"/>
                  </a:cubicBezTo>
                  <a:cubicBezTo>
                    <a:pt x="1" y="1861"/>
                    <a:pt x="1" y="1862"/>
                    <a:pt x="1" y="1863"/>
                  </a:cubicBezTo>
                  <a:cubicBezTo>
                    <a:pt x="0" y="1865"/>
                    <a:pt x="0" y="1867"/>
                    <a:pt x="0" y="1870"/>
                  </a:cubicBezTo>
                  <a:cubicBezTo>
                    <a:pt x="1" y="1879"/>
                    <a:pt x="5" y="1888"/>
                    <a:pt x="9" y="1896"/>
                  </a:cubicBezTo>
                  <a:cubicBezTo>
                    <a:pt x="14" y="1907"/>
                    <a:pt x="21" y="1916"/>
                    <a:pt x="29" y="1925"/>
                  </a:cubicBezTo>
                  <a:cubicBezTo>
                    <a:pt x="44" y="1943"/>
                    <a:pt x="61" y="1958"/>
                    <a:pt x="78" y="1974"/>
                  </a:cubicBezTo>
                  <a:cubicBezTo>
                    <a:pt x="78" y="1975"/>
                    <a:pt x="79" y="1975"/>
                    <a:pt x="79" y="1975"/>
                  </a:cubicBezTo>
                  <a:cubicBezTo>
                    <a:pt x="86" y="1982"/>
                    <a:pt x="93" y="1988"/>
                    <a:pt x="99" y="1995"/>
                  </a:cubicBezTo>
                  <a:cubicBezTo>
                    <a:pt x="109" y="2005"/>
                    <a:pt x="117" y="2014"/>
                    <a:pt x="125" y="2025"/>
                  </a:cubicBezTo>
                  <a:cubicBezTo>
                    <a:pt x="132" y="2035"/>
                    <a:pt x="138" y="2045"/>
                    <a:pt x="141" y="2056"/>
                  </a:cubicBezTo>
                  <a:cubicBezTo>
                    <a:pt x="145" y="2067"/>
                    <a:pt x="146" y="2078"/>
                    <a:pt x="145" y="2090"/>
                  </a:cubicBezTo>
                  <a:cubicBezTo>
                    <a:pt x="145" y="2096"/>
                    <a:pt x="143" y="2102"/>
                    <a:pt x="141" y="2108"/>
                  </a:cubicBezTo>
                  <a:cubicBezTo>
                    <a:pt x="137" y="2116"/>
                    <a:pt x="131" y="2124"/>
                    <a:pt x="124" y="2131"/>
                  </a:cubicBezTo>
                  <a:cubicBezTo>
                    <a:pt x="116" y="2141"/>
                    <a:pt x="106" y="2150"/>
                    <a:pt x="97" y="2159"/>
                  </a:cubicBezTo>
                  <a:cubicBezTo>
                    <a:pt x="112" y="2159"/>
                    <a:pt x="112" y="2159"/>
                    <a:pt x="112" y="2159"/>
                  </a:cubicBezTo>
                  <a:cubicBezTo>
                    <a:pt x="119" y="2152"/>
                    <a:pt x="126" y="2145"/>
                    <a:pt x="132" y="2138"/>
                  </a:cubicBezTo>
                  <a:cubicBezTo>
                    <a:pt x="136" y="2133"/>
                    <a:pt x="141" y="2128"/>
                    <a:pt x="145" y="2122"/>
                  </a:cubicBezTo>
                  <a:cubicBezTo>
                    <a:pt x="145" y="2122"/>
                    <a:pt x="145" y="2122"/>
                    <a:pt x="145" y="2122"/>
                  </a:cubicBezTo>
                  <a:cubicBezTo>
                    <a:pt x="145" y="2122"/>
                    <a:pt x="145" y="2121"/>
                    <a:pt x="146" y="2120"/>
                  </a:cubicBezTo>
                  <a:cubicBezTo>
                    <a:pt x="148" y="2116"/>
                    <a:pt x="151" y="2112"/>
                    <a:pt x="153" y="2107"/>
                  </a:cubicBezTo>
                  <a:cubicBezTo>
                    <a:pt x="156" y="2101"/>
                    <a:pt x="158" y="2095"/>
                    <a:pt x="159" y="2088"/>
                  </a:cubicBezTo>
                  <a:cubicBezTo>
                    <a:pt x="160" y="2080"/>
                    <a:pt x="159" y="2074"/>
                    <a:pt x="158" y="2068"/>
                  </a:cubicBezTo>
                  <a:cubicBezTo>
                    <a:pt x="155" y="2055"/>
                    <a:pt x="150" y="2043"/>
                    <a:pt x="143" y="2033"/>
                  </a:cubicBezTo>
                  <a:cubicBezTo>
                    <a:pt x="142" y="2032"/>
                    <a:pt x="141" y="2030"/>
                    <a:pt x="140" y="2029"/>
                  </a:cubicBezTo>
                  <a:cubicBezTo>
                    <a:pt x="138" y="2026"/>
                    <a:pt x="136" y="2022"/>
                    <a:pt x="134" y="2019"/>
                  </a:cubicBezTo>
                  <a:cubicBezTo>
                    <a:pt x="120" y="1999"/>
                    <a:pt x="102" y="1982"/>
                    <a:pt x="86" y="1966"/>
                  </a:cubicBezTo>
                  <a:cubicBezTo>
                    <a:pt x="69" y="1950"/>
                    <a:pt x="52" y="1935"/>
                    <a:pt x="38" y="1917"/>
                  </a:cubicBezTo>
                  <a:cubicBezTo>
                    <a:pt x="24" y="1901"/>
                    <a:pt x="12" y="1881"/>
                    <a:pt x="11" y="1861"/>
                  </a:cubicBezTo>
                  <a:cubicBezTo>
                    <a:pt x="10" y="1852"/>
                    <a:pt x="12" y="1843"/>
                    <a:pt x="17" y="1833"/>
                  </a:cubicBezTo>
                  <a:cubicBezTo>
                    <a:pt x="21" y="1824"/>
                    <a:pt x="28" y="1815"/>
                    <a:pt x="35" y="1806"/>
                  </a:cubicBezTo>
                  <a:cubicBezTo>
                    <a:pt x="49" y="1789"/>
                    <a:pt x="65" y="1773"/>
                    <a:pt x="82" y="1757"/>
                  </a:cubicBezTo>
                  <a:cubicBezTo>
                    <a:pt x="99" y="1741"/>
                    <a:pt x="116" y="1726"/>
                    <a:pt x="132" y="1708"/>
                  </a:cubicBezTo>
                  <a:cubicBezTo>
                    <a:pt x="140" y="1698"/>
                    <a:pt x="148" y="1689"/>
                    <a:pt x="153" y="1677"/>
                  </a:cubicBezTo>
                  <a:cubicBezTo>
                    <a:pt x="156" y="1671"/>
                    <a:pt x="158" y="1664"/>
                    <a:pt x="159" y="1657"/>
                  </a:cubicBezTo>
                  <a:cubicBezTo>
                    <a:pt x="160" y="1650"/>
                    <a:pt x="159" y="1644"/>
                    <a:pt x="158" y="1637"/>
                  </a:cubicBezTo>
                  <a:cubicBezTo>
                    <a:pt x="155" y="1625"/>
                    <a:pt x="150" y="1614"/>
                    <a:pt x="144" y="1605"/>
                  </a:cubicBezTo>
                  <a:cubicBezTo>
                    <a:pt x="141" y="1599"/>
                    <a:pt x="138" y="1593"/>
                    <a:pt x="134" y="1588"/>
                  </a:cubicBezTo>
                  <a:cubicBezTo>
                    <a:pt x="120" y="1567"/>
                    <a:pt x="102" y="1551"/>
                    <a:pt x="86" y="1535"/>
                  </a:cubicBezTo>
                  <a:cubicBezTo>
                    <a:pt x="69" y="1519"/>
                    <a:pt x="52" y="1503"/>
                    <a:pt x="38" y="1486"/>
                  </a:cubicBezTo>
                  <a:cubicBezTo>
                    <a:pt x="24" y="1469"/>
                    <a:pt x="12" y="1450"/>
                    <a:pt x="11" y="1430"/>
                  </a:cubicBezTo>
                  <a:cubicBezTo>
                    <a:pt x="10" y="1421"/>
                    <a:pt x="12" y="1411"/>
                    <a:pt x="17" y="1402"/>
                  </a:cubicBezTo>
                  <a:cubicBezTo>
                    <a:pt x="21" y="1392"/>
                    <a:pt x="28" y="1383"/>
                    <a:pt x="35" y="1375"/>
                  </a:cubicBezTo>
                  <a:cubicBezTo>
                    <a:pt x="49" y="1357"/>
                    <a:pt x="65" y="1342"/>
                    <a:pt x="82" y="1326"/>
                  </a:cubicBezTo>
                  <a:cubicBezTo>
                    <a:pt x="99" y="1310"/>
                    <a:pt x="116" y="1294"/>
                    <a:pt x="132" y="1276"/>
                  </a:cubicBezTo>
                  <a:cubicBezTo>
                    <a:pt x="136" y="1271"/>
                    <a:pt x="140" y="1266"/>
                    <a:pt x="144" y="1261"/>
                  </a:cubicBezTo>
                  <a:cubicBezTo>
                    <a:pt x="145" y="1261"/>
                    <a:pt x="145" y="1261"/>
                    <a:pt x="145" y="1261"/>
                  </a:cubicBezTo>
                  <a:cubicBezTo>
                    <a:pt x="146" y="1259"/>
                    <a:pt x="147" y="1258"/>
                    <a:pt x="148" y="1256"/>
                  </a:cubicBezTo>
                  <a:cubicBezTo>
                    <a:pt x="150" y="1252"/>
                    <a:pt x="152" y="1249"/>
                    <a:pt x="153" y="1245"/>
                  </a:cubicBezTo>
                  <a:cubicBezTo>
                    <a:pt x="156" y="1239"/>
                    <a:pt x="158" y="1233"/>
                    <a:pt x="159" y="1226"/>
                  </a:cubicBezTo>
                  <a:cubicBezTo>
                    <a:pt x="160" y="1218"/>
                    <a:pt x="159" y="1212"/>
                    <a:pt x="158" y="1206"/>
                  </a:cubicBezTo>
                  <a:cubicBezTo>
                    <a:pt x="155" y="1193"/>
                    <a:pt x="150" y="1181"/>
                    <a:pt x="143" y="1171"/>
                  </a:cubicBezTo>
                  <a:cubicBezTo>
                    <a:pt x="141" y="1168"/>
                    <a:pt x="138" y="1164"/>
                    <a:pt x="136" y="1161"/>
                  </a:cubicBezTo>
                  <a:cubicBezTo>
                    <a:pt x="135" y="1160"/>
                    <a:pt x="134" y="1159"/>
                    <a:pt x="134" y="1158"/>
                  </a:cubicBezTo>
                  <a:cubicBezTo>
                    <a:pt x="120" y="1138"/>
                    <a:pt x="102" y="1122"/>
                    <a:pt x="86" y="1105"/>
                  </a:cubicBezTo>
                  <a:cubicBezTo>
                    <a:pt x="69" y="1089"/>
                    <a:pt x="52" y="1074"/>
                    <a:pt x="38" y="1057"/>
                  </a:cubicBezTo>
                  <a:cubicBezTo>
                    <a:pt x="24" y="1040"/>
                    <a:pt x="12" y="1020"/>
                    <a:pt x="11" y="1000"/>
                  </a:cubicBezTo>
                  <a:cubicBezTo>
                    <a:pt x="10" y="991"/>
                    <a:pt x="12" y="982"/>
                    <a:pt x="17" y="972"/>
                  </a:cubicBezTo>
                  <a:cubicBezTo>
                    <a:pt x="21" y="963"/>
                    <a:pt x="28" y="954"/>
                    <a:pt x="35" y="945"/>
                  </a:cubicBezTo>
                  <a:cubicBezTo>
                    <a:pt x="49" y="928"/>
                    <a:pt x="65" y="912"/>
                    <a:pt x="82" y="896"/>
                  </a:cubicBezTo>
                  <a:cubicBezTo>
                    <a:pt x="99" y="880"/>
                    <a:pt x="116" y="865"/>
                    <a:pt x="132" y="847"/>
                  </a:cubicBezTo>
                  <a:cubicBezTo>
                    <a:pt x="140" y="837"/>
                    <a:pt x="148" y="828"/>
                    <a:pt x="153" y="816"/>
                  </a:cubicBezTo>
                  <a:cubicBezTo>
                    <a:pt x="156" y="810"/>
                    <a:pt x="158" y="803"/>
                    <a:pt x="159" y="796"/>
                  </a:cubicBezTo>
                  <a:cubicBezTo>
                    <a:pt x="160" y="789"/>
                    <a:pt x="159" y="783"/>
                    <a:pt x="158" y="776"/>
                  </a:cubicBezTo>
                  <a:cubicBezTo>
                    <a:pt x="156" y="766"/>
                    <a:pt x="152" y="756"/>
                    <a:pt x="147" y="748"/>
                  </a:cubicBezTo>
                  <a:cubicBezTo>
                    <a:pt x="143" y="740"/>
                    <a:pt x="139" y="732"/>
                    <a:pt x="134" y="726"/>
                  </a:cubicBezTo>
                  <a:cubicBezTo>
                    <a:pt x="120" y="705"/>
                    <a:pt x="102" y="689"/>
                    <a:pt x="86" y="673"/>
                  </a:cubicBezTo>
                  <a:cubicBezTo>
                    <a:pt x="69" y="656"/>
                    <a:pt x="52" y="641"/>
                    <a:pt x="38" y="624"/>
                  </a:cubicBezTo>
                  <a:cubicBezTo>
                    <a:pt x="24" y="607"/>
                    <a:pt x="12" y="588"/>
                    <a:pt x="11" y="568"/>
                  </a:cubicBezTo>
                  <a:cubicBezTo>
                    <a:pt x="10" y="558"/>
                    <a:pt x="12" y="549"/>
                    <a:pt x="17" y="540"/>
                  </a:cubicBezTo>
                  <a:cubicBezTo>
                    <a:pt x="21" y="530"/>
                    <a:pt x="28" y="521"/>
                    <a:pt x="35" y="513"/>
                  </a:cubicBezTo>
                  <a:cubicBezTo>
                    <a:pt x="49" y="495"/>
                    <a:pt x="65" y="480"/>
                    <a:pt x="82" y="464"/>
                  </a:cubicBezTo>
                  <a:cubicBezTo>
                    <a:pt x="99" y="448"/>
                    <a:pt x="116" y="432"/>
                    <a:pt x="132" y="414"/>
                  </a:cubicBezTo>
                  <a:cubicBezTo>
                    <a:pt x="140" y="405"/>
                    <a:pt x="148" y="395"/>
                    <a:pt x="153" y="383"/>
                  </a:cubicBezTo>
                  <a:cubicBezTo>
                    <a:pt x="156" y="377"/>
                    <a:pt x="158" y="371"/>
                    <a:pt x="159" y="364"/>
                  </a:cubicBezTo>
                  <a:cubicBezTo>
                    <a:pt x="160" y="356"/>
                    <a:pt x="159" y="350"/>
                    <a:pt x="158" y="344"/>
                  </a:cubicBezTo>
                  <a:cubicBezTo>
                    <a:pt x="156" y="333"/>
                    <a:pt x="152" y="324"/>
                    <a:pt x="147" y="315"/>
                  </a:cubicBezTo>
                  <a:cubicBezTo>
                    <a:pt x="143" y="307"/>
                    <a:pt x="139" y="300"/>
                    <a:pt x="134" y="293"/>
                  </a:cubicBezTo>
                  <a:cubicBezTo>
                    <a:pt x="120" y="273"/>
                    <a:pt x="102" y="256"/>
                    <a:pt x="86" y="240"/>
                  </a:cubicBezTo>
                  <a:cubicBezTo>
                    <a:pt x="69" y="224"/>
                    <a:pt x="52" y="208"/>
                    <a:pt x="38" y="191"/>
                  </a:cubicBezTo>
                  <a:cubicBezTo>
                    <a:pt x="24" y="174"/>
                    <a:pt x="12" y="155"/>
                    <a:pt x="11" y="135"/>
                  </a:cubicBezTo>
                  <a:cubicBezTo>
                    <a:pt x="10" y="126"/>
                    <a:pt x="12" y="116"/>
                    <a:pt x="17" y="107"/>
                  </a:cubicBezTo>
                  <a:cubicBezTo>
                    <a:pt x="21" y="97"/>
                    <a:pt x="28" y="88"/>
                    <a:pt x="35" y="80"/>
                  </a:cubicBezTo>
                  <a:cubicBezTo>
                    <a:pt x="49" y="63"/>
                    <a:pt x="65" y="47"/>
                    <a:pt x="82" y="31"/>
                  </a:cubicBezTo>
                  <a:cubicBezTo>
                    <a:pt x="93" y="21"/>
                    <a:pt x="104" y="10"/>
                    <a:pt x="114" y="0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91" y="7"/>
                    <a:pt x="83" y="15"/>
                    <a:pt x="75" y="23"/>
                  </a:cubicBezTo>
                  <a:cubicBezTo>
                    <a:pt x="58" y="39"/>
                    <a:pt x="40" y="54"/>
                    <a:pt x="26" y="72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19" name="Freeform 13"/>
            <p:cNvSpPr/>
            <p:nvPr/>
          </p:nvSpPr>
          <p:spPr>
            <a:xfrm>
              <a:off x="2541600" y="-1440"/>
              <a:ext cx="991800" cy="6862320"/>
            </a:xfrm>
            <a:custGeom>
              <a:avLst/>
              <a:gdLst>
                <a:gd name="textAreaLeft" fmla="*/ 0 w 991800"/>
                <a:gd name="textAreaRight" fmla="*/ 992160 w 99180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312" h="2159">
                  <a:moveTo>
                    <a:pt x="123" y="74"/>
                  </a:moveTo>
                  <a:cubicBezTo>
                    <a:pt x="130" y="83"/>
                    <a:pt x="137" y="92"/>
                    <a:pt x="142" y="103"/>
                  </a:cubicBezTo>
                  <a:cubicBezTo>
                    <a:pt x="146" y="111"/>
                    <a:pt x="149" y="121"/>
                    <a:pt x="149" y="131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46" y="149"/>
                    <a:pt x="139" y="167"/>
                    <a:pt x="129" y="183"/>
                  </a:cubicBezTo>
                  <a:cubicBezTo>
                    <a:pt x="127" y="187"/>
                    <a:pt x="124" y="192"/>
                    <a:pt x="121" y="196"/>
                  </a:cubicBezTo>
                  <a:cubicBezTo>
                    <a:pt x="120" y="196"/>
                    <a:pt x="120" y="197"/>
                    <a:pt x="120" y="197"/>
                  </a:cubicBezTo>
                  <a:cubicBezTo>
                    <a:pt x="105" y="215"/>
                    <a:pt x="87" y="230"/>
                    <a:pt x="71" y="246"/>
                  </a:cubicBezTo>
                  <a:cubicBezTo>
                    <a:pt x="54" y="262"/>
                    <a:pt x="37" y="279"/>
                    <a:pt x="23" y="298"/>
                  </a:cubicBezTo>
                  <a:cubicBezTo>
                    <a:pt x="22" y="300"/>
                    <a:pt x="20" y="302"/>
                    <a:pt x="19" y="305"/>
                  </a:cubicBezTo>
                  <a:cubicBezTo>
                    <a:pt x="17" y="307"/>
                    <a:pt x="15" y="310"/>
                    <a:pt x="13" y="313"/>
                  </a:cubicBezTo>
                  <a:cubicBezTo>
                    <a:pt x="7" y="322"/>
                    <a:pt x="2" y="333"/>
                    <a:pt x="0" y="345"/>
                  </a:cubicBezTo>
                  <a:cubicBezTo>
                    <a:pt x="0" y="345"/>
                    <a:pt x="0" y="346"/>
                    <a:pt x="0" y="347"/>
                  </a:cubicBezTo>
                  <a:cubicBezTo>
                    <a:pt x="1" y="352"/>
                    <a:pt x="1" y="357"/>
                    <a:pt x="0" y="364"/>
                  </a:cubicBezTo>
                  <a:cubicBezTo>
                    <a:pt x="0" y="365"/>
                    <a:pt x="0" y="366"/>
                    <a:pt x="0" y="367"/>
                  </a:cubicBezTo>
                  <a:cubicBezTo>
                    <a:pt x="1" y="372"/>
                    <a:pt x="2" y="376"/>
                    <a:pt x="4" y="379"/>
                  </a:cubicBezTo>
                  <a:cubicBezTo>
                    <a:pt x="6" y="383"/>
                    <a:pt x="8" y="387"/>
                    <a:pt x="10" y="390"/>
                  </a:cubicBezTo>
                  <a:cubicBezTo>
                    <a:pt x="11" y="392"/>
                    <a:pt x="12" y="394"/>
                    <a:pt x="13" y="396"/>
                  </a:cubicBezTo>
                  <a:cubicBezTo>
                    <a:pt x="14" y="396"/>
                    <a:pt x="14" y="396"/>
                    <a:pt x="14" y="396"/>
                  </a:cubicBezTo>
                  <a:cubicBezTo>
                    <a:pt x="17" y="400"/>
                    <a:pt x="21" y="404"/>
                    <a:pt x="24" y="408"/>
                  </a:cubicBezTo>
                  <a:cubicBezTo>
                    <a:pt x="40" y="426"/>
                    <a:pt x="57" y="441"/>
                    <a:pt x="74" y="457"/>
                  </a:cubicBezTo>
                  <a:cubicBezTo>
                    <a:pt x="91" y="473"/>
                    <a:pt x="108" y="489"/>
                    <a:pt x="123" y="507"/>
                  </a:cubicBezTo>
                  <a:cubicBezTo>
                    <a:pt x="130" y="516"/>
                    <a:pt x="137" y="525"/>
                    <a:pt x="142" y="535"/>
                  </a:cubicBezTo>
                  <a:cubicBezTo>
                    <a:pt x="146" y="544"/>
                    <a:pt x="149" y="554"/>
                    <a:pt x="149" y="564"/>
                  </a:cubicBezTo>
                  <a:cubicBezTo>
                    <a:pt x="149" y="564"/>
                    <a:pt x="149" y="564"/>
                    <a:pt x="149" y="564"/>
                  </a:cubicBezTo>
                  <a:cubicBezTo>
                    <a:pt x="146" y="582"/>
                    <a:pt x="139" y="600"/>
                    <a:pt x="129" y="616"/>
                  </a:cubicBezTo>
                  <a:cubicBezTo>
                    <a:pt x="127" y="620"/>
                    <a:pt x="124" y="625"/>
                    <a:pt x="121" y="629"/>
                  </a:cubicBezTo>
                  <a:cubicBezTo>
                    <a:pt x="120" y="629"/>
                    <a:pt x="120" y="629"/>
                    <a:pt x="120" y="630"/>
                  </a:cubicBezTo>
                  <a:cubicBezTo>
                    <a:pt x="105" y="648"/>
                    <a:pt x="87" y="663"/>
                    <a:pt x="71" y="679"/>
                  </a:cubicBezTo>
                  <a:cubicBezTo>
                    <a:pt x="54" y="695"/>
                    <a:pt x="37" y="711"/>
                    <a:pt x="23" y="730"/>
                  </a:cubicBezTo>
                  <a:cubicBezTo>
                    <a:pt x="22" y="733"/>
                    <a:pt x="20" y="735"/>
                    <a:pt x="19" y="737"/>
                  </a:cubicBezTo>
                  <a:cubicBezTo>
                    <a:pt x="17" y="740"/>
                    <a:pt x="15" y="743"/>
                    <a:pt x="13" y="745"/>
                  </a:cubicBezTo>
                  <a:cubicBezTo>
                    <a:pt x="7" y="755"/>
                    <a:pt x="2" y="766"/>
                    <a:pt x="0" y="778"/>
                  </a:cubicBezTo>
                  <a:cubicBezTo>
                    <a:pt x="0" y="778"/>
                    <a:pt x="0" y="779"/>
                    <a:pt x="0" y="779"/>
                  </a:cubicBezTo>
                  <a:cubicBezTo>
                    <a:pt x="1" y="785"/>
                    <a:pt x="1" y="790"/>
                    <a:pt x="0" y="796"/>
                  </a:cubicBezTo>
                  <a:cubicBezTo>
                    <a:pt x="0" y="798"/>
                    <a:pt x="0" y="799"/>
                    <a:pt x="0" y="800"/>
                  </a:cubicBezTo>
                  <a:cubicBezTo>
                    <a:pt x="1" y="804"/>
                    <a:pt x="2" y="808"/>
                    <a:pt x="4" y="812"/>
                  </a:cubicBezTo>
                  <a:cubicBezTo>
                    <a:pt x="6" y="816"/>
                    <a:pt x="8" y="819"/>
                    <a:pt x="10" y="823"/>
                  </a:cubicBezTo>
                  <a:cubicBezTo>
                    <a:pt x="11" y="825"/>
                    <a:pt x="12" y="827"/>
                    <a:pt x="13" y="828"/>
                  </a:cubicBezTo>
                  <a:cubicBezTo>
                    <a:pt x="14" y="828"/>
                    <a:pt x="14" y="828"/>
                    <a:pt x="14" y="828"/>
                  </a:cubicBezTo>
                  <a:cubicBezTo>
                    <a:pt x="17" y="833"/>
                    <a:pt x="21" y="837"/>
                    <a:pt x="24" y="841"/>
                  </a:cubicBezTo>
                  <a:cubicBezTo>
                    <a:pt x="40" y="858"/>
                    <a:pt x="57" y="874"/>
                    <a:pt x="74" y="890"/>
                  </a:cubicBezTo>
                  <a:cubicBezTo>
                    <a:pt x="91" y="906"/>
                    <a:pt x="108" y="922"/>
                    <a:pt x="123" y="939"/>
                  </a:cubicBezTo>
                  <a:cubicBezTo>
                    <a:pt x="130" y="948"/>
                    <a:pt x="137" y="958"/>
                    <a:pt x="142" y="968"/>
                  </a:cubicBezTo>
                  <a:cubicBezTo>
                    <a:pt x="146" y="976"/>
                    <a:pt x="148" y="984"/>
                    <a:pt x="149" y="993"/>
                  </a:cubicBezTo>
                  <a:cubicBezTo>
                    <a:pt x="149" y="993"/>
                    <a:pt x="149" y="993"/>
                    <a:pt x="149" y="993"/>
                  </a:cubicBezTo>
                  <a:cubicBezTo>
                    <a:pt x="146" y="1012"/>
                    <a:pt x="139" y="1029"/>
                    <a:pt x="129" y="1045"/>
                  </a:cubicBezTo>
                  <a:cubicBezTo>
                    <a:pt x="117" y="1065"/>
                    <a:pt x="101" y="1082"/>
                    <a:pt x="84" y="1098"/>
                  </a:cubicBezTo>
                  <a:cubicBezTo>
                    <a:pt x="68" y="1114"/>
                    <a:pt x="51" y="1130"/>
                    <a:pt x="35" y="1147"/>
                  </a:cubicBezTo>
                  <a:cubicBezTo>
                    <a:pt x="27" y="1156"/>
                    <a:pt x="20" y="1165"/>
                    <a:pt x="13" y="1175"/>
                  </a:cubicBezTo>
                  <a:cubicBezTo>
                    <a:pt x="7" y="1185"/>
                    <a:pt x="2" y="1195"/>
                    <a:pt x="0" y="1207"/>
                  </a:cubicBezTo>
                  <a:cubicBezTo>
                    <a:pt x="0" y="1208"/>
                    <a:pt x="0" y="1208"/>
                    <a:pt x="0" y="1209"/>
                  </a:cubicBezTo>
                  <a:cubicBezTo>
                    <a:pt x="1" y="1214"/>
                    <a:pt x="1" y="1220"/>
                    <a:pt x="0" y="1226"/>
                  </a:cubicBezTo>
                  <a:cubicBezTo>
                    <a:pt x="0" y="1227"/>
                    <a:pt x="0" y="1228"/>
                    <a:pt x="0" y="1230"/>
                  </a:cubicBezTo>
                  <a:cubicBezTo>
                    <a:pt x="1" y="1234"/>
                    <a:pt x="2" y="1238"/>
                    <a:pt x="4" y="1242"/>
                  </a:cubicBezTo>
                  <a:cubicBezTo>
                    <a:pt x="5" y="1243"/>
                    <a:pt x="6" y="1244"/>
                    <a:pt x="6" y="1245"/>
                  </a:cubicBezTo>
                  <a:cubicBezTo>
                    <a:pt x="8" y="1251"/>
                    <a:pt x="10" y="1256"/>
                    <a:pt x="13" y="1261"/>
                  </a:cubicBezTo>
                  <a:cubicBezTo>
                    <a:pt x="17" y="1261"/>
                    <a:pt x="17" y="1261"/>
                    <a:pt x="17" y="1261"/>
                  </a:cubicBezTo>
                  <a:cubicBezTo>
                    <a:pt x="19" y="1264"/>
                    <a:pt x="22" y="1267"/>
                    <a:pt x="24" y="1270"/>
                  </a:cubicBezTo>
                  <a:cubicBezTo>
                    <a:pt x="40" y="1288"/>
                    <a:pt x="57" y="1303"/>
                    <a:pt x="74" y="1319"/>
                  </a:cubicBezTo>
                  <a:cubicBezTo>
                    <a:pt x="91" y="1335"/>
                    <a:pt x="108" y="1351"/>
                    <a:pt x="123" y="1369"/>
                  </a:cubicBezTo>
                  <a:cubicBezTo>
                    <a:pt x="130" y="1378"/>
                    <a:pt x="137" y="1387"/>
                    <a:pt x="142" y="1398"/>
                  </a:cubicBezTo>
                  <a:cubicBezTo>
                    <a:pt x="146" y="1406"/>
                    <a:pt x="149" y="1415"/>
                    <a:pt x="149" y="1425"/>
                  </a:cubicBezTo>
                  <a:cubicBezTo>
                    <a:pt x="149" y="1425"/>
                    <a:pt x="149" y="1425"/>
                    <a:pt x="149" y="1425"/>
                  </a:cubicBezTo>
                  <a:cubicBezTo>
                    <a:pt x="146" y="1443"/>
                    <a:pt x="139" y="1461"/>
                    <a:pt x="129" y="1477"/>
                  </a:cubicBezTo>
                  <a:cubicBezTo>
                    <a:pt x="124" y="1485"/>
                    <a:pt x="118" y="1493"/>
                    <a:pt x="111" y="1501"/>
                  </a:cubicBezTo>
                  <a:cubicBezTo>
                    <a:pt x="99" y="1515"/>
                    <a:pt x="84" y="1528"/>
                    <a:pt x="71" y="1541"/>
                  </a:cubicBezTo>
                  <a:cubicBezTo>
                    <a:pt x="55" y="1556"/>
                    <a:pt x="39" y="1572"/>
                    <a:pt x="26" y="1590"/>
                  </a:cubicBezTo>
                  <a:cubicBezTo>
                    <a:pt x="21" y="1595"/>
                    <a:pt x="17" y="1600"/>
                    <a:pt x="13" y="1606"/>
                  </a:cubicBezTo>
                  <a:cubicBezTo>
                    <a:pt x="7" y="1616"/>
                    <a:pt x="2" y="1627"/>
                    <a:pt x="0" y="1639"/>
                  </a:cubicBezTo>
                  <a:cubicBezTo>
                    <a:pt x="0" y="1639"/>
                    <a:pt x="0" y="1640"/>
                    <a:pt x="0" y="1640"/>
                  </a:cubicBezTo>
                  <a:cubicBezTo>
                    <a:pt x="1" y="1646"/>
                    <a:pt x="1" y="1651"/>
                    <a:pt x="0" y="1657"/>
                  </a:cubicBezTo>
                  <a:cubicBezTo>
                    <a:pt x="0" y="1659"/>
                    <a:pt x="0" y="1660"/>
                    <a:pt x="0" y="1661"/>
                  </a:cubicBezTo>
                  <a:cubicBezTo>
                    <a:pt x="1" y="1665"/>
                    <a:pt x="2" y="1669"/>
                    <a:pt x="4" y="1673"/>
                  </a:cubicBezTo>
                  <a:cubicBezTo>
                    <a:pt x="6" y="1676"/>
                    <a:pt x="7" y="1679"/>
                    <a:pt x="9" y="1681"/>
                  </a:cubicBezTo>
                  <a:cubicBezTo>
                    <a:pt x="10" y="1685"/>
                    <a:pt x="12" y="1688"/>
                    <a:pt x="13" y="1691"/>
                  </a:cubicBezTo>
                  <a:cubicBezTo>
                    <a:pt x="15" y="1691"/>
                    <a:pt x="15" y="1691"/>
                    <a:pt x="15" y="1691"/>
                  </a:cubicBezTo>
                  <a:cubicBezTo>
                    <a:pt x="18" y="1694"/>
                    <a:pt x="21" y="1698"/>
                    <a:pt x="24" y="1702"/>
                  </a:cubicBezTo>
                  <a:cubicBezTo>
                    <a:pt x="40" y="1719"/>
                    <a:pt x="57" y="1735"/>
                    <a:pt x="74" y="1751"/>
                  </a:cubicBezTo>
                  <a:cubicBezTo>
                    <a:pt x="91" y="1767"/>
                    <a:pt x="108" y="1783"/>
                    <a:pt x="123" y="1800"/>
                  </a:cubicBezTo>
                  <a:cubicBezTo>
                    <a:pt x="130" y="1809"/>
                    <a:pt x="137" y="1819"/>
                    <a:pt x="142" y="1829"/>
                  </a:cubicBezTo>
                  <a:cubicBezTo>
                    <a:pt x="146" y="1837"/>
                    <a:pt x="149" y="1846"/>
                    <a:pt x="149" y="1855"/>
                  </a:cubicBezTo>
                  <a:cubicBezTo>
                    <a:pt x="149" y="1855"/>
                    <a:pt x="149" y="1855"/>
                    <a:pt x="149" y="1855"/>
                  </a:cubicBezTo>
                  <a:cubicBezTo>
                    <a:pt x="146" y="1874"/>
                    <a:pt x="139" y="1891"/>
                    <a:pt x="129" y="1907"/>
                  </a:cubicBezTo>
                  <a:cubicBezTo>
                    <a:pt x="119" y="1923"/>
                    <a:pt x="107" y="1938"/>
                    <a:pt x="93" y="1951"/>
                  </a:cubicBezTo>
                  <a:cubicBezTo>
                    <a:pt x="86" y="1959"/>
                    <a:pt x="78" y="1966"/>
                    <a:pt x="71" y="1973"/>
                  </a:cubicBezTo>
                  <a:cubicBezTo>
                    <a:pt x="59" y="1984"/>
                    <a:pt x="48" y="1995"/>
                    <a:pt x="37" y="2007"/>
                  </a:cubicBezTo>
                  <a:cubicBezTo>
                    <a:pt x="36" y="2008"/>
                    <a:pt x="36" y="2008"/>
                    <a:pt x="35" y="2009"/>
                  </a:cubicBezTo>
                  <a:cubicBezTo>
                    <a:pt x="27" y="2018"/>
                    <a:pt x="20" y="2027"/>
                    <a:pt x="13" y="2037"/>
                  </a:cubicBezTo>
                  <a:cubicBezTo>
                    <a:pt x="7" y="2047"/>
                    <a:pt x="2" y="2057"/>
                    <a:pt x="0" y="2069"/>
                  </a:cubicBezTo>
                  <a:cubicBezTo>
                    <a:pt x="0" y="2070"/>
                    <a:pt x="0" y="2070"/>
                    <a:pt x="0" y="2071"/>
                  </a:cubicBezTo>
                  <a:cubicBezTo>
                    <a:pt x="1" y="2076"/>
                    <a:pt x="1" y="2082"/>
                    <a:pt x="0" y="2088"/>
                  </a:cubicBezTo>
                  <a:cubicBezTo>
                    <a:pt x="0" y="2089"/>
                    <a:pt x="0" y="2090"/>
                    <a:pt x="0" y="2092"/>
                  </a:cubicBezTo>
                  <a:cubicBezTo>
                    <a:pt x="1" y="2096"/>
                    <a:pt x="2" y="2100"/>
                    <a:pt x="4" y="2104"/>
                  </a:cubicBezTo>
                  <a:cubicBezTo>
                    <a:pt x="5" y="2106"/>
                    <a:pt x="6" y="2107"/>
                    <a:pt x="7" y="2109"/>
                  </a:cubicBezTo>
                  <a:cubicBezTo>
                    <a:pt x="9" y="2114"/>
                    <a:pt x="11" y="2118"/>
                    <a:pt x="13" y="2122"/>
                  </a:cubicBezTo>
                  <a:cubicBezTo>
                    <a:pt x="16" y="2122"/>
                    <a:pt x="16" y="2122"/>
                    <a:pt x="16" y="2122"/>
                  </a:cubicBezTo>
                  <a:cubicBezTo>
                    <a:pt x="19" y="2126"/>
                    <a:pt x="22" y="2129"/>
                    <a:pt x="24" y="2132"/>
                  </a:cubicBezTo>
                  <a:cubicBezTo>
                    <a:pt x="33" y="2142"/>
                    <a:pt x="41" y="2150"/>
                    <a:pt x="50" y="2159"/>
                  </a:cubicBezTo>
                  <a:cubicBezTo>
                    <a:pt x="66" y="2159"/>
                    <a:pt x="66" y="2159"/>
                    <a:pt x="66" y="2159"/>
                  </a:cubicBezTo>
                  <a:cubicBezTo>
                    <a:pt x="54" y="2148"/>
                    <a:pt x="43" y="2137"/>
                    <a:pt x="32" y="2125"/>
                  </a:cubicBezTo>
                  <a:cubicBezTo>
                    <a:pt x="25" y="2117"/>
                    <a:pt x="19" y="2109"/>
                    <a:pt x="14" y="2101"/>
                  </a:cubicBezTo>
                  <a:cubicBezTo>
                    <a:pt x="13" y="2097"/>
                    <a:pt x="13" y="2093"/>
                    <a:pt x="13" y="2089"/>
                  </a:cubicBezTo>
                  <a:cubicBezTo>
                    <a:pt x="11" y="2068"/>
                    <a:pt x="19" y="2048"/>
                    <a:pt x="32" y="2030"/>
                  </a:cubicBezTo>
                  <a:cubicBezTo>
                    <a:pt x="45" y="2012"/>
                    <a:pt x="61" y="1997"/>
                    <a:pt x="78" y="1981"/>
                  </a:cubicBezTo>
                  <a:cubicBezTo>
                    <a:pt x="95" y="1965"/>
                    <a:pt x="113" y="1949"/>
                    <a:pt x="129" y="1931"/>
                  </a:cubicBezTo>
                  <a:cubicBezTo>
                    <a:pt x="136" y="1922"/>
                    <a:pt x="144" y="1912"/>
                    <a:pt x="150" y="1900"/>
                  </a:cubicBezTo>
                  <a:cubicBezTo>
                    <a:pt x="152" y="1895"/>
                    <a:pt x="155" y="1890"/>
                    <a:pt x="156" y="1884"/>
                  </a:cubicBezTo>
                  <a:cubicBezTo>
                    <a:pt x="158" y="1888"/>
                    <a:pt x="160" y="1892"/>
                    <a:pt x="161" y="1896"/>
                  </a:cubicBezTo>
                  <a:cubicBezTo>
                    <a:pt x="167" y="1907"/>
                    <a:pt x="174" y="1916"/>
                    <a:pt x="181" y="1925"/>
                  </a:cubicBezTo>
                  <a:cubicBezTo>
                    <a:pt x="196" y="1943"/>
                    <a:pt x="214" y="1958"/>
                    <a:pt x="231" y="1974"/>
                  </a:cubicBezTo>
                  <a:cubicBezTo>
                    <a:pt x="231" y="1975"/>
                    <a:pt x="231" y="1975"/>
                    <a:pt x="232" y="1975"/>
                  </a:cubicBezTo>
                  <a:cubicBezTo>
                    <a:pt x="238" y="1982"/>
                    <a:pt x="245" y="1988"/>
                    <a:pt x="252" y="1995"/>
                  </a:cubicBezTo>
                  <a:cubicBezTo>
                    <a:pt x="261" y="2004"/>
                    <a:pt x="270" y="2014"/>
                    <a:pt x="278" y="2025"/>
                  </a:cubicBezTo>
                  <a:cubicBezTo>
                    <a:pt x="284" y="2035"/>
                    <a:pt x="290" y="2045"/>
                    <a:pt x="294" y="2056"/>
                  </a:cubicBezTo>
                  <a:cubicBezTo>
                    <a:pt x="297" y="2067"/>
                    <a:pt x="299" y="2078"/>
                    <a:pt x="298" y="2090"/>
                  </a:cubicBezTo>
                  <a:cubicBezTo>
                    <a:pt x="297" y="2096"/>
                    <a:pt x="296" y="2102"/>
                    <a:pt x="294" y="2108"/>
                  </a:cubicBezTo>
                  <a:cubicBezTo>
                    <a:pt x="289" y="2116"/>
                    <a:pt x="283" y="2124"/>
                    <a:pt x="277" y="2131"/>
                  </a:cubicBezTo>
                  <a:cubicBezTo>
                    <a:pt x="268" y="2141"/>
                    <a:pt x="259" y="2150"/>
                    <a:pt x="249" y="2159"/>
                  </a:cubicBezTo>
                  <a:cubicBezTo>
                    <a:pt x="265" y="2159"/>
                    <a:pt x="265" y="2159"/>
                    <a:pt x="265" y="2159"/>
                  </a:cubicBezTo>
                  <a:cubicBezTo>
                    <a:pt x="272" y="2152"/>
                    <a:pt x="278" y="2145"/>
                    <a:pt x="285" y="2138"/>
                  </a:cubicBezTo>
                  <a:cubicBezTo>
                    <a:pt x="289" y="2133"/>
                    <a:pt x="293" y="2128"/>
                    <a:pt x="297" y="2122"/>
                  </a:cubicBezTo>
                  <a:cubicBezTo>
                    <a:pt x="297" y="2122"/>
                    <a:pt x="297" y="2122"/>
                    <a:pt x="297" y="2122"/>
                  </a:cubicBezTo>
                  <a:cubicBezTo>
                    <a:pt x="298" y="2122"/>
                    <a:pt x="298" y="2121"/>
                    <a:pt x="298" y="2120"/>
                  </a:cubicBezTo>
                  <a:cubicBezTo>
                    <a:pt x="301" y="2116"/>
                    <a:pt x="304" y="2112"/>
                    <a:pt x="306" y="2107"/>
                  </a:cubicBezTo>
                  <a:cubicBezTo>
                    <a:pt x="309" y="2101"/>
                    <a:pt x="311" y="2095"/>
                    <a:pt x="312" y="2088"/>
                  </a:cubicBezTo>
                  <a:cubicBezTo>
                    <a:pt x="312" y="2080"/>
                    <a:pt x="311" y="2074"/>
                    <a:pt x="310" y="2068"/>
                  </a:cubicBezTo>
                  <a:cubicBezTo>
                    <a:pt x="308" y="2055"/>
                    <a:pt x="302" y="2043"/>
                    <a:pt x="295" y="2033"/>
                  </a:cubicBezTo>
                  <a:cubicBezTo>
                    <a:pt x="294" y="2032"/>
                    <a:pt x="293" y="2030"/>
                    <a:pt x="293" y="2029"/>
                  </a:cubicBezTo>
                  <a:cubicBezTo>
                    <a:pt x="291" y="2026"/>
                    <a:pt x="289" y="2022"/>
                    <a:pt x="286" y="2019"/>
                  </a:cubicBezTo>
                  <a:cubicBezTo>
                    <a:pt x="272" y="1999"/>
                    <a:pt x="255" y="1982"/>
                    <a:pt x="238" y="1966"/>
                  </a:cubicBezTo>
                  <a:cubicBezTo>
                    <a:pt x="221" y="1950"/>
                    <a:pt x="204" y="1935"/>
                    <a:pt x="190" y="1917"/>
                  </a:cubicBezTo>
                  <a:cubicBezTo>
                    <a:pt x="176" y="1901"/>
                    <a:pt x="165" y="1881"/>
                    <a:pt x="163" y="1861"/>
                  </a:cubicBezTo>
                  <a:cubicBezTo>
                    <a:pt x="163" y="1852"/>
                    <a:pt x="165" y="1843"/>
                    <a:pt x="169" y="1833"/>
                  </a:cubicBezTo>
                  <a:cubicBezTo>
                    <a:pt x="174" y="1824"/>
                    <a:pt x="180" y="1815"/>
                    <a:pt x="187" y="1806"/>
                  </a:cubicBezTo>
                  <a:cubicBezTo>
                    <a:pt x="201" y="1789"/>
                    <a:pt x="218" y="1773"/>
                    <a:pt x="235" y="1757"/>
                  </a:cubicBezTo>
                  <a:cubicBezTo>
                    <a:pt x="251" y="1741"/>
                    <a:pt x="269" y="1726"/>
                    <a:pt x="285" y="1708"/>
                  </a:cubicBezTo>
                  <a:cubicBezTo>
                    <a:pt x="293" y="1698"/>
                    <a:pt x="300" y="1689"/>
                    <a:pt x="306" y="1677"/>
                  </a:cubicBezTo>
                  <a:cubicBezTo>
                    <a:pt x="309" y="1671"/>
                    <a:pt x="311" y="1664"/>
                    <a:pt x="312" y="1657"/>
                  </a:cubicBezTo>
                  <a:cubicBezTo>
                    <a:pt x="312" y="1650"/>
                    <a:pt x="311" y="1644"/>
                    <a:pt x="310" y="1637"/>
                  </a:cubicBezTo>
                  <a:cubicBezTo>
                    <a:pt x="308" y="1625"/>
                    <a:pt x="303" y="1614"/>
                    <a:pt x="296" y="1605"/>
                  </a:cubicBezTo>
                  <a:cubicBezTo>
                    <a:pt x="293" y="1599"/>
                    <a:pt x="290" y="1593"/>
                    <a:pt x="286" y="1588"/>
                  </a:cubicBezTo>
                  <a:cubicBezTo>
                    <a:pt x="272" y="1567"/>
                    <a:pt x="255" y="1551"/>
                    <a:pt x="238" y="1535"/>
                  </a:cubicBezTo>
                  <a:cubicBezTo>
                    <a:pt x="221" y="1519"/>
                    <a:pt x="204" y="1503"/>
                    <a:pt x="190" y="1486"/>
                  </a:cubicBezTo>
                  <a:cubicBezTo>
                    <a:pt x="176" y="1469"/>
                    <a:pt x="165" y="1450"/>
                    <a:pt x="163" y="1430"/>
                  </a:cubicBezTo>
                  <a:cubicBezTo>
                    <a:pt x="163" y="1421"/>
                    <a:pt x="165" y="1411"/>
                    <a:pt x="169" y="1402"/>
                  </a:cubicBezTo>
                  <a:cubicBezTo>
                    <a:pt x="174" y="1392"/>
                    <a:pt x="180" y="1383"/>
                    <a:pt x="187" y="1375"/>
                  </a:cubicBezTo>
                  <a:cubicBezTo>
                    <a:pt x="201" y="1357"/>
                    <a:pt x="218" y="1342"/>
                    <a:pt x="235" y="1326"/>
                  </a:cubicBezTo>
                  <a:cubicBezTo>
                    <a:pt x="251" y="1310"/>
                    <a:pt x="269" y="1294"/>
                    <a:pt x="285" y="1276"/>
                  </a:cubicBezTo>
                  <a:cubicBezTo>
                    <a:pt x="289" y="1271"/>
                    <a:pt x="293" y="1266"/>
                    <a:pt x="296" y="1261"/>
                  </a:cubicBezTo>
                  <a:cubicBezTo>
                    <a:pt x="297" y="1261"/>
                    <a:pt x="297" y="1261"/>
                    <a:pt x="297" y="1261"/>
                  </a:cubicBezTo>
                  <a:cubicBezTo>
                    <a:pt x="298" y="1259"/>
                    <a:pt x="299" y="1258"/>
                    <a:pt x="300" y="1256"/>
                  </a:cubicBezTo>
                  <a:cubicBezTo>
                    <a:pt x="302" y="1252"/>
                    <a:pt x="304" y="1249"/>
                    <a:pt x="306" y="1245"/>
                  </a:cubicBezTo>
                  <a:cubicBezTo>
                    <a:pt x="309" y="1239"/>
                    <a:pt x="311" y="1233"/>
                    <a:pt x="312" y="1226"/>
                  </a:cubicBezTo>
                  <a:cubicBezTo>
                    <a:pt x="312" y="1218"/>
                    <a:pt x="311" y="1212"/>
                    <a:pt x="310" y="1206"/>
                  </a:cubicBezTo>
                  <a:cubicBezTo>
                    <a:pt x="308" y="1193"/>
                    <a:pt x="302" y="1181"/>
                    <a:pt x="295" y="1171"/>
                  </a:cubicBezTo>
                  <a:cubicBezTo>
                    <a:pt x="293" y="1168"/>
                    <a:pt x="291" y="1164"/>
                    <a:pt x="288" y="1161"/>
                  </a:cubicBezTo>
                  <a:cubicBezTo>
                    <a:pt x="287" y="1160"/>
                    <a:pt x="287" y="1159"/>
                    <a:pt x="286" y="1158"/>
                  </a:cubicBezTo>
                  <a:cubicBezTo>
                    <a:pt x="272" y="1138"/>
                    <a:pt x="255" y="1122"/>
                    <a:pt x="238" y="1105"/>
                  </a:cubicBezTo>
                  <a:cubicBezTo>
                    <a:pt x="221" y="1089"/>
                    <a:pt x="204" y="1074"/>
                    <a:pt x="190" y="1057"/>
                  </a:cubicBezTo>
                  <a:cubicBezTo>
                    <a:pt x="176" y="1040"/>
                    <a:pt x="165" y="1020"/>
                    <a:pt x="163" y="1000"/>
                  </a:cubicBezTo>
                  <a:cubicBezTo>
                    <a:pt x="163" y="991"/>
                    <a:pt x="165" y="982"/>
                    <a:pt x="169" y="972"/>
                  </a:cubicBezTo>
                  <a:cubicBezTo>
                    <a:pt x="174" y="963"/>
                    <a:pt x="180" y="954"/>
                    <a:pt x="187" y="945"/>
                  </a:cubicBezTo>
                  <a:cubicBezTo>
                    <a:pt x="201" y="928"/>
                    <a:pt x="218" y="912"/>
                    <a:pt x="235" y="896"/>
                  </a:cubicBezTo>
                  <a:cubicBezTo>
                    <a:pt x="251" y="880"/>
                    <a:pt x="269" y="865"/>
                    <a:pt x="285" y="847"/>
                  </a:cubicBezTo>
                  <a:cubicBezTo>
                    <a:pt x="293" y="837"/>
                    <a:pt x="300" y="828"/>
                    <a:pt x="306" y="816"/>
                  </a:cubicBezTo>
                  <a:cubicBezTo>
                    <a:pt x="309" y="810"/>
                    <a:pt x="311" y="803"/>
                    <a:pt x="312" y="796"/>
                  </a:cubicBezTo>
                  <a:cubicBezTo>
                    <a:pt x="312" y="789"/>
                    <a:pt x="311" y="783"/>
                    <a:pt x="310" y="776"/>
                  </a:cubicBezTo>
                  <a:cubicBezTo>
                    <a:pt x="308" y="766"/>
                    <a:pt x="304" y="756"/>
                    <a:pt x="299" y="748"/>
                  </a:cubicBezTo>
                  <a:cubicBezTo>
                    <a:pt x="295" y="740"/>
                    <a:pt x="291" y="732"/>
                    <a:pt x="286" y="726"/>
                  </a:cubicBezTo>
                  <a:cubicBezTo>
                    <a:pt x="272" y="705"/>
                    <a:pt x="255" y="689"/>
                    <a:pt x="238" y="673"/>
                  </a:cubicBezTo>
                  <a:cubicBezTo>
                    <a:pt x="221" y="656"/>
                    <a:pt x="204" y="641"/>
                    <a:pt x="190" y="624"/>
                  </a:cubicBezTo>
                  <a:cubicBezTo>
                    <a:pt x="176" y="607"/>
                    <a:pt x="165" y="588"/>
                    <a:pt x="163" y="568"/>
                  </a:cubicBezTo>
                  <a:cubicBezTo>
                    <a:pt x="163" y="558"/>
                    <a:pt x="165" y="549"/>
                    <a:pt x="169" y="540"/>
                  </a:cubicBezTo>
                  <a:cubicBezTo>
                    <a:pt x="174" y="530"/>
                    <a:pt x="180" y="521"/>
                    <a:pt x="187" y="513"/>
                  </a:cubicBezTo>
                  <a:cubicBezTo>
                    <a:pt x="201" y="495"/>
                    <a:pt x="218" y="480"/>
                    <a:pt x="235" y="464"/>
                  </a:cubicBezTo>
                  <a:cubicBezTo>
                    <a:pt x="251" y="448"/>
                    <a:pt x="269" y="432"/>
                    <a:pt x="285" y="414"/>
                  </a:cubicBezTo>
                  <a:cubicBezTo>
                    <a:pt x="293" y="405"/>
                    <a:pt x="300" y="395"/>
                    <a:pt x="306" y="383"/>
                  </a:cubicBezTo>
                  <a:cubicBezTo>
                    <a:pt x="309" y="377"/>
                    <a:pt x="311" y="371"/>
                    <a:pt x="312" y="364"/>
                  </a:cubicBezTo>
                  <a:cubicBezTo>
                    <a:pt x="312" y="356"/>
                    <a:pt x="311" y="350"/>
                    <a:pt x="310" y="344"/>
                  </a:cubicBezTo>
                  <a:cubicBezTo>
                    <a:pt x="308" y="333"/>
                    <a:pt x="304" y="324"/>
                    <a:pt x="299" y="315"/>
                  </a:cubicBezTo>
                  <a:cubicBezTo>
                    <a:pt x="295" y="307"/>
                    <a:pt x="291" y="300"/>
                    <a:pt x="286" y="293"/>
                  </a:cubicBezTo>
                  <a:cubicBezTo>
                    <a:pt x="272" y="273"/>
                    <a:pt x="255" y="256"/>
                    <a:pt x="238" y="240"/>
                  </a:cubicBezTo>
                  <a:cubicBezTo>
                    <a:pt x="221" y="224"/>
                    <a:pt x="204" y="208"/>
                    <a:pt x="190" y="191"/>
                  </a:cubicBezTo>
                  <a:cubicBezTo>
                    <a:pt x="176" y="174"/>
                    <a:pt x="165" y="155"/>
                    <a:pt x="163" y="135"/>
                  </a:cubicBezTo>
                  <a:cubicBezTo>
                    <a:pt x="163" y="126"/>
                    <a:pt x="165" y="116"/>
                    <a:pt x="169" y="107"/>
                  </a:cubicBezTo>
                  <a:cubicBezTo>
                    <a:pt x="174" y="97"/>
                    <a:pt x="180" y="88"/>
                    <a:pt x="187" y="80"/>
                  </a:cubicBezTo>
                  <a:cubicBezTo>
                    <a:pt x="201" y="63"/>
                    <a:pt x="218" y="47"/>
                    <a:pt x="235" y="31"/>
                  </a:cubicBezTo>
                  <a:cubicBezTo>
                    <a:pt x="245" y="21"/>
                    <a:pt x="256" y="10"/>
                    <a:pt x="267" y="0"/>
                  </a:cubicBezTo>
                  <a:cubicBezTo>
                    <a:pt x="252" y="0"/>
                    <a:pt x="252" y="0"/>
                    <a:pt x="252" y="0"/>
                  </a:cubicBezTo>
                  <a:cubicBezTo>
                    <a:pt x="243" y="7"/>
                    <a:pt x="235" y="15"/>
                    <a:pt x="227" y="23"/>
                  </a:cubicBezTo>
                  <a:cubicBezTo>
                    <a:pt x="210" y="39"/>
                    <a:pt x="193" y="54"/>
                    <a:pt x="178" y="72"/>
                  </a:cubicBezTo>
                  <a:cubicBezTo>
                    <a:pt x="171" y="81"/>
                    <a:pt x="164" y="91"/>
                    <a:pt x="159" y="102"/>
                  </a:cubicBezTo>
                  <a:cubicBezTo>
                    <a:pt x="158" y="103"/>
                    <a:pt x="157" y="105"/>
                    <a:pt x="156" y="106"/>
                  </a:cubicBezTo>
                  <a:cubicBezTo>
                    <a:pt x="155" y="103"/>
                    <a:pt x="154" y="100"/>
                    <a:pt x="153" y="97"/>
                  </a:cubicBezTo>
                  <a:cubicBezTo>
                    <a:pt x="147" y="86"/>
                    <a:pt x="140" y="76"/>
                    <a:pt x="132" y="66"/>
                  </a:cubicBezTo>
                  <a:cubicBezTo>
                    <a:pt x="116" y="48"/>
                    <a:pt x="99" y="32"/>
                    <a:pt x="82" y="16"/>
                  </a:cubicBezTo>
                  <a:cubicBezTo>
                    <a:pt x="76" y="11"/>
                    <a:pt x="70" y="5"/>
                    <a:pt x="64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57" y="8"/>
                    <a:pt x="65" y="16"/>
                    <a:pt x="74" y="24"/>
                  </a:cubicBezTo>
                  <a:cubicBezTo>
                    <a:pt x="91" y="40"/>
                    <a:pt x="108" y="56"/>
                    <a:pt x="123" y="74"/>
                  </a:cubicBezTo>
                  <a:close/>
                  <a:moveTo>
                    <a:pt x="181" y="1493"/>
                  </a:moveTo>
                  <a:cubicBezTo>
                    <a:pt x="188" y="1502"/>
                    <a:pt x="196" y="1510"/>
                    <a:pt x="204" y="1517"/>
                  </a:cubicBezTo>
                  <a:cubicBezTo>
                    <a:pt x="208" y="1522"/>
                    <a:pt x="213" y="1526"/>
                    <a:pt x="217" y="1531"/>
                  </a:cubicBezTo>
                  <a:cubicBezTo>
                    <a:pt x="234" y="1547"/>
                    <a:pt x="251" y="1563"/>
                    <a:pt x="267" y="1580"/>
                  </a:cubicBezTo>
                  <a:cubicBezTo>
                    <a:pt x="268" y="1582"/>
                    <a:pt x="270" y="1584"/>
                    <a:pt x="272" y="1586"/>
                  </a:cubicBezTo>
                  <a:cubicBezTo>
                    <a:pt x="274" y="1589"/>
                    <a:pt x="276" y="1591"/>
                    <a:pt x="278" y="1594"/>
                  </a:cubicBezTo>
                  <a:cubicBezTo>
                    <a:pt x="284" y="1603"/>
                    <a:pt x="290" y="1613"/>
                    <a:pt x="294" y="1624"/>
                  </a:cubicBezTo>
                  <a:cubicBezTo>
                    <a:pt x="297" y="1635"/>
                    <a:pt x="299" y="1647"/>
                    <a:pt x="298" y="1658"/>
                  </a:cubicBezTo>
                  <a:cubicBezTo>
                    <a:pt x="297" y="1666"/>
                    <a:pt x="295" y="1673"/>
                    <a:pt x="293" y="1680"/>
                  </a:cubicBezTo>
                  <a:cubicBezTo>
                    <a:pt x="288" y="1687"/>
                    <a:pt x="282" y="1694"/>
                    <a:pt x="277" y="1701"/>
                  </a:cubicBezTo>
                  <a:cubicBezTo>
                    <a:pt x="261" y="1718"/>
                    <a:pt x="244" y="1733"/>
                    <a:pt x="227" y="1749"/>
                  </a:cubicBezTo>
                  <a:cubicBezTo>
                    <a:pt x="210" y="1765"/>
                    <a:pt x="193" y="1781"/>
                    <a:pt x="178" y="1799"/>
                  </a:cubicBezTo>
                  <a:cubicBezTo>
                    <a:pt x="171" y="1808"/>
                    <a:pt x="164" y="1818"/>
                    <a:pt x="159" y="1828"/>
                  </a:cubicBezTo>
                  <a:cubicBezTo>
                    <a:pt x="158" y="1830"/>
                    <a:pt x="157" y="1831"/>
                    <a:pt x="156" y="1833"/>
                  </a:cubicBezTo>
                  <a:cubicBezTo>
                    <a:pt x="155" y="1830"/>
                    <a:pt x="154" y="1827"/>
                    <a:pt x="153" y="1824"/>
                  </a:cubicBezTo>
                  <a:cubicBezTo>
                    <a:pt x="147" y="1812"/>
                    <a:pt x="140" y="1802"/>
                    <a:pt x="132" y="1793"/>
                  </a:cubicBezTo>
                  <a:cubicBezTo>
                    <a:pt x="116" y="1774"/>
                    <a:pt x="99" y="1758"/>
                    <a:pt x="82" y="1743"/>
                  </a:cubicBezTo>
                  <a:cubicBezTo>
                    <a:pt x="65" y="1727"/>
                    <a:pt x="47" y="1712"/>
                    <a:pt x="32" y="1695"/>
                  </a:cubicBezTo>
                  <a:cubicBezTo>
                    <a:pt x="26" y="1687"/>
                    <a:pt x="19" y="1679"/>
                    <a:pt x="15" y="1671"/>
                  </a:cubicBezTo>
                  <a:cubicBezTo>
                    <a:pt x="14" y="1667"/>
                    <a:pt x="13" y="1662"/>
                    <a:pt x="13" y="1658"/>
                  </a:cubicBezTo>
                  <a:cubicBezTo>
                    <a:pt x="11" y="1637"/>
                    <a:pt x="19" y="1616"/>
                    <a:pt x="32" y="1599"/>
                  </a:cubicBezTo>
                  <a:cubicBezTo>
                    <a:pt x="45" y="1581"/>
                    <a:pt x="61" y="1565"/>
                    <a:pt x="78" y="1549"/>
                  </a:cubicBezTo>
                  <a:cubicBezTo>
                    <a:pt x="95" y="1534"/>
                    <a:pt x="113" y="1518"/>
                    <a:pt x="129" y="1499"/>
                  </a:cubicBezTo>
                  <a:cubicBezTo>
                    <a:pt x="136" y="1490"/>
                    <a:pt x="144" y="1480"/>
                    <a:pt x="150" y="1469"/>
                  </a:cubicBezTo>
                  <a:cubicBezTo>
                    <a:pt x="152" y="1464"/>
                    <a:pt x="155" y="1458"/>
                    <a:pt x="156" y="1453"/>
                  </a:cubicBezTo>
                  <a:cubicBezTo>
                    <a:pt x="158" y="1457"/>
                    <a:pt x="160" y="1461"/>
                    <a:pt x="161" y="1464"/>
                  </a:cubicBezTo>
                  <a:cubicBezTo>
                    <a:pt x="167" y="1475"/>
                    <a:pt x="174" y="1484"/>
                    <a:pt x="181" y="1493"/>
                  </a:cubicBezTo>
                  <a:close/>
                  <a:moveTo>
                    <a:pt x="181" y="1064"/>
                  </a:moveTo>
                  <a:cubicBezTo>
                    <a:pt x="196" y="1082"/>
                    <a:pt x="214" y="1098"/>
                    <a:pt x="231" y="1113"/>
                  </a:cubicBezTo>
                  <a:cubicBezTo>
                    <a:pt x="247" y="1129"/>
                    <a:pt x="264" y="1146"/>
                    <a:pt x="278" y="1164"/>
                  </a:cubicBezTo>
                  <a:cubicBezTo>
                    <a:pt x="284" y="1174"/>
                    <a:pt x="290" y="1184"/>
                    <a:pt x="294" y="1195"/>
                  </a:cubicBezTo>
                  <a:cubicBezTo>
                    <a:pt x="297" y="1206"/>
                    <a:pt x="299" y="1218"/>
                    <a:pt x="298" y="1229"/>
                  </a:cubicBezTo>
                  <a:cubicBezTo>
                    <a:pt x="297" y="1234"/>
                    <a:pt x="296" y="1239"/>
                    <a:pt x="295" y="1244"/>
                  </a:cubicBezTo>
                  <a:cubicBezTo>
                    <a:pt x="290" y="1253"/>
                    <a:pt x="283" y="1261"/>
                    <a:pt x="277" y="1269"/>
                  </a:cubicBezTo>
                  <a:cubicBezTo>
                    <a:pt x="261" y="1286"/>
                    <a:pt x="244" y="1302"/>
                    <a:pt x="227" y="1318"/>
                  </a:cubicBezTo>
                  <a:cubicBezTo>
                    <a:pt x="210" y="1333"/>
                    <a:pt x="193" y="1349"/>
                    <a:pt x="178" y="1367"/>
                  </a:cubicBezTo>
                  <a:cubicBezTo>
                    <a:pt x="171" y="1376"/>
                    <a:pt x="164" y="1386"/>
                    <a:pt x="159" y="1396"/>
                  </a:cubicBezTo>
                  <a:cubicBezTo>
                    <a:pt x="158" y="1398"/>
                    <a:pt x="157" y="1400"/>
                    <a:pt x="156" y="1401"/>
                  </a:cubicBezTo>
                  <a:cubicBezTo>
                    <a:pt x="155" y="1398"/>
                    <a:pt x="154" y="1395"/>
                    <a:pt x="153" y="1392"/>
                  </a:cubicBezTo>
                  <a:cubicBezTo>
                    <a:pt x="147" y="1381"/>
                    <a:pt x="140" y="1371"/>
                    <a:pt x="132" y="1361"/>
                  </a:cubicBezTo>
                  <a:cubicBezTo>
                    <a:pt x="116" y="1343"/>
                    <a:pt x="99" y="1327"/>
                    <a:pt x="82" y="1311"/>
                  </a:cubicBezTo>
                  <a:cubicBezTo>
                    <a:pt x="65" y="1295"/>
                    <a:pt x="47" y="1280"/>
                    <a:pt x="32" y="1263"/>
                  </a:cubicBezTo>
                  <a:cubicBezTo>
                    <a:pt x="25" y="1255"/>
                    <a:pt x="19" y="1247"/>
                    <a:pt x="14" y="1238"/>
                  </a:cubicBezTo>
                  <a:cubicBezTo>
                    <a:pt x="13" y="1235"/>
                    <a:pt x="13" y="1232"/>
                    <a:pt x="13" y="1228"/>
                  </a:cubicBezTo>
                  <a:cubicBezTo>
                    <a:pt x="11" y="1207"/>
                    <a:pt x="19" y="1187"/>
                    <a:pt x="32" y="1169"/>
                  </a:cubicBezTo>
                  <a:cubicBezTo>
                    <a:pt x="45" y="1152"/>
                    <a:pt x="61" y="1136"/>
                    <a:pt x="78" y="1120"/>
                  </a:cubicBezTo>
                  <a:cubicBezTo>
                    <a:pt x="95" y="1104"/>
                    <a:pt x="113" y="1089"/>
                    <a:pt x="129" y="1070"/>
                  </a:cubicBezTo>
                  <a:cubicBezTo>
                    <a:pt x="136" y="1061"/>
                    <a:pt x="144" y="1051"/>
                    <a:pt x="150" y="1039"/>
                  </a:cubicBezTo>
                  <a:cubicBezTo>
                    <a:pt x="152" y="1034"/>
                    <a:pt x="155" y="1029"/>
                    <a:pt x="156" y="1024"/>
                  </a:cubicBezTo>
                  <a:cubicBezTo>
                    <a:pt x="158" y="1027"/>
                    <a:pt x="160" y="1031"/>
                    <a:pt x="161" y="1035"/>
                  </a:cubicBezTo>
                  <a:cubicBezTo>
                    <a:pt x="167" y="1046"/>
                    <a:pt x="174" y="1055"/>
                    <a:pt x="181" y="1064"/>
                  </a:cubicBezTo>
                  <a:close/>
                  <a:moveTo>
                    <a:pt x="181" y="631"/>
                  </a:moveTo>
                  <a:cubicBezTo>
                    <a:pt x="184" y="635"/>
                    <a:pt x="188" y="638"/>
                    <a:pt x="191" y="642"/>
                  </a:cubicBezTo>
                  <a:cubicBezTo>
                    <a:pt x="199" y="652"/>
                    <a:pt x="208" y="661"/>
                    <a:pt x="217" y="670"/>
                  </a:cubicBezTo>
                  <a:cubicBezTo>
                    <a:pt x="234" y="686"/>
                    <a:pt x="251" y="702"/>
                    <a:pt x="267" y="719"/>
                  </a:cubicBezTo>
                  <a:cubicBezTo>
                    <a:pt x="271" y="724"/>
                    <a:pt x="276" y="730"/>
                    <a:pt x="280" y="735"/>
                  </a:cubicBezTo>
                  <a:cubicBezTo>
                    <a:pt x="286" y="744"/>
                    <a:pt x="290" y="753"/>
                    <a:pt x="294" y="762"/>
                  </a:cubicBezTo>
                  <a:cubicBezTo>
                    <a:pt x="297" y="773"/>
                    <a:pt x="299" y="785"/>
                    <a:pt x="298" y="796"/>
                  </a:cubicBezTo>
                  <a:cubicBezTo>
                    <a:pt x="297" y="805"/>
                    <a:pt x="295" y="813"/>
                    <a:pt x="291" y="821"/>
                  </a:cubicBezTo>
                  <a:cubicBezTo>
                    <a:pt x="287" y="827"/>
                    <a:pt x="282" y="834"/>
                    <a:pt x="277" y="840"/>
                  </a:cubicBezTo>
                  <a:cubicBezTo>
                    <a:pt x="261" y="857"/>
                    <a:pt x="244" y="872"/>
                    <a:pt x="227" y="888"/>
                  </a:cubicBezTo>
                  <a:cubicBezTo>
                    <a:pt x="210" y="904"/>
                    <a:pt x="193" y="920"/>
                    <a:pt x="178" y="938"/>
                  </a:cubicBezTo>
                  <a:cubicBezTo>
                    <a:pt x="171" y="947"/>
                    <a:pt x="164" y="957"/>
                    <a:pt x="159" y="967"/>
                  </a:cubicBezTo>
                  <a:cubicBezTo>
                    <a:pt x="158" y="969"/>
                    <a:pt x="157" y="970"/>
                    <a:pt x="156" y="972"/>
                  </a:cubicBezTo>
                  <a:cubicBezTo>
                    <a:pt x="155" y="969"/>
                    <a:pt x="154" y="966"/>
                    <a:pt x="153" y="963"/>
                  </a:cubicBezTo>
                  <a:cubicBezTo>
                    <a:pt x="147" y="951"/>
                    <a:pt x="140" y="941"/>
                    <a:pt x="132" y="932"/>
                  </a:cubicBezTo>
                  <a:cubicBezTo>
                    <a:pt x="116" y="913"/>
                    <a:pt x="99" y="897"/>
                    <a:pt x="82" y="882"/>
                  </a:cubicBezTo>
                  <a:cubicBezTo>
                    <a:pt x="65" y="866"/>
                    <a:pt x="47" y="851"/>
                    <a:pt x="32" y="834"/>
                  </a:cubicBezTo>
                  <a:cubicBezTo>
                    <a:pt x="26" y="827"/>
                    <a:pt x="20" y="819"/>
                    <a:pt x="16" y="811"/>
                  </a:cubicBezTo>
                  <a:cubicBezTo>
                    <a:pt x="14" y="806"/>
                    <a:pt x="13" y="801"/>
                    <a:pt x="13" y="795"/>
                  </a:cubicBezTo>
                  <a:cubicBezTo>
                    <a:pt x="11" y="774"/>
                    <a:pt x="19" y="754"/>
                    <a:pt x="32" y="737"/>
                  </a:cubicBezTo>
                  <a:cubicBezTo>
                    <a:pt x="45" y="719"/>
                    <a:pt x="61" y="703"/>
                    <a:pt x="78" y="687"/>
                  </a:cubicBezTo>
                  <a:cubicBezTo>
                    <a:pt x="95" y="671"/>
                    <a:pt x="113" y="656"/>
                    <a:pt x="129" y="637"/>
                  </a:cubicBezTo>
                  <a:cubicBezTo>
                    <a:pt x="136" y="628"/>
                    <a:pt x="144" y="618"/>
                    <a:pt x="150" y="607"/>
                  </a:cubicBezTo>
                  <a:cubicBezTo>
                    <a:pt x="152" y="602"/>
                    <a:pt x="155" y="596"/>
                    <a:pt x="156" y="591"/>
                  </a:cubicBezTo>
                  <a:cubicBezTo>
                    <a:pt x="158" y="595"/>
                    <a:pt x="160" y="599"/>
                    <a:pt x="161" y="602"/>
                  </a:cubicBezTo>
                  <a:cubicBezTo>
                    <a:pt x="167" y="613"/>
                    <a:pt x="174" y="622"/>
                    <a:pt x="181" y="631"/>
                  </a:cubicBezTo>
                  <a:close/>
                  <a:moveTo>
                    <a:pt x="156" y="158"/>
                  </a:moveTo>
                  <a:cubicBezTo>
                    <a:pt x="158" y="162"/>
                    <a:pt x="160" y="166"/>
                    <a:pt x="161" y="170"/>
                  </a:cubicBezTo>
                  <a:cubicBezTo>
                    <a:pt x="167" y="180"/>
                    <a:pt x="174" y="190"/>
                    <a:pt x="181" y="198"/>
                  </a:cubicBezTo>
                  <a:cubicBezTo>
                    <a:pt x="184" y="202"/>
                    <a:pt x="188" y="206"/>
                    <a:pt x="191" y="209"/>
                  </a:cubicBezTo>
                  <a:cubicBezTo>
                    <a:pt x="199" y="219"/>
                    <a:pt x="208" y="228"/>
                    <a:pt x="217" y="237"/>
                  </a:cubicBezTo>
                  <a:cubicBezTo>
                    <a:pt x="234" y="254"/>
                    <a:pt x="251" y="269"/>
                    <a:pt x="267" y="286"/>
                  </a:cubicBezTo>
                  <a:cubicBezTo>
                    <a:pt x="271" y="291"/>
                    <a:pt x="276" y="297"/>
                    <a:pt x="280" y="302"/>
                  </a:cubicBezTo>
                  <a:cubicBezTo>
                    <a:pt x="286" y="311"/>
                    <a:pt x="290" y="320"/>
                    <a:pt x="294" y="329"/>
                  </a:cubicBezTo>
                  <a:cubicBezTo>
                    <a:pt x="297" y="340"/>
                    <a:pt x="299" y="352"/>
                    <a:pt x="298" y="363"/>
                  </a:cubicBezTo>
                  <a:cubicBezTo>
                    <a:pt x="297" y="372"/>
                    <a:pt x="295" y="380"/>
                    <a:pt x="291" y="388"/>
                  </a:cubicBezTo>
                  <a:cubicBezTo>
                    <a:pt x="287" y="395"/>
                    <a:pt x="282" y="401"/>
                    <a:pt x="277" y="407"/>
                  </a:cubicBezTo>
                  <a:cubicBezTo>
                    <a:pt x="261" y="424"/>
                    <a:pt x="244" y="440"/>
                    <a:pt x="227" y="455"/>
                  </a:cubicBezTo>
                  <a:cubicBezTo>
                    <a:pt x="210" y="471"/>
                    <a:pt x="193" y="487"/>
                    <a:pt x="178" y="505"/>
                  </a:cubicBezTo>
                  <a:cubicBezTo>
                    <a:pt x="171" y="514"/>
                    <a:pt x="164" y="524"/>
                    <a:pt x="159" y="534"/>
                  </a:cubicBezTo>
                  <a:cubicBezTo>
                    <a:pt x="158" y="536"/>
                    <a:pt x="157" y="538"/>
                    <a:pt x="156" y="539"/>
                  </a:cubicBezTo>
                  <a:cubicBezTo>
                    <a:pt x="155" y="536"/>
                    <a:pt x="154" y="533"/>
                    <a:pt x="153" y="530"/>
                  </a:cubicBezTo>
                  <a:cubicBezTo>
                    <a:pt x="147" y="519"/>
                    <a:pt x="140" y="509"/>
                    <a:pt x="132" y="499"/>
                  </a:cubicBezTo>
                  <a:cubicBezTo>
                    <a:pt x="116" y="481"/>
                    <a:pt x="99" y="465"/>
                    <a:pt x="82" y="449"/>
                  </a:cubicBezTo>
                  <a:cubicBezTo>
                    <a:pt x="65" y="433"/>
                    <a:pt x="47" y="418"/>
                    <a:pt x="32" y="401"/>
                  </a:cubicBezTo>
                  <a:cubicBezTo>
                    <a:pt x="26" y="394"/>
                    <a:pt x="20" y="386"/>
                    <a:pt x="16" y="379"/>
                  </a:cubicBezTo>
                  <a:cubicBezTo>
                    <a:pt x="14" y="373"/>
                    <a:pt x="13" y="368"/>
                    <a:pt x="13" y="363"/>
                  </a:cubicBezTo>
                  <a:cubicBezTo>
                    <a:pt x="11" y="342"/>
                    <a:pt x="19" y="322"/>
                    <a:pt x="32" y="304"/>
                  </a:cubicBezTo>
                  <a:cubicBezTo>
                    <a:pt x="45" y="286"/>
                    <a:pt x="61" y="270"/>
                    <a:pt x="78" y="254"/>
                  </a:cubicBezTo>
                  <a:cubicBezTo>
                    <a:pt x="95" y="239"/>
                    <a:pt x="113" y="223"/>
                    <a:pt x="129" y="204"/>
                  </a:cubicBezTo>
                  <a:cubicBezTo>
                    <a:pt x="136" y="195"/>
                    <a:pt x="144" y="185"/>
                    <a:pt x="150" y="174"/>
                  </a:cubicBezTo>
                  <a:cubicBezTo>
                    <a:pt x="152" y="169"/>
                    <a:pt x="155" y="163"/>
                    <a:pt x="156" y="158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0" name="Freeform 14"/>
            <p:cNvSpPr/>
            <p:nvPr/>
          </p:nvSpPr>
          <p:spPr>
            <a:xfrm>
              <a:off x="4051440" y="-1440"/>
              <a:ext cx="507600" cy="686232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0" h="2159">
                  <a:moveTo>
                    <a:pt x="26" y="72"/>
                  </a:moveTo>
                  <a:cubicBezTo>
                    <a:pt x="19" y="81"/>
                    <a:pt x="12" y="91"/>
                    <a:pt x="7" y="102"/>
                  </a:cubicBezTo>
                  <a:cubicBezTo>
                    <a:pt x="4" y="107"/>
                    <a:pt x="2" y="113"/>
                    <a:pt x="1" y="120"/>
                  </a:cubicBezTo>
                  <a:cubicBezTo>
                    <a:pt x="1" y="123"/>
                    <a:pt x="1" y="127"/>
                    <a:pt x="2" y="131"/>
                  </a:cubicBezTo>
                  <a:cubicBezTo>
                    <a:pt x="1" y="131"/>
                    <a:pt x="1" y="131"/>
                    <a:pt x="1" y="131"/>
                  </a:cubicBezTo>
                  <a:cubicBezTo>
                    <a:pt x="1" y="132"/>
                    <a:pt x="1" y="133"/>
                    <a:pt x="1" y="135"/>
                  </a:cubicBezTo>
                  <a:cubicBezTo>
                    <a:pt x="1" y="135"/>
                    <a:pt x="1" y="136"/>
                    <a:pt x="1" y="137"/>
                  </a:cubicBezTo>
                  <a:cubicBezTo>
                    <a:pt x="1" y="139"/>
                    <a:pt x="1" y="141"/>
                    <a:pt x="0" y="143"/>
                  </a:cubicBezTo>
                  <a:cubicBezTo>
                    <a:pt x="2" y="152"/>
                    <a:pt x="5" y="161"/>
                    <a:pt x="10" y="170"/>
                  </a:cubicBezTo>
                  <a:cubicBezTo>
                    <a:pt x="15" y="180"/>
                    <a:pt x="22" y="190"/>
                    <a:pt x="29" y="198"/>
                  </a:cubicBezTo>
                  <a:cubicBezTo>
                    <a:pt x="33" y="202"/>
                    <a:pt x="36" y="206"/>
                    <a:pt x="39" y="209"/>
                  </a:cubicBezTo>
                  <a:cubicBezTo>
                    <a:pt x="47" y="219"/>
                    <a:pt x="56" y="228"/>
                    <a:pt x="65" y="237"/>
                  </a:cubicBezTo>
                  <a:cubicBezTo>
                    <a:pt x="82" y="254"/>
                    <a:pt x="99" y="269"/>
                    <a:pt x="115" y="286"/>
                  </a:cubicBezTo>
                  <a:cubicBezTo>
                    <a:pt x="120" y="291"/>
                    <a:pt x="124" y="297"/>
                    <a:pt x="128" y="303"/>
                  </a:cubicBezTo>
                  <a:cubicBezTo>
                    <a:pt x="134" y="311"/>
                    <a:pt x="139" y="320"/>
                    <a:pt x="142" y="329"/>
                  </a:cubicBezTo>
                  <a:cubicBezTo>
                    <a:pt x="146" y="340"/>
                    <a:pt x="147" y="352"/>
                    <a:pt x="146" y="363"/>
                  </a:cubicBezTo>
                  <a:cubicBezTo>
                    <a:pt x="145" y="372"/>
                    <a:pt x="143" y="380"/>
                    <a:pt x="139" y="388"/>
                  </a:cubicBezTo>
                  <a:cubicBezTo>
                    <a:pt x="135" y="395"/>
                    <a:pt x="130" y="401"/>
                    <a:pt x="125" y="407"/>
                  </a:cubicBezTo>
                  <a:cubicBezTo>
                    <a:pt x="110" y="424"/>
                    <a:pt x="92" y="440"/>
                    <a:pt x="75" y="455"/>
                  </a:cubicBezTo>
                  <a:cubicBezTo>
                    <a:pt x="58" y="471"/>
                    <a:pt x="41" y="487"/>
                    <a:pt x="26" y="505"/>
                  </a:cubicBezTo>
                  <a:cubicBezTo>
                    <a:pt x="19" y="514"/>
                    <a:pt x="12" y="524"/>
                    <a:pt x="7" y="534"/>
                  </a:cubicBezTo>
                  <a:cubicBezTo>
                    <a:pt x="4" y="540"/>
                    <a:pt x="2" y="546"/>
                    <a:pt x="1" y="553"/>
                  </a:cubicBezTo>
                  <a:cubicBezTo>
                    <a:pt x="1" y="556"/>
                    <a:pt x="1" y="560"/>
                    <a:pt x="2" y="564"/>
                  </a:cubicBezTo>
                  <a:cubicBezTo>
                    <a:pt x="1" y="564"/>
                    <a:pt x="1" y="564"/>
                    <a:pt x="1" y="564"/>
                  </a:cubicBezTo>
                  <a:cubicBezTo>
                    <a:pt x="1" y="565"/>
                    <a:pt x="1" y="566"/>
                    <a:pt x="1" y="567"/>
                  </a:cubicBezTo>
                  <a:cubicBezTo>
                    <a:pt x="1" y="568"/>
                    <a:pt x="1" y="569"/>
                    <a:pt x="1" y="570"/>
                  </a:cubicBezTo>
                  <a:cubicBezTo>
                    <a:pt x="1" y="572"/>
                    <a:pt x="1" y="574"/>
                    <a:pt x="0" y="576"/>
                  </a:cubicBezTo>
                  <a:cubicBezTo>
                    <a:pt x="2" y="585"/>
                    <a:pt x="5" y="594"/>
                    <a:pt x="10" y="602"/>
                  </a:cubicBezTo>
                  <a:cubicBezTo>
                    <a:pt x="15" y="613"/>
                    <a:pt x="22" y="622"/>
                    <a:pt x="29" y="631"/>
                  </a:cubicBezTo>
                  <a:cubicBezTo>
                    <a:pt x="33" y="635"/>
                    <a:pt x="36" y="638"/>
                    <a:pt x="39" y="642"/>
                  </a:cubicBezTo>
                  <a:cubicBezTo>
                    <a:pt x="47" y="652"/>
                    <a:pt x="56" y="661"/>
                    <a:pt x="65" y="670"/>
                  </a:cubicBezTo>
                  <a:cubicBezTo>
                    <a:pt x="82" y="686"/>
                    <a:pt x="99" y="702"/>
                    <a:pt x="115" y="719"/>
                  </a:cubicBezTo>
                  <a:cubicBezTo>
                    <a:pt x="120" y="724"/>
                    <a:pt x="124" y="730"/>
                    <a:pt x="128" y="735"/>
                  </a:cubicBezTo>
                  <a:cubicBezTo>
                    <a:pt x="134" y="744"/>
                    <a:pt x="139" y="753"/>
                    <a:pt x="142" y="762"/>
                  </a:cubicBezTo>
                  <a:cubicBezTo>
                    <a:pt x="146" y="773"/>
                    <a:pt x="147" y="785"/>
                    <a:pt x="146" y="796"/>
                  </a:cubicBezTo>
                  <a:cubicBezTo>
                    <a:pt x="145" y="805"/>
                    <a:pt x="143" y="813"/>
                    <a:pt x="139" y="821"/>
                  </a:cubicBezTo>
                  <a:cubicBezTo>
                    <a:pt x="135" y="827"/>
                    <a:pt x="130" y="834"/>
                    <a:pt x="125" y="840"/>
                  </a:cubicBezTo>
                  <a:cubicBezTo>
                    <a:pt x="110" y="857"/>
                    <a:pt x="92" y="872"/>
                    <a:pt x="75" y="888"/>
                  </a:cubicBezTo>
                  <a:cubicBezTo>
                    <a:pt x="58" y="904"/>
                    <a:pt x="41" y="920"/>
                    <a:pt x="26" y="938"/>
                  </a:cubicBezTo>
                  <a:cubicBezTo>
                    <a:pt x="19" y="947"/>
                    <a:pt x="12" y="957"/>
                    <a:pt x="7" y="967"/>
                  </a:cubicBezTo>
                  <a:cubicBezTo>
                    <a:pt x="4" y="973"/>
                    <a:pt x="2" y="979"/>
                    <a:pt x="1" y="985"/>
                  </a:cubicBezTo>
                  <a:cubicBezTo>
                    <a:pt x="1" y="988"/>
                    <a:pt x="1" y="990"/>
                    <a:pt x="1" y="993"/>
                  </a:cubicBezTo>
                  <a:cubicBezTo>
                    <a:pt x="1" y="993"/>
                    <a:pt x="1" y="993"/>
                    <a:pt x="1" y="993"/>
                  </a:cubicBezTo>
                  <a:cubicBezTo>
                    <a:pt x="1" y="994"/>
                    <a:pt x="1" y="996"/>
                    <a:pt x="2" y="998"/>
                  </a:cubicBezTo>
                  <a:cubicBezTo>
                    <a:pt x="2" y="999"/>
                    <a:pt x="1" y="1001"/>
                    <a:pt x="1" y="1002"/>
                  </a:cubicBezTo>
                  <a:cubicBezTo>
                    <a:pt x="1" y="1004"/>
                    <a:pt x="1" y="1007"/>
                    <a:pt x="0" y="1009"/>
                  </a:cubicBezTo>
                  <a:cubicBezTo>
                    <a:pt x="2" y="1018"/>
                    <a:pt x="5" y="1027"/>
                    <a:pt x="10" y="1035"/>
                  </a:cubicBezTo>
                  <a:cubicBezTo>
                    <a:pt x="15" y="1046"/>
                    <a:pt x="22" y="1055"/>
                    <a:pt x="29" y="1064"/>
                  </a:cubicBezTo>
                  <a:cubicBezTo>
                    <a:pt x="45" y="1082"/>
                    <a:pt x="62" y="1098"/>
                    <a:pt x="79" y="1113"/>
                  </a:cubicBezTo>
                  <a:cubicBezTo>
                    <a:pt x="96" y="1129"/>
                    <a:pt x="112" y="1146"/>
                    <a:pt x="126" y="1164"/>
                  </a:cubicBezTo>
                  <a:cubicBezTo>
                    <a:pt x="133" y="1174"/>
                    <a:pt x="138" y="1184"/>
                    <a:pt x="142" y="1195"/>
                  </a:cubicBezTo>
                  <a:cubicBezTo>
                    <a:pt x="146" y="1206"/>
                    <a:pt x="147" y="1218"/>
                    <a:pt x="146" y="1229"/>
                  </a:cubicBezTo>
                  <a:cubicBezTo>
                    <a:pt x="145" y="1234"/>
                    <a:pt x="144" y="1239"/>
                    <a:pt x="143" y="1244"/>
                  </a:cubicBezTo>
                  <a:cubicBezTo>
                    <a:pt x="138" y="1253"/>
                    <a:pt x="132" y="1261"/>
                    <a:pt x="125" y="1269"/>
                  </a:cubicBezTo>
                  <a:cubicBezTo>
                    <a:pt x="110" y="1286"/>
                    <a:pt x="92" y="1302"/>
                    <a:pt x="75" y="1318"/>
                  </a:cubicBezTo>
                  <a:cubicBezTo>
                    <a:pt x="58" y="1333"/>
                    <a:pt x="41" y="1349"/>
                    <a:pt x="26" y="1367"/>
                  </a:cubicBezTo>
                  <a:cubicBezTo>
                    <a:pt x="19" y="1376"/>
                    <a:pt x="12" y="1386"/>
                    <a:pt x="7" y="1396"/>
                  </a:cubicBezTo>
                  <a:cubicBezTo>
                    <a:pt x="4" y="1402"/>
                    <a:pt x="2" y="1408"/>
                    <a:pt x="1" y="1415"/>
                  </a:cubicBezTo>
                  <a:cubicBezTo>
                    <a:pt x="1" y="1418"/>
                    <a:pt x="1" y="1421"/>
                    <a:pt x="2" y="1425"/>
                  </a:cubicBezTo>
                  <a:cubicBezTo>
                    <a:pt x="1" y="1425"/>
                    <a:pt x="1" y="1425"/>
                    <a:pt x="1" y="1425"/>
                  </a:cubicBezTo>
                  <a:cubicBezTo>
                    <a:pt x="1" y="1426"/>
                    <a:pt x="1" y="1427"/>
                    <a:pt x="1" y="1429"/>
                  </a:cubicBezTo>
                  <a:cubicBezTo>
                    <a:pt x="1" y="1430"/>
                    <a:pt x="1" y="1431"/>
                    <a:pt x="1" y="1432"/>
                  </a:cubicBezTo>
                  <a:cubicBezTo>
                    <a:pt x="1" y="1434"/>
                    <a:pt x="1" y="1436"/>
                    <a:pt x="0" y="1438"/>
                  </a:cubicBezTo>
                  <a:cubicBezTo>
                    <a:pt x="2" y="1447"/>
                    <a:pt x="5" y="1456"/>
                    <a:pt x="10" y="1464"/>
                  </a:cubicBezTo>
                  <a:cubicBezTo>
                    <a:pt x="15" y="1475"/>
                    <a:pt x="22" y="1484"/>
                    <a:pt x="29" y="1493"/>
                  </a:cubicBezTo>
                  <a:cubicBezTo>
                    <a:pt x="37" y="1502"/>
                    <a:pt x="44" y="1510"/>
                    <a:pt x="52" y="1517"/>
                  </a:cubicBezTo>
                  <a:cubicBezTo>
                    <a:pt x="56" y="1522"/>
                    <a:pt x="61" y="1526"/>
                    <a:pt x="65" y="1531"/>
                  </a:cubicBezTo>
                  <a:cubicBezTo>
                    <a:pt x="82" y="1547"/>
                    <a:pt x="99" y="1563"/>
                    <a:pt x="115" y="1580"/>
                  </a:cubicBezTo>
                  <a:cubicBezTo>
                    <a:pt x="117" y="1582"/>
                    <a:pt x="118" y="1584"/>
                    <a:pt x="120" y="1586"/>
                  </a:cubicBezTo>
                  <a:cubicBezTo>
                    <a:pt x="122" y="1589"/>
                    <a:pt x="124" y="1591"/>
                    <a:pt x="126" y="1594"/>
                  </a:cubicBezTo>
                  <a:cubicBezTo>
                    <a:pt x="133" y="1603"/>
                    <a:pt x="138" y="1613"/>
                    <a:pt x="142" y="1624"/>
                  </a:cubicBezTo>
                  <a:cubicBezTo>
                    <a:pt x="146" y="1635"/>
                    <a:pt x="147" y="1647"/>
                    <a:pt x="146" y="1658"/>
                  </a:cubicBezTo>
                  <a:cubicBezTo>
                    <a:pt x="145" y="1666"/>
                    <a:pt x="143" y="1673"/>
                    <a:pt x="141" y="1680"/>
                  </a:cubicBezTo>
                  <a:cubicBezTo>
                    <a:pt x="136" y="1687"/>
                    <a:pt x="131" y="1694"/>
                    <a:pt x="125" y="1701"/>
                  </a:cubicBezTo>
                  <a:cubicBezTo>
                    <a:pt x="110" y="1718"/>
                    <a:pt x="92" y="1733"/>
                    <a:pt x="75" y="1749"/>
                  </a:cubicBezTo>
                  <a:cubicBezTo>
                    <a:pt x="58" y="1765"/>
                    <a:pt x="41" y="1781"/>
                    <a:pt x="26" y="1799"/>
                  </a:cubicBezTo>
                  <a:cubicBezTo>
                    <a:pt x="19" y="1808"/>
                    <a:pt x="12" y="1818"/>
                    <a:pt x="7" y="1828"/>
                  </a:cubicBezTo>
                  <a:cubicBezTo>
                    <a:pt x="4" y="1834"/>
                    <a:pt x="2" y="1840"/>
                    <a:pt x="1" y="1846"/>
                  </a:cubicBezTo>
                  <a:cubicBezTo>
                    <a:pt x="1" y="1849"/>
                    <a:pt x="1" y="1852"/>
                    <a:pt x="1" y="1855"/>
                  </a:cubicBezTo>
                  <a:cubicBezTo>
                    <a:pt x="1" y="1855"/>
                    <a:pt x="1" y="1855"/>
                    <a:pt x="1" y="1855"/>
                  </a:cubicBezTo>
                  <a:cubicBezTo>
                    <a:pt x="1" y="1856"/>
                    <a:pt x="1" y="1858"/>
                    <a:pt x="2" y="1859"/>
                  </a:cubicBezTo>
                  <a:cubicBezTo>
                    <a:pt x="2" y="1861"/>
                    <a:pt x="1" y="1862"/>
                    <a:pt x="1" y="1863"/>
                  </a:cubicBezTo>
                  <a:cubicBezTo>
                    <a:pt x="1" y="1865"/>
                    <a:pt x="1" y="1867"/>
                    <a:pt x="0" y="1870"/>
                  </a:cubicBezTo>
                  <a:cubicBezTo>
                    <a:pt x="2" y="1879"/>
                    <a:pt x="5" y="1888"/>
                    <a:pt x="10" y="1896"/>
                  </a:cubicBezTo>
                  <a:cubicBezTo>
                    <a:pt x="15" y="1907"/>
                    <a:pt x="22" y="1916"/>
                    <a:pt x="29" y="1925"/>
                  </a:cubicBezTo>
                  <a:cubicBezTo>
                    <a:pt x="45" y="1943"/>
                    <a:pt x="62" y="1958"/>
                    <a:pt x="79" y="1974"/>
                  </a:cubicBezTo>
                  <a:cubicBezTo>
                    <a:pt x="79" y="1975"/>
                    <a:pt x="79" y="1975"/>
                    <a:pt x="80" y="1975"/>
                  </a:cubicBezTo>
                  <a:cubicBezTo>
                    <a:pt x="86" y="1982"/>
                    <a:pt x="93" y="1988"/>
                    <a:pt x="100" y="1995"/>
                  </a:cubicBezTo>
                  <a:cubicBezTo>
                    <a:pt x="109" y="2005"/>
                    <a:pt x="118" y="2014"/>
                    <a:pt x="126" y="2025"/>
                  </a:cubicBezTo>
                  <a:cubicBezTo>
                    <a:pt x="133" y="2035"/>
                    <a:pt x="138" y="2045"/>
                    <a:pt x="142" y="2056"/>
                  </a:cubicBezTo>
                  <a:cubicBezTo>
                    <a:pt x="146" y="2067"/>
                    <a:pt x="147" y="2078"/>
                    <a:pt x="146" y="2090"/>
                  </a:cubicBezTo>
                  <a:cubicBezTo>
                    <a:pt x="145" y="2096"/>
                    <a:pt x="144" y="2102"/>
                    <a:pt x="142" y="2108"/>
                  </a:cubicBezTo>
                  <a:cubicBezTo>
                    <a:pt x="137" y="2116"/>
                    <a:pt x="131" y="2124"/>
                    <a:pt x="125" y="2131"/>
                  </a:cubicBezTo>
                  <a:cubicBezTo>
                    <a:pt x="116" y="2141"/>
                    <a:pt x="107" y="2150"/>
                    <a:pt x="97" y="2159"/>
                  </a:cubicBezTo>
                  <a:cubicBezTo>
                    <a:pt x="113" y="2159"/>
                    <a:pt x="113" y="2159"/>
                    <a:pt x="113" y="2159"/>
                  </a:cubicBezTo>
                  <a:cubicBezTo>
                    <a:pt x="120" y="2152"/>
                    <a:pt x="127" y="2145"/>
                    <a:pt x="133" y="2138"/>
                  </a:cubicBezTo>
                  <a:cubicBezTo>
                    <a:pt x="137" y="2133"/>
                    <a:pt x="141" y="2128"/>
                    <a:pt x="145" y="2122"/>
                  </a:cubicBezTo>
                  <a:cubicBezTo>
                    <a:pt x="146" y="2122"/>
                    <a:pt x="146" y="2122"/>
                    <a:pt x="146" y="2122"/>
                  </a:cubicBezTo>
                  <a:cubicBezTo>
                    <a:pt x="146" y="2122"/>
                    <a:pt x="146" y="2121"/>
                    <a:pt x="146" y="2120"/>
                  </a:cubicBezTo>
                  <a:cubicBezTo>
                    <a:pt x="149" y="2116"/>
                    <a:pt x="152" y="2112"/>
                    <a:pt x="154" y="2107"/>
                  </a:cubicBezTo>
                  <a:cubicBezTo>
                    <a:pt x="157" y="2101"/>
                    <a:pt x="159" y="2095"/>
                    <a:pt x="160" y="2088"/>
                  </a:cubicBezTo>
                  <a:cubicBezTo>
                    <a:pt x="160" y="2080"/>
                    <a:pt x="160" y="2074"/>
                    <a:pt x="158" y="2068"/>
                  </a:cubicBezTo>
                  <a:cubicBezTo>
                    <a:pt x="156" y="2055"/>
                    <a:pt x="150" y="2043"/>
                    <a:pt x="143" y="2033"/>
                  </a:cubicBezTo>
                  <a:cubicBezTo>
                    <a:pt x="143" y="2032"/>
                    <a:pt x="142" y="2030"/>
                    <a:pt x="141" y="2029"/>
                  </a:cubicBezTo>
                  <a:cubicBezTo>
                    <a:pt x="139" y="2026"/>
                    <a:pt x="137" y="2022"/>
                    <a:pt x="135" y="2019"/>
                  </a:cubicBezTo>
                  <a:cubicBezTo>
                    <a:pt x="120" y="1999"/>
                    <a:pt x="103" y="1982"/>
                    <a:pt x="86" y="1966"/>
                  </a:cubicBezTo>
                  <a:cubicBezTo>
                    <a:pt x="70" y="1950"/>
                    <a:pt x="53" y="1935"/>
                    <a:pt x="38" y="1917"/>
                  </a:cubicBezTo>
                  <a:cubicBezTo>
                    <a:pt x="24" y="1901"/>
                    <a:pt x="13" y="1881"/>
                    <a:pt x="12" y="1861"/>
                  </a:cubicBezTo>
                  <a:cubicBezTo>
                    <a:pt x="11" y="1852"/>
                    <a:pt x="13" y="1843"/>
                    <a:pt x="18" y="1833"/>
                  </a:cubicBezTo>
                  <a:cubicBezTo>
                    <a:pt x="22" y="1824"/>
                    <a:pt x="28" y="1815"/>
                    <a:pt x="35" y="1806"/>
                  </a:cubicBezTo>
                  <a:cubicBezTo>
                    <a:pt x="49" y="1789"/>
                    <a:pt x="66" y="1773"/>
                    <a:pt x="83" y="1757"/>
                  </a:cubicBezTo>
                  <a:cubicBezTo>
                    <a:pt x="100" y="1741"/>
                    <a:pt x="117" y="1726"/>
                    <a:pt x="133" y="1708"/>
                  </a:cubicBezTo>
                  <a:cubicBezTo>
                    <a:pt x="141" y="1698"/>
                    <a:pt x="148" y="1689"/>
                    <a:pt x="154" y="1677"/>
                  </a:cubicBezTo>
                  <a:cubicBezTo>
                    <a:pt x="157" y="1671"/>
                    <a:pt x="159" y="1664"/>
                    <a:pt x="160" y="1657"/>
                  </a:cubicBezTo>
                  <a:cubicBezTo>
                    <a:pt x="160" y="1650"/>
                    <a:pt x="160" y="1644"/>
                    <a:pt x="158" y="1637"/>
                  </a:cubicBezTo>
                  <a:cubicBezTo>
                    <a:pt x="156" y="1625"/>
                    <a:pt x="151" y="1614"/>
                    <a:pt x="145" y="1605"/>
                  </a:cubicBezTo>
                  <a:cubicBezTo>
                    <a:pt x="142" y="1599"/>
                    <a:pt x="138" y="1593"/>
                    <a:pt x="135" y="1588"/>
                  </a:cubicBezTo>
                  <a:cubicBezTo>
                    <a:pt x="120" y="1567"/>
                    <a:pt x="103" y="1551"/>
                    <a:pt x="86" y="1535"/>
                  </a:cubicBezTo>
                  <a:cubicBezTo>
                    <a:pt x="70" y="1519"/>
                    <a:pt x="53" y="1503"/>
                    <a:pt x="38" y="1486"/>
                  </a:cubicBezTo>
                  <a:cubicBezTo>
                    <a:pt x="24" y="1469"/>
                    <a:pt x="13" y="1450"/>
                    <a:pt x="12" y="1430"/>
                  </a:cubicBezTo>
                  <a:cubicBezTo>
                    <a:pt x="11" y="1421"/>
                    <a:pt x="13" y="1411"/>
                    <a:pt x="18" y="1402"/>
                  </a:cubicBezTo>
                  <a:cubicBezTo>
                    <a:pt x="22" y="1392"/>
                    <a:pt x="28" y="1383"/>
                    <a:pt x="35" y="1375"/>
                  </a:cubicBezTo>
                  <a:cubicBezTo>
                    <a:pt x="49" y="1357"/>
                    <a:pt x="66" y="1342"/>
                    <a:pt x="83" y="1326"/>
                  </a:cubicBezTo>
                  <a:cubicBezTo>
                    <a:pt x="100" y="1310"/>
                    <a:pt x="117" y="1294"/>
                    <a:pt x="133" y="1276"/>
                  </a:cubicBezTo>
                  <a:cubicBezTo>
                    <a:pt x="137" y="1271"/>
                    <a:pt x="141" y="1266"/>
                    <a:pt x="145" y="1261"/>
                  </a:cubicBezTo>
                  <a:cubicBezTo>
                    <a:pt x="146" y="1261"/>
                    <a:pt x="146" y="1261"/>
                    <a:pt x="146" y="1261"/>
                  </a:cubicBezTo>
                  <a:cubicBezTo>
                    <a:pt x="147" y="1259"/>
                    <a:pt x="147" y="1258"/>
                    <a:pt x="148" y="1256"/>
                  </a:cubicBezTo>
                  <a:cubicBezTo>
                    <a:pt x="150" y="1252"/>
                    <a:pt x="152" y="1249"/>
                    <a:pt x="154" y="1245"/>
                  </a:cubicBezTo>
                  <a:cubicBezTo>
                    <a:pt x="157" y="1239"/>
                    <a:pt x="159" y="1233"/>
                    <a:pt x="160" y="1226"/>
                  </a:cubicBezTo>
                  <a:cubicBezTo>
                    <a:pt x="160" y="1218"/>
                    <a:pt x="160" y="1212"/>
                    <a:pt x="158" y="1206"/>
                  </a:cubicBezTo>
                  <a:cubicBezTo>
                    <a:pt x="156" y="1193"/>
                    <a:pt x="150" y="1181"/>
                    <a:pt x="143" y="1171"/>
                  </a:cubicBezTo>
                  <a:cubicBezTo>
                    <a:pt x="141" y="1168"/>
                    <a:pt x="139" y="1164"/>
                    <a:pt x="136" y="1161"/>
                  </a:cubicBezTo>
                  <a:cubicBezTo>
                    <a:pt x="136" y="1160"/>
                    <a:pt x="135" y="1159"/>
                    <a:pt x="135" y="1158"/>
                  </a:cubicBezTo>
                  <a:cubicBezTo>
                    <a:pt x="120" y="1138"/>
                    <a:pt x="103" y="1122"/>
                    <a:pt x="86" y="1105"/>
                  </a:cubicBezTo>
                  <a:cubicBezTo>
                    <a:pt x="70" y="1089"/>
                    <a:pt x="53" y="1074"/>
                    <a:pt x="38" y="1057"/>
                  </a:cubicBezTo>
                  <a:cubicBezTo>
                    <a:pt x="24" y="1040"/>
                    <a:pt x="13" y="1020"/>
                    <a:pt x="12" y="1000"/>
                  </a:cubicBezTo>
                  <a:cubicBezTo>
                    <a:pt x="11" y="991"/>
                    <a:pt x="13" y="982"/>
                    <a:pt x="18" y="972"/>
                  </a:cubicBezTo>
                  <a:cubicBezTo>
                    <a:pt x="22" y="963"/>
                    <a:pt x="28" y="954"/>
                    <a:pt x="35" y="945"/>
                  </a:cubicBezTo>
                  <a:cubicBezTo>
                    <a:pt x="49" y="928"/>
                    <a:pt x="66" y="912"/>
                    <a:pt x="83" y="896"/>
                  </a:cubicBezTo>
                  <a:cubicBezTo>
                    <a:pt x="100" y="880"/>
                    <a:pt x="117" y="865"/>
                    <a:pt x="133" y="847"/>
                  </a:cubicBezTo>
                  <a:cubicBezTo>
                    <a:pt x="141" y="837"/>
                    <a:pt x="148" y="828"/>
                    <a:pt x="154" y="816"/>
                  </a:cubicBezTo>
                  <a:cubicBezTo>
                    <a:pt x="157" y="810"/>
                    <a:pt x="159" y="803"/>
                    <a:pt x="160" y="796"/>
                  </a:cubicBezTo>
                  <a:cubicBezTo>
                    <a:pt x="160" y="789"/>
                    <a:pt x="160" y="783"/>
                    <a:pt x="158" y="776"/>
                  </a:cubicBezTo>
                  <a:cubicBezTo>
                    <a:pt x="156" y="766"/>
                    <a:pt x="152" y="756"/>
                    <a:pt x="147" y="748"/>
                  </a:cubicBezTo>
                  <a:cubicBezTo>
                    <a:pt x="144" y="740"/>
                    <a:pt x="139" y="732"/>
                    <a:pt x="135" y="726"/>
                  </a:cubicBezTo>
                  <a:cubicBezTo>
                    <a:pt x="120" y="705"/>
                    <a:pt x="103" y="689"/>
                    <a:pt x="86" y="673"/>
                  </a:cubicBezTo>
                  <a:cubicBezTo>
                    <a:pt x="70" y="656"/>
                    <a:pt x="53" y="641"/>
                    <a:pt x="38" y="624"/>
                  </a:cubicBezTo>
                  <a:cubicBezTo>
                    <a:pt x="24" y="607"/>
                    <a:pt x="13" y="588"/>
                    <a:pt x="12" y="568"/>
                  </a:cubicBezTo>
                  <a:cubicBezTo>
                    <a:pt x="11" y="558"/>
                    <a:pt x="13" y="549"/>
                    <a:pt x="18" y="540"/>
                  </a:cubicBezTo>
                  <a:cubicBezTo>
                    <a:pt x="22" y="530"/>
                    <a:pt x="28" y="521"/>
                    <a:pt x="35" y="513"/>
                  </a:cubicBezTo>
                  <a:cubicBezTo>
                    <a:pt x="49" y="495"/>
                    <a:pt x="66" y="480"/>
                    <a:pt x="83" y="464"/>
                  </a:cubicBezTo>
                  <a:cubicBezTo>
                    <a:pt x="100" y="448"/>
                    <a:pt x="117" y="432"/>
                    <a:pt x="133" y="414"/>
                  </a:cubicBezTo>
                  <a:cubicBezTo>
                    <a:pt x="141" y="405"/>
                    <a:pt x="148" y="395"/>
                    <a:pt x="154" y="383"/>
                  </a:cubicBezTo>
                  <a:cubicBezTo>
                    <a:pt x="157" y="377"/>
                    <a:pt x="159" y="371"/>
                    <a:pt x="160" y="364"/>
                  </a:cubicBezTo>
                  <a:cubicBezTo>
                    <a:pt x="160" y="356"/>
                    <a:pt x="160" y="350"/>
                    <a:pt x="158" y="344"/>
                  </a:cubicBezTo>
                  <a:cubicBezTo>
                    <a:pt x="156" y="333"/>
                    <a:pt x="152" y="324"/>
                    <a:pt x="147" y="315"/>
                  </a:cubicBezTo>
                  <a:cubicBezTo>
                    <a:pt x="144" y="307"/>
                    <a:pt x="139" y="300"/>
                    <a:pt x="135" y="293"/>
                  </a:cubicBezTo>
                  <a:cubicBezTo>
                    <a:pt x="120" y="273"/>
                    <a:pt x="103" y="256"/>
                    <a:pt x="86" y="240"/>
                  </a:cubicBezTo>
                  <a:cubicBezTo>
                    <a:pt x="70" y="224"/>
                    <a:pt x="53" y="208"/>
                    <a:pt x="38" y="191"/>
                  </a:cubicBezTo>
                  <a:cubicBezTo>
                    <a:pt x="24" y="174"/>
                    <a:pt x="13" y="155"/>
                    <a:pt x="12" y="135"/>
                  </a:cubicBezTo>
                  <a:cubicBezTo>
                    <a:pt x="11" y="126"/>
                    <a:pt x="13" y="116"/>
                    <a:pt x="18" y="107"/>
                  </a:cubicBezTo>
                  <a:cubicBezTo>
                    <a:pt x="22" y="97"/>
                    <a:pt x="28" y="88"/>
                    <a:pt x="35" y="80"/>
                  </a:cubicBezTo>
                  <a:cubicBezTo>
                    <a:pt x="49" y="63"/>
                    <a:pt x="66" y="47"/>
                    <a:pt x="83" y="31"/>
                  </a:cubicBezTo>
                  <a:cubicBezTo>
                    <a:pt x="94" y="21"/>
                    <a:pt x="105" y="10"/>
                    <a:pt x="115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92" y="7"/>
                    <a:pt x="83" y="15"/>
                    <a:pt x="75" y="23"/>
                  </a:cubicBezTo>
                  <a:cubicBezTo>
                    <a:pt x="58" y="39"/>
                    <a:pt x="41" y="54"/>
                    <a:pt x="26" y="72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1" name="Freeform 15"/>
            <p:cNvSpPr/>
            <p:nvPr/>
          </p:nvSpPr>
          <p:spPr>
            <a:xfrm>
              <a:off x="5581800" y="-1440"/>
              <a:ext cx="506160" cy="686232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59" h="2159">
                  <a:moveTo>
                    <a:pt x="124" y="74"/>
                  </a:moveTo>
                  <a:cubicBezTo>
                    <a:pt x="131" y="83"/>
                    <a:pt x="138" y="92"/>
                    <a:pt x="143" y="103"/>
                  </a:cubicBezTo>
                  <a:cubicBezTo>
                    <a:pt x="147" y="111"/>
                    <a:pt x="150" y="121"/>
                    <a:pt x="150" y="131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47" y="149"/>
                    <a:pt x="140" y="167"/>
                    <a:pt x="130" y="183"/>
                  </a:cubicBezTo>
                  <a:cubicBezTo>
                    <a:pt x="127" y="187"/>
                    <a:pt x="124" y="192"/>
                    <a:pt x="121" y="196"/>
                  </a:cubicBezTo>
                  <a:cubicBezTo>
                    <a:pt x="121" y="196"/>
                    <a:pt x="121" y="197"/>
                    <a:pt x="120" y="197"/>
                  </a:cubicBezTo>
                  <a:cubicBezTo>
                    <a:pt x="105" y="215"/>
                    <a:pt x="88" y="230"/>
                    <a:pt x="71" y="246"/>
                  </a:cubicBezTo>
                  <a:cubicBezTo>
                    <a:pt x="54" y="262"/>
                    <a:pt x="38" y="279"/>
                    <a:pt x="24" y="298"/>
                  </a:cubicBezTo>
                  <a:cubicBezTo>
                    <a:pt x="22" y="300"/>
                    <a:pt x="21" y="302"/>
                    <a:pt x="19" y="305"/>
                  </a:cubicBezTo>
                  <a:cubicBezTo>
                    <a:pt x="18" y="307"/>
                    <a:pt x="16" y="310"/>
                    <a:pt x="14" y="313"/>
                  </a:cubicBezTo>
                  <a:cubicBezTo>
                    <a:pt x="8" y="322"/>
                    <a:pt x="3" y="333"/>
                    <a:pt x="1" y="345"/>
                  </a:cubicBezTo>
                  <a:cubicBezTo>
                    <a:pt x="1" y="345"/>
                    <a:pt x="0" y="346"/>
                    <a:pt x="0" y="347"/>
                  </a:cubicBezTo>
                  <a:cubicBezTo>
                    <a:pt x="1" y="352"/>
                    <a:pt x="2" y="357"/>
                    <a:pt x="1" y="364"/>
                  </a:cubicBezTo>
                  <a:cubicBezTo>
                    <a:pt x="1" y="365"/>
                    <a:pt x="1" y="366"/>
                    <a:pt x="1" y="367"/>
                  </a:cubicBezTo>
                  <a:cubicBezTo>
                    <a:pt x="2" y="372"/>
                    <a:pt x="3" y="376"/>
                    <a:pt x="5" y="379"/>
                  </a:cubicBezTo>
                  <a:cubicBezTo>
                    <a:pt x="7" y="383"/>
                    <a:pt x="9" y="387"/>
                    <a:pt x="11" y="390"/>
                  </a:cubicBezTo>
                  <a:cubicBezTo>
                    <a:pt x="12" y="392"/>
                    <a:pt x="13" y="394"/>
                    <a:pt x="14" y="396"/>
                  </a:cubicBezTo>
                  <a:cubicBezTo>
                    <a:pt x="15" y="396"/>
                    <a:pt x="15" y="396"/>
                    <a:pt x="15" y="396"/>
                  </a:cubicBezTo>
                  <a:cubicBezTo>
                    <a:pt x="18" y="400"/>
                    <a:pt x="22" y="404"/>
                    <a:pt x="25" y="408"/>
                  </a:cubicBezTo>
                  <a:cubicBezTo>
                    <a:pt x="41" y="426"/>
                    <a:pt x="58" y="441"/>
                    <a:pt x="75" y="457"/>
                  </a:cubicBezTo>
                  <a:cubicBezTo>
                    <a:pt x="92" y="473"/>
                    <a:pt x="109" y="489"/>
                    <a:pt x="124" y="507"/>
                  </a:cubicBezTo>
                  <a:cubicBezTo>
                    <a:pt x="131" y="516"/>
                    <a:pt x="138" y="525"/>
                    <a:pt x="143" y="535"/>
                  </a:cubicBezTo>
                  <a:cubicBezTo>
                    <a:pt x="147" y="544"/>
                    <a:pt x="150" y="554"/>
                    <a:pt x="150" y="564"/>
                  </a:cubicBezTo>
                  <a:cubicBezTo>
                    <a:pt x="149" y="564"/>
                    <a:pt x="149" y="564"/>
                    <a:pt x="149" y="564"/>
                  </a:cubicBezTo>
                  <a:cubicBezTo>
                    <a:pt x="147" y="582"/>
                    <a:pt x="140" y="600"/>
                    <a:pt x="130" y="616"/>
                  </a:cubicBezTo>
                  <a:cubicBezTo>
                    <a:pt x="127" y="620"/>
                    <a:pt x="124" y="625"/>
                    <a:pt x="121" y="629"/>
                  </a:cubicBezTo>
                  <a:cubicBezTo>
                    <a:pt x="121" y="629"/>
                    <a:pt x="121" y="629"/>
                    <a:pt x="120" y="630"/>
                  </a:cubicBezTo>
                  <a:cubicBezTo>
                    <a:pt x="105" y="648"/>
                    <a:pt x="88" y="663"/>
                    <a:pt x="71" y="679"/>
                  </a:cubicBezTo>
                  <a:cubicBezTo>
                    <a:pt x="54" y="695"/>
                    <a:pt x="38" y="711"/>
                    <a:pt x="24" y="730"/>
                  </a:cubicBezTo>
                  <a:cubicBezTo>
                    <a:pt x="22" y="733"/>
                    <a:pt x="21" y="735"/>
                    <a:pt x="19" y="737"/>
                  </a:cubicBezTo>
                  <a:cubicBezTo>
                    <a:pt x="18" y="740"/>
                    <a:pt x="16" y="743"/>
                    <a:pt x="14" y="745"/>
                  </a:cubicBezTo>
                  <a:cubicBezTo>
                    <a:pt x="8" y="755"/>
                    <a:pt x="3" y="766"/>
                    <a:pt x="1" y="778"/>
                  </a:cubicBezTo>
                  <a:cubicBezTo>
                    <a:pt x="1" y="778"/>
                    <a:pt x="0" y="779"/>
                    <a:pt x="0" y="779"/>
                  </a:cubicBezTo>
                  <a:cubicBezTo>
                    <a:pt x="1" y="785"/>
                    <a:pt x="2" y="790"/>
                    <a:pt x="1" y="796"/>
                  </a:cubicBezTo>
                  <a:cubicBezTo>
                    <a:pt x="1" y="798"/>
                    <a:pt x="1" y="799"/>
                    <a:pt x="1" y="800"/>
                  </a:cubicBezTo>
                  <a:cubicBezTo>
                    <a:pt x="2" y="804"/>
                    <a:pt x="3" y="808"/>
                    <a:pt x="5" y="812"/>
                  </a:cubicBezTo>
                  <a:cubicBezTo>
                    <a:pt x="7" y="816"/>
                    <a:pt x="9" y="819"/>
                    <a:pt x="11" y="823"/>
                  </a:cubicBezTo>
                  <a:cubicBezTo>
                    <a:pt x="12" y="825"/>
                    <a:pt x="13" y="827"/>
                    <a:pt x="14" y="828"/>
                  </a:cubicBezTo>
                  <a:cubicBezTo>
                    <a:pt x="15" y="828"/>
                    <a:pt x="15" y="828"/>
                    <a:pt x="15" y="828"/>
                  </a:cubicBezTo>
                  <a:cubicBezTo>
                    <a:pt x="18" y="833"/>
                    <a:pt x="22" y="837"/>
                    <a:pt x="25" y="841"/>
                  </a:cubicBezTo>
                  <a:cubicBezTo>
                    <a:pt x="41" y="858"/>
                    <a:pt x="58" y="874"/>
                    <a:pt x="75" y="890"/>
                  </a:cubicBezTo>
                  <a:cubicBezTo>
                    <a:pt x="92" y="906"/>
                    <a:pt x="109" y="922"/>
                    <a:pt x="124" y="939"/>
                  </a:cubicBezTo>
                  <a:cubicBezTo>
                    <a:pt x="131" y="948"/>
                    <a:pt x="138" y="958"/>
                    <a:pt x="143" y="968"/>
                  </a:cubicBezTo>
                  <a:cubicBezTo>
                    <a:pt x="146" y="976"/>
                    <a:pt x="149" y="984"/>
                    <a:pt x="150" y="993"/>
                  </a:cubicBezTo>
                  <a:cubicBezTo>
                    <a:pt x="149" y="993"/>
                    <a:pt x="149" y="993"/>
                    <a:pt x="149" y="993"/>
                  </a:cubicBezTo>
                  <a:cubicBezTo>
                    <a:pt x="147" y="1012"/>
                    <a:pt x="140" y="1029"/>
                    <a:pt x="130" y="1045"/>
                  </a:cubicBezTo>
                  <a:cubicBezTo>
                    <a:pt x="118" y="1065"/>
                    <a:pt x="102" y="1082"/>
                    <a:pt x="85" y="1098"/>
                  </a:cubicBezTo>
                  <a:cubicBezTo>
                    <a:pt x="69" y="1114"/>
                    <a:pt x="51" y="1130"/>
                    <a:pt x="36" y="1147"/>
                  </a:cubicBezTo>
                  <a:cubicBezTo>
                    <a:pt x="28" y="1156"/>
                    <a:pt x="20" y="1165"/>
                    <a:pt x="14" y="1175"/>
                  </a:cubicBezTo>
                  <a:cubicBezTo>
                    <a:pt x="8" y="1185"/>
                    <a:pt x="3" y="1195"/>
                    <a:pt x="1" y="1207"/>
                  </a:cubicBezTo>
                  <a:cubicBezTo>
                    <a:pt x="1" y="1208"/>
                    <a:pt x="0" y="1208"/>
                    <a:pt x="0" y="1209"/>
                  </a:cubicBezTo>
                  <a:cubicBezTo>
                    <a:pt x="1" y="1214"/>
                    <a:pt x="2" y="1220"/>
                    <a:pt x="1" y="1226"/>
                  </a:cubicBezTo>
                  <a:cubicBezTo>
                    <a:pt x="1" y="1227"/>
                    <a:pt x="1" y="1228"/>
                    <a:pt x="1" y="1230"/>
                  </a:cubicBezTo>
                  <a:cubicBezTo>
                    <a:pt x="2" y="1234"/>
                    <a:pt x="3" y="1238"/>
                    <a:pt x="5" y="1242"/>
                  </a:cubicBezTo>
                  <a:cubicBezTo>
                    <a:pt x="6" y="1243"/>
                    <a:pt x="6" y="1244"/>
                    <a:pt x="7" y="1245"/>
                  </a:cubicBezTo>
                  <a:cubicBezTo>
                    <a:pt x="9" y="1251"/>
                    <a:pt x="11" y="1256"/>
                    <a:pt x="14" y="1261"/>
                  </a:cubicBezTo>
                  <a:cubicBezTo>
                    <a:pt x="18" y="1261"/>
                    <a:pt x="18" y="1261"/>
                    <a:pt x="18" y="1261"/>
                  </a:cubicBezTo>
                  <a:cubicBezTo>
                    <a:pt x="20" y="1264"/>
                    <a:pt x="22" y="1267"/>
                    <a:pt x="25" y="1270"/>
                  </a:cubicBezTo>
                  <a:cubicBezTo>
                    <a:pt x="41" y="1288"/>
                    <a:pt x="58" y="1303"/>
                    <a:pt x="75" y="1319"/>
                  </a:cubicBezTo>
                  <a:cubicBezTo>
                    <a:pt x="92" y="1335"/>
                    <a:pt x="109" y="1351"/>
                    <a:pt x="124" y="1369"/>
                  </a:cubicBezTo>
                  <a:cubicBezTo>
                    <a:pt x="131" y="1378"/>
                    <a:pt x="138" y="1387"/>
                    <a:pt x="143" y="1398"/>
                  </a:cubicBezTo>
                  <a:cubicBezTo>
                    <a:pt x="147" y="1406"/>
                    <a:pt x="149" y="1415"/>
                    <a:pt x="150" y="1425"/>
                  </a:cubicBezTo>
                  <a:cubicBezTo>
                    <a:pt x="149" y="1425"/>
                    <a:pt x="149" y="1425"/>
                    <a:pt x="149" y="1425"/>
                  </a:cubicBezTo>
                  <a:cubicBezTo>
                    <a:pt x="147" y="1443"/>
                    <a:pt x="140" y="1461"/>
                    <a:pt x="130" y="1477"/>
                  </a:cubicBezTo>
                  <a:cubicBezTo>
                    <a:pt x="125" y="1485"/>
                    <a:pt x="119" y="1493"/>
                    <a:pt x="112" y="1501"/>
                  </a:cubicBezTo>
                  <a:cubicBezTo>
                    <a:pt x="99" y="1515"/>
                    <a:pt x="85" y="1528"/>
                    <a:pt x="71" y="1541"/>
                  </a:cubicBezTo>
                  <a:cubicBezTo>
                    <a:pt x="55" y="1556"/>
                    <a:pt x="39" y="1572"/>
                    <a:pt x="26" y="1590"/>
                  </a:cubicBezTo>
                  <a:cubicBezTo>
                    <a:pt x="22" y="1595"/>
                    <a:pt x="18" y="1600"/>
                    <a:pt x="14" y="1606"/>
                  </a:cubicBezTo>
                  <a:cubicBezTo>
                    <a:pt x="8" y="1616"/>
                    <a:pt x="3" y="1627"/>
                    <a:pt x="1" y="1639"/>
                  </a:cubicBezTo>
                  <a:cubicBezTo>
                    <a:pt x="1" y="1639"/>
                    <a:pt x="0" y="1640"/>
                    <a:pt x="0" y="1640"/>
                  </a:cubicBezTo>
                  <a:cubicBezTo>
                    <a:pt x="1" y="1646"/>
                    <a:pt x="2" y="1651"/>
                    <a:pt x="1" y="1657"/>
                  </a:cubicBezTo>
                  <a:cubicBezTo>
                    <a:pt x="1" y="1659"/>
                    <a:pt x="1" y="1660"/>
                    <a:pt x="1" y="1661"/>
                  </a:cubicBezTo>
                  <a:cubicBezTo>
                    <a:pt x="2" y="1665"/>
                    <a:pt x="3" y="1669"/>
                    <a:pt x="5" y="1673"/>
                  </a:cubicBezTo>
                  <a:cubicBezTo>
                    <a:pt x="6" y="1676"/>
                    <a:pt x="8" y="1679"/>
                    <a:pt x="10" y="1681"/>
                  </a:cubicBezTo>
                  <a:cubicBezTo>
                    <a:pt x="11" y="1685"/>
                    <a:pt x="12" y="1688"/>
                    <a:pt x="14" y="1691"/>
                  </a:cubicBezTo>
                  <a:cubicBezTo>
                    <a:pt x="16" y="1691"/>
                    <a:pt x="16" y="1691"/>
                    <a:pt x="16" y="1691"/>
                  </a:cubicBezTo>
                  <a:cubicBezTo>
                    <a:pt x="19" y="1694"/>
                    <a:pt x="22" y="1698"/>
                    <a:pt x="25" y="1702"/>
                  </a:cubicBezTo>
                  <a:cubicBezTo>
                    <a:pt x="41" y="1719"/>
                    <a:pt x="58" y="1735"/>
                    <a:pt x="75" y="1751"/>
                  </a:cubicBezTo>
                  <a:cubicBezTo>
                    <a:pt x="92" y="1767"/>
                    <a:pt x="109" y="1783"/>
                    <a:pt x="124" y="1800"/>
                  </a:cubicBezTo>
                  <a:cubicBezTo>
                    <a:pt x="131" y="1809"/>
                    <a:pt x="138" y="1819"/>
                    <a:pt x="143" y="1829"/>
                  </a:cubicBezTo>
                  <a:cubicBezTo>
                    <a:pt x="147" y="1837"/>
                    <a:pt x="149" y="1846"/>
                    <a:pt x="150" y="1855"/>
                  </a:cubicBezTo>
                  <a:cubicBezTo>
                    <a:pt x="149" y="1855"/>
                    <a:pt x="149" y="1855"/>
                    <a:pt x="149" y="1855"/>
                  </a:cubicBezTo>
                  <a:cubicBezTo>
                    <a:pt x="147" y="1874"/>
                    <a:pt x="140" y="1891"/>
                    <a:pt x="130" y="1907"/>
                  </a:cubicBezTo>
                  <a:cubicBezTo>
                    <a:pt x="120" y="1923"/>
                    <a:pt x="107" y="1938"/>
                    <a:pt x="94" y="1951"/>
                  </a:cubicBezTo>
                  <a:cubicBezTo>
                    <a:pt x="87" y="1959"/>
                    <a:pt x="79" y="1966"/>
                    <a:pt x="71" y="1973"/>
                  </a:cubicBezTo>
                  <a:cubicBezTo>
                    <a:pt x="60" y="1984"/>
                    <a:pt x="48" y="1995"/>
                    <a:pt x="38" y="2007"/>
                  </a:cubicBezTo>
                  <a:cubicBezTo>
                    <a:pt x="37" y="2008"/>
                    <a:pt x="36" y="2008"/>
                    <a:pt x="36" y="2009"/>
                  </a:cubicBezTo>
                  <a:cubicBezTo>
                    <a:pt x="28" y="2018"/>
                    <a:pt x="20" y="2027"/>
                    <a:pt x="14" y="2037"/>
                  </a:cubicBezTo>
                  <a:cubicBezTo>
                    <a:pt x="8" y="2047"/>
                    <a:pt x="3" y="2057"/>
                    <a:pt x="1" y="2069"/>
                  </a:cubicBezTo>
                  <a:cubicBezTo>
                    <a:pt x="1" y="2070"/>
                    <a:pt x="0" y="2070"/>
                    <a:pt x="0" y="2071"/>
                  </a:cubicBezTo>
                  <a:cubicBezTo>
                    <a:pt x="1" y="2076"/>
                    <a:pt x="2" y="2082"/>
                    <a:pt x="1" y="2088"/>
                  </a:cubicBezTo>
                  <a:cubicBezTo>
                    <a:pt x="1" y="2089"/>
                    <a:pt x="1" y="2090"/>
                    <a:pt x="1" y="2092"/>
                  </a:cubicBezTo>
                  <a:cubicBezTo>
                    <a:pt x="2" y="2096"/>
                    <a:pt x="3" y="2100"/>
                    <a:pt x="5" y="2104"/>
                  </a:cubicBezTo>
                  <a:cubicBezTo>
                    <a:pt x="6" y="2106"/>
                    <a:pt x="7" y="2107"/>
                    <a:pt x="8" y="2109"/>
                  </a:cubicBezTo>
                  <a:cubicBezTo>
                    <a:pt x="10" y="2114"/>
                    <a:pt x="12" y="2118"/>
                    <a:pt x="14" y="2122"/>
                  </a:cubicBezTo>
                  <a:cubicBezTo>
                    <a:pt x="17" y="2122"/>
                    <a:pt x="17" y="2122"/>
                    <a:pt x="17" y="2122"/>
                  </a:cubicBezTo>
                  <a:cubicBezTo>
                    <a:pt x="19" y="2126"/>
                    <a:pt x="22" y="2129"/>
                    <a:pt x="25" y="2132"/>
                  </a:cubicBezTo>
                  <a:cubicBezTo>
                    <a:pt x="33" y="2142"/>
                    <a:pt x="42" y="2150"/>
                    <a:pt x="51" y="2159"/>
                  </a:cubicBezTo>
                  <a:cubicBezTo>
                    <a:pt x="67" y="2159"/>
                    <a:pt x="67" y="2159"/>
                    <a:pt x="67" y="2159"/>
                  </a:cubicBezTo>
                  <a:cubicBezTo>
                    <a:pt x="55" y="2148"/>
                    <a:pt x="43" y="2137"/>
                    <a:pt x="33" y="2125"/>
                  </a:cubicBezTo>
                  <a:cubicBezTo>
                    <a:pt x="26" y="2117"/>
                    <a:pt x="20" y="2109"/>
                    <a:pt x="15" y="2101"/>
                  </a:cubicBezTo>
                  <a:cubicBezTo>
                    <a:pt x="14" y="2097"/>
                    <a:pt x="13" y="2093"/>
                    <a:pt x="13" y="2089"/>
                  </a:cubicBezTo>
                  <a:cubicBezTo>
                    <a:pt x="12" y="2068"/>
                    <a:pt x="20" y="2048"/>
                    <a:pt x="33" y="2030"/>
                  </a:cubicBezTo>
                  <a:cubicBezTo>
                    <a:pt x="45" y="2012"/>
                    <a:pt x="62" y="1997"/>
                    <a:pt x="79" y="1981"/>
                  </a:cubicBezTo>
                  <a:cubicBezTo>
                    <a:pt x="96" y="1965"/>
                    <a:pt x="113" y="1949"/>
                    <a:pt x="129" y="1931"/>
                  </a:cubicBezTo>
                  <a:cubicBezTo>
                    <a:pt x="137" y="1922"/>
                    <a:pt x="144" y="1912"/>
                    <a:pt x="150" y="1900"/>
                  </a:cubicBezTo>
                  <a:cubicBezTo>
                    <a:pt x="154" y="1894"/>
                    <a:pt x="157" y="1886"/>
                    <a:pt x="159" y="1879"/>
                  </a:cubicBezTo>
                  <a:cubicBezTo>
                    <a:pt x="159" y="1838"/>
                    <a:pt x="159" y="1838"/>
                    <a:pt x="159" y="1838"/>
                  </a:cubicBezTo>
                  <a:cubicBezTo>
                    <a:pt x="157" y="1833"/>
                    <a:pt x="156" y="1828"/>
                    <a:pt x="153" y="1824"/>
                  </a:cubicBezTo>
                  <a:cubicBezTo>
                    <a:pt x="148" y="1812"/>
                    <a:pt x="140" y="1802"/>
                    <a:pt x="133" y="1793"/>
                  </a:cubicBezTo>
                  <a:cubicBezTo>
                    <a:pt x="117" y="1774"/>
                    <a:pt x="100" y="1758"/>
                    <a:pt x="82" y="1743"/>
                  </a:cubicBezTo>
                  <a:cubicBezTo>
                    <a:pt x="65" y="1727"/>
                    <a:pt x="48" y="1712"/>
                    <a:pt x="33" y="1695"/>
                  </a:cubicBezTo>
                  <a:cubicBezTo>
                    <a:pt x="26" y="1687"/>
                    <a:pt x="20" y="1679"/>
                    <a:pt x="16" y="1671"/>
                  </a:cubicBezTo>
                  <a:cubicBezTo>
                    <a:pt x="14" y="1667"/>
                    <a:pt x="14" y="1662"/>
                    <a:pt x="13" y="1658"/>
                  </a:cubicBezTo>
                  <a:cubicBezTo>
                    <a:pt x="12" y="1637"/>
                    <a:pt x="20" y="1616"/>
                    <a:pt x="33" y="1599"/>
                  </a:cubicBezTo>
                  <a:cubicBezTo>
                    <a:pt x="45" y="1581"/>
                    <a:pt x="62" y="1565"/>
                    <a:pt x="79" y="1549"/>
                  </a:cubicBezTo>
                  <a:cubicBezTo>
                    <a:pt x="96" y="1534"/>
                    <a:pt x="113" y="1518"/>
                    <a:pt x="129" y="1499"/>
                  </a:cubicBezTo>
                  <a:cubicBezTo>
                    <a:pt x="137" y="1490"/>
                    <a:pt x="144" y="1480"/>
                    <a:pt x="150" y="1469"/>
                  </a:cubicBezTo>
                  <a:cubicBezTo>
                    <a:pt x="154" y="1462"/>
                    <a:pt x="157" y="1455"/>
                    <a:pt x="159" y="1447"/>
                  </a:cubicBezTo>
                  <a:cubicBezTo>
                    <a:pt x="159" y="1406"/>
                    <a:pt x="159" y="1406"/>
                    <a:pt x="159" y="1406"/>
                  </a:cubicBezTo>
                  <a:cubicBezTo>
                    <a:pt x="157" y="1401"/>
                    <a:pt x="156" y="1397"/>
                    <a:pt x="153" y="1392"/>
                  </a:cubicBezTo>
                  <a:cubicBezTo>
                    <a:pt x="148" y="1381"/>
                    <a:pt x="140" y="1371"/>
                    <a:pt x="133" y="1361"/>
                  </a:cubicBezTo>
                  <a:cubicBezTo>
                    <a:pt x="117" y="1343"/>
                    <a:pt x="100" y="1327"/>
                    <a:pt x="82" y="1311"/>
                  </a:cubicBezTo>
                  <a:cubicBezTo>
                    <a:pt x="65" y="1295"/>
                    <a:pt x="48" y="1280"/>
                    <a:pt x="33" y="1263"/>
                  </a:cubicBezTo>
                  <a:cubicBezTo>
                    <a:pt x="26" y="1255"/>
                    <a:pt x="19" y="1247"/>
                    <a:pt x="15" y="1238"/>
                  </a:cubicBezTo>
                  <a:cubicBezTo>
                    <a:pt x="14" y="1235"/>
                    <a:pt x="13" y="1232"/>
                    <a:pt x="13" y="1228"/>
                  </a:cubicBezTo>
                  <a:cubicBezTo>
                    <a:pt x="12" y="1207"/>
                    <a:pt x="20" y="1187"/>
                    <a:pt x="33" y="1169"/>
                  </a:cubicBezTo>
                  <a:cubicBezTo>
                    <a:pt x="45" y="1152"/>
                    <a:pt x="62" y="1136"/>
                    <a:pt x="79" y="1120"/>
                  </a:cubicBezTo>
                  <a:cubicBezTo>
                    <a:pt x="96" y="1104"/>
                    <a:pt x="113" y="1089"/>
                    <a:pt x="129" y="1070"/>
                  </a:cubicBezTo>
                  <a:cubicBezTo>
                    <a:pt x="137" y="1061"/>
                    <a:pt x="144" y="1051"/>
                    <a:pt x="150" y="1039"/>
                  </a:cubicBezTo>
                  <a:cubicBezTo>
                    <a:pt x="154" y="1033"/>
                    <a:pt x="157" y="1025"/>
                    <a:pt x="159" y="1018"/>
                  </a:cubicBezTo>
                  <a:cubicBezTo>
                    <a:pt x="159" y="977"/>
                    <a:pt x="159" y="977"/>
                    <a:pt x="159" y="977"/>
                  </a:cubicBezTo>
                  <a:cubicBezTo>
                    <a:pt x="157" y="972"/>
                    <a:pt x="156" y="967"/>
                    <a:pt x="153" y="963"/>
                  </a:cubicBezTo>
                  <a:cubicBezTo>
                    <a:pt x="148" y="951"/>
                    <a:pt x="140" y="941"/>
                    <a:pt x="133" y="932"/>
                  </a:cubicBezTo>
                  <a:cubicBezTo>
                    <a:pt x="117" y="913"/>
                    <a:pt x="100" y="897"/>
                    <a:pt x="82" y="882"/>
                  </a:cubicBezTo>
                  <a:cubicBezTo>
                    <a:pt x="65" y="866"/>
                    <a:pt x="48" y="851"/>
                    <a:pt x="33" y="834"/>
                  </a:cubicBezTo>
                  <a:cubicBezTo>
                    <a:pt x="27" y="827"/>
                    <a:pt x="21" y="819"/>
                    <a:pt x="16" y="811"/>
                  </a:cubicBezTo>
                  <a:cubicBezTo>
                    <a:pt x="15" y="806"/>
                    <a:pt x="14" y="801"/>
                    <a:pt x="13" y="795"/>
                  </a:cubicBezTo>
                  <a:cubicBezTo>
                    <a:pt x="12" y="774"/>
                    <a:pt x="20" y="754"/>
                    <a:pt x="33" y="737"/>
                  </a:cubicBezTo>
                  <a:cubicBezTo>
                    <a:pt x="45" y="719"/>
                    <a:pt x="62" y="703"/>
                    <a:pt x="79" y="687"/>
                  </a:cubicBezTo>
                  <a:cubicBezTo>
                    <a:pt x="96" y="671"/>
                    <a:pt x="113" y="656"/>
                    <a:pt x="129" y="637"/>
                  </a:cubicBezTo>
                  <a:cubicBezTo>
                    <a:pt x="137" y="628"/>
                    <a:pt x="144" y="618"/>
                    <a:pt x="150" y="607"/>
                  </a:cubicBezTo>
                  <a:cubicBezTo>
                    <a:pt x="154" y="600"/>
                    <a:pt x="157" y="593"/>
                    <a:pt x="159" y="585"/>
                  </a:cubicBezTo>
                  <a:cubicBezTo>
                    <a:pt x="159" y="544"/>
                    <a:pt x="159" y="544"/>
                    <a:pt x="159" y="544"/>
                  </a:cubicBezTo>
                  <a:cubicBezTo>
                    <a:pt x="157" y="539"/>
                    <a:pt x="156" y="535"/>
                    <a:pt x="153" y="530"/>
                  </a:cubicBezTo>
                  <a:cubicBezTo>
                    <a:pt x="148" y="519"/>
                    <a:pt x="140" y="509"/>
                    <a:pt x="133" y="499"/>
                  </a:cubicBezTo>
                  <a:cubicBezTo>
                    <a:pt x="117" y="481"/>
                    <a:pt x="100" y="465"/>
                    <a:pt x="82" y="449"/>
                  </a:cubicBezTo>
                  <a:cubicBezTo>
                    <a:pt x="65" y="433"/>
                    <a:pt x="48" y="418"/>
                    <a:pt x="33" y="401"/>
                  </a:cubicBezTo>
                  <a:cubicBezTo>
                    <a:pt x="27" y="394"/>
                    <a:pt x="21" y="386"/>
                    <a:pt x="16" y="379"/>
                  </a:cubicBezTo>
                  <a:cubicBezTo>
                    <a:pt x="15" y="373"/>
                    <a:pt x="14" y="368"/>
                    <a:pt x="13" y="363"/>
                  </a:cubicBezTo>
                  <a:cubicBezTo>
                    <a:pt x="12" y="342"/>
                    <a:pt x="20" y="322"/>
                    <a:pt x="33" y="304"/>
                  </a:cubicBezTo>
                  <a:cubicBezTo>
                    <a:pt x="45" y="286"/>
                    <a:pt x="62" y="270"/>
                    <a:pt x="79" y="254"/>
                  </a:cubicBezTo>
                  <a:cubicBezTo>
                    <a:pt x="96" y="239"/>
                    <a:pt x="113" y="223"/>
                    <a:pt x="129" y="204"/>
                  </a:cubicBezTo>
                  <a:cubicBezTo>
                    <a:pt x="137" y="195"/>
                    <a:pt x="144" y="185"/>
                    <a:pt x="150" y="174"/>
                  </a:cubicBezTo>
                  <a:cubicBezTo>
                    <a:pt x="154" y="167"/>
                    <a:pt x="157" y="160"/>
                    <a:pt x="159" y="152"/>
                  </a:cubicBezTo>
                  <a:cubicBezTo>
                    <a:pt x="159" y="111"/>
                    <a:pt x="159" y="111"/>
                    <a:pt x="159" y="111"/>
                  </a:cubicBezTo>
                  <a:cubicBezTo>
                    <a:pt x="157" y="107"/>
                    <a:pt x="156" y="102"/>
                    <a:pt x="153" y="97"/>
                  </a:cubicBezTo>
                  <a:cubicBezTo>
                    <a:pt x="148" y="86"/>
                    <a:pt x="140" y="76"/>
                    <a:pt x="133" y="66"/>
                  </a:cubicBezTo>
                  <a:cubicBezTo>
                    <a:pt x="117" y="48"/>
                    <a:pt x="100" y="32"/>
                    <a:pt x="82" y="16"/>
                  </a:cubicBezTo>
                  <a:cubicBezTo>
                    <a:pt x="76" y="11"/>
                    <a:pt x="71" y="5"/>
                    <a:pt x="65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57" y="8"/>
                    <a:pt x="66" y="16"/>
                    <a:pt x="75" y="24"/>
                  </a:cubicBezTo>
                  <a:cubicBezTo>
                    <a:pt x="92" y="40"/>
                    <a:pt x="109" y="56"/>
                    <a:pt x="124" y="74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2" name="Freeform 16"/>
            <p:cNvSpPr/>
            <p:nvPr/>
          </p:nvSpPr>
          <p:spPr>
            <a:xfrm>
              <a:off x="6087960" y="-1440"/>
              <a:ext cx="501120" cy="6862320"/>
            </a:xfrm>
            <a:custGeom>
              <a:avLst/>
              <a:gdLst>
                <a:gd name="textAreaLeft" fmla="*/ 0 w 501120"/>
                <a:gd name="textAreaRight" fmla="*/ 501480 w 50112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58" h="2159">
                  <a:moveTo>
                    <a:pt x="23" y="72"/>
                  </a:moveTo>
                  <a:cubicBezTo>
                    <a:pt x="16" y="81"/>
                    <a:pt x="9" y="91"/>
                    <a:pt x="4" y="102"/>
                  </a:cubicBezTo>
                  <a:cubicBezTo>
                    <a:pt x="3" y="104"/>
                    <a:pt x="1" y="107"/>
                    <a:pt x="0" y="110"/>
                  </a:cubicBezTo>
                  <a:cubicBezTo>
                    <a:pt x="0" y="133"/>
                    <a:pt x="0" y="133"/>
                    <a:pt x="0" y="133"/>
                  </a:cubicBezTo>
                  <a:cubicBezTo>
                    <a:pt x="0" y="144"/>
                    <a:pt x="0" y="144"/>
                    <a:pt x="0" y="144"/>
                  </a:cubicBezTo>
                  <a:cubicBezTo>
                    <a:pt x="0" y="154"/>
                    <a:pt x="0" y="154"/>
                    <a:pt x="0" y="154"/>
                  </a:cubicBezTo>
                  <a:cubicBezTo>
                    <a:pt x="2" y="159"/>
                    <a:pt x="4" y="164"/>
                    <a:pt x="7" y="170"/>
                  </a:cubicBezTo>
                  <a:cubicBezTo>
                    <a:pt x="12" y="180"/>
                    <a:pt x="19" y="190"/>
                    <a:pt x="27" y="198"/>
                  </a:cubicBezTo>
                  <a:cubicBezTo>
                    <a:pt x="30" y="202"/>
                    <a:pt x="33" y="206"/>
                    <a:pt x="36" y="209"/>
                  </a:cubicBezTo>
                  <a:cubicBezTo>
                    <a:pt x="44" y="219"/>
                    <a:pt x="53" y="228"/>
                    <a:pt x="62" y="237"/>
                  </a:cubicBezTo>
                  <a:cubicBezTo>
                    <a:pt x="79" y="254"/>
                    <a:pt x="96" y="269"/>
                    <a:pt x="112" y="286"/>
                  </a:cubicBezTo>
                  <a:cubicBezTo>
                    <a:pt x="117" y="291"/>
                    <a:pt x="121" y="297"/>
                    <a:pt x="125" y="302"/>
                  </a:cubicBezTo>
                  <a:cubicBezTo>
                    <a:pt x="131" y="311"/>
                    <a:pt x="136" y="320"/>
                    <a:pt x="139" y="329"/>
                  </a:cubicBezTo>
                  <a:cubicBezTo>
                    <a:pt x="143" y="340"/>
                    <a:pt x="144" y="352"/>
                    <a:pt x="143" y="363"/>
                  </a:cubicBezTo>
                  <a:cubicBezTo>
                    <a:pt x="142" y="372"/>
                    <a:pt x="140" y="380"/>
                    <a:pt x="137" y="388"/>
                  </a:cubicBezTo>
                  <a:cubicBezTo>
                    <a:pt x="132" y="395"/>
                    <a:pt x="127" y="401"/>
                    <a:pt x="122" y="407"/>
                  </a:cubicBezTo>
                  <a:cubicBezTo>
                    <a:pt x="107" y="424"/>
                    <a:pt x="89" y="440"/>
                    <a:pt x="72" y="455"/>
                  </a:cubicBezTo>
                  <a:cubicBezTo>
                    <a:pt x="55" y="471"/>
                    <a:pt x="38" y="487"/>
                    <a:pt x="23" y="505"/>
                  </a:cubicBezTo>
                  <a:cubicBezTo>
                    <a:pt x="16" y="514"/>
                    <a:pt x="9" y="524"/>
                    <a:pt x="4" y="534"/>
                  </a:cubicBezTo>
                  <a:cubicBezTo>
                    <a:pt x="3" y="537"/>
                    <a:pt x="1" y="540"/>
                    <a:pt x="0" y="543"/>
                  </a:cubicBezTo>
                  <a:cubicBezTo>
                    <a:pt x="0" y="566"/>
                    <a:pt x="0" y="566"/>
                    <a:pt x="0" y="566"/>
                  </a:cubicBezTo>
                  <a:cubicBezTo>
                    <a:pt x="0" y="577"/>
                    <a:pt x="0" y="577"/>
                    <a:pt x="0" y="577"/>
                  </a:cubicBezTo>
                  <a:cubicBezTo>
                    <a:pt x="0" y="587"/>
                    <a:pt x="0" y="587"/>
                    <a:pt x="0" y="587"/>
                  </a:cubicBezTo>
                  <a:cubicBezTo>
                    <a:pt x="2" y="592"/>
                    <a:pt x="4" y="597"/>
                    <a:pt x="7" y="602"/>
                  </a:cubicBezTo>
                  <a:cubicBezTo>
                    <a:pt x="12" y="613"/>
                    <a:pt x="19" y="622"/>
                    <a:pt x="27" y="631"/>
                  </a:cubicBezTo>
                  <a:cubicBezTo>
                    <a:pt x="30" y="635"/>
                    <a:pt x="33" y="638"/>
                    <a:pt x="36" y="642"/>
                  </a:cubicBezTo>
                  <a:cubicBezTo>
                    <a:pt x="44" y="652"/>
                    <a:pt x="53" y="661"/>
                    <a:pt x="62" y="670"/>
                  </a:cubicBezTo>
                  <a:cubicBezTo>
                    <a:pt x="79" y="686"/>
                    <a:pt x="96" y="702"/>
                    <a:pt x="112" y="719"/>
                  </a:cubicBezTo>
                  <a:cubicBezTo>
                    <a:pt x="117" y="724"/>
                    <a:pt x="121" y="730"/>
                    <a:pt x="125" y="735"/>
                  </a:cubicBezTo>
                  <a:cubicBezTo>
                    <a:pt x="131" y="744"/>
                    <a:pt x="136" y="753"/>
                    <a:pt x="139" y="762"/>
                  </a:cubicBezTo>
                  <a:cubicBezTo>
                    <a:pt x="143" y="773"/>
                    <a:pt x="144" y="785"/>
                    <a:pt x="143" y="796"/>
                  </a:cubicBezTo>
                  <a:cubicBezTo>
                    <a:pt x="142" y="805"/>
                    <a:pt x="140" y="813"/>
                    <a:pt x="137" y="821"/>
                  </a:cubicBezTo>
                  <a:cubicBezTo>
                    <a:pt x="132" y="827"/>
                    <a:pt x="127" y="834"/>
                    <a:pt x="122" y="840"/>
                  </a:cubicBezTo>
                  <a:cubicBezTo>
                    <a:pt x="107" y="857"/>
                    <a:pt x="89" y="872"/>
                    <a:pt x="72" y="888"/>
                  </a:cubicBezTo>
                  <a:cubicBezTo>
                    <a:pt x="55" y="904"/>
                    <a:pt x="38" y="920"/>
                    <a:pt x="23" y="938"/>
                  </a:cubicBezTo>
                  <a:cubicBezTo>
                    <a:pt x="16" y="947"/>
                    <a:pt x="9" y="957"/>
                    <a:pt x="4" y="967"/>
                  </a:cubicBezTo>
                  <a:cubicBezTo>
                    <a:pt x="3" y="970"/>
                    <a:pt x="1" y="973"/>
                    <a:pt x="0" y="976"/>
                  </a:cubicBezTo>
                  <a:cubicBezTo>
                    <a:pt x="0" y="995"/>
                    <a:pt x="0" y="995"/>
                    <a:pt x="0" y="995"/>
                  </a:cubicBezTo>
                  <a:cubicBezTo>
                    <a:pt x="0" y="1006"/>
                    <a:pt x="0" y="1006"/>
                    <a:pt x="0" y="1006"/>
                  </a:cubicBezTo>
                  <a:cubicBezTo>
                    <a:pt x="0" y="1019"/>
                    <a:pt x="0" y="1019"/>
                    <a:pt x="0" y="1019"/>
                  </a:cubicBezTo>
                  <a:cubicBezTo>
                    <a:pt x="2" y="1025"/>
                    <a:pt x="4" y="1030"/>
                    <a:pt x="7" y="1035"/>
                  </a:cubicBezTo>
                  <a:cubicBezTo>
                    <a:pt x="12" y="1046"/>
                    <a:pt x="19" y="1055"/>
                    <a:pt x="27" y="1064"/>
                  </a:cubicBezTo>
                  <a:cubicBezTo>
                    <a:pt x="42" y="1082"/>
                    <a:pt x="59" y="1098"/>
                    <a:pt x="76" y="1113"/>
                  </a:cubicBezTo>
                  <a:cubicBezTo>
                    <a:pt x="93" y="1129"/>
                    <a:pt x="110" y="1146"/>
                    <a:pt x="123" y="1164"/>
                  </a:cubicBezTo>
                  <a:cubicBezTo>
                    <a:pt x="130" y="1174"/>
                    <a:pt x="135" y="1184"/>
                    <a:pt x="139" y="1195"/>
                  </a:cubicBezTo>
                  <a:cubicBezTo>
                    <a:pt x="143" y="1206"/>
                    <a:pt x="144" y="1218"/>
                    <a:pt x="143" y="1229"/>
                  </a:cubicBezTo>
                  <a:cubicBezTo>
                    <a:pt x="143" y="1234"/>
                    <a:pt x="142" y="1239"/>
                    <a:pt x="140" y="1244"/>
                  </a:cubicBezTo>
                  <a:cubicBezTo>
                    <a:pt x="135" y="1253"/>
                    <a:pt x="129" y="1261"/>
                    <a:pt x="122" y="1269"/>
                  </a:cubicBezTo>
                  <a:cubicBezTo>
                    <a:pt x="107" y="1286"/>
                    <a:pt x="89" y="1302"/>
                    <a:pt x="72" y="1318"/>
                  </a:cubicBezTo>
                  <a:cubicBezTo>
                    <a:pt x="55" y="1333"/>
                    <a:pt x="38" y="1349"/>
                    <a:pt x="23" y="1367"/>
                  </a:cubicBezTo>
                  <a:cubicBezTo>
                    <a:pt x="16" y="1376"/>
                    <a:pt x="9" y="1386"/>
                    <a:pt x="4" y="1396"/>
                  </a:cubicBezTo>
                  <a:cubicBezTo>
                    <a:pt x="3" y="1399"/>
                    <a:pt x="1" y="1402"/>
                    <a:pt x="0" y="1405"/>
                  </a:cubicBezTo>
                  <a:cubicBezTo>
                    <a:pt x="0" y="1427"/>
                    <a:pt x="0" y="1427"/>
                    <a:pt x="0" y="1427"/>
                  </a:cubicBezTo>
                  <a:cubicBezTo>
                    <a:pt x="0" y="1438"/>
                    <a:pt x="0" y="1438"/>
                    <a:pt x="0" y="1438"/>
                  </a:cubicBezTo>
                  <a:cubicBezTo>
                    <a:pt x="0" y="1449"/>
                    <a:pt x="0" y="1449"/>
                    <a:pt x="0" y="1449"/>
                  </a:cubicBezTo>
                  <a:cubicBezTo>
                    <a:pt x="2" y="1454"/>
                    <a:pt x="4" y="1459"/>
                    <a:pt x="7" y="1464"/>
                  </a:cubicBezTo>
                  <a:cubicBezTo>
                    <a:pt x="12" y="1475"/>
                    <a:pt x="19" y="1484"/>
                    <a:pt x="27" y="1493"/>
                  </a:cubicBezTo>
                  <a:cubicBezTo>
                    <a:pt x="34" y="1502"/>
                    <a:pt x="41" y="1510"/>
                    <a:pt x="49" y="1517"/>
                  </a:cubicBezTo>
                  <a:cubicBezTo>
                    <a:pt x="54" y="1522"/>
                    <a:pt x="58" y="1526"/>
                    <a:pt x="62" y="1531"/>
                  </a:cubicBezTo>
                  <a:cubicBezTo>
                    <a:pt x="79" y="1547"/>
                    <a:pt x="96" y="1563"/>
                    <a:pt x="112" y="1580"/>
                  </a:cubicBezTo>
                  <a:cubicBezTo>
                    <a:pt x="114" y="1582"/>
                    <a:pt x="115" y="1584"/>
                    <a:pt x="117" y="1586"/>
                  </a:cubicBezTo>
                  <a:cubicBezTo>
                    <a:pt x="119" y="1589"/>
                    <a:pt x="121" y="1591"/>
                    <a:pt x="123" y="1594"/>
                  </a:cubicBezTo>
                  <a:cubicBezTo>
                    <a:pt x="130" y="1603"/>
                    <a:pt x="135" y="1613"/>
                    <a:pt x="139" y="1624"/>
                  </a:cubicBezTo>
                  <a:cubicBezTo>
                    <a:pt x="143" y="1635"/>
                    <a:pt x="144" y="1647"/>
                    <a:pt x="143" y="1658"/>
                  </a:cubicBezTo>
                  <a:cubicBezTo>
                    <a:pt x="142" y="1666"/>
                    <a:pt x="141" y="1673"/>
                    <a:pt x="138" y="1680"/>
                  </a:cubicBezTo>
                  <a:cubicBezTo>
                    <a:pt x="133" y="1687"/>
                    <a:pt x="128" y="1694"/>
                    <a:pt x="122" y="1701"/>
                  </a:cubicBezTo>
                  <a:cubicBezTo>
                    <a:pt x="107" y="1718"/>
                    <a:pt x="89" y="1733"/>
                    <a:pt x="72" y="1749"/>
                  </a:cubicBezTo>
                  <a:cubicBezTo>
                    <a:pt x="55" y="1765"/>
                    <a:pt x="38" y="1781"/>
                    <a:pt x="23" y="1799"/>
                  </a:cubicBezTo>
                  <a:cubicBezTo>
                    <a:pt x="16" y="1808"/>
                    <a:pt x="9" y="1818"/>
                    <a:pt x="4" y="1828"/>
                  </a:cubicBezTo>
                  <a:cubicBezTo>
                    <a:pt x="3" y="1831"/>
                    <a:pt x="1" y="1834"/>
                    <a:pt x="0" y="1837"/>
                  </a:cubicBezTo>
                  <a:cubicBezTo>
                    <a:pt x="0" y="1857"/>
                    <a:pt x="0" y="1857"/>
                    <a:pt x="0" y="1857"/>
                  </a:cubicBezTo>
                  <a:cubicBezTo>
                    <a:pt x="0" y="1868"/>
                    <a:pt x="0" y="1868"/>
                    <a:pt x="0" y="1868"/>
                  </a:cubicBezTo>
                  <a:cubicBezTo>
                    <a:pt x="0" y="1880"/>
                    <a:pt x="0" y="1880"/>
                    <a:pt x="0" y="1880"/>
                  </a:cubicBezTo>
                  <a:cubicBezTo>
                    <a:pt x="2" y="1886"/>
                    <a:pt x="4" y="1891"/>
                    <a:pt x="7" y="1896"/>
                  </a:cubicBezTo>
                  <a:cubicBezTo>
                    <a:pt x="12" y="1907"/>
                    <a:pt x="19" y="1916"/>
                    <a:pt x="27" y="1925"/>
                  </a:cubicBezTo>
                  <a:cubicBezTo>
                    <a:pt x="42" y="1943"/>
                    <a:pt x="59" y="1958"/>
                    <a:pt x="76" y="1974"/>
                  </a:cubicBezTo>
                  <a:cubicBezTo>
                    <a:pt x="76" y="1975"/>
                    <a:pt x="76" y="1975"/>
                    <a:pt x="77" y="1975"/>
                  </a:cubicBezTo>
                  <a:cubicBezTo>
                    <a:pt x="84" y="1982"/>
                    <a:pt x="90" y="1988"/>
                    <a:pt x="97" y="1995"/>
                  </a:cubicBezTo>
                  <a:cubicBezTo>
                    <a:pt x="106" y="2004"/>
                    <a:pt x="115" y="2014"/>
                    <a:pt x="123" y="2025"/>
                  </a:cubicBezTo>
                  <a:cubicBezTo>
                    <a:pt x="130" y="2035"/>
                    <a:pt x="135" y="2045"/>
                    <a:pt x="139" y="2056"/>
                  </a:cubicBezTo>
                  <a:cubicBezTo>
                    <a:pt x="143" y="2067"/>
                    <a:pt x="144" y="2078"/>
                    <a:pt x="143" y="2090"/>
                  </a:cubicBezTo>
                  <a:cubicBezTo>
                    <a:pt x="142" y="2096"/>
                    <a:pt x="141" y="2102"/>
                    <a:pt x="139" y="2108"/>
                  </a:cubicBezTo>
                  <a:cubicBezTo>
                    <a:pt x="134" y="2116"/>
                    <a:pt x="128" y="2124"/>
                    <a:pt x="122" y="2131"/>
                  </a:cubicBezTo>
                  <a:cubicBezTo>
                    <a:pt x="113" y="2141"/>
                    <a:pt x="104" y="2150"/>
                    <a:pt x="95" y="2159"/>
                  </a:cubicBezTo>
                  <a:cubicBezTo>
                    <a:pt x="110" y="2159"/>
                    <a:pt x="110" y="2159"/>
                    <a:pt x="110" y="2159"/>
                  </a:cubicBezTo>
                  <a:cubicBezTo>
                    <a:pt x="117" y="2152"/>
                    <a:pt x="124" y="2145"/>
                    <a:pt x="130" y="2138"/>
                  </a:cubicBezTo>
                  <a:cubicBezTo>
                    <a:pt x="134" y="2133"/>
                    <a:pt x="138" y="2128"/>
                    <a:pt x="142" y="2122"/>
                  </a:cubicBezTo>
                  <a:cubicBezTo>
                    <a:pt x="143" y="2122"/>
                    <a:pt x="143" y="2122"/>
                    <a:pt x="143" y="2122"/>
                  </a:cubicBezTo>
                  <a:cubicBezTo>
                    <a:pt x="143" y="2122"/>
                    <a:pt x="143" y="2121"/>
                    <a:pt x="143" y="2120"/>
                  </a:cubicBezTo>
                  <a:cubicBezTo>
                    <a:pt x="146" y="2116"/>
                    <a:pt x="149" y="2112"/>
                    <a:pt x="151" y="2107"/>
                  </a:cubicBezTo>
                  <a:cubicBezTo>
                    <a:pt x="154" y="2101"/>
                    <a:pt x="156" y="2095"/>
                    <a:pt x="157" y="2088"/>
                  </a:cubicBezTo>
                  <a:cubicBezTo>
                    <a:pt x="158" y="2080"/>
                    <a:pt x="157" y="2074"/>
                    <a:pt x="156" y="2068"/>
                  </a:cubicBezTo>
                  <a:cubicBezTo>
                    <a:pt x="153" y="2055"/>
                    <a:pt x="147" y="2043"/>
                    <a:pt x="141" y="2033"/>
                  </a:cubicBezTo>
                  <a:cubicBezTo>
                    <a:pt x="140" y="2032"/>
                    <a:pt x="139" y="2030"/>
                    <a:pt x="138" y="2029"/>
                  </a:cubicBezTo>
                  <a:cubicBezTo>
                    <a:pt x="136" y="2026"/>
                    <a:pt x="134" y="2022"/>
                    <a:pt x="132" y="2019"/>
                  </a:cubicBezTo>
                  <a:cubicBezTo>
                    <a:pt x="117" y="1999"/>
                    <a:pt x="100" y="1982"/>
                    <a:pt x="83" y="1966"/>
                  </a:cubicBezTo>
                  <a:cubicBezTo>
                    <a:pt x="67" y="1950"/>
                    <a:pt x="50" y="1935"/>
                    <a:pt x="35" y="1917"/>
                  </a:cubicBezTo>
                  <a:cubicBezTo>
                    <a:pt x="21" y="1901"/>
                    <a:pt x="10" y="1881"/>
                    <a:pt x="9" y="1861"/>
                  </a:cubicBezTo>
                  <a:cubicBezTo>
                    <a:pt x="8" y="1852"/>
                    <a:pt x="10" y="1843"/>
                    <a:pt x="15" y="1833"/>
                  </a:cubicBezTo>
                  <a:cubicBezTo>
                    <a:pt x="19" y="1824"/>
                    <a:pt x="25" y="1815"/>
                    <a:pt x="32" y="1806"/>
                  </a:cubicBezTo>
                  <a:cubicBezTo>
                    <a:pt x="46" y="1789"/>
                    <a:pt x="63" y="1773"/>
                    <a:pt x="80" y="1757"/>
                  </a:cubicBezTo>
                  <a:cubicBezTo>
                    <a:pt x="97" y="1741"/>
                    <a:pt x="114" y="1726"/>
                    <a:pt x="130" y="1708"/>
                  </a:cubicBezTo>
                  <a:cubicBezTo>
                    <a:pt x="138" y="1698"/>
                    <a:pt x="146" y="1689"/>
                    <a:pt x="151" y="1677"/>
                  </a:cubicBezTo>
                  <a:cubicBezTo>
                    <a:pt x="154" y="1671"/>
                    <a:pt x="156" y="1664"/>
                    <a:pt x="157" y="1657"/>
                  </a:cubicBezTo>
                  <a:cubicBezTo>
                    <a:pt x="158" y="1650"/>
                    <a:pt x="157" y="1644"/>
                    <a:pt x="156" y="1637"/>
                  </a:cubicBezTo>
                  <a:cubicBezTo>
                    <a:pt x="153" y="1625"/>
                    <a:pt x="148" y="1614"/>
                    <a:pt x="142" y="1605"/>
                  </a:cubicBezTo>
                  <a:cubicBezTo>
                    <a:pt x="139" y="1599"/>
                    <a:pt x="135" y="1593"/>
                    <a:pt x="132" y="1588"/>
                  </a:cubicBezTo>
                  <a:cubicBezTo>
                    <a:pt x="117" y="1567"/>
                    <a:pt x="100" y="1551"/>
                    <a:pt x="83" y="1535"/>
                  </a:cubicBezTo>
                  <a:cubicBezTo>
                    <a:pt x="67" y="1519"/>
                    <a:pt x="50" y="1503"/>
                    <a:pt x="35" y="1486"/>
                  </a:cubicBezTo>
                  <a:cubicBezTo>
                    <a:pt x="21" y="1469"/>
                    <a:pt x="10" y="1450"/>
                    <a:pt x="9" y="1430"/>
                  </a:cubicBezTo>
                  <a:cubicBezTo>
                    <a:pt x="8" y="1421"/>
                    <a:pt x="10" y="1411"/>
                    <a:pt x="15" y="1402"/>
                  </a:cubicBezTo>
                  <a:cubicBezTo>
                    <a:pt x="19" y="1392"/>
                    <a:pt x="25" y="1383"/>
                    <a:pt x="32" y="1375"/>
                  </a:cubicBezTo>
                  <a:cubicBezTo>
                    <a:pt x="46" y="1357"/>
                    <a:pt x="63" y="1342"/>
                    <a:pt x="80" y="1326"/>
                  </a:cubicBezTo>
                  <a:cubicBezTo>
                    <a:pt x="97" y="1310"/>
                    <a:pt x="114" y="1294"/>
                    <a:pt x="130" y="1276"/>
                  </a:cubicBezTo>
                  <a:cubicBezTo>
                    <a:pt x="134" y="1271"/>
                    <a:pt x="138" y="1266"/>
                    <a:pt x="142" y="1261"/>
                  </a:cubicBezTo>
                  <a:cubicBezTo>
                    <a:pt x="143" y="1261"/>
                    <a:pt x="143" y="1261"/>
                    <a:pt x="143" y="1261"/>
                  </a:cubicBezTo>
                  <a:cubicBezTo>
                    <a:pt x="144" y="1259"/>
                    <a:pt x="144" y="1258"/>
                    <a:pt x="145" y="1256"/>
                  </a:cubicBezTo>
                  <a:cubicBezTo>
                    <a:pt x="147" y="1252"/>
                    <a:pt x="149" y="1249"/>
                    <a:pt x="151" y="1245"/>
                  </a:cubicBezTo>
                  <a:cubicBezTo>
                    <a:pt x="154" y="1239"/>
                    <a:pt x="156" y="1233"/>
                    <a:pt x="157" y="1226"/>
                  </a:cubicBezTo>
                  <a:cubicBezTo>
                    <a:pt x="158" y="1218"/>
                    <a:pt x="157" y="1212"/>
                    <a:pt x="156" y="1206"/>
                  </a:cubicBezTo>
                  <a:cubicBezTo>
                    <a:pt x="153" y="1193"/>
                    <a:pt x="147" y="1181"/>
                    <a:pt x="141" y="1171"/>
                  </a:cubicBezTo>
                  <a:cubicBezTo>
                    <a:pt x="138" y="1168"/>
                    <a:pt x="136" y="1164"/>
                    <a:pt x="133" y="1161"/>
                  </a:cubicBezTo>
                  <a:cubicBezTo>
                    <a:pt x="133" y="1160"/>
                    <a:pt x="132" y="1159"/>
                    <a:pt x="132" y="1158"/>
                  </a:cubicBezTo>
                  <a:cubicBezTo>
                    <a:pt x="117" y="1138"/>
                    <a:pt x="100" y="1122"/>
                    <a:pt x="83" y="1105"/>
                  </a:cubicBezTo>
                  <a:cubicBezTo>
                    <a:pt x="67" y="1089"/>
                    <a:pt x="50" y="1074"/>
                    <a:pt x="35" y="1057"/>
                  </a:cubicBezTo>
                  <a:cubicBezTo>
                    <a:pt x="21" y="1040"/>
                    <a:pt x="10" y="1020"/>
                    <a:pt x="9" y="1000"/>
                  </a:cubicBezTo>
                  <a:cubicBezTo>
                    <a:pt x="8" y="991"/>
                    <a:pt x="10" y="982"/>
                    <a:pt x="15" y="972"/>
                  </a:cubicBezTo>
                  <a:cubicBezTo>
                    <a:pt x="19" y="963"/>
                    <a:pt x="25" y="954"/>
                    <a:pt x="32" y="945"/>
                  </a:cubicBezTo>
                  <a:cubicBezTo>
                    <a:pt x="46" y="928"/>
                    <a:pt x="63" y="912"/>
                    <a:pt x="80" y="896"/>
                  </a:cubicBezTo>
                  <a:cubicBezTo>
                    <a:pt x="97" y="880"/>
                    <a:pt x="114" y="865"/>
                    <a:pt x="130" y="847"/>
                  </a:cubicBezTo>
                  <a:cubicBezTo>
                    <a:pt x="138" y="837"/>
                    <a:pt x="146" y="828"/>
                    <a:pt x="151" y="816"/>
                  </a:cubicBezTo>
                  <a:cubicBezTo>
                    <a:pt x="154" y="810"/>
                    <a:pt x="156" y="803"/>
                    <a:pt x="157" y="796"/>
                  </a:cubicBezTo>
                  <a:cubicBezTo>
                    <a:pt x="158" y="789"/>
                    <a:pt x="157" y="783"/>
                    <a:pt x="156" y="776"/>
                  </a:cubicBezTo>
                  <a:cubicBezTo>
                    <a:pt x="153" y="766"/>
                    <a:pt x="149" y="756"/>
                    <a:pt x="144" y="748"/>
                  </a:cubicBezTo>
                  <a:cubicBezTo>
                    <a:pt x="141" y="740"/>
                    <a:pt x="136" y="732"/>
                    <a:pt x="132" y="726"/>
                  </a:cubicBezTo>
                  <a:cubicBezTo>
                    <a:pt x="117" y="705"/>
                    <a:pt x="100" y="689"/>
                    <a:pt x="83" y="673"/>
                  </a:cubicBezTo>
                  <a:cubicBezTo>
                    <a:pt x="67" y="656"/>
                    <a:pt x="50" y="641"/>
                    <a:pt x="35" y="624"/>
                  </a:cubicBezTo>
                  <a:cubicBezTo>
                    <a:pt x="21" y="607"/>
                    <a:pt x="10" y="588"/>
                    <a:pt x="9" y="568"/>
                  </a:cubicBezTo>
                  <a:cubicBezTo>
                    <a:pt x="8" y="558"/>
                    <a:pt x="10" y="549"/>
                    <a:pt x="15" y="540"/>
                  </a:cubicBezTo>
                  <a:cubicBezTo>
                    <a:pt x="19" y="530"/>
                    <a:pt x="25" y="521"/>
                    <a:pt x="32" y="513"/>
                  </a:cubicBezTo>
                  <a:cubicBezTo>
                    <a:pt x="46" y="495"/>
                    <a:pt x="63" y="480"/>
                    <a:pt x="80" y="464"/>
                  </a:cubicBezTo>
                  <a:cubicBezTo>
                    <a:pt x="97" y="448"/>
                    <a:pt x="114" y="432"/>
                    <a:pt x="130" y="414"/>
                  </a:cubicBezTo>
                  <a:cubicBezTo>
                    <a:pt x="138" y="405"/>
                    <a:pt x="146" y="395"/>
                    <a:pt x="151" y="383"/>
                  </a:cubicBezTo>
                  <a:cubicBezTo>
                    <a:pt x="154" y="377"/>
                    <a:pt x="156" y="371"/>
                    <a:pt x="157" y="364"/>
                  </a:cubicBezTo>
                  <a:cubicBezTo>
                    <a:pt x="158" y="356"/>
                    <a:pt x="157" y="350"/>
                    <a:pt x="156" y="344"/>
                  </a:cubicBezTo>
                  <a:cubicBezTo>
                    <a:pt x="153" y="333"/>
                    <a:pt x="149" y="324"/>
                    <a:pt x="144" y="315"/>
                  </a:cubicBezTo>
                  <a:cubicBezTo>
                    <a:pt x="141" y="307"/>
                    <a:pt x="136" y="300"/>
                    <a:pt x="132" y="293"/>
                  </a:cubicBezTo>
                  <a:cubicBezTo>
                    <a:pt x="117" y="273"/>
                    <a:pt x="100" y="256"/>
                    <a:pt x="83" y="240"/>
                  </a:cubicBezTo>
                  <a:cubicBezTo>
                    <a:pt x="67" y="224"/>
                    <a:pt x="50" y="208"/>
                    <a:pt x="35" y="191"/>
                  </a:cubicBezTo>
                  <a:cubicBezTo>
                    <a:pt x="21" y="174"/>
                    <a:pt x="10" y="155"/>
                    <a:pt x="9" y="135"/>
                  </a:cubicBezTo>
                  <a:cubicBezTo>
                    <a:pt x="8" y="126"/>
                    <a:pt x="10" y="116"/>
                    <a:pt x="15" y="107"/>
                  </a:cubicBezTo>
                  <a:cubicBezTo>
                    <a:pt x="19" y="97"/>
                    <a:pt x="25" y="88"/>
                    <a:pt x="32" y="80"/>
                  </a:cubicBezTo>
                  <a:cubicBezTo>
                    <a:pt x="46" y="63"/>
                    <a:pt x="63" y="47"/>
                    <a:pt x="80" y="31"/>
                  </a:cubicBezTo>
                  <a:cubicBezTo>
                    <a:pt x="91" y="21"/>
                    <a:pt x="102" y="10"/>
                    <a:pt x="112" y="0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89" y="7"/>
                    <a:pt x="81" y="15"/>
                    <a:pt x="72" y="23"/>
                  </a:cubicBezTo>
                  <a:cubicBezTo>
                    <a:pt x="55" y="39"/>
                    <a:pt x="38" y="54"/>
                    <a:pt x="23" y="72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3" name="Freeform 17"/>
            <p:cNvSpPr/>
            <p:nvPr/>
          </p:nvSpPr>
          <p:spPr>
            <a:xfrm>
              <a:off x="7107120" y="-1440"/>
              <a:ext cx="507600" cy="686232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0" h="2159">
                  <a:moveTo>
                    <a:pt x="26" y="72"/>
                  </a:moveTo>
                  <a:cubicBezTo>
                    <a:pt x="18" y="81"/>
                    <a:pt x="11" y="91"/>
                    <a:pt x="6" y="102"/>
                  </a:cubicBezTo>
                  <a:cubicBezTo>
                    <a:pt x="3" y="107"/>
                    <a:pt x="1" y="113"/>
                    <a:pt x="0" y="120"/>
                  </a:cubicBezTo>
                  <a:cubicBezTo>
                    <a:pt x="0" y="123"/>
                    <a:pt x="1" y="127"/>
                    <a:pt x="1" y="131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32"/>
                    <a:pt x="1" y="133"/>
                    <a:pt x="1" y="135"/>
                  </a:cubicBezTo>
                  <a:cubicBezTo>
                    <a:pt x="1" y="135"/>
                    <a:pt x="1" y="136"/>
                    <a:pt x="1" y="137"/>
                  </a:cubicBezTo>
                  <a:cubicBezTo>
                    <a:pt x="0" y="139"/>
                    <a:pt x="0" y="141"/>
                    <a:pt x="0" y="143"/>
                  </a:cubicBezTo>
                  <a:cubicBezTo>
                    <a:pt x="1" y="152"/>
                    <a:pt x="5" y="161"/>
                    <a:pt x="9" y="170"/>
                  </a:cubicBezTo>
                  <a:cubicBezTo>
                    <a:pt x="14" y="180"/>
                    <a:pt x="21" y="190"/>
                    <a:pt x="29" y="198"/>
                  </a:cubicBezTo>
                  <a:cubicBezTo>
                    <a:pt x="32" y="202"/>
                    <a:pt x="35" y="206"/>
                    <a:pt x="38" y="209"/>
                  </a:cubicBezTo>
                  <a:cubicBezTo>
                    <a:pt x="47" y="219"/>
                    <a:pt x="56" y="228"/>
                    <a:pt x="65" y="237"/>
                  </a:cubicBezTo>
                  <a:cubicBezTo>
                    <a:pt x="81" y="254"/>
                    <a:pt x="98" y="269"/>
                    <a:pt x="114" y="286"/>
                  </a:cubicBezTo>
                  <a:cubicBezTo>
                    <a:pt x="119" y="291"/>
                    <a:pt x="123" y="297"/>
                    <a:pt x="128" y="302"/>
                  </a:cubicBezTo>
                  <a:cubicBezTo>
                    <a:pt x="133" y="311"/>
                    <a:pt x="138" y="320"/>
                    <a:pt x="141" y="329"/>
                  </a:cubicBezTo>
                  <a:cubicBezTo>
                    <a:pt x="145" y="340"/>
                    <a:pt x="146" y="352"/>
                    <a:pt x="145" y="363"/>
                  </a:cubicBezTo>
                  <a:cubicBezTo>
                    <a:pt x="144" y="372"/>
                    <a:pt x="142" y="380"/>
                    <a:pt x="139" y="388"/>
                  </a:cubicBezTo>
                  <a:cubicBezTo>
                    <a:pt x="134" y="395"/>
                    <a:pt x="130" y="401"/>
                    <a:pt x="124" y="407"/>
                  </a:cubicBezTo>
                  <a:cubicBezTo>
                    <a:pt x="109" y="424"/>
                    <a:pt x="92" y="440"/>
                    <a:pt x="75" y="455"/>
                  </a:cubicBezTo>
                  <a:cubicBezTo>
                    <a:pt x="58" y="471"/>
                    <a:pt x="40" y="487"/>
                    <a:pt x="26" y="505"/>
                  </a:cubicBezTo>
                  <a:cubicBezTo>
                    <a:pt x="18" y="514"/>
                    <a:pt x="11" y="524"/>
                    <a:pt x="6" y="534"/>
                  </a:cubicBezTo>
                  <a:cubicBezTo>
                    <a:pt x="3" y="540"/>
                    <a:pt x="1" y="546"/>
                    <a:pt x="0" y="553"/>
                  </a:cubicBezTo>
                  <a:cubicBezTo>
                    <a:pt x="0" y="556"/>
                    <a:pt x="1" y="560"/>
                    <a:pt x="1" y="564"/>
                  </a:cubicBezTo>
                  <a:cubicBezTo>
                    <a:pt x="0" y="564"/>
                    <a:pt x="0" y="564"/>
                    <a:pt x="0" y="564"/>
                  </a:cubicBezTo>
                  <a:cubicBezTo>
                    <a:pt x="0" y="565"/>
                    <a:pt x="1" y="566"/>
                    <a:pt x="1" y="567"/>
                  </a:cubicBezTo>
                  <a:cubicBezTo>
                    <a:pt x="1" y="568"/>
                    <a:pt x="1" y="569"/>
                    <a:pt x="1" y="570"/>
                  </a:cubicBezTo>
                  <a:cubicBezTo>
                    <a:pt x="0" y="572"/>
                    <a:pt x="0" y="574"/>
                    <a:pt x="0" y="576"/>
                  </a:cubicBezTo>
                  <a:cubicBezTo>
                    <a:pt x="1" y="585"/>
                    <a:pt x="5" y="594"/>
                    <a:pt x="9" y="602"/>
                  </a:cubicBezTo>
                  <a:cubicBezTo>
                    <a:pt x="14" y="613"/>
                    <a:pt x="21" y="622"/>
                    <a:pt x="29" y="631"/>
                  </a:cubicBezTo>
                  <a:cubicBezTo>
                    <a:pt x="32" y="635"/>
                    <a:pt x="35" y="638"/>
                    <a:pt x="38" y="642"/>
                  </a:cubicBezTo>
                  <a:cubicBezTo>
                    <a:pt x="47" y="652"/>
                    <a:pt x="56" y="661"/>
                    <a:pt x="65" y="670"/>
                  </a:cubicBezTo>
                  <a:cubicBezTo>
                    <a:pt x="81" y="686"/>
                    <a:pt x="98" y="702"/>
                    <a:pt x="114" y="719"/>
                  </a:cubicBezTo>
                  <a:cubicBezTo>
                    <a:pt x="119" y="724"/>
                    <a:pt x="123" y="730"/>
                    <a:pt x="128" y="735"/>
                  </a:cubicBezTo>
                  <a:cubicBezTo>
                    <a:pt x="133" y="744"/>
                    <a:pt x="138" y="753"/>
                    <a:pt x="141" y="762"/>
                  </a:cubicBezTo>
                  <a:cubicBezTo>
                    <a:pt x="145" y="773"/>
                    <a:pt x="146" y="785"/>
                    <a:pt x="145" y="796"/>
                  </a:cubicBezTo>
                  <a:cubicBezTo>
                    <a:pt x="144" y="805"/>
                    <a:pt x="142" y="813"/>
                    <a:pt x="139" y="821"/>
                  </a:cubicBezTo>
                  <a:cubicBezTo>
                    <a:pt x="134" y="827"/>
                    <a:pt x="130" y="834"/>
                    <a:pt x="124" y="840"/>
                  </a:cubicBezTo>
                  <a:cubicBezTo>
                    <a:pt x="109" y="857"/>
                    <a:pt x="92" y="872"/>
                    <a:pt x="75" y="888"/>
                  </a:cubicBezTo>
                  <a:cubicBezTo>
                    <a:pt x="58" y="904"/>
                    <a:pt x="40" y="920"/>
                    <a:pt x="26" y="938"/>
                  </a:cubicBezTo>
                  <a:cubicBezTo>
                    <a:pt x="18" y="947"/>
                    <a:pt x="11" y="957"/>
                    <a:pt x="6" y="967"/>
                  </a:cubicBezTo>
                  <a:cubicBezTo>
                    <a:pt x="3" y="973"/>
                    <a:pt x="1" y="979"/>
                    <a:pt x="0" y="985"/>
                  </a:cubicBezTo>
                  <a:cubicBezTo>
                    <a:pt x="0" y="988"/>
                    <a:pt x="1" y="990"/>
                    <a:pt x="1" y="993"/>
                  </a:cubicBezTo>
                  <a:cubicBezTo>
                    <a:pt x="0" y="993"/>
                    <a:pt x="0" y="993"/>
                    <a:pt x="0" y="993"/>
                  </a:cubicBezTo>
                  <a:cubicBezTo>
                    <a:pt x="0" y="994"/>
                    <a:pt x="1" y="996"/>
                    <a:pt x="1" y="998"/>
                  </a:cubicBezTo>
                  <a:cubicBezTo>
                    <a:pt x="1" y="999"/>
                    <a:pt x="1" y="1001"/>
                    <a:pt x="1" y="1002"/>
                  </a:cubicBezTo>
                  <a:cubicBezTo>
                    <a:pt x="0" y="1004"/>
                    <a:pt x="0" y="1007"/>
                    <a:pt x="0" y="1009"/>
                  </a:cubicBezTo>
                  <a:cubicBezTo>
                    <a:pt x="1" y="1018"/>
                    <a:pt x="5" y="1027"/>
                    <a:pt x="9" y="1035"/>
                  </a:cubicBezTo>
                  <a:cubicBezTo>
                    <a:pt x="14" y="1046"/>
                    <a:pt x="21" y="1055"/>
                    <a:pt x="29" y="1064"/>
                  </a:cubicBezTo>
                  <a:cubicBezTo>
                    <a:pt x="44" y="1082"/>
                    <a:pt x="61" y="1098"/>
                    <a:pt x="78" y="1113"/>
                  </a:cubicBezTo>
                  <a:cubicBezTo>
                    <a:pt x="95" y="1129"/>
                    <a:pt x="112" y="1146"/>
                    <a:pt x="125" y="1164"/>
                  </a:cubicBezTo>
                  <a:cubicBezTo>
                    <a:pt x="132" y="1174"/>
                    <a:pt x="138" y="1184"/>
                    <a:pt x="141" y="1195"/>
                  </a:cubicBezTo>
                  <a:cubicBezTo>
                    <a:pt x="145" y="1206"/>
                    <a:pt x="146" y="1218"/>
                    <a:pt x="145" y="1229"/>
                  </a:cubicBezTo>
                  <a:cubicBezTo>
                    <a:pt x="145" y="1234"/>
                    <a:pt x="144" y="1239"/>
                    <a:pt x="142" y="1244"/>
                  </a:cubicBezTo>
                  <a:cubicBezTo>
                    <a:pt x="137" y="1253"/>
                    <a:pt x="131" y="1261"/>
                    <a:pt x="124" y="1269"/>
                  </a:cubicBezTo>
                  <a:cubicBezTo>
                    <a:pt x="109" y="1286"/>
                    <a:pt x="92" y="1302"/>
                    <a:pt x="75" y="1318"/>
                  </a:cubicBezTo>
                  <a:cubicBezTo>
                    <a:pt x="58" y="1333"/>
                    <a:pt x="40" y="1349"/>
                    <a:pt x="26" y="1367"/>
                  </a:cubicBezTo>
                  <a:cubicBezTo>
                    <a:pt x="18" y="1376"/>
                    <a:pt x="11" y="1386"/>
                    <a:pt x="6" y="1396"/>
                  </a:cubicBezTo>
                  <a:cubicBezTo>
                    <a:pt x="3" y="1402"/>
                    <a:pt x="1" y="1408"/>
                    <a:pt x="0" y="1415"/>
                  </a:cubicBezTo>
                  <a:cubicBezTo>
                    <a:pt x="0" y="1418"/>
                    <a:pt x="1" y="1421"/>
                    <a:pt x="1" y="1425"/>
                  </a:cubicBezTo>
                  <a:cubicBezTo>
                    <a:pt x="0" y="1425"/>
                    <a:pt x="0" y="1425"/>
                    <a:pt x="0" y="1425"/>
                  </a:cubicBezTo>
                  <a:cubicBezTo>
                    <a:pt x="0" y="1426"/>
                    <a:pt x="1" y="1427"/>
                    <a:pt x="1" y="1429"/>
                  </a:cubicBezTo>
                  <a:cubicBezTo>
                    <a:pt x="1" y="1430"/>
                    <a:pt x="1" y="1431"/>
                    <a:pt x="1" y="1432"/>
                  </a:cubicBezTo>
                  <a:cubicBezTo>
                    <a:pt x="0" y="1434"/>
                    <a:pt x="0" y="1436"/>
                    <a:pt x="0" y="1438"/>
                  </a:cubicBezTo>
                  <a:cubicBezTo>
                    <a:pt x="1" y="1447"/>
                    <a:pt x="5" y="1456"/>
                    <a:pt x="9" y="1464"/>
                  </a:cubicBezTo>
                  <a:cubicBezTo>
                    <a:pt x="14" y="1475"/>
                    <a:pt x="21" y="1484"/>
                    <a:pt x="29" y="1493"/>
                  </a:cubicBezTo>
                  <a:cubicBezTo>
                    <a:pt x="36" y="1502"/>
                    <a:pt x="44" y="1510"/>
                    <a:pt x="51" y="1518"/>
                  </a:cubicBezTo>
                  <a:cubicBezTo>
                    <a:pt x="56" y="1522"/>
                    <a:pt x="60" y="1527"/>
                    <a:pt x="65" y="1531"/>
                  </a:cubicBezTo>
                  <a:cubicBezTo>
                    <a:pt x="81" y="1547"/>
                    <a:pt x="98" y="1563"/>
                    <a:pt x="114" y="1580"/>
                  </a:cubicBezTo>
                  <a:cubicBezTo>
                    <a:pt x="116" y="1582"/>
                    <a:pt x="118" y="1584"/>
                    <a:pt x="119" y="1586"/>
                  </a:cubicBezTo>
                  <a:cubicBezTo>
                    <a:pt x="121" y="1589"/>
                    <a:pt x="123" y="1591"/>
                    <a:pt x="125" y="1594"/>
                  </a:cubicBezTo>
                  <a:cubicBezTo>
                    <a:pt x="132" y="1603"/>
                    <a:pt x="138" y="1613"/>
                    <a:pt x="141" y="1624"/>
                  </a:cubicBezTo>
                  <a:cubicBezTo>
                    <a:pt x="145" y="1635"/>
                    <a:pt x="146" y="1647"/>
                    <a:pt x="145" y="1658"/>
                  </a:cubicBezTo>
                  <a:cubicBezTo>
                    <a:pt x="145" y="1666"/>
                    <a:pt x="143" y="1673"/>
                    <a:pt x="140" y="1680"/>
                  </a:cubicBezTo>
                  <a:cubicBezTo>
                    <a:pt x="136" y="1687"/>
                    <a:pt x="130" y="1694"/>
                    <a:pt x="124" y="1701"/>
                  </a:cubicBezTo>
                  <a:cubicBezTo>
                    <a:pt x="109" y="1718"/>
                    <a:pt x="92" y="1733"/>
                    <a:pt x="75" y="1749"/>
                  </a:cubicBezTo>
                  <a:cubicBezTo>
                    <a:pt x="58" y="1765"/>
                    <a:pt x="40" y="1781"/>
                    <a:pt x="26" y="1799"/>
                  </a:cubicBezTo>
                  <a:cubicBezTo>
                    <a:pt x="18" y="1808"/>
                    <a:pt x="11" y="1818"/>
                    <a:pt x="6" y="1828"/>
                  </a:cubicBezTo>
                  <a:cubicBezTo>
                    <a:pt x="3" y="1834"/>
                    <a:pt x="1" y="1840"/>
                    <a:pt x="0" y="1846"/>
                  </a:cubicBezTo>
                  <a:cubicBezTo>
                    <a:pt x="0" y="1849"/>
                    <a:pt x="1" y="1852"/>
                    <a:pt x="1" y="1855"/>
                  </a:cubicBezTo>
                  <a:cubicBezTo>
                    <a:pt x="0" y="1855"/>
                    <a:pt x="0" y="1855"/>
                    <a:pt x="0" y="1855"/>
                  </a:cubicBezTo>
                  <a:cubicBezTo>
                    <a:pt x="0" y="1856"/>
                    <a:pt x="1" y="1858"/>
                    <a:pt x="1" y="1859"/>
                  </a:cubicBezTo>
                  <a:cubicBezTo>
                    <a:pt x="1" y="1861"/>
                    <a:pt x="1" y="1862"/>
                    <a:pt x="1" y="1863"/>
                  </a:cubicBezTo>
                  <a:cubicBezTo>
                    <a:pt x="0" y="1865"/>
                    <a:pt x="0" y="1867"/>
                    <a:pt x="0" y="1870"/>
                  </a:cubicBezTo>
                  <a:cubicBezTo>
                    <a:pt x="1" y="1879"/>
                    <a:pt x="5" y="1888"/>
                    <a:pt x="9" y="1896"/>
                  </a:cubicBezTo>
                  <a:cubicBezTo>
                    <a:pt x="14" y="1907"/>
                    <a:pt x="21" y="1916"/>
                    <a:pt x="29" y="1925"/>
                  </a:cubicBezTo>
                  <a:cubicBezTo>
                    <a:pt x="44" y="1943"/>
                    <a:pt x="61" y="1958"/>
                    <a:pt x="78" y="1974"/>
                  </a:cubicBezTo>
                  <a:cubicBezTo>
                    <a:pt x="78" y="1975"/>
                    <a:pt x="79" y="1975"/>
                    <a:pt x="79" y="1975"/>
                  </a:cubicBezTo>
                  <a:cubicBezTo>
                    <a:pt x="86" y="1982"/>
                    <a:pt x="93" y="1988"/>
                    <a:pt x="99" y="1995"/>
                  </a:cubicBezTo>
                  <a:cubicBezTo>
                    <a:pt x="109" y="2005"/>
                    <a:pt x="118" y="2014"/>
                    <a:pt x="125" y="2025"/>
                  </a:cubicBezTo>
                  <a:cubicBezTo>
                    <a:pt x="132" y="2035"/>
                    <a:pt x="138" y="2045"/>
                    <a:pt x="141" y="2056"/>
                  </a:cubicBezTo>
                  <a:cubicBezTo>
                    <a:pt x="145" y="2067"/>
                    <a:pt x="146" y="2078"/>
                    <a:pt x="145" y="2090"/>
                  </a:cubicBezTo>
                  <a:cubicBezTo>
                    <a:pt x="145" y="2096"/>
                    <a:pt x="143" y="2102"/>
                    <a:pt x="141" y="2108"/>
                  </a:cubicBezTo>
                  <a:cubicBezTo>
                    <a:pt x="137" y="2116"/>
                    <a:pt x="131" y="2124"/>
                    <a:pt x="124" y="2131"/>
                  </a:cubicBezTo>
                  <a:cubicBezTo>
                    <a:pt x="116" y="2141"/>
                    <a:pt x="106" y="2150"/>
                    <a:pt x="97" y="2159"/>
                  </a:cubicBezTo>
                  <a:cubicBezTo>
                    <a:pt x="112" y="2159"/>
                    <a:pt x="112" y="2159"/>
                    <a:pt x="112" y="2159"/>
                  </a:cubicBezTo>
                  <a:cubicBezTo>
                    <a:pt x="119" y="2152"/>
                    <a:pt x="126" y="2145"/>
                    <a:pt x="132" y="2138"/>
                  </a:cubicBezTo>
                  <a:cubicBezTo>
                    <a:pt x="137" y="2133"/>
                    <a:pt x="141" y="2128"/>
                    <a:pt x="145" y="2122"/>
                  </a:cubicBezTo>
                  <a:cubicBezTo>
                    <a:pt x="145" y="2122"/>
                    <a:pt x="145" y="2122"/>
                    <a:pt x="145" y="2122"/>
                  </a:cubicBezTo>
                  <a:cubicBezTo>
                    <a:pt x="145" y="2122"/>
                    <a:pt x="145" y="2121"/>
                    <a:pt x="146" y="2120"/>
                  </a:cubicBezTo>
                  <a:cubicBezTo>
                    <a:pt x="148" y="2116"/>
                    <a:pt x="151" y="2112"/>
                    <a:pt x="153" y="2107"/>
                  </a:cubicBezTo>
                  <a:cubicBezTo>
                    <a:pt x="156" y="2101"/>
                    <a:pt x="158" y="2095"/>
                    <a:pt x="159" y="2088"/>
                  </a:cubicBezTo>
                  <a:cubicBezTo>
                    <a:pt x="160" y="2080"/>
                    <a:pt x="159" y="2074"/>
                    <a:pt x="158" y="2068"/>
                  </a:cubicBezTo>
                  <a:cubicBezTo>
                    <a:pt x="155" y="2055"/>
                    <a:pt x="150" y="2043"/>
                    <a:pt x="143" y="2033"/>
                  </a:cubicBezTo>
                  <a:cubicBezTo>
                    <a:pt x="142" y="2032"/>
                    <a:pt x="141" y="2030"/>
                    <a:pt x="140" y="2029"/>
                  </a:cubicBezTo>
                  <a:cubicBezTo>
                    <a:pt x="138" y="2026"/>
                    <a:pt x="136" y="2022"/>
                    <a:pt x="134" y="2019"/>
                  </a:cubicBezTo>
                  <a:cubicBezTo>
                    <a:pt x="120" y="1999"/>
                    <a:pt x="103" y="1982"/>
                    <a:pt x="86" y="1966"/>
                  </a:cubicBezTo>
                  <a:cubicBezTo>
                    <a:pt x="69" y="1950"/>
                    <a:pt x="52" y="1935"/>
                    <a:pt x="38" y="1917"/>
                  </a:cubicBezTo>
                  <a:cubicBezTo>
                    <a:pt x="24" y="1901"/>
                    <a:pt x="12" y="1881"/>
                    <a:pt x="11" y="1861"/>
                  </a:cubicBezTo>
                  <a:cubicBezTo>
                    <a:pt x="10" y="1852"/>
                    <a:pt x="12" y="1843"/>
                    <a:pt x="17" y="1833"/>
                  </a:cubicBezTo>
                  <a:cubicBezTo>
                    <a:pt x="21" y="1824"/>
                    <a:pt x="28" y="1815"/>
                    <a:pt x="35" y="1806"/>
                  </a:cubicBezTo>
                  <a:cubicBezTo>
                    <a:pt x="49" y="1789"/>
                    <a:pt x="65" y="1773"/>
                    <a:pt x="82" y="1757"/>
                  </a:cubicBezTo>
                  <a:cubicBezTo>
                    <a:pt x="99" y="1741"/>
                    <a:pt x="116" y="1726"/>
                    <a:pt x="132" y="1708"/>
                  </a:cubicBezTo>
                  <a:cubicBezTo>
                    <a:pt x="140" y="1698"/>
                    <a:pt x="148" y="1689"/>
                    <a:pt x="153" y="1677"/>
                  </a:cubicBezTo>
                  <a:cubicBezTo>
                    <a:pt x="156" y="1671"/>
                    <a:pt x="158" y="1664"/>
                    <a:pt x="159" y="1657"/>
                  </a:cubicBezTo>
                  <a:cubicBezTo>
                    <a:pt x="160" y="1650"/>
                    <a:pt x="159" y="1644"/>
                    <a:pt x="158" y="1637"/>
                  </a:cubicBezTo>
                  <a:cubicBezTo>
                    <a:pt x="155" y="1625"/>
                    <a:pt x="150" y="1614"/>
                    <a:pt x="144" y="1605"/>
                  </a:cubicBezTo>
                  <a:cubicBezTo>
                    <a:pt x="141" y="1599"/>
                    <a:pt x="138" y="1593"/>
                    <a:pt x="134" y="1588"/>
                  </a:cubicBezTo>
                  <a:cubicBezTo>
                    <a:pt x="120" y="1567"/>
                    <a:pt x="103" y="1551"/>
                    <a:pt x="86" y="1535"/>
                  </a:cubicBezTo>
                  <a:cubicBezTo>
                    <a:pt x="69" y="1519"/>
                    <a:pt x="52" y="1503"/>
                    <a:pt x="38" y="1486"/>
                  </a:cubicBezTo>
                  <a:cubicBezTo>
                    <a:pt x="24" y="1469"/>
                    <a:pt x="12" y="1450"/>
                    <a:pt x="11" y="1430"/>
                  </a:cubicBezTo>
                  <a:cubicBezTo>
                    <a:pt x="10" y="1421"/>
                    <a:pt x="12" y="1411"/>
                    <a:pt x="17" y="1402"/>
                  </a:cubicBezTo>
                  <a:cubicBezTo>
                    <a:pt x="21" y="1392"/>
                    <a:pt x="28" y="1383"/>
                    <a:pt x="35" y="1375"/>
                  </a:cubicBezTo>
                  <a:cubicBezTo>
                    <a:pt x="49" y="1357"/>
                    <a:pt x="65" y="1342"/>
                    <a:pt x="82" y="1326"/>
                  </a:cubicBezTo>
                  <a:cubicBezTo>
                    <a:pt x="99" y="1310"/>
                    <a:pt x="116" y="1294"/>
                    <a:pt x="132" y="1276"/>
                  </a:cubicBezTo>
                  <a:cubicBezTo>
                    <a:pt x="136" y="1271"/>
                    <a:pt x="140" y="1266"/>
                    <a:pt x="144" y="1261"/>
                  </a:cubicBezTo>
                  <a:cubicBezTo>
                    <a:pt x="145" y="1261"/>
                    <a:pt x="145" y="1261"/>
                    <a:pt x="145" y="1261"/>
                  </a:cubicBezTo>
                  <a:cubicBezTo>
                    <a:pt x="146" y="1259"/>
                    <a:pt x="147" y="1258"/>
                    <a:pt x="148" y="1256"/>
                  </a:cubicBezTo>
                  <a:cubicBezTo>
                    <a:pt x="150" y="1252"/>
                    <a:pt x="152" y="1249"/>
                    <a:pt x="153" y="1245"/>
                  </a:cubicBezTo>
                  <a:cubicBezTo>
                    <a:pt x="156" y="1239"/>
                    <a:pt x="158" y="1233"/>
                    <a:pt x="159" y="1226"/>
                  </a:cubicBezTo>
                  <a:cubicBezTo>
                    <a:pt x="160" y="1218"/>
                    <a:pt x="159" y="1212"/>
                    <a:pt x="158" y="1206"/>
                  </a:cubicBezTo>
                  <a:cubicBezTo>
                    <a:pt x="155" y="1193"/>
                    <a:pt x="150" y="1181"/>
                    <a:pt x="143" y="1171"/>
                  </a:cubicBezTo>
                  <a:cubicBezTo>
                    <a:pt x="141" y="1168"/>
                    <a:pt x="138" y="1164"/>
                    <a:pt x="136" y="1161"/>
                  </a:cubicBezTo>
                  <a:cubicBezTo>
                    <a:pt x="135" y="1160"/>
                    <a:pt x="134" y="1159"/>
                    <a:pt x="134" y="1158"/>
                  </a:cubicBezTo>
                  <a:cubicBezTo>
                    <a:pt x="120" y="1138"/>
                    <a:pt x="103" y="1122"/>
                    <a:pt x="86" y="1105"/>
                  </a:cubicBezTo>
                  <a:cubicBezTo>
                    <a:pt x="69" y="1089"/>
                    <a:pt x="52" y="1074"/>
                    <a:pt x="38" y="1057"/>
                  </a:cubicBezTo>
                  <a:cubicBezTo>
                    <a:pt x="24" y="1040"/>
                    <a:pt x="12" y="1020"/>
                    <a:pt x="11" y="1000"/>
                  </a:cubicBezTo>
                  <a:cubicBezTo>
                    <a:pt x="10" y="991"/>
                    <a:pt x="12" y="982"/>
                    <a:pt x="17" y="972"/>
                  </a:cubicBezTo>
                  <a:cubicBezTo>
                    <a:pt x="21" y="963"/>
                    <a:pt x="28" y="954"/>
                    <a:pt x="35" y="945"/>
                  </a:cubicBezTo>
                  <a:cubicBezTo>
                    <a:pt x="49" y="928"/>
                    <a:pt x="65" y="912"/>
                    <a:pt x="82" y="896"/>
                  </a:cubicBezTo>
                  <a:cubicBezTo>
                    <a:pt x="99" y="880"/>
                    <a:pt x="116" y="865"/>
                    <a:pt x="132" y="847"/>
                  </a:cubicBezTo>
                  <a:cubicBezTo>
                    <a:pt x="140" y="837"/>
                    <a:pt x="148" y="828"/>
                    <a:pt x="153" y="816"/>
                  </a:cubicBezTo>
                  <a:cubicBezTo>
                    <a:pt x="156" y="810"/>
                    <a:pt x="158" y="803"/>
                    <a:pt x="159" y="796"/>
                  </a:cubicBezTo>
                  <a:cubicBezTo>
                    <a:pt x="160" y="789"/>
                    <a:pt x="159" y="783"/>
                    <a:pt x="158" y="776"/>
                  </a:cubicBezTo>
                  <a:cubicBezTo>
                    <a:pt x="156" y="766"/>
                    <a:pt x="152" y="756"/>
                    <a:pt x="147" y="748"/>
                  </a:cubicBezTo>
                  <a:cubicBezTo>
                    <a:pt x="143" y="740"/>
                    <a:pt x="139" y="732"/>
                    <a:pt x="134" y="726"/>
                  </a:cubicBezTo>
                  <a:cubicBezTo>
                    <a:pt x="120" y="705"/>
                    <a:pt x="103" y="689"/>
                    <a:pt x="86" y="673"/>
                  </a:cubicBezTo>
                  <a:cubicBezTo>
                    <a:pt x="69" y="656"/>
                    <a:pt x="52" y="641"/>
                    <a:pt x="38" y="624"/>
                  </a:cubicBezTo>
                  <a:cubicBezTo>
                    <a:pt x="24" y="607"/>
                    <a:pt x="12" y="588"/>
                    <a:pt x="11" y="568"/>
                  </a:cubicBezTo>
                  <a:cubicBezTo>
                    <a:pt x="10" y="558"/>
                    <a:pt x="12" y="549"/>
                    <a:pt x="17" y="540"/>
                  </a:cubicBezTo>
                  <a:cubicBezTo>
                    <a:pt x="21" y="530"/>
                    <a:pt x="28" y="521"/>
                    <a:pt x="35" y="513"/>
                  </a:cubicBezTo>
                  <a:cubicBezTo>
                    <a:pt x="49" y="495"/>
                    <a:pt x="65" y="480"/>
                    <a:pt x="82" y="464"/>
                  </a:cubicBezTo>
                  <a:cubicBezTo>
                    <a:pt x="99" y="448"/>
                    <a:pt x="116" y="432"/>
                    <a:pt x="132" y="414"/>
                  </a:cubicBezTo>
                  <a:cubicBezTo>
                    <a:pt x="140" y="405"/>
                    <a:pt x="148" y="395"/>
                    <a:pt x="153" y="383"/>
                  </a:cubicBezTo>
                  <a:cubicBezTo>
                    <a:pt x="156" y="377"/>
                    <a:pt x="158" y="371"/>
                    <a:pt x="159" y="364"/>
                  </a:cubicBezTo>
                  <a:cubicBezTo>
                    <a:pt x="160" y="356"/>
                    <a:pt x="159" y="350"/>
                    <a:pt x="158" y="344"/>
                  </a:cubicBezTo>
                  <a:cubicBezTo>
                    <a:pt x="156" y="333"/>
                    <a:pt x="152" y="324"/>
                    <a:pt x="147" y="315"/>
                  </a:cubicBezTo>
                  <a:cubicBezTo>
                    <a:pt x="143" y="307"/>
                    <a:pt x="139" y="300"/>
                    <a:pt x="134" y="293"/>
                  </a:cubicBezTo>
                  <a:cubicBezTo>
                    <a:pt x="120" y="273"/>
                    <a:pt x="103" y="256"/>
                    <a:pt x="86" y="240"/>
                  </a:cubicBezTo>
                  <a:cubicBezTo>
                    <a:pt x="69" y="224"/>
                    <a:pt x="52" y="208"/>
                    <a:pt x="38" y="191"/>
                  </a:cubicBezTo>
                  <a:cubicBezTo>
                    <a:pt x="24" y="174"/>
                    <a:pt x="12" y="155"/>
                    <a:pt x="11" y="135"/>
                  </a:cubicBezTo>
                  <a:cubicBezTo>
                    <a:pt x="10" y="126"/>
                    <a:pt x="12" y="116"/>
                    <a:pt x="17" y="107"/>
                  </a:cubicBezTo>
                  <a:cubicBezTo>
                    <a:pt x="21" y="97"/>
                    <a:pt x="28" y="88"/>
                    <a:pt x="35" y="80"/>
                  </a:cubicBezTo>
                  <a:cubicBezTo>
                    <a:pt x="49" y="63"/>
                    <a:pt x="65" y="47"/>
                    <a:pt x="82" y="31"/>
                  </a:cubicBezTo>
                  <a:cubicBezTo>
                    <a:pt x="93" y="21"/>
                    <a:pt x="104" y="10"/>
                    <a:pt x="114" y="0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91" y="7"/>
                    <a:pt x="83" y="15"/>
                    <a:pt x="75" y="23"/>
                  </a:cubicBezTo>
                  <a:cubicBezTo>
                    <a:pt x="58" y="39"/>
                    <a:pt x="40" y="54"/>
                    <a:pt x="26" y="72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4" name="Freeform 18"/>
            <p:cNvSpPr/>
            <p:nvPr/>
          </p:nvSpPr>
          <p:spPr>
            <a:xfrm>
              <a:off x="10665000" y="-1440"/>
              <a:ext cx="1026720" cy="6862320"/>
            </a:xfrm>
            <a:custGeom>
              <a:avLst/>
              <a:gdLst>
                <a:gd name="textAreaLeft" fmla="*/ 0 w 1026720"/>
                <a:gd name="textAreaRight" fmla="*/ 1027080 w 102672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323" h="2159">
                  <a:moveTo>
                    <a:pt x="125" y="74"/>
                  </a:moveTo>
                  <a:cubicBezTo>
                    <a:pt x="132" y="83"/>
                    <a:pt x="139" y="92"/>
                    <a:pt x="144" y="103"/>
                  </a:cubicBezTo>
                  <a:cubicBezTo>
                    <a:pt x="148" y="111"/>
                    <a:pt x="151" y="121"/>
                    <a:pt x="151" y="131"/>
                  </a:cubicBezTo>
                  <a:cubicBezTo>
                    <a:pt x="151" y="131"/>
                    <a:pt x="151" y="131"/>
                    <a:pt x="151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2" y="197"/>
                    <a:pt x="121" y="197"/>
                  </a:cubicBezTo>
                  <a:cubicBezTo>
                    <a:pt x="107" y="215"/>
                    <a:pt x="89" y="230"/>
                    <a:pt x="72" y="246"/>
                  </a:cubicBezTo>
                  <a:cubicBezTo>
                    <a:pt x="56" y="262"/>
                    <a:pt x="39" y="279"/>
                    <a:pt x="25" y="298"/>
                  </a:cubicBezTo>
                  <a:cubicBezTo>
                    <a:pt x="24" y="300"/>
                    <a:pt x="22" y="302"/>
                    <a:pt x="21" y="305"/>
                  </a:cubicBezTo>
                  <a:cubicBezTo>
                    <a:pt x="19" y="307"/>
                    <a:pt x="17" y="310"/>
                    <a:pt x="15" y="313"/>
                  </a:cubicBezTo>
                  <a:cubicBezTo>
                    <a:pt x="9" y="322"/>
                    <a:pt x="4" y="333"/>
                    <a:pt x="2" y="345"/>
                  </a:cubicBezTo>
                  <a:cubicBezTo>
                    <a:pt x="1" y="351"/>
                    <a:pt x="0" y="357"/>
                    <a:pt x="1" y="363"/>
                  </a:cubicBezTo>
                  <a:cubicBezTo>
                    <a:pt x="2" y="369"/>
                    <a:pt x="3" y="374"/>
                    <a:pt x="6" y="379"/>
                  </a:cubicBezTo>
                  <a:cubicBezTo>
                    <a:pt x="8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3" y="404"/>
                    <a:pt x="26" y="408"/>
                  </a:cubicBezTo>
                  <a:cubicBezTo>
                    <a:pt x="42" y="426"/>
                    <a:pt x="59" y="441"/>
                    <a:pt x="76" y="457"/>
                  </a:cubicBezTo>
                  <a:cubicBezTo>
                    <a:pt x="93" y="473"/>
                    <a:pt x="110" y="489"/>
                    <a:pt x="125" y="507"/>
                  </a:cubicBezTo>
                  <a:cubicBezTo>
                    <a:pt x="132" y="516"/>
                    <a:pt x="139" y="525"/>
                    <a:pt x="144" y="535"/>
                  </a:cubicBezTo>
                  <a:cubicBezTo>
                    <a:pt x="148" y="544"/>
                    <a:pt x="151" y="554"/>
                    <a:pt x="151" y="564"/>
                  </a:cubicBezTo>
                  <a:cubicBezTo>
                    <a:pt x="151" y="564"/>
                    <a:pt x="151" y="564"/>
                    <a:pt x="151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5"/>
                    <a:pt x="122" y="629"/>
                  </a:cubicBezTo>
                  <a:cubicBezTo>
                    <a:pt x="122" y="629"/>
                    <a:pt x="122" y="629"/>
                    <a:pt x="121" y="630"/>
                  </a:cubicBezTo>
                  <a:cubicBezTo>
                    <a:pt x="107" y="648"/>
                    <a:pt x="89" y="663"/>
                    <a:pt x="72" y="679"/>
                  </a:cubicBezTo>
                  <a:cubicBezTo>
                    <a:pt x="56" y="695"/>
                    <a:pt x="39" y="711"/>
                    <a:pt x="25" y="730"/>
                  </a:cubicBezTo>
                  <a:cubicBezTo>
                    <a:pt x="24" y="733"/>
                    <a:pt x="22" y="735"/>
                    <a:pt x="21" y="737"/>
                  </a:cubicBezTo>
                  <a:cubicBezTo>
                    <a:pt x="19" y="740"/>
                    <a:pt x="17" y="743"/>
                    <a:pt x="15" y="745"/>
                  </a:cubicBezTo>
                  <a:cubicBezTo>
                    <a:pt x="9" y="755"/>
                    <a:pt x="4" y="766"/>
                    <a:pt x="2" y="778"/>
                  </a:cubicBezTo>
                  <a:cubicBezTo>
                    <a:pt x="1" y="784"/>
                    <a:pt x="0" y="789"/>
                    <a:pt x="1" y="795"/>
                  </a:cubicBezTo>
                  <a:cubicBezTo>
                    <a:pt x="2" y="801"/>
                    <a:pt x="3" y="807"/>
                    <a:pt x="6" y="812"/>
                  </a:cubicBezTo>
                  <a:cubicBezTo>
                    <a:pt x="8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3" y="837"/>
                    <a:pt x="26" y="841"/>
                  </a:cubicBezTo>
                  <a:cubicBezTo>
                    <a:pt x="42" y="858"/>
                    <a:pt x="59" y="874"/>
                    <a:pt x="76" y="890"/>
                  </a:cubicBezTo>
                  <a:cubicBezTo>
                    <a:pt x="93" y="906"/>
                    <a:pt x="110" y="922"/>
                    <a:pt x="125" y="939"/>
                  </a:cubicBezTo>
                  <a:cubicBezTo>
                    <a:pt x="132" y="948"/>
                    <a:pt x="139" y="958"/>
                    <a:pt x="144" y="968"/>
                  </a:cubicBezTo>
                  <a:cubicBezTo>
                    <a:pt x="147" y="976"/>
                    <a:pt x="150" y="984"/>
                    <a:pt x="151" y="993"/>
                  </a:cubicBezTo>
                  <a:cubicBezTo>
                    <a:pt x="151" y="993"/>
                    <a:pt x="151" y="993"/>
                    <a:pt x="151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9" y="1065"/>
                    <a:pt x="103" y="1082"/>
                    <a:pt x="86" y="1098"/>
                  </a:cubicBezTo>
                  <a:cubicBezTo>
                    <a:pt x="70" y="1114"/>
                    <a:pt x="52" y="1130"/>
                    <a:pt x="37" y="1147"/>
                  </a:cubicBezTo>
                  <a:cubicBezTo>
                    <a:pt x="29" y="1156"/>
                    <a:pt x="21" y="1165"/>
                    <a:pt x="15" y="1175"/>
                  </a:cubicBezTo>
                  <a:cubicBezTo>
                    <a:pt x="9" y="1185"/>
                    <a:pt x="4" y="1195"/>
                    <a:pt x="2" y="1207"/>
                  </a:cubicBezTo>
                  <a:cubicBezTo>
                    <a:pt x="1" y="1213"/>
                    <a:pt x="0" y="1219"/>
                    <a:pt x="1" y="1225"/>
                  </a:cubicBezTo>
                  <a:cubicBezTo>
                    <a:pt x="2" y="1231"/>
                    <a:pt x="3" y="1236"/>
                    <a:pt x="6" y="1242"/>
                  </a:cubicBezTo>
                  <a:cubicBezTo>
                    <a:pt x="7" y="1243"/>
                    <a:pt x="7" y="1244"/>
                    <a:pt x="8" y="1245"/>
                  </a:cubicBezTo>
                  <a:cubicBezTo>
                    <a:pt x="10" y="1251"/>
                    <a:pt x="12" y="1256"/>
                    <a:pt x="15" y="1261"/>
                  </a:cubicBezTo>
                  <a:cubicBezTo>
                    <a:pt x="19" y="1261"/>
                    <a:pt x="19" y="1261"/>
                    <a:pt x="19" y="1261"/>
                  </a:cubicBezTo>
                  <a:cubicBezTo>
                    <a:pt x="21" y="1264"/>
                    <a:pt x="24" y="1267"/>
                    <a:pt x="26" y="1270"/>
                  </a:cubicBezTo>
                  <a:cubicBezTo>
                    <a:pt x="42" y="1288"/>
                    <a:pt x="59" y="1303"/>
                    <a:pt x="76" y="1319"/>
                  </a:cubicBezTo>
                  <a:cubicBezTo>
                    <a:pt x="93" y="1335"/>
                    <a:pt x="110" y="1351"/>
                    <a:pt x="125" y="1369"/>
                  </a:cubicBezTo>
                  <a:cubicBezTo>
                    <a:pt x="132" y="1378"/>
                    <a:pt x="139" y="1387"/>
                    <a:pt x="144" y="1398"/>
                  </a:cubicBezTo>
                  <a:cubicBezTo>
                    <a:pt x="148" y="1406"/>
                    <a:pt x="151" y="1415"/>
                    <a:pt x="151" y="1425"/>
                  </a:cubicBezTo>
                  <a:cubicBezTo>
                    <a:pt x="151" y="1425"/>
                    <a:pt x="151" y="1425"/>
                    <a:pt x="151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6" y="1485"/>
                    <a:pt x="120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3" y="1595"/>
                    <a:pt x="19" y="1600"/>
                    <a:pt x="15" y="1606"/>
                  </a:cubicBezTo>
                  <a:cubicBezTo>
                    <a:pt x="9" y="1616"/>
                    <a:pt x="4" y="1627"/>
                    <a:pt x="2" y="1639"/>
                  </a:cubicBezTo>
                  <a:cubicBezTo>
                    <a:pt x="1" y="1644"/>
                    <a:pt x="0" y="1650"/>
                    <a:pt x="1" y="1656"/>
                  </a:cubicBezTo>
                  <a:cubicBezTo>
                    <a:pt x="2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1" y="1681"/>
                  </a:cubicBezTo>
                  <a:cubicBezTo>
                    <a:pt x="12" y="1685"/>
                    <a:pt x="13" y="1688"/>
                    <a:pt x="15" y="1691"/>
                  </a:cubicBezTo>
                  <a:cubicBezTo>
                    <a:pt x="17" y="1691"/>
                    <a:pt x="17" y="1691"/>
                    <a:pt x="17" y="1691"/>
                  </a:cubicBezTo>
                  <a:cubicBezTo>
                    <a:pt x="20" y="1694"/>
                    <a:pt x="23" y="1698"/>
                    <a:pt x="26" y="1702"/>
                  </a:cubicBezTo>
                  <a:cubicBezTo>
                    <a:pt x="42" y="1719"/>
                    <a:pt x="59" y="1735"/>
                    <a:pt x="76" y="1751"/>
                  </a:cubicBezTo>
                  <a:cubicBezTo>
                    <a:pt x="93" y="1767"/>
                    <a:pt x="110" y="1783"/>
                    <a:pt x="125" y="1800"/>
                  </a:cubicBezTo>
                  <a:cubicBezTo>
                    <a:pt x="132" y="1809"/>
                    <a:pt x="139" y="1819"/>
                    <a:pt x="144" y="1829"/>
                  </a:cubicBezTo>
                  <a:cubicBezTo>
                    <a:pt x="148" y="1837"/>
                    <a:pt x="150" y="1846"/>
                    <a:pt x="151" y="1855"/>
                  </a:cubicBezTo>
                  <a:cubicBezTo>
                    <a:pt x="151" y="1855"/>
                    <a:pt x="151" y="1855"/>
                    <a:pt x="151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8" y="1959"/>
                    <a:pt x="80" y="1966"/>
                    <a:pt x="72" y="1973"/>
                  </a:cubicBezTo>
                  <a:cubicBezTo>
                    <a:pt x="61" y="1984"/>
                    <a:pt x="49" y="1995"/>
                    <a:pt x="39" y="2007"/>
                  </a:cubicBezTo>
                  <a:cubicBezTo>
                    <a:pt x="38" y="2008"/>
                    <a:pt x="37" y="2008"/>
                    <a:pt x="37" y="2009"/>
                  </a:cubicBezTo>
                  <a:cubicBezTo>
                    <a:pt x="29" y="2018"/>
                    <a:pt x="21" y="2027"/>
                    <a:pt x="15" y="2037"/>
                  </a:cubicBezTo>
                  <a:cubicBezTo>
                    <a:pt x="9" y="2047"/>
                    <a:pt x="4" y="2057"/>
                    <a:pt x="2" y="2069"/>
                  </a:cubicBezTo>
                  <a:cubicBezTo>
                    <a:pt x="1" y="2075"/>
                    <a:pt x="0" y="2081"/>
                    <a:pt x="1" y="2087"/>
                  </a:cubicBezTo>
                  <a:cubicBezTo>
                    <a:pt x="2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1" y="2114"/>
                    <a:pt x="13" y="2118"/>
                    <a:pt x="15" y="2122"/>
                  </a:cubicBezTo>
                  <a:cubicBezTo>
                    <a:pt x="18" y="2122"/>
                    <a:pt x="18" y="2122"/>
                    <a:pt x="18" y="2122"/>
                  </a:cubicBezTo>
                  <a:cubicBezTo>
                    <a:pt x="21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5" y="2137"/>
                    <a:pt x="34" y="2125"/>
                  </a:cubicBezTo>
                  <a:cubicBezTo>
                    <a:pt x="27" y="2117"/>
                    <a:pt x="21" y="2109"/>
                    <a:pt x="16" y="2101"/>
                  </a:cubicBezTo>
                  <a:cubicBezTo>
                    <a:pt x="15" y="2097"/>
                    <a:pt x="15" y="2093"/>
                    <a:pt x="14" y="2089"/>
                  </a:cubicBezTo>
                  <a:cubicBezTo>
                    <a:pt x="13" y="2068"/>
                    <a:pt x="21" y="2048"/>
                    <a:pt x="34" y="2030"/>
                  </a:cubicBezTo>
                  <a:cubicBezTo>
                    <a:pt x="47" y="2012"/>
                    <a:pt x="63" y="1997"/>
                    <a:pt x="80" y="1981"/>
                  </a:cubicBezTo>
                  <a:cubicBezTo>
                    <a:pt x="97" y="1965"/>
                    <a:pt x="115" y="1949"/>
                    <a:pt x="130" y="1931"/>
                  </a:cubicBezTo>
                  <a:cubicBezTo>
                    <a:pt x="138" y="1922"/>
                    <a:pt x="146" y="1912"/>
                    <a:pt x="151" y="1900"/>
                  </a:cubicBezTo>
                  <a:cubicBezTo>
                    <a:pt x="157" y="1889"/>
                    <a:pt x="162" y="1877"/>
                    <a:pt x="163" y="1863"/>
                  </a:cubicBezTo>
                  <a:cubicBezTo>
                    <a:pt x="163" y="1862"/>
                    <a:pt x="163" y="1860"/>
                    <a:pt x="163" y="1859"/>
                  </a:cubicBezTo>
                  <a:cubicBezTo>
                    <a:pt x="163" y="1860"/>
                    <a:pt x="163" y="1861"/>
                    <a:pt x="163" y="1862"/>
                  </a:cubicBezTo>
                  <a:cubicBezTo>
                    <a:pt x="164" y="1874"/>
                    <a:pt x="168" y="1886"/>
                    <a:pt x="173" y="1896"/>
                  </a:cubicBezTo>
                  <a:cubicBezTo>
                    <a:pt x="179" y="1907"/>
                    <a:pt x="186" y="1916"/>
                    <a:pt x="193" y="1925"/>
                  </a:cubicBezTo>
                  <a:cubicBezTo>
                    <a:pt x="208" y="1943"/>
                    <a:pt x="226" y="1958"/>
                    <a:pt x="242" y="1974"/>
                  </a:cubicBezTo>
                  <a:cubicBezTo>
                    <a:pt x="243" y="1975"/>
                    <a:pt x="243" y="1975"/>
                    <a:pt x="243" y="1975"/>
                  </a:cubicBezTo>
                  <a:cubicBezTo>
                    <a:pt x="250" y="1982"/>
                    <a:pt x="257" y="1988"/>
                    <a:pt x="264" y="1995"/>
                  </a:cubicBezTo>
                  <a:cubicBezTo>
                    <a:pt x="273" y="2004"/>
                    <a:pt x="282" y="2014"/>
                    <a:pt x="290" y="2025"/>
                  </a:cubicBezTo>
                  <a:cubicBezTo>
                    <a:pt x="296" y="2035"/>
                    <a:pt x="302" y="2045"/>
                    <a:pt x="306" y="2056"/>
                  </a:cubicBezTo>
                  <a:cubicBezTo>
                    <a:pt x="309" y="2067"/>
                    <a:pt x="311" y="2078"/>
                    <a:pt x="310" y="2090"/>
                  </a:cubicBezTo>
                  <a:cubicBezTo>
                    <a:pt x="309" y="2096"/>
                    <a:pt x="308" y="2102"/>
                    <a:pt x="306" y="2108"/>
                  </a:cubicBezTo>
                  <a:cubicBezTo>
                    <a:pt x="301" y="2116"/>
                    <a:pt x="295" y="2124"/>
                    <a:pt x="289" y="2131"/>
                  </a:cubicBezTo>
                  <a:cubicBezTo>
                    <a:pt x="280" y="2141"/>
                    <a:pt x="271" y="2150"/>
                    <a:pt x="261" y="2159"/>
                  </a:cubicBezTo>
                  <a:cubicBezTo>
                    <a:pt x="277" y="2159"/>
                    <a:pt x="277" y="2159"/>
                    <a:pt x="277" y="2159"/>
                  </a:cubicBezTo>
                  <a:cubicBezTo>
                    <a:pt x="284" y="2152"/>
                    <a:pt x="290" y="2145"/>
                    <a:pt x="297" y="2138"/>
                  </a:cubicBezTo>
                  <a:cubicBezTo>
                    <a:pt x="301" y="2133"/>
                    <a:pt x="305" y="2128"/>
                    <a:pt x="309" y="2122"/>
                  </a:cubicBezTo>
                  <a:cubicBezTo>
                    <a:pt x="309" y="2122"/>
                    <a:pt x="309" y="2122"/>
                    <a:pt x="309" y="2122"/>
                  </a:cubicBezTo>
                  <a:cubicBezTo>
                    <a:pt x="310" y="2122"/>
                    <a:pt x="310" y="2121"/>
                    <a:pt x="310" y="2120"/>
                  </a:cubicBezTo>
                  <a:cubicBezTo>
                    <a:pt x="313" y="2116"/>
                    <a:pt x="316" y="2112"/>
                    <a:pt x="318" y="2107"/>
                  </a:cubicBezTo>
                  <a:cubicBezTo>
                    <a:pt x="320" y="2102"/>
                    <a:pt x="322" y="2097"/>
                    <a:pt x="323" y="2092"/>
                  </a:cubicBezTo>
                  <a:cubicBezTo>
                    <a:pt x="322" y="2090"/>
                    <a:pt x="322" y="2088"/>
                    <a:pt x="322" y="2087"/>
                  </a:cubicBezTo>
                  <a:cubicBezTo>
                    <a:pt x="321" y="2081"/>
                    <a:pt x="322" y="2076"/>
                    <a:pt x="323" y="2071"/>
                  </a:cubicBezTo>
                  <a:cubicBezTo>
                    <a:pt x="322" y="2070"/>
                    <a:pt x="322" y="2069"/>
                    <a:pt x="322" y="2068"/>
                  </a:cubicBezTo>
                  <a:cubicBezTo>
                    <a:pt x="320" y="2055"/>
                    <a:pt x="314" y="2043"/>
                    <a:pt x="307" y="2033"/>
                  </a:cubicBezTo>
                  <a:cubicBezTo>
                    <a:pt x="306" y="2032"/>
                    <a:pt x="305" y="2030"/>
                    <a:pt x="304" y="2029"/>
                  </a:cubicBezTo>
                  <a:cubicBezTo>
                    <a:pt x="302" y="2026"/>
                    <a:pt x="300" y="2022"/>
                    <a:pt x="298" y="2019"/>
                  </a:cubicBezTo>
                  <a:cubicBezTo>
                    <a:pt x="284" y="1999"/>
                    <a:pt x="267" y="1982"/>
                    <a:pt x="250" y="1966"/>
                  </a:cubicBezTo>
                  <a:cubicBezTo>
                    <a:pt x="233" y="1950"/>
                    <a:pt x="216" y="1935"/>
                    <a:pt x="202" y="1917"/>
                  </a:cubicBezTo>
                  <a:cubicBezTo>
                    <a:pt x="188" y="1901"/>
                    <a:pt x="177" y="1881"/>
                    <a:pt x="175" y="1861"/>
                  </a:cubicBezTo>
                  <a:cubicBezTo>
                    <a:pt x="174" y="1852"/>
                    <a:pt x="177" y="1843"/>
                    <a:pt x="181" y="1833"/>
                  </a:cubicBezTo>
                  <a:cubicBezTo>
                    <a:pt x="186" y="1824"/>
                    <a:pt x="192" y="1815"/>
                    <a:pt x="199" y="1806"/>
                  </a:cubicBezTo>
                  <a:cubicBezTo>
                    <a:pt x="213" y="1789"/>
                    <a:pt x="230" y="1773"/>
                    <a:pt x="246" y="1757"/>
                  </a:cubicBezTo>
                  <a:cubicBezTo>
                    <a:pt x="263" y="1741"/>
                    <a:pt x="281" y="1726"/>
                    <a:pt x="297" y="1708"/>
                  </a:cubicBezTo>
                  <a:cubicBezTo>
                    <a:pt x="304" y="1698"/>
                    <a:pt x="312" y="1689"/>
                    <a:pt x="318" y="1677"/>
                  </a:cubicBezTo>
                  <a:cubicBezTo>
                    <a:pt x="320" y="1672"/>
                    <a:pt x="322" y="1667"/>
                    <a:pt x="323" y="1661"/>
                  </a:cubicBezTo>
                  <a:cubicBezTo>
                    <a:pt x="322" y="1660"/>
                    <a:pt x="322" y="1658"/>
                    <a:pt x="322" y="1656"/>
                  </a:cubicBezTo>
                  <a:cubicBezTo>
                    <a:pt x="321" y="1651"/>
                    <a:pt x="322" y="1646"/>
                    <a:pt x="323" y="1640"/>
                  </a:cubicBezTo>
                  <a:cubicBezTo>
                    <a:pt x="322" y="1639"/>
                    <a:pt x="322" y="1638"/>
                    <a:pt x="322" y="1637"/>
                  </a:cubicBezTo>
                  <a:cubicBezTo>
                    <a:pt x="320" y="1625"/>
                    <a:pt x="315" y="1614"/>
                    <a:pt x="308" y="1605"/>
                  </a:cubicBezTo>
                  <a:cubicBezTo>
                    <a:pt x="305" y="1599"/>
                    <a:pt x="302" y="1593"/>
                    <a:pt x="298" y="1588"/>
                  </a:cubicBezTo>
                  <a:cubicBezTo>
                    <a:pt x="284" y="1567"/>
                    <a:pt x="267" y="1551"/>
                    <a:pt x="250" y="1535"/>
                  </a:cubicBezTo>
                  <a:cubicBezTo>
                    <a:pt x="233" y="1519"/>
                    <a:pt x="216" y="1503"/>
                    <a:pt x="202" y="1486"/>
                  </a:cubicBezTo>
                  <a:cubicBezTo>
                    <a:pt x="188" y="1469"/>
                    <a:pt x="177" y="1450"/>
                    <a:pt x="175" y="1430"/>
                  </a:cubicBezTo>
                  <a:cubicBezTo>
                    <a:pt x="174" y="1421"/>
                    <a:pt x="177" y="1411"/>
                    <a:pt x="181" y="1402"/>
                  </a:cubicBezTo>
                  <a:cubicBezTo>
                    <a:pt x="186" y="1392"/>
                    <a:pt x="192" y="1383"/>
                    <a:pt x="199" y="1375"/>
                  </a:cubicBezTo>
                  <a:cubicBezTo>
                    <a:pt x="213" y="1357"/>
                    <a:pt x="230" y="1342"/>
                    <a:pt x="246" y="1326"/>
                  </a:cubicBezTo>
                  <a:cubicBezTo>
                    <a:pt x="263" y="1310"/>
                    <a:pt x="281" y="1294"/>
                    <a:pt x="297" y="1276"/>
                  </a:cubicBezTo>
                  <a:cubicBezTo>
                    <a:pt x="301" y="1271"/>
                    <a:pt x="305" y="1266"/>
                    <a:pt x="308" y="1261"/>
                  </a:cubicBezTo>
                  <a:cubicBezTo>
                    <a:pt x="309" y="1261"/>
                    <a:pt x="309" y="1261"/>
                    <a:pt x="309" y="1261"/>
                  </a:cubicBezTo>
                  <a:cubicBezTo>
                    <a:pt x="310" y="1259"/>
                    <a:pt x="311" y="1258"/>
                    <a:pt x="312" y="1256"/>
                  </a:cubicBezTo>
                  <a:cubicBezTo>
                    <a:pt x="314" y="1252"/>
                    <a:pt x="316" y="1249"/>
                    <a:pt x="318" y="1245"/>
                  </a:cubicBezTo>
                  <a:cubicBezTo>
                    <a:pt x="320" y="1240"/>
                    <a:pt x="322" y="1235"/>
                    <a:pt x="323" y="1230"/>
                  </a:cubicBezTo>
                  <a:cubicBezTo>
                    <a:pt x="322" y="1228"/>
                    <a:pt x="322" y="1226"/>
                    <a:pt x="322" y="1225"/>
                  </a:cubicBezTo>
                  <a:cubicBezTo>
                    <a:pt x="321" y="1219"/>
                    <a:pt x="322" y="1214"/>
                    <a:pt x="323" y="1209"/>
                  </a:cubicBezTo>
                  <a:cubicBezTo>
                    <a:pt x="322" y="1208"/>
                    <a:pt x="322" y="1207"/>
                    <a:pt x="322" y="1206"/>
                  </a:cubicBezTo>
                  <a:cubicBezTo>
                    <a:pt x="320" y="1193"/>
                    <a:pt x="314" y="1181"/>
                    <a:pt x="307" y="1171"/>
                  </a:cubicBezTo>
                  <a:cubicBezTo>
                    <a:pt x="305" y="1168"/>
                    <a:pt x="302" y="1164"/>
                    <a:pt x="300" y="1161"/>
                  </a:cubicBezTo>
                  <a:cubicBezTo>
                    <a:pt x="299" y="1160"/>
                    <a:pt x="299" y="1159"/>
                    <a:pt x="298" y="1158"/>
                  </a:cubicBezTo>
                  <a:cubicBezTo>
                    <a:pt x="284" y="1138"/>
                    <a:pt x="267" y="1122"/>
                    <a:pt x="250" y="1105"/>
                  </a:cubicBezTo>
                  <a:cubicBezTo>
                    <a:pt x="233" y="1089"/>
                    <a:pt x="216" y="1074"/>
                    <a:pt x="202" y="1057"/>
                  </a:cubicBezTo>
                  <a:cubicBezTo>
                    <a:pt x="188" y="1040"/>
                    <a:pt x="177" y="1020"/>
                    <a:pt x="175" y="1000"/>
                  </a:cubicBezTo>
                  <a:cubicBezTo>
                    <a:pt x="174" y="991"/>
                    <a:pt x="177" y="982"/>
                    <a:pt x="181" y="972"/>
                  </a:cubicBezTo>
                  <a:cubicBezTo>
                    <a:pt x="186" y="963"/>
                    <a:pt x="192" y="954"/>
                    <a:pt x="199" y="945"/>
                  </a:cubicBezTo>
                  <a:cubicBezTo>
                    <a:pt x="213" y="928"/>
                    <a:pt x="230" y="912"/>
                    <a:pt x="246" y="896"/>
                  </a:cubicBezTo>
                  <a:cubicBezTo>
                    <a:pt x="263" y="880"/>
                    <a:pt x="281" y="865"/>
                    <a:pt x="297" y="847"/>
                  </a:cubicBezTo>
                  <a:cubicBezTo>
                    <a:pt x="304" y="837"/>
                    <a:pt x="312" y="828"/>
                    <a:pt x="318" y="816"/>
                  </a:cubicBezTo>
                  <a:cubicBezTo>
                    <a:pt x="320" y="811"/>
                    <a:pt x="322" y="806"/>
                    <a:pt x="323" y="800"/>
                  </a:cubicBezTo>
                  <a:cubicBezTo>
                    <a:pt x="322" y="799"/>
                    <a:pt x="322" y="797"/>
                    <a:pt x="322" y="795"/>
                  </a:cubicBezTo>
                  <a:cubicBezTo>
                    <a:pt x="321" y="790"/>
                    <a:pt x="322" y="785"/>
                    <a:pt x="323" y="779"/>
                  </a:cubicBezTo>
                  <a:cubicBezTo>
                    <a:pt x="322" y="778"/>
                    <a:pt x="322" y="777"/>
                    <a:pt x="322" y="776"/>
                  </a:cubicBezTo>
                  <a:cubicBezTo>
                    <a:pt x="320" y="766"/>
                    <a:pt x="316" y="756"/>
                    <a:pt x="311" y="748"/>
                  </a:cubicBezTo>
                  <a:cubicBezTo>
                    <a:pt x="307" y="740"/>
                    <a:pt x="303" y="732"/>
                    <a:pt x="298" y="726"/>
                  </a:cubicBezTo>
                  <a:cubicBezTo>
                    <a:pt x="284" y="705"/>
                    <a:pt x="267" y="689"/>
                    <a:pt x="250" y="673"/>
                  </a:cubicBezTo>
                  <a:cubicBezTo>
                    <a:pt x="233" y="656"/>
                    <a:pt x="216" y="641"/>
                    <a:pt x="202" y="624"/>
                  </a:cubicBezTo>
                  <a:cubicBezTo>
                    <a:pt x="188" y="607"/>
                    <a:pt x="177" y="588"/>
                    <a:pt x="175" y="568"/>
                  </a:cubicBezTo>
                  <a:cubicBezTo>
                    <a:pt x="174" y="558"/>
                    <a:pt x="177" y="549"/>
                    <a:pt x="181" y="540"/>
                  </a:cubicBezTo>
                  <a:cubicBezTo>
                    <a:pt x="186" y="530"/>
                    <a:pt x="192" y="521"/>
                    <a:pt x="199" y="513"/>
                  </a:cubicBezTo>
                  <a:cubicBezTo>
                    <a:pt x="213" y="495"/>
                    <a:pt x="230" y="480"/>
                    <a:pt x="246" y="464"/>
                  </a:cubicBezTo>
                  <a:cubicBezTo>
                    <a:pt x="263" y="448"/>
                    <a:pt x="281" y="432"/>
                    <a:pt x="297" y="414"/>
                  </a:cubicBezTo>
                  <a:cubicBezTo>
                    <a:pt x="304" y="405"/>
                    <a:pt x="312" y="395"/>
                    <a:pt x="318" y="383"/>
                  </a:cubicBezTo>
                  <a:cubicBezTo>
                    <a:pt x="320" y="378"/>
                    <a:pt x="322" y="373"/>
                    <a:pt x="323" y="367"/>
                  </a:cubicBezTo>
                  <a:cubicBezTo>
                    <a:pt x="322" y="366"/>
                    <a:pt x="322" y="364"/>
                    <a:pt x="322" y="363"/>
                  </a:cubicBezTo>
                  <a:cubicBezTo>
                    <a:pt x="321" y="357"/>
                    <a:pt x="322" y="352"/>
                    <a:pt x="323" y="347"/>
                  </a:cubicBezTo>
                  <a:cubicBezTo>
                    <a:pt x="322" y="346"/>
                    <a:pt x="322" y="345"/>
                    <a:pt x="322" y="344"/>
                  </a:cubicBezTo>
                  <a:cubicBezTo>
                    <a:pt x="320" y="333"/>
                    <a:pt x="316" y="324"/>
                    <a:pt x="311" y="315"/>
                  </a:cubicBezTo>
                  <a:cubicBezTo>
                    <a:pt x="307" y="307"/>
                    <a:pt x="303" y="300"/>
                    <a:pt x="298" y="293"/>
                  </a:cubicBezTo>
                  <a:cubicBezTo>
                    <a:pt x="284" y="273"/>
                    <a:pt x="267" y="256"/>
                    <a:pt x="250" y="240"/>
                  </a:cubicBezTo>
                  <a:cubicBezTo>
                    <a:pt x="233" y="224"/>
                    <a:pt x="216" y="208"/>
                    <a:pt x="202" y="191"/>
                  </a:cubicBezTo>
                  <a:cubicBezTo>
                    <a:pt x="188" y="174"/>
                    <a:pt x="177" y="155"/>
                    <a:pt x="175" y="135"/>
                  </a:cubicBezTo>
                  <a:cubicBezTo>
                    <a:pt x="174" y="126"/>
                    <a:pt x="177" y="116"/>
                    <a:pt x="181" y="107"/>
                  </a:cubicBezTo>
                  <a:cubicBezTo>
                    <a:pt x="186" y="97"/>
                    <a:pt x="192" y="88"/>
                    <a:pt x="199" y="80"/>
                  </a:cubicBezTo>
                  <a:cubicBezTo>
                    <a:pt x="213" y="63"/>
                    <a:pt x="230" y="47"/>
                    <a:pt x="246" y="31"/>
                  </a:cubicBezTo>
                  <a:cubicBezTo>
                    <a:pt x="257" y="21"/>
                    <a:pt x="268" y="10"/>
                    <a:pt x="279" y="0"/>
                  </a:cubicBezTo>
                  <a:cubicBezTo>
                    <a:pt x="263" y="0"/>
                    <a:pt x="263" y="0"/>
                    <a:pt x="263" y="0"/>
                  </a:cubicBezTo>
                  <a:cubicBezTo>
                    <a:pt x="255" y="7"/>
                    <a:pt x="247" y="15"/>
                    <a:pt x="239" y="23"/>
                  </a:cubicBezTo>
                  <a:cubicBezTo>
                    <a:pt x="222" y="39"/>
                    <a:pt x="205" y="54"/>
                    <a:pt x="190" y="72"/>
                  </a:cubicBezTo>
                  <a:cubicBezTo>
                    <a:pt x="182" y="81"/>
                    <a:pt x="176" y="91"/>
                    <a:pt x="170" y="102"/>
                  </a:cubicBezTo>
                  <a:cubicBezTo>
                    <a:pt x="166" y="110"/>
                    <a:pt x="163" y="120"/>
                    <a:pt x="163" y="130"/>
                  </a:cubicBezTo>
                  <a:cubicBezTo>
                    <a:pt x="163" y="125"/>
                    <a:pt x="162" y="121"/>
                    <a:pt x="161" y="116"/>
                  </a:cubicBezTo>
                  <a:cubicBezTo>
                    <a:pt x="160" y="109"/>
                    <a:pt x="157" y="103"/>
                    <a:pt x="154" y="97"/>
                  </a:cubicBezTo>
                  <a:cubicBezTo>
                    <a:pt x="149" y="86"/>
                    <a:pt x="141" y="76"/>
                    <a:pt x="134" y="66"/>
                  </a:cubicBezTo>
                  <a:cubicBezTo>
                    <a:pt x="118" y="48"/>
                    <a:pt x="101" y="32"/>
                    <a:pt x="84" y="16"/>
                  </a:cubicBezTo>
                  <a:cubicBezTo>
                    <a:pt x="78" y="11"/>
                    <a:pt x="72" y="5"/>
                    <a:pt x="66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8" y="8"/>
                    <a:pt x="67" y="16"/>
                    <a:pt x="76" y="24"/>
                  </a:cubicBezTo>
                  <a:cubicBezTo>
                    <a:pt x="93" y="40"/>
                    <a:pt x="110" y="56"/>
                    <a:pt x="125" y="74"/>
                  </a:cubicBezTo>
                  <a:close/>
                  <a:moveTo>
                    <a:pt x="193" y="1493"/>
                  </a:moveTo>
                  <a:cubicBezTo>
                    <a:pt x="200" y="1502"/>
                    <a:pt x="208" y="1510"/>
                    <a:pt x="216" y="1517"/>
                  </a:cubicBezTo>
                  <a:cubicBezTo>
                    <a:pt x="220" y="1522"/>
                    <a:pt x="225" y="1526"/>
                    <a:pt x="229" y="1531"/>
                  </a:cubicBezTo>
                  <a:cubicBezTo>
                    <a:pt x="245" y="1547"/>
                    <a:pt x="263" y="1563"/>
                    <a:pt x="278" y="1580"/>
                  </a:cubicBezTo>
                  <a:cubicBezTo>
                    <a:pt x="280" y="1582"/>
                    <a:pt x="282" y="1584"/>
                    <a:pt x="284" y="1586"/>
                  </a:cubicBezTo>
                  <a:cubicBezTo>
                    <a:pt x="286" y="1589"/>
                    <a:pt x="288" y="1591"/>
                    <a:pt x="290" y="1594"/>
                  </a:cubicBezTo>
                  <a:cubicBezTo>
                    <a:pt x="296" y="1603"/>
                    <a:pt x="302" y="1613"/>
                    <a:pt x="306" y="1624"/>
                  </a:cubicBezTo>
                  <a:cubicBezTo>
                    <a:pt x="309" y="1635"/>
                    <a:pt x="311" y="1647"/>
                    <a:pt x="310" y="1658"/>
                  </a:cubicBezTo>
                  <a:cubicBezTo>
                    <a:pt x="309" y="1666"/>
                    <a:pt x="307" y="1673"/>
                    <a:pt x="304" y="1680"/>
                  </a:cubicBezTo>
                  <a:cubicBezTo>
                    <a:pt x="300" y="1687"/>
                    <a:pt x="294" y="1694"/>
                    <a:pt x="289" y="1701"/>
                  </a:cubicBezTo>
                  <a:cubicBezTo>
                    <a:pt x="273" y="1718"/>
                    <a:pt x="256" y="1733"/>
                    <a:pt x="239" y="1749"/>
                  </a:cubicBezTo>
                  <a:cubicBezTo>
                    <a:pt x="222" y="1765"/>
                    <a:pt x="205" y="1781"/>
                    <a:pt x="190" y="1799"/>
                  </a:cubicBezTo>
                  <a:cubicBezTo>
                    <a:pt x="182" y="1808"/>
                    <a:pt x="176" y="1818"/>
                    <a:pt x="170" y="1828"/>
                  </a:cubicBezTo>
                  <a:cubicBezTo>
                    <a:pt x="166" y="1837"/>
                    <a:pt x="163" y="1847"/>
                    <a:pt x="163" y="1857"/>
                  </a:cubicBezTo>
                  <a:cubicBezTo>
                    <a:pt x="163" y="1852"/>
                    <a:pt x="162" y="1847"/>
                    <a:pt x="161" y="1843"/>
                  </a:cubicBezTo>
                  <a:cubicBezTo>
                    <a:pt x="160" y="1836"/>
                    <a:pt x="157" y="1830"/>
                    <a:pt x="154" y="1824"/>
                  </a:cubicBezTo>
                  <a:cubicBezTo>
                    <a:pt x="149" y="1812"/>
                    <a:pt x="141" y="1802"/>
                    <a:pt x="134" y="1793"/>
                  </a:cubicBezTo>
                  <a:cubicBezTo>
                    <a:pt x="118" y="1774"/>
                    <a:pt x="101" y="1758"/>
                    <a:pt x="84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7" y="1671"/>
                  </a:cubicBezTo>
                  <a:cubicBezTo>
                    <a:pt x="15" y="1667"/>
                    <a:pt x="15" y="1662"/>
                    <a:pt x="14" y="1658"/>
                  </a:cubicBezTo>
                  <a:cubicBezTo>
                    <a:pt x="13" y="1637"/>
                    <a:pt x="21" y="1616"/>
                    <a:pt x="34" y="1599"/>
                  </a:cubicBezTo>
                  <a:cubicBezTo>
                    <a:pt x="47" y="1581"/>
                    <a:pt x="63" y="1565"/>
                    <a:pt x="80" y="1549"/>
                  </a:cubicBezTo>
                  <a:cubicBezTo>
                    <a:pt x="97" y="1534"/>
                    <a:pt x="115" y="1518"/>
                    <a:pt x="130" y="1499"/>
                  </a:cubicBezTo>
                  <a:cubicBezTo>
                    <a:pt x="138" y="1490"/>
                    <a:pt x="146" y="1480"/>
                    <a:pt x="151" y="1469"/>
                  </a:cubicBezTo>
                  <a:cubicBezTo>
                    <a:pt x="157" y="1458"/>
                    <a:pt x="162" y="1445"/>
                    <a:pt x="163" y="1432"/>
                  </a:cubicBezTo>
                  <a:cubicBezTo>
                    <a:pt x="163" y="1430"/>
                    <a:pt x="163" y="1429"/>
                    <a:pt x="163" y="1427"/>
                  </a:cubicBezTo>
                  <a:cubicBezTo>
                    <a:pt x="163" y="1428"/>
                    <a:pt x="163" y="1430"/>
                    <a:pt x="163" y="1431"/>
                  </a:cubicBezTo>
                  <a:cubicBezTo>
                    <a:pt x="164" y="1443"/>
                    <a:pt x="168" y="1454"/>
                    <a:pt x="173" y="1464"/>
                  </a:cubicBezTo>
                  <a:cubicBezTo>
                    <a:pt x="179" y="1475"/>
                    <a:pt x="186" y="1484"/>
                    <a:pt x="193" y="1493"/>
                  </a:cubicBezTo>
                  <a:close/>
                  <a:moveTo>
                    <a:pt x="193" y="1064"/>
                  </a:moveTo>
                  <a:cubicBezTo>
                    <a:pt x="208" y="1082"/>
                    <a:pt x="226" y="1098"/>
                    <a:pt x="242" y="1113"/>
                  </a:cubicBezTo>
                  <a:cubicBezTo>
                    <a:pt x="259" y="1129"/>
                    <a:pt x="276" y="1146"/>
                    <a:pt x="290" y="1164"/>
                  </a:cubicBezTo>
                  <a:cubicBezTo>
                    <a:pt x="296" y="1174"/>
                    <a:pt x="302" y="1184"/>
                    <a:pt x="306" y="1195"/>
                  </a:cubicBezTo>
                  <a:cubicBezTo>
                    <a:pt x="309" y="1206"/>
                    <a:pt x="311" y="1218"/>
                    <a:pt x="310" y="1229"/>
                  </a:cubicBezTo>
                  <a:cubicBezTo>
                    <a:pt x="309" y="1234"/>
                    <a:pt x="308" y="1239"/>
                    <a:pt x="307" y="1244"/>
                  </a:cubicBezTo>
                  <a:cubicBezTo>
                    <a:pt x="302" y="1253"/>
                    <a:pt x="295" y="1261"/>
                    <a:pt x="289" y="1269"/>
                  </a:cubicBezTo>
                  <a:cubicBezTo>
                    <a:pt x="273" y="1286"/>
                    <a:pt x="256" y="1302"/>
                    <a:pt x="239" y="1318"/>
                  </a:cubicBezTo>
                  <a:cubicBezTo>
                    <a:pt x="222" y="1333"/>
                    <a:pt x="205" y="1349"/>
                    <a:pt x="190" y="1367"/>
                  </a:cubicBezTo>
                  <a:cubicBezTo>
                    <a:pt x="182" y="1376"/>
                    <a:pt x="176" y="1386"/>
                    <a:pt x="170" y="1396"/>
                  </a:cubicBezTo>
                  <a:cubicBezTo>
                    <a:pt x="166" y="1405"/>
                    <a:pt x="163" y="1415"/>
                    <a:pt x="163" y="1425"/>
                  </a:cubicBezTo>
                  <a:cubicBezTo>
                    <a:pt x="163" y="1420"/>
                    <a:pt x="162" y="1415"/>
                    <a:pt x="161" y="1411"/>
                  </a:cubicBezTo>
                  <a:cubicBezTo>
                    <a:pt x="160" y="1404"/>
                    <a:pt x="157" y="1398"/>
                    <a:pt x="154" y="1392"/>
                  </a:cubicBezTo>
                  <a:cubicBezTo>
                    <a:pt x="149" y="1381"/>
                    <a:pt x="141" y="1371"/>
                    <a:pt x="134" y="1361"/>
                  </a:cubicBezTo>
                  <a:cubicBezTo>
                    <a:pt x="118" y="1343"/>
                    <a:pt x="101" y="1327"/>
                    <a:pt x="84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7" y="1255"/>
                    <a:pt x="20" y="1247"/>
                    <a:pt x="16" y="1238"/>
                  </a:cubicBezTo>
                  <a:cubicBezTo>
                    <a:pt x="15" y="1235"/>
                    <a:pt x="15" y="1232"/>
                    <a:pt x="14" y="1228"/>
                  </a:cubicBezTo>
                  <a:cubicBezTo>
                    <a:pt x="13" y="1207"/>
                    <a:pt x="21" y="1187"/>
                    <a:pt x="34" y="1169"/>
                  </a:cubicBezTo>
                  <a:cubicBezTo>
                    <a:pt x="47" y="1152"/>
                    <a:pt x="63" y="1136"/>
                    <a:pt x="80" y="1120"/>
                  </a:cubicBezTo>
                  <a:cubicBezTo>
                    <a:pt x="97" y="1104"/>
                    <a:pt x="115" y="1089"/>
                    <a:pt x="130" y="1070"/>
                  </a:cubicBezTo>
                  <a:cubicBezTo>
                    <a:pt x="138" y="1061"/>
                    <a:pt x="146" y="1051"/>
                    <a:pt x="151" y="1039"/>
                  </a:cubicBezTo>
                  <a:cubicBezTo>
                    <a:pt x="157" y="1028"/>
                    <a:pt x="162" y="1016"/>
                    <a:pt x="163" y="1002"/>
                  </a:cubicBezTo>
                  <a:cubicBezTo>
                    <a:pt x="163" y="1001"/>
                    <a:pt x="163" y="999"/>
                    <a:pt x="163" y="998"/>
                  </a:cubicBezTo>
                  <a:cubicBezTo>
                    <a:pt x="163" y="999"/>
                    <a:pt x="163" y="1000"/>
                    <a:pt x="163" y="1001"/>
                  </a:cubicBezTo>
                  <a:cubicBezTo>
                    <a:pt x="164" y="1013"/>
                    <a:pt x="168" y="1025"/>
                    <a:pt x="173" y="1035"/>
                  </a:cubicBezTo>
                  <a:cubicBezTo>
                    <a:pt x="179" y="1046"/>
                    <a:pt x="186" y="1055"/>
                    <a:pt x="193" y="1064"/>
                  </a:cubicBezTo>
                  <a:close/>
                  <a:moveTo>
                    <a:pt x="193" y="631"/>
                  </a:moveTo>
                  <a:cubicBezTo>
                    <a:pt x="196" y="635"/>
                    <a:pt x="199" y="638"/>
                    <a:pt x="203" y="642"/>
                  </a:cubicBezTo>
                  <a:cubicBezTo>
                    <a:pt x="211" y="652"/>
                    <a:pt x="220" y="661"/>
                    <a:pt x="229" y="670"/>
                  </a:cubicBezTo>
                  <a:cubicBezTo>
                    <a:pt x="245" y="686"/>
                    <a:pt x="263" y="702"/>
                    <a:pt x="278" y="719"/>
                  </a:cubicBezTo>
                  <a:cubicBezTo>
                    <a:pt x="283" y="724"/>
                    <a:pt x="288" y="730"/>
                    <a:pt x="292" y="735"/>
                  </a:cubicBezTo>
                  <a:cubicBezTo>
                    <a:pt x="298" y="744"/>
                    <a:pt x="302" y="753"/>
                    <a:pt x="306" y="762"/>
                  </a:cubicBezTo>
                  <a:cubicBezTo>
                    <a:pt x="309" y="773"/>
                    <a:pt x="311" y="785"/>
                    <a:pt x="310" y="796"/>
                  </a:cubicBezTo>
                  <a:cubicBezTo>
                    <a:pt x="309" y="805"/>
                    <a:pt x="307" y="813"/>
                    <a:pt x="303" y="821"/>
                  </a:cubicBezTo>
                  <a:cubicBezTo>
                    <a:pt x="299" y="827"/>
                    <a:pt x="294" y="834"/>
                    <a:pt x="289" y="840"/>
                  </a:cubicBezTo>
                  <a:cubicBezTo>
                    <a:pt x="273" y="857"/>
                    <a:pt x="256" y="872"/>
                    <a:pt x="239" y="888"/>
                  </a:cubicBezTo>
                  <a:cubicBezTo>
                    <a:pt x="222" y="904"/>
                    <a:pt x="205" y="920"/>
                    <a:pt x="190" y="938"/>
                  </a:cubicBezTo>
                  <a:cubicBezTo>
                    <a:pt x="182" y="947"/>
                    <a:pt x="176" y="957"/>
                    <a:pt x="170" y="967"/>
                  </a:cubicBezTo>
                  <a:cubicBezTo>
                    <a:pt x="166" y="976"/>
                    <a:pt x="163" y="986"/>
                    <a:pt x="163" y="996"/>
                  </a:cubicBezTo>
                  <a:cubicBezTo>
                    <a:pt x="163" y="991"/>
                    <a:pt x="162" y="986"/>
                    <a:pt x="161" y="982"/>
                  </a:cubicBezTo>
                  <a:cubicBezTo>
                    <a:pt x="160" y="975"/>
                    <a:pt x="157" y="969"/>
                    <a:pt x="154" y="963"/>
                  </a:cubicBezTo>
                  <a:cubicBezTo>
                    <a:pt x="149" y="951"/>
                    <a:pt x="141" y="941"/>
                    <a:pt x="134" y="932"/>
                  </a:cubicBezTo>
                  <a:cubicBezTo>
                    <a:pt x="118" y="913"/>
                    <a:pt x="101" y="897"/>
                    <a:pt x="84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8" y="827"/>
                    <a:pt x="22" y="819"/>
                    <a:pt x="17" y="811"/>
                  </a:cubicBezTo>
                  <a:cubicBezTo>
                    <a:pt x="16" y="806"/>
                    <a:pt x="15" y="801"/>
                    <a:pt x="14" y="795"/>
                  </a:cubicBezTo>
                  <a:cubicBezTo>
                    <a:pt x="13" y="774"/>
                    <a:pt x="21" y="754"/>
                    <a:pt x="34" y="737"/>
                  </a:cubicBezTo>
                  <a:cubicBezTo>
                    <a:pt x="47" y="719"/>
                    <a:pt x="63" y="703"/>
                    <a:pt x="80" y="687"/>
                  </a:cubicBezTo>
                  <a:cubicBezTo>
                    <a:pt x="97" y="671"/>
                    <a:pt x="115" y="656"/>
                    <a:pt x="130" y="637"/>
                  </a:cubicBezTo>
                  <a:cubicBezTo>
                    <a:pt x="138" y="628"/>
                    <a:pt x="146" y="618"/>
                    <a:pt x="151" y="607"/>
                  </a:cubicBezTo>
                  <a:cubicBezTo>
                    <a:pt x="157" y="595"/>
                    <a:pt x="162" y="583"/>
                    <a:pt x="163" y="570"/>
                  </a:cubicBezTo>
                  <a:cubicBezTo>
                    <a:pt x="163" y="568"/>
                    <a:pt x="163" y="567"/>
                    <a:pt x="163" y="565"/>
                  </a:cubicBezTo>
                  <a:cubicBezTo>
                    <a:pt x="163" y="566"/>
                    <a:pt x="163" y="568"/>
                    <a:pt x="163" y="569"/>
                  </a:cubicBezTo>
                  <a:cubicBezTo>
                    <a:pt x="164" y="580"/>
                    <a:pt x="168" y="592"/>
                    <a:pt x="173" y="602"/>
                  </a:cubicBezTo>
                  <a:cubicBezTo>
                    <a:pt x="179" y="613"/>
                    <a:pt x="186" y="622"/>
                    <a:pt x="193" y="631"/>
                  </a:cubicBezTo>
                  <a:close/>
                  <a:moveTo>
                    <a:pt x="163" y="137"/>
                  </a:moveTo>
                  <a:cubicBezTo>
                    <a:pt x="163" y="135"/>
                    <a:pt x="163" y="134"/>
                    <a:pt x="163" y="132"/>
                  </a:cubicBezTo>
                  <a:cubicBezTo>
                    <a:pt x="163" y="134"/>
                    <a:pt x="163" y="135"/>
                    <a:pt x="163" y="136"/>
                  </a:cubicBezTo>
                  <a:cubicBezTo>
                    <a:pt x="164" y="148"/>
                    <a:pt x="168" y="159"/>
                    <a:pt x="173" y="170"/>
                  </a:cubicBezTo>
                  <a:cubicBezTo>
                    <a:pt x="179" y="180"/>
                    <a:pt x="186" y="190"/>
                    <a:pt x="193" y="198"/>
                  </a:cubicBezTo>
                  <a:cubicBezTo>
                    <a:pt x="196" y="202"/>
                    <a:pt x="199" y="206"/>
                    <a:pt x="203" y="209"/>
                  </a:cubicBezTo>
                  <a:cubicBezTo>
                    <a:pt x="211" y="219"/>
                    <a:pt x="220" y="228"/>
                    <a:pt x="229" y="237"/>
                  </a:cubicBezTo>
                  <a:cubicBezTo>
                    <a:pt x="245" y="254"/>
                    <a:pt x="263" y="269"/>
                    <a:pt x="278" y="286"/>
                  </a:cubicBezTo>
                  <a:cubicBezTo>
                    <a:pt x="283" y="291"/>
                    <a:pt x="288" y="297"/>
                    <a:pt x="292" y="302"/>
                  </a:cubicBezTo>
                  <a:cubicBezTo>
                    <a:pt x="298" y="311"/>
                    <a:pt x="302" y="320"/>
                    <a:pt x="306" y="329"/>
                  </a:cubicBezTo>
                  <a:cubicBezTo>
                    <a:pt x="309" y="340"/>
                    <a:pt x="311" y="352"/>
                    <a:pt x="310" y="363"/>
                  </a:cubicBezTo>
                  <a:cubicBezTo>
                    <a:pt x="309" y="372"/>
                    <a:pt x="307" y="380"/>
                    <a:pt x="303" y="388"/>
                  </a:cubicBezTo>
                  <a:cubicBezTo>
                    <a:pt x="299" y="395"/>
                    <a:pt x="294" y="401"/>
                    <a:pt x="289" y="407"/>
                  </a:cubicBezTo>
                  <a:cubicBezTo>
                    <a:pt x="273" y="424"/>
                    <a:pt x="256" y="440"/>
                    <a:pt x="239" y="455"/>
                  </a:cubicBezTo>
                  <a:cubicBezTo>
                    <a:pt x="222" y="471"/>
                    <a:pt x="205" y="487"/>
                    <a:pt x="190" y="505"/>
                  </a:cubicBezTo>
                  <a:cubicBezTo>
                    <a:pt x="182" y="514"/>
                    <a:pt x="176" y="524"/>
                    <a:pt x="170" y="534"/>
                  </a:cubicBezTo>
                  <a:cubicBezTo>
                    <a:pt x="166" y="543"/>
                    <a:pt x="163" y="553"/>
                    <a:pt x="163" y="563"/>
                  </a:cubicBezTo>
                  <a:cubicBezTo>
                    <a:pt x="163" y="558"/>
                    <a:pt x="162" y="553"/>
                    <a:pt x="161" y="549"/>
                  </a:cubicBezTo>
                  <a:cubicBezTo>
                    <a:pt x="160" y="542"/>
                    <a:pt x="157" y="536"/>
                    <a:pt x="154" y="530"/>
                  </a:cubicBezTo>
                  <a:cubicBezTo>
                    <a:pt x="149" y="519"/>
                    <a:pt x="141" y="509"/>
                    <a:pt x="134" y="499"/>
                  </a:cubicBezTo>
                  <a:cubicBezTo>
                    <a:pt x="118" y="481"/>
                    <a:pt x="101" y="465"/>
                    <a:pt x="84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8" y="394"/>
                    <a:pt x="22" y="386"/>
                    <a:pt x="17" y="379"/>
                  </a:cubicBezTo>
                  <a:cubicBezTo>
                    <a:pt x="16" y="373"/>
                    <a:pt x="15" y="368"/>
                    <a:pt x="14" y="363"/>
                  </a:cubicBezTo>
                  <a:cubicBezTo>
                    <a:pt x="13" y="342"/>
                    <a:pt x="21" y="322"/>
                    <a:pt x="34" y="304"/>
                  </a:cubicBezTo>
                  <a:cubicBezTo>
                    <a:pt x="47" y="286"/>
                    <a:pt x="63" y="270"/>
                    <a:pt x="80" y="254"/>
                  </a:cubicBezTo>
                  <a:cubicBezTo>
                    <a:pt x="97" y="239"/>
                    <a:pt x="115" y="223"/>
                    <a:pt x="130" y="204"/>
                  </a:cubicBezTo>
                  <a:cubicBezTo>
                    <a:pt x="138" y="195"/>
                    <a:pt x="146" y="185"/>
                    <a:pt x="151" y="174"/>
                  </a:cubicBezTo>
                  <a:cubicBezTo>
                    <a:pt x="157" y="163"/>
                    <a:pt x="162" y="150"/>
                    <a:pt x="163" y="137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5" name="Freeform 19"/>
            <p:cNvSpPr/>
            <p:nvPr/>
          </p:nvSpPr>
          <p:spPr>
            <a:xfrm>
              <a:off x="9645480" y="-1440"/>
              <a:ext cx="514080" cy="686232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2" h="2159">
                  <a:moveTo>
                    <a:pt x="124" y="74"/>
                  </a:moveTo>
                  <a:cubicBezTo>
                    <a:pt x="132" y="83"/>
                    <a:pt x="139" y="92"/>
                    <a:pt x="144" y="103"/>
                  </a:cubicBezTo>
                  <a:cubicBezTo>
                    <a:pt x="148" y="111"/>
                    <a:pt x="151" y="121"/>
                    <a:pt x="151" y="131"/>
                  </a:cubicBezTo>
                  <a:cubicBezTo>
                    <a:pt x="150" y="131"/>
                    <a:pt x="150" y="131"/>
                    <a:pt x="150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2" y="197"/>
                    <a:pt x="121" y="197"/>
                  </a:cubicBezTo>
                  <a:cubicBezTo>
                    <a:pt x="106" y="215"/>
                    <a:pt x="89" y="230"/>
                    <a:pt x="72" y="246"/>
                  </a:cubicBezTo>
                  <a:cubicBezTo>
                    <a:pt x="55" y="262"/>
                    <a:pt x="38" y="279"/>
                    <a:pt x="25" y="298"/>
                  </a:cubicBezTo>
                  <a:cubicBezTo>
                    <a:pt x="23" y="300"/>
                    <a:pt x="22" y="302"/>
                    <a:pt x="20" y="305"/>
                  </a:cubicBezTo>
                  <a:cubicBezTo>
                    <a:pt x="18" y="307"/>
                    <a:pt x="17" y="310"/>
                    <a:pt x="15" y="313"/>
                  </a:cubicBezTo>
                  <a:cubicBezTo>
                    <a:pt x="9" y="322"/>
                    <a:pt x="4" y="333"/>
                    <a:pt x="2" y="345"/>
                  </a:cubicBezTo>
                  <a:cubicBezTo>
                    <a:pt x="0" y="351"/>
                    <a:pt x="0" y="357"/>
                    <a:pt x="1" y="363"/>
                  </a:cubicBezTo>
                  <a:cubicBezTo>
                    <a:pt x="1" y="369"/>
                    <a:pt x="3" y="374"/>
                    <a:pt x="6" y="379"/>
                  </a:cubicBezTo>
                  <a:cubicBezTo>
                    <a:pt x="8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2" y="404"/>
                    <a:pt x="26" y="408"/>
                  </a:cubicBezTo>
                  <a:cubicBezTo>
                    <a:pt x="41" y="426"/>
                    <a:pt x="59" y="441"/>
                    <a:pt x="76" y="457"/>
                  </a:cubicBezTo>
                  <a:cubicBezTo>
                    <a:pt x="93" y="473"/>
                    <a:pt x="110" y="489"/>
                    <a:pt x="124" y="507"/>
                  </a:cubicBezTo>
                  <a:cubicBezTo>
                    <a:pt x="132" y="516"/>
                    <a:pt x="139" y="525"/>
                    <a:pt x="144" y="535"/>
                  </a:cubicBezTo>
                  <a:cubicBezTo>
                    <a:pt x="148" y="544"/>
                    <a:pt x="151" y="554"/>
                    <a:pt x="151" y="564"/>
                  </a:cubicBezTo>
                  <a:cubicBezTo>
                    <a:pt x="150" y="564"/>
                    <a:pt x="150" y="564"/>
                    <a:pt x="150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5"/>
                    <a:pt x="122" y="629"/>
                  </a:cubicBezTo>
                  <a:cubicBezTo>
                    <a:pt x="122" y="629"/>
                    <a:pt x="122" y="629"/>
                    <a:pt x="121" y="630"/>
                  </a:cubicBezTo>
                  <a:cubicBezTo>
                    <a:pt x="106" y="648"/>
                    <a:pt x="89" y="663"/>
                    <a:pt x="72" y="679"/>
                  </a:cubicBezTo>
                  <a:cubicBezTo>
                    <a:pt x="55" y="695"/>
                    <a:pt x="38" y="711"/>
                    <a:pt x="25" y="730"/>
                  </a:cubicBezTo>
                  <a:cubicBezTo>
                    <a:pt x="23" y="733"/>
                    <a:pt x="22" y="735"/>
                    <a:pt x="20" y="737"/>
                  </a:cubicBezTo>
                  <a:cubicBezTo>
                    <a:pt x="18" y="740"/>
                    <a:pt x="17" y="743"/>
                    <a:pt x="15" y="745"/>
                  </a:cubicBezTo>
                  <a:cubicBezTo>
                    <a:pt x="9" y="755"/>
                    <a:pt x="4" y="766"/>
                    <a:pt x="2" y="778"/>
                  </a:cubicBezTo>
                  <a:cubicBezTo>
                    <a:pt x="0" y="784"/>
                    <a:pt x="0" y="789"/>
                    <a:pt x="1" y="795"/>
                  </a:cubicBezTo>
                  <a:cubicBezTo>
                    <a:pt x="1" y="801"/>
                    <a:pt x="3" y="807"/>
                    <a:pt x="6" y="812"/>
                  </a:cubicBezTo>
                  <a:cubicBezTo>
                    <a:pt x="8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2" y="837"/>
                    <a:pt x="26" y="841"/>
                  </a:cubicBezTo>
                  <a:cubicBezTo>
                    <a:pt x="41" y="858"/>
                    <a:pt x="59" y="874"/>
                    <a:pt x="76" y="890"/>
                  </a:cubicBezTo>
                  <a:cubicBezTo>
                    <a:pt x="93" y="906"/>
                    <a:pt x="110" y="922"/>
                    <a:pt x="124" y="939"/>
                  </a:cubicBezTo>
                  <a:cubicBezTo>
                    <a:pt x="132" y="948"/>
                    <a:pt x="139" y="958"/>
                    <a:pt x="144" y="968"/>
                  </a:cubicBezTo>
                  <a:cubicBezTo>
                    <a:pt x="147" y="976"/>
                    <a:pt x="150" y="984"/>
                    <a:pt x="151" y="993"/>
                  </a:cubicBezTo>
                  <a:cubicBezTo>
                    <a:pt x="150" y="993"/>
                    <a:pt x="150" y="993"/>
                    <a:pt x="150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9" y="1065"/>
                    <a:pt x="103" y="1082"/>
                    <a:pt x="86" y="1098"/>
                  </a:cubicBezTo>
                  <a:cubicBezTo>
                    <a:pt x="70" y="1114"/>
                    <a:pt x="52" y="1130"/>
                    <a:pt x="36" y="1147"/>
                  </a:cubicBezTo>
                  <a:cubicBezTo>
                    <a:pt x="29" y="1156"/>
                    <a:pt x="21" y="1165"/>
                    <a:pt x="15" y="1175"/>
                  </a:cubicBezTo>
                  <a:cubicBezTo>
                    <a:pt x="9" y="1185"/>
                    <a:pt x="4" y="1195"/>
                    <a:pt x="2" y="1207"/>
                  </a:cubicBezTo>
                  <a:cubicBezTo>
                    <a:pt x="0" y="1213"/>
                    <a:pt x="0" y="1219"/>
                    <a:pt x="1" y="1225"/>
                  </a:cubicBezTo>
                  <a:cubicBezTo>
                    <a:pt x="1" y="1231"/>
                    <a:pt x="3" y="1236"/>
                    <a:pt x="6" y="1242"/>
                  </a:cubicBezTo>
                  <a:cubicBezTo>
                    <a:pt x="7" y="1243"/>
                    <a:pt x="7" y="1244"/>
                    <a:pt x="8" y="1245"/>
                  </a:cubicBezTo>
                  <a:cubicBezTo>
                    <a:pt x="10" y="1251"/>
                    <a:pt x="12" y="1256"/>
                    <a:pt x="15" y="1261"/>
                  </a:cubicBezTo>
                  <a:cubicBezTo>
                    <a:pt x="19" y="1261"/>
                    <a:pt x="19" y="1261"/>
                    <a:pt x="19" y="1261"/>
                  </a:cubicBezTo>
                  <a:cubicBezTo>
                    <a:pt x="21" y="1264"/>
                    <a:pt x="23" y="1267"/>
                    <a:pt x="26" y="1270"/>
                  </a:cubicBezTo>
                  <a:cubicBezTo>
                    <a:pt x="41" y="1288"/>
                    <a:pt x="59" y="1303"/>
                    <a:pt x="76" y="1319"/>
                  </a:cubicBezTo>
                  <a:cubicBezTo>
                    <a:pt x="93" y="1335"/>
                    <a:pt x="110" y="1351"/>
                    <a:pt x="124" y="1369"/>
                  </a:cubicBezTo>
                  <a:cubicBezTo>
                    <a:pt x="132" y="1378"/>
                    <a:pt x="139" y="1387"/>
                    <a:pt x="144" y="1398"/>
                  </a:cubicBezTo>
                  <a:cubicBezTo>
                    <a:pt x="148" y="1406"/>
                    <a:pt x="150" y="1415"/>
                    <a:pt x="151" y="1425"/>
                  </a:cubicBezTo>
                  <a:cubicBezTo>
                    <a:pt x="150" y="1425"/>
                    <a:pt x="150" y="1425"/>
                    <a:pt x="150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6" y="1485"/>
                    <a:pt x="120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3" y="1595"/>
                    <a:pt x="19" y="1600"/>
                    <a:pt x="15" y="1606"/>
                  </a:cubicBezTo>
                  <a:cubicBezTo>
                    <a:pt x="9" y="1616"/>
                    <a:pt x="4" y="1627"/>
                    <a:pt x="2" y="1639"/>
                  </a:cubicBezTo>
                  <a:cubicBezTo>
                    <a:pt x="0" y="1644"/>
                    <a:pt x="0" y="1650"/>
                    <a:pt x="1" y="1656"/>
                  </a:cubicBezTo>
                  <a:cubicBezTo>
                    <a:pt x="1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0" y="1681"/>
                  </a:cubicBezTo>
                  <a:cubicBezTo>
                    <a:pt x="12" y="1685"/>
                    <a:pt x="13" y="1688"/>
                    <a:pt x="15" y="1691"/>
                  </a:cubicBezTo>
                  <a:cubicBezTo>
                    <a:pt x="17" y="1691"/>
                    <a:pt x="17" y="1691"/>
                    <a:pt x="17" y="1691"/>
                  </a:cubicBezTo>
                  <a:cubicBezTo>
                    <a:pt x="20" y="1694"/>
                    <a:pt x="23" y="1698"/>
                    <a:pt x="26" y="1702"/>
                  </a:cubicBezTo>
                  <a:cubicBezTo>
                    <a:pt x="41" y="1719"/>
                    <a:pt x="59" y="1735"/>
                    <a:pt x="76" y="1751"/>
                  </a:cubicBezTo>
                  <a:cubicBezTo>
                    <a:pt x="93" y="1767"/>
                    <a:pt x="110" y="1783"/>
                    <a:pt x="124" y="1800"/>
                  </a:cubicBezTo>
                  <a:cubicBezTo>
                    <a:pt x="132" y="1809"/>
                    <a:pt x="139" y="1819"/>
                    <a:pt x="144" y="1829"/>
                  </a:cubicBezTo>
                  <a:cubicBezTo>
                    <a:pt x="147" y="1837"/>
                    <a:pt x="150" y="1846"/>
                    <a:pt x="151" y="1855"/>
                  </a:cubicBezTo>
                  <a:cubicBezTo>
                    <a:pt x="150" y="1855"/>
                    <a:pt x="150" y="1855"/>
                    <a:pt x="150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7" y="1959"/>
                    <a:pt x="80" y="1966"/>
                    <a:pt x="72" y="1973"/>
                  </a:cubicBezTo>
                  <a:cubicBezTo>
                    <a:pt x="61" y="1984"/>
                    <a:pt x="49" y="1995"/>
                    <a:pt x="39" y="2007"/>
                  </a:cubicBezTo>
                  <a:cubicBezTo>
                    <a:pt x="38" y="2008"/>
                    <a:pt x="37" y="2008"/>
                    <a:pt x="36" y="2009"/>
                  </a:cubicBezTo>
                  <a:cubicBezTo>
                    <a:pt x="29" y="2018"/>
                    <a:pt x="21" y="2027"/>
                    <a:pt x="15" y="2037"/>
                  </a:cubicBezTo>
                  <a:cubicBezTo>
                    <a:pt x="9" y="2047"/>
                    <a:pt x="4" y="2057"/>
                    <a:pt x="2" y="2069"/>
                  </a:cubicBezTo>
                  <a:cubicBezTo>
                    <a:pt x="0" y="2075"/>
                    <a:pt x="0" y="2081"/>
                    <a:pt x="1" y="2087"/>
                  </a:cubicBezTo>
                  <a:cubicBezTo>
                    <a:pt x="1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1" y="2114"/>
                    <a:pt x="13" y="2118"/>
                    <a:pt x="15" y="2122"/>
                  </a:cubicBezTo>
                  <a:cubicBezTo>
                    <a:pt x="18" y="2122"/>
                    <a:pt x="18" y="2122"/>
                    <a:pt x="18" y="2122"/>
                  </a:cubicBezTo>
                  <a:cubicBezTo>
                    <a:pt x="20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4" y="2137"/>
                    <a:pt x="34" y="2125"/>
                  </a:cubicBezTo>
                  <a:cubicBezTo>
                    <a:pt x="27" y="2117"/>
                    <a:pt x="21" y="2109"/>
                    <a:pt x="16" y="2101"/>
                  </a:cubicBezTo>
                  <a:cubicBezTo>
                    <a:pt x="15" y="2097"/>
                    <a:pt x="14" y="2093"/>
                    <a:pt x="14" y="2089"/>
                  </a:cubicBezTo>
                  <a:cubicBezTo>
                    <a:pt x="12" y="2068"/>
                    <a:pt x="21" y="2048"/>
                    <a:pt x="34" y="2030"/>
                  </a:cubicBezTo>
                  <a:cubicBezTo>
                    <a:pt x="46" y="2012"/>
                    <a:pt x="63" y="1997"/>
                    <a:pt x="80" y="1981"/>
                  </a:cubicBezTo>
                  <a:cubicBezTo>
                    <a:pt x="97" y="1965"/>
                    <a:pt x="114" y="1949"/>
                    <a:pt x="130" y="1931"/>
                  </a:cubicBezTo>
                  <a:cubicBezTo>
                    <a:pt x="138" y="1922"/>
                    <a:pt x="145" y="1912"/>
                    <a:pt x="151" y="1900"/>
                  </a:cubicBezTo>
                  <a:cubicBezTo>
                    <a:pt x="156" y="1891"/>
                    <a:pt x="160" y="1881"/>
                    <a:pt x="162" y="1870"/>
                  </a:cubicBezTo>
                  <a:cubicBezTo>
                    <a:pt x="161" y="1867"/>
                    <a:pt x="161" y="1865"/>
                    <a:pt x="161" y="1862"/>
                  </a:cubicBezTo>
                  <a:cubicBezTo>
                    <a:pt x="160" y="1857"/>
                    <a:pt x="161" y="1852"/>
                    <a:pt x="162" y="1846"/>
                  </a:cubicBezTo>
                  <a:cubicBezTo>
                    <a:pt x="162" y="1845"/>
                    <a:pt x="161" y="1844"/>
                    <a:pt x="161" y="1843"/>
                  </a:cubicBezTo>
                  <a:cubicBezTo>
                    <a:pt x="160" y="1836"/>
                    <a:pt x="157" y="1830"/>
                    <a:pt x="154" y="1824"/>
                  </a:cubicBezTo>
                  <a:cubicBezTo>
                    <a:pt x="149" y="1812"/>
                    <a:pt x="141" y="1802"/>
                    <a:pt x="133" y="1793"/>
                  </a:cubicBezTo>
                  <a:cubicBezTo>
                    <a:pt x="118" y="1774"/>
                    <a:pt x="100" y="1758"/>
                    <a:pt x="83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7" y="1671"/>
                  </a:cubicBezTo>
                  <a:cubicBezTo>
                    <a:pt x="15" y="1667"/>
                    <a:pt x="14" y="1662"/>
                    <a:pt x="14" y="1658"/>
                  </a:cubicBezTo>
                  <a:cubicBezTo>
                    <a:pt x="12" y="1637"/>
                    <a:pt x="21" y="1616"/>
                    <a:pt x="34" y="1599"/>
                  </a:cubicBezTo>
                  <a:cubicBezTo>
                    <a:pt x="46" y="1581"/>
                    <a:pt x="63" y="1565"/>
                    <a:pt x="80" y="1549"/>
                  </a:cubicBezTo>
                  <a:cubicBezTo>
                    <a:pt x="97" y="1534"/>
                    <a:pt x="114" y="1518"/>
                    <a:pt x="130" y="1499"/>
                  </a:cubicBezTo>
                  <a:cubicBezTo>
                    <a:pt x="138" y="1490"/>
                    <a:pt x="145" y="1480"/>
                    <a:pt x="151" y="1469"/>
                  </a:cubicBezTo>
                  <a:cubicBezTo>
                    <a:pt x="156" y="1459"/>
                    <a:pt x="160" y="1449"/>
                    <a:pt x="162" y="1438"/>
                  </a:cubicBezTo>
                  <a:cubicBezTo>
                    <a:pt x="161" y="1436"/>
                    <a:pt x="161" y="1433"/>
                    <a:pt x="161" y="1431"/>
                  </a:cubicBezTo>
                  <a:cubicBezTo>
                    <a:pt x="160" y="1425"/>
                    <a:pt x="161" y="1420"/>
                    <a:pt x="162" y="1415"/>
                  </a:cubicBezTo>
                  <a:cubicBezTo>
                    <a:pt x="162" y="1413"/>
                    <a:pt x="161" y="1412"/>
                    <a:pt x="161" y="1411"/>
                  </a:cubicBezTo>
                  <a:cubicBezTo>
                    <a:pt x="160" y="1404"/>
                    <a:pt x="157" y="1398"/>
                    <a:pt x="154" y="1392"/>
                  </a:cubicBezTo>
                  <a:cubicBezTo>
                    <a:pt x="149" y="1381"/>
                    <a:pt x="141" y="1371"/>
                    <a:pt x="133" y="1361"/>
                  </a:cubicBezTo>
                  <a:cubicBezTo>
                    <a:pt x="118" y="1343"/>
                    <a:pt x="100" y="1327"/>
                    <a:pt x="83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7" y="1255"/>
                    <a:pt x="20" y="1247"/>
                    <a:pt x="16" y="1238"/>
                  </a:cubicBezTo>
                  <a:cubicBezTo>
                    <a:pt x="15" y="1235"/>
                    <a:pt x="14" y="1232"/>
                    <a:pt x="14" y="1228"/>
                  </a:cubicBezTo>
                  <a:cubicBezTo>
                    <a:pt x="12" y="1207"/>
                    <a:pt x="21" y="1187"/>
                    <a:pt x="34" y="1169"/>
                  </a:cubicBezTo>
                  <a:cubicBezTo>
                    <a:pt x="46" y="1152"/>
                    <a:pt x="63" y="1136"/>
                    <a:pt x="80" y="1120"/>
                  </a:cubicBezTo>
                  <a:cubicBezTo>
                    <a:pt x="97" y="1104"/>
                    <a:pt x="114" y="1089"/>
                    <a:pt x="130" y="1070"/>
                  </a:cubicBezTo>
                  <a:cubicBezTo>
                    <a:pt x="138" y="1061"/>
                    <a:pt x="145" y="1051"/>
                    <a:pt x="151" y="1039"/>
                  </a:cubicBezTo>
                  <a:cubicBezTo>
                    <a:pt x="156" y="1030"/>
                    <a:pt x="160" y="1020"/>
                    <a:pt x="162" y="1009"/>
                  </a:cubicBezTo>
                  <a:cubicBezTo>
                    <a:pt x="161" y="1006"/>
                    <a:pt x="161" y="1004"/>
                    <a:pt x="161" y="1001"/>
                  </a:cubicBezTo>
                  <a:cubicBezTo>
                    <a:pt x="160" y="996"/>
                    <a:pt x="161" y="991"/>
                    <a:pt x="162" y="985"/>
                  </a:cubicBezTo>
                  <a:cubicBezTo>
                    <a:pt x="162" y="984"/>
                    <a:pt x="161" y="983"/>
                    <a:pt x="161" y="982"/>
                  </a:cubicBezTo>
                  <a:cubicBezTo>
                    <a:pt x="160" y="975"/>
                    <a:pt x="157" y="969"/>
                    <a:pt x="154" y="963"/>
                  </a:cubicBezTo>
                  <a:cubicBezTo>
                    <a:pt x="149" y="951"/>
                    <a:pt x="141" y="941"/>
                    <a:pt x="133" y="932"/>
                  </a:cubicBezTo>
                  <a:cubicBezTo>
                    <a:pt x="118" y="913"/>
                    <a:pt x="100" y="897"/>
                    <a:pt x="83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8" y="827"/>
                    <a:pt x="22" y="819"/>
                    <a:pt x="17" y="811"/>
                  </a:cubicBezTo>
                  <a:cubicBezTo>
                    <a:pt x="16" y="806"/>
                    <a:pt x="14" y="801"/>
                    <a:pt x="14" y="795"/>
                  </a:cubicBezTo>
                  <a:cubicBezTo>
                    <a:pt x="12" y="774"/>
                    <a:pt x="21" y="754"/>
                    <a:pt x="34" y="737"/>
                  </a:cubicBezTo>
                  <a:cubicBezTo>
                    <a:pt x="46" y="719"/>
                    <a:pt x="63" y="703"/>
                    <a:pt x="80" y="687"/>
                  </a:cubicBezTo>
                  <a:cubicBezTo>
                    <a:pt x="97" y="671"/>
                    <a:pt x="114" y="656"/>
                    <a:pt x="130" y="637"/>
                  </a:cubicBezTo>
                  <a:cubicBezTo>
                    <a:pt x="138" y="628"/>
                    <a:pt x="145" y="618"/>
                    <a:pt x="151" y="607"/>
                  </a:cubicBezTo>
                  <a:cubicBezTo>
                    <a:pt x="156" y="597"/>
                    <a:pt x="160" y="587"/>
                    <a:pt x="162" y="576"/>
                  </a:cubicBezTo>
                  <a:cubicBezTo>
                    <a:pt x="161" y="573"/>
                    <a:pt x="161" y="571"/>
                    <a:pt x="161" y="569"/>
                  </a:cubicBezTo>
                  <a:cubicBezTo>
                    <a:pt x="160" y="563"/>
                    <a:pt x="161" y="558"/>
                    <a:pt x="162" y="553"/>
                  </a:cubicBezTo>
                  <a:cubicBezTo>
                    <a:pt x="162" y="551"/>
                    <a:pt x="161" y="550"/>
                    <a:pt x="161" y="549"/>
                  </a:cubicBezTo>
                  <a:cubicBezTo>
                    <a:pt x="160" y="542"/>
                    <a:pt x="157" y="536"/>
                    <a:pt x="154" y="530"/>
                  </a:cubicBezTo>
                  <a:cubicBezTo>
                    <a:pt x="149" y="519"/>
                    <a:pt x="141" y="509"/>
                    <a:pt x="133" y="499"/>
                  </a:cubicBezTo>
                  <a:cubicBezTo>
                    <a:pt x="118" y="481"/>
                    <a:pt x="100" y="465"/>
                    <a:pt x="83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8" y="394"/>
                    <a:pt x="22" y="386"/>
                    <a:pt x="17" y="379"/>
                  </a:cubicBezTo>
                  <a:cubicBezTo>
                    <a:pt x="16" y="373"/>
                    <a:pt x="14" y="368"/>
                    <a:pt x="14" y="363"/>
                  </a:cubicBezTo>
                  <a:cubicBezTo>
                    <a:pt x="12" y="342"/>
                    <a:pt x="21" y="322"/>
                    <a:pt x="34" y="304"/>
                  </a:cubicBezTo>
                  <a:cubicBezTo>
                    <a:pt x="46" y="286"/>
                    <a:pt x="63" y="270"/>
                    <a:pt x="80" y="254"/>
                  </a:cubicBezTo>
                  <a:cubicBezTo>
                    <a:pt x="97" y="239"/>
                    <a:pt x="114" y="223"/>
                    <a:pt x="130" y="204"/>
                  </a:cubicBezTo>
                  <a:cubicBezTo>
                    <a:pt x="138" y="195"/>
                    <a:pt x="145" y="185"/>
                    <a:pt x="151" y="174"/>
                  </a:cubicBezTo>
                  <a:cubicBezTo>
                    <a:pt x="156" y="164"/>
                    <a:pt x="160" y="154"/>
                    <a:pt x="162" y="143"/>
                  </a:cubicBezTo>
                  <a:cubicBezTo>
                    <a:pt x="161" y="141"/>
                    <a:pt x="161" y="138"/>
                    <a:pt x="161" y="136"/>
                  </a:cubicBezTo>
                  <a:cubicBezTo>
                    <a:pt x="160" y="130"/>
                    <a:pt x="161" y="125"/>
                    <a:pt x="162" y="120"/>
                  </a:cubicBezTo>
                  <a:cubicBezTo>
                    <a:pt x="162" y="119"/>
                    <a:pt x="161" y="117"/>
                    <a:pt x="161" y="116"/>
                  </a:cubicBezTo>
                  <a:cubicBezTo>
                    <a:pt x="160" y="109"/>
                    <a:pt x="157" y="103"/>
                    <a:pt x="154" y="97"/>
                  </a:cubicBezTo>
                  <a:cubicBezTo>
                    <a:pt x="149" y="86"/>
                    <a:pt x="141" y="76"/>
                    <a:pt x="133" y="66"/>
                  </a:cubicBezTo>
                  <a:cubicBezTo>
                    <a:pt x="118" y="48"/>
                    <a:pt x="100" y="32"/>
                    <a:pt x="83" y="16"/>
                  </a:cubicBezTo>
                  <a:cubicBezTo>
                    <a:pt x="77" y="11"/>
                    <a:pt x="71" y="5"/>
                    <a:pt x="66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8" y="8"/>
                    <a:pt x="67" y="16"/>
                    <a:pt x="76" y="24"/>
                  </a:cubicBezTo>
                  <a:cubicBezTo>
                    <a:pt x="93" y="40"/>
                    <a:pt x="110" y="56"/>
                    <a:pt x="124" y="74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6" name="Freeform 20"/>
            <p:cNvSpPr/>
            <p:nvPr/>
          </p:nvSpPr>
          <p:spPr>
            <a:xfrm>
              <a:off x="8639280" y="-1440"/>
              <a:ext cx="1002960" cy="6862320"/>
            </a:xfrm>
            <a:custGeom>
              <a:avLst/>
              <a:gdLst>
                <a:gd name="textAreaLeft" fmla="*/ 0 w 1002960"/>
                <a:gd name="textAreaRight" fmla="*/ 1003320 w 100296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316" h="2159">
                  <a:moveTo>
                    <a:pt x="123" y="74"/>
                  </a:moveTo>
                  <a:cubicBezTo>
                    <a:pt x="130" y="83"/>
                    <a:pt x="137" y="92"/>
                    <a:pt x="142" y="103"/>
                  </a:cubicBezTo>
                  <a:cubicBezTo>
                    <a:pt x="146" y="111"/>
                    <a:pt x="149" y="121"/>
                    <a:pt x="149" y="131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46" y="149"/>
                    <a:pt x="139" y="167"/>
                    <a:pt x="129" y="183"/>
                  </a:cubicBezTo>
                  <a:cubicBezTo>
                    <a:pt x="127" y="187"/>
                    <a:pt x="124" y="192"/>
                    <a:pt x="121" y="196"/>
                  </a:cubicBezTo>
                  <a:cubicBezTo>
                    <a:pt x="120" y="196"/>
                    <a:pt x="120" y="197"/>
                    <a:pt x="120" y="197"/>
                  </a:cubicBezTo>
                  <a:cubicBezTo>
                    <a:pt x="105" y="215"/>
                    <a:pt x="87" y="230"/>
                    <a:pt x="71" y="246"/>
                  </a:cubicBezTo>
                  <a:cubicBezTo>
                    <a:pt x="54" y="262"/>
                    <a:pt x="37" y="279"/>
                    <a:pt x="23" y="298"/>
                  </a:cubicBezTo>
                  <a:cubicBezTo>
                    <a:pt x="22" y="300"/>
                    <a:pt x="20" y="302"/>
                    <a:pt x="19" y="305"/>
                  </a:cubicBezTo>
                  <a:cubicBezTo>
                    <a:pt x="17" y="307"/>
                    <a:pt x="15" y="310"/>
                    <a:pt x="13" y="313"/>
                  </a:cubicBezTo>
                  <a:cubicBezTo>
                    <a:pt x="7" y="322"/>
                    <a:pt x="2" y="333"/>
                    <a:pt x="0" y="345"/>
                  </a:cubicBezTo>
                  <a:cubicBezTo>
                    <a:pt x="0" y="345"/>
                    <a:pt x="0" y="346"/>
                    <a:pt x="0" y="347"/>
                  </a:cubicBezTo>
                  <a:cubicBezTo>
                    <a:pt x="1" y="352"/>
                    <a:pt x="1" y="357"/>
                    <a:pt x="0" y="364"/>
                  </a:cubicBezTo>
                  <a:cubicBezTo>
                    <a:pt x="0" y="365"/>
                    <a:pt x="0" y="366"/>
                    <a:pt x="0" y="367"/>
                  </a:cubicBezTo>
                  <a:cubicBezTo>
                    <a:pt x="1" y="372"/>
                    <a:pt x="2" y="376"/>
                    <a:pt x="4" y="379"/>
                  </a:cubicBezTo>
                  <a:cubicBezTo>
                    <a:pt x="6" y="383"/>
                    <a:pt x="8" y="387"/>
                    <a:pt x="10" y="390"/>
                  </a:cubicBezTo>
                  <a:cubicBezTo>
                    <a:pt x="11" y="392"/>
                    <a:pt x="12" y="394"/>
                    <a:pt x="13" y="396"/>
                  </a:cubicBezTo>
                  <a:cubicBezTo>
                    <a:pt x="14" y="396"/>
                    <a:pt x="14" y="396"/>
                    <a:pt x="14" y="396"/>
                  </a:cubicBezTo>
                  <a:cubicBezTo>
                    <a:pt x="17" y="400"/>
                    <a:pt x="21" y="404"/>
                    <a:pt x="24" y="408"/>
                  </a:cubicBezTo>
                  <a:cubicBezTo>
                    <a:pt x="40" y="426"/>
                    <a:pt x="57" y="441"/>
                    <a:pt x="74" y="457"/>
                  </a:cubicBezTo>
                  <a:cubicBezTo>
                    <a:pt x="91" y="473"/>
                    <a:pt x="108" y="489"/>
                    <a:pt x="123" y="507"/>
                  </a:cubicBezTo>
                  <a:cubicBezTo>
                    <a:pt x="130" y="516"/>
                    <a:pt x="137" y="525"/>
                    <a:pt x="142" y="535"/>
                  </a:cubicBezTo>
                  <a:cubicBezTo>
                    <a:pt x="146" y="544"/>
                    <a:pt x="149" y="554"/>
                    <a:pt x="149" y="564"/>
                  </a:cubicBezTo>
                  <a:cubicBezTo>
                    <a:pt x="149" y="564"/>
                    <a:pt x="149" y="564"/>
                    <a:pt x="149" y="564"/>
                  </a:cubicBezTo>
                  <a:cubicBezTo>
                    <a:pt x="146" y="582"/>
                    <a:pt x="139" y="600"/>
                    <a:pt x="129" y="616"/>
                  </a:cubicBezTo>
                  <a:cubicBezTo>
                    <a:pt x="127" y="620"/>
                    <a:pt x="124" y="624"/>
                    <a:pt x="121" y="629"/>
                  </a:cubicBezTo>
                  <a:cubicBezTo>
                    <a:pt x="120" y="629"/>
                    <a:pt x="120" y="629"/>
                    <a:pt x="120" y="630"/>
                  </a:cubicBezTo>
                  <a:cubicBezTo>
                    <a:pt x="105" y="648"/>
                    <a:pt x="87" y="663"/>
                    <a:pt x="71" y="679"/>
                  </a:cubicBezTo>
                  <a:cubicBezTo>
                    <a:pt x="54" y="695"/>
                    <a:pt x="37" y="711"/>
                    <a:pt x="23" y="730"/>
                  </a:cubicBezTo>
                  <a:cubicBezTo>
                    <a:pt x="22" y="733"/>
                    <a:pt x="20" y="735"/>
                    <a:pt x="19" y="737"/>
                  </a:cubicBezTo>
                  <a:cubicBezTo>
                    <a:pt x="17" y="740"/>
                    <a:pt x="15" y="743"/>
                    <a:pt x="13" y="745"/>
                  </a:cubicBezTo>
                  <a:cubicBezTo>
                    <a:pt x="7" y="755"/>
                    <a:pt x="2" y="766"/>
                    <a:pt x="0" y="778"/>
                  </a:cubicBezTo>
                  <a:cubicBezTo>
                    <a:pt x="0" y="778"/>
                    <a:pt x="0" y="779"/>
                    <a:pt x="0" y="779"/>
                  </a:cubicBezTo>
                  <a:cubicBezTo>
                    <a:pt x="1" y="785"/>
                    <a:pt x="1" y="790"/>
                    <a:pt x="0" y="796"/>
                  </a:cubicBezTo>
                  <a:cubicBezTo>
                    <a:pt x="0" y="798"/>
                    <a:pt x="0" y="799"/>
                    <a:pt x="0" y="800"/>
                  </a:cubicBezTo>
                  <a:cubicBezTo>
                    <a:pt x="1" y="804"/>
                    <a:pt x="2" y="808"/>
                    <a:pt x="4" y="812"/>
                  </a:cubicBezTo>
                  <a:cubicBezTo>
                    <a:pt x="6" y="816"/>
                    <a:pt x="8" y="819"/>
                    <a:pt x="10" y="823"/>
                  </a:cubicBezTo>
                  <a:cubicBezTo>
                    <a:pt x="11" y="825"/>
                    <a:pt x="12" y="827"/>
                    <a:pt x="13" y="828"/>
                  </a:cubicBezTo>
                  <a:cubicBezTo>
                    <a:pt x="14" y="828"/>
                    <a:pt x="14" y="828"/>
                    <a:pt x="14" y="828"/>
                  </a:cubicBezTo>
                  <a:cubicBezTo>
                    <a:pt x="17" y="833"/>
                    <a:pt x="21" y="837"/>
                    <a:pt x="24" y="841"/>
                  </a:cubicBezTo>
                  <a:cubicBezTo>
                    <a:pt x="40" y="858"/>
                    <a:pt x="57" y="874"/>
                    <a:pt x="74" y="890"/>
                  </a:cubicBezTo>
                  <a:cubicBezTo>
                    <a:pt x="91" y="906"/>
                    <a:pt x="108" y="922"/>
                    <a:pt x="123" y="939"/>
                  </a:cubicBezTo>
                  <a:cubicBezTo>
                    <a:pt x="130" y="948"/>
                    <a:pt x="137" y="958"/>
                    <a:pt x="142" y="968"/>
                  </a:cubicBezTo>
                  <a:cubicBezTo>
                    <a:pt x="146" y="976"/>
                    <a:pt x="148" y="984"/>
                    <a:pt x="149" y="993"/>
                  </a:cubicBezTo>
                  <a:cubicBezTo>
                    <a:pt x="149" y="993"/>
                    <a:pt x="149" y="993"/>
                    <a:pt x="149" y="993"/>
                  </a:cubicBezTo>
                  <a:cubicBezTo>
                    <a:pt x="146" y="1012"/>
                    <a:pt x="139" y="1029"/>
                    <a:pt x="129" y="1045"/>
                  </a:cubicBezTo>
                  <a:cubicBezTo>
                    <a:pt x="117" y="1065"/>
                    <a:pt x="101" y="1082"/>
                    <a:pt x="84" y="1098"/>
                  </a:cubicBezTo>
                  <a:cubicBezTo>
                    <a:pt x="68" y="1114"/>
                    <a:pt x="51" y="1130"/>
                    <a:pt x="35" y="1147"/>
                  </a:cubicBezTo>
                  <a:cubicBezTo>
                    <a:pt x="27" y="1156"/>
                    <a:pt x="20" y="1165"/>
                    <a:pt x="13" y="1175"/>
                  </a:cubicBezTo>
                  <a:cubicBezTo>
                    <a:pt x="7" y="1185"/>
                    <a:pt x="2" y="1195"/>
                    <a:pt x="0" y="1207"/>
                  </a:cubicBezTo>
                  <a:cubicBezTo>
                    <a:pt x="0" y="1208"/>
                    <a:pt x="0" y="1208"/>
                    <a:pt x="0" y="1209"/>
                  </a:cubicBezTo>
                  <a:cubicBezTo>
                    <a:pt x="1" y="1214"/>
                    <a:pt x="1" y="1220"/>
                    <a:pt x="0" y="1226"/>
                  </a:cubicBezTo>
                  <a:cubicBezTo>
                    <a:pt x="0" y="1227"/>
                    <a:pt x="0" y="1228"/>
                    <a:pt x="0" y="1230"/>
                  </a:cubicBezTo>
                  <a:cubicBezTo>
                    <a:pt x="1" y="1234"/>
                    <a:pt x="2" y="1238"/>
                    <a:pt x="4" y="1242"/>
                  </a:cubicBezTo>
                  <a:cubicBezTo>
                    <a:pt x="5" y="1243"/>
                    <a:pt x="6" y="1244"/>
                    <a:pt x="6" y="1245"/>
                  </a:cubicBezTo>
                  <a:cubicBezTo>
                    <a:pt x="8" y="1251"/>
                    <a:pt x="10" y="1256"/>
                    <a:pt x="13" y="1261"/>
                  </a:cubicBezTo>
                  <a:cubicBezTo>
                    <a:pt x="17" y="1261"/>
                    <a:pt x="17" y="1261"/>
                    <a:pt x="17" y="1261"/>
                  </a:cubicBezTo>
                  <a:cubicBezTo>
                    <a:pt x="19" y="1264"/>
                    <a:pt x="22" y="1267"/>
                    <a:pt x="24" y="1270"/>
                  </a:cubicBezTo>
                  <a:cubicBezTo>
                    <a:pt x="40" y="1288"/>
                    <a:pt x="57" y="1303"/>
                    <a:pt x="74" y="1319"/>
                  </a:cubicBezTo>
                  <a:cubicBezTo>
                    <a:pt x="91" y="1335"/>
                    <a:pt x="108" y="1351"/>
                    <a:pt x="123" y="1369"/>
                  </a:cubicBezTo>
                  <a:cubicBezTo>
                    <a:pt x="130" y="1378"/>
                    <a:pt x="137" y="1387"/>
                    <a:pt x="142" y="1398"/>
                  </a:cubicBezTo>
                  <a:cubicBezTo>
                    <a:pt x="146" y="1406"/>
                    <a:pt x="149" y="1415"/>
                    <a:pt x="149" y="1425"/>
                  </a:cubicBezTo>
                  <a:cubicBezTo>
                    <a:pt x="149" y="1425"/>
                    <a:pt x="149" y="1425"/>
                    <a:pt x="149" y="1425"/>
                  </a:cubicBezTo>
                  <a:cubicBezTo>
                    <a:pt x="146" y="1443"/>
                    <a:pt x="139" y="1461"/>
                    <a:pt x="129" y="1477"/>
                  </a:cubicBezTo>
                  <a:cubicBezTo>
                    <a:pt x="124" y="1485"/>
                    <a:pt x="118" y="1493"/>
                    <a:pt x="111" y="1501"/>
                  </a:cubicBezTo>
                  <a:cubicBezTo>
                    <a:pt x="99" y="1515"/>
                    <a:pt x="84" y="1528"/>
                    <a:pt x="71" y="1541"/>
                  </a:cubicBezTo>
                  <a:cubicBezTo>
                    <a:pt x="55" y="1556"/>
                    <a:pt x="39" y="1572"/>
                    <a:pt x="26" y="1590"/>
                  </a:cubicBezTo>
                  <a:cubicBezTo>
                    <a:pt x="21" y="1595"/>
                    <a:pt x="17" y="1600"/>
                    <a:pt x="13" y="1606"/>
                  </a:cubicBezTo>
                  <a:cubicBezTo>
                    <a:pt x="7" y="1616"/>
                    <a:pt x="2" y="1627"/>
                    <a:pt x="0" y="1639"/>
                  </a:cubicBezTo>
                  <a:cubicBezTo>
                    <a:pt x="0" y="1639"/>
                    <a:pt x="0" y="1640"/>
                    <a:pt x="0" y="1640"/>
                  </a:cubicBezTo>
                  <a:cubicBezTo>
                    <a:pt x="1" y="1646"/>
                    <a:pt x="1" y="1651"/>
                    <a:pt x="0" y="1657"/>
                  </a:cubicBezTo>
                  <a:cubicBezTo>
                    <a:pt x="0" y="1659"/>
                    <a:pt x="0" y="1660"/>
                    <a:pt x="0" y="1661"/>
                  </a:cubicBezTo>
                  <a:cubicBezTo>
                    <a:pt x="1" y="1665"/>
                    <a:pt x="2" y="1669"/>
                    <a:pt x="4" y="1673"/>
                  </a:cubicBezTo>
                  <a:cubicBezTo>
                    <a:pt x="6" y="1676"/>
                    <a:pt x="7" y="1679"/>
                    <a:pt x="9" y="1681"/>
                  </a:cubicBezTo>
                  <a:cubicBezTo>
                    <a:pt x="10" y="1685"/>
                    <a:pt x="12" y="1688"/>
                    <a:pt x="13" y="1691"/>
                  </a:cubicBezTo>
                  <a:cubicBezTo>
                    <a:pt x="15" y="1691"/>
                    <a:pt x="15" y="1691"/>
                    <a:pt x="15" y="1691"/>
                  </a:cubicBezTo>
                  <a:cubicBezTo>
                    <a:pt x="18" y="1694"/>
                    <a:pt x="21" y="1698"/>
                    <a:pt x="24" y="1702"/>
                  </a:cubicBezTo>
                  <a:cubicBezTo>
                    <a:pt x="40" y="1719"/>
                    <a:pt x="57" y="1735"/>
                    <a:pt x="74" y="1751"/>
                  </a:cubicBezTo>
                  <a:cubicBezTo>
                    <a:pt x="91" y="1767"/>
                    <a:pt x="108" y="1783"/>
                    <a:pt x="123" y="1800"/>
                  </a:cubicBezTo>
                  <a:cubicBezTo>
                    <a:pt x="130" y="1809"/>
                    <a:pt x="137" y="1819"/>
                    <a:pt x="142" y="1829"/>
                  </a:cubicBezTo>
                  <a:cubicBezTo>
                    <a:pt x="146" y="1837"/>
                    <a:pt x="149" y="1846"/>
                    <a:pt x="149" y="1855"/>
                  </a:cubicBezTo>
                  <a:cubicBezTo>
                    <a:pt x="149" y="1855"/>
                    <a:pt x="149" y="1855"/>
                    <a:pt x="149" y="1855"/>
                  </a:cubicBezTo>
                  <a:cubicBezTo>
                    <a:pt x="146" y="1874"/>
                    <a:pt x="139" y="1891"/>
                    <a:pt x="129" y="1907"/>
                  </a:cubicBezTo>
                  <a:cubicBezTo>
                    <a:pt x="119" y="1923"/>
                    <a:pt x="107" y="1938"/>
                    <a:pt x="93" y="1951"/>
                  </a:cubicBezTo>
                  <a:cubicBezTo>
                    <a:pt x="86" y="1959"/>
                    <a:pt x="78" y="1966"/>
                    <a:pt x="71" y="1973"/>
                  </a:cubicBezTo>
                  <a:cubicBezTo>
                    <a:pt x="59" y="1984"/>
                    <a:pt x="48" y="1995"/>
                    <a:pt x="37" y="2007"/>
                  </a:cubicBezTo>
                  <a:cubicBezTo>
                    <a:pt x="36" y="2008"/>
                    <a:pt x="36" y="2008"/>
                    <a:pt x="35" y="2009"/>
                  </a:cubicBezTo>
                  <a:cubicBezTo>
                    <a:pt x="27" y="2018"/>
                    <a:pt x="20" y="2027"/>
                    <a:pt x="13" y="2037"/>
                  </a:cubicBezTo>
                  <a:cubicBezTo>
                    <a:pt x="7" y="2047"/>
                    <a:pt x="2" y="2057"/>
                    <a:pt x="0" y="2069"/>
                  </a:cubicBezTo>
                  <a:cubicBezTo>
                    <a:pt x="0" y="2070"/>
                    <a:pt x="0" y="2070"/>
                    <a:pt x="0" y="2071"/>
                  </a:cubicBezTo>
                  <a:cubicBezTo>
                    <a:pt x="1" y="2076"/>
                    <a:pt x="1" y="2082"/>
                    <a:pt x="0" y="2088"/>
                  </a:cubicBezTo>
                  <a:cubicBezTo>
                    <a:pt x="0" y="2089"/>
                    <a:pt x="0" y="2090"/>
                    <a:pt x="0" y="2092"/>
                  </a:cubicBezTo>
                  <a:cubicBezTo>
                    <a:pt x="1" y="2096"/>
                    <a:pt x="2" y="2100"/>
                    <a:pt x="4" y="2104"/>
                  </a:cubicBezTo>
                  <a:cubicBezTo>
                    <a:pt x="5" y="2106"/>
                    <a:pt x="6" y="2107"/>
                    <a:pt x="7" y="2109"/>
                  </a:cubicBezTo>
                  <a:cubicBezTo>
                    <a:pt x="9" y="2114"/>
                    <a:pt x="11" y="2118"/>
                    <a:pt x="13" y="2122"/>
                  </a:cubicBezTo>
                  <a:cubicBezTo>
                    <a:pt x="16" y="2122"/>
                    <a:pt x="16" y="2122"/>
                    <a:pt x="16" y="2122"/>
                  </a:cubicBezTo>
                  <a:cubicBezTo>
                    <a:pt x="19" y="2126"/>
                    <a:pt x="22" y="2129"/>
                    <a:pt x="24" y="2132"/>
                  </a:cubicBezTo>
                  <a:cubicBezTo>
                    <a:pt x="33" y="2142"/>
                    <a:pt x="41" y="2150"/>
                    <a:pt x="50" y="2159"/>
                  </a:cubicBezTo>
                  <a:cubicBezTo>
                    <a:pt x="66" y="2159"/>
                    <a:pt x="66" y="2159"/>
                    <a:pt x="66" y="2159"/>
                  </a:cubicBezTo>
                  <a:cubicBezTo>
                    <a:pt x="54" y="2148"/>
                    <a:pt x="43" y="2137"/>
                    <a:pt x="32" y="2125"/>
                  </a:cubicBezTo>
                  <a:cubicBezTo>
                    <a:pt x="25" y="2117"/>
                    <a:pt x="19" y="2109"/>
                    <a:pt x="14" y="2101"/>
                  </a:cubicBezTo>
                  <a:cubicBezTo>
                    <a:pt x="13" y="2097"/>
                    <a:pt x="13" y="2093"/>
                    <a:pt x="13" y="2089"/>
                  </a:cubicBezTo>
                  <a:cubicBezTo>
                    <a:pt x="11" y="2068"/>
                    <a:pt x="19" y="2048"/>
                    <a:pt x="32" y="2030"/>
                  </a:cubicBezTo>
                  <a:cubicBezTo>
                    <a:pt x="45" y="2012"/>
                    <a:pt x="61" y="1997"/>
                    <a:pt x="78" y="1981"/>
                  </a:cubicBezTo>
                  <a:cubicBezTo>
                    <a:pt x="95" y="1965"/>
                    <a:pt x="113" y="1949"/>
                    <a:pt x="129" y="1931"/>
                  </a:cubicBezTo>
                  <a:cubicBezTo>
                    <a:pt x="136" y="1922"/>
                    <a:pt x="144" y="1912"/>
                    <a:pt x="150" y="1900"/>
                  </a:cubicBezTo>
                  <a:cubicBezTo>
                    <a:pt x="153" y="1894"/>
                    <a:pt x="156" y="1886"/>
                    <a:pt x="158" y="1879"/>
                  </a:cubicBezTo>
                  <a:cubicBezTo>
                    <a:pt x="158" y="1880"/>
                    <a:pt x="158" y="1880"/>
                    <a:pt x="158" y="1880"/>
                  </a:cubicBezTo>
                  <a:cubicBezTo>
                    <a:pt x="160" y="1886"/>
                    <a:pt x="162" y="1891"/>
                    <a:pt x="165" y="1896"/>
                  </a:cubicBezTo>
                  <a:cubicBezTo>
                    <a:pt x="170" y="1907"/>
                    <a:pt x="177" y="1916"/>
                    <a:pt x="185" y="1925"/>
                  </a:cubicBezTo>
                  <a:cubicBezTo>
                    <a:pt x="200" y="1943"/>
                    <a:pt x="217" y="1958"/>
                    <a:pt x="234" y="1974"/>
                  </a:cubicBezTo>
                  <a:cubicBezTo>
                    <a:pt x="234" y="1975"/>
                    <a:pt x="235" y="1975"/>
                    <a:pt x="235" y="1975"/>
                  </a:cubicBezTo>
                  <a:cubicBezTo>
                    <a:pt x="242" y="1982"/>
                    <a:pt x="248" y="1988"/>
                    <a:pt x="255" y="1995"/>
                  </a:cubicBezTo>
                  <a:cubicBezTo>
                    <a:pt x="264" y="2004"/>
                    <a:pt x="273" y="2014"/>
                    <a:pt x="281" y="2025"/>
                  </a:cubicBezTo>
                  <a:cubicBezTo>
                    <a:pt x="288" y="2035"/>
                    <a:pt x="293" y="2045"/>
                    <a:pt x="297" y="2056"/>
                  </a:cubicBezTo>
                  <a:cubicBezTo>
                    <a:pt x="301" y="2067"/>
                    <a:pt x="302" y="2078"/>
                    <a:pt x="301" y="2090"/>
                  </a:cubicBezTo>
                  <a:cubicBezTo>
                    <a:pt x="300" y="2096"/>
                    <a:pt x="299" y="2102"/>
                    <a:pt x="297" y="2108"/>
                  </a:cubicBezTo>
                  <a:cubicBezTo>
                    <a:pt x="292" y="2116"/>
                    <a:pt x="286" y="2124"/>
                    <a:pt x="280" y="2131"/>
                  </a:cubicBezTo>
                  <a:cubicBezTo>
                    <a:pt x="271" y="2141"/>
                    <a:pt x="262" y="2150"/>
                    <a:pt x="253" y="2159"/>
                  </a:cubicBezTo>
                  <a:cubicBezTo>
                    <a:pt x="268" y="2159"/>
                    <a:pt x="268" y="2159"/>
                    <a:pt x="268" y="2159"/>
                  </a:cubicBezTo>
                  <a:cubicBezTo>
                    <a:pt x="275" y="2152"/>
                    <a:pt x="282" y="2145"/>
                    <a:pt x="288" y="2138"/>
                  </a:cubicBezTo>
                  <a:cubicBezTo>
                    <a:pt x="292" y="2133"/>
                    <a:pt x="296" y="2128"/>
                    <a:pt x="300" y="2122"/>
                  </a:cubicBezTo>
                  <a:cubicBezTo>
                    <a:pt x="301" y="2122"/>
                    <a:pt x="301" y="2122"/>
                    <a:pt x="301" y="2122"/>
                  </a:cubicBezTo>
                  <a:cubicBezTo>
                    <a:pt x="301" y="2122"/>
                    <a:pt x="301" y="2121"/>
                    <a:pt x="301" y="2120"/>
                  </a:cubicBezTo>
                  <a:cubicBezTo>
                    <a:pt x="304" y="2116"/>
                    <a:pt x="307" y="2112"/>
                    <a:pt x="309" y="2107"/>
                  </a:cubicBezTo>
                  <a:cubicBezTo>
                    <a:pt x="312" y="2101"/>
                    <a:pt x="314" y="2095"/>
                    <a:pt x="315" y="2088"/>
                  </a:cubicBezTo>
                  <a:cubicBezTo>
                    <a:pt x="316" y="2080"/>
                    <a:pt x="315" y="2074"/>
                    <a:pt x="314" y="2068"/>
                  </a:cubicBezTo>
                  <a:cubicBezTo>
                    <a:pt x="311" y="2055"/>
                    <a:pt x="305" y="2043"/>
                    <a:pt x="299" y="2033"/>
                  </a:cubicBezTo>
                  <a:cubicBezTo>
                    <a:pt x="298" y="2032"/>
                    <a:pt x="297" y="2030"/>
                    <a:pt x="296" y="2029"/>
                  </a:cubicBezTo>
                  <a:cubicBezTo>
                    <a:pt x="294" y="2026"/>
                    <a:pt x="292" y="2022"/>
                    <a:pt x="290" y="2019"/>
                  </a:cubicBezTo>
                  <a:cubicBezTo>
                    <a:pt x="275" y="1999"/>
                    <a:pt x="258" y="1982"/>
                    <a:pt x="241" y="1966"/>
                  </a:cubicBezTo>
                  <a:cubicBezTo>
                    <a:pt x="225" y="1950"/>
                    <a:pt x="208" y="1935"/>
                    <a:pt x="193" y="1917"/>
                  </a:cubicBezTo>
                  <a:cubicBezTo>
                    <a:pt x="179" y="1901"/>
                    <a:pt x="168" y="1881"/>
                    <a:pt x="167" y="1861"/>
                  </a:cubicBezTo>
                  <a:cubicBezTo>
                    <a:pt x="166" y="1852"/>
                    <a:pt x="168" y="1843"/>
                    <a:pt x="173" y="1833"/>
                  </a:cubicBezTo>
                  <a:cubicBezTo>
                    <a:pt x="177" y="1824"/>
                    <a:pt x="183" y="1815"/>
                    <a:pt x="190" y="1806"/>
                  </a:cubicBezTo>
                  <a:cubicBezTo>
                    <a:pt x="204" y="1789"/>
                    <a:pt x="221" y="1773"/>
                    <a:pt x="238" y="1757"/>
                  </a:cubicBezTo>
                  <a:cubicBezTo>
                    <a:pt x="255" y="1741"/>
                    <a:pt x="272" y="1726"/>
                    <a:pt x="288" y="1708"/>
                  </a:cubicBezTo>
                  <a:cubicBezTo>
                    <a:pt x="296" y="1698"/>
                    <a:pt x="304" y="1689"/>
                    <a:pt x="309" y="1677"/>
                  </a:cubicBezTo>
                  <a:cubicBezTo>
                    <a:pt x="312" y="1671"/>
                    <a:pt x="314" y="1664"/>
                    <a:pt x="315" y="1657"/>
                  </a:cubicBezTo>
                  <a:cubicBezTo>
                    <a:pt x="316" y="1650"/>
                    <a:pt x="315" y="1644"/>
                    <a:pt x="314" y="1637"/>
                  </a:cubicBezTo>
                  <a:cubicBezTo>
                    <a:pt x="311" y="1625"/>
                    <a:pt x="306" y="1614"/>
                    <a:pt x="300" y="1605"/>
                  </a:cubicBezTo>
                  <a:cubicBezTo>
                    <a:pt x="297" y="1599"/>
                    <a:pt x="293" y="1593"/>
                    <a:pt x="290" y="1588"/>
                  </a:cubicBezTo>
                  <a:cubicBezTo>
                    <a:pt x="275" y="1567"/>
                    <a:pt x="258" y="1551"/>
                    <a:pt x="241" y="1535"/>
                  </a:cubicBezTo>
                  <a:cubicBezTo>
                    <a:pt x="225" y="1519"/>
                    <a:pt x="208" y="1503"/>
                    <a:pt x="193" y="1486"/>
                  </a:cubicBezTo>
                  <a:cubicBezTo>
                    <a:pt x="179" y="1469"/>
                    <a:pt x="168" y="1450"/>
                    <a:pt x="167" y="1430"/>
                  </a:cubicBezTo>
                  <a:cubicBezTo>
                    <a:pt x="166" y="1421"/>
                    <a:pt x="168" y="1411"/>
                    <a:pt x="173" y="1402"/>
                  </a:cubicBezTo>
                  <a:cubicBezTo>
                    <a:pt x="177" y="1392"/>
                    <a:pt x="183" y="1383"/>
                    <a:pt x="190" y="1375"/>
                  </a:cubicBezTo>
                  <a:cubicBezTo>
                    <a:pt x="204" y="1357"/>
                    <a:pt x="221" y="1342"/>
                    <a:pt x="238" y="1326"/>
                  </a:cubicBezTo>
                  <a:cubicBezTo>
                    <a:pt x="255" y="1310"/>
                    <a:pt x="272" y="1294"/>
                    <a:pt x="288" y="1276"/>
                  </a:cubicBezTo>
                  <a:cubicBezTo>
                    <a:pt x="292" y="1271"/>
                    <a:pt x="296" y="1266"/>
                    <a:pt x="300" y="1261"/>
                  </a:cubicBezTo>
                  <a:cubicBezTo>
                    <a:pt x="301" y="1261"/>
                    <a:pt x="301" y="1261"/>
                    <a:pt x="301" y="1261"/>
                  </a:cubicBezTo>
                  <a:cubicBezTo>
                    <a:pt x="302" y="1259"/>
                    <a:pt x="302" y="1258"/>
                    <a:pt x="303" y="1256"/>
                  </a:cubicBezTo>
                  <a:cubicBezTo>
                    <a:pt x="305" y="1252"/>
                    <a:pt x="307" y="1249"/>
                    <a:pt x="309" y="1245"/>
                  </a:cubicBezTo>
                  <a:cubicBezTo>
                    <a:pt x="312" y="1239"/>
                    <a:pt x="314" y="1233"/>
                    <a:pt x="315" y="1226"/>
                  </a:cubicBezTo>
                  <a:cubicBezTo>
                    <a:pt x="316" y="1218"/>
                    <a:pt x="315" y="1212"/>
                    <a:pt x="314" y="1206"/>
                  </a:cubicBezTo>
                  <a:cubicBezTo>
                    <a:pt x="311" y="1193"/>
                    <a:pt x="305" y="1181"/>
                    <a:pt x="299" y="1171"/>
                  </a:cubicBezTo>
                  <a:cubicBezTo>
                    <a:pt x="296" y="1168"/>
                    <a:pt x="294" y="1164"/>
                    <a:pt x="291" y="1161"/>
                  </a:cubicBezTo>
                  <a:cubicBezTo>
                    <a:pt x="291" y="1160"/>
                    <a:pt x="290" y="1159"/>
                    <a:pt x="290" y="1158"/>
                  </a:cubicBezTo>
                  <a:cubicBezTo>
                    <a:pt x="275" y="1138"/>
                    <a:pt x="258" y="1122"/>
                    <a:pt x="241" y="1105"/>
                  </a:cubicBezTo>
                  <a:cubicBezTo>
                    <a:pt x="225" y="1089"/>
                    <a:pt x="208" y="1074"/>
                    <a:pt x="193" y="1057"/>
                  </a:cubicBezTo>
                  <a:cubicBezTo>
                    <a:pt x="179" y="1040"/>
                    <a:pt x="168" y="1020"/>
                    <a:pt x="167" y="1000"/>
                  </a:cubicBezTo>
                  <a:cubicBezTo>
                    <a:pt x="166" y="991"/>
                    <a:pt x="168" y="982"/>
                    <a:pt x="173" y="972"/>
                  </a:cubicBezTo>
                  <a:cubicBezTo>
                    <a:pt x="177" y="963"/>
                    <a:pt x="183" y="954"/>
                    <a:pt x="190" y="945"/>
                  </a:cubicBezTo>
                  <a:cubicBezTo>
                    <a:pt x="204" y="928"/>
                    <a:pt x="221" y="912"/>
                    <a:pt x="238" y="896"/>
                  </a:cubicBezTo>
                  <a:cubicBezTo>
                    <a:pt x="255" y="880"/>
                    <a:pt x="272" y="865"/>
                    <a:pt x="288" y="847"/>
                  </a:cubicBezTo>
                  <a:cubicBezTo>
                    <a:pt x="296" y="837"/>
                    <a:pt x="304" y="828"/>
                    <a:pt x="309" y="816"/>
                  </a:cubicBezTo>
                  <a:cubicBezTo>
                    <a:pt x="312" y="810"/>
                    <a:pt x="314" y="803"/>
                    <a:pt x="315" y="796"/>
                  </a:cubicBezTo>
                  <a:cubicBezTo>
                    <a:pt x="316" y="789"/>
                    <a:pt x="315" y="783"/>
                    <a:pt x="314" y="776"/>
                  </a:cubicBezTo>
                  <a:cubicBezTo>
                    <a:pt x="311" y="766"/>
                    <a:pt x="307" y="756"/>
                    <a:pt x="302" y="748"/>
                  </a:cubicBezTo>
                  <a:cubicBezTo>
                    <a:pt x="299" y="740"/>
                    <a:pt x="294" y="732"/>
                    <a:pt x="290" y="726"/>
                  </a:cubicBezTo>
                  <a:cubicBezTo>
                    <a:pt x="275" y="705"/>
                    <a:pt x="258" y="689"/>
                    <a:pt x="241" y="673"/>
                  </a:cubicBezTo>
                  <a:cubicBezTo>
                    <a:pt x="225" y="656"/>
                    <a:pt x="208" y="641"/>
                    <a:pt x="193" y="624"/>
                  </a:cubicBezTo>
                  <a:cubicBezTo>
                    <a:pt x="179" y="607"/>
                    <a:pt x="168" y="588"/>
                    <a:pt x="167" y="568"/>
                  </a:cubicBezTo>
                  <a:cubicBezTo>
                    <a:pt x="166" y="558"/>
                    <a:pt x="168" y="549"/>
                    <a:pt x="173" y="540"/>
                  </a:cubicBezTo>
                  <a:cubicBezTo>
                    <a:pt x="177" y="530"/>
                    <a:pt x="183" y="521"/>
                    <a:pt x="190" y="513"/>
                  </a:cubicBezTo>
                  <a:cubicBezTo>
                    <a:pt x="204" y="495"/>
                    <a:pt x="221" y="480"/>
                    <a:pt x="238" y="464"/>
                  </a:cubicBezTo>
                  <a:cubicBezTo>
                    <a:pt x="255" y="448"/>
                    <a:pt x="272" y="432"/>
                    <a:pt x="288" y="414"/>
                  </a:cubicBezTo>
                  <a:cubicBezTo>
                    <a:pt x="296" y="405"/>
                    <a:pt x="304" y="395"/>
                    <a:pt x="309" y="383"/>
                  </a:cubicBezTo>
                  <a:cubicBezTo>
                    <a:pt x="312" y="377"/>
                    <a:pt x="314" y="371"/>
                    <a:pt x="315" y="364"/>
                  </a:cubicBezTo>
                  <a:cubicBezTo>
                    <a:pt x="316" y="356"/>
                    <a:pt x="315" y="350"/>
                    <a:pt x="314" y="344"/>
                  </a:cubicBezTo>
                  <a:cubicBezTo>
                    <a:pt x="311" y="333"/>
                    <a:pt x="307" y="324"/>
                    <a:pt x="302" y="315"/>
                  </a:cubicBezTo>
                  <a:cubicBezTo>
                    <a:pt x="299" y="307"/>
                    <a:pt x="294" y="300"/>
                    <a:pt x="290" y="293"/>
                  </a:cubicBezTo>
                  <a:cubicBezTo>
                    <a:pt x="275" y="273"/>
                    <a:pt x="258" y="256"/>
                    <a:pt x="241" y="240"/>
                  </a:cubicBezTo>
                  <a:cubicBezTo>
                    <a:pt x="225" y="224"/>
                    <a:pt x="208" y="208"/>
                    <a:pt x="193" y="191"/>
                  </a:cubicBezTo>
                  <a:cubicBezTo>
                    <a:pt x="179" y="174"/>
                    <a:pt x="168" y="155"/>
                    <a:pt x="167" y="135"/>
                  </a:cubicBezTo>
                  <a:cubicBezTo>
                    <a:pt x="166" y="126"/>
                    <a:pt x="168" y="116"/>
                    <a:pt x="173" y="107"/>
                  </a:cubicBezTo>
                  <a:cubicBezTo>
                    <a:pt x="177" y="97"/>
                    <a:pt x="183" y="88"/>
                    <a:pt x="190" y="80"/>
                  </a:cubicBezTo>
                  <a:cubicBezTo>
                    <a:pt x="204" y="63"/>
                    <a:pt x="221" y="47"/>
                    <a:pt x="238" y="31"/>
                  </a:cubicBezTo>
                  <a:cubicBezTo>
                    <a:pt x="249" y="21"/>
                    <a:pt x="260" y="10"/>
                    <a:pt x="270" y="0"/>
                  </a:cubicBezTo>
                  <a:cubicBezTo>
                    <a:pt x="255" y="0"/>
                    <a:pt x="255" y="0"/>
                    <a:pt x="255" y="0"/>
                  </a:cubicBezTo>
                  <a:cubicBezTo>
                    <a:pt x="247" y="7"/>
                    <a:pt x="239" y="15"/>
                    <a:pt x="230" y="23"/>
                  </a:cubicBezTo>
                  <a:cubicBezTo>
                    <a:pt x="213" y="39"/>
                    <a:pt x="196" y="54"/>
                    <a:pt x="181" y="72"/>
                  </a:cubicBezTo>
                  <a:cubicBezTo>
                    <a:pt x="174" y="81"/>
                    <a:pt x="167" y="91"/>
                    <a:pt x="162" y="102"/>
                  </a:cubicBezTo>
                  <a:cubicBezTo>
                    <a:pt x="160" y="104"/>
                    <a:pt x="159" y="107"/>
                    <a:pt x="158" y="110"/>
                  </a:cubicBezTo>
                  <a:cubicBezTo>
                    <a:pt x="158" y="111"/>
                    <a:pt x="158" y="111"/>
                    <a:pt x="158" y="111"/>
                  </a:cubicBezTo>
                  <a:cubicBezTo>
                    <a:pt x="157" y="107"/>
                    <a:pt x="155" y="102"/>
                    <a:pt x="153" y="97"/>
                  </a:cubicBezTo>
                  <a:cubicBezTo>
                    <a:pt x="147" y="86"/>
                    <a:pt x="140" y="76"/>
                    <a:pt x="132" y="66"/>
                  </a:cubicBezTo>
                  <a:cubicBezTo>
                    <a:pt x="116" y="48"/>
                    <a:pt x="99" y="32"/>
                    <a:pt x="82" y="16"/>
                  </a:cubicBezTo>
                  <a:cubicBezTo>
                    <a:pt x="76" y="11"/>
                    <a:pt x="70" y="5"/>
                    <a:pt x="64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57" y="8"/>
                    <a:pt x="65" y="16"/>
                    <a:pt x="74" y="24"/>
                  </a:cubicBezTo>
                  <a:cubicBezTo>
                    <a:pt x="91" y="40"/>
                    <a:pt x="108" y="56"/>
                    <a:pt x="123" y="74"/>
                  </a:cubicBezTo>
                  <a:close/>
                  <a:moveTo>
                    <a:pt x="185" y="1493"/>
                  </a:moveTo>
                  <a:cubicBezTo>
                    <a:pt x="192" y="1502"/>
                    <a:pt x="199" y="1510"/>
                    <a:pt x="207" y="1517"/>
                  </a:cubicBezTo>
                  <a:cubicBezTo>
                    <a:pt x="212" y="1522"/>
                    <a:pt x="216" y="1526"/>
                    <a:pt x="220" y="1531"/>
                  </a:cubicBezTo>
                  <a:cubicBezTo>
                    <a:pt x="237" y="1547"/>
                    <a:pt x="254" y="1563"/>
                    <a:pt x="270" y="1580"/>
                  </a:cubicBezTo>
                  <a:cubicBezTo>
                    <a:pt x="272" y="1582"/>
                    <a:pt x="273" y="1584"/>
                    <a:pt x="275" y="1586"/>
                  </a:cubicBezTo>
                  <a:cubicBezTo>
                    <a:pt x="277" y="1589"/>
                    <a:pt x="279" y="1591"/>
                    <a:pt x="281" y="1594"/>
                  </a:cubicBezTo>
                  <a:cubicBezTo>
                    <a:pt x="288" y="1603"/>
                    <a:pt x="293" y="1613"/>
                    <a:pt x="297" y="1624"/>
                  </a:cubicBezTo>
                  <a:cubicBezTo>
                    <a:pt x="301" y="1635"/>
                    <a:pt x="302" y="1647"/>
                    <a:pt x="301" y="1658"/>
                  </a:cubicBezTo>
                  <a:cubicBezTo>
                    <a:pt x="300" y="1666"/>
                    <a:pt x="299" y="1673"/>
                    <a:pt x="296" y="1680"/>
                  </a:cubicBezTo>
                  <a:cubicBezTo>
                    <a:pt x="291" y="1687"/>
                    <a:pt x="286" y="1694"/>
                    <a:pt x="280" y="1701"/>
                  </a:cubicBezTo>
                  <a:cubicBezTo>
                    <a:pt x="265" y="1718"/>
                    <a:pt x="247" y="1733"/>
                    <a:pt x="230" y="1749"/>
                  </a:cubicBezTo>
                  <a:cubicBezTo>
                    <a:pt x="213" y="1765"/>
                    <a:pt x="196" y="1781"/>
                    <a:pt x="181" y="1799"/>
                  </a:cubicBezTo>
                  <a:cubicBezTo>
                    <a:pt x="174" y="1808"/>
                    <a:pt x="167" y="1818"/>
                    <a:pt x="162" y="1828"/>
                  </a:cubicBezTo>
                  <a:cubicBezTo>
                    <a:pt x="160" y="1831"/>
                    <a:pt x="159" y="1834"/>
                    <a:pt x="158" y="1837"/>
                  </a:cubicBezTo>
                  <a:cubicBezTo>
                    <a:pt x="158" y="1838"/>
                    <a:pt x="158" y="1838"/>
                    <a:pt x="158" y="1838"/>
                  </a:cubicBezTo>
                  <a:cubicBezTo>
                    <a:pt x="157" y="1833"/>
                    <a:pt x="155" y="1828"/>
                    <a:pt x="153" y="1824"/>
                  </a:cubicBezTo>
                  <a:cubicBezTo>
                    <a:pt x="147" y="1812"/>
                    <a:pt x="140" y="1802"/>
                    <a:pt x="132" y="1793"/>
                  </a:cubicBezTo>
                  <a:cubicBezTo>
                    <a:pt x="116" y="1774"/>
                    <a:pt x="99" y="1758"/>
                    <a:pt x="82" y="1743"/>
                  </a:cubicBezTo>
                  <a:cubicBezTo>
                    <a:pt x="65" y="1727"/>
                    <a:pt x="47" y="1712"/>
                    <a:pt x="32" y="1695"/>
                  </a:cubicBezTo>
                  <a:cubicBezTo>
                    <a:pt x="26" y="1687"/>
                    <a:pt x="19" y="1679"/>
                    <a:pt x="15" y="1671"/>
                  </a:cubicBezTo>
                  <a:cubicBezTo>
                    <a:pt x="14" y="1667"/>
                    <a:pt x="13" y="1662"/>
                    <a:pt x="13" y="1658"/>
                  </a:cubicBezTo>
                  <a:cubicBezTo>
                    <a:pt x="11" y="1637"/>
                    <a:pt x="19" y="1616"/>
                    <a:pt x="32" y="1599"/>
                  </a:cubicBezTo>
                  <a:cubicBezTo>
                    <a:pt x="45" y="1581"/>
                    <a:pt x="61" y="1565"/>
                    <a:pt x="78" y="1549"/>
                  </a:cubicBezTo>
                  <a:cubicBezTo>
                    <a:pt x="95" y="1534"/>
                    <a:pt x="113" y="1518"/>
                    <a:pt x="129" y="1499"/>
                  </a:cubicBezTo>
                  <a:cubicBezTo>
                    <a:pt x="136" y="1490"/>
                    <a:pt x="144" y="1480"/>
                    <a:pt x="150" y="1469"/>
                  </a:cubicBezTo>
                  <a:cubicBezTo>
                    <a:pt x="153" y="1462"/>
                    <a:pt x="156" y="1455"/>
                    <a:pt x="158" y="1447"/>
                  </a:cubicBezTo>
                  <a:cubicBezTo>
                    <a:pt x="158" y="1449"/>
                    <a:pt x="158" y="1449"/>
                    <a:pt x="158" y="1449"/>
                  </a:cubicBezTo>
                  <a:cubicBezTo>
                    <a:pt x="160" y="1454"/>
                    <a:pt x="162" y="1459"/>
                    <a:pt x="165" y="1464"/>
                  </a:cubicBezTo>
                  <a:cubicBezTo>
                    <a:pt x="170" y="1475"/>
                    <a:pt x="177" y="1484"/>
                    <a:pt x="185" y="1493"/>
                  </a:cubicBezTo>
                  <a:close/>
                  <a:moveTo>
                    <a:pt x="185" y="1064"/>
                  </a:moveTo>
                  <a:cubicBezTo>
                    <a:pt x="200" y="1082"/>
                    <a:pt x="217" y="1098"/>
                    <a:pt x="234" y="1113"/>
                  </a:cubicBezTo>
                  <a:cubicBezTo>
                    <a:pt x="251" y="1129"/>
                    <a:pt x="268" y="1146"/>
                    <a:pt x="281" y="1164"/>
                  </a:cubicBezTo>
                  <a:cubicBezTo>
                    <a:pt x="288" y="1174"/>
                    <a:pt x="293" y="1184"/>
                    <a:pt x="297" y="1195"/>
                  </a:cubicBezTo>
                  <a:cubicBezTo>
                    <a:pt x="301" y="1206"/>
                    <a:pt x="302" y="1218"/>
                    <a:pt x="301" y="1229"/>
                  </a:cubicBezTo>
                  <a:cubicBezTo>
                    <a:pt x="301" y="1234"/>
                    <a:pt x="300" y="1239"/>
                    <a:pt x="298" y="1244"/>
                  </a:cubicBezTo>
                  <a:cubicBezTo>
                    <a:pt x="293" y="1253"/>
                    <a:pt x="287" y="1261"/>
                    <a:pt x="280" y="1269"/>
                  </a:cubicBezTo>
                  <a:cubicBezTo>
                    <a:pt x="265" y="1286"/>
                    <a:pt x="247" y="1302"/>
                    <a:pt x="230" y="1318"/>
                  </a:cubicBezTo>
                  <a:cubicBezTo>
                    <a:pt x="213" y="1333"/>
                    <a:pt x="196" y="1349"/>
                    <a:pt x="181" y="1367"/>
                  </a:cubicBezTo>
                  <a:cubicBezTo>
                    <a:pt x="174" y="1376"/>
                    <a:pt x="167" y="1386"/>
                    <a:pt x="162" y="1396"/>
                  </a:cubicBezTo>
                  <a:cubicBezTo>
                    <a:pt x="160" y="1399"/>
                    <a:pt x="159" y="1402"/>
                    <a:pt x="158" y="1405"/>
                  </a:cubicBezTo>
                  <a:cubicBezTo>
                    <a:pt x="158" y="1406"/>
                    <a:pt x="158" y="1406"/>
                    <a:pt x="158" y="1406"/>
                  </a:cubicBezTo>
                  <a:cubicBezTo>
                    <a:pt x="157" y="1401"/>
                    <a:pt x="155" y="1397"/>
                    <a:pt x="153" y="1392"/>
                  </a:cubicBezTo>
                  <a:cubicBezTo>
                    <a:pt x="147" y="1381"/>
                    <a:pt x="140" y="1371"/>
                    <a:pt x="132" y="1361"/>
                  </a:cubicBezTo>
                  <a:cubicBezTo>
                    <a:pt x="116" y="1343"/>
                    <a:pt x="99" y="1327"/>
                    <a:pt x="82" y="1311"/>
                  </a:cubicBezTo>
                  <a:cubicBezTo>
                    <a:pt x="65" y="1295"/>
                    <a:pt x="47" y="1280"/>
                    <a:pt x="32" y="1263"/>
                  </a:cubicBezTo>
                  <a:cubicBezTo>
                    <a:pt x="25" y="1255"/>
                    <a:pt x="19" y="1247"/>
                    <a:pt x="14" y="1238"/>
                  </a:cubicBezTo>
                  <a:cubicBezTo>
                    <a:pt x="13" y="1235"/>
                    <a:pt x="13" y="1232"/>
                    <a:pt x="13" y="1228"/>
                  </a:cubicBezTo>
                  <a:cubicBezTo>
                    <a:pt x="11" y="1207"/>
                    <a:pt x="19" y="1187"/>
                    <a:pt x="32" y="1169"/>
                  </a:cubicBezTo>
                  <a:cubicBezTo>
                    <a:pt x="45" y="1152"/>
                    <a:pt x="61" y="1136"/>
                    <a:pt x="78" y="1120"/>
                  </a:cubicBezTo>
                  <a:cubicBezTo>
                    <a:pt x="95" y="1104"/>
                    <a:pt x="113" y="1089"/>
                    <a:pt x="129" y="1070"/>
                  </a:cubicBezTo>
                  <a:cubicBezTo>
                    <a:pt x="136" y="1061"/>
                    <a:pt x="144" y="1051"/>
                    <a:pt x="150" y="1039"/>
                  </a:cubicBezTo>
                  <a:cubicBezTo>
                    <a:pt x="153" y="1033"/>
                    <a:pt x="156" y="1025"/>
                    <a:pt x="158" y="1018"/>
                  </a:cubicBezTo>
                  <a:cubicBezTo>
                    <a:pt x="158" y="1019"/>
                    <a:pt x="158" y="1019"/>
                    <a:pt x="158" y="1019"/>
                  </a:cubicBezTo>
                  <a:cubicBezTo>
                    <a:pt x="160" y="1025"/>
                    <a:pt x="162" y="1030"/>
                    <a:pt x="165" y="1035"/>
                  </a:cubicBezTo>
                  <a:cubicBezTo>
                    <a:pt x="170" y="1046"/>
                    <a:pt x="177" y="1055"/>
                    <a:pt x="185" y="1064"/>
                  </a:cubicBezTo>
                  <a:close/>
                  <a:moveTo>
                    <a:pt x="185" y="631"/>
                  </a:moveTo>
                  <a:cubicBezTo>
                    <a:pt x="188" y="635"/>
                    <a:pt x="191" y="638"/>
                    <a:pt x="194" y="642"/>
                  </a:cubicBezTo>
                  <a:cubicBezTo>
                    <a:pt x="202" y="652"/>
                    <a:pt x="211" y="661"/>
                    <a:pt x="220" y="670"/>
                  </a:cubicBezTo>
                  <a:cubicBezTo>
                    <a:pt x="237" y="686"/>
                    <a:pt x="254" y="702"/>
                    <a:pt x="270" y="719"/>
                  </a:cubicBezTo>
                  <a:cubicBezTo>
                    <a:pt x="275" y="724"/>
                    <a:pt x="279" y="730"/>
                    <a:pt x="283" y="735"/>
                  </a:cubicBezTo>
                  <a:cubicBezTo>
                    <a:pt x="289" y="744"/>
                    <a:pt x="294" y="753"/>
                    <a:pt x="297" y="762"/>
                  </a:cubicBezTo>
                  <a:cubicBezTo>
                    <a:pt x="301" y="773"/>
                    <a:pt x="302" y="785"/>
                    <a:pt x="301" y="796"/>
                  </a:cubicBezTo>
                  <a:cubicBezTo>
                    <a:pt x="300" y="805"/>
                    <a:pt x="298" y="813"/>
                    <a:pt x="294" y="821"/>
                  </a:cubicBezTo>
                  <a:cubicBezTo>
                    <a:pt x="290" y="827"/>
                    <a:pt x="285" y="834"/>
                    <a:pt x="280" y="840"/>
                  </a:cubicBezTo>
                  <a:cubicBezTo>
                    <a:pt x="265" y="857"/>
                    <a:pt x="247" y="872"/>
                    <a:pt x="230" y="888"/>
                  </a:cubicBezTo>
                  <a:cubicBezTo>
                    <a:pt x="213" y="904"/>
                    <a:pt x="196" y="920"/>
                    <a:pt x="181" y="938"/>
                  </a:cubicBezTo>
                  <a:cubicBezTo>
                    <a:pt x="174" y="947"/>
                    <a:pt x="167" y="957"/>
                    <a:pt x="162" y="967"/>
                  </a:cubicBezTo>
                  <a:cubicBezTo>
                    <a:pt x="160" y="970"/>
                    <a:pt x="159" y="973"/>
                    <a:pt x="158" y="976"/>
                  </a:cubicBezTo>
                  <a:cubicBezTo>
                    <a:pt x="158" y="977"/>
                    <a:pt x="158" y="977"/>
                    <a:pt x="158" y="977"/>
                  </a:cubicBezTo>
                  <a:cubicBezTo>
                    <a:pt x="157" y="972"/>
                    <a:pt x="155" y="967"/>
                    <a:pt x="153" y="963"/>
                  </a:cubicBezTo>
                  <a:cubicBezTo>
                    <a:pt x="147" y="951"/>
                    <a:pt x="140" y="941"/>
                    <a:pt x="132" y="932"/>
                  </a:cubicBezTo>
                  <a:cubicBezTo>
                    <a:pt x="116" y="913"/>
                    <a:pt x="99" y="897"/>
                    <a:pt x="82" y="882"/>
                  </a:cubicBezTo>
                  <a:cubicBezTo>
                    <a:pt x="65" y="866"/>
                    <a:pt x="47" y="851"/>
                    <a:pt x="32" y="834"/>
                  </a:cubicBezTo>
                  <a:cubicBezTo>
                    <a:pt x="26" y="827"/>
                    <a:pt x="20" y="819"/>
                    <a:pt x="16" y="811"/>
                  </a:cubicBezTo>
                  <a:cubicBezTo>
                    <a:pt x="14" y="806"/>
                    <a:pt x="13" y="801"/>
                    <a:pt x="13" y="795"/>
                  </a:cubicBezTo>
                  <a:cubicBezTo>
                    <a:pt x="11" y="774"/>
                    <a:pt x="19" y="754"/>
                    <a:pt x="32" y="737"/>
                  </a:cubicBezTo>
                  <a:cubicBezTo>
                    <a:pt x="45" y="719"/>
                    <a:pt x="61" y="703"/>
                    <a:pt x="78" y="687"/>
                  </a:cubicBezTo>
                  <a:cubicBezTo>
                    <a:pt x="95" y="671"/>
                    <a:pt x="113" y="656"/>
                    <a:pt x="129" y="637"/>
                  </a:cubicBezTo>
                  <a:cubicBezTo>
                    <a:pt x="136" y="628"/>
                    <a:pt x="144" y="618"/>
                    <a:pt x="150" y="607"/>
                  </a:cubicBezTo>
                  <a:cubicBezTo>
                    <a:pt x="153" y="600"/>
                    <a:pt x="156" y="593"/>
                    <a:pt x="158" y="585"/>
                  </a:cubicBezTo>
                  <a:cubicBezTo>
                    <a:pt x="158" y="587"/>
                    <a:pt x="158" y="587"/>
                    <a:pt x="158" y="587"/>
                  </a:cubicBezTo>
                  <a:cubicBezTo>
                    <a:pt x="160" y="592"/>
                    <a:pt x="162" y="597"/>
                    <a:pt x="165" y="602"/>
                  </a:cubicBezTo>
                  <a:cubicBezTo>
                    <a:pt x="170" y="613"/>
                    <a:pt x="177" y="622"/>
                    <a:pt x="185" y="631"/>
                  </a:cubicBezTo>
                  <a:close/>
                  <a:moveTo>
                    <a:pt x="158" y="152"/>
                  </a:moveTo>
                  <a:cubicBezTo>
                    <a:pt x="158" y="154"/>
                    <a:pt x="158" y="154"/>
                    <a:pt x="158" y="154"/>
                  </a:cubicBezTo>
                  <a:cubicBezTo>
                    <a:pt x="160" y="159"/>
                    <a:pt x="162" y="164"/>
                    <a:pt x="165" y="170"/>
                  </a:cubicBezTo>
                  <a:cubicBezTo>
                    <a:pt x="170" y="180"/>
                    <a:pt x="177" y="190"/>
                    <a:pt x="185" y="198"/>
                  </a:cubicBezTo>
                  <a:cubicBezTo>
                    <a:pt x="188" y="202"/>
                    <a:pt x="191" y="206"/>
                    <a:pt x="194" y="209"/>
                  </a:cubicBezTo>
                  <a:cubicBezTo>
                    <a:pt x="202" y="219"/>
                    <a:pt x="211" y="228"/>
                    <a:pt x="220" y="237"/>
                  </a:cubicBezTo>
                  <a:cubicBezTo>
                    <a:pt x="237" y="254"/>
                    <a:pt x="254" y="269"/>
                    <a:pt x="270" y="286"/>
                  </a:cubicBezTo>
                  <a:cubicBezTo>
                    <a:pt x="275" y="291"/>
                    <a:pt x="279" y="297"/>
                    <a:pt x="283" y="302"/>
                  </a:cubicBezTo>
                  <a:cubicBezTo>
                    <a:pt x="289" y="311"/>
                    <a:pt x="294" y="320"/>
                    <a:pt x="297" y="329"/>
                  </a:cubicBezTo>
                  <a:cubicBezTo>
                    <a:pt x="301" y="340"/>
                    <a:pt x="302" y="352"/>
                    <a:pt x="301" y="363"/>
                  </a:cubicBezTo>
                  <a:cubicBezTo>
                    <a:pt x="300" y="372"/>
                    <a:pt x="298" y="380"/>
                    <a:pt x="294" y="388"/>
                  </a:cubicBezTo>
                  <a:cubicBezTo>
                    <a:pt x="290" y="395"/>
                    <a:pt x="285" y="401"/>
                    <a:pt x="280" y="407"/>
                  </a:cubicBezTo>
                  <a:cubicBezTo>
                    <a:pt x="265" y="424"/>
                    <a:pt x="247" y="440"/>
                    <a:pt x="230" y="455"/>
                  </a:cubicBezTo>
                  <a:cubicBezTo>
                    <a:pt x="213" y="471"/>
                    <a:pt x="196" y="487"/>
                    <a:pt x="181" y="505"/>
                  </a:cubicBezTo>
                  <a:cubicBezTo>
                    <a:pt x="174" y="514"/>
                    <a:pt x="167" y="524"/>
                    <a:pt x="162" y="534"/>
                  </a:cubicBezTo>
                  <a:cubicBezTo>
                    <a:pt x="160" y="537"/>
                    <a:pt x="159" y="540"/>
                    <a:pt x="158" y="543"/>
                  </a:cubicBezTo>
                  <a:cubicBezTo>
                    <a:pt x="158" y="544"/>
                    <a:pt x="158" y="544"/>
                    <a:pt x="158" y="544"/>
                  </a:cubicBezTo>
                  <a:cubicBezTo>
                    <a:pt x="157" y="539"/>
                    <a:pt x="155" y="535"/>
                    <a:pt x="153" y="530"/>
                  </a:cubicBezTo>
                  <a:cubicBezTo>
                    <a:pt x="147" y="519"/>
                    <a:pt x="140" y="509"/>
                    <a:pt x="132" y="499"/>
                  </a:cubicBezTo>
                  <a:cubicBezTo>
                    <a:pt x="116" y="481"/>
                    <a:pt x="99" y="465"/>
                    <a:pt x="82" y="449"/>
                  </a:cubicBezTo>
                  <a:cubicBezTo>
                    <a:pt x="65" y="433"/>
                    <a:pt x="47" y="418"/>
                    <a:pt x="32" y="401"/>
                  </a:cubicBezTo>
                  <a:cubicBezTo>
                    <a:pt x="26" y="394"/>
                    <a:pt x="20" y="386"/>
                    <a:pt x="16" y="379"/>
                  </a:cubicBezTo>
                  <a:cubicBezTo>
                    <a:pt x="14" y="373"/>
                    <a:pt x="13" y="368"/>
                    <a:pt x="13" y="363"/>
                  </a:cubicBezTo>
                  <a:cubicBezTo>
                    <a:pt x="11" y="342"/>
                    <a:pt x="19" y="322"/>
                    <a:pt x="32" y="304"/>
                  </a:cubicBezTo>
                  <a:cubicBezTo>
                    <a:pt x="45" y="286"/>
                    <a:pt x="61" y="270"/>
                    <a:pt x="78" y="254"/>
                  </a:cubicBezTo>
                  <a:cubicBezTo>
                    <a:pt x="95" y="239"/>
                    <a:pt x="113" y="223"/>
                    <a:pt x="129" y="204"/>
                  </a:cubicBezTo>
                  <a:cubicBezTo>
                    <a:pt x="136" y="195"/>
                    <a:pt x="144" y="185"/>
                    <a:pt x="150" y="174"/>
                  </a:cubicBezTo>
                  <a:cubicBezTo>
                    <a:pt x="153" y="167"/>
                    <a:pt x="156" y="160"/>
                    <a:pt x="158" y="152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7" name="Freeform 21"/>
            <p:cNvSpPr/>
            <p:nvPr/>
          </p:nvSpPr>
          <p:spPr>
            <a:xfrm>
              <a:off x="10159920" y="-1440"/>
              <a:ext cx="507600" cy="686232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0" h="2159">
                  <a:moveTo>
                    <a:pt x="26" y="72"/>
                  </a:moveTo>
                  <a:cubicBezTo>
                    <a:pt x="18" y="81"/>
                    <a:pt x="11" y="91"/>
                    <a:pt x="6" y="102"/>
                  </a:cubicBezTo>
                  <a:cubicBezTo>
                    <a:pt x="3" y="107"/>
                    <a:pt x="1" y="113"/>
                    <a:pt x="0" y="120"/>
                  </a:cubicBezTo>
                  <a:cubicBezTo>
                    <a:pt x="0" y="123"/>
                    <a:pt x="1" y="127"/>
                    <a:pt x="1" y="131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32"/>
                    <a:pt x="1" y="133"/>
                    <a:pt x="1" y="135"/>
                  </a:cubicBezTo>
                  <a:cubicBezTo>
                    <a:pt x="1" y="135"/>
                    <a:pt x="1" y="136"/>
                    <a:pt x="1" y="137"/>
                  </a:cubicBezTo>
                  <a:cubicBezTo>
                    <a:pt x="0" y="139"/>
                    <a:pt x="0" y="141"/>
                    <a:pt x="0" y="143"/>
                  </a:cubicBezTo>
                  <a:cubicBezTo>
                    <a:pt x="1" y="152"/>
                    <a:pt x="5" y="161"/>
                    <a:pt x="9" y="170"/>
                  </a:cubicBezTo>
                  <a:cubicBezTo>
                    <a:pt x="14" y="180"/>
                    <a:pt x="21" y="190"/>
                    <a:pt x="29" y="198"/>
                  </a:cubicBezTo>
                  <a:cubicBezTo>
                    <a:pt x="32" y="202"/>
                    <a:pt x="35" y="206"/>
                    <a:pt x="38" y="209"/>
                  </a:cubicBezTo>
                  <a:cubicBezTo>
                    <a:pt x="47" y="219"/>
                    <a:pt x="55" y="228"/>
                    <a:pt x="65" y="237"/>
                  </a:cubicBezTo>
                  <a:cubicBezTo>
                    <a:pt x="81" y="254"/>
                    <a:pt x="98" y="269"/>
                    <a:pt x="114" y="286"/>
                  </a:cubicBezTo>
                  <a:cubicBezTo>
                    <a:pt x="119" y="291"/>
                    <a:pt x="123" y="297"/>
                    <a:pt x="128" y="302"/>
                  </a:cubicBezTo>
                  <a:cubicBezTo>
                    <a:pt x="133" y="311"/>
                    <a:pt x="138" y="320"/>
                    <a:pt x="141" y="329"/>
                  </a:cubicBezTo>
                  <a:cubicBezTo>
                    <a:pt x="145" y="340"/>
                    <a:pt x="146" y="352"/>
                    <a:pt x="145" y="363"/>
                  </a:cubicBezTo>
                  <a:cubicBezTo>
                    <a:pt x="144" y="372"/>
                    <a:pt x="142" y="380"/>
                    <a:pt x="139" y="388"/>
                  </a:cubicBezTo>
                  <a:cubicBezTo>
                    <a:pt x="134" y="395"/>
                    <a:pt x="129" y="401"/>
                    <a:pt x="124" y="407"/>
                  </a:cubicBezTo>
                  <a:cubicBezTo>
                    <a:pt x="109" y="424"/>
                    <a:pt x="92" y="440"/>
                    <a:pt x="75" y="455"/>
                  </a:cubicBezTo>
                  <a:cubicBezTo>
                    <a:pt x="58" y="471"/>
                    <a:pt x="40" y="487"/>
                    <a:pt x="26" y="505"/>
                  </a:cubicBezTo>
                  <a:cubicBezTo>
                    <a:pt x="18" y="514"/>
                    <a:pt x="11" y="524"/>
                    <a:pt x="6" y="534"/>
                  </a:cubicBezTo>
                  <a:cubicBezTo>
                    <a:pt x="3" y="540"/>
                    <a:pt x="1" y="546"/>
                    <a:pt x="0" y="553"/>
                  </a:cubicBezTo>
                  <a:cubicBezTo>
                    <a:pt x="0" y="556"/>
                    <a:pt x="1" y="560"/>
                    <a:pt x="1" y="564"/>
                  </a:cubicBezTo>
                  <a:cubicBezTo>
                    <a:pt x="0" y="564"/>
                    <a:pt x="0" y="564"/>
                    <a:pt x="0" y="564"/>
                  </a:cubicBezTo>
                  <a:cubicBezTo>
                    <a:pt x="0" y="565"/>
                    <a:pt x="1" y="566"/>
                    <a:pt x="1" y="567"/>
                  </a:cubicBezTo>
                  <a:cubicBezTo>
                    <a:pt x="1" y="568"/>
                    <a:pt x="1" y="569"/>
                    <a:pt x="1" y="570"/>
                  </a:cubicBezTo>
                  <a:cubicBezTo>
                    <a:pt x="0" y="572"/>
                    <a:pt x="0" y="574"/>
                    <a:pt x="0" y="576"/>
                  </a:cubicBezTo>
                  <a:cubicBezTo>
                    <a:pt x="1" y="585"/>
                    <a:pt x="5" y="594"/>
                    <a:pt x="9" y="602"/>
                  </a:cubicBezTo>
                  <a:cubicBezTo>
                    <a:pt x="14" y="613"/>
                    <a:pt x="21" y="622"/>
                    <a:pt x="29" y="631"/>
                  </a:cubicBezTo>
                  <a:cubicBezTo>
                    <a:pt x="32" y="635"/>
                    <a:pt x="35" y="638"/>
                    <a:pt x="38" y="642"/>
                  </a:cubicBezTo>
                  <a:cubicBezTo>
                    <a:pt x="47" y="652"/>
                    <a:pt x="55" y="661"/>
                    <a:pt x="65" y="670"/>
                  </a:cubicBezTo>
                  <a:cubicBezTo>
                    <a:pt x="81" y="686"/>
                    <a:pt x="98" y="702"/>
                    <a:pt x="114" y="719"/>
                  </a:cubicBezTo>
                  <a:cubicBezTo>
                    <a:pt x="119" y="724"/>
                    <a:pt x="123" y="730"/>
                    <a:pt x="128" y="735"/>
                  </a:cubicBezTo>
                  <a:cubicBezTo>
                    <a:pt x="133" y="744"/>
                    <a:pt x="138" y="753"/>
                    <a:pt x="141" y="762"/>
                  </a:cubicBezTo>
                  <a:cubicBezTo>
                    <a:pt x="145" y="773"/>
                    <a:pt x="146" y="785"/>
                    <a:pt x="145" y="796"/>
                  </a:cubicBezTo>
                  <a:cubicBezTo>
                    <a:pt x="144" y="805"/>
                    <a:pt x="142" y="813"/>
                    <a:pt x="139" y="821"/>
                  </a:cubicBezTo>
                  <a:cubicBezTo>
                    <a:pt x="134" y="827"/>
                    <a:pt x="129" y="834"/>
                    <a:pt x="124" y="840"/>
                  </a:cubicBezTo>
                  <a:cubicBezTo>
                    <a:pt x="109" y="857"/>
                    <a:pt x="92" y="872"/>
                    <a:pt x="75" y="888"/>
                  </a:cubicBezTo>
                  <a:cubicBezTo>
                    <a:pt x="58" y="904"/>
                    <a:pt x="40" y="920"/>
                    <a:pt x="26" y="938"/>
                  </a:cubicBezTo>
                  <a:cubicBezTo>
                    <a:pt x="18" y="947"/>
                    <a:pt x="11" y="957"/>
                    <a:pt x="6" y="967"/>
                  </a:cubicBezTo>
                  <a:cubicBezTo>
                    <a:pt x="3" y="973"/>
                    <a:pt x="1" y="979"/>
                    <a:pt x="0" y="985"/>
                  </a:cubicBezTo>
                  <a:cubicBezTo>
                    <a:pt x="0" y="988"/>
                    <a:pt x="1" y="990"/>
                    <a:pt x="1" y="993"/>
                  </a:cubicBezTo>
                  <a:cubicBezTo>
                    <a:pt x="0" y="993"/>
                    <a:pt x="0" y="993"/>
                    <a:pt x="0" y="993"/>
                  </a:cubicBezTo>
                  <a:cubicBezTo>
                    <a:pt x="0" y="994"/>
                    <a:pt x="1" y="996"/>
                    <a:pt x="1" y="998"/>
                  </a:cubicBezTo>
                  <a:cubicBezTo>
                    <a:pt x="1" y="999"/>
                    <a:pt x="1" y="1001"/>
                    <a:pt x="1" y="1002"/>
                  </a:cubicBezTo>
                  <a:cubicBezTo>
                    <a:pt x="0" y="1004"/>
                    <a:pt x="0" y="1007"/>
                    <a:pt x="0" y="1009"/>
                  </a:cubicBezTo>
                  <a:cubicBezTo>
                    <a:pt x="1" y="1018"/>
                    <a:pt x="5" y="1027"/>
                    <a:pt x="9" y="1035"/>
                  </a:cubicBezTo>
                  <a:cubicBezTo>
                    <a:pt x="14" y="1046"/>
                    <a:pt x="21" y="1055"/>
                    <a:pt x="29" y="1064"/>
                  </a:cubicBezTo>
                  <a:cubicBezTo>
                    <a:pt x="44" y="1082"/>
                    <a:pt x="61" y="1098"/>
                    <a:pt x="78" y="1113"/>
                  </a:cubicBezTo>
                  <a:cubicBezTo>
                    <a:pt x="95" y="1129"/>
                    <a:pt x="112" y="1146"/>
                    <a:pt x="125" y="1164"/>
                  </a:cubicBezTo>
                  <a:cubicBezTo>
                    <a:pt x="132" y="1174"/>
                    <a:pt x="138" y="1184"/>
                    <a:pt x="141" y="1195"/>
                  </a:cubicBezTo>
                  <a:cubicBezTo>
                    <a:pt x="145" y="1206"/>
                    <a:pt x="146" y="1218"/>
                    <a:pt x="145" y="1229"/>
                  </a:cubicBezTo>
                  <a:cubicBezTo>
                    <a:pt x="145" y="1234"/>
                    <a:pt x="144" y="1239"/>
                    <a:pt x="142" y="1244"/>
                  </a:cubicBezTo>
                  <a:cubicBezTo>
                    <a:pt x="137" y="1253"/>
                    <a:pt x="131" y="1261"/>
                    <a:pt x="124" y="1269"/>
                  </a:cubicBezTo>
                  <a:cubicBezTo>
                    <a:pt x="109" y="1286"/>
                    <a:pt x="92" y="1302"/>
                    <a:pt x="75" y="1318"/>
                  </a:cubicBezTo>
                  <a:cubicBezTo>
                    <a:pt x="58" y="1333"/>
                    <a:pt x="40" y="1349"/>
                    <a:pt x="26" y="1367"/>
                  </a:cubicBezTo>
                  <a:cubicBezTo>
                    <a:pt x="18" y="1376"/>
                    <a:pt x="11" y="1386"/>
                    <a:pt x="6" y="1396"/>
                  </a:cubicBezTo>
                  <a:cubicBezTo>
                    <a:pt x="3" y="1402"/>
                    <a:pt x="1" y="1408"/>
                    <a:pt x="0" y="1415"/>
                  </a:cubicBezTo>
                  <a:cubicBezTo>
                    <a:pt x="0" y="1418"/>
                    <a:pt x="1" y="1421"/>
                    <a:pt x="1" y="1425"/>
                  </a:cubicBezTo>
                  <a:cubicBezTo>
                    <a:pt x="0" y="1425"/>
                    <a:pt x="0" y="1425"/>
                    <a:pt x="0" y="1425"/>
                  </a:cubicBezTo>
                  <a:cubicBezTo>
                    <a:pt x="0" y="1426"/>
                    <a:pt x="1" y="1427"/>
                    <a:pt x="1" y="1429"/>
                  </a:cubicBezTo>
                  <a:cubicBezTo>
                    <a:pt x="1" y="1430"/>
                    <a:pt x="1" y="1431"/>
                    <a:pt x="1" y="1432"/>
                  </a:cubicBezTo>
                  <a:cubicBezTo>
                    <a:pt x="0" y="1434"/>
                    <a:pt x="0" y="1436"/>
                    <a:pt x="0" y="1438"/>
                  </a:cubicBezTo>
                  <a:cubicBezTo>
                    <a:pt x="1" y="1447"/>
                    <a:pt x="5" y="1456"/>
                    <a:pt x="9" y="1464"/>
                  </a:cubicBezTo>
                  <a:cubicBezTo>
                    <a:pt x="14" y="1475"/>
                    <a:pt x="21" y="1484"/>
                    <a:pt x="29" y="1493"/>
                  </a:cubicBezTo>
                  <a:cubicBezTo>
                    <a:pt x="36" y="1502"/>
                    <a:pt x="44" y="1510"/>
                    <a:pt x="51" y="1517"/>
                  </a:cubicBezTo>
                  <a:cubicBezTo>
                    <a:pt x="56" y="1522"/>
                    <a:pt x="60" y="1526"/>
                    <a:pt x="65" y="1531"/>
                  </a:cubicBezTo>
                  <a:cubicBezTo>
                    <a:pt x="81" y="1547"/>
                    <a:pt x="98" y="1563"/>
                    <a:pt x="114" y="1580"/>
                  </a:cubicBezTo>
                  <a:cubicBezTo>
                    <a:pt x="116" y="1582"/>
                    <a:pt x="118" y="1584"/>
                    <a:pt x="119" y="1586"/>
                  </a:cubicBezTo>
                  <a:cubicBezTo>
                    <a:pt x="121" y="1589"/>
                    <a:pt x="123" y="1591"/>
                    <a:pt x="125" y="1594"/>
                  </a:cubicBezTo>
                  <a:cubicBezTo>
                    <a:pt x="132" y="1603"/>
                    <a:pt x="138" y="1613"/>
                    <a:pt x="141" y="1624"/>
                  </a:cubicBezTo>
                  <a:cubicBezTo>
                    <a:pt x="145" y="1635"/>
                    <a:pt x="146" y="1647"/>
                    <a:pt x="145" y="1658"/>
                  </a:cubicBezTo>
                  <a:cubicBezTo>
                    <a:pt x="145" y="1666"/>
                    <a:pt x="143" y="1673"/>
                    <a:pt x="140" y="1680"/>
                  </a:cubicBezTo>
                  <a:cubicBezTo>
                    <a:pt x="135" y="1687"/>
                    <a:pt x="130" y="1694"/>
                    <a:pt x="124" y="1701"/>
                  </a:cubicBezTo>
                  <a:cubicBezTo>
                    <a:pt x="109" y="1718"/>
                    <a:pt x="92" y="1733"/>
                    <a:pt x="75" y="1749"/>
                  </a:cubicBezTo>
                  <a:cubicBezTo>
                    <a:pt x="58" y="1765"/>
                    <a:pt x="40" y="1781"/>
                    <a:pt x="26" y="1799"/>
                  </a:cubicBezTo>
                  <a:cubicBezTo>
                    <a:pt x="18" y="1808"/>
                    <a:pt x="11" y="1818"/>
                    <a:pt x="6" y="1828"/>
                  </a:cubicBezTo>
                  <a:cubicBezTo>
                    <a:pt x="3" y="1834"/>
                    <a:pt x="1" y="1840"/>
                    <a:pt x="0" y="1846"/>
                  </a:cubicBezTo>
                  <a:cubicBezTo>
                    <a:pt x="0" y="1849"/>
                    <a:pt x="1" y="1852"/>
                    <a:pt x="1" y="1855"/>
                  </a:cubicBezTo>
                  <a:cubicBezTo>
                    <a:pt x="0" y="1855"/>
                    <a:pt x="0" y="1855"/>
                    <a:pt x="0" y="1855"/>
                  </a:cubicBezTo>
                  <a:cubicBezTo>
                    <a:pt x="0" y="1856"/>
                    <a:pt x="1" y="1858"/>
                    <a:pt x="1" y="1859"/>
                  </a:cubicBezTo>
                  <a:cubicBezTo>
                    <a:pt x="1" y="1861"/>
                    <a:pt x="1" y="1862"/>
                    <a:pt x="1" y="1863"/>
                  </a:cubicBezTo>
                  <a:cubicBezTo>
                    <a:pt x="0" y="1865"/>
                    <a:pt x="0" y="1867"/>
                    <a:pt x="0" y="1870"/>
                  </a:cubicBezTo>
                  <a:cubicBezTo>
                    <a:pt x="1" y="1879"/>
                    <a:pt x="5" y="1888"/>
                    <a:pt x="9" y="1896"/>
                  </a:cubicBezTo>
                  <a:cubicBezTo>
                    <a:pt x="14" y="1907"/>
                    <a:pt x="21" y="1916"/>
                    <a:pt x="29" y="1925"/>
                  </a:cubicBezTo>
                  <a:cubicBezTo>
                    <a:pt x="44" y="1943"/>
                    <a:pt x="61" y="1958"/>
                    <a:pt x="78" y="1974"/>
                  </a:cubicBezTo>
                  <a:cubicBezTo>
                    <a:pt x="78" y="1975"/>
                    <a:pt x="79" y="1975"/>
                    <a:pt x="79" y="1975"/>
                  </a:cubicBezTo>
                  <a:cubicBezTo>
                    <a:pt x="86" y="1982"/>
                    <a:pt x="93" y="1988"/>
                    <a:pt x="99" y="1995"/>
                  </a:cubicBezTo>
                  <a:cubicBezTo>
                    <a:pt x="109" y="2005"/>
                    <a:pt x="117" y="2014"/>
                    <a:pt x="125" y="2025"/>
                  </a:cubicBezTo>
                  <a:cubicBezTo>
                    <a:pt x="132" y="2035"/>
                    <a:pt x="138" y="2045"/>
                    <a:pt x="141" y="2056"/>
                  </a:cubicBezTo>
                  <a:cubicBezTo>
                    <a:pt x="145" y="2067"/>
                    <a:pt x="146" y="2078"/>
                    <a:pt x="145" y="2090"/>
                  </a:cubicBezTo>
                  <a:cubicBezTo>
                    <a:pt x="145" y="2096"/>
                    <a:pt x="143" y="2102"/>
                    <a:pt x="141" y="2108"/>
                  </a:cubicBezTo>
                  <a:cubicBezTo>
                    <a:pt x="137" y="2116"/>
                    <a:pt x="131" y="2124"/>
                    <a:pt x="124" y="2131"/>
                  </a:cubicBezTo>
                  <a:cubicBezTo>
                    <a:pt x="116" y="2141"/>
                    <a:pt x="106" y="2150"/>
                    <a:pt x="97" y="2159"/>
                  </a:cubicBezTo>
                  <a:cubicBezTo>
                    <a:pt x="112" y="2159"/>
                    <a:pt x="112" y="2159"/>
                    <a:pt x="112" y="2159"/>
                  </a:cubicBezTo>
                  <a:cubicBezTo>
                    <a:pt x="119" y="2152"/>
                    <a:pt x="126" y="2145"/>
                    <a:pt x="132" y="2138"/>
                  </a:cubicBezTo>
                  <a:cubicBezTo>
                    <a:pt x="136" y="2133"/>
                    <a:pt x="141" y="2128"/>
                    <a:pt x="145" y="2122"/>
                  </a:cubicBezTo>
                  <a:cubicBezTo>
                    <a:pt x="145" y="2122"/>
                    <a:pt x="145" y="2122"/>
                    <a:pt x="145" y="2122"/>
                  </a:cubicBezTo>
                  <a:cubicBezTo>
                    <a:pt x="145" y="2122"/>
                    <a:pt x="145" y="2121"/>
                    <a:pt x="146" y="2120"/>
                  </a:cubicBezTo>
                  <a:cubicBezTo>
                    <a:pt x="148" y="2116"/>
                    <a:pt x="151" y="2112"/>
                    <a:pt x="153" y="2107"/>
                  </a:cubicBezTo>
                  <a:cubicBezTo>
                    <a:pt x="156" y="2101"/>
                    <a:pt x="158" y="2095"/>
                    <a:pt x="159" y="2088"/>
                  </a:cubicBezTo>
                  <a:cubicBezTo>
                    <a:pt x="160" y="2080"/>
                    <a:pt x="159" y="2074"/>
                    <a:pt x="158" y="2068"/>
                  </a:cubicBezTo>
                  <a:cubicBezTo>
                    <a:pt x="155" y="2055"/>
                    <a:pt x="150" y="2043"/>
                    <a:pt x="143" y="2033"/>
                  </a:cubicBezTo>
                  <a:cubicBezTo>
                    <a:pt x="142" y="2032"/>
                    <a:pt x="141" y="2030"/>
                    <a:pt x="140" y="2029"/>
                  </a:cubicBezTo>
                  <a:cubicBezTo>
                    <a:pt x="138" y="2026"/>
                    <a:pt x="136" y="2022"/>
                    <a:pt x="134" y="2019"/>
                  </a:cubicBezTo>
                  <a:cubicBezTo>
                    <a:pt x="120" y="1999"/>
                    <a:pt x="102" y="1982"/>
                    <a:pt x="86" y="1966"/>
                  </a:cubicBezTo>
                  <a:cubicBezTo>
                    <a:pt x="69" y="1950"/>
                    <a:pt x="52" y="1935"/>
                    <a:pt x="38" y="1917"/>
                  </a:cubicBezTo>
                  <a:cubicBezTo>
                    <a:pt x="24" y="1901"/>
                    <a:pt x="12" y="1881"/>
                    <a:pt x="11" y="1861"/>
                  </a:cubicBezTo>
                  <a:cubicBezTo>
                    <a:pt x="10" y="1852"/>
                    <a:pt x="12" y="1843"/>
                    <a:pt x="17" y="1833"/>
                  </a:cubicBezTo>
                  <a:cubicBezTo>
                    <a:pt x="21" y="1824"/>
                    <a:pt x="28" y="1815"/>
                    <a:pt x="35" y="1806"/>
                  </a:cubicBezTo>
                  <a:cubicBezTo>
                    <a:pt x="49" y="1789"/>
                    <a:pt x="65" y="1773"/>
                    <a:pt x="82" y="1757"/>
                  </a:cubicBezTo>
                  <a:cubicBezTo>
                    <a:pt x="99" y="1741"/>
                    <a:pt x="116" y="1726"/>
                    <a:pt x="132" y="1708"/>
                  </a:cubicBezTo>
                  <a:cubicBezTo>
                    <a:pt x="140" y="1698"/>
                    <a:pt x="148" y="1689"/>
                    <a:pt x="153" y="1677"/>
                  </a:cubicBezTo>
                  <a:cubicBezTo>
                    <a:pt x="156" y="1671"/>
                    <a:pt x="158" y="1664"/>
                    <a:pt x="159" y="1657"/>
                  </a:cubicBezTo>
                  <a:cubicBezTo>
                    <a:pt x="160" y="1650"/>
                    <a:pt x="159" y="1644"/>
                    <a:pt x="158" y="1637"/>
                  </a:cubicBezTo>
                  <a:cubicBezTo>
                    <a:pt x="155" y="1625"/>
                    <a:pt x="150" y="1614"/>
                    <a:pt x="144" y="1605"/>
                  </a:cubicBezTo>
                  <a:cubicBezTo>
                    <a:pt x="141" y="1599"/>
                    <a:pt x="138" y="1593"/>
                    <a:pt x="134" y="1588"/>
                  </a:cubicBezTo>
                  <a:cubicBezTo>
                    <a:pt x="120" y="1567"/>
                    <a:pt x="102" y="1551"/>
                    <a:pt x="86" y="1535"/>
                  </a:cubicBezTo>
                  <a:cubicBezTo>
                    <a:pt x="69" y="1519"/>
                    <a:pt x="52" y="1503"/>
                    <a:pt x="38" y="1486"/>
                  </a:cubicBezTo>
                  <a:cubicBezTo>
                    <a:pt x="24" y="1469"/>
                    <a:pt x="12" y="1450"/>
                    <a:pt x="11" y="1430"/>
                  </a:cubicBezTo>
                  <a:cubicBezTo>
                    <a:pt x="10" y="1421"/>
                    <a:pt x="12" y="1411"/>
                    <a:pt x="17" y="1402"/>
                  </a:cubicBezTo>
                  <a:cubicBezTo>
                    <a:pt x="21" y="1392"/>
                    <a:pt x="28" y="1383"/>
                    <a:pt x="35" y="1375"/>
                  </a:cubicBezTo>
                  <a:cubicBezTo>
                    <a:pt x="49" y="1357"/>
                    <a:pt x="65" y="1342"/>
                    <a:pt x="82" y="1326"/>
                  </a:cubicBezTo>
                  <a:cubicBezTo>
                    <a:pt x="99" y="1310"/>
                    <a:pt x="116" y="1294"/>
                    <a:pt x="132" y="1276"/>
                  </a:cubicBezTo>
                  <a:cubicBezTo>
                    <a:pt x="136" y="1271"/>
                    <a:pt x="140" y="1266"/>
                    <a:pt x="144" y="1261"/>
                  </a:cubicBezTo>
                  <a:cubicBezTo>
                    <a:pt x="145" y="1261"/>
                    <a:pt x="145" y="1261"/>
                    <a:pt x="145" y="1261"/>
                  </a:cubicBezTo>
                  <a:cubicBezTo>
                    <a:pt x="146" y="1259"/>
                    <a:pt x="147" y="1258"/>
                    <a:pt x="148" y="1256"/>
                  </a:cubicBezTo>
                  <a:cubicBezTo>
                    <a:pt x="150" y="1252"/>
                    <a:pt x="152" y="1249"/>
                    <a:pt x="153" y="1245"/>
                  </a:cubicBezTo>
                  <a:cubicBezTo>
                    <a:pt x="156" y="1239"/>
                    <a:pt x="158" y="1233"/>
                    <a:pt x="159" y="1226"/>
                  </a:cubicBezTo>
                  <a:cubicBezTo>
                    <a:pt x="160" y="1218"/>
                    <a:pt x="159" y="1212"/>
                    <a:pt x="158" y="1206"/>
                  </a:cubicBezTo>
                  <a:cubicBezTo>
                    <a:pt x="155" y="1193"/>
                    <a:pt x="150" y="1181"/>
                    <a:pt x="143" y="1171"/>
                  </a:cubicBezTo>
                  <a:cubicBezTo>
                    <a:pt x="141" y="1168"/>
                    <a:pt x="138" y="1164"/>
                    <a:pt x="136" y="1161"/>
                  </a:cubicBezTo>
                  <a:cubicBezTo>
                    <a:pt x="135" y="1160"/>
                    <a:pt x="134" y="1159"/>
                    <a:pt x="134" y="1158"/>
                  </a:cubicBezTo>
                  <a:cubicBezTo>
                    <a:pt x="120" y="1138"/>
                    <a:pt x="102" y="1122"/>
                    <a:pt x="86" y="1105"/>
                  </a:cubicBezTo>
                  <a:cubicBezTo>
                    <a:pt x="69" y="1089"/>
                    <a:pt x="52" y="1074"/>
                    <a:pt x="38" y="1057"/>
                  </a:cubicBezTo>
                  <a:cubicBezTo>
                    <a:pt x="24" y="1040"/>
                    <a:pt x="12" y="1020"/>
                    <a:pt x="11" y="1000"/>
                  </a:cubicBezTo>
                  <a:cubicBezTo>
                    <a:pt x="10" y="991"/>
                    <a:pt x="12" y="982"/>
                    <a:pt x="17" y="972"/>
                  </a:cubicBezTo>
                  <a:cubicBezTo>
                    <a:pt x="21" y="963"/>
                    <a:pt x="28" y="954"/>
                    <a:pt x="35" y="945"/>
                  </a:cubicBezTo>
                  <a:cubicBezTo>
                    <a:pt x="49" y="928"/>
                    <a:pt x="65" y="912"/>
                    <a:pt x="82" y="896"/>
                  </a:cubicBezTo>
                  <a:cubicBezTo>
                    <a:pt x="99" y="880"/>
                    <a:pt x="116" y="865"/>
                    <a:pt x="132" y="847"/>
                  </a:cubicBezTo>
                  <a:cubicBezTo>
                    <a:pt x="140" y="837"/>
                    <a:pt x="148" y="828"/>
                    <a:pt x="153" y="816"/>
                  </a:cubicBezTo>
                  <a:cubicBezTo>
                    <a:pt x="156" y="810"/>
                    <a:pt x="158" y="803"/>
                    <a:pt x="159" y="796"/>
                  </a:cubicBezTo>
                  <a:cubicBezTo>
                    <a:pt x="160" y="789"/>
                    <a:pt x="159" y="783"/>
                    <a:pt x="158" y="776"/>
                  </a:cubicBezTo>
                  <a:cubicBezTo>
                    <a:pt x="156" y="766"/>
                    <a:pt x="152" y="756"/>
                    <a:pt x="147" y="748"/>
                  </a:cubicBezTo>
                  <a:cubicBezTo>
                    <a:pt x="143" y="740"/>
                    <a:pt x="139" y="732"/>
                    <a:pt x="134" y="726"/>
                  </a:cubicBezTo>
                  <a:cubicBezTo>
                    <a:pt x="120" y="705"/>
                    <a:pt x="102" y="689"/>
                    <a:pt x="86" y="673"/>
                  </a:cubicBezTo>
                  <a:cubicBezTo>
                    <a:pt x="69" y="656"/>
                    <a:pt x="52" y="641"/>
                    <a:pt x="38" y="624"/>
                  </a:cubicBezTo>
                  <a:cubicBezTo>
                    <a:pt x="24" y="607"/>
                    <a:pt x="12" y="588"/>
                    <a:pt x="11" y="568"/>
                  </a:cubicBezTo>
                  <a:cubicBezTo>
                    <a:pt x="10" y="558"/>
                    <a:pt x="12" y="549"/>
                    <a:pt x="17" y="540"/>
                  </a:cubicBezTo>
                  <a:cubicBezTo>
                    <a:pt x="21" y="530"/>
                    <a:pt x="28" y="521"/>
                    <a:pt x="35" y="513"/>
                  </a:cubicBezTo>
                  <a:cubicBezTo>
                    <a:pt x="49" y="495"/>
                    <a:pt x="65" y="480"/>
                    <a:pt x="82" y="464"/>
                  </a:cubicBezTo>
                  <a:cubicBezTo>
                    <a:pt x="99" y="448"/>
                    <a:pt x="116" y="432"/>
                    <a:pt x="132" y="414"/>
                  </a:cubicBezTo>
                  <a:cubicBezTo>
                    <a:pt x="140" y="405"/>
                    <a:pt x="148" y="395"/>
                    <a:pt x="153" y="383"/>
                  </a:cubicBezTo>
                  <a:cubicBezTo>
                    <a:pt x="156" y="377"/>
                    <a:pt x="158" y="371"/>
                    <a:pt x="159" y="364"/>
                  </a:cubicBezTo>
                  <a:cubicBezTo>
                    <a:pt x="160" y="356"/>
                    <a:pt x="159" y="350"/>
                    <a:pt x="158" y="344"/>
                  </a:cubicBezTo>
                  <a:cubicBezTo>
                    <a:pt x="156" y="333"/>
                    <a:pt x="152" y="324"/>
                    <a:pt x="147" y="315"/>
                  </a:cubicBezTo>
                  <a:cubicBezTo>
                    <a:pt x="143" y="307"/>
                    <a:pt x="139" y="300"/>
                    <a:pt x="134" y="293"/>
                  </a:cubicBezTo>
                  <a:cubicBezTo>
                    <a:pt x="120" y="273"/>
                    <a:pt x="102" y="256"/>
                    <a:pt x="86" y="240"/>
                  </a:cubicBezTo>
                  <a:cubicBezTo>
                    <a:pt x="69" y="224"/>
                    <a:pt x="52" y="208"/>
                    <a:pt x="38" y="191"/>
                  </a:cubicBezTo>
                  <a:cubicBezTo>
                    <a:pt x="24" y="174"/>
                    <a:pt x="12" y="155"/>
                    <a:pt x="11" y="135"/>
                  </a:cubicBezTo>
                  <a:cubicBezTo>
                    <a:pt x="10" y="126"/>
                    <a:pt x="12" y="116"/>
                    <a:pt x="17" y="107"/>
                  </a:cubicBezTo>
                  <a:cubicBezTo>
                    <a:pt x="21" y="97"/>
                    <a:pt x="28" y="88"/>
                    <a:pt x="35" y="80"/>
                  </a:cubicBezTo>
                  <a:cubicBezTo>
                    <a:pt x="49" y="63"/>
                    <a:pt x="65" y="47"/>
                    <a:pt x="82" y="31"/>
                  </a:cubicBezTo>
                  <a:cubicBezTo>
                    <a:pt x="93" y="21"/>
                    <a:pt x="104" y="10"/>
                    <a:pt x="114" y="0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91" y="7"/>
                    <a:pt x="83" y="15"/>
                    <a:pt x="75" y="23"/>
                  </a:cubicBezTo>
                  <a:cubicBezTo>
                    <a:pt x="58" y="39"/>
                    <a:pt x="40" y="54"/>
                    <a:pt x="26" y="72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8" name="Freeform 22"/>
            <p:cNvSpPr/>
            <p:nvPr/>
          </p:nvSpPr>
          <p:spPr>
            <a:xfrm>
              <a:off x="11692080" y="-1440"/>
              <a:ext cx="501120" cy="6862320"/>
            </a:xfrm>
            <a:custGeom>
              <a:avLst/>
              <a:gdLst>
                <a:gd name="textAreaLeft" fmla="*/ 0 w 501120"/>
                <a:gd name="textAreaRight" fmla="*/ 501480 w 50112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58" h="2159">
                  <a:moveTo>
                    <a:pt x="123" y="74"/>
                  </a:moveTo>
                  <a:cubicBezTo>
                    <a:pt x="130" y="83"/>
                    <a:pt x="137" y="92"/>
                    <a:pt x="142" y="103"/>
                  </a:cubicBezTo>
                  <a:cubicBezTo>
                    <a:pt x="146" y="111"/>
                    <a:pt x="149" y="121"/>
                    <a:pt x="149" y="131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46" y="149"/>
                    <a:pt x="139" y="167"/>
                    <a:pt x="129" y="183"/>
                  </a:cubicBezTo>
                  <a:cubicBezTo>
                    <a:pt x="127" y="187"/>
                    <a:pt x="124" y="192"/>
                    <a:pt x="121" y="196"/>
                  </a:cubicBezTo>
                  <a:cubicBezTo>
                    <a:pt x="120" y="196"/>
                    <a:pt x="120" y="197"/>
                    <a:pt x="120" y="197"/>
                  </a:cubicBezTo>
                  <a:cubicBezTo>
                    <a:pt x="105" y="215"/>
                    <a:pt x="87" y="230"/>
                    <a:pt x="71" y="246"/>
                  </a:cubicBezTo>
                  <a:cubicBezTo>
                    <a:pt x="54" y="262"/>
                    <a:pt x="37" y="279"/>
                    <a:pt x="23" y="298"/>
                  </a:cubicBezTo>
                  <a:cubicBezTo>
                    <a:pt x="22" y="300"/>
                    <a:pt x="20" y="302"/>
                    <a:pt x="19" y="305"/>
                  </a:cubicBezTo>
                  <a:cubicBezTo>
                    <a:pt x="17" y="307"/>
                    <a:pt x="15" y="310"/>
                    <a:pt x="13" y="313"/>
                  </a:cubicBezTo>
                  <a:cubicBezTo>
                    <a:pt x="7" y="322"/>
                    <a:pt x="2" y="333"/>
                    <a:pt x="0" y="345"/>
                  </a:cubicBezTo>
                  <a:cubicBezTo>
                    <a:pt x="0" y="345"/>
                    <a:pt x="0" y="346"/>
                    <a:pt x="0" y="347"/>
                  </a:cubicBezTo>
                  <a:cubicBezTo>
                    <a:pt x="1" y="352"/>
                    <a:pt x="1" y="357"/>
                    <a:pt x="0" y="364"/>
                  </a:cubicBezTo>
                  <a:cubicBezTo>
                    <a:pt x="0" y="365"/>
                    <a:pt x="0" y="366"/>
                    <a:pt x="0" y="367"/>
                  </a:cubicBezTo>
                  <a:cubicBezTo>
                    <a:pt x="1" y="372"/>
                    <a:pt x="2" y="376"/>
                    <a:pt x="4" y="379"/>
                  </a:cubicBezTo>
                  <a:cubicBezTo>
                    <a:pt x="6" y="383"/>
                    <a:pt x="8" y="387"/>
                    <a:pt x="10" y="390"/>
                  </a:cubicBezTo>
                  <a:cubicBezTo>
                    <a:pt x="11" y="392"/>
                    <a:pt x="12" y="394"/>
                    <a:pt x="13" y="396"/>
                  </a:cubicBezTo>
                  <a:cubicBezTo>
                    <a:pt x="14" y="396"/>
                    <a:pt x="14" y="396"/>
                    <a:pt x="14" y="396"/>
                  </a:cubicBezTo>
                  <a:cubicBezTo>
                    <a:pt x="17" y="400"/>
                    <a:pt x="21" y="404"/>
                    <a:pt x="24" y="408"/>
                  </a:cubicBezTo>
                  <a:cubicBezTo>
                    <a:pt x="40" y="426"/>
                    <a:pt x="57" y="441"/>
                    <a:pt x="74" y="457"/>
                  </a:cubicBezTo>
                  <a:cubicBezTo>
                    <a:pt x="91" y="473"/>
                    <a:pt x="108" y="489"/>
                    <a:pt x="123" y="507"/>
                  </a:cubicBezTo>
                  <a:cubicBezTo>
                    <a:pt x="130" y="516"/>
                    <a:pt x="137" y="525"/>
                    <a:pt x="142" y="535"/>
                  </a:cubicBezTo>
                  <a:cubicBezTo>
                    <a:pt x="146" y="544"/>
                    <a:pt x="149" y="554"/>
                    <a:pt x="149" y="564"/>
                  </a:cubicBezTo>
                  <a:cubicBezTo>
                    <a:pt x="149" y="564"/>
                    <a:pt x="149" y="564"/>
                    <a:pt x="149" y="564"/>
                  </a:cubicBezTo>
                  <a:cubicBezTo>
                    <a:pt x="146" y="582"/>
                    <a:pt x="139" y="600"/>
                    <a:pt x="129" y="616"/>
                  </a:cubicBezTo>
                  <a:cubicBezTo>
                    <a:pt x="127" y="620"/>
                    <a:pt x="124" y="625"/>
                    <a:pt x="121" y="629"/>
                  </a:cubicBezTo>
                  <a:cubicBezTo>
                    <a:pt x="120" y="629"/>
                    <a:pt x="120" y="629"/>
                    <a:pt x="120" y="630"/>
                  </a:cubicBezTo>
                  <a:cubicBezTo>
                    <a:pt x="105" y="648"/>
                    <a:pt x="87" y="663"/>
                    <a:pt x="71" y="679"/>
                  </a:cubicBezTo>
                  <a:cubicBezTo>
                    <a:pt x="54" y="695"/>
                    <a:pt x="37" y="711"/>
                    <a:pt x="23" y="730"/>
                  </a:cubicBezTo>
                  <a:cubicBezTo>
                    <a:pt x="22" y="733"/>
                    <a:pt x="20" y="735"/>
                    <a:pt x="19" y="737"/>
                  </a:cubicBezTo>
                  <a:cubicBezTo>
                    <a:pt x="17" y="740"/>
                    <a:pt x="15" y="743"/>
                    <a:pt x="13" y="745"/>
                  </a:cubicBezTo>
                  <a:cubicBezTo>
                    <a:pt x="7" y="755"/>
                    <a:pt x="2" y="766"/>
                    <a:pt x="0" y="778"/>
                  </a:cubicBezTo>
                  <a:cubicBezTo>
                    <a:pt x="0" y="778"/>
                    <a:pt x="0" y="779"/>
                    <a:pt x="0" y="779"/>
                  </a:cubicBezTo>
                  <a:cubicBezTo>
                    <a:pt x="1" y="785"/>
                    <a:pt x="1" y="790"/>
                    <a:pt x="0" y="796"/>
                  </a:cubicBezTo>
                  <a:cubicBezTo>
                    <a:pt x="0" y="798"/>
                    <a:pt x="0" y="799"/>
                    <a:pt x="0" y="800"/>
                  </a:cubicBezTo>
                  <a:cubicBezTo>
                    <a:pt x="1" y="804"/>
                    <a:pt x="2" y="808"/>
                    <a:pt x="4" y="812"/>
                  </a:cubicBezTo>
                  <a:cubicBezTo>
                    <a:pt x="6" y="816"/>
                    <a:pt x="8" y="819"/>
                    <a:pt x="10" y="823"/>
                  </a:cubicBezTo>
                  <a:cubicBezTo>
                    <a:pt x="11" y="825"/>
                    <a:pt x="12" y="827"/>
                    <a:pt x="13" y="828"/>
                  </a:cubicBezTo>
                  <a:cubicBezTo>
                    <a:pt x="14" y="828"/>
                    <a:pt x="14" y="828"/>
                    <a:pt x="14" y="828"/>
                  </a:cubicBezTo>
                  <a:cubicBezTo>
                    <a:pt x="17" y="833"/>
                    <a:pt x="21" y="837"/>
                    <a:pt x="24" y="841"/>
                  </a:cubicBezTo>
                  <a:cubicBezTo>
                    <a:pt x="40" y="858"/>
                    <a:pt x="57" y="874"/>
                    <a:pt x="74" y="890"/>
                  </a:cubicBezTo>
                  <a:cubicBezTo>
                    <a:pt x="91" y="906"/>
                    <a:pt x="108" y="922"/>
                    <a:pt x="123" y="939"/>
                  </a:cubicBezTo>
                  <a:cubicBezTo>
                    <a:pt x="130" y="948"/>
                    <a:pt x="137" y="958"/>
                    <a:pt x="142" y="968"/>
                  </a:cubicBezTo>
                  <a:cubicBezTo>
                    <a:pt x="146" y="976"/>
                    <a:pt x="148" y="984"/>
                    <a:pt x="149" y="993"/>
                  </a:cubicBezTo>
                  <a:cubicBezTo>
                    <a:pt x="149" y="993"/>
                    <a:pt x="149" y="993"/>
                    <a:pt x="149" y="993"/>
                  </a:cubicBezTo>
                  <a:cubicBezTo>
                    <a:pt x="146" y="1012"/>
                    <a:pt x="139" y="1029"/>
                    <a:pt x="129" y="1045"/>
                  </a:cubicBezTo>
                  <a:cubicBezTo>
                    <a:pt x="117" y="1065"/>
                    <a:pt x="101" y="1082"/>
                    <a:pt x="84" y="1098"/>
                  </a:cubicBezTo>
                  <a:cubicBezTo>
                    <a:pt x="68" y="1114"/>
                    <a:pt x="51" y="1130"/>
                    <a:pt x="35" y="1147"/>
                  </a:cubicBezTo>
                  <a:cubicBezTo>
                    <a:pt x="27" y="1156"/>
                    <a:pt x="20" y="1165"/>
                    <a:pt x="13" y="1175"/>
                  </a:cubicBezTo>
                  <a:cubicBezTo>
                    <a:pt x="7" y="1185"/>
                    <a:pt x="2" y="1195"/>
                    <a:pt x="0" y="1207"/>
                  </a:cubicBezTo>
                  <a:cubicBezTo>
                    <a:pt x="0" y="1208"/>
                    <a:pt x="0" y="1208"/>
                    <a:pt x="0" y="1209"/>
                  </a:cubicBezTo>
                  <a:cubicBezTo>
                    <a:pt x="1" y="1214"/>
                    <a:pt x="1" y="1220"/>
                    <a:pt x="0" y="1226"/>
                  </a:cubicBezTo>
                  <a:cubicBezTo>
                    <a:pt x="0" y="1227"/>
                    <a:pt x="0" y="1228"/>
                    <a:pt x="0" y="1230"/>
                  </a:cubicBezTo>
                  <a:cubicBezTo>
                    <a:pt x="1" y="1234"/>
                    <a:pt x="2" y="1238"/>
                    <a:pt x="4" y="1242"/>
                  </a:cubicBezTo>
                  <a:cubicBezTo>
                    <a:pt x="5" y="1243"/>
                    <a:pt x="6" y="1244"/>
                    <a:pt x="6" y="1245"/>
                  </a:cubicBezTo>
                  <a:cubicBezTo>
                    <a:pt x="8" y="1251"/>
                    <a:pt x="10" y="1256"/>
                    <a:pt x="13" y="1261"/>
                  </a:cubicBezTo>
                  <a:cubicBezTo>
                    <a:pt x="17" y="1261"/>
                    <a:pt x="17" y="1261"/>
                    <a:pt x="17" y="1261"/>
                  </a:cubicBezTo>
                  <a:cubicBezTo>
                    <a:pt x="19" y="1264"/>
                    <a:pt x="22" y="1267"/>
                    <a:pt x="24" y="1270"/>
                  </a:cubicBezTo>
                  <a:cubicBezTo>
                    <a:pt x="40" y="1288"/>
                    <a:pt x="57" y="1303"/>
                    <a:pt x="74" y="1319"/>
                  </a:cubicBezTo>
                  <a:cubicBezTo>
                    <a:pt x="91" y="1335"/>
                    <a:pt x="108" y="1351"/>
                    <a:pt x="123" y="1369"/>
                  </a:cubicBezTo>
                  <a:cubicBezTo>
                    <a:pt x="130" y="1378"/>
                    <a:pt x="137" y="1387"/>
                    <a:pt x="142" y="1398"/>
                  </a:cubicBezTo>
                  <a:cubicBezTo>
                    <a:pt x="146" y="1406"/>
                    <a:pt x="149" y="1415"/>
                    <a:pt x="149" y="1425"/>
                  </a:cubicBezTo>
                  <a:cubicBezTo>
                    <a:pt x="149" y="1425"/>
                    <a:pt x="149" y="1425"/>
                    <a:pt x="149" y="1425"/>
                  </a:cubicBezTo>
                  <a:cubicBezTo>
                    <a:pt x="146" y="1443"/>
                    <a:pt x="139" y="1461"/>
                    <a:pt x="129" y="1477"/>
                  </a:cubicBezTo>
                  <a:cubicBezTo>
                    <a:pt x="124" y="1485"/>
                    <a:pt x="118" y="1493"/>
                    <a:pt x="111" y="1501"/>
                  </a:cubicBezTo>
                  <a:cubicBezTo>
                    <a:pt x="99" y="1515"/>
                    <a:pt x="84" y="1528"/>
                    <a:pt x="71" y="1541"/>
                  </a:cubicBezTo>
                  <a:cubicBezTo>
                    <a:pt x="55" y="1556"/>
                    <a:pt x="39" y="1572"/>
                    <a:pt x="26" y="1590"/>
                  </a:cubicBezTo>
                  <a:cubicBezTo>
                    <a:pt x="21" y="1595"/>
                    <a:pt x="17" y="1600"/>
                    <a:pt x="13" y="1606"/>
                  </a:cubicBezTo>
                  <a:cubicBezTo>
                    <a:pt x="7" y="1616"/>
                    <a:pt x="2" y="1627"/>
                    <a:pt x="0" y="1639"/>
                  </a:cubicBezTo>
                  <a:cubicBezTo>
                    <a:pt x="0" y="1639"/>
                    <a:pt x="0" y="1640"/>
                    <a:pt x="0" y="1640"/>
                  </a:cubicBezTo>
                  <a:cubicBezTo>
                    <a:pt x="1" y="1646"/>
                    <a:pt x="1" y="1651"/>
                    <a:pt x="0" y="1657"/>
                  </a:cubicBezTo>
                  <a:cubicBezTo>
                    <a:pt x="0" y="1659"/>
                    <a:pt x="0" y="1660"/>
                    <a:pt x="0" y="1661"/>
                  </a:cubicBezTo>
                  <a:cubicBezTo>
                    <a:pt x="1" y="1665"/>
                    <a:pt x="2" y="1669"/>
                    <a:pt x="4" y="1673"/>
                  </a:cubicBezTo>
                  <a:cubicBezTo>
                    <a:pt x="6" y="1676"/>
                    <a:pt x="7" y="1679"/>
                    <a:pt x="9" y="1681"/>
                  </a:cubicBezTo>
                  <a:cubicBezTo>
                    <a:pt x="10" y="1685"/>
                    <a:pt x="12" y="1688"/>
                    <a:pt x="13" y="1691"/>
                  </a:cubicBezTo>
                  <a:cubicBezTo>
                    <a:pt x="15" y="1691"/>
                    <a:pt x="15" y="1691"/>
                    <a:pt x="15" y="1691"/>
                  </a:cubicBezTo>
                  <a:cubicBezTo>
                    <a:pt x="18" y="1694"/>
                    <a:pt x="21" y="1698"/>
                    <a:pt x="24" y="1702"/>
                  </a:cubicBezTo>
                  <a:cubicBezTo>
                    <a:pt x="40" y="1719"/>
                    <a:pt x="57" y="1735"/>
                    <a:pt x="74" y="1751"/>
                  </a:cubicBezTo>
                  <a:cubicBezTo>
                    <a:pt x="91" y="1767"/>
                    <a:pt x="108" y="1783"/>
                    <a:pt x="123" y="1800"/>
                  </a:cubicBezTo>
                  <a:cubicBezTo>
                    <a:pt x="130" y="1809"/>
                    <a:pt x="137" y="1819"/>
                    <a:pt x="142" y="1829"/>
                  </a:cubicBezTo>
                  <a:cubicBezTo>
                    <a:pt x="146" y="1837"/>
                    <a:pt x="149" y="1846"/>
                    <a:pt x="149" y="1855"/>
                  </a:cubicBezTo>
                  <a:cubicBezTo>
                    <a:pt x="149" y="1855"/>
                    <a:pt x="149" y="1855"/>
                    <a:pt x="149" y="1855"/>
                  </a:cubicBezTo>
                  <a:cubicBezTo>
                    <a:pt x="146" y="1874"/>
                    <a:pt x="139" y="1891"/>
                    <a:pt x="129" y="1907"/>
                  </a:cubicBezTo>
                  <a:cubicBezTo>
                    <a:pt x="119" y="1923"/>
                    <a:pt x="107" y="1938"/>
                    <a:pt x="93" y="1951"/>
                  </a:cubicBezTo>
                  <a:cubicBezTo>
                    <a:pt x="86" y="1959"/>
                    <a:pt x="78" y="1966"/>
                    <a:pt x="71" y="1973"/>
                  </a:cubicBezTo>
                  <a:cubicBezTo>
                    <a:pt x="59" y="1984"/>
                    <a:pt x="48" y="1995"/>
                    <a:pt x="37" y="2007"/>
                  </a:cubicBezTo>
                  <a:cubicBezTo>
                    <a:pt x="36" y="2008"/>
                    <a:pt x="36" y="2008"/>
                    <a:pt x="35" y="2009"/>
                  </a:cubicBezTo>
                  <a:cubicBezTo>
                    <a:pt x="27" y="2018"/>
                    <a:pt x="20" y="2027"/>
                    <a:pt x="13" y="2037"/>
                  </a:cubicBezTo>
                  <a:cubicBezTo>
                    <a:pt x="7" y="2047"/>
                    <a:pt x="2" y="2057"/>
                    <a:pt x="0" y="2069"/>
                  </a:cubicBezTo>
                  <a:cubicBezTo>
                    <a:pt x="0" y="2070"/>
                    <a:pt x="0" y="2070"/>
                    <a:pt x="0" y="2071"/>
                  </a:cubicBezTo>
                  <a:cubicBezTo>
                    <a:pt x="1" y="2076"/>
                    <a:pt x="1" y="2082"/>
                    <a:pt x="0" y="2088"/>
                  </a:cubicBezTo>
                  <a:cubicBezTo>
                    <a:pt x="0" y="2089"/>
                    <a:pt x="0" y="2090"/>
                    <a:pt x="0" y="2092"/>
                  </a:cubicBezTo>
                  <a:cubicBezTo>
                    <a:pt x="1" y="2096"/>
                    <a:pt x="2" y="2100"/>
                    <a:pt x="4" y="2104"/>
                  </a:cubicBezTo>
                  <a:cubicBezTo>
                    <a:pt x="5" y="2106"/>
                    <a:pt x="6" y="2107"/>
                    <a:pt x="7" y="2109"/>
                  </a:cubicBezTo>
                  <a:cubicBezTo>
                    <a:pt x="9" y="2114"/>
                    <a:pt x="11" y="2118"/>
                    <a:pt x="13" y="2122"/>
                  </a:cubicBezTo>
                  <a:cubicBezTo>
                    <a:pt x="16" y="2122"/>
                    <a:pt x="16" y="2122"/>
                    <a:pt x="16" y="2122"/>
                  </a:cubicBezTo>
                  <a:cubicBezTo>
                    <a:pt x="19" y="2126"/>
                    <a:pt x="22" y="2129"/>
                    <a:pt x="24" y="2132"/>
                  </a:cubicBezTo>
                  <a:cubicBezTo>
                    <a:pt x="33" y="2142"/>
                    <a:pt x="41" y="2150"/>
                    <a:pt x="50" y="2159"/>
                  </a:cubicBezTo>
                  <a:cubicBezTo>
                    <a:pt x="66" y="2159"/>
                    <a:pt x="66" y="2159"/>
                    <a:pt x="66" y="2159"/>
                  </a:cubicBezTo>
                  <a:cubicBezTo>
                    <a:pt x="54" y="2148"/>
                    <a:pt x="43" y="2137"/>
                    <a:pt x="32" y="2125"/>
                  </a:cubicBezTo>
                  <a:cubicBezTo>
                    <a:pt x="25" y="2117"/>
                    <a:pt x="19" y="2109"/>
                    <a:pt x="14" y="2101"/>
                  </a:cubicBezTo>
                  <a:cubicBezTo>
                    <a:pt x="13" y="2097"/>
                    <a:pt x="13" y="2093"/>
                    <a:pt x="13" y="2089"/>
                  </a:cubicBezTo>
                  <a:cubicBezTo>
                    <a:pt x="11" y="2068"/>
                    <a:pt x="19" y="2048"/>
                    <a:pt x="32" y="2030"/>
                  </a:cubicBezTo>
                  <a:cubicBezTo>
                    <a:pt x="45" y="2012"/>
                    <a:pt x="61" y="1997"/>
                    <a:pt x="78" y="1981"/>
                  </a:cubicBezTo>
                  <a:cubicBezTo>
                    <a:pt x="95" y="1965"/>
                    <a:pt x="113" y="1949"/>
                    <a:pt x="129" y="1931"/>
                  </a:cubicBezTo>
                  <a:cubicBezTo>
                    <a:pt x="136" y="1922"/>
                    <a:pt x="144" y="1912"/>
                    <a:pt x="150" y="1900"/>
                  </a:cubicBezTo>
                  <a:cubicBezTo>
                    <a:pt x="152" y="1895"/>
                    <a:pt x="155" y="1890"/>
                    <a:pt x="156" y="1884"/>
                  </a:cubicBezTo>
                  <a:cubicBezTo>
                    <a:pt x="157" y="1886"/>
                    <a:pt x="158" y="1887"/>
                    <a:pt x="158" y="1889"/>
                  </a:cubicBezTo>
                  <a:cubicBezTo>
                    <a:pt x="158" y="1829"/>
                    <a:pt x="158" y="1829"/>
                    <a:pt x="158" y="1829"/>
                  </a:cubicBezTo>
                  <a:cubicBezTo>
                    <a:pt x="158" y="1830"/>
                    <a:pt x="157" y="1832"/>
                    <a:pt x="156" y="1833"/>
                  </a:cubicBezTo>
                  <a:cubicBezTo>
                    <a:pt x="155" y="1830"/>
                    <a:pt x="154" y="1827"/>
                    <a:pt x="153" y="1824"/>
                  </a:cubicBezTo>
                  <a:cubicBezTo>
                    <a:pt x="147" y="1812"/>
                    <a:pt x="140" y="1802"/>
                    <a:pt x="132" y="1793"/>
                  </a:cubicBezTo>
                  <a:cubicBezTo>
                    <a:pt x="116" y="1774"/>
                    <a:pt x="99" y="1758"/>
                    <a:pt x="82" y="1743"/>
                  </a:cubicBezTo>
                  <a:cubicBezTo>
                    <a:pt x="65" y="1727"/>
                    <a:pt x="47" y="1712"/>
                    <a:pt x="32" y="1695"/>
                  </a:cubicBezTo>
                  <a:cubicBezTo>
                    <a:pt x="26" y="1687"/>
                    <a:pt x="19" y="1679"/>
                    <a:pt x="15" y="1671"/>
                  </a:cubicBezTo>
                  <a:cubicBezTo>
                    <a:pt x="14" y="1667"/>
                    <a:pt x="13" y="1662"/>
                    <a:pt x="13" y="1658"/>
                  </a:cubicBezTo>
                  <a:cubicBezTo>
                    <a:pt x="11" y="1637"/>
                    <a:pt x="19" y="1616"/>
                    <a:pt x="32" y="1599"/>
                  </a:cubicBezTo>
                  <a:cubicBezTo>
                    <a:pt x="45" y="1581"/>
                    <a:pt x="61" y="1565"/>
                    <a:pt x="78" y="1549"/>
                  </a:cubicBezTo>
                  <a:cubicBezTo>
                    <a:pt x="95" y="1534"/>
                    <a:pt x="113" y="1518"/>
                    <a:pt x="129" y="1499"/>
                  </a:cubicBezTo>
                  <a:cubicBezTo>
                    <a:pt x="136" y="1490"/>
                    <a:pt x="144" y="1480"/>
                    <a:pt x="150" y="1469"/>
                  </a:cubicBezTo>
                  <a:cubicBezTo>
                    <a:pt x="152" y="1464"/>
                    <a:pt x="155" y="1458"/>
                    <a:pt x="156" y="1453"/>
                  </a:cubicBezTo>
                  <a:cubicBezTo>
                    <a:pt x="157" y="1454"/>
                    <a:pt x="158" y="1456"/>
                    <a:pt x="158" y="1457"/>
                  </a:cubicBezTo>
                  <a:cubicBezTo>
                    <a:pt x="158" y="1398"/>
                    <a:pt x="158" y="1398"/>
                    <a:pt x="158" y="1398"/>
                  </a:cubicBezTo>
                  <a:cubicBezTo>
                    <a:pt x="158" y="1399"/>
                    <a:pt x="157" y="1400"/>
                    <a:pt x="156" y="1401"/>
                  </a:cubicBezTo>
                  <a:cubicBezTo>
                    <a:pt x="155" y="1398"/>
                    <a:pt x="154" y="1395"/>
                    <a:pt x="153" y="1392"/>
                  </a:cubicBezTo>
                  <a:cubicBezTo>
                    <a:pt x="147" y="1381"/>
                    <a:pt x="140" y="1371"/>
                    <a:pt x="132" y="1361"/>
                  </a:cubicBezTo>
                  <a:cubicBezTo>
                    <a:pt x="116" y="1343"/>
                    <a:pt x="99" y="1327"/>
                    <a:pt x="82" y="1311"/>
                  </a:cubicBezTo>
                  <a:cubicBezTo>
                    <a:pt x="65" y="1295"/>
                    <a:pt x="47" y="1280"/>
                    <a:pt x="32" y="1263"/>
                  </a:cubicBezTo>
                  <a:cubicBezTo>
                    <a:pt x="25" y="1255"/>
                    <a:pt x="19" y="1247"/>
                    <a:pt x="14" y="1238"/>
                  </a:cubicBezTo>
                  <a:cubicBezTo>
                    <a:pt x="13" y="1235"/>
                    <a:pt x="13" y="1232"/>
                    <a:pt x="13" y="1228"/>
                  </a:cubicBezTo>
                  <a:cubicBezTo>
                    <a:pt x="11" y="1207"/>
                    <a:pt x="19" y="1187"/>
                    <a:pt x="32" y="1169"/>
                  </a:cubicBezTo>
                  <a:cubicBezTo>
                    <a:pt x="45" y="1152"/>
                    <a:pt x="61" y="1136"/>
                    <a:pt x="78" y="1120"/>
                  </a:cubicBezTo>
                  <a:cubicBezTo>
                    <a:pt x="95" y="1104"/>
                    <a:pt x="113" y="1089"/>
                    <a:pt x="129" y="1070"/>
                  </a:cubicBezTo>
                  <a:cubicBezTo>
                    <a:pt x="136" y="1061"/>
                    <a:pt x="144" y="1051"/>
                    <a:pt x="150" y="1039"/>
                  </a:cubicBezTo>
                  <a:cubicBezTo>
                    <a:pt x="152" y="1034"/>
                    <a:pt x="155" y="1029"/>
                    <a:pt x="156" y="1024"/>
                  </a:cubicBezTo>
                  <a:cubicBezTo>
                    <a:pt x="157" y="1025"/>
                    <a:pt x="158" y="1026"/>
                    <a:pt x="158" y="1028"/>
                  </a:cubicBezTo>
                  <a:cubicBezTo>
                    <a:pt x="158" y="968"/>
                    <a:pt x="158" y="968"/>
                    <a:pt x="158" y="968"/>
                  </a:cubicBezTo>
                  <a:cubicBezTo>
                    <a:pt x="158" y="969"/>
                    <a:pt x="157" y="971"/>
                    <a:pt x="156" y="972"/>
                  </a:cubicBezTo>
                  <a:cubicBezTo>
                    <a:pt x="155" y="969"/>
                    <a:pt x="154" y="966"/>
                    <a:pt x="153" y="963"/>
                  </a:cubicBezTo>
                  <a:cubicBezTo>
                    <a:pt x="147" y="951"/>
                    <a:pt x="140" y="941"/>
                    <a:pt x="132" y="932"/>
                  </a:cubicBezTo>
                  <a:cubicBezTo>
                    <a:pt x="116" y="913"/>
                    <a:pt x="99" y="897"/>
                    <a:pt x="82" y="882"/>
                  </a:cubicBezTo>
                  <a:cubicBezTo>
                    <a:pt x="65" y="866"/>
                    <a:pt x="47" y="851"/>
                    <a:pt x="32" y="834"/>
                  </a:cubicBezTo>
                  <a:cubicBezTo>
                    <a:pt x="26" y="827"/>
                    <a:pt x="20" y="819"/>
                    <a:pt x="16" y="811"/>
                  </a:cubicBezTo>
                  <a:cubicBezTo>
                    <a:pt x="14" y="806"/>
                    <a:pt x="13" y="801"/>
                    <a:pt x="13" y="795"/>
                  </a:cubicBezTo>
                  <a:cubicBezTo>
                    <a:pt x="11" y="774"/>
                    <a:pt x="19" y="754"/>
                    <a:pt x="32" y="737"/>
                  </a:cubicBezTo>
                  <a:cubicBezTo>
                    <a:pt x="45" y="719"/>
                    <a:pt x="61" y="703"/>
                    <a:pt x="78" y="687"/>
                  </a:cubicBezTo>
                  <a:cubicBezTo>
                    <a:pt x="95" y="671"/>
                    <a:pt x="113" y="656"/>
                    <a:pt x="129" y="637"/>
                  </a:cubicBezTo>
                  <a:cubicBezTo>
                    <a:pt x="136" y="628"/>
                    <a:pt x="144" y="618"/>
                    <a:pt x="150" y="607"/>
                  </a:cubicBezTo>
                  <a:cubicBezTo>
                    <a:pt x="152" y="602"/>
                    <a:pt x="155" y="596"/>
                    <a:pt x="156" y="591"/>
                  </a:cubicBezTo>
                  <a:cubicBezTo>
                    <a:pt x="157" y="592"/>
                    <a:pt x="158" y="594"/>
                    <a:pt x="158" y="595"/>
                  </a:cubicBezTo>
                  <a:cubicBezTo>
                    <a:pt x="158" y="535"/>
                    <a:pt x="158" y="535"/>
                    <a:pt x="158" y="535"/>
                  </a:cubicBezTo>
                  <a:cubicBezTo>
                    <a:pt x="158" y="537"/>
                    <a:pt x="157" y="538"/>
                    <a:pt x="156" y="539"/>
                  </a:cubicBezTo>
                  <a:cubicBezTo>
                    <a:pt x="155" y="536"/>
                    <a:pt x="154" y="533"/>
                    <a:pt x="153" y="530"/>
                  </a:cubicBezTo>
                  <a:cubicBezTo>
                    <a:pt x="147" y="519"/>
                    <a:pt x="140" y="509"/>
                    <a:pt x="132" y="499"/>
                  </a:cubicBezTo>
                  <a:cubicBezTo>
                    <a:pt x="116" y="481"/>
                    <a:pt x="99" y="465"/>
                    <a:pt x="82" y="449"/>
                  </a:cubicBezTo>
                  <a:cubicBezTo>
                    <a:pt x="65" y="433"/>
                    <a:pt x="47" y="418"/>
                    <a:pt x="32" y="401"/>
                  </a:cubicBezTo>
                  <a:cubicBezTo>
                    <a:pt x="26" y="394"/>
                    <a:pt x="20" y="386"/>
                    <a:pt x="16" y="379"/>
                  </a:cubicBezTo>
                  <a:cubicBezTo>
                    <a:pt x="14" y="373"/>
                    <a:pt x="13" y="368"/>
                    <a:pt x="13" y="363"/>
                  </a:cubicBezTo>
                  <a:cubicBezTo>
                    <a:pt x="11" y="342"/>
                    <a:pt x="19" y="322"/>
                    <a:pt x="32" y="304"/>
                  </a:cubicBezTo>
                  <a:cubicBezTo>
                    <a:pt x="45" y="286"/>
                    <a:pt x="61" y="270"/>
                    <a:pt x="78" y="254"/>
                  </a:cubicBezTo>
                  <a:cubicBezTo>
                    <a:pt x="95" y="239"/>
                    <a:pt x="113" y="223"/>
                    <a:pt x="129" y="204"/>
                  </a:cubicBezTo>
                  <a:cubicBezTo>
                    <a:pt x="136" y="195"/>
                    <a:pt x="144" y="185"/>
                    <a:pt x="150" y="174"/>
                  </a:cubicBezTo>
                  <a:cubicBezTo>
                    <a:pt x="152" y="169"/>
                    <a:pt x="155" y="163"/>
                    <a:pt x="156" y="158"/>
                  </a:cubicBezTo>
                  <a:cubicBezTo>
                    <a:pt x="157" y="159"/>
                    <a:pt x="158" y="161"/>
                    <a:pt x="158" y="162"/>
                  </a:cubicBezTo>
                  <a:cubicBezTo>
                    <a:pt x="158" y="103"/>
                    <a:pt x="158" y="103"/>
                    <a:pt x="158" y="103"/>
                  </a:cubicBezTo>
                  <a:cubicBezTo>
                    <a:pt x="158" y="104"/>
                    <a:pt x="157" y="105"/>
                    <a:pt x="156" y="106"/>
                  </a:cubicBezTo>
                  <a:cubicBezTo>
                    <a:pt x="155" y="103"/>
                    <a:pt x="154" y="100"/>
                    <a:pt x="153" y="97"/>
                  </a:cubicBezTo>
                  <a:cubicBezTo>
                    <a:pt x="147" y="86"/>
                    <a:pt x="140" y="76"/>
                    <a:pt x="132" y="66"/>
                  </a:cubicBezTo>
                  <a:cubicBezTo>
                    <a:pt x="116" y="48"/>
                    <a:pt x="99" y="32"/>
                    <a:pt x="82" y="16"/>
                  </a:cubicBezTo>
                  <a:cubicBezTo>
                    <a:pt x="76" y="11"/>
                    <a:pt x="70" y="5"/>
                    <a:pt x="64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57" y="8"/>
                    <a:pt x="65" y="16"/>
                    <a:pt x="74" y="24"/>
                  </a:cubicBezTo>
                  <a:cubicBezTo>
                    <a:pt x="91" y="40"/>
                    <a:pt x="108" y="56"/>
                    <a:pt x="123" y="74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grpSp>
          <p:nvGrpSpPr>
            <p:cNvPr id="229" name="Group 25"/>
            <p:cNvGrpSpPr/>
            <p:nvPr/>
          </p:nvGrpSpPr>
          <p:grpSpPr>
            <a:xfrm>
              <a:off x="-3240" y="-1440"/>
              <a:ext cx="12196440" cy="6862320"/>
              <a:chOff x="-3240" y="-1440"/>
              <a:chExt cx="12196440" cy="6862320"/>
            </a:xfrm>
          </p:grpSpPr>
          <p:sp>
            <p:nvSpPr>
              <p:cNvPr id="230" name="Freeform 23"/>
              <p:cNvSpPr/>
              <p:nvPr/>
            </p:nvSpPr>
            <p:spPr>
              <a:xfrm>
                <a:off x="1620720" y="6353280"/>
                <a:ext cx="786960" cy="50760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4" y="11"/>
                    </a:move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31" name="Freeform 24"/>
              <p:cNvSpPr/>
              <p:nvPr/>
            </p:nvSpPr>
            <p:spPr>
              <a:xfrm>
                <a:off x="603360" y="6353280"/>
                <a:ext cx="788760" cy="50760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5" y="11"/>
                    </a:move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1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7" y="103"/>
                    </a:cubicBezTo>
                    <a:cubicBezTo>
                      <a:pt x="248" y="77"/>
                      <a:pt x="245" y="25"/>
                      <a:pt x="195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32" name="Freeform 25"/>
              <p:cNvSpPr/>
              <p:nvPr/>
            </p:nvSpPr>
            <p:spPr>
              <a:xfrm>
                <a:off x="-3240" y="6359400"/>
                <a:ext cx="380520" cy="50112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120" h="158">
                    <a:moveTo>
                      <a:pt x="108" y="101"/>
                    </a:moveTo>
                    <a:cubicBezTo>
                      <a:pt x="120" y="75"/>
                      <a:pt x="116" y="23"/>
                      <a:pt x="66" y="9"/>
                    </a:cubicBezTo>
                    <a:cubicBezTo>
                      <a:pt x="35" y="0"/>
                      <a:pt x="10" y="15"/>
                      <a:pt x="0" y="22"/>
                    </a:cubicBezTo>
                    <a:cubicBezTo>
                      <a:pt x="0" y="158"/>
                      <a:pt x="0" y="158"/>
                      <a:pt x="0" y="158"/>
                    </a:cubicBezTo>
                    <a:cubicBezTo>
                      <a:pt x="55" y="158"/>
                      <a:pt x="55" y="158"/>
                      <a:pt x="55" y="158"/>
                    </a:cubicBezTo>
                    <a:cubicBezTo>
                      <a:pt x="77" y="141"/>
                      <a:pt x="99" y="120"/>
                      <a:pt x="108" y="1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33" name="Freeform 26"/>
              <p:cNvSpPr/>
              <p:nvPr/>
            </p:nvSpPr>
            <p:spPr>
              <a:xfrm>
                <a:off x="4660920" y="6353280"/>
                <a:ext cx="790200" cy="50760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9" h="160">
                    <a:moveTo>
                      <a:pt x="195" y="11"/>
                    </a:move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21" y="122"/>
                      <a:pt x="43" y="143"/>
                      <a:pt x="65" y="160"/>
                    </a:cubicBezTo>
                    <a:cubicBezTo>
                      <a:pt x="185" y="160"/>
                      <a:pt x="185" y="160"/>
                      <a:pt x="185" y="160"/>
                    </a:cubicBezTo>
                    <a:cubicBezTo>
                      <a:pt x="207" y="143"/>
                      <a:pt x="228" y="122"/>
                      <a:pt x="237" y="103"/>
                    </a:cubicBezTo>
                    <a:cubicBezTo>
                      <a:pt x="249" y="77"/>
                      <a:pt x="246" y="25"/>
                      <a:pt x="195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34" name="Freeform 27"/>
              <p:cNvSpPr/>
              <p:nvPr/>
            </p:nvSpPr>
            <p:spPr>
              <a:xfrm>
                <a:off x="3648240" y="6353280"/>
                <a:ext cx="786960" cy="50760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4" y="11"/>
                    </a:move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35" name="Freeform 28"/>
              <p:cNvSpPr/>
              <p:nvPr/>
            </p:nvSpPr>
            <p:spPr>
              <a:xfrm>
                <a:off x="7716960" y="6353280"/>
                <a:ext cx="788760" cy="50760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4" y="11"/>
                    </a:move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36" name="Freeform 29"/>
              <p:cNvSpPr/>
              <p:nvPr/>
            </p:nvSpPr>
            <p:spPr>
              <a:xfrm>
                <a:off x="6700680" y="6353280"/>
                <a:ext cx="786960" cy="50760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5" y="11"/>
                    </a:move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1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7" y="103"/>
                    </a:cubicBezTo>
                    <a:cubicBezTo>
                      <a:pt x="248" y="77"/>
                      <a:pt x="245" y="25"/>
                      <a:pt x="195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37" name="Freeform 30"/>
              <p:cNvSpPr/>
              <p:nvPr/>
            </p:nvSpPr>
            <p:spPr>
              <a:xfrm>
                <a:off x="1620720" y="496404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38" name="Freeform 31"/>
              <p:cNvSpPr/>
              <p:nvPr/>
            </p:nvSpPr>
            <p:spPr>
              <a:xfrm>
                <a:off x="603360" y="496404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39" name="Freeform 32"/>
              <p:cNvSpPr/>
              <p:nvPr/>
            </p:nvSpPr>
            <p:spPr>
              <a:xfrm>
                <a:off x="-3240" y="4970520"/>
                <a:ext cx="380520" cy="61884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618840"/>
                  <a:gd name="textAreaBottom" fmla="*/ 619200 h 618840"/>
                </a:gdLst>
                <a:ahLst/>
                <a:rect l="textAreaLeft" t="textAreaTop" r="textAreaRight" b="textAreaBottom"/>
                <a:pathLst>
                  <a:path w="120" h="195">
                    <a:moveTo>
                      <a:pt x="108" y="100"/>
                    </a:moveTo>
                    <a:cubicBezTo>
                      <a:pt x="120" y="74"/>
                      <a:pt x="116" y="22"/>
                      <a:pt x="66" y="8"/>
                    </a:cubicBezTo>
                    <a:cubicBezTo>
                      <a:pt x="35" y="0"/>
                      <a:pt x="10" y="15"/>
                      <a:pt x="0" y="22"/>
                    </a:cubicBezTo>
                    <a:cubicBezTo>
                      <a:pt x="0" y="195"/>
                      <a:pt x="0" y="195"/>
                      <a:pt x="0" y="195"/>
                    </a:cubicBezTo>
                    <a:cubicBezTo>
                      <a:pt x="19" y="184"/>
                      <a:pt x="90" y="139"/>
                      <a:pt x="108" y="1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40" name="Freeform 33"/>
              <p:cNvSpPr/>
              <p:nvPr/>
            </p:nvSpPr>
            <p:spPr>
              <a:xfrm>
                <a:off x="98280" y="566568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41" name="Freeform 34"/>
              <p:cNvSpPr/>
              <p:nvPr/>
            </p:nvSpPr>
            <p:spPr>
              <a:xfrm>
                <a:off x="1122480" y="566568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9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42" name="Freeform 35"/>
              <p:cNvSpPr/>
              <p:nvPr/>
            </p:nvSpPr>
            <p:spPr>
              <a:xfrm>
                <a:off x="2131920" y="566568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43" name="Freeform 36"/>
              <p:cNvSpPr/>
              <p:nvPr/>
            </p:nvSpPr>
            <p:spPr>
              <a:xfrm>
                <a:off x="4660920" y="4964040"/>
                <a:ext cx="790200" cy="63468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54" y="10"/>
                    </a:moveTo>
                    <a:cubicBezTo>
                      <a:pt x="4" y="24"/>
                      <a:pt x="0" y="76"/>
                      <a:pt x="12" y="102"/>
                    </a:cubicBezTo>
                    <a:cubicBezTo>
                      <a:pt x="32" y="146"/>
                      <a:pt x="119" y="197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ubicBezTo>
                      <a:pt x="249" y="76"/>
                      <a:pt x="246" y="24"/>
                      <a:pt x="195" y="10"/>
                    </a:cubicBezTo>
                    <a:cubicBezTo>
                      <a:pt x="157" y="0"/>
                      <a:pt x="126" y="26"/>
                      <a:pt x="125" y="28"/>
                    </a:cubicBezTo>
                    <a:cubicBezTo>
                      <a:pt x="123" y="26"/>
                      <a:pt x="93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44" name="Freeform 37"/>
              <p:cNvSpPr/>
              <p:nvPr/>
            </p:nvSpPr>
            <p:spPr>
              <a:xfrm>
                <a:off x="3648240" y="496404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6" y="102"/>
                    </a:move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45" name="Freeform 38"/>
              <p:cNvSpPr/>
              <p:nvPr/>
            </p:nvSpPr>
            <p:spPr>
              <a:xfrm>
                <a:off x="3141720" y="566568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46" name="Freeform 39"/>
              <p:cNvSpPr/>
              <p:nvPr/>
            </p:nvSpPr>
            <p:spPr>
              <a:xfrm>
                <a:off x="4162320" y="566568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47" name="Freeform 40"/>
              <p:cNvSpPr/>
              <p:nvPr/>
            </p:nvSpPr>
            <p:spPr>
              <a:xfrm>
                <a:off x="5175360" y="566568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48" name="Freeform 41"/>
              <p:cNvSpPr/>
              <p:nvPr/>
            </p:nvSpPr>
            <p:spPr>
              <a:xfrm>
                <a:off x="7716960" y="496404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49" name="Freeform 42"/>
              <p:cNvSpPr/>
              <p:nvPr/>
            </p:nvSpPr>
            <p:spPr>
              <a:xfrm>
                <a:off x="6700680" y="496404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50" name="Freeform 43"/>
              <p:cNvSpPr/>
              <p:nvPr/>
            </p:nvSpPr>
            <p:spPr>
              <a:xfrm>
                <a:off x="6195960" y="566568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51" name="Freeform 44"/>
              <p:cNvSpPr/>
              <p:nvPr/>
            </p:nvSpPr>
            <p:spPr>
              <a:xfrm>
                <a:off x="7218360" y="566568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9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52" name="Freeform 45"/>
              <p:cNvSpPr/>
              <p:nvPr/>
            </p:nvSpPr>
            <p:spPr>
              <a:xfrm>
                <a:off x="8228160" y="566568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53" name="Freeform 46"/>
              <p:cNvSpPr/>
              <p:nvPr/>
            </p:nvSpPr>
            <p:spPr>
              <a:xfrm>
                <a:off x="1620720" y="361620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54" name="Freeform 47"/>
              <p:cNvSpPr/>
              <p:nvPr/>
            </p:nvSpPr>
            <p:spPr>
              <a:xfrm>
                <a:off x="603360" y="361620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55" name="Freeform 48"/>
              <p:cNvSpPr/>
              <p:nvPr/>
            </p:nvSpPr>
            <p:spPr>
              <a:xfrm>
                <a:off x="-3240" y="3622680"/>
                <a:ext cx="380520" cy="61884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618840"/>
                  <a:gd name="textAreaBottom" fmla="*/ 619200 h 618840"/>
                </a:gdLst>
                <a:ahLst/>
                <a:rect l="textAreaLeft" t="textAreaTop" r="textAreaRight" b="textAreaBottom"/>
                <a:pathLst>
                  <a:path w="120" h="195">
                    <a:moveTo>
                      <a:pt x="108" y="100"/>
                    </a:moveTo>
                    <a:cubicBezTo>
                      <a:pt x="120" y="74"/>
                      <a:pt x="116" y="22"/>
                      <a:pt x="66" y="8"/>
                    </a:cubicBezTo>
                    <a:cubicBezTo>
                      <a:pt x="35" y="0"/>
                      <a:pt x="10" y="15"/>
                      <a:pt x="0" y="22"/>
                    </a:cubicBezTo>
                    <a:cubicBezTo>
                      <a:pt x="0" y="195"/>
                      <a:pt x="0" y="195"/>
                      <a:pt x="0" y="195"/>
                    </a:cubicBezTo>
                    <a:cubicBezTo>
                      <a:pt x="19" y="184"/>
                      <a:pt x="90" y="139"/>
                      <a:pt x="108" y="1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56" name="Freeform 49"/>
              <p:cNvSpPr/>
              <p:nvPr/>
            </p:nvSpPr>
            <p:spPr>
              <a:xfrm>
                <a:off x="98280" y="43178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57" name="Freeform 50"/>
              <p:cNvSpPr/>
              <p:nvPr/>
            </p:nvSpPr>
            <p:spPr>
              <a:xfrm>
                <a:off x="1122480" y="431784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58" name="Freeform 51"/>
              <p:cNvSpPr/>
              <p:nvPr/>
            </p:nvSpPr>
            <p:spPr>
              <a:xfrm>
                <a:off x="2131920" y="43178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59" name="Freeform 52"/>
              <p:cNvSpPr/>
              <p:nvPr/>
            </p:nvSpPr>
            <p:spPr>
              <a:xfrm>
                <a:off x="4660920" y="3616200"/>
                <a:ext cx="790200" cy="63468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54" y="10"/>
                    </a:moveTo>
                    <a:cubicBezTo>
                      <a:pt x="4" y="24"/>
                      <a:pt x="0" y="76"/>
                      <a:pt x="12" y="102"/>
                    </a:cubicBezTo>
                    <a:cubicBezTo>
                      <a:pt x="32" y="146"/>
                      <a:pt x="119" y="197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ubicBezTo>
                      <a:pt x="249" y="76"/>
                      <a:pt x="246" y="24"/>
                      <a:pt x="195" y="10"/>
                    </a:cubicBezTo>
                    <a:cubicBezTo>
                      <a:pt x="157" y="0"/>
                      <a:pt x="126" y="26"/>
                      <a:pt x="125" y="28"/>
                    </a:cubicBezTo>
                    <a:cubicBezTo>
                      <a:pt x="123" y="26"/>
                      <a:pt x="93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60" name="Freeform 53"/>
              <p:cNvSpPr/>
              <p:nvPr/>
            </p:nvSpPr>
            <p:spPr>
              <a:xfrm>
                <a:off x="3648240" y="361620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6" y="102"/>
                    </a:move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61" name="Freeform 54"/>
              <p:cNvSpPr/>
              <p:nvPr/>
            </p:nvSpPr>
            <p:spPr>
              <a:xfrm>
                <a:off x="3141720" y="431784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62" name="Freeform 55"/>
              <p:cNvSpPr/>
              <p:nvPr/>
            </p:nvSpPr>
            <p:spPr>
              <a:xfrm>
                <a:off x="4162320" y="43178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63" name="Freeform 56"/>
              <p:cNvSpPr/>
              <p:nvPr/>
            </p:nvSpPr>
            <p:spPr>
              <a:xfrm>
                <a:off x="5175360" y="431784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64" name="Freeform 57"/>
              <p:cNvSpPr/>
              <p:nvPr/>
            </p:nvSpPr>
            <p:spPr>
              <a:xfrm>
                <a:off x="7716960" y="361620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65" name="Freeform 58"/>
              <p:cNvSpPr/>
              <p:nvPr/>
            </p:nvSpPr>
            <p:spPr>
              <a:xfrm>
                <a:off x="6700680" y="361620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66" name="Freeform 59"/>
              <p:cNvSpPr/>
              <p:nvPr/>
            </p:nvSpPr>
            <p:spPr>
              <a:xfrm>
                <a:off x="6195960" y="43178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67" name="Freeform 60"/>
              <p:cNvSpPr/>
              <p:nvPr/>
            </p:nvSpPr>
            <p:spPr>
              <a:xfrm>
                <a:off x="7218360" y="431784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68" name="Freeform 61"/>
              <p:cNvSpPr/>
              <p:nvPr/>
            </p:nvSpPr>
            <p:spPr>
              <a:xfrm>
                <a:off x="8228160" y="431784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69" name="Freeform 62"/>
              <p:cNvSpPr/>
              <p:nvPr/>
            </p:nvSpPr>
            <p:spPr>
              <a:xfrm>
                <a:off x="1620720" y="225576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70" name="Freeform 63"/>
              <p:cNvSpPr/>
              <p:nvPr/>
            </p:nvSpPr>
            <p:spPr>
              <a:xfrm>
                <a:off x="603360" y="225576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71" name="Freeform 64"/>
              <p:cNvSpPr/>
              <p:nvPr/>
            </p:nvSpPr>
            <p:spPr>
              <a:xfrm>
                <a:off x="-3240" y="2262240"/>
                <a:ext cx="380520" cy="61884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618840"/>
                  <a:gd name="textAreaBottom" fmla="*/ 619200 h 618840"/>
                </a:gdLst>
                <a:ahLst/>
                <a:rect l="textAreaLeft" t="textAreaTop" r="textAreaRight" b="textAreaBottom"/>
                <a:pathLst>
                  <a:path w="120" h="195">
                    <a:moveTo>
                      <a:pt x="108" y="100"/>
                    </a:moveTo>
                    <a:cubicBezTo>
                      <a:pt x="120" y="74"/>
                      <a:pt x="116" y="22"/>
                      <a:pt x="66" y="8"/>
                    </a:cubicBezTo>
                    <a:cubicBezTo>
                      <a:pt x="35" y="0"/>
                      <a:pt x="10" y="15"/>
                      <a:pt x="0" y="22"/>
                    </a:cubicBezTo>
                    <a:cubicBezTo>
                      <a:pt x="0" y="195"/>
                      <a:pt x="0" y="195"/>
                      <a:pt x="0" y="195"/>
                    </a:cubicBezTo>
                    <a:cubicBezTo>
                      <a:pt x="19" y="184"/>
                      <a:pt x="90" y="139"/>
                      <a:pt x="108" y="1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72" name="Freeform 65"/>
              <p:cNvSpPr/>
              <p:nvPr/>
            </p:nvSpPr>
            <p:spPr>
              <a:xfrm>
                <a:off x="98280" y="295740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73" name="Freeform 66"/>
              <p:cNvSpPr/>
              <p:nvPr/>
            </p:nvSpPr>
            <p:spPr>
              <a:xfrm>
                <a:off x="1122480" y="295740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74" name="Freeform 67"/>
              <p:cNvSpPr/>
              <p:nvPr/>
            </p:nvSpPr>
            <p:spPr>
              <a:xfrm>
                <a:off x="2131920" y="295740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75" name="Freeform 68"/>
              <p:cNvSpPr/>
              <p:nvPr/>
            </p:nvSpPr>
            <p:spPr>
              <a:xfrm>
                <a:off x="4660920" y="2255760"/>
                <a:ext cx="790200" cy="63468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54" y="10"/>
                    </a:moveTo>
                    <a:cubicBezTo>
                      <a:pt x="4" y="24"/>
                      <a:pt x="0" y="76"/>
                      <a:pt x="12" y="102"/>
                    </a:cubicBezTo>
                    <a:cubicBezTo>
                      <a:pt x="32" y="146"/>
                      <a:pt x="119" y="197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ubicBezTo>
                      <a:pt x="249" y="76"/>
                      <a:pt x="246" y="24"/>
                      <a:pt x="195" y="10"/>
                    </a:cubicBezTo>
                    <a:cubicBezTo>
                      <a:pt x="157" y="0"/>
                      <a:pt x="126" y="26"/>
                      <a:pt x="125" y="28"/>
                    </a:cubicBezTo>
                    <a:cubicBezTo>
                      <a:pt x="123" y="26"/>
                      <a:pt x="93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76" name="Freeform 69"/>
              <p:cNvSpPr/>
              <p:nvPr/>
            </p:nvSpPr>
            <p:spPr>
              <a:xfrm>
                <a:off x="3648240" y="225576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6" y="102"/>
                    </a:move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77" name="Freeform 70"/>
              <p:cNvSpPr/>
              <p:nvPr/>
            </p:nvSpPr>
            <p:spPr>
              <a:xfrm>
                <a:off x="3141720" y="295740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78" name="Freeform 71"/>
              <p:cNvSpPr/>
              <p:nvPr/>
            </p:nvSpPr>
            <p:spPr>
              <a:xfrm>
                <a:off x="4162320" y="295740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79" name="Freeform 72"/>
              <p:cNvSpPr/>
              <p:nvPr/>
            </p:nvSpPr>
            <p:spPr>
              <a:xfrm>
                <a:off x="5175360" y="295740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80" name="Freeform 73"/>
              <p:cNvSpPr/>
              <p:nvPr/>
            </p:nvSpPr>
            <p:spPr>
              <a:xfrm>
                <a:off x="7716960" y="225576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81" name="Freeform 74"/>
              <p:cNvSpPr/>
              <p:nvPr/>
            </p:nvSpPr>
            <p:spPr>
              <a:xfrm>
                <a:off x="6700680" y="225576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82" name="Freeform 75"/>
              <p:cNvSpPr/>
              <p:nvPr/>
            </p:nvSpPr>
            <p:spPr>
              <a:xfrm>
                <a:off x="8734320" y="2255760"/>
                <a:ext cx="793440" cy="634680"/>
              </a:xfrm>
              <a:custGeom>
                <a:avLst/>
                <a:gdLst>
                  <a:gd name="textAreaLeft" fmla="*/ 0 w 793440"/>
                  <a:gd name="textAreaRight" fmla="*/ 793800 w 79344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50" h="200">
                    <a:moveTo>
                      <a:pt x="128" y="24"/>
                    </a:moveTo>
                    <a:cubicBezTo>
                      <a:pt x="126" y="26"/>
                      <a:pt x="124" y="27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199"/>
                      <a:pt x="128" y="197"/>
                    </a:cubicBezTo>
                    <a:cubicBezTo>
                      <a:pt x="128" y="198"/>
                      <a:pt x="128" y="198"/>
                      <a:pt x="128" y="198"/>
                    </a:cubicBezTo>
                    <a:cubicBezTo>
                      <a:pt x="144" y="189"/>
                      <a:pt x="220" y="142"/>
                      <a:pt x="238" y="102"/>
                    </a:cubicBezTo>
                    <a:cubicBezTo>
                      <a:pt x="250" y="76"/>
                      <a:pt x="246" y="24"/>
                      <a:pt x="196" y="10"/>
                    </a:cubicBezTo>
                    <a:cubicBezTo>
                      <a:pt x="163" y="1"/>
                      <a:pt x="137" y="19"/>
                      <a:pt x="128" y="25"/>
                    </a:cubicBezTo>
                    <a:lnTo>
                      <a:pt x="128" y="24"/>
                    </a:ln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83" name="Freeform 76"/>
              <p:cNvSpPr/>
              <p:nvPr/>
            </p:nvSpPr>
            <p:spPr>
              <a:xfrm>
                <a:off x="6195960" y="295740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84" name="Freeform 77"/>
              <p:cNvSpPr/>
              <p:nvPr/>
            </p:nvSpPr>
            <p:spPr>
              <a:xfrm>
                <a:off x="7218360" y="295740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85" name="Freeform 78"/>
              <p:cNvSpPr/>
              <p:nvPr/>
            </p:nvSpPr>
            <p:spPr>
              <a:xfrm>
                <a:off x="8228160" y="295740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86" name="Freeform 79"/>
              <p:cNvSpPr/>
              <p:nvPr/>
            </p:nvSpPr>
            <p:spPr>
              <a:xfrm>
                <a:off x="1620720" y="863640"/>
                <a:ext cx="786960" cy="6379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54" y="11"/>
                    </a:move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87" name="Freeform 80"/>
              <p:cNvSpPr/>
              <p:nvPr/>
            </p:nvSpPr>
            <p:spPr>
              <a:xfrm>
                <a:off x="603360" y="863640"/>
                <a:ext cx="788760" cy="63792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7" y="103"/>
                    </a:moveTo>
                    <a:cubicBezTo>
                      <a:pt x="248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88" name="Freeform 81"/>
              <p:cNvSpPr/>
              <p:nvPr/>
            </p:nvSpPr>
            <p:spPr>
              <a:xfrm>
                <a:off x="-3240" y="870120"/>
                <a:ext cx="380520" cy="62208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622080"/>
                  <a:gd name="textAreaBottom" fmla="*/ 622440 h 622080"/>
                </a:gdLst>
                <a:ahLst/>
                <a:rect l="textAreaLeft" t="textAreaTop" r="textAreaRight" b="textAreaBottom"/>
                <a:pathLst>
                  <a:path w="120" h="196">
                    <a:moveTo>
                      <a:pt x="108" y="101"/>
                    </a:moveTo>
                    <a:cubicBezTo>
                      <a:pt x="120" y="75"/>
                      <a:pt x="116" y="23"/>
                      <a:pt x="66" y="9"/>
                    </a:cubicBezTo>
                    <a:cubicBezTo>
                      <a:pt x="35" y="0"/>
                      <a:pt x="10" y="15"/>
                      <a:pt x="0" y="23"/>
                    </a:cubicBezTo>
                    <a:cubicBezTo>
                      <a:pt x="0" y="196"/>
                      <a:pt x="0" y="196"/>
                      <a:pt x="0" y="196"/>
                    </a:cubicBezTo>
                    <a:cubicBezTo>
                      <a:pt x="19" y="184"/>
                      <a:pt x="90" y="140"/>
                      <a:pt x="108" y="1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89" name="Freeform 82"/>
              <p:cNvSpPr/>
              <p:nvPr/>
            </p:nvSpPr>
            <p:spPr>
              <a:xfrm>
                <a:off x="98280" y="1568520"/>
                <a:ext cx="790200" cy="63612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124" y="200"/>
                    </a:moveTo>
                    <a:cubicBezTo>
                      <a:pt x="124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ubicBezTo>
                      <a:pt x="249" y="77"/>
                      <a:pt x="245" y="24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90" name="Freeform 83"/>
              <p:cNvSpPr/>
              <p:nvPr/>
            </p:nvSpPr>
            <p:spPr>
              <a:xfrm>
                <a:off x="1122480" y="1568520"/>
                <a:ext cx="786960" cy="6361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6" y="103"/>
                    </a:moveTo>
                    <a:cubicBezTo>
                      <a:pt x="248" y="77"/>
                      <a:pt x="245" y="24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4"/>
                      <a:pt x="0" y="77"/>
                      <a:pt x="11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6" y="146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91" name="Freeform 84"/>
              <p:cNvSpPr/>
              <p:nvPr/>
            </p:nvSpPr>
            <p:spPr>
              <a:xfrm>
                <a:off x="2131920" y="1568520"/>
                <a:ext cx="790200" cy="63612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237" y="103"/>
                    </a:moveTo>
                    <a:cubicBezTo>
                      <a:pt x="249" y="77"/>
                      <a:pt x="245" y="24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92" name="Freeform 85"/>
              <p:cNvSpPr/>
              <p:nvPr/>
            </p:nvSpPr>
            <p:spPr>
              <a:xfrm>
                <a:off x="4660920" y="863640"/>
                <a:ext cx="790200" cy="63792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54" y="11"/>
                    </a:move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5" y="200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ubicBezTo>
                      <a:pt x="249" y="77"/>
                      <a:pt x="246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93" name="Freeform 86"/>
              <p:cNvSpPr/>
              <p:nvPr/>
            </p:nvSpPr>
            <p:spPr>
              <a:xfrm>
                <a:off x="5692680" y="6353280"/>
                <a:ext cx="788760" cy="50760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4" y="11"/>
                    </a:move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94" name="Freeform 87"/>
              <p:cNvSpPr/>
              <p:nvPr/>
            </p:nvSpPr>
            <p:spPr>
              <a:xfrm>
                <a:off x="5692680" y="496404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124" y="200"/>
                    </a:move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95" name="Freeform 88"/>
              <p:cNvSpPr/>
              <p:nvPr/>
            </p:nvSpPr>
            <p:spPr>
              <a:xfrm>
                <a:off x="5692680" y="361620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124" y="200"/>
                    </a:move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96" name="Freeform 89"/>
              <p:cNvSpPr/>
              <p:nvPr/>
            </p:nvSpPr>
            <p:spPr>
              <a:xfrm>
                <a:off x="5692680" y="225576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124" y="200"/>
                    </a:move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97" name="Freeform 90"/>
              <p:cNvSpPr/>
              <p:nvPr/>
            </p:nvSpPr>
            <p:spPr>
              <a:xfrm>
                <a:off x="5692680" y="863640"/>
                <a:ext cx="788760" cy="63792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124" y="201"/>
                    </a:move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98" name="Freeform 91"/>
              <p:cNvSpPr/>
              <p:nvPr/>
            </p:nvSpPr>
            <p:spPr>
              <a:xfrm>
                <a:off x="3648240" y="863640"/>
                <a:ext cx="786960" cy="6379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299" name="Freeform 92"/>
              <p:cNvSpPr/>
              <p:nvPr/>
            </p:nvSpPr>
            <p:spPr>
              <a:xfrm>
                <a:off x="2639880" y="6353280"/>
                <a:ext cx="786960" cy="50760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4" y="11"/>
                    </a:move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00" name="Freeform 93"/>
              <p:cNvSpPr/>
              <p:nvPr/>
            </p:nvSpPr>
            <p:spPr>
              <a:xfrm>
                <a:off x="2639880" y="496404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01" name="Freeform 94"/>
              <p:cNvSpPr/>
              <p:nvPr/>
            </p:nvSpPr>
            <p:spPr>
              <a:xfrm>
                <a:off x="2639880" y="361620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02" name="Freeform 95"/>
              <p:cNvSpPr/>
              <p:nvPr/>
            </p:nvSpPr>
            <p:spPr>
              <a:xfrm>
                <a:off x="2639880" y="225576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03" name="Freeform 96"/>
              <p:cNvSpPr/>
              <p:nvPr/>
            </p:nvSpPr>
            <p:spPr>
              <a:xfrm>
                <a:off x="2639880" y="863640"/>
                <a:ext cx="786960" cy="6379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54" y="11"/>
                    </a:move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04" name="Freeform 97"/>
              <p:cNvSpPr/>
              <p:nvPr/>
            </p:nvSpPr>
            <p:spPr>
              <a:xfrm>
                <a:off x="3141720" y="1568520"/>
                <a:ext cx="791640" cy="63612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124" y="200"/>
                    </a:move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ubicBezTo>
                      <a:pt x="249" y="77"/>
                      <a:pt x="245" y="24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4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05" name="Freeform 98"/>
              <p:cNvSpPr/>
              <p:nvPr/>
            </p:nvSpPr>
            <p:spPr>
              <a:xfrm>
                <a:off x="4162320" y="1568520"/>
                <a:ext cx="790200" cy="63612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237" y="103"/>
                    </a:moveTo>
                    <a:cubicBezTo>
                      <a:pt x="249" y="77"/>
                      <a:pt x="245" y="24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06" name="Freeform 99"/>
              <p:cNvSpPr/>
              <p:nvPr/>
            </p:nvSpPr>
            <p:spPr>
              <a:xfrm>
                <a:off x="5175360" y="1568520"/>
                <a:ext cx="786960" cy="6361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6" y="103"/>
                    </a:moveTo>
                    <a:cubicBezTo>
                      <a:pt x="248" y="77"/>
                      <a:pt x="245" y="24"/>
                      <a:pt x="194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4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07" name="Freeform 100"/>
              <p:cNvSpPr/>
              <p:nvPr/>
            </p:nvSpPr>
            <p:spPr>
              <a:xfrm>
                <a:off x="7716960" y="863640"/>
                <a:ext cx="788760" cy="63792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54" y="11"/>
                    </a:move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08" name="Freeform 101"/>
              <p:cNvSpPr/>
              <p:nvPr/>
            </p:nvSpPr>
            <p:spPr>
              <a:xfrm>
                <a:off x="6700680" y="863640"/>
                <a:ext cx="786960" cy="6379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7" y="103"/>
                    </a:moveTo>
                    <a:cubicBezTo>
                      <a:pt x="248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09" name="Freeform 102"/>
              <p:cNvSpPr/>
              <p:nvPr/>
            </p:nvSpPr>
            <p:spPr>
              <a:xfrm>
                <a:off x="8734320" y="863640"/>
                <a:ext cx="793440" cy="637920"/>
              </a:xfrm>
              <a:custGeom>
                <a:avLst/>
                <a:gdLst>
                  <a:gd name="textAreaLeft" fmla="*/ 0 w 793440"/>
                  <a:gd name="textAreaRight" fmla="*/ 793800 w 79344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50" h="201">
                    <a:moveTo>
                      <a:pt x="54" y="11"/>
                    </a:move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199"/>
                      <a:pt x="128" y="198"/>
                    </a:cubicBezTo>
                    <a:cubicBezTo>
                      <a:pt x="128" y="199"/>
                      <a:pt x="128" y="199"/>
                      <a:pt x="128" y="199"/>
                    </a:cubicBezTo>
                    <a:cubicBezTo>
                      <a:pt x="144" y="189"/>
                      <a:pt x="220" y="143"/>
                      <a:pt x="238" y="103"/>
                    </a:cubicBezTo>
                    <a:cubicBezTo>
                      <a:pt x="250" y="77"/>
                      <a:pt x="246" y="25"/>
                      <a:pt x="196" y="11"/>
                    </a:cubicBezTo>
                    <a:cubicBezTo>
                      <a:pt x="163" y="2"/>
                      <a:pt x="137" y="19"/>
                      <a:pt x="128" y="26"/>
                    </a:cubicBezTo>
                    <a:cubicBezTo>
                      <a:pt x="128" y="25"/>
                      <a:pt x="128" y="25"/>
                      <a:pt x="128" y="25"/>
                    </a:cubicBezTo>
                    <a:cubicBezTo>
                      <a:pt x="126" y="27"/>
                      <a:pt x="124" y="28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10" name="Freeform 103"/>
              <p:cNvSpPr/>
              <p:nvPr/>
            </p:nvSpPr>
            <p:spPr>
              <a:xfrm>
                <a:off x="6195960" y="1568520"/>
                <a:ext cx="790200" cy="63612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124" y="200"/>
                    </a:moveTo>
                    <a:cubicBezTo>
                      <a:pt x="124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ubicBezTo>
                      <a:pt x="249" y="77"/>
                      <a:pt x="245" y="24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11" name="Freeform 104"/>
              <p:cNvSpPr/>
              <p:nvPr/>
            </p:nvSpPr>
            <p:spPr>
              <a:xfrm>
                <a:off x="7218360" y="1568520"/>
                <a:ext cx="786960" cy="6361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6" y="103"/>
                    </a:moveTo>
                    <a:cubicBezTo>
                      <a:pt x="248" y="77"/>
                      <a:pt x="245" y="24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4"/>
                      <a:pt x="0" y="77"/>
                      <a:pt x="11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6" y="146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12" name="Freeform 105"/>
              <p:cNvSpPr/>
              <p:nvPr/>
            </p:nvSpPr>
            <p:spPr>
              <a:xfrm>
                <a:off x="8228160" y="1568520"/>
                <a:ext cx="791640" cy="63612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237" y="103"/>
                    </a:moveTo>
                    <a:cubicBezTo>
                      <a:pt x="249" y="77"/>
                      <a:pt x="245" y="24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13" name="Freeform 106"/>
              <p:cNvSpPr/>
              <p:nvPr/>
            </p:nvSpPr>
            <p:spPr>
              <a:xfrm>
                <a:off x="184644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0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14" name="Freeform 107"/>
              <p:cNvSpPr/>
              <p:nvPr/>
            </p:nvSpPr>
            <p:spPr>
              <a:xfrm>
                <a:off x="286560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0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15" name="Freeform 108"/>
              <p:cNvSpPr/>
              <p:nvPr/>
            </p:nvSpPr>
            <p:spPr>
              <a:xfrm>
                <a:off x="5918040" y="-1440"/>
                <a:ext cx="337680" cy="110880"/>
              </a:xfrm>
              <a:custGeom>
                <a:avLst/>
                <a:gdLst>
                  <a:gd name="textAreaLeft" fmla="*/ 0 w 337680"/>
                  <a:gd name="textAreaRight" fmla="*/ 338040 w 3376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0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16" name="Freeform 109"/>
              <p:cNvSpPr/>
              <p:nvPr/>
            </p:nvSpPr>
            <p:spPr>
              <a:xfrm>
                <a:off x="828720" y="-1440"/>
                <a:ext cx="337680" cy="110880"/>
              </a:xfrm>
              <a:custGeom>
                <a:avLst/>
                <a:gdLst>
                  <a:gd name="textAreaLeft" fmla="*/ 0 w 337680"/>
                  <a:gd name="textAreaRight" fmla="*/ 338040 w 3376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1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17" name="Freeform 110"/>
              <p:cNvSpPr/>
              <p:nvPr/>
            </p:nvSpPr>
            <p:spPr>
              <a:xfrm>
                <a:off x="-3240" y="-1440"/>
                <a:ext cx="151920" cy="10116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48" h="32">
                    <a:moveTo>
                      <a:pt x="0" y="0"/>
                    </a:moveTo>
                    <a:cubicBezTo>
                      <a:pt x="0" y="32"/>
                      <a:pt x="0" y="32"/>
                      <a:pt x="0" y="32"/>
                    </a:cubicBezTo>
                    <a:cubicBezTo>
                      <a:pt x="9" y="27"/>
                      <a:pt x="28" y="15"/>
                      <a:pt x="48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18" name="Freeform 111"/>
              <p:cNvSpPr/>
              <p:nvPr/>
            </p:nvSpPr>
            <p:spPr>
              <a:xfrm>
                <a:off x="98280" y="1760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8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19" name="Freeform 112"/>
              <p:cNvSpPr/>
              <p:nvPr/>
            </p:nvSpPr>
            <p:spPr>
              <a:xfrm>
                <a:off x="1122480" y="17604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9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20" name="Freeform 113"/>
              <p:cNvSpPr/>
              <p:nvPr/>
            </p:nvSpPr>
            <p:spPr>
              <a:xfrm>
                <a:off x="2131920" y="1760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" y="103"/>
                    </a:moveTo>
                    <a:cubicBezTo>
                      <a:pt x="32" y="147"/>
                      <a:pt x="119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21" name="Freeform 114"/>
              <p:cNvSpPr/>
              <p:nvPr/>
            </p:nvSpPr>
            <p:spPr>
              <a:xfrm>
                <a:off x="488952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0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5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22" name="Freeform 115"/>
              <p:cNvSpPr/>
              <p:nvPr/>
            </p:nvSpPr>
            <p:spPr>
              <a:xfrm>
                <a:off x="387360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0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23" name="Freeform 116"/>
              <p:cNvSpPr/>
              <p:nvPr/>
            </p:nvSpPr>
            <p:spPr>
              <a:xfrm>
                <a:off x="3141720" y="17604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8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24" name="Freeform 117"/>
              <p:cNvSpPr/>
              <p:nvPr/>
            </p:nvSpPr>
            <p:spPr>
              <a:xfrm>
                <a:off x="4162320" y="1760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25" name="Freeform 118"/>
              <p:cNvSpPr/>
              <p:nvPr/>
            </p:nvSpPr>
            <p:spPr>
              <a:xfrm>
                <a:off x="5175360" y="17604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12" y="103"/>
                    </a:moveTo>
                    <a:cubicBezTo>
                      <a:pt x="31" y="147"/>
                      <a:pt x="118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7" y="147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26" name="Freeform 119"/>
              <p:cNvSpPr/>
              <p:nvPr/>
            </p:nvSpPr>
            <p:spPr>
              <a:xfrm>
                <a:off x="794232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0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27" name="Freeform 120"/>
              <p:cNvSpPr/>
              <p:nvPr/>
            </p:nvSpPr>
            <p:spPr>
              <a:xfrm>
                <a:off x="692640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1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28" name="Freeform 121"/>
              <p:cNvSpPr/>
              <p:nvPr/>
            </p:nvSpPr>
            <p:spPr>
              <a:xfrm>
                <a:off x="8959680" y="-1440"/>
                <a:ext cx="339480" cy="110880"/>
              </a:xfrm>
              <a:custGeom>
                <a:avLst/>
                <a:gdLst>
                  <a:gd name="textAreaLeft" fmla="*/ 0 w 339480"/>
                  <a:gd name="textAreaRight" fmla="*/ 339840 w 3394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7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4" y="35"/>
                      <a:pt x="55" y="34"/>
                      <a:pt x="57" y="33"/>
                    </a:cubicBezTo>
                    <a:cubicBezTo>
                      <a:pt x="57" y="33"/>
                      <a:pt x="57" y="33"/>
                      <a:pt x="57" y="33"/>
                    </a:cubicBezTo>
                    <a:cubicBezTo>
                      <a:pt x="65" y="29"/>
                      <a:pt x="86" y="16"/>
                      <a:pt x="107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29" name="Freeform 122"/>
              <p:cNvSpPr/>
              <p:nvPr/>
            </p:nvSpPr>
            <p:spPr>
              <a:xfrm>
                <a:off x="6195960" y="1760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8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30" name="Freeform 123"/>
              <p:cNvSpPr/>
              <p:nvPr/>
            </p:nvSpPr>
            <p:spPr>
              <a:xfrm>
                <a:off x="7218360" y="17604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9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31" name="Freeform 124"/>
              <p:cNvSpPr/>
              <p:nvPr/>
            </p:nvSpPr>
            <p:spPr>
              <a:xfrm>
                <a:off x="8228160" y="17604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" y="103"/>
                    </a:moveTo>
                    <a:cubicBezTo>
                      <a:pt x="32" y="147"/>
                      <a:pt x="119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32" name="Freeform 125"/>
              <p:cNvSpPr/>
              <p:nvPr/>
            </p:nvSpPr>
            <p:spPr>
              <a:xfrm>
                <a:off x="10769760" y="6353280"/>
                <a:ext cx="788760" cy="50760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4" y="11"/>
                    </a:move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33" name="Freeform 126"/>
              <p:cNvSpPr/>
              <p:nvPr/>
            </p:nvSpPr>
            <p:spPr>
              <a:xfrm>
                <a:off x="9753480" y="6353280"/>
                <a:ext cx="786960" cy="50760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5" y="11"/>
                    </a:move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1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7" y="103"/>
                    </a:cubicBezTo>
                    <a:cubicBezTo>
                      <a:pt x="248" y="77"/>
                      <a:pt x="245" y="25"/>
                      <a:pt x="195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34" name="Freeform 127"/>
              <p:cNvSpPr/>
              <p:nvPr/>
            </p:nvSpPr>
            <p:spPr>
              <a:xfrm>
                <a:off x="8734320" y="6353280"/>
                <a:ext cx="793440" cy="507600"/>
              </a:xfrm>
              <a:custGeom>
                <a:avLst/>
                <a:gdLst>
                  <a:gd name="textAreaLeft" fmla="*/ 0 w 793440"/>
                  <a:gd name="textAreaRight" fmla="*/ 793800 w 79344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50" h="160">
                    <a:moveTo>
                      <a:pt x="196" y="11"/>
                    </a:moveTo>
                    <a:cubicBezTo>
                      <a:pt x="163" y="2"/>
                      <a:pt x="137" y="19"/>
                      <a:pt x="128" y="26"/>
                    </a:cubicBezTo>
                    <a:cubicBezTo>
                      <a:pt x="128" y="25"/>
                      <a:pt x="128" y="25"/>
                      <a:pt x="128" y="25"/>
                    </a:cubicBezTo>
                    <a:cubicBezTo>
                      <a:pt x="126" y="27"/>
                      <a:pt x="124" y="28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28" y="160"/>
                      <a:pt x="128" y="160"/>
                      <a:pt x="128" y="160"/>
                    </a:cubicBezTo>
                    <a:cubicBezTo>
                      <a:pt x="185" y="160"/>
                      <a:pt x="185" y="160"/>
                      <a:pt x="185" y="160"/>
                    </a:cubicBezTo>
                    <a:cubicBezTo>
                      <a:pt x="207" y="143"/>
                      <a:pt x="229" y="122"/>
                      <a:pt x="238" y="103"/>
                    </a:cubicBezTo>
                    <a:cubicBezTo>
                      <a:pt x="250" y="77"/>
                      <a:pt x="246" y="25"/>
                      <a:pt x="196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35" name="Freeform 128"/>
              <p:cNvSpPr/>
              <p:nvPr/>
            </p:nvSpPr>
            <p:spPr>
              <a:xfrm>
                <a:off x="10769760" y="496404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36" name="Freeform 129"/>
              <p:cNvSpPr/>
              <p:nvPr/>
            </p:nvSpPr>
            <p:spPr>
              <a:xfrm>
                <a:off x="9753480" y="496404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37" name="Freeform 130"/>
              <p:cNvSpPr/>
              <p:nvPr/>
            </p:nvSpPr>
            <p:spPr>
              <a:xfrm>
                <a:off x="8734320" y="4964040"/>
                <a:ext cx="793440" cy="634680"/>
              </a:xfrm>
              <a:custGeom>
                <a:avLst/>
                <a:gdLst>
                  <a:gd name="textAreaLeft" fmla="*/ 0 w 793440"/>
                  <a:gd name="textAreaRight" fmla="*/ 793800 w 79344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50" h="200">
                    <a:moveTo>
                      <a:pt x="128" y="24"/>
                    </a:moveTo>
                    <a:cubicBezTo>
                      <a:pt x="126" y="26"/>
                      <a:pt x="124" y="27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199"/>
                      <a:pt x="128" y="197"/>
                    </a:cubicBezTo>
                    <a:cubicBezTo>
                      <a:pt x="128" y="198"/>
                      <a:pt x="128" y="198"/>
                      <a:pt x="128" y="198"/>
                    </a:cubicBezTo>
                    <a:cubicBezTo>
                      <a:pt x="144" y="189"/>
                      <a:pt x="220" y="142"/>
                      <a:pt x="238" y="102"/>
                    </a:cubicBezTo>
                    <a:cubicBezTo>
                      <a:pt x="250" y="76"/>
                      <a:pt x="246" y="24"/>
                      <a:pt x="196" y="10"/>
                    </a:cubicBezTo>
                    <a:cubicBezTo>
                      <a:pt x="163" y="1"/>
                      <a:pt x="137" y="19"/>
                      <a:pt x="128" y="25"/>
                    </a:cubicBezTo>
                    <a:lnTo>
                      <a:pt x="128" y="24"/>
                    </a:ln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38" name="Freeform 131"/>
              <p:cNvSpPr/>
              <p:nvPr/>
            </p:nvSpPr>
            <p:spPr>
              <a:xfrm>
                <a:off x="9248760" y="566568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39" name="Freeform 132"/>
              <p:cNvSpPr/>
              <p:nvPr/>
            </p:nvSpPr>
            <p:spPr>
              <a:xfrm>
                <a:off x="10271160" y="5665680"/>
                <a:ext cx="788760" cy="63936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9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40" name="Freeform 133"/>
              <p:cNvSpPr/>
              <p:nvPr/>
            </p:nvSpPr>
            <p:spPr>
              <a:xfrm>
                <a:off x="11282400" y="566568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41" name="Freeform 134"/>
              <p:cNvSpPr/>
              <p:nvPr/>
            </p:nvSpPr>
            <p:spPr>
              <a:xfrm>
                <a:off x="10769760" y="361620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42" name="Freeform 135"/>
              <p:cNvSpPr/>
              <p:nvPr/>
            </p:nvSpPr>
            <p:spPr>
              <a:xfrm>
                <a:off x="9753480" y="361620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43" name="Freeform 136"/>
              <p:cNvSpPr/>
              <p:nvPr/>
            </p:nvSpPr>
            <p:spPr>
              <a:xfrm>
                <a:off x="8734320" y="3616200"/>
                <a:ext cx="793440" cy="634680"/>
              </a:xfrm>
              <a:custGeom>
                <a:avLst/>
                <a:gdLst>
                  <a:gd name="textAreaLeft" fmla="*/ 0 w 793440"/>
                  <a:gd name="textAreaRight" fmla="*/ 793800 w 79344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50" h="200">
                    <a:moveTo>
                      <a:pt x="128" y="24"/>
                    </a:moveTo>
                    <a:cubicBezTo>
                      <a:pt x="126" y="26"/>
                      <a:pt x="124" y="27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199"/>
                      <a:pt x="128" y="197"/>
                    </a:cubicBezTo>
                    <a:cubicBezTo>
                      <a:pt x="128" y="198"/>
                      <a:pt x="128" y="198"/>
                      <a:pt x="128" y="198"/>
                    </a:cubicBezTo>
                    <a:cubicBezTo>
                      <a:pt x="144" y="189"/>
                      <a:pt x="220" y="142"/>
                      <a:pt x="238" y="102"/>
                    </a:cubicBezTo>
                    <a:cubicBezTo>
                      <a:pt x="250" y="76"/>
                      <a:pt x="246" y="24"/>
                      <a:pt x="196" y="10"/>
                    </a:cubicBezTo>
                    <a:cubicBezTo>
                      <a:pt x="163" y="1"/>
                      <a:pt x="137" y="19"/>
                      <a:pt x="128" y="25"/>
                    </a:cubicBezTo>
                    <a:lnTo>
                      <a:pt x="128" y="24"/>
                    </a:ln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44" name="Freeform 137"/>
              <p:cNvSpPr/>
              <p:nvPr/>
            </p:nvSpPr>
            <p:spPr>
              <a:xfrm>
                <a:off x="9248760" y="43178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45" name="Freeform 138"/>
              <p:cNvSpPr/>
              <p:nvPr/>
            </p:nvSpPr>
            <p:spPr>
              <a:xfrm>
                <a:off x="10271160" y="4317840"/>
                <a:ext cx="788760" cy="63936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46" name="Freeform 139"/>
              <p:cNvSpPr/>
              <p:nvPr/>
            </p:nvSpPr>
            <p:spPr>
              <a:xfrm>
                <a:off x="11282400" y="43178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47" name="Freeform 140"/>
              <p:cNvSpPr/>
              <p:nvPr/>
            </p:nvSpPr>
            <p:spPr>
              <a:xfrm>
                <a:off x="10769760" y="225576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48" name="Freeform 141"/>
              <p:cNvSpPr/>
              <p:nvPr/>
            </p:nvSpPr>
            <p:spPr>
              <a:xfrm>
                <a:off x="9753480" y="225576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49" name="Freeform 142"/>
              <p:cNvSpPr/>
              <p:nvPr/>
            </p:nvSpPr>
            <p:spPr>
              <a:xfrm>
                <a:off x="9248760" y="295740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50" name="Freeform 143"/>
              <p:cNvSpPr/>
              <p:nvPr/>
            </p:nvSpPr>
            <p:spPr>
              <a:xfrm>
                <a:off x="10271160" y="2957400"/>
                <a:ext cx="788760" cy="63936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51" name="Freeform 144"/>
              <p:cNvSpPr/>
              <p:nvPr/>
            </p:nvSpPr>
            <p:spPr>
              <a:xfrm>
                <a:off x="11282400" y="295740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52" name="Freeform 145"/>
              <p:cNvSpPr/>
              <p:nvPr/>
            </p:nvSpPr>
            <p:spPr>
              <a:xfrm>
                <a:off x="10769760" y="863640"/>
                <a:ext cx="788760" cy="63792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54" y="11"/>
                    </a:move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53" name="Freeform 146"/>
              <p:cNvSpPr/>
              <p:nvPr/>
            </p:nvSpPr>
            <p:spPr>
              <a:xfrm>
                <a:off x="9753480" y="863640"/>
                <a:ext cx="786960" cy="6379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7" y="103"/>
                    </a:moveTo>
                    <a:cubicBezTo>
                      <a:pt x="248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54" name="Freeform 147"/>
              <p:cNvSpPr/>
              <p:nvPr/>
            </p:nvSpPr>
            <p:spPr>
              <a:xfrm>
                <a:off x="9248760" y="1568520"/>
                <a:ext cx="790200" cy="63612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124" y="200"/>
                    </a:moveTo>
                    <a:cubicBezTo>
                      <a:pt x="124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ubicBezTo>
                      <a:pt x="249" y="77"/>
                      <a:pt x="245" y="24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55" name="Freeform 148"/>
              <p:cNvSpPr/>
              <p:nvPr/>
            </p:nvSpPr>
            <p:spPr>
              <a:xfrm>
                <a:off x="10271160" y="1568520"/>
                <a:ext cx="788760" cy="63612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6" y="103"/>
                    </a:moveTo>
                    <a:cubicBezTo>
                      <a:pt x="248" y="77"/>
                      <a:pt x="245" y="24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4"/>
                      <a:pt x="0" y="77"/>
                      <a:pt x="11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6" y="146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56" name="Freeform 149"/>
              <p:cNvSpPr/>
              <p:nvPr/>
            </p:nvSpPr>
            <p:spPr>
              <a:xfrm>
                <a:off x="11282400" y="1568520"/>
                <a:ext cx="790200" cy="63612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237" y="103"/>
                    </a:moveTo>
                    <a:cubicBezTo>
                      <a:pt x="249" y="77"/>
                      <a:pt x="245" y="24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57" name="Freeform 150"/>
              <p:cNvSpPr/>
              <p:nvPr/>
            </p:nvSpPr>
            <p:spPr>
              <a:xfrm>
                <a:off x="11790360" y="6353280"/>
                <a:ext cx="402840" cy="507600"/>
              </a:xfrm>
              <a:custGeom>
                <a:avLst/>
                <a:gdLst>
                  <a:gd name="textAreaLeft" fmla="*/ 0 w 402840"/>
                  <a:gd name="textAreaRight" fmla="*/ 403200 w 40284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127" h="160">
                    <a:moveTo>
                      <a:pt x="54" y="11"/>
                    </a:move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27" y="160"/>
                      <a:pt x="127" y="160"/>
                      <a:pt x="127" y="160"/>
                    </a:cubicBezTo>
                    <a:cubicBezTo>
                      <a:pt x="127" y="26"/>
                      <a:pt x="127" y="26"/>
                      <a:pt x="127" y="26"/>
                    </a:cubicBezTo>
                    <a:cubicBezTo>
                      <a:pt x="125" y="27"/>
                      <a:pt x="124" y="28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58" name="Freeform 151"/>
              <p:cNvSpPr/>
              <p:nvPr/>
            </p:nvSpPr>
            <p:spPr>
              <a:xfrm>
                <a:off x="11790360" y="4964040"/>
                <a:ext cx="402840" cy="634680"/>
              </a:xfrm>
              <a:custGeom>
                <a:avLst/>
                <a:gdLst>
                  <a:gd name="textAreaLeft" fmla="*/ 0 w 402840"/>
                  <a:gd name="textAreaRight" fmla="*/ 403200 w 40284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127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199"/>
                      <a:pt x="127" y="198"/>
                    </a:cubicBezTo>
                    <a:cubicBezTo>
                      <a:pt x="127" y="25"/>
                      <a:pt x="127" y="25"/>
                      <a:pt x="127" y="25"/>
                    </a:cubicBezTo>
                    <a:cubicBezTo>
                      <a:pt x="125" y="27"/>
                      <a:pt x="124" y="28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59" name="Freeform 152"/>
              <p:cNvSpPr/>
              <p:nvPr/>
            </p:nvSpPr>
            <p:spPr>
              <a:xfrm>
                <a:off x="11790360" y="3616200"/>
                <a:ext cx="402840" cy="634680"/>
              </a:xfrm>
              <a:custGeom>
                <a:avLst/>
                <a:gdLst>
                  <a:gd name="textAreaLeft" fmla="*/ 0 w 402840"/>
                  <a:gd name="textAreaRight" fmla="*/ 403200 w 40284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127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199"/>
                      <a:pt x="127" y="198"/>
                    </a:cubicBezTo>
                    <a:cubicBezTo>
                      <a:pt x="127" y="25"/>
                      <a:pt x="127" y="25"/>
                      <a:pt x="127" y="25"/>
                    </a:cubicBezTo>
                    <a:cubicBezTo>
                      <a:pt x="125" y="27"/>
                      <a:pt x="124" y="27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60" name="Freeform 153"/>
              <p:cNvSpPr/>
              <p:nvPr/>
            </p:nvSpPr>
            <p:spPr>
              <a:xfrm>
                <a:off x="11790360" y="2255760"/>
                <a:ext cx="402840" cy="634680"/>
              </a:xfrm>
              <a:custGeom>
                <a:avLst/>
                <a:gdLst>
                  <a:gd name="textAreaLeft" fmla="*/ 0 w 402840"/>
                  <a:gd name="textAreaRight" fmla="*/ 403200 w 40284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127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199"/>
                      <a:pt x="127" y="198"/>
                    </a:cubicBezTo>
                    <a:cubicBezTo>
                      <a:pt x="127" y="25"/>
                      <a:pt x="127" y="25"/>
                      <a:pt x="127" y="25"/>
                    </a:cubicBezTo>
                    <a:cubicBezTo>
                      <a:pt x="125" y="26"/>
                      <a:pt x="124" y="27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61" name="Freeform 154"/>
              <p:cNvSpPr/>
              <p:nvPr/>
            </p:nvSpPr>
            <p:spPr>
              <a:xfrm>
                <a:off x="11790360" y="863640"/>
                <a:ext cx="402840" cy="637920"/>
              </a:xfrm>
              <a:custGeom>
                <a:avLst/>
                <a:gdLst>
                  <a:gd name="textAreaLeft" fmla="*/ 0 w 402840"/>
                  <a:gd name="textAreaRight" fmla="*/ 403200 w 40284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127" h="201">
                    <a:moveTo>
                      <a:pt x="54" y="11"/>
                    </a:move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200"/>
                      <a:pt x="127" y="199"/>
                    </a:cubicBezTo>
                    <a:cubicBezTo>
                      <a:pt x="127" y="26"/>
                      <a:pt x="127" y="26"/>
                      <a:pt x="127" y="26"/>
                    </a:cubicBezTo>
                    <a:cubicBezTo>
                      <a:pt x="125" y="27"/>
                      <a:pt x="124" y="28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62" name="Freeform 155"/>
              <p:cNvSpPr/>
              <p:nvPr/>
            </p:nvSpPr>
            <p:spPr>
              <a:xfrm>
                <a:off x="1099656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0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63" name="Freeform 156"/>
              <p:cNvSpPr/>
              <p:nvPr/>
            </p:nvSpPr>
            <p:spPr>
              <a:xfrm>
                <a:off x="12015720" y="-1440"/>
                <a:ext cx="177480" cy="11088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5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4" y="35"/>
                      <a:pt x="55" y="34"/>
                      <a:pt x="56" y="33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64" name="Freeform 157"/>
              <p:cNvSpPr/>
              <p:nvPr/>
            </p:nvSpPr>
            <p:spPr>
              <a:xfrm>
                <a:off x="997920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1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65" name="Freeform 158"/>
              <p:cNvSpPr/>
              <p:nvPr/>
            </p:nvSpPr>
            <p:spPr>
              <a:xfrm>
                <a:off x="9248760" y="1760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8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66" name="Freeform 159"/>
              <p:cNvSpPr/>
              <p:nvPr/>
            </p:nvSpPr>
            <p:spPr>
              <a:xfrm>
                <a:off x="10271160" y="176040"/>
                <a:ext cx="788760" cy="63936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9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367" name="Freeform 160"/>
              <p:cNvSpPr/>
              <p:nvPr/>
            </p:nvSpPr>
            <p:spPr>
              <a:xfrm>
                <a:off x="11282400" y="1760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" y="103"/>
                    </a:moveTo>
                    <a:cubicBezTo>
                      <a:pt x="32" y="147"/>
                      <a:pt x="119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</p:grpSp>
      <p:sp>
        <p:nvSpPr>
          <p:cNvPr id="368" name="Rectangle 164"/>
          <p:cNvSpPr/>
          <p:nvPr/>
        </p:nvSpPr>
        <p:spPr>
          <a:xfrm>
            <a:off x="1440" y="0"/>
            <a:ext cx="12188520" cy="182844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cxnSp>
        <p:nvCxnSpPr>
          <p:cNvPr id="369" name="Straight Connector 165"/>
          <p:cNvCxnSpPr/>
          <p:nvPr/>
        </p:nvCxnSpPr>
        <p:spPr>
          <a:xfrm>
            <a:off x="1440" y="1828800"/>
            <a:ext cx="12189240" cy="360"/>
          </a:xfrm>
          <a:prstGeom prst="straightConnector1">
            <a:avLst/>
          </a:prstGeom>
          <a:ln w="50800">
            <a:solidFill>
              <a:srgbClr val="ffffff"/>
            </a:solidFill>
          </a:ln>
        </p:spPr>
      </p:cxnSp>
      <p:sp>
        <p:nvSpPr>
          <p:cNvPr id="370" name="Rectangle 166"/>
          <p:cNvSpPr/>
          <p:nvPr/>
        </p:nvSpPr>
        <p:spPr>
          <a:xfrm>
            <a:off x="1440" y="5029200"/>
            <a:ext cx="12188520" cy="182844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cxnSp>
        <p:nvCxnSpPr>
          <p:cNvPr id="371" name="Straight Connector 167"/>
          <p:cNvCxnSpPr/>
          <p:nvPr/>
        </p:nvCxnSpPr>
        <p:spPr>
          <a:xfrm>
            <a:off x="1440" y="5029200"/>
            <a:ext cx="12189240" cy="360"/>
          </a:xfrm>
          <a:prstGeom prst="straightConnector1">
            <a:avLst/>
          </a:prstGeom>
          <a:ln w="50800">
            <a:solidFill>
              <a:srgbClr val="ffffff"/>
            </a:solidFill>
          </a:ln>
        </p:spPr>
      </p:cxnSp>
      <p:sp>
        <p:nvSpPr>
          <p:cNvPr id="372" name="Freeform 169"/>
          <p:cNvSpPr/>
          <p:nvPr/>
        </p:nvSpPr>
        <p:spPr>
          <a:xfrm>
            <a:off x="1397160" y="531720"/>
            <a:ext cx="3738240" cy="5793840"/>
          </a:xfrm>
          <a:custGeom>
            <a:avLst/>
            <a:gdLst>
              <a:gd name="textAreaLeft" fmla="*/ 0 w 3738240"/>
              <a:gd name="textAreaRight" fmla="*/ 3738600 w 3738240"/>
              <a:gd name="textAreaTop" fmla="*/ 0 h 5793840"/>
              <a:gd name="textAreaBottom" fmla="*/ 5794200 h 5793840"/>
            </a:gdLst>
            <a:ahLst/>
            <a:rect l="textAreaLeft" t="textAreaTop" r="textAreaRight" b="textAreaBottom"/>
            <a:pathLst>
              <a:path w="1172" h="1815">
                <a:moveTo>
                  <a:pt x="42" y="885"/>
                </a:moveTo>
                <a:cubicBezTo>
                  <a:pt x="74" y="863"/>
                  <a:pt x="90" y="821"/>
                  <a:pt x="90" y="756"/>
                </a:cubicBezTo>
                <a:cubicBezTo>
                  <a:pt x="90" y="680"/>
                  <a:pt x="68" y="589"/>
                  <a:pt x="49" y="509"/>
                </a:cubicBezTo>
                <a:cubicBezTo>
                  <a:pt x="39" y="468"/>
                  <a:pt x="30" y="429"/>
                  <a:pt x="25" y="398"/>
                </a:cubicBezTo>
                <a:cubicBezTo>
                  <a:pt x="22" y="378"/>
                  <a:pt x="21" y="358"/>
                  <a:pt x="21" y="339"/>
                </a:cubicBezTo>
                <a:cubicBezTo>
                  <a:pt x="21" y="339"/>
                  <a:pt x="21" y="339"/>
                  <a:pt x="21" y="339"/>
                </a:cubicBezTo>
                <a:cubicBezTo>
                  <a:pt x="21" y="270"/>
                  <a:pt x="40" y="211"/>
                  <a:pt x="78" y="169"/>
                </a:cubicBezTo>
                <a:cubicBezTo>
                  <a:pt x="181" y="54"/>
                  <a:pt x="314" y="80"/>
                  <a:pt x="454" y="107"/>
                </a:cubicBezTo>
                <a:cubicBezTo>
                  <a:pt x="463" y="108"/>
                  <a:pt x="471" y="110"/>
                  <a:pt x="480" y="112"/>
                </a:cubicBezTo>
                <a:cubicBezTo>
                  <a:pt x="533" y="122"/>
                  <a:pt x="552" y="88"/>
                  <a:pt x="556" y="80"/>
                </a:cubicBezTo>
                <a:cubicBezTo>
                  <a:pt x="586" y="0"/>
                  <a:pt x="586" y="0"/>
                  <a:pt x="586" y="0"/>
                </a:cubicBezTo>
                <a:cubicBezTo>
                  <a:pt x="616" y="80"/>
                  <a:pt x="616" y="80"/>
                  <a:pt x="616" y="80"/>
                </a:cubicBezTo>
                <a:cubicBezTo>
                  <a:pt x="620" y="88"/>
                  <a:pt x="639" y="122"/>
                  <a:pt x="692" y="112"/>
                </a:cubicBezTo>
                <a:cubicBezTo>
                  <a:pt x="701" y="110"/>
                  <a:pt x="709" y="108"/>
                  <a:pt x="718" y="107"/>
                </a:cubicBezTo>
                <a:cubicBezTo>
                  <a:pt x="858" y="80"/>
                  <a:pt x="991" y="54"/>
                  <a:pt x="1094" y="169"/>
                </a:cubicBezTo>
                <a:cubicBezTo>
                  <a:pt x="1132" y="211"/>
                  <a:pt x="1151" y="270"/>
                  <a:pt x="1151" y="339"/>
                </a:cubicBezTo>
                <a:cubicBezTo>
                  <a:pt x="1151" y="358"/>
                  <a:pt x="1150" y="378"/>
                  <a:pt x="1147" y="398"/>
                </a:cubicBezTo>
                <a:cubicBezTo>
                  <a:pt x="1142" y="429"/>
                  <a:pt x="1133" y="468"/>
                  <a:pt x="1123" y="509"/>
                </a:cubicBezTo>
                <a:cubicBezTo>
                  <a:pt x="1103" y="589"/>
                  <a:pt x="1082" y="680"/>
                  <a:pt x="1082" y="756"/>
                </a:cubicBezTo>
                <a:cubicBezTo>
                  <a:pt x="1082" y="756"/>
                  <a:pt x="1082" y="756"/>
                  <a:pt x="1082" y="756"/>
                </a:cubicBezTo>
                <a:cubicBezTo>
                  <a:pt x="1082" y="821"/>
                  <a:pt x="1097" y="863"/>
                  <a:pt x="1130" y="885"/>
                </a:cubicBezTo>
                <a:cubicBezTo>
                  <a:pt x="1172" y="912"/>
                  <a:pt x="1172" y="912"/>
                  <a:pt x="1172" y="912"/>
                </a:cubicBezTo>
                <a:cubicBezTo>
                  <a:pt x="1130" y="940"/>
                  <a:pt x="1130" y="940"/>
                  <a:pt x="1130" y="940"/>
                </a:cubicBezTo>
                <a:cubicBezTo>
                  <a:pt x="1097" y="961"/>
                  <a:pt x="1082" y="1003"/>
                  <a:pt x="1082" y="1068"/>
                </a:cubicBezTo>
                <a:cubicBezTo>
                  <a:pt x="1082" y="1144"/>
                  <a:pt x="1103" y="1235"/>
                  <a:pt x="1123" y="1315"/>
                </a:cubicBezTo>
                <a:cubicBezTo>
                  <a:pt x="1133" y="1356"/>
                  <a:pt x="1142" y="1395"/>
                  <a:pt x="1147" y="1426"/>
                </a:cubicBezTo>
                <a:cubicBezTo>
                  <a:pt x="1150" y="1446"/>
                  <a:pt x="1151" y="1466"/>
                  <a:pt x="1151" y="1485"/>
                </a:cubicBezTo>
                <a:cubicBezTo>
                  <a:pt x="1151" y="1554"/>
                  <a:pt x="1132" y="1613"/>
                  <a:pt x="1094" y="1655"/>
                </a:cubicBezTo>
                <a:cubicBezTo>
                  <a:pt x="991" y="1770"/>
                  <a:pt x="858" y="1744"/>
                  <a:pt x="718" y="1717"/>
                </a:cubicBezTo>
                <a:cubicBezTo>
                  <a:pt x="709" y="1716"/>
                  <a:pt x="701" y="1714"/>
                  <a:pt x="692" y="1713"/>
                </a:cubicBezTo>
                <a:cubicBezTo>
                  <a:pt x="638" y="1703"/>
                  <a:pt x="619" y="1733"/>
                  <a:pt x="616" y="1740"/>
                </a:cubicBezTo>
                <a:cubicBezTo>
                  <a:pt x="586" y="1815"/>
                  <a:pt x="586" y="1815"/>
                  <a:pt x="586" y="1815"/>
                </a:cubicBezTo>
                <a:cubicBezTo>
                  <a:pt x="556" y="1740"/>
                  <a:pt x="556" y="1740"/>
                  <a:pt x="556" y="1740"/>
                </a:cubicBezTo>
                <a:cubicBezTo>
                  <a:pt x="552" y="1733"/>
                  <a:pt x="534" y="1703"/>
                  <a:pt x="480" y="1713"/>
                </a:cubicBezTo>
                <a:cubicBezTo>
                  <a:pt x="471" y="1714"/>
                  <a:pt x="463" y="1716"/>
                  <a:pt x="454" y="1718"/>
                </a:cubicBezTo>
                <a:cubicBezTo>
                  <a:pt x="314" y="1744"/>
                  <a:pt x="181" y="1770"/>
                  <a:pt x="78" y="1655"/>
                </a:cubicBezTo>
                <a:cubicBezTo>
                  <a:pt x="40" y="1613"/>
                  <a:pt x="21" y="1554"/>
                  <a:pt x="21" y="1485"/>
                </a:cubicBezTo>
                <a:cubicBezTo>
                  <a:pt x="21" y="1466"/>
                  <a:pt x="22" y="1446"/>
                  <a:pt x="25" y="1426"/>
                </a:cubicBezTo>
                <a:cubicBezTo>
                  <a:pt x="30" y="1395"/>
                  <a:pt x="39" y="1356"/>
                  <a:pt x="49" y="1315"/>
                </a:cubicBezTo>
                <a:cubicBezTo>
                  <a:pt x="68" y="1235"/>
                  <a:pt x="90" y="1144"/>
                  <a:pt x="90" y="1068"/>
                </a:cubicBezTo>
                <a:cubicBezTo>
                  <a:pt x="90" y="1003"/>
                  <a:pt x="74" y="961"/>
                  <a:pt x="42" y="940"/>
                </a:cubicBezTo>
                <a:cubicBezTo>
                  <a:pt x="0" y="912"/>
                  <a:pt x="0" y="912"/>
                  <a:pt x="0" y="912"/>
                </a:cubicBezTo>
                <a:lnTo>
                  <a:pt x="42" y="885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Freeform 173"/>
          <p:cNvSpPr/>
          <p:nvPr/>
        </p:nvSpPr>
        <p:spPr>
          <a:xfrm rot="5400000">
            <a:off x="6438240" y="584640"/>
            <a:ext cx="4051080" cy="5687640"/>
          </a:xfrm>
          <a:custGeom>
            <a:avLst/>
            <a:gdLst>
              <a:gd name="textAreaLeft" fmla="*/ 0 w 4051080"/>
              <a:gd name="textAreaRight" fmla="*/ 4051440 w 4051080"/>
              <a:gd name="textAreaTop" fmla="*/ 0 h 5687640"/>
              <a:gd name="textAreaBottom" fmla="*/ 5688000 h 5687640"/>
            </a:gdLst>
            <a:ahLst/>
            <a:rect l="textAreaLeft" t="textAreaTop" r="textAreaRight" b="textAreaBottom"/>
            <a:pathLst>
              <a:path w="1172" h="1815">
                <a:moveTo>
                  <a:pt x="42" y="885"/>
                </a:moveTo>
                <a:cubicBezTo>
                  <a:pt x="74" y="863"/>
                  <a:pt x="90" y="821"/>
                  <a:pt x="90" y="756"/>
                </a:cubicBezTo>
                <a:cubicBezTo>
                  <a:pt x="90" y="680"/>
                  <a:pt x="68" y="589"/>
                  <a:pt x="49" y="509"/>
                </a:cubicBezTo>
                <a:cubicBezTo>
                  <a:pt x="39" y="468"/>
                  <a:pt x="30" y="429"/>
                  <a:pt x="25" y="398"/>
                </a:cubicBezTo>
                <a:cubicBezTo>
                  <a:pt x="22" y="378"/>
                  <a:pt x="21" y="358"/>
                  <a:pt x="21" y="339"/>
                </a:cubicBezTo>
                <a:cubicBezTo>
                  <a:pt x="21" y="339"/>
                  <a:pt x="21" y="339"/>
                  <a:pt x="21" y="339"/>
                </a:cubicBezTo>
                <a:cubicBezTo>
                  <a:pt x="21" y="270"/>
                  <a:pt x="40" y="211"/>
                  <a:pt x="78" y="169"/>
                </a:cubicBezTo>
                <a:cubicBezTo>
                  <a:pt x="181" y="54"/>
                  <a:pt x="314" y="80"/>
                  <a:pt x="454" y="107"/>
                </a:cubicBezTo>
                <a:cubicBezTo>
                  <a:pt x="463" y="108"/>
                  <a:pt x="471" y="110"/>
                  <a:pt x="480" y="112"/>
                </a:cubicBezTo>
                <a:cubicBezTo>
                  <a:pt x="533" y="122"/>
                  <a:pt x="552" y="88"/>
                  <a:pt x="556" y="80"/>
                </a:cubicBezTo>
                <a:cubicBezTo>
                  <a:pt x="586" y="0"/>
                  <a:pt x="586" y="0"/>
                  <a:pt x="586" y="0"/>
                </a:cubicBezTo>
                <a:cubicBezTo>
                  <a:pt x="616" y="80"/>
                  <a:pt x="616" y="80"/>
                  <a:pt x="616" y="80"/>
                </a:cubicBezTo>
                <a:cubicBezTo>
                  <a:pt x="620" y="88"/>
                  <a:pt x="639" y="122"/>
                  <a:pt x="692" y="112"/>
                </a:cubicBezTo>
                <a:cubicBezTo>
                  <a:pt x="701" y="110"/>
                  <a:pt x="709" y="108"/>
                  <a:pt x="718" y="107"/>
                </a:cubicBezTo>
                <a:cubicBezTo>
                  <a:pt x="858" y="80"/>
                  <a:pt x="991" y="54"/>
                  <a:pt x="1094" y="169"/>
                </a:cubicBezTo>
                <a:cubicBezTo>
                  <a:pt x="1132" y="211"/>
                  <a:pt x="1151" y="270"/>
                  <a:pt x="1151" y="339"/>
                </a:cubicBezTo>
                <a:cubicBezTo>
                  <a:pt x="1151" y="358"/>
                  <a:pt x="1150" y="378"/>
                  <a:pt x="1147" y="398"/>
                </a:cubicBezTo>
                <a:cubicBezTo>
                  <a:pt x="1142" y="429"/>
                  <a:pt x="1133" y="468"/>
                  <a:pt x="1123" y="509"/>
                </a:cubicBezTo>
                <a:cubicBezTo>
                  <a:pt x="1103" y="589"/>
                  <a:pt x="1082" y="680"/>
                  <a:pt x="1082" y="756"/>
                </a:cubicBezTo>
                <a:cubicBezTo>
                  <a:pt x="1082" y="756"/>
                  <a:pt x="1082" y="756"/>
                  <a:pt x="1082" y="756"/>
                </a:cubicBezTo>
                <a:cubicBezTo>
                  <a:pt x="1082" y="821"/>
                  <a:pt x="1097" y="863"/>
                  <a:pt x="1130" y="885"/>
                </a:cubicBezTo>
                <a:cubicBezTo>
                  <a:pt x="1172" y="912"/>
                  <a:pt x="1172" y="912"/>
                  <a:pt x="1172" y="912"/>
                </a:cubicBezTo>
                <a:cubicBezTo>
                  <a:pt x="1130" y="940"/>
                  <a:pt x="1130" y="940"/>
                  <a:pt x="1130" y="940"/>
                </a:cubicBezTo>
                <a:cubicBezTo>
                  <a:pt x="1097" y="961"/>
                  <a:pt x="1082" y="1003"/>
                  <a:pt x="1082" y="1068"/>
                </a:cubicBezTo>
                <a:cubicBezTo>
                  <a:pt x="1082" y="1144"/>
                  <a:pt x="1103" y="1235"/>
                  <a:pt x="1123" y="1315"/>
                </a:cubicBezTo>
                <a:cubicBezTo>
                  <a:pt x="1133" y="1356"/>
                  <a:pt x="1142" y="1395"/>
                  <a:pt x="1147" y="1426"/>
                </a:cubicBezTo>
                <a:cubicBezTo>
                  <a:pt x="1150" y="1446"/>
                  <a:pt x="1151" y="1466"/>
                  <a:pt x="1151" y="1485"/>
                </a:cubicBezTo>
                <a:cubicBezTo>
                  <a:pt x="1151" y="1554"/>
                  <a:pt x="1132" y="1613"/>
                  <a:pt x="1094" y="1655"/>
                </a:cubicBezTo>
                <a:cubicBezTo>
                  <a:pt x="991" y="1770"/>
                  <a:pt x="858" y="1744"/>
                  <a:pt x="718" y="1717"/>
                </a:cubicBezTo>
                <a:cubicBezTo>
                  <a:pt x="709" y="1716"/>
                  <a:pt x="701" y="1714"/>
                  <a:pt x="692" y="1713"/>
                </a:cubicBezTo>
                <a:cubicBezTo>
                  <a:pt x="638" y="1703"/>
                  <a:pt x="619" y="1733"/>
                  <a:pt x="616" y="1740"/>
                </a:cubicBezTo>
                <a:cubicBezTo>
                  <a:pt x="586" y="1815"/>
                  <a:pt x="586" y="1815"/>
                  <a:pt x="586" y="1815"/>
                </a:cubicBezTo>
                <a:cubicBezTo>
                  <a:pt x="556" y="1740"/>
                  <a:pt x="556" y="1740"/>
                  <a:pt x="556" y="1740"/>
                </a:cubicBezTo>
                <a:cubicBezTo>
                  <a:pt x="552" y="1733"/>
                  <a:pt x="534" y="1703"/>
                  <a:pt x="480" y="1713"/>
                </a:cubicBezTo>
                <a:cubicBezTo>
                  <a:pt x="471" y="1714"/>
                  <a:pt x="463" y="1716"/>
                  <a:pt x="454" y="1718"/>
                </a:cubicBezTo>
                <a:cubicBezTo>
                  <a:pt x="314" y="1744"/>
                  <a:pt x="181" y="1770"/>
                  <a:pt x="78" y="1655"/>
                </a:cubicBezTo>
                <a:cubicBezTo>
                  <a:pt x="40" y="1613"/>
                  <a:pt x="21" y="1554"/>
                  <a:pt x="21" y="1485"/>
                </a:cubicBezTo>
                <a:cubicBezTo>
                  <a:pt x="21" y="1466"/>
                  <a:pt x="22" y="1446"/>
                  <a:pt x="25" y="1426"/>
                </a:cubicBezTo>
                <a:cubicBezTo>
                  <a:pt x="30" y="1395"/>
                  <a:pt x="39" y="1356"/>
                  <a:pt x="49" y="1315"/>
                </a:cubicBezTo>
                <a:cubicBezTo>
                  <a:pt x="68" y="1235"/>
                  <a:pt x="90" y="1144"/>
                  <a:pt x="90" y="1068"/>
                </a:cubicBezTo>
                <a:cubicBezTo>
                  <a:pt x="90" y="1003"/>
                  <a:pt x="74" y="961"/>
                  <a:pt x="42" y="940"/>
                </a:cubicBezTo>
                <a:cubicBezTo>
                  <a:pt x="0" y="912"/>
                  <a:pt x="0" y="912"/>
                  <a:pt x="0" y="912"/>
                </a:cubicBezTo>
                <a:lnTo>
                  <a:pt x="42" y="885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6095880" y="5599080"/>
            <a:ext cx="4800240" cy="91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Master text style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612440" y="876240"/>
            <a:ext cx="3308040" cy="5105160"/>
          </a:xfrm>
          <a:prstGeom prst="rect">
            <a:avLst/>
          </a:prstGeom>
          <a:solidFill>
            <a:srgbClr val="f9d9da"/>
          </a:solidFill>
          <a:ln w="50760">
            <a:solidFill>
              <a:srgbClr val="ffffff"/>
            </a:solidFill>
            <a:miter/>
          </a:ln>
        </p:spPr>
        <p:txBody>
          <a:bodyPr lIns="90000" rIns="90000" tIns="365760" bIns="45000" anchor="t">
            <a:no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body"/>
          </p:nvPr>
        </p:nvSpPr>
        <p:spPr>
          <a:xfrm>
            <a:off x="5940000" y="1624680"/>
            <a:ext cx="5047200" cy="3608640"/>
          </a:xfrm>
          <a:prstGeom prst="rect">
            <a:avLst/>
          </a:prstGeom>
          <a:solidFill>
            <a:srgbClr val="f9d9da"/>
          </a:solidFill>
          <a:ln w="50760">
            <a:solidFill>
              <a:srgbClr val="ffffff"/>
            </a:solidFill>
            <a:miter/>
          </a:ln>
        </p:spPr>
        <p:txBody>
          <a:bodyPr lIns="90000" rIns="90000" tIns="365760" bIns="45000" anchor="t">
            <a:no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9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reeform 22" hidden="1"/>
          <p:cNvSpPr/>
          <p:nvPr/>
        </p:nvSpPr>
        <p:spPr>
          <a:xfrm flipH="1" flipV="1">
            <a:off x="10807560" y="1065960"/>
            <a:ext cx="1383840" cy="2166840"/>
          </a:xfrm>
          <a:custGeom>
            <a:avLst/>
            <a:gdLst>
              <a:gd name="textAreaLeft" fmla="*/ 360 w 1383840"/>
              <a:gd name="textAreaRight" fmla="*/ 1384560 w 1383840"/>
              <a:gd name="textAreaTop" fmla="*/ -360 h 2166840"/>
              <a:gd name="textAreaBottom" fmla="*/ 2166840 h 2166840"/>
            </a:gdLst>
            <a:ahLst/>
            <a:rect l="textAreaLeft" t="textAreaTop" r="textAreaRight" b="textAreaBottom"/>
            <a:pathLst>
              <a:path w="1384300" h="2167049">
                <a:moveTo>
                  <a:pt x="17187" y="2167049"/>
                </a:moveTo>
                <a:lnTo>
                  <a:pt x="0" y="2167049"/>
                </a:lnTo>
                <a:lnTo>
                  <a:pt x="0" y="1879736"/>
                </a:lnTo>
                <a:lnTo>
                  <a:pt x="123314" y="1550999"/>
                </a:lnTo>
                <a:cubicBezTo>
                  <a:pt x="168410" y="1433494"/>
                  <a:pt x="212488" y="1316669"/>
                  <a:pt x="250464" y="1199843"/>
                </a:cubicBezTo>
                <a:cubicBezTo>
                  <a:pt x="188076" y="1289499"/>
                  <a:pt x="82287" y="1433494"/>
                  <a:pt x="11762" y="1534018"/>
                </a:cubicBezTo>
                <a:lnTo>
                  <a:pt x="0" y="1548726"/>
                </a:lnTo>
                <a:lnTo>
                  <a:pt x="0" y="1512279"/>
                </a:lnTo>
                <a:lnTo>
                  <a:pt x="60587" y="1428400"/>
                </a:lnTo>
                <a:cubicBezTo>
                  <a:pt x="108057" y="1362855"/>
                  <a:pt x="155526" y="1297650"/>
                  <a:pt x="201639" y="1235162"/>
                </a:cubicBezTo>
                <a:cubicBezTo>
                  <a:pt x="212489" y="1216144"/>
                  <a:pt x="231477" y="1199843"/>
                  <a:pt x="231477" y="1178108"/>
                </a:cubicBezTo>
                <a:lnTo>
                  <a:pt x="0" y="1365667"/>
                </a:lnTo>
                <a:lnTo>
                  <a:pt x="0" y="1329417"/>
                </a:lnTo>
                <a:lnTo>
                  <a:pt x="179939" y="1180824"/>
                </a:lnTo>
                <a:cubicBezTo>
                  <a:pt x="188076" y="1175391"/>
                  <a:pt x="207064" y="1167240"/>
                  <a:pt x="204351" y="1153656"/>
                </a:cubicBezTo>
                <a:lnTo>
                  <a:pt x="0" y="1246276"/>
                </a:lnTo>
                <a:lnTo>
                  <a:pt x="0" y="1224474"/>
                </a:lnTo>
                <a:lnTo>
                  <a:pt x="201639" y="1129204"/>
                </a:lnTo>
                <a:lnTo>
                  <a:pt x="0" y="1160749"/>
                </a:lnTo>
                <a:lnTo>
                  <a:pt x="0" y="1131718"/>
                </a:lnTo>
                <a:lnTo>
                  <a:pt x="9727" y="1130223"/>
                </a:lnTo>
                <a:cubicBezTo>
                  <a:pt x="72115" y="1119695"/>
                  <a:pt x="133825" y="1107469"/>
                  <a:pt x="193501" y="1091168"/>
                </a:cubicBezTo>
                <a:cubicBezTo>
                  <a:pt x="166376" y="1087772"/>
                  <a:pt x="135690" y="1084545"/>
                  <a:pt x="102928" y="1081404"/>
                </a:cubicBezTo>
                <a:lnTo>
                  <a:pt x="0" y="1072159"/>
                </a:lnTo>
                <a:lnTo>
                  <a:pt x="0" y="1052490"/>
                </a:lnTo>
                <a:lnTo>
                  <a:pt x="2946" y="1052792"/>
                </a:lnTo>
                <a:cubicBezTo>
                  <a:pt x="73472" y="1059924"/>
                  <a:pt x="141963" y="1066716"/>
                  <a:pt x="196214" y="1072150"/>
                </a:cubicBezTo>
                <a:cubicBezTo>
                  <a:pt x="138573" y="1046340"/>
                  <a:pt x="79406" y="1021888"/>
                  <a:pt x="19391" y="998200"/>
                </a:cubicBezTo>
                <a:lnTo>
                  <a:pt x="0" y="990806"/>
                </a:lnTo>
                <a:lnTo>
                  <a:pt x="0" y="962359"/>
                </a:lnTo>
                <a:lnTo>
                  <a:pt x="193395" y="1034452"/>
                </a:lnTo>
                <a:lnTo>
                  <a:pt x="176842" y="1012554"/>
                </a:lnTo>
                <a:cubicBezTo>
                  <a:pt x="168216" y="1005642"/>
                  <a:pt x="157865" y="999422"/>
                  <a:pt x="148204" y="992510"/>
                </a:cubicBezTo>
                <a:cubicBezTo>
                  <a:pt x="105420" y="960716"/>
                  <a:pt x="59877" y="928232"/>
                  <a:pt x="13643" y="895402"/>
                </a:cubicBezTo>
                <a:lnTo>
                  <a:pt x="0" y="885646"/>
                </a:lnTo>
                <a:lnTo>
                  <a:pt x="0" y="854420"/>
                </a:lnTo>
                <a:lnTo>
                  <a:pt x="41261" y="884346"/>
                </a:lnTo>
                <a:lnTo>
                  <a:pt x="210792" y="999314"/>
                </a:lnTo>
                <a:lnTo>
                  <a:pt x="206600" y="988104"/>
                </a:lnTo>
                <a:cubicBezTo>
                  <a:pt x="195473" y="968665"/>
                  <a:pt x="175807" y="953114"/>
                  <a:pt x="159245" y="934452"/>
                </a:cubicBezTo>
                <a:lnTo>
                  <a:pt x="0" y="738974"/>
                </a:lnTo>
                <a:lnTo>
                  <a:pt x="0" y="692828"/>
                </a:lnTo>
                <a:lnTo>
                  <a:pt x="214450" y="956570"/>
                </a:lnTo>
                <a:cubicBezTo>
                  <a:pt x="219970" y="964863"/>
                  <a:pt x="231011" y="978687"/>
                  <a:pt x="242052" y="978687"/>
                </a:cubicBezTo>
                <a:cubicBezTo>
                  <a:pt x="164766" y="815572"/>
                  <a:pt x="93000" y="646929"/>
                  <a:pt x="15713" y="483814"/>
                </a:cubicBezTo>
                <a:lnTo>
                  <a:pt x="0" y="482959"/>
                </a:lnTo>
                <a:lnTo>
                  <a:pt x="0" y="387119"/>
                </a:lnTo>
                <a:lnTo>
                  <a:pt x="23994" y="381522"/>
                </a:lnTo>
                <a:cubicBezTo>
                  <a:pt x="65398" y="387051"/>
                  <a:pt x="32275" y="436815"/>
                  <a:pt x="35035" y="467226"/>
                </a:cubicBezTo>
                <a:cubicBezTo>
                  <a:pt x="35035" y="497637"/>
                  <a:pt x="73678" y="558460"/>
                  <a:pt x="93000" y="597165"/>
                </a:cubicBezTo>
                <a:cubicBezTo>
                  <a:pt x="139924" y="707751"/>
                  <a:pt x="186848" y="815572"/>
                  <a:pt x="236532" y="923394"/>
                </a:cubicBezTo>
                <a:cubicBezTo>
                  <a:pt x="244812" y="942746"/>
                  <a:pt x="253093" y="970393"/>
                  <a:pt x="272415" y="978687"/>
                </a:cubicBezTo>
                <a:cubicBezTo>
                  <a:pt x="242052" y="724339"/>
                  <a:pt x="186848" y="461697"/>
                  <a:pt x="148204" y="201820"/>
                </a:cubicBezTo>
                <a:cubicBezTo>
                  <a:pt x="115082" y="187996"/>
                  <a:pt x="57117" y="176938"/>
                  <a:pt x="62637" y="129939"/>
                </a:cubicBezTo>
                <a:cubicBezTo>
                  <a:pt x="65398" y="107822"/>
                  <a:pt x="95760" y="85704"/>
                  <a:pt x="128883" y="102292"/>
                </a:cubicBezTo>
                <a:cubicBezTo>
                  <a:pt x="134403" y="66352"/>
                  <a:pt x="197888" y="60822"/>
                  <a:pt x="206169" y="99528"/>
                </a:cubicBezTo>
                <a:cubicBezTo>
                  <a:pt x="217210" y="138233"/>
                  <a:pt x="178567" y="160350"/>
                  <a:pt x="175807" y="196290"/>
                </a:cubicBezTo>
                <a:cubicBezTo>
                  <a:pt x="173046" y="221172"/>
                  <a:pt x="186848" y="259877"/>
                  <a:pt x="192368" y="295818"/>
                </a:cubicBezTo>
                <a:cubicBezTo>
                  <a:pt x="228251" y="503167"/>
                  <a:pt x="266894" y="782396"/>
                  <a:pt x="308298" y="967628"/>
                </a:cubicBezTo>
                <a:cubicBezTo>
                  <a:pt x="319338" y="843219"/>
                  <a:pt x="330380" y="699457"/>
                  <a:pt x="344181" y="558460"/>
                </a:cubicBezTo>
                <a:cubicBezTo>
                  <a:pt x="349701" y="514225"/>
                  <a:pt x="366262" y="456168"/>
                  <a:pt x="357982" y="425756"/>
                </a:cubicBezTo>
                <a:cubicBezTo>
                  <a:pt x="346941" y="375993"/>
                  <a:pt x="275175" y="367699"/>
                  <a:pt x="277935" y="306876"/>
                </a:cubicBezTo>
                <a:cubicBezTo>
                  <a:pt x="283456" y="248819"/>
                  <a:pt x="363502" y="246054"/>
                  <a:pt x="380064" y="287524"/>
                </a:cubicBezTo>
                <a:cubicBezTo>
                  <a:pt x="399385" y="246054"/>
                  <a:pt x="476672" y="262642"/>
                  <a:pt x="473911" y="317935"/>
                </a:cubicBezTo>
                <a:cubicBezTo>
                  <a:pt x="471151" y="373228"/>
                  <a:pt x="396625" y="378757"/>
                  <a:pt x="380064" y="425756"/>
                </a:cubicBezTo>
                <a:cubicBezTo>
                  <a:pt x="369023" y="456168"/>
                  <a:pt x="371783" y="519755"/>
                  <a:pt x="366262" y="566754"/>
                </a:cubicBezTo>
                <a:cubicBezTo>
                  <a:pt x="355222" y="680104"/>
                  <a:pt x="344181" y="801749"/>
                  <a:pt x="333140" y="915100"/>
                </a:cubicBezTo>
                <a:cubicBezTo>
                  <a:pt x="330380" y="934452"/>
                  <a:pt x="316578" y="962099"/>
                  <a:pt x="335900" y="973157"/>
                </a:cubicBezTo>
                <a:cubicBezTo>
                  <a:pt x="418707" y="771338"/>
                  <a:pt x="490473" y="561224"/>
                  <a:pt x="570519" y="348346"/>
                </a:cubicBezTo>
                <a:cubicBezTo>
                  <a:pt x="581560" y="320700"/>
                  <a:pt x="603642" y="281995"/>
                  <a:pt x="603642" y="259877"/>
                </a:cubicBezTo>
                <a:cubicBezTo>
                  <a:pt x="600882" y="199055"/>
                  <a:pt x="515315" y="140997"/>
                  <a:pt x="545677" y="49764"/>
                </a:cubicBezTo>
                <a:cubicBezTo>
                  <a:pt x="553958" y="24882"/>
                  <a:pt x="581560" y="13823"/>
                  <a:pt x="606402" y="0"/>
                </a:cubicBezTo>
                <a:cubicBezTo>
                  <a:pt x="614683" y="0"/>
                  <a:pt x="622964" y="0"/>
                  <a:pt x="628484" y="0"/>
                </a:cubicBezTo>
                <a:cubicBezTo>
                  <a:pt x="664367" y="11059"/>
                  <a:pt x="694730" y="27647"/>
                  <a:pt x="697490" y="71881"/>
                </a:cubicBezTo>
                <a:cubicBezTo>
                  <a:pt x="766496" y="33176"/>
                  <a:pt x="843782" y="80175"/>
                  <a:pt x="827221" y="157585"/>
                </a:cubicBezTo>
                <a:cubicBezTo>
                  <a:pt x="810659" y="229466"/>
                  <a:pt x="694730" y="234995"/>
                  <a:pt x="634005" y="265407"/>
                </a:cubicBezTo>
                <a:cubicBezTo>
                  <a:pt x="548438" y="508696"/>
                  <a:pt x="446309" y="746456"/>
                  <a:pt x="369023" y="984216"/>
                </a:cubicBezTo>
                <a:cubicBezTo>
                  <a:pt x="432508" y="892983"/>
                  <a:pt x="540157" y="746456"/>
                  <a:pt x="611923" y="644164"/>
                </a:cubicBezTo>
                <a:cubicBezTo>
                  <a:pt x="634005" y="613753"/>
                  <a:pt x="686449" y="561224"/>
                  <a:pt x="689209" y="530813"/>
                </a:cubicBezTo>
                <a:cubicBezTo>
                  <a:pt x="694730" y="503167"/>
                  <a:pt x="683689" y="472756"/>
                  <a:pt x="683689" y="450638"/>
                </a:cubicBezTo>
                <a:cubicBezTo>
                  <a:pt x="683689" y="425756"/>
                  <a:pt x="686449" y="406404"/>
                  <a:pt x="705771" y="392581"/>
                </a:cubicBezTo>
                <a:cubicBezTo>
                  <a:pt x="744414" y="362169"/>
                  <a:pt x="791338" y="395345"/>
                  <a:pt x="788577" y="442344"/>
                </a:cubicBezTo>
                <a:cubicBezTo>
                  <a:pt x="841022" y="436815"/>
                  <a:pt x="863104" y="469991"/>
                  <a:pt x="857583" y="505931"/>
                </a:cubicBezTo>
                <a:cubicBezTo>
                  <a:pt x="846542" y="555695"/>
                  <a:pt x="763735" y="550166"/>
                  <a:pt x="705771" y="552930"/>
                </a:cubicBezTo>
                <a:cubicBezTo>
                  <a:pt x="611923" y="682869"/>
                  <a:pt x="512554" y="821102"/>
                  <a:pt x="418707" y="948276"/>
                </a:cubicBezTo>
                <a:cubicBezTo>
                  <a:pt x="407666" y="967628"/>
                  <a:pt x="388344" y="984216"/>
                  <a:pt x="388344" y="1006333"/>
                </a:cubicBezTo>
                <a:cubicBezTo>
                  <a:pt x="589841" y="845983"/>
                  <a:pt x="788577" y="682869"/>
                  <a:pt x="981794" y="514225"/>
                </a:cubicBezTo>
                <a:cubicBezTo>
                  <a:pt x="967992" y="422992"/>
                  <a:pt x="981794" y="306876"/>
                  <a:pt x="1072881" y="323464"/>
                </a:cubicBezTo>
                <a:cubicBezTo>
                  <a:pt x="1106004" y="331758"/>
                  <a:pt x="1125325" y="364934"/>
                  <a:pt x="1122565" y="414698"/>
                </a:cubicBezTo>
                <a:cubicBezTo>
                  <a:pt x="1166729" y="406404"/>
                  <a:pt x="1199852" y="431286"/>
                  <a:pt x="1205372" y="467226"/>
                </a:cubicBezTo>
                <a:cubicBezTo>
                  <a:pt x="1219173" y="566754"/>
                  <a:pt x="1092203" y="558460"/>
                  <a:pt x="1001115" y="544636"/>
                </a:cubicBezTo>
                <a:cubicBezTo>
                  <a:pt x="816180" y="691163"/>
                  <a:pt x="622964" y="854277"/>
                  <a:pt x="440789" y="1003569"/>
                </a:cubicBezTo>
                <a:cubicBezTo>
                  <a:pt x="432508" y="1009098"/>
                  <a:pt x="413186" y="1017392"/>
                  <a:pt x="415946" y="1031215"/>
                </a:cubicBezTo>
                <a:cubicBezTo>
                  <a:pt x="578800" y="953805"/>
                  <a:pt x="744414" y="881924"/>
                  <a:pt x="910028" y="807278"/>
                </a:cubicBezTo>
                <a:cubicBezTo>
                  <a:pt x="926589" y="757515"/>
                  <a:pt x="932109" y="671810"/>
                  <a:pt x="995595" y="677340"/>
                </a:cubicBezTo>
                <a:cubicBezTo>
                  <a:pt x="1025957" y="680104"/>
                  <a:pt x="1053559" y="713280"/>
                  <a:pt x="1034238" y="757515"/>
                </a:cubicBezTo>
                <a:cubicBezTo>
                  <a:pt x="1061840" y="765809"/>
                  <a:pt x="1078402" y="776867"/>
                  <a:pt x="1081162" y="804514"/>
                </a:cubicBezTo>
                <a:cubicBezTo>
                  <a:pt x="1083922" y="887453"/>
                  <a:pt x="967992" y="851513"/>
                  <a:pt x="921068" y="823866"/>
                </a:cubicBezTo>
                <a:cubicBezTo>
                  <a:pt x="839641" y="863954"/>
                  <a:pt x="754074" y="900585"/>
                  <a:pt x="668852" y="937908"/>
                </a:cubicBezTo>
                <a:lnTo>
                  <a:pt x="426233" y="1052541"/>
                </a:lnTo>
                <a:lnTo>
                  <a:pt x="439919" y="1049364"/>
                </a:lnTo>
                <a:lnTo>
                  <a:pt x="429786" y="1054364"/>
                </a:lnTo>
                <a:lnTo>
                  <a:pt x="642347" y="1021110"/>
                </a:lnTo>
                <a:lnTo>
                  <a:pt x="630067" y="1024289"/>
                </a:lnTo>
                <a:lnTo>
                  <a:pt x="789918" y="999473"/>
                </a:lnTo>
                <a:cubicBezTo>
                  <a:pt x="910286" y="979776"/>
                  <a:pt x="1030315" y="959400"/>
                  <a:pt x="1151023" y="939023"/>
                </a:cubicBezTo>
                <a:cubicBezTo>
                  <a:pt x="1186286" y="887402"/>
                  <a:pt x="1199848" y="770577"/>
                  <a:pt x="1292074" y="781444"/>
                </a:cubicBezTo>
                <a:cubicBezTo>
                  <a:pt x="1340900" y="784161"/>
                  <a:pt x="1373450" y="852083"/>
                  <a:pt x="1330049" y="900987"/>
                </a:cubicBezTo>
                <a:cubicBezTo>
                  <a:pt x="1362600" y="909137"/>
                  <a:pt x="1376162" y="933589"/>
                  <a:pt x="1384300" y="963475"/>
                </a:cubicBezTo>
                <a:cubicBezTo>
                  <a:pt x="1384300" y="966192"/>
                  <a:pt x="1384300" y="966192"/>
                  <a:pt x="1384300" y="968908"/>
                </a:cubicBezTo>
                <a:cubicBezTo>
                  <a:pt x="1378875" y="1044981"/>
                  <a:pt x="1300212" y="1047698"/>
                  <a:pt x="1237824" y="1009661"/>
                </a:cubicBezTo>
                <a:cubicBezTo>
                  <a:pt x="1216123" y="998794"/>
                  <a:pt x="1191711" y="968908"/>
                  <a:pt x="1167298" y="963475"/>
                </a:cubicBezTo>
                <a:cubicBezTo>
                  <a:pt x="1148310" y="960758"/>
                  <a:pt x="1102197" y="974342"/>
                  <a:pt x="1072360" y="979776"/>
                </a:cubicBezTo>
                <a:cubicBezTo>
                  <a:pt x="985559" y="993360"/>
                  <a:pt x="885195" y="1009661"/>
                  <a:pt x="795682" y="1025963"/>
                </a:cubicBezTo>
                <a:cubicBezTo>
                  <a:pt x="660056" y="1047698"/>
                  <a:pt x="540704" y="1063999"/>
                  <a:pt x="434916" y="1091168"/>
                </a:cubicBezTo>
                <a:cubicBezTo>
                  <a:pt x="616655" y="1112903"/>
                  <a:pt x="801107" y="1129204"/>
                  <a:pt x="982846" y="1148222"/>
                </a:cubicBezTo>
                <a:cubicBezTo>
                  <a:pt x="1026247" y="1115619"/>
                  <a:pt x="1083210" y="1055848"/>
                  <a:pt x="1104910" y="1134638"/>
                </a:cubicBezTo>
                <a:cubicBezTo>
                  <a:pt x="1110335" y="1156373"/>
                  <a:pt x="1088635" y="1161806"/>
                  <a:pt x="1080497" y="1178108"/>
                </a:cubicBezTo>
                <a:cubicBezTo>
                  <a:pt x="1104910" y="1207993"/>
                  <a:pt x="1077785" y="1237879"/>
                  <a:pt x="1053372" y="1237879"/>
                </a:cubicBezTo>
                <a:cubicBezTo>
                  <a:pt x="1012684" y="1240596"/>
                  <a:pt x="1009971" y="1186258"/>
                  <a:pt x="982846" y="1169957"/>
                </a:cubicBezTo>
                <a:cubicBezTo>
                  <a:pt x="801107" y="1153656"/>
                  <a:pt x="605805" y="1129204"/>
                  <a:pt x="429491" y="1118336"/>
                </a:cubicBezTo>
                <a:cubicBezTo>
                  <a:pt x="451191" y="1137355"/>
                  <a:pt x="486454" y="1145505"/>
                  <a:pt x="516292" y="1156373"/>
                </a:cubicBezTo>
                <a:cubicBezTo>
                  <a:pt x="687181" y="1221578"/>
                  <a:pt x="874345" y="1294933"/>
                  <a:pt x="1050659" y="1357421"/>
                </a:cubicBezTo>
                <a:cubicBezTo>
                  <a:pt x="1083210" y="1371006"/>
                  <a:pt x="1118472" y="1390024"/>
                  <a:pt x="1140173" y="1390024"/>
                </a:cubicBezTo>
                <a:cubicBezTo>
                  <a:pt x="1183573" y="1390024"/>
                  <a:pt x="1248674" y="1335686"/>
                  <a:pt x="1305637" y="1357421"/>
                </a:cubicBezTo>
                <a:cubicBezTo>
                  <a:pt x="1359887" y="1379156"/>
                  <a:pt x="1351750" y="1479680"/>
                  <a:pt x="1281224" y="1482397"/>
                </a:cubicBezTo>
                <a:cubicBezTo>
                  <a:pt x="1302924" y="1542168"/>
                  <a:pt x="1262236" y="1591072"/>
                  <a:pt x="1207986" y="1580205"/>
                </a:cubicBezTo>
                <a:cubicBezTo>
                  <a:pt x="1151023" y="1566620"/>
                  <a:pt x="1151023" y="1474247"/>
                  <a:pt x="1132035" y="1419909"/>
                </a:cubicBezTo>
                <a:cubicBezTo>
                  <a:pt x="896045" y="1327536"/>
                  <a:pt x="657343" y="1240596"/>
                  <a:pt x="421353" y="1148222"/>
                </a:cubicBezTo>
                <a:cubicBezTo>
                  <a:pt x="426778" y="1167240"/>
                  <a:pt x="448479" y="1178108"/>
                  <a:pt x="467466" y="1191692"/>
                </a:cubicBezTo>
                <a:cubicBezTo>
                  <a:pt x="551555" y="1254180"/>
                  <a:pt x="646493" y="1319385"/>
                  <a:pt x="736006" y="1384590"/>
                </a:cubicBezTo>
                <a:cubicBezTo>
                  <a:pt x="765844" y="1403608"/>
                  <a:pt x="817382" y="1452512"/>
                  <a:pt x="844507" y="1457945"/>
                </a:cubicBezTo>
                <a:cubicBezTo>
                  <a:pt x="882483" y="1463379"/>
                  <a:pt x="936733" y="1436210"/>
                  <a:pt x="977421" y="1449795"/>
                </a:cubicBezTo>
                <a:cubicBezTo>
                  <a:pt x="1028959" y="1468813"/>
                  <a:pt x="1020822" y="1566620"/>
                  <a:pt x="947583" y="1561187"/>
                </a:cubicBezTo>
                <a:cubicBezTo>
                  <a:pt x="958433" y="1623675"/>
                  <a:pt x="909608" y="1650843"/>
                  <a:pt x="866208" y="1631825"/>
                </a:cubicBezTo>
                <a:cubicBezTo>
                  <a:pt x="822807" y="1612807"/>
                  <a:pt x="839082" y="1528584"/>
                  <a:pt x="828232" y="1476964"/>
                </a:cubicBezTo>
                <a:cubicBezTo>
                  <a:pt x="687181" y="1373722"/>
                  <a:pt x="548842" y="1270481"/>
                  <a:pt x="402366" y="1175391"/>
                </a:cubicBezTo>
                <a:cubicBezTo>
                  <a:pt x="407791" y="1205276"/>
                  <a:pt x="434916" y="1224294"/>
                  <a:pt x="456616" y="1248746"/>
                </a:cubicBezTo>
                <a:cubicBezTo>
                  <a:pt x="575967" y="1392740"/>
                  <a:pt x="695318" y="1542168"/>
                  <a:pt x="817382" y="1691596"/>
                </a:cubicBezTo>
                <a:cubicBezTo>
                  <a:pt x="836370" y="1716048"/>
                  <a:pt x="860783" y="1754084"/>
                  <a:pt x="879770" y="1759518"/>
                </a:cubicBezTo>
                <a:cubicBezTo>
                  <a:pt x="939446" y="1781253"/>
                  <a:pt x="1007259" y="1756801"/>
                  <a:pt x="1058797" y="1789404"/>
                </a:cubicBezTo>
                <a:cubicBezTo>
                  <a:pt x="1126610" y="1830157"/>
                  <a:pt x="1096772" y="1963284"/>
                  <a:pt x="988271" y="1930681"/>
                </a:cubicBezTo>
                <a:cubicBezTo>
                  <a:pt x="999121" y="2031205"/>
                  <a:pt x="871633" y="2044790"/>
                  <a:pt x="841795" y="1979585"/>
                </a:cubicBezTo>
                <a:cubicBezTo>
                  <a:pt x="814670" y="1917097"/>
                  <a:pt x="849932" y="1849175"/>
                  <a:pt x="852645" y="1781253"/>
                </a:cubicBezTo>
                <a:cubicBezTo>
                  <a:pt x="703456" y="1601940"/>
                  <a:pt x="554267" y="1409042"/>
                  <a:pt x="402366" y="1227011"/>
                </a:cubicBezTo>
                <a:cubicBezTo>
                  <a:pt x="396941" y="1218861"/>
                  <a:pt x="386090" y="1205276"/>
                  <a:pt x="375240" y="1205276"/>
                </a:cubicBezTo>
                <a:cubicBezTo>
                  <a:pt x="451191" y="1365572"/>
                  <a:pt x="521717" y="1531301"/>
                  <a:pt x="597667" y="1691596"/>
                </a:cubicBezTo>
                <a:cubicBezTo>
                  <a:pt x="654631" y="1683446"/>
                  <a:pt x="708881" y="1773103"/>
                  <a:pt x="624793" y="1762235"/>
                </a:cubicBezTo>
                <a:cubicBezTo>
                  <a:pt x="619368" y="1783970"/>
                  <a:pt x="613943" y="1794838"/>
                  <a:pt x="589530" y="1792121"/>
                </a:cubicBezTo>
                <a:cubicBezTo>
                  <a:pt x="548842" y="1786687"/>
                  <a:pt x="581392" y="1737783"/>
                  <a:pt x="578680" y="1707898"/>
                </a:cubicBezTo>
                <a:cubicBezTo>
                  <a:pt x="578680" y="1678012"/>
                  <a:pt x="540704" y="1618241"/>
                  <a:pt x="521717" y="1580205"/>
                </a:cubicBezTo>
                <a:cubicBezTo>
                  <a:pt x="475604" y="1471530"/>
                  <a:pt x="429491" y="1365572"/>
                  <a:pt x="380665" y="1259614"/>
                </a:cubicBezTo>
                <a:cubicBezTo>
                  <a:pt x="372528" y="1240596"/>
                  <a:pt x="364390" y="1213427"/>
                  <a:pt x="345403" y="1205276"/>
                </a:cubicBezTo>
                <a:cubicBezTo>
                  <a:pt x="375240" y="1455229"/>
                  <a:pt x="429491" y="1713331"/>
                  <a:pt x="467466" y="1968717"/>
                </a:cubicBezTo>
                <a:cubicBezTo>
                  <a:pt x="500017" y="1982302"/>
                  <a:pt x="556980" y="1993169"/>
                  <a:pt x="551555" y="2039356"/>
                </a:cubicBezTo>
                <a:cubicBezTo>
                  <a:pt x="548842" y="2061091"/>
                  <a:pt x="519004" y="2082826"/>
                  <a:pt x="486454" y="2066525"/>
                </a:cubicBezTo>
                <a:cubicBezTo>
                  <a:pt x="481029" y="2101844"/>
                  <a:pt x="418641" y="2107278"/>
                  <a:pt x="410503" y="2069242"/>
                </a:cubicBezTo>
                <a:cubicBezTo>
                  <a:pt x="399653" y="2031205"/>
                  <a:pt x="437628" y="2009470"/>
                  <a:pt x="440341" y="1974151"/>
                </a:cubicBezTo>
                <a:cubicBezTo>
                  <a:pt x="443053" y="1949699"/>
                  <a:pt x="429491" y="1911663"/>
                  <a:pt x="424066" y="1876344"/>
                </a:cubicBezTo>
                <a:cubicBezTo>
                  <a:pt x="388803" y="1672578"/>
                  <a:pt x="350828" y="1398174"/>
                  <a:pt x="310140" y="1216144"/>
                </a:cubicBezTo>
                <a:cubicBezTo>
                  <a:pt x="299290" y="1338403"/>
                  <a:pt x="288439" y="1479680"/>
                  <a:pt x="274877" y="1618241"/>
                </a:cubicBezTo>
                <a:cubicBezTo>
                  <a:pt x="269452" y="1661711"/>
                  <a:pt x="253177" y="1718765"/>
                  <a:pt x="261314" y="1748651"/>
                </a:cubicBezTo>
                <a:cubicBezTo>
                  <a:pt x="272164" y="1797554"/>
                  <a:pt x="342690" y="1805705"/>
                  <a:pt x="339977" y="1865476"/>
                </a:cubicBezTo>
                <a:cubicBezTo>
                  <a:pt x="334553" y="1922530"/>
                  <a:pt x="255889" y="1925247"/>
                  <a:pt x="239614" y="1884494"/>
                </a:cubicBezTo>
                <a:cubicBezTo>
                  <a:pt x="220626" y="1925247"/>
                  <a:pt x="144676" y="1908946"/>
                  <a:pt x="147388" y="1854609"/>
                </a:cubicBezTo>
                <a:cubicBezTo>
                  <a:pt x="150101" y="1800271"/>
                  <a:pt x="223339" y="1794838"/>
                  <a:pt x="239614" y="1748651"/>
                </a:cubicBezTo>
                <a:cubicBezTo>
                  <a:pt x="250464" y="1718765"/>
                  <a:pt x="247752" y="1656277"/>
                  <a:pt x="253177" y="1610090"/>
                </a:cubicBezTo>
                <a:cubicBezTo>
                  <a:pt x="264027" y="1498698"/>
                  <a:pt x="274877" y="1379156"/>
                  <a:pt x="285727" y="1267764"/>
                </a:cubicBezTo>
                <a:cubicBezTo>
                  <a:pt x="288439" y="1248746"/>
                  <a:pt x="302002" y="1221578"/>
                  <a:pt x="283015" y="1210710"/>
                </a:cubicBezTo>
                <a:cubicBezTo>
                  <a:pt x="201639" y="1409042"/>
                  <a:pt x="131113" y="1615524"/>
                  <a:pt x="52450" y="1824723"/>
                </a:cubicBezTo>
                <a:cubicBezTo>
                  <a:pt x="41600" y="1851892"/>
                  <a:pt x="19899" y="1889928"/>
                  <a:pt x="19899" y="1911663"/>
                </a:cubicBezTo>
                <a:cubicBezTo>
                  <a:pt x="22612" y="1971434"/>
                  <a:pt x="106700" y="2028488"/>
                  <a:pt x="76863" y="2118145"/>
                </a:cubicBezTo>
                <a:cubicBezTo>
                  <a:pt x="68725" y="2142597"/>
                  <a:pt x="41600" y="2153465"/>
                  <a:pt x="17187" y="2167049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15" name="Freeform 20" hidden="1"/>
          <p:cNvSpPr/>
          <p:nvPr/>
        </p:nvSpPr>
        <p:spPr>
          <a:xfrm>
            <a:off x="0" y="4908960"/>
            <a:ext cx="1096920" cy="1948680"/>
          </a:xfrm>
          <a:custGeom>
            <a:avLst/>
            <a:gdLst>
              <a:gd name="textAreaLeft" fmla="*/ 0 w 1096920"/>
              <a:gd name="textAreaRight" fmla="*/ 1097280 w 1096920"/>
              <a:gd name="textAreaTop" fmla="*/ 0 h 1948680"/>
              <a:gd name="textAreaBottom" fmla="*/ 1949040 h 1948680"/>
            </a:gdLst>
            <a:ahLst/>
            <a:rect l="textAreaLeft" t="textAreaTop" r="textAreaRight" b="textAreaBottom"/>
            <a:pathLst>
              <a:path w="1097279" h="1949116">
                <a:moveTo>
                  <a:pt x="0" y="1695815"/>
                </a:moveTo>
                <a:lnTo>
                  <a:pt x="7867" y="1742679"/>
                </a:lnTo>
                <a:lnTo>
                  <a:pt x="42224" y="1949116"/>
                </a:lnTo>
                <a:lnTo>
                  <a:pt x="9113" y="1949116"/>
                </a:lnTo>
                <a:lnTo>
                  <a:pt x="0" y="1890647"/>
                </a:lnTo>
                <a:close/>
                <a:moveTo>
                  <a:pt x="0" y="1374109"/>
                </a:moveTo>
                <a:lnTo>
                  <a:pt x="92420" y="1572256"/>
                </a:lnTo>
                <a:cubicBezTo>
                  <a:pt x="133631" y="1663029"/>
                  <a:pt x="174458" y="1754186"/>
                  <a:pt x="216054" y="1844576"/>
                </a:cubicBezTo>
                <a:cubicBezTo>
                  <a:pt x="277678" y="1832320"/>
                  <a:pt x="342383" y="1936498"/>
                  <a:pt x="246866" y="1924242"/>
                </a:cubicBezTo>
                <a:cubicBezTo>
                  <a:pt x="243785" y="1934967"/>
                  <a:pt x="239933" y="1943393"/>
                  <a:pt x="233771" y="1948755"/>
                </a:cubicBezTo>
                <a:lnTo>
                  <a:pt x="232182" y="1949116"/>
                </a:lnTo>
                <a:lnTo>
                  <a:pt x="191813" y="1949116"/>
                </a:lnTo>
                <a:lnTo>
                  <a:pt x="185819" y="1942627"/>
                </a:lnTo>
                <a:cubicBezTo>
                  <a:pt x="176576" y="1923668"/>
                  <a:pt x="196796" y="1887473"/>
                  <a:pt x="194485" y="1859896"/>
                </a:cubicBezTo>
                <a:cubicBezTo>
                  <a:pt x="194485" y="1826192"/>
                  <a:pt x="151348" y="1761846"/>
                  <a:pt x="132861" y="1718949"/>
                </a:cubicBezTo>
                <a:cubicBezTo>
                  <a:pt x="105130" y="1659200"/>
                  <a:pt x="78940" y="1599450"/>
                  <a:pt x="52750" y="1540084"/>
                </a:cubicBezTo>
                <a:lnTo>
                  <a:pt x="0" y="1423822"/>
                </a:lnTo>
                <a:close/>
                <a:moveTo>
                  <a:pt x="0" y="1277040"/>
                </a:moveTo>
                <a:lnTo>
                  <a:pt x="4702" y="1291797"/>
                </a:lnTo>
                <a:cubicBezTo>
                  <a:pt x="16545" y="1313341"/>
                  <a:pt x="39654" y="1330577"/>
                  <a:pt x="55831" y="1351259"/>
                </a:cubicBezTo>
                <a:cubicBezTo>
                  <a:pt x="191404" y="1510591"/>
                  <a:pt x="326977" y="1676052"/>
                  <a:pt x="462550" y="1844576"/>
                </a:cubicBezTo>
                <a:cubicBezTo>
                  <a:pt x="484119" y="1872153"/>
                  <a:pt x="511850" y="1911986"/>
                  <a:pt x="533418" y="1918114"/>
                </a:cubicBezTo>
                <a:cubicBezTo>
                  <a:pt x="581947" y="1936499"/>
                  <a:pt x="637409" y="1927307"/>
                  <a:pt x="685505" y="1935781"/>
                </a:cubicBezTo>
                <a:lnTo>
                  <a:pt x="723012" y="1949116"/>
                </a:lnTo>
                <a:lnTo>
                  <a:pt x="501674" y="1949116"/>
                </a:lnTo>
                <a:lnTo>
                  <a:pt x="502606" y="1942627"/>
                </a:lnTo>
                <a:cubicBezTo>
                  <a:pt x="419414" y="1843044"/>
                  <a:pt x="335451" y="1739632"/>
                  <a:pt x="251102" y="1635836"/>
                </a:cubicBezTo>
                <a:lnTo>
                  <a:pt x="0" y="1330049"/>
                </a:lnTo>
                <a:close/>
                <a:moveTo>
                  <a:pt x="342383" y="447355"/>
                </a:moveTo>
                <a:cubicBezTo>
                  <a:pt x="373195" y="444291"/>
                  <a:pt x="382439" y="462676"/>
                  <a:pt x="394764" y="490252"/>
                </a:cubicBezTo>
                <a:cubicBezTo>
                  <a:pt x="431738" y="474932"/>
                  <a:pt x="450225" y="505573"/>
                  <a:pt x="450225" y="523957"/>
                </a:cubicBezTo>
                <a:cubicBezTo>
                  <a:pt x="450225" y="572983"/>
                  <a:pt x="385520" y="569919"/>
                  <a:pt x="345464" y="579111"/>
                </a:cubicBezTo>
                <a:cubicBezTo>
                  <a:pt x="237622" y="720058"/>
                  <a:pt x="132861" y="870198"/>
                  <a:pt x="28100" y="1014210"/>
                </a:cubicBezTo>
                <a:cubicBezTo>
                  <a:pt x="21938" y="1023403"/>
                  <a:pt x="13464" y="1033361"/>
                  <a:pt x="6532" y="1044085"/>
                </a:cubicBezTo>
                <a:lnTo>
                  <a:pt x="0" y="1056505"/>
                </a:lnTo>
                <a:lnTo>
                  <a:pt x="0" y="1010146"/>
                </a:lnTo>
                <a:lnTo>
                  <a:pt x="144416" y="816960"/>
                </a:lnTo>
                <a:cubicBezTo>
                  <a:pt x="204499" y="733081"/>
                  <a:pt x="263813" y="648053"/>
                  <a:pt x="323896" y="563790"/>
                </a:cubicBezTo>
                <a:cubicBezTo>
                  <a:pt x="305409" y="527021"/>
                  <a:pt x="290003" y="450419"/>
                  <a:pt x="342383" y="447355"/>
                </a:cubicBezTo>
                <a:close/>
                <a:moveTo>
                  <a:pt x="770671" y="263511"/>
                </a:moveTo>
                <a:cubicBezTo>
                  <a:pt x="835376" y="272703"/>
                  <a:pt x="860026" y="343177"/>
                  <a:pt x="853864" y="401394"/>
                </a:cubicBezTo>
                <a:cubicBezTo>
                  <a:pt x="989437" y="389138"/>
                  <a:pt x="1001762" y="579111"/>
                  <a:pt x="875432" y="597495"/>
                </a:cubicBezTo>
                <a:cubicBezTo>
                  <a:pt x="804564" y="606688"/>
                  <a:pt x="712128" y="566854"/>
                  <a:pt x="659747" y="576047"/>
                </a:cubicBezTo>
                <a:cubicBezTo>
                  <a:pt x="641260" y="579111"/>
                  <a:pt x="598123" y="618944"/>
                  <a:pt x="573474" y="640392"/>
                </a:cubicBezTo>
                <a:cubicBezTo>
                  <a:pt x="437901" y="750699"/>
                  <a:pt x="305409" y="861006"/>
                  <a:pt x="166754" y="971313"/>
                </a:cubicBezTo>
                <a:cubicBezTo>
                  <a:pt x="111292" y="1017274"/>
                  <a:pt x="55831" y="1060171"/>
                  <a:pt x="12694" y="1109197"/>
                </a:cubicBezTo>
                <a:cubicBezTo>
                  <a:pt x="200647" y="1029530"/>
                  <a:pt x="385520" y="943736"/>
                  <a:pt x="570392" y="861006"/>
                </a:cubicBezTo>
                <a:cubicBezTo>
                  <a:pt x="585798" y="805853"/>
                  <a:pt x="591961" y="716994"/>
                  <a:pt x="659747" y="713930"/>
                </a:cubicBezTo>
                <a:cubicBezTo>
                  <a:pt x="696722" y="713930"/>
                  <a:pt x="733696" y="753763"/>
                  <a:pt x="709047" y="805853"/>
                </a:cubicBezTo>
                <a:cubicBezTo>
                  <a:pt x="770671" y="805853"/>
                  <a:pt x="782996" y="906967"/>
                  <a:pt x="721372" y="919224"/>
                </a:cubicBezTo>
                <a:cubicBezTo>
                  <a:pt x="665910" y="931480"/>
                  <a:pt x="625854" y="882455"/>
                  <a:pt x="576555" y="885519"/>
                </a:cubicBezTo>
                <a:cubicBezTo>
                  <a:pt x="539580" y="885519"/>
                  <a:pt x="481037" y="928416"/>
                  <a:pt x="437901" y="946800"/>
                </a:cubicBezTo>
                <a:cubicBezTo>
                  <a:pt x="302327" y="1008082"/>
                  <a:pt x="145186" y="1072428"/>
                  <a:pt x="25019" y="1136773"/>
                </a:cubicBezTo>
                <a:cubicBezTo>
                  <a:pt x="299246" y="1096940"/>
                  <a:pt x="564230" y="1050979"/>
                  <a:pt x="835376" y="1008082"/>
                </a:cubicBezTo>
                <a:cubicBezTo>
                  <a:pt x="875432" y="949864"/>
                  <a:pt x="890838" y="821173"/>
                  <a:pt x="992518" y="830365"/>
                </a:cubicBezTo>
                <a:cubicBezTo>
                  <a:pt x="1047980" y="833429"/>
                  <a:pt x="1084954" y="910031"/>
                  <a:pt x="1038736" y="962121"/>
                </a:cubicBezTo>
                <a:cubicBezTo>
                  <a:pt x="1072629" y="974377"/>
                  <a:pt x="1088035" y="998890"/>
                  <a:pt x="1097279" y="1035659"/>
                </a:cubicBezTo>
                <a:cubicBezTo>
                  <a:pt x="1097279" y="1035659"/>
                  <a:pt x="1097279" y="1038723"/>
                  <a:pt x="1097279" y="1038723"/>
                </a:cubicBezTo>
                <a:cubicBezTo>
                  <a:pt x="1091117" y="1124517"/>
                  <a:pt x="1004843" y="1124517"/>
                  <a:pt x="933975" y="1084684"/>
                </a:cubicBezTo>
                <a:cubicBezTo>
                  <a:pt x="909325" y="1072428"/>
                  <a:pt x="881594" y="1038723"/>
                  <a:pt x="853864" y="1035659"/>
                </a:cubicBezTo>
                <a:cubicBezTo>
                  <a:pt x="832295" y="1032595"/>
                  <a:pt x="782996" y="1044851"/>
                  <a:pt x="749103" y="1050979"/>
                </a:cubicBezTo>
                <a:cubicBezTo>
                  <a:pt x="650504" y="1066299"/>
                  <a:pt x="539580" y="1084684"/>
                  <a:pt x="437901" y="1103068"/>
                </a:cubicBezTo>
                <a:cubicBezTo>
                  <a:pt x="283840" y="1127581"/>
                  <a:pt x="151348" y="1145966"/>
                  <a:pt x="34262" y="1176606"/>
                </a:cubicBezTo>
                <a:cubicBezTo>
                  <a:pt x="234541" y="1201119"/>
                  <a:pt x="444063" y="1216439"/>
                  <a:pt x="647423" y="1240952"/>
                </a:cubicBezTo>
                <a:cubicBezTo>
                  <a:pt x="696722" y="1204183"/>
                  <a:pt x="761427" y="1136773"/>
                  <a:pt x="782996" y="1225632"/>
                </a:cubicBezTo>
                <a:cubicBezTo>
                  <a:pt x="789158" y="1247080"/>
                  <a:pt x="767590" y="1253208"/>
                  <a:pt x="755265" y="1271593"/>
                </a:cubicBezTo>
                <a:cubicBezTo>
                  <a:pt x="782996" y="1305298"/>
                  <a:pt x="752184" y="1339003"/>
                  <a:pt x="727534" y="1339003"/>
                </a:cubicBezTo>
                <a:cubicBezTo>
                  <a:pt x="681316" y="1342067"/>
                  <a:pt x="678235" y="1280785"/>
                  <a:pt x="647423" y="1262401"/>
                </a:cubicBezTo>
                <a:cubicBezTo>
                  <a:pt x="444063" y="1244016"/>
                  <a:pt x="225297" y="1219503"/>
                  <a:pt x="28100" y="1204183"/>
                </a:cubicBezTo>
                <a:cubicBezTo>
                  <a:pt x="52749" y="1228696"/>
                  <a:pt x="89724" y="1234824"/>
                  <a:pt x="123617" y="1247080"/>
                </a:cubicBezTo>
                <a:cubicBezTo>
                  <a:pt x="317733" y="1320618"/>
                  <a:pt x="527256" y="1400284"/>
                  <a:pt x="724453" y="1473822"/>
                </a:cubicBezTo>
                <a:cubicBezTo>
                  <a:pt x="758346" y="1486079"/>
                  <a:pt x="801483" y="1507527"/>
                  <a:pt x="823052" y="1507527"/>
                </a:cubicBezTo>
                <a:cubicBezTo>
                  <a:pt x="872351" y="1510591"/>
                  <a:pt x="943219" y="1449309"/>
                  <a:pt x="1011005" y="1473822"/>
                </a:cubicBezTo>
                <a:cubicBezTo>
                  <a:pt x="1069548" y="1495271"/>
                  <a:pt x="1060305" y="1605578"/>
                  <a:pt x="983274" y="1611706"/>
                </a:cubicBezTo>
                <a:cubicBezTo>
                  <a:pt x="1007924" y="1679116"/>
                  <a:pt x="961706" y="1731205"/>
                  <a:pt x="900082" y="1718949"/>
                </a:cubicBezTo>
                <a:cubicBezTo>
                  <a:pt x="835376" y="1703628"/>
                  <a:pt x="835376" y="1599450"/>
                  <a:pt x="813808" y="1541232"/>
                </a:cubicBezTo>
                <a:cubicBezTo>
                  <a:pt x="551905" y="1437053"/>
                  <a:pt x="280759" y="1342067"/>
                  <a:pt x="15775" y="1240952"/>
                </a:cubicBezTo>
                <a:cubicBezTo>
                  <a:pt x="25019" y="1259336"/>
                  <a:pt x="49668" y="1274657"/>
                  <a:pt x="68156" y="1286913"/>
                </a:cubicBezTo>
                <a:cubicBezTo>
                  <a:pt x="163673" y="1357387"/>
                  <a:pt x="271515" y="1430925"/>
                  <a:pt x="370114" y="1501399"/>
                </a:cubicBezTo>
                <a:cubicBezTo>
                  <a:pt x="404007" y="1522848"/>
                  <a:pt x="459469" y="1578001"/>
                  <a:pt x="493362" y="1584129"/>
                </a:cubicBezTo>
                <a:cubicBezTo>
                  <a:pt x="533418" y="1590257"/>
                  <a:pt x="595042" y="1559617"/>
                  <a:pt x="641260" y="1574937"/>
                </a:cubicBezTo>
                <a:cubicBezTo>
                  <a:pt x="699803" y="1596386"/>
                  <a:pt x="690560" y="1703628"/>
                  <a:pt x="607367" y="1697500"/>
                </a:cubicBezTo>
                <a:cubicBezTo>
                  <a:pt x="619692" y="1767974"/>
                  <a:pt x="564230" y="1798615"/>
                  <a:pt x="518012" y="1777166"/>
                </a:cubicBezTo>
                <a:cubicBezTo>
                  <a:pt x="468713" y="1755718"/>
                  <a:pt x="484119" y="1663795"/>
                  <a:pt x="474875" y="1602514"/>
                </a:cubicBezTo>
                <a:cubicBezTo>
                  <a:pt x="396304" y="1545829"/>
                  <a:pt x="317733" y="1489143"/>
                  <a:pt x="238392" y="1433223"/>
                </a:cubicBezTo>
                <a:lnTo>
                  <a:pt x="0" y="1270382"/>
                </a:lnTo>
                <a:lnTo>
                  <a:pt x="0" y="1073676"/>
                </a:lnTo>
                <a:lnTo>
                  <a:pt x="128673" y="965281"/>
                </a:lnTo>
                <a:cubicBezTo>
                  <a:pt x="267471" y="849516"/>
                  <a:pt x="417103" y="727719"/>
                  <a:pt x="558068" y="612816"/>
                </a:cubicBezTo>
                <a:cubicBezTo>
                  <a:pt x="582717" y="591367"/>
                  <a:pt x="628935" y="566854"/>
                  <a:pt x="635098" y="545406"/>
                </a:cubicBezTo>
                <a:cubicBezTo>
                  <a:pt x="647423" y="514765"/>
                  <a:pt x="638179" y="477996"/>
                  <a:pt x="641260" y="450419"/>
                </a:cubicBezTo>
                <a:cubicBezTo>
                  <a:pt x="644341" y="364625"/>
                  <a:pt x="665910" y="254318"/>
                  <a:pt x="770671" y="263511"/>
                </a:cubicBezTo>
                <a:close/>
                <a:moveTo>
                  <a:pt x="70777" y="235050"/>
                </a:moveTo>
                <a:cubicBezTo>
                  <a:pt x="99163" y="243080"/>
                  <a:pt x="122946" y="266788"/>
                  <a:pt x="122946" y="300437"/>
                </a:cubicBezTo>
                <a:cubicBezTo>
                  <a:pt x="122946" y="367355"/>
                  <a:pt x="38363" y="389772"/>
                  <a:pt x="770" y="435317"/>
                </a:cubicBezTo>
                <a:lnTo>
                  <a:pt x="0" y="436584"/>
                </a:lnTo>
                <a:lnTo>
                  <a:pt x="0" y="256689"/>
                </a:lnTo>
                <a:lnTo>
                  <a:pt x="27143" y="235481"/>
                </a:lnTo>
                <a:cubicBezTo>
                  <a:pt x="41240" y="230940"/>
                  <a:pt x="56584" y="231035"/>
                  <a:pt x="70777" y="235050"/>
                </a:cubicBezTo>
                <a:close/>
                <a:moveTo>
                  <a:pt x="200647" y="0"/>
                </a:moveTo>
                <a:cubicBezTo>
                  <a:pt x="206810" y="0"/>
                  <a:pt x="216054" y="0"/>
                  <a:pt x="222216" y="0"/>
                </a:cubicBezTo>
                <a:cubicBezTo>
                  <a:pt x="222216" y="0"/>
                  <a:pt x="222216" y="3064"/>
                  <a:pt x="222216" y="3064"/>
                </a:cubicBezTo>
                <a:cubicBezTo>
                  <a:pt x="268434" y="6128"/>
                  <a:pt x="283840" y="33705"/>
                  <a:pt x="302327" y="64345"/>
                </a:cubicBezTo>
                <a:cubicBezTo>
                  <a:pt x="354708" y="12256"/>
                  <a:pt x="456388" y="55153"/>
                  <a:pt x="440982" y="137883"/>
                </a:cubicBezTo>
                <a:cubicBezTo>
                  <a:pt x="428657" y="214485"/>
                  <a:pt x="296165" y="242062"/>
                  <a:pt x="246866" y="275767"/>
                </a:cubicBezTo>
                <a:cubicBezTo>
                  <a:pt x="172917" y="471868"/>
                  <a:pt x="105130" y="671033"/>
                  <a:pt x="28100" y="870198"/>
                </a:cubicBezTo>
                <a:lnTo>
                  <a:pt x="0" y="937752"/>
                </a:lnTo>
                <a:lnTo>
                  <a:pt x="0" y="849367"/>
                </a:lnTo>
                <a:lnTo>
                  <a:pt x="222216" y="263511"/>
                </a:lnTo>
                <a:cubicBezTo>
                  <a:pt x="179079" y="199165"/>
                  <a:pt x="74318" y="52089"/>
                  <a:pt x="200647" y="0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16" name="Rectangle 7" hidden="1"/>
          <p:cNvSpPr/>
          <p:nvPr/>
        </p:nvSpPr>
        <p:spPr>
          <a:xfrm>
            <a:off x="0" y="0"/>
            <a:ext cx="12188520" cy="180360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cxnSp>
        <p:nvCxnSpPr>
          <p:cNvPr id="417" name="Straight Connector 9"/>
          <p:cNvCxnSpPr/>
          <p:nvPr/>
        </p:nvCxnSpPr>
        <p:spPr>
          <a:xfrm>
            <a:off x="1440" y="1803960"/>
            <a:ext cx="12189240" cy="360"/>
          </a:xfrm>
          <a:prstGeom prst="straightConnector1">
            <a:avLst/>
          </a:prstGeom>
          <a:ln w="50800">
            <a:solidFill>
              <a:srgbClr val="ffffff"/>
            </a:solidFill>
          </a:ln>
        </p:spPr>
      </p:cxnSp>
      <p:sp>
        <p:nvSpPr>
          <p:cNvPr id="418" name="Rectangle 5"/>
          <p:cNvSpPr/>
          <p:nvPr/>
        </p:nvSpPr>
        <p:spPr>
          <a:xfrm>
            <a:off x="0" y="0"/>
            <a:ext cx="12188520" cy="180360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cxnSp>
        <p:nvCxnSpPr>
          <p:cNvPr id="419" name="Straight Connector 6"/>
          <p:cNvCxnSpPr/>
          <p:nvPr/>
        </p:nvCxnSpPr>
        <p:spPr>
          <a:xfrm>
            <a:off x="1440" y="1803960"/>
            <a:ext cx="12189240" cy="360"/>
          </a:xfrm>
          <a:prstGeom prst="straightConnector1">
            <a:avLst/>
          </a:prstGeom>
          <a:ln w="50800">
            <a:solidFill>
              <a:srgbClr val="ffffff"/>
            </a:solidFill>
          </a:ln>
        </p:spPr>
      </p:cxn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Master title style</a:t>
            </a:r>
            <a:endParaRPr b="0" lang="en-US" sz="34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21" name="Freeform 8"/>
          <p:cNvSpPr/>
          <p:nvPr/>
        </p:nvSpPr>
        <p:spPr>
          <a:xfrm>
            <a:off x="4743360" y="2016360"/>
            <a:ext cx="2742840" cy="3905640"/>
          </a:xfrm>
          <a:custGeom>
            <a:avLst/>
            <a:gdLst>
              <a:gd name="textAreaLeft" fmla="*/ 0 w 2742840"/>
              <a:gd name="textAreaRight" fmla="*/ 2743200 w 2742840"/>
              <a:gd name="textAreaTop" fmla="*/ 0 h 3905640"/>
              <a:gd name="textAreaBottom" fmla="*/ 3906000 h 3905640"/>
            </a:gdLst>
            <a:ahLst/>
            <a:rect l="textAreaLeft" t="textAreaTop" r="textAreaRight" b="textAreaBottom"/>
            <a:pathLst>
              <a:path w="1172" h="1815">
                <a:moveTo>
                  <a:pt x="42" y="885"/>
                </a:moveTo>
                <a:cubicBezTo>
                  <a:pt x="74" y="863"/>
                  <a:pt x="90" y="821"/>
                  <a:pt x="90" y="756"/>
                </a:cubicBezTo>
                <a:cubicBezTo>
                  <a:pt x="90" y="680"/>
                  <a:pt x="68" y="589"/>
                  <a:pt x="49" y="509"/>
                </a:cubicBezTo>
                <a:cubicBezTo>
                  <a:pt x="39" y="468"/>
                  <a:pt x="30" y="429"/>
                  <a:pt x="25" y="398"/>
                </a:cubicBezTo>
                <a:cubicBezTo>
                  <a:pt x="22" y="378"/>
                  <a:pt x="21" y="358"/>
                  <a:pt x="21" y="339"/>
                </a:cubicBezTo>
                <a:cubicBezTo>
                  <a:pt x="21" y="339"/>
                  <a:pt x="21" y="339"/>
                  <a:pt x="21" y="339"/>
                </a:cubicBezTo>
                <a:cubicBezTo>
                  <a:pt x="21" y="270"/>
                  <a:pt x="40" y="211"/>
                  <a:pt x="78" y="169"/>
                </a:cubicBezTo>
                <a:cubicBezTo>
                  <a:pt x="181" y="54"/>
                  <a:pt x="314" y="80"/>
                  <a:pt x="454" y="107"/>
                </a:cubicBezTo>
                <a:cubicBezTo>
                  <a:pt x="463" y="108"/>
                  <a:pt x="471" y="110"/>
                  <a:pt x="480" y="112"/>
                </a:cubicBezTo>
                <a:cubicBezTo>
                  <a:pt x="533" y="122"/>
                  <a:pt x="552" y="88"/>
                  <a:pt x="556" y="80"/>
                </a:cubicBezTo>
                <a:cubicBezTo>
                  <a:pt x="586" y="0"/>
                  <a:pt x="586" y="0"/>
                  <a:pt x="586" y="0"/>
                </a:cubicBezTo>
                <a:cubicBezTo>
                  <a:pt x="616" y="80"/>
                  <a:pt x="616" y="80"/>
                  <a:pt x="616" y="80"/>
                </a:cubicBezTo>
                <a:cubicBezTo>
                  <a:pt x="620" y="88"/>
                  <a:pt x="639" y="122"/>
                  <a:pt x="692" y="112"/>
                </a:cubicBezTo>
                <a:cubicBezTo>
                  <a:pt x="701" y="110"/>
                  <a:pt x="709" y="108"/>
                  <a:pt x="718" y="107"/>
                </a:cubicBezTo>
                <a:cubicBezTo>
                  <a:pt x="858" y="80"/>
                  <a:pt x="991" y="54"/>
                  <a:pt x="1094" y="169"/>
                </a:cubicBezTo>
                <a:cubicBezTo>
                  <a:pt x="1132" y="211"/>
                  <a:pt x="1151" y="270"/>
                  <a:pt x="1151" y="339"/>
                </a:cubicBezTo>
                <a:cubicBezTo>
                  <a:pt x="1151" y="358"/>
                  <a:pt x="1150" y="378"/>
                  <a:pt x="1147" y="398"/>
                </a:cubicBezTo>
                <a:cubicBezTo>
                  <a:pt x="1142" y="429"/>
                  <a:pt x="1133" y="468"/>
                  <a:pt x="1123" y="509"/>
                </a:cubicBezTo>
                <a:cubicBezTo>
                  <a:pt x="1103" y="589"/>
                  <a:pt x="1082" y="680"/>
                  <a:pt x="1082" y="756"/>
                </a:cubicBezTo>
                <a:cubicBezTo>
                  <a:pt x="1082" y="756"/>
                  <a:pt x="1082" y="756"/>
                  <a:pt x="1082" y="756"/>
                </a:cubicBezTo>
                <a:cubicBezTo>
                  <a:pt x="1082" y="821"/>
                  <a:pt x="1097" y="863"/>
                  <a:pt x="1130" y="885"/>
                </a:cubicBezTo>
                <a:cubicBezTo>
                  <a:pt x="1172" y="912"/>
                  <a:pt x="1172" y="912"/>
                  <a:pt x="1172" y="912"/>
                </a:cubicBezTo>
                <a:cubicBezTo>
                  <a:pt x="1130" y="940"/>
                  <a:pt x="1130" y="940"/>
                  <a:pt x="1130" y="940"/>
                </a:cubicBezTo>
                <a:cubicBezTo>
                  <a:pt x="1097" y="961"/>
                  <a:pt x="1082" y="1003"/>
                  <a:pt x="1082" y="1068"/>
                </a:cubicBezTo>
                <a:cubicBezTo>
                  <a:pt x="1082" y="1144"/>
                  <a:pt x="1103" y="1235"/>
                  <a:pt x="1123" y="1315"/>
                </a:cubicBezTo>
                <a:cubicBezTo>
                  <a:pt x="1133" y="1356"/>
                  <a:pt x="1142" y="1395"/>
                  <a:pt x="1147" y="1426"/>
                </a:cubicBezTo>
                <a:cubicBezTo>
                  <a:pt x="1150" y="1446"/>
                  <a:pt x="1151" y="1466"/>
                  <a:pt x="1151" y="1485"/>
                </a:cubicBezTo>
                <a:cubicBezTo>
                  <a:pt x="1151" y="1554"/>
                  <a:pt x="1132" y="1613"/>
                  <a:pt x="1094" y="1655"/>
                </a:cubicBezTo>
                <a:cubicBezTo>
                  <a:pt x="991" y="1770"/>
                  <a:pt x="858" y="1744"/>
                  <a:pt x="718" y="1717"/>
                </a:cubicBezTo>
                <a:cubicBezTo>
                  <a:pt x="709" y="1716"/>
                  <a:pt x="701" y="1714"/>
                  <a:pt x="692" y="1713"/>
                </a:cubicBezTo>
                <a:cubicBezTo>
                  <a:pt x="638" y="1703"/>
                  <a:pt x="619" y="1733"/>
                  <a:pt x="616" y="1740"/>
                </a:cubicBezTo>
                <a:cubicBezTo>
                  <a:pt x="586" y="1815"/>
                  <a:pt x="586" y="1815"/>
                  <a:pt x="586" y="1815"/>
                </a:cubicBezTo>
                <a:cubicBezTo>
                  <a:pt x="556" y="1740"/>
                  <a:pt x="556" y="1740"/>
                  <a:pt x="556" y="1740"/>
                </a:cubicBezTo>
                <a:cubicBezTo>
                  <a:pt x="552" y="1733"/>
                  <a:pt x="534" y="1703"/>
                  <a:pt x="480" y="1713"/>
                </a:cubicBezTo>
                <a:cubicBezTo>
                  <a:pt x="471" y="1714"/>
                  <a:pt x="463" y="1716"/>
                  <a:pt x="454" y="1718"/>
                </a:cubicBezTo>
                <a:cubicBezTo>
                  <a:pt x="314" y="1744"/>
                  <a:pt x="181" y="1770"/>
                  <a:pt x="78" y="1655"/>
                </a:cubicBezTo>
                <a:cubicBezTo>
                  <a:pt x="40" y="1613"/>
                  <a:pt x="21" y="1554"/>
                  <a:pt x="21" y="1485"/>
                </a:cubicBezTo>
                <a:cubicBezTo>
                  <a:pt x="21" y="1466"/>
                  <a:pt x="22" y="1446"/>
                  <a:pt x="25" y="1426"/>
                </a:cubicBezTo>
                <a:cubicBezTo>
                  <a:pt x="30" y="1395"/>
                  <a:pt x="39" y="1356"/>
                  <a:pt x="49" y="1315"/>
                </a:cubicBezTo>
                <a:cubicBezTo>
                  <a:pt x="68" y="1235"/>
                  <a:pt x="90" y="1144"/>
                  <a:pt x="90" y="1068"/>
                </a:cubicBezTo>
                <a:cubicBezTo>
                  <a:pt x="90" y="1003"/>
                  <a:pt x="74" y="961"/>
                  <a:pt x="42" y="940"/>
                </a:cubicBezTo>
                <a:cubicBezTo>
                  <a:pt x="0" y="912"/>
                  <a:pt x="0" y="912"/>
                  <a:pt x="0" y="912"/>
                </a:cubicBezTo>
                <a:lnTo>
                  <a:pt x="42" y="885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901400" y="2251440"/>
            <a:ext cx="2427120" cy="3435120"/>
          </a:xfrm>
          <a:prstGeom prst="rect">
            <a:avLst/>
          </a:prstGeom>
          <a:solidFill>
            <a:srgbClr val="f9d9da"/>
          </a:solidFill>
          <a:ln w="50760">
            <a:solidFill>
              <a:srgbClr val="ffffff"/>
            </a:solidFill>
            <a:miter/>
          </a:ln>
        </p:spPr>
        <p:txBody>
          <a:bodyPr lIns="90000" rIns="90000" tIns="365760" bIns="45000" anchor="t">
            <a:no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23" name="Freeform 11"/>
          <p:cNvSpPr/>
          <p:nvPr/>
        </p:nvSpPr>
        <p:spPr>
          <a:xfrm rot="5400000">
            <a:off x="8499600" y="1989360"/>
            <a:ext cx="2779200" cy="3902400"/>
          </a:xfrm>
          <a:custGeom>
            <a:avLst/>
            <a:gdLst>
              <a:gd name="textAreaLeft" fmla="*/ 0 w 2779200"/>
              <a:gd name="textAreaRight" fmla="*/ 2779560 w 2779200"/>
              <a:gd name="textAreaTop" fmla="*/ 0 h 3902400"/>
              <a:gd name="textAreaBottom" fmla="*/ 3902760 h 3902400"/>
            </a:gdLst>
            <a:ahLst/>
            <a:rect l="textAreaLeft" t="textAreaTop" r="textAreaRight" b="textAreaBottom"/>
            <a:pathLst>
              <a:path w="1172" h="1815">
                <a:moveTo>
                  <a:pt x="42" y="885"/>
                </a:moveTo>
                <a:cubicBezTo>
                  <a:pt x="74" y="863"/>
                  <a:pt x="90" y="821"/>
                  <a:pt x="90" y="756"/>
                </a:cubicBezTo>
                <a:cubicBezTo>
                  <a:pt x="90" y="680"/>
                  <a:pt x="68" y="589"/>
                  <a:pt x="49" y="509"/>
                </a:cubicBezTo>
                <a:cubicBezTo>
                  <a:pt x="39" y="468"/>
                  <a:pt x="30" y="429"/>
                  <a:pt x="25" y="398"/>
                </a:cubicBezTo>
                <a:cubicBezTo>
                  <a:pt x="22" y="378"/>
                  <a:pt x="21" y="358"/>
                  <a:pt x="21" y="339"/>
                </a:cubicBezTo>
                <a:cubicBezTo>
                  <a:pt x="21" y="339"/>
                  <a:pt x="21" y="339"/>
                  <a:pt x="21" y="339"/>
                </a:cubicBezTo>
                <a:cubicBezTo>
                  <a:pt x="21" y="270"/>
                  <a:pt x="40" y="211"/>
                  <a:pt x="78" y="169"/>
                </a:cubicBezTo>
                <a:cubicBezTo>
                  <a:pt x="181" y="54"/>
                  <a:pt x="314" y="80"/>
                  <a:pt x="454" y="107"/>
                </a:cubicBezTo>
                <a:cubicBezTo>
                  <a:pt x="463" y="108"/>
                  <a:pt x="471" y="110"/>
                  <a:pt x="480" y="112"/>
                </a:cubicBezTo>
                <a:cubicBezTo>
                  <a:pt x="533" y="122"/>
                  <a:pt x="552" y="88"/>
                  <a:pt x="556" y="80"/>
                </a:cubicBezTo>
                <a:cubicBezTo>
                  <a:pt x="586" y="0"/>
                  <a:pt x="586" y="0"/>
                  <a:pt x="586" y="0"/>
                </a:cubicBezTo>
                <a:cubicBezTo>
                  <a:pt x="616" y="80"/>
                  <a:pt x="616" y="80"/>
                  <a:pt x="616" y="80"/>
                </a:cubicBezTo>
                <a:cubicBezTo>
                  <a:pt x="620" y="88"/>
                  <a:pt x="639" y="122"/>
                  <a:pt x="692" y="112"/>
                </a:cubicBezTo>
                <a:cubicBezTo>
                  <a:pt x="701" y="110"/>
                  <a:pt x="709" y="108"/>
                  <a:pt x="718" y="107"/>
                </a:cubicBezTo>
                <a:cubicBezTo>
                  <a:pt x="858" y="80"/>
                  <a:pt x="991" y="54"/>
                  <a:pt x="1094" y="169"/>
                </a:cubicBezTo>
                <a:cubicBezTo>
                  <a:pt x="1132" y="211"/>
                  <a:pt x="1151" y="270"/>
                  <a:pt x="1151" y="339"/>
                </a:cubicBezTo>
                <a:cubicBezTo>
                  <a:pt x="1151" y="358"/>
                  <a:pt x="1150" y="378"/>
                  <a:pt x="1147" y="398"/>
                </a:cubicBezTo>
                <a:cubicBezTo>
                  <a:pt x="1142" y="429"/>
                  <a:pt x="1133" y="468"/>
                  <a:pt x="1123" y="509"/>
                </a:cubicBezTo>
                <a:cubicBezTo>
                  <a:pt x="1103" y="589"/>
                  <a:pt x="1082" y="680"/>
                  <a:pt x="1082" y="756"/>
                </a:cubicBezTo>
                <a:cubicBezTo>
                  <a:pt x="1082" y="756"/>
                  <a:pt x="1082" y="756"/>
                  <a:pt x="1082" y="756"/>
                </a:cubicBezTo>
                <a:cubicBezTo>
                  <a:pt x="1082" y="821"/>
                  <a:pt x="1097" y="863"/>
                  <a:pt x="1130" y="885"/>
                </a:cubicBezTo>
                <a:cubicBezTo>
                  <a:pt x="1172" y="912"/>
                  <a:pt x="1172" y="912"/>
                  <a:pt x="1172" y="912"/>
                </a:cubicBezTo>
                <a:cubicBezTo>
                  <a:pt x="1130" y="940"/>
                  <a:pt x="1130" y="940"/>
                  <a:pt x="1130" y="940"/>
                </a:cubicBezTo>
                <a:cubicBezTo>
                  <a:pt x="1097" y="961"/>
                  <a:pt x="1082" y="1003"/>
                  <a:pt x="1082" y="1068"/>
                </a:cubicBezTo>
                <a:cubicBezTo>
                  <a:pt x="1082" y="1144"/>
                  <a:pt x="1103" y="1235"/>
                  <a:pt x="1123" y="1315"/>
                </a:cubicBezTo>
                <a:cubicBezTo>
                  <a:pt x="1133" y="1356"/>
                  <a:pt x="1142" y="1395"/>
                  <a:pt x="1147" y="1426"/>
                </a:cubicBezTo>
                <a:cubicBezTo>
                  <a:pt x="1150" y="1446"/>
                  <a:pt x="1151" y="1466"/>
                  <a:pt x="1151" y="1485"/>
                </a:cubicBezTo>
                <a:cubicBezTo>
                  <a:pt x="1151" y="1554"/>
                  <a:pt x="1132" y="1613"/>
                  <a:pt x="1094" y="1655"/>
                </a:cubicBezTo>
                <a:cubicBezTo>
                  <a:pt x="991" y="1770"/>
                  <a:pt x="858" y="1744"/>
                  <a:pt x="718" y="1717"/>
                </a:cubicBezTo>
                <a:cubicBezTo>
                  <a:pt x="709" y="1716"/>
                  <a:pt x="701" y="1714"/>
                  <a:pt x="692" y="1713"/>
                </a:cubicBezTo>
                <a:cubicBezTo>
                  <a:pt x="638" y="1703"/>
                  <a:pt x="619" y="1733"/>
                  <a:pt x="616" y="1740"/>
                </a:cubicBezTo>
                <a:cubicBezTo>
                  <a:pt x="586" y="1815"/>
                  <a:pt x="586" y="1815"/>
                  <a:pt x="586" y="1815"/>
                </a:cubicBezTo>
                <a:cubicBezTo>
                  <a:pt x="556" y="1740"/>
                  <a:pt x="556" y="1740"/>
                  <a:pt x="556" y="1740"/>
                </a:cubicBezTo>
                <a:cubicBezTo>
                  <a:pt x="552" y="1733"/>
                  <a:pt x="534" y="1703"/>
                  <a:pt x="480" y="1713"/>
                </a:cubicBezTo>
                <a:cubicBezTo>
                  <a:pt x="471" y="1714"/>
                  <a:pt x="463" y="1716"/>
                  <a:pt x="454" y="1718"/>
                </a:cubicBezTo>
                <a:cubicBezTo>
                  <a:pt x="314" y="1744"/>
                  <a:pt x="181" y="1770"/>
                  <a:pt x="78" y="1655"/>
                </a:cubicBezTo>
                <a:cubicBezTo>
                  <a:pt x="40" y="1613"/>
                  <a:pt x="21" y="1554"/>
                  <a:pt x="21" y="1485"/>
                </a:cubicBezTo>
                <a:cubicBezTo>
                  <a:pt x="21" y="1466"/>
                  <a:pt x="22" y="1446"/>
                  <a:pt x="25" y="1426"/>
                </a:cubicBezTo>
                <a:cubicBezTo>
                  <a:pt x="30" y="1395"/>
                  <a:pt x="39" y="1356"/>
                  <a:pt x="49" y="1315"/>
                </a:cubicBezTo>
                <a:cubicBezTo>
                  <a:pt x="68" y="1235"/>
                  <a:pt x="90" y="1144"/>
                  <a:pt x="90" y="1068"/>
                </a:cubicBezTo>
                <a:cubicBezTo>
                  <a:pt x="90" y="1003"/>
                  <a:pt x="74" y="961"/>
                  <a:pt x="42" y="940"/>
                </a:cubicBezTo>
                <a:cubicBezTo>
                  <a:pt x="0" y="912"/>
                  <a:pt x="0" y="912"/>
                  <a:pt x="0" y="912"/>
                </a:cubicBezTo>
                <a:lnTo>
                  <a:pt x="42" y="885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body"/>
          </p:nvPr>
        </p:nvSpPr>
        <p:spPr>
          <a:xfrm>
            <a:off x="8172720" y="2714040"/>
            <a:ext cx="3432240" cy="2454120"/>
          </a:xfrm>
          <a:prstGeom prst="rect">
            <a:avLst/>
          </a:prstGeom>
          <a:solidFill>
            <a:srgbClr val="f9d9da"/>
          </a:solidFill>
          <a:ln w="50760">
            <a:solidFill>
              <a:srgbClr val="ffffff"/>
            </a:solidFill>
            <a:miter/>
          </a:ln>
        </p:spPr>
        <p:txBody>
          <a:bodyPr lIns="90000" rIns="90000" tIns="365760" bIns="45000" anchor="t">
            <a:no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25" name="Freeform 14"/>
          <p:cNvSpPr/>
          <p:nvPr/>
        </p:nvSpPr>
        <p:spPr>
          <a:xfrm rot="5400000">
            <a:off x="993960" y="1989360"/>
            <a:ext cx="2779200" cy="3902400"/>
          </a:xfrm>
          <a:custGeom>
            <a:avLst/>
            <a:gdLst>
              <a:gd name="textAreaLeft" fmla="*/ 0 w 2779200"/>
              <a:gd name="textAreaRight" fmla="*/ 2779560 w 2779200"/>
              <a:gd name="textAreaTop" fmla="*/ 0 h 3902400"/>
              <a:gd name="textAreaBottom" fmla="*/ 3902760 h 3902400"/>
            </a:gdLst>
            <a:ahLst/>
            <a:rect l="textAreaLeft" t="textAreaTop" r="textAreaRight" b="textAreaBottom"/>
            <a:pathLst>
              <a:path w="1172" h="1815">
                <a:moveTo>
                  <a:pt x="42" y="885"/>
                </a:moveTo>
                <a:cubicBezTo>
                  <a:pt x="74" y="863"/>
                  <a:pt x="90" y="821"/>
                  <a:pt x="90" y="756"/>
                </a:cubicBezTo>
                <a:cubicBezTo>
                  <a:pt x="90" y="680"/>
                  <a:pt x="68" y="589"/>
                  <a:pt x="49" y="509"/>
                </a:cubicBezTo>
                <a:cubicBezTo>
                  <a:pt x="39" y="468"/>
                  <a:pt x="30" y="429"/>
                  <a:pt x="25" y="398"/>
                </a:cubicBezTo>
                <a:cubicBezTo>
                  <a:pt x="22" y="378"/>
                  <a:pt x="21" y="358"/>
                  <a:pt x="21" y="339"/>
                </a:cubicBezTo>
                <a:cubicBezTo>
                  <a:pt x="21" y="339"/>
                  <a:pt x="21" y="339"/>
                  <a:pt x="21" y="339"/>
                </a:cubicBezTo>
                <a:cubicBezTo>
                  <a:pt x="21" y="270"/>
                  <a:pt x="40" y="211"/>
                  <a:pt x="78" y="169"/>
                </a:cubicBezTo>
                <a:cubicBezTo>
                  <a:pt x="181" y="54"/>
                  <a:pt x="314" y="80"/>
                  <a:pt x="454" y="107"/>
                </a:cubicBezTo>
                <a:cubicBezTo>
                  <a:pt x="463" y="108"/>
                  <a:pt x="471" y="110"/>
                  <a:pt x="480" y="112"/>
                </a:cubicBezTo>
                <a:cubicBezTo>
                  <a:pt x="533" y="122"/>
                  <a:pt x="552" y="88"/>
                  <a:pt x="556" y="80"/>
                </a:cubicBezTo>
                <a:cubicBezTo>
                  <a:pt x="586" y="0"/>
                  <a:pt x="586" y="0"/>
                  <a:pt x="586" y="0"/>
                </a:cubicBezTo>
                <a:cubicBezTo>
                  <a:pt x="616" y="80"/>
                  <a:pt x="616" y="80"/>
                  <a:pt x="616" y="80"/>
                </a:cubicBezTo>
                <a:cubicBezTo>
                  <a:pt x="620" y="88"/>
                  <a:pt x="639" y="122"/>
                  <a:pt x="692" y="112"/>
                </a:cubicBezTo>
                <a:cubicBezTo>
                  <a:pt x="701" y="110"/>
                  <a:pt x="709" y="108"/>
                  <a:pt x="718" y="107"/>
                </a:cubicBezTo>
                <a:cubicBezTo>
                  <a:pt x="858" y="80"/>
                  <a:pt x="991" y="54"/>
                  <a:pt x="1094" y="169"/>
                </a:cubicBezTo>
                <a:cubicBezTo>
                  <a:pt x="1132" y="211"/>
                  <a:pt x="1151" y="270"/>
                  <a:pt x="1151" y="339"/>
                </a:cubicBezTo>
                <a:cubicBezTo>
                  <a:pt x="1151" y="358"/>
                  <a:pt x="1150" y="378"/>
                  <a:pt x="1147" y="398"/>
                </a:cubicBezTo>
                <a:cubicBezTo>
                  <a:pt x="1142" y="429"/>
                  <a:pt x="1133" y="468"/>
                  <a:pt x="1123" y="509"/>
                </a:cubicBezTo>
                <a:cubicBezTo>
                  <a:pt x="1103" y="589"/>
                  <a:pt x="1082" y="680"/>
                  <a:pt x="1082" y="756"/>
                </a:cubicBezTo>
                <a:cubicBezTo>
                  <a:pt x="1082" y="756"/>
                  <a:pt x="1082" y="756"/>
                  <a:pt x="1082" y="756"/>
                </a:cubicBezTo>
                <a:cubicBezTo>
                  <a:pt x="1082" y="821"/>
                  <a:pt x="1097" y="863"/>
                  <a:pt x="1130" y="885"/>
                </a:cubicBezTo>
                <a:cubicBezTo>
                  <a:pt x="1172" y="912"/>
                  <a:pt x="1172" y="912"/>
                  <a:pt x="1172" y="912"/>
                </a:cubicBezTo>
                <a:cubicBezTo>
                  <a:pt x="1130" y="940"/>
                  <a:pt x="1130" y="940"/>
                  <a:pt x="1130" y="940"/>
                </a:cubicBezTo>
                <a:cubicBezTo>
                  <a:pt x="1097" y="961"/>
                  <a:pt x="1082" y="1003"/>
                  <a:pt x="1082" y="1068"/>
                </a:cubicBezTo>
                <a:cubicBezTo>
                  <a:pt x="1082" y="1144"/>
                  <a:pt x="1103" y="1235"/>
                  <a:pt x="1123" y="1315"/>
                </a:cubicBezTo>
                <a:cubicBezTo>
                  <a:pt x="1133" y="1356"/>
                  <a:pt x="1142" y="1395"/>
                  <a:pt x="1147" y="1426"/>
                </a:cubicBezTo>
                <a:cubicBezTo>
                  <a:pt x="1150" y="1446"/>
                  <a:pt x="1151" y="1466"/>
                  <a:pt x="1151" y="1485"/>
                </a:cubicBezTo>
                <a:cubicBezTo>
                  <a:pt x="1151" y="1554"/>
                  <a:pt x="1132" y="1613"/>
                  <a:pt x="1094" y="1655"/>
                </a:cubicBezTo>
                <a:cubicBezTo>
                  <a:pt x="991" y="1770"/>
                  <a:pt x="858" y="1744"/>
                  <a:pt x="718" y="1717"/>
                </a:cubicBezTo>
                <a:cubicBezTo>
                  <a:pt x="709" y="1716"/>
                  <a:pt x="701" y="1714"/>
                  <a:pt x="692" y="1713"/>
                </a:cubicBezTo>
                <a:cubicBezTo>
                  <a:pt x="638" y="1703"/>
                  <a:pt x="619" y="1733"/>
                  <a:pt x="616" y="1740"/>
                </a:cubicBezTo>
                <a:cubicBezTo>
                  <a:pt x="586" y="1815"/>
                  <a:pt x="586" y="1815"/>
                  <a:pt x="586" y="1815"/>
                </a:cubicBezTo>
                <a:cubicBezTo>
                  <a:pt x="556" y="1740"/>
                  <a:pt x="556" y="1740"/>
                  <a:pt x="556" y="1740"/>
                </a:cubicBezTo>
                <a:cubicBezTo>
                  <a:pt x="552" y="1733"/>
                  <a:pt x="534" y="1703"/>
                  <a:pt x="480" y="1713"/>
                </a:cubicBezTo>
                <a:cubicBezTo>
                  <a:pt x="471" y="1714"/>
                  <a:pt x="463" y="1716"/>
                  <a:pt x="454" y="1718"/>
                </a:cubicBezTo>
                <a:cubicBezTo>
                  <a:pt x="314" y="1744"/>
                  <a:pt x="181" y="1770"/>
                  <a:pt x="78" y="1655"/>
                </a:cubicBezTo>
                <a:cubicBezTo>
                  <a:pt x="40" y="1613"/>
                  <a:pt x="21" y="1554"/>
                  <a:pt x="21" y="1485"/>
                </a:cubicBezTo>
                <a:cubicBezTo>
                  <a:pt x="21" y="1466"/>
                  <a:pt x="22" y="1446"/>
                  <a:pt x="25" y="1426"/>
                </a:cubicBezTo>
                <a:cubicBezTo>
                  <a:pt x="30" y="1395"/>
                  <a:pt x="39" y="1356"/>
                  <a:pt x="49" y="1315"/>
                </a:cubicBezTo>
                <a:cubicBezTo>
                  <a:pt x="68" y="1235"/>
                  <a:pt x="90" y="1144"/>
                  <a:pt x="90" y="1068"/>
                </a:cubicBezTo>
                <a:cubicBezTo>
                  <a:pt x="90" y="1003"/>
                  <a:pt x="74" y="961"/>
                  <a:pt x="42" y="940"/>
                </a:cubicBezTo>
                <a:cubicBezTo>
                  <a:pt x="0" y="912"/>
                  <a:pt x="0" y="912"/>
                  <a:pt x="0" y="912"/>
                </a:cubicBezTo>
                <a:lnTo>
                  <a:pt x="42" y="885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body"/>
          </p:nvPr>
        </p:nvSpPr>
        <p:spPr>
          <a:xfrm>
            <a:off x="667080" y="2714040"/>
            <a:ext cx="3432240" cy="2454120"/>
          </a:xfrm>
          <a:prstGeom prst="rect">
            <a:avLst/>
          </a:prstGeom>
          <a:solidFill>
            <a:srgbClr val="f9d9da"/>
          </a:solidFill>
          <a:ln w="50760">
            <a:solidFill>
              <a:srgbClr val="ffffff"/>
            </a:solidFill>
            <a:miter/>
          </a:ln>
        </p:spPr>
        <p:txBody>
          <a:bodyPr lIns="90000" rIns="90000" tIns="365760" bIns="45000" anchor="t">
            <a:no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body"/>
          </p:nvPr>
        </p:nvSpPr>
        <p:spPr>
          <a:xfrm>
            <a:off x="771480" y="5452560"/>
            <a:ext cx="3200040" cy="10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Click to edit Master text styles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 type="body"/>
          </p:nvPr>
        </p:nvSpPr>
        <p:spPr>
          <a:xfrm>
            <a:off x="8289000" y="5452560"/>
            <a:ext cx="3200040" cy="10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Click to edit Master text styles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 type="body"/>
          </p:nvPr>
        </p:nvSpPr>
        <p:spPr>
          <a:xfrm>
            <a:off x="4495680" y="5974200"/>
            <a:ext cx="320004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Click to edit Master text styles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3f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reeform 22" hidden="1"/>
          <p:cNvSpPr/>
          <p:nvPr/>
        </p:nvSpPr>
        <p:spPr>
          <a:xfrm flipH="1" flipV="1">
            <a:off x="10807560" y="1065960"/>
            <a:ext cx="1383840" cy="2166840"/>
          </a:xfrm>
          <a:custGeom>
            <a:avLst/>
            <a:gdLst>
              <a:gd name="textAreaLeft" fmla="*/ 360 w 1383840"/>
              <a:gd name="textAreaRight" fmla="*/ 1384560 w 1383840"/>
              <a:gd name="textAreaTop" fmla="*/ -360 h 2166840"/>
              <a:gd name="textAreaBottom" fmla="*/ 2166840 h 2166840"/>
            </a:gdLst>
            <a:ahLst/>
            <a:rect l="textAreaLeft" t="textAreaTop" r="textAreaRight" b="textAreaBottom"/>
            <a:pathLst>
              <a:path w="1384300" h="2167049">
                <a:moveTo>
                  <a:pt x="17187" y="2167049"/>
                </a:moveTo>
                <a:lnTo>
                  <a:pt x="0" y="2167049"/>
                </a:lnTo>
                <a:lnTo>
                  <a:pt x="0" y="1879736"/>
                </a:lnTo>
                <a:lnTo>
                  <a:pt x="123314" y="1550999"/>
                </a:lnTo>
                <a:cubicBezTo>
                  <a:pt x="168410" y="1433494"/>
                  <a:pt x="212488" y="1316669"/>
                  <a:pt x="250464" y="1199843"/>
                </a:cubicBezTo>
                <a:cubicBezTo>
                  <a:pt x="188076" y="1289499"/>
                  <a:pt x="82287" y="1433494"/>
                  <a:pt x="11762" y="1534018"/>
                </a:cubicBezTo>
                <a:lnTo>
                  <a:pt x="0" y="1548726"/>
                </a:lnTo>
                <a:lnTo>
                  <a:pt x="0" y="1512279"/>
                </a:lnTo>
                <a:lnTo>
                  <a:pt x="60587" y="1428400"/>
                </a:lnTo>
                <a:cubicBezTo>
                  <a:pt x="108057" y="1362855"/>
                  <a:pt x="155526" y="1297650"/>
                  <a:pt x="201639" y="1235162"/>
                </a:cubicBezTo>
                <a:cubicBezTo>
                  <a:pt x="212489" y="1216144"/>
                  <a:pt x="231477" y="1199843"/>
                  <a:pt x="231477" y="1178108"/>
                </a:cubicBezTo>
                <a:lnTo>
                  <a:pt x="0" y="1365667"/>
                </a:lnTo>
                <a:lnTo>
                  <a:pt x="0" y="1329417"/>
                </a:lnTo>
                <a:lnTo>
                  <a:pt x="179939" y="1180824"/>
                </a:lnTo>
                <a:cubicBezTo>
                  <a:pt x="188076" y="1175391"/>
                  <a:pt x="207064" y="1167240"/>
                  <a:pt x="204351" y="1153656"/>
                </a:cubicBezTo>
                <a:lnTo>
                  <a:pt x="0" y="1246276"/>
                </a:lnTo>
                <a:lnTo>
                  <a:pt x="0" y="1224474"/>
                </a:lnTo>
                <a:lnTo>
                  <a:pt x="201639" y="1129204"/>
                </a:lnTo>
                <a:lnTo>
                  <a:pt x="0" y="1160749"/>
                </a:lnTo>
                <a:lnTo>
                  <a:pt x="0" y="1131718"/>
                </a:lnTo>
                <a:lnTo>
                  <a:pt x="9727" y="1130223"/>
                </a:lnTo>
                <a:cubicBezTo>
                  <a:pt x="72115" y="1119695"/>
                  <a:pt x="133825" y="1107469"/>
                  <a:pt x="193501" y="1091168"/>
                </a:cubicBezTo>
                <a:cubicBezTo>
                  <a:pt x="166376" y="1087772"/>
                  <a:pt x="135690" y="1084545"/>
                  <a:pt x="102928" y="1081404"/>
                </a:cubicBezTo>
                <a:lnTo>
                  <a:pt x="0" y="1072159"/>
                </a:lnTo>
                <a:lnTo>
                  <a:pt x="0" y="1052490"/>
                </a:lnTo>
                <a:lnTo>
                  <a:pt x="2946" y="1052792"/>
                </a:lnTo>
                <a:cubicBezTo>
                  <a:pt x="73472" y="1059924"/>
                  <a:pt x="141963" y="1066716"/>
                  <a:pt x="196214" y="1072150"/>
                </a:cubicBezTo>
                <a:cubicBezTo>
                  <a:pt x="138573" y="1046340"/>
                  <a:pt x="79406" y="1021888"/>
                  <a:pt x="19391" y="998200"/>
                </a:cubicBezTo>
                <a:lnTo>
                  <a:pt x="0" y="990806"/>
                </a:lnTo>
                <a:lnTo>
                  <a:pt x="0" y="962359"/>
                </a:lnTo>
                <a:lnTo>
                  <a:pt x="193395" y="1034452"/>
                </a:lnTo>
                <a:lnTo>
                  <a:pt x="176842" y="1012554"/>
                </a:lnTo>
                <a:cubicBezTo>
                  <a:pt x="168216" y="1005642"/>
                  <a:pt x="157865" y="999422"/>
                  <a:pt x="148204" y="992510"/>
                </a:cubicBezTo>
                <a:cubicBezTo>
                  <a:pt x="105420" y="960716"/>
                  <a:pt x="59877" y="928232"/>
                  <a:pt x="13643" y="895402"/>
                </a:cubicBezTo>
                <a:lnTo>
                  <a:pt x="0" y="885646"/>
                </a:lnTo>
                <a:lnTo>
                  <a:pt x="0" y="854420"/>
                </a:lnTo>
                <a:lnTo>
                  <a:pt x="41261" y="884346"/>
                </a:lnTo>
                <a:lnTo>
                  <a:pt x="210792" y="999314"/>
                </a:lnTo>
                <a:lnTo>
                  <a:pt x="206600" y="988104"/>
                </a:lnTo>
                <a:cubicBezTo>
                  <a:pt x="195473" y="968665"/>
                  <a:pt x="175807" y="953114"/>
                  <a:pt x="159245" y="934452"/>
                </a:cubicBezTo>
                <a:lnTo>
                  <a:pt x="0" y="738974"/>
                </a:lnTo>
                <a:lnTo>
                  <a:pt x="0" y="692828"/>
                </a:lnTo>
                <a:lnTo>
                  <a:pt x="214450" y="956570"/>
                </a:lnTo>
                <a:cubicBezTo>
                  <a:pt x="219970" y="964863"/>
                  <a:pt x="231011" y="978687"/>
                  <a:pt x="242052" y="978687"/>
                </a:cubicBezTo>
                <a:cubicBezTo>
                  <a:pt x="164766" y="815572"/>
                  <a:pt x="93000" y="646929"/>
                  <a:pt x="15713" y="483814"/>
                </a:cubicBezTo>
                <a:lnTo>
                  <a:pt x="0" y="482959"/>
                </a:lnTo>
                <a:lnTo>
                  <a:pt x="0" y="387119"/>
                </a:lnTo>
                <a:lnTo>
                  <a:pt x="23994" y="381522"/>
                </a:lnTo>
                <a:cubicBezTo>
                  <a:pt x="65398" y="387051"/>
                  <a:pt x="32275" y="436815"/>
                  <a:pt x="35035" y="467226"/>
                </a:cubicBezTo>
                <a:cubicBezTo>
                  <a:pt x="35035" y="497637"/>
                  <a:pt x="73678" y="558460"/>
                  <a:pt x="93000" y="597165"/>
                </a:cubicBezTo>
                <a:cubicBezTo>
                  <a:pt x="139924" y="707751"/>
                  <a:pt x="186848" y="815572"/>
                  <a:pt x="236532" y="923394"/>
                </a:cubicBezTo>
                <a:cubicBezTo>
                  <a:pt x="244812" y="942746"/>
                  <a:pt x="253093" y="970393"/>
                  <a:pt x="272415" y="978687"/>
                </a:cubicBezTo>
                <a:cubicBezTo>
                  <a:pt x="242052" y="724339"/>
                  <a:pt x="186848" y="461697"/>
                  <a:pt x="148204" y="201820"/>
                </a:cubicBezTo>
                <a:cubicBezTo>
                  <a:pt x="115082" y="187996"/>
                  <a:pt x="57117" y="176938"/>
                  <a:pt x="62637" y="129939"/>
                </a:cubicBezTo>
                <a:cubicBezTo>
                  <a:pt x="65398" y="107822"/>
                  <a:pt x="95760" y="85704"/>
                  <a:pt x="128883" y="102292"/>
                </a:cubicBezTo>
                <a:cubicBezTo>
                  <a:pt x="134403" y="66352"/>
                  <a:pt x="197888" y="60822"/>
                  <a:pt x="206169" y="99528"/>
                </a:cubicBezTo>
                <a:cubicBezTo>
                  <a:pt x="217210" y="138233"/>
                  <a:pt x="178567" y="160350"/>
                  <a:pt x="175807" y="196290"/>
                </a:cubicBezTo>
                <a:cubicBezTo>
                  <a:pt x="173046" y="221172"/>
                  <a:pt x="186848" y="259877"/>
                  <a:pt x="192368" y="295818"/>
                </a:cubicBezTo>
                <a:cubicBezTo>
                  <a:pt x="228251" y="503167"/>
                  <a:pt x="266894" y="782396"/>
                  <a:pt x="308298" y="967628"/>
                </a:cubicBezTo>
                <a:cubicBezTo>
                  <a:pt x="319338" y="843219"/>
                  <a:pt x="330380" y="699457"/>
                  <a:pt x="344181" y="558460"/>
                </a:cubicBezTo>
                <a:cubicBezTo>
                  <a:pt x="349701" y="514225"/>
                  <a:pt x="366262" y="456168"/>
                  <a:pt x="357982" y="425756"/>
                </a:cubicBezTo>
                <a:cubicBezTo>
                  <a:pt x="346941" y="375993"/>
                  <a:pt x="275175" y="367699"/>
                  <a:pt x="277935" y="306876"/>
                </a:cubicBezTo>
                <a:cubicBezTo>
                  <a:pt x="283456" y="248819"/>
                  <a:pt x="363502" y="246054"/>
                  <a:pt x="380064" y="287524"/>
                </a:cubicBezTo>
                <a:cubicBezTo>
                  <a:pt x="399385" y="246054"/>
                  <a:pt x="476672" y="262642"/>
                  <a:pt x="473911" y="317935"/>
                </a:cubicBezTo>
                <a:cubicBezTo>
                  <a:pt x="471151" y="373228"/>
                  <a:pt x="396625" y="378757"/>
                  <a:pt x="380064" y="425756"/>
                </a:cubicBezTo>
                <a:cubicBezTo>
                  <a:pt x="369023" y="456168"/>
                  <a:pt x="371783" y="519755"/>
                  <a:pt x="366262" y="566754"/>
                </a:cubicBezTo>
                <a:cubicBezTo>
                  <a:pt x="355222" y="680104"/>
                  <a:pt x="344181" y="801749"/>
                  <a:pt x="333140" y="915100"/>
                </a:cubicBezTo>
                <a:cubicBezTo>
                  <a:pt x="330380" y="934452"/>
                  <a:pt x="316578" y="962099"/>
                  <a:pt x="335900" y="973157"/>
                </a:cubicBezTo>
                <a:cubicBezTo>
                  <a:pt x="418707" y="771338"/>
                  <a:pt x="490473" y="561224"/>
                  <a:pt x="570519" y="348346"/>
                </a:cubicBezTo>
                <a:cubicBezTo>
                  <a:pt x="581560" y="320700"/>
                  <a:pt x="603642" y="281995"/>
                  <a:pt x="603642" y="259877"/>
                </a:cubicBezTo>
                <a:cubicBezTo>
                  <a:pt x="600882" y="199055"/>
                  <a:pt x="515315" y="140997"/>
                  <a:pt x="545677" y="49764"/>
                </a:cubicBezTo>
                <a:cubicBezTo>
                  <a:pt x="553958" y="24882"/>
                  <a:pt x="581560" y="13823"/>
                  <a:pt x="606402" y="0"/>
                </a:cubicBezTo>
                <a:cubicBezTo>
                  <a:pt x="614683" y="0"/>
                  <a:pt x="622964" y="0"/>
                  <a:pt x="628484" y="0"/>
                </a:cubicBezTo>
                <a:cubicBezTo>
                  <a:pt x="664367" y="11059"/>
                  <a:pt x="694730" y="27647"/>
                  <a:pt x="697490" y="71881"/>
                </a:cubicBezTo>
                <a:cubicBezTo>
                  <a:pt x="766496" y="33176"/>
                  <a:pt x="843782" y="80175"/>
                  <a:pt x="827221" y="157585"/>
                </a:cubicBezTo>
                <a:cubicBezTo>
                  <a:pt x="810659" y="229466"/>
                  <a:pt x="694730" y="234995"/>
                  <a:pt x="634005" y="265407"/>
                </a:cubicBezTo>
                <a:cubicBezTo>
                  <a:pt x="548438" y="508696"/>
                  <a:pt x="446309" y="746456"/>
                  <a:pt x="369023" y="984216"/>
                </a:cubicBezTo>
                <a:cubicBezTo>
                  <a:pt x="432508" y="892983"/>
                  <a:pt x="540157" y="746456"/>
                  <a:pt x="611923" y="644164"/>
                </a:cubicBezTo>
                <a:cubicBezTo>
                  <a:pt x="634005" y="613753"/>
                  <a:pt x="686449" y="561224"/>
                  <a:pt x="689209" y="530813"/>
                </a:cubicBezTo>
                <a:cubicBezTo>
                  <a:pt x="694730" y="503167"/>
                  <a:pt x="683689" y="472756"/>
                  <a:pt x="683689" y="450638"/>
                </a:cubicBezTo>
                <a:cubicBezTo>
                  <a:pt x="683689" y="425756"/>
                  <a:pt x="686449" y="406404"/>
                  <a:pt x="705771" y="392581"/>
                </a:cubicBezTo>
                <a:cubicBezTo>
                  <a:pt x="744414" y="362169"/>
                  <a:pt x="791338" y="395345"/>
                  <a:pt x="788577" y="442344"/>
                </a:cubicBezTo>
                <a:cubicBezTo>
                  <a:pt x="841022" y="436815"/>
                  <a:pt x="863104" y="469991"/>
                  <a:pt x="857583" y="505931"/>
                </a:cubicBezTo>
                <a:cubicBezTo>
                  <a:pt x="846542" y="555695"/>
                  <a:pt x="763735" y="550166"/>
                  <a:pt x="705771" y="552930"/>
                </a:cubicBezTo>
                <a:cubicBezTo>
                  <a:pt x="611923" y="682869"/>
                  <a:pt x="512554" y="821102"/>
                  <a:pt x="418707" y="948276"/>
                </a:cubicBezTo>
                <a:cubicBezTo>
                  <a:pt x="407666" y="967628"/>
                  <a:pt x="388344" y="984216"/>
                  <a:pt x="388344" y="1006333"/>
                </a:cubicBezTo>
                <a:cubicBezTo>
                  <a:pt x="589841" y="845983"/>
                  <a:pt x="788577" y="682869"/>
                  <a:pt x="981794" y="514225"/>
                </a:cubicBezTo>
                <a:cubicBezTo>
                  <a:pt x="967992" y="422992"/>
                  <a:pt x="981794" y="306876"/>
                  <a:pt x="1072881" y="323464"/>
                </a:cubicBezTo>
                <a:cubicBezTo>
                  <a:pt x="1106004" y="331758"/>
                  <a:pt x="1125325" y="364934"/>
                  <a:pt x="1122565" y="414698"/>
                </a:cubicBezTo>
                <a:cubicBezTo>
                  <a:pt x="1166729" y="406404"/>
                  <a:pt x="1199852" y="431286"/>
                  <a:pt x="1205372" y="467226"/>
                </a:cubicBezTo>
                <a:cubicBezTo>
                  <a:pt x="1219173" y="566754"/>
                  <a:pt x="1092203" y="558460"/>
                  <a:pt x="1001115" y="544636"/>
                </a:cubicBezTo>
                <a:cubicBezTo>
                  <a:pt x="816180" y="691163"/>
                  <a:pt x="622964" y="854277"/>
                  <a:pt x="440789" y="1003569"/>
                </a:cubicBezTo>
                <a:cubicBezTo>
                  <a:pt x="432508" y="1009098"/>
                  <a:pt x="413186" y="1017392"/>
                  <a:pt x="415946" y="1031215"/>
                </a:cubicBezTo>
                <a:cubicBezTo>
                  <a:pt x="578800" y="953805"/>
                  <a:pt x="744414" y="881924"/>
                  <a:pt x="910028" y="807278"/>
                </a:cubicBezTo>
                <a:cubicBezTo>
                  <a:pt x="926589" y="757515"/>
                  <a:pt x="932109" y="671810"/>
                  <a:pt x="995595" y="677340"/>
                </a:cubicBezTo>
                <a:cubicBezTo>
                  <a:pt x="1025957" y="680104"/>
                  <a:pt x="1053559" y="713280"/>
                  <a:pt x="1034238" y="757515"/>
                </a:cubicBezTo>
                <a:cubicBezTo>
                  <a:pt x="1061840" y="765809"/>
                  <a:pt x="1078402" y="776867"/>
                  <a:pt x="1081162" y="804514"/>
                </a:cubicBezTo>
                <a:cubicBezTo>
                  <a:pt x="1083922" y="887453"/>
                  <a:pt x="967992" y="851513"/>
                  <a:pt x="921068" y="823866"/>
                </a:cubicBezTo>
                <a:cubicBezTo>
                  <a:pt x="839641" y="863954"/>
                  <a:pt x="754074" y="900585"/>
                  <a:pt x="668852" y="937908"/>
                </a:cubicBezTo>
                <a:lnTo>
                  <a:pt x="426233" y="1052541"/>
                </a:lnTo>
                <a:lnTo>
                  <a:pt x="439919" y="1049364"/>
                </a:lnTo>
                <a:lnTo>
                  <a:pt x="429786" y="1054364"/>
                </a:lnTo>
                <a:lnTo>
                  <a:pt x="642347" y="1021110"/>
                </a:lnTo>
                <a:lnTo>
                  <a:pt x="630067" y="1024289"/>
                </a:lnTo>
                <a:lnTo>
                  <a:pt x="789918" y="999473"/>
                </a:lnTo>
                <a:cubicBezTo>
                  <a:pt x="910286" y="979776"/>
                  <a:pt x="1030315" y="959400"/>
                  <a:pt x="1151023" y="939023"/>
                </a:cubicBezTo>
                <a:cubicBezTo>
                  <a:pt x="1186286" y="887402"/>
                  <a:pt x="1199848" y="770577"/>
                  <a:pt x="1292074" y="781444"/>
                </a:cubicBezTo>
                <a:cubicBezTo>
                  <a:pt x="1340900" y="784161"/>
                  <a:pt x="1373450" y="852083"/>
                  <a:pt x="1330049" y="900987"/>
                </a:cubicBezTo>
                <a:cubicBezTo>
                  <a:pt x="1362600" y="909137"/>
                  <a:pt x="1376162" y="933589"/>
                  <a:pt x="1384300" y="963475"/>
                </a:cubicBezTo>
                <a:cubicBezTo>
                  <a:pt x="1384300" y="966192"/>
                  <a:pt x="1384300" y="966192"/>
                  <a:pt x="1384300" y="968908"/>
                </a:cubicBezTo>
                <a:cubicBezTo>
                  <a:pt x="1378875" y="1044981"/>
                  <a:pt x="1300212" y="1047698"/>
                  <a:pt x="1237824" y="1009661"/>
                </a:cubicBezTo>
                <a:cubicBezTo>
                  <a:pt x="1216123" y="998794"/>
                  <a:pt x="1191711" y="968908"/>
                  <a:pt x="1167298" y="963475"/>
                </a:cubicBezTo>
                <a:cubicBezTo>
                  <a:pt x="1148310" y="960758"/>
                  <a:pt x="1102197" y="974342"/>
                  <a:pt x="1072360" y="979776"/>
                </a:cubicBezTo>
                <a:cubicBezTo>
                  <a:pt x="985559" y="993360"/>
                  <a:pt x="885195" y="1009661"/>
                  <a:pt x="795682" y="1025963"/>
                </a:cubicBezTo>
                <a:cubicBezTo>
                  <a:pt x="660056" y="1047698"/>
                  <a:pt x="540704" y="1063999"/>
                  <a:pt x="434916" y="1091168"/>
                </a:cubicBezTo>
                <a:cubicBezTo>
                  <a:pt x="616655" y="1112903"/>
                  <a:pt x="801107" y="1129204"/>
                  <a:pt x="982846" y="1148222"/>
                </a:cubicBezTo>
                <a:cubicBezTo>
                  <a:pt x="1026247" y="1115619"/>
                  <a:pt x="1083210" y="1055848"/>
                  <a:pt x="1104910" y="1134638"/>
                </a:cubicBezTo>
                <a:cubicBezTo>
                  <a:pt x="1110335" y="1156373"/>
                  <a:pt x="1088635" y="1161806"/>
                  <a:pt x="1080497" y="1178108"/>
                </a:cubicBezTo>
                <a:cubicBezTo>
                  <a:pt x="1104910" y="1207993"/>
                  <a:pt x="1077785" y="1237879"/>
                  <a:pt x="1053372" y="1237879"/>
                </a:cubicBezTo>
                <a:cubicBezTo>
                  <a:pt x="1012684" y="1240596"/>
                  <a:pt x="1009971" y="1186258"/>
                  <a:pt x="982846" y="1169957"/>
                </a:cubicBezTo>
                <a:cubicBezTo>
                  <a:pt x="801107" y="1153656"/>
                  <a:pt x="605805" y="1129204"/>
                  <a:pt x="429491" y="1118336"/>
                </a:cubicBezTo>
                <a:cubicBezTo>
                  <a:pt x="451191" y="1137355"/>
                  <a:pt x="486454" y="1145505"/>
                  <a:pt x="516292" y="1156373"/>
                </a:cubicBezTo>
                <a:cubicBezTo>
                  <a:pt x="687181" y="1221578"/>
                  <a:pt x="874345" y="1294933"/>
                  <a:pt x="1050659" y="1357421"/>
                </a:cubicBezTo>
                <a:cubicBezTo>
                  <a:pt x="1083210" y="1371006"/>
                  <a:pt x="1118472" y="1390024"/>
                  <a:pt x="1140173" y="1390024"/>
                </a:cubicBezTo>
                <a:cubicBezTo>
                  <a:pt x="1183573" y="1390024"/>
                  <a:pt x="1248674" y="1335686"/>
                  <a:pt x="1305637" y="1357421"/>
                </a:cubicBezTo>
                <a:cubicBezTo>
                  <a:pt x="1359887" y="1379156"/>
                  <a:pt x="1351750" y="1479680"/>
                  <a:pt x="1281224" y="1482397"/>
                </a:cubicBezTo>
                <a:cubicBezTo>
                  <a:pt x="1302924" y="1542168"/>
                  <a:pt x="1262236" y="1591072"/>
                  <a:pt x="1207986" y="1580205"/>
                </a:cubicBezTo>
                <a:cubicBezTo>
                  <a:pt x="1151023" y="1566620"/>
                  <a:pt x="1151023" y="1474247"/>
                  <a:pt x="1132035" y="1419909"/>
                </a:cubicBezTo>
                <a:cubicBezTo>
                  <a:pt x="896045" y="1327536"/>
                  <a:pt x="657343" y="1240596"/>
                  <a:pt x="421353" y="1148222"/>
                </a:cubicBezTo>
                <a:cubicBezTo>
                  <a:pt x="426778" y="1167240"/>
                  <a:pt x="448479" y="1178108"/>
                  <a:pt x="467466" y="1191692"/>
                </a:cubicBezTo>
                <a:cubicBezTo>
                  <a:pt x="551555" y="1254180"/>
                  <a:pt x="646493" y="1319385"/>
                  <a:pt x="736006" y="1384590"/>
                </a:cubicBezTo>
                <a:cubicBezTo>
                  <a:pt x="765844" y="1403608"/>
                  <a:pt x="817382" y="1452512"/>
                  <a:pt x="844507" y="1457945"/>
                </a:cubicBezTo>
                <a:cubicBezTo>
                  <a:pt x="882483" y="1463379"/>
                  <a:pt x="936733" y="1436210"/>
                  <a:pt x="977421" y="1449795"/>
                </a:cubicBezTo>
                <a:cubicBezTo>
                  <a:pt x="1028959" y="1468813"/>
                  <a:pt x="1020822" y="1566620"/>
                  <a:pt x="947583" y="1561187"/>
                </a:cubicBezTo>
                <a:cubicBezTo>
                  <a:pt x="958433" y="1623675"/>
                  <a:pt x="909608" y="1650843"/>
                  <a:pt x="866208" y="1631825"/>
                </a:cubicBezTo>
                <a:cubicBezTo>
                  <a:pt x="822807" y="1612807"/>
                  <a:pt x="839082" y="1528584"/>
                  <a:pt x="828232" y="1476964"/>
                </a:cubicBezTo>
                <a:cubicBezTo>
                  <a:pt x="687181" y="1373722"/>
                  <a:pt x="548842" y="1270481"/>
                  <a:pt x="402366" y="1175391"/>
                </a:cubicBezTo>
                <a:cubicBezTo>
                  <a:pt x="407791" y="1205276"/>
                  <a:pt x="434916" y="1224294"/>
                  <a:pt x="456616" y="1248746"/>
                </a:cubicBezTo>
                <a:cubicBezTo>
                  <a:pt x="575967" y="1392740"/>
                  <a:pt x="695318" y="1542168"/>
                  <a:pt x="817382" y="1691596"/>
                </a:cubicBezTo>
                <a:cubicBezTo>
                  <a:pt x="836370" y="1716048"/>
                  <a:pt x="860783" y="1754084"/>
                  <a:pt x="879770" y="1759518"/>
                </a:cubicBezTo>
                <a:cubicBezTo>
                  <a:pt x="939446" y="1781253"/>
                  <a:pt x="1007259" y="1756801"/>
                  <a:pt x="1058797" y="1789404"/>
                </a:cubicBezTo>
                <a:cubicBezTo>
                  <a:pt x="1126610" y="1830157"/>
                  <a:pt x="1096772" y="1963284"/>
                  <a:pt x="988271" y="1930681"/>
                </a:cubicBezTo>
                <a:cubicBezTo>
                  <a:pt x="999121" y="2031205"/>
                  <a:pt x="871633" y="2044790"/>
                  <a:pt x="841795" y="1979585"/>
                </a:cubicBezTo>
                <a:cubicBezTo>
                  <a:pt x="814670" y="1917097"/>
                  <a:pt x="849932" y="1849175"/>
                  <a:pt x="852645" y="1781253"/>
                </a:cubicBezTo>
                <a:cubicBezTo>
                  <a:pt x="703456" y="1601940"/>
                  <a:pt x="554267" y="1409042"/>
                  <a:pt x="402366" y="1227011"/>
                </a:cubicBezTo>
                <a:cubicBezTo>
                  <a:pt x="396941" y="1218861"/>
                  <a:pt x="386090" y="1205276"/>
                  <a:pt x="375240" y="1205276"/>
                </a:cubicBezTo>
                <a:cubicBezTo>
                  <a:pt x="451191" y="1365572"/>
                  <a:pt x="521717" y="1531301"/>
                  <a:pt x="597667" y="1691596"/>
                </a:cubicBezTo>
                <a:cubicBezTo>
                  <a:pt x="654631" y="1683446"/>
                  <a:pt x="708881" y="1773103"/>
                  <a:pt x="624793" y="1762235"/>
                </a:cubicBezTo>
                <a:cubicBezTo>
                  <a:pt x="619368" y="1783970"/>
                  <a:pt x="613943" y="1794838"/>
                  <a:pt x="589530" y="1792121"/>
                </a:cubicBezTo>
                <a:cubicBezTo>
                  <a:pt x="548842" y="1786687"/>
                  <a:pt x="581392" y="1737783"/>
                  <a:pt x="578680" y="1707898"/>
                </a:cubicBezTo>
                <a:cubicBezTo>
                  <a:pt x="578680" y="1678012"/>
                  <a:pt x="540704" y="1618241"/>
                  <a:pt x="521717" y="1580205"/>
                </a:cubicBezTo>
                <a:cubicBezTo>
                  <a:pt x="475604" y="1471530"/>
                  <a:pt x="429491" y="1365572"/>
                  <a:pt x="380665" y="1259614"/>
                </a:cubicBezTo>
                <a:cubicBezTo>
                  <a:pt x="372528" y="1240596"/>
                  <a:pt x="364390" y="1213427"/>
                  <a:pt x="345403" y="1205276"/>
                </a:cubicBezTo>
                <a:cubicBezTo>
                  <a:pt x="375240" y="1455229"/>
                  <a:pt x="429491" y="1713331"/>
                  <a:pt x="467466" y="1968717"/>
                </a:cubicBezTo>
                <a:cubicBezTo>
                  <a:pt x="500017" y="1982302"/>
                  <a:pt x="556980" y="1993169"/>
                  <a:pt x="551555" y="2039356"/>
                </a:cubicBezTo>
                <a:cubicBezTo>
                  <a:pt x="548842" y="2061091"/>
                  <a:pt x="519004" y="2082826"/>
                  <a:pt x="486454" y="2066525"/>
                </a:cubicBezTo>
                <a:cubicBezTo>
                  <a:pt x="481029" y="2101844"/>
                  <a:pt x="418641" y="2107278"/>
                  <a:pt x="410503" y="2069242"/>
                </a:cubicBezTo>
                <a:cubicBezTo>
                  <a:pt x="399653" y="2031205"/>
                  <a:pt x="437628" y="2009470"/>
                  <a:pt x="440341" y="1974151"/>
                </a:cubicBezTo>
                <a:cubicBezTo>
                  <a:pt x="443053" y="1949699"/>
                  <a:pt x="429491" y="1911663"/>
                  <a:pt x="424066" y="1876344"/>
                </a:cubicBezTo>
                <a:cubicBezTo>
                  <a:pt x="388803" y="1672578"/>
                  <a:pt x="350828" y="1398174"/>
                  <a:pt x="310140" y="1216144"/>
                </a:cubicBezTo>
                <a:cubicBezTo>
                  <a:pt x="299290" y="1338403"/>
                  <a:pt x="288439" y="1479680"/>
                  <a:pt x="274877" y="1618241"/>
                </a:cubicBezTo>
                <a:cubicBezTo>
                  <a:pt x="269452" y="1661711"/>
                  <a:pt x="253177" y="1718765"/>
                  <a:pt x="261314" y="1748651"/>
                </a:cubicBezTo>
                <a:cubicBezTo>
                  <a:pt x="272164" y="1797554"/>
                  <a:pt x="342690" y="1805705"/>
                  <a:pt x="339977" y="1865476"/>
                </a:cubicBezTo>
                <a:cubicBezTo>
                  <a:pt x="334553" y="1922530"/>
                  <a:pt x="255889" y="1925247"/>
                  <a:pt x="239614" y="1884494"/>
                </a:cubicBezTo>
                <a:cubicBezTo>
                  <a:pt x="220626" y="1925247"/>
                  <a:pt x="144676" y="1908946"/>
                  <a:pt x="147388" y="1854609"/>
                </a:cubicBezTo>
                <a:cubicBezTo>
                  <a:pt x="150101" y="1800271"/>
                  <a:pt x="223339" y="1794838"/>
                  <a:pt x="239614" y="1748651"/>
                </a:cubicBezTo>
                <a:cubicBezTo>
                  <a:pt x="250464" y="1718765"/>
                  <a:pt x="247752" y="1656277"/>
                  <a:pt x="253177" y="1610090"/>
                </a:cubicBezTo>
                <a:cubicBezTo>
                  <a:pt x="264027" y="1498698"/>
                  <a:pt x="274877" y="1379156"/>
                  <a:pt x="285727" y="1267764"/>
                </a:cubicBezTo>
                <a:cubicBezTo>
                  <a:pt x="288439" y="1248746"/>
                  <a:pt x="302002" y="1221578"/>
                  <a:pt x="283015" y="1210710"/>
                </a:cubicBezTo>
                <a:cubicBezTo>
                  <a:pt x="201639" y="1409042"/>
                  <a:pt x="131113" y="1615524"/>
                  <a:pt x="52450" y="1824723"/>
                </a:cubicBezTo>
                <a:cubicBezTo>
                  <a:pt x="41600" y="1851892"/>
                  <a:pt x="19899" y="1889928"/>
                  <a:pt x="19899" y="1911663"/>
                </a:cubicBezTo>
                <a:cubicBezTo>
                  <a:pt x="22612" y="1971434"/>
                  <a:pt x="106700" y="2028488"/>
                  <a:pt x="76863" y="2118145"/>
                </a:cubicBezTo>
                <a:cubicBezTo>
                  <a:pt x="68725" y="2142597"/>
                  <a:pt x="41600" y="2153465"/>
                  <a:pt x="17187" y="2167049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7" name="Freeform 20" hidden="1"/>
          <p:cNvSpPr/>
          <p:nvPr/>
        </p:nvSpPr>
        <p:spPr>
          <a:xfrm>
            <a:off x="0" y="4908960"/>
            <a:ext cx="1096920" cy="1948680"/>
          </a:xfrm>
          <a:custGeom>
            <a:avLst/>
            <a:gdLst>
              <a:gd name="textAreaLeft" fmla="*/ 0 w 1096920"/>
              <a:gd name="textAreaRight" fmla="*/ 1097280 w 1096920"/>
              <a:gd name="textAreaTop" fmla="*/ 0 h 1948680"/>
              <a:gd name="textAreaBottom" fmla="*/ 1949040 h 1948680"/>
            </a:gdLst>
            <a:ahLst/>
            <a:rect l="textAreaLeft" t="textAreaTop" r="textAreaRight" b="textAreaBottom"/>
            <a:pathLst>
              <a:path w="1097279" h="1949116">
                <a:moveTo>
                  <a:pt x="0" y="1695815"/>
                </a:moveTo>
                <a:lnTo>
                  <a:pt x="7867" y="1742679"/>
                </a:lnTo>
                <a:lnTo>
                  <a:pt x="42224" y="1949116"/>
                </a:lnTo>
                <a:lnTo>
                  <a:pt x="9113" y="1949116"/>
                </a:lnTo>
                <a:lnTo>
                  <a:pt x="0" y="1890647"/>
                </a:lnTo>
                <a:close/>
                <a:moveTo>
                  <a:pt x="0" y="1374109"/>
                </a:moveTo>
                <a:lnTo>
                  <a:pt x="92420" y="1572256"/>
                </a:lnTo>
                <a:cubicBezTo>
                  <a:pt x="133631" y="1663029"/>
                  <a:pt x="174458" y="1754186"/>
                  <a:pt x="216054" y="1844576"/>
                </a:cubicBezTo>
                <a:cubicBezTo>
                  <a:pt x="277678" y="1832320"/>
                  <a:pt x="342383" y="1936498"/>
                  <a:pt x="246866" y="1924242"/>
                </a:cubicBezTo>
                <a:cubicBezTo>
                  <a:pt x="243785" y="1934967"/>
                  <a:pt x="239933" y="1943393"/>
                  <a:pt x="233771" y="1948755"/>
                </a:cubicBezTo>
                <a:lnTo>
                  <a:pt x="232182" y="1949116"/>
                </a:lnTo>
                <a:lnTo>
                  <a:pt x="191813" y="1949116"/>
                </a:lnTo>
                <a:lnTo>
                  <a:pt x="185819" y="1942627"/>
                </a:lnTo>
                <a:cubicBezTo>
                  <a:pt x="176576" y="1923668"/>
                  <a:pt x="196796" y="1887473"/>
                  <a:pt x="194485" y="1859896"/>
                </a:cubicBezTo>
                <a:cubicBezTo>
                  <a:pt x="194485" y="1826192"/>
                  <a:pt x="151348" y="1761846"/>
                  <a:pt x="132861" y="1718949"/>
                </a:cubicBezTo>
                <a:cubicBezTo>
                  <a:pt x="105130" y="1659200"/>
                  <a:pt x="78940" y="1599450"/>
                  <a:pt x="52750" y="1540084"/>
                </a:cubicBezTo>
                <a:lnTo>
                  <a:pt x="0" y="1423822"/>
                </a:lnTo>
                <a:close/>
                <a:moveTo>
                  <a:pt x="0" y="1277040"/>
                </a:moveTo>
                <a:lnTo>
                  <a:pt x="4702" y="1291797"/>
                </a:lnTo>
                <a:cubicBezTo>
                  <a:pt x="16545" y="1313341"/>
                  <a:pt x="39654" y="1330577"/>
                  <a:pt x="55831" y="1351259"/>
                </a:cubicBezTo>
                <a:cubicBezTo>
                  <a:pt x="191404" y="1510591"/>
                  <a:pt x="326977" y="1676052"/>
                  <a:pt x="462550" y="1844576"/>
                </a:cubicBezTo>
                <a:cubicBezTo>
                  <a:pt x="484119" y="1872153"/>
                  <a:pt x="511850" y="1911986"/>
                  <a:pt x="533418" y="1918114"/>
                </a:cubicBezTo>
                <a:cubicBezTo>
                  <a:pt x="581947" y="1936499"/>
                  <a:pt x="637409" y="1927307"/>
                  <a:pt x="685505" y="1935781"/>
                </a:cubicBezTo>
                <a:lnTo>
                  <a:pt x="723012" y="1949116"/>
                </a:lnTo>
                <a:lnTo>
                  <a:pt x="501674" y="1949116"/>
                </a:lnTo>
                <a:lnTo>
                  <a:pt x="502606" y="1942627"/>
                </a:lnTo>
                <a:cubicBezTo>
                  <a:pt x="419414" y="1843044"/>
                  <a:pt x="335451" y="1739632"/>
                  <a:pt x="251102" y="1635836"/>
                </a:cubicBezTo>
                <a:lnTo>
                  <a:pt x="0" y="1330049"/>
                </a:lnTo>
                <a:close/>
                <a:moveTo>
                  <a:pt x="342383" y="447355"/>
                </a:moveTo>
                <a:cubicBezTo>
                  <a:pt x="373195" y="444291"/>
                  <a:pt x="382439" y="462676"/>
                  <a:pt x="394764" y="490252"/>
                </a:cubicBezTo>
                <a:cubicBezTo>
                  <a:pt x="431738" y="474932"/>
                  <a:pt x="450225" y="505573"/>
                  <a:pt x="450225" y="523957"/>
                </a:cubicBezTo>
                <a:cubicBezTo>
                  <a:pt x="450225" y="572983"/>
                  <a:pt x="385520" y="569919"/>
                  <a:pt x="345464" y="579111"/>
                </a:cubicBezTo>
                <a:cubicBezTo>
                  <a:pt x="237622" y="720058"/>
                  <a:pt x="132861" y="870198"/>
                  <a:pt x="28100" y="1014210"/>
                </a:cubicBezTo>
                <a:cubicBezTo>
                  <a:pt x="21938" y="1023403"/>
                  <a:pt x="13464" y="1033361"/>
                  <a:pt x="6532" y="1044085"/>
                </a:cubicBezTo>
                <a:lnTo>
                  <a:pt x="0" y="1056505"/>
                </a:lnTo>
                <a:lnTo>
                  <a:pt x="0" y="1010146"/>
                </a:lnTo>
                <a:lnTo>
                  <a:pt x="144416" y="816960"/>
                </a:lnTo>
                <a:cubicBezTo>
                  <a:pt x="204499" y="733081"/>
                  <a:pt x="263813" y="648053"/>
                  <a:pt x="323896" y="563790"/>
                </a:cubicBezTo>
                <a:cubicBezTo>
                  <a:pt x="305409" y="527021"/>
                  <a:pt x="290003" y="450419"/>
                  <a:pt x="342383" y="447355"/>
                </a:cubicBezTo>
                <a:close/>
                <a:moveTo>
                  <a:pt x="770671" y="263511"/>
                </a:moveTo>
                <a:cubicBezTo>
                  <a:pt x="835376" y="272703"/>
                  <a:pt x="860026" y="343177"/>
                  <a:pt x="853864" y="401394"/>
                </a:cubicBezTo>
                <a:cubicBezTo>
                  <a:pt x="989437" y="389138"/>
                  <a:pt x="1001762" y="579111"/>
                  <a:pt x="875432" y="597495"/>
                </a:cubicBezTo>
                <a:cubicBezTo>
                  <a:pt x="804564" y="606688"/>
                  <a:pt x="712128" y="566854"/>
                  <a:pt x="659747" y="576047"/>
                </a:cubicBezTo>
                <a:cubicBezTo>
                  <a:pt x="641260" y="579111"/>
                  <a:pt x="598123" y="618944"/>
                  <a:pt x="573474" y="640392"/>
                </a:cubicBezTo>
                <a:cubicBezTo>
                  <a:pt x="437901" y="750699"/>
                  <a:pt x="305409" y="861006"/>
                  <a:pt x="166754" y="971313"/>
                </a:cubicBezTo>
                <a:cubicBezTo>
                  <a:pt x="111292" y="1017274"/>
                  <a:pt x="55831" y="1060171"/>
                  <a:pt x="12694" y="1109197"/>
                </a:cubicBezTo>
                <a:cubicBezTo>
                  <a:pt x="200647" y="1029530"/>
                  <a:pt x="385520" y="943736"/>
                  <a:pt x="570392" y="861006"/>
                </a:cubicBezTo>
                <a:cubicBezTo>
                  <a:pt x="585798" y="805853"/>
                  <a:pt x="591961" y="716994"/>
                  <a:pt x="659747" y="713930"/>
                </a:cubicBezTo>
                <a:cubicBezTo>
                  <a:pt x="696722" y="713930"/>
                  <a:pt x="733696" y="753763"/>
                  <a:pt x="709047" y="805853"/>
                </a:cubicBezTo>
                <a:cubicBezTo>
                  <a:pt x="770671" y="805853"/>
                  <a:pt x="782996" y="906967"/>
                  <a:pt x="721372" y="919224"/>
                </a:cubicBezTo>
                <a:cubicBezTo>
                  <a:pt x="665910" y="931480"/>
                  <a:pt x="625854" y="882455"/>
                  <a:pt x="576555" y="885519"/>
                </a:cubicBezTo>
                <a:cubicBezTo>
                  <a:pt x="539580" y="885519"/>
                  <a:pt x="481037" y="928416"/>
                  <a:pt x="437901" y="946800"/>
                </a:cubicBezTo>
                <a:cubicBezTo>
                  <a:pt x="302327" y="1008082"/>
                  <a:pt x="145186" y="1072428"/>
                  <a:pt x="25019" y="1136773"/>
                </a:cubicBezTo>
                <a:cubicBezTo>
                  <a:pt x="299246" y="1096940"/>
                  <a:pt x="564230" y="1050979"/>
                  <a:pt x="835376" y="1008082"/>
                </a:cubicBezTo>
                <a:cubicBezTo>
                  <a:pt x="875432" y="949864"/>
                  <a:pt x="890838" y="821173"/>
                  <a:pt x="992518" y="830365"/>
                </a:cubicBezTo>
                <a:cubicBezTo>
                  <a:pt x="1047980" y="833429"/>
                  <a:pt x="1084954" y="910031"/>
                  <a:pt x="1038736" y="962121"/>
                </a:cubicBezTo>
                <a:cubicBezTo>
                  <a:pt x="1072629" y="974377"/>
                  <a:pt x="1088035" y="998890"/>
                  <a:pt x="1097279" y="1035659"/>
                </a:cubicBezTo>
                <a:cubicBezTo>
                  <a:pt x="1097279" y="1035659"/>
                  <a:pt x="1097279" y="1038723"/>
                  <a:pt x="1097279" y="1038723"/>
                </a:cubicBezTo>
                <a:cubicBezTo>
                  <a:pt x="1091117" y="1124517"/>
                  <a:pt x="1004843" y="1124517"/>
                  <a:pt x="933975" y="1084684"/>
                </a:cubicBezTo>
                <a:cubicBezTo>
                  <a:pt x="909325" y="1072428"/>
                  <a:pt x="881594" y="1038723"/>
                  <a:pt x="853864" y="1035659"/>
                </a:cubicBezTo>
                <a:cubicBezTo>
                  <a:pt x="832295" y="1032595"/>
                  <a:pt x="782996" y="1044851"/>
                  <a:pt x="749103" y="1050979"/>
                </a:cubicBezTo>
                <a:cubicBezTo>
                  <a:pt x="650504" y="1066299"/>
                  <a:pt x="539580" y="1084684"/>
                  <a:pt x="437901" y="1103068"/>
                </a:cubicBezTo>
                <a:cubicBezTo>
                  <a:pt x="283840" y="1127581"/>
                  <a:pt x="151348" y="1145966"/>
                  <a:pt x="34262" y="1176606"/>
                </a:cubicBezTo>
                <a:cubicBezTo>
                  <a:pt x="234541" y="1201119"/>
                  <a:pt x="444063" y="1216439"/>
                  <a:pt x="647423" y="1240952"/>
                </a:cubicBezTo>
                <a:cubicBezTo>
                  <a:pt x="696722" y="1204183"/>
                  <a:pt x="761427" y="1136773"/>
                  <a:pt x="782996" y="1225632"/>
                </a:cubicBezTo>
                <a:cubicBezTo>
                  <a:pt x="789158" y="1247080"/>
                  <a:pt x="767590" y="1253208"/>
                  <a:pt x="755265" y="1271593"/>
                </a:cubicBezTo>
                <a:cubicBezTo>
                  <a:pt x="782996" y="1305298"/>
                  <a:pt x="752184" y="1339003"/>
                  <a:pt x="727534" y="1339003"/>
                </a:cubicBezTo>
                <a:cubicBezTo>
                  <a:pt x="681316" y="1342067"/>
                  <a:pt x="678235" y="1280785"/>
                  <a:pt x="647423" y="1262401"/>
                </a:cubicBezTo>
                <a:cubicBezTo>
                  <a:pt x="444063" y="1244016"/>
                  <a:pt x="225297" y="1219503"/>
                  <a:pt x="28100" y="1204183"/>
                </a:cubicBezTo>
                <a:cubicBezTo>
                  <a:pt x="52749" y="1228696"/>
                  <a:pt x="89724" y="1234824"/>
                  <a:pt x="123617" y="1247080"/>
                </a:cubicBezTo>
                <a:cubicBezTo>
                  <a:pt x="317733" y="1320618"/>
                  <a:pt x="527256" y="1400284"/>
                  <a:pt x="724453" y="1473822"/>
                </a:cubicBezTo>
                <a:cubicBezTo>
                  <a:pt x="758346" y="1486079"/>
                  <a:pt x="801483" y="1507527"/>
                  <a:pt x="823052" y="1507527"/>
                </a:cubicBezTo>
                <a:cubicBezTo>
                  <a:pt x="872351" y="1510591"/>
                  <a:pt x="943219" y="1449309"/>
                  <a:pt x="1011005" y="1473822"/>
                </a:cubicBezTo>
                <a:cubicBezTo>
                  <a:pt x="1069548" y="1495271"/>
                  <a:pt x="1060305" y="1605578"/>
                  <a:pt x="983274" y="1611706"/>
                </a:cubicBezTo>
                <a:cubicBezTo>
                  <a:pt x="1007924" y="1679116"/>
                  <a:pt x="961706" y="1731205"/>
                  <a:pt x="900082" y="1718949"/>
                </a:cubicBezTo>
                <a:cubicBezTo>
                  <a:pt x="835376" y="1703628"/>
                  <a:pt x="835376" y="1599450"/>
                  <a:pt x="813808" y="1541232"/>
                </a:cubicBezTo>
                <a:cubicBezTo>
                  <a:pt x="551905" y="1437053"/>
                  <a:pt x="280759" y="1342067"/>
                  <a:pt x="15775" y="1240952"/>
                </a:cubicBezTo>
                <a:cubicBezTo>
                  <a:pt x="25019" y="1259336"/>
                  <a:pt x="49668" y="1274657"/>
                  <a:pt x="68156" y="1286913"/>
                </a:cubicBezTo>
                <a:cubicBezTo>
                  <a:pt x="163673" y="1357387"/>
                  <a:pt x="271515" y="1430925"/>
                  <a:pt x="370114" y="1501399"/>
                </a:cubicBezTo>
                <a:cubicBezTo>
                  <a:pt x="404007" y="1522848"/>
                  <a:pt x="459469" y="1578001"/>
                  <a:pt x="493362" y="1584129"/>
                </a:cubicBezTo>
                <a:cubicBezTo>
                  <a:pt x="533418" y="1590257"/>
                  <a:pt x="595042" y="1559617"/>
                  <a:pt x="641260" y="1574937"/>
                </a:cubicBezTo>
                <a:cubicBezTo>
                  <a:pt x="699803" y="1596386"/>
                  <a:pt x="690560" y="1703628"/>
                  <a:pt x="607367" y="1697500"/>
                </a:cubicBezTo>
                <a:cubicBezTo>
                  <a:pt x="619692" y="1767974"/>
                  <a:pt x="564230" y="1798615"/>
                  <a:pt x="518012" y="1777166"/>
                </a:cubicBezTo>
                <a:cubicBezTo>
                  <a:pt x="468713" y="1755718"/>
                  <a:pt x="484119" y="1663795"/>
                  <a:pt x="474875" y="1602514"/>
                </a:cubicBezTo>
                <a:cubicBezTo>
                  <a:pt x="396304" y="1545829"/>
                  <a:pt x="317733" y="1489143"/>
                  <a:pt x="238392" y="1433223"/>
                </a:cubicBezTo>
                <a:lnTo>
                  <a:pt x="0" y="1270382"/>
                </a:lnTo>
                <a:lnTo>
                  <a:pt x="0" y="1073676"/>
                </a:lnTo>
                <a:lnTo>
                  <a:pt x="128673" y="965281"/>
                </a:lnTo>
                <a:cubicBezTo>
                  <a:pt x="267471" y="849516"/>
                  <a:pt x="417103" y="727719"/>
                  <a:pt x="558068" y="612816"/>
                </a:cubicBezTo>
                <a:cubicBezTo>
                  <a:pt x="582717" y="591367"/>
                  <a:pt x="628935" y="566854"/>
                  <a:pt x="635098" y="545406"/>
                </a:cubicBezTo>
                <a:cubicBezTo>
                  <a:pt x="647423" y="514765"/>
                  <a:pt x="638179" y="477996"/>
                  <a:pt x="641260" y="450419"/>
                </a:cubicBezTo>
                <a:cubicBezTo>
                  <a:pt x="644341" y="364625"/>
                  <a:pt x="665910" y="254318"/>
                  <a:pt x="770671" y="263511"/>
                </a:cubicBezTo>
                <a:close/>
                <a:moveTo>
                  <a:pt x="70777" y="235050"/>
                </a:moveTo>
                <a:cubicBezTo>
                  <a:pt x="99163" y="243080"/>
                  <a:pt x="122946" y="266788"/>
                  <a:pt x="122946" y="300437"/>
                </a:cubicBezTo>
                <a:cubicBezTo>
                  <a:pt x="122946" y="367355"/>
                  <a:pt x="38363" y="389772"/>
                  <a:pt x="770" y="435317"/>
                </a:cubicBezTo>
                <a:lnTo>
                  <a:pt x="0" y="436584"/>
                </a:lnTo>
                <a:lnTo>
                  <a:pt x="0" y="256689"/>
                </a:lnTo>
                <a:lnTo>
                  <a:pt x="27143" y="235481"/>
                </a:lnTo>
                <a:cubicBezTo>
                  <a:pt x="41240" y="230940"/>
                  <a:pt x="56584" y="231035"/>
                  <a:pt x="70777" y="235050"/>
                </a:cubicBezTo>
                <a:close/>
                <a:moveTo>
                  <a:pt x="200647" y="0"/>
                </a:moveTo>
                <a:cubicBezTo>
                  <a:pt x="206810" y="0"/>
                  <a:pt x="216054" y="0"/>
                  <a:pt x="222216" y="0"/>
                </a:cubicBezTo>
                <a:cubicBezTo>
                  <a:pt x="222216" y="0"/>
                  <a:pt x="222216" y="3064"/>
                  <a:pt x="222216" y="3064"/>
                </a:cubicBezTo>
                <a:cubicBezTo>
                  <a:pt x="268434" y="6128"/>
                  <a:pt x="283840" y="33705"/>
                  <a:pt x="302327" y="64345"/>
                </a:cubicBezTo>
                <a:cubicBezTo>
                  <a:pt x="354708" y="12256"/>
                  <a:pt x="456388" y="55153"/>
                  <a:pt x="440982" y="137883"/>
                </a:cubicBezTo>
                <a:cubicBezTo>
                  <a:pt x="428657" y="214485"/>
                  <a:pt x="296165" y="242062"/>
                  <a:pt x="246866" y="275767"/>
                </a:cubicBezTo>
                <a:cubicBezTo>
                  <a:pt x="172917" y="471868"/>
                  <a:pt x="105130" y="671033"/>
                  <a:pt x="28100" y="870198"/>
                </a:cubicBezTo>
                <a:lnTo>
                  <a:pt x="0" y="937752"/>
                </a:lnTo>
                <a:lnTo>
                  <a:pt x="0" y="849367"/>
                </a:lnTo>
                <a:lnTo>
                  <a:pt x="222216" y="263511"/>
                </a:lnTo>
                <a:cubicBezTo>
                  <a:pt x="179079" y="199165"/>
                  <a:pt x="74318" y="52089"/>
                  <a:pt x="200647" y="0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Rectangle 7" hidden="1"/>
          <p:cNvSpPr/>
          <p:nvPr/>
        </p:nvSpPr>
        <p:spPr>
          <a:xfrm>
            <a:off x="0" y="0"/>
            <a:ext cx="12188520" cy="180360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cxnSp>
        <p:nvCxnSpPr>
          <p:cNvPr id="469" name="Straight Connector 9"/>
          <p:cNvCxnSpPr/>
          <p:nvPr/>
        </p:nvCxnSpPr>
        <p:spPr>
          <a:xfrm>
            <a:off x="1440" y="1803960"/>
            <a:ext cx="12189240" cy="360"/>
          </a:xfrm>
          <a:prstGeom prst="straightConnector1">
            <a:avLst/>
          </a:prstGeom>
          <a:ln w="50800">
            <a:solidFill>
              <a:srgbClr val="565a5c"/>
            </a:solidFill>
          </a:ln>
        </p:spPr>
      </p:cxnSp>
      <p:grpSp>
        <p:nvGrpSpPr>
          <p:cNvPr id="470" name="Group 6"/>
          <p:cNvGrpSpPr/>
          <p:nvPr/>
        </p:nvGrpSpPr>
        <p:grpSpPr>
          <a:xfrm>
            <a:off x="-3240" y="-1440"/>
            <a:ext cx="12196440" cy="6862320"/>
            <a:chOff x="-3240" y="-1440"/>
            <a:chExt cx="12196440" cy="6862320"/>
          </a:xfrm>
        </p:grpSpPr>
        <p:sp>
          <p:nvSpPr>
            <p:cNvPr id="471" name="Freeform 5"/>
            <p:cNvSpPr/>
            <p:nvPr/>
          </p:nvSpPr>
          <p:spPr>
            <a:xfrm>
              <a:off x="1515960" y="-1440"/>
              <a:ext cx="1025280" cy="6862320"/>
            </a:xfrm>
            <a:custGeom>
              <a:avLst/>
              <a:gdLst>
                <a:gd name="textAreaLeft" fmla="*/ 0 w 1025280"/>
                <a:gd name="textAreaRight" fmla="*/ 1025640 w 102528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323" h="2159">
                  <a:moveTo>
                    <a:pt x="125" y="74"/>
                  </a:moveTo>
                  <a:cubicBezTo>
                    <a:pt x="132" y="83"/>
                    <a:pt x="139" y="92"/>
                    <a:pt x="144" y="103"/>
                  </a:cubicBezTo>
                  <a:cubicBezTo>
                    <a:pt x="148" y="111"/>
                    <a:pt x="151" y="121"/>
                    <a:pt x="151" y="131"/>
                  </a:cubicBezTo>
                  <a:cubicBezTo>
                    <a:pt x="151" y="131"/>
                    <a:pt x="151" y="131"/>
                    <a:pt x="151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2" y="197"/>
                    <a:pt x="121" y="197"/>
                  </a:cubicBezTo>
                  <a:cubicBezTo>
                    <a:pt x="107" y="215"/>
                    <a:pt x="89" y="230"/>
                    <a:pt x="72" y="246"/>
                  </a:cubicBezTo>
                  <a:cubicBezTo>
                    <a:pt x="56" y="262"/>
                    <a:pt x="39" y="279"/>
                    <a:pt x="25" y="298"/>
                  </a:cubicBezTo>
                  <a:cubicBezTo>
                    <a:pt x="24" y="300"/>
                    <a:pt x="22" y="302"/>
                    <a:pt x="21" y="305"/>
                  </a:cubicBezTo>
                  <a:cubicBezTo>
                    <a:pt x="19" y="307"/>
                    <a:pt x="17" y="310"/>
                    <a:pt x="15" y="313"/>
                  </a:cubicBezTo>
                  <a:cubicBezTo>
                    <a:pt x="9" y="322"/>
                    <a:pt x="4" y="333"/>
                    <a:pt x="2" y="345"/>
                  </a:cubicBezTo>
                  <a:cubicBezTo>
                    <a:pt x="1" y="351"/>
                    <a:pt x="0" y="357"/>
                    <a:pt x="1" y="363"/>
                  </a:cubicBezTo>
                  <a:cubicBezTo>
                    <a:pt x="2" y="369"/>
                    <a:pt x="3" y="374"/>
                    <a:pt x="6" y="379"/>
                  </a:cubicBezTo>
                  <a:cubicBezTo>
                    <a:pt x="8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3" y="404"/>
                    <a:pt x="26" y="408"/>
                  </a:cubicBezTo>
                  <a:cubicBezTo>
                    <a:pt x="42" y="426"/>
                    <a:pt x="59" y="441"/>
                    <a:pt x="76" y="457"/>
                  </a:cubicBezTo>
                  <a:cubicBezTo>
                    <a:pt x="93" y="473"/>
                    <a:pt x="110" y="489"/>
                    <a:pt x="125" y="507"/>
                  </a:cubicBezTo>
                  <a:cubicBezTo>
                    <a:pt x="132" y="516"/>
                    <a:pt x="139" y="525"/>
                    <a:pt x="144" y="535"/>
                  </a:cubicBezTo>
                  <a:cubicBezTo>
                    <a:pt x="148" y="544"/>
                    <a:pt x="151" y="554"/>
                    <a:pt x="151" y="564"/>
                  </a:cubicBezTo>
                  <a:cubicBezTo>
                    <a:pt x="151" y="564"/>
                    <a:pt x="151" y="564"/>
                    <a:pt x="151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5"/>
                    <a:pt x="122" y="629"/>
                  </a:cubicBezTo>
                  <a:cubicBezTo>
                    <a:pt x="122" y="629"/>
                    <a:pt x="122" y="629"/>
                    <a:pt x="121" y="630"/>
                  </a:cubicBezTo>
                  <a:cubicBezTo>
                    <a:pt x="107" y="648"/>
                    <a:pt x="89" y="663"/>
                    <a:pt x="72" y="679"/>
                  </a:cubicBezTo>
                  <a:cubicBezTo>
                    <a:pt x="56" y="695"/>
                    <a:pt x="39" y="711"/>
                    <a:pt x="25" y="730"/>
                  </a:cubicBezTo>
                  <a:cubicBezTo>
                    <a:pt x="24" y="733"/>
                    <a:pt x="22" y="735"/>
                    <a:pt x="21" y="737"/>
                  </a:cubicBezTo>
                  <a:cubicBezTo>
                    <a:pt x="19" y="740"/>
                    <a:pt x="17" y="743"/>
                    <a:pt x="15" y="745"/>
                  </a:cubicBezTo>
                  <a:cubicBezTo>
                    <a:pt x="9" y="755"/>
                    <a:pt x="4" y="766"/>
                    <a:pt x="2" y="778"/>
                  </a:cubicBezTo>
                  <a:cubicBezTo>
                    <a:pt x="1" y="784"/>
                    <a:pt x="0" y="789"/>
                    <a:pt x="1" y="795"/>
                  </a:cubicBezTo>
                  <a:cubicBezTo>
                    <a:pt x="2" y="801"/>
                    <a:pt x="3" y="807"/>
                    <a:pt x="6" y="812"/>
                  </a:cubicBezTo>
                  <a:cubicBezTo>
                    <a:pt x="8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3" y="837"/>
                    <a:pt x="26" y="841"/>
                  </a:cubicBezTo>
                  <a:cubicBezTo>
                    <a:pt x="42" y="858"/>
                    <a:pt x="59" y="874"/>
                    <a:pt x="76" y="890"/>
                  </a:cubicBezTo>
                  <a:cubicBezTo>
                    <a:pt x="93" y="906"/>
                    <a:pt x="110" y="922"/>
                    <a:pt x="125" y="939"/>
                  </a:cubicBezTo>
                  <a:cubicBezTo>
                    <a:pt x="132" y="948"/>
                    <a:pt x="139" y="958"/>
                    <a:pt x="144" y="968"/>
                  </a:cubicBezTo>
                  <a:cubicBezTo>
                    <a:pt x="147" y="976"/>
                    <a:pt x="150" y="984"/>
                    <a:pt x="151" y="993"/>
                  </a:cubicBezTo>
                  <a:cubicBezTo>
                    <a:pt x="151" y="993"/>
                    <a:pt x="151" y="993"/>
                    <a:pt x="151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9" y="1065"/>
                    <a:pt x="103" y="1082"/>
                    <a:pt x="86" y="1098"/>
                  </a:cubicBezTo>
                  <a:cubicBezTo>
                    <a:pt x="70" y="1114"/>
                    <a:pt x="52" y="1130"/>
                    <a:pt x="37" y="1147"/>
                  </a:cubicBezTo>
                  <a:cubicBezTo>
                    <a:pt x="29" y="1156"/>
                    <a:pt x="21" y="1165"/>
                    <a:pt x="15" y="1175"/>
                  </a:cubicBezTo>
                  <a:cubicBezTo>
                    <a:pt x="9" y="1185"/>
                    <a:pt x="4" y="1195"/>
                    <a:pt x="2" y="1207"/>
                  </a:cubicBezTo>
                  <a:cubicBezTo>
                    <a:pt x="1" y="1213"/>
                    <a:pt x="0" y="1219"/>
                    <a:pt x="1" y="1225"/>
                  </a:cubicBezTo>
                  <a:cubicBezTo>
                    <a:pt x="2" y="1231"/>
                    <a:pt x="3" y="1236"/>
                    <a:pt x="6" y="1242"/>
                  </a:cubicBezTo>
                  <a:cubicBezTo>
                    <a:pt x="7" y="1243"/>
                    <a:pt x="7" y="1244"/>
                    <a:pt x="8" y="1245"/>
                  </a:cubicBezTo>
                  <a:cubicBezTo>
                    <a:pt x="10" y="1251"/>
                    <a:pt x="12" y="1256"/>
                    <a:pt x="15" y="1261"/>
                  </a:cubicBezTo>
                  <a:cubicBezTo>
                    <a:pt x="19" y="1261"/>
                    <a:pt x="19" y="1261"/>
                    <a:pt x="19" y="1261"/>
                  </a:cubicBezTo>
                  <a:cubicBezTo>
                    <a:pt x="21" y="1264"/>
                    <a:pt x="24" y="1267"/>
                    <a:pt x="26" y="1270"/>
                  </a:cubicBezTo>
                  <a:cubicBezTo>
                    <a:pt x="42" y="1288"/>
                    <a:pt x="59" y="1303"/>
                    <a:pt x="76" y="1319"/>
                  </a:cubicBezTo>
                  <a:cubicBezTo>
                    <a:pt x="93" y="1335"/>
                    <a:pt x="110" y="1351"/>
                    <a:pt x="125" y="1369"/>
                  </a:cubicBezTo>
                  <a:cubicBezTo>
                    <a:pt x="132" y="1378"/>
                    <a:pt x="139" y="1387"/>
                    <a:pt x="144" y="1398"/>
                  </a:cubicBezTo>
                  <a:cubicBezTo>
                    <a:pt x="148" y="1406"/>
                    <a:pt x="151" y="1415"/>
                    <a:pt x="151" y="1425"/>
                  </a:cubicBezTo>
                  <a:cubicBezTo>
                    <a:pt x="151" y="1425"/>
                    <a:pt x="151" y="1425"/>
                    <a:pt x="151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6" y="1485"/>
                    <a:pt x="120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3" y="1595"/>
                    <a:pt x="19" y="1600"/>
                    <a:pt x="15" y="1606"/>
                  </a:cubicBezTo>
                  <a:cubicBezTo>
                    <a:pt x="9" y="1616"/>
                    <a:pt x="4" y="1627"/>
                    <a:pt x="2" y="1639"/>
                  </a:cubicBezTo>
                  <a:cubicBezTo>
                    <a:pt x="1" y="1644"/>
                    <a:pt x="0" y="1650"/>
                    <a:pt x="1" y="1656"/>
                  </a:cubicBezTo>
                  <a:cubicBezTo>
                    <a:pt x="2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1" y="1681"/>
                  </a:cubicBezTo>
                  <a:cubicBezTo>
                    <a:pt x="12" y="1685"/>
                    <a:pt x="13" y="1688"/>
                    <a:pt x="15" y="1691"/>
                  </a:cubicBezTo>
                  <a:cubicBezTo>
                    <a:pt x="17" y="1691"/>
                    <a:pt x="17" y="1691"/>
                    <a:pt x="17" y="1691"/>
                  </a:cubicBezTo>
                  <a:cubicBezTo>
                    <a:pt x="20" y="1694"/>
                    <a:pt x="23" y="1698"/>
                    <a:pt x="26" y="1702"/>
                  </a:cubicBezTo>
                  <a:cubicBezTo>
                    <a:pt x="42" y="1719"/>
                    <a:pt x="59" y="1735"/>
                    <a:pt x="76" y="1751"/>
                  </a:cubicBezTo>
                  <a:cubicBezTo>
                    <a:pt x="93" y="1767"/>
                    <a:pt x="110" y="1783"/>
                    <a:pt x="125" y="1800"/>
                  </a:cubicBezTo>
                  <a:cubicBezTo>
                    <a:pt x="132" y="1809"/>
                    <a:pt x="139" y="1819"/>
                    <a:pt x="144" y="1829"/>
                  </a:cubicBezTo>
                  <a:cubicBezTo>
                    <a:pt x="148" y="1837"/>
                    <a:pt x="150" y="1846"/>
                    <a:pt x="151" y="1855"/>
                  </a:cubicBezTo>
                  <a:cubicBezTo>
                    <a:pt x="151" y="1855"/>
                    <a:pt x="151" y="1855"/>
                    <a:pt x="151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8" y="1959"/>
                    <a:pt x="80" y="1966"/>
                    <a:pt x="72" y="1973"/>
                  </a:cubicBezTo>
                  <a:cubicBezTo>
                    <a:pt x="61" y="1984"/>
                    <a:pt x="49" y="1995"/>
                    <a:pt x="39" y="2007"/>
                  </a:cubicBezTo>
                  <a:cubicBezTo>
                    <a:pt x="38" y="2008"/>
                    <a:pt x="37" y="2008"/>
                    <a:pt x="37" y="2009"/>
                  </a:cubicBezTo>
                  <a:cubicBezTo>
                    <a:pt x="29" y="2018"/>
                    <a:pt x="21" y="2027"/>
                    <a:pt x="15" y="2037"/>
                  </a:cubicBezTo>
                  <a:cubicBezTo>
                    <a:pt x="9" y="2047"/>
                    <a:pt x="4" y="2057"/>
                    <a:pt x="2" y="2069"/>
                  </a:cubicBezTo>
                  <a:cubicBezTo>
                    <a:pt x="1" y="2075"/>
                    <a:pt x="0" y="2081"/>
                    <a:pt x="1" y="2087"/>
                  </a:cubicBezTo>
                  <a:cubicBezTo>
                    <a:pt x="2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1" y="2114"/>
                    <a:pt x="13" y="2118"/>
                    <a:pt x="15" y="2122"/>
                  </a:cubicBezTo>
                  <a:cubicBezTo>
                    <a:pt x="18" y="2122"/>
                    <a:pt x="18" y="2122"/>
                    <a:pt x="18" y="2122"/>
                  </a:cubicBezTo>
                  <a:cubicBezTo>
                    <a:pt x="21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5" y="2137"/>
                    <a:pt x="34" y="2125"/>
                  </a:cubicBezTo>
                  <a:cubicBezTo>
                    <a:pt x="27" y="2117"/>
                    <a:pt x="21" y="2109"/>
                    <a:pt x="16" y="2101"/>
                  </a:cubicBezTo>
                  <a:cubicBezTo>
                    <a:pt x="15" y="2097"/>
                    <a:pt x="15" y="2093"/>
                    <a:pt x="14" y="2089"/>
                  </a:cubicBezTo>
                  <a:cubicBezTo>
                    <a:pt x="13" y="2068"/>
                    <a:pt x="21" y="2048"/>
                    <a:pt x="34" y="2030"/>
                  </a:cubicBezTo>
                  <a:cubicBezTo>
                    <a:pt x="47" y="2012"/>
                    <a:pt x="63" y="1997"/>
                    <a:pt x="80" y="1981"/>
                  </a:cubicBezTo>
                  <a:cubicBezTo>
                    <a:pt x="97" y="1965"/>
                    <a:pt x="115" y="1949"/>
                    <a:pt x="130" y="1931"/>
                  </a:cubicBezTo>
                  <a:cubicBezTo>
                    <a:pt x="138" y="1922"/>
                    <a:pt x="146" y="1912"/>
                    <a:pt x="151" y="1900"/>
                  </a:cubicBezTo>
                  <a:cubicBezTo>
                    <a:pt x="157" y="1889"/>
                    <a:pt x="162" y="1877"/>
                    <a:pt x="163" y="1863"/>
                  </a:cubicBezTo>
                  <a:cubicBezTo>
                    <a:pt x="163" y="1862"/>
                    <a:pt x="163" y="1860"/>
                    <a:pt x="163" y="1859"/>
                  </a:cubicBezTo>
                  <a:cubicBezTo>
                    <a:pt x="163" y="1860"/>
                    <a:pt x="163" y="1861"/>
                    <a:pt x="163" y="1862"/>
                  </a:cubicBezTo>
                  <a:cubicBezTo>
                    <a:pt x="164" y="1874"/>
                    <a:pt x="168" y="1886"/>
                    <a:pt x="173" y="1896"/>
                  </a:cubicBezTo>
                  <a:cubicBezTo>
                    <a:pt x="179" y="1907"/>
                    <a:pt x="186" y="1916"/>
                    <a:pt x="193" y="1925"/>
                  </a:cubicBezTo>
                  <a:cubicBezTo>
                    <a:pt x="208" y="1943"/>
                    <a:pt x="226" y="1958"/>
                    <a:pt x="242" y="1974"/>
                  </a:cubicBezTo>
                  <a:cubicBezTo>
                    <a:pt x="243" y="1975"/>
                    <a:pt x="243" y="1975"/>
                    <a:pt x="243" y="1975"/>
                  </a:cubicBezTo>
                  <a:cubicBezTo>
                    <a:pt x="250" y="1982"/>
                    <a:pt x="257" y="1988"/>
                    <a:pt x="264" y="1995"/>
                  </a:cubicBezTo>
                  <a:cubicBezTo>
                    <a:pt x="273" y="2004"/>
                    <a:pt x="282" y="2014"/>
                    <a:pt x="290" y="2025"/>
                  </a:cubicBezTo>
                  <a:cubicBezTo>
                    <a:pt x="296" y="2035"/>
                    <a:pt x="302" y="2045"/>
                    <a:pt x="306" y="2056"/>
                  </a:cubicBezTo>
                  <a:cubicBezTo>
                    <a:pt x="309" y="2067"/>
                    <a:pt x="311" y="2078"/>
                    <a:pt x="310" y="2090"/>
                  </a:cubicBezTo>
                  <a:cubicBezTo>
                    <a:pt x="309" y="2096"/>
                    <a:pt x="308" y="2102"/>
                    <a:pt x="306" y="2108"/>
                  </a:cubicBezTo>
                  <a:cubicBezTo>
                    <a:pt x="301" y="2116"/>
                    <a:pt x="295" y="2124"/>
                    <a:pt x="289" y="2131"/>
                  </a:cubicBezTo>
                  <a:cubicBezTo>
                    <a:pt x="280" y="2141"/>
                    <a:pt x="271" y="2150"/>
                    <a:pt x="261" y="2159"/>
                  </a:cubicBezTo>
                  <a:cubicBezTo>
                    <a:pt x="277" y="2159"/>
                    <a:pt x="277" y="2159"/>
                    <a:pt x="277" y="2159"/>
                  </a:cubicBezTo>
                  <a:cubicBezTo>
                    <a:pt x="284" y="2152"/>
                    <a:pt x="290" y="2145"/>
                    <a:pt x="297" y="2138"/>
                  </a:cubicBezTo>
                  <a:cubicBezTo>
                    <a:pt x="301" y="2133"/>
                    <a:pt x="305" y="2128"/>
                    <a:pt x="309" y="2122"/>
                  </a:cubicBezTo>
                  <a:cubicBezTo>
                    <a:pt x="309" y="2122"/>
                    <a:pt x="309" y="2122"/>
                    <a:pt x="309" y="2122"/>
                  </a:cubicBezTo>
                  <a:cubicBezTo>
                    <a:pt x="310" y="2122"/>
                    <a:pt x="310" y="2121"/>
                    <a:pt x="310" y="2120"/>
                  </a:cubicBezTo>
                  <a:cubicBezTo>
                    <a:pt x="313" y="2116"/>
                    <a:pt x="316" y="2112"/>
                    <a:pt x="318" y="2107"/>
                  </a:cubicBezTo>
                  <a:cubicBezTo>
                    <a:pt x="320" y="2102"/>
                    <a:pt x="322" y="2097"/>
                    <a:pt x="323" y="2092"/>
                  </a:cubicBezTo>
                  <a:cubicBezTo>
                    <a:pt x="322" y="2090"/>
                    <a:pt x="322" y="2088"/>
                    <a:pt x="322" y="2087"/>
                  </a:cubicBezTo>
                  <a:cubicBezTo>
                    <a:pt x="321" y="2081"/>
                    <a:pt x="322" y="2076"/>
                    <a:pt x="323" y="2071"/>
                  </a:cubicBezTo>
                  <a:cubicBezTo>
                    <a:pt x="322" y="2070"/>
                    <a:pt x="322" y="2069"/>
                    <a:pt x="322" y="2068"/>
                  </a:cubicBezTo>
                  <a:cubicBezTo>
                    <a:pt x="320" y="2055"/>
                    <a:pt x="314" y="2043"/>
                    <a:pt x="307" y="2033"/>
                  </a:cubicBezTo>
                  <a:cubicBezTo>
                    <a:pt x="306" y="2032"/>
                    <a:pt x="305" y="2030"/>
                    <a:pt x="304" y="2029"/>
                  </a:cubicBezTo>
                  <a:cubicBezTo>
                    <a:pt x="302" y="2026"/>
                    <a:pt x="300" y="2022"/>
                    <a:pt x="298" y="2019"/>
                  </a:cubicBezTo>
                  <a:cubicBezTo>
                    <a:pt x="284" y="1999"/>
                    <a:pt x="267" y="1982"/>
                    <a:pt x="250" y="1966"/>
                  </a:cubicBezTo>
                  <a:cubicBezTo>
                    <a:pt x="233" y="1950"/>
                    <a:pt x="216" y="1935"/>
                    <a:pt x="202" y="1917"/>
                  </a:cubicBezTo>
                  <a:cubicBezTo>
                    <a:pt x="188" y="1901"/>
                    <a:pt x="177" y="1881"/>
                    <a:pt x="175" y="1861"/>
                  </a:cubicBezTo>
                  <a:cubicBezTo>
                    <a:pt x="174" y="1852"/>
                    <a:pt x="177" y="1843"/>
                    <a:pt x="181" y="1833"/>
                  </a:cubicBezTo>
                  <a:cubicBezTo>
                    <a:pt x="186" y="1824"/>
                    <a:pt x="192" y="1815"/>
                    <a:pt x="199" y="1806"/>
                  </a:cubicBezTo>
                  <a:cubicBezTo>
                    <a:pt x="213" y="1789"/>
                    <a:pt x="230" y="1773"/>
                    <a:pt x="246" y="1757"/>
                  </a:cubicBezTo>
                  <a:cubicBezTo>
                    <a:pt x="263" y="1741"/>
                    <a:pt x="281" y="1726"/>
                    <a:pt x="297" y="1708"/>
                  </a:cubicBezTo>
                  <a:cubicBezTo>
                    <a:pt x="304" y="1698"/>
                    <a:pt x="312" y="1689"/>
                    <a:pt x="318" y="1677"/>
                  </a:cubicBezTo>
                  <a:cubicBezTo>
                    <a:pt x="320" y="1672"/>
                    <a:pt x="322" y="1667"/>
                    <a:pt x="323" y="1661"/>
                  </a:cubicBezTo>
                  <a:cubicBezTo>
                    <a:pt x="322" y="1660"/>
                    <a:pt x="322" y="1658"/>
                    <a:pt x="322" y="1656"/>
                  </a:cubicBezTo>
                  <a:cubicBezTo>
                    <a:pt x="321" y="1651"/>
                    <a:pt x="322" y="1646"/>
                    <a:pt x="323" y="1640"/>
                  </a:cubicBezTo>
                  <a:cubicBezTo>
                    <a:pt x="322" y="1639"/>
                    <a:pt x="322" y="1638"/>
                    <a:pt x="322" y="1637"/>
                  </a:cubicBezTo>
                  <a:cubicBezTo>
                    <a:pt x="320" y="1625"/>
                    <a:pt x="315" y="1614"/>
                    <a:pt x="308" y="1605"/>
                  </a:cubicBezTo>
                  <a:cubicBezTo>
                    <a:pt x="305" y="1599"/>
                    <a:pt x="302" y="1593"/>
                    <a:pt x="298" y="1588"/>
                  </a:cubicBezTo>
                  <a:cubicBezTo>
                    <a:pt x="284" y="1567"/>
                    <a:pt x="267" y="1551"/>
                    <a:pt x="250" y="1535"/>
                  </a:cubicBezTo>
                  <a:cubicBezTo>
                    <a:pt x="233" y="1519"/>
                    <a:pt x="216" y="1503"/>
                    <a:pt x="202" y="1486"/>
                  </a:cubicBezTo>
                  <a:cubicBezTo>
                    <a:pt x="188" y="1469"/>
                    <a:pt x="177" y="1450"/>
                    <a:pt x="175" y="1430"/>
                  </a:cubicBezTo>
                  <a:cubicBezTo>
                    <a:pt x="174" y="1421"/>
                    <a:pt x="177" y="1411"/>
                    <a:pt x="181" y="1402"/>
                  </a:cubicBezTo>
                  <a:cubicBezTo>
                    <a:pt x="186" y="1392"/>
                    <a:pt x="192" y="1383"/>
                    <a:pt x="199" y="1375"/>
                  </a:cubicBezTo>
                  <a:cubicBezTo>
                    <a:pt x="213" y="1357"/>
                    <a:pt x="230" y="1342"/>
                    <a:pt x="246" y="1326"/>
                  </a:cubicBezTo>
                  <a:cubicBezTo>
                    <a:pt x="263" y="1310"/>
                    <a:pt x="281" y="1294"/>
                    <a:pt x="297" y="1276"/>
                  </a:cubicBezTo>
                  <a:cubicBezTo>
                    <a:pt x="301" y="1271"/>
                    <a:pt x="305" y="1266"/>
                    <a:pt x="308" y="1261"/>
                  </a:cubicBezTo>
                  <a:cubicBezTo>
                    <a:pt x="309" y="1261"/>
                    <a:pt x="309" y="1261"/>
                    <a:pt x="309" y="1261"/>
                  </a:cubicBezTo>
                  <a:cubicBezTo>
                    <a:pt x="310" y="1259"/>
                    <a:pt x="311" y="1258"/>
                    <a:pt x="312" y="1256"/>
                  </a:cubicBezTo>
                  <a:cubicBezTo>
                    <a:pt x="314" y="1252"/>
                    <a:pt x="316" y="1249"/>
                    <a:pt x="318" y="1245"/>
                  </a:cubicBezTo>
                  <a:cubicBezTo>
                    <a:pt x="320" y="1240"/>
                    <a:pt x="322" y="1235"/>
                    <a:pt x="323" y="1230"/>
                  </a:cubicBezTo>
                  <a:cubicBezTo>
                    <a:pt x="322" y="1228"/>
                    <a:pt x="322" y="1226"/>
                    <a:pt x="322" y="1225"/>
                  </a:cubicBezTo>
                  <a:cubicBezTo>
                    <a:pt x="321" y="1219"/>
                    <a:pt x="322" y="1214"/>
                    <a:pt x="323" y="1209"/>
                  </a:cubicBezTo>
                  <a:cubicBezTo>
                    <a:pt x="322" y="1208"/>
                    <a:pt x="322" y="1207"/>
                    <a:pt x="322" y="1206"/>
                  </a:cubicBezTo>
                  <a:cubicBezTo>
                    <a:pt x="320" y="1193"/>
                    <a:pt x="314" y="1181"/>
                    <a:pt x="307" y="1171"/>
                  </a:cubicBezTo>
                  <a:cubicBezTo>
                    <a:pt x="305" y="1168"/>
                    <a:pt x="302" y="1164"/>
                    <a:pt x="300" y="1161"/>
                  </a:cubicBezTo>
                  <a:cubicBezTo>
                    <a:pt x="299" y="1160"/>
                    <a:pt x="299" y="1159"/>
                    <a:pt x="298" y="1158"/>
                  </a:cubicBezTo>
                  <a:cubicBezTo>
                    <a:pt x="284" y="1138"/>
                    <a:pt x="267" y="1122"/>
                    <a:pt x="250" y="1105"/>
                  </a:cubicBezTo>
                  <a:cubicBezTo>
                    <a:pt x="233" y="1089"/>
                    <a:pt x="216" y="1074"/>
                    <a:pt x="202" y="1057"/>
                  </a:cubicBezTo>
                  <a:cubicBezTo>
                    <a:pt x="188" y="1040"/>
                    <a:pt x="177" y="1020"/>
                    <a:pt x="175" y="1000"/>
                  </a:cubicBezTo>
                  <a:cubicBezTo>
                    <a:pt x="174" y="991"/>
                    <a:pt x="177" y="982"/>
                    <a:pt x="181" y="972"/>
                  </a:cubicBezTo>
                  <a:cubicBezTo>
                    <a:pt x="186" y="963"/>
                    <a:pt x="192" y="954"/>
                    <a:pt x="199" y="945"/>
                  </a:cubicBezTo>
                  <a:cubicBezTo>
                    <a:pt x="213" y="928"/>
                    <a:pt x="230" y="912"/>
                    <a:pt x="246" y="896"/>
                  </a:cubicBezTo>
                  <a:cubicBezTo>
                    <a:pt x="263" y="880"/>
                    <a:pt x="281" y="865"/>
                    <a:pt x="297" y="847"/>
                  </a:cubicBezTo>
                  <a:cubicBezTo>
                    <a:pt x="304" y="837"/>
                    <a:pt x="312" y="828"/>
                    <a:pt x="318" y="816"/>
                  </a:cubicBezTo>
                  <a:cubicBezTo>
                    <a:pt x="320" y="811"/>
                    <a:pt x="322" y="806"/>
                    <a:pt x="323" y="800"/>
                  </a:cubicBezTo>
                  <a:cubicBezTo>
                    <a:pt x="322" y="799"/>
                    <a:pt x="322" y="797"/>
                    <a:pt x="322" y="795"/>
                  </a:cubicBezTo>
                  <a:cubicBezTo>
                    <a:pt x="321" y="790"/>
                    <a:pt x="322" y="785"/>
                    <a:pt x="323" y="779"/>
                  </a:cubicBezTo>
                  <a:cubicBezTo>
                    <a:pt x="322" y="778"/>
                    <a:pt x="322" y="777"/>
                    <a:pt x="322" y="776"/>
                  </a:cubicBezTo>
                  <a:cubicBezTo>
                    <a:pt x="320" y="766"/>
                    <a:pt x="316" y="756"/>
                    <a:pt x="311" y="748"/>
                  </a:cubicBezTo>
                  <a:cubicBezTo>
                    <a:pt x="307" y="740"/>
                    <a:pt x="303" y="732"/>
                    <a:pt x="298" y="726"/>
                  </a:cubicBezTo>
                  <a:cubicBezTo>
                    <a:pt x="284" y="705"/>
                    <a:pt x="267" y="689"/>
                    <a:pt x="250" y="673"/>
                  </a:cubicBezTo>
                  <a:cubicBezTo>
                    <a:pt x="233" y="656"/>
                    <a:pt x="216" y="641"/>
                    <a:pt x="202" y="624"/>
                  </a:cubicBezTo>
                  <a:cubicBezTo>
                    <a:pt x="188" y="607"/>
                    <a:pt x="177" y="588"/>
                    <a:pt x="175" y="568"/>
                  </a:cubicBezTo>
                  <a:cubicBezTo>
                    <a:pt x="174" y="558"/>
                    <a:pt x="177" y="549"/>
                    <a:pt x="181" y="540"/>
                  </a:cubicBezTo>
                  <a:cubicBezTo>
                    <a:pt x="186" y="530"/>
                    <a:pt x="192" y="521"/>
                    <a:pt x="199" y="513"/>
                  </a:cubicBezTo>
                  <a:cubicBezTo>
                    <a:pt x="213" y="495"/>
                    <a:pt x="230" y="480"/>
                    <a:pt x="246" y="464"/>
                  </a:cubicBezTo>
                  <a:cubicBezTo>
                    <a:pt x="263" y="448"/>
                    <a:pt x="281" y="432"/>
                    <a:pt x="297" y="414"/>
                  </a:cubicBezTo>
                  <a:cubicBezTo>
                    <a:pt x="304" y="405"/>
                    <a:pt x="312" y="395"/>
                    <a:pt x="318" y="383"/>
                  </a:cubicBezTo>
                  <a:cubicBezTo>
                    <a:pt x="320" y="378"/>
                    <a:pt x="322" y="373"/>
                    <a:pt x="323" y="367"/>
                  </a:cubicBezTo>
                  <a:cubicBezTo>
                    <a:pt x="322" y="366"/>
                    <a:pt x="322" y="364"/>
                    <a:pt x="322" y="363"/>
                  </a:cubicBezTo>
                  <a:cubicBezTo>
                    <a:pt x="321" y="357"/>
                    <a:pt x="322" y="352"/>
                    <a:pt x="323" y="347"/>
                  </a:cubicBezTo>
                  <a:cubicBezTo>
                    <a:pt x="322" y="346"/>
                    <a:pt x="322" y="345"/>
                    <a:pt x="322" y="344"/>
                  </a:cubicBezTo>
                  <a:cubicBezTo>
                    <a:pt x="320" y="333"/>
                    <a:pt x="316" y="324"/>
                    <a:pt x="311" y="315"/>
                  </a:cubicBezTo>
                  <a:cubicBezTo>
                    <a:pt x="307" y="307"/>
                    <a:pt x="303" y="300"/>
                    <a:pt x="298" y="293"/>
                  </a:cubicBezTo>
                  <a:cubicBezTo>
                    <a:pt x="284" y="273"/>
                    <a:pt x="267" y="256"/>
                    <a:pt x="250" y="240"/>
                  </a:cubicBezTo>
                  <a:cubicBezTo>
                    <a:pt x="233" y="224"/>
                    <a:pt x="216" y="208"/>
                    <a:pt x="202" y="191"/>
                  </a:cubicBezTo>
                  <a:cubicBezTo>
                    <a:pt x="188" y="174"/>
                    <a:pt x="177" y="155"/>
                    <a:pt x="175" y="135"/>
                  </a:cubicBezTo>
                  <a:cubicBezTo>
                    <a:pt x="174" y="126"/>
                    <a:pt x="177" y="116"/>
                    <a:pt x="181" y="107"/>
                  </a:cubicBezTo>
                  <a:cubicBezTo>
                    <a:pt x="186" y="97"/>
                    <a:pt x="192" y="88"/>
                    <a:pt x="199" y="80"/>
                  </a:cubicBezTo>
                  <a:cubicBezTo>
                    <a:pt x="213" y="63"/>
                    <a:pt x="230" y="47"/>
                    <a:pt x="246" y="31"/>
                  </a:cubicBezTo>
                  <a:cubicBezTo>
                    <a:pt x="257" y="21"/>
                    <a:pt x="268" y="10"/>
                    <a:pt x="279" y="0"/>
                  </a:cubicBezTo>
                  <a:cubicBezTo>
                    <a:pt x="263" y="0"/>
                    <a:pt x="263" y="0"/>
                    <a:pt x="263" y="0"/>
                  </a:cubicBezTo>
                  <a:cubicBezTo>
                    <a:pt x="255" y="7"/>
                    <a:pt x="247" y="15"/>
                    <a:pt x="239" y="23"/>
                  </a:cubicBezTo>
                  <a:cubicBezTo>
                    <a:pt x="222" y="39"/>
                    <a:pt x="205" y="54"/>
                    <a:pt x="190" y="72"/>
                  </a:cubicBezTo>
                  <a:cubicBezTo>
                    <a:pt x="182" y="81"/>
                    <a:pt x="176" y="91"/>
                    <a:pt x="170" y="102"/>
                  </a:cubicBezTo>
                  <a:cubicBezTo>
                    <a:pt x="166" y="110"/>
                    <a:pt x="163" y="120"/>
                    <a:pt x="163" y="130"/>
                  </a:cubicBezTo>
                  <a:cubicBezTo>
                    <a:pt x="163" y="125"/>
                    <a:pt x="162" y="121"/>
                    <a:pt x="161" y="116"/>
                  </a:cubicBezTo>
                  <a:cubicBezTo>
                    <a:pt x="160" y="109"/>
                    <a:pt x="157" y="103"/>
                    <a:pt x="154" y="97"/>
                  </a:cubicBezTo>
                  <a:cubicBezTo>
                    <a:pt x="149" y="86"/>
                    <a:pt x="141" y="76"/>
                    <a:pt x="134" y="66"/>
                  </a:cubicBezTo>
                  <a:cubicBezTo>
                    <a:pt x="118" y="48"/>
                    <a:pt x="101" y="32"/>
                    <a:pt x="83" y="16"/>
                  </a:cubicBezTo>
                  <a:cubicBezTo>
                    <a:pt x="78" y="11"/>
                    <a:pt x="72" y="5"/>
                    <a:pt x="66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8" y="8"/>
                    <a:pt x="67" y="16"/>
                    <a:pt x="76" y="24"/>
                  </a:cubicBezTo>
                  <a:cubicBezTo>
                    <a:pt x="93" y="40"/>
                    <a:pt x="110" y="56"/>
                    <a:pt x="125" y="74"/>
                  </a:cubicBezTo>
                  <a:close/>
                  <a:moveTo>
                    <a:pt x="193" y="1493"/>
                  </a:moveTo>
                  <a:cubicBezTo>
                    <a:pt x="200" y="1502"/>
                    <a:pt x="208" y="1510"/>
                    <a:pt x="216" y="1517"/>
                  </a:cubicBezTo>
                  <a:cubicBezTo>
                    <a:pt x="220" y="1522"/>
                    <a:pt x="225" y="1526"/>
                    <a:pt x="229" y="1531"/>
                  </a:cubicBezTo>
                  <a:cubicBezTo>
                    <a:pt x="245" y="1547"/>
                    <a:pt x="263" y="1563"/>
                    <a:pt x="278" y="1580"/>
                  </a:cubicBezTo>
                  <a:cubicBezTo>
                    <a:pt x="280" y="1582"/>
                    <a:pt x="282" y="1584"/>
                    <a:pt x="284" y="1586"/>
                  </a:cubicBezTo>
                  <a:cubicBezTo>
                    <a:pt x="286" y="1589"/>
                    <a:pt x="288" y="1591"/>
                    <a:pt x="290" y="1594"/>
                  </a:cubicBezTo>
                  <a:cubicBezTo>
                    <a:pt x="296" y="1603"/>
                    <a:pt x="302" y="1613"/>
                    <a:pt x="306" y="1624"/>
                  </a:cubicBezTo>
                  <a:cubicBezTo>
                    <a:pt x="309" y="1635"/>
                    <a:pt x="311" y="1647"/>
                    <a:pt x="310" y="1658"/>
                  </a:cubicBezTo>
                  <a:cubicBezTo>
                    <a:pt x="309" y="1666"/>
                    <a:pt x="307" y="1673"/>
                    <a:pt x="304" y="1680"/>
                  </a:cubicBezTo>
                  <a:cubicBezTo>
                    <a:pt x="300" y="1687"/>
                    <a:pt x="294" y="1694"/>
                    <a:pt x="289" y="1701"/>
                  </a:cubicBezTo>
                  <a:cubicBezTo>
                    <a:pt x="273" y="1718"/>
                    <a:pt x="256" y="1733"/>
                    <a:pt x="239" y="1749"/>
                  </a:cubicBezTo>
                  <a:cubicBezTo>
                    <a:pt x="222" y="1765"/>
                    <a:pt x="205" y="1781"/>
                    <a:pt x="190" y="1799"/>
                  </a:cubicBezTo>
                  <a:cubicBezTo>
                    <a:pt x="182" y="1808"/>
                    <a:pt x="176" y="1818"/>
                    <a:pt x="170" y="1828"/>
                  </a:cubicBezTo>
                  <a:cubicBezTo>
                    <a:pt x="166" y="1837"/>
                    <a:pt x="163" y="1847"/>
                    <a:pt x="163" y="1857"/>
                  </a:cubicBezTo>
                  <a:cubicBezTo>
                    <a:pt x="163" y="1852"/>
                    <a:pt x="162" y="1847"/>
                    <a:pt x="161" y="1843"/>
                  </a:cubicBezTo>
                  <a:cubicBezTo>
                    <a:pt x="160" y="1836"/>
                    <a:pt x="157" y="1830"/>
                    <a:pt x="154" y="1824"/>
                  </a:cubicBezTo>
                  <a:cubicBezTo>
                    <a:pt x="149" y="1812"/>
                    <a:pt x="141" y="1802"/>
                    <a:pt x="134" y="1793"/>
                  </a:cubicBezTo>
                  <a:cubicBezTo>
                    <a:pt x="118" y="1774"/>
                    <a:pt x="101" y="1758"/>
                    <a:pt x="83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7" y="1671"/>
                  </a:cubicBezTo>
                  <a:cubicBezTo>
                    <a:pt x="15" y="1667"/>
                    <a:pt x="15" y="1662"/>
                    <a:pt x="14" y="1658"/>
                  </a:cubicBezTo>
                  <a:cubicBezTo>
                    <a:pt x="13" y="1637"/>
                    <a:pt x="21" y="1616"/>
                    <a:pt x="34" y="1599"/>
                  </a:cubicBezTo>
                  <a:cubicBezTo>
                    <a:pt x="47" y="1581"/>
                    <a:pt x="63" y="1565"/>
                    <a:pt x="80" y="1549"/>
                  </a:cubicBezTo>
                  <a:cubicBezTo>
                    <a:pt x="97" y="1534"/>
                    <a:pt x="115" y="1518"/>
                    <a:pt x="130" y="1499"/>
                  </a:cubicBezTo>
                  <a:cubicBezTo>
                    <a:pt x="138" y="1490"/>
                    <a:pt x="146" y="1480"/>
                    <a:pt x="151" y="1469"/>
                  </a:cubicBezTo>
                  <a:cubicBezTo>
                    <a:pt x="157" y="1458"/>
                    <a:pt x="162" y="1445"/>
                    <a:pt x="163" y="1432"/>
                  </a:cubicBezTo>
                  <a:cubicBezTo>
                    <a:pt x="163" y="1430"/>
                    <a:pt x="163" y="1429"/>
                    <a:pt x="163" y="1427"/>
                  </a:cubicBezTo>
                  <a:cubicBezTo>
                    <a:pt x="163" y="1428"/>
                    <a:pt x="163" y="1430"/>
                    <a:pt x="163" y="1431"/>
                  </a:cubicBezTo>
                  <a:cubicBezTo>
                    <a:pt x="164" y="1443"/>
                    <a:pt x="168" y="1454"/>
                    <a:pt x="173" y="1464"/>
                  </a:cubicBezTo>
                  <a:cubicBezTo>
                    <a:pt x="179" y="1475"/>
                    <a:pt x="186" y="1484"/>
                    <a:pt x="193" y="1493"/>
                  </a:cubicBezTo>
                  <a:close/>
                  <a:moveTo>
                    <a:pt x="193" y="1064"/>
                  </a:moveTo>
                  <a:cubicBezTo>
                    <a:pt x="208" y="1082"/>
                    <a:pt x="226" y="1098"/>
                    <a:pt x="242" y="1113"/>
                  </a:cubicBezTo>
                  <a:cubicBezTo>
                    <a:pt x="259" y="1129"/>
                    <a:pt x="276" y="1146"/>
                    <a:pt x="290" y="1164"/>
                  </a:cubicBezTo>
                  <a:cubicBezTo>
                    <a:pt x="296" y="1174"/>
                    <a:pt x="302" y="1184"/>
                    <a:pt x="306" y="1195"/>
                  </a:cubicBezTo>
                  <a:cubicBezTo>
                    <a:pt x="309" y="1206"/>
                    <a:pt x="311" y="1218"/>
                    <a:pt x="310" y="1229"/>
                  </a:cubicBezTo>
                  <a:cubicBezTo>
                    <a:pt x="309" y="1234"/>
                    <a:pt x="308" y="1239"/>
                    <a:pt x="307" y="1244"/>
                  </a:cubicBezTo>
                  <a:cubicBezTo>
                    <a:pt x="302" y="1253"/>
                    <a:pt x="295" y="1261"/>
                    <a:pt x="289" y="1269"/>
                  </a:cubicBezTo>
                  <a:cubicBezTo>
                    <a:pt x="273" y="1286"/>
                    <a:pt x="256" y="1302"/>
                    <a:pt x="239" y="1318"/>
                  </a:cubicBezTo>
                  <a:cubicBezTo>
                    <a:pt x="222" y="1333"/>
                    <a:pt x="205" y="1349"/>
                    <a:pt x="190" y="1367"/>
                  </a:cubicBezTo>
                  <a:cubicBezTo>
                    <a:pt x="182" y="1376"/>
                    <a:pt x="176" y="1386"/>
                    <a:pt x="170" y="1396"/>
                  </a:cubicBezTo>
                  <a:cubicBezTo>
                    <a:pt x="166" y="1405"/>
                    <a:pt x="163" y="1415"/>
                    <a:pt x="163" y="1425"/>
                  </a:cubicBezTo>
                  <a:cubicBezTo>
                    <a:pt x="163" y="1420"/>
                    <a:pt x="162" y="1415"/>
                    <a:pt x="161" y="1411"/>
                  </a:cubicBezTo>
                  <a:cubicBezTo>
                    <a:pt x="160" y="1404"/>
                    <a:pt x="157" y="1398"/>
                    <a:pt x="154" y="1392"/>
                  </a:cubicBezTo>
                  <a:cubicBezTo>
                    <a:pt x="149" y="1381"/>
                    <a:pt x="141" y="1371"/>
                    <a:pt x="134" y="1361"/>
                  </a:cubicBezTo>
                  <a:cubicBezTo>
                    <a:pt x="118" y="1343"/>
                    <a:pt x="101" y="1327"/>
                    <a:pt x="83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7" y="1255"/>
                    <a:pt x="20" y="1247"/>
                    <a:pt x="16" y="1238"/>
                  </a:cubicBezTo>
                  <a:cubicBezTo>
                    <a:pt x="15" y="1235"/>
                    <a:pt x="15" y="1232"/>
                    <a:pt x="14" y="1228"/>
                  </a:cubicBezTo>
                  <a:cubicBezTo>
                    <a:pt x="13" y="1207"/>
                    <a:pt x="21" y="1187"/>
                    <a:pt x="34" y="1169"/>
                  </a:cubicBezTo>
                  <a:cubicBezTo>
                    <a:pt x="47" y="1152"/>
                    <a:pt x="63" y="1136"/>
                    <a:pt x="80" y="1120"/>
                  </a:cubicBezTo>
                  <a:cubicBezTo>
                    <a:pt x="97" y="1104"/>
                    <a:pt x="115" y="1089"/>
                    <a:pt x="130" y="1070"/>
                  </a:cubicBezTo>
                  <a:cubicBezTo>
                    <a:pt x="138" y="1061"/>
                    <a:pt x="146" y="1051"/>
                    <a:pt x="151" y="1039"/>
                  </a:cubicBezTo>
                  <a:cubicBezTo>
                    <a:pt x="157" y="1028"/>
                    <a:pt x="162" y="1016"/>
                    <a:pt x="163" y="1002"/>
                  </a:cubicBezTo>
                  <a:cubicBezTo>
                    <a:pt x="163" y="1001"/>
                    <a:pt x="163" y="999"/>
                    <a:pt x="163" y="998"/>
                  </a:cubicBezTo>
                  <a:cubicBezTo>
                    <a:pt x="163" y="999"/>
                    <a:pt x="163" y="1000"/>
                    <a:pt x="163" y="1001"/>
                  </a:cubicBezTo>
                  <a:cubicBezTo>
                    <a:pt x="164" y="1013"/>
                    <a:pt x="168" y="1025"/>
                    <a:pt x="173" y="1035"/>
                  </a:cubicBezTo>
                  <a:cubicBezTo>
                    <a:pt x="179" y="1046"/>
                    <a:pt x="186" y="1055"/>
                    <a:pt x="193" y="1064"/>
                  </a:cubicBezTo>
                  <a:close/>
                  <a:moveTo>
                    <a:pt x="193" y="631"/>
                  </a:moveTo>
                  <a:cubicBezTo>
                    <a:pt x="196" y="635"/>
                    <a:pt x="199" y="638"/>
                    <a:pt x="203" y="642"/>
                  </a:cubicBezTo>
                  <a:cubicBezTo>
                    <a:pt x="211" y="652"/>
                    <a:pt x="220" y="661"/>
                    <a:pt x="229" y="670"/>
                  </a:cubicBezTo>
                  <a:cubicBezTo>
                    <a:pt x="245" y="686"/>
                    <a:pt x="263" y="702"/>
                    <a:pt x="278" y="719"/>
                  </a:cubicBezTo>
                  <a:cubicBezTo>
                    <a:pt x="283" y="724"/>
                    <a:pt x="288" y="730"/>
                    <a:pt x="292" y="735"/>
                  </a:cubicBezTo>
                  <a:cubicBezTo>
                    <a:pt x="298" y="744"/>
                    <a:pt x="302" y="753"/>
                    <a:pt x="306" y="762"/>
                  </a:cubicBezTo>
                  <a:cubicBezTo>
                    <a:pt x="309" y="773"/>
                    <a:pt x="311" y="785"/>
                    <a:pt x="310" y="796"/>
                  </a:cubicBezTo>
                  <a:cubicBezTo>
                    <a:pt x="309" y="805"/>
                    <a:pt x="307" y="813"/>
                    <a:pt x="303" y="821"/>
                  </a:cubicBezTo>
                  <a:cubicBezTo>
                    <a:pt x="299" y="827"/>
                    <a:pt x="294" y="834"/>
                    <a:pt x="289" y="840"/>
                  </a:cubicBezTo>
                  <a:cubicBezTo>
                    <a:pt x="273" y="857"/>
                    <a:pt x="256" y="872"/>
                    <a:pt x="239" y="888"/>
                  </a:cubicBezTo>
                  <a:cubicBezTo>
                    <a:pt x="222" y="904"/>
                    <a:pt x="205" y="920"/>
                    <a:pt x="190" y="938"/>
                  </a:cubicBezTo>
                  <a:cubicBezTo>
                    <a:pt x="182" y="947"/>
                    <a:pt x="176" y="957"/>
                    <a:pt x="170" y="967"/>
                  </a:cubicBezTo>
                  <a:cubicBezTo>
                    <a:pt x="166" y="976"/>
                    <a:pt x="163" y="986"/>
                    <a:pt x="163" y="996"/>
                  </a:cubicBezTo>
                  <a:cubicBezTo>
                    <a:pt x="163" y="991"/>
                    <a:pt x="162" y="986"/>
                    <a:pt x="161" y="982"/>
                  </a:cubicBezTo>
                  <a:cubicBezTo>
                    <a:pt x="160" y="975"/>
                    <a:pt x="157" y="969"/>
                    <a:pt x="154" y="963"/>
                  </a:cubicBezTo>
                  <a:cubicBezTo>
                    <a:pt x="149" y="951"/>
                    <a:pt x="141" y="941"/>
                    <a:pt x="134" y="932"/>
                  </a:cubicBezTo>
                  <a:cubicBezTo>
                    <a:pt x="118" y="913"/>
                    <a:pt x="101" y="897"/>
                    <a:pt x="83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8" y="827"/>
                    <a:pt x="22" y="819"/>
                    <a:pt x="17" y="811"/>
                  </a:cubicBezTo>
                  <a:cubicBezTo>
                    <a:pt x="16" y="806"/>
                    <a:pt x="15" y="801"/>
                    <a:pt x="14" y="795"/>
                  </a:cubicBezTo>
                  <a:cubicBezTo>
                    <a:pt x="13" y="774"/>
                    <a:pt x="21" y="754"/>
                    <a:pt x="34" y="737"/>
                  </a:cubicBezTo>
                  <a:cubicBezTo>
                    <a:pt x="47" y="719"/>
                    <a:pt x="63" y="703"/>
                    <a:pt x="80" y="687"/>
                  </a:cubicBezTo>
                  <a:cubicBezTo>
                    <a:pt x="97" y="671"/>
                    <a:pt x="115" y="656"/>
                    <a:pt x="130" y="637"/>
                  </a:cubicBezTo>
                  <a:cubicBezTo>
                    <a:pt x="138" y="628"/>
                    <a:pt x="146" y="618"/>
                    <a:pt x="151" y="607"/>
                  </a:cubicBezTo>
                  <a:cubicBezTo>
                    <a:pt x="157" y="595"/>
                    <a:pt x="162" y="583"/>
                    <a:pt x="163" y="570"/>
                  </a:cubicBezTo>
                  <a:cubicBezTo>
                    <a:pt x="163" y="568"/>
                    <a:pt x="163" y="567"/>
                    <a:pt x="163" y="565"/>
                  </a:cubicBezTo>
                  <a:cubicBezTo>
                    <a:pt x="163" y="566"/>
                    <a:pt x="163" y="568"/>
                    <a:pt x="163" y="569"/>
                  </a:cubicBezTo>
                  <a:cubicBezTo>
                    <a:pt x="164" y="580"/>
                    <a:pt x="168" y="592"/>
                    <a:pt x="173" y="602"/>
                  </a:cubicBezTo>
                  <a:cubicBezTo>
                    <a:pt x="179" y="613"/>
                    <a:pt x="186" y="622"/>
                    <a:pt x="193" y="631"/>
                  </a:cubicBezTo>
                  <a:close/>
                  <a:moveTo>
                    <a:pt x="163" y="137"/>
                  </a:moveTo>
                  <a:cubicBezTo>
                    <a:pt x="163" y="135"/>
                    <a:pt x="163" y="134"/>
                    <a:pt x="163" y="132"/>
                  </a:cubicBezTo>
                  <a:cubicBezTo>
                    <a:pt x="163" y="134"/>
                    <a:pt x="163" y="135"/>
                    <a:pt x="163" y="136"/>
                  </a:cubicBezTo>
                  <a:cubicBezTo>
                    <a:pt x="164" y="148"/>
                    <a:pt x="168" y="159"/>
                    <a:pt x="173" y="170"/>
                  </a:cubicBezTo>
                  <a:cubicBezTo>
                    <a:pt x="179" y="180"/>
                    <a:pt x="186" y="190"/>
                    <a:pt x="193" y="198"/>
                  </a:cubicBezTo>
                  <a:cubicBezTo>
                    <a:pt x="196" y="202"/>
                    <a:pt x="199" y="206"/>
                    <a:pt x="203" y="209"/>
                  </a:cubicBezTo>
                  <a:cubicBezTo>
                    <a:pt x="211" y="219"/>
                    <a:pt x="220" y="228"/>
                    <a:pt x="229" y="237"/>
                  </a:cubicBezTo>
                  <a:cubicBezTo>
                    <a:pt x="245" y="254"/>
                    <a:pt x="263" y="269"/>
                    <a:pt x="278" y="286"/>
                  </a:cubicBezTo>
                  <a:cubicBezTo>
                    <a:pt x="283" y="291"/>
                    <a:pt x="288" y="297"/>
                    <a:pt x="292" y="302"/>
                  </a:cubicBezTo>
                  <a:cubicBezTo>
                    <a:pt x="298" y="311"/>
                    <a:pt x="302" y="320"/>
                    <a:pt x="306" y="329"/>
                  </a:cubicBezTo>
                  <a:cubicBezTo>
                    <a:pt x="309" y="340"/>
                    <a:pt x="311" y="352"/>
                    <a:pt x="310" y="363"/>
                  </a:cubicBezTo>
                  <a:cubicBezTo>
                    <a:pt x="309" y="372"/>
                    <a:pt x="307" y="380"/>
                    <a:pt x="303" y="388"/>
                  </a:cubicBezTo>
                  <a:cubicBezTo>
                    <a:pt x="299" y="395"/>
                    <a:pt x="294" y="401"/>
                    <a:pt x="289" y="407"/>
                  </a:cubicBezTo>
                  <a:cubicBezTo>
                    <a:pt x="273" y="424"/>
                    <a:pt x="256" y="440"/>
                    <a:pt x="239" y="455"/>
                  </a:cubicBezTo>
                  <a:cubicBezTo>
                    <a:pt x="222" y="471"/>
                    <a:pt x="205" y="487"/>
                    <a:pt x="190" y="505"/>
                  </a:cubicBezTo>
                  <a:cubicBezTo>
                    <a:pt x="182" y="514"/>
                    <a:pt x="176" y="524"/>
                    <a:pt x="170" y="534"/>
                  </a:cubicBezTo>
                  <a:cubicBezTo>
                    <a:pt x="166" y="543"/>
                    <a:pt x="163" y="553"/>
                    <a:pt x="163" y="563"/>
                  </a:cubicBezTo>
                  <a:cubicBezTo>
                    <a:pt x="163" y="558"/>
                    <a:pt x="162" y="553"/>
                    <a:pt x="161" y="549"/>
                  </a:cubicBezTo>
                  <a:cubicBezTo>
                    <a:pt x="160" y="542"/>
                    <a:pt x="157" y="536"/>
                    <a:pt x="154" y="530"/>
                  </a:cubicBezTo>
                  <a:cubicBezTo>
                    <a:pt x="149" y="519"/>
                    <a:pt x="141" y="509"/>
                    <a:pt x="134" y="499"/>
                  </a:cubicBezTo>
                  <a:cubicBezTo>
                    <a:pt x="118" y="481"/>
                    <a:pt x="101" y="465"/>
                    <a:pt x="83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8" y="394"/>
                    <a:pt x="22" y="386"/>
                    <a:pt x="17" y="379"/>
                  </a:cubicBezTo>
                  <a:cubicBezTo>
                    <a:pt x="16" y="373"/>
                    <a:pt x="15" y="368"/>
                    <a:pt x="14" y="363"/>
                  </a:cubicBezTo>
                  <a:cubicBezTo>
                    <a:pt x="13" y="342"/>
                    <a:pt x="21" y="322"/>
                    <a:pt x="34" y="304"/>
                  </a:cubicBezTo>
                  <a:cubicBezTo>
                    <a:pt x="47" y="286"/>
                    <a:pt x="63" y="270"/>
                    <a:pt x="80" y="254"/>
                  </a:cubicBezTo>
                  <a:cubicBezTo>
                    <a:pt x="97" y="239"/>
                    <a:pt x="115" y="223"/>
                    <a:pt x="130" y="204"/>
                  </a:cubicBezTo>
                  <a:cubicBezTo>
                    <a:pt x="138" y="195"/>
                    <a:pt x="146" y="185"/>
                    <a:pt x="151" y="174"/>
                  </a:cubicBezTo>
                  <a:cubicBezTo>
                    <a:pt x="157" y="163"/>
                    <a:pt x="162" y="150"/>
                    <a:pt x="163" y="137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72" name="Freeform 6"/>
            <p:cNvSpPr/>
            <p:nvPr/>
          </p:nvSpPr>
          <p:spPr>
            <a:xfrm>
              <a:off x="495360" y="-1440"/>
              <a:ext cx="514080" cy="686232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2" h="2159">
                  <a:moveTo>
                    <a:pt x="124" y="74"/>
                  </a:moveTo>
                  <a:cubicBezTo>
                    <a:pt x="132" y="83"/>
                    <a:pt x="139" y="92"/>
                    <a:pt x="144" y="103"/>
                  </a:cubicBezTo>
                  <a:cubicBezTo>
                    <a:pt x="148" y="111"/>
                    <a:pt x="151" y="121"/>
                    <a:pt x="151" y="131"/>
                  </a:cubicBezTo>
                  <a:cubicBezTo>
                    <a:pt x="150" y="131"/>
                    <a:pt x="150" y="131"/>
                    <a:pt x="150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2" y="197"/>
                    <a:pt x="121" y="197"/>
                  </a:cubicBezTo>
                  <a:cubicBezTo>
                    <a:pt x="106" y="215"/>
                    <a:pt x="89" y="230"/>
                    <a:pt x="72" y="246"/>
                  </a:cubicBezTo>
                  <a:cubicBezTo>
                    <a:pt x="55" y="262"/>
                    <a:pt x="38" y="279"/>
                    <a:pt x="25" y="298"/>
                  </a:cubicBezTo>
                  <a:cubicBezTo>
                    <a:pt x="23" y="300"/>
                    <a:pt x="22" y="302"/>
                    <a:pt x="20" y="305"/>
                  </a:cubicBezTo>
                  <a:cubicBezTo>
                    <a:pt x="18" y="307"/>
                    <a:pt x="17" y="310"/>
                    <a:pt x="15" y="313"/>
                  </a:cubicBezTo>
                  <a:cubicBezTo>
                    <a:pt x="9" y="322"/>
                    <a:pt x="4" y="333"/>
                    <a:pt x="2" y="345"/>
                  </a:cubicBezTo>
                  <a:cubicBezTo>
                    <a:pt x="0" y="351"/>
                    <a:pt x="0" y="357"/>
                    <a:pt x="1" y="363"/>
                  </a:cubicBezTo>
                  <a:cubicBezTo>
                    <a:pt x="1" y="369"/>
                    <a:pt x="3" y="374"/>
                    <a:pt x="6" y="379"/>
                  </a:cubicBezTo>
                  <a:cubicBezTo>
                    <a:pt x="8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2" y="404"/>
                    <a:pt x="26" y="408"/>
                  </a:cubicBezTo>
                  <a:cubicBezTo>
                    <a:pt x="41" y="426"/>
                    <a:pt x="59" y="441"/>
                    <a:pt x="76" y="457"/>
                  </a:cubicBezTo>
                  <a:cubicBezTo>
                    <a:pt x="93" y="473"/>
                    <a:pt x="110" y="489"/>
                    <a:pt x="124" y="507"/>
                  </a:cubicBezTo>
                  <a:cubicBezTo>
                    <a:pt x="132" y="516"/>
                    <a:pt x="139" y="525"/>
                    <a:pt x="144" y="535"/>
                  </a:cubicBezTo>
                  <a:cubicBezTo>
                    <a:pt x="148" y="544"/>
                    <a:pt x="151" y="554"/>
                    <a:pt x="151" y="564"/>
                  </a:cubicBezTo>
                  <a:cubicBezTo>
                    <a:pt x="150" y="564"/>
                    <a:pt x="150" y="564"/>
                    <a:pt x="150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5"/>
                    <a:pt x="122" y="629"/>
                  </a:cubicBezTo>
                  <a:cubicBezTo>
                    <a:pt x="122" y="629"/>
                    <a:pt x="122" y="629"/>
                    <a:pt x="121" y="630"/>
                  </a:cubicBezTo>
                  <a:cubicBezTo>
                    <a:pt x="106" y="648"/>
                    <a:pt x="89" y="663"/>
                    <a:pt x="72" y="679"/>
                  </a:cubicBezTo>
                  <a:cubicBezTo>
                    <a:pt x="55" y="695"/>
                    <a:pt x="38" y="711"/>
                    <a:pt x="25" y="730"/>
                  </a:cubicBezTo>
                  <a:cubicBezTo>
                    <a:pt x="23" y="733"/>
                    <a:pt x="22" y="735"/>
                    <a:pt x="20" y="737"/>
                  </a:cubicBezTo>
                  <a:cubicBezTo>
                    <a:pt x="18" y="740"/>
                    <a:pt x="17" y="743"/>
                    <a:pt x="15" y="745"/>
                  </a:cubicBezTo>
                  <a:cubicBezTo>
                    <a:pt x="9" y="755"/>
                    <a:pt x="4" y="766"/>
                    <a:pt x="2" y="778"/>
                  </a:cubicBezTo>
                  <a:cubicBezTo>
                    <a:pt x="0" y="784"/>
                    <a:pt x="0" y="789"/>
                    <a:pt x="1" y="795"/>
                  </a:cubicBezTo>
                  <a:cubicBezTo>
                    <a:pt x="1" y="801"/>
                    <a:pt x="3" y="807"/>
                    <a:pt x="6" y="812"/>
                  </a:cubicBezTo>
                  <a:cubicBezTo>
                    <a:pt x="8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2" y="837"/>
                    <a:pt x="26" y="841"/>
                  </a:cubicBezTo>
                  <a:cubicBezTo>
                    <a:pt x="41" y="858"/>
                    <a:pt x="59" y="874"/>
                    <a:pt x="76" y="890"/>
                  </a:cubicBezTo>
                  <a:cubicBezTo>
                    <a:pt x="93" y="906"/>
                    <a:pt x="110" y="922"/>
                    <a:pt x="124" y="939"/>
                  </a:cubicBezTo>
                  <a:cubicBezTo>
                    <a:pt x="132" y="948"/>
                    <a:pt x="139" y="958"/>
                    <a:pt x="144" y="968"/>
                  </a:cubicBezTo>
                  <a:cubicBezTo>
                    <a:pt x="147" y="976"/>
                    <a:pt x="150" y="984"/>
                    <a:pt x="151" y="993"/>
                  </a:cubicBezTo>
                  <a:cubicBezTo>
                    <a:pt x="150" y="993"/>
                    <a:pt x="150" y="993"/>
                    <a:pt x="150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9" y="1065"/>
                    <a:pt x="103" y="1082"/>
                    <a:pt x="86" y="1098"/>
                  </a:cubicBezTo>
                  <a:cubicBezTo>
                    <a:pt x="70" y="1114"/>
                    <a:pt x="52" y="1130"/>
                    <a:pt x="36" y="1147"/>
                  </a:cubicBezTo>
                  <a:cubicBezTo>
                    <a:pt x="29" y="1156"/>
                    <a:pt x="21" y="1165"/>
                    <a:pt x="15" y="1175"/>
                  </a:cubicBezTo>
                  <a:cubicBezTo>
                    <a:pt x="9" y="1185"/>
                    <a:pt x="4" y="1195"/>
                    <a:pt x="2" y="1207"/>
                  </a:cubicBezTo>
                  <a:cubicBezTo>
                    <a:pt x="0" y="1213"/>
                    <a:pt x="0" y="1219"/>
                    <a:pt x="1" y="1225"/>
                  </a:cubicBezTo>
                  <a:cubicBezTo>
                    <a:pt x="1" y="1231"/>
                    <a:pt x="3" y="1236"/>
                    <a:pt x="6" y="1242"/>
                  </a:cubicBezTo>
                  <a:cubicBezTo>
                    <a:pt x="7" y="1243"/>
                    <a:pt x="7" y="1244"/>
                    <a:pt x="8" y="1245"/>
                  </a:cubicBezTo>
                  <a:cubicBezTo>
                    <a:pt x="10" y="1251"/>
                    <a:pt x="12" y="1256"/>
                    <a:pt x="15" y="1261"/>
                  </a:cubicBezTo>
                  <a:cubicBezTo>
                    <a:pt x="19" y="1261"/>
                    <a:pt x="19" y="1261"/>
                    <a:pt x="19" y="1261"/>
                  </a:cubicBezTo>
                  <a:cubicBezTo>
                    <a:pt x="21" y="1264"/>
                    <a:pt x="23" y="1267"/>
                    <a:pt x="26" y="1270"/>
                  </a:cubicBezTo>
                  <a:cubicBezTo>
                    <a:pt x="41" y="1288"/>
                    <a:pt x="59" y="1303"/>
                    <a:pt x="76" y="1319"/>
                  </a:cubicBezTo>
                  <a:cubicBezTo>
                    <a:pt x="93" y="1335"/>
                    <a:pt x="110" y="1351"/>
                    <a:pt x="124" y="1369"/>
                  </a:cubicBezTo>
                  <a:cubicBezTo>
                    <a:pt x="132" y="1378"/>
                    <a:pt x="139" y="1387"/>
                    <a:pt x="144" y="1398"/>
                  </a:cubicBezTo>
                  <a:cubicBezTo>
                    <a:pt x="148" y="1406"/>
                    <a:pt x="150" y="1415"/>
                    <a:pt x="151" y="1425"/>
                  </a:cubicBezTo>
                  <a:cubicBezTo>
                    <a:pt x="150" y="1425"/>
                    <a:pt x="150" y="1425"/>
                    <a:pt x="150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6" y="1485"/>
                    <a:pt x="120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3" y="1595"/>
                    <a:pt x="19" y="1600"/>
                    <a:pt x="15" y="1606"/>
                  </a:cubicBezTo>
                  <a:cubicBezTo>
                    <a:pt x="9" y="1616"/>
                    <a:pt x="4" y="1627"/>
                    <a:pt x="2" y="1639"/>
                  </a:cubicBezTo>
                  <a:cubicBezTo>
                    <a:pt x="0" y="1644"/>
                    <a:pt x="0" y="1650"/>
                    <a:pt x="1" y="1656"/>
                  </a:cubicBezTo>
                  <a:cubicBezTo>
                    <a:pt x="1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0" y="1681"/>
                  </a:cubicBezTo>
                  <a:cubicBezTo>
                    <a:pt x="12" y="1685"/>
                    <a:pt x="13" y="1688"/>
                    <a:pt x="15" y="1691"/>
                  </a:cubicBezTo>
                  <a:cubicBezTo>
                    <a:pt x="17" y="1691"/>
                    <a:pt x="17" y="1691"/>
                    <a:pt x="17" y="1691"/>
                  </a:cubicBezTo>
                  <a:cubicBezTo>
                    <a:pt x="20" y="1694"/>
                    <a:pt x="23" y="1698"/>
                    <a:pt x="26" y="1702"/>
                  </a:cubicBezTo>
                  <a:cubicBezTo>
                    <a:pt x="41" y="1719"/>
                    <a:pt x="59" y="1735"/>
                    <a:pt x="76" y="1751"/>
                  </a:cubicBezTo>
                  <a:cubicBezTo>
                    <a:pt x="93" y="1767"/>
                    <a:pt x="110" y="1783"/>
                    <a:pt x="124" y="1800"/>
                  </a:cubicBezTo>
                  <a:cubicBezTo>
                    <a:pt x="132" y="1809"/>
                    <a:pt x="139" y="1819"/>
                    <a:pt x="144" y="1829"/>
                  </a:cubicBezTo>
                  <a:cubicBezTo>
                    <a:pt x="147" y="1837"/>
                    <a:pt x="150" y="1846"/>
                    <a:pt x="151" y="1855"/>
                  </a:cubicBezTo>
                  <a:cubicBezTo>
                    <a:pt x="150" y="1855"/>
                    <a:pt x="150" y="1855"/>
                    <a:pt x="150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7" y="1959"/>
                    <a:pt x="80" y="1966"/>
                    <a:pt x="72" y="1973"/>
                  </a:cubicBezTo>
                  <a:cubicBezTo>
                    <a:pt x="61" y="1984"/>
                    <a:pt x="49" y="1995"/>
                    <a:pt x="39" y="2007"/>
                  </a:cubicBezTo>
                  <a:cubicBezTo>
                    <a:pt x="38" y="2008"/>
                    <a:pt x="37" y="2008"/>
                    <a:pt x="36" y="2009"/>
                  </a:cubicBezTo>
                  <a:cubicBezTo>
                    <a:pt x="29" y="2018"/>
                    <a:pt x="21" y="2027"/>
                    <a:pt x="15" y="2037"/>
                  </a:cubicBezTo>
                  <a:cubicBezTo>
                    <a:pt x="9" y="2047"/>
                    <a:pt x="4" y="2057"/>
                    <a:pt x="2" y="2069"/>
                  </a:cubicBezTo>
                  <a:cubicBezTo>
                    <a:pt x="0" y="2075"/>
                    <a:pt x="0" y="2081"/>
                    <a:pt x="1" y="2087"/>
                  </a:cubicBezTo>
                  <a:cubicBezTo>
                    <a:pt x="1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1" y="2114"/>
                    <a:pt x="13" y="2118"/>
                    <a:pt x="15" y="2122"/>
                  </a:cubicBezTo>
                  <a:cubicBezTo>
                    <a:pt x="18" y="2122"/>
                    <a:pt x="18" y="2122"/>
                    <a:pt x="18" y="2122"/>
                  </a:cubicBezTo>
                  <a:cubicBezTo>
                    <a:pt x="20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4" y="2137"/>
                    <a:pt x="34" y="2125"/>
                  </a:cubicBezTo>
                  <a:cubicBezTo>
                    <a:pt x="27" y="2117"/>
                    <a:pt x="21" y="2109"/>
                    <a:pt x="16" y="2101"/>
                  </a:cubicBezTo>
                  <a:cubicBezTo>
                    <a:pt x="15" y="2097"/>
                    <a:pt x="14" y="2093"/>
                    <a:pt x="14" y="2089"/>
                  </a:cubicBezTo>
                  <a:cubicBezTo>
                    <a:pt x="12" y="2068"/>
                    <a:pt x="21" y="2048"/>
                    <a:pt x="34" y="2030"/>
                  </a:cubicBezTo>
                  <a:cubicBezTo>
                    <a:pt x="46" y="2012"/>
                    <a:pt x="63" y="1997"/>
                    <a:pt x="80" y="1981"/>
                  </a:cubicBezTo>
                  <a:cubicBezTo>
                    <a:pt x="97" y="1965"/>
                    <a:pt x="114" y="1949"/>
                    <a:pt x="130" y="1931"/>
                  </a:cubicBezTo>
                  <a:cubicBezTo>
                    <a:pt x="138" y="1922"/>
                    <a:pt x="145" y="1912"/>
                    <a:pt x="151" y="1900"/>
                  </a:cubicBezTo>
                  <a:cubicBezTo>
                    <a:pt x="156" y="1891"/>
                    <a:pt x="160" y="1881"/>
                    <a:pt x="162" y="1870"/>
                  </a:cubicBezTo>
                  <a:cubicBezTo>
                    <a:pt x="161" y="1867"/>
                    <a:pt x="161" y="1865"/>
                    <a:pt x="161" y="1862"/>
                  </a:cubicBezTo>
                  <a:cubicBezTo>
                    <a:pt x="160" y="1857"/>
                    <a:pt x="161" y="1852"/>
                    <a:pt x="162" y="1846"/>
                  </a:cubicBezTo>
                  <a:cubicBezTo>
                    <a:pt x="162" y="1845"/>
                    <a:pt x="161" y="1844"/>
                    <a:pt x="161" y="1843"/>
                  </a:cubicBezTo>
                  <a:cubicBezTo>
                    <a:pt x="160" y="1836"/>
                    <a:pt x="157" y="1830"/>
                    <a:pt x="154" y="1824"/>
                  </a:cubicBezTo>
                  <a:cubicBezTo>
                    <a:pt x="149" y="1812"/>
                    <a:pt x="141" y="1802"/>
                    <a:pt x="133" y="1793"/>
                  </a:cubicBezTo>
                  <a:cubicBezTo>
                    <a:pt x="118" y="1774"/>
                    <a:pt x="100" y="1758"/>
                    <a:pt x="83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7" y="1671"/>
                  </a:cubicBezTo>
                  <a:cubicBezTo>
                    <a:pt x="15" y="1667"/>
                    <a:pt x="14" y="1662"/>
                    <a:pt x="14" y="1658"/>
                  </a:cubicBezTo>
                  <a:cubicBezTo>
                    <a:pt x="12" y="1637"/>
                    <a:pt x="21" y="1616"/>
                    <a:pt x="34" y="1599"/>
                  </a:cubicBezTo>
                  <a:cubicBezTo>
                    <a:pt x="46" y="1581"/>
                    <a:pt x="63" y="1565"/>
                    <a:pt x="80" y="1549"/>
                  </a:cubicBezTo>
                  <a:cubicBezTo>
                    <a:pt x="97" y="1534"/>
                    <a:pt x="114" y="1518"/>
                    <a:pt x="130" y="1499"/>
                  </a:cubicBezTo>
                  <a:cubicBezTo>
                    <a:pt x="138" y="1490"/>
                    <a:pt x="145" y="1480"/>
                    <a:pt x="151" y="1469"/>
                  </a:cubicBezTo>
                  <a:cubicBezTo>
                    <a:pt x="156" y="1459"/>
                    <a:pt x="160" y="1449"/>
                    <a:pt x="162" y="1438"/>
                  </a:cubicBezTo>
                  <a:cubicBezTo>
                    <a:pt x="161" y="1436"/>
                    <a:pt x="161" y="1433"/>
                    <a:pt x="161" y="1431"/>
                  </a:cubicBezTo>
                  <a:cubicBezTo>
                    <a:pt x="160" y="1425"/>
                    <a:pt x="161" y="1420"/>
                    <a:pt x="162" y="1415"/>
                  </a:cubicBezTo>
                  <a:cubicBezTo>
                    <a:pt x="162" y="1413"/>
                    <a:pt x="161" y="1412"/>
                    <a:pt x="161" y="1411"/>
                  </a:cubicBezTo>
                  <a:cubicBezTo>
                    <a:pt x="160" y="1404"/>
                    <a:pt x="157" y="1398"/>
                    <a:pt x="154" y="1392"/>
                  </a:cubicBezTo>
                  <a:cubicBezTo>
                    <a:pt x="149" y="1381"/>
                    <a:pt x="141" y="1371"/>
                    <a:pt x="133" y="1361"/>
                  </a:cubicBezTo>
                  <a:cubicBezTo>
                    <a:pt x="118" y="1343"/>
                    <a:pt x="100" y="1327"/>
                    <a:pt x="83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7" y="1255"/>
                    <a:pt x="20" y="1247"/>
                    <a:pt x="16" y="1238"/>
                  </a:cubicBezTo>
                  <a:cubicBezTo>
                    <a:pt x="15" y="1235"/>
                    <a:pt x="14" y="1232"/>
                    <a:pt x="14" y="1228"/>
                  </a:cubicBezTo>
                  <a:cubicBezTo>
                    <a:pt x="12" y="1207"/>
                    <a:pt x="21" y="1187"/>
                    <a:pt x="34" y="1169"/>
                  </a:cubicBezTo>
                  <a:cubicBezTo>
                    <a:pt x="46" y="1152"/>
                    <a:pt x="63" y="1136"/>
                    <a:pt x="80" y="1120"/>
                  </a:cubicBezTo>
                  <a:cubicBezTo>
                    <a:pt x="97" y="1104"/>
                    <a:pt x="114" y="1089"/>
                    <a:pt x="130" y="1070"/>
                  </a:cubicBezTo>
                  <a:cubicBezTo>
                    <a:pt x="138" y="1061"/>
                    <a:pt x="145" y="1051"/>
                    <a:pt x="151" y="1039"/>
                  </a:cubicBezTo>
                  <a:cubicBezTo>
                    <a:pt x="156" y="1030"/>
                    <a:pt x="160" y="1020"/>
                    <a:pt x="162" y="1009"/>
                  </a:cubicBezTo>
                  <a:cubicBezTo>
                    <a:pt x="161" y="1006"/>
                    <a:pt x="161" y="1004"/>
                    <a:pt x="161" y="1001"/>
                  </a:cubicBezTo>
                  <a:cubicBezTo>
                    <a:pt x="160" y="996"/>
                    <a:pt x="161" y="991"/>
                    <a:pt x="162" y="985"/>
                  </a:cubicBezTo>
                  <a:cubicBezTo>
                    <a:pt x="162" y="984"/>
                    <a:pt x="161" y="983"/>
                    <a:pt x="161" y="982"/>
                  </a:cubicBezTo>
                  <a:cubicBezTo>
                    <a:pt x="160" y="975"/>
                    <a:pt x="157" y="969"/>
                    <a:pt x="154" y="963"/>
                  </a:cubicBezTo>
                  <a:cubicBezTo>
                    <a:pt x="149" y="951"/>
                    <a:pt x="141" y="941"/>
                    <a:pt x="133" y="932"/>
                  </a:cubicBezTo>
                  <a:cubicBezTo>
                    <a:pt x="118" y="913"/>
                    <a:pt x="100" y="897"/>
                    <a:pt x="83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7" y="827"/>
                    <a:pt x="22" y="819"/>
                    <a:pt x="17" y="811"/>
                  </a:cubicBezTo>
                  <a:cubicBezTo>
                    <a:pt x="16" y="806"/>
                    <a:pt x="14" y="801"/>
                    <a:pt x="14" y="795"/>
                  </a:cubicBezTo>
                  <a:cubicBezTo>
                    <a:pt x="12" y="774"/>
                    <a:pt x="21" y="754"/>
                    <a:pt x="34" y="737"/>
                  </a:cubicBezTo>
                  <a:cubicBezTo>
                    <a:pt x="46" y="719"/>
                    <a:pt x="63" y="703"/>
                    <a:pt x="80" y="687"/>
                  </a:cubicBezTo>
                  <a:cubicBezTo>
                    <a:pt x="97" y="671"/>
                    <a:pt x="114" y="656"/>
                    <a:pt x="130" y="637"/>
                  </a:cubicBezTo>
                  <a:cubicBezTo>
                    <a:pt x="138" y="628"/>
                    <a:pt x="145" y="618"/>
                    <a:pt x="151" y="607"/>
                  </a:cubicBezTo>
                  <a:cubicBezTo>
                    <a:pt x="156" y="597"/>
                    <a:pt x="160" y="587"/>
                    <a:pt x="162" y="576"/>
                  </a:cubicBezTo>
                  <a:cubicBezTo>
                    <a:pt x="161" y="573"/>
                    <a:pt x="161" y="571"/>
                    <a:pt x="161" y="569"/>
                  </a:cubicBezTo>
                  <a:cubicBezTo>
                    <a:pt x="160" y="563"/>
                    <a:pt x="161" y="558"/>
                    <a:pt x="162" y="553"/>
                  </a:cubicBezTo>
                  <a:cubicBezTo>
                    <a:pt x="162" y="551"/>
                    <a:pt x="161" y="550"/>
                    <a:pt x="161" y="549"/>
                  </a:cubicBezTo>
                  <a:cubicBezTo>
                    <a:pt x="160" y="542"/>
                    <a:pt x="157" y="536"/>
                    <a:pt x="154" y="530"/>
                  </a:cubicBezTo>
                  <a:cubicBezTo>
                    <a:pt x="149" y="519"/>
                    <a:pt x="141" y="509"/>
                    <a:pt x="133" y="499"/>
                  </a:cubicBezTo>
                  <a:cubicBezTo>
                    <a:pt x="118" y="481"/>
                    <a:pt x="100" y="465"/>
                    <a:pt x="83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7" y="394"/>
                    <a:pt x="22" y="386"/>
                    <a:pt x="17" y="379"/>
                  </a:cubicBezTo>
                  <a:cubicBezTo>
                    <a:pt x="16" y="373"/>
                    <a:pt x="14" y="368"/>
                    <a:pt x="14" y="363"/>
                  </a:cubicBezTo>
                  <a:cubicBezTo>
                    <a:pt x="12" y="342"/>
                    <a:pt x="21" y="322"/>
                    <a:pt x="34" y="304"/>
                  </a:cubicBezTo>
                  <a:cubicBezTo>
                    <a:pt x="46" y="286"/>
                    <a:pt x="63" y="270"/>
                    <a:pt x="80" y="254"/>
                  </a:cubicBezTo>
                  <a:cubicBezTo>
                    <a:pt x="97" y="239"/>
                    <a:pt x="114" y="223"/>
                    <a:pt x="130" y="204"/>
                  </a:cubicBezTo>
                  <a:cubicBezTo>
                    <a:pt x="138" y="195"/>
                    <a:pt x="145" y="185"/>
                    <a:pt x="151" y="174"/>
                  </a:cubicBezTo>
                  <a:cubicBezTo>
                    <a:pt x="156" y="164"/>
                    <a:pt x="160" y="154"/>
                    <a:pt x="162" y="143"/>
                  </a:cubicBezTo>
                  <a:cubicBezTo>
                    <a:pt x="161" y="141"/>
                    <a:pt x="161" y="138"/>
                    <a:pt x="161" y="136"/>
                  </a:cubicBezTo>
                  <a:cubicBezTo>
                    <a:pt x="160" y="130"/>
                    <a:pt x="161" y="125"/>
                    <a:pt x="162" y="120"/>
                  </a:cubicBezTo>
                  <a:cubicBezTo>
                    <a:pt x="162" y="119"/>
                    <a:pt x="161" y="117"/>
                    <a:pt x="161" y="116"/>
                  </a:cubicBezTo>
                  <a:cubicBezTo>
                    <a:pt x="160" y="109"/>
                    <a:pt x="157" y="103"/>
                    <a:pt x="154" y="97"/>
                  </a:cubicBezTo>
                  <a:cubicBezTo>
                    <a:pt x="149" y="86"/>
                    <a:pt x="141" y="76"/>
                    <a:pt x="133" y="66"/>
                  </a:cubicBezTo>
                  <a:cubicBezTo>
                    <a:pt x="118" y="48"/>
                    <a:pt x="100" y="32"/>
                    <a:pt x="83" y="16"/>
                  </a:cubicBezTo>
                  <a:cubicBezTo>
                    <a:pt x="77" y="11"/>
                    <a:pt x="71" y="5"/>
                    <a:pt x="66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8" y="8"/>
                    <a:pt x="67" y="16"/>
                    <a:pt x="76" y="24"/>
                  </a:cubicBezTo>
                  <a:cubicBezTo>
                    <a:pt x="93" y="40"/>
                    <a:pt x="110" y="56"/>
                    <a:pt x="124" y="74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73" name="Freeform 7"/>
            <p:cNvSpPr/>
            <p:nvPr/>
          </p:nvSpPr>
          <p:spPr>
            <a:xfrm>
              <a:off x="4559400" y="-1440"/>
              <a:ext cx="1025280" cy="6862320"/>
            </a:xfrm>
            <a:custGeom>
              <a:avLst/>
              <a:gdLst>
                <a:gd name="textAreaLeft" fmla="*/ 0 w 1025280"/>
                <a:gd name="textAreaRight" fmla="*/ 1025640 w 102528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323" h="2159">
                  <a:moveTo>
                    <a:pt x="124" y="74"/>
                  </a:moveTo>
                  <a:cubicBezTo>
                    <a:pt x="132" y="83"/>
                    <a:pt x="138" y="92"/>
                    <a:pt x="143" y="103"/>
                  </a:cubicBezTo>
                  <a:cubicBezTo>
                    <a:pt x="148" y="111"/>
                    <a:pt x="151" y="121"/>
                    <a:pt x="151" y="131"/>
                  </a:cubicBezTo>
                  <a:cubicBezTo>
                    <a:pt x="150" y="131"/>
                    <a:pt x="150" y="131"/>
                    <a:pt x="150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1" y="197"/>
                    <a:pt x="121" y="197"/>
                  </a:cubicBezTo>
                  <a:cubicBezTo>
                    <a:pt x="106" y="215"/>
                    <a:pt x="89" y="230"/>
                    <a:pt x="72" y="246"/>
                  </a:cubicBezTo>
                  <a:cubicBezTo>
                    <a:pt x="55" y="262"/>
                    <a:pt x="38" y="279"/>
                    <a:pt x="25" y="298"/>
                  </a:cubicBezTo>
                  <a:cubicBezTo>
                    <a:pt x="23" y="300"/>
                    <a:pt x="22" y="302"/>
                    <a:pt x="20" y="305"/>
                  </a:cubicBezTo>
                  <a:cubicBezTo>
                    <a:pt x="18" y="307"/>
                    <a:pt x="17" y="310"/>
                    <a:pt x="15" y="313"/>
                  </a:cubicBezTo>
                  <a:cubicBezTo>
                    <a:pt x="9" y="322"/>
                    <a:pt x="4" y="333"/>
                    <a:pt x="1" y="345"/>
                  </a:cubicBezTo>
                  <a:cubicBezTo>
                    <a:pt x="0" y="351"/>
                    <a:pt x="0" y="357"/>
                    <a:pt x="0" y="363"/>
                  </a:cubicBezTo>
                  <a:cubicBezTo>
                    <a:pt x="1" y="369"/>
                    <a:pt x="3" y="374"/>
                    <a:pt x="6" y="379"/>
                  </a:cubicBezTo>
                  <a:cubicBezTo>
                    <a:pt x="8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2" y="404"/>
                    <a:pt x="26" y="408"/>
                  </a:cubicBezTo>
                  <a:cubicBezTo>
                    <a:pt x="41" y="426"/>
                    <a:pt x="59" y="441"/>
                    <a:pt x="76" y="457"/>
                  </a:cubicBezTo>
                  <a:cubicBezTo>
                    <a:pt x="93" y="473"/>
                    <a:pt x="110" y="489"/>
                    <a:pt x="124" y="507"/>
                  </a:cubicBezTo>
                  <a:cubicBezTo>
                    <a:pt x="132" y="516"/>
                    <a:pt x="138" y="525"/>
                    <a:pt x="143" y="535"/>
                  </a:cubicBezTo>
                  <a:cubicBezTo>
                    <a:pt x="148" y="544"/>
                    <a:pt x="151" y="554"/>
                    <a:pt x="151" y="564"/>
                  </a:cubicBezTo>
                  <a:cubicBezTo>
                    <a:pt x="150" y="564"/>
                    <a:pt x="150" y="564"/>
                    <a:pt x="150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5"/>
                    <a:pt x="122" y="629"/>
                  </a:cubicBezTo>
                  <a:cubicBezTo>
                    <a:pt x="122" y="629"/>
                    <a:pt x="121" y="629"/>
                    <a:pt x="121" y="630"/>
                  </a:cubicBezTo>
                  <a:cubicBezTo>
                    <a:pt x="106" y="648"/>
                    <a:pt x="89" y="663"/>
                    <a:pt x="72" y="679"/>
                  </a:cubicBezTo>
                  <a:cubicBezTo>
                    <a:pt x="55" y="695"/>
                    <a:pt x="38" y="711"/>
                    <a:pt x="25" y="730"/>
                  </a:cubicBezTo>
                  <a:cubicBezTo>
                    <a:pt x="23" y="733"/>
                    <a:pt x="22" y="735"/>
                    <a:pt x="20" y="737"/>
                  </a:cubicBezTo>
                  <a:cubicBezTo>
                    <a:pt x="18" y="740"/>
                    <a:pt x="17" y="743"/>
                    <a:pt x="15" y="745"/>
                  </a:cubicBezTo>
                  <a:cubicBezTo>
                    <a:pt x="9" y="755"/>
                    <a:pt x="4" y="766"/>
                    <a:pt x="1" y="778"/>
                  </a:cubicBezTo>
                  <a:cubicBezTo>
                    <a:pt x="0" y="784"/>
                    <a:pt x="0" y="789"/>
                    <a:pt x="0" y="795"/>
                  </a:cubicBezTo>
                  <a:cubicBezTo>
                    <a:pt x="1" y="801"/>
                    <a:pt x="3" y="807"/>
                    <a:pt x="6" y="812"/>
                  </a:cubicBezTo>
                  <a:cubicBezTo>
                    <a:pt x="8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2" y="837"/>
                    <a:pt x="26" y="841"/>
                  </a:cubicBezTo>
                  <a:cubicBezTo>
                    <a:pt x="41" y="858"/>
                    <a:pt x="59" y="874"/>
                    <a:pt x="76" y="890"/>
                  </a:cubicBezTo>
                  <a:cubicBezTo>
                    <a:pt x="93" y="906"/>
                    <a:pt x="110" y="922"/>
                    <a:pt x="124" y="939"/>
                  </a:cubicBezTo>
                  <a:cubicBezTo>
                    <a:pt x="132" y="948"/>
                    <a:pt x="138" y="958"/>
                    <a:pt x="143" y="968"/>
                  </a:cubicBezTo>
                  <a:cubicBezTo>
                    <a:pt x="147" y="976"/>
                    <a:pt x="150" y="984"/>
                    <a:pt x="150" y="993"/>
                  </a:cubicBezTo>
                  <a:cubicBezTo>
                    <a:pt x="150" y="993"/>
                    <a:pt x="150" y="993"/>
                    <a:pt x="150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8" y="1065"/>
                    <a:pt x="102" y="1082"/>
                    <a:pt x="86" y="1098"/>
                  </a:cubicBezTo>
                  <a:cubicBezTo>
                    <a:pt x="69" y="1114"/>
                    <a:pt x="52" y="1130"/>
                    <a:pt x="36" y="1147"/>
                  </a:cubicBezTo>
                  <a:cubicBezTo>
                    <a:pt x="28" y="1156"/>
                    <a:pt x="21" y="1165"/>
                    <a:pt x="15" y="1175"/>
                  </a:cubicBezTo>
                  <a:cubicBezTo>
                    <a:pt x="9" y="1185"/>
                    <a:pt x="4" y="1195"/>
                    <a:pt x="1" y="1207"/>
                  </a:cubicBezTo>
                  <a:cubicBezTo>
                    <a:pt x="0" y="1213"/>
                    <a:pt x="0" y="1219"/>
                    <a:pt x="0" y="1225"/>
                  </a:cubicBezTo>
                  <a:cubicBezTo>
                    <a:pt x="1" y="1231"/>
                    <a:pt x="3" y="1236"/>
                    <a:pt x="6" y="1242"/>
                  </a:cubicBezTo>
                  <a:cubicBezTo>
                    <a:pt x="6" y="1243"/>
                    <a:pt x="7" y="1244"/>
                    <a:pt x="8" y="1245"/>
                  </a:cubicBezTo>
                  <a:cubicBezTo>
                    <a:pt x="10" y="1251"/>
                    <a:pt x="12" y="1256"/>
                    <a:pt x="15" y="1261"/>
                  </a:cubicBezTo>
                  <a:cubicBezTo>
                    <a:pt x="18" y="1261"/>
                    <a:pt x="18" y="1261"/>
                    <a:pt x="18" y="1261"/>
                  </a:cubicBezTo>
                  <a:cubicBezTo>
                    <a:pt x="21" y="1264"/>
                    <a:pt x="23" y="1267"/>
                    <a:pt x="26" y="1270"/>
                  </a:cubicBezTo>
                  <a:cubicBezTo>
                    <a:pt x="41" y="1288"/>
                    <a:pt x="59" y="1303"/>
                    <a:pt x="76" y="1319"/>
                  </a:cubicBezTo>
                  <a:cubicBezTo>
                    <a:pt x="93" y="1335"/>
                    <a:pt x="110" y="1351"/>
                    <a:pt x="124" y="1369"/>
                  </a:cubicBezTo>
                  <a:cubicBezTo>
                    <a:pt x="132" y="1378"/>
                    <a:pt x="138" y="1387"/>
                    <a:pt x="143" y="1398"/>
                  </a:cubicBezTo>
                  <a:cubicBezTo>
                    <a:pt x="148" y="1406"/>
                    <a:pt x="150" y="1415"/>
                    <a:pt x="151" y="1425"/>
                  </a:cubicBezTo>
                  <a:cubicBezTo>
                    <a:pt x="150" y="1425"/>
                    <a:pt x="150" y="1425"/>
                    <a:pt x="150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5" y="1485"/>
                    <a:pt x="119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3" y="1595"/>
                    <a:pt x="18" y="1600"/>
                    <a:pt x="15" y="1606"/>
                  </a:cubicBezTo>
                  <a:cubicBezTo>
                    <a:pt x="9" y="1616"/>
                    <a:pt x="4" y="1627"/>
                    <a:pt x="1" y="1639"/>
                  </a:cubicBezTo>
                  <a:cubicBezTo>
                    <a:pt x="0" y="1644"/>
                    <a:pt x="0" y="1650"/>
                    <a:pt x="0" y="1656"/>
                  </a:cubicBezTo>
                  <a:cubicBezTo>
                    <a:pt x="1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0" y="1681"/>
                  </a:cubicBezTo>
                  <a:cubicBezTo>
                    <a:pt x="12" y="1685"/>
                    <a:pt x="13" y="1688"/>
                    <a:pt x="15" y="1691"/>
                  </a:cubicBezTo>
                  <a:cubicBezTo>
                    <a:pt x="17" y="1691"/>
                    <a:pt x="17" y="1691"/>
                    <a:pt x="17" y="1691"/>
                  </a:cubicBezTo>
                  <a:cubicBezTo>
                    <a:pt x="20" y="1694"/>
                    <a:pt x="23" y="1698"/>
                    <a:pt x="26" y="1702"/>
                  </a:cubicBezTo>
                  <a:cubicBezTo>
                    <a:pt x="41" y="1719"/>
                    <a:pt x="59" y="1735"/>
                    <a:pt x="76" y="1751"/>
                  </a:cubicBezTo>
                  <a:cubicBezTo>
                    <a:pt x="93" y="1767"/>
                    <a:pt x="110" y="1783"/>
                    <a:pt x="124" y="1800"/>
                  </a:cubicBezTo>
                  <a:cubicBezTo>
                    <a:pt x="132" y="1809"/>
                    <a:pt x="138" y="1819"/>
                    <a:pt x="143" y="1829"/>
                  </a:cubicBezTo>
                  <a:cubicBezTo>
                    <a:pt x="147" y="1837"/>
                    <a:pt x="150" y="1846"/>
                    <a:pt x="151" y="1855"/>
                  </a:cubicBezTo>
                  <a:cubicBezTo>
                    <a:pt x="150" y="1855"/>
                    <a:pt x="150" y="1855"/>
                    <a:pt x="150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7" y="1959"/>
                    <a:pt x="80" y="1966"/>
                    <a:pt x="72" y="1973"/>
                  </a:cubicBezTo>
                  <a:cubicBezTo>
                    <a:pt x="61" y="1984"/>
                    <a:pt x="49" y="1995"/>
                    <a:pt x="39" y="2007"/>
                  </a:cubicBezTo>
                  <a:cubicBezTo>
                    <a:pt x="38" y="2008"/>
                    <a:pt x="37" y="2008"/>
                    <a:pt x="36" y="2009"/>
                  </a:cubicBezTo>
                  <a:cubicBezTo>
                    <a:pt x="28" y="2018"/>
                    <a:pt x="21" y="2027"/>
                    <a:pt x="15" y="2037"/>
                  </a:cubicBezTo>
                  <a:cubicBezTo>
                    <a:pt x="9" y="2047"/>
                    <a:pt x="4" y="2057"/>
                    <a:pt x="1" y="2069"/>
                  </a:cubicBezTo>
                  <a:cubicBezTo>
                    <a:pt x="0" y="2075"/>
                    <a:pt x="0" y="2081"/>
                    <a:pt x="0" y="2087"/>
                  </a:cubicBezTo>
                  <a:cubicBezTo>
                    <a:pt x="1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0" y="2114"/>
                    <a:pt x="12" y="2118"/>
                    <a:pt x="15" y="2122"/>
                  </a:cubicBezTo>
                  <a:cubicBezTo>
                    <a:pt x="18" y="2122"/>
                    <a:pt x="18" y="2122"/>
                    <a:pt x="18" y="2122"/>
                  </a:cubicBezTo>
                  <a:cubicBezTo>
                    <a:pt x="20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4" y="2137"/>
                    <a:pt x="34" y="2125"/>
                  </a:cubicBezTo>
                  <a:cubicBezTo>
                    <a:pt x="27" y="2117"/>
                    <a:pt x="20" y="2109"/>
                    <a:pt x="16" y="2101"/>
                  </a:cubicBezTo>
                  <a:cubicBezTo>
                    <a:pt x="15" y="2097"/>
                    <a:pt x="14" y="2093"/>
                    <a:pt x="14" y="2089"/>
                  </a:cubicBezTo>
                  <a:cubicBezTo>
                    <a:pt x="12" y="2068"/>
                    <a:pt x="21" y="2048"/>
                    <a:pt x="33" y="2030"/>
                  </a:cubicBezTo>
                  <a:cubicBezTo>
                    <a:pt x="46" y="2012"/>
                    <a:pt x="63" y="1997"/>
                    <a:pt x="80" y="1981"/>
                  </a:cubicBezTo>
                  <a:cubicBezTo>
                    <a:pt x="97" y="1965"/>
                    <a:pt x="114" y="1949"/>
                    <a:pt x="130" y="1931"/>
                  </a:cubicBezTo>
                  <a:cubicBezTo>
                    <a:pt x="138" y="1922"/>
                    <a:pt x="145" y="1912"/>
                    <a:pt x="151" y="1900"/>
                  </a:cubicBezTo>
                  <a:cubicBezTo>
                    <a:pt x="157" y="1889"/>
                    <a:pt x="161" y="1877"/>
                    <a:pt x="163" y="1863"/>
                  </a:cubicBezTo>
                  <a:cubicBezTo>
                    <a:pt x="163" y="1862"/>
                    <a:pt x="163" y="1860"/>
                    <a:pt x="163" y="1859"/>
                  </a:cubicBezTo>
                  <a:cubicBezTo>
                    <a:pt x="163" y="1860"/>
                    <a:pt x="163" y="1861"/>
                    <a:pt x="163" y="1862"/>
                  </a:cubicBezTo>
                  <a:cubicBezTo>
                    <a:pt x="164" y="1874"/>
                    <a:pt x="168" y="1886"/>
                    <a:pt x="173" y="1896"/>
                  </a:cubicBezTo>
                  <a:cubicBezTo>
                    <a:pt x="178" y="1907"/>
                    <a:pt x="185" y="1916"/>
                    <a:pt x="193" y="1925"/>
                  </a:cubicBezTo>
                  <a:cubicBezTo>
                    <a:pt x="208" y="1943"/>
                    <a:pt x="225" y="1958"/>
                    <a:pt x="242" y="1974"/>
                  </a:cubicBezTo>
                  <a:cubicBezTo>
                    <a:pt x="242" y="1975"/>
                    <a:pt x="243" y="1975"/>
                    <a:pt x="243" y="1975"/>
                  </a:cubicBezTo>
                  <a:cubicBezTo>
                    <a:pt x="250" y="1982"/>
                    <a:pt x="257" y="1988"/>
                    <a:pt x="263" y="1995"/>
                  </a:cubicBezTo>
                  <a:cubicBezTo>
                    <a:pt x="273" y="2004"/>
                    <a:pt x="282" y="2014"/>
                    <a:pt x="289" y="2025"/>
                  </a:cubicBezTo>
                  <a:cubicBezTo>
                    <a:pt x="296" y="2035"/>
                    <a:pt x="302" y="2045"/>
                    <a:pt x="305" y="2056"/>
                  </a:cubicBezTo>
                  <a:cubicBezTo>
                    <a:pt x="309" y="2067"/>
                    <a:pt x="310" y="2078"/>
                    <a:pt x="309" y="2090"/>
                  </a:cubicBezTo>
                  <a:cubicBezTo>
                    <a:pt x="309" y="2096"/>
                    <a:pt x="307" y="2102"/>
                    <a:pt x="306" y="2108"/>
                  </a:cubicBezTo>
                  <a:cubicBezTo>
                    <a:pt x="301" y="2116"/>
                    <a:pt x="295" y="2124"/>
                    <a:pt x="288" y="2131"/>
                  </a:cubicBezTo>
                  <a:cubicBezTo>
                    <a:pt x="280" y="2141"/>
                    <a:pt x="270" y="2150"/>
                    <a:pt x="261" y="2159"/>
                  </a:cubicBezTo>
                  <a:cubicBezTo>
                    <a:pt x="276" y="2159"/>
                    <a:pt x="276" y="2159"/>
                    <a:pt x="276" y="2159"/>
                  </a:cubicBezTo>
                  <a:cubicBezTo>
                    <a:pt x="283" y="2152"/>
                    <a:pt x="290" y="2145"/>
                    <a:pt x="296" y="2138"/>
                  </a:cubicBezTo>
                  <a:cubicBezTo>
                    <a:pt x="301" y="2133"/>
                    <a:pt x="305" y="2128"/>
                    <a:pt x="309" y="2122"/>
                  </a:cubicBezTo>
                  <a:cubicBezTo>
                    <a:pt x="309" y="2122"/>
                    <a:pt x="309" y="2122"/>
                    <a:pt x="309" y="2122"/>
                  </a:cubicBezTo>
                  <a:cubicBezTo>
                    <a:pt x="309" y="2122"/>
                    <a:pt x="309" y="2121"/>
                    <a:pt x="310" y="2120"/>
                  </a:cubicBezTo>
                  <a:cubicBezTo>
                    <a:pt x="313" y="2116"/>
                    <a:pt x="315" y="2112"/>
                    <a:pt x="317" y="2107"/>
                  </a:cubicBezTo>
                  <a:cubicBezTo>
                    <a:pt x="320" y="2102"/>
                    <a:pt x="322" y="2097"/>
                    <a:pt x="323" y="2092"/>
                  </a:cubicBezTo>
                  <a:cubicBezTo>
                    <a:pt x="322" y="2090"/>
                    <a:pt x="322" y="2088"/>
                    <a:pt x="322" y="2087"/>
                  </a:cubicBezTo>
                  <a:cubicBezTo>
                    <a:pt x="321" y="2081"/>
                    <a:pt x="322" y="2076"/>
                    <a:pt x="322" y="2071"/>
                  </a:cubicBezTo>
                  <a:cubicBezTo>
                    <a:pt x="322" y="2070"/>
                    <a:pt x="322" y="2069"/>
                    <a:pt x="322" y="2068"/>
                  </a:cubicBezTo>
                  <a:cubicBezTo>
                    <a:pt x="319" y="2055"/>
                    <a:pt x="314" y="2043"/>
                    <a:pt x="307" y="2033"/>
                  </a:cubicBezTo>
                  <a:cubicBezTo>
                    <a:pt x="306" y="2032"/>
                    <a:pt x="305" y="2030"/>
                    <a:pt x="304" y="2029"/>
                  </a:cubicBezTo>
                  <a:cubicBezTo>
                    <a:pt x="302" y="2026"/>
                    <a:pt x="300" y="2022"/>
                    <a:pt x="298" y="2019"/>
                  </a:cubicBezTo>
                  <a:cubicBezTo>
                    <a:pt x="284" y="1999"/>
                    <a:pt x="267" y="1982"/>
                    <a:pt x="250" y="1966"/>
                  </a:cubicBezTo>
                  <a:cubicBezTo>
                    <a:pt x="233" y="1950"/>
                    <a:pt x="216" y="1935"/>
                    <a:pt x="202" y="1917"/>
                  </a:cubicBezTo>
                  <a:cubicBezTo>
                    <a:pt x="188" y="1901"/>
                    <a:pt x="177" y="1881"/>
                    <a:pt x="175" y="1861"/>
                  </a:cubicBezTo>
                  <a:cubicBezTo>
                    <a:pt x="174" y="1852"/>
                    <a:pt x="176" y="1843"/>
                    <a:pt x="181" y="1833"/>
                  </a:cubicBezTo>
                  <a:cubicBezTo>
                    <a:pt x="185" y="1824"/>
                    <a:pt x="192" y="1815"/>
                    <a:pt x="199" y="1806"/>
                  </a:cubicBezTo>
                  <a:cubicBezTo>
                    <a:pt x="213" y="1789"/>
                    <a:pt x="229" y="1773"/>
                    <a:pt x="246" y="1757"/>
                  </a:cubicBezTo>
                  <a:cubicBezTo>
                    <a:pt x="263" y="1741"/>
                    <a:pt x="280" y="1726"/>
                    <a:pt x="296" y="1708"/>
                  </a:cubicBezTo>
                  <a:cubicBezTo>
                    <a:pt x="304" y="1698"/>
                    <a:pt x="312" y="1689"/>
                    <a:pt x="317" y="1677"/>
                  </a:cubicBezTo>
                  <a:cubicBezTo>
                    <a:pt x="320" y="1672"/>
                    <a:pt x="322" y="1667"/>
                    <a:pt x="323" y="1661"/>
                  </a:cubicBezTo>
                  <a:cubicBezTo>
                    <a:pt x="322" y="1660"/>
                    <a:pt x="322" y="1658"/>
                    <a:pt x="322" y="1656"/>
                  </a:cubicBezTo>
                  <a:cubicBezTo>
                    <a:pt x="321" y="1651"/>
                    <a:pt x="322" y="1646"/>
                    <a:pt x="322" y="1640"/>
                  </a:cubicBezTo>
                  <a:cubicBezTo>
                    <a:pt x="322" y="1639"/>
                    <a:pt x="322" y="1638"/>
                    <a:pt x="322" y="1637"/>
                  </a:cubicBezTo>
                  <a:cubicBezTo>
                    <a:pt x="319" y="1625"/>
                    <a:pt x="314" y="1614"/>
                    <a:pt x="308" y="1605"/>
                  </a:cubicBezTo>
                  <a:cubicBezTo>
                    <a:pt x="305" y="1599"/>
                    <a:pt x="302" y="1593"/>
                    <a:pt x="298" y="1588"/>
                  </a:cubicBezTo>
                  <a:cubicBezTo>
                    <a:pt x="284" y="1567"/>
                    <a:pt x="267" y="1551"/>
                    <a:pt x="250" y="1535"/>
                  </a:cubicBezTo>
                  <a:cubicBezTo>
                    <a:pt x="233" y="1519"/>
                    <a:pt x="216" y="1503"/>
                    <a:pt x="202" y="1486"/>
                  </a:cubicBezTo>
                  <a:cubicBezTo>
                    <a:pt x="188" y="1469"/>
                    <a:pt x="177" y="1450"/>
                    <a:pt x="175" y="1430"/>
                  </a:cubicBezTo>
                  <a:cubicBezTo>
                    <a:pt x="174" y="1421"/>
                    <a:pt x="176" y="1411"/>
                    <a:pt x="181" y="1402"/>
                  </a:cubicBezTo>
                  <a:cubicBezTo>
                    <a:pt x="185" y="1392"/>
                    <a:pt x="192" y="1383"/>
                    <a:pt x="199" y="1375"/>
                  </a:cubicBezTo>
                  <a:cubicBezTo>
                    <a:pt x="213" y="1357"/>
                    <a:pt x="229" y="1342"/>
                    <a:pt x="246" y="1326"/>
                  </a:cubicBezTo>
                  <a:cubicBezTo>
                    <a:pt x="263" y="1310"/>
                    <a:pt x="280" y="1294"/>
                    <a:pt x="296" y="1276"/>
                  </a:cubicBezTo>
                  <a:cubicBezTo>
                    <a:pt x="300" y="1271"/>
                    <a:pt x="304" y="1266"/>
                    <a:pt x="308" y="1261"/>
                  </a:cubicBezTo>
                  <a:cubicBezTo>
                    <a:pt x="309" y="1261"/>
                    <a:pt x="309" y="1261"/>
                    <a:pt x="309" y="1261"/>
                  </a:cubicBezTo>
                  <a:cubicBezTo>
                    <a:pt x="310" y="1259"/>
                    <a:pt x="311" y="1258"/>
                    <a:pt x="312" y="1256"/>
                  </a:cubicBezTo>
                  <a:cubicBezTo>
                    <a:pt x="314" y="1252"/>
                    <a:pt x="316" y="1249"/>
                    <a:pt x="317" y="1245"/>
                  </a:cubicBezTo>
                  <a:cubicBezTo>
                    <a:pt x="320" y="1240"/>
                    <a:pt x="322" y="1235"/>
                    <a:pt x="323" y="1230"/>
                  </a:cubicBezTo>
                  <a:cubicBezTo>
                    <a:pt x="322" y="1228"/>
                    <a:pt x="322" y="1226"/>
                    <a:pt x="322" y="1225"/>
                  </a:cubicBezTo>
                  <a:cubicBezTo>
                    <a:pt x="321" y="1219"/>
                    <a:pt x="322" y="1214"/>
                    <a:pt x="322" y="1209"/>
                  </a:cubicBezTo>
                  <a:cubicBezTo>
                    <a:pt x="322" y="1208"/>
                    <a:pt x="322" y="1207"/>
                    <a:pt x="322" y="1206"/>
                  </a:cubicBezTo>
                  <a:cubicBezTo>
                    <a:pt x="319" y="1193"/>
                    <a:pt x="314" y="1181"/>
                    <a:pt x="307" y="1171"/>
                  </a:cubicBezTo>
                  <a:cubicBezTo>
                    <a:pt x="305" y="1168"/>
                    <a:pt x="302" y="1164"/>
                    <a:pt x="300" y="1161"/>
                  </a:cubicBezTo>
                  <a:cubicBezTo>
                    <a:pt x="299" y="1160"/>
                    <a:pt x="299" y="1159"/>
                    <a:pt x="298" y="1158"/>
                  </a:cubicBezTo>
                  <a:cubicBezTo>
                    <a:pt x="284" y="1138"/>
                    <a:pt x="267" y="1122"/>
                    <a:pt x="250" y="1105"/>
                  </a:cubicBezTo>
                  <a:cubicBezTo>
                    <a:pt x="233" y="1089"/>
                    <a:pt x="216" y="1074"/>
                    <a:pt x="202" y="1057"/>
                  </a:cubicBezTo>
                  <a:cubicBezTo>
                    <a:pt x="188" y="1040"/>
                    <a:pt x="177" y="1020"/>
                    <a:pt x="175" y="1000"/>
                  </a:cubicBezTo>
                  <a:cubicBezTo>
                    <a:pt x="174" y="991"/>
                    <a:pt x="176" y="982"/>
                    <a:pt x="181" y="972"/>
                  </a:cubicBezTo>
                  <a:cubicBezTo>
                    <a:pt x="185" y="963"/>
                    <a:pt x="192" y="954"/>
                    <a:pt x="199" y="945"/>
                  </a:cubicBezTo>
                  <a:cubicBezTo>
                    <a:pt x="213" y="928"/>
                    <a:pt x="229" y="912"/>
                    <a:pt x="246" y="896"/>
                  </a:cubicBezTo>
                  <a:cubicBezTo>
                    <a:pt x="263" y="880"/>
                    <a:pt x="280" y="865"/>
                    <a:pt x="296" y="847"/>
                  </a:cubicBezTo>
                  <a:cubicBezTo>
                    <a:pt x="304" y="837"/>
                    <a:pt x="312" y="828"/>
                    <a:pt x="317" y="816"/>
                  </a:cubicBezTo>
                  <a:cubicBezTo>
                    <a:pt x="320" y="811"/>
                    <a:pt x="322" y="806"/>
                    <a:pt x="323" y="800"/>
                  </a:cubicBezTo>
                  <a:cubicBezTo>
                    <a:pt x="322" y="799"/>
                    <a:pt x="322" y="797"/>
                    <a:pt x="322" y="795"/>
                  </a:cubicBezTo>
                  <a:cubicBezTo>
                    <a:pt x="321" y="790"/>
                    <a:pt x="322" y="785"/>
                    <a:pt x="322" y="779"/>
                  </a:cubicBezTo>
                  <a:cubicBezTo>
                    <a:pt x="322" y="778"/>
                    <a:pt x="322" y="777"/>
                    <a:pt x="322" y="776"/>
                  </a:cubicBezTo>
                  <a:cubicBezTo>
                    <a:pt x="320" y="766"/>
                    <a:pt x="316" y="756"/>
                    <a:pt x="311" y="748"/>
                  </a:cubicBezTo>
                  <a:cubicBezTo>
                    <a:pt x="307" y="740"/>
                    <a:pt x="303" y="732"/>
                    <a:pt x="298" y="726"/>
                  </a:cubicBezTo>
                  <a:cubicBezTo>
                    <a:pt x="284" y="705"/>
                    <a:pt x="267" y="689"/>
                    <a:pt x="250" y="673"/>
                  </a:cubicBezTo>
                  <a:cubicBezTo>
                    <a:pt x="233" y="656"/>
                    <a:pt x="216" y="641"/>
                    <a:pt x="202" y="624"/>
                  </a:cubicBezTo>
                  <a:cubicBezTo>
                    <a:pt x="188" y="607"/>
                    <a:pt x="177" y="588"/>
                    <a:pt x="175" y="568"/>
                  </a:cubicBezTo>
                  <a:cubicBezTo>
                    <a:pt x="174" y="558"/>
                    <a:pt x="176" y="549"/>
                    <a:pt x="181" y="540"/>
                  </a:cubicBezTo>
                  <a:cubicBezTo>
                    <a:pt x="185" y="530"/>
                    <a:pt x="192" y="521"/>
                    <a:pt x="199" y="513"/>
                  </a:cubicBezTo>
                  <a:cubicBezTo>
                    <a:pt x="213" y="495"/>
                    <a:pt x="229" y="480"/>
                    <a:pt x="246" y="464"/>
                  </a:cubicBezTo>
                  <a:cubicBezTo>
                    <a:pt x="263" y="448"/>
                    <a:pt x="280" y="432"/>
                    <a:pt x="296" y="414"/>
                  </a:cubicBezTo>
                  <a:cubicBezTo>
                    <a:pt x="304" y="405"/>
                    <a:pt x="312" y="395"/>
                    <a:pt x="317" y="383"/>
                  </a:cubicBezTo>
                  <a:cubicBezTo>
                    <a:pt x="320" y="378"/>
                    <a:pt x="322" y="373"/>
                    <a:pt x="323" y="367"/>
                  </a:cubicBezTo>
                  <a:cubicBezTo>
                    <a:pt x="322" y="366"/>
                    <a:pt x="322" y="364"/>
                    <a:pt x="322" y="363"/>
                  </a:cubicBezTo>
                  <a:cubicBezTo>
                    <a:pt x="321" y="357"/>
                    <a:pt x="322" y="352"/>
                    <a:pt x="322" y="347"/>
                  </a:cubicBezTo>
                  <a:cubicBezTo>
                    <a:pt x="322" y="346"/>
                    <a:pt x="322" y="345"/>
                    <a:pt x="322" y="344"/>
                  </a:cubicBezTo>
                  <a:cubicBezTo>
                    <a:pt x="320" y="333"/>
                    <a:pt x="316" y="324"/>
                    <a:pt x="311" y="315"/>
                  </a:cubicBezTo>
                  <a:cubicBezTo>
                    <a:pt x="307" y="307"/>
                    <a:pt x="303" y="300"/>
                    <a:pt x="298" y="293"/>
                  </a:cubicBezTo>
                  <a:cubicBezTo>
                    <a:pt x="284" y="273"/>
                    <a:pt x="267" y="256"/>
                    <a:pt x="250" y="240"/>
                  </a:cubicBezTo>
                  <a:cubicBezTo>
                    <a:pt x="233" y="224"/>
                    <a:pt x="216" y="208"/>
                    <a:pt x="202" y="191"/>
                  </a:cubicBezTo>
                  <a:cubicBezTo>
                    <a:pt x="188" y="174"/>
                    <a:pt x="177" y="155"/>
                    <a:pt x="175" y="135"/>
                  </a:cubicBezTo>
                  <a:cubicBezTo>
                    <a:pt x="174" y="126"/>
                    <a:pt x="176" y="116"/>
                    <a:pt x="181" y="107"/>
                  </a:cubicBezTo>
                  <a:cubicBezTo>
                    <a:pt x="185" y="97"/>
                    <a:pt x="192" y="88"/>
                    <a:pt x="199" y="80"/>
                  </a:cubicBezTo>
                  <a:cubicBezTo>
                    <a:pt x="213" y="63"/>
                    <a:pt x="229" y="47"/>
                    <a:pt x="246" y="31"/>
                  </a:cubicBezTo>
                  <a:cubicBezTo>
                    <a:pt x="257" y="21"/>
                    <a:pt x="268" y="10"/>
                    <a:pt x="279" y="0"/>
                  </a:cubicBezTo>
                  <a:cubicBezTo>
                    <a:pt x="263" y="0"/>
                    <a:pt x="263" y="0"/>
                    <a:pt x="263" y="0"/>
                  </a:cubicBezTo>
                  <a:cubicBezTo>
                    <a:pt x="255" y="7"/>
                    <a:pt x="247" y="15"/>
                    <a:pt x="239" y="23"/>
                  </a:cubicBezTo>
                  <a:cubicBezTo>
                    <a:pt x="222" y="39"/>
                    <a:pt x="205" y="54"/>
                    <a:pt x="190" y="72"/>
                  </a:cubicBezTo>
                  <a:cubicBezTo>
                    <a:pt x="182" y="81"/>
                    <a:pt x="175" y="91"/>
                    <a:pt x="170" y="102"/>
                  </a:cubicBezTo>
                  <a:cubicBezTo>
                    <a:pt x="166" y="110"/>
                    <a:pt x="163" y="120"/>
                    <a:pt x="163" y="130"/>
                  </a:cubicBezTo>
                  <a:cubicBezTo>
                    <a:pt x="163" y="125"/>
                    <a:pt x="162" y="121"/>
                    <a:pt x="161" y="116"/>
                  </a:cubicBezTo>
                  <a:cubicBezTo>
                    <a:pt x="159" y="109"/>
                    <a:pt x="157" y="103"/>
                    <a:pt x="154" y="97"/>
                  </a:cubicBezTo>
                  <a:cubicBezTo>
                    <a:pt x="148" y="86"/>
                    <a:pt x="141" y="76"/>
                    <a:pt x="133" y="66"/>
                  </a:cubicBezTo>
                  <a:cubicBezTo>
                    <a:pt x="118" y="48"/>
                    <a:pt x="100" y="32"/>
                    <a:pt x="83" y="16"/>
                  </a:cubicBezTo>
                  <a:cubicBezTo>
                    <a:pt x="77" y="11"/>
                    <a:pt x="71" y="5"/>
                    <a:pt x="65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8" y="8"/>
                    <a:pt x="67" y="16"/>
                    <a:pt x="76" y="24"/>
                  </a:cubicBezTo>
                  <a:cubicBezTo>
                    <a:pt x="93" y="40"/>
                    <a:pt x="110" y="56"/>
                    <a:pt x="124" y="74"/>
                  </a:cubicBezTo>
                  <a:close/>
                  <a:moveTo>
                    <a:pt x="193" y="1493"/>
                  </a:moveTo>
                  <a:cubicBezTo>
                    <a:pt x="200" y="1502"/>
                    <a:pt x="208" y="1510"/>
                    <a:pt x="216" y="1517"/>
                  </a:cubicBezTo>
                  <a:cubicBezTo>
                    <a:pt x="220" y="1522"/>
                    <a:pt x="224" y="1527"/>
                    <a:pt x="229" y="1531"/>
                  </a:cubicBezTo>
                  <a:cubicBezTo>
                    <a:pt x="245" y="1547"/>
                    <a:pt x="262" y="1563"/>
                    <a:pt x="278" y="1580"/>
                  </a:cubicBezTo>
                  <a:cubicBezTo>
                    <a:pt x="280" y="1582"/>
                    <a:pt x="282" y="1584"/>
                    <a:pt x="283" y="1586"/>
                  </a:cubicBezTo>
                  <a:cubicBezTo>
                    <a:pt x="285" y="1589"/>
                    <a:pt x="287" y="1591"/>
                    <a:pt x="289" y="1594"/>
                  </a:cubicBezTo>
                  <a:cubicBezTo>
                    <a:pt x="296" y="1603"/>
                    <a:pt x="302" y="1613"/>
                    <a:pt x="305" y="1624"/>
                  </a:cubicBezTo>
                  <a:cubicBezTo>
                    <a:pt x="309" y="1635"/>
                    <a:pt x="310" y="1647"/>
                    <a:pt x="309" y="1658"/>
                  </a:cubicBezTo>
                  <a:cubicBezTo>
                    <a:pt x="309" y="1666"/>
                    <a:pt x="307" y="1673"/>
                    <a:pt x="304" y="1680"/>
                  </a:cubicBezTo>
                  <a:cubicBezTo>
                    <a:pt x="300" y="1687"/>
                    <a:pt x="294" y="1694"/>
                    <a:pt x="288" y="1701"/>
                  </a:cubicBezTo>
                  <a:cubicBezTo>
                    <a:pt x="273" y="1718"/>
                    <a:pt x="256" y="1733"/>
                    <a:pt x="239" y="1749"/>
                  </a:cubicBezTo>
                  <a:cubicBezTo>
                    <a:pt x="222" y="1765"/>
                    <a:pt x="205" y="1781"/>
                    <a:pt x="190" y="1799"/>
                  </a:cubicBezTo>
                  <a:cubicBezTo>
                    <a:pt x="182" y="1808"/>
                    <a:pt x="175" y="1818"/>
                    <a:pt x="170" y="1828"/>
                  </a:cubicBezTo>
                  <a:cubicBezTo>
                    <a:pt x="166" y="1837"/>
                    <a:pt x="163" y="1847"/>
                    <a:pt x="163" y="1857"/>
                  </a:cubicBezTo>
                  <a:cubicBezTo>
                    <a:pt x="163" y="1852"/>
                    <a:pt x="162" y="1847"/>
                    <a:pt x="161" y="1843"/>
                  </a:cubicBezTo>
                  <a:cubicBezTo>
                    <a:pt x="159" y="1836"/>
                    <a:pt x="157" y="1830"/>
                    <a:pt x="154" y="1824"/>
                  </a:cubicBezTo>
                  <a:cubicBezTo>
                    <a:pt x="148" y="1812"/>
                    <a:pt x="141" y="1802"/>
                    <a:pt x="133" y="1793"/>
                  </a:cubicBezTo>
                  <a:cubicBezTo>
                    <a:pt x="118" y="1774"/>
                    <a:pt x="100" y="1758"/>
                    <a:pt x="83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6" y="1671"/>
                  </a:cubicBezTo>
                  <a:cubicBezTo>
                    <a:pt x="15" y="1667"/>
                    <a:pt x="14" y="1662"/>
                    <a:pt x="14" y="1658"/>
                  </a:cubicBezTo>
                  <a:cubicBezTo>
                    <a:pt x="12" y="1637"/>
                    <a:pt x="21" y="1616"/>
                    <a:pt x="33" y="1599"/>
                  </a:cubicBezTo>
                  <a:cubicBezTo>
                    <a:pt x="46" y="1581"/>
                    <a:pt x="63" y="1565"/>
                    <a:pt x="80" y="1549"/>
                  </a:cubicBezTo>
                  <a:cubicBezTo>
                    <a:pt x="97" y="1534"/>
                    <a:pt x="114" y="1518"/>
                    <a:pt x="130" y="1499"/>
                  </a:cubicBezTo>
                  <a:cubicBezTo>
                    <a:pt x="138" y="1490"/>
                    <a:pt x="145" y="1480"/>
                    <a:pt x="151" y="1469"/>
                  </a:cubicBezTo>
                  <a:cubicBezTo>
                    <a:pt x="157" y="1458"/>
                    <a:pt x="161" y="1445"/>
                    <a:pt x="163" y="1432"/>
                  </a:cubicBezTo>
                  <a:cubicBezTo>
                    <a:pt x="163" y="1430"/>
                    <a:pt x="163" y="1429"/>
                    <a:pt x="163" y="1427"/>
                  </a:cubicBezTo>
                  <a:cubicBezTo>
                    <a:pt x="163" y="1428"/>
                    <a:pt x="163" y="1430"/>
                    <a:pt x="163" y="1431"/>
                  </a:cubicBezTo>
                  <a:cubicBezTo>
                    <a:pt x="164" y="1443"/>
                    <a:pt x="168" y="1454"/>
                    <a:pt x="173" y="1464"/>
                  </a:cubicBezTo>
                  <a:cubicBezTo>
                    <a:pt x="178" y="1475"/>
                    <a:pt x="185" y="1484"/>
                    <a:pt x="193" y="1493"/>
                  </a:cubicBezTo>
                  <a:close/>
                  <a:moveTo>
                    <a:pt x="193" y="1064"/>
                  </a:moveTo>
                  <a:cubicBezTo>
                    <a:pt x="208" y="1082"/>
                    <a:pt x="225" y="1098"/>
                    <a:pt x="242" y="1113"/>
                  </a:cubicBezTo>
                  <a:cubicBezTo>
                    <a:pt x="259" y="1129"/>
                    <a:pt x="276" y="1146"/>
                    <a:pt x="289" y="1164"/>
                  </a:cubicBezTo>
                  <a:cubicBezTo>
                    <a:pt x="296" y="1174"/>
                    <a:pt x="302" y="1184"/>
                    <a:pt x="305" y="1195"/>
                  </a:cubicBezTo>
                  <a:cubicBezTo>
                    <a:pt x="309" y="1206"/>
                    <a:pt x="310" y="1218"/>
                    <a:pt x="309" y="1229"/>
                  </a:cubicBezTo>
                  <a:cubicBezTo>
                    <a:pt x="309" y="1234"/>
                    <a:pt x="308" y="1239"/>
                    <a:pt x="306" y="1244"/>
                  </a:cubicBezTo>
                  <a:cubicBezTo>
                    <a:pt x="301" y="1253"/>
                    <a:pt x="295" y="1261"/>
                    <a:pt x="288" y="1269"/>
                  </a:cubicBezTo>
                  <a:cubicBezTo>
                    <a:pt x="273" y="1286"/>
                    <a:pt x="256" y="1302"/>
                    <a:pt x="239" y="1318"/>
                  </a:cubicBezTo>
                  <a:cubicBezTo>
                    <a:pt x="222" y="1333"/>
                    <a:pt x="205" y="1349"/>
                    <a:pt x="190" y="1367"/>
                  </a:cubicBezTo>
                  <a:cubicBezTo>
                    <a:pt x="182" y="1376"/>
                    <a:pt x="175" y="1386"/>
                    <a:pt x="170" y="1396"/>
                  </a:cubicBezTo>
                  <a:cubicBezTo>
                    <a:pt x="166" y="1405"/>
                    <a:pt x="163" y="1415"/>
                    <a:pt x="163" y="1425"/>
                  </a:cubicBezTo>
                  <a:cubicBezTo>
                    <a:pt x="163" y="1420"/>
                    <a:pt x="162" y="1415"/>
                    <a:pt x="161" y="1411"/>
                  </a:cubicBezTo>
                  <a:cubicBezTo>
                    <a:pt x="159" y="1404"/>
                    <a:pt x="157" y="1398"/>
                    <a:pt x="154" y="1392"/>
                  </a:cubicBezTo>
                  <a:cubicBezTo>
                    <a:pt x="148" y="1381"/>
                    <a:pt x="141" y="1371"/>
                    <a:pt x="133" y="1361"/>
                  </a:cubicBezTo>
                  <a:cubicBezTo>
                    <a:pt x="118" y="1343"/>
                    <a:pt x="100" y="1327"/>
                    <a:pt x="83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7" y="1255"/>
                    <a:pt x="20" y="1247"/>
                    <a:pt x="15" y="1238"/>
                  </a:cubicBezTo>
                  <a:cubicBezTo>
                    <a:pt x="15" y="1235"/>
                    <a:pt x="14" y="1232"/>
                    <a:pt x="14" y="1228"/>
                  </a:cubicBezTo>
                  <a:cubicBezTo>
                    <a:pt x="12" y="1207"/>
                    <a:pt x="21" y="1187"/>
                    <a:pt x="33" y="1169"/>
                  </a:cubicBezTo>
                  <a:cubicBezTo>
                    <a:pt x="46" y="1152"/>
                    <a:pt x="63" y="1136"/>
                    <a:pt x="80" y="1120"/>
                  </a:cubicBezTo>
                  <a:cubicBezTo>
                    <a:pt x="97" y="1104"/>
                    <a:pt x="114" y="1089"/>
                    <a:pt x="130" y="1070"/>
                  </a:cubicBezTo>
                  <a:cubicBezTo>
                    <a:pt x="138" y="1061"/>
                    <a:pt x="145" y="1051"/>
                    <a:pt x="151" y="1039"/>
                  </a:cubicBezTo>
                  <a:cubicBezTo>
                    <a:pt x="157" y="1028"/>
                    <a:pt x="161" y="1016"/>
                    <a:pt x="163" y="1002"/>
                  </a:cubicBezTo>
                  <a:cubicBezTo>
                    <a:pt x="163" y="1001"/>
                    <a:pt x="163" y="999"/>
                    <a:pt x="163" y="998"/>
                  </a:cubicBezTo>
                  <a:cubicBezTo>
                    <a:pt x="163" y="999"/>
                    <a:pt x="163" y="1000"/>
                    <a:pt x="163" y="1001"/>
                  </a:cubicBezTo>
                  <a:cubicBezTo>
                    <a:pt x="164" y="1013"/>
                    <a:pt x="168" y="1025"/>
                    <a:pt x="173" y="1035"/>
                  </a:cubicBezTo>
                  <a:cubicBezTo>
                    <a:pt x="178" y="1046"/>
                    <a:pt x="185" y="1055"/>
                    <a:pt x="193" y="1064"/>
                  </a:cubicBezTo>
                  <a:close/>
                  <a:moveTo>
                    <a:pt x="193" y="631"/>
                  </a:moveTo>
                  <a:cubicBezTo>
                    <a:pt x="196" y="635"/>
                    <a:pt x="199" y="638"/>
                    <a:pt x="202" y="642"/>
                  </a:cubicBezTo>
                  <a:cubicBezTo>
                    <a:pt x="211" y="652"/>
                    <a:pt x="220" y="661"/>
                    <a:pt x="229" y="670"/>
                  </a:cubicBezTo>
                  <a:cubicBezTo>
                    <a:pt x="245" y="686"/>
                    <a:pt x="262" y="702"/>
                    <a:pt x="278" y="719"/>
                  </a:cubicBezTo>
                  <a:cubicBezTo>
                    <a:pt x="283" y="724"/>
                    <a:pt x="287" y="730"/>
                    <a:pt x="292" y="735"/>
                  </a:cubicBezTo>
                  <a:cubicBezTo>
                    <a:pt x="297" y="744"/>
                    <a:pt x="302" y="753"/>
                    <a:pt x="305" y="762"/>
                  </a:cubicBezTo>
                  <a:cubicBezTo>
                    <a:pt x="309" y="773"/>
                    <a:pt x="310" y="785"/>
                    <a:pt x="309" y="796"/>
                  </a:cubicBezTo>
                  <a:cubicBezTo>
                    <a:pt x="309" y="805"/>
                    <a:pt x="306" y="813"/>
                    <a:pt x="303" y="821"/>
                  </a:cubicBezTo>
                  <a:cubicBezTo>
                    <a:pt x="299" y="827"/>
                    <a:pt x="294" y="834"/>
                    <a:pt x="288" y="840"/>
                  </a:cubicBezTo>
                  <a:cubicBezTo>
                    <a:pt x="273" y="857"/>
                    <a:pt x="256" y="872"/>
                    <a:pt x="239" y="888"/>
                  </a:cubicBezTo>
                  <a:cubicBezTo>
                    <a:pt x="222" y="904"/>
                    <a:pt x="205" y="920"/>
                    <a:pt x="190" y="938"/>
                  </a:cubicBezTo>
                  <a:cubicBezTo>
                    <a:pt x="182" y="947"/>
                    <a:pt x="175" y="957"/>
                    <a:pt x="170" y="967"/>
                  </a:cubicBezTo>
                  <a:cubicBezTo>
                    <a:pt x="166" y="976"/>
                    <a:pt x="163" y="986"/>
                    <a:pt x="163" y="996"/>
                  </a:cubicBezTo>
                  <a:cubicBezTo>
                    <a:pt x="163" y="991"/>
                    <a:pt x="162" y="986"/>
                    <a:pt x="161" y="982"/>
                  </a:cubicBezTo>
                  <a:cubicBezTo>
                    <a:pt x="159" y="975"/>
                    <a:pt x="157" y="969"/>
                    <a:pt x="154" y="963"/>
                  </a:cubicBezTo>
                  <a:cubicBezTo>
                    <a:pt x="148" y="951"/>
                    <a:pt x="141" y="941"/>
                    <a:pt x="133" y="932"/>
                  </a:cubicBezTo>
                  <a:cubicBezTo>
                    <a:pt x="118" y="913"/>
                    <a:pt x="100" y="897"/>
                    <a:pt x="83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7" y="827"/>
                    <a:pt x="22" y="819"/>
                    <a:pt x="17" y="811"/>
                  </a:cubicBezTo>
                  <a:cubicBezTo>
                    <a:pt x="15" y="806"/>
                    <a:pt x="14" y="801"/>
                    <a:pt x="14" y="795"/>
                  </a:cubicBezTo>
                  <a:cubicBezTo>
                    <a:pt x="12" y="774"/>
                    <a:pt x="21" y="754"/>
                    <a:pt x="33" y="737"/>
                  </a:cubicBezTo>
                  <a:cubicBezTo>
                    <a:pt x="46" y="719"/>
                    <a:pt x="63" y="703"/>
                    <a:pt x="80" y="687"/>
                  </a:cubicBezTo>
                  <a:cubicBezTo>
                    <a:pt x="97" y="671"/>
                    <a:pt x="114" y="656"/>
                    <a:pt x="130" y="637"/>
                  </a:cubicBezTo>
                  <a:cubicBezTo>
                    <a:pt x="138" y="628"/>
                    <a:pt x="145" y="618"/>
                    <a:pt x="151" y="607"/>
                  </a:cubicBezTo>
                  <a:cubicBezTo>
                    <a:pt x="157" y="595"/>
                    <a:pt x="161" y="583"/>
                    <a:pt x="163" y="570"/>
                  </a:cubicBezTo>
                  <a:cubicBezTo>
                    <a:pt x="163" y="568"/>
                    <a:pt x="163" y="567"/>
                    <a:pt x="163" y="565"/>
                  </a:cubicBezTo>
                  <a:cubicBezTo>
                    <a:pt x="163" y="566"/>
                    <a:pt x="163" y="568"/>
                    <a:pt x="163" y="569"/>
                  </a:cubicBezTo>
                  <a:cubicBezTo>
                    <a:pt x="164" y="580"/>
                    <a:pt x="168" y="592"/>
                    <a:pt x="173" y="602"/>
                  </a:cubicBezTo>
                  <a:cubicBezTo>
                    <a:pt x="178" y="613"/>
                    <a:pt x="185" y="622"/>
                    <a:pt x="193" y="631"/>
                  </a:cubicBezTo>
                  <a:close/>
                  <a:moveTo>
                    <a:pt x="163" y="137"/>
                  </a:moveTo>
                  <a:cubicBezTo>
                    <a:pt x="163" y="135"/>
                    <a:pt x="163" y="134"/>
                    <a:pt x="163" y="132"/>
                  </a:cubicBezTo>
                  <a:cubicBezTo>
                    <a:pt x="163" y="134"/>
                    <a:pt x="163" y="135"/>
                    <a:pt x="163" y="136"/>
                  </a:cubicBezTo>
                  <a:cubicBezTo>
                    <a:pt x="164" y="148"/>
                    <a:pt x="168" y="159"/>
                    <a:pt x="173" y="170"/>
                  </a:cubicBezTo>
                  <a:cubicBezTo>
                    <a:pt x="178" y="180"/>
                    <a:pt x="185" y="190"/>
                    <a:pt x="193" y="198"/>
                  </a:cubicBezTo>
                  <a:cubicBezTo>
                    <a:pt x="196" y="202"/>
                    <a:pt x="199" y="206"/>
                    <a:pt x="202" y="209"/>
                  </a:cubicBezTo>
                  <a:cubicBezTo>
                    <a:pt x="211" y="219"/>
                    <a:pt x="220" y="228"/>
                    <a:pt x="229" y="237"/>
                  </a:cubicBezTo>
                  <a:cubicBezTo>
                    <a:pt x="245" y="254"/>
                    <a:pt x="262" y="269"/>
                    <a:pt x="278" y="286"/>
                  </a:cubicBezTo>
                  <a:cubicBezTo>
                    <a:pt x="283" y="291"/>
                    <a:pt x="287" y="297"/>
                    <a:pt x="292" y="302"/>
                  </a:cubicBezTo>
                  <a:cubicBezTo>
                    <a:pt x="297" y="311"/>
                    <a:pt x="302" y="320"/>
                    <a:pt x="305" y="329"/>
                  </a:cubicBezTo>
                  <a:cubicBezTo>
                    <a:pt x="309" y="340"/>
                    <a:pt x="310" y="352"/>
                    <a:pt x="309" y="363"/>
                  </a:cubicBezTo>
                  <a:cubicBezTo>
                    <a:pt x="309" y="372"/>
                    <a:pt x="306" y="380"/>
                    <a:pt x="303" y="388"/>
                  </a:cubicBezTo>
                  <a:cubicBezTo>
                    <a:pt x="299" y="395"/>
                    <a:pt x="294" y="401"/>
                    <a:pt x="288" y="407"/>
                  </a:cubicBezTo>
                  <a:cubicBezTo>
                    <a:pt x="273" y="424"/>
                    <a:pt x="256" y="440"/>
                    <a:pt x="239" y="455"/>
                  </a:cubicBezTo>
                  <a:cubicBezTo>
                    <a:pt x="222" y="471"/>
                    <a:pt x="205" y="487"/>
                    <a:pt x="190" y="505"/>
                  </a:cubicBezTo>
                  <a:cubicBezTo>
                    <a:pt x="182" y="514"/>
                    <a:pt x="175" y="524"/>
                    <a:pt x="170" y="534"/>
                  </a:cubicBezTo>
                  <a:cubicBezTo>
                    <a:pt x="166" y="543"/>
                    <a:pt x="163" y="553"/>
                    <a:pt x="163" y="563"/>
                  </a:cubicBezTo>
                  <a:cubicBezTo>
                    <a:pt x="163" y="558"/>
                    <a:pt x="162" y="553"/>
                    <a:pt x="161" y="549"/>
                  </a:cubicBezTo>
                  <a:cubicBezTo>
                    <a:pt x="159" y="542"/>
                    <a:pt x="157" y="536"/>
                    <a:pt x="154" y="530"/>
                  </a:cubicBezTo>
                  <a:cubicBezTo>
                    <a:pt x="148" y="519"/>
                    <a:pt x="141" y="509"/>
                    <a:pt x="133" y="499"/>
                  </a:cubicBezTo>
                  <a:cubicBezTo>
                    <a:pt x="118" y="481"/>
                    <a:pt x="100" y="465"/>
                    <a:pt x="83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7" y="394"/>
                    <a:pt x="22" y="386"/>
                    <a:pt x="17" y="379"/>
                  </a:cubicBezTo>
                  <a:cubicBezTo>
                    <a:pt x="15" y="373"/>
                    <a:pt x="14" y="368"/>
                    <a:pt x="14" y="363"/>
                  </a:cubicBezTo>
                  <a:cubicBezTo>
                    <a:pt x="12" y="342"/>
                    <a:pt x="21" y="322"/>
                    <a:pt x="33" y="304"/>
                  </a:cubicBezTo>
                  <a:cubicBezTo>
                    <a:pt x="46" y="286"/>
                    <a:pt x="63" y="270"/>
                    <a:pt x="80" y="254"/>
                  </a:cubicBezTo>
                  <a:cubicBezTo>
                    <a:pt x="97" y="239"/>
                    <a:pt x="114" y="223"/>
                    <a:pt x="130" y="204"/>
                  </a:cubicBezTo>
                  <a:cubicBezTo>
                    <a:pt x="138" y="195"/>
                    <a:pt x="145" y="185"/>
                    <a:pt x="151" y="174"/>
                  </a:cubicBezTo>
                  <a:cubicBezTo>
                    <a:pt x="157" y="163"/>
                    <a:pt x="161" y="150"/>
                    <a:pt x="163" y="137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74" name="Freeform 8"/>
            <p:cNvSpPr/>
            <p:nvPr/>
          </p:nvSpPr>
          <p:spPr>
            <a:xfrm>
              <a:off x="3540240" y="-1440"/>
              <a:ext cx="514080" cy="686232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2" h="2159">
                  <a:moveTo>
                    <a:pt x="124" y="74"/>
                  </a:moveTo>
                  <a:cubicBezTo>
                    <a:pt x="131" y="83"/>
                    <a:pt x="138" y="92"/>
                    <a:pt x="143" y="103"/>
                  </a:cubicBezTo>
                  <a:cubicBezTo>
                    <a:pt x="148" y="111"/>
                    <a:pt x="150" y="121"/>
                    <a:pt x="150" y="131"/>
                  </a:cubicBezTo>
                  <a:cubicBezTo>
                    <a:pt x="150" y="131"/>
                    <a:pt x="150" y="131"/>
                    <a:pt x="150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1" y="197"/>
                    <a:pt x="121" y="197"/>
                  </a:cubicBezTo>
                  <a:cubicBezTo>
                    <a:pt x="106" y="215"/>
                    <a:pt x="89" y="230"/>
                    <a:pt x="72" y="246"/>
                  </a:cubicBezTo>
                  <a:cubicBezTo>
                    <a:pt x="55" y="262"/>
                    <a:pt x="38" y="279"/>
                    <a:pt x="25" y="298"/>
                  </a:cubicBezTo>
                  <a:cubicBezTo>
                    <a:pt x="23" y="300"/>
                    <a:pt x="22" y="302"/>
                    <a:pt x="20" y="305"/>
                  </a:cubicBezTo>
                  <a:cubicBezTo>
                    <a:pt x="18" y="307"/>
                    <a:pt x="16" y="310"/>
                    <a:pt x="15" y="313"/>
                  </a:cubicBezTo>
                  <a:cubicBezTo>
                    <a:pt x="8" y="322"/>
                    <a:pt x="3" y="333"/>
                    <a:pt x="1" y="345"/>
                  </a:cubicBezTo>
                  <a:cubicBezTo>
                    <a:pt x="0" y="351"/>
                    <a:pt x="0" y="357"/>
                    <a:pt x="0" y="363"/>
                  </a:cubicBezTo>
                  <a:cubicBezTo>
                    <a:pt x="1" y="369"/>
                    <a:pt x="3" y="374"/>
                    <a:pt x="6" y="379"/>
                  </a:cubicBezTo>
                  <a:cubicBezTo>
                    <a:pt x="7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2" y="404"/>
                    <a:pt x="26" y="408"/>
                  </a:cubicBezTo>
                  <a:cubicBezTo>
                    <a:pt x="41" y="426"/>
                    <a:pt x="58" y="441"/>
                    <a:pt x="75" y="457"/>
                  </a:cubicBezTo>
                  <a:cubicBezTo>
                    <a:pt x="92" y="473"/>
                    <a:pt x="109" y="489"/>
                    <a:pt x="124" y="507"/>
                  </a:cubicBezTo>
                  <a:cubicBezTo>
                    <a:pt x="131" y="516"/>
                    <a:pt x="138" y="525"/>
                    <a:pt x="143" y="535"/>
                  </a:cubicBezTo>
                  <a:cubicBezTo>
                    <a:pt x="148" y="544"/>
                    <a:pt x="150" y="554"/>
                    <a:pt x="150" y="564"/>
                  </a:cubicBezTo>
                  <a:cubicBezTo>
                    <a:pt x="150" y="564"/>
                    <a:pt x="150" y="564"/>
                    <a:pt x="150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5"/>
                    <a:pt x="122" y="629"/>
                  </a:cubicBezTo>
                  <a:cubicBezTo>
                    <a:pt x="122" y="629"/>
                    <a:pt x="121" y="629"/>
                    <a:pt x="121" y="630"/>
                  </a:cubicBezTo>
                  <a:cubicBezTo>
                    <a:pt x="106" y="648"/>
                    <a:pt x="89" y="663"/>
                    <a:pt x="72" y="679"/>
                  </a:cubicBezTo>
                  <a:cubicBezTo>
                    <a:pt x="55" y="695"/>
                    <a:pt x="38" y="711"/>
                    <a:pt x="25" y="730"/>
                  </a:cubicBezTo>
                  <a:cubicBezTo>
                    <a:pt x="23" y="733"/>
                    <a:pt x="22" y="735"/>
                    <a:pt x="20" y="737"/>
                  </a:cubicBezTo>
                  <a:cubicBezTo>
                    <a:pt x="18" y="740"/>
                    <a:pt x="16" y="743"/>
                    <a:pt x="15" y="745"/>
                  </a:cubicBezTo>
                  <a:cubicBezTo>
                    <a:pt x="8" y="755"/>
                    <a:pt x="3" y="766"/>
                    <a:pt x="1" y="778"/>
                  </a:cubicBezTo>
                  <a:cubicBezTo>
                    <a:pt x="0" y="784"/>
                    <a:pt x="0" y="789"/>
                    <a:pt x="0" y="795"/>
                  </a:cubicBezTo>
                  <a:cubicBezTo>
                    <a:pt x="1" y="801"/>
                    <a:pt x="3" y="807"/>
                    <a:pt x="6" y="812"/>
                  </a:cubicBezTo>
                  <a:cubicBezTo>
                    <a:pt x="7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2" y="837"/>
                    <a:pt x="26" y="841"/>
                  </a:cubicBezTo>
                  <a:cubicBezTo>
                    <a:pt x="41" y="858"/>
                    <a:pt x="58" y="874"/>
                    <a:pt x="75" y="890"/>
                  </a:cubicBezTo>
                  <a:cubicBezTo>
                    <a:pt x="92" y="906"/>
                    <a:pt x="109" y="922"/>
                    <a:pt x="124" y="939"/>
                  </a:cubicBezTo>
                  <a:cubicBezTo>
                    <a:pt x="131" y="948"/>
                    <a:pt x="138" y="958"/>
                    <a:pt x="143" y="968"/>
                  </a:cubicBezTo>
                  <a:cubicBezTo>
                    <a:pt x="147" y="976"/>
                    <a:pt x="150" y="984"/>
                    <a:pt x="150" y="993"/>
                  </a:cubicBezTo>
                  <a:cubicBezTo>
                    <a:pt x="150" y="993"/>
                    <a:pt x="150" y="993"/>
                    <a:pt x="150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8" y="1065"/>
                    <a:pt x="102" y="1082"/>
                    <a:pt x="86" y="1098"/>
                  </a:cubicBezTo>
                  <a:cubicBezTo>
                    <a:pt x="69" y="1114"/>
                    <a:pt x="52" y="1130"/>
                    <a:pt x="36" y="1147"/>
                  </a:cubicBezTo>
                  <a:cubicBezTo>
                    <a:pt x="28" y="1156"/>
                    <a:pt x="21" y="1165"/>
                    <a:pt x="15" y="1175"/>
                  </a:cubicBezTo>
                  <a:cubicBezTo>
                    <a:pt x="8" y="1185"/>
                    <a:pt x="3" y="1195"/>
                    <a:pt x="1" y="1207"/>
                  </a:cubicBezTo>
                  <a:cubicBezTo>
                    <a:pt x="0" y="1213"/>
                    <a:pt x="0" y="1219"/>
                    <a:pt x="0" y="1225"/>
                  </a:cubicBezTo>
                  <a:cubicBezTo>
                    <a:pt x="1" y="1231"/>
                    <a:pt x="3" y="1236"/>
                    <a:pt x="6" y="1242"/>
                  </a:cubicBezTo>
                  <a:cubicBezTo>
                    <a:pt x="6" y="1243"/>
                    <a:pt x="7" y="1244"/>
                    <a:pt x="8" y="1245"/>
                  </a:cubicBezTo>
                  <a:cubicBezTo>
                    <a:pt x="9" y="1251"/>
                    <a:pt x="12" y="1256"/>
                    <a:pt x="15" y="1261"/>
                  </a:cubicBezTo>
                  <a:cubicBezTo>
                    <a:pt x="18" y="1261"/>
                    <a:pt x="18" y="1261"/>
                    <a:pt x="18" y="1261"/>
                  </a:cubicBezTo>
                  <a:cubicBezTo>
                    <a:pt x="21" y="1264"/>
                    <a:pt x="23" y="1267"/>
                    <a:pt x="26" y="1270"/>
                  </a:cubicBezTo>
                  <a:cubicBezTo>
                    <a:pt x="41" y="1288"/>
                    <a:pt x="58" y="1303"/>
                    <a:pt x="75" y="1319"/>
                  </a:cubicBezTo>
                  <a:cubicBezTo>
                    <a:pt x="92" y="1335"/>
                    <a:pt x="109" y="1351"/>
                    <a:pt x="124" y="1369"/>
                  </a:cubicBezTo>
                  <a:cubicBezTo>
                    <a:pt x="131" y="1378"/>
                    <a:pt x="138" y="1387"/>
                    <a:pt x="143" y="1398"/>
                  </a:cubicBezTo>
                  <a:cubicBezTo>
                    <a:pt x="147" y="1406"/>
                    <a:pt x="150" y="1415"/>
                    <a:pt x="150" y="1425"/>
                  </a:cubicBezTo>
                  <a:cubicBezTo>
                    <a:pt x="150" y="1425"/>
                    <a:pt x="150" y="1425"/>
                    <a:pt x="150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5" y="1485"/>
                    <a:pt x="119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2" y="1595"/>
                    <a:pt x="18" y="1600"/>
                    <a:pt x="15" y="1606"/>
                  </a:cubicBezTo>
                  <a:cubicBezTo>
                    <a:pt x="8" y="1616"/>
                    <a:pt x="3" y="1627"/>
                    <a:pt x="1" y="1639"/>
                  </a:cubicBezTo>
                  <a:cubicBezTo>
                    <a:pt x="0" y="1644"/>
                    <a:pt x="0" y="1650"/>
                    <a:pt x="0" y="1656"/>
                  </a:cubicBezTo>
                  <a:cubicBezTo>
                    <a:pt x="1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0" y="1681"/>
                  </a:cubicBezTo>
                  <a:cubicBezTo>
                    <a:pt x="11" y="1685"/>
                    <a:pt x="13" y="1688"/>
                    <a:pt x="15" y="1691"/>
                  </a:cubicBezTo>
                  <a:cubicBezTo>
                    <a:pt x="16" y="1691"/>
                    <a:pt x="16" y="1691"/>
                    <a:pt x="16" y="1691"/>
                  </a:cubicBezTo>
                  <a:cubicBezTo>
                    <a:pt x="19" y="1694"/>
                    <a:pt x="22" y="1698"/>
                    <a:pt x="26" y="1702"/>
                  </a:cubicBezTo>
                  <a:cubicBezTo>
                    <a:pt x="41" y="1719"/>
                    <a:pt x="58" y="1735"/>
                    <a:pt x="75" y="1751"/>
                  </a:cubicBezTo>
                  <a:cubicBezTo>
                    <a:pt x="92" y="1767"/>
                    <a:pt x="109" y="1783"/>
                    <a:pt x="124" y="1800"/>
                  </a:cubicBezTo>
                  <a:cubicBezTo>
                    <a:pt x="131" y="1809"/>
                    <a:pt x="138" y="1819"/>
                    <a:pt x="143" y="1829"/>
                  </a:cubicBezTo>
                  <a:cubicBezTo>
                    <a:pt x="147" y="1837"/>
                    <a:pt x="150" y="1846"/>
                    <a:pt x="150" y="1855"/>
                  </a:cubicBezTo>
                  <a:cubicBezTo>
                    <a:pt x="150" y="1855"/>
                    <a:pt x="150" y="1855"/>
                    <a:pt x="150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7" y="1959"/>
                    <a:pt x="79" y="1966"/>
                    <a:pt x="72" y="1973"/>
                  </a:cubicBezTo>
                  <a:cubicBezTo>
                    <a:pt x="60" y="1984"/>
                    <a:pt x="49" y="1995"/>
                    <a:pt x="38" y="2007"/>
                  </a:cubicBezTo>
                  <a:cubicBezTo>
                    <a:pt x="38" y="2008"/>
                    <a:pt x="37" y="2008"/>
                    <a:pt x="36" y="2009"/>
                  </a:cubicBezTo>
                  <a:cubicBezTo>
                    <a:pt x="28" y="2018"/>
                    <a:pt x="21" y="2027"/>
                    <a:pt x="15" y="2037"/>
                  </a:cubicBezTo>
                  <a:cubicBezTo>
                    <a:pt x="8" y="2047"/>
                    <a:pt x="3" y="2057"/>
                    <a:pt x="1" y="2069"/>
                  </a:cubicBezTo>
                  <a:cubicBezTo>
                    <a:pt x="0" y="2075"/>
                    <a:pt x="0" y="2081"/>
                    <a:pt x="0" y="2087"/>
                  </a:cubicBezTo>
                  <a:cubicBezTo>
                    <a:pt x="1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0" y="2114"/>
                    <a:pt x="12" y="2118"/>
                    <a:pt x="15" y="2122"/>
                  </a:cubicBezTo>
                  <a:cubicBezTo>
                    <a:pt x="17" y="2122"/>
                    <a:pt x="17" y="2122"/>
                    <a:pt x="17" y="2122"/>
                  </a:cubicBezTo>
                  <a:cubicBezTo>
                    <a:pt x="20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4" y="2137"/>
                    <a:pt x="34" y="2125"/>
                  </a:cubicBezTo>
                  <a:cubicBezTo>
                    <a:pt x="27" y="2117"/>
                    <a:pt x="20" y="2109"/>
                    <a:pt x="16" y="2101"/>
                  </a:cubicBezTo>
                  <a:cubicBezTo>
                    <a:pt x="15" y="2097"/>
                    <a:pt x="14" y="2093"/>
                    <a:pt x="14" y="2089"/>
                  </a:cubicBezTo>
                  <a:cubicBezTo>
                    <a:pt x="12" y="2068"/>
                    <a:pt x="21" y="2048"/>
                    <a:pt x="33" y="2030"/>
                  </a:cubicBezTo>
                  <a:cubicBezTo>
                    <a:pt x="46" y="2012"/>
                    <a:pt x="63" y="1997"/>
                    <a:pt x="80" y="1981"/>
                  </a:cubicBezTo>
                  <a:cubicBezTo>
                    <a:pt x="96" y="1965"/>
                    <a:pt x="114" y="1949"/>
                    <a:pt x="130" y="1931"/>
                  </a:cubicBezTo>
                  <a:cubicBezTo>
                    <a:pt x="138" y="1922"/>
                    <a:pt x="145" y="1912"/>
                    <a:pt x="151" y="1900"/>
                  </a:cubicBezTo>
                  <a:cubicBezTo>
                    <a:pt x="156" y="1891"/>
                    <a:pt x="160" y="1881"/>
                    <a:pt x="161" y="1870"/>
                  </a:cubicBezTo>
                  <a:cubicBezTo>
                    <a:pt x="161" y="1867"/>
                    <a:pt x="161" y="1865"/>
                    <a:pt x="161" y="1862"/>
                  </a:cubicBezTo>
                  <a:cubicBezTo>
                    <a:pt x="160" y="1857"/>
                    <a:pt x="160" y="1852"/>
                    <a:pt x="162" y="1846"/>
                  </a:cubicBezTo>
                  <a:cubicBezTo>
                    <a:pt x="161" y="1845"/>
                    <a:pt x="161" y="1844"/>
                    <a:pt x="161" y="1843"/>
                  </a:cubicBezTo>
                  <a:cubicBezTo>
                    <a:pt x="159" y="1836"/>
                    <a:pt x="157" y="1830"/>
                    <a:pt x="154" y="1824"/>
                  </a:cubicBezTo>
                  <a:cubicBezTo>
                    <a:pt x="148" y="1812"/>
                    <a:pt x="141" y="1802"/>
                    <a:pt x="133" y="1793"/>
                  </a:cubicBezTo>
                  <a:cubicBezTo>
                    <a:pt x="118" y="1774"/>
                    <a:pt x="100" y="1758"/>
                    <a:pt x="83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6" y="1671"/>
                  </a:cubicBezTo>
                  <a:cubicBezTo>
                    <a:pt x="15" y="1667"/>
                    <a:pt x="14" y="1662"/>
                    <a:pt x="14" y="1658"/>
                  </a:cubicBezTo>
                  <a:cubicBezTo>
                    <a:pt x="12" y="1637"/>
                    <a:pt x="21" y="1616"/>
                    <a:pt x="33" y="1599"/>
                  </a:cubicBezTo>
                  <a:cubicBezTo>
                    <a:pt x="46" y="1581"/>
                    <a:pt x="63" y="1565"/>
                    <a:pt x="80" y="1549"/>
                  </a:cubicBezTo>
                  <a:cubicBezTo>
                    <a:pt x="96" y="1534"/>
                    <a:pt x="114" y="1518"/>
                    <a:pt x="130" y="1499"/>
                  </a:cubicBezTo>
                  <a:cubicBezTo>
                    <a:pt x="138" y="1490"/>
                    <a:pt x="145" y="1480"/>
                    <a:pt x="151" y="1469"/>
                  </a:cubicBezTo>
                  <a:cubicBezTo>
                    <a:pt x="156" y="1459"/>
                    <a:pt x="160" y="1449"/>
                    <a:pt x="161" y="1438"/>
                  </a:cubicBezTo>
                  <a:cubicBezTo>
                    <a:pt x="161" y="1436"/>
                    <a:pt x="161" y="1433"/>
                    <a:pt x="161" y="1431"/>
                  </a:cubicBezTo>
                  <a:cubicBezTo>
                    <a:pt x="160" y="1425"/>
                    <a:pt x="160" y="1420"/>
                    <a:pt x="162" y="1415"/>
                  </a:cubicBezTo>
                  <a:cubicBezTo>
                    <a:pt x="161" y="1413"/>
                    <a:pt x="161" y="1412"/>
                    <a:pt x="161" y="1411"/>
                  </a:cubicBezTo>
                  <a:cubicBezTo>
                    <a:pt x="159" y="1404"/>
                    <a:pt x="157" y="1398"/>
                    <a:pt x="154" y="1392"/>
                  </a:cubicBezTo>
                  <a:cubicBezTo>
                    <a:pt x="148" y="1381"/>
                    <a:pt x="141" y="1371"/>
                    <a:pt x="133" y="1361"/>
                  </a:cubicBezTo>
                  <a:cubicBezTo>
                    <a:pt x="118" y="1343"/>
                    <a:pt x="100" y="1327"/>
                    <a:pt x="83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6" y="1255"/>
                    <a:pt x="20" y="1247"/>
                    <a:pt x="15" y="1238"/>
                  </a:cubicBezTo>
                  <a:cubicBezTo>
                    <a:pt x="15" y="1235"/>
                    <a:pt x="14" y="1232"/>
                    <a:pt x="14" y="1228"/>
                  </a:cubicBezTo>
                  <a:cubicBezTo>
                    <a:pt x="12" y="1207"/>
                    <a:pt x="21" y="1187"/>
                    <a:pt x="33" y="1169"/>
                  </a:cubicBezTo>
                  <a:cubicBezTo>
                    <a:pt x="46" y="1152"/>
                    <a:pt x="63" y="1136"/>
                    <a:pt x="80" y="1120"/>
                  </a:cubicBezTo>
                  <a:cubicBezTo>
                    <a:pt x="96" y="1104"/>
                    <a:pt x="114" y="1089"/>
                    <a:pt x="130" y="1070"/>
                  </a:cubicBezTo>
                  <a:cubicBezTo>
                    <a:pt x="138" y="1061"/>
                    <a:pt x="145" y="1051"/>
                    <a:pt x="151" y="1039"/>
                  </a:cubicBezTo>
                  <a:cubicBezTo>
                    <a:pt x="156" y="1030"/>
                    <a:pt x="160" y="1020"/>
                    <a:pt x="161" y="1009"/>
                  </a:cubicBezTo>
                  <a:cubicBezTo>
                    <a:pt x="161" y="1006"/>
                    <a:pt x="161" y="1004"/>
                    <a:pt x="161" y="1001"/>
                  </a:cubicBezTo>
                  <a:cubicBezTo>
                    <a:pt x="160" y="996"/>
                    <a:pt x="160" y="991"/>
                    <a:pt x="162" y="985"/>
                  </a:cubicBezTo>
                  <a:cubicBezTo>
                    <a:pt x="161" y="984"/>
                    <a:pt x="161" y="983"/>
                    <a:pt x="161" y="982"/>
                  </a:cubicBezTo>
                  <a:cubicBezTo>
                    <a:pt x="159" y="975"/>
                    <a:pt x="157" y="969"/>
                    <a:pt x="154" y="963"/>
                  </a:cubicBezTo>
                  <a:cubicBezTo>
                    <a:pt x="148" y="951"/>
                    <a:pt x="141" y="941"/>
                    <a:pt x="133" y="932"/>
                  </a:cubicBezTo>
                  <a:cubicBezTo>
                    <a:pt x="118" y="913"/>
                    <a:pt x="100" y="897"/>
                    <a:pt x="83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7" y="827"/>
                    <a:pt x="21" y="819"/>
                    <a:pt x="17" y="811"/>
                  </a:cubicBezTo>
                  <a:cubicBezTo>
                    <a:pt x="15" y="806"/>
                    <a:pt x="14" y="801"/>
                    <a:pt x="14" y="795"/>
                  </a:cubicBezTo>
                  <a:cubicBezTo>
                    <a:pt x="12" y="774"/>
                    <a:pt x="21" y="754"/>
                    <a:pt x="33" y="737"/>
                  </a:cubicBezTo>
                  <a:cubicBezTo>
                    <a:pt x="46" y="719"/>
                    <a:pt x="63" y="703"/>
                    <a:pt x="80" y="687"/>
                  </a:cubicBezTo>
                  <a:cubicBezTo>
                    <a:pt x="96" y="671"/>
                    <a:pt x="114" y="656"/>
                    <a:pt x="130" y="637"/>
                  </a:cubicBezTo>
                  <a:cubicBezTo>
                    <a:pt x="138" y="628"/>
                    <a:pt x="145" y="618"/>
                    <a:pt x="151" y="607"/>
                  </a:cubicBezTo>
                  <a:cubicBezTo>
                    <a:pt x="156" y="597"/>
                    <a:pt x="160" y="587"/>
                    <a:pt x="161" y="576"/>
                  </a:cubicBezTo>
                  <a:cubicBezTo>
                    <a:pt x="161" y="573"/>
                    <a:pt x="161" y="571"/>
                    <a:pt x="161" y="569"/>
                  </a:cubicBezTo>
                  <a:cubicBezTo>
                    <a:pt x="160" y="563"/>
                    <a:pt x="160" y="558"/>
                    <a:pt x="162" y="553"/>
                  </a:cubicBezTo>
                  <a:cubicBezTo>
                    <a:pt x="161" y="551"/>
                    <a:pt x="161" y="550"/>
                    <a:pt x="161" y="549"/>
                  </a:cubicBezTo>
                  <a:cubicBezTo>
                    <a:pt x="159" y="542"/>
                    <a:pt x="157" y="536"/>
                    <a:pt x="154" y="530"/>
                  </a:cubicBezTo>
                  <a:cubicBezTo>
                    <a:pt x="148" y="519"/>
                    <a:pt x="141" y="509"/>
                    <a:pt x="133" y="499"/>
                  </a:cubicBezTo>
                  <a:cubicBezTo>
                    <a:pt x="118" y="481"/>
                    <a:pt x="100" y="465"/>
                    <a:pt x="83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7" y="394"/>
                    <a:pt x="21" y="386"/>
                    <a:pt x="17" y="379"/>
                  </a:cubicBezTo>
                  <a:cubicBezTo>
                    <a:pt x="15" y="373"/>
                    <a:pt x="14" y="368"/>
                    <a:pt x="14" y="363"/>
                  </a:cubicBezTo>
                  <a:cubicBezTo>
                    <a:pt x="12" y="342"/>
                    <a:pt x="21" y="322"/>
                    <a:pt x="33" y="304"/>
                  </a:cubicBezTo>
                  <a:cubicBezTo>
                    <a:pt x="46" y="286"/>
                    <a:pt x="63" y="270"/>
                    <a:pt x="80" y="254"/>
                  </a:cubicBezTo>
                  <a:cubicBezTo>
                    <a:pt x="96" y="239"/>
                    <a:pt x="114" y="223"/>
                    <a:pt x="130" y="204"/>
                  </a:cubicBezTo>
                  <a:cubicBezTo>
                    <a:pt x="138" y="195"/>
                    <a:pt x="145" y="185"/>
                    <a:pt x="151" y="174"/>
                  </a:cubicBezTo>
                  <a:cubicBezTo>
                    <a:pt x="156" y="164"/>
                    <a:pt x="160" y="154"/>
                    <a:pt x="161" y="143"/>
                  </a:cubicBezTo>
                  <a:cubicBezTo>
                    <a:pt x="161" y="141"/>
                    <a:pt x="161" y="138"/>
                    <a:pt x="161" y="136"/>
                  </a:cubicBezTo>
                  <a:cubicBezTo>
                    <a:pt x="160" y="130"/>
                    <a:pt x="160" y="125"/>
                    <a:pt x="162" y="120"/>
                  </a:cubicBezTo>
                  <a:cubicBezTo>
                    <a:pt x="161" y="119"/>
                    <a:pt x="161" y="117"/>
                    <a:pt x="161" y="116"/>
                  </a:cubicBezTo>
                  <a:cubicBezTo>
                    <a:pt x="159" y="109"/>
                    <a:pt x="157" y="103"/>
                    <a:pt x="154" y="97"/>
                  </a:cubicBezTo>
                  <a:cubicBezTo>
                    <a:pt x="148" y="86"/>
                    <a:pt x="141" y="76"/>
                    <a:pt x="133" y="66"/>
                  </a:cubicBezTo>
                  <a:cubicBezTo>
                    <a:pt x="118" y="48"/>
                    <a:pt x="100" y="32"/>
                    <a:pt x="83" y="16"/>
                  </a:cubicBezTo>
                  <a:cubicBezTo>
                    <a:pt x="77" y="11"/>
                    <a:pt x="71" y="5"/>
                    <a:pt x="65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58" y="8"/>
                    <a:pt x="67" y="16"/>
                    <a:pt x="75" y="24"/>
                  </a:cubicBezTo>
                  <a:cubicBezTo>
                    <a:pt x="92" y="40"/>
                    <a:pt x="109" y="56"/>
                    <a:pt x="124" y="74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75" name="Freeform 9"/>
            <p:cNvSpPr/>
            <p:nvPr/>
          </p:nvSpPr>
          <p:spPr>
            <a:xfrm>
              <a:off x="7612200" y="-1440"/>
              <a:ext cx="1026720" cy="6862320"/>
            </a:xfrm>
            <a:custGeom>
              <a:avLst/>
              <a:gdLst>
                <a:gd name="textAreaLeft" fmla="*/ 0 w 1026720"/>
                <a:gd name="textAreaRight" fmla="*/ 1027080 w 102672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323" h="2159">
                  <a:moveTo>
                    <a:pt x="125" y="74"/>
                  </a:moveTo>
                  <a:cubicBezTo>
                    <a:pt x="132" y="83"/>
                    <a:pt x="139" y="92"/>
                    <a:pt x="144" y="103"/>
                  </a:cubicBezTo>
                  <a:cubicBezTo>
                    <a:pt x="148" y="111"/>
                    <a:pt x="151" y="121"/>
                    <a:pt x="151" y="131"/>
                  </a:cubicBezTo>
                  <a:cubicBezTo>
                    <a:pt x="151" y="131"/>
                    <a:pt x="151" y="131"/>
                    <a:pt x="151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2" y="197"/>
                    <a:pt x="121" y="197"/>
                  </a:cubicBezTo>
                  <a:cubicBezTo>
                    <a:pt x="107" y="215"/>
                    <a:pt x="89" y="230"/>
                    <a:pt x="72" y="246"/>
                  </a:cubicBezTo>
                  <a:cubicBezTo>
                    <a:pt x="56" y="262"/>
                    <a:pt x="39" y="279"/>
                    <a:pt x="25" y="298"/>
                  </a:cubicBezTo>
                  <a:cubicBezTo>
                    <a:pt x="24" y="300"/>
                    <a:pt x="22" y="302"/>
                    <a:pt x="21" y="305"/>
                  </a:cubicBezTo>
                  <a:cubicBezTo>
                    <a:pt x="19" y="307"/>
                    <a:pt x="17" y="310"/>
                    <a:pt x="15" y="313"/>
                  </a:cubicBezTo>
                  <a:cubicBezTo>
                    <a:pt x="9" y="322"/>
                    <a:pt x="4" y="333"/>
                    <a:pt x="2" y="345"/>
                  </a:cubicBezTo>
                  <a:cubicBezTo>
                    <a:pt x="1" y="351"/>
                    <a:pt x="0" y="357"/>
                    <a:pt x="1" y="363"/>
                  </a:cubicBezTo>
                  <a:cubicBezTo>
                    <a:pt x="2" y="369"/>
                    <a:pt x="3" y="374"/>
                    <a:pt x="6" y="379"/>
                  </a:cubicBezTo>
                  <a:cubicBezTo>
                    <a:pt x="8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3" y="404"/>
                    <a:pt x="26" y="408"/>
                  </a:cubicBezTo>
                  <a:cubicBezTo>
                    <a:pt x="42" y="426"/>
                    <a:pt x="59" y="441"/>
                    <a:pt x="76" y="457"/>
                  </a:cubicBezTo>
                  <a:cubicBezTo>
                    <a:pt x="93" y="473"/>
                    <a:pt x="110" y="489"/>
                    <a:pt x="125" y="507"/>
                  </a:cubicBezTo>
                  <a:cubicBezTo>
                    <a:pt x="132" y="516"/>
                    <a:pt x="139" y="525"/>
                    <a:pt x="144" y="535"/>
                  </a:cubicBezTo>
                  <a:cubicBezTo>
                    <a:pt x="148" y="544"/>
                    <a:pt x="151" y="554"/>
                    <a:pt x="151" y="564"/>
                  </a:cubicBezTo>
                  <a:cubicBezTo>
                    <a:pt x="151" y="564"/>
                    <a:pt x="151" y="564"/>
                    <a:pt x="151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5"/>
                    <a:pt x="122" y="629"/>
                  </a:cubicBezTo>
                  <a:cubicBezTo>
                    <a:pt x="122" y="629"/>
                    <a:pt x="122" y="629"/>
                    <a:pt x="121" y="630"/>
                  </a:cubicBezTo>
                  <a:cubicBezTo>
                    <a:pt x="107" y="648"/>
                    <a:pt x="89" y="663"/>
                    <a:pt x="72" y="679"/>
                  </a:cubicBezTo>
                  <a:cubicBezTo>
                    <a:pt x="56" y="695"/>
                    <a:pt x="39" y="711"/>
                    <a:pt x="25" y="730"/>
                  </a:cubicBezTo>
                  <a:cubicBezTo>
                    <a:pt x="24" y="733"/>
                    <a:pt x="22" y="735"/>
                    <a:pt x="21" y="737"/>
                  </a:cubicBezTo>
                  <a:cubicBezTo>
                    <a:pt x="19" y="740"/>
                    <a:pt x="17" y="743"/>
                    <a:pt x="15" y="745"/>
                  </a:cubicBezTo>
                  <a:cubicBezTo>
                    <a:pt x="9" y="755"/>
                    <a:pt x="4" y="766"/>
                    <a:pt x="2" y="778"/>
                  </a:cubicBezTo>
                  <a:cubicBezTo>
                    <a:pt x="1" y="784"/>
                    <a:pt x="0" y="789"/>
                    <a:pt x="1" y="795"/>
                  </a:cubicBezTo>
                  <a:cubicBezTo>
                    <a:pt x="2" y="801"/>
                    <a:pt x="3" y="807"/>
                    <a:pt x="6" y="812"/>
                  </a:cubicBezTo>
                  <a:cubicBezTo>
                    <a:pt x="8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3" y="837"/>
                    <a:pt x="26" y="841"/>
                  </a:cubicBezTo>
                  <a:cubicBezTo>
                    <a:pt x="42" y="858"/>
                    <a:pt x="59" y="874"/>
                    <a:pt x="76" y="890"/>
                  </a:cubicBezTo>
                  <a:cubicBezTo>
                    <a:pt x="93" y="906"/>
                    <a:pt x="110" y="922"/>
                    <a:pt x="125" y="939"/>
                  </a:cubicBezTo>
                  <a:cubicBezTo>
                    <a:pt x="132" y="948"/>
                    <a:pt x="139" y="958"/>
                    <a:pt x="144" y="968"/>
                  </a:cubicBezTo>
                  <a:cubicBezTo>
                    <a:pt x="148" y="976"/>
                    <a:pt x="150" y="984"/>
                    <a:pt x="151" y="993"/>
                  </a:cubicBezTo>
                  <a:cubicBezTo>
                    <a:pt x="151" y="993"/>
                    <a:pt x="151" y="993"/>
                    <a:pt x="151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9" y="1065"/>
                    <a:pt x="103" y="1082"/>
                    <a:pt x="86" y="1098"/>
                  </a:cubicBezTo>
                  <a:cubicBezTo>
                    <a:pt x="70" y="1114"/>
                    <a:pt x="52" y="1130"/>
                    <a:pt x="37" y="1147"/>
                  </a:cubicBezTo>
                  <a:cubicBezTo>
                    <a:pt x="29" y="1156"/>
                    <a:pt x="21" y="1165"/>
                    <a:pt x="15" y="1175"/>
                  </a:cubicBezTo>
                  <a:cubicBezTo>
                    <a:pt x="9" y="1185"/>
                    <a:pt x="4" y="1195"/>
                    <a:pt x="2" y="1207"/>
                  </a:cubicBezTo>
                  <a:cubicBezTo>
                    <a:pt x="1" y="1213"/>
                    <a:pt x="0" y="1219"/>
                    <a:pt x="1" y="1225"/>
                  </a:cubicBezTo>
                  <a:cubicBezTo>
                    <a:pt x="2" y="1231"/>
                    <a:pt x="3" y="1236"/>
                    <a:pt x="6" y="1242"/>
                  </a:cubicBezTo>
                  <a:cubicBezTo>
                    <a:pt x="7" y="1243"/>
                    <a:pt x="7" y="1244"/>
                    <a:pt x="8" y="1245"/>
                  </a:cubicBezTo>
                  <a:cubicBezTo>
                    <a:pt x="10" y="1251"/>
                    <a:pt x="12" y="1256"/>
                    <a:pt x="15" y="1261"/>
                  </a:cubicBezTo>
                  <a:cubicBezTo>
                    <a:pt x="19" y="1261"/>
                    <a:pt x="19" y="1261"/>
                    <a:pt x="19" y="1261"/>
                  </a:cubicBezTo>
                  <a:cubicBezTo>
                    <a:pt x="21" y="1264"/>
                    <a:pt x="24" y="1267"/>
                    <a:pt x="26" y="1270"/>
                  </a:cubicBezTo>
                  <a:cubicBezTo>
                    <a:pt x="42" y="1288"/>
                    <a:pt x="59" y="1303"/>
                    <a:pt x="76" y="1319"/>
                  </a:cubicBezTo>
                  <a:cubicBezTo>
                    <a:pt x="93" y="1335"/>
                    <a:pt x="110" y="1351"/>
                    <a:pt x="125" y="1369"/>
                  </a:cubicBezTo>
                  <a:cubicBezTo>
                    <a:pt x="132" y="1378"/>
                    <a:pt x="139" y="1387"/>
                    <a:pt x="144" y="1398"/>
                  </a:cubicBezTo>
                  <a:cubicBezTo>
                    <a:pt x="148" y="1406"/>
                    <a:pt x="151" y="1415"/>
                    <a:pt x="151" y="1425"/>
                  </a:cubicBezTo>
                  <a:cubicBezTo>
                    <a:pt x="151" y="1425"/>
                    <a:pt x="151" y="1425"/>
                    <a:pt x="151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6" y="1485"/>
                    <a:pt x="120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3" y="1595"/>
                    <a:pt x="19" y="1600"/>
                    <a:pt x="15" y="1606"/>
                  </a:cubicBezTo>
                  <a:cubicBezTo>
                    <a:pt x="9" y="1616"/>
                    <a:pt x="4" y="1627"/>
                    <a:pt x="2" y="1639"/>
                  </a:cubicBezTo>
                  <a:cubicBezTo>
                    <a:pt x="1" y="1644"/>
                    <a:pt x="0" y="1650"/>
                    <a:pt x="1" y="1656"/>
                  </a:cubicBezTo>
                  <a:cubicBezTo>
                    <a:pt x="2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1" y="1681"/>
                  </a:cubicBezTo>
                  <a:cubicBezTo>
                    <a:pt x="12" y="1685"/>
                    <a:pt x="13" y="1688"/>
                    <a:pt x="15" y="1691"/>
                  </a:cubicBezTo>
                  <a:cubicBezTo>
                    <a:pt x="17" y="1691"/>
                    <a:pt x="17" y="1691"/>
                    <a:pt x="17" y="1691"/>
                  </a:cubicBezTo>
                  <a:cubicBezTo>
                    <a:pt x="20" y="1694"/>
                    <a:pt x="23" y="1698"/>
                    <a:pt x="26" y="1702"/>
                  </a:cubicBezTo>
                  <a:cubicBezTo>
                    <a:pt x="42" y="1719"/>
                    <a:pt x="59" y="1735"/>
                    <a:pt x="76" y="1751"/>
                  </a:cubicBezTo>
                  <a:cubicBezTo>
                    <a:pt x="93" y="1767"/>
                    <a:pt x="110" y="1783"/>
                    <a:pt x="125" y="1800"/>
                  </a:cubicBezTo>
                  <a:cubicBezTo>
                    <a:pt x="132" y="1809"/>
                    <a:pt x="139" y="1819"/>
                    <a:pt x="144" y="1829"/>
                  </a:cubicBezTo>
                  <a:cubicBezTo>
                    <a:pt x="148" y="1837"/>
                    <a:pt x="150" y="1846"/>
                    <a:pt x="151" y="1855"/>
                  </a:cubicBezTo>
                  <a:cubicBezTo>
                    <a:pt x="151" y="1855"/>
                    <a:pt x="151" y="1855"/>
                    <a:pt x="151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8" y="1959"/>
                    <a:pt x="80" y="1966"/>
                    <a:pt x="72" y="1973"/>
                  </a:cubicBezTo>
                  <a:cubicBezTo>
                    <a:pt x="61" y="1984"/>
                    <a:pt x="49" y="1995"/>
                    <a:pt x="39" y="2007"/>
                  </a:cubicBezTo>
                  <a:cubicBezTo>
                    <a:pt x="38" y="2008"/>
                    <a:pt x="37" y="2008"/>
                    <a:pt x="37" y="2009"/>
                  </a:cubicBezTo>
                  <a:cubicBezTo>
                    <a:pt x="29" y="2018"/>
                    <a:pt x="21" y="2027"/>
                    <a:pt x="15" y="2037"/>
                  </a:cubicBezTo>
                  <a:cubicBezTo>
                    <a:pt x="9" y="2047"/>
                    <a:pt x="4" y="2057"/>
                    <a:pt x="2" y="2069"/>
                  </a:cubicBezTo>
                  <a:cubicBezTo>
                    <a:pt x="1" y="2075"/>
                    <a:pt x="0" y="2081"/>
                    <a:pt x="1" y="2087"/>
                  </a:cubicBezTo>
                  <a:cubicBezTo>
                    <a:pt x="2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1" y="2114"/>
                    <a:pt x="13" y="2118"/>
                    <a:pt x="15" y="2122"/>
                  </a:cubicBezTo>
                  <a:cubicBezTo>
                    <a:pt x="18" y="2122"/>
                    <a:pt x="18" y="2122"/>
                    <a:pt x="18" y="2122"/>
                  </a:cubicBezTo>
                  <a:cubicBezTo>
                    <a:pt x="21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5" y="2137"/>
                    <a:pt x="34" y="2125"/>
                  </a:cubicBezTo>
                  <a:cubicBezTo>
                    <a:pt x="27" y="2117"/>
                    <a:pt x="21" y="2109"/>
                    <a:pt x="16" y="2101"/>
                  </a:cubicBezTo>
                  <a:cubicBezTo>
                    <a:pt x="15" y="2097"/>
                    <a:pt x="15" y="2093"/>
                    <a:pt x="14" y="2089"/>
                  </a:cubicBezTo>
                  <a:cubicBezTo>
                    <a:pt x="13" y="2068"/>
                    <a:pt x="21" y="2048"/>
                    <a:pt x="34" y="2030"/>
                  </a:cubicBezTo>
                  <a:cubicBezTo>
                    <a:pt x="47" y="2012"/>
                    <a:pt x="63" y="1997"/>
                    <a:pt x="80" y="1981"/>
                  </a:cubicBezTo>
                  <a:cubicBezTo>
                    <a:pt x="97" y="1965"/>
                    <a:pt x="115" y="1949"/>
                    <a:pt x="130" y="1931"/>
                  </a:cubicBezTo>
                  <a:cubicBezTo>
                    <a:pt x="138" y="1922"/>
                    <a:pt x="146" y="1912"/>
                    <a:pt x="151" y="1900"/>
                  </a:cubicBezTo>
                  <a:cubicBezTo>
                    <a:pt x="157" y="1889"/>
                    <a:pt x="162" y="1877"/>
                    <a:pt x="163" y="1863"/>
                  </a:cubicBezTo>
                  <a:cubicBezTo>
                    <a:pt x="163" y="1862"/>
                    <a:pt x="163" y="1860"/>
                    <a:pt x="163" y="1859"/>
                  </a:cubicBezTo>
                  <a:cubicBezTo>
                    <a:pt x="163" y="1860"/>
                    <a:pt x="163" y="1861"/>
                    <a:pt x="163" y="1862"/>
                  </a:cubicBezTo>
                  <a:cubicBezTo>
                    <a:pt x="164" y="1874"/>
                    <a:pt x="168" y="1886"/>
                    <a:pt x="173" y="1896"/>
                  </a:cubicBezTo>
                  <a:cubicBezTo>
                    <a:pt x="179" y="1907"/>
                    <a:pt x="186" y="1916"/>
                    <a:pt x="193" y="1925"/>
                  </a:cubicBezTo>
                  <a:cubicBezTo>
                    <a:pt x="208" y="1943"/>
                    <a:pt x="226" y="1958"/>
                    <a:pt x="242" y="1974"/>
                  </a:cubicBezTo>
                  <a:cubicBezTo>
                    <a:pt x="243" y="1975"/>
                    <a:pt x="243" y="1975"/>
                    <a:pt x="244" y="1975"/>
                  </a:cubicBezTo>
                  <a:cubicBezTo>
                    <a:pt x="250" y="1982"/>
                    <a:pt x="257" y="1988"/>
                    <a:pt x="264" y="1995"/>
                  </a:cubicBezTo>
                  <a:cubicBezTo>
                    <a:pt x="273" y="2004"/>
                    <a:pt x="282" y="2014"/>
                    <a:pt x="290" y="2025"/>
                  </a:cubicBezTo>
                  <a:cubicBezTo>
                    <a:pt x="296" y="2035"/>
                    <a:pt x="302" y="2045"/>
                    <a:pt x="306" y="2056"/>
                  </a:cubicBezTo>
                  <a:cubicBezTo>
                    <a:pt x="309" y="2067"/>
                    <a:pt x="311" y="2078"/>
                    <a:pt x="310" y="2090"/>
                  </a:cubicBezTo>
                  <a:cubicBezTo>
                    <a:pt x="309" y="2096"/>
                    <a:pt x="308" y="2102"/>
                    <a:pt x="306" y="2108"/>
                  </a:cubicBezTo>
                  <a:cubicBezTo>
                    <a:pt x="301" y="2116"/>
                    <a:pt x="295" y="2124"/>
                    <a:pt x="289" y="2131"/>
                  </a:cubicBezTo>
                  <a:cubicBezTo>
                    <a:pt x="280" y="2141"/>
                    <a:pt x="271" y="2150"/>
                    <a:pt x="261" y="2159"/>
                  </a:cubicBezTo>
                  <a:cubicBezTo>
                    <a:pt x="277" y="2159"/>
                    <a:pt x="277" y="2159"/>
                    <a:pt x="277" y="2159"/>
                  </a:cubicBezTo>
                  <a:cubicBezTo>
                    <a:pt x="284" y="2152"/>
                    <a:pt x="290" y="2145"/>
                    <a:pt x="297" y="2138"/>
                  </a:cubicBezTo>
                  <a:cubicBezTo>
                    <a:pt x="301" y="2133"/>
                    <a:pt x="305" y="2128"/>
                    <a:pt x="309" y="2122"/>
                  </a:cubicBezTo>
                  <a:cubicBezTo>
                    <a:pt x="309" y="2122"/>
                    <a:pt x="309" y="2122"/>
                    <a:pt x="309" y="2122"/>
                  </a:cubicBezTo>
                  <a:cubicBezTo>
                    <a:pt x="310" y="2122"/>
                    <a:pt x="310" y="2121"/>
                    <a:pt x="310" y="2120"/>
                  </a:cubicBezTo>
                  <a:cubicBezTo>
                    <a:pt x="313" y="2116"/>
                    <a:pt x="316" y="2112"/>
                    <a:pt x="318" y="2107"/>
                  </a:cubicBezTo>
                  <a:cubicBezTo>
                    <a:pt x="320" y="2102"/>
                    <a:pt x="322" y="2097"/>
                    <a:pt x="323" y="2092"/>
                  </a:cubicBezTo>
                  <a:cubicBezTo>
                    <a:pt x="323" y="2090"/>
                    <a:pt x="322" y="2088"/>
                    <a:pt x="322" y="2087"/>
                  </a:cubicBezTo>
                  <a:cubicBezTo>
                    <a:pt x="321" y="2081"/>
                    <a:pt x="322" y="2076"/>
                    <a:pt x="323" y="2071"/>
                  </a:cubicBezTo>
                  <a:cubicBezTo>
                    <a:pt x="323" y="2070"/>
                    <a:pt x="322" y="2069"/>
                    <a:pt x="322" y="2068"/>
                  </a:cubicBezTo>
                  <a:cubicBezTo>
                    <a:pt x="320" y="2055"/>
                    <a:pt x="314" y="2043"/>
                    <a:pt x="307" y="2033"/>
                  </a:cubicBezTo>
                  <a:cubicBezTo>
                    <a:pt x="306" y="2032"/>
                    <a:pt x="305" y="2030"/>
                    <a:pt x="304" y="2029"/>
                  </a:cubicBezTo>
                  <a:cubicBezTo>
                    <a:pt x="302" y="2026"/>
                    <a:pt x="300" y="2022"/>
                    <a:pt x="298" y="2019"/>
                  </a:cubicBezTo>
                  <a:cubicBezTo>
                    <a:pt x="284" y="1999"/>
                    <a:pt x="267" y="1982"/>
                    <a:pt x="250" y="1966"/>
                  </a:cubicBezTo>
                  <a:cubicBezTo>
                    <a:pt x="233" y="1950"/>
                    <a:pt x="216" y="1935"/>
                    <a:pt x="202" y="1917"/>
                  </a:cubicBezTo>
                  <a:cubicBezTo>
                    <a:pt x="188" y="1901"/>
                    <a:pt x="177" y="1881"/>
                    <a:pt x="175" y="1861"/>
                  </a:cubicBezTo>
                  <a:cubicBezTo>
                    <a:pt x="174" y="1852"/>
                    <a:pt x="177" y="1843"/>
                    <a:pt x="181" y="1833"/>
                  </a:cubicBezTo>
                  <a:cubicBezTo>
                    <a:pt x="186" y="1824"/>
                    <a:pt x="192" y="1815"/>
                    <a:pt x="199" y="1806"/>
                  </a:cubicBezTo>
                  <a:cubicBezTo>
                    <a:pt x="213" y="1789"/>
                    <a:pt x="230" y="1773"/>
                    <a:pt x="246" y="1757"/>
                  </a:cubicBezTo>
                  <a:cubicBezTo>
                    <a:pt x="263" y="1741"/>
                    <a:pt x="281" y="1726"/>
                    <a:pt x="297" y="1708"/>
                  </a:cubicBezTo>
                  <a:cubicBezTo>
                    <a:pt x="304" y="1698"/>
                    <a:pt x="312" y="1689"/>
                    <a:pt x="318" y="1677"/>
                  </a:cubicBezTo>
                  <a:cubicBezTo>
                    <a:pt x="320" y="1672"/>
                    <a:pt x="322" y="1667"/>
                    <a:pt x="323" y="1661"/>
                  </a:cubicBezTo>
                  <a:cubicBezTo>
                    <a:pt x="323" y="1660"/>
                    <a:pt x="322" y="1658"/>
                    <a:pt x="322" y="1656"/>
                  </a:cubicBezTo>
                  <a:cubicBezTo>
                    <a:pt x="321" y="1651"/>
                    <a:pt x="322" y="1646"/>
                    <a:pt x="323" y="1640"/>
                  </a:cubicBezTo>
                  <a:cubicBezTo>
                    <a:pt x="323" y="1639"/>
                    <a:pt x="322" y="1638"/>
                    <a:pt x="322" y="1637"/>
                  </a:cubicBezTo>
                  <a:cubicBezTo>
                    <a:pt x="320" y="1625"/>
                    <a:pt x="315" y="1614"/>
                    <a:pt x="308" y="1604"/>
                  </a:cubicBezTo>
                  <a:cubicBezTo>
                    <a:pt x="305" y="1599"/>
                    <a:pt x="302" y="1593"/>
                    <a:pt x="298" y="1588"/>
                  </a:cubicBezTo>
                  <a:cubicBezTo>
                    <a:pt x="284" y="1567"/>
                    <a:pt x="267" y="1551"/>
                    <a:pt x="250" y="1535"/>
                  </a:cubicBezTo>
                  <a:cubicBezTo>
                    <a:pt x="233" y="1519"/>
                    <a:pt x="216" y="1503"/>
                    <a:pt x="202" y="1486"/>
                  </a:cubicBezTo>
                  <a:cubicBezTo>
                    <a:pt x="188" y="1469"/>
                    <a:pt x="177" y="1450"/>
                    <a:pt x="175" y="1430"/>
                  </a:cubicBezTo>
                  <a:cubicBezTo>
                    <a:pt x="174" y="1421"/>
                    <a:pt x="177" y="1411"/>
                    <a:pt x="181" y="1402"/>
                  </a:cubicBezTo>
                  <a:cubicBezTo>
                    <a:pt x="186" y="1392"/>
                    <a:pt x="192" y="1383"/>
                    <a:pt x="199" y="1375"/>
                  </a:cubicBezTo>
                  <a:cubicBezTo>
                    <a:pt x="213" y="1357"/>
                    <a:pt x="230" y="1342"/>
                    <a:pt x="246" y="1326"/>
                  </a:cubicBezTo>
                  <a:cubicBezTo>
                    <a:pt x="263" y="1310"/>
                    <a:pt x="281" y="1294"/>
                    <a:pt x="297" y="1276"/>
                  </a:cubicBezTo>
                  <a:cubicBezTo>
                    <a:pt x="301" y="1271"/>
                    <a:pt x="305" y="1266"/>
                    <a:pt x="308" y="1261"/>
                  </a:cubicBezTo>
                  <a:cubicBezTo>
                    <a:pt x="309" y="1261"/>
                    <a:pt x="309" y="1261"/>
                    <a:pt x="309" y="1261"/>
                  </a:cubicBezTo>
                  <a:cubicBezTo>
                    <a:pt x="310" y="1259"/>
                    <a:pt x="311" y="1258"/>
                    <a:pt x="312" y="1256"/>
                  </a:cubicBezTo>
                  <a:cubicBezTo>
                    <a:pt x="314" y="1252"/>
                    <a:pt x="316" y="1249"/>
                    <a:pt x="318" y="1245"/>
                  </a:cubicBezTo>
                  <a:cubicBezTo>
                    <a:pt x="320" y="1240"/>
                    <a:pt x="322" y="1235"/>
                    <a:pt x="323" y="1230"/>
                  </a:cubicBezTo>
                  <a:cubicBezTo>
                    <a:pt x="323" y="1228"/>
                    <a:pt x="322" y="1226"/>
                    <a:pt x="322" y="1225"/>
                  </a:cubicBezTo>
                  <a:cubicBezTo>
                    <a:pt x="321" y="1219"/>
                    <a:pt x="322" y="1214"/>
                    <a:pt x="323" y="1209"/>
                  </a:cubicBezTo>
                  <a:cubicBezTo>
                    <a:pt x="323" y="1208"/>
                    <a:pt x="322" y="1207"/>
                    <a:pt x="322" y="1206"/>
                  </a:cubicBezTo>
                  <a:cubicBezTo>
                    <a:pt x="320" y="1193"/>
                    <a:pt x="314" y="1181"/>
                    <a:pt x="307" y="1171"/>
                  </a:cubicBezTo>
                  <a:cubicBezTo>
                    <a:pt x="305" y="1168"/>
                    <a:pt x="302" y="1164"/>
                    <a:pt x="300" y="1161"/>
                  </a:cubicBezTo>
                  <a:cubicBezTo>
                    <a:pt x="299" y="1160"/>
                    <a:pt x="299" y="1159"/>
                    <a:pt x="298" y="1158"/>
                  </a:cubicBezTo>
                  <a:cubicBezTo>
                    <a:pt x="284" y="1138"/>
                    <a:pt x="267" y="1122"/>
                    <a:pt x="250" y="1105"/>
                  </a:cubicBezTo>
                  <a:cubicBezTo>
                    <a:pt x="233" y="1089"/>
                    <a:pt x="216" y="1074"/>
                    <a:pt x="202" y="1057"/>
                  </a:cubicBezTo>
                  <a:cubicBezTo>
                    <a:pt x="188" y="1040"/>
                    <a:pt x="177" y="1020"/>
                    <a:pt x="175" y="1000"/>
                  </a:cubicBezTo>
                  <a:cubicBezTo>
                    <a:pt x="174" y="991"/>
                    <a:pt x="177" y="982"/>
                    <a:pt x="181" y="972"/>
                  </a:cubicBezTo>
                  <a:cubicBezTo>
                    <a:pt x="186" y="963"/>
                    <a:pt x="192" y="954"/>
                    <a:pt x="199" y="945"/>
                  </a:cubicBezTo>
                  <a:cubicBezTo>
                    <a:pt x="213" y="928"/>
                    <a:pt x="230" y="912"/>
                    <a:pt x="246" y="896"/>
                  </a:cubicBezTo>
                  <a:cubicBezTo>
                    <a:pt x="263" y="880"/>
                    <a:pt x="281" y="865"/>
                    <a:pt x="297" y="847"/>
                  </a:cubicBezTo>
                  <a:cubicBezTo>
                    <a:pt x="304" y="837"/>
                    <a:pt x="312" y="828"/>
                    <a:pt x="318" y="816"/>
                  </a:cubicBezTo>
                  <a:cubicBezTo>
                    <a:pt x="320" y="811"/>
                    <a:pt x="322" y="806"/>
                    <a:pt x="323" y="800"/>
                  </a:cubicBezTo>
                  <a:cubicBezTo>
                    <a:pt x="323" y="799"/>
                    <a:pt x="322" y="797"/>
                    <a:pt x="322" y="795"/>
                  </a:cubicBezTo>
                  <a:cubicBezTo>
                    <a:pt x="321" y="790"/>
                    <a:pt x="322" y="785"/>
                    <a:pt x="323" y="779"/>
                  </a:cubicBezTo>
                  <a:cubicBezTo>
                    <a:pt x="323" y="778"/>
                    <a:pt x="322" y="777"/>
                    <a:pt x="322" y="776"/>
                  </a:cubicBezTo>
                  <a:cubicBezTo>
                    <a:pt x="320" y="766"/>
                    <a:pt x="316" y="756"/>
                    <a:pt x="311" y="748"/>
                  </a:cubicBezTo>
                  <a:cubicBezTo>
                    <a:pt x="307" y="740"/>
                    <a:pt x="303" y="732"/>
                    <a:pt x="298" y="726"/>
                  </a:cubicBezTo>
                  <a:cubicBezTo>
                    <a:pt x="284" y="705"/>
                    <a:pt x="267" y="689"/>
                    <a:pt x="250" y="673"/>
                  </a:cubicBezTo>
                  <a:cubicBezTo>
                    <a:pt x="233" y="656"/>
                    <a:pt x="216" y="641"/>
                    <a:pt x="202" y="624"/>
                  </a:cubicBezTo>
                  <a:cubicBezTo>
                    <a:pt x="188" y="607"/>
                    <a:pt x="177" y="588"/>
                    <a:pt x="175" y="568"/>
                  </a:cubicBezTo>
                  <a:cubicBezTo>
                    <a:pt x="174" y="558"/>
                    <a:pt x="177" y="549"/>
                    <a:pt x="181" y="540"/>
                  </a:cubicBezTo>
                  <a:cubicBezTo>
                    <a:pt x="186" y="530"/>
                    <a:pt x="192" y="521"/>
                    <a:pt x="199" y="513"/>
                  </a:cubicBezTo>
                  <a:cubicBezTo>
                    <a:pt x="213" y="495"/>
                    <a:pt x="230" y="480"/>
                    <a:pt x="246" y="464"/>
                  </a:cubicBezTo>
                  <a:cubicBezTo>
                    <a:pt x="263" y="448"/>
                    <a:pt x="281" y="432"/>
                    <a:pt x="297" y="414"/>
                  </a:cubicBezTo>
                  <a:cubicBezTo>
                    <a:pt x="304" y="405"/>
                    <a:pt x="312" y="395"/>
                    <a:pt x="318" y="383"/>
                  </a:cubicBezTo>
                  <a:cubicBezTo>
                    <a:pt x="320" y="378"/>
                    <a:pt x="322" y="373"/>
                    <a:pt x="323" y="367"/>
                  </a:cubicBezTo>
                  <a:cubicBezTo>
                    <a:pt x="323" y="366"/>
                    <a:pt x="322" y="364"/>
                    <a:pt x="322" y="363"/>
                  </a:cubicBezTo>
                  <a:cubicBezTo>
                    <a:pt x="321" y="357"/>
                    <a:pt x="322" y="352"/>
                    <a:pt x="323" y="347"/>
                  </a:cubicBezTo>
                  <a:cubicBezTo>
                    <a:pt x="323" y="346"/>
                    <a:pt x="322" y="345"/>
                    <a:pt x="322" y="344"/>
                  </a:cubicBezTo>
                  <a:cubicBezTo>
                    <a:pt x="320" y="333"/>
                    <a:pt x="316" y="324"/>
                    <a:pt x="311" y="315"/>
                  </a:cubicBezTo>
                  <a:cubicBezTo>
                    <a:pt x="307" y="307"/>
                    <a:pt x="303" y="300"/>
                    <a:pt x="298" y="293"/>
                  </a:cubicBezTo>
                  <a:cubicBezTo>
                    <a:pt x="284" y="273"/>
                    <a:pt x="267" y="256"/>
                    <a:pt x="250" y="240"/>
                  </a:cubicBezTo>
                  <a:cubicBezTo>
                    <a:pt x="233" y="224"/>
                    <a:pt x="216" y="208"/>
                    <a:pt x="202" y="191"/>
                  </a:cubicBezTo>
                  <a:cubicBezTo>
                    <a:pt x="188" y="174"/>
                    <a:pt x="177" y="155"/>
                    <a:pt x="175" y="135"/>
                  </a:cubicBezTo>
                  <a:cubicBezTo>
                    <a:pt x="174" y="126"/>
                    <a:pt x="177" y="116"/>
                    <a:pt x="181" y="107"/>
                  </a:cubicBezTo>
                  <a:cubicBezTo>
                    <a:pt x="186" y="97"/>
                    <a:pt x="192" y="88"/>
                    <a:pt x="199" y="80"/>
                  </a:cubicBezTo>
                  <a:cubicBezTo>
                    <a:pt x="213" y="63"/>
                    <a:pt x="230" y="47"/>
                    <a:pt x="246" y="31"/>
                  </a:cubicBezTo>
                  <a:cubicBezTo>
                    <a:pt x="257" y="21"/>
                    <a:pt x="268" y="10"/>
                    <a:pt x="279" y="0"/>
                  </a:cubicBezTo>
                  <a:cubicBezTo>
                    <a:pt x="264" y="0"/>
                    <a:pt x="264" y="0"/>
                    <a:pt x="264" y="0"/>
                  </a:cubicBezTo>
                  <a:cubicBezTo>
                    <a:pt x="255" y="7"/>
                    <a:pt x="247" y="15"/>
                    <a:pt x="239" y="23"/>
                  </a:cubicBezTo>
                  <a:cubicBezTo>
                    <a:pt x="222" y="39"/>
                    <a:pt x="205" y="54"/>
                    <a:pt x="190" y="72"/>
                  </a:cubicBezTo>
                  <a:cubicBezTo>
                    <a:pt x="182" y="81"/>
                    <a:pt x="176" y="91"/>
                    <a:pt x="170" y="102"/>
                  </a:cubicBezTo>
                  <a:cubicBezTo>
                    <a:pt x="166" y="110"/>
                    <a:pt x="163" y="120"/>
                    <a:pt x="163" y="130"/>
                  </a:cubicBezTo>
                  <a:cubicBezTo>
                    <a:pt x="163" y="125"/>
                    <a:pt x="162" y="121"/>
                    <a:pt x="161" y="116"/>
                  </a:cubicBezTo>
                  <a:cubicBezTo>
                    <a:pt x="160" y="109"/>
                    <a:pt x="157" y="103"/>
                    <a:pt x="154" y="97"/>
                  </a:cubicBezTo>
                  <a:cubicBezTo>
                    <a:pt x="149" y="86"/>
                    <a:pt x="141" y="76"/>
                    <a:pt x="134" y="66"/>
                  </a:cubicBezTo>
                  <a:cubicBezTo>
                    <a:pt x="118" y="48"/>
                    <a:pt x="101" y="32"/>
                    <a:pt x="84" y="16"/>
                  </a:cubicBezTo>
                  <a:cubicBezTo>
                    <a:pt x="78" y="11"/>
                    <a:pt x="72" y="5"/>
                    <a:pt x="66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8" y="8"/>
                    <a:pt x="67" y="16"/>
                    <a:pt x="76" y="24"/>
                  </a:cubicBezTo>
                  <a:cubicBezTo>
                    <a:pt x="93" y="40"/>
                    <a:pt x="110" y="56"/>
                    <a:pt x="125" y="74"/>
                  </a:cubicBezTo>
                  <a:close/>
                  <a:moveTo>
                    <a:pt x="193" y="1493"/>
                  </a:moveTo>
                  <a:cubicBezTo>
                    <a:pt x="200" y="1502"/>
                    <a:pt x="208" y="1510"/>
                    <a:pt x="216" y="1517"/>
                  </a:cubicBezTo>
                  <a:cubicBezTo>
                    <a:pt x="220" y="1522"/>
                    <a:pt x="225" y="1526"/>
                    <a:pt x="229" y="1531"/>
                  </a:cubicBezTo>
                  <a:cubicBezTo>
                    <a:pt x="245" y="1547"/>
                    <a:pt x="263" y="1563"/>
                    <a:pt x="278" y="1580"/>
                  </a:cubicBezTo>
                  <a:cubicBezTo>
                    <a:pt x="280" y="1582"/>
                    <a:pt x="282" y="1584"/>
                    <a:pt x="284" y="1586"/>
                  </a:cubicBezTo>
                  <a:cubicBezTo>
                    <a:pt x="286" y="1589"/>
                    <a:pt x="288" y="1591"/>
                    <a:pt x="290" y="1594"/>
                  </a:cubicBezTo>
                  <a:cubicBezTo>
                    <a:pt x="296" y="1603"/>
                    <a:pt x="302" y="1613"/>
                    <a:pt x="306" y="1624"/>
                  </a:cubicBezTo>
                  <a:cubicBezTo>
                    <a:pt x="309" y="1635"/>
                    <a:pt x="311" y="1647"/>
                    <a:pt x="310" y="1658"/>
                  </a:cubicBezTo>
                  <a:cubicBezTo>
                    <a:pt x="309" y="1666"/>
                    <a:pt x="307" y="1673"/>
                    <a:pt x="304" y="1680"/>
                  </a:cubicBezTo>
                  <a:cubicBezTo>
                    <a:pt x="300" y="1687"/>
                    <a:pt x="294" y="1694"/>
                    <a:pt x="289" y="1701"/>
                  </a:cubicBezTo>
                  <a:cubicBezTo>
                    <a:pt x="273" y="1718"/>
                    <a:pt x="256" y="1733"/>
                    <a:pt x="239" y="1749"/>
                  </a:cubicBezTo>
                  <a:cubicBezTo>
                    <a:pt x="222" y="1765"/>
                    <a:pt x="205" y="1781"/>
                    <a:pt x="190" y="1799"/>
                  </a:cubicBezTo>
                  <a:cubicBezTo>
                    <a:pt x="182" y="1808"/>
                    <a:pt x="176" y="1818"/>
                    <a:pt x="170" y="1828"/>
                  </a:cubicBezTo>
                  <a:cubicBezTo>
                    <a:pt x="166" y="1837"/>
                    <a:pt x="163" y="1847"/>
                    <a:pt x="163" y="1857"/>
                  </a:cubicBezTo>
                  <a:cubicBezTo>
                    <a:pt x="163" y="1852"/>
                    <a:pt x="162" y="1847"/>
                    <a:pt x="161" y="1843"/>
                  </a:cubicBezTo>
                  <a:cubicBezTo>
                    <a:pt x="160" y="1836"/>
                    <a:pt x="157" y="1830"/>
                    <a:pt x="154" y="1824"/>
                  </a:cubicBezTo>
                  <a:cubicBezTo>
                    <a:pt x="149" y="1812"/>
                    <a:pt x="141" y="1802"/>
                    <a:pt x="134" y="1793"/>
                  </a:cubicBezTo>
                  <a:cubicBezTo>
                    <a:pt x="118" y="1774"/>
                    <a:pt x="101" y="1758"/>
                    <a:pt x="84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7" y="1671"/>
                  </a:cubicBezTo>
                  <a:cubicBezTo>
                    <a:pt x="15" y="1667"/>
                    <a:pt x="15" y="1662"/>
                    <a:pt x="14" y="1658"/>
                  </a:cubicBezTo>
                  <a:cubicBezTo>
                    <a:pt x="13" y="1637"/>
                    <a:pt x="21" y="1616"/>
                    <a:pt x="34" y="1599"/>
                  </a:cubicBezTo>
                  <a:cubicBezTo>
                    <a:pt x="47" y="1581"/>
                    <a:pt x="63" y="1565"/>
                    <a:pt x="80" y="1549"/>
                  </a:cubicBezTo>
                  <a:cubicBezTo>
                    <a:pt x="97" y="1534"/>
                    <a:pt x="115" y="1518"/>
                    <a:pt x="130" y="1499"/>
                  </a:cubicBezTo>
                  <a:cubicBezTo>
                    <a:pt x="138" y="1490"/>
                    <a:pt x="146" y="1480"/>
                    <a:pt x="151" y="1469"/>
                  </a:cubicBezTo>
                  <a:cubicBezTo>
                    <a:pt x="157" y="1458"/>
                    <a:pt x="162" y="1445"/>
                    <a:pt x="163" y="1432"/>
                  </a:cubicBezTo>
                  <a:cubicBezTo>
                    <a:pt x="163" y="1430"/>
                    <a:pt x="163" y="1429"/>
                    <a:pt x="163" y="1427"/>
                  </a:cubicBezTo>
                  <a:cubicBezTo>
                    <a:pt x="163" y="1428"/>
                    <a:pt x="163" y="1430"/>
                    <a:pt x="163" y="1431"/>
                  </a:cubicBezTo>
                  <a:cubicBezTo>
                    <a:pt x="164" y="1443"/>
                    <a:pt x="168" y="1454"/>
                    <a:pt x="173" y="1464"/>
                  </a:cubicBezTo>
                  <a:cubicBezTo>
                    <a:pt x="179" y="1475"/>
                    <a:pt x="186" y="1484"/>
                    <a:pt x="193" y="1493"/>
                  </a:cubicBezTo>
                  <a:close/>
                  <a:moveTo>
                    <a:pt x="193" y="1064"/>
                  </a:moveTo>
                  <a:cubicBezTo>
                    <a:pt x="208" y="1082"/>
                    <a:pt x="226" y="1098"/>
                    <a:pt x="242" y="1113"/>
                  </a:cubicBezTo>
                  <a:cubicBezTo>
                    <a:pt x="259" y="1129"/>
                    <a:pt x="276" y="1146"/>
                    <a:pt x="290" y="1164"/>
                  </a:cubicBezTo>
                  <a:cubicBezTo>
                    <a:pt x="296" y="1174"/>
                    <a:pt x="302" y="1184"/>
                    <a:pt x="306" y="1195"/>
                  </a:cubicBezTo>
                  <a:cubicBezTo>
                    <a:pt x="309" y="1206"/>
                    <a:pt x="311" y="1218"/>
                    <a:pt x="310" y="1229"/>
                  </a:cubicBezTo>
                  <a:cubicBezTo>
                    <a:pt x="309" y="1234"/>
                    <a:pt x="308" y="1239"/>
                    <a:pt x="307" y="1244"/>
                  </a:cubicBezTo>
                  <a:cubicBezTo>
                    <a:pt x="302" y="1253"/>
                    <a:pt x="295" y="1261"/>
                    <a:pt x="289" y="1269"/>
                  </a:cubicBezTo>
                  <a:cubicBezTo>
                    <a:pt x="273" y="1286"/>
                    <a:pt x="256" y="1302"/>
                    <a:pt x="239" y="1318"/>
                  </a:cubicBezTo>
                  <a:cubicBezTo>
                    <a:pt x="222" y="1333"/>
                    <a:pt x="205" y="1349"/>
                    <a:pt x="190" y="1367"/>
                  </a:cubicBezTo>
                  <a:cubicBezTo>
                    <a:pt x="182" y="1376"/>
                    <a:pt x="176" y="1386"/>
                    <a:pt x="170" y="1396"/>
                  </a:cubicBezTo>
                  <a:cubicBezTo>
                    <a:pt x="166" y="1405"/>
                    <a:pt x="163" y="1415"/>
                    <a:pt x="163" y="1425"/>
                  </a:cubicBezTo>
                  <a:cubicBezTo>
                    <a:pt x="163" y="1420"/>
                    <a:pt x="162" y="1415"/>
                    <a:pt x="161" y="1411"/>
                  </a:cubicBezTo>
                  <a:cubicBezTo>
                    <a:pt x="160" y="1404"/>
                    <a:pt x="157" y="1398"/>
                    <a:pt x="154" y="1392"/>
                  </a:cubicBezTo>
                  <a:cubicBezTo>
                    <a:pt x="149" y="1381"/>
                    <a:pt x="141" y="1371"/>
                    <a:pt x="134" y="1361"/>
                  </a:cubicBezTo>
                  <a:cubicBezTo>
                    <a:pt x="118" y="1343"/>
                    <a:pt x="101" y="1327"/>
                    <a:pt x="84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7" y="1255"/>
                    <a:pt x="20" y="1247"/>
                    <a:pt x="16" y="1238"/>
                  </a:cubicBezTo>
                  <a:cubicBezTo>
                    <a:pt x="15" y="1235"/>
                    <a:pt x="15" y="1232"/>
                    <a:pt x="14" y="1228"/>
                  </a:cubicBezTo>
                  <a:cubicBezTo>
                    <a:pt x="13" y="1207"/>
                    <a:pt x="21" y="1187"/>
                    <a:pt x="34" y="1169"/>
                  </a:cubicBezTo>
                  <a:cubicBezTo>
                    <a:pt x="47" y="1152"/>
                    <a:pt x="63" y="1136"/>
                    <a:pt x="80" y="1120"/>
                  </a:cubicBezTo>
                  <a:cubicBezTo>
                    <a:pt x="97" y="1104"/>
                    <a:pt x="115" y="1089"/>
                    <a:pt x="130" y="1070"/>
                  </a:cubicBezTo>
                  <a:cubicBezTo>
                    <a:pt x="138" y="1061"/>
                    <a:pt x="146" y="1051"/>
                    <a:pt x="151" y="1039"/>
                  </a:cubicBezTo>
                  <a:cubicBezTo>
                    <a:pt x="157" y="1028"/>
                    <a:pt x="162" y="1016"/>
                    <a:pt x="163" y="1002"/>
                  </a:cubicBezTo>
                  <a:cubicBezTo>
                    <a:pt x="163" y="1001"/>
                    <a:pt x="163" y="999"/>
                    <a:pt x="163" y="998"/>
                  </a:cubicBezTo>
                  <a:cubicBezTo>
                    <a:pt x="163" y="999"/>
                    <a:pt x="163" y="1000"/>
                    <a:pt x="163" y="1001"/>
                  </a:cubicBezTo>
                  <a:cubicBezTo>
                    <a:pt x="164" y="1013"/>
                    <a:pt x="168" y="1025"/>
                    <a:pt x="173" y="1035"/>
                  </a:cubicBezTo>
                  <a:cubicBezTo>
                    <a:pt x="179" y="1046"/>
                    <a:pt x="186" y="1055"/>
                    <a:pt x="193" y="1064"/>
                  </a:cubicBezTo>
                  <a:close/>
                  <a:moveTo>
                    <a:pt x="193" y="631"/>
                  </a:moveTo>
                  <a:cubicBezTo>
                    <a:pt x="196" y="635"/>
                    <a:pt x="199" y="638"/>
                    <a:pt x="203" y="642"/>
                  </a:cubicBezTo>
                  <a:cubicBezTo>
                    <a:pt x="211" y="652"/>
                    <a:pt x="220" y="661"/>
                    <a:pt x="229" y="670"/>
                  </a:cubicBezTo>
                  <a:cubicBezTo>
                    <a:pt x="245" y="686"/>
                    <a:pt x="263" y="702"/>
                    <a:pt x="278" y="719"/>
                  </a:cubicBezTo>
                  <a:cubicBezTo>
                    <a:pt x="283" y="724"/>
                    <a:pt x="288" y="730"/>
                    <a:pt x="292" y="735"/>
                  </a:cubicBezTo>
                  <a:cubicBezTo>
                    <a:pt x="298" y="744"/>
                    <a:pt x="302" y="753"/>
                    <a:pt x="306" y="762"/>
                  </a:cubicBezTo>
                  <a:cubicBezTo>
                    <a:pt x="309" y="773"/>
                    <a:pt x="311" y="785"/>
                    <a:pt x="310" y="796"/>
                  </a:cubicBezTo>
                  <a:cubicBezTo>
                    <a:pt x="309" y="805"/>
                    <a:pt x="307" y="813"/>
                    <a:pt x="303" y="821"/>
                  </a:cubicBezTo>
                  <a:cubicBezTo>
                    <a:pt x="299" y="827"/>
                    <a:pt x="294" y="834"/>
                    <a:pt x="289" y="840"/>
                  </a:cubicBezTo>
                  <a:cubicBezTo>
                    <a:pt x="273" y="857"/>
                    <a:pt x="256" y="872"/>
                    <a:pt x="239" y="888"/>
                  </a:cubicBezTo>
                  <a:cubicBezTo>
                    <a:pt x="222" y="904"/>
                    <a:pt x="205" y="920"/>
                    <a:pt x="190" y="938"/>
                  </a:cubicBezTo>
                  <a:cubicBezTo>
                    <a:pt x="182" y="947"/>
                    <a:pt x="176" y="957"/>
                    <a:pt x="170" y="967"/>
                  </a:cubicBezTo>
                  <a:cubicBezTo>
                    <a:pt x="166" y="976"/>
                    <a:pt x="163" y="986"/>
                    <a:pt x="163" y="996"/>
                  </a:cubicBezTo>
                  <a:cubicBezTo>
                    <a:pt x="163" y="991"/>
                    <a:pt x="162" y="986"/>
                    <a:pt x="161" y="982"/>
                  </a:cubicBezTo>
                  <a:cubicBezTo>
                    <a:pt x="160" y="975"/>
                    <a:pt x="157" y="969"/>
                    <a:pt x="154" y="963"/>
                  </a:cubicBezTo>
                  <a:cubicBezTo>
                    <a:pt x="149" y="951"/>
                    <a:pt x="141" y="941"/>
                    <a:pt x="134" y="932"/>
                  </a:cubicBezTo>
                  <a:cubicBezTo>
                    <a:pt x="118" y="913"/>
                    <a:pt x="101" y="897"/>
                    <a:pt x="84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8" y="827"/>
                    <a:pt x="22" y="819"/>
                    <a:pt x="17" y="811"/>
                  </a:cubicBezTo>
                  <a:cubicBezTo>
                    <a:pt x="16" y="806"/>
                    <a:pt x="15" y="801"/>
                    <a:pt x="14" y="795"/>
                  </a:cubicBezTo>
                  <a:cubicBezTo>
                    <a:pt x="13" y="774"/>
                    <a:pt x="21" y="754"/>
                    <a:pt x="34" y="737"/>
                  </a:cubicBezTo>
                  <a:cubicBezTo>
                    <a:pt x="47" y="719"/>
                    <a:pt x="63" y="703"/>
                    <a:pt x="80" y="687"/>
                  </a:cubicBezTo>
                  <a:cubicBezTo>
                    <a:pt x="97" y="671"/>
                    <a:pt x="115" y="656"/>
                    <a:pt x="130" y="637"/>
                  </a:cubicBezTo>
                  <a:cubicBezTo>
                    <a:pt x="138" y="628"/>
                    <a:pt x="146" y="618"/>
                    <a:pt x="151" y="607"/>
                  </a:cubicBezTo>
                  <a:cubicBezTo>
                    <a:pt x="157" y="595"/>
                    <a:pt x="162" y="583"/>
                    <a:pt x="163" y="570"/>
                  </a:cubicBezTo>
                  <a:cubicBezTo>
                    <a:pt x="163" y="568"/>
                    <a:pt x="163" y="567"/>
                    <a:pt x="163" y="565"/>
                  </a:cubicBezTo>
                  <a:cubicBezTo>
                    <a:pt x="163" y="566"/>
                    <a:pt x="163" y="568"/>
                    <a:pt x="163" y="569"/>
                  </a:cubicBezTo>
                  <a:cubicBezTo>
                    <a:pt x="164" y="580"/>
                    <a:pt x="168" y="592"/>
                    <a:pt x="173" y="602"/>
                  </a:cubicBezTo>
                  <a:cubicBezTo>
                    <a:pt x="179" y="613"/>
                    <a:pt x="186" y="622"/>
                    <a:pt x="193" y="631"/>
                  </a:cubicBezTo>
                  <a:close/>
                  <a:moveTo>
                    <a:pt x="163" y="137"/>
                  </a:moveTo>
                  <a:cubicBezTo>
                    <a:pt x="163" y="135"/>
                    <a:pt x="163" y="134"/>
                    <a:pt x="163" y="132"/>
                  </a:cubicBezTo>
                  <a:cubicBezTo>
                    <a:pt x="163" y="134"/>
                    <a:pt x="163" y="135"/>
                    <a:pt x="163" y="136"/>
                  </a:cubicBezTo>
                  <a:cubicBezTo>
                    <a:pt x="164" y="148"/>
                    <a:pt x="168" y="159"/>
                    <a:pt x="173" y="170"/>
                  </a:cubicBezTo>
                  <a:cubicBezTo>
                    <a:pt x="179" y="180"/>
                    <a:pt x="186" y="190"/>
                    <a:pt x="193" y="198"/>
                  </a:cubicBezTo>
                  <a:cubicBezTo>
                    <a:pt x="196" y="202"/>
                    <a:pt x="199" y="206"/>
                    <a:pt x="203" y="209"/>
                  </a:cubicBezTo>
                  <a:cubicBezTo>
                    <a:pt x="211" y="219"/>
                    <a:pt x="220" y="228"/>
                    <a:pt x="229" y="237"/>
                  </a:cubicBezTo>
                  <a:cubicBezTo>
                    <a:pt x="245" y="254"/>
                    <a:pt x="263" y="269"/>
                    <a:pt x="278" y="286"/>
                  </a:cubicBezTo>
                  <a:cubicBezTo>
                    <a:pt x="283" y="291"/>
                    <a:pt x="288" y="297"/>
                    <a:pt x="292" y="302"/>
                  </a:cubicBezTo>
                  <a:cubicBezTo>
                    <a:pt x="298" y="311"/>
                    <a:pt x="302" y="320"/>
                    <a:pt x="306" y="329"/>
                  </a:cubicBezTo>
                  <a:cubicBezTo>
                    <a:pt x="309" y="340"/>
                    <a:pt x="311" y="352"/>
                    <a:pt x="310" y="363"/>
                  </a:cubicBezTo>
                  <a:cubicBezTo>
                    <a:pt x="309" y="372"/>
                    <a:pt x="307" y="380"/>
                    <a:pt x="303" y="388"/>
                  </a:cubicBezTo>
                  <a:cubicBezTo>
                    <a:pt x="299" y="395"/>
                    <a:pt x="294" y="401"/>
                    <a:pt x="289" y="407"/>
                  </a:cubicBezTo>
                  <a:cubicBezTo>
                    <a:pt x="273" y="424"/>
                    <a:pt x="256" y="440"/>
                    <a:pt x="239" y="455"/>
                  </a:cubicBezTo>
                  <a:cubicBezTo>
                    <a:pt x="222" y="471"/>
                    <a:pt x="205" y="487"/>
                    <a:pt x="190" y="505"/>
                  </a:cubicBezTo>
                  <a:cubicBezTo>
                    <a:pt x="182" y="514"/>
                    <a:pt x="176" y="524"/>
                    <a:pt x="170" y="534"/>
                  </a:cubicBezTo>
                  <a:cubicBezTo>
                    <a:pt x="166" y="543"/>
                    <a:pt x="163" y="553"/>
                    <a:pt x="163" y="563"/>
                  </a:cubicBezTo>
                  <a:cubicBezTo>
                    <a:pt x="163" y="558"/>
                    <a:pt x="162" y="553"/>
                    <a:pt x="161" y="549"/>
                  </a:cubicBezTo>
                  <a:cubicBezTo>
                    <a:pt x="160" y="542"/>
                    <a:pt x="157" y="536"/>
                    <a:pt x="154" y="530"/>
                  </a:cubicBezTo>
                  <a:cubicBezTo>
                    <a:pt x="149" y="519"/>
                    <a:pt x="141" y="509"/>
                    <a:pt x="134" y="499"/>
                  </a:cubicBezTo>
                  <a:cubicBezTo>
                    <a:pt x="118" y="481"/>
                    <a:pt x="101" y="465"/>
                    <a:pt x="84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8" y="394"/>
                    <a:pt x="22" y="386"/>
                    <a:pt x="17" y="379"/>
                  </a:cubicBezTo>
                  <a:cubicBezTo>
                    <a:pt x="16" y="373"/>
                    <a:pt x="15" y="368"/>
                    <a:pt x="14" y="363"/>
                  </a:cubicBezTo>
                  <a:cubicBezTo>
                    <a:pt x="13" y="342"/>
                    <a:pt x="21" y="322"/>
                    <a:pt x="34" y="304"/>
                  </a:cubicBezTo>
                  <a:cubicBezTo>
                    <a:pt x="47" y="286"/>
                    <a:pt x="63" y="270"/>
                    <a:pt x="80" y="254"/>
                  </a:cubicBezTo>
                  <a:cubicBezTo>
                    <a:pt x="97" y="239"/>
                    <a:pt x="115" y="223"/>
                    <a:pt x="130" y="204"/>
                  </a:cubicBezTo>
                  <a:cubicBezTo>
                    <a:pt x="138" y="195"/>
                    <a:pt x="146" y="185"/>
                    <a:pt x="151" y="174"/>
                  </a:cubicBezTo>
                  <a:cubicBezTo>
                    <a:pt x="157" y="163"/>
                    <a:pt x="162" y="150"/>
                    <a:pt x="163" y="137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76" name="Freeform 10"/>
            <p:cNvSpPr/>
            <p:nvPr/>
          </p:nvSpPr>
          <p:spPr>
            <a:xfrm>
              <a:off x="6593040" y="-1440"/>
              <a:ext cx="514080" cy="686232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2" h="2159">
                  <a:moveTo>
                    <a:pt x="124" y="74"/>
                  </a:moveTo>
                  <a:cubicBezTo>
                    <a:pt x="132" y="83"/>
                    <a:pt x="139" y="92"/>
                    <a:pt x="144" y="103"/>
                  </a:cubicBezTo>
                  <a:cubicBezTo>
                    <a:pt x="148" y="111"/>
                    <a:pt x="151" y="121"/>
                    <a:pt x="151" y="131"/>
                  </a:cubicBezTo>
                  <a:cubicBezTo>
                    <a:pt x="150" y="131"/>
                    <a:pt x="150" y="131"/>
                    <a:pt x="150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2" y="197"/>
                    <a:pt x="121" y="197"/>
                  </a:cubicBezTo>
                  <a:cubicBezTo>
                    <a:pt x="106" y="215"/>
                    <a:pt x="89" y="230"/>
                    <a:pt x="72" y="246"/>
                  </a:cubicBezTo>
                  <a:cubicBezTo>
                    <a:pt x="55" y="262"/>
                    <a:pt x="38" y="279"/>
                    <a:pt x="25" y="298"/>
                  </a:cubicBezTo>
                  <a:cubicBezTo>
                    <a:pt x="23" y="300"/>
                    <a:pt x="22" y="302"/>
                    <a:pt x="20" y="305"/>
                  </a:cubicBezTo>
                  <a:cubicBezTo>
                    <a:pt x="18" y="307"/>
                    <a:pt x="17" y="310"/>
                    <a:pt x="15" y="313"/>
                  </a:cubicBezTo>
                  <a:cubicBezTo>
                    <a:pt x="9" y="322"/>
                    <a:pt x="4" y="333"/>
                    <a:pt x="2" y="345"/>
                  </a:cubicBezTo>
                  <a:cubicBezTo>
                    <a:pt x="1" y="351"/>
                    <a:pt x="0" y="357"/>
                    <a:pt x="1" y="363"/>
                  </a:cubicBezTo>
                  <a:cubicBezTo>
                    <a:pt x="1" y="369"/>
                    <a:pt x="3" y="374"/>
                    <a:pt x="6" y="379"/>
                  </a:cubicBezTo>
                  <a:cubicBezTo>
                    <a:pt x="8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2" y="404"/>
                    <a:pt x="26" y="408"/>
                  </a:cubicBezTo>
                  <a:cubicBezTo>
                    <a:pt x="41" y="426"/>
                    <a:pt x="59" y="441"/>
                    <a:pt x="76" y="457"/>
                  </a:cubicBezTo>
                  <a:cubicBezTo>
                    <a:pt x="93" y="473"/>
                    <a:pt x="110" y="489"/>
                    <a:pt x="124" y="507"/>
                  </a:cubicBezTo>
                  <a:cubicBezTo>
                    <a:pt x="132" y="516"/>
                    <a:pt x="139" y="525"/>
                    <a:pt x="144" y="535"/>
                  </a:cubicBezTo>
                  <a:cubicBezTo>
                    <a:pt x="148" y="544"/>
                    <a:pt x="151" y="554"/>
                    <a:pt x="151" y="564"/>
                  </a:cubicBezTo>
                  <a:cubicBezTo>
                    <a:pt x="150" y="564"/>
                    <a:pt x="150" y="564"/>
                    <a:pt x="150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4"/>
                    <a:pt x="122" y="629"/>
                  </a:cubicBezTo>
                  <a:cubicBezTo>
                    <a:pt x="122" y="629"/>
                    <a:pt x="122" y="629"/>
                    <a:pt x="121" y="630"/>
                  </a:cubicBezTo>
                  <a:cubicBezTo>
                    <a:pt x="106" y="648"/>
                    <a:pt x="89" y="663"/>
                    <a:pt x="72" y="679"/>
                  </a:cubicBezTo>
                  <a:cubicBezTo>
                    <a:pt x="55" y="695"/>
                    <a:pt x="38" y="711"/>
                    <a:pt x="25" y="730"/>
                  </a:cubicBezTo>
                  <a:cubicBezTo>
                    <a:pt x="23" y="733"/>
                    <a:pt x="22" y="735"/>
                    <a:pt x="20" y="737"/>
                  </a:cubicBezTo>
                  <a:cubicBezTo>
                    <a:pt x="18" y="740"/>
                    <a:pt x="17" y="743"/>
                    <a:pt x="15" y="745"/>
                  </a:cubicBezTo>
                  <a:cubicBezTo>
                    <a:pt x="9" y="755"/>
                    <a:pt x="4" y="766"/>
                    <a:pt x="2" y="778"/>
                  </a:cubicBezTo>
                  <a:cubicBezTo>
                    <a:pt x="1" y="784"/>
                    <a:pt x="0" y="789"/>
                    <a:pt x="1" y="795"/>
                  </a:cubicBezTo>
                  <a:cubicBezTo>
                    <a:pt x="1" y="801"/>
                    <a:pt x="3" y="807"/>
                    <a:pt x="6" y="812"/>
                  </a:cubicBezTo>
                  <a:cubicBezTo>
                    <a:pt x="8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2" y="837"/>
                    <a:pt x="26" y="841"/>
                  </a:cubicBezTo>
                  <a:cubicBezTo>
                    <a:pt x="41" y="858"/>
                    <a:pt x="59" y="874"/>
                    <a:pt x="76" y="890"/>
                  </a:cubicBezTo>
                  <a:cubicBezTo>
                    <a:pt x="93" y="906"/>
                    <a:pt x="110" y="922"/>
                    <a:pt x="124" y="939"/>
                  </a:cubicBezTo>
                  <a:cubicBezTo>
                    <a:pt x="132" y="948"/>
                    <a:pt x="139" y="958"/>
                    <a:pt x="144" y="968"/>
                  </a:cubicBezTo>
                  <a:cubicBezTo>
                    <a:pt x="147" y="976"/>
                    <a:pt x="150" y="984"/>
                    <a:pt x="151" y="993"/>
                  </a:cubicBezTo>
                  <a:cubicBezTo>
                    <a:pt x="150" y="993"/>
                    <a:pt x="150" y="993"/>
                    <a:pt x="150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9" y="1065"/>
                    <a:pt x="103" y="1082"/>
                    <a:pt x="86" y="1098"/>
                  </a:cubicBezTo>
                  <a:cubicBezTo>
                    <a:pt x="70" y="1114"/>
                    <a:pt x="52" y="1130"/>
                    <a:pt x="36" y="1147"/>
                  </a:cubicBezTo>
                  <a:cubicBezTo>
                    <a:pt x="29" y="1156"/>
                    <a:pt x="21" y="1165"/>
                    <a:pt x="15" y="1175"/>
                  </a:cubicBezTo>
                  <a:cubicBezTo>
                    <a:pt x="9" y="1185"/>
                    <a:pt x="4" y="1195"/>
                    <a:pt x="2" y="1207"/>
                  </a:cubicBezTo>
                  <a:cubicBezTo>
                    <a:pt x="1" y="1213"/>
                    <a:pt x="0" y="1219"/>
                    <a:pt x="1" y="1225"/>
                  </a:cubicBezTo>
                  <a:cubicBezTo>
                    <a:pt x="1" y="1231"/>
                    <a:pt x="3" y="1236"/>
                    <a:pt x="6" y="1242"/>
                  </a:cubicBezTo>
                  <a:cubicBezTo>
                    <a:pt x="7" y="1243"/>
                    <a:pt x="7" y="1244"/>
                    <a:pt x="8" y="1245"/>
                  </a:cubicBezTo>
                  <a:cubicBezTo>
                    <a:pt x="10" y="1251"/>
                    <a:pt x="12" y="1256"/>
                    <a:pt x="15" y="1261"/>
                  </a:cubicBezTo>
                  <a:cubicBezTo>
                    <a:pt x="19" y="1261"/>
                    <a:pt x="19" y="1261"/>
                    <a:pt x="19" y="1261"/>
                  </a:cubicBezTo>
                  <a:cubicBezTo>
                    <a:pt x="21" y="1264"/>
                    <a:pt x="23" y="1267"/>
                    <a:pt x="26" y="1270"/>
                  </a:cubicBezTo>
                  <a:cubicBezTo>
                    <a:pt x="41" y="1288"/>
                    <a:pt x="59" y="1303"/>
                    <a:pt x="76" y="1319"/>
                  </a:cubicBezTo>
                  <a:cubicBezTo>
                    <a:pt x="93" y="1335"/>
                    <a:pt x="110" y="1351"/>
                    <a:pt x="124" y="1369"/>
                  </a:cubicBezTo>
                  <a:cubicBezTo>
                    <a:pt x="132" y="1378"/>
                    <a:pt x="139" y="1387"/>
                    <a:pt x="144" y="1398"/>
                  </a:cubicBezTo>
                  <a:cubicBezTo>
                    <a:pt x="148" y="1406"/>
                    <a:pt x="150" y="1415"/>
                    <a:pt x="151" y="1425"/>
                  </a:cubicBezTo>
                  <a:cubicBezTo>
                    <a:pt x="150" y="1425"/>
                    <a:pt x="150" y="1425"/>
                    <a:pt x="150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6" y="1485"/>
                    <a:pt x="120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3" y="1595"/>
                    <a:pt x="19" y="1600"/>
                    <a:pt x="15" y="1606"/>
                  </a:cubicBezTo>
                  <a:cubicBezTo>
                    <a:pt x="9" y="1616"/>
                    <a:pt x="4" y="1627"/>
                    <a:pt x="2" y="1639"/>
                  </a:cubicBezTo>
                  <a:cubicBezTo>
                    <a:pt x="1" y="1644"/>
                    <a:pt x="0" y="1650"/>
                    <a:pt x="1" y="1656"/>
                  </a:cubicBezTo>
                  <a:cubicBezTo>
                    <a:pt x="1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1" y="1681"/>
                  </a:cubicBezTo>
                  <a:cubicBezTo>
                    <a:pt x="12" y="1685"/>
                    <a:pt x="13" y="1688"/>
                    <a:pt x="15" y="1691"/>
                  </a:cubicBezTo>
                  <a:cubicBezTo>
                    <a:pt x="17" y="1691"/>
                    <a:pt x="17" y="1691"/>
                    <a:pt x="17" y="1691"/>
                  </a:cubicBezTo>
                  <a:cubicBezTo>
                    <a:pt x="20" y="1694"/>
                    <a:pt x="23" y="1698"/>
                    <a:pt x="26" y="1702"/>
                  </a:cubicBezTo>
                  <a:cubicBezTo>
                    <a:pt x="41" y="1719"/>
                    <a:pt x="59" y="1735"/>
                    <a:pt x="76" y="1751"/>
                  </a:cubicBezTo>
                  <a:cubicBezTo>
                    <a:pt x="93" y="1767"/>
                    <a:pt x="110" y="1783"/>
                    <a:pt x="124" y="1800"/>
                  </a:cubicBezTo>
                  <a:cubicBezTo>
                    <a:pt x="132" y="1809"/>
                    <a:pt x="139" y="1819"/>
                    <a:pt x="144" y="1829"/>
                  </a:cubicBezTo>
                  <a:cubicBezTo>
                    <a:pt x="147" y="1837"/>
                    <a:pt x="150" y="1846"/>
                    <a:pt x="151" y="1855"/>
                  </a:cubicBezTo>
                  <a:cubicBezTo>
                    <a:pt x="150" y="1855"/>
                    <a:pt x="150" y="1855"/>
                    <a:pt x="150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7" y="1959"/>
                    <a:pt x="80" y="1966"/>
                    <a:pt x="72" y="1973"/>
                  </a:cubicBezTo>
                  <a:cubicBezTo>
                    <a:pt x="61" y="1984"/>
                    <a:pt x="49" y="1995"/>
                    <a:pt x="39" y="2007"/>
                  </a:cubicBezTo>
                  <a:cubicBezTo>
                    <a:pt x="38" y="2008"/>
                    <a:pt x="37" y="2008"/>
                    <a:pt x="36" y="2009"/>
                  </a:cubicBezTo>
                  <a:cubicBezTo>
                    <a:pt x="29" y="2018"/>
                    <a:pt x="21" y="2027"/>
                    <a:pt x="15" y="2037"/>
                  </a:cubicBezTo>
                  <a:cubicBezTo>
                    <a:pt x="9" y="2047"/>
                    <a:pt x="4" y="2057"/>
                    <a:pt x="2" y="2069"/>
                  </a:cubicBezTo>
                  <a:cubicBezTo>
                    <a:pt x="1" y="2075"/>
                    <a:pt x="0" y="2081"/>
                    <a:pt x="1" y="2087"/>
                  </a:cubicBezTo>
                  <a:cubicBezTo>
                    <a:pt x="1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1" y="2114"/>
                    <a:pt x="13" y="2118"/>
                    <a:pt x="15" y="2122"/>
                  </a:cubicBezTo>
                  <a:cubicBezTo>
                    <a:pt x="18" y="2122"/>
                    <a:pt x="18" y="2122"/>
                    <a:pt x="18" y="2122"/>
                  </a:cubicBezTo>
                  <a:cubicBezTo>
                    <a:pt x="20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4" y="2137"/>
                    <a:pt x="34" y="2125"/>
                  </a:cubicBezTo>
                  <a:cubicBezTo>
                    <a:pt x="27" y="2117"/>
                    <a:pt x="21" y="2109"/>
                    <a:pt x="16" y="2101"/>
                  </a:cubicBezTo>
                  <a:cubicBezTo>
                    <a:pt x="15" y="2097"/>
                    <a:pt x="14" y="2093"/>
                    <a:pt x="14" y="2089"/>
                  </a:cubicBezTo>
                  <a:cubicBezTo>
                    <a:pt x="12" y="2068"/>
                    <a:pt x="21" y="2048"/>
                    <a:pt x="34" y="2030"/>
                  </a:cubicBezTo>
                  <a:cubicBezTo>
                    <a:pt x="46" y="2012"/>
                    <a:pt x="63" y="1997"/>
                    <a:pt x="80" y="1981"/>
                  </a:cubicBezTo>
                  <a:cubicBezTo>
                    <a:pt x="97" y="1965"/>
                    <a:pt x="114" y="1949"/>
                    <a:pt x="130" y="1931"/>
                  </a:cubicBezTo>
                  <a:cubicBezTo>
                    <a:pt x="138" y="1922"/>
                    <a:pt x="145" y="1912"/>
                    <a:pt x="151" y="1900"/>
                  </a:cubicBezTo>
                  <a:cubicBezTo>
                    <a:pt x="156" y="1891"/>
                    <a:pt x="160" y="1881"/>
                    <a:pt x="162" y="1870"/>
                  </a:cubicBezTo>
                  <a:cubicBezTo>
                    <a:pt x="161" y="1867"/>
                    <a:pt x="161" y="1865"/>
                    <a:pt x="161" y="1862"/>
                  </a:cubicBezTo>
                  <a:cubicBezTo>
                    <a:pt x="160" y="1857"/>
                    <a:pt x="161" y="1852"/>
                    <a:pt x="162" y="1846"/>
                  </a:cubicBezTo>
                  <a:cubicBezTo>
                    <a:pt x="162" y="1845"/>
                    <a:pt x="161" y="1844"/>
                    <a:pt x="161" y="1843"/>
                  </a:cubicBezTo>
                  <a:cubicBezTo>
                    <a:pt x="160" y="1836"/>
                    <a:pt x="157" y="1830"/>
                    <a:pt x="154" y="1824"/>
                  </a:cubicBezTo>
                  <a:cubicBezTo>
                    <a:pt x="149" y="1812"/>
                    <a:pt x="141" y="1802"/>
                    <a:pt x="133" y="1793"/>
                  </a:cubicBezTo>
                  <a:cubicBezTo>
                    <a:pt x="118" y="1774"/>
                    <a:pt x="100" y="1758"/>
                    <a:pt x="83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7" y="1671"/>
                  </a:cubicBezTo>
                  <a:cubicBezTo>
                    <a:pt x="15" y="1667"/>
                    <a:pt x="14" y="1662"/>
                    <a:pt x="14" y="1658"/>
                  </a:cubicBezTo>
                  <a:cubicBezTo>
                    <a:pt x="12" y="1637"/>
                    <a:pt x="21" y="1616"/>
                    <a:pt x="34" y="1599"/>
                  </a:cubicBezTo>
                  <a:cubicBezTo>
                    <a:pt x="46" y="1581"/>
                    <a:pt x="63" y="1565"/>
                    <a:pt x="80" y="1549"/>
                  </a:cubicBezTo>
                  <a:cubicBezTo>
                    <a:pt x="97" y="1534"/>
                    <a:pt x="114" y="1518"/>
                    <a:pt x="130" y="1499"/>
                  </a:cubicBezTo>
                  <a:cubicBezTo>
                    <a:pt x="138" y="1490"/>
                    <a:pt x="145" y="1480"/>
                    <a:pt x="151" y="1469"/>
                  </a:cubicBezTo>
                  <a:cubicBezTo>
                    <a:pt x="156" y="1459"/>
                    <a:pt x="160" y="1449"/>
                    <a:pt x="162" y="1438"/>
                  </a:cubicBezTo>
                  <a:cubicBezTo>
                    <a:pt x="161" y="1436"/>
                    <a:pt x="161" y="1433"/>
                    <a:pt x="161" y="1431"/>
                  </a:cubicBezTo>
                  <a:cubicBezTo>
                    <a:pt x="160" y="1425"/>
                    <a:pt x="161" y="1420"/>
                    <a:pt x="162" y="1415"/>
                  </a:cubicBezTo>
                  <a:cubicBezTo>
                    <a:pt x="162" y="1413"/>
                    <a:pt x="161" y="1412"/>
                    <a:pt x="161" y="1411"/>
                  </a:cubicBezTo>
                  <a:cubicBezTo>
                    <a:pt x="160" y="1404"/>
                    <a:pt x="157" y="1398"/>
                    <a:pt x="154" y="1392"/>
                  </a:cubicBezTo>
                  <a:cubicBezTo>
                    <a:pt x="149" y="1381"/>
                    <a:pt x="141" y="1371"/>
                    <a:pt x="133" y="1361"/>
                  </a:cubicBezTo>
                  <a:cubicBezTo>
                    <a:pt x="118" y="1343"/>
                    <a:pt x="100" y="1327"/>
                    <a:pt x="83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7" y="1255"/>
                    <a:pt x="20" y="1247"/>
                    <a:pt x="16" y="1238"/>
                  </a:cubicBezTo>
                  <a:cubicBezTo>
                    <a:pt x="15" y="1235"/>
                    <a:pt x="14" y="1232"/>
                    <a:pt x="14" y="1228"/>
                  </a:cubicBezTo>
                  <a:cubicBezTo>
                    <a:pt x="12" y="1207"/>
                    <a:pt x="21" y="1187"/>
                    <a:pt x="34" y="1169"/>
                  </a:cubicBezTo>
                  <a:cubicBezTo>
                    <a:pt x="46" y="1152"/>
                    <a:pt x="63" y="1136"/>
                    <a:pt x="80" y="1120"/>
                  </a:cubicBezTo>
                  <a:cubicBezTo>
                    <a:pt x="97" y="1104"/>
                    <a:pt x="114" y="1089"/>
                    <a:pt x="130" y="1070"/>
                  </a:cubicBezTo>
                  <a:cubicBezTo>
                    <a:pt x="138" y="1061"/>
                    <a:pt x="145" y="1051"/>
                    <a:pt x="151" y="1039"/>
                  </a:cubicBezTo>
                  <a:cubicBezTo>
                    <a:pt x="156" y="1030"/>
                    <a:pt x="160" y="1020"/>
                    <a:pt x="162" y="1009"/>
                  </a:cubicBezTo>
                  <a:cubicBezTo>
                    <a:pt x="161" y="1006"/>
                    <a:pt x="161" y="1004"/>
                    <a:pt x="161" y="1001"/>
                  </a:cubicBezTo>
                  <a:cubicBezTo>
                    <a:pt x="160" y="996"/>
                    <a:pt x="161" y="991"/>
                    <a:pt x="162" y="985"/>
                  </a:cubicBezTo>
                  <a:cubicBezTo>
                    <a:pt x="162" y="984"/>
                    <a:pt x="161" y="983"/>
                    <a:pt x="161" y="982"/>
                  </a:cubicBezTo>
                  <a:cubicBezTo>
                    <a:pt x="160" y="975"/>
                    <a:pt x="157" y="969"/>
                    <a:pt x="154" y="963"/>
                  </a:cubicBezTo>
                  <a:cubicBezTo>
                    <a:pt x="149" y="951"/>
                    <a:pt x="141" y="941"/>
                    <a:pt x="133" y="932"/>
                  </a:cubicBezTo>
                  <a:cubicBezTo>
                    <a:pt x="118" y="913"/>
                    <a:pt x="100" y="897"/>
                    <a:pt x="83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8" y="827"/>
                    <a:pt x="22" y="819"/>
                    <a:pt x="17" y="811"/>
                  </a:cubicBezTo>
                  <a:cubicBezTo>
                    <a:pt x="16" y="806"/>
                    <a:pt x="14" y="801"/>
                    <a:pt x="14" y="795"/>
                  </a:cubicBezTo>
                  <a:cubicBezTo>
                    <a:pt x="12" y="774"/>
                    <a:pt x="21" y="754"/>
                    <a:pt x="34" y="737"/>
                  </a:cubicBezTo>
                  <a:cubicBezTo>
                    <a:pt x="46" y="719"/>
                    <a:pt x="63" y="703"/>
                    <a:pt x="80" y="687"/>
                  </a:cubicBezTo>
                  <a:cubicBezTo>
                    <a:pt x="97" y="671"/>
                    <a:pt x="114" y="656"/>
                    <a:pt x="130" y="637"/>
                  </a:cubicBezTo>
                  <a:cubicBezTo>
                    <a:pt x="138" y="628"/>
                    <a:pt x="145" y="618"/>
                    <a:pt x="151" y="607"/>
                  </a:cubicBezTo>
                  <a:cubicBezTo>
                    <a:pt x="156" y="597"/>
                    <a:pt x="160" y="587"/>
                    <a:pt x="162" y="576"/>
                  </a:cubicBezTo>
                  <a:cubicBezTo>
                    <a:pt x="161" y="573"/>
                    <a:pt x="161" y="571"/>
                    <a:pt x="161" y="569"/>
                  </a:cubicBezTo>
                  <a:cubicBezTo>
                    <a:pt x="160" y="563"/>
                    <a:pt x="161" y="558"/>
                    <a:pt x="162" y="553"/>
                  </a:cubicBezTo>
                  <a:cubicBezTo>
                    <a:pt x="162" y="551"/>
                    <a:pt x="161" y="550"/>
                    <a:pt x="161" y="549"/>
                  </a:cubicBezTo>
                  <a:cubicBezTo>
                    <a:pt x="160" y="542"/>
                    <a:pt x="157" y="536"/>
                    <a:pt x="154" y="530"/>
                  </a:cubicBezTo>
                  <a:cubicBezTo>
                    <a:pt x="149" y="519"/>
                    <a:pt x="141" y="509"/>
                    <a:pt x="133" y="499"/>
                  </a:cubicBezTo>
                  <a:cubicBezTo>
                    <a:pt x="118" y="481"/>
                    <a:pt x="100" y="465"/>
                    <a:pt x="83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8" y="394"/>
                    <a:pt x="22" y="386"/>
                    <a:pt x="17" y="379"/>
                  </a:cubicBezTo>
                  <a:cubicBezTo>
                    <a:pt x="16" y="373"/>
                    <a:pt x="14" y="368"/>
                    <a:pt x="14" y="363"/>
                  </a:cubicBezTo>
                  <a:cubicBezTo>
                    <a:pt x="12" y="342"/>
                    <a:pt x="21" y="322"/>
                    <a:pt x="34" y="304"/>
                  </a:cubicBezTo>
                  <a:cubicBezTo>
                    <a:pt x="46" y="286"/>
                    <a:pt x="63" y="270"/>
                    <a:pt x="80" y="254"/>
                  </a:cubicBezTo>
                  <a:cubicBezTo>
                    <a:pt x="97" y="239"/>
                    <a:pt x="114" y="223"/>
                    <a:pt x="130" y="204"/>
                  </a:cubicBezTo>
                  <a:cubicBezTo>
                    <a:pt x="138" y="195"/>
                    <a:pt x="145" y="185"/>
                    <a:pt x="151" y="174"/>
                  </a:cubicBezTo>
                  <a:cubicBezTo>
                    <a:pt x="156" y="164"/>
                    <a:pt x="160" y="154"/>
                    <a:pt x="162" y="143"/>
                  </a:cubicBezTo>
                  <a:cubicBezTo>
                    <a:pt x="161" y="141"/>
                    <a:pt x="161" y="138"/>
                    <a:pt x="161" y="136"/>
                  </a:cubicBezTo>
                  <a:cubicBezTo>
                    <a:pt x="160" y="130"/>
                    <a:pt x="161" y="125"/>
                    <a:pt x="162" y="120"/>
                  </a:cubicBezTo>
                  <a:cubicBezTo>
                    <a:pt x="162" y="119"/>
                    <a:pt x="161" y="117"/>
                    <a:pt x="161" y="116"/>
                  </a:cubicBezTo>
                  <a:cubicBezTo>
                    <a:pt x="160" y="109"/>
                    <a:pt x="157" y="103"/>
                    <a:pt x="154" y="97"/>
                  </a:cubicBezTo>
                  <a:cubicBezTo>
                    <a:pt x="149" y="86"/>
                    <a:pt x="141" y="76"/>
                    <a:pt x="133" y="66"/>
                  </a:cubicBezTo>
                  <a:cubicBezTo>
                    <a:pt x="118" y="48"/>
                    <a:pt x="100" y="32"/>
                    <a:pt x="83" y="16"/>
                  </a:cubicBezTo>
                  <a:cubicBezTo>
                    <a:pt x="77" y="11"/>
                    <a:pt x="71" y="5"/>
                    <a:pt x="66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8" y="8"/>
                    <a:pt x="67" y="16"/>
                    <a:pt x="76" y="24"/>
                  </a:cubicBezTo>
                  <a:cubicBezTo>
                    <a:pt x="93" y="40"/>
                    <a:pt x="110" y="56"/>
                    <a:pt x="124" y="74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77" name="Freeform 11"/>
            <p:cNvSpPr/>
            <p:nvPr/>
          </p:nvSpPr>
          <p:spPr>
            <a:xfrm>
              <a:off x="-3240" y="-1440"/>
              <a:ext cx="495000" cy="686232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56" h="2159">
                  <a:moveTo>
                    <a:pt x="25" y="1925"/>
                  </a:moveTo>
                  <a:cubicBezTo>
                    <a:pt x="40" y="1943"/>
                    <a:pt x="57" y="1958"/>
                    <a:pt x="74" y="1974"/>
                  </a:cubicBezTo>
                  <a:cubicBezTo>
                    <a:pt x="74" y="1975"/>
                    <a:pt x="75" y="1975"/>
                    <a:pt x="75" y="1975"/>
                  </a:cubicBezTo>
                  <a:cubicBezTo>
                    <a:pt x="82" y="1982"/>
                    <a:pt x="88" y="1988"/>
                    <a:pt x="95" y="1995"/>
                  </a:cubicBezTo>
                  <a:cubicBezTo>
                    <a:pt x="104" y="2004"/>
                    <a:pt x="113" y="2014"/>
                    <a:pt x="121" y="2025"/>
                  </a:cubicBezTo>
                  <a:cubicBezTo>
                    <a:pt x="128" y="2035"/>
                    <a:pt x="133" y="2045"/>
                    <a:pt x="137" y="2056"/>
                  </a:cubicBezTo>
                  <a:cubicBezTo>
                    <a:pt x="141" y="2067"/>
                    <a:pt x="142" y="2078"/>
                    <a:pt x="141" y="2090"/>
                  </a:cubicBezTo>
                  <a:cubicBezTo>
                    <a:pt x="140" y="2096"/>
                    <a:pt x="139" y="2102"/>
                    <a:pt x="137" y="2108"/>
                  </a:cubicBezTo>
                  <a:cubicBezTo>
                    <a:pt x="132" y="2116"/>
                    <a:pt x="126" y="2124"/>
                    <a:pt x="120" y="2131"/>
                  </a:cubicBezTo>
                  <a:cubicBezTo>
                    <a:pt x="111" y="2141"/>
                    <a:pt x="102" y="2150"/>
                    <a:pt x="93" y="2159"/>
                  </a:cubicBezTo>
                  <a:cubicBezTo>
                    <a:pt x="108" y="2159"/>
                    <a:pt x="108" y="2159"/>
                    <a:pt x="108" y="2159"/>
                  </a:cubicBezTo>
                  <a:cubicBezTo>
                    <a:pt x="115" y="2152"/>
                    <a:pt x="122" y="2145"/>
                    <a:pt x="128" y="2138"/>
                  </a:cubicBezTo>
                  <a:cubicBezTo>
                    <a:pt x="132" y="2133"/>
                    <a:pt x="136" y="2128"/>
                    <a:pt x="140" y="2122"/>
                  </a:cubicBezTo>
                  <a:cubicBezTo>
                    <a:pt x="141" y="2122"/>
                    <a:pt x="141" y="2122"/>
                    <a:pt x="141" y="2122"/>
                  </a:cubicBezTo>
                  <a:cubicBezTo>
                    <a:pt x="141" y="2122"/>
                    <a:pt x="141" y="2121"/>
                    <a:pt x="141" y="2120"/>
                  </a:cubicBezTo>
                  <a:cubicBezTo>
                    <a:pt x="144" y="2116"/>
                    <a:pt x="147" y="2112"/>
                    <a:pt x="149" y="2107"/>
                  </a:cubicBezTo>
                  <a:cubicBezTo>
                    <a:pt x="152" y="2101"/>
                    <a:pt x="154" y="2095"/>
                    <a:pt x="155" y="2088"/>
                  </a:cubicBezTo>
                  <a:cubicBezTo>
                    <a:pt x="156" y="2080"/>
                    <a:pt x="155" y="2074"/>
                    <a:pt x="154" y="2068"/>
                  </a:cubicBezTo>
                  <a:cubicBezTo>
                    <a:pt x="151" y="2055"/>
                    <a:pt x="145" y="2043"/>
                    <a:pt x="139" y="2033"/>
                  </a:cubicBezTo>
                  <a:cubicBezTo>
                    <a:pt x="138" y="2032"/>
                    <a:pt x="137" y="2030"/>
                    <a:pt x="136" y="2029"/>
                  </a:cubicBezTo>
                  <a:cubicBezTo>
                    <a:pt x="134" y="2026"/>
                    <a:pt x="132" y="2022"/>
                    <a:pt x="130" y="2019"/>
                  </a:cubicBezTo>
                  <a:cubicBezTo>
                    <a:pt x="115" y="1999"/>
                    <a:pt x="98" y="1982"/>
                    <a:pt x="81" y="1966"/>
                  </a:cubicBezTo>
                  <a:cubicBezTo>
                    <a:pt x="65" y="1950"/>
                    <a:pt x="48" y="1935"/>
                    <a:pt x="33" y="1917"/>
                  </a:cubicBezTo>
                  <a:cubicBezTo>
                    <a:pt x="19" y="1901"/>
                    <a:pt x="8" y="1881"/>
                    <a:pt x="7" y="1861"/>
                  </a:cubicBezTo>
                  <a:cubicBezTo>
                    <a:pt x="6" y="1852"/>
                    <a:pt x="8" y="1843"/>
                    <a:pt x="13" y="1833"/>
                  </a:cubicBezTo>
                  <a:cubicBezTo>
                    <a:pt x="17" y="1824"/>
                    <a:pt x="23" y="1815"/>
                    <a:pt x="30" y="1806"/>
                  </a:cubicBezTo>
                  <a:cubicBezTo>
                    <a:pt x="44" y="1789"/>
                    <a:pt x="61" y="1773"/>
                    <a:pt x="78" y="1757"/>
                  </a:cubicBezTo>
                  <a:cubicBezTo>
                    <a:pt x="95" y="1741"/>
                    <a:pt x="112" y="1726"/>
                    <a:pt x="128" y="1708"/>
                  </a:cubicBezTo>
                  <a:cubicBezTo>
                    <a:pt x="136" y="1698"/>
                    <a:pt x="144" y="1689"/>
                    <a:pt x="149" y="1677"/>
                  </a:cubicBezTo>
                  <a:cubicBezTo>
                    <a:pt x="152" y="1671"/>
                    <a:pt x="154" y="1664"/>
                    <a:pt x="155" y="1657"/>
                  </a:cubicBezTo>
                  <a:cubicBezTo>
                    <a:pt x="156" y="1650"/>
                    <a:pt x="155" y="1644"/>
                    <a:pt x="154" y="1637"/>
                  </a:cubicBezTo>
                  <a:cubicBezTo>
                    <a:pt x="151" y="1625"/>
                    <a:pt x="146" y="1614"/>
                    <a:pt x="140" y="1605"/>
                  </a:cubicBezTo>
                  <a:cubicBezTo>
                    <a:pt x="137" y="1599"/>
                    <a:pt x="133" y="1593"/>
                    <a:pt x="130" y="1588"/>
                  </a:cubicBezTo>
                  <a:cubicBezTo>
                    <a:pt x="115" y="1567"/>
                    <a:pt x="98" y="1551"/>
                    <a:pt x="81" y="1535"/>
                  </a:cubicBezTo>
                  <a:cubicBezTo>
                    <a:pt x="65" y="1519"/>
                    <a:pt x="48" y="1503"/>
                    <a:pt x="33" y="1486"/>
                  </a:cubicBezTo>
                  <a:cubicBezTo>
                    <a:pt x="19" y="1469"/>
                    <a:pt x="8" y="1450"/>
                    <a:pt x="7" y="1430"/>
                  </a:cubicBezTo>
                  <a:cubicBezTo>
                    <a:pt x="6" y="1421"/>
                    <a:pt x="8" y="1411"/>
                    <a:pt x="13" y="1402"/>
                  </a:cubicBezTo>
                  <a:cubicBezTo>
                    <a:pt x="17" y="1392"/>
                    <a:pt x="23" y="1383"/>
                    <a:pt x="30" y="1375"/>
                  </a:cubicBezTo>
                  <a:cubicBezTo>
                    <a:pt x="44" y="1357"/>
                    <a:pt x="61" y="1342"/>
                    <a:pt x="78" y="1326"/>
                  </a:cubicBezTo>
                  <a:cubicBezTo>
                    <a:pt x="95" y="1310"/>
                    <a:pt x="112" y="1294"/>
                    <a:pt x="128" y="1276"/>
                  </a:cubicBezTo>
                  <a:cubicBezTo>
                    <a:pt x="132" y="1271"/>
                    <a:pt x="136" y="1266"/>
                    <a:pt x="140" y="1261"/>
                  </a:cubicBezTo>
                  <a:cubicBezTo>
                    <a:pt x="141" y="1261"/>
                    <a:pt x="141" y="1261"/>
                    <a:pt x="141" y="1261"/>
                  </a:cubicBezTo>
                  <a:cubicBezTo>
                    <a:pt x="142" y="1259"/>
                    <a:pt x="142" y="1258"/>
                    <a:pt x="143" y="1256"/>
                  </a:cubicBezTo>
                  <a:cubicBezTo>
                    <a:pt x="145" y="1252"/>
                    <a:pt x="147" y="1249"/>
                    <a:pt x="149" y="1245"/>
                  </a:cubicBezTo>
                  <a:cubicBezTo>
                    <a:pt x="152" y="1239"/>
                    <a:pt x="154" y="1233"/>
                    <a:pt x="155" y="1226"/>
                  </a:cubicBezTo>
                  <a:cubicBezTo>
                    <a:pt x="156" y="1218"/>
                    <a:pt x="155" y="1212"/>
                    <a:pt x="154" y="1206"/>
                  </a:cubicBezTo>
                  <a:cubicBezTo>
                    <a:pt x="151" y="1193"/>
                    <a:pt x="145" y="1181"/>
                    <a:pt x="139" y="1171"/>
                  </a:cubicBezTo>
                  <a:cubicBezTo>
                    <a:pt x="136" y="1168"/>
                    <a:pt x="134" y="1164"/>
                    <a:pt x="131" y="1161"/>
                  </a:cubicBezTo>
                  <a:cubicBezTo>
                    <a:pt x="131" y="1160"/>
                    <a:pt x="130" y="1159"/>
                    <a:pt x="130" y="1158"/>
                  </a:cubicBezTo>
                  <a:cubicBezTo>
                    <a:pt x="115" y="1138"/>
                    <a:pt x="98" y="1122"/>
                    <a:pt x="81" y="1105"/>
                  </a:cubicBezTo>
                  <a:cubicBezTo>
                    <a:pt x="65" y="1089"/>
                    <a:pt x="48" y="1074"/>
                    <a:pt x="33" y="1057"/>
                  </a:cubicBezTo>
                  <a:cubicBezTo>
                    <a:pt x="19" y="1040"/>
                    <a:pt x="8" y="1020"/>
                    <a:pt x="7" y="1000"/>
                  </a:cubicBezTo>
                  <a:cubicBezTo>
                    <a:pt x="6" y="991"/>
                    <a:pt x="8" y="982"/>
                    <a:pt x="13" y="972"/>
                  </a:cubicBezTo>
                  <a:cubicBezTo>
                    <a:pt x="17" y="963"/>
                    <a:pt x="23" y="954"/>
                    <a:pt x="30" y="945"/>
                  </a:cubicBezTo>
                  <a:cubicBezTo>
                    <a:pt x="44" y="928"/>
                    <a:pt x="61" y="912"/>
                    <a:pt x="78" y="896"/>
                  </a:cubicBezTo>
                  <a:cubicBezTo>
                    <a:pt x="95" y="880"/>
                    <a:pt x="112" y="865"/>
                    <a:pt x="128" y="847"/>
                  </a:cubicBezTo>
                  <a:cubicBezTo>
                    <a:pt x="136" y="837"/>
                    <a:pt x="144" y="828"/>
                    <a:pt x="149" y="816"/>
                  </a:cubicBezTo>
                  <a:cubicBezTo>
                    <a:pt x="152" y="810"/>
                    <a:pt x="154" y="803"/>
                    <a:pt x="155" y="796"/>
                  </a:cubicBezTo>
                  <a:cubicBezTo>
                    <a:pt x="156" y="789"/>
                    <a:pt x="155" y="783"/>
                    <a:pt x="154" y="776"/>
                  </a:cubicBezTo>
                  <a:cubicBezTo>
                    <a:pt x="151" y="766"/>
                    <a:pt x="147" y="756"/>
                    <a:pt x="142" y="748"/>
                  </a:cubicBezTo>
                  <a:cubicBezTo>
                    <a:pt x="139" y="740"/>
                    <a:pt x="134" y="732"/>
                    <a:pt x="130" y="726"/>
                  </a:cubicBezTo>
                  <a:cubicBezTo>
                    <a:pt x="115" y="705"/>
                    <a:pt x="98" y="689"/>
                    <a:pt x="81" y="673"/>
                  </a:cubicBezTo>
                  <a:cubicBezTo>
                    <a:pt x="65" y="656"/>
                    <a:pt x="48" y="641"/>
                    <a:pt x="33" y="624"/>
                  </a:cubicBezTo>
                  <a:cubicBezTo>
                    <a:pt x="19" y="607"/>
                    <a:pt x="8" y="588"/>
                    <a:pt x="7" y="568"/>
                  </a:cubicBezTo>
                  <a:cubicBezTo>
                    <a:pt x="6" y="558"/>
                    <a:pt x="8" y="549"/>
                    <a:pt x="13" y="540"/>
                  </a:cubicBezTo>
                  <a:cubicBezTo>
                    <a:pt x="17" y="530"/>
                    <a:pt x="23" y="521"/>
                    <a:pt x="30" y="513"/>
                  </a:cubicBezTo>
                  <a:cubicBezTo>
                    <a:pt x="44" y="495"/>
                    <a:pt x="61" y="480"/>
                    <a:pt x="78" y="464"/>
                  </a:cubicBezTo>
                  <a:cubicBezTo>
                    <a:pt x="95" y="448"/>
                    <a:pt x="112" y="432"/>
                    <a:pt x="128" y="414"/>
                  </a:cubicBezTo>
                  <a:cubicBezTo>
                    <a:pt x="136" y="405"/>
                    <a:pt x="144" y="395"/>
                    <a:pt x="149" y="383"/>
                  </a:cubicBezTo>
                  <a:cubicBezTo>
                    <a:pt x="152" y="377"/>
                    <a:pt x="154" y="371"/>
                    <a:pt x="155" y="364"/>
                  </a:cubicBezTo>
                  <a:cubicBezTo>
                    <a:pt x="156" y="356"/>
                    <a:pt x="155" y="350"/>
                    <a:pt x="154" y="344"/>
                  </a:cubicBezTo>
                  <a:cubicBezTo>
                    <a:pt x="151" y="333"/>
                    <a:pt x="147" y="324"/>
                    <a:pt x="142" y="315"/>
                  </a:cubicBezTo>
                  <a:cubicBezTo>
                    <a:pt x="139" y="307"/>
                    <a:pt x="134" y="300"/>
                    <a:pt x="130" y="293"/>
                  </a:cubicBezTo>
                  <a:cubicBezTo>
                    <a:pt x="115" y="273"/>
                    <a:pt x="98" y="256"/>
                    <a:pt x="81" y="240"/>
                  </a:cubicBezTo>
                  <a:cubicBezTo>
                    <a:pt x="65" y="224"/>
                    <a:pt x="48" y="208"/>
                    <a:pt x="33" y="191"/>
                  </a:cubicBezTo>
                  <a:cubicBezTo>
                    <a:pt x="19" y="174"/>
                    <a:pt x="8" y="155"/>
                    <a:pt x="7" y="135"/>
                  </a:cubicBezTo>
                  <a:cubicBezTo>
                    <a:pt x="6" y="126"/>
                    <a:pt x="8" y="116"/>
                    <a:pt x="13" y="107"/>
                  </a:cubicBezTo>
                  <a:cubicBezTo>
                    <a:pt x="17" y="97"/>
                    <a:pt x="23" y="88"/>
                    <a:pt x="30" y="80"/>
                  </a:cubicBezTo>
                  <a:cubicBezTo>
                    <a:pt x="44" y="63"/>
                    <a:pt x="61" y="47"/>
                    <a:pt x="78" y="31"/>
                  </a:cubicBezTo>
                  <a:cubicBezTo>
                    <a:pt x="89" y="21"/>
                    <a:pt x="100" y="10"/>
                    <a:pt x="110" y="0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87" y="7"/>
                    <a:pt x="79" y="15"/>
                    <a:pt x="70" y="23"/>
                  </a:cubicBezTo>
                  <a:cubicBezTo>
                    <a:pt x="53" y="39"/>
                    <a:pt x="36" y="54"/>
                    <a:pt x="21" y="72"/>
                  </a:cubicBezTo>
                  <a:cubicBezTo>
                    <a:pt x="14" y="81"/>
                    <a:pt x="7" y="91"/>
                    <a:pt x="2" y="102"/>
                  </a:cubicBezTo>
                  <a:cubicBezTo>
                    <a:pt x="1" y="103"/>
                    <a:pt x="1" y="104"/>
                    <a:pt x="0" y="106"/>
                  </a:cubicBezTo>
                  <a:cubicBezTo>
                    <a:pt x="0" y="159"/>
                    <a:pt x="0" y="159"/>
                    <a:pt x="0" y="159"/>
                  </a:cubicBezTo>
                  <a:cubicBezTo>
                    <a:pt x="1" y="162"/>
                    <a:pt x="3" y="166"/>
                    <a:pt x="5" y="170"/>
                  </a:cubicBezTo>
                  <a:cubicBezTo>
                    <a:pt x="10" y="180"/>
                    <a:pt x="17" y="190"/>
                    <a:pt x="25" y="198"/>
                  </a:cubicBezTo>
                  <a:cubicBezTo>
                    <a:pt x="28" y="202"/>
                    <a:pt x="31" y="206"/>
                    <a:pt x="34" y="209"/>
                  </a:cubicBezTo>
                  <a:cubicBezTo>
                    <a:pt x="42" y="219"/>
                    <a:pt x="51" y="228"/>
                    <a:pt x="60" y="237"/>
                  </a:cubicBezTo>
                  <a:cubicBezTo>
                    <a:pt x="77" y="254"/>
                    <a:pt x="94" y="269"/>
                    <a:pt x="110" y="286"/>
                  </a:cubicBezTo>
                  <a:cubicBezTo>
                    <a:pt x="115" y="291"/>
                    <a:pt x="119" y="297"/>
                    <a:pt x="123" y="302"/>
                  </a:cubicBezTo>
                  <a:cubicBezTo>
                    <a:pt x="129" y="311"/>
                    <a:pt x="134" y="320"/>
                    <a:pt x="137" y="329"/>
                  </a:cubicBezTo>
                  <a:cubicBezTo>
                    <a:pt x="141" y="340"/>
                    <a:pt x="142" y="352"/>
                    <a:pt x="141" y="363"/>
                  </a:cubicBezTo>
                  <a:cubicBezTo>
                    <a:pt x="140" y="372"/>
                    <a:pt x="138" y="380"/>
                    <a:pt x="134" y="388"/>
                  </a:cubicBezTo>
                  <a:cubicBezTo>
                    <a:pt x="130" y="395"/>
                    <a:pt x="125" y="401"/>
                    <a:pt x="120" y="407"/>
                  </a:cubicBezTo>
                  <a:cubicBezTo>
                    <a:pt x="105" y="424"/>
                    <a:pt x="87" y="440"/>
                    <a:pt x="70" y="455"/>
                  </a:cubicBezTo>
                  <a:cubicBezTo>
                    <a:pt x="53" y="471"/>
                    <a:pt x="36" y="487"/>
                    <a:pt x="21" y="505"/>
                  </a:cubicBezTo>
                  <a:cubicBezTo>
                    <a:pt x="14" y="514"/>
                    <a:pt x="7" y="524"/>
                    <a:pt x="2" y="534"/>
                  </a:cubicBezTo>
                  <a:cubicBezTo>
                    <a:pt x="1" y="536"/>
                    <a:pt x="1" y="537"/>
                    <a:pt x="0" y="538"/>
                  </a:cubicBezTo>
                  <a:cubicBezTo>
                    <a:pt x="0" y="592"/>
                    <a:pt x="0" y="592"/>
                    <a:pt x="0" y="592"/>
                  </a:cubicBezTo>
                  <a:cubicBezTo>
                    <a:pt x="1" y="595"/>
                    <a:pt x="3" y="599"/>
                    <a:pt x="5" y="602"/>
                  </a:cubicBezTo>
                  <a:cubicBezTo>
                    <a:pt x="10" y="613"/>
                    <a:pt x="17" y="622"/>
                    <a:pt x="25" y="631"/>
                  </a:cubicBezTo>
                  <a:cubicBezTo>
                    <a:pt x="28" y="635"/>
                    <a:pt x="31" y="638"/>
                    <a:pt x="34" y="642"/>
                  </a:cubicBezTo>
                  <a:cubicBezTo>
                    <a:pt x="42" y="652"/>
                    <a:pt x="51" y="661"/>
                    <a:pt x="60" y="670"/>
                  </a:cubicBezTo>
                  <a:cubicBezTo>
                    <a:pt x="77" y="686"/>
                    <a:pt x="94" y="702"/>
                    <a:pt x="110" y="719"/>
                  </a:cubicBezTo>
                  <a:cubicBezTo>
                    <a:pt x="115" y="724"/>
                    <a:pt x="119" y="730"/>
                    <a:pt x="123" y="735"/>
                  </a:cubicBezTo>
                  <a:cubicBezTo>
                    <a:pt x="129" y="744"/>
                    <a:pt x="134" y="753"/>
                    <a:pt x="137" y="762"/>
                  </a:cubicBezTo>
                  <a:cubicBezTo>
                    <a:pt x="141" y="773"/>
                    <a:pt x="142" y="785"/>
                    <a:pt x="141" y="796"/>
                  </a:cubicBezTo>
                  <a:cubicBezTo>
                    <a:pt x="140" y="805"/>
                    <a:pt x="138" y="813"/>
                    <a:pt x="134" y="821"/>
                  </a:cubicBezTo>
                  <a:cubicBezTo>
                    <a:pt x="130" y="827"/>
                    <a:pt x="125" y="834"/>
                    <a:pt x="120" y="840"/>
                  </a:cubicBezTo>
                  <a:cubicBezTo>
                    <a:pt x="105" y="857"/>
                    <a:pt x="87" y="872"/>
                    <a:pt x="70" y="888"/>
                  </a:cubicBezTo>
                  <a:cubicBezTo>
                    <a:pt x="53" y="904"/>
                    <a:pt x="36" y="920"/>
                    <a:pt x="21" y="938"/>
                  </a:cubicBezTo>
                  <a:cubicBezTo>
                    <a:pt x="14" y="947"/>
                    <a:pt x="7" y="957"/>
                    <a:pt x="2" y="967"/>
                  </a:cubicBezTo>
                  <a:cubicBezTo>
                    <a:pt x="1" y="968"/>
                    <a:pt x="1" y="970"/>
                    <a:pt x="0" y="971"/>
                  </a:cubicBezTo>
                  <a:cubicBezTo>
                    <a:pt x="0" y="1024"/>
                    <a:pt x="0" y="1024"/>
                    <a:pt x="0" y="1024"/>
                  </a:cubicBezTo>
                  <a:cubicBezTo>
                    <a:pt x="1" y="1028"/>
                    <a:pt x="3" y="1032"/>
                    <a:pt x="5" y="1035"/>
                  </a:cubicBezTo>
                  <a:cubicBezTo>
                    <a:pt x="10" y="1046"/>
                    <a:pt x="17" y="1055"/>
                    <a:pt x="25" y="1064"/>
                  </a:cubicBezTo>
                  <a:cubicBezTo>
                    <a:pt x="40" y="1082"/>
                    <a:pt x="57" y="1098"/>
                    <a:pt x="74" y="1113"/>
                  </a:cubicBezTo>
                  <a:cubicBezTo>
                    <a:pt x="91" y="1129"/>
                    <a:pt x="108" y="1146"/>
                    <a:pt x="121" y="1164"/>
                  </a:cubicBezTo>
                  <a:cubicBezTo>
                    <a:pt x="128" y="1174"/>
                    <a:pt x="133" y="1184"/>
                    <a:pt x="137" y="1195"/>
                  </a:cubicBezTo>
                  <a:cubicBezTo>
                    <a:pt x="141" y="1206"/>
                    <a:pt x="142" y="1218"/>
                    <a:pt x="141" y="1229"/>
                  </a:cubicBezTo>
                  <a:cubicBezTo>
                    <a:pt x="141" y="1234"/>
                    <a:pt x="140" y="1239"/>
                    <a:pt x="138" y="1244"/>
                  </a:cubicBezTo>
                  <a:cubicBezTo>
                    <a:pt x="133" y="1253"/>
                    <a:pt x="127" y="1261"/>
                    <a:pt x="120" y="1269"/>
                  </a:cubicBezTo>
                  <a:cubicBezTo>
                    <a:pt x="105" y="1286"/>
                    <a:pt x="87" y="1302"/>
                    <a:pt x="70" y="1318"/>
                  </a:cubicBezTo>
                  <a:cubicBezTo>
                    <a:pt x="53" y="1333"/>
                    <a:pt x="36" y="1349"/>
                    <a:pt x="21" y="1367"/>
                  </a:cubicBezTo>
                  <a:cubicBezTo>
                    <a:pt x="14" y="1376"/>
                    <a:pt x="7" y="1386"/>
                    <a:pt x="2" y="1396"/>
                  </a:cubicBezTo>
                  <a:cubicBezTo>
                    <a:pt x="1" y="1398"/>
                    <a:pt x="1" y="1399"/>
                    <a:pt x="0" y="1400"/>
                  </a:cubicBezTo>
                  <a:cubicBezTo>
                    <a:pt x="0" y="1454"/>
                    <a:pt x="0" y="1454"/>
                    <a:pt x="0" y="1454"/>
                  </a:cubicBezTo>
                  <a:cubicBezTo>
                    <a:pt x="1" y="1457"/>
                    <a:pt x="3" y="1461"/>
                    <a:pt x="5" y="1464"/>
                  </a:cubicBezTo>
                  <a:cubicBezTo>
                    <a:pt x="10" y="1475"/>
                    <a:pt x="17" y="1484"/>
                    <a:pt x="25" y="1493"/>
                  </a:cubicBezTo>
                  <a:cubicBezTo>
                    <a:pt x="32" y="1502"/>
                    <a:pt x="39" y="1510"/>
                    <a:pt x="47" y="1517"/>
                  </a:cubicBezTo>
                  <a:cubicBezTo>
                    <a:pt x="52" y="1522"/>
                    <a:pt x="56" y="1526"/>
                    <a:pt x="60" y="1531"/>
                  </a:cubicBezTo>
                  <a:cubicBezTo>
                    <a:pt x="77" y="1547"/>
                    <a:pt x="94" y="1563"/>
                    <a:pt x="110" y="1580"/>
                  </a:cubicBezTo>
                  <a:cubicBezTo>
                    <a:pt x="112" y="1582"/>
                    <a:pt x="113" y="1584"/>
                    <a:pt x="115" y="1586"/>
                  </a:cubicBezTo>
                  <a:cubicBezTo>
                    <a:pt x="117" y="1589"/>
                    <a:pt x="119" y="1591"/>
                    <a:pt x="121" y="1594"/>
                  </a:cubicBezTo>
                  <a:cubicBezTo>
                    <a:pt x="128" y="1603"/>
                    <a:pt x="133" y="1613"/>
                    <a:pt x="137" y="1624"/>
                  </a:cubicBezTo>
                  <a:cubicBezTo>
                    <a:pt x="141" y="1635"/>
                    <a:pt x="142" y="1647"/>
                    <a:pt x="141" y="1658"/>
                  </a:cubicBezTo>
                  <a:cubicBezTo>
                    <a:pt x="140" y="1666"/>
                    <a:pt x="139" y="1673"/>
                    <a:pt x="136" y="1680"/>
                  </a:cubicBezTo>
                  <a:cubicBezTo>
                    <a:pt x="131" y="1687"/>
                    <a:pt x="126" y="1694"/>
                    <a:pt x="120" y="1701"/>
                  </a:cubicBezTo>
                  <a:cubicBezTo>
                    <a:pt x="105" y="1718"/>
                    <a:pt x="87" y="1733"/>
                    <a:pt x="70" y="1749"/>
                  </a:cubicBezTo>
                  <a:cubicBezTo>
                    <a:pt x="53" y="1765"/>
                    <a:pt x="36" y="1781"/>
                    <a:pt x="21" y="1799"/>
                  </a:cubicBezTo>
                  <a:cubicBezTo>
                    <a:pt x="14" y="1808"/>
                    <a:pt x="7" y="1818"/>
                    <a:pt x="2" y="1828"/>
                  </a:cubicBezTo>
                  <a:cubicBezTo>
                    <a:pt x="1" y="1829"/>
                    <a:pt x="1" y="1831"/>
                    <a:pt x="0" y="1832"/>
                  </a:cubicBezTo>
                  <a:cubicBezTo>
                    <a:pt x="0" y="1885"/>
                    <a:pt x="0" y="1885"/>
                    <a:pt x="0" y="1885"/>
                  </a:cubicBezTo>
                  <a:cubicBezTo>
                    <a:pt x="1" y="1889"/>
                    <a:pt x="3" y="1893"/>
                    <a:pt x="5" y="1896"/>
                  </a:cubicBezTo>
                  <a:cubicBezTo>
                    <a:pt x="10" y="1907"/>
                    <a:pt x="17" y="1916"/>
                    <a:pt x="25" y="1925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78" name="Freeform 12"/>
            <p:cNvSpPr/>
            <p:nvPr/>
          </p:nvSpPr>
          <p:spPr>
            <a:xfrm>
              <a:off x="1009800" y="-1440"/>
              <a:ext cx="509400" cy="6862320"/>
            </a:xfrm>
            <a:custGeom>
              <a:avLst/>
              <a:gdLst>
                <a:gd name="textAreaLeft" fmla="*/ 0 w 509400"/>
                <a:gd name="textAreaRight" fmla="*/ 509760 w 50940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0" h="2159">
                  <a:moveTo>
                    <a:pt x="26" y="72"/>
                  </a:moveTo>
                  <a:cubicBezTo>
                    <a:pt x="18" y="81"/>
                    <a:pt x="11" y="91"/>
                    <a:pt x="6" y="102"/>
                  </a:cubicBezTo>
                  <a:cubicBezTo>
                    <a:pt x="3" y="107"/>
                    <a:pt x="1" y="113"/>
                    <a:pt x="0" y="120"/>
                  </a:cubicBezTo>
                  <a:cubicBezTo>
                    <a:pt x="0" y="123"/>
                    <a:pt x="1" y="127"/>
                    <a:pt x="1" y="131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32"/>
                    <a:pt x="1" y="133"/>
                    <a:pt x="1" y="135"/>
                  </a:cubicBezTo>
                  <a:cubicBezTo>
                    <a:pt x="1" y="135"/>
                    <a:pt x="1" y="136"/>
                    <a:pt x="1" y="137"/>
                  </a:cubicBezTo>
                  <a:cubicBezTo>
                    <a:pt x="0" y="139"/>
                    <a:pt x="0" y="141"/>
                    <a:pt x="0" y="143"/>
                  </a:cubicBezTo>
                  <a:cubicBezTo>
                    <a:pt x="1" y="152"/>
                    <a:pt x="5" y="161"/>
                    <a:pt x="9" y="170"/>
                  </a:cubicBezTo>
                  <a:cubicBezTo>
                    <a:pt x="14" y="180"/>
                    <a:pt x="21" y="190"/>
                    <a:pt x="29" y="198"/>
                  </a:cubicBezTo>
                  <a:cubicBezTo>
                    <a:pt x="32" y="202"/>
                    <a:pt x="35" y="206"/>
                    <a:pt x="38" y="209"/>
                  </a:cubicBezTo>
                  <a:cubicBezTo>
                    <a:pt x="47" y="219"/>
                    <a:pt x="55" y="228"/>
                    <a:pt x="65" y="237"/>
                  </a:cubicBezTo>
                  <a:cubicBezTo>
                    <a:pt x="81" y="254"/>
                    <a:pt x="98" y="269"/>
                    <a:pt x="114" y="286"/>
                  </a:cubicBezTo>
                  <a:cubicBezTo>
                    <a:pt x="119" y="291"/>
                    <a:pt x="123" y="297"/>
                    <a:pt x="128" y="302"/>
                  </a:cubicBezTo>
                  <a:cubicBezTo>
                    <a:pt x="133" y="311"/>
                    <a:pt x="138" y="320"/>
                    <a:pt x="141" y="329"/>
                  </a:cubicBezTo>
                  <a:cubicBezTo>
                    <a:pt x="145" y="340"/>
                    <a:pt x="146" y="352"/>
                    <a:pt x="145" y="363"/>
                  </a:cubicBezTo>
                  <a:cubicBezTo>
                    <a:pt x="144" y="372"/>
                    <a:pt x="142" y="380"/>
                    <a:pt x="139" y="388"/>
                  </a:cubicBezTo>
                  <a:cubicBezTo>
                    <a:pt x="134" y="395"/>
                    <a:pt x="129" y="401"/>
                    <a:pt x="124" y="407"/>
                  </a:cubicBezTo>
                  <a:cubicBezTo>
                    <a:pt x="109" y="424"/>
                    <a:pt x="92" y="440"/>
                    <a:pt x="75" y="455"/>
                  </a:cubicBezTo>
                  <a:cubicBezTo>
                    <a:pt x="58" y="471"/>
                    <a:pt x="40" y="487"/>
                    <a:pt x="26" y="505"/>
                  </a:cubicBezTo>
                  <a:cubicBezTo>
                    <a:pt x="18" y="514"/>
                    <a:pt x="11" y="524"/>
                    <a:pt x="6" y="534"/>
                  </a:cubicBezTo>
                  <a:cubicBezTo>
                    <a:pt x="3" y="540"/>
                    <a:pt x="1" y="546"/>
                    <a:pt x="0" y="553"/>
                  </a:cubicBezTo>
                  <a:cubicBezTo>
                    <a:pt x="0" y="556"/>
                    <a:pt x="1" y="560"/>
                    <a:pt x="1" y="564"/>
                  </a:cubicBezTo>
                  <a:cubicBezTo>
                    <a:pt x="0" y="564"/>
                    <a:pt x="0" y="564"/>
                    <a:pt x="0" y="564"/>
                  </a:cubicBezTo>
                  <a:cubicBezTo>
                    <a:pt x="0" y="565"/>
                    <a:pt x="1" y="566"/>
                    <a:pt x="1" y="567"/>
                  </a:cubicBezTo>
                  <a:cubicBezTo>
                    <a:pt x="1" y="568"/>
                    <a:pt x="1" y="569"/>
                    <a:pt x="1" y="570"/>
                  </a:cubicBezTo>
                  <a:cubicBezTo>
                    <a:pt x="0" y="572"/>
                    <a:pt x="0" y="574"/>
                    <a:pt x="0" y="576"/>
                  </a:cubicBezTo>
                  <a:cubicBezTo>
                    <a:pt x="1" y="585"/>
                    <a:pt x="5" y="594"/>
                    <a:pt x="9" y="602"/>
                  </a:cubicBezTo>
                  <a:cubicBezTo>
                    <a:pt x="14" y="613"/>
                    <a:pt x="21" y="622"/>
                    <a:pt x="29" y="631"/>
                  </a:cubicBezTo>
                  <a:cubicBezTo>
                    <a:pt x="32" y="635"/>
                    <a:pt x="35" y="638"/>
                    <a:pt x="38" y="642"/>
                  </a:cubicBezTo>
                  <a:cubicBezTo>
                    <a:pt x="47" y="652"/>
                    <a:pt x="55" y="661"/>
                    <a:pt x="65" y="670"/>
                  </a:cubicBezTo>
                  <a:cubicBezTo>
                    <a:pt x="81" y="686"/>
                    <a:pt x="98" y="702"/>
                    <a:pt x="114" y="719"/>
                  </a:cubicBezTo>
                  <a:cubicBezTo>
                    <a:pt x="119" y="724"/>
                    <a:pt x="123" y="730"/>
                    <a:pt x="128" y="735"/>
                  </a:cubicBezTo>
                  <a:cubicBezTo>
                    <a:pt x="133" y="744"/>
                    <a:pt x="138" y="753"/>
                    <a:pt x="141" y="762"/>
                  </a:cubicBezTo>
                  <a:cubicBezTo>
                    <a:pt x="145" y="773"/>
                    <a:pt x="146" y="785"/>
                    <a:pt x="145" y="796"/>
                  </a:cubicBezTo>
                  <a:cubicBezTo>
                    <a:pt x="144" y="805"/>
                    <a:pt x="142" y="813"/>
                    <a:pt x="139" y="821"/>
                  </a:cubicBezTo>
                  <a:cubicBezTo>
                    <a:pt x="134" y="827"/>
                    <a:pt x="129" y="834"/>
                    <a:pt x="124" y="840"/>
                  </a:cubicBezTo>
                  <a:cubicBezTo>
                    <a:pt x="109" y="857"/>
                    <a:pt x="92" y="872"/>
                    <a:pt x="75" y="888"/>
                  </a:cubicBezTo>
                  <a:cubicBezTo>
                    <a:pt x="58" y="904"/>
                    <a:pt x="40" y="920"/>
                    <a:pt x="26" y="938"/>
                  </a:cubicBezTo>
                  <a:cubicBezTo>
                    <a:pt x="18" y="947"/>
                    <a:pt x="11" y="957"/>
                    <a:pt x="6" y="967"/>
                  </a:cubicBezTo>
                  <a:cubicBezTo>
                    <a:pt x="3" y="973"/>
                    <a:pt x="1" y="979"/>
                    <a:pt x="0" y="985"/>
                  </a:cubicBezTo>
                  <a:cubicBezTo>
                    <a:pt x="0" y="988"/>
                    <a:pt x="1" y="990"/>
                    <a:pt x="1" y="993"/>
                  </a:cubicBezTo>
                  <a:cubicBezTo>
                    <a:pt x="0" y="993"/>
                    <a:pt x="0" y="993"/>
                    <a:pt x="0" y="993"/>
                  </a:cubicBezTo>
                  <a:cubicBezTo>
                    <a:pt x="0" y="994"/>
                    <a:pt x="1" y="996"/>
                    <a:pt x="1" y="998"/>
                  </a:cubicBezTo>
                  <a:cubicBezTo>
                    <a:pt x="1" y="999"/>
                    <a:pt x="1" y="1001"/>
                    <a:pt x="1" y="1002"/>
                  </a:cubicBezTo>
                  <a:cubicBezTo>
                    <a:pt x="0" y="1004"/>
                    <a:pt x="0" y="1007"/>
                    <a:pt x="0" y="1009"/>
                  </a:cubicBezTo>
                  <a:cubicBezTo>
                    <a:pt x="1" y="1018"/>
                    <a:pt x="5" y="1027"/>
                    <a:pt x="9" y="1035"/>
                  </a:cubicBezTo>
                  <a:cubicBezTo>
                    <a:pt x="14" y="1046"/>
                    <a:pt x="21" y="1055"/>
                    <a:pt x="29" y="1064"/>
                  </a:cubicBezTo>
                  <a:cubicBezTo>
                    <a:pt x="44" y="1082"/>
                    <a:pt x="61" y="1098"/>
                    <a:pt x="78" y="1113"/>
                  </a:cubicBezTo>
                  <a:cubicBezTo>
                    <a:pt x="95" y="1129"/>
                    <a:pt x="112" y="1146"/>
                    <a:pt x="125" y="1164"/>
                  </a:cubicBezTo>
                  <a:cubicBezTo>
                    <a:pt x="132" y="1174"/>
                    <a:pt x="138" y="1184"/>
                    <a:pt x="141" y="1195"/>
                  </a:cubicBezTo>
                  <a:cubicBezTo>
                    <a:pt x="145" y="1206"/>
                    <a:pt x="146" y="1218"/>
                    <a:pt x="145" y="1229"/>
                  </a:cubicBezTo>
                  <a:cubicBezTo>
                    <a:pt x="145" y="1234"/>
                    <a:pt x="144" y="1239"/>
                    <a:pt x="142" y="1244"/>
                  </a:cubicBezTo>
                  <a:cubicBezTo>
                    <a:pt x="137" y="1253"/>
                    <a:pt x="131" y="1261"/>
                    <a:pt x="124" y="1269"/>
                  </a:cubicBezTo>
                  <a:cubicBezTo>
                    <a:pt x="109" y="1286"/>
                    <a:pt x="92" y="1302"/>
                    <a:pt x="75" y="1318"/>
                  </a:cubicBezTo>
                  <a:cubicBezTo>
                    <a:pt x="58" y="1333"/>
                    <a:pt x="40" y="1349"/>
                    <a:pt x="26" y="1367"/>
                  </a:cubicBezTo>
                  <a:cubicBezTo>
                    <a:pt x="18" y="1376"/>
                    <a:pt x="11" y="1386"/>
                    <a:pt x="6" y="1396"/>
                  </a:cubicBezTo>
                  <a:cubicBezTo>
                    <a:pt x="3" y="1402"/>
                    <a:pt x="1" y="1408"/>
                    <a:pt x="0" y="1415"/>
                  </a:cubicBezTo>
                  <a:cubicBezTo>
                    <a:pt x="0" y="1418"/>
                    <a:pt x="1" y="1421"/>
                    <a:pt x="1" y="1425"/>
                  </a:cubicBezTo>
                  <a:cubicBezTo>
                    <a:pt x="0" y="1425"/>
                    <a:pt x="0" y="1425"/>
                    <a:pt x="0" y="1425"/>
                  </a:cubicBezTo>
                  <a:cubicBezTo>
                    <a:pt x="0" y="1426"/>
                    <a:pt x="1" y="1427"/>
                    <a:pt x="1" y="1429"/>
                  </a:cubicBezTo>
                  <a:cubicBezTo>
                    <a:pt x="1" y="1430"/>
                    <a:pt x="1" y="1431"/>
                    <a:pt x="1" y="1432"/>
                  </a:cubicBezTo>
                  <a:cubicBezTo>
                    <a:pt x="0" y="1434"/>
                    <a:pt x="0" y="1436"/>
                    <a:pt x="0" y="1438"/>
                  </a:cubicBezTo>
                  <a:cubicBezTo>
                    <a:pt x="1" y="1447"/>
                    <a:pt x="5" y="1456"/>
                    <a:pt x="9" y="1464"/>
                  </a:cubicBezTo>
                  <a:cubicBezTo>
                    <a:pt x="14" y="1475"/>
                    <a:pt x="21" y="1484"/>
                    <a:pt x="29" y="1493"/>
                  </a:cubicBezTo>
                  <a:cubicBezTo>
                    <a:pt x="36" y="1502"/>
                    <a:pt x="44" y="1510"/>
                    <a:pt x="51" y="1517"/>
                  </a:cubicBezTo>
                  <a:cubicBezTo>
                    <a:pt x="56" y="1522"/>
                    <a:pt x="60" y="1526"/>
                    <a:pt x="65" y="1531"/>
                  </a:cubicBezTo>
                  <a:cubicBezTo>
                    <a:pt x="81" y="1547"/>
                    <a:pt x="98" y="1563"/>
                    <a:pt x="114" y="1580"/>
                  </a:cubicBezTo>
                  <a:cubicBezTo>
                    <a:pt x="116" y="1582"/>
                    <a:pt x="118" y="1584"/>
                    <a:pt x="119" y="1586"/>
                  </a:cubicBezTo>
                  <a:cubicBezTo>
                    <a:pt x="121" y="1589"/>
                    <a:pt x="123" y="1591"/>
                    <a:pt x="125" y="1594"/>
                  </a:cubicBezTo>
                  <a:cubicBezTo>
                    <a:pt x="132" y="1603"/>
                    <a:pt x="138" y="1613"/>
                    <a:pt x="141" y="1624"/>
                  </a:cubicBezTo>
                  <a:cubicBezTo>
                    <a:pt x="145" y="1635"/>
                    <a:pt x="146" y="1647"/>
                    <a:pt x="145" y="1658"/>
                  </a:cubicBezTo>
                  <a:cubicBezTo>
                    <a:pt x="145" y="1666"/>
                    <a:pt x="143" y="1673"/>
                    <a:pt x="140" y="1680"/>
                  </a:cubicBezTo>
                  <a:cubicBezTo>
                    <a:pt x="135" y="1687"/>
                    <a:pt x="130" y="1694"/>
                    <a:pt x="124" y="1701"/>
                  </a:cubicBezTo>
                  <a:cubicBezTo>
                    <a:pt x="109" y="1718"/>
                    <a:pt x="92" y="1733"/>
                    <a:pt x="75" y="1749"/>
                  </a:cubicBezTo>
                  <a:cubicBezTo>
                    <a:pt x="58" y="1765"/>
                    <a:pt x="40" y="1781"/>
                    <a:pt x="26" y="1799"/>
                  </a:cubicBezTo>
                  <a:cubicBezTo>
                    <a:pt x="18" y="1808"/>
                    <a:pt x="11" y="1818"/>
                    <a:pt x="6" y="1828"/>
                  </a:cubicBezTo>
                  <a:cubicBezTo>
                    <a:pt x="3" y="1834"/>
                    <a:pt x="1" y="1840"/>
                    <a:pt x="0" y="1846"/>
                  </a:cubicBezTo>
                  <a:cubicBezTo>
                    <a:pt x="0" y="1849"/>
                    <a:pt x="1" y="1852"/>
                    <a:pt x="1" y="1855"/>
                  </a:cubicBezTo>
                  <a:cubicBezTo>
                    <a:pt x="0" y="1855"/>
                    <a:pt x="0" y="1855"/>
                    <a:pt x="0" y="1855"/>
                  </a:cubicBezTo>
                  <a:cubicBezTo>
                    <a:pt x="0" y="1856"/>
                    <a:pt x="1" y="1858"/>
                    <a:pt x="1" y="1859"/>
                  </a:cubicBezTo>
                  <a:cubicBezTo>
                    <a:pt x="1" y="1861"/>
                    <a:pt x="1" y="1862"/>
                    <a:pt x="1" y="1863"/>
                  </a:cubicBezTo>
                  <a:cubicBezTo>
                    <a:pt x="0" y="1865"/>
                    <a:pt x="0" y="1867"/>
                    <a:pt x="0" y="1870"/>
                  </a:cubicBezTo>
                  <a:cubicBezTo>
                    <a:pt x="1" y="1879"/>
                    <a:pt x="5" y="1888"/>
                    <a:pt x="9" y="1896"/>
                  </a:cubicBezTo>
                  <a:cubicBezTo>
                    <a:pt x="14" y="1907"/>
                    <a:pt x="21" y="1916"/>
                    <a:pt x="29" y="1925"/>
                  </a:cubicBezTo>
                  <a:cubicBezTo>
                    <a:pt x="44" y="1943"/>
                    <a:pt x="61" y="1958"/>
                    <a:pt x="78" y="1974"/>
                  </a:cubicBezTo>
                  <a:cubicBezTo>
                    <a:pt x="78" y="1975"/>
                    <a:pt x="79" y="1975"/>
                    <a:pt x="79" y="1975"/>
                  </a:cubicBezTo>
                  <a:cubicBezTo>
                    <a:pt x="86" y="1982"/>
                    <a:pt x="93" y="1988"/>
                    <a:pt x="99" y="1995"/>
                  </a:cubicBezTo>
                  <a:cubicBezTo>
                    <a:pt x="109" y="2005"/>
                    <a:pt x="117" y="2014"/>
                    <a:pt x="125" y="2025"/>
                  </a:cubicBezTo>
                  <a:cubicBezTo>
                    <a:pt x="132" y="2035"/>
                    <a:pt x="138" y="2045"/>
                    <a:pt x="141" y="2056"/>
                  </a:cubicBezTo>
                  <a:cubicBezTo>
                    <a:pt x="145" y="2067"/>
                    <a:pt x="146" y="2078"/>
                    <a:pt x="145" y="2090"/>
                  </a:cubicBezTo>
                  <a:cubicBezTo>
                    <a:pt x="145" y="2096"/>
                    <a:pt x="143" y="2102"/>
                    <a:pt x="141" y="2108"/>
                  </a:cubicBezTo>
                  <a:cubicBezTo>
                    <a:pt x="137" y="2116"/>
                    <a:pt x="131" y="2124"/>
                    <a:pt x="124" y="2131"/>
                  </a:cubicBezTo>
                  <a:cubicBezTo>
                    <a:pt x="116" y="2141"/>
                    <a:pt x="106" y="2150"/>
                    <a:pt x="97" y="2159"/>
                  </a:cubicBezTo>
                  <a:cubicBezTo>
                    <a:pt x="112" y="2159"/>
                    <a:pt x="112" y="2159"/>
                    <a:pt x="112" y="2159"/>
                  </a:cubicBezTo>
                  <a:cubicBezTo>
                    <a:pt x="119" y="2152"/>
                    <a:pt x="126" y="2145"/>
                    <a:pt x="132" y="2138"/>
                  </a:cubicBezTo>
                  <a:cubicBezTo>
                    <a:pt x="136" y="2133"/>
                    <a:pt x="141" y="2128"/>
                    <a:pt x="145" y="2122"/>
                  </a:cubicBezTo>
                  <a:cubicBezTo>
                    <a:pt x="145" y="2122"/>
                    <a:pt x="145" y="2122"/>
                    <a:pt x="145" y="2122"/>
                  </a:cubicBezTo>
                  <a:cubicBezTo>
                    <a:pt x="145" y="2122"/>
                    <a:pt x="145" y="2121"/>
                    <a:pt x="146" y="2120"/>
                  </a:cubicBezTo>
                  <a:cubicBezTo>
                    <a:pt x="148" y="2116"/>
                    <a:pt x="151" y="2112"/>
                    <a:pt x="153" y="2107"/>
                  </a:cubicBezTo>
                  <a:cubicBezTo>
                    <a:pt x="156" y="2101"/>
                    <a:pt x="158" y="2095"/>
                    <a:pt x="159" y="2088"/>
                  </a:cubicBezTo>
                  <a:cubicBezTo>
                    <a:pt x="160" y="2080"/>
                    <a:pt x="159" y="2074"/>
                    <a:pt x="158" y="2068"/>
                  </a:cubicBezTo>
                  <a:cubicBezTo>
                    <a:pt x="155" y="2055"/>
                    <a:pt x="150" y="2043"/>
                    <a:pt x="143" y="2033"/>
                  </a:cubicBezTo>
                  <a:cubicBezTo>
                    <a:pt x="142" y="2032"/>
                    <a:pt x="141" y="2030"/>
                    <a:pt x="140" y="2029"/>
                  </a:cubicBezTo>
                  <a:cubicBezTo>
                    <a:pt x="138" y="2026"/>
                    <a:pt x="136" y="2022"/>
                    <a:pt x="134" y="2019"/>
                  </a:cubicBezTo>
                  <a:cubicBezTo>
                    <a:pt x="120" y="1999"/>
                    <a:pt x="102" y="1982"/>
                    <a:pt x="86" y="1966"/>
                  </a:cubicBezTo>
                  <a:cubicBezTo>
                    <a:pt x="69" y="1950"/>
                    <a:pt x="52" y="1935"/>
                    <a:pt x="38" y="1917"/>
                  </a:cubicBezTo>
                  <a:cubicBezTo>
                    <a:pt x="24" y="1901"/>
                    <a:pt x="12" y="1881"/>
                    <a:pt x="11" y="1861"/>
                  </a:cubicBezTo>
                  <a:cubicBezTo>
                    <a:pt x="10" y="1852"/>
                    <a:pt x="12" y="1843"/>
                    <a:pt x="17" y="1833"/>
                  </a:cubicBezTo>
                  <a:cubicBezTo>
                    <a:pt x="21" y="1824"/>
                    <a:pt x="28" y="1815"/>
                    <a:pt x="35" y="1806"/>
                  </a:cubicBezTo>
                  <a:cubicBezTo>
                    <a:pt x="49" y="1789"/>
                    <a:pt x="65" y="1773"/>
                    <a:pt x="82" y="1757"/>
                  </a:cubicBezTo>
                  <a:cubicBezTo>
                    <a:pt x="99" y="1741"/>
                    <a:pt x="116" y="1726"/>
                    <a:pt x="132" y="1708"/>
                  </a:cubicBezTo>
                  <a:cubicBezTo>
                    <a:pt x="140" y="1698"/>
                    <a:pt x="148" y="1689"/>
                    <a:pt x="153" y="1677"/>
                  </a:cubicBezTo>
                  <a:cubicBezTo>
                    <a:pt x="156" y="1671"/>
                    <a:pt x="158" y="1664"/>
                    <a:pt x="159" y="1657"/>
                  </a:cubicBezTo>
                  <a:cubicBezTo>
                    <a:pt x="160" y="1650"/>
                    <a:pt x="159" y="1644"/>
                    <a:pt x="158" y="1637"/>
                  </a:cubicBezTo>
                  <a:cubicBezTo>
                    <a:pt x="155" y="1625"/>
                    <a:pt x="150" y="1614"/>
                    <a:pt x="144" y="1605"/>
                  </a:cubicBezTo>
                  <a:cubicBezTo>
                    <a:pt x="141" y="1599"/>
                    <a:pt x="138" y="1593"/>
                    <a:pt x="134" y="1588"/>
                  </a:cubicBezTo>
                  <a:cubicBezTo>
                    <a:pt x="120" y="1567"/>
                    <a:pt x="102" y="1551"/>
                    <a:pt x="86" y="1535"/>
                  </a:cubicBezTo>
                  <a:cubicBezTo>
                    <a:pt x="69" y="1519"/>
                    <a:pt x="52" y="1503"/>
                    <a:pt x="38" y="1486"/>
                  </a:cubicBezTo>
                  <a:cubicBezTo>
                    <a:pt x="24" y="1469"/>
                    <a:pt x="12" y="1450"/>
                    <a:pt x="11" y="1430"/>
                  </a:cubicBezTo>
                  <a:cubicBezTo>
                    <a:pt x="10" y="1421"/>
                    <a:pt x="12" y="1411"/>
                    <a:pt x="17" y="1402"/>
                  </a:cubicBezTo>
                  <a:cubicBezTo>
                    <a:pt x="21" y="1392"/>
                    <a:pt x="28" y="1383"/>
                    <a:pt x="35" y="1375"/>
                  </a:cubicBezTo>
                  <a:cubicBezTo>
                    <a:pt x="49" y="1357"/>
                    <a:pt x="65" y="1342"/>
                    <a:pt x="82" y="1326"/>
                  </a:cubicBezTo>
                  <a:cubicBezTo>
                    <a:pt x="99" y="1310"/>
                    <a:pt x="116" y="1294"/>
                    <a:pt x="132" y="1276"/>
                  </a:cubicBezTo>
                  <a:cubicBezTo>
                    <a:pt x="136" y="1271"/>
                    <a:pt x="140" y="1266"/>
                    <a:pt x="144" y="1261"/>
                  </a:cubicBezTo>
                  <a:cubicBezTo>
                    <a:pt x="145" y="1261"/>
                    <a:pt x="145" y="1261"/>
                    <a:pt x="145" y="1261"/>
                  </a:cubicBezTo>
                  <a:cubicBezTo>
                    <a:pt x="146" y="1259"/>
                    <a:pt x="147" y="1258"/>
                    <a:pt x="148" y="1256"/>
                  </a:cubicBezTo>
                  <a:cubicBezTo>
                    <a:pt x="150" y="1252"/>
                    <a:pt x="152" y="1249"/>
                    <a:pt x="153" y="1245"/>
                  </a:cubicBezTo>
                  <a:cubicBezTo>
                    <a:pt x="156" y="1239"/>
                    <a:pt x="158" y="1233"/>
                    <a:pt x="159" y="1226"/>
                  </a:cubicBezTo>
                  <a:cubicBezTo>
                    <a:pt x="160" y="1218"/>
                    <a:pt x="159" y="1212"/>
                    <a:pt x="158" y="1206"/>
                  </a:cubicBezTo>
                  <a:cubicBezTo>
                    <a:pt x="155" y="1193"/>
                    <a:pt x="150" y="1181"/>
                    <a:pt x="143" y="1171"/>
                  </a:cubicBezTo>
                  <a:cubicBezTo>
                    <a:pt x="141" y="1168"/>
                    <a:pt x="138" y="1164"/>
                    <a:pt x="136" y="1161"/>
                  </a:cubicBezTo>
                  <a:cubicBezTo>
                    <a:pt x="135" y="1160"/>
                    <a:pt x="134" y="1159"/>
                    <a:pt x="134" y="1158"/>
                  </a:cubicBezTo>
                  <a:cubicBezTo>
                    <a:pt x="120" y="1138"/>
                    <a:pt x="102" y="1122"/>
                    <a:pt x="86" y="1105"/>
                  </a:cubicBezTo>
                  <a:cubicBezTo>
                    <a:pt x="69" y="1089"/>
                    <a:pt x="52" y="1074"/>
                    <a:pt x="38" y="1057"/>
                  </a:cubicBezTo>
                  <a:cubicBezTo>
                    <a:pt x="24" y="1040"/>
                    <a:pt x="12" y="1020"/>
                    <a:pt x="11" y="1000"/>
                  </a:cubicBezTo>
                  <a:cubicBezTo>
                    <a:pt x="10" y="991"/>
                    <a:pt x="12" y="982"/>
                    <a:pt x="17" y="972"/>
                  </a:cubicBezTo>
                  <a:cubicBezTo>
                    <a:pt x="21" y="963"/>
                    <a:pt x="28" y="954"/>
                    <a:pt x="35" y="945"/>
                  </a:cubicBezTo>
                  <a:cubicBezTo>
                    <a:pt x="49" y="928"/>
                    <a:pt x="65" y="912"/>
                    <a:pt x="82" y="896"/>
                  </a:cubicBezTo>
                  <a:cubicBezTo>
                    <a:pt x="99" y="880"/>
                    <a:pt x="116" y="865"/>
                    <a:pt x="132" y="847"/>
                  </a:cubicBezTo>
                  <a:cubicBezTo>
                    <a:pt x="140" y="837"/>
                    <a:pt x="148" y="828"/>
                    <a:pt x="153" y="816"/>
                  </a:cubicBezTo>
                  <a:cubicBezTo>
                    <a:pt x="156" y="810"/>
                    <a:pt x="158" y="803"/>
                    <a:pt x="159" y="796"/>
                  </a:cubicBezTo>
                  <a:cubicBezTo>
                    <a:pt x="160" y="789"/>
                    <a:pt x="159" y="783"/>
                    <a:pt x="158" y="776"/>
                  </a:cubicBezTo>
                  <a:cubicBezTo>
                    <a:pt x="156" y="766"/>
                    <a:pt x="152" y="756"/>
                    <a:pt x="147" y="748"/>
                  </a:cubicBezTo>
                  <a:cubicBezTo>
                    <a:pt x="143" y="740"/>
                    <a:pt x="139" y="732"/>
                    <a:pt x="134" y="726"/>
                  </a:cubicBezTo>
                  <a:cubicBezTo>
                    <a:pt x="120" y="705"/>
                    <a:pt x="102" y="689"/>
                    <a:pt x="86" y="673"/>
                  </a:cubicBezTo>
                  <a:cubicBezTo>
                    <a:pt x="69" y="656"/>
                    <a:pt x="52" y="641"/>
                    <a:pt x="38" y="624"/>
                  </a:cubicBezTo>
                  <a:cubicBezTo>
                    <a:pt x="24" y="607"/>
                    <a:pt x="12" y="588"/>
                    <a:pt x="11" y="568"/>
                  </a:cubicBezTo>
                  <a:cubicBezTo>
                    <a:pt x="10" y="558"/>
                    <a:pt x="12" y="549"/>
                    <a:pt x="17" y="540"/>
                  </a:cubicBezTo>
                  <a:cubicBezTo>
                    <a:pt x="21" y="530"/>
                    <a:pt x="28" y="521"/>
                    <a:pt x="35" y="513"/>
                  </a:cubicBezTo>
                  <a:cubicBezTo>
                    <a:pt x="49" y="495"/>
                    <a:pt x="65" y="480"/>
                    <a:pt x="82" y="464"/>
                  </a:cubicBezTo>
                  <a:cubicBezTo>
                    <a:pt x="99" y="448"/>
                    <a:pt x="116" y="432"/>
                    <a:pt x="132" y="414"/>
                  </a:cubicBezTo>
                  <a:cubicBezTo>
                    <a:pt x="140" y="405"/>
                    <a:pt x="148" y="395"/>
                    <a:pt x="153" y="383"/>
                  </a:cubicBezTo>
                  <a:cubicBezTo>
                    <a:pt x="156" y="377"/>
                    <a:pt x="158" y="371"/>
                    <a:pt x="159" y="364"/>
                  </a:cubicBezTo>
                  <a:cubicBezTo>
                    <a:pt x="160" y="356"/>
                    <a:pt x="159" y="350"/>
                    <a:pt x="158" y="344"/>
                  </a:cubicBezTo>
                  <a:cubicBezTo>
                    <a:pt x="156" y="333"/>
                    <a:pt x="152" y="324"/>
                    <a:pt x="147" y="315"/>
                  </a:cubicBezTo>
                  <a:cubicBezTo>
                    <a:pt x="143" y="307"/>
                    <a:pt x="139" y="300"/>
                    <a:pt x="134" y="293"/>
                  </a:cubicBezTo>
                  <a:cubicBezTo>
                    <a:pt x="120" y="273"/>
                    <a:pt x="102" y="256"/>
                    <a:pt x="86" y="240"/>
                  </a:cubicBezTo>
                  <a:cubicBezTo>
                    <a:pt x="69" y="224"/>
                    <a:pt x="52" y="208"/>
                    <a:pt x="38" y="191"/>
                  </a:cubicBezTo>
                  <a:cubicBezTo>
                    <a:pt x="24" y="174"/>
                    <a:pt x="12" y="155"/>
                    <a:pt x="11" y="135"/>
                  </a:cubicBezTo>
                  <a:cubicBezTo>
                    <a:pt x="10" y="126"/>
                    <a:pt x="12" y="116"/>
                    <a:pt x="17" y="107"/>
                  </a:cubicBezTo>
                  <a:cubicBezTo>
                    <a:pt x="21" y="97"/>
                    <a:pt x="28" y="88"/>
                    <a:pt x="35" y="80"/>
                  </a:cubicBezTo>
                  <a:cubicBezTo>
                    <a:pt x="49" y="63"/>
                    <a:pt x="65" y="47"/>
                    <a:pt x="82" y="31"/>
                  </a:cubicBezTo>
                  <a:cubicBezTo>
                    <a:pt x="93" y="21"/>
                    <a:pt x="104" y="10"/>
                    <a:pt x="114" y="0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91" y="7"/>
                    <a:pt x="83" y="15"/>
                    <a:pt x="75" y="23"/>
                  </a:cubicBezTo>
                  <a:cubicBezTo>
                    <a:pt x="58" y="39"/>
                    <a:pt x="40" y="54"/>
                    <a:pt x="26" y="72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79" name="Freeform 13"/>
            <p:cNvSpPr/>
            <p:nvPr/>
          </p:nvSpPr>
          <p:spPr>
            <a:xfrm>
              <a:off x="2541600" y="-1440"/>
              <a:ext cx="991800" cy="6862320"/>
            </a:xfrm>
            <a:custGeom>
              <a:avLst/>
              <a:gdLst>
                <a:gd name="textAreaLeft" fmla="*/ 0 w 991800"/>
                <a:gd name="textAreaRight" fmla="*/ 992160 w 99180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312" h="2159">
                  <a:moveTo>
                    <a:pt x="123" y="74"/>
                  </a:moveTo>
                  <a:cubicBezTo>
                    <a:pt x="130" y="83"/>
                    <a:pt x="137" y="92"/>
                    <a:pt x="142" y="103"/>
                  </a:cubicBezTo>
                  <a:cubicBezTo>
                    <a:pt x="146" y="111"/>
                    <a:pt x="149" y="121"/>
                    <a:pt x="149" y="131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46" y="149"/>
                    <a:pt x="139" y="167"/>
                    <a:pt x="129" y="183"/>
                  </a:cubicBezTo>
                  <a:cubicBezTo>
                    <a:pt x="127" y="187"/>
                    <a:pt x="124" y="192"/>
                    <a:pt x="121" y="196"/>
                  </a:cubicBezTo>
                  <a:cubicBezTo>
                    <a:pt x="120" y="196"/>
                    <a:pt x="120" y="197"/>
                    <a:pt x="120" y="197"/>
                  </a:cubicBezTo>
                  <a:cubicBezTo>
                    <a:pt x="105" y="215"/>
                    <a:pt x="87" y="230"/>
                    <a:pt x="71" y="246"/>
                  </a:cubicBezTo>
                  <a:cubicBezTo>
                    <a:pt x="54" y="262"/>
                    <a:pt x="37" y="279"/>
                    <a:pt x="23" y="298"/>
                  </a:cubicBezTo>
                  <a:cubicBezTo>
                    <a:pt x="22" y="300"/>
                    <a:pt x="20" y="302"/>
                    <a:pt x="19" y="305"/>
                  </a:cubicBezTo>
                  <a:cubicBezTo>
                    <a:pt x="17" y="307"/>
                    <a:pt x="15" y="310"/>
                    <a:pt x="13" y="313"/>
                  </a:cubicBezTo>
                  <a:cubicBezTo>
                    <a:pt x="7" y="322"/>
                    <a:pt x="2" y="333"/>
                    <a:pt x="0" y="345"/>
                  </a:cubicBezTo>
                  <a:cubicBezTo>
                    <a:pt x="0" y="345"/>
                    <a:pt x="0" y="346"/>
                    <a:pt x="0" y="347"/>
                  </a:cubicBezTo>
                  <a:cubicBezTo>
                    <a:pt x="1" y="352"/>
                    <a:pt x="1" y="357"/>
                    <a:pt x="0" y="364"/>
                  </a:cubicBezTo>
                  <a:cubicBezTo>
                    <a:pt x="0" y="365"/>
                    <a:pt x="0" y="366"/>
                    <a:pt x="0" y="367"/>
                  </a:cubicBezTo>
                  <a:cubicBezTo>
                    <a:pt x="1" y="372"/>
                    <a:pt x="2" y="376"/>
                    <a:pt x="4" y="379"/>
                  </a:cubicBezTo>
                  <a:cubicBezTo>
                    <a:pt x="6" y="383"/>
                    <a:pt x="8" y="387"/>
                    <a:pt x="10" y="390"/>
                  </a:cubicBezTo>
                  <a:cubicBezTo>
                    <a:pt x="11" y="392"/>
                    <a:pt x="12" y="394"/>
                    <a:pt x="13" y="396"/>
                  </a:cubicBezTo>
                  <a:cubicBezTo>
                    <a:pt x="14" y="396"/>
                    <a:pt x="14" y="396"/>
                    <a:pt x="14" y="396"/>
                  </a:cubicBezTo>
                  <a:cubicBezTo>
                    <a:pt x="17" y="400"/>
                    <a:pt x="21" y="404"/>
                    <a:pt x="24" y="408"/>
                  </a:cubicBezTo>
                  <a:cubicBezTo>
                    <a:pt x="40" y="426"/>
                    <a:pt x="57" y="441"/>
                    <a:pt x="74" y="457"/>
                  </a:cubicBezTo>
                  <a:cubicBezTo>
                    <a:pt x="91" y="473"/>
                    <a:pt x="108" y="489"/>
                    <a:pt x="123" y="507"/>
                  </a:cubicBezTo>
                  <a:cubicBezTo>
                    <a:pt x="130" y="516"/>
                    <a:pt x="137" y="525"/>
                    <a:pt x="142" y="535"/>
                  </a:cubicBezTo>
                  <a:cubicBezTo>
                    <a:pt x="146" y="544"/>
                    <a:pt x="149" y="554"/>
                    <a:pt x="149" y="564"/>
                  </a:cubicBezTo>
                  <a:cubicBezTo>
                    <a:pt x="149" y="564"/>
                    <a:pt x="149" y="564"/>
                    <a:pt x="149" y="564"/>
                  </a:cubicBezTo>
                  <a:cubicBezTo>
                    <a:pt x="146" y="582"/>
                    <a:pt x="139" y="600"/>
                    <a:pt x="129" y="616"/>
                  </a:cubicBezTo>
                  <a:cubicBezTo>
                    <a:pt x="127" y="620"/>
                    <a:pt x="124" y="625"/>
                    <a:pt x="121" y="629"/>
                  </a:cubicBezTo>
                  <a:cubicBezTo>
                    <a:pt x="120" y="629"/>
                    <a:pt x="120" y="629"/>
                    <a:pt x="120" y="630"/>
                  </a:cubicBezTo>
                  <a:cubicBezTo>
                    <a:pt x="105" y="648"/>
                    <a:pt x="87" y="663"/>
                    <a:pt x="71" y="679"/>
                  </a:cubicBezTo>
                  <a:cubicBezTo>
                    <a:pt x="54" y="695"/>
                    <a:pt x="37" y="711"/>
                    <a:pt x="23" y="730"/>
                  </a:cubicBezTo>
                  <a:cubicBezTo>
                    <a:pt x="22" y="733"/>
                    <a:pt x="20" y="735"/>
                    <a:pt x="19" y="737"/>
                  </a:cubicBezTo>
                  <a:cubicBezTo>
                    <a:pt x="17" y="740"/>
                    <a:pt x="15" y="743"/>
                    <a:pt x="13" y="745"/>
                  </a:cubicBezTo>
                  <a:cubicBezTo>
                    <a:pt x="7" y="755"/>
                    <a:pt x="2" y="766"/>
                    <a:pt x="0" y="778"/>
                  </a:cubicBezTo>
                  <a:cubicBezTo>
                    <a:pt x="0" y="778"/>
                    <a:pt x="0" y="779"/>
                    <a:pt x="0" y="779"/>
                  </a:cubicBezTo>
                  <a:cubicBezTo>
                    <a:pt x="1" y="785"/>
                    <a:pt x="1" y="790"/>
                    <a:pt x="0" y="796"/>
                  </a:cubicBezTo>
                  <a:cubicBezTo>
                    <a:pt x="0" y="798"/>
                    <a:pt x="0" y="799"/>
                    <a:pt x="0" y="800"/>
                  </a:cubicBezTo>
                  <a:cubicBezTo>
                    <a:pt x="1" y="804"/>
                    <a:pt x="2" y="808"/>
                    <a:pt x="4" y="812"/>
                  </a:cubicBezTo>
                  <a:cubicBezTo>
                    <a:pt x="6" y="816"/>
                    <a:pt x="8" y="819"/>
                    <a:pt x="10" y="823"/>
                  </a:cubicBezTo>
                  <a:cubicBezTo>
                    <a:pt x="11" y="825"/>
                    <a:pt x="12" y="827"/>
                    <a:pt x="13" y="828"/>
                  </a:cubicBezTo>
                  <a:cubicBezTo>
                    <a:pt x="14" y="828"/>
                    <a:pt x="14" y="828"/>
                    <a:pt x="14" y="828"/>
                  </a:cubicBezTo>
                  <a:cubicBezTo>
                    <a:pt x="17" y="833"/>
                    <a:pt x="21" y="837"/>
                    <a:pt x="24" y="841"/>
                  </a:cubicBezTo>
                  <a:cubicBezTo>
                    <a:pt x="40" y="858"/>
                    <a:pt x="57" y="874"/>
                    <a:pt x="74" y="890"/>
                  </a:cubicBezTo>
                  <a:cubicBezTo>
                    <a:pt x="91" y="906"/>
                    <a:pt x="108" y="922"/>
                    <a:pt x="123" y="939"/>
                  </a:cubicBezTo>
                  <a:cubicBezTo>
                    <a:pt x="130" y="948"/>
                    <a:pt x="137" y="958"/>
                    <a:pt x="142" y="968"/>
                  </a:cubicBezTo>
                  <a:cubicBezTo>
                    <a:pt x="146" y="976"/>
                    <a:pt x="148" y="984"/>
                    <a:pt x="149" y="993"/>
                  </a:cubicBezTo>
                  <a:cubicBezTo>
                    <a:pt x="149" y="993"/>
                    <a:pt x="149" y="993"/>
                    <a:pt x="149" y="993"/>
                  </a:cubicBezTo>
                  <a:cubicBezTo>
                    <a:pt x="146" y="1012"/>
                    <a:pt x="139" y="1029"/>
                    <a:pt x="129" y="1045"/>
                  </a:cubicBezTo>
                  <a:cubicBezTo>
                    <a:pt x="117" y="1065"/>
                    <a:pt x="101" y="1082"/>
                    <a:pt x="84" y="1098"/>
                  </a:cubicBezTo>
                  <a:cubicBezTo>
                    <a:pt x="68" y="1114"/>
                    <a:pt x="51" y="1130"/>
                    <a:pt x="35" y="1147"/>
                  </a:cubicBezTo>
                  <a:cubicBezTo>
                    <a:pt x="27" y="1156"/>
                    <a:pt x="20" y="1165"/>
                    <a:pt x="13" y="1175"/>
                  </a:cubicBezTo>
                  <a:cubicBezTo>
                    <a:pt x="7" y="1185"/>
                    <a:pt x="2" y="1195"/>
                    <a:pt x="0" y="1207"/>
                  </a:cubicBezTo>
                  <a:cubicBezTo>
                    <a:pt x="0" y="1208"/>
                    <a:pt x="0" y="1208"/>
                    <a:pt x="0" y="1209"/>
                  </a:cubicBezTo>
                  <a:cubicBezTo>
                    <a:pt x="1" y="1214"/>
                    <a:pt x="1" y="1220"/>
                    <a:pt x="0" y="1226"/>
                  </a:cubicBezTo>
                  <a:cubicBezTo>
                    <a:pt x="0" y="1227"/>
                    <a:pt x="0" y="1228"/>
                    <a:pt x="0" y="1230"/>
                  </a:cubicBezTo>
                  <a:cubicBezTo>
                    <a:pt x="1" y="1234"/>
                    <a:pt x="2" y="1238"/>
                    <a:pt x="4" y="1242"/>
                  </a:cubicBezTo>
                  <a:cubicBezTo>
                    <a:pt x="5" y="1243"/>
                    <a:pt x="6" y="1244"/>
                    <a:pt x="6" y="1245"/>
                  </a:cubicBezTo>
                  <a:cubicBezTo>
                    <a:pt x="8" y="1251"/>
                    <a:pt x="10" y="1256"/>
                    <a:pt x="13" y="1261"/>
                  </a:cubicBezTo>
                  <a:cubicBezTo>
                    <a:pt x="17" y="1261"/>
                    <a:pt x="17" y="1261"/>
                    <a:pt x="17" y="1261"/>
                  </a:cubicBezTo>
                  <a:cubicBezTo>
                    <a:pt x="19" y="1264"/>
                    <a:pt x="22" y="1267"/>
                    <a:pt x="24" y="1270"/>
                  </a:cubicBezTo>
                  <a:cubicBezTo>
                    <a:pt x="40" y="1288"/>
                    <a:pt x="57" y="1303"/>
                    <a:pt x="74" y="1319"/>
                  </a:cubicBezTo>
                  <a:cubicBezTo>
                    <a:pt x="91" y="1335"/>
                    <a:pt x="108" y="1351"/>
                    <a:pt x="123" y="1369"/>
                  </a:cubicBezTo>
                  <a:cubicBezTo>
                    <a:pt x="130" y="1378"/>
                    <a:pt x="137" y="1387"/>
                    <a:pt x="142" y="1398"/>
                  </a:cubicBezTo>
                  <a:cubicBezTo>
                    <a:pt x="146" y="1406"/>
                    <a:pt x="149" y="1415"/>
                    <a:pt x="149" y="1425"/>
                  </a:cubicBezTo>
                  <a:cubicBezTo>
                    <a:pt x="149" y="1425"/>
                    <a:pt x="149" y="1425"/>
                    <a:pt x="149" y="1425"/>
                  </a:cubicBezTo>
                  <a:cubicBezTo>
                    <a:pt x="146" y="1443"/>
                    <a:pt x="139" y="1461"/>
                    <a:pt x="129" y="1477"/>
                  </a:cubicBezTo>
                  <a:cubicBezTo>
                    <a:pt x="124" y="1485"/>
                    <a:pt x="118" y="1493"/>
                    <a:pt x="111" y="1501"/>
                  </a:cubicBezTo>
                  <a:cubicBezTo>
                    <a:pt x="99" y="1515"/>
                    <a:pt x="84" y="1528"/>
                    <a:pt x="71" y="1541"/>
                  </a:cubicBezTo>
                  <a:cubicBezTo>
                    <a:pt x="55" y="1556"/>
                    <a:pt x="39" y="1572"/>
                    <a:pt x="26" y="1590"/>
                  </a:cubicBezTo>
                  <a:cubicBezTo>
                    <a:pt x="21" y="1595"/>
                    <a:pt x="17" y="1600"/>
                    <a:pt x="13" y="1606"/>
                  </a:cubicBezTo>
                  <a:cubicBezTo>
                    <a:pt x="7" y="1616"/>
                    <a:pt x="2" y="1627"/>
                    <a:pt x="0" y="1639"/>
                  </a:cubicBezTo>
                  <a:cubicBezTo>
                    <a:pt x="0" y="1639"/>
                    <a:pt x="0" y="1640"/>
                    <a:pt x="0" y="1640"/>
                  </a:cubicBezTo>
                  <a:cubicBezTo>
                    <a:pt x="1" y="1646"/>
                    <a:pt x="1" y="1651"/>
                    <a:pt x="0" y="1657"/>
                  </a:cubicBezTo>
                  <a:cubicBezTo>
                    <a:pt x="0" y="1659"/>
                    <a:pt x="0" y="1660"/>
                    <a:pt x="0" y="1661"/>
                  </a:cubicBezTo>
                  <a:cubicBezTo>
                    <a:pt x="1" y="1665"/>
                    <a:pt x="2" y="1669"/>
                    <a:pt x="4" y="1673"/>
                  </a:cubicBezTo>
                  <a:cubicBezTo>
                    <a:pt x="6" y="1676"/>
                    <a:pt x="7" y="1679"/>
                    <a:pt x="9" y="1681"/>
                  </a:cubicBezTo>
                  <a:cubicBezTo>
                    <a:pt x="10" y="1685"/>
                    <a:pt x="12" y="1688"/>
                    <a:pt x="13" y="1691"/>
                  </a:cubicBezTo>
                  <a:cubicBezTo>
                    <a:pt x="15" y="1691"/>
                    <a:pt x="15" y="1691"/>
                    <a:pt x="15" y="1691"/>
                  </a:cubicBezTo>
                  <a:cubicBezTo>
                    <a:pt x="18" y="1694"/>
                    <a:pt x="21" y="1698"/>
                    <a:pt x="24" y="1702"/>
                  </a:cubicBezTo>
                  <a:cubicBezTo>
                    <a:pt x="40" y="1719"/>
                    <a:pt x="57" y="1735"/>
                    <a:pt x="74" y="1751"/>
                  </a:cubicBezTo>
                  <a:cubicBezTo>
                    <a:pt x="91" y="1767"/>
                    <a:pt x="108" y="1783"/>
                    <a:pt x="123" y="1800"/>
                  </a:cubicBezTo>
                  <a:cubicBezTo>
                    <a:pt x="130" y="1809"/>
                    <a:pt x="137" y="1819"/>
                    <a:pt x="142" y="1829"/>
                  </a:cubicBezTo>
                  <a:cubicBezTo>
                    <a:pt x="146" y="1837"/>
                    <a:pt x="149" y="1846"/>
                    <a:pt x="149" y="1855"/>
                  </a:cubicBezTo>
                  <a:cubicBezTo>
                    <a:pt x="149" y="1855"/>
                    <a:pt x="149" y="1855"/>
                    <a:pt x="149" y="1855"/>
                  </a:cubicBezTo>
                  <a:cubicBezTo>
                    <a:pt x="146" y="1874"/>
                    <a:pt x="139" y="1891"/>
                    <a:pt x="129" y="1907"/>
                  </a:cubicBezTo>
                  <a:cubicBezTo>
                    <a:pt x="119" y="1923"/>
                    <a:pt x="107" y="1938"/>
                    <a:pt x="93" y="1951"/>
                  </a:cubicBezTo>
                  <a:cubicBezTo>
                    <a:pt x="86" y="1959"/>
                    <a:pt x="78" y="1966"/>
                    <a:pt x="71" y="1973"/>
                  </a:cubicBezTo>
                  <a:cubicBezTo>
                    <a:pt x="59" y="1984"/>
                    <a:pt x="48" y="1995"/>
                    <a:pt x="37" y="2007"/>
                  </a:cubicBezTo>
                  <a:cubicBezTo>
                    <a:pt x="36" y="2008"/>
                    <a:pt x="36" y="2008"/>
                    <a:pt x="35" y="2009"/>
                  </a:cubicBezTo>
                  <a:cubicBezTo>
                    <a:pt x="27" y="2018"/>
                    <a:pt x="20" y="2027"/>
                    <a:pt x="13" y="2037"/>
                  </a:cubicBezTo>
                  <a:cubicBezTo>
                    <a:pt x="7" y="2047"/>
                    <a:pt x="2" y="2057"/>
                    <a:pt x="0" y="2069"/>
                  </a:cubicBezTo>
                  <a:cubicBezTo>
                    <a:pt x="0" y="2070"/>
                    <a:pt x="0" y="2070"/>
                    <a:pt x="0" y="2071"/>
                  </a:cubicBezTo>
                  <a:cubicBezTo>
                    <a:pt x="1" y="2076"/>
                    <a:pt x="1" y="2082"/>
                    <a:pt x="0" y="2088"/>
                  </a:cubicBezTo>
                  <a:cubicBezTo>
                    <a:pt x="0" y="2089"/>
                    <a:pt x="0" y="2090"/>
                    <a:pt x="0" y="2092"/>
                  </a:cubicBezTo>
                  <a:cubicBezTo>
                    <a:pt x="1" y="2096"/>
                    <a:pt x="2" y="2100"/>
                    <a:pt x="4" y="2104"/>
                  </a:cubicBezTo>
                  <a:cubicBezTo>
                    <a:pt x="5" y="2106"/>
                    <a:pt x="6" y="2107"/>
                    <a:pt x="7" y="2109"/>
                  </a:cubicBezTo>
                  <a:cubicBezTo>
                    <a:pt x="9" y="2114"/>
                    <a:pt x="11" y="2118"/>
                    <a:pt x="13" y="2122"/>
                  </a:cubicBezTo>
                  <a:cubicBezTo>
                    <a:pt x="16" y="2122"/>
                    <a:pt x="16" y="2122"/>
                    <a:pt x="16" y="2122"/>
                  </a:cubicBezTo>
                  <a:cubicBezTo>
                    <a:pt x="19" y="2126"/>
                    <a:pt x="22" y="2129"/>
                    <a:pt x="24" y="2132"/>
                  </a:cubicBezTo>
                  <a:cubicBezTo>
                    <a:pt x="33" y="2142"/>
                    <a:pt x="41" y="2150"/>
                    <a:pt x="50" y="2159"/>
                  </a:cubicBezTo>
                  <a:cubicBezTo>
                    <a:pt x="66" y="2159"/>
                    <a:pt x="66" y="2159"/>
                    <a:pt x="66" y="2159"/>
                  </a:cubicBezTo>
                  <a:cubicBezTo>
                    <a:pt x="54" y="2148"/>
                    <a:pt x="43" y="2137"/>
                    <a:pt x="32" y="2125"/>
                  </a:cubicBezTo>
                  <a:cubicBezTo>
                    <a:pt x="25" y="2117"/>
                    <a:pt x="19" y="2109"/>
                    <a:pt x="14" y="2101"/>
                  </a:cubicBezTo>
                  <a:cubicBezTo>
                    <a:pt x="13" y="2097"/>
                    <a:pt x="13" y="2093"/>
                    <a:pt x="13" y="2089"/>
                  </a:cubicBezTo>
                  <a:cubicBezTo>
                    <a:pt x="11" y="2068"/>
                    <a:pt x="19" y="2048"/>
                    <a:pt x="32" y="2030"/>
                  </a:cubicBezTo>
                  <a:cubicBezTo>
                    <a:pt x="45" y="2012"/>
                    <a:pt x="61" y="1997"/>
                    <a:pt x="78" y="1981"/>
                  </a:cubicBezTo>
                  <a:cubicBezTo>
                    <a:pt x="95" y="1965"/>
                    <a:pt x="113" y="1949"/>
                    <a:pt x="129" y="1931"/>
                  </a:cubicBezTo>
                  <a:cubicBezTo>
                    <a:pt x="136" y="1922"/>
                    <a:pt x="144" y="1912"/>
                    <a:pt x="150" y="1900"/>
                  </a:cubicBezTo>
                  <a:cubicBezTo>
                    <a:pt x="152" y="1895"/>
                    <a:pt x="155" y="1890"/>
                    <a:pt x="156" y="1884"/>
                  </a:cubicBezTo>
                  <a:cubicBezTo>
                    <a:pt x="158" y="1888"/>
                    <a:pt x="160" y="1892"/>
                    <a:pt x="161" y="1896"/>
                  </a:cubicBezTo>
                  <a:cubicBezTo>
                    <a:pt x="167" y="1907"/>
                    <a:pt x="174" y="1916"/>
                    <a:pt x="181" y="1925"/>
                  </a:cubicBezTo>
                  <a:cubicBezTo>
                    <a:pt x="196" y="1943"/>
                    <a:pt x="214" y="1958"/>
                    <a:pt x="231" y="1974"/>
                  </a:cubicBezTo>
                  <a:cubicBezTo>
                    <a:pt x="231" y="1975"/>
                    <a:pt x="231" y="1975"/>
                    <a:pt x="232" y="1975"/>
                  </a:cubicBezTo>
                  <a:cubicBezTo>
                    <a:pt x="238" y="1982"/>
                    <a:pt x="245" y="1988"/>
                    <a:pt x="252" y="1995"/>
                  </a:cubicBezTo>
                  <a:cubicBezTo>
                    <a:pt x="261" y="2004"/>
                    <a:pt x="270" y="2014"/>
                    <a:pt x="278" y="2025"/>
                  </a:cubicBezTo>
                  <a:cubicBezTo>
                    <a:pt x="284" y="2035"/>
                    <a:pt x="290" y="2045"/>
                    <a:pt x="294" y="2056"/>
                  </a:cubicBezTo>
                  <a:cubicBezTo>
                    <a:pt x="297" y="2067"/>
                    <a:pt x="299" y="2078"/>
                    <a:pt x="298" y="2090"/>
                  </a:cubicBezTo>
                  <a:cubicBezTo>
                    <a:pt x="297" y="2096"/>
                    <a:pt x="296" y="2102"/>
                    <a:pt x="294" y="2108"/>
                  </a:cubicBezTo>
                  <a:cubicBezTo>
                    <a:pt x="289" y="2116"/>
                    <a:pt x="283" y="2124"/>
                    <a:pt x="277" y="2131"/>
                  </a:cubicBezTo>
                  <a:cubicBezTo>
                    <a:pt x="268" y="2141"/>
                    <a:pt x="259" y="2150"/>
                    <a:pt x="249" y="2159"/>
                  </a:cubicBezTo>
                  <a:cubicBezTo>
                    <a:pt x="265" y="2159"/>
                    <a:pt x="265" y="2159"/>
                    <a:pt x="265" y="2159"/>
                  </a:cubicBezTo>
                  <a:cubicBezTo>
                    <a:pt x="272" y="2152"/>
                    <a:pt x="278" y="2145"/>
                    <a:pt x="285" y="2138"/>
                  </a:cubicBezTo>
                  <a:cubicBezTo>
                    <a:pt x="289" y="2133"/>
                    <a:pt x="293" y="2128"/>
                    <a:pt x="297" y="2122"/>
                  </a:cubicBezTo>
                  <a:cubicBezTo>
                    <a:pt x="297" y="2122"/>
                    <a:pt x="297" y="2122"/>
                    <a:pt x="297" y="2122"/>
                  </a:cubicBezTo>
                  <a:cubicBezTo>
                    <a:pt x="298" y="2122"/>
                    <a:pt x="298" y="2121"/>
                    <a:pt x="298" y="2120"/>
                  </a:cubicBezTo>
                  <a:cubicBezTo>
                    <a:pt x="301" y="2116"/>
                    <a:pt x="304" y="2112"/>
                    <a:pt x="306" y="2107"/>
                  </a:cubicBezTo>
                  <a:cubicBezTo>
                    <a:pt x="309" y="2101"/>
                    <a:pt x="311" y="2095"/>
                    <a:pt x="312" y="2088"/>
                  </a:cubicBezTo>
                  <a:cubicBezTo>
                    <a:pt x="312" y="2080"/>
                    <a:pt x="311" y="2074"/>
                    <a:pt x="310" y="2068"/>
                  </a:cubicBezTo>
                  <a:cubicBezTo>
                    <a:pt x="308" y="2055"/>
                    <a:pt x="302" y="2043"/>
                    <a:pt x="295" y="2033"/>
                  </a:cubicBezTo>
                  <a:cubicBezTo>
                    <a:pt x="294" y="2032"/>
                    <a:pt x="293" y="2030"/>
                    <a:pt x="293" y="2029"/>
                  </a:cubicBezTo>
                  <a:cubicBezTo>
                    <a:pt x="291" y="2026"/>
                    <a:pt x="289" y="2022"/>
                    <a:pt x="286" y="2019"/>
                  </a:cubicBezTo>
                  <a:cubicBezTo>
                    <a:pt x="272" y="1999"/>
                    <a:pt x="255" y="1982"/>
                    <a:pt x="238" y="1966"/>
                  </a:cubicBezTo>
                  <a:cubicBezTo>
                    <a:pt x="221" y="1950"/>
                    <a:pt x="204" y="1935"/>
                    <a:pt x="190" y="1917"/>
                  </a:cubicBezTo>
                  <a:cubicBezTo>
                    <a:pt x="176" y="1901"/>
                    <a:pt x="165" y="1881"/>
                    <a:pt x="163" y="1861"/>
                  </a:cubicBezTo>
                  <a:cubicBezTo>
                    <a:pt x="163" y="1852"/>
                    <a:pt x="165" y="1843"/>
                    <a:pt x="169" y="1833"/>
                  </a:cubicBezTo>
                  <a:cubicBezTo>
                    <a:pt x="174" y="1824"/>
                    <a:pt x="180" y="1815"/>
                    <a:pt x="187" y="1806"/>
                  </a:cubicBezTo>
                  <a:cubicBezTo>
                    <a:pt x="201" y="1789"/>
                    <a:pt x="218" y="1773"/>
                    <a:pt x="235" y="1757"/>
                  </a:cubicBezTo>
                  <a:cubicBezTo>
                    <a:pt x="251" y="1741"/>
                    <a:pt x="269" y="1726"/>
                    <a:pt x="285" y="1708"/>
                  </a:cubicBezTo>
                  <a:cubicBezTo>
                    <a:pt x="293" y="1698"/>
                    <a:pt x="300" y="1689"/>
                    <a:pt x="306" y="1677"/>
                  </a:cubicBezTo>
                  <a:cubicBezTo>
                    <a:pt x="309" y="1671"/>
                    <a:pt x="311" y="1664"/>
                    <a:pt x="312" y="1657"/>
                  </a:cubicBezTo>
                  <a:cubicBezTo>
                    <a:pt x="312" y="1650"/>
                    <a:pt x="311" y="1644"/>
                    <a:pt x="310" y="1637"/>
                  </a:cubicBezTo>
                  <a:cubicBezTo>
                    <a:pt x="308" y="1625"/>
                    <a:pt x="303" y="1614"/>
                    <a:pt x="296" y="1605"/>
                  </a:cubicBezTo>
                  <a:cubicBezTo>
                    <a:pt x="293" y="1599"/>
                    <a:pt x="290" y="1593"/>
                    <a:pt x="286" y="1588"/>
                  </a:cubicBezTo>
                  <a:cubicBezTo>
                    <a:pt x="272" y="1567"/>
                    <a:pt x="255" y="1551"/>
                    <a:pt x="238" y="1535"/>
                  </a:cubicBezTo>
                  <a:cubicBezTo>
                    <a:pt x="221" y="1519"/>
                    <a:pt x="204" y="1503"/>
                    <a:pt x="190" y="1486"/>
                  </a:cubicBezTo>
                  <a:cubicBezTo>
                    <a:pt x="176" y="1469"/>
                    <a:pt x="165" y="1450"/>
                    <a:pt x="163" y="1430"/>
                  </a:cubicBezTo>
                  <a:cubicBezTo>
                    <a:pt x="163" y="1421"/>
                    <a:pt x="165" y="1411"/>
                    <a:pt x="169" y="1402"/>
                  </a:cubicBezTo>
                  <a:cubicBezTo>
                    <a:pt x="174" y="1392"/>
                    <a:pt x="180" y="1383"/>
                    <a:pt x="187" y="1375"/>
                  </a:cubicBezTo>
                  <a:cubicBezTo>
                    <a:pt x="201" y="1357"/>
                    <a:pt x="218" y="1342"/>
                    <a:pt x="235" y="1326"/>
                  </a:cubicBezTo>
                  <a:cubicBezTo>
                    <a:pt x="251" y="1310"/>
                    <a:pt x="269" y="1294"/>
                    <a:pt x="285" y="1276"/>
                  </a:cubicBezTo>
                  <a:cubicBezTo>
                    <a:pt x="289" y="1271"/>
                    <a:pt x="293" y="1266"/>
                    <a:pt x="296" y="1261"/>
                  </a:cubicBezTo>
                  <a:cubicBezTo>
                    <a:pt x="297" y="1261"/>
                    <a:pt x="297" y="1261"/>
                    <a:pt x="297" y="1261"/>
                  </a:cubicBezTo>
                  <a:cubicBezTo>
                    <a:pt x="298" y="1259"/>
                    <a:pt x="299" y="1258"/>
                    <a:pt x="300" y="1256"/>
                  </a:cubicBezTo>
                  <a:cubicBezTo>
                    <a:pt x="302" y="1252"/>
                    <a:pt x="304" y="1249"/>
                    <a:pt x="306" y="1245"/>
                  </a:cubicBezTo>
                  <a:cubicBezTo>
                    <a:pt x="309" y="1239"/>
                    <a:pt x="311" y="1233"/>
                    <a:pt x="312" y="1226"/>
                  </a:cubicBezTo>
                  <a:cubicBezTo>
                    <a:pt x="312" y="1218"/>
                    <a:pt x="311" y="1212"/>
                    <a:pt x="310" y="1206"/>
                  </a:cubicBezTo>
                  <a:cubicBezTo>
                    <a:pt x="308" y="1193"/>
                    <a:pt x="302" y="1181"/>
                    <a:pt x="295" y="1171"/>
                  </a:cubicBezTo>
                  <a:cubicBezTo>
                    <a:pt x="293" y="1168"/>
                    <a:pt x="291" y="1164"/>
                    <a:pt x="288" y="1161"/>
                  </a:cubicBezTo>
                  <a:cubicBezTo>
                    <a:pt x="287" y="1160"/>
                    <a:pt x="287" y="1159"/>
                    <a:pt x="286" y="1158"/>
                  </a:cubicBezTo>
                  <a:cubicBezTo>
                    <a:pt x="272" y="1138"/>
                    <a:pt x="255" y="1122"/>
                    <a:pt x="238" y="1105"/>
                  </a:cubicBezTo>
                  <a:cubicBezTo>
                    <a:pt x="221" y="1089"/>
                    <a:pt x="204" y="1074"/>
                    <a:pt x="190" y="1057"/>
                  </a:cubicBezTo>
                  <a:cubicBezTo>
                    <a:pt x="176" y="1040"/>
                    <a:pt x="165" y="1020"/>
                    <a:pt x="163" y="1000"/>
                  </a:cubicBezTo>
                  <a:cubicBezTo>
                    <a:pt x="163" y="991"/>
                    <a:pt x="165" y="982"/>
                    <a:pt x="169" y="972"/>
                  </a:cubicBezTo>
                  <a:cubicBezTo>
                    <a:pt x="174" y="963"/>
                    <a:pt x="180" y="954"/>
                    <a:pt x="187" y="945"/>
                  </a:cubicBezTo>
                  <a:cubicBezTo>
                    <a:pt x="201" y="928"/>
                    <a:pt x="218" y="912"/>
                    <a:pt x="235" y="896"/>
                  </a:cubicBezTo>
                  <a:cubicBezTo>
                    <a:pt x="251" y="880"/>
                    <a:pt x="269" y="865"/>
                    <a:pt x="285" y="847"/>
                  </a:cubicBezTo>
                  <a:cubicBezTo>
                    <a:pt x="293" y="837"/>
                    <a:pt x="300" y="828"/>
                    <a:pt x="306" y="816"/>
                  </a:cubicBezTo>
                  <a:cubicBezTo>
                    <a:pt x="309" y="810"/>
                    <a:pt x="311" y="803"/>
                    <a:pt x="312" y="796"/>
                  </a:cubicBezTo>
                  <a:cubicBezTo>
                    <a:pt x="312" y="789"/>
                    <a:pt x="311" y="783"/>
                    <a:pt x="310" y="776"/>
                  </a:cubicBezTo>
                  <a:cubicBezTo>
                    <a:pt x="308" y="766"/>
                    <a:pt x="304" y="756"/>
                    <a:pt x="299" y="748"/>
                  </a:cubicBezTo>
                  <a:cubicBezTo>
                    <a:pt x="295" y="740"/>
                    <a:pt x="291" y="732"/>
                    <a:pt x="286" y="726"/>
                  </a:cubicBezTo>
                  <a:cubicBezTo>
                    <a:pt x="272" y="705"/>
                    <a:pt x="255" y="689"/>
                    <a:pt x="238" y="673"/>
                  </a:cubicBezTo>
                  <a:cubicBezTo>
                    <a:pt x="221" y="656"/>
                    <a:pt x="204" y="641"/>
                    <a:pt x="190" y="624"/>
                  </a:cubicBezTo>
                  <a:cubicBezTo>
                    <a:pt x="176" y="607"/>
                    <a:pt x="165" y="588"/>
                    <a:pt x="163" y="568"/>
                  </a:cubicBezTo>
                  <a:cubicBezTo>
                    <a:pt x="163" y="558"/>
                    <a:pt x="165" y="549"/>
                    <a:pt x="169" y="540"/>
                  </a:cubicBezTo>
                  <a:cubicBezTo>
                    <a:pt x="174" y="530"/>
                    <a:pt x="180" y="521"/>
                    <a:pt x="187" y="513"/>
                  </a:cubicBezTo>
                  <a:cubicBezTo>
                    <a:pt x="201" y="495"/>
                    <a:pt x="218" y="480"/>
                    <a:pt x="235" y="464"/>
                  </a:cubicBezTo>
                  <a:cubicBezTo>
                    <a:pt x="251" y="448"/>
                    <a:pt x="269" y="432"/>
                    <a:pt x="285" y="414"/>
                  </a:cubicBezTo>
                  <a:cubicBezTo>
                    <a:pt x="293" y="405"/>
                    <a:pt x="300" y="395"/>
                    <a:pt x="306" y="383"/>
                  </a:cubicBezTo>
                  <a:cubicBezTo>
                    <a:pt x="309" y="377"/>
                    <a:pt x="311" y="371"/>
                    <a:pt x="312" y="364"/>
                  </a:cubicBezTo>
                  <a:cubicBezTo>
                    <a:pt x="312" y="356"/>
                    <a:pt x="311" y="350"/>
                    <a:pt x="310" y="344"/>
                  </a:cubicBezTo>
                  <a:cubicBezTo>
                    <a:pt x="308" y="333"/>
                    <a:pt x="304" y="324"/>
                    <a:pt x="299" y="315"/>
                  </a:cubicBezTo>
                  <a:cubicBezTo>
                    <a:pt x="295" y="307"/>
                    <a:pt x="291" y="300"/>
                    <a:pt x="286" y="293"/>
                  </a:cubicBezTo>
                  <a:cubicBezTo>
                    <a:pt x="272" y="273"/>
                    <a:pt x="255" y="256"/>
                    <a:pt x="238" y="240"/>
                  </a:cubicBezTo>
                  <a:cubicBezTo>
                    <a:pt x="221" y="224"/>
                    <a:pt x="204" y="208"/>
                    <a:pt x="190" y="191"/>
                  </a:cubicBezTo>
                  <a:cubicBezTo>
                    <a:pt x="176" y="174"/>
                    <a:pt x="165" y="155"/>
                    <a:pt x="163" y="135"/>
                  </a:cubicBezTo>
                  <a:cubicBezTo>
                    <a:pt x="163" y="126"/>
                    <a:pt x="165" y="116"/>
                    <a:pt x="169" y="107"/>
                  </a:cubicBezTo>
                  <a:cubicBezTo>
                    <a:pt x="174" y="97"/>
                    <a:pt x="180" y="88"/>
                    <a:pt x="187" y="80"/>
                  </a:cubicBezTo>
                  <a:cubicBezTo>
                    <a:pt x="201" y="63"/>
                    <a:pt x="218" y="47"/>
                    <a:pt x="235" y="31"/>
                  </a:cubicBezTo>
                  <a:cubicBezTo>
                    <a:pt x="245" y="21"/>
                    <a:pt x="256" y="10"/>
                    <a:pt x="267" y="0"/>
                  </a:cubicBezTo>
                  <a:cubicBezTo>
                    <a:pt x="252" y="0"/>
                    <a:pt x="252" y="0"/>
                    <a:pt x="252" y="0"/>
                  </a:cubicBezTo>
                  <a:cubicBezTo>
                    <a:pt x="243" y="7"/>
                    <a:pt x="235" y="15"/>
                    <a:pt x="227" y="23"/>
                  </a:cubicBezTo>
                  <a:cubicBezTo>
                    <a:pt x="210" y="39"/>
                    <a:pt x="193" y="54"/>
                    <a:pt x="178" y="72"/>
                  </a:cubicBezTo>
                  <a:cubicBezTo>
                    <a:pt x="171" y="81"/>
                    <a:pt x="164" y="91"/>
                    <a:pt x="159" y="102"/>
                  </a:cubicBezTo>
                  <a:cubicBezTo>
                    <a:pt x="158" y="103"/>
                    <a:pt x="157" y="105"/>
                    <a:pt x="156" y="106"/>
                  </a:cubicBezTo>
                  <a:cubicBezTo>
                    <a:pt x="155" y="103"/>
                    <a:pt x="154" y="100"/>
                    <a:pt x="153" y="97"/>
                  </a:cubicBezTo>
                  <a:cubicBezTo>
                    <a:pt x="147" y="86"/>
                    <a:pt x="140" y="76"/>
                    <a:pt x="132" y="66"/>
                  </a:cubicBezTo>
                  <a:cubicBezTo>
                    <a:pt x="116" y="48"/>
                    <a:pt x="99" y="32"/>
                    <a:pt x="82" y="16"/>
                  </a:cubicBezTo>
                  <a:cubicBezTo>
                    <a:pt x="76" y="11"/>
                    <a:pt x="70" y="5"/>
                    <a:pt x="64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57" y="8"/>
                    <a:pt x="65" y="16"/>
                    <a:pt x="74" y="24"/>
                  </a:cubicBezTo>
                  <a:cubicBezTo>
                    <a:pt x="91" y="40"/>
                    <a:pt x="108" y="56"/>
                    <a:pt x="123" y="74"/>
                  </a:cubicBezTo>
                  <a:close/>
                  <a:moveTo>
                    <a:pt x="181" y="1493"/>
                  </a:moveTo>
                  <a:cubicBezTo>
                    <a:pt x="188" y="1502"/>
                    <a:pt x="196" y="1510"/>
                    <a:pt x="204" y="1517"/>
                  </a:cubicBezTo>
                  <a:cubicBezTo>
                    <a:pt x="208" y="1522"/>
                    <a:pt x="213" y="1526"/>
                    <a:pt x="217" y="1531"/>
                  </a:cubicBezTo>
                  <a:cubicBezTo>
                    <a:pt x="234" y="1547"/>
                    <a:pt x="251" y="1563"/>
                    <a:pt x="267" y="1580"/>
                  </a:cubicBezTo>
                  <a:cubicBezTo>
                    <a:pt x="268" y="1582"/>
                    <a:pt x="270" y="1584"/>
                    <a:pt x="272" y="1586"/>
                  </a:cubicBezTo>
                  <a:cubicBezTo>
                    <a:pt x="274" y="1589"/>
                    <a:pt x="276" y="1591"/>
                    <a:pt x="278" y="1594"/>
                  </a:cubicBezTo>
                  <a:cubicBezTo>
                    <a:pt x="284" y="1603"/>
                    <a:pt x="290" y="1613"/>
                    <a:pt x="294" y="1624"/>
                  </a:cubicBezTo>
                  <a:cubicBezTo>
                    <a:pt x="297" y="1635"/>
                    <a:pt x="299" y="1647"/>
                    <a:pt x="298" y="1658"/>
                  </a:cubicBezTo>
                  <a:cubicBezTo>
                    <a:pt x="297" y="1666"/>
                    <a:pt x="295" y="1673"/>
                    <a:pt x="293" y="1680"/>
                  </a:cubicBezTo>
                  <a:cubicBezTo>
                    <a:pt x="288" y="1687"/>
                    <a:pt x="282" y="1694"/>
                    <a:pt x="277" y="1701"/>
                  </a:cubicBezTo>
                  <a:cubicBezTo>
                    <a:pt x="261" y="1718"/>
                    <a:pt x="244" y="1733"/>
                    <a:pt x="227" y="1749"/>
                  </a:cubicBezTo>
                  <a:cubicBezTo>
                    <a:pt x="210" y="1765"/>
                    <a:pt x="193" y="1781"/>
                    <a:pt x="178" y="1799"/>
                  </a:cubicBezTo>
                  <a:cubicBezTo>
                    <a:pt x="171" y="1808"/>
                    <a:pt x="164" y="1818"/>
                    <a:pt x="159" y="1828"/>
                  </a:cubicBezTo>
                  <a:cubicBezTo>
                    <a:pt x="158" y="1830"/>
                    <a:pt x="157" y="1831"/>
                    <a:pt x="156" y="1833"/>
                  </a:cubicBezTo>
                  <a:cubicBezTo>
                    <a:pt x="155" y="1830"/>
                    <a:pt x="154" y="1827"/>
                    <a:pt x="153" y="1824"/>
                  </a:cubicBezTo>
                  <a:cubicBezTo>
                    <a:pt x="147" y="1812"/>
                    <a:pt x="140" y="1802"/>
                    <a:pt x="132" y="1793"/>
                  </a:cubicBezTo>
                  <a:cubicBezTo>
                    <a:pt x="116" y="1774"/>
                    <a:pt x="99" y="1758"/>
                    <a:pt x="82" y="1743"/>
                  </a:cubicBezTo>
                  <a:cubicBezTo>
                    <a:pt x="65" y="1727"/>
                    <a:pt x="47" y="1712"/>
                    <a:pt x="32" y="1695"/>
                  </a:cubicBezTo>
                  <a:cubicBezTo>
                    <a:pt x="26" y="1687"/>
                    <a:pt x="19" y="1679"/>
                    <a:pt x="15" y="1671"/>
                  </a:cubicBezTo>
                  <a:cubicBezTo>
                    <a:pt x="14" y="1667"/>
                    <a:pt x="13" y="1662"/>
                    <a:pt x="13" y="1658"/>
                  </a:cubicBezTo>
                  <a:cubicBezTo>
                    <a:pt x="11" y="1637"/>
                    <a:pt x="19" y="1616"/>
                    <a:pt x="32" y="1599"/>
                  </a:cubicBezTo>
                  <a:cubicBezTo>
                    <a:pt x="45" y="1581"/>
                    <a:pt x="61" y="1565"/>
                    <a:pt x="78" y="1549"/>
                  </a:cubicBezTo>
                  <a:cubicBezTo>
                    <a:pt x="95" y="1534"/>
                    <a:pt x="113" y="1518"/>
                    <a:pt x="129" y="1499"/>
                  </a:cubicBezTo>
                  <a:cubicBezTo>
                    <a:pt x="136" y="1490"/>
                    <a:pt x="144" y="1480"/>
                    <a:pt x="150" y="1469"/>
                  </a:cubicBezTo>
                  <a:cubicBezTo>
                    <a:pt x="152" y="1464"/>
                    <a:pt x="155" y="1458"/>
                    <a:pt x="156" y="1453"/>
                  </a:cubicBezTo>
                  <a:cubicBezTo>
                    <a:pt x="158" y="1457"/>
                    <a:pt x="160" y="1461"/>
                    <a:pt x="161" y="1464"/>
                  </a:cubicBezTo>
                  <a:cubicBezTo>
                    <a:pt x="167" y="1475"/>
                    <a:pt x="174" y="1484"/>
                    <a:pt x="181" y="1493"/>
                  </a:cubicBezTo>
                  <a:close/>
                  <a:moveTo>
                    <a:pt x="181" y="1064"/>
                  </a:moveTo>
                  <a:cubicBezTo>
                    <a:pt x="196" y="1082"/>
                    <a:pt x="214" y="1098"/>
                    <a:pt x="231" y="1113"/>
                  </a:cubicBezTo>
                  <a:cubicBezTo>
                    <a:pt x="247" y="1129"/>
                    <a:pt x="264" y="1146"/>
                    <a:pt x="278" y="1164"/>
                  </a:cubicBezTo>
                  <a:cubicBezTo>
                    <a:pt x="284" y="1174"/>
                    <a:pt x="290" y="1184"/>
                    <a:pt x="294" y="1195"/>
                  </a:cubicBezTo>
                  <a:cubicBezTo>
                    <a:pt x="297" y="1206"/>
                    <a:pt x="299" y="1218"/>
                    <a:pt x="298" y="1229"/>
                  </a:cubicBezTo>
                  <a:cubicBezTo>
                    <a:pt x="297" y="1234"/>
                    <a:pt x="296" y="1239"/>
                    <a:pt x="295" y="1244"/>
                  </a:cubicBezTo>
                  <a:cubicBezTo>
                    <a:pt x="290" y="1253"/>
                    <a:pt x="283" y="1261"/>
                    <a:pt x="277" y="1269"/>
                  </a:cubicBezTo>
                  <a:cubicBezTo>
                    <a:pt x="261" y="1286"/>
                    <a:pt x="244" y="1302"/>
                    <a:pt x="227" y="1318"/>
                  </a:cubicBezTo>
                  <a:cubicBezTo>
                    <a:pt x="210" y="1333"/>
                    <a:pt x="193" y="1349"/>
                    <a:pt x="178" y="1367"/>
                  </a:cubicBezTo>
                  <a:cubicBezTo>
                    <a:pt x="171" y="1376"/>
                    <a:pt x="164" y="1386"/>
                    <a:pt x="159" y="1396"/>
                  </a:cubicBezTo>
                  <a:cubicBezTo>
                    <a:pt x="158" y="1398"/>
                    <a:pt x="157" y="1400"/>
                    <a:pt x="156" y="1401"/>
                  </a:cubicBezTo>
                  <a:cubicBezTo>
                    <a:pt x="155" y="1398"/>
                    <a:pt x="154" y="1395"/>
                    <a:pt x="153" y="1392"/>
                  </a:cubicBezTo>
                  <a:cubicBezTo>
                    <a:pt x="147" y="1381"/>
                    <a:pt x="140" y="1371"/>
                    <a:pt x="132" y="1361"/>
                  </a:cubicBezTo>
                  <a:cubicBezTo>
                    <a:pt x="116" y="1343"/>
                    <a:pt x="99" y="1327"/>
                    <a:pt x="82" y="1311"/>
                  </a:cubicBezTo>
                  <a:cubicBezTo>
                    <a:pt x="65" y="1295"/>
                    <a:pt x="47" y="1280"/>
                    <a:pt x="32" y="1263"/>
                  </a:cubicBezTo>
                  <a:cubicBezTo>
                    <a:pt x="25" y="1255"/>
                    <a:pt x="19" y="1247"/>
                    <a:pt x="14" y="1238"/>
                  </a:cubicBezTo>
                  <a:cubicBezTo>
                    <a:pt x="13" y="1235"/>
                    <a:pt x="13" y="1232"/>
                    <a:pt x="13" y="1228"/>
                  </a:cubicBezTo>
                  <a:cubicBezTo>
                    <a:pt x="11" y="1207"/>
                    <a:pt x="19" y="1187"/>
                    <a:pt x="32" y="1169"/>
                  </a:cubicBezTo>
                  <a:cubicBezTo>
                    <a:pt x="45" y="1152"/>
                    <a:pt x="61" y="1136"/>
                    <a:pt x="78" y="1120"/>
                  </a:cubicBezTo>
                  <a:cubicBezTo>
                    <a:pt x="95" y="1104"/>
                    <a:pt x="113" y="1089"/>
                    <a:pt x="129" y="1070"/>
                  </a:cubicBezTo>
                  <a:cubicBezTo>
                    <a:pt x="136" y="1061"/>
                    <a:pt x="144" y="1051"/>
                    <a:pt x="150" y="1039"/>
                  </a:cubicBezTo>
                  <a:cubicBezTo>
                    <a:pt x="152" y="1034"/>
                    <a:pt x="155" y="1029"/>
                    <a:pt x="156" y="1024"/>
                  </a:cubicBezTo>
                  <a:cubicBezTo>
                    <a:pt x="158" y="1027"/>
                    <a:pt x="160" y="1031"/>
                    <a:pt x="161" y="1035"/>
                  </a:cubicBezTo>
                  <a:cubicBezTo>
                    <a:pt x="167" y="1046"/>
                    <a:pt x="174" y="1055"/>
                    <a:pt x="181" y="1064"/>
                  </a:cubicBezTo>
                  <a:close/>
                  <a:moveTo>
                    <a:pt x="181" y="631"/>
                  </a:moveTo>
                  <a:cubicBezTo>
                    <a:pt x="184" y="635"/>
                    <a:pt x="188" y="638"/>
                    <a:pt x="191" y="642"/>
                  </a:cubicBezTo>
                  <a:cubicBezTo>
                    <a:pt x="199" y="652"/>
                    <a:pt x="208" y="661"/>
                    <a:pt x="217" y="670"/>
                  </a:cubicBezTo>
                  <a:cubicBezTo>
                    <a:pt x="234" y="686"/>
                    <a:pt x="251" y="702"/>
                    <a:pt x="267" y="719"/>
                  </a:cubicBezTo>
                  <a:cubicBezTo>
                    <a:pt x="271" y="724"/>
                    <a:pt x="276" y="730"/>
                    <a:pt x="280" y="735"/>
                  </a:cubicBezTo>
                  <a:cubicBezTo>
                    <a:pt x="286" y="744"/>
                    <a:pt x="290" y="753"/>
                    <a:pt x="294" y="762"/>
                  </a:cubicBezTo>
                  <a:cubicBezTo>
                    <a:pt x="297" y="773"/>
                    <a:pt x="299" y="785"/>
                    <a:pt x="298" y="796"/>
                  </a:cubicBezTo>
                  <a:cubicBezTo>
                    <a:pt x="297" y="805"/>
                    <a:pt x="295" y="813"/>
                    <a:pt x="291" y="821"/>
                  </a:cubicBezTo>
                  <a:cubicBezTo>
                    <a:pt x="287" y="827"/>
                    <a:pt x="282" y="834"/>
                    <a:pt x="277" y="840"/>
                  </a:cubicBezTo>
                  <a:cubicBezTo>
                    <a:pt x="261" y="857"/>
                    <a:pt x="244" y="872"/>
                    <a:pt x="227" y="888"/>
                  </a:cubicBezTo>
                  <a:cubicBezTo>
                    <a:pt x="210" y="904"/>
                    <a:pt x="193" y="920"/>
                    <a:pt x="178" y="938"/>
                  </a:cubicBezTo>
                  <a:cubicBezTo>
                    <a:pt x="171" y="947"/>
                    <a:pt x="164" y="957"/>
                    <a:pt x="159" y="967"/>
                  </a:cubicBezTo>
                  <a:cubicBezTo>
                    <a:pt x="158" y="969"/>
                    <a:pt x="157" y="970"/>
                    <a:pt x="156" y="972"/>
                  </a:cubicBezTo>
                  <a:cubicBezTo>
                    <a:pt x="155" y="969"/>
                    <a:pt x="154" y="966"/>
                    <a:pt x="153" y="963"/>
                  </a:cubicBezTo>
                  <a:cubicBezTo>
                    <a:pt x="147" y="951"/>
                    <a:pt x="140" y="941"/>
                    <a:pt x="132" y="932"/>
                  </a:cubicBezTo>
                  <a:cubicBezTo>
                    <a:pt x="116" y="913"/>
                    <a:pt x="99" y="897"/>
                    <a:pt x="82" y="882"/>
                  </a:cubicBezTo>
                  <a:cubicBezTo>
                    <a:pt x="65" y="866"/>
                    <a:pt x="47" y="851"/>
                    <a:pt x="32" y="834"/>
                  </a:cubicBezTo>
                  <a:cubicBezTo>
                    <a:pt x="26" y="827"/>
                    <a:pt x="20" y="819"/>
                    <a:pt x="16" y="811"/>
                  </a:cubicBezTo>
                  <a:cubicBezTo>
                    <a:pt x="14" y="806"/>
                    <a:pt x="13" y="801"/>
                    <a:pt x="13" y="795"/>
                  </a:cubicBezTo>
                  <a:cubicBezTo>
                    <a:pt x="11" y="774"/>
                    <a:pt x="19" y="754"/>
                    <a:pt x="32" y="737"/>
                  </a:cubicBezTo>
                  <a:cubicBezTo>
                    <a:pt x="45" y="719"/>
                    <a:pt x="61" y="703"/>
                    <a:pt x="78" y="687"/>
                  </a:cubicBezTo>
                  <a:cubicBezTo>
                    <a:pt x="95" y="671"/>
                    <a:pt x="113" y="656"/>
                    <a:pt x="129" y="637"/>
                  </a:cubicBezTo>
                  <a:cubicBezTo>
                    <a:pt x="136" y="628"/>
                    <a:pt x="144" y="618"/>
                    <a:pt x="150" y="607"/>
                  </a:cubicBezTo>
                  <a:cubicBezTo>
                    <a:pt x="152" y="602"/>
                    <a:pt x="155" y="596"/>
                    <a:pt x="156" y="591"/>
                  </a:cubicBezTo>
                  <a:cubicBezTo>
                    <a:pt x="158" y="595"/>
                    <a:pt x="160" y="599"/>
                    <a:pt x="161" y="602"/>
                  </a:cubicBezTo>
                  <a:cubicBezTo>
                    <a:pt x="167" y="613"/>
                    <a:pt x="174" y="622"/>
                    <a:pt x="181" y="631"/>
                  </a:cubicBezTo>
                  <a:close/>
                  <a:moveTo>
                    <a:pt x="156" y="158"/>
                  </a:moveTo>
                  <a:cubicBezTo>
                    <a:pt x="158" y="162"/>
                    <a:pt x="160" y="166"/>
                    <a:pt x="161" y="170"/>
                  </a:cubicBezTo>
                  <a:cubicBezTo>
                    <a:pt x="167" y="180"/>
                    <a:pt x="174" y="190"/>
                    <a:pt x="181" y="198"/>
                  </a:cubicBezTo>
                  <a:cubicBezTo>
                    <a:pt x="184" y="202"/>
                    <a:pt x="188" y="206"/>
                    <a:pt x="191" y="209"/>
                  </a:cubicBezTo>
                  <a:cubicBezTo>
                    <a:pt x="199" y="219"/>
                    <a:pt x="208" y="228"/>
                    <a:pt x="217" y="237"/>
                  </a:cubicBezTo>
                  <a:cubicBezTo>
                    <a:pt x="234" y="254"/>
                    <a:pt x="251" y="269"/>
                    <a:pt x="267" y="286"/>
                  </a:cubicBezTo>
                  <a:cubicBezTo>
                    <a:pt x="271" y="291"/>
                    <a:pt x="276" y="297"/>
                    <a:pt x="280" y="302"/>
                  </a:cubicBezTo>
                  <a:cubicBezTo>
                    <a:pt x="286" y="311"/>
                    <a:pt x="290" y="320"/>
                    <a:pt x="294" y="329"/>
                  </a:cubicBezTo>
                  <a:cubicBezTo>
                    <a:pt x="297" y="340"/>
                    <a:pt x="299" y="352"/>
                    <a:pt x="298" y="363"/>
                  </a:cubicBezTo>
                  <a:cubicBezTo>
                    <a:pt x="297" y="372"/>
                    <a:pt x="295" y="380"/>
                    <a:pt x="291" y="388"/>
                  </a:cubicBezTo>
                  <a:cubicBezTo>
                    <a:pt x="287" y="395"/>
                    <a:pt x="282" y="401"/>
                    <a:pt x="277" y="407"/>
                  </a:cubicBezTo>
                  <a:cubicBezTo>
                    <a:pt x="261" y="424"/>
                    <a:pt x="244" y="440"/>
                    <a:pt x="227" y="455"/>
                  </a:cubicBezTo>
                  <a:cubicBezTo>
                    <a:pt x="210" y="471"/>
                    <a:pt x="193" y="487"/>
                    <a:pt x="178" y="505"/>
                  </a:cubicBezTo>
                  <a:cubicBezTo>
                    <a:pt x="171" y="514"/>
                    <a:pt x="164" y="524"/>
                    <a:pt x="159" y="534"/>
                  </a:cubicBezTo>
                  <a:cubicBezTo>
                    <a:pt x="158" y="536"/>
                    <a:pt x="157" y="538"/>
                    <a:pt x="156" y="539"/>
                  </a:cubicBezTo>
                  <a:cubicBezTo>
                    <a:pt x="155" y="536"/>
                    <a:pt x="154" y="533"/>
                    <a:pt x="153" y="530"/>
                  </a:cubicBezTo>
                  <a:cubicBezTo>
                    <a:pt x="147" y="519"/>
                    <a:pt x="140" y="509"/>
                    <a:pt x="132" y="499"/>
                  </a:cubicBezTo>
                  <a:cubicBezTo>
                    <a:pt x="116" y="481"/>
                    <a:pt x="99" y="465"/>
                    <a:pt x="82" y="449"/>
                  </a:cubicBezTo>
                  <a:cubicBezTo>
                    <a:pt x="65" y="433"/>
                    <a:pt x="47" y="418"/>
                    <a:pt x="32" y="401"/>
                  </a:cubicBezTo>
                  <a:cubicBezTo>
                    <a:pt x="26" y="394"/>
                    <a:pt x="20" y="386"/>
                    <a:pt x="16" y="379"/>
                  </a:cubicBezTo>
                  <a:cubicBezTo>
                    <a:pt x="14" y="373"/>
                    <a:pt x="13" y="368"/>
                    <a:pt x="13" y="363"/>
                  </a:cubicBezTo>
                  <a:cubicBezTo>
                    <a:pt x="11" y="342"/>
                    <a:pt x="19" y="322"/>
                    <a:pt x="32" y="304"/>
                  </a:cubicBezTo>
                  <a:cubicBezTo>
                    <a:pt x="45" y="286"/>
                    <a:pt x="61" y="270"/>
                    <a:pt x="78" y="254"/>
                  </a:cubicBezTo>
                  <a:cubicBezTo>
                    <a:pt x="95" y="239"/>
                    <a:pt x="113" y="223"/>
                    <a:pt x="129" y="204"/>
                  </a:cubicBezTo>
                  <a:cubicBezTo>
                    <a:pt x="136" y="195"/>
                    <a:pt x="144" y="185"/>
                    <a:pt x="150" y="174"/>
                  </a:cubicBezTo>
                  <a:cubicBezTo>
                    <a:pt x="152" y="169"/>
                    <a:pt x="155" y="163"/>
                    <a:pt x="156" y="158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80" name="Freeform 14"/>
            <p:cNvSpPr/>
            <p:nvPr/>
          </p:nvSpPr>
          <p:spPr>
            <a:xfrm>
              <a:off x="4051440" y="-1440"/>
              <a:ext cx="507600" cy="686232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0" h="2159">
                  <a:moveTo>
                    <a:pt x="26" y="72"/>
                  </a:moveTo>
                  <a:cubicBezTo>
                    <a:pt x="19" y="81"/>
                    <a:pt x="12" y="91"/>
                    <a:pt x="7" y="102"/>
                  </a:cubicBezTo>
                  <a:cubicBezTo>
                    <a:pt x="4" y="107"/>
                    <a:pt x="2" y="113"/>
                    <a:pt x="1" y="120"/>
                  </a:cubicBezTo>
                  <a:cubicBezTo>
                    <a:pt x="1" y="123"/>
                    <a:pt x="1" y="127"/>
                    <a:pt x="2" y="131"/>
                  </a:cubicBezTo>
                  <a:cubicBezTo>
                    <a:pt x="1" y="131"/>
                    <a:pt x="1" y="131"/>
                    <a:pt x="1" y="131"/>
                  </a:cubicBezTo>
                  <a:cubicBezTo>
                    <a:pt x="1" y="132"/>
                    <a:pt x="1" y="133"/>
                    <a:pt x="1" y="135"/>
                  </a:cubicBezTo>
                  <a:cubicBezTo>
                    <a:pt x="1" y="135"/>
                    <a:pt x="1" y="136"/>
                    <a:pt x="1" y="137"/>
                  </a:cubicBezTo>
                  <a:cubicBezTo>
                    <a:pt x="1" y="139"/>
                    <a:pt x="1" y="141"/>
                    <a:pt x="0" y="143"/>
                  </a:cubicBezTo>
                  <a:cubicBezTo>
                    <a:pt x="2" y="152"/>
                    <a:pt x="5" y="161"/>
                    <a:pt x="10" y="170"/>
                  </a:cubicBezTo>
                  <a:cubicBezTo>
                    <a:pt x="15" y="180"/>
                    <a:pt x="22" y="190"/>
                    <a:pt x="29" y="198"/>
                  </a:cubicBezTo>
                  <a:cubicBezTo>
                    <a:pt x="33" y="202"/>
                    <a:pt x="36" y="206"/>
                    <a:pt x="39" y="209"/>
                  </a:cubicBezTo>
                  <a:cubicBezTo>
                    <a:pt x="47" y="219"/>
                    <a:pt x="56" y="228"/>
                    <a:pt x="65" y="237"/>
                  </a:cubicBezTo>
                  <a:cubicBezTo>
                    <a:pt x="82" y="254"/>
                    <a:pt x="99" y="269"/>
                    <a:pt x="115" y="286"/>
                  </a:cubicBezTo>
                  <a:cubicBezTo>
                    <a:pt x="120" y="291"/>
                    <a:pt x="124" y="297"/>
                    <a:pt x="128" y="303"/>
                  </a:cubicBezTo>
                  <a:cubicBezTo>
                    <a:pt x="134" y="311"/>
                    <a:pt x="139" y="320"/>
                    <a:pt x="142" y="329"/>
                  </a:cubicBezTo>
                  <a:cubicBezTo>
                    <a:pt x="146" y="340"/>
                    <a:pt x="147" y="352"/>
                    <a:pt x="146" y="363"/>
                  </a:cubicBezTo>
                  <a:cubicBezTo>
                    <a:pt x="145" y="372"/>
                    <a:pt x="143" y="380"/>
                    <a:pt x="139" y="388"/>
                  </a:cubicBezTo>
                  <a:cubicBezTo>
                    <a:pt x="135" y="395"/>
                    <a:pt x="130" y="401"/>
                    <a:pt x="125" y="407"/>
                  </a:cubicBezTo>
                  <a:cubicBezTo>
                    <a:pt x="110" y="424"/>
                    <a:pt x="92" y="440"/>
                    <a:pt x="75" y="455"/>
                  </a:cubicBezTo>
                  <a:cubicBezTo>
                    <a:pt x="58" y="471"/>
                    <a:pt x="41" y="487"/>
                    <a:pt x="26" y="505"/>
                  </a:cubicBezTo>
                  <a:cubicBezTo>
                    <a:pt x="19" y="514"/>
                    <a:pt x="12" y="524"/>
                    <a:pt x="7" y="534"/>
                  </a:cubicBezTo>
                  <a:cubicBezTo>
                    <a:pt x="4" y="540"/>
                    <a:pt x="2" y="546"/>
                    <a:pt x="1" y="553"/>
                  </a:cubicBezTo>
                  <a:cubicBezTo>
                    <a:pt x="1" y="556"/>
                    <a:pt x="1" y="560"/>
                    <a:pt x="2" y="564"/>
                  </a:cubicBezTo>
                  <a:cubicBezTo>
                    <a:pt x="1" y="564"/>
                    <a:pt x="1" y="564"/>
                    <a:pt x="1" y="564"/>
                  </a:cubicBezTo>
                  <a:cubicBezTo>
                    <a:pt x="1" y="565"/>
                    <a:pt x="1" y="566"/>
                    <a:pt x="1" y="567"/>
                  </a:cubicBezTo>
                  <a:cubicBezTo>
                    <a:pt x="1" y="568"/>
                    <a:pt x="1" y="569"/>
                    <a:pt x="1" y="570"/>
                  </a:cubicBezTo>
                  <a:cubicBezTo>
                    <a:pt x="1" y="572"/>
                    <a:pt x="1" y="574"/>
                    <a:pt x="0" y="576"/>
                  </a:cubicBezTo>
                  <a:cubicBezTo>
                    <a:pt x="2" y="585"/>
                    <a:pt x="5" y="594"/>
                    <a:pt x="10" y="602"/>
                  </a:cubicBezTo>
                  <a:cubicBezTo>
                    <a:pt x="15" y="613"/>
                    <a:pt x="22" y="622"/>
                    <a:pt x="29" y="631"/>
                  </a:cubicBezTo>
                  <a:cubicBezTo>
                    <a:pt x="33" y="635"/>
                    <a:pt x="36" y="638"/>
                    <a:pt x="39" y="642"/>
                  </a:cubicBezTo>
                  <a:cubicBezTo>
                    <a:pt x="47" y="652"/>
                    <a:pt x="56" y="661"/>
                    <a:pt x="65" y="670"/>
                  </a:cubicBezTo>
                  <a:cubicBezTo>
                    <a:pt x="82" y="686"/>
                    <a:pt x="99" y="702"/>
                    <a:pt x="115" y="719"/>
                  </a:cubicBezTo>
                  <a:cubicBezTo>
                    <a:pt x="120" y="724"/>
                    <a:pt x="124" y="730"/>
                    <a:pt x="128" y="735"/>
                  </a:cubicBezTo>
                  <a:cubicBezTo>
                    <a:pt x="134" y="744"/>
                    <a:pt x="139" y="753"/>
                    <a:pt x="142" y="762"/>
                  </a:cubicBezTo>
                  <a:cubicBezTo>
                    <a:pt x="146" y="773"/>
                    <a:pt x="147" y="785"/>
                    <a:pt x="146" y="796"/>
                  </a:cubicBezTo>
                  <a:cubicBezTo>
                    <a:pt x="145" y="805"/>
                    <a:pt x="143" y="813"/>
                    <a:pt x="139" y="821"/>
                  </a:cubicBezTo>
                  <a:cubicBezTo>
                    <a:pt x="135" y="827"/>
                    <a:pt x="130" y="834"/>
                    <a:pt x="125" y="840"/>
                  </a:cubicBezTo>
                  <a:cubicBezTo>
                    <a:pt x="110" y="857"/>
                    <a:pt x="92" y="872"/>
                    <a:pt x="75" y="888"/>
                  </a:cubicBezTo>
                  <a:cubicBezTo>
                    <a:pt x="58" y="904"/>
                    <a:pt x="41" y="920"/>
                    <a:pt x="26" y="938"/>
                  </a:cubicBezTo>
                  <a:cubicBezTo>
                    <a:pt x="19" y="947"/>
                    <a:pt x="12" y="957"/>
                    <a:pt x="7" y="967"/>
                  </a:cubicBezTo>
                  <a:cubicBezTo>
                    <a:pt x="4" y="973"/>
                    <a:pt x="2" y="979"/>
                    <a:pt x="1" y="985"/>
                  </a:cubicBezTo>
                  <a:cubicBezTo>
                    <a:pt x="1" y="988"/>
                    <a:pt x="1" y="990"/>
                    <a:pt x="1" y="993"/>
                  </a:cubicBezTo>
                  <a:cubicBezTo>
                    <a:pt x="1" y="993"/>
                    <a:pt x="1" y="993"/>
                    <a:pt x="1" y="993"/>
                  </a:cubicBezTo>
                  <a:cubicBezTo>
                    <a:pt x="1" y="994"/>
                    <a:pt x="1" y="996"/>
                    <a:pt x="2" y="998"/>
                  </a:cubicBezTo>
                  <a:cubicBezTo>
                    <a:pt x="2" y="999"/>
                    <a:pt x="1" y="1001"/>
                    <a:pt x="1" y="1002"/>
                  </a:cubicBezTo>
                  <a:cubicBezTo>
                    <a:pt x="1" y="1004"/>
                    <a:pt x="1" y="1007"/>
                    <a:pt x="0" y="1009"/>
                  </a:cubicBezTo>
                  <a:cubicBezTo>
                    <a:pt x="2" y="1018"/>
                    <a:pt x="5" y="1027"/>
                    <a:pt x="10" y="1035"/>
                  </a:cubicBezTo>
                  <a:cubicBezTo>
                    <a:pt x="15" y="1046"/>
                    <a:pt x="22" y="1055"/>
                    <a:pt x="29" y="1064"/>
                  </a:cubicBezTo>
                  <a:cubicBezTo>
                    <a:pt x="45" y="1082"/>
                    <a:pt x="62" y="1098"/>
                    <a:pt x="79" y="1113"/>
                  </a:cubicBezTo>
                  <a:cubicBezTo>
                    <a:pt x="96" y="1129"/>
                    <a:pt x="112" y="1146"/>
                    <a:pt x="126" y="1164"/>
                  </a:cubicBezTo>
                  <a:cubicBezTo>
                    <a:pt x="133" y="1174"/>
                    <a:pt x="138" y="1184"/>
                    <a:pt x="142" y="1195"/>
                  </a:cubicBezTo>
                  <a:cubicBezTo>
                    <a:pt x="146" y="1206"/>
                    <a:pt x="147" y="1218"/>
                    <a:pt x="146" y="1229"/>
                  </a:cubicBezTo>
                  <a:cubicBezTo>
                    <a:pt x="145" y="1234"/>
                    <a:pt x="144" y="1239"/>
                    <a:pt x="143" y="1244"/>
                  </a:cubicBezTo>
                  <a:cubicBezTo>
                    <a:pt x="138" y="1253"/>
                    <a:pt x="132" y="1261"/>
                    <a:pt x="125" y="1269"/>
                  </a:cubicBezTo>
                  <a:cubicBezTo>
                    <a:pt x="110" y="1286"/>
                    <a:pt x="92" y="1302"/>
                    <a:pt x="75" y="1318"/>
                  </a:cubicBezTo>
                  <a:cubicBezTo>
                    <a:pt x="58" y="1333"/>
                    <a:pt x="41" y="1349"/>
                    <a:pt x="26" y="1367"/>
                  </a:cubicBezTo>
                  <a:cubicBezTo>
                    <a:pt x="19" y="1376"/>
                    <a:pt x="12" y="1386"/>
                    <a:pt x="7" y="1396"/>
                  </a:cubicBezTo>
                  <a:cubicBezTo>
                    <a:pt x="4" y="1402"/>
                    <a:pt x="2" y="1408"/>
                    <a:pt x="1" y="1415"/>
                  </a:cubicBezTo>
                  <a:cubicBezTo>
                    <a:pt x="1" y="1418"/>
                    <a:pt x="1" y="1421"/>
                    <a:pt x="2" y="1425"/>
                  </a:cubicBezTo>
                  <a:cubicBezTo>
                    <a:pt x="1" y="1425"/>
                    <a:pt x="1" y="1425"/>
                    <a:pt x="1" y="1425"/>
                  </a:cubicBezTo>
                  <a:cubicBezTo>
                    <a:pt x="1" y="1426"/>
                    <a:pt x="1" y="1427"/>
                    <a:pt x="1" y="1429"/>
                  </a:cubicBezTo>
                  <a:cubicBezTo>
                    <a:pt x="1" y="1430"/>
                    <a:pt x="1" y="1431"/>
                    <a:pt x="1" y="1432"/>
                  </a:cubicBezTo>
                  <a:cubicBezTo>
                    <a:pt x="1" y="1434"/>
                    <a:pt x="1" y="1436"/>
                    <a:pt x="0" y="1438"/>
                  </a:cubicBezTo>
                  <a:cubicBezTo>
                    <a:pt x="2" y="1447"/>
                    <a:pt x="5" y="1456"/>
                    <a:pt x="10" y="1464"/>
                  </a:cubicBezTo>
                  <a:cubicBezTo>
                    <a:pt x="15" y="1475"/>
                    <a:pt x="22" y="1484"/>
                    <a:pt x="29" y="1493"/>
                  </a:cubicBezTo>
                  <a:cubicBezTo>
                    <a:pt x="37" y="1502"/>
                    <a:pt x="44" y="1510"/>
                    <a:pt x="52" y="1517"/>
                  </a:cubicBezTo>
                  <a:cubicBezTo>
                    <a:pt x="56" y="1522"/>
                    <a:pt x="61" y="1526"/>
                    <a:pt x="65" y="1531"/>
                  </a:cubicBezTo>
                  <a:cubicBezTo>
                    <a:pt x="82" y="1547"/>
                    <a:pt x="99" y="1563"/>
                    <a:pt x="115" y="1580"/>
                  </a:cubicBezTo>
                  <a:cubicBezTo>
                    <a:pt x="117" y="1582"/>
                    <a:pt x="118" y="1584"/>
                    <a:pt x="120" y="1586"/>
                  </a:cubicBezTo>
                  <a:cubicBezTo>
                    <a:pt x="122" y="1589"/>
                    <a:pt x="124" y="1591"/>
                    <a:pt x="126" y="1594"/>
                  </a:cubicBezTo>
                  <a:cubicBezTo>
                    <a:pt x="133" y="1603"/>
                    <a:pt x="138" y="1613"/>
                    <a:pt x="142" y="1624"/>
                  </a:cubicBezTo>
                  <a:cubicBezTo>
                    <a:pt x="146" y="1635"/>
                    <a:pt x="147" y="1647"/>
                    <a:pt x="146" y="1658"/>
                  </a:cubicBezTo>
                  <a:cubicBezTo>
                    <a:pt x="145" y="1666"/>
                    <a:pt x="143" y="1673"/>
                    <a:pt x="141" y="1680"/>
                  </a:cubicBezTo>
                  <a:cubicBezTo>
                    <a:pt x="136" y="1687"/>
                    <a:pt x="131" y="1694"/>
                    <a:pt x="125" y="1701"/>
                  </a:cubicBezTo>
                  <a:cubicBezTo>
                    <a:pt x="110" y="1718"/>
                    <a:pt x="92" y="1733"/>
                    <a:pt x="75" y="1749"/>
                  </a:cubicBezTo>
                  <a:cubicBezTo>
                    <a:pt x="58" y="1765"/>
                    <a:pt x="41" y="1781"/>
                    <a:pt x="26" y="1799"/>
                  </a:cubicBezTo>
                  <a:cubicBezTo>
                    <a:pt x="19" y="1808"/>
                    <a:pt x="12" y="1818"/>
                    <a:pt x="7" y="1828"/>
                  </a:cubicBezTo>
                  <a:cubicBezTo>
                    <a:pt x="4" y="1834"/>
                    <a:pt x="2" y="1840"/>
                    <a:pt x="1" y="1846"/>
                  </a:cubicBezTo>
                  <a:cubicBezTo>
                    <a:pt x="1" y="1849"/>
                    <a:pt x="1" y="1852"/>
                    <a:pt x="1" y="1855"/>
                  </a:cubicBezTo>
                  <a:cubicBezTo>
                    <a:pt x="1" y="1855"/>
                    <a:pt x="1" y="1855"/>
                    <a:pt x="1" y="1855"/>
                  </a:cubicBezTo>
                  <a:cubicBezTo>
                    <a:pt x="1" y="1856"/>
                    <a:pt x="1" y="1858"/>
                    <a:pt x="2" y="1859"/>
                  </a:cubicBezTo>
                  <a:cubicBezTo>
                    <a:pt x="2" y="1861"/>
                    <a:pt x="1" y="1862"/>
                    <a:pt x="1" y="1863"/>
                  </a:cubicBezTo>
                  <a:cubicBezTo>
                    <a:pt x="1" y="1865"/>
                    <a:pt x="1" y="1867"/>
                    <a:pt x="0" y="1870"/>
                  </a:cubicBezTo>
                  <a:cubicBezTo>
                    <a:pt x="2" y="1879"/>
                    <a:pt x="5" y="1888"/>
                    <a:pt x="10" y="1896"/>
                  </a:cubicBezTo>
                  <a:cubicBezTo>
                    <a:pt x="15" y="1907"/>
                    <a:pt x="22" y="1916"/>
                    <a:pt x="29" y="1925"/>
                  </a:cubicBezTo>
                  <a:cubicBezTo>
                    <a:pt x="45" y="1943"/>
                    <a:pt x="62" y="1958"/>
                    <a:pt x="79" y="1974"/>
                  </a:cubicBezTo>
                  <a:cubicBezTo>
                    <a:pt x="79" y="1975"/>
                    <a:pt x="79" y="1975"/>
                    <a:pt x="80" y="1975"/>
                  </a:cubicBezTo>
                  <a:cubicBezTo>
                    <a:pt x="86" y="1982"/>
                    <a:pt x="93" y="1988"/>
                    <a:pt x="100" y="1995"/>
                  </a:cubicBezTo>
                  <a:cubicBezTo>
                    <a:pt x="109" y="2005"/>
                    <a:pt x="118" y="2014"/>
                    <a:pt x="126" y="2025"/>
                  </a:cubicBezTo>
                  <a:cubicBezTo>
                    <a:pt x="133" y="2035"/>
                    <a:pt x="138" y="2045"/>
                    <a:pt x="142" y="2056"/>
                  </a:cubicBezTo>
                  <a:cubicBezTo>
                    <a:pt x="146" y="2067"/>
                    <a:pt x="147" y="2078"/>
                    <a:pt x="146" y="2090"/>
                  </a:cubicBezTo>
                  <a:cubicBezTo>
                    <a:pt x="145" y="2096"/>
                    <a:pt x="144" y="2102"/>
                    <a:pt x="142" y="2108"/>
                  </a:cubicBezTo>
                  <a:cubicBezTo>
                    <a:pt x="137" y="2116"/>
                    <a:pt x="131" y="2124"/>
                    <a:pt x="125" y="2131"/>
                  </a:cubicBezTo>
                  <a:cubicBezTo>
                    <a:pt x="116" y="2141"/>
                    <a:pt x="107" y="2150"/>
                    <a:pt x="97" y="2159"/>
                  </a:cubicBezTo>
                  <a:cubicBezTo>
                    <a:pt x="113" y="2159"/>
                    <a:pt x="113" y="2159"/>
                    <a:pt x="113" y="2159"/>
                  </a:cubicBezTo>
                  <a:cubicBezTo>
                    <a:pt x="120" y="2152"/>
                    <a:pt x="127" y="2145"/>
                    <a:pt x="133" y="2138"/>
                  </a:cubicBezTo>
                  <a:cubicBezTo>
                    <a:pt x="137" y="2133"/>
                    <a:pt x="141" y="2128"/>
                    <a:pt x="145" y="2122"/>
                  </a:cubicBezTo>
                  <a:cubicBezTo>
                    <a:pt x="146" y="2122"/>
                    <a:pt x="146" y="2122"/>
                    <a:pt x="146" y="2122"/>
                  </a:cubicBezTo>
                  <a:cubicBezTo>
                    <a:pt x="146" y="2122"/>
                    <a:pt x="146" y="2121"/>
                    <a:pt x="146" y="2120"/>
                  </a:cubicBezTo>
                  <a:cubicBezTo>
                    <a:pt x="149" y="2116"/>
                    <a:pt x="152" y="2112"/>
                    <a:pt x="154" y="2107"/>
                  </a:cubicBezTo>
                  <a:cubicBezTo>
                    <a:pt x="157" y="2101"/>
                    <a:pt x="159" y="2095"/>
                    <a:pt x="160" y="2088"/>
                  </a:cubicBezTo>
                  <a:cubicBezTo>
                    <a:pt x="160" y="2080"/>
                    <a:pt x="160" y="2074"/>
                    <a:pt x="158" y="2068"/>
                  </a:cubicBezTo>
                  <a:cubicBezTo>
                    <a:pt x="156" y="2055"/>
                    <a:pt x="150" y="2043"/>
                    <a:pt x="143" y="2033"/>
                  </a:cubicBezTo>
                  <a:cubicBezTo>
                    <a:pt x="143" y="2032"/>
                    <a:pt x="142" y="2030"/>
                    <a:pt x="141" y="2029"/>
                  </a:cubicBezTo>
                  <a:cubicBezTo>
                    <a:pt x="139" y="2026"/>
                    <a:pt x="137" y="2022"/>
                    <a:pt x="135" y="2019"/>
                  </a:cubicBezTo>
                  <a:cubicBezTo>
                    <a:pt x="120" y="1999"/>
                    <a:pt x="103" y="1982"/>
                    <a:pt x="86" y="1966"/>
                  </a:cubicBezTo>
                  <a:cubicBezTo>
                    <a:pt x="70" y="1950"/>
                    <a:pt x="53" y="1935"/>
                    <a:pt x="38" y="1917"/>
                  </a:cubicBezTo>
                  <a:cubicBezTo>
                    <a:pt x="24" y="1901"/>
                    <a:pt x="13" y="1881"/>
                    <a:pt x="12" y="1861"/>
                  </a:cubicBezTo>
                  <a:cubicBezTo>
                    <a:pt x="11" y="1852"/>
                    <a:pt x="13" y="1843"/>
                    <a:pt x="18" y="1833"/>
                  </a:cubicBezTo>
                  <a:cubicBezTo>
                    <a:pt x="22" y="1824"/>
                    <a:pt x="28" y="1815"/>
                    <a:pt x="35" y="1806"/>
                  </a:cubicBezTo>
                  <a:cubicBezTo>
                    <a:pt x="49" y="1789"/>
                    <a:pt x="66" y="1773"/>
                    <a:pt x="83" y="1757"/>
                  </a:cubicBezTo>
                  <a:cubicBezTo>
                    <a:pt x="100" y="1741"/>
                    <a:pt x="117" y="1726"/>
                    <a:pt x="133" y="1708"/>
                  </a:cubicBezTo>
                  <a:cubicBezTo>
                    <a:pt x="141" y="1698"/>
                    <a:pt x="148" y="1689"/>
                    <a:pt x="154" y="1677"/>
                  </a:cubicBezTo>
                  <a:cubicBezTo>
                    <a:pt x="157" y="1671"/>
                    <a:pt x="159" y="1664"/>
                    <a:pt x="160" y="1657"/>
                  </a:cubicBezTo>
                  <a:cubicBezTo>
                    <a:pt x="160" y="1650"/>
                    <a:pt x="160" y="1644"/>
                    <a:pt x="158" y="1637"/>
                  </a:cubicBezTo>
                  <a:cubicBezTo>
                    <a:pt x="156" y="1625"/>
                    <a:pt x="151" y="1614"/>
                    <a:pt x="145" y="1605"/>
                  </a:cubicBezTo>
                  <a:cubicBezTo>
                    <a:pt x="142" y="1599"/>
                    <a:pt x="138" y="1593"/>
                    <a:pt x="135" y="1588"/>
                  </a:cubicBezTo>
                  <a:cubicBezTo>
                    <a:pt x="120" y="1567"/>
                    <a:pt x="103" y="1551"/>
                    <a:pt x="86" y="1535"/>
                  </a:cubicBezTo>
                  <a:cubicBezTo>
                    <a:pt x="70" y="1519"/>
                    <a:pt x="53" y="1503"/>
                    <a:pt x="38" y="1486"/>
                  </a:cubicBezTo>
                  <a:cubicBezTo>
                    <a:pt x="24" y="1469"/>
                    <a:pt x="13" y="1450"/>
                    <a:pt x="12" y="1430"/>
                  </a:cubicBezTo>
                  <a:cubicBezTo>
                    <a:pt x="11" y="1421"/>
                    <a:pt x="13" y="1411"/>
                    <a:pt x="18" y="1402"/>
                  </a:cubicBezTo>
                  <a:cubicBezTo>
                    <a:pt x="22" y="1392"/>
                    <a:pt x="28" y="1383"/>
                    <a:pt x="35" y="1375"/>
                  </a:cubicBezTo>
                  <a:cubicBezTo>
                    <a:pt x="49" y="1357"/>
                    <a:pt x="66" y="1342"/>
                    <a:pt x="83" y="1326"/>
                  </a:cubicBezTo>
                  <a:cubicBezTo>
                    <a:pt x="100" y="1310"/>
                    <a:pt x="117" y="1294"/>
                    <a:pt x="133" y="1276"/>
                  </a:cubicBezTo>
                  <a:cubicBezTo>
                    <a:pt x="137" y="1271"/>
                    <a:pt x="141" y="1266"/>
                    <a:pt x="145" y="1261"/>
                  </a:cubicBezTo>
                  <a:cubicBezTo>
                    <a:pt x="146" y="1261"/>
                    <a:pt x="146" y="1261"/>
                    <a:pt x="146" y="1261"/>
                  </a:cubicBezTo>
                  <a:cubicBezTo>
                    <a:pt x="147" y="1259"/>
                    <a:pt x="147" y="1258"/>
                    <a:pt x="148" y="1256"/>
                  </a:cubicBezTo>
                  <a:cubicBezTo>
                    <a:pt x="150" y="1252"/>
                    <a:pt x="152" y="1249"/>
                    <a:pt x="154" y="1245"/>
                  </a:cubicBezTo>
                  <a:cubicBezTo>
                    <a:pt x="157" y="1239"/>
                    <a:pt x="159" y="1233"/>
                    <a:pt x="160" y="1226"/>
                  </a:cubicBezTo>
                  <a:cubicBezTo>
                    <a:pt x="160" y="1218"/>
                    <a:pt x="160" y="1212"/>
                    <a:pt x="158" y="1206"/>
                  </a:cubicBezTo>
                  <a:cubicBezTo>
                    <a:pt x="156" y="1193"/>
                    <a:pt x="150" y="1181"/>
                    <a:pt x="143" y="1171"/>
                  </a:cubicBezTo>
                  <a:cubicBezTo>
                    <a:pt x="141" y="1168"/>
                    <a:pt x="139" y="1164"/>
                    <a:pt x="136" y="1161"/>
                  </a:cubicBezTo>
                  <a:cubicBezTo>
                    <a:pt x="136" y="1160"/>
                    <a:pt x="135" y="1159"/>
                    <a:pt x="135" y="1158"/>
                  </a:cubicBezTo>
                  <a:cubicBezTo>
                    <a:pt x="120" y="1138"/>
                    <a:pt x="103" y="1122"/>
                    <a:pt x="86" y="1105"/>
                  </a:cubicBezTo>
                  <a:cubicBezTo>
                    <a:pt x="70" y="1089"/>
                    <a:pt x="53" y="1074"/>
                    <a:pt x="38" y="1057"/>
                  </a:cubicBezTo>
                  <a:cubicBezTo>
                    <a:pt x="24" y="1040"/>
                    <a:pt x="13" y="1020"/>
                    <a:pt x="12" y="1000"/>
                  </a:cubicBezTo>
                  <a:cubicBezTo>
                    <a:pt x="11" y="991"/>
                    <a:pt x="13" y="982"/>
                    <a:pt x="18" y="972"/>
                  </a:cubicBezTo>
                  <a:cubicBezTo>
                    <a:pt x="22" y="963"/>
                    <a:pt x="28" y="954"/>
                    <a:pt x="35" y="945"/>
                  </a:cubicBezTo>
                  <a:cubicBezTo>
                    <a:pt x="49" y="928"/>
                    <a:pt x="66" y="912"/>
                    <a:pt x="83" y="896"/>
                  </a:cubicBezTo>
                  <a:cubicBezTo>
                    <a:pt x="100" y="880"/>
                    <a:pt x="117" y="865"/>
                    <a:pt x="133" y="847"/>
                  </a:cubicBezTo>
                  <a:cubicBezTo>
                    <a:pt x="141" y="837"/>
                    <a:pt x="148" y="828"/>
                    <a:pt x="154" y="816"/>
                  </a:cubicBezTo>
                  <a:cubicBezTo>
                    <a:pt x="157" y="810"/>
                    <a:pt x="159" y="803"/>
                    <a:pt x="160" y="796"/>
                  </a:cubicBezTo>
                  <a:cubicBezTo>
                    <a:pt x="160" y="789"/>
                    <a:pt x="160" y="783"/>
                    <a:pt x="158" y="776"/>
                  </a:cubicBezTo>
                  <a:cubicBezTo>
                    <a:pt x="156" y="766"/>
                    <a:pt x="152" y="756"/>
                    <a:pt x="147" y="748"/>
                  </a:cubicBezTo>
                  <a:cubicBezTo>
                    <a:pt x="144" y="740"/>
                    <a:pt x="139" y="732"/>
                    <a:pt x="135" y="726"/>
                  </a:cubicBezTo>
                  <a:cubicBezTo>
                    <a:pt x="120" y="705"/>
                    <a:pt x="103" y="689"/>
                    <a:pt x="86" y="673"/>
                  </a:cubicBezTo>
                  <a:cubicBezTo>
                    <a:pt x="70" y="656"/>
                    <a:pt x="53" y="641"/>
                    <a:pt x="38" y="624"/>
                  </a:cubicBezTo>
                  <a:cubicBezTo>
                    <a:pt x="24" y="607"/>
                    <a:pt x="13" y="588"/>
                    <a:pt x="12" y="568"/>
                  </a:cubicBezTo>
                  <a:cubicBezTo>
                    <a:pt x="11" y="558"/>
                    <a:pt x="13" y="549"/>
                    <a:pt x="18" y="540"/>
                  </a:cubicBezTo>
                  <a:cubicBezTo>
                    <a:pt x="22" y="530"/>
                    <a:pt x="28" y="521"/>
                    <a:pt x="35" y="513"/>
                  </a:cubicBezTo>
                  <a:cubicBezTo>
                    <a:pt x="49" y="495"/>
                    <a:pt x="66" y="480"/>
                    <a:pt x="83" y="464"/>
                  </a:cubicBezTo>
                  <a:cubicBezTo>
                    <a:pt x="100" y="448"/>
                    <a:pt x="117" y="432"/>
                    <a:pt x="133" y="414"/>
                  </a:cubicBezTo>
                  <a:cubicBezTo>
                    <a:pt x="141" y="405"/>
                    <a:pt x="148" y="395"/>
                    <a:pt x="154" y="383"/>
                  </a:cubicBezTo>
                  <a:cubicBezTo>
                    <a:pt x="157" y="377"/>
                    <a:pt x="159" y="371"/>
                    <a:pt x="160" y="364"/>
                  </a:cubicBezTo>
                  <a:cubicBezTo>
                    <a:pt x="160" y="356"/>
                    <a:pt x="160" y="350"/>
                    <a:pt x="158" y="344"/>
                  </a:cubicBezTo>
                  <a:cubicBezTo>
                    <a:pt x="156" y="333"/>
                    <a:pt x="152" y="324"/>
                    <a:pt x="147" y="315"/>
                  </a:cubicBezTo>
                  <a:cubicBezTo>
                    <a:pt x="144" y="307"/>
                    <a:pt x="139" y="300"/>
                    <a:pt x="135" y="293"/>
                  </a:cubicBezTo>
                  <a:cubicBezTo>
                    <a:pt x="120" y="273"/>
                    <a:pt x="103" y="256"/>
                    <a:pt x="86" y="240"/>
                  </a:cubicBezTo>
                  <a:cubicBezTo>
                    <a:pt x="70" y="224"/>
                    <a:pt x="53" y="208"/>
                    <a:pt x="38" y="191"/>
                  </a:cubicBezTo>
                  <a:cubicBezTo>
                    <a:pt x="24" y="174"/>
                    <a:pt x="13" y="155"/>
                    <a:pt x="12" y="135"/>
                  </a:cubicBezTo>
                  <a:cubicBezTo>
                    <a:pt x="11" y="126"/>
                    <a:pt x="13" y="116"/>
                    <a:pt x="18" y="107"/>
                  </a:cubicBezTo>
                  <a:cubicBezTo>
                    <a:pt x="22" y="97"/>
                    <a:pt x="28" y="88"/>
                    <a:pt x="35" y="80"/>
                  </a:cubicBezTo>
                  <a:cubicBezTo>
                    <a:pt x="49" y="63"/>
                    <a:pt x="66" y="47"/>
                    <a:pt x="83" y="31"/>
                  </a:cubicBezTo>
                  <a:cubicBezTo>
                    <a:pt x="94" y="21"/>
                    <a:pt x="105" y="10"/>
                    <a:pt x="115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92" y="7"/>
                    <a:pt x="83" y="15"/>
                    <a:pt x="75" y="23"/>
                  </a:cubicBezTo>
                  <a:cubicBezTo>
                    <a:pt x="58" y="39"/>
                    <a:pt x="41" y="54"/>
                    <a:pt x="26" y="72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81" name="Freeform 15"/>
            <p:cNvSpPr/>
            <p:nvPr/>
          </p:nvSpPr>
          <p:spPr>
            <a:xfrm>
              <a:off x="5581800" y="-1440"/>
              <a:ext cx="506160" cy="686232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59" h="2159">
                  <a:moveTo>
                    <a:pt x="124" y="74"/>
                  </a:moveTo>
                  <a:cubicBezTo>
                    <a:pt x="131" y="83"/>
                    <a:pt x="138" y="92"/>
                    <a:pt x="143" y="103"/>
                  </a:cubicBezTo>
                  <a:cubicBezTo>
                    <a:pt x="147" y="111"/>
                    <a:pt x="150" y="121"/>
                    <a:pt x="150" y="131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47" y="149"/>
                    <a:pt x="140" y="167"/>
                    <a:pt x="130" y="183"/>
                  </a:cubicBezTo>
                  <a:cubicBezTo>
                    <a:pt x="127" y="187"/>
                    <a:pt x="124" y="192"/>
                    <a:pt x="121" y="196"/>
                  </a:cubicBezTo>
                  <a:cubicBezTo>
                    <a:pt x="121" y="196"/>
                    <a:pt x="121" y="197"/>
                    <a:pt x="120" y="197"/>
                  </a:cubicBezTo>
                  <a:cubicBezTo>
                    <a:pt x="105" y="215"/>
                    <a:pt x="88" y="230"/>
                    <a:pt x="71" y="246"/>
                  </a:cubicBezTo>
                  <a:cubicBezTo>
                    <a:pt x="54" y="262"/>
                    <a:pt x="38" y="279"/>
                    <a:pt x="24" y="298"/>
                  </a:cubicBezTo>
                  <a:cubicBezTo>
                    <a:pt x="22" y="300"/>
                    <a:pt x="21" y="302"/>
                    <a:pt x="19" y="305"/>
                  </a:cubicBezTo>
                  <a:cubicBezTo>
                    <a:pt x="18" y="307"/>
                    <a:pt x="16" y="310"/>
                    <a:pt x="14" y="313"/>
                  </a:cubicBezTo>
                  <a:cubicBezTo>
                    <a:pt x="8" y="322"/>
                    <a:pt x="3" y="333"/>
                    <a:pt x="1" y="345"/>
                  </a:cubicBezTo>
                  <a:cubicBezTo>
                    <a:pt x="1" y="345"/>
                    <a:pt x="0" y="346"/>
                    <a:pt x="0" y="347"/>
                  </a:cubicBezTo>
                  <a:cubicBezTo>
                    <a:pt x="1" y="352"/>
                    <a:pt x="2" y="357"/>
                    <a:pt x="1" y="364"/>
                  </a:cubicBezTo>
                  <a:cubicBezTo>
                    <a:pt x="1" y="365"/>
                    <a:pt x="1" y="366"/>
                    <a:pt x="1" y="367"/>
                  </a:cubicBezTo>
                  <a:cubicBezTo>
                    <a:pt x="2" y="372"/>
                    <a:pt x="3" y="376"/>
                    <a:pt x="5" y="379"/>
                  </a:cubicBezTo>
                  <a:cubicBezTo>
                    <a:pt x="7" y="383"/>
                    <a:pt x="9" y="387"/>
                    <a:pt x="11" y="390"/>
                  </a:cubicBezTo>
                  <a:cubicBezTo>
                    <a:pt x="12" y="392"/>
                    <a:pt x="13" y="394"/>
                    <a:pt x="14" y="396"/>
                  </a:cubicBezTo>
                  <a:cubicBezTo>
                    <a:pt x="15" y="396"/>
                    <a:pt x="15" y="396"/>
                    <a:pt x="15" y="396"/>
                  </a:cubicBezTo>
                  <a:cubicBezTo>
                    <a:pt x="18" y="400"/>
                    <a:pt x="22" y="404"/>
                    <a:pt x="25" y="408"/>
                  </a:cubicBezTo>
                  <a:cubicBezTo>
                    <a:pt x="41" y="426"/>
                    <a:pt x="58" y="441"/>
                    <a:pt x="75" y="457"/>
                  </a:cubicBezTo>
                  <a:cubicBezTo>
                    <a:pt x="92" y="473"/>
                    <a:pt x="109" y="489"/>
                    <a:pt x="124" y="507"/>
                  </a:cubicBezTo>
                  <a:cubicBezTo>
                    <a:pt x="131" y="516"/>
                    <a:pt x="138" y="525"/>
                    <a:pt x="143" y="535"/>
                  </a:cubicBezTo>
                  <a:cubicBezTo>
                    <a:pt x="147" y="544"/>
                    <a:pt x="150" y="554"/>
                    <a:pt x="150" y="564"/>
                  </a:cubicBezTo>
                  <a:cubicBezTo>
                    <a:pt x="149" y="564"/>
                    <a:pt x="149" y="564"/>
                    <a:pt x="149" y="564"/>
                  </a:cubicBezTo>
                  <a:cubicBezTo>
                    <a:pt x="147" y="582"/>
                    <a:pt x="140" y="600"/>
                    <a:pt x="130" y="616"/>
                  </a:cubicBezTo>
                  <a:cubicBezTo>
                    <a:pt x="127" y="620"/>
                    <a:pt x="124" y="625"/>
                    <a:pt x="121" y="629"/>
                  </a:cubicBezTo>
                  <a:cubicBezTo>
                    <a:pt x="121" y="629"/>
                    <a:pt x="121" y="629"/>
                    <a:pt x="120" y="630"/>
                  </a:cubicBezTo>
                  <a:cubicBezTo>
                    <a:pt x="105" y="648"/>
                    <a:pt x="88" y="663"/>
                    <a:pt x="71" y="679"/>
                  </a:cubicBezTo>
                  <a:cubicBezTo>
                    <a:pt x="54" y="695"/>
                    <a:pt x="38" y="711"/>
                    <a:pt x="24" y="730"/>
                  </a:cubicBezTo>
                  <a:cubicBezTo>
                    <a:pt x="22" y="733"/>
                    <a:pt x="21" y="735"/>
                    <a:pt x="19" y="737"/>
                  </a:cubicBezTo>
                  <a:cubicBezTo>
                    <a:pt x="18" y="740"/>
                    <a:pt x="16" y="743"/>
                    <a:pt x="14" y="745"/>
                  </a:cubicBezTo>
                  <a:cubicBezTo>
                    <a:pt x="8" y="755"/>
                    <a:pt x="3" y="766"/>
                    <a:pt x="1" y="778"/>
                  </a:cubicBezTo>
                  <a:cubicBezTo>
                    <a:pt x="1" y="778"/>
                    <a:pt x="0" y="779"/>
                    <a:pt x="0" y="779"/>
                  </a:cubicBezTo>
                  <a:cubicBezTo>
                    <a:pt x="1" y="785"/>
                    <a:pt x="2" y="790"/>
                    <a:pt x="1" y="796"/>
                  </a:cubicBezTo>
                  <a:cubicBezTo>
                    <a:pt x="1" y="798"/>
                    <a:pt x="1" y="799"/>
                    <a:pt x="1" y="800"/>
                  </a:cubicBezTo>
                  <a:cubicBezTo>
                    <a:pt x="2" y="804"/>
                    <a:pt x="3" y="808"/>
                    <a:pt x="5" y="812"/>
                  </a:cubicBezTo>
                  <a:cubicBezTo>
                    <a:pt x="7" y="816"/>
                    <a:pt x="9" y="819"/>
                    <a:pt x="11" y="823"/>
                  </a:cubicBezTo>
                  <a:cubicBezTo>
                    <a:pt x="12" y="825"/>
                    <a:pt x="13" y="827"/>
                    <a:pt x="14" y="828"/>
                  </a:cubicBezTo>
                  <a:cubicBezTo>
                    <a:pt x="15" y="828"/>
                    <a:pt x="15" y="828"/>
                    <a:pt x="15" y="828"/>
                  </a:cubicBezTo>
                  <a:cubicBezTo>
                    <a:pt x="18" y="833"/>
                    <a:pt x="22" y="837"/>
                    <a:pt x="25" y="841"/>
                  </a:cubicBezTo>
                  <a:cubicBezTo>
                    <a:pt x="41" y="858"/>
                    <a:pt x="58" y="874"/>
                    <a:pt x="75" y="890"/>
                  </a:cubicBezTo>
                  <a:cubicBezTo>
                    <a:pt x="92" y="906"/>
                    <a:pt x="109" y="922"/>
                    <a:pt x="124" y="939"/>
                  </a:cubicBezTo>
                  <a:cubicBezTo>
                    <a:pt x="131" y="948"/>
                    <a:pt x="138" y="958"/>
                    <a:pt x="143" y="968"/>
                  </a:cubicBezTo>
                  <a:cubicBezTo>
                    <a:pt x="146" y="976"/>
                    <a:pt x="149" y="984"/>
                    <a:pt x="150" y="993"/>
                  </a:cubicBezTo>
                  <a:cubicBezTo>
                    <a:pt x="149" y="993"/>
                    <a:pt x="149" y="993"/>
                    <a:pt x="149" y="993"/>
                  </a:cubicBezTo>
                  <a:cubicBezTo>
                    <a:pt x="147" y="1012"/>
                    <a:pt x="140" y="1029"/>
                    <a:pt x="130" y="1045"/>
                  </a:cubicBezTo>
                  <a:cubicBezTo>
                    <a:pt x="118" y="1065"/>
                    <a:pt x="102" y="1082"/>
                    <a:pt x="85" y="1098"/>
                  </a:cubicBezTo>
                  <a:cubicBezTo>
                    <a:pt x="69" y="1114"/>
                    <a:pt x="51" y="1130"/>
                    <a:pt x="36" y="1147"/>
                  </a:cubicBezTo>
                  <a:cubicBezTo>
                    <a:pt x="28" y="1156"/>
                    <a:pt x="20" y="1165"/>
                    <a:pt x="14" y="1175"/>
                  </a:cubicBezTo>
                  <a:cubicBezTo>
                    <a:pt x="8" y="1185"/>
                    <a:pt x="3" y="1195"/>
                    <a:pt x="1" y="1207"/>
                  </a:cubicBezTo>
                  <a:cubicBezTo>
                    <a:pt x="1" y="1208"/>
                    <a:pt x="0" y="1208"/>
                    <a:pt x="0" y="1209"/>
                  </a:cubicBezTo>
                  <a:cubicBezTo>
                    <a:pt x="1" y="1214"/>
                    <a:pt x="2" y="1220"/>
                    <a:pt x="1" y="1226"/>
                  </a:cubicBezTo>
                  <a:cubicBezTo>
                    <a:pt x="1" y="1227"/>
                    <a:pt x="1" y="1228"/>
                    <a:pt x="1" y="1230"/>
                  </a:cubicBezTo>
                  <a:cubicBezTo>
                    <a:pt x="2" y="1234"/>
                    <a:pt x="3" y="1238"/>
                    <a:pt x="5" y="1242"/>
                  </a:cubicBezTo>
                  <a:cubicBezTo>
                    <a:pt x="6" y="1243"/>
                    <a:pt x="6" y="1244"/>
                    <a:pt x="7" y="1245"/>
                  </a:cubicBezTo>
                  <a:cubicBezTo>
                    <a:pt x="9" y="1251"/>
                    <a:pt x="11" y="1256"/>
                    <a:pt x="14" y="1261"/>
                  </a:cubicBezTo>
                  <a:cubicBezTo>
                    <a:pt x="18" y="1261"/>
                    <a:pt x="18" y="1261"/>
                    <a:pt x="18" y="1261"/>
                  </a:cubicBezTo>
                  <a:cubicBezTo>
                    <a:pt x="20" y="1264"/>
                    <a:pt x="22" y="1267"/>
                    <a:pt x="25" y="1270"/>
                  </a:cubicBezTo>
                  <a:cubicBezTo>
                    <a:pt x="41" y="1288"/>
                    <a:pt x="58" y="1303"/>
                    <a:pt x="75" y="1319"/>
                  </a:cubicBezTo>
                  <a:cubicBezTo>
                    <a:pt x="92" y="1335"/>
                    <a:pt x="109" y="1351"/>
                    <a:pt x="124" y="1369"/>
                  </a:cubicBezTo>
                  <a:cubicBezTo>
                    <a:pt x="131" y="1378"/>
                    <a:pt x="138" y="1387"/>
                    <a:pt x="143" y="1398"/>
                  </a:cubicBezTo>
                  <a:cubicBezTo>
                    <a:pt x="147" y="1406"/>
                    <a:pt x="149" y="1415"/>
                    <a:pt x="150" y="1425"/>
                  </a:cubicBezTo>
                  <a:cubicBezTo>
                    <a:pt x="149" y="1425"/>
                    <a:pt x="149" y="1425"/>
                    <a:pt x="149" y="1425"/>
                  </a:cubicBezTo>
                  <a:cubicBezTo>
                    <a:pt x="147" y="1443"/>
                    <a:pt x="140" y="1461"/>
                    <a:pt x="130" y="1477"/>
                  </a:cubicBezTo>
                  <a:cubicBezTo>
                    <a:pt x="125" y="1485"/>
                    <a:pt x="119" y="1493"/>
                    <a:pt x="112" y="1501"/>
                  </a:cubicBezTo>
                  <a:cubicBezTo>
                    <a:pt x="99" y="1515"/>
                    <a:pt x="85" y="1528"/>
                    <a:pt x="71" y="1541"/>
                  </a:cubicBezTo>
                  <a:cubicBezTo>
                    <a:pt x="55" y="1556"/>
                    <a:pt x="39" y="1572"/>
                    <a:pt x="26" y="1590"/>
                  </a:cubicBezTo>
                  <a:cubicBezTo>
                    <a:pt x="22" y="1595"/>
                    <a:pt x="18" y="1600"/>
                    <a:pt x="14" y="1606"/>
                  </a:cubicBezTo>
                  <a:cubicBezTo>
                    <a:pt x="8" y="1616"/>
                    <a:pt x="3" y="1627"/>
                    <a:pt x="1" y="1639"/>
                  </a:cubicBezTo>
                  <a:cubicBezTo>
                    <a:pt x="1" y="1639"/>
                    <a:pt x="0" y="1640"/>
                    <a:pt x="0" y="1640"/>
                  </a:cubicBezTo>
                  <a:cubicBezTo>
                    <a:pt x="1" y="1646"/>
                    <a:pt x="2" y="1651"/>
                    <a:pt x="1" y="1657"/>
                  </a:cubicBezTo>
                  <a:cubicBezTo>
                    <a:pt x="1" y="1659"/>
                    <a:pt x="1" y="1660"/>
                    <a:pt x="1" y="1661"/>
                  </a:cubicBezTo>
                  <a:cubicBezTo>
                    <a:pt x="2" y="1665"/>
                    <a:pt x="3" y="1669"/>
                    <a:pt x="5" y="1673"/>
                  </a:cubicBezTo>
                  <a:cubicBezTo>
                    <a:pt x="6" y="1676"/>
                    <a:pt x="8" y="1679"/>
                    <a:pt x="10" y="1681"/>
                  </a:cubicBezTo>
                  <a:cubicBezTo>
                    <a:pt x="11" y="1685"/>
                    <a:pt x="12" y="1688"/>
                    <a:pt x="14" y="1691"/>
                  </a:cubicBezTo>
                  <a:cubicBezTo>
                    <a:pt x="16" y="1691"/>
                    <a:pt x="16" y="1691"/>
                    <a:pt x="16" y="1691"/>
                  </a:cubicBezTo>
                  <a:cubicBezTo>
                    <a:pt x="19" y="1694"/>
                    <a:pt x="22" y="1698"/>
                    <a:pt x="25" y="1702"/>
                  </a:cubicBezTo>
                  <a:cubicBezTo>
                    <a:pt x="41" y="1719"/>
                    <a:pt x="58" y="1735"/>
                    <a:pt x="75" y="1751"/>
                  </a:cubicBezTo>
                  <a:cubicBezTo>
                    <a:pt x="92" y="1767"/>
                    <a:pt x="109" y="1783"/>
                    <a:pt x="124" y="1800"/>
                  </a:cubicBezTo>
                  <a:cubicBezTo>
                    <a:pt x="131" y="1809"/>
                    <a:pt x="138" y="1819"/>
                    <a:pt x="143" y="1829"/>
                  </a:cubicBezTo>
                  <a:cubicBezTo>
                    <a:pt x="147" y="1837"/>
                    <a:pt x="149" y="1846"/>
                    <a:pt x="150" y="1855"/>
                  </a:cubicBezTo>
                  <a:cubicBezTo>
                    <a:pt x="149" y="1855"/>
                    <a:pt x="149" y="1855"/>
                    <a:pt x="149" y="1855"/>
                  </a:cubicBezTo>
                  <a:cubicBezTo>
                    <a:pt x="147" y="1874"/>
                    <a:pt x="140" y="1891"/>
                    <a:pt x="130" y="1907"/>
                  </a:cubicBezTo>
                  <a:cubicBezTo>
                    <a:pt x="120" y="1923"/>
                    <a:pt x="107" y="1938"/>
                    <a:pt x="94" y="1951"/>
                  </a:cubicBezTo>
                  <a:cubicBezTo>
                    <a:pt x="87" y="1959"/>
                    <a:pt x="79" y="1966"/>
                    <a:pt x="71" y="1973"/>
                  </a:cubicBezTo>
                  <a:cubicBezTo>
                    <a:pt x="60" y="1984"/>
                    <a:pt x="48" y="1995"/>
                    <a:pt x="38" y="2007"/>
                  </a:cubicBezTo>
                  <a:cubicBezTo>
                    <a:pt x="37" y="2008"/>
                    <a:pt x="36" y="2008"/>
                    <a:pt x="36" y="2009"/>
                  </a:cubicBezTo>
                  <a:cubicBezTo>
                    <a:pt x="28" y="2018"/>
                    <a:pt x="20" y="2027"/>
                    <a:pt x="14" y="2037"/>
                  </a:cubicBezTo>
                  <a:cubicBezTo>
                    <a:pt x="8" y="2047"/>
                    <a:pt x="3" y="2057"/>
                    <a:pt x="1" y="2069"/>
                  </a:cubicBezTo>
                  <a:cubicBezTo>
                    <a:pt x="1" y="2070"/>
                    <a:pt x="0" y="2070"/>
                    <a:pt x="0" y="2071"/>
                  </a:cubicBezTo>
                  <a:cubicBezTo>
                    <a:pt x="1" y="2076"/>
                    <a:pt x="2" y="2082"/>
                    <a:pt x="1" y="2088"/>
                  </a:cubicBezTo>
                  <a:cubicBezTo>
                    <a:pt x="1" y="2089"/>
                    <a:pt x="1" y="2090"/>
                    <a:pt x="1" y="2092"/>
                  </a:cubicBezTo>
                  <a:cubicBezTo>
                    <a:pt x="2" y="2096"/>
                    <a:pt x="3" y="2100"/>
                    <a:pt x="5" y="2104"/>
                  </a:cubicBezTo>
                  <a:cubicBezTo>
                    <a:pt x="6" y="2106"/>
                    <a:pt x="7" y="2107"/>
                    <a:pt x="8" y="2109"/>
                  </a:cubicBezTo>
                  <a:cubicBezTo>
                    <a:pt x="10" y="2114"/>
                    <a:pt x="12" y="2118"/>
                    <a:pt x="14" y="2122"/>
                  </a:cubicBezTo>
                  <a:cubicBezTo>
                    <a:pt x="17" y="2122"/>
                    <a:pt x="17" y="2122"/>
                    <a:pt x="17" y="2122"/>
                  </a:cubicBezTo>
                  <a:cubicBezTo>
                    <a:pt x="19" y="2126"/>
                    <a:pt x="22" y="2129"/>
                    <a:pt x="25" y="2132"/>
                  </a:cubicBezTo>
                  <a:cubicBezTo>
                    <a:pt x="33" y="2142"/>
                    <a:pt x="42" y="2150"/>
                    <a:pt x="51" y="2159"/>
                  </a:cubicBezTo>
                  <a:cubicBezTo>
                    <a:pt x="67" y="2159"/>
                    <a:pt x="67" y="2159"/>
                    <a:pt x="67" y="2159"/>
                  </a:cubicBezTo>
                  <a:cubicBezTo>
                    <a:pt x="55" y="2148"/>
                    <a:pt x="43" y="2137"/>
                    <a:pt x="33" y="2125"/>
                  </a:cubicBezTo>
                  <a:cubicBezTo>
                    <a:pt x="26" y="2117"/>
                    <a:pt x="20" y="2109"/>
                    <a:pt x="15" y="2101"/>
                  </a:cubicBezTo>
                  <a:cubicBezTo>
                    <a:pt x="14" y="2097"/>
                    <a:pt x="13" y="2093"/>
                    <a:pt x="13" y="2089"/>
                  </a:cubicBezTo>
                  <a:cubicBezTo>
                    <a:pt x="12" y="2068"/>
                    <a:pt x="20" y="2048"/>
                    <a:pt x="33" y="2030"/>
                  </a:cubicBezTo>
                  <a:cubicBezTo>
                    <a:pt x="45" y="2012"/>
                    <a:pt x="62" y="1997"/>
                    <a:pt x="79" y="1981"/>
                  </a:cubicBezTo>
                  <a:cubicBezTo>
                    <a:pt x="96" y="1965"/>
                    <a:pt x="113" y="1949"/>
                    <a:pt x="129" y="1931"/>
                  </a:cubicBezTo>
                  <a:cubicBezTo>
                    <a:pt x="137" y="1922"/>
                    <a:pt x="144" y="1912"/>
                    <a:pt x="150" y="1900"/>
                  </a:cubicBezTo>
                  <a:cubicBezTo>
                    <a:pt x="154" y="1894"/>
                    <a:pt x="157" y="1886"/>
                    <a:pt x="159" y="1879"/>
                  </a:cubicBezTo>
                  <a:cubicBezTo>
                    <a:pt x="159" y="1838"/>
                    <a:pt x="159" y="1838"/>
                    <a:pt x="159" y="1838"/>
                  </a:cubicBezTo>
                  <a:cubicBezTo>
                    <a:pt x="157" y="1833"/>
                    <a:pt x="156" y="1828"/>
                    <a:pt x="153" y="1824"/>
                  </a:cubicBezTo>
                  <a:cubicBezTo>
                    <a:pt x="148" y="1812"/>
                    <a:pt x="140" y="1802"/>
                    <a:pt x="133" y="1793"/>
                  </a:cubicBezTo>
                  <a:cubicBezTo>
                    <a:pt x="117" y="1774"/>
                    <a:pt x="100" y="1758"/>
                    <a:pt x="82" y="1743"/>
                  </a:cubicBezTo>
                  <a:cubicBezTo>
                    <a:pt x="65" y="1727"/>
                    <a:pt x="48" y="1712"/>
                    <a:pt x="33" y="1695"/>
                  </a:cubicBezTo>
                  <a:cubicBezTo>
                    <a:pt x="26" y="1687"/>
                    <a:pt x="20" y="1679"/>
                    <a:pt x="16" y="1671"/>
                  </a:cubicBezTo>
                  <a:cubicBezTo>
                    <a:pt x="14" y="1667"/>
                    <a:pt x="14" y="1662"/>
                    <a:pt x="13" y="1658"/>
                  </a:cubicBezTo>
                  <a:cubicBezTo>
                    <a:pt x="12" y="1637"/>
                    <a:pt x="20" y="1616"/>
                    <a:pt x="33" y="1599"/>
                  </a:cubicBezTo>
                  <a:cubicBezTo>
                    <a:pt x="45" y="1581"/>
                    <a:pt x="62" y="1565"/>
                    <a:pt x="79" y="1549"/>
                  </a:cubicBezTo>
                  <a:cubicBezTo>
                    <a:pt x="96" y="1534"/>
                    <a:pt x="113" y="1518"/>
                    <a:pt x="129" y="1499"/>
                  </a:cubicBezTo>
                  <a:cubicBezTo>
                    <a:pt x="137" y="1490"/>
                    <a:pt x="144" y="1480"/>
                    <a:pt x="150" y="1469"/>
                  </a:cubicBezTo>
                  <a:cubicBezTo>
                    <a:pt x="154" y="1462"/>
                    <a:pt x="157" y="1455"/>
                    <a:pt x="159" y="1447"/>
                  </a:cubicBezTo>
                  <a:cubicBezTo>
                    <a:pt x="159" y="1406"/>
                    <a:pt x="159" y="1406"/>
                    <a:pt x="159" y="1406"/>
                  </a:cubicBezTo>
                  <a:cubicBezTo>
                    <a:pt x="157" y="1401"/>
                    <a:pt x="156" y="1397"/>
                    <a:pt x="153" y="1392"/>
                  </a:cubicBezTo>
                  <a:cubicBezTo>
                    <a:pt x="148" y="1381"/>
                    <a:pt x="140" y="1371"/>
                    <a:pt x="133" y="1361"/>
                  </a:cubicBezTo>
                  <a:cubicBezTo>
                    <a:pt x="117" y="1343"/>
                    <a:pt x="100" y="1327"/>
                    <a:pt x="82" y="1311"/>
                  </a:cubicBezTo>
                  <a:cubicBezTo>
                    <a:pt x="65" y="1295"/>
                    <a:pt x="48" y="1280"/>
                    <a:pt x="33" y="1263"/>
                  </a:cubicBezTo>
                  <a:cubicBezTo>
                    <a:pt x="26" y="1255"/>
                    <a:pt x="19" y="1247"/>
                    <a:pt x="15" y="1238"/>
                  </a:cubicBezTo>
                  <a:cubicBezTo>
                    <a:pt x="14" y="1235"/>
                    <a:pt x="13" y="1232"/>
                    <a:pt x="13" y="1228"/>
                  </a:cubicBezTo>
                  <a:cubicBezTo>
                    <a:pt x="12" y="1207"/>
                    <a:pt x="20" y="1187"/>
                    <a:pt x="33" y="1169"/>
                  </a:cubicBezTo>
                  <a:cubicBezTo>
                    <a:pt x="45" y="1152"/>
                    <a:pt x="62" y="1136"/>
                    <a:pt x="79" y="1120"/>
                  </a:cubicBezTo>
                  <a:cubicBezTo>
                    <a:pt x="96" y="1104"/>
                    <a:pt x="113" y="1089"/>
                    <a:pt x="129" y="1070"/>
                  </a:cubicBezTo>
                  <a:cubicBezTo>
                    <a:pt x="137" y="1061"/>
                    <a:pt x="144" y="1051"/>
                    <a:pt x="150" y="1039"/>
                  </a:cubicBezTo>
                  <a:cubicBezTo>
                    <a:pt x="154" y="1033"/>
                    <a:pt x="157" y="1025"/>
                    <a:pt x="159" y="1018"/>
                  </a:cubicBezTo>
                  <a:cubicBezTo>
                    <a:pt x="159" y="977"/>
                    <a:pt x="159" y="977"/>
                    <a:pt x="159" y="977"/>
                  </a:cubicBezTo>
                  <a:cubicBezTo>
                    <a:pt x="157" y="972"/>
                    <a:pt x="156" y="967"/>
                    <a:pt x="153" y="963"/>
                  </a:cubicBezTo>
                  <a:cubicBezTo>
                    <a:pt x="148" y="951"/>
                    <a:pt x="140" y="941"/>
                    <a:pt x="133" y="932"/>
                  </a:cubicBezTo>
                  <a:cubicBezTo>
                    <a:pt x="117" y="913"/>
                    <a:pt x="100" y="897"/>
                    <a:pt x="82" y="882"/>
                  </a:cubicBezTo>
                  <a:cubicBezTo>
                    <a:pt x="65" y="866"/>
                    <a:pt x="48" y="851"/>
                    <a:pt x="33" y="834"/>
                  </a:cubicBezTo>
                  <a:cubicBezTo>
                    <a:pt x="27" y="827"/>
                    <a:pt x="21" y="819"/>
                    <a:pt x="16" y="811"/>
                  </a:cubicBezTo>
                  <a:cubicBezTo>
                    <a:pt x="15" y="806"/>
                    <a:pt x="14" y="801"/>
                    <a:pt x="13" y="795"/>
                  </a:cubicBezTo>
                  <a:cubicBezTo>
                    <a:pt x="12" y="774"/>
                    <a:pt x="20" y="754"/>
                    <a:pt x="33" y="737"/>
                  </a:cubicBezTo>
                  <a:cubicBezTo>
                    <a:pt x="45" y="719"/>
                    <a:pt x="62" y="703"/>
                    <a:pt x="79" y="687"/>
                  </a:cubicBezTo>
                  <a:cubicBezTo>
                    <a:pt x="96" y="671"/>
                    <a:pt x="113" y="656"/>
                    <a:pt x="129" y="637"/>
                  </a:cubicBezTo>
                  <a:cubicBezTo>
                    <a:pt x="137" y="628"/>
                    <a:pt x="144" y="618"/>
                    <a:pt x="150" y="607"/>
                  </a:cubicBezTo>
                  <a:cubicBezTo>
                    <a:pt x="154" y="600"/>
                    <a:pt x="157" y="593"/>
                    <a:pt x="159" y="585"/>
                  </a:cubicBezTo>
                  <a:cubicBezTo>
                    <a:pt x="159" y="544"/>
                    <a:pt x="159" y="544"/>
                    <a:pt x="159" y="544"/>
                  </a:cubicBezTo>
                  <a:cubicBezTo>
                    <a:pt x="157" y="539"/>
                    <a:pt x="156" y="535"/>
                    <a:pt x="153" y="530"/>
                  </a:cubicBezTo>
                  <a:cubicBezTo>
                    <a:pt x="148" y="519"/>
                    <a:pt x="140" y="509"/>
                    <a:pt x="133" y="499"/>
                  </a:cubicBezTo>
                  <a:cubicBezTo>
                    <a:pt x="117" y="481"/>
                    <a:pt x="100" y="465"/>
                    <a:pt x="82" y="449"/>
                  </a:cubicBezTo>
                  <a:cubicBezTo>
                    <a:pt x="65" y="433"/>
                    <a:pt x="48" y="418"/>
                    <a:pt x="33" y="401"/>
                  </a:cubicBezTo>
                  <a:cubicBezTo>
                    <a:pt x="27" y="394"/>
                    <a:pt x="21" y="386"/>
                    <a:pt x="16" y="379"/>
                  </a:cubicBezTo>
                  <a:cubicBezTo>
                    <a:pt x="15" y="373"/>
                    <a:pt x="14" y="368"/>
                    <a:pt x="13" y="363"/>
                  </a:cubicBezTo>
                  <a:cubicBezTo>
                    <a:pt x="12" y="342"/>
                    <a:pt x="20" y="322"/>
                    <a:pt x="33" y="304"/>
                  </a:cubicBezTo>
                  <a:cubicBezTo>
                    <a:pt x="45" y="286"/>
                    <a:pt x="62" y="270"/>
                    <a:pt x="79" y="254"/>
                  </a:cubicBezTo>
                  <a:cubicBezTo>
                    <a:pt x="96" y="239"/>
                    <a:pt x="113" y="223"/>
                    <a:pt x="129" y="204"/>
                  </a:cubicBezTo>
                  <a:cubicBezTo>
                    <a:pt x="137" y="195"/>
                    <a:pt x="144" y="185"/>
                    <a:pt x="150" y="174"/>
                  </a:cubicBezTo>
                  <a:cubicBezTo>
                    <a:pt x="154" y="167"/>
                    <a:pt x="157" y="160"/>
                    <a:pt x="159" y="152"/>
                  </a:cubicBezTo>
                  <a:cubicBezTo>
                    <a:pt x="159" y="111"/>
                    <a:pt x="159" y="111"/>
                    <a:pt x="159" y="111"/>
                  </a:cubicBezTo>
                  <a:cubicBezTo>
                    <a:pt x="157" y="107"/>
                    <a:pt x="156" y="102"/>
                    <a:pt x="153" y="97"/>
                  </a:cubicBezTo>
                  <a:cubicBezTo>
                    <a:pt x="148" y="86"/>
                    <a:pt x="140" y="76"/>
                    <a:pt x="133" y="66"/>
                  </a:cubicBezTo>
                  <a:cubicBezTo>
                    <a:pt x="117" y="48"/>
                    <a:pt x="100" y="32"/>
                    <a:pt x="82" y="16"/>
                  </a:cubicBezTo>
                  <a:cubicBezTo>
                    <a:pt x="76" y="11"/>
                    <a:pt x="71" y="5"/>
                    <a:pt x="65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57" y="8"/>
                    <a:pt x="66" y="16"/>
                    <a:pt x="75" y="24"/>
                  </a:cubicBezTo>
                  <a:cubicBezTo>
                    <a:pt x="92" y="40"/>
                    <a:pt x="109" y="56"/>
                    <a:pt x="124" y="74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82" name="Freeform 16"/>
            <p:cNvSpPr/>
            <p:nvPr/>
          </p:nvSpPr>
          <p:spPr>
            <a:xfrm>
              <a:off x="6087960" y="-1440"/>
              <a:ext cx="501120" cy="6862320"/>
            </a:xfrm>
            <a:custGeom>
              <a:avLst/>
              <a:gdLst>
                <a:gd name="textAreaLeft" fmla="*/ 0 w 501120"/>
                <a:gd name="textAreaRight" fmla="*/ 501480 w 50112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58" h="2159">
                  <a:moveTo>
                    <a:pt x="23" y="72"/>
                  </a:moveTo>
                  <a:cubicBezTo>
                    <a:pt x="16" y="81"/>
                    <a:pt x="9" y="91"/>
                    <a:pt x="4" y="102"/>
                  </a:cubicBezTo>
                  <a:cubicBezTo>
                    <a:pt x="3" y="104"/>
                    <a:pt x="1" y="107"/>
                    <a:pt x="0" y="110"/>
                  </a:cubicBezTo>
                  <a:cubicBezTo>
                    <a:pt x="0" y="133"/>
                    <a:pt x="0" y="133"/>
                    <a:pt x="0" y="133"/>
                  </a:cubicBezTo>
                  <a:cubicBezTo>
                    <a:pt x="0" y="144"/>
                    <a:pt x="0" y="144"/>
                    <a:pt x="0" y="144"/>
                  </a:cubicBezTo>
                  <a:cubicBezTo>
                    <a:pt x="0" y="154"/>
                    <a:pt x="0" y="154"/>
                    <a:pt x="0" y="154"/>
                  </a:cubicBezTo>
                  <a:cubicBezTo>
                    <a:pt x="2" y="159"/>
                    <a:pt x="4" y="164"/>
                    <a:pt x="7" y="170"/>
                  </a:cubicBezTo>
                  <a:cubicBezTo>
                    <a:pt x="12" y="180"/>
                    <a:pt x="19" y="190"/>
                    <a:pt x="27" y="198"/>
                  </a:cubicBezTo>
                  <a:cubicBezTo>
                    <a:pt x="30" y="202"/>
                    <a:pt x="33" y="206"/>
                    <a:pt x="36" y="209"/>
                  </a:cubicBezTo>
                  <a:cubicBezTo>
                    <a:pt x="44" y="219"/>
                    <a:pt x="53" y="228"/>
                    <a:pt x="62" y="237"/>
                  </a:cubicBezTo>
                  <a:cubicBezTo>
                    <a:pt x="79" y="254"/>
                    <a:pt x="96" y="269"/>
                    <a:pt x="112" y="286"/>
                  </a:cubicBezTo>
                  <a:cubicBezTo>
                    <a:pt x="117" y="291"/>
                    <a:pt x="121" y="297"/>
                    <a:pt x="125" y="302"/>
                  </a:cubicBezTo>
                  <a:cubicBezTo>
                    <a:pt x="131" y="311"/>
                    <a:pt x="136" y="320"/>
                    <a:pt x="139" y="329"/>
                  </a:cubicBezTo>
                  <a:cubicBezTo>
                    <a:pt x="143" y="340"/>
                    <a:pt x="144" y="352"/>
                    <a:pt x="143" y="363"/>
                  </a:cubicBezTo>
                  <a:cubicBezTo>
                    <a:pt x="142" y="372"/>
                    <a:pt x="140" y="380"/>
                    <a:pt x="137" y="388"/>
                  </a:cubicBezTo>
                  <a:cubicBezTo>
                    <a:pt x="132" y="395"/>
                    <a:pt x="127" y="401"/>
                    <a:pt x="122" y="407"/>
                  </a:cubicBezTo>
                  <a:cubicBezTo>
                    <a:pt x="107" y="424"/>
                    <a:pt x="89" y="440"/>
                    <a:pt x="72" y="455"/>
                  </a:cubicBezTo>
                  <a:cubicBezTo>
                    <a:pt x="55" y="471"/>
                    <a:pt x="38" y="487"/>
                    <a:pt x="23" y="505"/>
                  </a:cubicBezTo>
                  <a:cubicBezTo>
                    <a:pt x="16" y="514"/>
                    <a:pt x="9" y="524"/>
                    <a:pt x="4" y="534"/>
                  </a:cubicBezTo>
                  <a:cubicBezTo>
                    <a:pt x="3" y="537"/>
                    <a:pt x="1" y="540"/>
                    <a:pt x="0" y="543"/>
                  </a:cubicBezTo>
                  <a:cubicBezTo>
                    <a:pt x="0" y="566"/>
                    <a:pt x="0" y="566"/>
                    <a:pt x="0" y="566"/>
                  </a:cubicBezTo>
                  <a:cubicBezTo>
                    <a:pt x="0" y="577"/>
                    <a:pt x="0" y="577"/>
                    <a:pt x="0" y="577"/>
                  </a:cubicBezTo>
                  <a:cubicBezTo>
                    <a:pt x="0" y="587"/>
                    <a:pt x="0" y="587"/>
                    <a:pt x="0" y="587"/>
                  </a:cubicBezTo>
                  <a:cubicBezTo>
                    <a:pt x="2" y="592"/>
                    <a:pt x="4" y="597"/>
                    <a:pt x="7" y="602"/>
                  </a:cubicBezTo>
                  <a:cubicBezTo>
                    <a:pt x="12" y="613"/>
                    <a:pt x="19" y="622"/>
                    <a:pt x="27" y="631"/>
                  </a:cubicBezTo>
                  <a:cubicBezTo>
                    <a:pt x="30" y="635"/>
                    <a:pt x="33" y="638"/>
                    <a:pt x="36" y="642"/>
                  </a:cubicBezTo>
                  <a:cubicBezTo>
                    <a:pt x="44" y="652"/>
                    <a:pt x="53" y="661"/>
                    <a:pt x="62" y="670"/>
                  </a:cubicBezTo>
                  <a:cubicBezTo>
                    <a:pt x="79" y="686"/>
                    <a:pt x="96" y="702"/>
                    <a:pt x="112" y="719"/>
                  </a:cubicBezTo>
                  <a:cubicBezTo>
                    <a:pt x="117" y="724"/>
                    <a:pt x="121" y="730"/>
                    <a:pt x="125" y="735"/>
                  </a:cubicBezTo>
                  <a:cubicBezTo>
                    <a:pt x="131" y="744"/>
                    <a:pt x="136" y="753"/>
                    <a:pt x="139" y="762"/>
                  </a:cubicBezTo>
                  <a:cubicBezTo>
                    <a:pt x="143" y="773"/>
                    <a:pt x="144" y="785"/>
                    <a:pt x="143" y="796"/>
                  </a:cubicBezTo>
                  <a:cubicBezTo>
                    <a:pt x="142" y="805"/>
                    <a:pt x="140" y="813"/>
                    <a:pt x="137" y="821"/>
                  </a:cubicBezTo>
                  <a:cubicBezTo>
                    <a:pt x="132" y="827"/>
                    <a:pt x="127" y="834"/>
                    <a:pt x="122" y="840"/>
                  </a:cubicBezTo>
                  <a:cubicBezTo>
                    <a:pt x="107" y="857"/>
                    <a:pt x="89" y="872"/>
                    <a:pt x="72" y="888"/>
                  </a:cubicBezTo>
                  <a:cubicBezTo>
                    <a:pt x="55" y="904"/>
                    <a:pt x="38" y="920"/>
                    <a:pt x="23" y="938"/>
                  </a:cubicBezTo>
                  <a:cubicBezTo>
                    <a:pt x="16" y="947"/>
                    <a:pt x="9" y="957"/>
                    <a:pt x="4" y="967"/>
                  </a:cubicBezTo>
                  <a:cubicBezTo>
                    <a:pt x="3" y="970"/>
                    <a:pt x="1" y="973"/>
                    <a:pt x="0" y="976"/>
                  </a:cubicBezTo>
                  <a:cubicBezTo>
                    <a:pt x="0" y="995"/>
                    <a:pt x="0" y="995"/>
                    <a:pt x="0" y="995"/>
                  </a:cubicBezTo>
                  <a:cubicBezTo>
                    <a:pt x="0" y="1006"/>
                    <a:pt x="0" y="1006"/>
                    <a:pt x="0" y="1006"/>
                  </a:cubicBezTo>
                  <a:cubicBezTo>
                    <a:pt x="0" y="1019"/>
                    <a:pt x="0" y="1019"/>
                    <a:pt x="0" y="1019"/>
                  </a:cubicBezTo>
                  <a:cubicBezTo>
                    <a:pt x="2" y="1025"/>
                    <a:pt x="4" y="1030"/>
                    <a:pt x="7" y="1035"/>
                  </a:cubicBezTo>
                  <a:cubicBezTo>
                    <a:pt x="12" y="1046"/>
                    <a:pt x="19" y="1055"/>
                    <a:pt x="27" y="1064"/>
                  </a:cubicBezTo>
                  <a:cubicBezTo>
                    <a:pt x="42" y="1082"/>
                    <a:pt x="59" y="1098"/>
                    <a:pt x="76" y="1113"/>
                  </a:cubicBezTo>
                  <a:cubicBezTo>
                    <a:pt x="93" y="1129"/>
                    <a:pt x="110" y="1146"/>
                    <a:pt x="123" y="1164"/>
                  </a:cubicBezTo>
                  <a:cubicBezTo>
                    <a:pt x="130" y="1174"/>
                    <a:pt x="135" y="1184"/>
                    <a:pt x="139" y="1195"/>
                  </a:cubicBezTo>
                  <a:cubicBezTo>
                    <a:pt x="143" y="1206"/>
                    <a:pt x="144" y="1218"/>
                    <a:pt x="143" y="1229"/>
                  </a:cubicBezTo>
                  <a:cubicBezTo>
                    <a:pt x="143" y="1234"/>
                    <a:pt x="142" y="1239"/>
                    <a:pt x="140" y="1244"/>
                  </a:cubicBezTo>
                  <a:cubicBezTo>
                    <a:pt x="135" y="1253"/>
                    <a:pt x="129" y="1261"/>
                    <a:pt x="122" y="1269"/>
                  </a:cubicBezTo>
                  <a:cubicBezTo>
                    <a:pt x="107" y="1286"/>
                    <a:pt x="89" y="1302"/>
                    <a:pt x="72" y="1318"/>
                  </a:cubicBezTo>
                  <a:cubicBezTo>
                    <a:pt x="55" y="1333"/>
                    <a:pt x="38" y="1349"/>
                    <a:pt x="23" y="1367"/>
                  </a:cubicBezTo>
                  <a:cubicBezTo>
                    <a:pt x="16" y="1376"/>
                    <a:pt x="9" y="1386"/>
                    <a:pt x="4" y="1396"/>
                  </a:cubicBezTo>
                  <a:cubicBezTo>
                    <a:pt x="3" y="1399"/>
                    <a:pt x="1" y="1402"/>
                    <a:pt x="0" y="1405"/>
                  </a:cubicBezTo>
                  <a:cubicBezTo>
                    <a:pt x="0" y="1427"/>
                    <a:pt x="0" y="1427"/>
                    <a:pt x="0" y="1427"/>
                  </a:cubicBezTo>
                  <a:cubicBezTo>
                    <a:pt x="0" y="1438"/>
                    <a:pt x="0" y="1438"/>
                    <a:pt x="0" y="1438"/>
                  </a:cubicBezTo>
                  <a:cubicBezTo>
                    <a:pt x="0" y="1449"/>
                    <a:pt x="0" y="1449"/>
                    <a:pt x="0" y="1449"/>
                  </a:cubicBezTo>
                  <a:cubicBezTo>
                    <a:pt x="2" y="1454"/>
                    <a:pt x="4" y="1459"/>
                    <a:pt x="7" y="1464"/>
                  </a:cubicBezTo>
                  <a:cubicBezTo>
                    <a:pt x="12" y="1475"/>
                    <a:pt x="19" y="1484"/>
                    <a:pt x="27" y="1493"/>
                  </a:cubicBezTo>
                  <a:cubicBezTo>
                    <a:pt x="34" y="1502"/>
                    <a:pt x="41" y="1510"/>
                    <a:pt x="49" y="1517"/>
                  </a:cubicBezTo>
                  <a:cubicBezTo>
                    <a:pt x="54" y="1522"/>
                    <a:pt x="58" y="1526"/>
                    <a:pt x="62" y="1531"/>
                  </a:cubicBezTo>
                  <a:cubicBezTo>
                    <a:pt x="79" y="1547"/>
                    <a:pt x="96" y="1563"/>
                    <a:pt x="112" y="1580"/>
                  </a:cubicBezTo>
                  <a:cubicBezTo>
                    <a:pt x="114" y="1582"/>
                    <a:pt x="115" y="1584"/>
                    <a:pt x="117" y="1586"/>
                  </a:cubicBezTo>
                  <a:cubicBezTo>
                    <a:pt x="119" y="1589"/>
                    <a:pt x="121" y="1591"/>
                    <a:pt x="123" y="1594"/>
                  </a:cubicBezTo>
                  <a:cubicBezTo>
                    <a:pt x="130" y="1603"/>
                    <a:pt x="135" y="1613"/>
                    <a:pt x="139" y="1624"/>
                  </a:cubicBezTo>
                  <a:cubicBezTo>
                    <a:pt x="143" y="1635"/>
                    <a:pt x="144" y="1647"/>
                    <a:pt x="143" y="1658"/>
                  </a:cubicBezTo>
                  <a:cubicBezTo>
                    <a:pt x="142" y="1666"/>
                    <a:pt x="141" y="1673"/>
                    <a:pt x="138" y="1680"/>
                  </a:cubicBezTo>
                  <a:cubicBezTo>
                    <a:pt x="133" y="1687"/>
                    <a:pt x="128" y="1694"/>
                    <a:pt x="122" y="1701"/>
                  </a:cubicBezTo>
                  <a:cubicBezTo>
                    <a:pt x="107" y="1718"/>
                    <a:pt x="89" y="1733"/>
                    <a:pt x="72" y="1749"/>
                  </a:cubicBezTo>
                  <a:cubicBezTo>
                    <a:pt x="55" y="1765"/>
                    <a:pt x="38" y="1781"/>
                    <a:pt x="23" y="1799"/>
                  </a:cubicBezTo>
                  <a:cubicBezTo>
                    <a:pt x="16" y="1808"/>
                    <a:pt x="9" y="1818"/>
                    <a:pt x="4" y="1828"/>
                  </a:cubicBezTo>
                  <a:cubicBezTo>
                    <a:pt x="3" y="1831"/>
                    <a:pt x="1" y="1834"/>
                    <a:pt x="0" y="1837"/>
                  </a:cubicBezTo>
                  <a:cubicBezTo>
                    <a:pt x="0" y="1857"/>
                    <a:pt x="0" y="1857"/>
                    <a:pt x="0" y="1857"/>
                  </a:cubicBezTo>
                  <a:cubicBezTo>
                    <a:pt x="0" y="1868"/>
                    <a:pt x="0" y="1868"/>
                    <a:pt x="0" y="1868"/>
                  </a:cubicBezTo>
                  <a:cubicBezTo>
                    <a:pt x="0" y="1880"/>
                    <a:pt x="0" y="1880"/>
                    <a:pt x="0" y="1880"/>
                  </a:cubicBezTo>
                  <a:cubicBezTo>
                    <a:pt x="2" y="1886"/>
                    <a:pt x="4" y="1891"/>
                    <a:pt x="7" y="1896"/>
                  </a:cubicBezTo>
                  <a:cubicBezTo>
                    <a:pt x="12" y="1907"/>
                    <a:pt x="19" y="1916"/>
                    <a:pt x="27" y="1925"/>
                  </a:cubicBezTo>
                  <a:cubicBezTo>
                    <a:pt x="42" y="1943"/>
                    <a:pt x="59" y="1958"/>
                    <a:pt x="76" y="1974"/>
                  </a:cubicBezTo>
                  <a:cubicBezTo>
                    <a:pt x="76" y="1975"/>
                    <a:pt x="76" y="1975"/>
                    <a:pt x="77" y="1975"/>
                  </a:cubicBezTo>
                  <a:cubicBezTo>
                    <a:pt x="84" y="1982"/>
                    <a:pt x="90" y="1988"/>
                    <a:pt x="97" y="1995"/>
                  </a:cubicBezTo>
                  <a:cubicBezTo>
                    <a:pt x="106" y="2004"/>
                    <a:pt x="115" y="2014"/>
                    <a:pt x="123" y="2025"/>
                  </a:cubicBezTo>
                  <a:cubicBezTo>
                    <a:pt x="130" y="2035"/>
                    <a:pt x="135" y="2045"/>
                    <a:pt x="139" y="2056"/>
                  </a:cubicBezTo>
                  <a:cubicBezTo>
                    <a:pt x="143" y="2067"/>
                    <a:pt x="144" y="2078"/>
                    <a:pt x="143" y="2090"/>
                  </a:cubicBezTo>
                  <a:cubicBezTo>
                    <a:pt x="142" y="2096"/>
                    <a:pt x="141" y="2102"/>
                    <a:pt x="139" y="2108"/>
                  </a:cubicBezTo>
                  <a:cubicBezTo>
                    <a:pt x="134" y="2116"/>
                    <a:pt x="128" y="2124"/>
                    <a:pt x="122" y="2131"/>
                  </a:cubicBezTo>
                  <a:cubicBezTo>
                    <a:pt x="113" y="2141"/>
                    <a:pt x="104" y="2150"/>
                    <a:pt x="95" y="2159"/>
                  </a:cubicBezTo>
                  <a:cubicBezTo>
                    <a:pt x="110" y="2159"/>
                    <a:pt x="110" y="2159"/>
                    <a:pt x="110" y="2159"/>
                  </a:cubicBezTo>
                  <a:cubicBezTo>
                    <a:pt x="117" y="2152"/>
                    <a:pt x="124" y="2145"/>
                    <a:pt x="130" y="2138"/>
                  </a:cubicBezTo>
                  <a:cubicBezTo>
                    <a:pt x="134" y="2133"/>
                    <a:pt x="138" y="2128"/>
                    <a:pt x="142" y="2122"/>
                  </a:cubicBezTo>
                  <a:cubicBezTo>
                    <a:pt x="143" y="2122"/>
                    <a:pt x="143" y="2122"/>
                    <a:pt x="143" y="2122"/>
                  </a:cubicBezTo>
                  <a:cubicBezTo>
                    <a:pt x="143" y="2122"/>
                    <a:pt x="143" y="2121"/>
                    <a:pt x="143" y="2120"/>
                  </a:cubicBezTo>
                  <a:cubicBezTo>
                    <a:pt x="146" y="2116"/>
                    <a:pt x="149" y="2112"/>
                    <a:pt x="151" y="2107"/>
                  </a:cubicBezTo>
                  <a:cubicBezTo>
                    <a:pt x="154" y="2101"/>
                    <a:pt x="156" y="2095"/>
                    <a:pt x="157" y="2088"/>
                  </a:cubicBezTo>
                  <a:cubicBezTo>
                    <a:pt x="158" y="2080"/>
                    <a:pt x="157" y="2074"/>
                    <a:pt x="156" y="2068"/>
                  </a:cubicBezTo>
                  <a:cubicBezTo>
                    <a:pt x="153" y="2055"/>
                    <a:pt x="147" y="2043"/>
                    <a:pt x="141" y="2033"/>
                  </a:cubicBezTo>
                  <a:cubicBezTo>
                    <a:pt x="140" y="2032"/>
                    <a:pt x="139" y="2030"/>
                    <a:pt x="138" y="2029"/>
                  </a:cubicBezTo>
                  <a:cubicBezTo>
                    <a:pt x="136" y="2026"/>
                    <a:pt x="134" y="2022"/>
                    <a:pt x="132" y="2019"/>
                  </a:cubicBezTo>
                  <a:cubicBezTo>
                    <a:pt x="117" y="1999"/>
                    <a:pt x="100" y="1982"/>
                    <a:pt x="83" y="1966"/>
                  </a:cubicBezTo>
                  <a:cubicBezTo>
                    <a:pt x="67" y="1950"/>
                    <a:pt x="50" y="1935"/>
                    <a:pt x="35" y="1917"/>
                  </a:cubicBezTo>
                  <a:cubicBezTo>
                    <a:pt x="21" y="1901"/>
                    <a:pt x="10" y="1881"/>
                    <a:pt x="9" y="1861"/>
                  </a:cubicBezTo>
                  <a:cubicBezTo>
                    <a:pt x="8" y="1852"/>
                    <a:pt x="10" y="1843"/>
                    <a:pt x="15" y="1833"/>
                  </a:cubicBezTo>
                  <a:cubicBezTo>
                    <a:pt x="19" y="1824"/>
                    <a:pt x="25" y="1815"/>
                    <a:pt x="32" y="1806"/>
                  </a:cubicBezTo>
                  <a:cubicBezTo>
                    <a:pt x="46" y="1789"/>
                    <a:pt x="63" y="1773"/>
                    <a:pt x="80" y="1757"/>
                  </a:cubicBezTo>
                  <a:cubicBezTo>
                    <a:pt x="97" y="1741"/>
                    <a:pt x="114" y="1726"/>
                    <a:pt x="130" y="1708"/>
                  </a:cubicBezTo>
                  <a:cubicBezTo>
                    <a:pt x="138" y="1698"/>
                    <a:pt x="146" y="1689"/>
                    <a:pt x="151" y="1677"/>
                  </a:cubicBezTo>
                  <a:cubicBezTo>
                    <a:pt x="154" y="1671"/>
                    <a:pt x="156" y="1664"/>
                    <a:pt x="157" y="1657"/>
                  </a:cubicBezTo>
                  <a:cubicBezTo>
                    <a:pt x="158" y="1650"/>
                    <a:pt x="157" y="1644"/>
                    <a:pt x="156" y="1637"/>
                  </a:cubicBezTo>
                  <a:cubicBezTo>
                    <a:pt x="153" y="1625"/>
                    <a:pt x="148" y="1614"/>
                    <a:pt x="142" y="1605"/>
                  </a:cubicBezTo>
                  <a:cubicBezTo>
                    <a:pt x="139" y="1599"/>
                    <a:pt x="135" y="1593"/>
                    <a:pt x="132" y="1588"/>
                  </a:cubicBezTo>
                  <a:cubicBezTo>
                    <a:pt x="117" y="1567"/>
                    <a:pt x="100" y="1551"/>
                    <a:pt x="83" y="1535"/>
                  </a:cubicBezTo>
                  <a:cubicBezTo>
                    <a:pt x="67" y="1519"/>
                    <a:pt x="50" y="1503"/>
                    <a:pt x="35" y="1486"/>
                  </a:cubicBezTo>
                  <a:cubicBezTo>
                    <a:pt x="21" y="1469"/>
                    <a:pt x="10" y="1450"/>
                    <a:pt x="9" y="1430"/>
                  </a:cubicBezTo>
                  <a:cubicBezTo>
                    <a:pt x="8" y="1421"/>
                    <a:pt x="10" y="1411"/>
                    <a:pt x="15" y="1402"/>
                  </a:cubicBezTo>
                  <a:cubicBezTo>
                    <a:pt x="19" y="1392"/>
                    <a:pt x="25" y="1383"/>
                    <a:pt x="32" y="1375"/>
                  </a:cubicBezTo>
                  <a:cubicBezTo>
                    <a:pt x="46" y="1357"/>
                    <a:pt x="63" y="1342"/>
                    <a:pt x="80" y="1326"/>
                  </a:cubicBezTo>
                  <a:cubicBezTo>
                    <a:pt x="97" y="1310"/>
                    <a:pt x="114" y="1294"/>
                    <a:pt x="130" y="1276"/>
                  </a:cubicBezTo>
                  <a:cubicBezTo>
                    <a:pt x="134" y="1271"/>
                    <a:pt x="138" y="1266"/>
                    <a:pt x="142" y="1261"/>
                  </a:cubicBezTo>
                  <a:cubicBezTo>
                    <a:pt x="143" y="1261"/>
                    <a:pt x="143" y="1261"/>
                    <a:pt x="143" y="1261"/>
                  </a:cubicBezTo>
                  <a:cubicBezTo>
                    <a:pt x="144" y="1259"/>
                    <a:pt x="144" y="1258"/>
                    <a:pt x="145" y="1256"/>
                  </a:cubicBezTo>
                  <a:cubicBezTo>
                    <a:pt x="147" y="1252"/>
                    <a:pt x="149" y="1249"/>
                    <a:pt x="151" y="1245"/>
                  </a:cubicBezTo>
                  <a:cubicBezTo>
                    <a:pt x="154" y="1239"/>
                    <a:pt x="156" y="1233"/>
                    <a:pt x="157" y="1226"/>
                  </a:cubicBezTo>
                  <a:cubicBezTo>
                    <a:pt x="158" y="1218"/>
                    <a:pt x="157" y="1212"/>
                    <a:pt x="156" y="1206"/>
                  </a:cubicBezTo>
                  <a:cubicBezTo>
                    <a:pt x="153" y="1193"/>
                    <a:pt x="147" y="1181"/>
                    <a:pt x="141" y="1171"/>
                  </a:cubicBezTo>
                  <a:cubicBezTo>
                    <a:pt x="138" y="1168"/>
                    <a:pt x="136" y="1164"/>
                    <a:pt x="133" y="1161"/>
                  </a:cubicBezTo>
                  <a:cubicBezTo>
                    <a:pt x="133" y="1160"/>
                    <a:pt x="132" y="1159"/>
                    <a:pt x="132" y="1158"/>
                  </a:cubicBezTo>
                  <a:cubicBezTo>
                    <a:pt x="117" y="1138"/>
                    <a:pt x="100" y="1122"/>
                    <a:pt x="83" y="1105"/>
                  </a:cubicBezTo>
                  <a:cubicBezTo>
                    <a:pt x="67" y="1089"/>
                    <a:pt x="50" y="1074"/>
                    <a:pt x="35" y="1057"/>
                  </a:cubicBezTo>
                  <a:cubicBezTo>
                    <a:pt x="21" y="1040"/>
                    <a:pt x="10" y="1020"/>
                    <a:pt x="9" y="1000"/>
                  </a:cubicBezTo>
                  <a:cubicBezTo>
                    <a:pt x="8" y="991"/>
                    <a:pt x="10" y="982"/>
                    <a:pt x="15" y="972"/>
                  </a:cubicBezTo>
                  <a:cubicBezTo>
                    <a:pt x="19" y="963"/>
                    <a:pt x="25" y="954"/>
                    <a:pt x="32" y="945"/>
                  </a:cubicBezTo>
                  <a:cubicBezTo>
                    <a:pt x="46" y="928"/>
                    <a:pt x="63" y="912"/>
                    <a:pt x="80" y="896"/>
                  </a:cubicBezTo>
                  <a:cubicBezTo>
                    <a:pt x="97" y="880"/>
                    <a:pt x="114" y="865"/>
                    <a:pt x="130" y="847"/>
                  </a:cubicBezTo>
                  <a:cubicBezTo>
                    <a:pt x="138" y="837"/>
                    <a:pt x="146" y="828"/>
                    <a:pt x="151" y="816"/>
                  </a:cubicBezTo>
                  <a:cubicBezTo>
                    <a:pt x="154" y="810"/>
                    <a:pt x="156" y="803"/>
                    <a:pt x="157" y="796"/>
                  </a:cubicBezTo>
                  <a:cubicBezTo>
                    <a:pt x="158" y="789"/>
                    <a:pt x="157" y="783"/>
                    <a:pt x="156" y="776"/>
                  </a:cubicBezTo>
                  <a:cubicBezTo>
                    <a:pt x="153" y="766"/>
                    <a:pt x="149" y="756"/>
                    <a:pt x="144" y="748"/>
                  </a:cubicBezTo>
                  <a:cubicBezTo>
                    <a:pt x="141" y="740"/>
                    <a:pt x="136" y="732"/>
                    <a:pt x="132" y="726"/>
                  </a:cubicBezTo>
                  <a:cubicBezTo>
                    <a:pt x="117" y="705"/>
                    <a:pt x="100" y="689"/>
                    <a:pt x="83" y="673"/>
                  </a:cubicBezTo>
                  <a:cubicBezTo>
                    <a:pt x="67" y="656"/>
                    <a:pt x="50" y="641"/>
                    <a:pt x="35" y="624"/>
                  </a:cubicBezTo>
                  <a:cubicBezTo>
                    <a:pt x="21" y="607"/>
                    <a:pt x="10" y="588"/>
                    <a:pt x="9" y="568"/>
                  </a:cubicBezTo>
                  <a:cubicBezTo>
                    <a:pt x="8" y="558"/>
                    <a:pt x="10" y="549"/>
                    <a:pt x="15" y="540"/>
                  </a:cubicBezTo>
                  <a:cubicBezTo>
                    <a:pt x="19" y="530"/>
                    <a:pt x="25" y="521"/>
                    <a:pt x="32" y="513"/>
                  </a:cubicBezTo>
                  <a:cubicBezTo>
                    <a:pt x="46" y="495"/>
                    <a:pt x="63" y="480"/>
                    <a:pt x="80" y="464"/>
                  </a:cubicBezTo>
                  <a:cubicBezTo>
                    <a:pt x="97" y="448"/>
                    <a:pt x="114" y="432"/>
                    <a:pt x="130" y="414"/>
                  </a:cubicBezTo>
                  <a:cubicBezTo>
                    <a:pt x="138" y="405"/>
                    <a:pt x="146" y="395"/>
                    <a:pt x="151" y="383"/>
                  </a:cubicBezTo>
                  <a:cubicBezTo>
                    <a:pt x="154" y="377"/>
                    <a:pt x="156" y="371"/>
                    <a:pt x="157" y="364"/>
                  </a:cubicBezTo>
                  <a:cubicBezTo>
                    <a:pt x="158" y="356"/>
                    <a:pt x="157" y="350"/>
                    <a:pt x="156" y="344"/>
                  </a:cubicBezTo>
                  <a:cubicBezTo>
                    <a:pt x="153" y="333"/>
                    <a:pt x="149" y="324"/>
                    <a:pt x="144" y="315"/>
                  </a:cubicBezTo>
                  <a:cubicBezTo>
                    <a:pt x="141" y="307"/>
                    <a:pt x="136" y="300"/>
                    <a:pt x="132" y="293"/>
                  </a:cubicBezTo>
                  <a:cubicBezTo>
                    <a:pt x="117" y="273"/>
                    <a:pt x="100" y="256"/>
                    <a:pt x="83" y="240"/>
                  </a:cubicBezTo>
                  <a:cubicBezTo>
                    <a:pt x="67" y="224"/>
                    <a:pt x="50" y="208"/>
                    <a:pt x="35" y="191"/>
                  </a:cubicBezTo>
                  <a:cubicBezTo>
                    <a:pt x="21" y="174"/>
                    <a:pt x="10" y="155"/>
                    <a:pt x="9" y="135"/>
                  </a:cubicBezTo>
                  <a:cubicBezTo>
                    <a:pt x="8" y="126"/>
                    <a:pt x="10" y="116"/>
                    <a:pt x="15" y="107"/>
                  </a:cubicBezTo>
                  <a:cubicBezTo>
                    <a:pt x="19" y="97"/>
                    <a:pt x="25" y="88"/>
                    <a:pt x="32" y="80"/>
                  </a:cubicBezTo>
                  <a:cubicBezTo>
                    <a:pt x="46" y="63"/>
                    <a:pt x="63" y="47"/>
                    <a:pt x="80" y="31"/>
                  </a:cubicBezTo>
                  <a:cubicBezTo>
                    <a:pt x="91" y="21"/>
                    <a:pt x="102" y="10"/>
                    <a:pt x="112" y="0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89" y="7"/>
                    <a:pt x="81" y="15"/>
                    <a:pt x="72" y="23"/>
                  </a:cubicBezTo>
                  <a:cubicBezTo>
                    <a:pt x="55" y="39"/>
                    <a:pt x="38" y="54"/>
                    <a:pt x="23" y="72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83" name="Freeform 17"/>
            <p:cNvSpPr/>
            <p:nvPr/>
          </p:nvSpPr>
          <p:spPr>
            <a:xfrm>
              <a:off x="7107120" y="-1440"/>
              <a:ext cx="507600" cy="686232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0" h="2159">
                  <a:moveTo>
                    <a:pt x="26" y="72"/>
                  </a:moveTo>
                  <a:cubicBezTo>
                    <a:pt x="18" y="81"/>
                    <a:pt x="11" y="91"/>
                    <a:pt x="6" y="102"/>
                  </a:cubicBezTo>
                  <a:cubicBezTo>
                    <a:pt x="3" y="107"/>
                    <a:pt x="1" y="113"/>
                    <a:pt x="0" y="120"/>
                  </a:cubicBezTo>
                  <a:cubicBezTo>
                    <a:pt x="0" y="123"/>
                    <a:pt x="1" y="127"/>
                    <a:pt x="1" y="131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32"/>
                    <a:pt x="1" y="133"/>
                    <a:pt x="1" y="135"/>
                  </a:cubicBezTo>
                  <a:cubicBezTo>
                    <a:pt x="1" y="135"/>
                    <a:pt x="1" y="136"/>
                    <a:pt x="1" y="137"/>
                  </a:cubicBezTo>
                  <a:cubicBezTo>
                    <a:pt x="0" y="139"/>
                    <a:pt x="0" y="141"/>
                    <a:pt x="0" y="143"/>
                  </a:cubicBezTo>
                  <a:cubicBezTo>
                    <a:pt x="1" y="152"/>
                    <a:pt x="5" y="161"/>
                    <a:pt x="9" y="170"/>
                  </a:cubicBezTo>
                  <a:cubicBezTo>
                    <a:pt x="14" y="180"/>
                    <a:pt x="21" y="190"/>
                    <a:pt x="29" y="198"/>
                  </a:cubicBezTo>
                  <a:cubicBezTo>
                    <a:pt x="32" y="202"/>
                    <a:pt x="35" y="206"/>
                    <a:pt x="38" y="209"/>
                  </a:cubicBezTo>
                  <a:cubicBezTo>
                    <a:pt x="47" y="219"/>
                    <a:pt x="56" y="228"/>
                    <a:pt x="65" y="237"/>
                  </a:cubicBezTo>
                  <a:cubicBezTo>
                    <a:pt x="81" y="254"/>
                    <a:pt x="98" y="269"/>
                    <a:pt x="114" y="286"/>
                  </a:cubicBezTo>
                  <a:cubicBezTo>
                    <a:pt x="119" y="291"/>
                    <a:pt x="123" y="297"/>
                    <a:pt x="128" y="302"/>
                  </a:cubicBezTo>
                  <a:cubicBezTo>
                    <a:pt x="133" y="311"/>
                    <a:pt x="138" y="320"/>
                    <a:pt x="141" y="329"/>
                  </a:cubicBezTo>
                  <a:cubicBezTo>
                    <a:pt x="145" y="340"/>
                    <a:pt x="146" y="352"/>
                    <a:pt x="145" y="363"/>
                  </a:cubicBezTo>
                  <a:cubicBezTo>
                    <a:pt x="144" y="372"/>
                    <a:pt x="142" y="380"/>
                    <a:pt x="139" y="388"/>
                  </a:cubicBezTo>
                  <a:cubicBezTo>
                    <a:pt x="134" y="395"/>
                    <a:pt x="130" y="401"/>
                    <a:pt x="124" y="407"/>
                  </a:cubicBezTo>
                  <a:cubicBezTo>
                    <a:pt x="109" y="424"/>
                    <a:pt x="92" y="440"/>
                    <a:pt x="75" y="455"/>
                  </a:cubicBezTo>
                  <a:cubicBezTo>
                    <a:pt x="58" y="471"/>
                    <a:pt x="40" y="487"/>
                    <a:pt x="26" y="505"/>
                  </a:cubicBezTo>
                  <a:cubicBezTo>
                    <a:pt x="18" y="514"/>
                    <a:pt x="11" y="524"/>
                    <a:pt x="6" y="534"/>
                  </a:cubicBezTo>
                  <a:cubicBezTo>
                    <a:pt x="3" y="540"/>
                    <a:pt x="1" y="546"/>
                    <a:pt x="0" y="553"/>
                  </a:cubicBezTo>
                  <a:cubicBezTo>
                    <a:pt x="0" y="556"/>
                    <a:pt x="1" y="560"/>
                    <a:pt x="1" y="564"/>
                  </a:cubicBezTo>
                  <a:cubicBezTo>
                    <a:pt x="0" y="564"/>
                    <a:pt x="0" y="564"/>
                    <a:pt x="0" y="564"/>
                  </a:cubicBezTo>
                  <a:cubicBezTo>
                    <a:pt x="0" y="565"/>
                    <a:pt x="1" y="566"/>
                    <a:pt x="1" y="567"/>
                  </a:cubicBezTo>
                  <a:cubicBezTo>
                    <a:pt x="1" y="568"/>
                    <a:pt x="1" y="569"/>
                    <a:pt x="1" y="570"/>
                  </a:cubicBezTo>
                  <a:cubicBezTo>
                    <a:pt x="0" y="572"/>
                    <a:pt x="0" y="574"/>
                    <a:pt x="0" y="576"/>
                  </a:cubicBezTo>
                  <a:cubicBezTo>
                    <a:pt x="1" y="585"/>
                    <a:pt x="5" y="594"/>
                    <a:pt x="9" y="602"/>
                  </a:cubicBezTo>
                  <a:cubicBezTo>
                    <a:pt x="14" y="613"/>
                    <a:pt x="21" y="622"/>
                    <a:pt x="29" y="631"/>
                  </a:cubicBezTo>
                  <a:cubicBezTo>
                    <a:pt x="32" y="635"/>
                    <a:pt x="35" y="638"/>
                    <a:pt x="38" y="642"/>
                  </a:cubicBezTo>
                  <a:cubicBezTo>
                    <a:pt x="47" y="652"/>
                    <a:pt x="56" y="661"/>
                    <a:pt x="65" y="670"/>
                  </a:cubicBezTo>
                  <a:cubicBezTo>
                    <a:pt x="81" y="686"/>
                    <a:pt x="98" y="702"/>
                    <a:pt x="114" y="719"/>
                  </a:cubicBezTo>
                  <a:cubicBezTo>
                    <a:pt x="119" y="724"/>
                    <a:pt x="123" y="730"/>
                    <a:pt x="128" y="735"/>
                  </a:cubicBezTo>
                  <a:cubicBezTo>
                    <a:pt x="133" y="744"/>
                    <a:pt x="138" y="753"/>
                    <a:pt x="141" y="762"/>
                  </a:cubicBezTo>
                  <a:cubicBezTo>
                    <a:pt x="145" y="773"/>
                    <a:pt x="146" y="785"/>
                    <a:pt x="145" y="796"/>
                  </a:cubicBezTo>
                  <a:cubicBezTo>
                    <a:pt x="144" y="805"/>
                    <a:pt x="142" y="813"/>
                    <a:pt x="139" y="821"/>
                  </a:cubicBezTo>
                  <a:cubicBezTo>
                    <a:pt x="134" y="827"/>
                    <a:pt x="130" y="834"/>
                    <a:pt x="124" y="840"/>
                  </a:cubicBezTo>
                  <a:cubicBezTo>
                    <a:pt x="109" y="857"/>
                    <a:pt x="92" y="872"/>
                    <a:pt x="75" y="888"/>
                  </a:cubicBezTo>
                  <a:cubicBezTo>
                    <a:pt x="58" y="904"/>
                    <a:pt x="40" y="920"/>
                    <a:pt x="26" y="938"/>
                  </a:cubicBezTo>
                  <a:cubicBezTo>
                    <a:pt x="18" y="947"/>
                    <a:pt x="11" y="957"/>
                    <a:pt x="6" y="967"/>
                  </a:cubicBezTo>
                  <a:cubicBezTo>
                    <a:pt x="3" y="973"/>
                    <a:pt x="1" y="979"/>
                    <a:pt x="0" y="985"/>
                  </a:cubicBezTo>
                  <a:cubicBezTo>
                    <a:pt x="0" y="988"/>
                    <a:pt x="1" y="990"/>
                    <a:pt x="1" y="993"/>
                  </a:cubicBezTo>
                  <a:cubicBezTo>
                    <a:pt x="0" y="993"/>
                    <a:pt x="0" y="993"/>
                    <a:pt x="0" y="993"/>
                  </a:cubicBezTo>
                  <a:cubicBezTo>
                    <a:pt x="0" y="994"/>
                    <a:pt x="1" y="996"/>
                    <a:pt x="1" y="998"/>
                  </a:cubicBezTo>
                  <a:cubicBezTo>
                    <a:pt x="1" y="999"/>
                    <a:pt x="1" y="1001"/>
                    <a:pt x="1" y="1002"/>
                  </a:cubicBezTo>
                  <a:cubicBezTo>
                    <a:pt x="0" y="1004"/>
                    <a:pt x="0" y="1007"/>
                    <a:pt x="0" y="1009"/>
                  </a:cubicBezTo>
                  <a:cubicBezTo>
                    <a:pt x="1" y="1018"/>
                    <a:pt x="5" y="1027"/>
                    <a:pt x="9" y="1035"/>
                  </a:cubicBezTo>
                  <a:cubicBezTo>
                    <a:pt x="14" y="1046"/>
                    <a:pt x="21" y="1055"/>
                    <a:pt x="29" y="1064"/>
                  </a:cubicBezTo>
                  <a:cubicBezTo>
                    <a:pt x="44" y="1082"/>
                    <a:pt x="61" y="1098"/>
                    <a:pt x="78" y="1113"/>
                  </a:cubicBezTo>
                  <a:cubicBezTo>
                    <a:pt x="95" y="1129"/>
                    <a:pt x="112" y="1146"/>
                    <a:pt x="125" y="1164"/>
                  </a:cubicBezTo>
                  <a:cubicBezTo>
                    <a:pt x="132" y="1174"/>
                    <a:pt x="138" y="1184"/>
                    <a:pt x="141" y="1195"/>
                  </a:cubicBezTo>
                  <a:cubicBezTo>
                    <a:pt x="145" y="1206"/>
                    <a:pt x="146" y="1218"/>
                    <a:pt x="145" y="1229"/>
                  </a:cubicBezTo>
                  <a:cubicBezTo>
                    <a:pt x="145" y="1234"/>
                    <a:pt x="144" y="1239"/>
                    <a:pt x="142" y="1244"/>
                  </a:cubicBezTo>
                  <a:cubicBezTo>
                    <a:pt x="137" y="1253"/>
                    <a:pt x="131" y="1261"/>
                    <a:pt x="124" y="1269"/>
                  </a:cubicBezTo>
                  <a:cubicBezTo>
                    <a:pt x="109" y="1286"/>
                    <a:pt x="92" y="1302"/>
                    <a:pt x="75" y="1318"/>
                  </a:cubicBezTo>
                  <a:cubicBezTo>
                    <a:pt x="58" y="1333"/>
                    <a:pt x="40" y="1349"/>
                    <a:pt x="26" y="1367"/>
                  </a:cubicBezTo>
                  <a:cubicBezTo>
                    <a:pt x="18" y="1376"/>
                    <a:pt x="11" y="1386"/>
                    <a:pt x="6" y="1396"/>
                  </a:cubicBezTo>
                  <a:cubicBezTo>
                    <a:pt x="3" y="1402"/>
                    <a:pt x="1" y="1408"/>
                    <a:pt x="0" y="1415"/>
                  </a:cubicBezTo>
                  <a:cubicBezTo>
                    <a:pt x="0" y="1418"/>
                    <a:pt x="1" y="1421"/>
                    <a:pt x="1" y="1425"/>
                  </a:cubicBezTo>
                  <a:cubicBezTo>
                    <a:pt x="0" y="1425"/>
                    <a:pt x="0" y="1425"/>
                    <a:pt x="0" y="1425"/>
                  </a:cubicBezTo>
                  <a:cubicBezTo>
                    <a:pt x="0" y="1426"/>
                    <a:pt x="1" y="1427"/>
                    <a:pt x="1" y="1429"/>
                  </a:cubicBezTo>
                  <a:cubicBezTo>
                    <a:pt x="1" y="1430"/>
                    <a:pt x="1" y="1431"/>
                    <a:pt x="1" y="1432"/>
                  </a:cubicBezTo>
                  <a:cubicBezTo>
                    <a:pt x="0" y="1434"/>
                    <a:pt x="0" y="1436"/>
                    <a:pt x="0" y="1438"/>
                  </a:cubicBezTo>
                  <a:cubicBezTo>
                    <a:pt x="1" y="1447"/>
                    <a:pt x="5" y="1456"/>
                    <a:pt x="9" y="1464"/>
                  </a:cubicBezTo>
                  <a:cubicBezTo>
                    <a:pt x="14" y="1475"/>
                    <a:pt x="21" y="1484"/>
                    <a:pt x="29" y="1493"/>
                  </a:cubicBezTo>
                  <a:cubicBezTo>
                    <a:pt x="36" y="1502"/>
                    <a:pt x="44" y="1510"/>
                    <a:pt x="51" y="1518"/>
                  </a:cubicBezTo>
                  <a:cubicBezTo>
                    <a:pt x="56" y="1522"/>
                    <a:pt x="60" y="1527"/>
                    <a:pt x="65" y="1531"/>
                  </a:cubicBezTo>
                  <a:cubicBezTo>
                    <a:pt x="81" y="1547"/>
                    <a:pt x="98" y="1563"/>
                    <a:pt x="114" y="1580"/>
                  </a:cubicBezTo>
                  <a:cubicBezTo>
                    <a:pt x="116" y="1582"/>
                    <a:pt x="118" y="1584"/>
                    <a:pt x="119" y="1586"/>
                  </a:cubicBezTo>
                  <a:cubicBezTo>
                    <a:pt x="121" y="1589"/>
                    <a:pt x="123" y="1591"/>
                    <a:pt x="125" y="1594"/>
                  </a:cubicBezTo>
                  <a:cubicBezTo>
                    <a:pt x="132" y="1603"/>
                    <a:pt x="138" y="1613"/>
                    <a:pt x="141" y="1624"/>
                  </a:cubicBezTo>
                  <a:cubicBezTo>
                    <a:pt x="145" y="1635"/>
                    <a:pt x="146" y="1647"/>
                    <a:pt x="145" y="1658"/>
                  </a:cubicBezTo>
                  <a:cubicBezTo>
                    <a:pt x="145" y="1666"/>
                    <a:pt x="143" y="1673"/>
                    <a:pt x="140" y="1680"/>
                  </a:cubicBezTo>
                  <a:cubicBezTo>
                    <a:pt x="136" y="1687"/>
                    <a:pt x="130" y="1694"/>
                    <a:pt x="124" y="1701"/>
                  </a:cubicBezTo>
                  <a:cubicBezTo>
                    <a:pt x="109" y="1718"/>
                    <a:pt x="92" y="1733"/>
                    <a:pt x="75" y="1749"/>
                  </a:cubicBezTo>
                  <a:cubicBezTo>
                    <a:pt x="58" y="1765"/>
                    <a:pt x="40" y="1781"/>
                    <a:pt x="26" y="1799"/>
                  </a:cubicBezTo>
                  <a:cubicBezTo>
                    <a:pt x="18" y="1808"/>
                    <a:pt x="11" y="1818"/>
                    <a:pt x="6" y="1828"/>
                  </a:cubicBezTo>
                  <a:cubicBezTo>
                    <a:pt x="3" y="1834"/>
                    <a:pt x="1" y="1840"/>
                    <a:pt x="0" y="1846"/>
                  </a:cubicBezTo>
                  <a:cubicBezTo>
                    <a:pt x="0" y="1849"/>
                    <a:pt x="1" y="1852"/>
                    <a:pt x="1" y="1855"/>
                  </a:cubicBezTo>
                  <a:cubicBezTo>
                    <a:pt x="0" y="1855"/>
                    <a:pt x="0" y="1855"/>
                    <a:pt x="0" y="1855"/>
                  </a:cubicBezTo>
                  <a:cubicBezTo>
                    <a:pt x="0" y="1856"/>
                    <a:pt x="1" y="1858"/>
                    <a:pt x="1" y="1859"/>
                  </a:cubicBezTo>
                  <a:cubicBezTo>
                    <a:pt x="1" y="1861"/>
                    <a:pt x="1" y="1862"/>
                    <a:pt x="1" y="1863"/>
                  </a:cubicBezTo>
                  <a:cubicBezTo>
                    <a:pt x="0" y="1865"/>
                    <a:pt x="0" y="1867"/>
                    <a:pt x="0" y="1870"/>
                  </a:cubicBezTo>
                  <a:cubicBezTo>
                    <a:pt x="1" y="1879"/>
                    <a:pt x="5" y="1888"/>
                    <a:pt x="9" y="1896"/>
                  </a:cubicBezTo>
                  <a:cubicBezTo>
                    <a:pt x="14" y="1907"/>
                    <a:pt x="21" y="1916"/>
                    <a:pt x="29" y="1925"/>
                  </a:cubicBezTo>
                  <a:cubicBezTo>
                    <a:pt x="44" y="1943"/>
                    <a:pt x="61" y="1958"/>
                    <a:pt x="78" y="1974"/>
                  </a:cubicBezTo>
                  <a:cubicBezTo>
                    <a:pt x="78" y="1975"/>
                    <a:pt x="79" y="1975"/>
                    <a:pt x="79" y="1975"/>
                  </a:cubicBezTo>
                  <a:cubicBezTo>
                    <a:pt x="86" y="1982"/>
                    <a:pt x="93" y="1988"/>
                    <a:pt x="99" y="1995"/>
                  </a:cubicBezTo>
                  <a:cubicBezTo>
                    <a:pt x="109" y="2005"/>
                    <a:pt x="118" y="2014"/>
                    <a:pt x="125" y="2025"/>
                  </a:cubicBezTo>
                  <a:cubicBezTo>
                    <a:pt x="132" y="2035"/>
                    <a:pt x="138" y="2045"/>
                    <a:pt x="141" y="2056"/>
                  </a:cubicBezTo>
                  <a:cubicBezTo>
                    <a:pt x="145" y="2067"/>
                    <a:pt x="146" y="2078"/>
                    <a:pt x="145" y="2090"/>
                  </a:cubicBezTo>
                  <a:cubicBezTo>
                    <a:pt x="145" y="2096"/>
                    <a:pt x="143" y="2102"/>
                    <a:pt x="141" y="2108"/>
                  </a:cubicBezTo>
                  <a:cubicBezTo>
                    <a:pt x="137" y="2116"/>
                    <a:pt x="131" y="2124"/>
                    <a:pt x="124" y="2131"/>
                  </a:cubicBezTo>
                  <a:cubicBezTo>
                    <a:pt x="116" y="2141"/>
                    <a:pt x="106" y="2150"/>
                    <a:pt x="97" y="2159"/>
                  </a:cubicBezTo>
                  <a:cubicBezTo>
                    <a:pt x="112" y="2159"/>
                    <a:pt x="112" y="2159"/>
                    <a:pt x="112" y="2159"/>
                  </a:cubicBezTo>
                  <a:cubicBezTo>
                    <a:pt x="119" y="2152"/>
                    <a:pt x="126" y="2145"/>
                    <a:pt x="132" y="2138"/>
                  </a:cubicBezTo>
                  <a:cubicBezTo>
                    <a:pt x="137" y="2133"/>
                    <a:pt x="141" y="2128"/>
                    <a:pt x="145" y="2122"/>
                  </a:cubicBezTo>
                  <a:cubicBezTo>
                    <a:pt x="145" y="2122"/>
                    <a:pt x="145" y="2122"/>
                    <a:pt x="145" y="2122"/>
                  </a:cubicBezTo>
                  <a:cubicBezTo>
                    <a:pt x="145" y="2122"/>
                    <a:pt x="145" y="2121"/>
                    <a:pt x="146" y="2120"/>
                  </a:cubicBezTo>
                  <a:cubicBezTo>
                    <a:pt x="148" y="2116"/>
                    <a:pt x="151" y="2112"/>
                    <a:pt x="153" y="2107"/>
                  </a:cubicBezTo>
                  <a:cubicBezTo>
                    <a:pt x="156" y="2101"/>
                    <a:pt x="158" y="2095"/>
                    <a:pt x="159" y="2088"/>
                  </a:cubicBezTo>
                  <a:cubicBezTo>
                    <a:pt x="160" y="2080"/>
                    <a:pt x="159" y="2074"/>
                    <a:pt x="158" y="2068"/>
                  </a:cubicBezTo>
                  <a:cubicBezTo>
                    <a:pt x="155" y="2055"/>
                    <a:pt x="150" y="2043"/>
                    <a:pt x="143" y="2033"/>
                  </a:cubicBezTo>
                  <a:cubicBezTo>
                    <a:pt x="142" y="2032"/>
                    <a:pt x="141" y="2030"/>
                    <a:pt x="140" y="2029"/>
                  </a:cubicBezTo>
                  <a:cubicBezTo>
                    <a:pt x="138" y="2026"/>
                    <a:pt x="136" y="2022"/>
                    <a:pt x="134" y="2019"/>
                  </a:cubicBezTo>
                  <a:cubicBezTo>
                    <a:pt x="120" y="1999"/>
                    <a:pt x="103" y="1982"/>
                    <a:pt x="86" y="1966"/>
                  </a:cubicBezTo>
                  <a:cubicBezTo>
                    <a:pt x="69" y="1950"/>
                    <a:pt x="52" y="1935"/>
                    <a:pt x="38" y="1917"/>
                  </a:cubicBezTo>
                  <a:cubicBezTo>
                    <a:pt x="24" y="1901"/>
                    <a:pt x="12" y="1881"/>
                    <a:pt x="11" y="1861"/>
                  </a:cubicBezTo>
                  <a:cubicBezTo>
                    <a:pt x="10" y="1852"/>
                    <a:pt x="12" y="1843"/>
                    <a:pt x="17" y="1833"/>
                  </a:cubicBezTo>
                  <a:cubicBezTo>
                    <a:pt x="21" y="1824"/>
                    <a:pt x="28" y="1815"/>
                    <a:pt x="35" y="1806"/>
                  </a:cubicBezTo>
                  <a:cubicBezTo>
                    <a:pt x="49" y="1789"/>
                    <a:pt x="65" y="1773"/>
                    <a:pt x="82" y="1757"/>
                  </a:cubicBezTo>
                  <a:cubicBezTo>
                    <a:pt x="99" y="1741"/>
                    <a:pt x="116" y="1726"/>
                    <a:pt x="132" y="1708"/>
                  </a:cubicBezTo>
                  <a:cubicBezTo>
                    <a:pt x="140" y="1698"/>
                    <a:pt x="148" y="1689"/>
                    <a:pt x="153" y="1677"/>
                  </a:cubicBezTo>
                  <a:cubicBezTo>
                    <a:pt x="156" y="1671"/>
                    <a:pt x="158" y="1664"/>
                    <a:pt x="159" y="1657"/>
                  </a:cubicBezTo>
                  <a:cubicBezTo>
                    <a:pt x="160" y="1650"/>
                    <a:pt x="159" y="1644"/>
                    <a:pt x="158" y="1637"/>
                  </a:cubicBezTo>
                  <a:cubicBezTo>
                    <a:pt x="155" y="1625"/>
                    <a:pt x="150" y="1614"/>
                    <a:pt x="144" y="1605"/>
                  </a:cubicBezTo>
                  <a:cubicBezTo>
                    <a:pt x="141" y="1599"/>
                    <a:pt x="138" y="1593"/>
                    <a:pt x="134" y="1588"/>
                  </a:cubicBezTo>
                  <a:cubicBezTo>
                    <a:pt x="120" y="1567"/>
                    <a:pt x="103" y="1551"/>
                    <a:pt x="86" y="1535"/>
                  </a:cubicBezTo>
                  <a:cubicBezTo>
                    <a:pt x="69" y="1519"/>
                    <a:pt x="52" y="1503"/>
                    <a:pt x="38" y="1486"/>
                  </a:cubicBezTo>
                  <a:cubicBezTo>
                    <a:pt x="24" y="1469"/>
                    <a:pt x="12" y="1450"/>
                    <a:pt x="11" y="1430"/>
                  </a:cubicBezTo>
                  <a:cubicBezTo>
                    <a:pt x="10" y="1421"/>
                    <a:pt x="12" y="1411"/>
                    <a:pt x="17" y="1402"/>
                  </a:cubicBezTo>
                  <a:cubicBezTo>
                    <a:pt x="21" y="1392"/>
                    <a:pt x="28" y="1383"/>
                    <a:pt x="35" y="1375"/>
                  </a:cubicBezTo>
                  <a:cubicBezTo>
                    <a:pt x="49" y="1357"/>
                    <a:pt x="65" y="1342"/>
                    <a:pt x="82" y="1326"/>
                  </a:cubicBezTo>
                  <a:cubicBezTo>
                    <a:pt x="99" y="1310"/>
                    <a:pt x="116" y="1294"/>
                    <a:pt x="132" y="1276"/>
                  </a:cubicBezTo>
                  <a:cubicBezTo>
                    <a:pt x="136" y="1271"/>
                    <a:pt x="140" y="1266"/>
                    <a:pt x="144" y="1261"/>
                  </a:cubicBezTo>
                  <a:cubicBezTo>
                    <a:pt x="145" y="1261"/>
                    <a:pt x="145" y="1261"/>
                    <a:pt x="145" y="1261"/>
                  </a:cubicBezTo>
                  <a:cubicBezTo>
                    <a:pt x="146" y="1259"/>
                    <a:pt x="147" y="1258"/>
                    <a:pt x="148" y="1256"/>
                  </a:cubicBezTo>
                  <a:cubicBezTo>
                    <a:pt x="150" y="1252"/>
                    <a:pt x="152" y="1249"/>
                    <a:pt x="153" y="1245"/>
                  </a:cubicBezTo>
                  <a:cubicBezTo>
                    <a:pt x="156" y="1239"/>
                    <a:pt x="158" y="1233"/>
                    <a:pt x="159" y="1226"/>
                  </a:cubicBezTo>
                  <a:cubicBezTo>
                    <a:pt x="160" y="1218"/>
                    <a:pt x="159" y="1212"/>
                    <a:pt x="158" y="1206"/>
                  </a:cubicBezTo>
                  <a:cubicBezTo>
                    <a:pt x="155" y="1193"/>
                    <a:pt x="150" y="1181"/>
                    <a:pt x="143" y="1171"/>
                  </a:cubicBezTo>
                  <a:cubicBezTo>
                    <a:pt x="141" y="1168"/>
                    <a:pt x="138" y="1164"/>
                    <a:pt x="136" y="1161"/>
                  </a:cubicBezTo>
                  <a:cubicBezTo>
                    <a:pt x="135" y="1160"/>
                    <a:pt x="134" y="1159"/>
                    <a:pt x="134" y="1158"/>
                  </a:cubicBezTo>
                  <a:cubicBezTo>
                    <a:pt x="120" y="1138"/>
                    <a:pt x="103" y="1122"/>
                    <a:pt x="86" y="1105"/>
                  </a:cubicBezTo>
                  <a:cubicBezTo>
                    <a:pt x="69" y="1089"/>
                    <a:pt x="52" y="1074"/>
                    <a:pt x="38" y="1057"/>
                  </a:cubicBezTo>
                  <a:cubicBezTo>
                    <a:pt x="24" y="1040"/>
                    <a:pt x="12" y="1020"/>
                    <a:pt x="11" y="1000"/>
                  </a:cubicBezTo>
                  <a:cubicBezTo>
                    <a:pt x="10" y="991"/>
                    <a:pt x="12" y="982"/>
                    <a:pt x="17" y="972"/>
                  </a:cubicBezTo>
                  <a:cubicBezTo>
                    <a:pt x="21" y="963"/>
                    <a:pt x="28" y="954"/>
                    <a:pt x="35" y="945"/>
                  </a:cubicBezTo>
                  <a:cubicBezTo>
                    <a:pt x="49" y="928"/>
                    <a:pt x="65" y="912"/>
                    <a:pt x="82" y="896"/>
                  </a:cubicBezTo>
                  <a:cubicBezTo>
                    <a:pt x="99" y="880"/>
                    <a:pt x="116" y="865"/>
                    <a:pt x="132" y="847"/>
                  </a:cubicBezTo>
                  <a:cubicBezTo>
                    <a:pt x="140" y="837"/>
                    <a:pt x="148" y="828"/>
                    <a:pt x="153" y="816"/>
                  </a:cubicBezTo>
                  <a:cubicBezTo>
                    <a:pt x="156" y="810"/>
                    <a:pt x="158" y="803"/>
                    <a:pt x="159" y="796"/>
                  </a:cubicBezTo>
                  <a:cubicBezTo>
                    <a:pt x="160" y="789"/>
                    <a:pt x="159" y="783"/>
                    <a:pt x="158" y="776"/>
                  </a:cubicBezTo>
                  <a:cubicBezTo>
                    <a:pt x="156" y="766"/>
                    <a:pt x="152" y="756"/>
                    <a:pt x="147" y="748"/>
                  </a:cubicBezTo>
                  <a:cubicBezTo>
                    <a:pt x="143" y="740"/>
                    <a:pt x="139" y="732"/>
                    <a:pt x="134" y="726"/>
                  </a:cubicBezTo>
                  <a:cubicBezTo>
                    <a:pt x="120" y="705"/>
                    <a:pt x="103" y="689"/>
                    <a:pt x="86" y="673"/>
                  </a:cubicBezTo>
                  <a:cubicBezTo>
                    <a:pt x="69" y="656"/>
                    <a:pt x="52" y="641"/>
                    <a:pt x="38" y="624"/>
                  </a:cubicBezTo>
                  <a:cubicBezTo>
                    <a:pt x="24" y="607"/>
                    <a:pt x="12" y="588"/>
                    <a:pt x="11" y="568"/>
                  </a:cubicBezTo>
                  <a:cubicBezTo>
                    <a:pt x="10" y="558"/>
                    <a:pt x="12" y="549"/>
                    <a:pt x="17" y="540"/>
                  </a:cubicBezTo>
                  <a:cubicBezTo>
                    <a:pt x="21" y="530"/>
                    <a:pt x="28" y="521"/>
                    <a:pt x="35" y="513"/>
                  </a:cubicBezTo>
                  <a:cubicBezTo>
                    <a:pt x="49" y="495"/>
                    <a:pt x="65" y="480"/>
                    <a:pt x="82" y="464"/>
                  </a:cubicBezTo>
                  <a:cubicBezTo>
                    <a:pt x="99" y="448"/>
                    <a:pt x="116" y="432"/>
                    <a:pt x="132" y="414"/>
                  </a:cubicBezTo>
                  <a:cubicBezTo>
                    <a:pt x="140" y="405"/>
                    <a:pt x="148" y="395"/>
                    <a:pt x="153" y="383"/>
                  </a:cubicBezTo>
                  <a:cubicBezTo>
                    <a:pt x="156" y="377"/>
                    <a:pt x="158" y="371"/>
                    <a:pt x="159" y="364"/>
                  </a:cubicBezTo>
                  <a:cubicBezTo>
                    <a:pt x="160" y="356"/>
                    <a:pt x="159" y="350"/>
                    <a:pt x="158" y="344"/>
                  </a:cubicBezTo>
                  <a:cubicBezTo>
                    <a:pt x="156" y="333"/>
                    <a:pt x="152" y="324"/>
                    <a:pt x="147" y="315"/>
                  </a:cubicBezTo>
                  <a:cubicBezTo>
                    <a:pt x="143" y="307"/>
                    <a:pt x="139" y="300"/>
                    <a:pt x="134" y="293"/>
                  </a:cubicBezTo>
                  <a:cubicBezTo>
                    <a:pt x="120" y="273"/>
                    <a:pt x="103" y="256"/>
                    <a:pt x="86" y="240"/>
                  </a:cubicBezTo>
                  <a:cubicBezTo>
                    <a:pt x="69" y="224"/>
                    <a:pt x="52" y="208"/>
                    <a:pt x="38" y="191"/>
                  </a:cubicBezTo>
                  <a:cubicBezTo>
                    <a:pt x="24" y="174"/>
                    <a:pt x="12" y="155"/>
                    <a:pt x="11" y="135"/>
                  </a:cubicBezTo>
                  <a:cubicBezTo>
                    <a:pt x="10" y="126"/>
                    <a:pt x="12" y="116"/>
                    <a:pt x="17" y="107"/>
                  </a:cubicBezTo>
                  <a:cubicBezTo>
                    <a:pt x="21" y="97"/>
                    <a:pt x="28" y="88"/>
                    <a:pt x="35" y="80"/>
                  </a:cubicBezTo>
                  <a:cubicBezTo>
                    <a:pt x="49" y="63"/>
                    <a:pt x="65" y="47"/>
                    <a:pt x="82" y="31"/>
                  </a:cubicBezTo>
                  <a:cubicBezTo>
                    <a:pt x="93" y="21"/>
                    <a:pt x="104" y="10"/>
                    <a:pt x="114" y="0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91" y="7"/>
                    <a:pt x="83" y="15"/>
                    <a:pt x="75" y="23"/>
                  </a:cubicBezTo>
                  <a:cubicBezTo>
                    <a:pt x="58" y="39"/>
                    <a:pt x="40" y="54"/>
                    <a:pt x="26" y="72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84" name="Freeform 18"/>
            <p:cNvSpPr/>
            <p:nvPr/>
          </p:nvSpPr>
          <p:spPr>
            <a:xfrm>
              <a:off x="10665000" y="-1440"/>
              <a:ext cx="1026720" cy="6862320"/>
            </a:xfrm>
            <a:custGeom>
              <a:avLst/>
              <a:gdLst>
                <a:gd name="textAreaLeft" fmla="*/ 0 w 1026720"/>
                <a:gd name="textAreaRight" fmla="*/ 1027080 w 102672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323" h="2159">
                  <a:moveTo>
                    <a:pt x="125" y="74"/>
                  </a:moveTo>
                  <a:cubicBezTo>
                    <a:pt x="132" y="83"/>
                    <a:pt x="139" y="92"/>
                    <a:pt x="144" y="103"/>
                  </a:cubicBezTo>
                  <a:cubicBezTo>
                    <a:pt x="148" y="111"/>
                    <a:pt x="151" y="121"/>
                    <a:pt x="151" y="131"/>
                  </a:cubicBezTo>
                  <a:cubicBezTo>
                    <a:pt x="151" y="131"/>
                    <a:pt x="151" y="131"/>
                    <a:pt x="151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2" y="197"/>
                    <a:pt x="121" y="197"/>
                  </a:cubicBezTo>
                  <a:cubicBezTo>
                    <a:pt x="107" y="215"/>
                    <a:pt x="89" y="230"/>
                    <a:pt x="72" y="246"/>
                  </a:cubicBezTo>
                  <a:cubicBezTo>
                    <a:pt x="56" y="262"/>
                    <a:pt x="39" y="279"/>
                    <a:pt x="25" y="298"/>
                  </a:cubicBezTo>
                  <a:cubicBezTo>
                    <a:pt x="24" y="300"/>
                    <a:pt x="22" y="302"/>
                    <a:pt x="21" y="305"/>
                  </a:cubicBezTo>
                  <a:cubicBezTo>
                    <a:pt x="19" y="307"/>
                    <a:pt x="17" y="310"/>
                    <a:pt x="15" y="313"/>
                  </a:cubicBezTo>
                  <a:cubicBezTo>
                    <a:pt x="9" y="322"/>
                    <a:pt x="4" y="333"/>
                    <a:pt x="2" y="345"/>
                  </a:cubicBezTo>
                  <a:cubicBezTo>
                    <a:pt x="1" y="351"/>
                    <a:pt x="0" y="357"/>
                    <a:pt x="1" y="363"/>
                  </a:cubicBezTo>
                  <a:cubicBezTo>
                    <a:pt x="2" y="369"/>
                    <a:pt x="3" y="374"/>
                    <a:pt x="6" y="379"/>
                  </a:cubicBezTo>
                  <a:cubicBezTo>
                    <a:pt x="8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3" y="404"/>
                    <a:pt x="26" y="408"/>
                  </a:cubicBezTo>
                  <a:cubicBezTo>
                    <a:pt x="42" y="426"/>
                    <a:pt x="59" y="441"/>
                    <a:pt x="76" y="457"/>
                  </a:cubicBezTo>
                  <a:cubicBezTo>
                    <a:pt x="93" y="473"/>
                    <a:pt x="110" y="489"/>
                    <a:pt x="125" y="507"/>
                  </a:cubicBezTo>
                  <a:cubicBezTo>
                    <a:pt x="132" y="516"/>
                    <a:pt x="139" y="525"/>
                    <a:pt x="144" y="535"/>
                  </a:cubicBezTo>
                  <a:cubicBezTo>
                    <a:pt x="148" y="544"/>
                    <a:pt x="151" y="554"/>
                    <a:pt x="151" y="564"/>
                  </a:cubicBezTo>
                  <a:cubicBezTo>
                    <a:pt x="151" y="564"/>
                    <a:pt x="151" y="564"/>
                    <a:pt x="151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5"/>
                    <a:pt x="122" y="629"/>
                  </a:cubicBezTo>
                  <a:cubicBezTo>
                    <a:pt x="122" y="629"/>
                    <a:pt x="122" y="629"/>
                    <a:pt x="121" y="630"/>
                  </a:cubicBezTo>
                  <a:cubicBezTo>
                    <a:pt x="107" y="648"/>
                    <a:pt x="89" y="663"/>
                    <a:pt x="72" y="679"/>
                  </a:cubicBezTo>
                  <a:cubicBezTo>
                    <a:pt x="56" y="695"/>
                    <a:pt x="39" y="711"/>
                    <a:pt x="25" y="730"/>
                  </a:cubicBezTo>
                  <a:cubicBezTo>
                    <a:pt x="24" y="733"/>
                    <a:pt x="22" y="735"/>
                    <a:pt x="21" y="737"/>
                  </a:cubicBezTo>
                  <a:cubicBezTo>
                    <a:pt x="19" y="740"/>
                    <a:pt x="17" y="743"/>
                    <a:pt x="15" y="745"/>
                  </a:cubicBezTo>
                  <a:cubicBezTo>
                    <a:pt x="9" y="755"/>
                    <a:pt x="4" y="766"/>
                    <a:pt x="2" y="778"/>
                  </a:cubicBezTo>
                  <a:cubicBezTo>
                    <a:pt x="1" y="784"/>
                    <a:pt x="0" y="789"/>
                    <a:pt x="1" y="795"/>
                  </a:cubicBezTo>
                  <a:cubicBezTo>
                    <a:pt x="2" y="801"/>
                    <a:pt x="3" y="807"/>
                    <a:pt x="6" y="812"/>
                  </a:cubicBezTo>
                  <a:cubicBezTo>
                    <a:pt x="8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3" y="837"/>
                    <a:pt x="26" y="841"/>
                  </a:cubicBezTo>
                  <a:cubicBezTo>
                    <a:pt x="42" y="858"/>
                    <a:pt x="59" y="874"/>
                    <a:pt x="76" y="890"/>
                  </a:cubicBezTo>
                  <a:cubicBezTo>
                    <a:pt x="93" y="906"/>
                    <a:pt x="110" y="922"/>
                    <a:pt x="125" y="939"/>
                  </a:cubicBezTo>
                  <a:cubicBezTo>
                    <a:pt x="132" y="948"/>
                    <a:pt x="139" y="958"/>
                    <a:pt x="144" y="968"/>
                  </a:cubicBezTo>
                  <a:cubicBezTo>
                    <a:pt x="147" y="976"/>
                    <a:pt x="150" y="984"/>
                    <a:pt x="151" y="993"/>
                  </a:cubicBezTo>
                  <a:cubicBezTo>
                    <a:pt x="151" y="993"/>
                    <a:pt x="151" y="993"/>
                    <a:pt x="151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9" y="1065"/>
                    <a:pt x="103" y="1082"/>
                    <a:pt x="86" y="1098"/>
                  </a:cubicBezTo>
                  <a:cubicBezTo>
                    <a:pt x="70" y="1114"/>
                    <a:pt x="52" y="1130"/>
                    <a:pt x="37" y="1147"/>
                  </a:cubicBezTo>
                  <a:cubicBezTo>
                    <a:pt x="29" y="1156"/>
                    <a:pt x="21" y="1165"/>
                    <a:pt x="15" y="1175"/>
                  </a:cubicBezTo>
                  <a:cubicBezTo>
                    <a:pt x="9" y="1185"/>
                    <a:pt x="4" y="1195"/>
                    <a:pt x="2" y="1207"/>
                  </a:cubicBezTo>
                  <a:cubicBezTo>
                    <a:pt x="1" y="1213"/>
                    <a:pt x="0" y="1219"/>
                    <a:pt x="1" y="1225"/>
                  </a:cubicBezTo>
                  <a:cubicBezTo>
                    <a:pt x="2" y="1231"/>
                    <a:pt x="3" y="1236"/>
                    <a:pt x="6" y="1242"/>
                  </a:cubicBezTo>
                  <a:cubicBezTo>
                    <a:pt x="7" y="1243"/>
                    <a:pt x="7" y="1244"/>
                    <a:pt x="8" y="1245"/>
                  </a:cubicBezTo>
                  <a:cubicBezTo>
                    <a:pt x="10" y="1251"/>
                    <a:pt x="12" y="1256"/>
                    <a:pt x="15" y="1261"/>
                  </a:cubicBezTo>
                  <a:cubicBezTo>
                    <a:pt x="19" y="1261"/>
                    <a:pt x="19" y="1261"/>
                    <a:pt x="19" y="1261"/>
                  </a:cubicBezTo>
                  <a:cubicBezTo>
                    <a:pt x="21" y="1264"/>
                    <a:pt x="24" y="1267"/>
                    <a:pt x="26" y="1270"/>
                  </a:cubicBezTo>
                  <a:cubicBezTo>
                    <a:pt x="42" y="1288"/>
                    <a:pt x="59" y="1303"/>
                    <a:pt x="76" y="1319"/>
                  </a:cubicBezTo>
                  <a:cubicBezTo>
                    <a:pt x="93" y="1335"/>
                    <a:pt x="110" y="1351"/>
                    <a:pt x="125" y="1369"/>
                  </a:cubicBezTo>
                  <a:cubicBezTo>
                    <a:pt x="132" y="1378"/>
                    <a:pt x="139" y="1387"/>
                    <a:pt x="144" y="1398"/>
                  </a:cubicBezTo>
                  <a:cubicBezTo>
                    <a:pt x="148" y="1406"/>
                    <a:pt x="151" y="1415"/>
                    <a:pt x="151" y="1425"/>
                  </a:cubicBezTo>
                  <a:cubicBezTo>
                    <a:pt x="151" y="1425"/>
                    <a:pt x="151" y="1425"/>
                    <a:pt x="151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6" y="1485"/>
                    <a:pt x="120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3" y="1595"/>
                    <a:pt x="19" y="1600"/>
                    <a:pt x="15" y="1606"/>
                  </a:cubicBezTo>
                  <a:cubicBezTo>
                    <a:pt x="9" y="1616"/>
                    <a:pt x="4" y="1627"/>
                    <a:pt x="2" y="1639"/>
                  </a:cubicBezTo>
                  <a:cubicBezTo>
                    <a:pt x="1" y="1644"/>
                    <a:pt x="0" y="1650"/>
                    <a:pt x="1" y="1656"/>
                  </a:cubicBezTo>
                  <a:cubicBezTo>
                    <a:pt x="2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1" y="1681"/>
                  </a:cubicBezTo>
                  <a:cubicBezTo>
                    <a:pt x="12" y="1685"/>
                    <a:pt x="13" y="1688"/>
                    <a:pt x="15" y="1691"/>
                  </a:cubicBezTo>
                  <a:cubicBezTo>
                    <a:pt x="17" y="1691"/>
                    <a:pt x="17" y="1691"/>
                    <a:pt x="17" y="1691"/>
                  </a:cubicBezTo>
                  <a:cubicBezTo>
                    <a:pt x="20" y="1694"/>
                    <a:pt x="23" y="1698"/>
                    <a:pt x="26" y="1702"/>
                  </a:cubicBezTo>
                  <a:cubicBezTo>
                    <a:pt x="42" y="1719"/>
                    <a:pt x="59" y="1735"/>
                    <a:pt x="76" y="1751"/>
                  </a:cubicBezTo>
                  <a:cubicBezTo>
                    <a:pt x="93" y="1767"/>
                    <a:pt x="110" y="1783"/>
                    <a:pt x="125" y="1800"/>
                  </a:cubicBezTo>
                  <a:cubicBezTo>
                    <a:pt x="132" y="1809"/>
                    <a:pt x="139" y="1819"/>
                    <a:pt x="144" y="1829"/>
                  </a:cubicBezTo>
                  <a:cubicBezTo>
                    <a:pt x="148" y="1837"/>
                    <a:pt x="150" y="1846"/>
                    <a:pt x="151" y="1855"/>
                  </a:cubicBezTo>
                  <a:cubicBezTo>
                    <a:pt x="151" y="1855"/>
                    <a:pt x="151" y="1855"/>
                    <a:pt x="151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8" y="1959"/>
                    <a:pt x="80" y="1966"/>
                    <a:pt x="72" y="1973"/>
                  </a:cubicBezTo>
                  <a:cubicBezTo>
                    <a:pt x="61" y="1984"/>
                    <a:pt x="49" y="1995"/>
                    <a:pt x="39" y="2007"/>
                  </a:cubicBezTo>
                  <a:cubicBezTo>
                    <a:pt x="38" y="2008"/>
                    <a:pt x="37" y="2008"/>
                    <a:pt x="37" y="2009"/>
                  </a:cubicBezTo>
                  <a:cubicBezTo>
                    <a:pt x="29" y="2018"/>
                    <a:pt x="21" y="2027"/>
                    <a:pt x="15" y="2037"/>
                  </a:cubicBezTo>
                  <a:cubicBezTo>
                    <a:pt x="9" y="2047"/>
                    <a:pt x="4" y="2057"/>
                    <a:pt x="2" y="2069"/>
                  </a:cubicBezTo>
                  <a:cubicBezTo>
                    <a:pt x="1" y="2075"/>
                    <a:pt x="0" y="2081"/>
                    <a:pt x="1" y="2087"/>
                  </a:cubicBezTo>
                  <a:cubicBezTo>
                    <a:pt x="2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1" y="2114"/>
                    <a:pt x="13" y="2118"/>
                    <a:pt x="15" y="2122"/>
                  </a:cubicBezTo>
                  <a:cubicBezTo>
                    <a:pt x="18" y="2122"/>
                    <a:pt x="18" y="2122"/>
                    <a:pt x="18" y="2122"/>
                  </a:cubicBezTo>
                  <a:cubicBezTo>
                    <a:pt x="21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5" y="2137"/>
                    <a:pt x="34" y="2125"/>
                  </a:cubicBezTo>
                  <a:cubicBezTo>
                    <a:pt x="27" y="2117"/>
                    <a:pt x="21" y="2109"/>
                    <a:pt x="16" y="2101"/>
                  </a:cubicBezTo>
                  <a:cubicBezTo>
                    <a:pt x="15" y="2097"/>
                    <a:pt x="15" y="2093"/>
                    <a:pt x="14" y="2089"/>
                  </a:cubicBezTo>
                  <a:cubicBezTo>
                    <a:pt x="13" y="2068"/>
                    <a:pt x="21" y="2048"/>
                    <a:pt x="34" y="2030"/>
                  </a:cubicBezTo>
                  <a:cubicBezTo>
                    <a:pt x="47" y="2012"/>
                    <a:pt x="63" y="1997"/>
                    <a:pt x="80" y="1981"/>
                  </a:cubicBezTo>
                  <a:cubicBezTo>
                    <a:pt x="97" y="1965"/>
                    <a:pt x="115" y="1949"/>
                    <a:pt x="130" y="1931"/>
                  </a:cubicBezTo>
                  <a:cubicBezTo>
                    <a:pt x="138" y="1922"/>
                    <a:pt x="146" y="1912"/>
                    <a:pt x="151" y="1900"/>
                  </a:cubicBezTo>
                  <a:cubicBezTo>
                    <a:pt x="157" y="1889"/>
                    <a:pt x="162" y="1877"/>
                    <a:pt x="163" y="1863"/>
                  </a:cubicBezTo>
                  <a:cubicBezTo>
                    <a:pt x="163" y="1862"/>
                    <a:pt x="163" y="1860"/>
                    <a:pt x="163" y="1859"/>
                  </a:cubicBezTo>
                  <a:cubicBezTo>
                    <a:pt x="163" y="1860"/>
                    <a:pt x="163" y="1861"/>
                    <a:pt x="163" y="1862"/>
                  </a:cubicBezTo>
                  <a:cubicBezTo>
                    <a:pt x="164" y="1874"/>
                    <a:pt x="168" y="1886"/>
                    <a:pt x="173" y="1896"/>
                  </a:cubicBezTo>
                  <a:cubicBezTo>
                    <a:pt x="179" y="1907"/>
                    <a:pt x="186" y="1916"/>
                    <a:pt x="193" y="1925"/>
                  </a:cubicBezTo>
                  <a:cubicBezTo>
                    <a:pt x="208" y="1943"/>
                    <a:pt x="226" y="1958"/>
                    <a:pt x="242" y="1974"/>
                  </a:cubicBezTo>
                  <a:cubicBezTo>
                    <a:pt x="243" y="1975"/>
                    <a:pt x="243" y="1975"/>
                    <a:pt x="243" y="1975"/>
                  </a:cubicBezTo>
                  <a:cubicBezTo>
                    <a:pt x="250" y="1982"/>
                    <a:pt x="257" y="1988"/>
                    <a:pt x="264" y="1995"/>
                  </a:cubicBezTo>
                  <a:cubicBezTo>
                    <a:pt x="273" y="2004"/>
                    <a:pt x="282" y="2014"/>
                    <a:pt x="290" y="2025"/>
                  </a:cubicBezTo>
                  <a:cubicBezTo>
                    <a:pt x="296" y="2035"/>
                    <a:pt x="302" y="2045"/>
                    <a:pt x="306" y="2056"/>
                  </a:cubicBezTo>
                  <a:cubicBezTo>
                    <a:pt x="309" y="2067"/>
                    <a:pt x="311" y="2078"/>
                    <a:pt x="310" y="2090"/>
                  </a:cubicBezTo>
                  <a:cubicBezTo>
                    <a:pt x="309" y="2096"/>
                    <a:pt x="308" y="2102"/>
                    <a:pt x="306" y="2108"/>
                  </a:cubicBezTo>
                  <a:cubicBezTo>
                    <a:pt x="301" y="2116"/>
                    <a:pt x="295" y="2124"/>
                    <a:pt x="289" y="2131"/>
                  </a:cubicBezTo>
                  <a:cubicBezTo>
                    <a:pt x="280" y="2141"/>
                    <a:pt x="271" y="2150"/>
                    <a:pt x="261" y="2159"/>
                  </a:cubicBezTo>
                  <a:cubicBezTo>
                    <a:pt x="277" y="2159"/>
                    <a:pt x="277" y="2159"/>
                    <a:pt x="277" y="2159"/>
                  </a:cubicBezTo>
                  <a:cubicBezTo>
                    <a:pt x="284" y="2152"/>
                    <a:pt x="290" y="2145"/>
                    <a:pt x="297" y="2138"/>
                  </a:cubicBezTo>
                  <a:cubicBezTo>
                    <a:pt x="301" y="2133"/>
                    <a:pt x="305" y="2128"/>
                    <a:pt x="309" y="2122"/>
                  </a:cubicBezTo>
                  <a:cubicBezTo>
                    <a:pt x="309" y="2122"/>
                    <a:pt x="309" y="2122"/>
                    <a:pt x="309" y="2122"/>
                  </a:cubicBezTo>
                  <a:cubicBezTo>
                    <a:pt x="310" y="2122"/>
                    <a:pt x="310" y="2121"/>
                    <a:pt x="310" y="2120"/>
                  </a:cubicBezTo>
                  <a:cubicBezTo>
                    <a:pt x="313" y="2116"/>
                    <a:pt x="316" y="2112"/>
                    <a:pt x="318" y="2107"/>
                  </a:cubicBezTo>
                  <a:cubicBezTo>
                    <a:pt x="320" y="2102"/>
                    <a:pt x="322" y="2097"/>
                    <a:pt x="323" y="2092"/>
                  </a:cubicBezTo>
                  <a:cubicBezTo>
                    <a:pt x="322" y="2090"/>
                    <a:pt x="322" y="2088"/>
                    <a:pt x="322" y="2087"/>
                  </a:cubicBezTo>
                  <a:cubicBezTo>
                    <a:pt x="321" y="2081"/>
                    <a:pt x="322" y="2076"/>
                    <a:pt x="323" y="2071"/>
                  </a:cubicBezTo>
                  <a:cubicBezTo>
                    <a:pt x="322" y="2070"/>
                    <a:pt x="322" y="2069"/>
                    <a:pt x="322" y="2068"/>
                  </a:cubicBezTo>
                  <a:cubicBezTo>
                    <a:pt x="320" y="2055"/>
                    <a:pt x="314" y="2043"/>
                    <a:pt x="307" y="2033"/>
                  </a:cubicBezTo>
                  <a:cubicBezTo>
                    <a:pt x="306" y="2032"/>
                    <a:pt x="305" y="2030"/>
                    <a:pt x="304" y="2029"/>
                  </a:cubicBezTo>
                  <a:cubicBezTo>
                    <a:pt x="302" y="2026"/>
                    <a:pt x="300" y="2022"/>
                    <a:pt x="298" y="2019"/>
                  </a:cubicBezTo>
                  <a:cubicBezTo>
                    <a:pt x="284" y="1999"/>
                    <a:pt x="267" y="1982"/>
                    <a:pt x="250" y="1966"/>
                  </a:cubicBezTo>
                  <a:cubicBezTo>
                    <a:pt x="233" y="1950"/>
                    <a:pt x="216" y="1935"/>
                    <a:pt x="202" y="1917"/>
                  </a:cubicBezTo>
                  <a:cubicBezTo>
                    <a:pt x="188" y="1901"/>
                    <a:pt x="177" y="1881"/>
                    <a:pt x="175" y="1861"/>
                  </a:cubicBezTo>
                  <a:cubicBezTo>
                    <a:pt x="174" y="1852"/>
                    <a:pt x="177" y="1843"/>
                    <a:pt x="181" y="1833"/>
                  </a:cubicBezTo>
                  <a:cubicBezTo>
                    <a:pt x="186" y="1824"/>
                    <a:pt x="192" y="1815"/>
                    <a:pt x="199" y="1806"/>
                  </a:cubicBezTo>
                  <a:cubicBezTo>
                    <a:pt x="213" y="1789"/>
                    <a:pt x="230" y="1773"/>
                    <a:pt x="246" y="1757"/>
                  </a:cubicBezTo>
                  <a:cubicBezTo>
                    <a:pt x="263" y="1741"/>
                    <a:pt x="281" y="1726"/>
                    <a:pt x="297" y="1708"/>
                  </a:cubicBezTo>
                  <a:cubicBezTo>
                    <a:pt x="304" y="1698"/>
                    <a:pt x="312" y="1689"/>
                    <a:pt x="318" y="1677"/>
                  </a:cubicBezTo>
                  <a:cubicBezTo>
                    <a:pt x="320" y="1672"/>
                    <a:pt x="322" y="1667"/>
                    <a:pt x="323" y="1661"/>
                  </a:cubicBezTo>
                  <a:cubicBezTo>
                    <a:pt x="322" y="1660"/>
                    <a:pt x="322" y="1658"/>
                    <a:pt x="322" y="1656"/>
                  </a:cubicBezTo>
                  <a:cubicBezTo>
                    <a:pt x="321" y="1651"/>
                    <a:pt x="322" y="1646"/>
                    <a:pt x="323" y="1640"/>
                  </a:cubicBezTo>
                  <a:cubicBezTo>
                    <a:pt x="322" y="1639"/>
                    <a:pt x="322" y="1638"/>
                    <a:pt x="322" y="1637"/>
                  </a:cubicBezTo>
                  <a:cubicBezTo>
                    <a:pt x="320" y="1625"/>
                    <a:pt x="315" y="1614"/>
                    <a:pt x="308" y="1605"/>
                  </a:cubicBezTo>
                  <a:cubicBezTo>
                    <a:pt x="305" y="1599"/>
                    <a:pt x="302" y="1593"/>
                    <a:pt x="298" y="1588"/>
                  </a:cubicBezTo>
                  <a:cubicBezTo>
                    <a:pt x="284" y="1567"/>
                    <a:pt x="267" y="1551"/>
                    <a:pt x="250" y="1535"/>
                  </a:cubicBezTo>
                  <a:cubicBezTo>
                    <a:pt x="233" y="1519"/>
                    <a:pt x="216" y="1503"/>
                    <a:pt x="202" y="1486"/>
                  </a:cubicBezTo>
                  <a:cubicBezTo>
                    <a:pt x="188" y="1469"/>
                    <a:pt x="177" y="1450"/>
                    <a:pt x="175" y="1430"/>
                  </a:cubicBezTo>
                  <a:cubicBezTo>
                    <a:pt x="174" y="1421"/>
                    <a:pt x="177" y="1411"/>
                    <a:pt x="181" y="1402"/>
                  </a:cubicBezTo>
                  <a:cubicBezTo>
                    <a:pt x="186" y="1392"/>
                    <a:pt x="192" y="1383"/>
                    <a:pt x="199" y="1375"/>
                  </a:cubicBezTo>
                  <a:cubicBezTo>
                    <a:pt x="213" y="1357"/>
                    <a:pt x="230" y="1342"/>
                    <a:pt x="246" y="1326"/>
                  </a:cubicBezTo>
                  <a:cubicBezTo>
                    <a:pt x="263" y="1310"/>
                    <a:pt x="281" y="1294"/>
                    <a:pt x="297" y="1276"/>
                  </a:cubicBezTo>
                  <a:cubicBezTo>
                    <a:pt x="301" y="1271"/>
                    <a:pt x="305" y="1266"/>
                    <a:pt x="308" y="1261"/>
                  </a:cubicBezTo>
                  <a:cubicBezTo>
                    <a:pt x="309" y="1261"/>
                    <a:pt x="309" y="1261"/>
                    <a:pt x="309" y="1261"/>
                  </a:cubicBezTo>
                  <a:cubicBezTo>
                    <a:pt x="310" y="1259"/>
                    <a:pt x="311" y="1258"/>
                    <a:pt x="312" y="1256"/>
                  </a:cubicBezTo>
                  <a:cubicBezTo>
                    <a:pt x="314" y="1252"/>
                    <a:pt x="316" y="1249"/>
                    <a:pt x="318" y="1245"/>
                  </a:cubicBezTo>
                  <a:cubicBezTo>
                    <a:pt x="320" y="1240"/>
                    <a:pt x="322" y="1235"/>
                    <a:pt x="323" y="1230"/>
                  </a:cubicBezTo>
                  <a:cubicBezTo>
                    <a:pt x="322" y="1228"/>
                    <a:pt x="322" y="1226"/>
                    <a:pt x="322" y="1225"/>
                  </a:cubicBezTo>
                  <a:cubicBezTo>
                    <a:pt x="321" y="1219"/>
                    <a:pt x="322" y="1214"/>
                    <a:pt x="323" y="1209"/>
                  </a:cubicBezTo>
                  <a:cubicBezTo>
                    <a:pt x="322" y="1208"/>
                    <a:pt x="322" y="1207"/>
                    <a:pt x="322" y="1206"/>
                  </a:cubicBezTo>
                  <a:cubicBezTo>
                    <a:pt x="320" y="1193"/>
                    <a:pt x="314" y="1181"/>
                    <a:pt x="307" y="1171"/>
                  </a:cubicBezTo>
                  <a:cubicBezTo>
                    <a:pt x="305" y="1168"/>
                    <a:pt x="302" y="1164"/>
                    <a:pt x="300" y="1161"/>
                  </a:cubicBezTo>
                  <a:cubicBezTo>
                    <a:pt x="299" y="1160"/>
                    <a:pt x="299" y="1159"/>
                    <a:pt x="298" y="1158"/>
                  </a:cubicBezTo>
                  <a:cubicBezTo>
                    <a:pt x="284" y="1138"/>
                    <a:pt x="267" y="1122"/>
                    <a:pt x="250" y="1105"/>
                  </a:cubicBezTo>
                  <a:cubicBezTo>
                    <a:pt x="233" y="1089"/>
                    <a:pt x="216" y="1074"/>
                    <a:pt x="202" y="1057"/>
                  </a:cubicBezTo>
                  <a:cubicBezTo>
                    <a:pt x="188" y="1040"/>
                    <a:pt x="177" y="1020"/>
                    <a:pt x="175" y="1000"/>
                  </a:cubicBezTo>
                  <a:cubicBezTo>
                    <a:pt x="174" y="991"/>
                    <a:pt x="177" y="982"/>
                    <a:pt x="181" y="972"/>
                  </a:cubicBezTo>
                  <a:cubicBezTo>
                    <a:pt x="186" y="963"/>
                    <a:pt x="192" y="954"/>
                    <a:pt x="199" y="945"/>
                  </a:cubicBezTo>
                  <a:cubicBezTo>
                    <a:pt x="213" y="928"/>
                    <a:pt x="230" y="912"/>
                    <a:pt x="246" y="896"/>
                  </a:cubicBezTo>
                  <a:cubicBezTo>
                    <a:pt x="263" y="880"/>
                    <a:pt x="281" y="865"/>
                    <a:pt x="297" y="847"/>
                  </a:cubicBezTo>
                  <a:cubicBezTo>
                    <a:pt x="304" y="837"/>
                    <a:pt x="312" y="828"/>
                    <a:pt x="318" y="816"/>
                  </a:cubicBezTo>
                  <a:cubicBezTo>
                    <a:pt x="320" y="811"/>
                    <a:pt x="322" y="806"/>
                    <a:pt x="323" y="800"/>
                  </a:cubicBezTo>
                  <a:cubicBezTo>
                    <a:pt x="322" y="799"/>
                    <a:pt x="322" y="797"/>
                    <a:pt x="322" y="795"/>
                  </a:cubicBezTo>
                  <a:cubicBezTo>
                    <a:pt x="321" y="790"/>
                    <a:pt x="322" y="785"/>
                    <a:pt x="323" y="779"/>
                  </a:cubicBezTo>
                  <a:cubicBezTo>
                    <a:pt x="322" y="778"/>
                    <a:pt x="322" y="777"/>
                    <a:pt x="322" y="776"/>
                  </a:cubicBezTo>
                  <a:cubicBezTo>
                    <a:pt x="320" y="766"/>
                    <a:pt x="316" y="756"/>
                    <a:pt x="311" y="748"/>
                  </a:cubicBezTo>
                  <a:cubicBezTo>
                    <a:pt x="307" y="740"/>
                    <a:pt x="303" y="732"/>
                    <a:pt x="298" y="726"/>
                  </a:cubicBezTo>
                  <a:cubicBezTo>
                    <a:pt x="284" y="705"/>
                    <a:pt x="267" y="689"/>
                    <a:pt x="250" y="673"/>
                  </a:cubicBezTo>
                  <a:cubicBezTo>
                    <a:pt x="233" y="656"/>
                    <a:pt x="216" y="641"/>
                    <a:pt x="202" y="624"/>
                  </a:cubicBezTo>
                  <a:cubicBezTo>
                    <a:pt x="188" y="607"/>
                    <a:pt x="177" y="588"/>
                    <a:pt x="175" y="568"/>
                  </a:cubicBezTo>
                  <a:cubicBezTo>
                    <a:pt x="174" y="558"/>
                    <a:pt x="177" y="549"/>
                    <a:pt x="181" y="540"/>
                  </a:cubicBezTo>
                  <a:cubicBezTo>
                    <a:pt x="186" y="530"/>
                    <a:pt x="192" y="521"/>
                    <a:pt x="199" y="513"/>
                  </a:cubicBezTo>
                  <a:cubicBezTo>
                    <a:pt x="213" y="495"/>
                    <a:pt x="230" y="480"/>
                    <a:pt x="246" y="464"/>
                  </a:cubicBezTo>
                  <a:cubicBezTo>
                    <a:pt x="263" y="448"/>
                    <a:pt x="281" y="432"/>
                    <a:pt x="297" y="414"/>
                  </a:cubicBezTo>
                  <a:cubicBezTo>
                    <a:pt x="304" y="405"/>
                    <a:pt x="312" y="395"/>
                    <a:pt x="318" y="383"/>
                  </a:cubicBezTo>
                  <a:cubicBezTo>
                    <a:pt x="320" y="378"/>
                    <a:pt x="322" y="373"/>
                    <a:pt x="323" y="367"/>
                  </a:cubicBezTo>
                  <a:cubicBezTo>
                    <a:pt x="322" y="366"/>
                    <a:pt x="322" y="364"/>
                    <a:pt x="322" y="363"/>
                  </a:cubicBezTo>
                  <a:cubicBezTo>
                    <a:pt x="321" y="357"/>
                    <a:pt x="322" y="352"/>
                    <a:pt x="323" y="347"/>
                  </a:cubicBezTo>
                  <a:cubicBezTo>
                    <a:pt x="322" y="346"/>
                    <a:pt x="322" y="345"/>
                    <a:pt x="322" y="344"/>
                  </a:cubicBezTo>
                  <a:cubicBezTo>
                    <a:pt x="320" y="333"/>
                    <a:pt x="316" y="324"/>
                    <a:pt x="311" y="315"/>
                  </a:cubicBezTo>
                  <a:cubicBezTo>
                    <a:pt x="307" y="307"/>
                    <a:pt x="303" y="300"/>
                    <a:pt x="298" y="293"/>
                  </a:cubicBezTo>
                  <a:cubicBezTo>
                    <a:pt x="284" y="273"/>
                    <a:pt x="267" y="256"/>
                    <a:pt x="250" y="240"/>
                  </a:cubicBezTo>
                  <a:cubicBezTo>
                    <a:pt x="233" y="224"/>
                    <a:pt x="216" y="208"/>
                    <a:pt x="202" y="191"/>
                  </a:cubicBezTo>
                  <a:cubicBezTo>
                    <a:pt x="188" y="174"/>
                    <a:pt x="177" y="155"/>
                    <a:pt x="175" y="135"/>
                  </a:cubicBezTo>
                  <a:cubicBezTo>
                    <a:pt x="174" y="126"/>
                    <a:pt x="177" y="116"/>
                    <a:pt x="181" y="107"/>
                  </a:cubicBezTo>
                  <a:cubicBezTo>
                    <a:pt x="186" y="97"/>
                    <a:pt x="192" y="88"/>
                    <a:pt x="199" y="80"/>
                  </a:cubicBezTo>
                  <a:cubicBezTo>
                    <a:pt x="213" y="63"/>
                    <a:pt x="230" y="47"/>
                    <a:pt x="246" y="31"/>
                  </a:cubicBezTo>
                  <a:cubicBezTo>
                    <a:pt x="257" y="21"/>
                    <a:pt x="268" y="10"/>
                    <a:pt x="279" y="0"/>
                  </a:cubicBezTo>
                  <a:cubicBezTo>
                    <a:pt x="263" y="0"/>
                    <a:pt x="263" y="0"/>
                    <a:pt x="263" y="0"/>
                  </a:cubicBezTo>
                  <a:cubicBezTo>
                    <a:pt x="255" y="7"/>
                    <a:pt x="247" y="15"/>
                    <a:pt x="239" y="23"/>
                  </a:cubicBezTo>
                  <a:cubicBezTo>
                    <a:pt x="222" y="39"/>
                    <a:pt x="205" y="54"/>
                    <a:pt x="190" y="72"/>
                  </a:cubicBezTo>
                  <a:cubicBezTo>
                    <a:pt x="182" y="81"/>
                    <a:pt x="176" y="91"/>
                    <a:pt x="170" y="102"/>
                  </a:cubicBezTo>
                  <a:cubicBezTo>
                    <a:pt x="166" y="110"/>
                    <a:pt x="163" y="120"/>
                    <a:pt x="163" y="130"/>
                  </a:cubicBezTo>
                  <a:cubicBezTo>
                    <a:pt x="163" y="125"/>
                    <a:pt x="162" y="121"/>
                    <a:pt x="161" y="116"/>
                  </a:cubicBezTo>
                  <a:cubicBezTo>
                    <a:pt x="160" y="109"/>
                    <a:pt x="157" y="103"/>
                    <a:pt x="154" y="97"/>
                  </a:cubicBezTo>
                  <a:cubicBezTo>
                    <a:pt x="149" y="86"/>
                    <a:pt x="141" y="76"/>
                    <a:pt x="134" y="66"/>
                  </a:cubicBezTo>
                  <a:cubicBezTo>
                    <a:pt x="118" y="48"/>
                    <a:pt x="101" y="32"/>
                    <a:pt x="84" y="16"/>
                  </a:cubicBezTo>
                  <a:cubicBezTo>
                    <a:pt x="78" y="11"/>
                    <a:pt x="72" y="5"/>
                    <a:pt x="66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8" y="8"/>
                    <a:pt x="67" y="16"/>
                    <a:pt x="76" y="24"/>
                  </a:cubicBezTo>
                  <a:cubicBezTo>
                    <a:pt x="93" y="40"/>
                    <a:pt x="110" y="56"/>
                    <a:pt x="125" y="74"/>
                  </a:cubicBezTo>
                  <a:close/>
                  <a:moveTo>
                    <a:pt x="193" y="1493"/>
                  </a:moveTo>
                  <a:cubicBezTo>
                    <a:pt x="200" y="1502"/>
                    <a:pt x="208" y="1510"/>
                    <a:pt x="216" y="1517"/>
                  </a:cubicBezTo>
                  <a:cubicBezTo>
                    <a:pt x="220" y="1522"/>
                    <a:pt x="225" y="1526"/>
                    <a:pt x="229" y="1531"/>
                  </a:cubicBezTo>
                  <a:cubicBezTo>
                    <a:pt x="245" y="1547"/>
                    <a:pt x="263" y="1563"/>
                    <a:pt x="278" y="1580"/>
                  </a:cubicBezTo>
                  <a:cubicBezTo>
                    <a:pt x="280" y="1582"/>
                    <a:pt x="282" y="1584"/>
                    <a:pt x="284" y="1586"/>
                  </a:cubicBezTo>
                  <a:cubicBezTo>
                    <a:pt x="286" y="1589"/>
                    <a:pt x="288" y="1591"/>
                    <a:pt x="290" y="1594"/>
                  </a:cubicBezTo>
                  <a:cubicBezTo>
                    <a:pt x="296" y="1603"/>
                    <a:pt x="302" y="1613"/>
                    <a:pt x="306" y="1624"/>
                  </a:cubicBezTo>
                  <a:cubicBezTo>
                    <a:pt x="309" y="1635"/>
                    <a:pt x="311" y="1647"/>
                    <a:pt x="310" y="1658"/>
                  </a:cubicBezTo>
                  <a:cubicBezTo>
                    <a:pt x="309" y="1666"/>
                    <a:pt x="307" y="1673"/>
                    <a:pt x="304" y="1680"/>
                  </a:cubicBezTo>
                  <a:cubicBezTo>
                    <a:pt x="300" y="1687"/>
                    <a:pt x="294" y="1694"/>
                    <a:pt x="289" y="1701"/>
                  </a:cubicBezTo>
                  <a:cubicBezTo>
                    <a:pt x="273" y="1718"/>
                    <a:pt x="256" y="1733"/>
                    <a:pt x="239" y="1749"/>
                  </a:cubicBezTo>
                  <a:cubicBezTo>
                    <a:pt x="222" y="1765"/>
                    <a:pt x="205" y="1781"/>
                    <a:pt x="190" y="1799"/>
                  </a:cubicBezTo>
                  <a:cubicBezTo>
                    <a:pt x="182" y="1808"/>
                    <a:pt x="176" y="1818"/>
                    <a:pt x="170" y="1828"/>
                  </a:cubicBezTo>
                  <a:cubicBezTo>
                    <a:pt x="166" y="1837"/>
                    <a:pt x="163" y="1847"/>
                    <a:pt x="163" y="1857"/>
                  </a:cubicBezTo>
                  <a:cubicBezTo>
                    <a:pt x="163" y="1852"/>
                    <a:pt x="162" y="1847"/>
                    <a:pt x="161" y="1843"/>
                  </a:cubicBezTo>
                  <a:cubicBezTo>
                    <a:pt x="160" y="1836"/>
                    <a:pt x="157" y="1830"/>
                    <a:pt x="154" y="1824"/>
                  </a:cubicBezTo>
                  <a:cubicBezTo>
                    <a:pt x="149" y="1812"/>
                    <a:pt x="141" y="1802"/>
                    <a:pt x="134" y="1793"/>
                  </a:cubicBezTo>
                  <a:cubicBezTo>
                    <a:pt x="118" y="1774"/>
                    <a:pt x="101" y="1758"/>
                    <a:pt x="84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7" y="1671"/>
                  </a:cubicBezTo>
                  <a:cubicBezTo>
                    <a:pt x="15" y="1667"/>
                    <a:pt x="15" y="1662"/>
                    <a:pt x="14" y="1658"/>
                  </a:cubicBezTo>
                  <a:cubicBezTo>
                    <a:pt x="13" y="1637"/>
                    <a:pt x="21" y="1616"/>
                    <a:pt x="34" y="1599"/>
                  </a:cubicBezTo>
                  <a:cubicBezTo>
                    <a:pt x="47" y="1581"/>
                    <a:pt x="63" y="1565"/>
                    <a:pt x="80" y="1549"/>
                  </a:cubicBezTo>
                  <a:cubicBezTo>
                    <a:pt x="97" y="1534"/>
                    <a:pt x="115" y="1518"/>
                    <a:pt x="130" y="1499"/>
                  </a:cubicBezTo>
                  <a:cubicBezTo>
                    <a:pt x="138" y="1490"/>
                    <a:pt x="146" y="1480"/>
                    <a:pt x="151" y="1469"/>
                  </a:cubicBezTo>
                  <a:cubicBezTo>
                    <a:pt x="157" y="1458"/>
                    <a:pt x="162" y="1445"/>
                    <a:pt x="163" y="1432"/>
                  </a:cubicBezTo>
                  <a:cubicBezTo>
                    <a:pt x="163" y="1430"/>
                    <a:pt x="163" y="1429"/>
                    <a:pt x="163" y="1427"/>
                  </a:cubicBezTo>
                  <a:cubicBezTo>
                    <a:pt x="163" y="1428"/>
                    <a:pt x="163" y="1430"/>
                    <a:pt x="163" y="1431"/>
                  </a:cubicBezTo>
                  <a:cubicBezTo>
                    <a:pt x="164" y="1443"/>
                    <a:pt x="168" y="1454"/>
                    <a:pt x="173" y="1464"/>
                  </a:cubicBezTo>
                  <a:cubicBezTo>
                    <a:pt x="179" y="1475"/>
                    <a:pt x="186" y="1484"/>
                    <a:pt x="193" y="1493"/>
                  </a:cubicBezTo>
                  <a:close/>
                  <a:moveTo>
                    <a:pt x="193" y="1064"/>
                  </a:moveTo>
                  <a:cubicBezTo>
                    <a:pt x="208" y="1082"/>
                    <a:pt x="226" y="1098"/>
                    <a:pt x="242" y="1113"/>
                  </a:cubicBezTo>
                  <a:cubicBezTo>
                    <a:pt x="259" y="1129"/>
                    <a:pt x="276" y="1146"/>
                    <a:pt x="290" y="1164"/>
                  </a:cubicBezTo>
                  <a:cubicBezTo>
                    <a:pt x="296" y="1174"/>
                    <a:pt x="302" y="1184"/>
                    <a:pt x="306" y="1195"/>
                  </a:cubicBezTo>
                  <a:cubicBezTo>
                    <a:pt x="309" y="1206"/>
                    <a:pt x="311" y="1218"/>
                    <a:pt x="310" y="1229"/>
                  </a:cubicBezTo>
                  <a:cubicBezTo>
                    <a:pt x="309" y="1234"/>
                    <a:pt x="308" y="1239"/>
                    <a:pt x="307" y="1244"/>
                  </a:cubicBezTo>
                  <a:cubicBezTo>
                    <a:pt x="302" y="1253"/>
                    <a:pt x="295" y="1261"/>
                    <a:pt x="289" y="1269"/>
                  </a:cubicBezTo>
                  <a:cubicBezTo>
                    <a:pt x="273" y="1286"/>
                    <a:pt x="256" y="1302"/>
                    <a:pt x="239" y="1318"/>
                  </a:cubicBezTo>
                  <a:cubicBezTo>
                    <a:pt x="222" y="1333"/>
                    <a:pt x="205" y="1349"/>
                    <a:pt x="190" y="1367"/>
                  </a:cubicBezTo>
                  <a:cubicBezTo>
                    <a:pt x="182" y="1376"/>
                    <a:pt x="176" y="1386"/>
                    <a:pt x="170" y="1396"/>
                  </a:cubicBezTo>
                  <a:cubicBezTo>
                    <a:pt x="166" y="1405"/>
                    <a:pt x="163" y="1415"/>
                    <a:pt x="163" y="1425"/>
                  </a:cubicBezTo>
                  <a:cubicBezTo>
                    <a:pt x="163" y="1420"/>
                    <a:pt x="162" y="1415"/>
                    <a:pt x="161" y="1411"/>
                  </a:cubicBezTo>
                  <a:cubicBezTo>
                    <a:pt x="160" y="1404"/>
                    <a:pt x="157" y="1398"/>
                    <a:pt x="154" y="1392"/>
                  </a:cubicBezTo>
                  <a:cubicBezTo>
                    <a:pt x="149" y="1381"/>
                    <a:pt x="141" y="1371"/>
                    <a:pt x="134" y="1361"/>
                  </a:cubicBezTo>
                  <a:cubicBezTo>
                    <a:pt x="118" y="1343"/>
                    <a:pt x="101" y="1327"/>
                    <a:pt x="84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7" y="1255"/>
                    <a:pt x="20" y="1247"/>
                    <a:pt x="16" y="1238"/>
                  </a:cubicBezTo>
                  <a:cubicBezTo>
                    <a:pt x="15" y="1235"/>
                    <a:pt x="15" y="1232"/>
                    <a:pt x="14" y="1228"/>
                  </a:cubicBezTo>
                  <a:cubicBezTo>
                    <a:pt x="13" y="1207"/>
                    <a:pt x="21" y="1187"/>
                    <a:pt x="34" y="1169"/>
                  </a:cubicBezTo>
                  <a:cubicBezTo>
                    <a:pt x="47" y="1152"/>
                    <a:pt x="63" y="1136"/>
                    <a:pt x="80" y="1120"/>
                  </a:cubicBezTo>
                  <a:cubicBezTo>
                    <a:pt x="97" y="1104"/>
                    <a:pt x="115" y="1089"/>
                    <a:pt x="130" y="1070"/>
                  </a:cubicBezTo>
                  <a:cubicBezTo>
                    <a:pt x="138" y="1061"/>
                    <a:pt x="146" y="1051"/>
                    <a:pt x="151" y="1039"/>
                  </a:cubicBezTo>
                  <a:cubicBezTo>
                    <a:pt x="157" y="1028"/>
                    <a:pt x="162" y="1016"/>
                    <a:pt x="163" y="1002"/>
                  </a:cubicBezTo>
                  <a:cubicBezTo>
                    <a:pt x="163" y="1001"/>
                    <a:pt x="163" y="999"/>
                    <a:pt x="163" y="998"/>
                  </a:cubicBezTo>
                  <a:cubicBezTo>
                    <a:pt x="163" y="999"/>
                    <a:pt x="163" y="1000"/>
                    <a:pt x="163" y="1001"/>
                  </a:cubicBezTo>
                  <a:cubicBezTo>
                    <a:pt x="164" y="1013"/>
                    <a:pt x="168" y="1025"/>
                    <a:pt x="173" y="1035"/>
                  </a:cubicBezTo>
                  <a:cubicBezTo>
                    <a:pt x="179" y="1046"/>
                    <a:pt x="186" y="1055"/>
                    <a:pt x="193" y="1064"/>
                  </a:cubicBezTo>
                  <a:close/>
                  <a:moveTo>
                    <a:pt x="193" y="631"/>
                  </a:moveTo>
                  <a:cubicBezTo>
                    <a:pt x="196" y="635"/>
                    <a:pt x="199" y="638"/>
                    <a:pt x="203" y="642"/>
                  </a:cubicBezTo>
                  <a:cubicBezTo>
                    <a:pt x="211" y="652"/>
                    <a:pt x="220" y="661"/>
                    <a:pt x="229" y="670"/>
                  </a:cubicBezTo>
                  <a:cubicBezTo>
                    <a:pt x="245" y="686"/>
                    <a:pt x="263" y="702"/>
                    <a:pt x="278" y="719"/>
                  </a:cubicBezTo>
                  <a:cubicBezTo>
                    <a:pt x="283" y="724"/>
                    <a:pt x="288" y="730"/>
                    <a:pt x="292" y="735"/>
                  </a:cubicBezTo>
                  <a:cubicBezTo>
                    <a:pt x="298" y="744"/>
                    <a:pt x="302" y="753"/>
                    <a:pt x="306" y="762"/>
                  </a:cubicBezTo>
                  <a:cubicBezTo>
                    <a:pt x="309" y="773"/>
                    <a:pt x="311" y="785"/>
                    <a:pt x="310" y="796"/>
                  </a:cubicBezTo>
                  <a:cubicBezTo>
                    <a:pt x="309" y="805"/>
                    <a:pt x="307" y="813"/>
                    <a:pt x="303" y="821"/>
                  </a:cubicBezTo>
                  <a:cubicBezTo>
                    <a:pt x="299" y="827"/>
                    <a:pt x="294" y="834"/>
                    <a:pt x="289" y="840"/>
                  </a:cubicBezTo>
                  <a:cubicBezTo>
                    <a:pt x="273" y="857"/>
                    <a:pt x="256" y="872"/>
                    <a:pt x="239" y="888"/>
                  </a:cubicBezTo>
                  <a:cubicBezTo>
                    <a:pt x="222" y="904"/>
                    <a:pt x="205" y="920"/>
                    <a:pt x="190" y="938"/>
                  </a:cubicBezTo>
                  <a:cubicBezTo>
                    <a:pt x="182" y="947"/>
                    <a:pt x="176" y="957"/>
                    <a:pt x="170" y="967"/>
                  </a:cubicBezTo>
                  <a:cubicBezTo>
                    <a:pt x="166" y="976"/>
                    <a:pt x="163" y="986"/>
                    <a:pt x="163" y="996"/>
                  </a:cubicBezTo>
                  <a:cubicBezTo>
                    <a:pt x="163" y="991"/>
                    <a:pt x="162" y="986"/>
                    <a:pt x="161" y="982"/>
                  </a:cubicBezTo>
                  <a:cubicBezTo>
                    <a:pt x="160" y="975"/>
                    <a:pt x="157" y="969"/>
                    <a:pt x="154" y="963"/>
                  </a:cubicBezTo>
                  <a:cubicBezTo>
                    <a:pt x="149" y="951"/>
                    <a:pt x="141" y="941"/>
                    <a:pt x="134" y="932"/>
                  </a:cubicBezTo>
                  <a:cubicBezTo>
                    <a:pt x="118" y="913"/>
                    <a:pt x="101" y="897"/>
                    <a:pt x="84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8" y="827"/>
                    <a:pt x="22" y="819"/>
                    <a:pt x="17" y="811"/>
                  </a:cubicBezTo>
                  <a:cubicBezTo>
                    <a:pt x="16" y="806"/>
                    <a:pt x="15" y="801"/>
                    <a:pt x="14" y="795"/>
                  </a:cubicBezTo>
                  <a:cubicBezTo>
                    <a:pt x="13" y="774"/>
                    <a:pt x="21" y="754"/>
                    <a:pt x="34" y="737"/>
                  </a:cubicBezTo>
                  <a:cubicBezTo>
                    <a:pt x="47" y="719"/>
                    <a:pt x="63" y="703"/>
                    <a:pt x="80" y="687"/>
                  </a:cubicBezTo>
                  <a:cubicBezTo>
                    <a:pt x="97" y="671"/>
                    <a:pt x="115" y="656"/>
                    <a:pt x="130" y="637"/>
                  </a:cubicBezTo>
                  <a:cubicBezTo>
                    <a:pt x="138" y="628"/>
                    <a:pt x="146" y="618"/>
                    <a:pt x="151" y="607"/>
                  </a:cubicBezTo>
                  <a:cubicBezTo>
                    <a:pt x="157" y="595"/>
                    <a:pt x="162" y="583"/>
                    <a:pt x="163" y="570"/>
                  </a:cubicBezTo>
                  <a:cubicBezTo>
                    <a:pt x="163" y="568"/>
                    <a:pt x="163" y="567"/>
                    <a:pt x="163" y="565"/>
                  </a:cubicBezTo>
                  <a:cubicBezTo>
                    <a:pt x="163" y="566"/>
                    <a:pt x="163" y="568"/>
                    <a:pt x="163" y="569"/>
                  </a:cubicBezTo>
                  <a:cubicBezTo>
                    <a:pt x="164" y="580"/>
                    <a:pt x="168" y="592"/>
                    <a:pt x="173" y="602"/>
                  </a:cubicBezTo>
                  <a:cubicBezTo>
                    <a:pt x="179" y="613"/>
                    <a:pt x="186" y="622"/>
                    <a:pt x="193" y="631"/>
                  </a:cubicBezTo>
                  <a:close/>
                  <a:moveTo>
                    <a:pt x="163" y="137"/>
                  </a:moveTo>
                  <a:cubicBezTo>
                    <a:pt x="163" y="135"/>
                    <a:pt x="163" y="134"/>
                    <a:pt x="163" y="132"/>
                  </a:cubicBezTo>
                  <a:cubicBezTo>
                    <a:pt x="163" y="134"/>
                    <a:pt x="163" y="135"/>
                    <a:pt x="163" y="136"/>
                  </a:cubicBezTo>
                  <a:cubicBezTo>
                    <a:pt x="164" y="148"/>
                    <a:pt x="168" y="159"/>
                    <a:pt x="173" y="170"/>
                  </a:cubicBezTo>
                  <a:cubicBezTo>
                    <a:pt x="179" y="180"/>
                    <a:pt x="186" y="190"/>
                    <a:pt x="193" y="198"/>
                  </a:cubicBezTo>
                  <a:cubicBezTo>
                    <a:pt x="196" y="202"/>
                    <a:pt x="199" y="206"/>
                    <a:pt x="203" y="209"/>
                  </a:cubicBezTo>
                  <a:cubicBezTo>
                    <a:pt x="211" y="219"/>
                    <a:pt x="220" y="228"/>
                    <a:pt x="229" y="237"/>
                  </a:cubicBezTo>
                  <a:cubicBezTo>
                    <a:pt x="245" y="254"/>
                    <a:pt x="263" y="269"/>
                    <a:pt x="278" y="286"/>
                  </a:cubicBezTo>
                  <a:cubicBezTo>
                    <a:pt x="283" y="291"/>
                    <a:pt x="288" y="297"/>
                    <a:pt x="292" y="302"/>
                  </a:cubicBezTo>
                  <a:cubicBezTo>
                    <a:pt x="298" y="311"/>
                    <a:pt x="302" y="320"/>
                    <a:pt x="306" y="329"/>
                  </a:cubicBezTo>
                  <a:cubicBezTo>
                    <a:pt x="309" y="340"/>
                    <a:pt x="311" y="352"/>
                    <a:pt x="310" y="363"/>
                  </a:cubicBezTo>
                  <a:cubicBezTo>
                    <a:pt x="309" y="372"/>
                    <a:pt x="307" y="380"/>
                    <a:pt x="303" y="388"/>
                  </a:cubicBezTo>
                  <a:cubicBezTo>
                    <a:pt x="299" y="395"/>
                    <a:pt x="294" y="401"/>
                    <a:pt x="289" y="407"/>
                  </a:cubicBezTo>
                  <a:cubicBezTo>
                    <a:pt x="273" y="424"/>
                    <a:pt x="256" y="440"/>
                    <a:pt x="239" y="455"/>
                  </a:cubicBezTo>
                  <a:cubicBezTo>
                    <a:pt x="222" y="471"/>
                    <a:pt x="205" y="487"/>
                    <a:pt x="190" y="505"/>
                  </a:cubicBezTo>
                  <a:cubicBezTo>
                    <a:pt x="182" y="514"/>
                    <a:pt x="176" y="524"/>
                    <a:pt x="170" y="534"/>
                  </a:cubicBezTo>
                  <a:cubicBezTo>
                    <a:pt x="166" y="543"/>
                    <a:pt x="163" y="553"/>
                    <a:pt x="163" y="563"/>
                  </a:cubicBezTo>
                  <a:cubicBezTo>
                    <a:pt x="163" y="558"/>
                    <a:pt x="162" y="553"/>
                    <a:pt x="161" y="549"/>
                  </a:cubicBezTo>
                  <a:cubicBezTo>
                    <a:pt x="160" y="542"/>
                    <a:pt x="157" y="536"/>
                    <a:pt x="154" y="530"/>
                  </a:cubicBezTo>
                  <a:cubicBezTo>
                    <a:pt x="149" y="519"/>
                    <a:pt x="141" y="509"/>
                    <a:pt x="134" y="499"/>
                  </a:cubicBezTo>
                  <a:cubicBezTo>
                    <a:pt x="118" y="481"/>
                    <a:pt x="101" y="465"/>
                    <a:pt x="84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8" y="394"/>
                    <a:pt x="22" y="386"/>
                    <a:pt x="17" y="379"/>
                  </a:cubicBezTo>
                  <a:cubicBezTo>
                    <a:pt x="16" y="373"/>
                    <a:pt x="15" y="368"/>
                    <a:pt x="14" y="363"/>
                  </a:cubicBezTo>
                  <a:cubicBezTo>
                    <a:pt x="13" y="342"/>
                    <a:pt x="21" y="322"/>
                    <a:pt x="34" y="304"/>
                  </a:cubicBezTo>
                  <a:cubicBezTo>
                    <a:pt x="47" y="286"/>
                    <a:pt x="63" y="270"/>
                    <a:pt x="80" y="254"/>
                  </a:cubicBezTo>
                  <a:cubicBezTo>
                    <a:pt x="97" y="239"/>
                    <a:pt x="115" y="223"/>
                    <a:pt x="130" y="204"/>
                  </a:cubicBezTo>
                  <a:cubicBezTo>
                    <a:pt x="138" y="195"/>
                    <a:pt x="146" y="185"/>
                    <a:pt x="151" y="174"/>
                  </a:cubicBezTo>
                  <a:cubicBezTo>
                    <a:pt x="157" y="163"/>
                    <a:pt x="162" y="150"/>
                    <a:pt x="163" y="137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85" name="Freeform 19"/>
            <p:cNvSpPr/>
            <p:nvPr/>
          </p:nvSpPr>
          <p:spPr>
            <a:xfrm>
              <a:off x="9645480" y="-1440"/>
              <a:ext cx="514080" cy="686232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2" h="2159">
                  <a:moveTo>
                    <a:pt x="124" y="74"/>
                  </a:moveTo>
                  <a:cubicBezTo>
                    <a:pt x="132" y="83"/>
                    <a:pt x="139" y="92"/>
                    <a:pt x="144" y="103"/>
                  </a:cubicBezTo>
                  <a:cubicBezTo>
                    <a:pt x="148" y="111"/>
                    <a:pt x="151" y="121"/>
                    <a:pt x="151" y="131"/>
                  </a:cubicBezTo>
                  <a:cubicBezTo>
                    <a:pt x="150" y="131"/>
                    <a:pt x="150" y="131"/>
                    <a:pt x="150" y="131"/>
                  </a:cubicBezTo>
                  <a:cubicBezTo>
                    <a:pt x="148" y="149"/>
                    <a:pt x="141" y="167"/>
                    <a:pt x="131" y="183"/>
                  </a:cubicBezTo>
                  <a:cubicBezTo>
                    <a:pt x="128" y="187"/>
                    <a:pt x="125" y="192"/>
                    <a:pt x="122" y="196"/>
                  </a:cubicBezTo>
                  <a:cubicBezTo>
                    <a:pt x="122" y="196"/>
                    <a:pt x="122" y="197"/>
                    <a:pt x="121" y="197"/>
                  </a:cubicBezTo>
                  <a:cubicBezTo>
                    <a:pt x="106" y="215"/>
                    <a:pt x="89" y="230"/>
                    <a:pt x="72" y="246"/>
                  </a:cubicBezTo>
                  <a:cubicBezTo>
                    <a:pt x="55" y="262"/>
                    <a:pt x="38" y="279"/>
                    <a:pt x="25" y="298"/>
                  </a:cubicBezTo>
                  <a:cubicBezTo>
                    <a:pt x="23" y="300"/>
                    <a:pt x="22" y="302"/>
                    <a:pt x="20" y="305"/>
                  </a:cubicBezTo>
                  <a:cubicBezTo>
                    <a:pt x="18" y="307"/>
                    <a:pt x="17" y="310"/>
                    <a:pt x="15" y="313"/>
                  </a:cubicBezTo>
                  <a:cubicBezTo>
                    <a:pt x="9" y="322"/>
                    <a:pt x="4" y="333"/>
                    <a:pt x="2" y="345"/>
                  </a:cubicBezTo>
                  <a:cubicBezTo>
                    <a:pt x="0" y="351"/>
                    <a:pt x="0" y="357"/>
                    <a:pt x="1" y="363"/>
                  </a:cubicBezTo>
                  <a:cubicBezTo>
                    <a:pt x="1" y="369"/>
                    <a:pt x="3" y="374"/>
                    <a:pt x="6" y="379"/>
                  </a:cubicBezTo>
                  <a:cubicBezTo>
                    <a:pt x="8" y="383"/>
                    <a:pt x="10" y="387"/>
                    <a:pt x="12" y="390"/>
                  </a:cubicBezTo>
                  <a:cubicBezTo>
                    <a:pt x="13" y="392"/>
                    <a:pt x="14" y="394"/>
                    <a:pt x="15" y="396"/>
                  </a:cubicBezTo>
                  <a:cubicBezTo>
                    <a:pt x="16" y="396"/>
                    <a:pt x="16" y="396"/>
                    <a:pt x="16" y="396"/>
                  </a:cubicBezTo>
                  <a:cubicBezTo>
                    <a:pt x="19" y="400"/>
                    <a:pt x="22" y="404"/>
                    <a:pt x="26" y="408"/>
                  </a:cubicBezTo>
                  <a:cubicBezTo>
                    <a:pt x="41" y="426"/>
                    <a:pt x="59" y="441"/>
                    <a:pt x="76" y="457"/>
                  </a:cubicBezTo>
                  <a:cubicBezTo>
                    <a:pt x="93" y="473"/>
                    <a:pt x="110" y="489"/>
                    <a:pt x="124" y="507"/>
                  </a:cubicBezTo>
                  <a:cubicBezTo>
                    <a:pt x="132" y="516"/>
                    <a:pt x="139" y="525"/>
                    <a:pt x="144" y="535"/>
                  </a:cubicBezTo>
                  <a:cubicBezTo>
                    <a:pt x="148" y="544"/>
                    <a:pt x="151" y="554"/>
                    <a:pt x="151" y="564"/>
                  </a:cubicBezTo>
                  <a:cubicBezTo>
                    <a:pt x="150" y="564"/>
                    <a:pt x="150" y="564"/>
                    <a:pt x="150" y="564"/>
                  </a:cubicBezTo>
                  <a:cubicBezTo>
                    <a:pt x="148" y="582"/>
                    <a:pt x="141" y="600"/>
                    <a:pt x="131" y="616"/>
                  </a:cubicBezTo>
                  <a:cubicBezTo>
                    <a:pt x="128" y="620"/>
                    <a:pt x="125" y="625"/>
                    <a:pt x="122" y="629"/>
                  </a:cubicBezTo>
                  <a:cubicBezTo>
                    <a:pt x="122" y="629"/>
                    <a:pt x="122" y="629"/>
                    <a:pt x="121" y="630"/>
                  </a:cubicBezTo>
                  <a:cubicBezTo>
                    <a:pt x="106" y="648"/>
                    <a:pt x="89" y="663"/>
                    <a:pt x="72" y="679"/>
                  </a:cubicBezTo>
                  <a:cubicBezTo>
                    <a:pt x="55" y="695"/>
                    <a:pt x="38" y="711"/>
                    <a:pt x="25" y="730"/>
                  </a:cubicBezTo>
                  <a:cubicBezTo>
                    <a:pt x="23" y="733"/>
                    <a:pt x="22" y="735"/>
                    <a:pt x="20" y="737"/>
                  </a:cubicBezTo>
                  <a:cubicBezTo>
                    <a:pt x="18" y="740"/>
                    <a:pt x="17" y="743"/>
                    <a:pt x="15" y="745"/>
                  </a:cubicBezTo>
                  <a:cubicBezTo>
                    <a:pt x="9" y="755"/>
                    <a:pt x="4" y="766"/>
                    <a:pt x="2" y="778"/>
                  </a:cubicBezTo>
                  <a:cubicBezTo>
                    <a:pt x="0" y="784"/>
                    <a:pt x="0" y="789"/>
                    <a:pt x="1" y="795"/>
                  </a:cubicBezTo>
                  <a:cubicBezTo>
                    <a:pt x="1" y="801"/>
                    <a:pt x="3" y="807"/>
                    <a:pt x="6" y="812"/>
                  </a:cubicBezTo>
                  <a:cubicBezTo>
                    <a:pt x="8" y="816"/>
                    <a:pt x="10" y="819"/>
                    <a:pt x="12" y="823"/>
                  </a:cubicBezTo>
                  <a:cubicBezTo>
                    <a:pt x="13" y="825"/>
                    <a:pt x="14" y="827"/>
                    <a:pt x="15" y="828"/>
                  </a:cubicBezTo>
                  <a:cubicBezTo>
                    <a:pt x="16" y="828"/>
                    <a:pt x="16" y="828"/>
                    <a:pt x="16" y="828"/>
                  </a:cubicBezTo>
                  <a:cubicBezTo>
                    <a:pt x="19" y="833"/>
                    <a:pt x="22" y="837"/>
                    <a:pt x="26" y="841"/>
                  </a:cubicBezTo>
                  <a:cubicBezTo>
                    <a:pt x="41" y="858"/>
                    <a:pt x="59" y="874"/>
                    <a:pt x="76" y="890"/>
                  </a:cubicBezTo>
                  <a:cubicBezTo>
                    <a:pt x="93" y="906"/>
                    <a:pt x="110" y="922"/>
                    <a:pt x="124" y="939"/>
                  </a:cubicBezTo>
                  <a:cubicBezTo>
                    <a:pt x="132" y="948"/>
                    <a:pt x="139" y="958"/>
                    <a:pt x="144" y="968"/>
                  </a:cubicBezTo>
                  <a:cubicBezTo>
                    <a:pt x="147" y="976"/>
                    <a:pt x="150" y="984"/>
                    <a:pt x="151" y="993"/>
                  </a:cubicBezTo>
                  <a:cubicBezTo>
                    <a:pt x="150" y="993"/>
                    <a:pt x="150" y="993"/>
                    <a:pt x="150" y="993"/>
                  </a:cubicBezTo>
                  <a:cubicBezTo>
                    <a:pt x="148" y="1012"/>
                    <a:pt x="141" y="1029"/>
                    <a:pt x="131" y="1045"/>
                  </a:cubicBezTo>
                  <a:cubicBezTo>
                    <a:pt x="119" y="1065"/>
                    <a:pt x="103" y="1082"/>
                    <a:pt x="86" y="1098"/>
                  </a:cubicBezTo>
                  <a:cubicBezTo>
                    <a:pt x="70" y="1114"/>
                    <a:pt x="52" y="1130"/>
                    <a:pt x="36" y="1147"/>
                  </a:cubicBezTo>
                  <a:cubicBezTo>
                    <a:pt x="29" y="1156"/>
                    <a:pt x="21" y="1165"/>
                    <a:pt x="15" y="1175"/>
                  </a:cubicBezTo>
                  <a:cubicBezTo>
                    <a:pt x="9" y="1185"/>
                    <a:pt x="4" y="1195"/>
                    <a:pt x="2" y="1207"/>
                  </a:cubicBezTo>
                  <a:cubicBezTo>
                    <a:pt x="0" y="1213"/>
                    <a:pt x="0" y="1219"/>
                    <a:pt x="1" y="1225"/>
                  </a:cubicBezTo>
                  <a:cubicBezTo>
                    <a:pt x="1" y="1231"/>
                    <a:pt x="3" y="1236"/>
                    <a:pt x="6" y="1242"/>
                  </a:cubicBezTo>
                  <a:cubicBezTo>
                    <a:pt x="7" y="1243"/>
                    <a:pt x="7" y="1244"/>
                    <a:pt x="8" y="1245"/>
                  </a:cubicBezTo>
                  <a:cubicBezTo>
                    <a:pt x="10" y="1251"/>
                    <a:pt x="12" y="1256"/>
                    <a:pt x="15" y="1261"/>
                  </a:cubicBezTo>
                  <a:cubicBezTo>
                    <a:pt x="19" y="1261"/>
                    <a:pt x="19" y="1261"/>
                    <a:pt x="19" y="1261"/>
                  </a:cubicBezTo>
                  <a:cubicBezTo>
                    <a:pt x="21" y="1264"/>
                    <a:pt x="23" y="1267"/>
                    <a:pt x="26" y="1270"/>
                  </a:cubicBezTo>
                  <a:cubicBezTo>
                    <a:pt x="41" y="1288"/>
                    <a:pt x="59" y="1303"/>
                    <a:pt x="76" y="1319"/>
                  </a:cubicBezTo>
                  <a:cubicBezTo>
                    <a:pt x="93" y="1335"/>
                    <a:pt x="110" y="1351"/>
                    <a:pt x="124" y="1369"/>
                  </a:cubicBezTo>
                  <a:cubicBezTo>
                    <a:pt x="132" y="1378"/>
                    <a:pt x="139" y="1387"/>
                    <a:pt x="144" y="1398"/>
                  </a:cubicBezTo>
                  <a:cubicBezTo>
                    <a:pt x="148" y="1406"/>
                    <a:pt x="150" y="1415"/>
                    <a:pt x="151" y="1425"/>
                  </a:cubicBezTo>
                  <a:cubicBezTo>
                    <a:pt x="150" y="1425"/>
                    <a:pt x="150" y="1425"/>
                    <a:pt x="150" y="1425"/>
                  </a:cubicBezTo>
                  <a:cubicBezTo>
                    <a:pt x="148" y="1443"/>
                    <a:pt x="141" y="1461"/>
                    <a:pt x="131" y="1477"/>
                  </a:cubicBezTo>
                  <a:cubicBezTo>
                    <a:pt x="126" y="1485"/>
                    <a:pt x="120" y="1493"/>
                    <a:pt x="113" y="1501"/>
                  </a:cubicBezTo>
                  <a:cubicBezTo>
                    <a:pt x="100" y="1515"/>
                    <a:pt x="86" y="1528"/>
                    <a:pt x="72" y="1541"/>
                  </a:cubicBezTo>
                  <a:cubicBezTo>
                    <a:pt x="56" y="1556"/>
                    <a:pt x="40" y="1572"/>
                    <a:pt x="27" y="1590"/>
                  </a:cubicBezTo>
                  <a:cubicBezTo>
                    <a:pt x="23" y="1595"/>
                    <a:pt x="19" y="1600"/>
                    <a:pt x="15" y="1606"/>
                  </a:cubicBezTo>
                  <a:cubicBezTo>
                    <a:pt x="9" y="1616"/>
                    <a:pt x="4" y="1627"/>
                    <a:pt x="2" y="1639"/>
                  </a:cubicBezTo>
                  <a:cubicBezTo>
                    <a:pt x="0" y="1644"/>
                    <a:pt x="0" y="1650"/>
                    <a:pt x="1" y="1656"/>
                  </a:cubicBezTo>
                  <a:cubicBezTo>
                    <a:pt x="1" y="1662"/>
                    <a:pt x="3" y="1668"/>
                    <a:pt x="6" y="1673"/>
                  </a:cubicBezTo>
                  <a:cubicBezTo>
                    <a:pt x="7" y="1676"/>
                    <a:pt x="9" y="1679"/>
                    <a:pt x="10" y="1681"/>
                  </a:cubicBezTo>
                  <a:cubicBezTo>
                    <a:pt x="12" y="1685"/>
                    <a:pt x="13" y="1688"/>
                    <a:pt x="15" y="1691"/>
                  </a:cubicBezTo>
                  <a:cubicBezTo>
                    <a:pt x="17" y="1691"/>
                    <a:pt x="17" y="1691"/>
                    <a:pt x="17" y="1691"/>
                  </a:cubicBezTo>
                  <a:cubicBezTo>
                    <a:pt x="20" y="1694"/>
                    <a:pt x="23" y="1698"/>
                    <a:pt x="26" y="1702"/>
                  </a:cubicBezTo>
                  <a:cubicBezTo>
                    <a:pt x="41" y="1719"/>
                    <a:pt x="59" y="1735"/>
                    <a:pt x="76" y="1751"/>
                  </a:cubicBezTo>
                  <a:cubicBezTo>
                    <a:pt x="93" y="1767"/>
                    <a:pt x="110" y="1783"/>
                    <a:pt x="124" y="1800"/>
                  </a:cubicBezTo>
                  <a:cubicBezTo>
                    <a:pt x="132" y="1809"/>
                    <a:pt x="139" y="1819"/>
                    <a:pt x="144" y="1829"/>
                  </a:cubicBezTo>
                  <a:cubicBezTo>
                    <a:pt x="147" y="1837"/>
                    <a:pt x="150" y="1846"/>
                    <a:pt x="151" y="1855"/>
                  </a:cubicBezTo>
                  <a:cubicBezTo>
                    <a:pt x="150" y="1855"/>
                    <a:pt x="150" y="1855"/>
                    <a:pt x="150" y="1855"/>
                  </a:cubicBezTo>
                  <a:cubicBezTo>
                    <a:pt x="148" y="1874"/>
                    <a:pt x="141" y="1891"/>
                    <a:pt x="131" y="1907"/>
                  </a:cubicBezTo>
                  <a:cubicBezTo>
                    <a:pt x="121" y="1923"/>
                    <a:pt x="108" y="1938"/>
                    <a:pt x="95" y="1951"/>
                  </a:cubicBezTo>
                  <a:cubicBezTo>
                    <a:pt x="87" y="1959"/>
                    <a:pt x="80" y="1966"/>
                    <a:pt x="72" y="1973"/>
                  </a:cubicBezTo>
                  <a:cubicBezTo>
                    <a:pt x="61" y="1984"/>
                    <a:pt x="49" y="1995"/>
                    <a:pt x="39" y="2007"/>
                  </a:cubicBezTo>
                  <a:cubicBezTo>
                    <a:pt x="38" y="2008"/>
                    <a:pt x="37" y="2008"/>
                    <a:pt x="36" y="2009"/>
                  </a:cubicBezTo>
                  <a:cubicBezTo>
                    <a:pt x="29" y="2018"/>
                    <a:pt x="21" y="2027"/>
                    <a:pt x="15" y="2037"/>
                  </a:cubicBezTo>
                  <a:cubicBezTo>
                    <a:pt x="9" y="2047"/>
                    <a:pt x="4" y="2057"/>
                    <a:pt x="2" y="2069"/>
                  </a:cubicBezTo>
                  <a:cubicBezTo>
                    <a:pt x="0" y="2075"/>
                    <a:pt x="0" y="2081"/>
                    <a:pt x="1" y="2087"/>
                  </a:cubicBezTo>
                  <a:cubicBezTo>
                    <a:pt x="1" y="2093"/>
                    <a:pt x="3" y="2098"/>
                    <a:pt x="6" y="2104"/>
                  </a:cubicBezTo>
                  <a:cubicBezTo>
                    <a:pt x="7" y="2106"/>
                    <a:pt x="8" y="2107"/>
                    <a:pt x="9" y="2109"/>
                  </a:cubicBezTo>
                  <a:cubicBezTo>
                    <a:pt x="11" y="2114"/>
                    <a:pt x="13" y="2118"/>
                    <a:pt x="15" y="2122"/>
                  </a:cubicBezTo>
                  <a:cubicBezTo>
                    <a:pt x="18" y="2122"/>
                    <a:pt x="18" y="2122"/>
                    <a:pt x="18" y="2122"/>
                  </a:cubicBezTo>
                  <a:cubicBezTo>
                    <a:pt x="20" y="2126"/>
                    <a:pt x="23" y="2129"/>
                    <a:pt x="26" y="2132"/>
                  </a:cubicBezTo>
                  <a:cubicBezTo>
                    <a:pt x="34" y="2142"/>
                    <a:pt x="43" y="2150"/>
                    <a:pt x="52" y="2159"/>
                  </a:cubicBezTo>
                  <a:cubicBezTo>
                    <a:pt x="68" y="2159"/>
                    <a:pt x="68" y="2159"/>
                    <a:pt x="68" y="2159"/>
                  </a:cubicBezTo>
                  <a:cubicBezTo>
                    <a:pt x="56" y="2148"/>
                    <a:pt x="44" y="2137"/>
                    <a:pt x="34" y="2125"/>
                  </a:cubicBezTo>
                  <a:cubicBezTo>
                    <a:pt x="27" y="2117"/>
                    <a:pt x="21" y="2109"/>
                    <a:pt x="16" y="2101"/>
                  </a:cubicBezTo>
                  <a:cubicBezTo>
                    <a:pt x="15" y="2097"/>
                    <a:pt x="14" y="2093"/>
                    <a:pt x="14" y="2089"/>
                  </a:cubicBezTo>
                  <a:cubicBezTo>
                    <a:pt x="12" y="2068"/>
                    <a:pt x="21" y="2048"/>
                    <a:pt x="34" y="2030"/>
                  </a:cubicBezTo>
                  <a:cubicBezTo>
                    <a:pt x="46" y="2012"/>
                    <a:pt x="63" y="1997"/>
                    <a:pt x="80" y="1981"/>
                  </a:cubicBezTo>
                  <a:cubicBezTo>
                    <a:pt x="97" y="1965"/>
                    <a:pt x="114" y="1949"/>
                    <a:pt x="130" y="1931"/>
                  </a:cubicBezTo>
                  <a:cubicBezTo>
                    <a:pt x="138" y="1922"/>
                    <a:pt x="145" y="1912"/>
                    <a:pt x="151" y="1900"/>
                  </a:cubicBezTo>
                  <a:cubicBezTo>
                    <a:pt x="156" y="1891"/>
                    <a:pt x="160" y="1881"/>
                    <a:pt x="162" y="1870"/>
                  </a:cubicBezTo>
                  <a:cubicBezTo>
                    <a:pt x="161" y="1867"/>
                    <a:pt x="161" y="1865"/>
                    <a:pt x="161" y="1862"/>
                  </a:cubicBezTo>
                  <a:cubicBezTo>
                    <a:pt x="160" y="1857"/>
                    <a:pt x="161" y="1852"/>
                    <a:pt x="162" y="1846"/>
                  </a:cubicBezTo>
                  <a:cubicBezTo>
                    <a:pt x="162" y="1845"/>
                    <a:pt x="161" y="1844"/>
                    <a:pt x="161" y="1843"/>
                  </a:cubicBezTo>
                  <a:cubicBezTo>
                    <a:pt x="160" y="1836"/>
                    <a:pt x="157" y="1830"/>
                    <a:pt x="154" y="1824"/>
                  </a:cubicBezTo>
                  <a:cubicBezTo>
                    <a:pt x="149" y="1812"/>
                    <a:pt x="141" y="1802"/>
                    <a:pt x="133" y="1793"/>
                  </a:cubicBezTo>
                  <a:cubicBezTo>
                    <a:pt x="118" y="1774"/>
                    <a:pt x="100" y="1758"/>
                    <a:pt x="83" y="1743"/>
                  </a:cubicBezTo>
                  <a:cubicBezTo>
                    <a:pt x="66" y="1727"/>
                    <a:pt x="49" y="1712"/>
                    <a:pt x="34" y="1695"/>
                  </a:cubicBezTo>
                  <a:cubicBezTo>
                    <a:pt x="27" y="1687"/>
                    <a:pt x="21" y="1679"/>
                    <a:pt x="17" y="1671"/>
                  </a:cubicBezTo>
                  <a:cubicBezTo>
                    <a:pt x="15" y="1667"/>
                    <a:pt x="14" y="1662"/>
                    <a:pt x="14" y="1658"/>
                  </a:cubicBezTo>
                  <a:cubicBezTo>
                    <a:pt x="12" y="1637"/>
                    <a:pt x="21" y="1616"/>
                    <a:pt x="34" y="1599"/>
                  </a:cubicBezTo>
                  <a:cubicBezTo>
                    <a:pt x="46" y="1581"/>
                    <a:pt x="63" y="1565"/>
                    <a:pt x="80" y="1549"/>
                  </a:cubicBezTo>
                  <a:cubicBezTo>
                    <a:pt x="97" y="1534"/>
                    <a:pt x="114" y="1518"/>
                    <a:pt x="130" y="1499"/>
                  </a:cubicBezTo>
                  <a:cubicBezTo>
                    <a:pt x="138" y="1490"/>
                    <a:pt x="145" y="1480"/>
                    <a:pt x="151" y="1469"/>
                  </a:cubicBezTo>
                  <a:cubicBezTo>
                    <a:pt x="156" y="1459"/>
                    <a:pt x="160" y="1449"/>
                    <a:pt x="162" y="1438"/>
                  </a:cubicBezTo>
                  <a:cubicBezTo>
                    <a:pt x="161" y="1436"/>
                    <a:pt x="161" y="1433"/>
                    <a:pt x="161" y="1431"/>
                  </a:cubicBezTo>
                  <a:cubicBezTo>
                    <a:pt x="160" y="1425"/>
                    <a:pt x="161" y="1420"/>
                    <a:pt x="162" y="1415"/>
                  </a:cubicBezTo>
                  <a:cubicBezTo>
                    <a:pt x="162" y="1413"/>
                    <a:pt x="161" y="1412"/>
                    <a:pt x="161" y="1411"/>
                  </a:cubicBezTo>
                  <a:cubicBezTo>
                    <a:pt x="160" y="1404"/>
                    <a:pt x="157" y="1398"/>
                    <a:pt x="154" y="1392"/>
                  </a:cubicBezTo>
                  <a:cubicBezTo>
                    <a:pt x="149" y="1381"/>
                    <a:pt x="141" y="1371"/>
                    <a:pt x="133" y="1361"/>
                  </a:cubicBezTo>
                  <a:cubicBezTo>
                    <a:pt x="118" y="1343"/>
                    <a:pt x="100" y="1327"/>
                    <a:pt x="83" y="1311"/>
                  </a:cubicBezTo>
                  <a:cubicBezTo>
                    <a:pt x="66" y="1295"/>
                    <a:pt x="49" y="1280"/>
                    <a:pt x="34" y="1263"/>
                  </a:cubicBezTo>
                  <a:cubicBezTo>
                    <a:pt x="27" y="1255"/>
                    <a:pt x="20" y="1247"/>
                    <a:pt x="16" y="1238"/>
                  </a:cubicBezTo>
                  <a:cubicBezTo>
                    <a:pt x="15" y="1235"/>
                    <a:pt x="14" y="1232"/>
                    <a:pt x="14" y="1228"/>
                  </a:cubicBezTo>
                  <a:cubicBezTo>
                    <a:pt x="12" y="1207"/>
                    <a:pt x="21" y="1187"/>
                    <a:pt x="34" y="1169"/>
                  </a:cubicBezTo>
                  <a:cubicBezTo>
                    <a:pt x="46" y="1152"/>
                    <a:pt x="63" y="1136"/>
                    <a:pt x="80" y="1120"/>
                  </a:cubicBezTo>
                  <a:cubicBezTo>
                    <a:pt x="97" y="1104"/>
                    <a:pt x="114" y="1089"/>
                    <a:pt x="130" y="1070"/>
                  </a:cubicBezTo>
                  <a:cubicBezTo>
                    <a:pt x="138" y="1061"/>
                    <a:pt x="145" y="1051"/>
                    <a:pt x="151" y="1039"/>
                  </a:cubicBezTo>
                  <a:cubicBezTo>
                    <a:pt x="156" y="1030"/>
                    <a:pt x="160" y="1020"/>
                    <a:pt x="162" y="1009"/>
                  </a:cubicBezTo>
                  <a:cubicBezTo>
                    <a:pt x="161" y="1006"/>
                    <a:pt x="161" y="1004"/>
                    <a:pt x="161" y="1001"/>
                  </a:cubicBezTo>
                  <a:cubicBezTo>
                    <a:pt x="160" y="996"/>
                    <a:pt x="161" y="991"/>
                    <a:pt x="162" y="985"/>
                  </a:cubicBezTo>
                  <a:cubicBezTo>
                    <a:pt x="162" y="984"/>
                    <a:pt x="161" y="983"/>
                    <a:pt x="161" y="982"/>
                  </a:cubicBezTo>
                  <a:cubicBezTo>
                    <a:pt x="160" y="975"/>
                    <a:pt x="157" y="969"/>
                    <a:pt x="154" y="963"/>
                  </a:cubicBezTo>
                  <a:cubicBezTo>
                    <a:pt x="149" y="951"/>
                    <a:pt x="141" y="941"/>
                    <a:pt x="133" y="932"/>
                  </a:cubicBezTo>
                  <a:cubicBezTo>
                    <a:pt x="118" y="913"/>
                    <a:pt x="100" y="897"/>
                    <a:pt x="83" y="882"/>
                  </a:cubicBezTo>
                  <a:cubicBezTo>
                    <a:pt x="66" y="866"/>
                    <a:pt x="49" y="851"/>
                    <a:pt x="34" y="834"/>
                  </a:cubicBezTo>
                  <a:cubicBezTo>
                    <a:pt x="28" y="827"/>
                    <a:pt x="22" y="819"/>
                    <a:pt x="17" y="811"/>
                  </a:cubicBezTo>
                  <a:cubicBezTo>
                    <a:pt x="16" y="806"/>
                    <a:pt x="14" y="801"/>
                    <a:pt x="14" y="795"/>
                  </a:cubicBezTo>
                  <a:cubicBezTo>
                    <a:pt x="12" y="774"/>
                    <a:pt x="21" y="754"/>
                    <a:pt x="34" y="737"/>
                  </a:cubicBezTo>
                  <a:cubicBezTo>
                    <a:pt x="46" y="719"/>
                    <a:pt x="63" y="703"/>
                    <a:pt x="80" y="687"/>
                  </a:cubicBezTo>
                  <a:cubicBezTo>
                    <a:pt x="97" y="671"/>
                    <a:pt x="114" y="656"/>
                    <a:pt x="130" y="637"/>
                  </a:cubicBezTo>
                  <a:cubicBezTo>
                    <a:pt x="138" y="628"/>
                    <a:pt x="145" y="618"/>
                    <a:pt x="151" y="607"/>
                  </a:cubicBezTo>
                  <a:cubicBezTo>
                    <a:pt x="156" y="597"/>
                    <a:pt x="160" y="587"/>
                    <a:pt x="162" y="576"/>
                  </a:cubicBezTo>
                  <a:cubicBezTo>
                    <a:pt x="161" y="573"/>
                    <a:pt x="161" y="571"/>
                    <a:pt x="161" y="569"/>
                  </a:cubicBezTo>
                  <a:cubicBezTo>
                    <a:pt x="160" y="563"/>
                    <a:pt x="161" y="558"/>
                    <a:pt x="162" y="553"/>
                  </a:cubicBezTo>
                  <a:cubicBezTo>
                    <a:pt x="162" y="551"/>
                    <a:pt x="161" y="550"/>
                    <a:pt x="161" y="549"/>
                  </a:cubicBezTo>
                  <a:cubicBezTo>
                    <a:pt x="160" y="542"/>
                    <a:pt x="157" y="536"/>
                    <a:pt x="154" y="530"/>
                  </a:cubicBezTo>
                  <a:cubicBezTo>
                    <a:pt x="149" y="519"/>
                    <a:pt x="141" y="509"/>
                    <a:pt x="133" y="499"/>
                  </a:cubicBezTo>
                  <a:cubicBezTo>
                    <a:pt x="118" y="481"/>
                    <a:pt x="100" y="465"/>
                    <a:pt x="83" y="449"/>
                  </a:cubicBezTo>
                  <a:cubicBezTo>
                    <a:pt x="66" y="433"/>
                    <a:pt x="49" y="418"/>
                    <a:pt x="34" y="401"/>
                  </a:cubicBezTo>
                  <a:cubicBezTo>
                    <a:pt x="28" y="394"/>
                    <a:pt x="22" y="386"/>
                    <a:pt x="17" y="379"/>
                  </a:cubicBezTo>
                  <a:cubicBezTo>
                    <a:pt x="16" y="373"/>
                    <a:pt x="14" y="368"/>
                    <a:pt x="14" y="363"/>
                  </a:cubicBezTo>
                  <a:cubicBezTo>
                    <a:pt x="12" y="342"/>
                    <a:pt x="21" y="322"/>
                    <a:pt x="34" y="304"/>
                  </a:cubicBezTo>
                  <a:cubicBezTo>
                    <a:pt x="46" y="286"/>
                    <a:pt x="63" y="270"/>
                    <a:pt x="80" y="254"/>
                  </a:cubicBezTo>
                  <a:cubicBezTo>
                    <a:pt x="97" y="239"/>
                    <a:pt x="114" y="223"/>
                    <a:pt x="130" y="204"/>
                  </a:cubicBezTo>
                  <a:cubicBezTo>
                    <a:pt x="138" y="195"/>
                    <a:pt x="145" y="185"/>
                    <a:pt x="151" y="174"/>
                  </a:cubicBezTo>
                  <a:cubicBezTo>
                    <a:pt x="156" y="164"/>
                    <a:pt x="160" y="154"/>
                    <a:pt x="162" y="143"/>
                  </a:cubicBezTo>
                  <a:cubicBezTo>
                    <a:pt x="161" y="141"/>
                    <a:pt x="161" y="138"/>
                    <a:pt x="161" y="136"/>
                  </a:cubicBezTo>
                  <a:cubicBezTo>
                    <a:pt x="160" y="130"/>
                    <a:pt x="161" y="125"/>
                    <a:pt x="162" y="120"/>
                  </a:cubicBezTo>
                  <a:cubicBezTo>
                    <a:pt x="162" y="119"/>
                    <a:pt x="161" y="117"/>
                    <a:pt x="161" y="116"/>
                  </a:cubicBezTo>
                  <a:cubicBezTo>
                    <a:pt x="160" y="109"/>
                    <a:pt x="157" y="103"/>
                    <a:pt x="154" y="97"/>
                  </a:cubicBezTo>
                  <a:cubicBezTo>
                    <a:pt x="149" y="86"/>
                    <a:pt x="141" y="76"/>
                    <a:pt x="133" y="66"/>
                  </a:cubicBezTo>
                  <a:cubicBezTo>
                    <a:pt x="118" y="48"/>
                    <a:pt x="100" y="32"/>
                    <a:pt x="83" y="16"/>
                  </a:cubicBezTo>
                  <a:cubicBezTo>
                    <a:pt x="77" y="11"/>
                    <a:pt x="71" y="5"/>
                    <a:pt x="66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8" y="8"/>
                    <a:pt x="67" y="16"/>
                    <a:pt x="76" y="24"/>
                  </a:cubicBezTo>
                  <a:cubicBezTo>
                    <a:pt x="93" y="40"/>
                    <a:pt x="110" y="56"/>
                    <a:pt x="124" y="74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86" name="Freeform 20"/>
            <p:cNvSpPr/>
            <p:nvPr/>
          </p:nvSpPr>
          <p:spPr>
            <a:xfrm>
              <a:off x="8639280" y="-1440"/>
              <a:ext cx="1002960" cy="6862320"/>
            </a:xfrm>
            <a:custGeom>
              <a:avLst/>
              <a:gdLst>
                <a:gd name="textAreaLeft" fmla="*/ 0 w 1002960"/>
                <a:gd name="textAreaRight" fmla="*/ 1003320 w 100296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316" h="2159">
                  <a:moveTo>
                    <a:pt x="123" y="74"/>
                  </a:moveTo>
                  <a:cubicBezTo>
                    <a:pt x="130" y="83"/>
                    <a:pt x="137" y="92"/>
                    <a:pt x="142" y="103"/>
                  </a:cubicBezTo>
                  <a:cubicBezTo>
                    <a:pt x="146" y="111"/>
                    <a:pt x="149" y="121"/>
                    <a:pt x="149" y="131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46" y="149"/>
                    <a:pt x="139" y="167"/>
                    <a:pt x="129" y="183"/>
                  </a:cubicBezTo>
                  <a:cubicBezTo>
                    <a:pt x="127" y="187"/>
                    <a:pt x="124" y="192"/>
                    <a:pt x="121" y="196"/>
                  </a:cubicBezTo>
                  <a:cubicBezTo>
                    <a:pt x="120" y="196"/>
                    <a:pt x="120" y="197"/>
                    <a:pt x="120" y="197"/>
                  </a:cubicBezTo>
                  <a:cubicBezTo>
                    <a:pt x="105" y="215"/>
                    <a:pt x="87" y="230"/>
                    <a:pt x="71" y="246"/>
                  </a:cubicBezTo>
                  <a:cubicBezTo>
                    <a:pt x="54" y="262"/>
                    <a:pt x="37" y="279"/>
                    <a:pt x="23" y="298"/>
                  </a:cubicBezTo>
                  <a:cubicBezTo>
                    <a:pt x="22" y="300"/>
                    <a:pt x="20" y="302"/>
                    <a:pt x="19" y="305"/>
                  </a:cubicBezTo>
                  <a:cubicBezTo>
                    <a:pt x="17" y="307"/>
                    <a:pt x="15" y="310"/>
                    <a:pt x="13" y="313"/>
                  </a:cubicBezTo>
                  <a:cubicBezTo>
                    <a:pt x="7" y="322"/>
                    <a:pt x="2" y="333"/>
                    <a:pt x="0" y="345"/>
                  </a:cubicBezTo>
                  <a:cubicBezTo>
                    <a:pt x="0" y="345"/>
                    <a:pt x="0" y="346"/>
                    <a:pt x="0" y="347"/>
                  </a:cubicBezTo>
                  <a:cubicBezTo>
                    <a:pt x="1" y="352"/>
                    <a:pt x="1" y="357"/>
                    <a:pt x="0" y="364"/>
                  </a:cubicBezTo>
                  <a:cubicBezTo>
                    <a:pt x="0" y="365"/>
                    <a:pt x="0" y="366"/>
                    <a:pt x="0" y="367"/>
                  </a:cubicBezTo>
                  <a:cubicBezTo>
                    <a:pt x="1" y="372"/>
                    <a:pt x="2" y="376"/>
                    <a:pt x="4" y="379"/>
                  </a:cubicBezTo>
                  <a:cubicBezTo>
                    <a:pt x="6" y="383"/>
                    <a:pt x="8" y="387"/>
                    <a:pt x="10" y="390"/>
                  </a:cubicBezTo>
                  <a:cubicBezTo>
                    <a:pt x="11" y="392"/>
                    <a:pt x="12" y="394"/>
                    <a:pt x="13" y="396"/>
                  </a:cubicBezTo>
                  <a:cubicBezTo>
                    <a:pt x="14" y="396"/>
                    <a:pt x="14" y="396"/>
                    <a:pt x="14" y="396"/>
                  </a:cubicBezTo>
                  <a:cubicBezTo>
                    <a:pt x="17" y="400"/>
                    <a:pt x="21" y="404"/>
                    <a:pt x="24" y="408"/>
                  </a:cubicBezTo>
                  <a:cubicBezTo>
                    <a:pt x="40" y="426"/>
                    <a:pt x="57" y="441"/>
                    <a:pt x="74" y="457"/>
                  </a:cubicBezTo>
                  <a:cubicBezTo>
                    <a:pt x="91" y="473"/>
                    <a:pt x="108" y="489"/>
                    <a:pt x="123" y="507"/>
                  </a:cubicBezTo>
                  <a:cubicBezTo>
                    <a:pt x="130" y="516"/>
                    <a:pt x="137" y="525"/>
                    <a:pt x="142" y="535"/>
                  </a:cubicBezTo>
                  <a:cubicBezTo>
                    <a:pt x="146" y="544"/>
                    <a:pt x="149" y="554"/>
                    <a:pt x="149" y="564"/>
                  </a:cubicBezTo>
                  <a:cubicBezTo>
                    <a:pt x="149" y="564"/>
                    <a:pt x="149" y="564"/>
                    <a:pt x="149" y="564"/>
                  </a:cubicBezTo>
                  <a:cubicBezTo>
                    <a:pt x="146" y="582"/>
                    <a:pt x="139" y="600"/>
                    <a:pt x="129" y="616"/>
                  </a:cubicBezTo>
                  <a:cubicBezTo>
                    <a:pt x="127" y="620"/>
                    <a:pt x="124" y="624"/>
                    <a:pt x="121" y="629"/>
                  </a:cubicBezTo>
                  <a:cubicBezTo>
                    <a:pt x="120" y="629"/>
                    <a:pt x="120" y="629"/>
                    <a:pt x="120" y="630"/>
                  </a:cubicBezTo>
                  <a:cubicBezTo>
                    <a:pt x="105" y="648"/>
                    <a:pt x="87" y="663"/>
                    <a:pt x="71" y="679"/>
                  </a:cubicBezTo>
                  <a:cubicBezTo>
                    <a:pt x="54" y="695"/>
                    <a:pt x="37" y="711"/>
                    <a:pt x="23" y="730"/>
                  </a:cubicBezTo>
                  <a:cubicBezTo>
                    <a:pt x="22" y="733"/>
                    <a:pt x="20" y="735"/>
                    <a:pt x="19" y="737"/>
                  </a:cubicBezTo>
                  <a:cubicBezTo>
                    <a:pt x="17" y="740"/>
                    <a:pt x="15" y="743"/>
                    <a:pt x="13" y="745"/>
                  </a:cubicBezTo>
                  <a:cubicBezTo>
                    <a:pt x="7" y="755"/>
                    <a:pt x="2" y="766"/>
                    <a:pt x="0" y="778"/>
                  </a:cubicBezTo>
                  <a:cubicBezTo>
                    <a:pt x="0" y="778"/>
                    <a:pt x="0" y="779"/>
                    <a:pt x="0" y="779"/>
                  </a:cubicBezTo>
                  <a:cubicBezTo>
                    <a:pt x="1" y="785"/>
                    <a:pt x="1" y="790"/>
                    <a:pt x="0" y="796"/>
                  </a:cubicBezTo>
                  <a:cubicBezTo>
                    <a:pt x="0" y="798"/>
                    <a:pt x="0" y="799"/>
                    <a:pt x="0" y="800"/>
                  </a:cubicBezTo>
                  <a:cubicBezTo>
                    <a:pt x="1" y="804"/>
                    <a:pt x="2" y="808"/>
                    <a:pt x="4" y="812"/>
                  </a:cubicBezTo>
                  <a:cubicBezTo>
                    <a:pt x="6" y="816"/>
                    <a:pt x="8" y="819"/>
                    <a:pt x="10" y="823"/>
                  </a:cubicBezTo>
                  <a:cubicBezTo>
                    <a:pt x="11" y="825"/>
                    <a:pt x="12" y="827"/>
                    <a:pt x="13" y="828"/>
                  </a:cubicBezTo>
                  <a:cubicBezTo>
                    <a:pt x="14" y="828"/>
                    <a:pt x="14" y="828"/>
                    <a:pt x="14" y="828"/>
                  </a:cubicBezTo>
                  <a:cubicBezTo>
                    <a:pt x="17" y="833"/>
                    <a:pt x="21" y="837"/>
                    <a:pt x="24" y="841"/>
                  </a:cubicBezTo>
                  <a:cubicBezTo>
                    <a:pt x="40" y="858"/>
                    <a:pt x="57" y="874"/>
                    <a:pt x="74" y="890"/>
                  </a:cubicBezTo>
                  <a:cubicBezTo>
                    <a:pt x="91" y="906"/>
                    <a:pt x="108" y="922"/>
                    <a:pt x="123" y="939"/>
                  </a:cubicBezTo>
                  <a:cubicBezTo>
                    <a:pt x="130" y="948"/>
                    <a:pt x="137" y="958"/>
                    <a:pt x="142" y="968"/>
                  </a:cubicBezTo>
                  <a:cubicBezTo>
                    <a:pt x="146" y="976"/>
                    <a:pt x="148" y="984"/>
                    <a:pt x="149" y="993"/>
                  </a:cubicBezTo>
                  <a:cubicBezTo>
                    <a:pt x="149" y="993"/>
                    <a:pt x="149" y="993"/>
                    <a:pt x="149" y="993"/>
                  </a:cubicBezTo>
                  <a:cubicBezTo>
                    <a:pt x="146" y="1012"/>
                    <a:pt x="139" y="1029"/>
                    <a:pt x="129" y="1045"/>
                  </a:cubicBezTo>
                  <a:cubicBezTo>
                    <a:pt x="117" y="1065"/>
                    <a:pt x="101" y="1082"/>
                    <a:pt x="84" y="1098"/>
                  </a:cubicBezTo>
                  <a:cubicBezTo>
                    <a:pt x="68" y="1114"/>
                    <a:pt x="51" y="1130"/>
                    <a:pt x="35" y="1147"/>
                  </a:cubicBezTo>
                  <a:cubicBezTo>
                    <a:pt x="27" y="1156"/>
                    <a:pt x="20" y="1165"/>
                    <a:pt x="13" y="1175"/>
                  </a:cubicBezTo>
                  <a:cubicBezTo>
                    <a:pt x="7" y="1185"/>
                    <a:pt x="2" y="1195"/>
                    <a:pt x="0" y="1207"/>
                  </a:cubicBezTo>
                  <a:cubicBezTo>
                    <a:pt x="0" y="1208"/>
                    <a:pt x="0" y="1208"/>
                    <a:pt x="0" y="1209"/>
                  </a:cubicBezTo>
                  <a:cubicBezTo>
                    <a:pt x="1" y="1214"/>
                    <a:pt x="1" y="1220"/>
                    <a:pt x="0" y="1226"/>
                  </a:cubicBezTo>
                  <a:cubicBezTo>
                    <a:pt x="0" y="1227"/>
                    <a:pt x="0" y="1228"/>
                    <a:pt x="0" y="1230"/>
                  </a:cubicBezTo>
                  <a:cubicBezTo>
                    <a:pt x="1" y="1234"/>
                    <a:pt x="2" y="1238"/>
                    <a:pt x="4" y="1242"/>
                  </a:cubicBezTo>
                  <a:cubicBezTo>
                    <a:pt x="5" y="1243"/>
                    <a:pt x="6" y="1244"/>
                    <a:pt x="6" y="1245"/>
                  </a:cubicBezTo>
                  <a:cubicBezTo>
                    <a:pt x="8" y="1251"/>
                    <a:pt x="10" y="1256"/>
                    <a:pt x="13" y="1261"/>
                  </a:cubicBezTo>
                  <a:cubicBezTo>
                    <a:pt x="17" y="1261"/>
                    <a:pt x="17" y="1261"/>
                    <a:pt x="17" y="1261"/>
                  </a:cubicBezTo>
                  <a:cubicBezTo>
                    <a:pt x="19" y="1264"/>
                    <a:pt x="22" y="1267"/>
                    <a:pt x="24" y="1270"/>
                  </a:cubicBezTo>
                  <a:cubicBezTo>
                    <a:pt x="40" y="1288"/>
                    <a:pt x="57" y="1303"/>
                    <a:pt x="74" y="1319"/>
                  </a:cubicBezTo>
                  <a:cubicBezTo>
                    <a:pt x="91" y="1335"/>
                    <a:pt x="108" y="1351"/>
                    <a:pt x="123" y="1369"/>
                  </a:cubicBezTo>
                  <a:cubicBezTo>
                    <a:pt x="130" y="1378"/>
                    <a:pt x="137" y="1387"/>
                    <a:pt x="142" y="1398"/>
                  </a:cubicBezTo>
                  <a:cubicBezTo>
                    <a:pt x="146" y="1406"/>
                    <a:pt x="149" y="1415"/>
                    <a:pt x="149" y="1425"/>
                  </a:cubicBezTo>
                  <a:cubicBezTo>
                    <a:pt x="149" y="1425"/>
                    <a:pt x="149" y="1425"/>
                    <a:pt x="149" y="1425"/>
                  </a:cubicBezTo>
                  <a:cubicBezTo>
                    <a:pt x="146" y="1443"/>
                    <a:pt x="139" y="1461"/>
                    <a:pt x="129" y="1477"/>
                  </a:cubicBezTo>
                  <a:cubicBezTo>
                    <a:pt x="124" y="1485"/>
                    <a:pt x="118" y="1493"/>
                    <a:pt x="111" y="1501"/>
                  </a:cubicBezTo>
                  <a:cubicBezTo>
                    <a:pt x="99" y="1515"/>
                    <a:pt x="84" y="1528"/>
                    <a:pt x="71" y="1541"/>
                  </a:cubicBezTo>
                  <a:cubicBezTo>
                    <a:pt x="55" y="1556"/>
                    <a:pt x="39" y="1572"/>
                    <a:pt x="26" y="1590"/>
                  </a:cubicBezTo>
                  <a:cubicBezTo>
                    <a:pt x="21" y="1595"/>
                    <a:pt x="17" y="1600"/>
                    <a:pt x="13" y="1606"/>
                  </a:cubicBezTo>
                  <a:cubicBezTo>
                    <a:pt x="7" y="1616"/>
                    <a:pt x="2" y="1627"/>
                    <a:pt x="0" y="1639"/>
                  </a:cubicBezTo>
                  <a:cubicBezTo>
                    <a:pt x="0" y="1639"/>
                    <a:pt x="0" y="1640"/>
                    <a:pt x="0" y="1640"/>
                  </a:cubicBezTo>
                  <a:cubicBezTo>
                    <a:pt x="1" y="1646"/>
                    <a:pt x="1" y="1651"/>
                    <a:pt x="0" y="1657"/>
                  </a:cubicBezTo>
                  <a:cubicBezTo>
                    <a:pt x="0" y="1659"/>
                    <a:pt x="0" y="1660"/>
                    <a:pt x="0" y="1661"/>
                  </a:cubicBezTo>
                  <a:cubicBezTo>
                    <a:pt x="1" y="1665"/>
                    <a:pt x="2" y="1669"/>
                    <a:pt x="4" y="1673"/>
                  </a:cubicBezTo>
                  <a:cubicBezTo>
                    <a:pt x="6" y="1676"/>
                    <a:pt x="7" y="1679"/>
                    <a:pt x="9" y="1681"/>
                  </a:cubicBezTo>
                  <a:cubicBezTo>
                    <a:pt x="10" y="1685"/>
                    <a:pt x="12" y="1688"/>
                    <a:pt x="13" y="1691"/>
                  </a:cubicBezTo>
                  <a:cubicBezTo>
                    <a:pt x="15" y="1691"/>
                    <a:pt x="15" y="1691"/>
                    <a:pt x="15" y="1691"/>
                  </a:cubicBezTo>
                  <a:cubicBezTo>
                    <a:pt x="18" y="1694"/>
                    <a:pt x="21" y="1698"/>
                    <a:pt x="24" y="1702"/>
                  </a:cubicBezTo>
                  <a:cubicBezTo>
                    <a:pt x="40" y="1719"/>
                    <a:pt x="57" y="1735"/>
                    <a:pt x="74" y="1751"/>
                  </a:cubicBezTo>
                  <a:cubicBezTo>
                    <a:pt x="91" y="1767"/>
                    <a:pt x="108" y="1783"/>
                    <a:pt x="123" y="1800"/>
                  </a:cubicBezTo>
                  <a:cubicBezTo>
                    <a:pt x="130" y="1809"/>
                    <a:pt x="137" y="1819"/>
                    <a:pt x="142" y="1829"/>
                  </a:cubicBezTo>
                  <a:cubicBezTo>
                    <a:pt x="146" y="1837"/>
                    <a:pt x="149" y="1846"/>
                    <a:pt x="149" y="1855"/>
                  </a:cubicBezTo>
                  <a:cubicBezTo>
                    <a:pt x="149" y="1855"/>
                    <a:pt x="149" y="1855"/>
                    <a:pt x="149" y="1855"/>
                  </a:cubicBezTo>
                  <a:cubicBezTo>
                    <a:pt x="146" y="1874"/>
                    <a:pt x="139" y="1891"/>
                    <a:pt x="129" y="1907"/>
                  </a:cubicBezTo>
                  <a:cubicBezTo>
                    <a:pt x="119" y="1923"/>
                    <a:pt x="107" y="1938"/>
                    <a:pt x="93" y="1951"/>
                  </a:cubicBezTo>
                  <a:cubicBezTo>
                    <a:pt x="86" y="1959"/>
                    <a:pt x="78" y="1966"/>
                    <a:pt x="71" y="1973"/>
                  </a:cubicBezTo>
                  <a:cubicBezTo>
                    <a:pt x="59" y="1984"/>
                    <a:pt x="48" y="1995"/>
                    <a:pt x="37" y="2007"/>
                  </a:cubicBezTo>
                  <a:cubicBezTo>
                    <a:pt x="36" y="2008"/>
                    <a:pt x="36" y="2008"/>
                    <a:pt x="35" y="2009"/>
                  </a:cubicBezTo>
                  <a:cubicBezTo>
                    <a:pt x="27" y="2018"/>
                    <a:pt x="20" y="2027"/>
                    <a:pt x="13" y="2037"/>
                  </a:cubicBezTo>
                  <a:cubicBezTo>
                    <a:pt x="7" y="2047"/>
                    <a:pt x="2" y="2057"/>
                    <a:pt x="0" y="2069"/>
                  </a:cubicBezTo>
                  <a:cubicBezTo>
                    <a:pt x="0" y="2070"/>
                    <a:pt x="0" y="2070"/>
                    <a:pt x="0" y="2071"/>
                  </a:cubicBezTo>
                  <a:cubicBezTo>
                    <a:pt x="1" y="2076"/>
                    <a:pt x="1" y="2082"/>
                    <a:pt x="0" y="2088"/>
                  </a:cubicBezTo>
                  <a:cubicBezTo>
                    <a:pt x="0" y="2089"/>
                    <a:pt x="0" y="2090"/>
                    <a:pt x="0" y="2092"/>
                  </a:cubicBezTo>
                  <a:cubicBezTo>
                    <a:pt x="1" y="2096"/>
                    <a:pt x="2" y="2100"/>
                    <a:pt x="4" y="2104"/>
                  </a:cubicBezTo>
                  <a:cubicBezTo>
                    <a:pt x="5" y="2106"/>
                    <a:pt x="6" y="2107"/>
                    <a:pt x="7" y="2109"/>
                  </a:cubicBezTo>
                  <a:cubicBezTo>
                    <a:pt x="9" y="2114"/>
                    <a:pt x="11" y="2118"/>
                    <a:pt x="13" y="2122"/>
                  </a:cubicBezTo>
                  <a:cubicBezTo>
                    <a:pt x="16" y="2122"/>
                    <a:pt x="16" y="2122"/>
                    <a:pt x="16" y="2122"/>
                  </a:cubicBezTo>
                  <a:cubicBezTo>
                    <a:pt x="19" y="2126"/>
                    <a:pt x="22" y="2129"/>
                    <a:pt x="24" y="2132"/>
                  </a:cubicBezTo>
                  <a:cubicBezTo>
                    <a:pt x="33" y="2142"/>
                    <a:pt x="41" y="2150"/>
                    <a:pt x="50" y="2159"/>
                  </a:cubicBezTo>
                  <a:cubicBezTo>
                    <a:pt x="66" y="2159"/>
                    <a:pt x="66" y="2159"/>
                    <a:pt x="66" y="2159"/>
                  </a:cubicBezTo>
                  <a:cubicBezTo>
                    <a:pt x="54" y="2148"/>
                    <a:pt x="43" y="2137"/>
                    <a:pt x="32" y="2125"/>
                  </a:cubicBezTo>
                  <a:cubicBezTo>
                    <a:pt x="25" y="2117"/>
                    <a:pt x="19" y="2109"/>
                    <a:pt x="14" y="2101"/>
                  </a:cubicBezTo>
                  <a:cubicBezTo>
                    <a:pt x="13" y="2097"/>
                    <a:pt x="13" y="2093"/>
                    <a:pt x="13" y="2089"/>
                  </a:cubicBezTo>
                  <a:cubicBezTo>
                    <a:pt x="11" y="2068"/>
                    <a:pt x="19" y="2048"/>
                    <a:pt x="32" y="2030"/>
                  </a:cubicBezTo>
                  <a:cubicBezTo>
                    <a:pt x="45" y="2012"/>
                    <a:pt x="61" y="1997"/>
                    <a:pt x="78" y="1981"/>
                  </a:cubicBezTo>
                  <a:cubicBezTo>
                    <a:pt x="95" y="1965"/>
                    <a:pt x="113" y="1949"/>
                    <a:pt x="129" y="1931"/>
                  </a:cubicBezTo>
                  <a:cubicBezTo>
                    <a:pt x="136" y="1922"/>
                    <a:pt x="144" y="1912"/>
                    <a:pt x="150" y="1900"/>
                  </a:cubicBezTo>
                  <a:cubicBezTo>
                    <a:pt x="153" y="1894"/>
                    <a:pt x="156" y="1886"/>
                    <a:pt x="158" y="1879"/>
                  </a:cubicBezTo>
                  <a:cubicBezTo>
                    <a:pt x="158" y="1880"/>
                    <a:pt x="158" y="1880"/>
                    <a:pt x="158" y="1880"/>
                  </a:cubicBezTo>
                  <a:cubicBezTo>
                    <a:pt x="160" y="1886"/>
                    <a:pt x="162" y="1891"/>
                    <a:pt x="165" y="1896"/>
                  </a:cubicBezTo>
                  <a:cubicBezTo>
                    <a:pt x="170" y="1907"/>
                    <a:pt x="177" y="1916"/>
                    <a:pt x="185" y="1925"/>
                  </a:cubicBezTo>
                  <a:cubicBezTo>
                    <a:pt x="200" y="1943"/>
                    <a:pt x="217" y="1958"/>
                    <a:pt x="234" y="1974"/>
                  </a:cubicBezTo>
                  <a:cubicBezTo>
                    <a:pt x="234" y="1975"/>
                    <a:pt x="235" y="1975"/>
                    <a:pt x="235" y="1975"/>
                  </a:cubicBezTo>
                  <a:cubicBezTo>
                    <a:pt x="242" y="1982"/>
                    <a:pt x="248" y="1988"/>
                    <a:pt x="255" y="1995"/>
                  </a:cubicBezTo>
                  <a:cubicBezTo>
                    <a:pt x="264" y="2004"/>
                    <a:pt x="273" y="2014"/>
                    <a:pt x="281" y="2025"/>
                  </a:cubicBezTo>
                  <a:cubicBezTo>
                    <a:pt x="288" y="2035"/>
                    <a:pt x="293" y="2045"/>
                    <a:pt x="297" y="2056"/>
                  </a:cubicBezTo>
                  <a:cubicBezTo>
                    <a:pt x="301" y="2067"/>
                    <a:pt x="302" y="2078"/>
                    <a:pt x="301" y="2090"/>
                  </a:cubicBezTo>
                  <a:cubicBezTo>
                    <a:pt x="300" y="2096"/>
                    <a:pt x="299" y="2102"/>
                    <a:pt x="297" y="2108"/>
                  </a:cubicBezTo>
                  <a:cubicBezTo>
                    <a:pt x="292" y="2116"/>
                    <a:pt x="286" y="2124"/>
                    <a:pt x="280" y="2131"/>
                  </a:cubicBezTo>
                  <a:cubicBezTo>
                    <a:pt x="271" y="2141"/>
                    <a:pt x="262" y="2150"/>
                    <a:pt x="253" y="2159"/>
                  </a:cubicBezTo>
                  <a:cubicBezTo>
                    <a:pt x="268" y="2159"/>
                    <a:pt x="268" y="2159"/>
                    <a:pt x="268" y="2159"/>
                  </a:cubicBezTo>
                  <a:cubicBezTo>
                    <a:pt x="275" y="2152"/>
                    <a:pt x="282" y="2145"/>
                    <a:pt x="288" y="2138"/>
                  </a:cubicBezTo>
                  <a:cubicBezTo>
                    <a:pt x="292" y="2133"/>
                    <a:pt x="296" y="2128"/>
                    <a:pt x="300" y="2122"/>
                  </a:cubicBezTo>
                  <a:cubicBezTo>
                    <a:pt x="301" y="2122"/>
                    <a:pt x="301" y="2122"/>
                    <a:pt x="301" y="2122"/>
                  </a:cubicBezTo>
                  <a:cubicBezTo>
                    <a:pt x="301" y="2122"/>
                    <a:pt x="301" y="2121"/>
                    <a:pt x="301" y="2120"/>
                  </a:cubicBezTo>
                  <a:cubicBezTo>
                    <a:pt x="304" y="2116"/>
                    <a:pt x="307" y="2112"/>
                    <a:pt x="309" y="2107"/>
                  </a:cubicBezTo>
                  <a:cubicBezTo>
                    <a:pt x="312" y="2101"/>
                    <a:pt x="314" y="2095"/>
                    <a:pt x="315" y="2088"/>
                  </a:cubicBezTo>
                  <a:cubicBezTo>
                    <a:pt x="316" y="2080"/>
                    <a:pt x="315" y="2074"/>
                    <a:pt x="314" y="2068"/>
                  </a:cubicBezTo>
                  <a:cubicBezTo>
                    <a:pt x="311" y="2055"/>
                    <a:pt x="305" y="2043"/>
                    <a:pt x="299" y="2033"/>
                  </a:cubicBezTo>
                  <a:cubicBezTo>
                    <a:pt x="298" y="2032"/>
                    <a:pt x="297" y="2030"/>
                    <a:pt x="296" y="2029"/>
                  </a:cubicBezTo>
                  <a:cubicBezTo>
                    <a:pt x="294" y="2026"/>
                    <a:pt x="292" y="2022"/>
                    <a:pt x="290" y="2019"/>
                  </a:cubicBezTo>
                  <a:cubicBezTo>
                    <a:pt x="275" y="1999"/>
                    <a:pt x="258" y="1982"/>
                    <a:pt x="241" y="1966"/>
                  </a:cubicBezTo>
                  <a:cubicBezTo>
                    <a:pt x="225" y="1950"/>
                    <a:pt x="208" y="1935"/>
                    <a:pt x="193" y="1917"/>
                  </a:cubicBezTo>
                  <a:cubicBezTo>
                    <a:pt x="179" y="1901"/>
                    <a:pt x="168" y="1881"/>
                    <a:pt x="167" y="1861"/>
                  </a:cubicBezTo>
                  <a:cubicBezTo>
                    <a:pt x="166" y="1852"/>
                    <a:pt x="168" y="1843"/>
                    <a:pt x="173" y="1833"/>
                  </a:cubicBezTo>
                  <a:cubicBezTo>
                    <a:pt x="177" y="1824"/>
                    <a:pt x="183" y="1815"/>
                    <a:pt x="190" y="1806"/>
                  </a:cubicBezTo>
                  <a:cubicBezTo>
                    <a:pt x="204" y="1789"/>
                    <a:pt x="221" y="1773"/>
                    <a:pt x="238" y="1757"/>
                  </a:cubicBezTo>
                  <a:cubicBezTo>
                    <a:pt x="255" y="1741"/>
                    <a:pt x="272" y="1726"/>
                    <a:pt x="288" y="1708"/>
                  </a:cubicBezTo>
                  <a:cubicBezTo>
                    <a:pt x="296" y="1698"/>
                    <a:pt x="304" y="1689"/>
                    <a:pt x="309" y="1677"/>
                  </a:cubicBezTo>
                  <a:cubicBezTo>
                    <a:pt x="312" y="1671"/>
                    <a:pt x="314" y="1664"/>
                    <a:pt x="315" y="1657"/>
                  </a:cubicBezTo>
                  <a:cubicBezTo>
                    <a:pt x="316" y="1650"/>
                    <a:pt x="315" y="1644"/>
                    <a:pt x="314" y="1637"/>
                  </a:cubicBezTo>
                  <a:cubicBezTo>
                    <a:pt x="311" y="1625"/>
                    <a:pt x="306" y="1614"/>
                    <a:pt x="300" y="1605"/>
                  </a:cubicBezTo>
                  <a:cubicBezTo>
                    <a:pt x="297" y="1599"/>
                    <a:pt x="293" y="1593"/>
                    <a:pt x="290" y="1588"/>
                  </a:cubicBezTo>
                  <a:cubicBezTo>
                    <a:pt x="275" y="1567"/>
                    <a:pt x="258" y="1551"/>
                    <a:pt x="241" y="1535"/>
                  </a:cubicBezTo>
                  <a:cubicBezTo>
                    <a:pt x="225" y="1519"/>
                    <a:pt x="208" y="1503"/>
                    <a:pt x="193" y="1486"/>
                  </a:cubicBezTo>
                  <a:cubicBezTo>
                    <a:pt x="179" y="1469"/>
                    <a:pt x="168" y="1450"/>
                    <a:pt x="167" y="1430"/>
                  </a:cubicBezTo>
                  <a:cubicBezTo>
                    <a:pt x="166" y="1421"/>
                    <a:pt x="168" y="1411"/>
                    <a:pt x="173" y="1402"/>
                  </a:cubicBezTo>
                  <a:cubicBezTo>
                    <a:pt x="177" y="1392"/>
                    <a:pt x="183" y="1383"/>
                    <a:pt x="190" y="1375"/>
                  </a:cubicBezTo>
                  <a:cubicBezTo>
                    <a:pt x="204" y="1357"/>
                    <a:pt x="221" y="1342"/>
                    <a:pt x="238" y="1326"/>
                  </a:cubicBezTo>
                  <a:cubicBezTo>
                    <a:pt x="255" y="1310"/>
                    <a:pt x="272" y="1294"/>
                    <a:pt x="288" y="1276"/>
                  </a:cubicBezTo>
                  <a:cubicBezTo>
                    <a:pt x="292" y="1271"/>
                    <a:pt x="296" y="1266"/>
                    <a:pt x="300" y="1261"/>
                  </a:cubicBezTo>
                  <a:cubicBezTo>
                    <a:pt x="301" y="1261"/>
                    <a:pt x="301" y="1261"/>
                    <a:pt x="301" y="1261"/>
                  </a:cubicBezTo>
                  <a:cubicBezTo>
                    <a:pt x="302" y="1259"/>
                    <a:pt x="302" y="1258"/>
                    <a:pt x="303" y="1256"/>
                  </a:cubicBezTo>
                  <a:cubicBezTo>
                    <a:pt x="305" y="1252"/>
                    <a:pt x="307" y="1249"/>
                    <a:pt x="309" y="1245"/>
                  </a:cubicBezTo>
                  <a:cubicBezTo>
                    <a:pt x="312" y="1239"/>
                    <a:pt x="314" y="1233"/>
                    <a:pt x="315" y="1226"/>
                  </a:cubicBezTo>
                  <a:cubicBezTo>
                    <a:pt x="316" y="1218"/>
                    <a:pt x="315" y="1212"/>
                    <a:pt x="314" y="1206"/>
                  </a:cubicBezTo>
                  <a:cubicBezTo>
                    <a:pt x="311" y="1193"/>
                    <a:pt x="305" y="1181"/>
                    <a:pt x="299" y="1171"/>
                  </a:cubicBezTo>
                  <a:cubicBezTo>
                    <a:pt x="296" y="1168"/>
                    <a:pt x="294" y="1164"/>
                    <a:pt x="291" y="1161"/>
                  </a:cubicBezTo>
                  <a:cubicBezTo>
                    <a:pt x="291" y="1160"/>
                    <a:pt x="290" y="1159"/>
                    <a:pt x="290" y="1158"/>
                  </a:cubicBezTo>
                  <a:cubicBezTo>
                    <a:pt x="275" y="1138"/>
                    <a:pt x="258" y="1122"/>
                    <a:pt x="241" y="1105"/>
                  </a:cubicBezTo>
                  <a:cubicBezTo>
                    <a:pt x="225" y="1089"/>
                    <a:pt x="208" y="1074"/>
                    <a:pt x="193" y="1057"/>
                  </a:cubicBezTo>
                  <a:cubicBezTo>
                    <a:pt x="179" y="1040"/>
                    <a:pt x="168" y="1020"/>
                    <a:pt x="167" y="1000"/>
                  </a:cubicBezTo>
                  <a:cubicBezTo>
                    <a:pt x="166" y="991"/>
                    <a:pt x="168" y="982"/>
                    <a:pt x="173" y="972"/>
                  </a:cubicBezTo>
                  <a:cubicBezTo>
                    <a:pt x="177" y="963"/>
                    <a:pt x="183" y="954"/>
                    <a:pt x="190" y="945"/>
                  </a:cubicBezTo>
                  <a:cubicBezTo>
                    <a:pt x="204" y="928"/>
                    <a:pt x="221" y="912"/>
                    <a:pt x="238" y="896"/>
                  </a:cubicBezTo>
                  <a:cubicBezTo>
                    <a:pt x="255" y="880"/>
                    <a:pt x="272" y="865"/>
                    <a:pt x="288" y="847"/>
                  </a:cubicBezTo>
                  <a:cubicBezTo>
                    <a:pt x="296" y="837"/>
                    <a:pt x="304" y="828"/>
                    <a:pt x="309" y="816"/>
                  </a:cubicBezTo>
                  <a:cubicBezTo>
                    <a:pt x="312" y="810"/>
                    <a:pt x="314" y="803"/>
                    <a:pt x="315" y="796"/>
                  </a:cubicBezTo>
                  <a:cubicBezTo>
                    <a:pt x="316" y="789"/>
                    <a:pt x="315" y="783"/>
                    <a:pt x="314" y="776"/>
                  </a:cubicBezTo>
                  <a:cubicBezTo>
                    <a:pt x="311" y="766"/>
                    <a:pt x="307" y="756"/>
                    <a:pt x="302" y="748"/>
                  </a:cubicBezTo>
                  <a:cubicBezTo>
                    <a:pt x="299" y="740"/>
                    <a:pt x="294" y="732"/>
                    <a:pt x="290" y="726"/>
                  </a:cubicBezTo>
                  <a:cubicBezTo>
                    <a:pt x="275" y="705"/>
                    <a:pt x="258" y="689"/>
                    <a:pt x="241" y="673"/>
                  </a:cubicBezTo>
                  <a:cubicBezTo>
                    <a:pt x="225" y="656"/>
                    <a:pt x="208" y="641"/>
                    <a:pt x="193" y="624"/>
                  </a:cubicBezTo>
                  <a:cubicBezTo>
                    <a:pt x="179" y="607"/>
                    <a:pt x="168" y="588"/>
                    <a:pt x="167" y="568"/>
                  </a:cubicBezTo>
                  <a:cubicBezTo>
                    <a:pt x="166" y="558"/>
                    <a:pt x="168" y="549"/>
                    <a:pt x="173" y="540"/>
                  </a:cubicBezTo>
                  <a:cubicBezTo>
                    <a:pt x="177" y="530"/>
                    <a:pt x="183" y="521"/>
                    <a:pt x="190" y="513"/>
                  </a:cubicBezTo>
                  <a:cubicBezTo>
                    <a:pt x="204" y="495"/>
                    <a:pt x="221" y="480"/>
                    <a:pt x="238" y="464"/>
                  </a:cubicBezTo>
                  <a:cubicBezTo>
                    <a:pt x="255" y="448"/>
                    <a:pt x="272" y="432"/>
                    <a:pt x="288" y="414"/>
                  </a:cubicBezTo>
                  <a:cubicBezTo>
                    <a:pt x="296" y="405"/>
                    <a:pt x="304" y="395"/>
                    <a:pt x="309" y="383"/>
                  </a:cubicBezTo>
                  <a:cubicBezTo>
                    <a:pt x="312" y="377"/>
                    <a:pt x="314" y="371"/>
                    <a:pt x="315" y="364"/>
                  </a:cubicBezTo>
                  <a:cubicBezTo>
                    <a:pt x="316" y="356"/>
                    <a:pt x="315" y="350"/>
                    <a:pt x="314" y="344"/>
                  </a:cubicBezTo>
                  <a:cubicBezTo>
                    <a:pt x="311" y="333"/>
                    <a:pt x="307" y="324"/>
                    <a:pt x="302" y="315"/>
                  </a:cubicBezTo>
                  <a:cubicBezTo>
                    <a:pt x="299" y="307"/>
                    <a:pt x="294" y="300"/>
                    <a:pt x="290" y="293"/>
                  </a:cubicBezTo>
                  <a:cubicBezTo>
                    <a:pt x="275" y="273"/>
                    <a:pt x="258" y="256"/>
                    <a:pt x="241" y="240"/>
                  </a:cubicBezTo>
                  <a:cubicBezTo>
                    <a:pt x="225" y="224"/>
                    <a:pt x="208" y="208"/>
                    <a:pt x="193" y="191"/>
                  </a:cubicBezTo>
                  <a:cubicBezTo>
                    <a:pt x="179" y="174"/>
                    <a:pt x="168" y="155"/>
                    <a:pt x="167" y="135"/>
                  </a:cubicBezTo>
                  <a:cubicBezTo>
                    <a:pt x="166" y="126"/>
                    <a:pt x="168" y="116"/>
                    <a:pt x="173" y="107"/>
                  </a:cubicBezTo>
                  <a:cubicBezTo>
                    <a:pt x="177" y="97"/>
                    <a:pt x="183" y="88"/>
                    <a:pt x="190" y="80"/>
                  </a:cubicBezTo>
                  <a:cubicBezTo>
                    <a:pt x="204" y="63"/>
                    <a:pt x="221" y="47"/>
                    <a:pt x="238" y="31"/>
                  </a:cubicBezTo>
                  <a:cubicBezTo>
                    <a:pt x="249" y="21"/>
                    <a:pt x="260" y="10"/>
                    <a:pt x="270" y="0"/>
                  </a:cubicBezTo>
                  <a:cubicBezTo>
                    <a:pt x="255" y="0"/>
                    <a:pt x="255" y="0"/>
                    <a:pt x="255" y="0"/>
                  </a:cubicBezTo>
                  <a:cubicBezTo>
                    <a:pt x="247" y="7"/>
                    <a:pt x="239" y="15"/>
                    <a:pt x="230" y="23"/>
                  </a:cubicBezTo>
                  <a:cubicBezTo>
                    <a:pt x="213" y="39"/>
                    <a:pt x="196" y="54"/>
                    <a:pt x="181" y="72"/>
                  </a:cubicBezTo>
                  <a:cubicBezTo>
                    <a:pt x="174" y="81"/>
                    <a:pt x="167" y="91"/>
                    <a:pt x="162" y="102"/>
                  </a:cubicBezTo>
                  <a:cubicBezTo>
                    <a:pt x="160" y="104"/>
                    <a:pt x="159" y="107"/>
                    <a:pt x="158" y="110"/>
                  </a:cubicBezTo>
                  <a:cubicBezTo>
                    <a:pt x="158" y="111"/>
                    <a:pt x="158" y="111"/>
                    <a:pt x="158" y="111"/>
                  </a:cubicBezTo>
                  <a:cubicBezTo>
                    <a:pt x="157" y="107"/>
                    <a:pt x="155" y="102"/>
                    <a:pt x="153" y="97"/>
                  </a:cubicBezTo>
                  <a:cubicBezTo>
                    <a:pt x="147" y="86"/>
                    <a:pt x="140" y="76"/>
                    <a:pt x="132" y="66"/>
                  </a:cubicBezTo>
                  <a:cubicBezTo>
                    <a:pt x="116" y="48"/>
                    <a:pt x="99" y="32"/>
                    <a:pt x="82" y="16"/>
                  </a:cubicBezTo>
                  <a:cubicBezTo>
                    <a:pt x="76" y="11"/>
                    <a:pt x="70" y="5"/>
                    <a:pt x="64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57" y="8"/>
                    <a:pt x="65" y="16"/>
                    <a:pt x="74" y="24"/>
                  </a:cubicBezTo>
                  <a:cubicBezTo>
                    <a:pt x="91" y="40"/>
                    <a:pt x="108" y="56"/>
                    <a:pt x="123" y="74"/>
                  </a:cubicBezTo>
                  <a:close/>
                  <a:moveTo>
                    <a:pt x="185" y="1493"/>
                  </a:moveTo>
                  <a:cubicBezTo>
                    <a:pt x="192" y="1502"/>
                    <a:pt x="199" y="1510"/>
                    <a:pt x="207" y="1517"/>
                  </a:cubicBezTo>
                  <a:cubicBezTo>
                    <a:pt x="212" y="1522"/>
                    <a:pt x="216" y="1526"/>
                    <a:pt x="220" y="1531"/>
                  </a:cubicBezTo>
                  <a:cubicBezTo>
                    <a:pt x="237" y="1547"/>
                    <a:pt x="254" y="1563"/>
                    <a:pt x="270" y="1580"/>
                  </a:cubicBezTo>
                  <a:cubicBezTo>
                    <a:pt x="272" y="1582"/>
                    <a:pt x="273" y="1584"/>
                    <a:pt x="275" y="1586"/>
                  </a:cubicBezTo>
                  <a:cubicBezTo>
                    <a:pt x="277" y="1589"/>
                    <a:pt x="279" y="1591"/>
                    <a:pt x="281" y="1594"/>
                  </a:cubicBezTo>
                  <a:cubicBezTo>
                    <a:pt x="288" y="1603"/>
                    <a:pt x="293" y="1613"/>
                    <a:pt x="297" y="1624"/>
                  </a:cubicBezTo>
                  <a:cubicBezTo>
                    <a:pt x="301" y="1635"/>
                    <a:pt x="302" y="1647"/>
                    <a:pt x="301" y="1658"/>
                  </a:cubicBezTo>
                  <a:cubicBezTo>
                    <a:pt x="300" y="1666"/>
                    <a:pt x="299" y="1673"/>
                    <a:pt x="296" y="1680"/>
                  </a:cubicBezTo>
                  <a:cubicBezTo>
                    <a:pt x="291" y="1687"/>
                    <a:pt x="286" y="1694"/>
                    <a:pt x="280" y="1701"/>
                  </a:cubicBezTo>
                  <a:cubicBezTo>
                    <a:pt x="265" y="1718"/>
                    <a:pt x="247" y="1733"/>
                    <a:pt x="230" y="1749"/>
                  </a:cubicBezTo>
                  <a:cubicBezTo>
                    <a:pt x="213" y="1765"/>
                    <a:pt x="196" y="1781"/>
                    <a:pt x="181" y="1799"/>
                  </a:cubicBezTo>
                  <a:cubicBezTo>
                    <a:pt x="174" y="1808"/>
                    <a:pt x="167" y="1818"/>
                    <a:pt x="162" y="1828"/>
                  </a:cubicBezTo>
                  <a:cubicBezTo>
                    <a:pt x="160" y="1831"/>
                    <a:pt x="159" y="1834"/>
                    <a:pt x="158" y="1837"/>
                  </a:cubicBezTo>
                  <a:cubicBezTo>
                    <a:pt x="158" y="1838"/>
                    <a:pt x="158" y="1838"/>
                    <a:pt x="158" y="1838"/>
                  </a:cubicBezTo>
                  <a:cubicBezTo>
                    <a:pt x="157" y="1833"/>
                    <a:pt x="155" y="1828"/>
                    <a:pt x="153" y="1824"/>
                  </a:cubicBezTo>
                  <a:cubicBezTo>
                    <a:pt x="147" y="1812"/>
                    <a:pt x="140" y="1802"/>
                    <a:pt x="132" y="1793"/>
                  </a:cubicBezTo>
                  <a:cubicBezTo>
                    <a:pt x="116" y="1774"/>
                    <a:pt x="99" y="1758"/>
                    <a:pt x="82" y="1743"/>
                  </a:cubicBezTo>
                  <a:cubicBezTo>
                    <a:pt x="65" y="1727"/>
                    <a:pt x="47" y="1712"/>
                    <a:pt x="32" y="1695"/>
                  </a:cubicBezTo>
                  <a:cubicBezTo>
                    <a:pt x="26" y="1687"/>
                    <a:pt x="19" y="1679"/>
                    <a:pt x="15" y="1671"/>
                  </a:cubicBezTo>
                  <a:cubicBezTo>
                    <a:pt x="14" y="1667"/>
                    <a:pt x="13" y="1662"/>
                    <a:pt x="13" y="1658"/>
                  </a:cubicBezTo>
                  <a:cubicBezTo>
                    <a:pt x="11" y="1637"/>
                    <a:pt x="19" y="1616"/>
                    <a:pt x="32" y="1599"/>
                  </a:cubicBezTo>
                  <a:cubicBezTo>
                    <a:pt x="45" y="1581"/>
                    <a:pt x="61" y="1565"/>
                    <a:pt x="78" y="1549"/>
                  </a:cubicBezTo>
                  <a:cubicBezTo>
                    <a:pt x="95" y="1534"/>
                    <a:pt x="113" y="1518"/>
                    <a:pt x="129" y="1499"/>
                  </a:cubicBezTo>
                  <a:cubicBezTo>
                    <a:pt x="136" y="1490"/>
                    <a:pt x="144" y="1480"/>
                    <a:pt x="150" y="1469"/>
                  </a:cubicBezTo>
                  <a:cubicBezTo>
                    <a:pt x="153" y="1462"/>
                    <a:pt x="156" y="1455"/>
                    <a:pt x="158" y="1447"/>
                  </a:cubicBezTo>
                  <a:cubicBezTo>
                    <a:pt x="158" y="1449"/>
                    <a:pt x="158" y="1449"/>
                    <a:pt x="158" y="1449"/>
                  </a:cubicBezTo>
                  <a:cubicBezTo>
                    <a:pt x="160" y="1454"/>
                    <a:pt x="162" y="1459"/>
                    <a:pt x="165" y="1464"/>
                  </a:cubicBezTo>
                  <a:cubicBezTo>
                    <a:pt x="170" y="1475"/>
                    <a:pt x="177" y="1484"/>
                    <a:pt x="185" y="1493"/>
                  </a:cubicBezTo>
                  <a:close/>
                  <a:moveTo>
                    <a:pt x="185" y="1064"/>
                  </a:moveTo>
                  <a:cubicBezTo>
                    <a:pt x="200" y="1082"/>
                    <a:pt x="217" y="1098"/>
                    <a:pt x="234" y="1113"/>
                  </a:cubicBezTo>
                  <a:cubicBezTo>
                    <a:pt x="251" y="1129"/>
                    <a:pt x="268" y="1146"/>
                    <a:pt x="281" y="1164"/>
                  </a:cubicBezTo>
                  <a:cubicBezTo>
                    <a:pt x="288" y="1174"/>
                    <a:pt x="293" y="1184"/>
                    <a:pt x="297" y="1195"/>
                  </a:cubicBezTo>
                  <a:cubicBezTo>
                    <a:pt x="301" y="1206"/>
                    <a:pt x="302" y="1218"/>
                    <a:pt x="301" y="1229"/>
                  </a:cubicBezTo>
                  <a:cubicBezTo>
                    <a:pt x="301" y="1234"/>
                    <a:pt x="300" y="1239"/>
                    <a:pt x="298" y="1244"/>
                  </a:cubicBezTo>
                  <a:cubicBezTo>
                    <a:pt x="293" y="1253"/>
                    <a:pt x="287" y="1261"/>
                    <a:pt x="280" y="1269"/>
                  </a:cubicBezTo>
                  <a:cubicBezTo>
                    <a:pt x="265" y="1286"/>
                    <a:pt x="247" y="1302"/>
                    <a:pt x="230" y="1318"/>
                  </a:cubicBezTo>
                  <a:cubicBezTo>
                    <a:pt x="213" y="1333"/>
                    <a:pt x="196" y="1349"/>
                    <a:pt x="181" y="1367"/>
                  </a:cubicBezTo>
                  <a:cubicBezTo>
                    <a:pt x="174" y="1376"/>
                    <a:pt x="167" y="1386"/>
                    <a:pt x="162" y="1396"/>
                  </a:cubicBezTo>
                  <a:cubicBezTo>
                    <a:pt x="160" y="1399"/>
                    <a:pt x="159" y="1402"/>
                    <a:pt x="158" y="1405"/>
                  </a:cubicBezTo>
                  <a:cubicBezTo>
                    <a:pt x="158" y="1406"/>
                    <a:pt x="158" y="1406"/>
                    <a:pt x="158" y="1406"/>
                  </a:cubicBezTo>
                  <a:cubicBezTo>
                    <a:pt x="157" y="1401"/>
                    <a:pt x="155" y="1397"/>
                    <a:pt x="153" y="1392"/>
                  </a:cubicBezTo>
                  <a:cubicBezTo>
                    <a:pt x="147" y="1381"/>
                    <a:pt x="140" y="1371"/>
                    <a:pt x="132" y="1361"/>
                  </a:cubicBezTo>
                  <a:cubicBezTo>
                    <a:pt x="116" y="1343"/>
                    <a:pt x="99" y="1327"/>
                    <a:pt x="82" y="1311"/>
                  </a:cubicBezTo>
                  <a:cubicBezTo>
                    <a:pt x="65" y="1295"/>
                    <a:pt x="47" y="1280"/>
                    <a:pt x="32" y="1263"/>
                  </a:cubicBezTo>
                  <a:cubicBezTo>
                    <a:pt x="25" y="1255"/>
                    <a:pt x="19" y="1247"/>
                    <a:pt x="14" y="1238"/>
                  </a:cubicBezTo>
                  <a:cubicBezTo>
                    <a:pt x="13" y="1235"/>
                    <a:pt x="13" y="1232"/>
                    <a:pt x="13" y="1228"/>
                  </a:cubicBezTo>
                  <a:cubicBezTo>
                    <a:pt x="11" y="1207"/>
                    <a:pt x="19" y="1187"/>
                    <a:pt x="32" y="1169"/>
                  </a:cubicBezTo>
                  <a:cubicBezTo>
                    <a:pt x="45" y="1152"/>
                    <a:pt x="61" y="1136"/>
                    <a:pt x="78" y="1120"/>
                  </a:cubicBezTo>
                  <a:cubicBezTo>
                    <a:pt x="95" y="1104"/>
                    <a:pt x="113" y="1089"/>
                    <a:pt x="129" y="1070"/>
                  </a:cubicBezTo>
                  <a:cubicBezTo>
                    <a:pt x="136" y="1061"/>
                    <a:pt x="144" y="1051"/>
                    <a:pt x="150" y="1039"/>
                  </a:cubicBezTo>
                  <a:cubicBezTo>
                    <a:pt x="153" y="1033"/>
                    <a:pt x="156" y="1025"/>
                    <a:pt x="158" y="1018"/>
                  </a:cubicBezTo>
                  <a:cubicBezTo>
                    <a:pt x="158" y="1019"/>
                    <a:pt x="158" y="1019"/>
                    <a:pt x="158" y="1019"/>
                  </a:cubicBezTo>
                  <a:cubicBezTo>
                    <a:pt x="160" y="1025"/>
                    <a:pt x="162" y="1030"/>
                    <a:pt x="165" y="1035"/>
                  </a:cubicBezTo>
                  <a:cubicBezTo>
                    <a:pt x="170" y="1046"/>
                    <a:pt x="177" y="1055"/>
                    <a:pt x="185" y="1064"/>
                  </a:cubicBezTo>
                  <a:close/>
                  <a:moveTo>
                    <a:pt x="185" y="631"/>
                  </a:moveTo>
                  <a:cubicBezTo>
                    <a:pt x="188" y="635"/>
                    <a:pt x="191" y="638"/>
                    <a:pt x="194" y="642"/>
                  </a:cubicBezTo>
                  <a:cubicBezTo>
                    <a:pt x="202" y="652"/>
                    <a:pt x="211" y="661"/>
                    <a:pt x="220" y="670"/>
                  </a:cubicBezTo>
                  <a:cubicBezTo>
                    <a:pt x="237" y="686"/>
                    <a:pt x="254" y="702"/>
                    <a:pt x="270" y="719"/>
                  </a:cubicBezTo>
                  <a:cubicBezTo>
                    <a:pt x="275" y="724"/>
                    <a:pt x="279" y="730"/>
                    <a:pt x="283" y="735"/>
                  </a:cubicBezTo>
                  <a:cubicBezTo>
                    <a:pt x="289" y="744"/>
                    <a:pt x="294" y="753"/>
                    <a:pt x="297" y="762"/>
                  </a:cubicBezTo>
                  <a:cubicBezTo>
                    <a:pt x="301" y="773"/>
                    <a:pt x="302" y="785"/>
                    <a:pt x="301" y="796"/>
                  </a:cubicBezTo>
                  <a:cubicBezTo>
                    <a:pt x="300" y="805"/>
                    <a:pt x="298" y="813"/>
                    <a:pt x="294" y="821"/>
                  </a:cubicBezTo>
                  <a:cubicBezTo>
                    <a:pt x="290" y="827"/>
                    <a:pt x="285" y="834"/>
                    <a:pt x="280" y="840"/>
                  </a:cubicBezTo>
                  <a:cubicBezTo>
                    <a:pt x="265" y="857"/>
                    <a:pt x="247" y="872"/>
                    <a:pt x="230" y="888"/>
                  </a:cubicBezTo>
                  <a:cubicBezTo>
                    <a:pt x="213" y="904"/>
                    <a:pt x="196" y="920"/>
                    <a:pt x="181" y="938"/>
                  </a:cubicBezTo>
                  <a:cubicBezTo>
                    <a:pt x="174" y="947"/>
                    <a:pt x="167" y="957"/>
                    <a:pt x="162" y="967"/>
                  </a:cubicBezTo>
                  <a:cubicBezTo>
                    <a:pt x="160" y="970"/>
                    <a:pt x="159" y="973"/>
                    <a:pt x="158" y="976"/>
                  </a:cubicBezTo>
                  <a:cubicBezTo>
                    <a:pt x="158" y="977"/>
                    <a:pt x="158" y="977"/>
                    <a:pt x="158" y="977"/>
                  </a:cubicBezTo>
                  <a:cubicBezTo>
                    <a:pt x="157" y="972"/>
                    <a:pt x="155" y="967"/>
                    <a:pt x="153" y="963"/>
                  </a:cubicBezTo>
                  <a:cubicBezTo>
                    <a:pt x="147" y="951"/>
                    <a:pt x="140" y="941"/>
                    <a:pt x="132" y="932"/>
                  </a:cubicBezTo>
                  <a:cubicBezTo>
                    <a:pt x="116" y="913"/>
                    <a:pt x="99" y="897"/>
                    <a:pt x="82" y="882"/>
                  </a:cubicBezTo>
                  <a:cubicBezTo>
                    <a:pt x="65" y="866"/>
                    <a:pt x="47" y="851"/>
                    <a:pt x="32" y="834"/>
                  </a:cubicBezTo>
                  <a:cubicBezTo>
                    <a:pt x="26" y="827"/>
                    <a:pt x="20" y="819"/>
                    <a:pt x="16" y="811"/>
                  </a:cubicBezTo>
                  <a:cubicBezTo>
                    <a:pt x="14" y="806"/>
                    <a:pt x="13" y="801"/>
                    <a:pt x="13" y="795"/>
                  </a:cubicBezTo>
                  <a:cubicBezTo>
                    <a:pt x="11" y="774"/>
                    <a:pt x="19" y="754"/>
                    <a:pt x="32" y="737"/>
                  </a:cubicBezTo>
                  <a:cubicBezTo>
                    <a:pt x="45" y="719"/>
                    <a:pt x="61" y="703"/>
                    <a:pt x="78" y="687"/>
                  </a:cubicBezTo>
                  <a:cubicBezTo>
                    <a:pt x="95" y="671"/>
                    <a:pt x="113" y="656"/>
                    <a:pt x="129" y="637"/>
                  </a:cubicBezTo>
                  <a:cubicBezTo>
                    <a:pt x="136" y="628"/>
                    <a:pt x="144" y="618"/>
                    <a:pt x="150" y="607"/>
                  </a:cubicBezTo>
                  <a:cubicBezTo>
                    <a:pt x="153" y="600"/>
                    <a:pt x="156" y="593"/>
                    <a:pt x="158" y="585"/>
                  </a:cubicBezTo>
                  <a:cubicBezTo>
                    <a:pt x="158" y="587"/>
                    <a:pt x="158" y="587"/>
                    <a:pt x="158" y="587"/>
                  </a:cubicBezTo>
                  <a:cubicBezTo>
                    <a:pt x="160" y="592"/>
                    <a:pt x="162" y="597"/>
                    <a:pt x="165" y="602"/>
                  </a:cubicBezTo>
                  <a:cubicBezTo>
                    <a:pt x="170" y="613"/>
                    <a:pt x="177" y="622"/>
                    <a:pt x="185" y="631"/>
                  </a:cubicBezTo>
                  <a:close/>
                  <a:moveTo>
                    <a:pt x="158" y="152"/>
                  </a:moveTo>
                  <a:cubicBezTo>
                    <a:pt x="158" y="154"/>
                    <a:pt x="158" y="154"/>
                    <a:pt x="158" y="154"/>
                  </a:cubicBezTo>
                  <a:cubicBezTo>
                    <a:pt x="160" y="159"/>
                    <a:pt x="162" y="164"/>
                    <a:pt x="165" y="170"/>
                  </a:cubicBezTo>
                  <a:cubicBezTo>
                    <a:pt x="170" y="180"/>
                    <a:pt x="177" y="190"/>
                    <a:pt x="185" y="198"/>
                  </a:cubicBezTo>
                  <a:cubicBezTo>
                    <a:pt x="188" y="202"/>
                    <a:pt x="191" y="206"/>
                    <a:pt x="194" y="209"/>
                  </a:cubicBezTo>
                  <a:cubicBezTo>
                    <a:pt x="202" y="219"/>
                    <a:pt x="211" y="228"/>
                    <a:pt x="220" y="237"/>
                  </a:cubicBezTo>
                  <a:cubicBezTo>
                    <a:pt x="237" y="254"/>
                    <a:pt x="254" y="269"/>
                    <a:pt x="270" y="286"/>
                  </a:cubicBezTo>
                  <a:cubicBezTo>
                    <a:pt x="275" y="291"/>
                    <a:pt x="279" y="297"/>
                    <a:pt x="283" y="302"/>
                  </a:cubicBezTo>
                  <a:cubicBezTo>
                    <a:pt x="289" y="311"/>
                    <a:pt x="294" y="320"/>
                    <a:pt x="297" y="329"/>
                  </a:cubicBezTo>
                  <a:cubicBezTo>
                    <a:pt x="301" y="340"/>
                    <a:pt x="302" y="352"/>
                    <a:pt x="301" y="363"/>
                  </a:cubicBezTo>
                  <a:cubicBezTo>
                    <a:pt x="300" y="372"/>
                    <a:pt x="298" y="380"/>
                    <a:pt x="294" y="388"/>
                  </a:cubicBezTo>
                  <a:cubicBezTo>
                    <a:pt x="290" y="395"/>
                    <a:pt x="285" y="401"/>
                    <a:pt x="280" y="407"/>
                  </a:cubicBezTo>
                  <a:cubicBezTo>
                    <a:pt x="265" y="424"/>
                    <a:pt x="247" y="440"/>
                    <a:pt x="230" y="455"/>
                  </a:cubicBezTo>
                  <a:cubicBezTo>
                    <a:pt x="213" y="471"/>
                    <a:pt x="196" y="487"/>
                    <a:pt x="181" y="505"/>
                  </a:cubicBezTo>
                  <a:cubicBezTo>
                    <a:pt x="174" y="514"/>
                    <a:pt x="167" y="524"/>
                    <a:pt x="162" y="534"/>
                  </a:cubicBezTo>
                  <a:cubicBezTo>
                    <a:pt x="160" y="537"/>
                    <a:pt x="159" y="540"/>
                    <a:pt x="158" y="543"/>
                  </a:cubicBezTo>
                  <a:cubicBezTo>
                    <a:pt x="158" y="544"/>
                    <a:pt x="158" y="544"/>
                    <a:pt x="158" y="544"/>
                  </a:cubicBezTo>
                  <a:cubicBezTo>
                    <a:pt x="157" y="539"/>
                    <a:pt x="155" y="535"/>
                    <a:pt x="153" y="530"/>
                  </a:cubicBezTo>
                  <a:cubicBezTo>
                    <a:pt x="147" y="519"/>
                    <a:pt x="140" y="509"/>
                    <a:pt x="132" y="499"/>
                  </a:cubicBezTo>
                  <a:cubicBezTo>
                    <a:pt x="116" y="481"/>
                    <a:pt x="99" y="465"/>
                    <a:pt x="82" y="449"/>
                  </a:cubicBezTo>
                  <a:cubicBezTo>
                    <a:pt x="65" y="433"/>
                    <a:pt x="47" y="418"/>
                    <a:pt x="32" y="401"/>
                  </a:cubicBezTo>
                  <a:cubicBezTo>
                    <a:pt x="26" y="394"/>
                    <a:pt x="20" y="386"/>
                    <a:pt x="16" y="379"/>
                  </a:cubicBezTo>
                  <a:cubicBezTo>
                    <a:pt x="14" y="373"/>
                    <a:pt x="13" y="368"/>
                    <a:pt x="13" y="363"/>
                  </a:cubicBezTo>
                  <a:cubicBezTo>
                    <a:pt x="11" y="342"/>
                    <a:pt x="19" y="322"/>
                    <a:pt x="32" y="304"/>
                  </a:cubicBezTo>
                  <a:cubicBezTo>
                    <a:pt x="45" y="286"/>
                    <a:pt x="61" y="270"/>
                    <a:pt x="78" y="254"/>
                  </a:cubicBezTo>
                  <a:cubicBezTo>
                    <a:pt x="95" y="239"/>
                    <a:pt x="113" y="223"/>
                    <a:pt x="129" y="204"/>
                  </a:cubicBezTo>
                  <a:cubicBezTo>
                    <a:pt x="136" y="195"/>
                    <a:pt x="144" y="185"/>
                    <a:pt x="150" y="174"/>
                  </a:cubicBezTo>
                  <a:cubicBezTo>
                    <a:pt x="153" y="167"/>
                    <a:pt x="156" y="160"/>
                    <a:pt x="158" y="152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87" name="Freeform 21"/>
            <p:cNvSpPr/>
            <p:nvPr/>
          </p:nvSpPr>
          <p:spPr>
            <a:xfrm>
              <a:off x="10159920" y="-1440"/>
              <a:ext cx="507600" cy="686232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60" h="2159">
                  <a:moveTo>
                    <a:pt x="26" y="72"/>
                  </a:moveTo>
                  <a:cubicBezTo>
                    <a:pt x="18" y="81"/>
                    <a:pt x="11" y="91"/>
                    <a:pt x="6" y="102"/>
                  </a:cubicBezTo>
                  <a:cubicBezTo>
                    <a:pt x="3" y="107"/>
                    <a:pt x="1" y="113"/>
                    <a:pt x="0" y="120"/>
                  </a:cubicBezTo>
                  <a:cubicBezTo>
                    <a:pt x="0" y="123"/>
                    <a:pt x="1" y="127"/>
                    <a:pt x="1" y="131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32"/>
                    <a:pt x="1" y="133"/>
                    <a:pt x="1" y="135"/>
                  </a:cubicBezTo>
                  <a:cubicBezTo>
                    <a:pt x="1" y="135"/>
                    <a:pt x="1" y="136"/>
                    <a:pt x="1" y="137"/>
                  </a:cubicBezTo>
                  <a:cubicBezTo>
                    <a:pt x="0" y="139"/>
                    <a:pt x="0" y="141"/>
                    <a:pt x="0" y="143"/>
                  </a:cubicBezTo>
                  <a:cubicBezTo>
                    <a:pt x="1" y="152"/>
                    <a:pt x="5" y="161"/>
                    <a:pt x="9" y="170"/>
                  </a:cubicBezTo>
                  <a:cubicBezTo>
                    <a:pt x="14" y="180"/>
                    <a:pt x="21" y="190"/>
                    <a:pt x="29" y="198"/>
                  </a:cubicBezTo>
                  <a:cubicBezTo>
                    <a:pt x="32" y="202"/>
                    <a:pt x="35" y="206"/>
                    <a:pt x="38" y="209"/>
                  </a:cubicBezTo>
                  <a:cubicBezTo>
                    <a:pt x="47" y="219"/>
                    <a:pt x="55" y="228"/>
                    <a:pt x="65" y="237"/>
                  </a:cubicBezTo>
                  <a:cubicBezTo>
                    <a:pt x="81" y="254"/>
                    <a:pt x="98" y="269"/>
                    <a:pt x="114" y="286"/>
                  </a:cubicBezTo>
                  <a:cubicBezTo>
                    <a:pt x="119" y="291"/>
                    <a:pt x="123" y="297"/>
                    <a:pt x="128" y="302"/>
                  </a:cubicBezTo>
                  <a:cubicBezTo>
                    <a:pt x="133" y="311"/>
                    <a:pt x="138" y="320"/>
                    <a:pt x="141" y="329"/>
                  </a:cubicBezTo>
                  <a:cubicBezTo>
                    <a:pt x="145" y="340"/>
                    <a:pt x="146" y="352"/>
                    <a:pt x="145" y="363"/>
                  </a:cubicBezTo>
                  <a:cubicBezTo>
                    <a:pt x="144" y="372"/>
                    <a:pt x="142" y="380"/>
                    <a:pt x="139" y="388"/>
                  </a:cubicBezTo>
                  <a:cubicBezTo>
                    <a:pt x="134" y="395"/>
                    <a:pt x="129" y="401"/>
                    <a:pt x="124" y="407"/>
                  </a:cubicBezTo>
                  <a:cubicBezTo>
                    <a:pt x="109" y="424"/>
                    <a:pt x="92" y="440"/>
                    <a:pt x="75" y="455"/>
                  </a:cubicBezTo>
                  <a:cubicBezTo>
                    <a:pt x="58" y="471"/>
                    <a:pt x="40" y="487"/>
                    <a:pt x="26" y="505"/>
                  </a:cubicBezTo>
                  <a:cubicBezTo>
                    <a:pt x="18" y="514"/>
                    <a:pt x="11" y="524"/>
                    <a:pt x="6" y="534"/>
                  </a:cubicBezTo>
                  <a:cubicBezTo>
                    <a:pt x="3" y="540"/>
                    <a:pt x="1" y="546"/>
                    <a:pt x="0" y="553"/>
                  </a:cubicBezTo>
                  <a:cubicBezTo>
                    <a:pt x="0" y="556"/>
                    <a:pt x="1" y="560"/>
                    <a:pt x="1" y="564"/>
                  </a:cubicBezTo>
                  <a:cubicBezTo>
                    <a:pt x="0" y="564"/>
                    <a:pt x="0" y="564"/>
                    <a:pt x="0" y="564"/>
                  </a:cubicBezTo>
                  <a:cubicBezTo>
                    <a:pt x="0" y="565"/>
                    <a:pt x="1" y="566"/>
                    <a:pt x="1" y="567"/>
                  </a:cubicBezTo>
                  <a:cubicBezTo>
                    <a:pt x="1" y="568"/>
                    <a:pt x="1" y="569"/>
                    <a:pt x="1" y="570"/>
                  </a:cubicBezTo>
                  <a:cubicBezTo>
                    <a:pt x="0" y="572"/>
                    <a:pt x="0" y="574"/>
                    <a:pt x="0" y="576"/>
                  </a:cubicBezTo>
                  <a:cubicBezTo>
                    <a:pt x="1" y="585"/>
                    <a:pt x="5" y="594"/>
                    <a:pt x="9" y="602"/>
                  </a:cubicBezTo>
                  <a:cubicBezTo>
                    <a:pt x="14" y="613"/>
                    <a:pt x="21" y="622"/>
                    <a:pt x="29" y="631"/>
                  </a:cubicBezTo>
                  <a:cubicBezTo>
                    <a:pt x="32" y="635"/>
                    <a:pt x="35" y="638"/>
                    <a:pt x="38" y="642"/>
                  </a:cubicBezTo>
                  <a:cubicBezTo>
                    <a:pt x="47" y="652"/>
                    <a:pt x="55" y="661"/>
                    <a:pt x="65" y="670"/>
                  </a:cubicBezTo>
                  <a:cubicBezTo>
                    <a:pt x="81" y="686"/>
                    <a:pt x="98" y="702"/>
                    <a:pt x="114" y="719"/>
                  </a:cubicBezTo>
                  <a:cubicBezTo>
                    <a:pt x="119" y="724"/>
                    <a:pt x="123" y="730"/>
                    <a:pt x="128" y="735"/>
                  </a:cubicBezTo>
                  <a:cubicBezTo>
                    <a:pt x="133" y="744"/>
                    <a:pt x="138" y="753"/>
                    <a:pt x="141" y="762"/>
                  </a:cubicBezTo>
                  <a:cubicBezTo>
                    <a:pt x="145" y="773"/>
                    <a:pt x="146" y="785"/>
                    <a:pt x="145" y="796"/>
                  </a:cubicBezTo>
                  <a:cubicBezTo>
                    <a:pt x="144" y="805"/>
                    <a:pt x="142" y="813"/>
                    <a:pt x="139" y="821"/>
                  </a:cubicBezTo>
                  <a:cubicBezTo>
                    <a:pt x="134" y="827"/>
                    <a:pt x="129" y="834"/>
                    <a:pt x="124" y="840"/>
                  </a:cubicBezTo>
                  <a:cubicBezTo>
                    <a:pt x="109" y="857"/>
                    <a:pt x="92" y="872"/>
                    <a:pt x="75" y="888"/>
                  </a:cubicBezTo>
                  <a:cubicBezTo>
                    <a:pt x="58" y="904"/>
                    <a:pt x="40" y="920"/>
                    <a:pt x="26" y="938"/>
                  </a:cubicBezTo>
                  <a:cubicBezTo>
                    <a:pt x="18" y="947"/>
                    <a:pt x="11" y="957"/>
                    <a:pt x="6" y="967"/>
                  </a:cubicBezTo>
                  <a:cubicBezTo>
                    <a:pt x="3" y="973"/>
                    <a:pt x="1" y="979"/>
                    <a:pt x="0" y="985"/>
                  </a:cubicBezTo>
                  <a:cubicBezTo>
                    <a:pt x="0" y="988"/>
                    <a:pt x="1" y="990"/>
                    <a:pt x="1" y="993"/>
                  </a:cubicBezTo>
                  <a:cubicBezTo>
                    <a:pt x="0" y="993"/>
                    <a:pt x="0" y="993"/>
                    <a:pt x="0" y="993"/>
                  </a:cubicBezTo>
                  <a:cubicBezTo>
                    <a:pt x="0" y="994"/>
                    <a:pt x="1" y="996"/>
                    <a:pt x="1" y="998"/>
                  </a:cubicBezTo>
                  <a:cubicBezTo>
                    <a:pt x="1" y="999"/>
                    <a:pt x="1" y="1001"/>
                    <a:pt x="1" y="1002"/>
                  </a:cubicBezTo>
                  <a:cubicBezTo>
                    <a:pt x="0" y="1004"/>
                    <a:pt x="0" y="1007"/>
                    <a:pt x="0" y="1009"/>
                  </a:cubicBezTo>
                  <a:cubicBezTo>
                    <a:pt x="1" y="1018"/>
                    <a:pt x="5" y="1027"/>
                    <a:pt x="9" y="1035"/>
                  </a:cubicBezTo>
                  <a:cubicBezTo>
                    <a:pt x="14" y="1046"/>
                    <a:pt x="21" y="1055"/>
                    <a:pt x="29" y="1064"/>
                  </a:cubicBezTo>
                  <a:cubicBezTo>
                    <a:pt x="44" y="1082"/>
                    <a:pt x="61" y="1098"/>
                    <a:pt x="78" y="1113"/>
                  </a:cubicBezTo>
                  <a:cubicBezTo>
                    <a:pt x="95" y="1129"/>
                    <a:pt x="112" y="1146"/>
                    <a:pt x="125" y="1164"/>
                  </a:cubicBezTo>
                  <a:cubicBezTo>
                    <a:pt x="132" y="1174"/>
                    <a:pt x="138" y="1184"/>
                    <a:pt x="141" y="1195"/>
                  </a:cubicBezTo>
                  <a:cubicBezTo>
                    <a:pt x="145" y="1206"/>
                    <a:pt x="146" y="1218"/>
                    <a:pt x="145" y="1229"/>
                  </a:cubicBezTo>
                  <a:cubicBezTo>
                    <a:pt x="145" y="1234"/>
                    <a:pt x="144" y="1239"/>
                    <a:pt x="142" y="1244"/>
                  </a:cubicBezTo>
                  <a:cubicBezTo>
                    <a:pt x="137" y="1253"/>
                    <a:pt x="131" y="1261"/>
                    <a:pt x="124" y="1269"/>
                  </a:cubicBezTo>
                  <a:cubicBezTo>
                    <a:pt x="109" y="1286"/>
                    <a:pt x="92" y="1302"/>
                    <a:pt x="75" y="1318"/>
                  </a:cubicBezTo>
                  <a:cubicBezTo>
                    <a:pt x="58" y="1333"/>
                    <a:pt x="40" y="1349"/>
                    <a:pt x="26" y="1367"/>
                  </a:cubicBezTo>
                  <a:cubicBezTo>
                    <a:pt x="18" y="1376"/>
                    <a:pt x="11" y="1386"/>
                    <a:pt x="6" y="1396"/>
                  </a:cubicBezTo>
                  <a:cubicBezTo>
                    <a:pt x="3" y="1402"/>
                    <a:pt x="1" y="1408"/>
                    <a:pt x="0" y="1415"/>
                  </a:cubicBezTo>
                  <a:cubicBezTo>
                    <a:pt x="0" y="1418"/>
                    <a:pt x="1" y="1421"/>
                    <a:pt x="1" y="1425"/>
                  </a:cubicBezTo>
                  <a:cubicBezTo>
                    <a:pt x="0" y="1425"/>
                    <a:pt x="0" y="1425"/>
                    <a:pt x="0" y="1425"/>
                  </a:cubicBezTo>
                  <a:cubicBezTo>
                    <a:pt x="0" y="1426"/>
                    <a:pt x="1" y="1427"/>
                    <a:pt x="1" y="1429"/>
                  </a:cubicBezTo>
                  <a:cubicBezTo>
                    <a:pt x="1" y="1430"/>
                    <a:pt x="1" y="1431"/>
                    <a:pt x="1" y="1432"/>
                  </a:cubicBezTo>
                  <a:cubicBezTo>
                    <a:pt x="0" y="1434"/>
                    <a:pt x="0" y="1436"/>
                    <a:pt x="0" y="1438"/>
                  </a:cubicBezTo>
                  <a:cubicBezTo>
                    <a:pt x="1" y="1447"/>
                    <a:pt x="5" y="1456"/>
                    <a:pt x="9" y="1464"/>
                  </a:cubicBezTo>
                  <a:cubicBezTo>
                    <a:pt x="14" y="1475"/>
                    <a:pt x="21" y="1484"/>
                    <a:pt x="29" y="1493"/>
                  </a:cubicBezTo>
                  <a:cubicBezTo>
                    <a:pt x="36" y="1502"/>
                    <a:pt x="44" y="1510"/>
                    <a:pt x="51" y="1517"/>
                  </a:cubicBezTo>
                  <a:cubicBezTo>
                    <a:pt x="56" y="1522"/>
                    <a:pt x="60" y="1526"/>
                    <a:pt x="65" y="1531"/>
                  </a:cubicBezTo>
                  <a:cubicBezTo>
                    <a:pt x="81" y="1547"/>
                    <a:pt x="98" y="1563"/>
                    <a:pt x="114" y="1580"/>
                  </a:cubicBezTo>
                  <a:cubicBezTo>
                    <a:pt x="116" y="1582"/>
                    <a:pt x="118" y="1584"/>
                    <a:pt x="119" y="1586"/>
                  </a:cubicBezTo>
                  <a:cubicBezTo>
                    <a:pt x="121" y="1589"/>
                    <a:pt x="123" y="1591"/>
                    <a:pt x="125" y="1594"/>
                  </a:cubicBezTo>
                  <a:cubicBezTo>
                    <a:pt x="132" y="1603"/>
                    <a:pt x="138" y="1613"/>
                    <a:pt x="141" y="1624"/>
                  </a:cubicBezTo>
                  <a:cubicBezTo>
                    <a:pt x="145" y="1635"/>
                    <a:pt x="146" y="1647"/>
                    <a:pt x="145" y="1658"/>
                  </a:cubicBezTo>
                  <a:cubicBezTo>
                    <a:pt x="145" y="1666"/>
                    <a:pt x="143" y="1673"/>
                    <a:pt x="140" y="1680"/>
                  </a:cubicBezTo>
                  <a:cubicBezTo>
                    <a:pt x="135" y="1687"/>
                    <a:pt x="130" y="1694"/>
                    <a:pt x="124" y="1701"/>
                  </a:cubicBezTo>
                  <a:cubicBezTo>
                    <a:pt x="109" y="1718"/>
                    <a:pt x="92" y="1733"/>
                    <a:pt x="75" y="1749"/>
                  </a:cubicBezTo>
                  <a:cubicBezTo>
                    <a:pt x="58" y="1765"/>
                    <a:pt x="40" y="1781"/>
                    <a:pt x="26" y="1799"/>
                  </a:cubicBezTo>
                  <a:cubicBezTo>
                    <a:pt x="18" y="1808"/>
                    <a:pt x="11" y="1818"/>
                    <a:pt x="6" y="1828"/>
                  </a:cubicBezTo>
                  <a:cubicBezTo>
                    <a:pt x="3" y="1834"/>
                    <a:pt x="1" y="1840"/>
                    <a:pt x="0" y="1846"/>
                  </a:cubicBezTo>
                  <a:cubicBezTo>
                    <a:pt x="0" y="1849"/>
                    <a:pt x="1" y="1852"/>
                    <a:pt x="1" y="1855"/>
                  </a:cubicBezTo>
                  <a:cubicBezTo>
                    <a:pt x="0" y="1855"/>
                    <a:pt x="0" y="1855"/>
                    <a:pt x="0" y="1855"/>
                  </a:cubicBezTo>
                  <a:cubicBezTo>
                    <a:pt x="0" y="1856"/>
                    <a:pt x="1" y="1858"/>
                    <a:pt x="1" y="1859"/>
                  </a:cubicBezTo>
                  <a:cubicBezTo>
                    <a:pt x="1" y="1861"/>
                    <a:pt x="1" y="1862"/>
                    <a:pt x="1" y="1863"/>
                  </a:cubicBezTo>
                  <a:cubicBezTo>
                    <a:pt x="0" y="1865"/>
                    <a:pt x="0" y="1867"/>
                    <a:pt x="0" y="1870"/>
                  </a:cubicBezTo>
                  <a:cubicBezTo>
                    <a:pt x="1" y="1879"/>
                    <a:pt x="5" y="1888"/>
                    <a:pt x="9" y="1896"/>
                  </a:cubicBezTo>
                  <a:cubicBezTo>
                    <a:pt x="14" y="1907"/>
                    <a:pt x="21" y="1916"/>
                    <a:pt x="29" y="1925"/>
                  </a:cubicBezTo>
                  <a:cubicBezTo>
                    <a:pt x="44" y="1943"/>
                    <a:pt x="61" y="1958"/>
                    <a:pt x="78" y="1974"/>
                  </a:cubicBezTo>
                  <a:cubicBezTo>
                    <a:pt x="78" y="1975"/>
                    <a:pt x="79" y="1975"/>
                    <a:pt x="79" y="1975"/>
                  </a:cubicBezTo>
                  <a:cubicBezTo>
                    <a:pt x="86" y="1982"/>
                    <a:pt x="93" y="1988"/>
                    <a:pt x="99" y="1995"/>
                  </a:cubicBezTo>
                  <a:cubicBezTo>
                    <a:pt x="109" y="2005"/>
                    <a:pt x="117" y="2014"/>
                    <a:pt x="125" y="2025"/>
                  </a:cubicBezTo>
                  <a:cubicBezTo>
                    <a:pt x="132" y="2035"/>
                    <a:pt x="138" y="2045"/>
                    <a:pt x="141" y="2056"/>
                  </a:cubicBezTo>
                  <a:cubicBezTo>
                    <a:pt x="145" y="2067"/>
                    <a:pt x="146" y="2078"/>
                    <a:pt x="145" y="2090"/>
                  </a:cubicBezTo>
                  <a:cubicBezTo>
                    <a:pt x="145" y="2096"/>
                    <a:pt x="143" y="2102"/>
                    <a:pt x="141" y="2108"/>
                  </a:cubicBezTo>
                  <a:cubicBezTo>
                    <a:pt x="137" y="2116"/>
                    <a:pt x="131" y="2124"/>
                    <a:pt x="124" y="2131"/>
                  </a:cubicBezTo>
                  <a:cubicBezTo>
                    <a:pt x="116" y="2141"/>
                    <a:pt x="106" y="2150"/>
                    <a:pt x="97" y="2159"/>
                  </a:cubicBezTo>
                  <a:cubicBezTo>
                    <a:pt x="112" y="2159"/>
                    <a:pt x="112" y="2159"/>
                    <a:pt x="112" y="2159"/>
                  </a:cubicBezTo>
                  <a:cubicBezTo>
                    <a:pt x="119" y="2152"/>
                    <a:pt x="126" y="2145"/>
                    <a:pt x="132" y="2138"/>
                  </a:cubicBezTo>
                  <a:cubicBezTo>
                    <a:pt x="136" y="2133"/>
                    <a:pt x="141" y="2128"/>
                    <a:pt x="145" y="2122"/>
                  </a:cubicBezTo>
                  <a:cubicBezTo>
                    <a:pt x="145" y="2122"/>
                    <a:pt x="145" y="2122"/>
                    <a:pt x="145" y="2122"/>
                  </a:cubicBezTo>
                  <a:cubicBezTo>
                    <a:pt x="145" y="2122"/>
                    <a:pt x="145" y="2121"/>
                    <a:pt x="146" y="2120"/>
                  </a:cubicBezTo>
                  <a:cubicBezTo>
                    <a:pt x="148" y="2116"/>
                    <a:pt x="151" y="2112"/>
                    <a:pt x="153" y="2107"/>
                  </a:cubicBezTo>
                  <a:cubicBezTo>
                    <a:pt x="156" y="2101"/>
                    <a:pt x="158" y="2095"/>
                    <a:pt x="159" y="2088"/>
                  </a:cubicBezTo>
                  <a:cubicBezTo>
                    <a:pt x="160" y="2080"/>
                    <a:pt x="159" y="2074"/>
                    <a:pt x="158" y="2068"/>
                  </a:cubicBezTo>
                  <a:cubicBezTo>
                    <a:pt x="155" y="2055"/>
                    <a:pt x="150" y="2043"/>
                    <a:pt x="143" y="2033"/>
                  </a:cubicBezTo>
                  <a:cubicBezTo>
                    <a:pt x="142" y="2032"/>
                    <a:pt x="141" y="2030"/>
                    <a:pt x="140" y="2029"/>
                  </a:cubicBezTo>
                  <a:cubicBezTo>
                    <a:pt x="138" y="2026"/>
                    <a:pt x="136" y="2022"/>
                    <a:pt x="134" y="2019"/>
                  </a:cubicBezTo>
                  <a:cubicBezTo>
                    <a:pt x="120" y="1999"/>
                    <a:pt x="102" y="1982"/>
                    <a:pt x="86" y="1966"/>
                  </a:cubicBezTo>
                  <a:cubicBezTo>
                    <a:pt x="69" y="1950"/>
                    <a:pt x="52" y="1935"/>
                    <a:pt x="38" y="1917"/>
                  </a:cubicBezTo>
                  <a:cubicBezTo>
                    <a:pt x="24" y="1901"/>
                    <a:pt x="12" y="1881"/>
                    <a:pt x="11" y="1861"/>
                  </a:cubicBezTo>
                  <a:cubicBezTo>
                    <a:pt x="10" y="1852"/>
                    <a:pt x="12" y="1843"/>
                    <a:pt x="17" y="1833"/>
                  </a:cubicBezTo>
                  <a:cubicBezTo>
                    <a:pt x="21" y="1824"/>
                    <a:pt x="28" y="1815"/>
                    <a:pt x="35" y="1806"/>
                  </a:cubicBezTo>
                  <a:cubicBezTo>
                    <a:pt x="49" y="1789"/>
                    <a:pt x="65" y="1773"/>
                    <a:pt x="82" y="1757"/>
                  </a:cubicBezTo>
                  <a:cubicBezTo>
                    <a:pt x="99" y="1741"/>
                    <a:pt x="116" y="1726"/>
                    <a:pt x="132" y="1708"/>
                  </a:cubicBezTo>
                  <a:cubicBezTo>
                    <a:pt x="140" y="1698"/>
                    <a:pt x="148" y="1689"/>
                    <a:pt x="153" y="1677"/>
                  </a:cubicBezTo>
                  <a:cubicBezTo>
                    <a:pt x="156" y="1671"/>
                    <a:pt x="158" y="1664"/>
                    <a:pt x="159" y="1657"/>
                  </a:cubicBezTo>
                  <a:cubicBezTo>
                    <a:pt x="160" y="1650"/>
                    <a:pt x="159" y="1644"/>
                    <a:pt x="158" y="1637"/>
                  </a:cubicBezTo>
                  <a:cubicBezTo>
                    <a:pt x="155" y="1625"/>
                    <a:pt x="150" y="1614"/>
                    <a:pt x="144" y="1605"/>
                  </a:cubicBezTo>
                  <a:cubicBezTo>
                    <a:pt x="141" y="1599"/>
                    <a:pt x="138" y="1593"/>
                    <a:pt x="134" y="1588"/>
                  </a:cubicBezTo>
                  <a:cubicBezTo>
                    <a:pt x="120" y="1567"/>
                    <a:pt x="102" y="1551"/>
                    <a:pt x="86" y="1535"/>
                  </a:cubicBezTo>
                  <a:cubicBezTo>
                    <a:pt x="69" y="1519"/>
                    <a:pt x="52" y="1503"/>
                    <a:pt x="38" y="1486"/>
                  </a:cubicBezTo>
                  <a:cubicBezTo>
                    <a:pt x="24" y="1469"/>
                    <a:pt x="12" y="1450"/>
                    <a:pt x="11" y="1430"/>
                  </a:cubicBezTo>
                  <a:cubicBezTo>
                    <a:pt x="10" y="1421"/>
                    <a:pt x="12" y="1411"/>
                    <a:pt x="17" y="1402"/>
                  </a:cubicBezTo>
                  <a:cubicBezTo>
                    <a:pt x="21" y="1392"/>
                    <a:pt x="28" y="1383"/>
                    <a:pt x="35" y="1375"/>
                  </a:cubicBezTo>
                  <a:cubicBezTo>
                    <a:pt x="49" y="1357"/>
                    <a:pt x="65" y="1342"/>
                    <a:pt x="82" y="1326"/>
                  </a:cubicBezTo>
                  <a:cubicBezTo>
                    <a:pt x="99" y="1310"/>
                    <a:pt x="116" y="1294"/>
                    <a:pt x="132" y="1276"/>
                  </a:cubicBezTo>
                  <a:cubicBezTo>
                    <a:pt x="136" y="1271"/>
                    <a:pt x="140" y="1266"/>
                    <a:pt x="144" y="1261"/>
                  </a:cubicBezTo>
                  <a:cubicBezTo>
                    <a:pt x="145" y="1261"/>
                    <a:pt x="145" y="1261"/>
                    <a:pt x="145" y="1261"/>
                  </a:cubicBezTo>
                  <a:cubicBezTo>
                    <a:pt x="146" y="1259"/>
                    <a:pt x="147" y="1258"/>
                    <a:pt x="148" y="1256"/>
                  </a:cubicBezTo>
                  <a:cubicBezTo>
                    <a:pt x="150" y="1252"/>
                    <a:pt x="152" y="1249"/>
                    <a:pt x="153" y="1245"/>
                  </a:cubicBezTo>
                  <a:cubicBezTo>
                    <a:pt x="156" y="1239"/>
                    <a:pt x="158" y="1233"/>
                    <a:pt x="159" y="1226"/>
                  </a:cubicBezTo>
                  <a:cubicBezTo>
                    <a:pt x="160" y="1218"/>
                    <a:pt x="159" y="1212"/>
                    <a:pt x="158" y="1206"/>
                  </a:cubicBezTo>
                  <a:cubicBezTo>
                    <a:pt x="155" y="1193"/>
                    <a:pt x="150" y="1181"/>
                    <a:pt x="143" y="1171"/>
                  </a:cubicBezTo>
                  <a:cubicBezTo>
                    <a:pt x="141" y="1168"/>
                    <a:pt x="138" y="1164"/>
                    <a:pt x="136" y="1161"/>
                  </a:cubicBezTo>
                  <a:cubicBezTo>
                    <a:pt x="135" y="1160"/>
                    <a:pt x="134" y="1159"/>
                    <a:pt x="134" y="1158"/>
                  </a:cubicBezTo>
                  <a:cubicBezTo>
                    <a:pt x="120" y="1138"/>
                    <a:pt x="102" y="1122"/>
                    <a:pt x="86" y="1105"/>
                  </a:cubicBezTo>
                  <a:cubicBezTo>
                    <a:pt x="69" y="1089"/>
                    <a:pt x="52" y="1074"/>
                    <a:pt x="38" y="1057"/>
                  </a:cubicBezTo>
                  <a:cubicBezTo>
                    <a:pt x="24" y="1040"/>
                    <a:pt x="12" y="1020"/>
                    <a:pt x="11" y="1000"/>
                  </a:cubicBezTo>
                  <a:cubicBezTo>
                    <a:pt x="10" y="991"/>
                    <a:pt x="12" y="982"/>
                    <a:pt x="17" y="972"/>
                  </a:cubicBezTo>
                  <a:cubicBezTo>
                    <a:pt x="21" y="963"/>
                    <a:pt x="28" y="954"/>
                    <a:pt x="35" y="945"/>
                  </a:cubicBezTo>
                  <a:cubicBezTo>
                    <a:pt x="49" y="928"/>
                    <a:pt x="65" y="912"/>
                    <a:pt x="82" y="896"/>
                  </a:cubicBezTo>
                  <a:cubicBezTo>
                    <a:pt x="99" y="880"/>
                    <a:pt x="116" y="865"/>
                    <a:pt x="132" y="847"/>
                  </a:cubicBezTo>
                  <a:cubicBezTo>
                    <a:pt x="140" y="837"/>
                    <a:pt x="148" y="828"/>
                    <a:pt x="153" y="816"/>
                  </a:cubicBezTo>
                  <a:cubicBezTo>
                    <a:pt x="156" y="810"/>
                    <a:pt x="158" y="803"/>
                    <a:pt x="159" y="796"/>
                  </a:cubicBezTo>
                  <a:cubicBezTo>
                    <a:pt x="160" y="789"/>
                    <a:pt x="159" y="783"/>
                    <a:pt x="158" y="776"/>
                  </a:cubicBezTo>
                  <a:cubicBezTo>
                    <a:pt x="156" y="766"/>
                    <a:pt x="152" y="756"/>
                    <a:pt x="147" y="748"/>
                  </a:cubicBezTo>
                  <a:cubicBezTo>
                    <a:pt x="143" y="740"/>
                    <a:pt x="139" y="732"/>
                    <a:pt x="134" y="726"/>
                  </a:cubicBezTo>
                  <a:cubicBezTo>
                    <a:pt x="120" y="705"/>
                    <a:pt x="102" y="689"/>
                    <a:pt x="86" y="673"/>
                  </a:cubicBezTo>
                  <a:cubicBezTo>
                    <a:pt x="69" y="656"/>
                    <a:pt x="52" y="641"/>
                    <a:pt x="38" y="624"/>
                  </a:cubicBezTo>
                  <a:cubicBezTo>
                    <a:pt x="24" y="607"/>
                    <a:pt x="12" y="588"/>
                    <a:pt x="11" y="568"/>
                  </a:cubicBezTo>
                  <a:cubicBezTo>
                    <a:pt x="10" y="558"/>
                    <a:pt x="12" y="549"/>
                    <a:pt x="17" y="540"/>
                  </a:cubicBezTo>
                  <a:cubicBezTo>
                    <a:pt x="21" y="530"/>
                    <a:pt x="28" y="521"/>
                    <a:pt x="35" y="513"/>
                  </a:cubicBezTo>
                  <a:cubicBezTo>
                    <a:pt x="49" y="495"/>
                    <a:pt x="65" y="480"/>
                    <a:pt x="82" y="464"/>
                  </a:cubicBezTo>
                  <a:cubicBezTo>
                    <a:pt x="99" y="448"/>
                    <a:pt x="116" y="432"/>
                    <a:pt x="132" y="414"/>
                  </a:cubicBezTo>
                  <a:cubicBezTo>
                    <a:pt x="140" y="405"/>
                    <a:pt x="148" y="395"/>
                    <a:pt x="153" y="383"/>
                  </a:cubicBezTo>
                  <a:cubicBezTo>
                    <a:pt x="156" y="377"/>
                    <a:pt x="158" y="371"/>
                    <a:pt x="159" y="364"/>
                  </a:cubicBezTo>
                  <a:cubicBezTo>
                    <a:pt x="160" y="356"/>
                    <a:pt x="159" y="350"/>
                    <a:pt x="158" y="344"/>
                  </a:cubicBezTo>
                  <a:cubicBezTo>
                    <a:pt x="156" y="333"/>
                    <a:pt x="152" y="324"/>
                    <a:pt x="147" y="315"/>
                  </a:cubicBezTo>
                  <a:cubicBezTo>
                    <a:pt x="143" y="307"/>
                    <a:pt x="139" y="300"/>
                    <a:pt x="134" y="293"/>
                  </a:cubicBezTo>
                  <a:cubicBezTo>
                    <a:pt x="120" y="273"/>
                    <a:pt x="102" y="256"/>
                    <a:pt x="86" y="240"/>
                  </a:cubicBezTo>
                  <a:cubicBezTo>
                    <a:pt x="69" y="224"/>
                    <a:pt x="52" y="208"/>
                    <a:pt x="38" y="191"/>
                  </a:cubicBezTo>
                  <a:cubicBezTo>
                    <a:pt x="24" y="174"/>
                    <a:pt x="12" y="155"/>
                    <a:pt x="11" y="135"/>
                  </a:cubicBezTo>
                  <a:cubicBezTo>
                    <a:pt x="10" y="126"/>
                    <a:pt x="12" y="116"/>
                    <a:pt x="17" y="107"/>
                  </a:cubicBezTo>
                  <a:cubicBezTo>
                    <a:pt x="21" y="97"/>
                    <a:pt x="28" y="88"/>
                    <a:pt x="35" y="80"/>
                  </a:cubicBezTo>
                  <a:cubicBezTo>
                    <a:pt x="49" y="63"/>
                    <a:pt x="65" y="47"/>
                    <a:pt x="82" y="31"/>
                  </a:cubicBezTo>
                  <a:cubicBezTo>
                    <a:pt x="93" y="21"/>
                    <a:pt x="104" y="10"/>
                    <a:pt x="114" y="0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91" y="7"/>
                    <a:pt x="83" y="15"/>
                    <a:pt x="75" y="23"/>
                  </a:cubicBezTo>
                  <a:cubicBezTo>
                    <a:pt x="58" y="39"/>
                    <a:pt x="40" y="54"/>
                    <a:pt x="26" y="72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88" name="Freeform 22"/>
            <p:cNvSpPr/>
            <p:nvPr/>
          </p:nvSpPr>
          <p:spPr>
            <a:xfrm>
              <a:off x="11692080" y="-1440"/>
              <a:ext cx="501120" cy="6862320"/>
            </a:xfrm>
            <a:custGeom>
              <a:avLst/>
              <a:gdLst>
                <a:gd name="textAreaLeft" fmla="*/ 0 w 501120"/>
                <a:gd name="textAreaRight" fmla="*/ 501480 w 501120"/>
                <a:gd name="textAreaTop" fmla="*/ 0 h 6862320"/>
                <a:gd name="textAreaBottom" fmla="*/ 6862680 h 6862320"/>
              </a:gdLst>
              <a:ahLst/>
              <a:rect l="textAreaLeft" t="textAreaTop" r="textAreaRight" b="textAreaBottom"/>
              <a:pathLst>
                <a:path w="158" h="2159">
                  <a:moveTo>
                    <a:pt x="123" y="74"/>
                  </a:moveTo>
                  <a:cubicBezTo>
                    <a:pt x="130" y="83"/>
                    <a:pt x="137" y="92"/>
                    <a:pt x="142" y="103"/>
                  </a:cubicBezTo>
                  <a:cubicBezTo>
                    <a:pt x="146" y="111"/>
                    <a:pt x="149" y="121"/>
                    <a:pt x="149" y="131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46" y="149"/>
                    <a:pt x="139" y="167"/>
                    <a:pt x="129" y="183"/>
                  </a:cubicBezTo>
                  <a:cubicBezTo>
                    <a:pt x="127" y="187"/>
                    <a:pt x="124" y="192"/>
                    <a:pt x="121" y="196"/>
                  </a:cubicBezTo>
                  <a:cubicBezTo>
                    <a:pt x="120" y="196"/>
                    <a:pt x="120" y="197"/>
                    <a:pt x="120" y="197"/>
                  </a:cubicBezTo>
                  <a:cubicBezTo>
                    <a:pt x="105" y="215"/>
                    <a:pt x="87" y="230"/>
                    <a:pt x="71" y="246"/>
                  </a:cubicBezTo>
                  <a:cubicBezTo>
                    <a:pt x="54" y="262"/>
                    <a:pt x="37" y="279"/>
                    <a:pt x="23" y="298"/>
                  </a:cubicBezTo>
                  <a:cubicBezTo>
                    <a:pt x="22" y="300"/>
                    <a:pt x="20" y="302"/>
                    <a:pt x="19" y="305"/>
                  </a:cubicBezTo>
                  <a:cubicBezTo>
                    <a:pt x="17" y="307"/>
                    <a:pt x="15" y="310"/>
                    <a:pt x="13" y="313"/>
                  </a:cubicBezTo>
                  <a:cubicBezTo>
                    <a:pt x="7" y="322"/>
                    <a:pt x="2" y="333"/>
                    <a:pt x="0" y="345"/>
                  </a:cubicBezTo>
                  <a:cubicBezTo>
                    <a:pt x="0" y="345"/>
                    <a:pt x="0" y="346"/>
                    <a:pt x="0" y="347"/>
                  </a:cubicBezTo>
                  <a:cubicBezTo>
                    <a:pt x="1" y="352"/>
                    <a:pt x="1" y="357"/>
                    <a:pt x="0" y="364"/>
                  </a:cubicBezTo>
                  <a:cubicBezTo>
                    <a:pt x="0" y="365"/>
                    <a:pt x="0" y="366"/>
                    <a:pt x="0" y="367"/>
                  </a:cubicBezTo>
                  <a:cubicBezTo>
                    <a:pt x="1" y="372"/>
                    <a:pt x="2" y="376"/>
                    <a:pt x="4" y="379"/>
                  </a:cubicBezTo>
                  <a:cubicBezTo>
                    <a:pt x="6" y="383"/>
                    <a:pt x="8" y="387"/>
                    <a:pt x="10" y="390"/>
                  </a:cubicBezTo>
                  <a:cubicBezTo>
                    <a:pt x="11" y="392"/>
                    <a:pt x="12" y="394"/>
                    <a:pt x="13" y="396"/>
                  </a:cubicBezTo>
                  <a:cubicBezTo>
                    <a:pt x="14" y="396"/>
                    <a:pt x="14" y="396"/>
                    <a:pt x="14" y="396"/>
                  </a:cubicBezTo>
                  <a:cubicBezTo>
                    <a:pt x="17" y="400"/>
                    <a:pt x="21" y="404"/>
                    <a:pt x="24" y="408"/>
                  </a:cubicBezTo>
                  <a:cubicBezTo>
                    <a:pt x="40" y="426"/>
                    <a:pt x="57" y="441"/>
                    <a:pt x="74" y="457"/>
                  </a:cubicBezTo>
                  <a:cubicBezTo>
                    <a:pt x="91" y="473"/>
                    <a:pt x="108" y="489"/>
                    <a:pt x="123" y="507"/>
                  </a:cubicBezTo>
                  <a:cubicBezTo>
                    <a:pt x="130" y="516"/>
                    <a:pt x="137" y="525"/>
                    <a:pt x="142" y="535"/>
                  </a:cubicBezTo>
                  <a:cubicBezTo>
                    <a:pt x="146" y="544"/>
                    <a:pt x="149" y="554"/>
                    <a:pt x="149" y="564"/>
                  </a:cubicBezTo>
                  <a:cubicBezTo>
                    <a:pt x="149" y="564"/>
                    <a:pt x="149" y="564"/>
                    <a:pt x="149" y="564"/>
                  </a:cubicBezTo>
                  <a:cubicBezTo>
                    <a:pt x="146" y="582"/>
                    <a:pt x="139" y="600"/>
                    <a:pt x="129" y="616"/>
                  </a:cubicBezTo>
                  <a:cubicBezTo>
                    <a:pt x="127" y="620"/>
                    <a:pt x="124" y="625"/>
                    <a:pt x="121" y="629"/>
                  </a:cubicBezTo>
                  <a:cubicBezTo>
                    <a:pt x="120" y="629"/>
                    <a:pt x="120" y="629"/>
                    <a:pt x="120" y="630"/>
                  </a:cubicBezTo>
                  <a:cubicBezTo>
                    <a:pt x="105" y="648"/>
                    <a:pt x="87" y="663"/>
                    <a:pt x="71" y="679"/>
                  </a:cubicBezTo>
                  <a:cubicBezTo>
                    <a:pt x="54" y="695"/>
                    <a:pt x="37" y="711"/>
                    <a:pt x="23" y="730"/>
                  </a:cubicBezTo>
                  <a:cubicBezTo>
                    <a:pt x="22" y="733"/>
                    <a:pt x="20" y="735"/>
                    <a:pt x="19" y="737"/>
                  </a:cubicBezTo>
                  <a:cubicBezTo>
                    <a:pt x="17" y="740"/>
                    <a:pt x="15" y="743"/>
                    <a:pt x="13" y="745"/>
                  </a:cubicBezTo>
                  <a:cubicBezTo>
                    <a:pt x="7" y="755"/>
                    <a:pt x="2" y="766"/>
                    <a:pt x="0" y="778"/>
                  </a:cubicBezTo>
                  <a:cubicBezTo>
                    <a:pt x="0" y="778"/>
                    <a:pt x="0" y="779"/>
                    <a:pt x="0" y="779"/>
                  </a:cubicBezTo>
                  <a:cubicBezTo>
                    <a:pt x="1" y="785"/>
                    <a:pt x="1" y="790"/>
                    <a:pt x="0" y="796"/>
                  </a:cubicBezTo>
                  <a:cubicBezTo>
                    <a:pt x="0" y="798"/>
                    <a:pt x="0" y="799"/>
                    <a:pt x="0" y="800"/>
                  </a:cubicBezTo>
                  <a:cubicBezTo>
                    <a:pt x="1" y="804"/>
                    <a:pt x="2" y="808"/>
                    <a:pt x="4" y="812"/>
                  </a:cubicBezTo>
                  <a:cubicBezTo>
                    <a:pt x="6" y="816"/>
                    <a:pt x="8" y="819"/>
                    <a:pt x="10" y="823"/>
                  </a:cubicBezTo>
                  <a:cubicBezTo>
                    <a:pt x="11" y="825"/>
                    <a:pt x="12" y="827"/>
                    <a:pt x="13" y="828"/>
                  </a:cubicBezTo>
                  <a:cubicBezTo>
                    <a:pt x="14" y="828"/>
                    <a:pt x="14" y="828"/>
                    <a:pt x="14" y="828"/>
                  </a:cubicBezTo>
                  <a:cubicBezTo>
                    <a:pt x="17" y="833"/>
                    <a:pt x="21" y="837"/>
                    <a:pt x="24" y="841"/>
                  </a:cubicBezTo>
                  <a:cubicBezTo>
                    <a:pt x="40" y="858"/>
                    <a:pt x="57" y="874"/>
                    <a:pt x="74" y="890"/>
                  </a:cubicBezTo>
                  <a:cubicBezTo>
                    <a:pt x="91" y="906"/>
                    <a:pt x="108" y="922"/>
                    <a:pt x="123" y="939"/>
                  </a:cubicBezTo>
                  <a:cubicBezTo>
                    <a:pt x="130" y="948"/>
                    <a:pt x="137" y="958"/>
                    <a:pt x="142" y="968"/>
                  </a:cubicBezTo>
                  <a:cubicBezTo>
                    <a:pt x="146" y="976"/>
                    <a:pt x="148" y="984"/>
                    <a:pt x="149" y="993"/>
                  </a:cubicBezTo>
                  <a:cubicBezTo>
                    <a:pt x="149" y="993"/>
                    <a:pt x="149" y="993"/>
                    <a:pt x="149" y="993"/>
                  </a:cubicBezTo>
                  <a:cubicBezTo>
                    <a:pt x="146" y="1012"/>
                    <a:pt x="139" y="1029"/>
                    <a:pt x="129" y="1045"/>
                  </a:cubicBezTo>
                  <a:cubicBezTo>
                    <a:pt x="117" y="1065"/>
                    <a:pt x="101" y="1082"/>
                    <a:pt x="84" y="1098"/>
                  </a:cubicBezTo>
                  <a:cubicBezTo>
                    <a:pt x="68" y="1114"/>
                    <a:pt x="51" y="1130"/>
                    <a:pt x="35" y="1147"/>
                  </a:cubicBezTo>
                  <a:cubicBezTo>
                    <a:pt x="27" y="1156"/>
                    <a:pt x="20" y="1165"/>
                    <a:pt x="13" y="1175"/>
                  </a:cubicBezTo>
                  <a:cubicBezTo>
                    <a:pt x="7" y="1185"/>
                    <a:pt x="2" y="1195"/>
                    <a:pt x="0" y="1207"/>
                  </a:cubicBezTo>
                  <a:cubicBezTo>
                    <a:pt x="0" y="1208"/>
                    <a:pt x="0" y="1208"/>
                    <a:pt x="0" y="1209"/>
                  </a:cubicBezTo>
                  <a:cubicBezTo>
                    <a:pt x="1" y="1214"/>
                    <a:pt x="1" y="1220"/>
                    <a:pt x="0" y="1226"/>
                  </a:cubicBezTo>
                  <a:cubicBezTo>
                    <a:pt x="0" y="1227"/>
                    <a:pt x="0" y="1228"/>
                    <a:pt x="0" y="1230"/>
                  </a:cubicBezTo>
                  <a:cubicBezTo>
                    <a:pt x="1" y="1234"/>
                    <a:pt x="2" y="1238"/>
                    <a:pt x="4" y="1242"/>
                  </a:cubicBezTo>
                  <a:cubicBezTo>
                    <a:pt x="5" y="1243"/>
                    <a:pt x="6" y="1244"/>
                    <a:pt x="6" y="1245"/>
                  </a:cubicBezTo>
                  <a:cubicBezTo>
                    <a:pt x="8" y="1251"/>
                    <a:pt x="10" y="1256"/>
                    <a:pt x="13" y="1261"/>
                  </a:cubicBezTo>
                  <a:cubicBezTo>
                    <a:pt x="17" y="1261"/>
                    <a:pt x="17" y="1261"/>
                    <a:pt x="17" y="1261"/>
                  </a:cubicBezTo>
                  <a:cubicBezTo>
                    <a:pt x="19" y="1264"/>
                    <a:pt x="22" y="1267"/>
                    <a:pt x="24" y="1270"/>
                  </a:cubicBezTo>
                  <a:cubicBezTo>
                    <a:pt x="40" y="1288"/>
                    <a:pt x="57" y="1303"/>
                    <a:pt x="74" y="1319"/>
                  </a:cubicBezTo>
                  <a:cubicBezTo>
                    <a:pt x="91" y="1335"/>
                    <a:pt x="108" y="1351"/>
                    <a:pt x="123" y="1369"/>
                  </a:cubicBezTo>
                  <a:cubicBezTo>
                    <a:pt x="130" y="1378"/>
                    <a:pt x="137" y="1387"/>
                    <a:pt x="142" y="1398"/>
                  </a:cubicBezTo>
                  <a:cubicBezTo>
                    <a:pt x="146" y="1406"/>
                    <a:pt x="149" y="1415"/>
                    <a:pt x="149" y="1425"/>
                  </a:cubicBezTo>
                  <a:cubicBezTo>
                    <a:pt x="149" y="1425"/>
                    <a:pt x="149" y="1425"/>
                    <a:pt x="149" y="1425"/>
                  </a:cubicBezTo>
                  <a:cubicBezTo>
                    <a:pt x="146" y="1443"/>
                    <a:pt x="139" y="1461"/>
                    <a:pt x="129" y="1477"/>
                  </a:cubicBezTo>
                  <a:cubicBezTo>
                    <a:pt x="124" y="1485"/>
                    <a:pt x="118" y="1493"/>
                    <a:pt x="111" y="1501"/>
                  </a:cubicBezTo>
                  <a:cubicBezTo>
                    <a:pt x="99" y="1515"/>
                    <a:pt x="84" y="1528"/>
                    <a:pt x="71" y="1541"/>
                  </a:cubicBezTo>
                  <a:cubicBezTo>
                    <a:pt x="55" y="1556"/>
                    <a:pt x="39" y="1572"/>
                    <a:pt x="26" y="1590"/>
                  </a:cubicBezTo>
                  <a:cubicBezTo>
                    <a:pt x="21" y="1595"/>
                    <a:pt x="17" y="1600"/>
                    <a:pt x="13" y="1606"/>
                  </a:cubicBezTo>
                  <a:cubicBezTo>
                    <a:pt x="7" y="1616"/>
                    <a:pt x="2" y="1627"/>
                    <a:pt x="0" y="1639"/>
                  </a:cubicBezTo>
                  <a:cubicBezTo>
                    <a:pt x="0" y="1639"/>
                    <a:pt x="0" y="1640"/>
                    <a:pt x="0" y="1640"/>
                  </a:cubicBezTo>
                  <a:cubicBezTo>
                    <a:pt x="1" y="1646"/>
                    <a:pt x="1" y="1651"/>
                    <a:pt x="0" y="1657"/>
                  </a:cubicBezTo>
                  <a:cubicBezTo>
                    <a:pt x="0" y="1659"/>
                    <a:pt x="0" y="1660"/>
                    <a:pt x="0" y="1661"/>
                  </a:cubicBezTo>
                  <a:cubicBezTo>
                    <a:pt x="1" y="1665"/>
                    <a:pt x="2" y="1669"/>
                    <a:pt x="4" y="1673"/>
                  </a:cubicBezTo>
                  <a:cubicBezTo>
                    <a:pt x="6" y="1676"/>
                    <a:pt x="7" y="1679"/>
                    <a:pt x="9" y="1681"/>
                  </a:cubicBezTo>
                  <a:cubicBezTo>
                    <a:pt x="10" y="1685"/>
                    <a:pt x="12" y="1688"/>
                    <a:pt x="13" y="1691"/>
                  </a:cubicBezTo>
                  <a:cubicBezTo>
                    <a:pt x="15" y="1691"/>
                    <a:pt x="15" y="1691"/>
                    <a:pt x="15" y="1691"/>
                  </a:cubicBezTo>
                  <a:cubicBezTo>
                    <a:pt x="18" y="1694"/>
                    <a:pt x="21" y="1698"/>
                    <a:pt x="24" y="1702"/>
                  </a:cubicBezTo>
                  <a:cubicBezTo>
                    <a:pt x="40" y="1719"/>
                    <a:pt x="57" y="1735"/>
                    <a:pt x="74" y="1751"/>
                  </a:cubicBezTo>
                  <a:cubicBezTo>
                    <a:pt x="91" y="1767"/>
                    <a:pt x="108" y="1783"/>
                    <a:pt x="123" y="1800"/>
                  </a:cubicBezTo>
                  <a:cubicBezTo>
                    <a:pt x="130" y="1809"/>
                    <a:pt x="137" y="1819"/>
                    <a:pt x="142" y="1829"/>
                  </a:cubicBezTo>
                  <a:cubicBezTo>
                    <a:pt x="146" y="1837"/>
                    <a:pt x="149" y="1846"/>
                    <a:pt x="149" y="1855"/>
                  </a:cubicBezTo>
                  <a:cubicBezTo>
                    <a:pt x="149" y="1855"/>
                    <a:pt x="149" y="1855"/>
                    <a:pt x="149" y="1855"/>
                  </a:cubicBezTo>
                  <a:cubicBezTo>
                    <a:pt x="146" y="1874"/>
                    <a:pt x="139" y="1891"/>
                    <a:pt x="129" y="1907"/>
                  </a:cubicBezTo>
                  <a:cubicBezTo>
                    <a:pt x="119" y="1923"/>
                    <a:pt x="107" y="1938"/>
                    <a:pt x="93" y="1951"/>
                  </a:cubicBezTo>
                  <a:cubicBezTo>
                    <a:pt x="86" y="1959"/>
                    <a:pt x="78" y="1966"/>
                    <a:pt x="71" y="1973"/>
                  </a:cubicBezTo>
                  <a:cubicBezTo>
                    <a:pt x="59" y="1984"/>
                    <a:pt x="48" y="1995"/>
                    <a:pt x="37" y="2007"/>
                  </a:cubicBezTo>
                  <a:cubicBezTo>
                    <a:pt x="36" y="2008"/>
                    <a:pt x="36" y="2008"/>
                    <a:pt x="35" y="2009"/>
                  </a:cubicBezTo>
                  <a:cubicBezTo>
                    <a:pt x="27" y="2018"/>
                    <a:pt x="20" y="2027"/>
                    <a:pt x="13" y="2037"/>
                  </a:cubicBezTo>
                  <a:cubicBezTo>
                    <a:pt x="7" y="2047"/>
                    <a:pt x="2" y="2057"/>
                    <a:pt x="0" y="2069"/>
                  </a:cubicBezTo>
                  <a:cubicBezTo>
                    <a:pt x="0" y="2070"/>
                    <a:pt x="0" y="2070"/>
                    <a:pt x="0" y="2071"/>
                  </a:cubicBezTo>
                  <a:cubicBezTo>
                    <a:pt x="1" y="2076"/>
                    <a:pt x="1" y="2082"/>
                    <a:pt x="0" y="2088"/>
                  </a:cubicBezTo>
                  <a:cubicBezTo>
                    <a:pt x="0" y="2089"/>
                    <a:pt x="0" y="2090"/>
                    <a:pt x="0" y="2092"/>
                  </a:cubicBezTo>
                  <a:cubicBezTo>
                    <a:pt x="1" y="2096"/>
                    <a:pt x="2" y="2100"/>
                    <a:pt x="4" y="2104"/>
                  </a:cubicBezTo>
                  <a:cubicBezTo>
                    <a:pt x="5" y="2106"/>
                    <a:pt x="6" y="2107"/>
                    <a:pt x="7" y="2109"/>
                  </a:cubicBezTo>
                  <a:cubicBezTo>
                    <a:pt x="9" y="2114"/>
                    <a:pt x="11" y="2118"/>
                    <a:pt x="13" y="2122"/>
                  </a:cubicBezTo>
                  <a:cubicBezTo>
                    <a:pt x="16" y="2122"/>
                    <a:pt x="16" y="2122"/>
                    <a:pt x="16" y="2122"/>
                  </a:cubicBezTo>
                  <a:cubicBezTo>
                    <a:pt x="19" y="2126"/>
                    <a:pt x="22" y="2129"/>
                    <a:pt x="24" y="2132"/>
                  </a:cubicBezTo>
                  <a:cubicBezTo>
                    <a:pt x="33" y="2142"/>
                    <a:pt x="41" y="2150"/>
                    <a:pt x="50" y="2159"/>
                  </a:cubicBezTo>
                  <a:cubicBezTo>
                    <a:pt x="66" y="2159"/>
                    <a:pt x="66" y="2159"/>
                    <a:pt x="66" y="2159"/>
                  </a:cubicBezTo>
                  <a:cubicBezTo>
                    <a:pt x="54" y="2148"/>
                    <a:pt x="43" y="2137"/>
                    <a:pt x="32" y="2125"/>
                  </a:cubicBezTo>
                  <a:cubicBezTo>
                    <a:pt x="25" y="2117"/>
                    <a:pt x="19" y="2109"/>
                    <a:pt x="14" y="2101"/>
                  </a:cubicBezTo>
                  <a:cubicBezTo>
                    <a:pt x="13" y="2097"/>
                    <a:pt x="13" y="2093"/>
                    <a:pt x="13" y="2089"/>
                  </a:cubicBezTo>
                  <a:cubicBezTo>
                    <a:pt x="11" y="2068"/>
                    <a:pt x="19" y="2048"/>
                    <a:pt x="32" y="2030"/>
                  </a:cubicBezTo>
                  <a:cubicBezTo>
                    <a:pt x="45" y="2012"/>
                    <a:pt x="61" y="1997"/>
                    <a:pt x="78" y="1981"/>
                  </a:cubicBezTo>
                  <a:cubicBezTo>
                    <a:pt x="95" y="1965"/>
                    <a:pt x="113" y="1949"/>
                    <a:pt x="129" y="1931"/>
                  </a:cubicBezTo>
                  <a:cubicBezTo>
                    <a:pt x="136" y="1922"/>
                    <a:pt x="144" y="1912"/>
                    <a:pt x="150" y="1900"/>
                  </a:cubicBezTo>
                  <a:cubicBezTo>
                    <a:pt x="152" y="1895"/>
                    <a:pt x="155" y="1890"/>
                    <a:pt x="156" y="1884"/>
                  </a:cubicBezTo>
                  <a:cubicBezTo>
                    <a:pt x="157" y="1886"/>
                    <a:pt x="158" y="1887"/>
                    <a:pt x="158" y="1889"/>
                  </a:cubicBezTo>
                  <a:cubicBezTo>
                    <a:pt x="158" y="1829"/>
                    <a:pt x="158" y="1829"/>
                    <a:pt x="158" y="1829"/>
                  </a:cubicBezTo>
                  <a:cubicBezTo>
                    <a:pt x="158" y="1830"/>
                    <a:pt x="157" y="1832"/>
                    <a:pt x="156" y="1833"/>
                  </a:cubicBezTo>
                  <a:cubicBezTo>
                    <a:pt x="155" y="1830"/>
                    <a:pt x="154" y="1827"/>
                    <a:pt x="153" y="1824"/>
                  </a:cubicBezTo>
                  <a:cubicBezTo>
                    <a:pt x="147" y="1812"/>
                    <a:pt x="140" y="1802"/>
                    <a:pt x="132" y="1793"/>
                  </a:cubicBezTo>
                  <a:cubicBezTo>
                    <a:pt x="116" y="1774"/>
                    <a:pt x="99" y="1758"/>
                    <a:pt x="82" y="1743"/>
                  </a:cubicBezTo>
                  <a:cubicBezTo>
                    <a:pt x="65" y="1727"/>
                    <a:pt x="47" y="1712"/>
                    <a:pt x="32" y="1695"/>
                  </a:cubicBezTo>
                  <a:cubicBezTo>
                    <a:pt x="26" y="1687"/>
                    <a:pt x="19" y="1679"/>
                    <a:pt x="15" y="1671"/>
                  </a:cubicBezTo>
                  <a:cubicBezTo>
                    <a:pt x="14" y="1667"/>
                    <a:pt x="13" y="1662"/>
                    <a:pt x="13" y="1658"/>
                  </a:cubicBezTo>
                  <a:cubicBezTo>
                    <a:pt x="11" y="1637"/>
                    <a:pt x="19" y="1616"/>
                    <a:pt x="32" y="1599"/>
                  </a:cubicBezTo>
                  <a:cubicBezTo>
                    <a:pt x="45" y="1581"/>
                    <a:pt x="61" y="1565"/>
                    <a:pt x="78" y="1549"/>
                  </a:cubicBezTo>
                  <a:cubicBezTo>
                    <a:pt x="95" y="1534"/>
                    <a:pt x="113" y="1518"/>
                    <a:pt x="129" y="1499"/>
                  </a:cubicBezTo>
                  <a:cubicBezTo>
                    <a:pt x="136" y="1490"/>
                    <a:pt x="144" y="1480"/>
                    <a:pt x="150" y="1469"/>
                  </a:cubicBezTo>
                  <a:cubicBezTo>
                    <a:pt x="152" y="1464"/>
                    <a:pt x="155" y="1458"/>
                    <a:pt x="156" y="1453"/>
                  </a:cubicBezTo>
                  <a:cubicBezTo>
                    <a:pt x="157" y="1454"/>
                    <a:pt x="158" y="1456"/>
                    <a:pt x="158" y="1457"/>
                  </a:cubicBezTo>
                  <a:cubicBezTo>
                    <a:pt x="158" y="1398"/>
                    <a:pt x="158" y="1398"/>
                    <a:pt x="158" y="1398"/>
                  </a:cubicBezTo>
                  <a:cubicBezTo>
                    <a:pt x="158" y="1399"/>
                    <a:pt x="157" y="1400"/>
                    <a:pt x="156" y="1401"/>
                  </a:cubicBezTo>
                  <a:cubicBezTo>
                    <a:pt x="155" y="1398"/>
                    <a:pt x="154" y="1395"/>
                    <a:pt x="153" y="1392"/>
                  </a:cubicBezTo>
                  <a:cubicBezTo>
                    <a:pt x="147" y="1381"/>
                    <a:pt x="140" y="1371"/>
                    <a:pt x="132" y="1361"/>
                  </a:cubicBezTo>
                  <a:cubicBezTo>
                    <a:pt x="116" y="1343"/>
                    <a:pt x="99" y="1327"/>
                    <a:pt x="82" y="1311"/>
                  </a:cubicBezTo>
                  <a:cubicBezTo>
                    <a:pt x="65" y="1295"/>
                    <a:pt x="47" y="1280"/>
                    <a:pt x="32" y="1263"/>
                  </a:cubicBezTo>
                  <a:cubicBezTo>
                    <a:pt x="25" y="1255"/>
                    <a:pt x="19" y="1247"/>
                    <a:pt x="14" y="1238"/>
                  </a:cubicBezTo>
                  <a:cubicBezTo>
                    <a:pt x="13" y="1235"/>
                    <a:pt x="13" y="1232"/>
                    <a:pt x="13" y="1228"/>
                  </a:cubicBezTo>
                  <a:cubicBezTo>
                    <a:pt x="11" y="1207"/>
                    <a:pt x="19" y="1187"/>
                    <a:pt x="32" y="1169"/>
                  </a:cubicBezTo>
                  <a:cubicBezTo>
                    <a:pt x="45" y="1152"/>
                    <a:pt x="61" y="1136"/>
                    <a:pt x="78" y="1120"/>
                  </a:cubicBezTo>
                  <a:cubicBezTo>
                    <a:pt x="95" y="1104"/>
                    <a:pt x="113" y="1089"/>
                    <a:pt x="129" y="1070"/>
                  </a:cubicBezTo>
                  <a:cubicBezTo>
                    <a:pt x="136" y="1061"/>
                    <a:pt x="144" y="1051"/>
                    <a:pt x="150" y="1039"/>
                  </a:cubicBezTo>
                  <a:cubicBezTo>
                    <a:pt x="152" y="1034"/>
                    <a:pt x="155" y="1029"/>
                    <a:pt x="156" y="1024"/>
                  </a:cubicBezTo>
                  <a:cubicBezTo>
                    <a:pt x="157" y="1025"/>
                    <a:pt x="158" y="1026"/>
                    <a:pt x="158" y="1028"/>
                  </a:cubicBezTo>
                  <a:cubicBezTo>
                    <a:pt x="158" y="968"/>
                    <a:pt x="158" y="968"/>
                    <a:pt x="158" y="968"/>
                  </a:cubicBezTo>
                  <a:cubicBezTo>
                    <a:pt x="158" y="969"/>
                    <a:pt x="157" y="971"/>
                    <a:pt x="156" y="972"/>
                  </a:cubicBezTo>
                  <a:cubicBezTo>
                    <a:pt x="155" y="969"/>
                    <a:pt x="154" y="966"/>
                    <a:pt x="153" y="963"/>
                  </a:cubicBezTo>
                  <a:cubicBezTo>
                    <a:pt x="147" y="951"/>
                    <a:pt x="140" y="941"/>
                    <a:pt x="132" y="932"/>
                  </a:cubicBezTo>
                  <a:cubicBezTo>
                    <a:pt x="116" y="913"/>
                    <a:pt x="99" y="897"/>
                    <a:pt x="82" y="882"/>
                  </a:cubicBezTo>
                  <a:cubicBezTo>
                    <a:pt x="65" y="866"/>
                    <a:pt x="47" y="851"/>
                    <a:pt x="32" y="834"/>
                  </a:cubicBezTo>
                  <a:cubicBezTo>
                    <a:pt x="26" y="827"/>
                    <a:pt x="20" y="819"/>
                    <a:pt x="16" y="811"/>
                  </a:cubicBezTo>
                  <a:cubicBezTo>
                    <a:pt x="14" y="806"/>
                    <a:pt x="13" y="801"/>
                    <a:pt x="13" y="795"/>
                  </a:cubicBezTo>
                  <a:cubicBezTo>
                    <a:pt x="11" y="774"/>
                    <a:pt x="19" y="754"/>
                    <a:pt x="32" y="737"/>
                  </a:cubicBezTo>
                  <a:cubicBezTo>
                    <a:pt x="45" y="719"/>
                    <a:pt x="61" y="703"/>
                    <a:pt x="78" y="687"/>
                  </a:cubicBezTo>
                  <a:cubicBezTo>
                    <a:pt x="95" y="671"/>
                    <a:pt x="113" y="656"/>
                    <a:pt x="129" y="637"/>
                  </a:cubicBezTo>
                  <a:cubicBezTo>
                    <a:pt x="136" y="628"/>
                    <a:pt x="144" y="618"/>
                    <a:pt x="150" y="607"/>
                  </a:cubicBezTo>
                  <a:cubicBezTo>
                    <a:pt x="152" y="602"/>
                    <a:pt x="155" y="596"/>
                    <a:pt x="156" y="591"/>
                  </a:cubicBezTo>
                  <a:cubicBezTo>
                    <a:pt x="157" y="592"/>
                    <a:pt x="158" y="594"/>
                    <a:pt x="158" y="595"/>
                  </a:cubicBezTo>
                  <a:cubicBezTo>
                    <a:pt x="158" y="535"/>
                    <a:pt x="158" y="535"/>
                    <a:pt x="158" y="535"/>
                  </a:cubicBezTo>
                  <a:cubicBezTo>
                    <a:pt x="158" y="537"/>
                    <a:pt x="157" y="538"/>
                    <a:pt x="156" y="539"/>
                  </a:cubicBezTo>
                  <a:cubicBezTo>
                    <a:pt x="155" y="536"/>
                    <a:pt x="154" y="533"/>
                    <a:pt x="153" y="530"/>
                  </a:cubicBezTo>
                  <a:cubicBezTo>
                    <a:pt x="147" y="519"/>
                    <a:pt x="140" y="509"/>
                    <a:pt x="132" y="499"/>
                  </a:cubicBezTo>
                  <a:cubicBezTo>
                    <a:pt x="116" y="481"/>
                    <a:pt x="99" y="465"/>
                    <a:pt x="82" y="449"/>
                  </a:cubicBezTo>
                  <a:cubicBezTo>
                    <a:pt x="65" y="433"/>
                    <a:pt x="47" y="418"/>
                    <a:pt x="32" y="401"/>
                  </a:cubicBezTo>
                  <a:cubicBezTo>
                    <a:pt x="26" y="394"/>
                    <a:pt x="20" y="386"/>
                    <a:pt x="16" y="379"/>
                  </a:cubicBezTo>
                  <a:cubicBezTo>
                    <a:pt x="14" y="373"/>
                    <a:pt x="13" y="368"/>
                    <a:pt x="13" y="363"/>
                  </a:cubicBezTo>
                  <a:cubicBezTo>
                    <a:pt x="11" y="342"/>
                    <a:pt x="19" y="322"/>
                    <a:pt x="32" y="304"/>
                  </a:cubicBezTo>
                  <a:cubicBezTo>
                    <a:pt x="45" y="286"/>
                    <a:pt x="61" y="270"/>
                    <a:pt x="78" y="254"/>
                  </a:cubicBezTo>
                  <a:cubicBezTo>
                    <a:pt x="95" y="239"/>
                    <a:pt x="113" y="223"/>
                    <a:pt x="129" y="204"/>
                  </a:cubicBezTo>
                  <a:cubicBezTo>
                    <a:pt x="136" y="195"/>
                    <a:pt x="144" y="185"/>
                    <a:pt x="150" y="174"/>
                  </a:cubicBezTo>
                  <a:cubicBezTo>
                    <a:pt x="152" y="169"/>
                    <a:pt x="155" y="163"/>
                    <a:pt x="156" y="158"/>
                  </a:cubicBezTo>
                  <a:cubicBezTo>
                    <a:pt x="157" y="159"/>
                    <a:pt x="158" y="161"/>
                    <a:pt x="158" y="162"/>
                  </a:cubicBezTo>
                  <a:cubicBezTo>
                    <a:pt x="158" y="103"/>
                    <a:pt x="158" y="103"/>
                    <a:pt x="158" y="103"/>
                  </a:cubicBezTo>
                  <a:cubicBezTo>
                    <a:pt x="158" y="104"/>
                    <a:pt x="157" y="105"/>
                    <a:pt x="156" y="106"/>
                  </a:cubicBezTo>
                  <a:cubicBezTo>
                    <a:pt x="155" y="103"/>
                    <a:pt x="154" y="100"/>
                    <a:pt x="153" y="97"/>
                  </a:cubicBezTo>
                  <a:cubicBezTo>
                    <a:pt x="147" y="86"/>
                    <a:pt x="140" y="76"/>
                    <a:pt x="132" y="66"/>
                  </a:cubicBezTo>
                  <a:cubicBezTo>
                    <a:pt x="116" y="48"/>
                    <a:pt x="99" y="32"/>
                    <a:pt x="82" y="16"/>
                  </a:cubicBezTo>
                  <a:cubicBezTo>
                    <a:pt x="76" y="11"/>
                    <a:pt x="70" y="5"/>
                    <a:pt x="64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57" y="8"/>
                    <a:pt x="65" y="16"/>
                    <a:pt x="74" y="24"/>
                  </a:cubicBezTo>
                  <a:cubicBezTo>
                    <a:pt x="91" y="40"/>
                    <a:pt x="108" y="56"/>
                    <a:pt x="123" y="74"/>
                  </a:cubicBezTo>
                  <a:close/>
                </a:path>
              </a:pathLst>
            </a:custGeom>
            <a:solidFill>
              <a:schemeClr val="bg2">
                <a:lumMod val="60000"/>
                <a:lumOff val="40000"/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grpSp>
          <p:nvGrpSpPr>
            <p:cNvPr id="489" name="Group 25"/>
            <p:cNvGrpSpPr/>
            <p:nvPr/>
          </p:nvGrpSpPr>
          <p:grpSpPr>
            <a:xfrm>
              <a:off x="-3240" y="-1440"/>
              <a:ext cx="12196440" cy="6862320"/>
              <a:chOff x="-3240" y="-1440"/>
              <a:chExt cx="12196440" cy="6862320"/>
            </a:xfrm>
          </p:grpSpPr>
          <p:sp>
            <p:nvSpPr>
              <p:cNvPr id="490" name="Freeform 23"/>
              <p:cNvSpPr/>
              <p:nvPr/>
            </p:nvSpPr>
            <p:spPr>
              <a:xfrm>
                <a:off x="1620720" y="6353280"/>
                <a:ext cx="786960" cy="50760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4" y="11"/>
                    </a:move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491" name="Freeform 24"/>
              <p:cNvSpPr/>
              <p:nvPr/>
            </p:nvSpPr>
            <p:spPr>
              <a:xfrm>
                <a:off x="603360" y="6353280"/>
                <a:ext cx="788760" cy="50760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5" y="11"/>
                    </a:move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1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7" y="103"/>
                    </a:cubicBezTo>
                    <a:cubicBezTo>
                      <a:pt x="248" y="77"/>
                      <a:pt x="245" y="25"/>
                      <a:pt x="195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492" name="Freeform 25"/>
              <p:cNvSpPr/>
              <p:nvPr/>
            </p:nvSpPr>
            <p:spPr>
              <a:xfrm>
                <a:off x="-3240" y="6359400"/>
                <a:ext cx="380520" cy="50112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120" h="158">
                    <a:moveTo>
                      <a:pt x="108" y="101"/>
                    </a:moveTo>
                    <a:cubicBezTo>
                      <a:pt x="120" y="75"/>
                      <a:pt x="116" y="23"/>
                      <a:pt x="66" y="9"/>
                    </a:cubicBezTo>
                    <a:cubicBezTo>
                      <a:pt x="35" y="0"/>
                      <a:pt x="10" y="15"/>
                      <a:pt x="0" y="22"/>
                    </a:cubicBezTo>
                    <a:cubicBezTo>
                      <a:pt x="0" y="158"/>
                      <a:pt x="0" y="158"/>
                      <a:pt x="0" y="158"/>
                    </a:cubicBezTo>
                    <a:cubicBezTo>
                      <a:pt x="55" y="158"/>
                      <a:pt x="55" y="158"/>
                      <a:pt x="55" y="158"/>
                    </a:cubicBezTo>
                    <a:cubicBezTo>
                      <a:pt x="77" y="141"/>
                      <a:pt x="99" y="120"/>
                      <a:pt x="108" y="1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493" name="Freeform 26"/>
              <p:cNvSpPr/>
              <p:nvPr/>
            </p:nvSpPr>
            <p:spPr>
              <a:xfrm>
                <a:off x="4660920" y="6353280"/>
                <a:ext cx="790200" cy="50760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9" h="160">
                    <a:moveTo>
                      <a:pt x="195" y="11"/>
                    </a:move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21" y="122"/>
                      <a:pt x="43" y="143"/>
                      <a:pt x="65" y="160"/>
                    </a:cubicBezTo>
                    <a:cubicBezTo>
                      <a:pt x="185" y="160"/>
                      <a:pt x="185" y="160"/>
                      <a:pt x="185" y="160"/>
                    </a:cubicBezTo>
                    <a:cubicBezTo>
                      <a:pt x="207" y="143"/>
                      <a:pt x="228" y="122"/>
                      <a:pt x="237" y="103"/>
                    </a:cubicBezTo>
                    <a:cubicBezTo>
                      <a:pt x="249" y="77"/>
                      <a:pt x="246" y="25"/>
                      <a:pt x="195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494" name="Freeform 27"/>
              <p:cNvSpPr/>
              <p:nvPr/>
            </p:nvSpPr>
            <p:spPr>
              <a:xfrm>
                <a:off x="3648240" y="6353280"/>
                <a:ext cx="786960" cy="50760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4" y="11"/>
                    </a:move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495" name="Freeform 28"/>
              <p:cNvSpPr/>
              <p:nvPr/>
            </p:nvSpPr>
            <p:spPr>
              <a:xfrm>
                <a:off x="7716960" y="6353280"/>
                <a:ext cx="788760" cy="50760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4" y="11"/>
                    </a:move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496" name="Freeform 29"/>
              <p:cNvSpPr/>
              <p:nvPr/>
            </p:nvSpPr>
            <p:spPr>
              <a:xfrm>
                <a:off x="6700680" y="6353280"/>
                <a:ext cx="786960" cy="50760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5" y="11"/>
                    </a:move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1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7" y="103"/>
                    </a:cubicBezTo>
                    <a:cubicBezTo>
                      <a:pt x="248" y="77"/>
                      <a:pt x="245" y="25"/>
                      <a:pt x="195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497" name="Freeform 30"/>
              <p:cNvSpPr/>
              <p:nvPr/>
            </p:nvSpPr>
            <p:spPr>
              <a:xfrm>
                <a:off x="1620720" y="496404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498" name="Freeform 31"/>
              <p:cNvSpPr/>
              <p:nvPr/>
            </p:nvSpPr>
            <p:spPr>
              <a:xfrm>
                <a:off x="603360" y="496404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499" name="Freeform 32"/>
              <p:cNvSpPr/>
              <p:nvPr/>
            </p:nvSpPr>
            <p:spPr>
              <a:xfrm>
                <a:off x="-3240" y="4970520"/>
                <a:ext cx="380520" cy="61884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618840"/>
                  <a:gd name="textAreaBottom" fmla="*/ 619200 h 618840"/>
                </a:gdLst>
                <a:ahLst/>
                <a:rect l="textAreaLeft" t="textAreaTop" r="textAreaRight" b="textAreaBottom"/>
                <a:pathLst>
                  <a:path w="120" h="195">
                    <a:moveTo>
                      <a:pt x="108" y="100"/>
                    </a:moveTo>
                    <a:cubicBezTo>
                      <a:pt x="120" y="74"/>
                      <a:pt x="116" y="22"/>
                      <a:pt x="66" y="8"/>
                    </a:cubicBezTo>
                    <a:cubicBezTo>
                      <a:pt x="35" y="0"/>
                      <a:pt x="10" y="15"/>
                      <a:pt x="0" y="22"/>
                    </a:cubicBezTo>
                    <a:cubicBezTo>
                      <a:pt x="0" y="195"/>
                      <a:pt x="0" y="195"/>
                      <a:pt x="0" y="195"/>
                    </a:cubicBezTo>
                    <a:cubicBezTo>
                      <a:pt x="19" y="184"/>
                      <a:pt x="90" y="139"/>
                      <a:pt x="108" y="1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00" name="Freeform 33"/>
              <p:cNvSpPr/>
              <p:nvPr/>
            </p:nvSpPr>
            <p:spPr>
              <a:xfrm>
                <a:off x="98280" y="566568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01" name="Freeform 34"/>
              <p:cNvSpPr/>
              <p:nvPr/>
            </p:nvSpPr>
            <p:spPr>
              <a:xfrm>
                <a:off x="1122480" y="566568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9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02" name="Freeform 35"/>
              <p:cNvSpPr/>
              <p:nvPr/>
            </p:nvSpPr>
            <p:spPr>
              <a:xfrm>
                <a:off x="2131920" y="566568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03" name="Freeform 36"/>
              <p:cNvSpPr/>
              <p:nvPr/>
            </p:nvSpPr>
            <p:spPr>
              <a:xfrm>
                <a:off x="4660920" y="4964040"/>
                <a:ext cx="790200" cy="63468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54" y="10"/>
                    </a:moveTo>
                    <a:cubicBezTo>
                      <a:pt x="4" y="24"/>
                      <a:pt x="0" y="76"/>
                      <a:pt x="12" y="102"/>
                    </a:cubicBezTo>
                    <a:cubicBezTo>
                      <a:pt x="32" y="146"/>
                      <a:pt x="119" y="197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ubicBezTo>
                      <a:pt x="249" y="76"/>
                      <a:pt x="246" y="24"/>
                      <a:pt x="195" y="10"/>
                    </a:cubicBezTo>
                    <a:cubicBezTo>
                      <a:pt x="157" y="0"/>
                      <a:pt x="126" y="26"/>
                      <a:pt x="125" y="28"/>
                    </a:cubicBezTo>
                    <a:cubicBezTo>
                      <a:pt x="123" y="26"/>
                      <a:pt x="93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04" name="Freeform 37"/>
              <p:cNvSpPr/>
              <p:nvPr/>
            </p:nvSpPr>
            <p:spPr>
              <a:xfrm>
                <a:off x="3648240" y="496404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6" y="102"/>
                    </a:move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05" name="Freeform 38"/>
              <p:cNvSpPr/>
              <p:nvPr/>
            </p:nvSpPr>
            <p:spPr>
              <a:xfrm>
                <a:off x="3141720" y="566568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06" name="Freeform 39"/>
              <p:cNvSpPr/>
              <p:nvPr/>
            </p:nvSpPr>
            <p:spPr>
              <a:xfrm>
                <a:off x="4162320" y="566568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07" name="Freeform 40"/>
              <p:cNvSpPr/>
              <p:nvPr/>
            </p:nvSpPr>
            <p:spPr>
              <a:xfrm>
                <a:off x="5175360" y="566568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08" name="Freeform 41"/>
              <p:cNvSpPr/>
              <p:nvPr/>
            </p:nvSpPr>
            <p:spPr>
              <a:xfrm>
                <a:off x="7716960" y="496404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09" name="Freeform 42"/>
              <p:cNvSpPr/>
              <p:nvPr/>
            </p:nvSpPr>
            <p:spPr>
              <a:xfrm>
                <a:off x="6700680" y="496404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10" name="Freeform 43"/>
              <p:cNvSpPr/>
              <p:nvPr/>
            </p:nvSpPr>
            <p:spPr>
              <a:xfrm>
                <a:off x="6195960" y="566568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11" name="Freeform 44"/>
              <p:cNvSpPr/>
              <p:nvPr/>
            </p:nvSpPr>
            <p:spPr>
              <a:xfrm>
                <a:off x="7218360" y="566568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9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12" name="Freeform 45"/>
              <p:cNvSpPr/>
              <p:nvPr/>
            </p:nvSpPr>
            <p:spPr>
              <a:xfrm>
                <a:off x="8228160" y="566568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13" name="Freeform 46"/>
              <p:cNvSpPr/>
              <p:nvPr/>
            </p:nvSpPr>
            <p:spPr>
              <a:xfrm>
                <a:off x="1620720" y="361620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14" name="Freeform 47"/>
              <p:cNvSpPr/>
              <p:nvPr/>
            </p:nvSpPr>
            <p:spPr>
              <a:xfrm>
                <a:off x="603360" y="361620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15" name="Freeform 48"/>
              <p:cNvSpPr/>
              <p:nvPr/>
            </p:nvSpPr>
            <p:spPr>
              <a:xfrm>
                <a:off x="-3240" y="3622680"/>
                <a:ext cx="380520" cy="61884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618840"/>
                  <a:gd name="textAreaBottom" fmla="*/ 619200 h 618840"/>
                </a:gdLst>
                <a:ahLst/>
                <a:rect l="textAreaLeft" t="textAreaTop" r="textAreaRight" b="textAreaBottom"/>
                <a:pathLst>
                  <a:path w="120" h="195">
                    <a:moveTo>
                      <a:pt x="108" y="100"/>
                    </a:moveTo>
                    <a:cubicBezTo>
                      <a:pt x="120" y="74"/>
                      <a:pt x="116" y="22"/>
                      <a:pt x="66" y="8"/>
                    </a:cubicBezTo>
                    <a:cubicBezTo>
                      <a:pt x="35" y="0"/>
                      <a:pt x="10" y="15"/>
                      <a:pt x="0" y="22"/>
                    </a:cubicBezTo>
                    <a:cubicBezTo>
                      <a:pt x="0" y="195"/>
                      <a:pt x="0" y="195"/>
                      <a:pt x="0" y="195"/>
                    </a:cubicBezTo>
                    <a:cubicBezTo>
                      <a:pt x="19" y="184"/>
                      <a:pt x="90" y="139"/>
                      <a:pt x="108" y="1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16" name="Freeform 49"/>
              <p:cNvSpPr/>
              <p:nvPr/>
            </p:nvSpPr>
            <p:spPr>
              <a:xfrm>
                <a:off x="98280" y="43178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17" name="Freeform 50"/>
              <p:cNvSpPr/>
              <p:nvPr/>
            </p:nvSpPr>
            <p:spPr>
              <a:xfrm>
                <a:off x="1122480" y="431784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18" name="Freeform 51"/>
              <p:cNvSpPr/>
              <p:nvPr/>
            </p:nvSpPr>
            <p:spPr>
              <a:xfrm>
                <a:off x="2131920" y="43178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19" name="Freeform 52"/>
              <p:cNvSpPr/>
              <p:nvPr/>
            </p:nvSpPr>
            <p:spPr>
              <a:xfrm>
                <a:off x="4660920" y="3616200"/>
                <a:ext cx="790200" cy="63468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54" y="10"/>
                    </a:moveTo>
                    <a:cubicBezTo>
                      <a:pt x="4" y="24"/>
                      <a:pt x="0" y="76"/>
                      <a:pt x="12" y="102"/>
                    </a:cubicBezTo>
                    <a:cubicBezTo>
                      <a:pt x="32" y="146"/>
                      <a:pt x="119" y="197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ubicBezTo>
                      <a:pt x="249" y="76"/>
                      <a:pt x="246" y="24"/>
                      <a:pt x="195" y="10"/>
                    </a:cubicBezTo>
                    <a:cubicBezTo>
                      <a:pt x="157" y="0"/>
                      <a:pt x="126" y="26"/>
                      <a:pt x="125" y="28"/>
                    </a:cubicBezTo>
                    <a:cubicBezTo>
                      <a:pt x="123" y="26"/>
                      <a:pt x="93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20" name="Freeform 53"/>
              <p:cNvSpPr/>
              <p:nvPr/>
            </p:nvSpPr>
            <p:spPr>
              <a:xfrm>
                <a:off x="3648240" y="361620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6" y="102"/>
                    </a:move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21" name="Freeform 54"/>
              <p:cNvSpPr/>
              <p:nvPr/>
            </p:nvSpPr>
            <p:spPr>
              <a:xfrm>
                <a:off x="3141720" y="431784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22" name="Freeform 55"/>
              <p:cNvSpPr/>
              <p:nvPr/>
            </p:nvSpPr>
            <p:spPr>
              <a:xfrm>
                <a:off x="4162320" y="43178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23" name="Freeform 56"/>
              <p:cNvSpPr/>
              <p:nvPr/>
            </p:nvSpPr>
            <p:spPr>
              <a:xfrm>
                <a:off x="5175360" y="431784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24" name="Freeform 57"/>
              <p:cNvSpPr/>
              <p:nvPr/>
            </p:nvSpPr>
            <p:spPr>
              <a:xfrm>
                <a:off x="7716960" y="361620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25" name="Freeform 58"/>
              <p:cNvSpPr/>
              <p:nvPr/>
            </p:nvSpPr>
            <p:spPr>
              <a:xfrm>
                <a:off x="6700680" y="361620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26" name="Freeform 59"/>
              <p:cNvSpPr/>
              <p:nvPr/>
            </p:nvSpPr>
            <p:spPr>
              <a:xfrm>
                <a:off x="6195960" y="43178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27" name="Freeform 60"/>
              <p:cNvSpPr/>
              <p:nvPr/>
            </p:nvSpPr>
            <p:spPr>
              <a:xfrm>
                <a:off x="7218360" y="431784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28" name="Freeform 61"/>
              <p:cNvSpPr/>
              <p:nvPr/>
            </p:nvSpPr>
            <p:spPr>
              <a:xfrm>
                <a:off x="8228160" y="431784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29" name="Freeform 62"/>
              <p:cNvSpPr/>
              <p:nvPr/>
            </p:nvSpPr>
            <p:spPr>
              <a:xfrm>
                <a:off x="1620720" y="225576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30" name="Freeform 63"/>
              <p:cNvSpPr/>
              <p:nvPr/>
            </p:nvSpPr>
            <p:spPr>
              <a:xfrm>
                <a:off x="603360" y="225576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31" name="Freeform 64"/>
              <p:cNvSpPr/>
              <p:nvPr/>
            </p:nvSpPr>
            <p:spPr>
              <a:xfrm>
                <a:off x="-3240" y="2262240"/>
                <a:ext cx="380520" cy="61884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618840"/>
                  <a:gd name="textAreaBottom" fmla="*/ 619200 h 618840"/>
                </a:gdLst>
                <a:ahLst/>
                <a:rect l="textAreaLeft" t="textAreaTop" r="textAreaRight" b="textAreaBottom"/>
                <a:pathLst>
                  <a:path w="120" h="195">
                    <a:moveTo>
                      <a:pt x="108" y="100"/>
                    </a:moveTo>
                    <a:cubicBezTo>
                      <a:pt x="120" y="74"/>
                      <a:pt x="116" y="22"/>
                      <a:pt x="66" y="8"/>
                    </a:cubicBezTo>
                    <a:cubicBezTo>
                      <a:pt x="35" y="0"/>
                      <a:pt x="10" y="15"/>
                      <a:pt x="0" y="22"/>
                    </a:cubicBezTo>
                    <a:cubicBezTo>
                      <a:pt x="0" y="195"/>
                      <a:pt x="0" y="195"/>
                      <a:pt x="0" y="195"/>
                    </a:cubicBezTo>
                    <a:cubicBezTo>
                      <a:pt x="19" y="184"/>
                      <a:pt x="90" y="139"/>
                      <a:pt x="108" y="1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32" name="Freeform 65"/>
              <p:cNvSpPr/>
              <p:nvPr/>
            </p:nvSpPr>
            <p:spPr>
              <a:xfrm>
                <a:off x="98280" y="295740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33" name="Freeform 66"/>
              <p:cNvSpPr/>
              <p:nvPr/>
            </p:nvSpPr>
            <p:spPr>
              <a:xfrm>
                <a:off x="1122480" y="295740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34" name="Freeform 67"/>
              <p:cNvSpPr/>
              <p:nvPr/>
            </p:nvSpPr>
            <p:spPr>
              <a:xfrm>
                <a:off x="2131920" y="295740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35" name="Freeform 68"/>
              <p:cNvSpPr/>
              <p:nvPr/>
            </p:nvSpPr>
            <p:spPr>
              <a:xfrm>
                <a:off x="4660920" y="2255760"/>
                <a:ext cx="790200" cy="63468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54" y="10"/>
                    </a:moveTo>
                    <a:cubicBezTo>
                      <a:pt x="4" y="24"/>
                      <a:pt x="0" y="76"/>
                      <a:pt x="12" y="102"/>
                    </a:cubicBezTo>
                    <a:cubicBezTo>
                      <a:pt x="32" y="146"/>
                      <a:pt x="119" y="197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ubicBezTo>
                      <a:pt x="249" y="76"/>
                      <a:pt x="246" y="24"/>
                      <a:pt x="195" y="10"/>
                    </a:cubicBezTo>
                    <a:cubicBezTo>
                      <a:pt x="157" y="0"/>
                      <a:pt x="126" y="26"/>
                      <a:pt x="125" y="28"/>
                    </a:cubicBezTo>
                    <a:cubicBezTo>
                      <a:pt x="123" y="26"/>
                      <a:pt x="93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36" name="Freeform 69"/>
              <p:cNvSpPr/>
              <p:nvPr/>
            </p:nvSpPr>
            <p:spPr>
              <a:xfrm>
                <a:off x="3648240" y="225576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6" y="102"/>
                    </a:move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37" name="Freeform 70"/>
              <p:cNvSpPr/>
              <p:nvPr/>
            </p:nvSpPr>
            <p:spPr>
              <a:xfrm>
                <a:off x="3141720" y="295740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38" name="Freeform 71"/>
              <p:cNvSpPr/>
              <p:nvPr/>
            </p:nvSpPr>
            <p:spPr>
              <a:xfrm>
                <a:off x="4162320" y="295740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39" name="Freeform 72"/>
              <p:cNvSpPr/>
              <p:nvPr/>
            </p:nvSpPr>
            <p:spPr>
              <a:xfrm>
                <a:off x="5175360" y="295740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40" name="Freeform 73"/>
              <p:cNvSpPr/>
              <p:nvPr/>
            </p:nvSpPr>
            <p:spPr>
              <a:xfrm>
                <a:off x="7716960" y="225576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41" name="Freeform 74"/>
              <p:cNvSpPr/>
              <p:nvPr/>
            </p:nvSpPr>
            <p:spPr>
              <a:xfrm>
                <a:off x="6700680" y="225576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42" name="Freeform 75"/>
              <p:cNvSpPr/>
              <p:nvPr/>
            </p:nvSpPr>
            <p:spPr>
              <a:xfrm>
                <a:off x="8734320" y="2255760"/>
                <a:ext cx="793440" cy="634680"/>
              </a:xfrm>
              <a:custGeom>
                <a:avLst/>
                <a:gdLst>
                  <a:gd name="textAreaLeft" fmla="*/ 0 w 793440"/>
                  <a:gd name="textAreaRight" fmla="*/ 793800 w 79344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50" h="200">
                    <a:moveTo>
                      <a:pt x="128" y="24"/>
                    </a:moveTo>
                    <a:cubicBezTo>
                      <a:pt x="126" y="26"/>
                      <a:pt x="124" y="27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199"/>
                      <a:pt x="128" y="197"/>
                    </a:cubicBezTo>
                    <a:cubicBezTo>
                      <a:pt x="128" y="198"/>
                      <a:pt x="128" y="198"/>
                      <a:pt x="128" y="198"/>
                    </a:cubicBezTo>
                    <a:cubicBezTo>
                      <a:pt x="144" y="189"/>
                      <a:pt x="220" y="142"/>
                      <a:pt x="238" y="102"/>
                    </a:cubicBezTo>
                    <a:cubicBezTo>
                      <a:pt x="250" y="76"/>
                      <a:pt x="246" y="24"/>
                      <a:pt x="196" y="10"/>
                    </a:cubicBezTo>
                    <a:cubicBezTo>
                      <a:pt x="163" y="1"/>
                      <a:pt x="137" y="19"/>
                      <a:pt x="128" y="25"/>
                    </a:cubicBezTo>
                    <a:lnTo>
                      <a:pt x="128" y="24"/>
                    </a:ln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43" name="Freeform 76"/>
              <p:cNvSpPr/>
              <p:nvPr/>
            </p:nvSpPr>
            <p:spPr>
              <a:xfrm>
                <a:off x="6195960" y="295740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44" name="Freeform 77"/>
              <p:cNvSpPr/>
              <p:nvPr/>
            </p:nvSpPr>
            <p:spPr>
              <a:xfrm>
                <a:off x="7218360" y="295740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45" name="Freeform 78"/>
              <p:cNvSpPr/>
              <p:nvPr/>
            </p:nvSpPr>
            <p:spPr>
              <a:xfrm>
                <a:off x="8228160" y="295740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46" name="Freeform 79"/>
              <p:cNvSpPr/>
              <p:nvPr/>
            </p:nvSpPr>
            <p:spPr>
              <a:xfrm>
                <a:off x="1620720" y="863640"/>
                <a:ext cx="786960" cy="6379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54" y="11"/>
                    </a:move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47" name="Freeform 80"/>
              <p:cNvSpPr/>
              <p:nvPr/>
            </p:nvSpPr>
            <p:spPr>
              <a:xfrm>
                <a:off x="603360" y="863640"/>
                <a:ext cx="788760" cy="63792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7" y="103"/>
                    </a:moveTo>
                    <a:cubicBezTo>
                      <a:pt x="248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48" name="Freeform 81"/>
              <p:cNvSpPr/>
              <p:nvPr/>
            </p:nvSpPr>
            <p:spPr>
              <a:xfrm>
                <a:off x="-3240" y="870120"/>
                <a:ext cx="380520" cy="62208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622080"/>
                  <a:gd name="textAreaBottom" fmla="*/ 622440 h 622080"/>
                </a:gdLst>
                <a:ahLst/>
                <a:rect l="textAreaLeft" t="textAreaTop" r="textAreaRight" b="textAreaBottom"/>
                <a:pathLst>
                  <a:path w="120" h="196">
                    <a:moveTo>
                      <a:pt x="108" y="101"/>
                    </a:moveTo>
                    <a:cubicBezTo>
                      <a:pt x="120" y="75"/>
                      <a:pt x="116" y="23"/>
                      <a:pt x="66" y="9"/>
                    </a:cubicBezTo>
                    <a:cubicBezTo>
                      <a:pt x="35" y="0"/>
                      <a:pt x="10" y="15"/>
                      <a:pt x="0" y="23"/>
                    </a:cubicBezTo>
                    <a:cubicBezTo>
                      <a:pt x="0" y="196"/>
                      <a:pt x="0" y="196"/>
                      <a:pt x="0" y="196"/>
                    </a:cubicBezTo>
                    <a:cubicBezTo>
                      <a:pt x="19" y="184"/>
                      <a:pt x="90" y="140"/>
                      <a:pt x="108" y="1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49" name="Freeform 82"/>
              <p:cNvSpPr/>
              <p:nvPr/>
            </p:nvSpPr>
            <p:spPr>
              <a:xfrm>
                <a:off x="98280" y="1568520"/>
                <a:ext cx="790200" cy="63612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124" y="200"/>
                    </a:moveTo>
                    <a:cubicBezTo>
                      <a:pt x="124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ubicBezTo>
                      <a:pt x="249" y="77"/>
                      <a:pt x="245" y="24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50" name="Freeform 83"/>
              <p:cNvSpPr/>
              <p:nvPr/>
            </p:nvSpPr>
            <p:spPr>
              <a:xfrm>
                <a:off x="1122480" y="1568520"/>
                <a:ext cx="786960" cy="6361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6" y="103"/>
                    </a:moveTo>
                    <a:cubicBezTo>
                      <a:pt x="248" y="77"/>
                      <a:pt x="245" y="24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4"/>
                      <a:pt x="0" y="77"/>
                      <a:pt x="11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6" y="146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51" name="Freeform 84"/>
              <p:cNvSpPr/>
              <p:nvPr/>
            </p:nvSpPr>
            <p:spPr>
              <a:xfrm>
                <a:off x="2131920" y="1568520"/>
                <a:ext cx="790200" cy="63612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237" y="103"/>
                    </a:moveTo>
                    <a:cubicBezTo>
                      <a:pt x="249" y="77"/>
                      <a:pt x="245" y="24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52" name="Freeform 85"/>
              <p:cNvSpPr/>
              <p:nvPr/>
            </p:nvSpPr>
            <p:spPr>
              <a:xfrm>
                <a:off x="4660920" y="863640"/>
                <a:ext cx="790200" cy="63792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54" y="11"/>
                    </a:move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5" y="200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ubicBezTo>
                      <a:pt x="249" y="77"/>
                      <a:pt x="246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53" name="Freeform 86"/>
              <p:cNvSpPr/>
              <p:nvPr/>
            </p:nvSpPr>
            <p:spPr>
              <a:xfrm>
                <a:off x="5692680" y="6353280"/>
                <a:ext cx="788760" cy="50760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4" y="11"/>
                    </a:move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54" name="Freeform 87"/>
              <p:cNvSpPr/>
              <p:nvPr/>
            </p:nvSpPr>
            <p:spPr>
              <a:xfrm>
                <a:off x="5692680" y="496404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124" y="200"/>
                    </a:move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55" name="Freeform 88"/>
              <p:cNvSpPr/>
              <p:nvPr/>
            </p:nvSpPr>
            <p:spPr>
              <a:xfrm>
                <a:off x="5692680" y="361620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124" y="200"/>
                    </a:move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56" name="Freeform 89"/>
              <p:cNvSpPr/>
              <p:nvPr/>
            </p:nvSpPr>
            <p:spPr>
              <a:xfrm>
                <a:off x="5692680" y="225576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124" y="200"/>
                    </a:move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57" name="Freeform 90"/>
              <p:cNvSpPr/>
              <p:nvPr/>
            </p:nvSpPr>
            <p:spPr>
              <a:xfrm>
                <a:off x="5692680" y="863640"/>
                <a:ext cx="788760" cy="63792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124" y="201"/>
                    </a:move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58" name="Freeform 91"/>
              <p:cNvSpPr/>
              <p:nvPr/>
            </p:nvSpPr>
            <p:spPr>
              <a:xfrm>
                <a:off x="3648240" y="863640"/>
                <a:ext cx="786960" cy="6379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59" name="Freeform 92"/>
              <p:cNvSpPr/>
              <p:nvPr/>
            </p:nvSpPr>
            <p:spPr>
              <a:xfrm>
                <a:off x="2639880" y="6353280"/>
                <a:ext cx="786960" cy="50760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4" y="11"/>
                    </a:move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60" name="Freeform 93"/>
              <p:cNvSpPr/>
              <p:nvPr/>
            </p:nvSpPr>
            <p:spPr>
              <a:xfrm>
                <a:off x="2639880" y="496404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61" name="Freeform 94"/>
              <p:cNvSpPr/>
              <p:nvPr/>
            </p:nvSpPr>
            <p:spPr>
              <a:xfrm>
                <a:off x="2639880" y="361620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62" name="Freeform 95"/>
              <p:cNvSpPr/>
              <p:nvPr/>
            </p:nvSpPr>
            <p:spPr>
              <a:xfrm>
                <a:off x="2639880" y="225576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5" y="26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63" name="Freeform 96"/>
              <p:cNvSpPr/>
              <p:nvPr/>
            </p:nvSpPr>
            <p:spPr>
              <a:xfrm>
                <a:off x="2639880" y="863640"/>
                <a:ext cx="786960" cy="6379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54" y="11"/>
                    </a:move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64" name="Freeform 97"/>
              <p:cNvSpPr/>
              <p:nvPr/>
            </p:nvSpPr>
            <p:spPr>
              <a:xfrm>
                <a:off x="3141720" y="1568520"/>
                <a:ext cx="791640" cy="63612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124" y="200"/>
                    </a:move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ubicBezTo>
                      <a:pt x="249" y="77"/>
                      <a:pt x="245" y="24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4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65" name="Freeform 98"/>
              <p:cNvSpPr/>
              <p:nvPr/>
            </p:nvSpPr>
            <p:spPr>
              <a:xfrm>
                <a:off x="4162320" y="1568520"/>
                <a:ext cx="790200" cy="63612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237" y="103"/>
                    </a:moveTo>
                    <a:cubicBezTo>
                      <a:pt x="249" y="77"/>
                      <a:pt x="245" y="24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66" name="Freeform 99"/>
              <p:cNvSpPr/>
              <p:nvPr/>
            </p:nvSpPr>
            <p:spPr>
              <a:xfrm>
                <a:off x="5175360" y="1568520"/>
                <a:ext cx="786960" cy="6361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6" y="103"/>
                    </a:moveTo>
                    <a:cubicBezTo>
                      <a:pt x="248" y="77"/>
                      <a:pt x="245" y="24"/>
                      <a:pt x="194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4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67" name="Freeform 100"/>
              <p:cNvSpPr/>
              <p:nvPr/>
            </p:nvSpPr>
            <p:spPr>
              <a:xfrm>
                <a:off x="7716960" y="863640"/>
                <a:ext cx="788760" cy="63792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54" y="11"/>
                    </a:move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68" name="Freeform 101"/>
              <p:cNvSpPr/>
              <p:nvPr/>
            </p:nvSpPr>
            <p:spPr>
              <a:xfrm>
                <a:off x="6700680" y="863640"/>
                <a:ext cx="786960" cy="6379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7" y="103"/>
                    </a:moveTo>
                    <a:cubicBezTo>
                      <a:pt x="248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69" name="Freeform 102"/>
              <p:cNvSpPr/>
              <p:nvPr/>
            </p:nvSpPr>
            <p:spPr>
              <a:xfrm>
                <a:off x="8734320" y="863640"/>
                <a:ext cx="793440" cy="637920"/>
              </a:xfrm>
              <a:custGeom>
                <a:avLst/>
                <a:gdLst>
                  <a:gd name="textAreaLeft" fmla="*/ 0 w 793440"/>
                  <a:gd name="textAreaRight" fmla="*/ 793800 w 79344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50" h="201">
                    <a:moveTo>
                      <a:pt x="54" y="11"/>
                    </a:move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199"/>
                      <a:pt x="128" y="198"/>
                    </a:cubicBezTo>
                    <a:cubicBezTo>
                      <a:pt x="128" y="199"/>
                      <a:pt x="128" y="199"/>
                      <a:pt x="128" y="199"/>
                    </a:cubicBezTo>
                    <a:cubicBezTo>
                      <a:pt x="144" y="189"/>
                      <a:pt x="220" y="143"/>
                      <a:pt x="238" y="103"/>
                    </a:cubicBezTo>
                    <a:cubicBezTo>
                      <a:pt x="250" y="77"/>
                      <a:pt x="246" y="25"/>
                      <a:pt x="196" y="11"/>
                    </a:cubicBezTo>
                    <a:cubicBezTo>
                      <a:pt x="163" y="2"/>
                      <a:pt x="137" y="19"/>
                      <a:pt x="128" y="26"/>
                    </a:cubicBezTo>
                    <a:cubicBezTo>
                      <a:pt x="128" y="25"/>
                      <a:pt x="128" y="25"/>
                      <a:pt x="128" y="25"/>
                    </a:cubicBezTo>
                    <a:cubicBezTo>
                      <a:pt x="126" y="27"/>
                      <a:pt x="124" y="28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70" name="Freeform 103"/>
              <p:cNvSpPr/>
              <p:nvPr/>
            </p:nvSpPr>
            <p:spPr>
              <a:xfrm>
                <a:off x="6195960" y="1568520"/>
                <a:ext cx="790200" cy="63612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124" y="200"/>
                    </a:moveTo>
                    <a:cubicBezTo>
                      <a:pt x="124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ubicBezTo>
                      <a:pt x="249" y="77"/>
                      <a:pt x="245" y="24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71" name="Freeform 104"/>
              <p:cNvSpPr/>
              <p:nvPr/>
            </p:nvSpPr>
            <p:spPr>
              <a:xfrm>
                <a:off x="7218360" y="1568520"/>
                <a:ext cx="786960" cy="6361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6" y="103"/>
                    </a:moveTo>
                    <a:cubicBezTo>
                      <a:pt x="248" y="77"/>
                      <a:pt x="245" y="24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4"/>
                      <a:pt x="0" y="77"/>
                      <a:pt x="11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6" y="146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72" name="Freeform 105"/>
              <p:cNvSpPr/>
              <p:nvPr/>
            </p:nvSpPr>
            <p:spPr>
              <a:xfrm>
                <a:off x="8228160" y="1568520"/>
                <a:ext cx="791640" cy="63612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237" y="103"/>
                    </a:moveTo>
                    <a:cubicBezTo>
                      <a:pt x="249" y="77"/>
                      <a:pt x="245" y="24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73" name="Freeform 106"/>
              <p:cNvSpPr/>
              <p:nvPr/>
            </p:nvSpPr>
            <p:spPr>
              <a:xfrm>
                <a:off x="184644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0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74" name="Freeform 107"/>
              <p:cNvSpPr/>
              <p:nvPr/>
            </p:nvSpPr>
            <p:spPr>
              <a:xfrm>
                <a:off x="286560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0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75" name="Freeform 108"/>
              <p:cNvSpPr/>
              <p:nvPr/>
            </p:nvSpPr>
            <p:spPr>
              <a:xfrm>
                <a:off x="5918040" y="-1440"/>
                <a:ext cx="337680" cy="110880"/>
              </a:xfrm>
              <a:custGeom>
                <a:avLst/>
                <a:gdLst>
                  <a:gd name="textAreaLeft" fmla="*/ 0 w 337680"/>
                  <a:gd name="textAreaRight" fmla="*/ 338040 w 3376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0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76" name="Freeform 109"/>
              <p:cNvSpPr/>
              <p:nvPr/>
            </p:nvSpPr>
            <p:spPr>
              <a:xfrm>
                <a:off x="828720" y="-1440"/>
                <a:ext cx="337680" cy="110880"/>
              </a:xfrm>
              <a:custGeom>
                <a:avLst/>
                <a:gdLst>
                  <a:gd name="textAreaLeft" fmla="*/ 0 w 337680"/>
                  <a:gd name="textAreaRight" fmla="*/ 338040 w 3376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1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77" name="Freeform 110"/>
              <p:cNvSpPr/>
              <p:nvPr/>
            </p:nvSpPr>
            <p:spPr>
              <a:xfrm>
                <a:off x="-3240" y="-1440"/>
                <a:ext cx="151920" cy="10116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48" h="32">
                    <a:moveTo>
                      <a:pt x="0" y="0"/>
                    </a:moveTo>
                    <a:cubicBezTo>
                      <a:pt x="0" y="32"/>
                      <a:pt x="0" y="32"/>
                      <a:pt x="0" y="32"/>
                    </a:cubicBezTo>
                    <a:cubicBezTo>
                      <a:pt x="9" y="27"/>
                      <a:pt x="28" y="15"/>
                      <a:pt x="48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78" name="Freeform 111"/>
              <p:cNvSpPr/>
              <p:nvPr/>
            </p:nvSpPr>
            <p:spPr>
              <a:xfrm>
                <a:off x="98280" y="1760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8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79" name="Freeform 112"/>
              <p:cNvSpPr/>
              <p:nvPr/>
            </p:nvSpPr>
            <p:spPr>
              <a:xfrm>
                <a:off x="1122480" y="17604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9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80" name="Freeform 113"/>
              <p:cNvSpPr/>
              <p:nvPr/>
            </p:nvSpPr>
            <p:spPr>
              <a:xfrm>
                <a:off x="2131920" y="1760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" y="103"/>
                    </a:moveTo>
                    <a:cubicBezTo>
                      <a:pt x="32" y="147"/>
                      <a:pt x="119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81" name="Freeform 114"/>
              <p:cNvSpPr/>
              <p:nvPr/>
            </p:nvSpPr>
            <p:spPr>
              <a:xfrm>
                <a:off x="488952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0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5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82" name="Freeform 115"/>
              <p:cNvSpPr/>
              <p:nvPr/>
            </p:nvSpPr>
            <p:spPr>
              <a:xfrm>
                <a:off x="387360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0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83" name="Freeform 116"/>
              <p:cNvSpPr/>
              <p:nvPr/>
            </p:nvSpPr>
            <p:spPr>
              <a:xfrm>
                <a:off x="3141720" y="17604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8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84" name="Freeform 117"/>
              <p:cNvSpPr/>
              <p:nvPr/>
            </p:nvSpPr>
            <p:spPr>
              <a:xfrm>
                <a:off x="4162320" y="1760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85" name="Freeform 118"/>
              <p:cNvSpPr/>
              <p:nvPr/>
            </p:nvSpPr>
            <p:spPr>
              <a:xfrm>
                <a:off x="5175360" y="17604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12" y="103"/>
                    </a:moveTo>
                    <a:cubicBezTo>
                      <a:pt x="31" y="147"/>
                      <a:pt x="118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7" y="147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86" name="Freeform 119"/>
              <p:cNvSpPr/>
              <p:nvPr/>
            </p:nvSpPr>
            <p:spPr>
              <a:xfrm>
                <a:off x="794232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0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87" name="Freeform 120"/>
              <p:cNvSpPr/>
              <p:nvPr/>
            </p:nvSpPr>
            <p:spPr>
              <a:xfrm>
                <a:off x="692640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1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88" name="Freeform 121"/>
              <p:cNvSpPr/>
              <p:nvPr/>
            </p:nvSpPr>
            <p:spPr>
              <a:xfrm>
                <a:off x="8959680" y="-1440"/>
                <a:ext cx="339480" cy="110880"/>
              </a:xfrm>
              <a:custGeom>
                <a:avLst/>
                <a:gdLst>
                  <a:gd name="textAreaLeft" fmla="*/ 0 w 339480"/>
                  <a:gd name="textAreaRight" fmla="*/ 339840 w 3394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7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4" y="35"/>
                      <a:pt x="55" y="34"/>
                      <a:pt x="57" y="33"/>
                    </a:cubicBezTo>
                    <a:cubicBezTo>
                      <a:pt x="57" y="33"/>
                      <a:pt x="57" y="33"/>
                      <a:pt x="57" y="33"/>
                    </a:cubicBezTo>
                    <a:cubicBezTo>
                      <a:pt x="65" y="29"/>
                      <a:pt x="86" y="16"/>
                      <a:pt x="107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89" name="Freeform 122"/>
              <p:cNvSpPr/>
              <p:nvPr/>
            </p:nvSpPr>
            <p:spPr>
              <a:xfrm>
                <a:off x="6195960" y="1760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8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90" name="Freeform 123"/>
              <p:cNvSpPr/>
              <p:nvPr/>
            </p:nvSpPr>
            <p:spPr>
              <a:xfrm>
                <a:off x="7218360" y="176040"/>
                <a:ext cx="786960" cy="6393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9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91" name="Freeform 124"/>
              <p:cNvSpPr/>
              <p:nvPr/>
            </p:nvSpPr>
            <p:spPr>
              <a:xfrm>
                <a:off x="8228160" y="176040"/>
                <a:ext cx="791640" cy="639360"/>
              </a:xfrm>
              <a:custGeom>
                <a:avLst/>
                <a:gdLst>
                  <a:gd name="textAreaLeft" fmla="*/ 0 w 791640"/>
                  <a:gd name="textAreaRight" fmla="*/ 792000 w 79164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" y="103"/>
                    </a:moveTo>
                    <a:cubicBezTo>
                      <a:pt x="32" y="147"/>
                      <a:pt x="119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92" name="Freeform 125"/>
              <p:cNvSpPr/>
              <p:nvPr/>
            </p:nvSpPr>
            <p:spPr>
              <a:xfrm>
                <a:off x="10769760" y="6353280"/>
                <a:ext cx="788760" cy="50760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4" y="11"/>
                    </a:move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93" name="Freeform 126"/>
              <p:cNvSpPr/>
              <p:nvPr/>
            </p:nvSpPr>
            <p:spPr>
              <a:xfrm>
                <a:off x="9753480" y="6353280"/>
                <a:ext cx="786960" cy="50760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48" h="160">
                    <a:moveTo>
                      <a:pt x="195" y="11"/>
                    </a:move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1" y="122"/>
                      <a:pt x="42" y="143"/>
                      <a:pt x="64" y="160"/>
                    </a:cubicBezTo>
                    <a:cubicBezTo>
                      <a:pt x="184" y="160"/>
                      <a:pt x="184" y="160"/>
                      <a:pt x="184" y="160"/>
                    </a:cubicBezTo>
                    <a:cubicBezTo>
                      <a:pt x="206" y="143"/>
                      <a:pt x="228" y="122"/>
                      <a:pt x="237" y="103"/>
                    </a:cubicBezTo>
                    <a:cubicBezTo>
                      <a:pt x="248" y="77"/>
                      <a:pt x="245" y="25"/>
                      <a:pt x="195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94" name="Freeform 127"/>
              <p:cNvSpPr/>
              <p:nvPr/>
            </p:nvSpPr>
            <p:spPr>
              <a:xfrm>
                <a:off x="8734320" y="6353280"/>
                <a:ext cx="793440" cy="507600"/>
              </a:xfrm>
              <a:custGeom>
                <a:avLst/>
                <a:gdLst>
                  <a:gd name="textAreaLeft" fmla="*/ 0 w 793440"/>
                  <a:gd name="textAreaRight" fmla="*/ 793800 w 79344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250" h="160">
                    <a:moveTo>
                      <a:pt x="196" y="11"/>
                    </a:moveTo>
                    <a:cubicBezTo>
                      <a:pt x="163" y="2"/>
                      <a:pt x="137" y="19"/>
                      <a:pt x="128" y="26"/>
                    </a:cubicBezTo>
                    <a:cubicBezTo>
                      <a:pt x="128" y="25"/>
                      <a:pt x="128" y="25"/>
                      <a:pt x="128" y="25"/>
                    </a:cubicBezTo>
                    <a:cubicBezTo>
                      <a:pt x="126" y="27"/>
                      <a:pt x="124" y="28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28" y="160"/>
                      <a:pt x="128" y="160"/>
                      <a:pt x="128" y="160"/>
                    </a:cubicBezTo>
                    <a:cubicBezTo>
                      <a:pt x="185" y="160"/>
                      <a:pt x="185" y="160"/>
                      <a:pt x="185" y="160"/>
                    </a:cubicBezTo>
                    <a:cubicBezTo>
                      <a:pt x="207" y="143"/>
                      <a:pt x="229" y="122"/>
                      <a:pt x="238" y="103"/>
                    </a:cubicBezTo>
                    <a:cubicBezTo>
                      <a:pt x="250" y="77"/>
                      <a:pt x="246" y="25"/>
                      <a:pt x="196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95" name="Freeform 128"/>
              <p:cNvSpPr/>
              <p:nvPr/>
            </p:nvSpPr>
            <p:spPr>
              <a:xfrm>
                <a:off x="10769760" y="496404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96" name="Freeform 129"/>
              <p:cNvSpPr/>
              <p:nvPr/>
            </p:nvSpPr>
            <p:spPr>
              <a:xfrm>
                <a:off x="9753480" y="496404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97" name="Freeform 130"/>
              <p:cNvSpPr/>
              <p:nvPr/>
            </p:nvSpPr>
            <p:spPr>
              <a:xfrm>
                <a:off x="8734320" y="4964040"/>
                <a:ext cx="793440" cy="634680"/>
              </a:xfrm>
              <a:custGeom>
                <a:avLst/>
                <a:gdLst>
                  <a:gd name="textAreaLeft" fmla="*/ 0 w 793440"/>
                  <a:gd name="textAreaRight" fmla="*/ 793800 w 79344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50" h="200">
                    <a:moveTo>
                      <a:pt x="128" y="24"/>
                    </a:moveTo>
                    <a:cubicBezTo>
                      <a:pt x="126" y="26"/>
                      <a:pt x="124" y="27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199"/>
                      <a:pt x="128" y="197"/>
                    </a:cubicBezTo>
                    <a:cubicBezTo>
                      <a:pt x="128" y="198"/>
                      <a:pt x="128" y="198"/>
                      <a:pt x="128" y="198"/>
                    </a:cubicBezTo>
                    <a:cubicBezTo>
                      <a:pt x="144" y="189"/>
                      <a:pt x="220" y="142"/>
                      <a:pt x="238" y="102"/>
                    </a:cubicBezTo>
                    <a:cubicBezTo>
                      <a:pt x="250" y="76"/>
                      <a:pt x="246" y="24"/>
                      <a:pt x="196" y="10"/>
                    </a:cubicBezTo>
                    <a:cubicBezTo>
                      <a:pt x="163" y="1"/>
                      <a:pt x="137" y="19"/>
                      <a:pt x="128" y="25"/>
                    </a:cubicBezTo>
                    <a:lnTo>
                      <a:pt x="128" y="24"/>
                    </a:ln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98" name="Freeform 131"/>
              <p:cNvSpPr/>
              <p:nvPr/>
            </p:nvSpPr>
            <p:spPr>
              <a:xfrm>
                <a:off x="9248760" y="566568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599" name="Freeform 132"/>
              <p:cNvSpPr/>
              <p:nvPr/>
            </p:nvSpPr>
            <p:spPr>
              <a:xfrm>
                <a:off x="10271160" y="5665680"/>
                <a:ext cx="788760" cy="63936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9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00" name="Freeform 133"/>
              <p:cNvSpPr/>
              <p:nvPr/>
            </p:nvSpPr>
            <p:spPr>
              <a:xfrm>
                <a:off x="11282400" y="566568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01" name="Freeform 134"/>
              <p:cNvSpPr/>
              <p:nvPr/>
            </p:nvSpPr>
            <p:spPr>
              <a:xfrm>
                <a:off x="10769760" y="361620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02" name="Freeform 135"/>
              <p:cNvSpPr/>
              <p:nvPr/>
            </p:nvSpPr>
            <p:spPr>
              <a:xfrm>
                <a:off x="9753480" y="361620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03" name="Freeform 136"/>
              <p:cNvSpPr/>
              <p:nvPr/>
            </p:nvSpPr>
            <p:spPr>
              <a:xfrm>
                <a:off x="8734320" y="3616200"/>
                <a:ext cx="793440" cy="634680"/>
              </a:xfrm>
              <a:custGeom>
                <a:avLst/>
                <a:gdLst>
                  <a:gd name="textAreaLeft" fmla="*/ 0 w 793440"/>
                  <a:gd name="textAreaRight" fmla="*/ 793800 w 79344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50" h="200">
                    <a:moveTo>
                      <a:pt x="128" y="24"/>
                    </a:moveTo>
                    <a:cubicBezTo>
                      <a:pt x="126" y="26"/>
                      <a:pt x="124" y="27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199"/>
                      <a:pt x="128" y="197"/>
                    </a:cubicBezTo>
                    <a:cubicBezTo>
                      <a:pt x="128" y="198"/>
                      <a:pt x="128" y="198"/>
                      <a:pt x="128" y="198"/>
                    </a:cubicBezTo>
                    <a:cubicBezTo>
                      <a:pt x="144" y="189"/>
                      <a:pt x="220" y="142"/>
                      <a:pt x="238" y="102"/>
                    </a:cubicBezTo>
                    <a:cubicBezTo>
                      <a:pt x="250" y="76"/>
                      <a:pt x="246" y="24"/>
                      <a:pt x="196" y="10"/>
                    </a:cubicBezTo>
                    <a:cubicBezTo>
                      <a:pt x="163" y="1"/>
                      <a:pt x="137" y="19"/>
                      <a:pt x="128" y="25"/>
                    </a:cubicBezTo>
                    <a:lnTo>
                      <a:pt x="128" y="24"/>
                    </a:ln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04" name="Freeform 137"/>
              <p:cNvSpPr/>
              <p:nvPr/>
            </p:nvSpPr>
            <p:spPr>
              <a:xfrm>
                <a:off x="9248760" y="43178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05" name="Freeform 138"/>
              <p:cNvSpPr/>
              <p:nvPr/>
            </p:nvSpPr>
            <p:spPr>
              <a:xfrm>
                <a:off x="10271160" y="4317840"/>
                <a:ext cx="788760" cy="63936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06" name="Freeform 139"/>
              <p:cNvSpPr/>
              <p:nvPr/>
            </p:nvSpPr>
            <p:spPr>
              <a:xfrm>
                <a:off x="11282400" y="43178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07" name="Freeform 140"/>
              <p:cNvSpPr/>
              <p:nvPr/>
            </p:nvSpPr>
            <p:spPr>
              <a:xfrm>
                <a:off x="10769760" y="2255760"/>
                <a:ext cx="788760" cy="63468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2"/>
                    </a:cubicBezTo>
                    <a:cubicBezTo>
                      <a:pt x="248" y="76"/>
                      <a:pt x="245" y="24"/>
                      <a:pt x="194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08" name="Freeform 141"/>
              <p:cNvSpPr/>
              <p:nvPr/>
            </p:nvSpPr>
            <p:spPr>
              <a:xfrm>
                <a:off x="9753480" y="2255760"/>
                <a:ext cx="786960" cy="63468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7" y="102"/>
                    </a:moveTo>
                    <a:cubicBezTo>
                      <a:pt x="248" y="76"/>
                      <a:pt x="245" y="24"/>
                      <a:pt x="195" y="10"/>
                    </a:cubicBezTo>
                    <a:cubicBezTo>
                      <a:pt x="156" y="0"/>
                      <a:pt x="126" y="26"/>
                      <a:pt x="124" y="28"/>
                    </a:cubicBezTo>
                    <a:cubicBezTo>
                      <a:pt x="123" y="26"/>
                      <a:pt x="92" y="0"/>
                      <a:pt x="54" y="10"/>
                    </a:cubicBezTo>
                    <a:cubicBezTo>
                      <a:pt x="3" y="24"/>
                      <a:pt x="0" y="76"/>
                      <a:pt x="12" y="102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2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09" name="Freeform 142"/>
              <p:cNvSpPr/>
              <p:nvPr/>
            </p:nvSpPr>
            <p:spPr>
              <a:xfrm>
                <a:off x="9248760" y="295740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10" name="Freeform 143"/>
              <p:cNvSpPr/>
              <p:nvPr/>
            </p:nvSpPr>
            <p:spPr>
              <a:xfrm>
                <a:off x="10271160" y="2957400"/>
                <a:ext cx="788760" cy="63936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11" name="Freeform 144"/>
              <p:cNvSpPr/>
              <p:nvPr/>
            </p:nvSpPr>
            <p:spPr>
              <a:xfrm>
                <a:off x="11282400" y="295740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237" y="103"/>
                    </a:move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7"/>
                      <a:pt x="119" y="197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7"/>
                      <a:pt x="217" y="147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12" name="Freeform 145"/>
              <p:cNvSpPr/>
              <p:nvPr/>
            </p:nvSpPr>
            <p:spPr>
              <a:xfrm>
                <a:off x="10769760" y="863640"/>
                <a:ext cx="788760" cy="63792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54" y="11"/>
                    </a:move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6" y="103"/>
                    </a:cubicBez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13" name="Freeform 146"/>
              <p:cNvSpPr/>
              <p:nvPr/>
            </p:nvSpPr>
            <p:spPr>
              <a:xfrm>
                <a:off x="9753480" y="863640"/>
                <a:ext cx="786960" cy="63792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7" y="103"/>
                    </a:moveTo>
                    <a:cubicBezTo>
                      <a:pt x="248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ubicBezTo>
                      <a:pt x="32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14" name="Freeform 147"/>
              <p:cNvSpPr/>
              <p:nvPr/>
            </p:nvSpPr>
            <p:spPr>
              <a:xfrm>
                <a:off x="9248760" y="1568520"/>
                <a:ext cx="790200" cy="63612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124" y="200"/>
                    </a:moveTo>
                    <a:cubicBezTo>
                      <a:pt x="124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25" y="200"/>
                      <a:pt x="125" y="200"/>
                      <a:pt x="125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ubicBezTo>
                      <a:pt x="249" y="77"/>
                      <a:pt x="245" y="24"/>
                      <a:pt x="195" y="11"/>
                    </a:cubicBezTo>
                    <a:cubicBezTo>
                      <a:pt x="157" y="0"/>
                      <a:pt x="126" y="27"/>
                      <a:pt x="125" y="28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15" name="Freeform 148"/>
              <p:cNvSpPr/>
              <p:nvPr/>
            </p:nvSpPr>
            <p:spPr>
              <a:xfrm>
                <a:off x="10271160" y="1568520"/>
                <a:ext cx="788760" cy="63612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8" h="200">
                    <a:moveTo>
                      <a:pt x="236" y="103"/>
                    </a:moveTo>
                    <a:cubicBezTo>
                      <a:pt x="248" y="77"/>
                      <a:pt x="245" y="24"/>
                      <a:pt x="194" y="11"/>
                    </a:cubicBezTo>
                    <a:cubicBezTo>
                      <a:pt x="156" y="0"/>
                      <a:pt x="125" y="27"/>
                      <a:pt x="124" y="28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4"/>
                      <a:pt x="0" y="77"/>
                      <a:pt x="11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6" y="146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16" name="Freeform 149"/>
              <p:cNvSpPr/>
              <p:nvPr/>
            </p:nvSpPr>
            <p:spPr>
              <a:xfrm>
                <a:off x="11282400" y="1568520"/>
                <a:ext cx="790200" cy="63612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49" h="200">
                    <a:moveTo>
                      <a:pt x="237" y="103"/>
                    </a:moveTo>
                    <a:cubicBezTo>
                      <a:pt x="249" y="77"/>
                      <a:pt x="245" y="24"/>
                      <a:pt x="195" y="11"/>
                    </a:cubicBezTo>
                    <a:cubicBezTo>
                      <a:pt x="156" y="0"/>
                      <a:pt x="126" y="27"/>
                      <a:pt x="124" y="28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4"/>
                      <a:pt x="0" y="77"/>
                      <a:pt x="12" y="103"/>
                    </a:cubicBezTo>
                    <a:cubicBezTo>
                      <a:pt x="32" y="146"/>
                      <a:pt x="119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30" y="197"/>
                      <a:pt x="217" y="146"/>
                      <a:pt x="237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17" name="Freeform 150"/>
              <p:cNvSpPr/>
              <p:nvPr/>
            </p:nvSpPr>
            <p:spPr>
              <a:xfrm>
                <a:off x="11790360" y="6353280"/>
                <a:ext cx="402840" cy="507600"/>
              </a:xfrm>
              <a:custGeom>
                <a:avLst/>
                <a:gdLst>
                  <a:gd name="textAreaLeft" fmla="*/ 0 w 402840"/>
                  <a:gd name="textAreaRight" fmla="*/ 403200 w 40284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127" h="160">
                    <a:moveTo>
                      <a:pt x="54" y="11"/>
                    </a:moveTo>
                    <a:cubicBezTo>
                      <a:pt x="3" y="25"/>
                      <a:pt x="0" y="77"/>
                      <a:pt x="12" y="103"/>
                    </a:cubicBezTo>
                    <a:cubicBezTo>
                      <a:pt x="20" y="122"/>
                      <a:pt x="42" y="143"/>
                      <a:pt x="64" y="160"/>
                    </a:cubicBezTo>
                    <a:cubicBezTo>
                      <a:pt x="127" y="160"/>
                      <a:pt x="127" y="160"/>
                      <a:pt x="127" y="160"/>
                    </a:cubicBezTo>
                    <a:cubicBezTo>
                      <a:pt x="127" y="26"/>
                      <a:pt x="127" y="26"/>
                      <a:pt x="127" y="26"/>
                    </a:cubicBezTo>
                    <a:cubicBezTo>
                      <a:pt x="125" y="27"/>
                      <a:pt x="124" y="28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18" name="Freeform 151"/>
              <p:cNvSpPr/>
              <p:nvPr/>
            </p:nvSpPr>
            <p:spPr>
              <a:xfrm>
                <a:off x="11790360" y="4964040"/>
                <a:ext cx="402840" cy="634680"/>
              </a:xfrm>
              <a:custGeom>
                <a:avLst/>
                <a:gdLst>
                  <a:gd name="textAreaLeft" fmla="*/ 0 w 402840"/>
                  <a:gd name="textAreaRight" fmla="*/ 403200 w 40284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127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199"/>
                      <a:pt x="127" y="198"/>
                    </a:cubicBezTo>
                    <a:cubicBezTo>
                      <a:pt x="127" y="25"/>
                      <a:pt x="127" y="25"/>
                      <a:pt x="127" y="25"/>
                    </a:cubicBezTo>
                    <a:cubicBezTo>
                      <a:pt x="125" y="27"/>
                      <a:pt x="124" y="28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19" name="Freeform 152"/>
              <p:cNvSpPr/>
              <p:nvPr/>
            </p:nvSpPr>
            <p:spPr>
              <a:xfrm>
                <a:off x="11790360" y="3616200"/>
                <a:ext cx="402840" cy="634680"/>
              </a:xfrm>
              <a:custGeom>
                <a:avLst/>
                <a:gdLst>
                  <a:gd name="textAreaLeft" fmla="*/ 0 w 402840"/>
                  <a:gd name="textAreaRight" fmla="*/ 403200 w 40284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127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199"/>
                      <a:pt x="127" y="198"/>
                    </a:cubicBezTo>
                    <a:cubicBezTo>
                      <a:pt x="127" y="25"/>
                      <a:pt x="127" y="25"/>
                      <a:pt x="127" y="25"/>
                    </a:cubicBezTo>
                    <a:cubicBezTo>
                      <a:pt x="125" y="27"/>
                      <a:pt x="124" y="27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20" name="Freeform 153"/>
              <p:cNvSpPr/>
              <p:nvPr/>
            </p:nvSpPr>
            <p:spPr>
              <a:xfrm>
                <a:off x="11790360" y="2255760"/>
                <a:ext cx="402840" cy="634680"/>
              </a:xfrm>
              <a:custGeom>
                <a:avLst/>
                <a:gdLst>
                  <a:gd name="textAreaLeft" fmla="*/ 0 w 402840"/>
                  <a:gd name="textAreaRight" fmla="*/ 403200 w 40284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127" h="200">
                    <a:moveTo>
                      <a:pt x="54" y="10"/>
                    </a:moveTo>
                    <a:cubicBezTo>
                      <a:pt x="3" y="24"/>
                      <a:pt x="0" y="76"/>
                      <a:pt x="12" y="102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199"/>
                      <a:pt x="127" y="198"/>
                    </a:cubicBezTo>
                    <a:cubicBezTo>
                      <a:pt x="127" y="25"/>
                      <a:pt x="127" y="25"/>
                      <a:pt x="127" y="25"/>
                    </a:cubicBezTo>
                    <a:cubicBezTo>
                      <a:pt x="125" y="26"/>
                      <a:pt x="124" y="27"/>
                      <a:pt x="124" y="28"/>
                    </a:cubicBezTo>
                    <a:cubicBezTo>
                      <a:pt x="122" y="26"/>
                      <a:pt x="92" y="0"/>
                      <a:pt x="54" y="10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21" name="Freeform 154"/>
              <p:cNvSpPr/>
              <p:nvPr/>
            </p:nvSpPr>
            <p:spPr>
              <a:xfrm>
                <a:off x="11790360" y="863640"/>
                <a:ext cx="402840" cy="637920"/>
              </a:xfrm>
              <a:custGeom>
                <a:avLst/>
                <a:gdLst>
                  <a:gd name="textAreaLeft" fmla="*/ 0 w 402840"/>
                  <a:gd name="textAreaRight" fmla="*/ 403200 w 40284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127" h="201">
                    <a:moveTo>
                      <a:pt x="54" y="11"/>
                    </a:moveTo>
                    <a:cubicBezTo>
                      <a:pt x="3" y="25"/>
                      <a:pt x="0" y="77"/>
                      <a:pt x="12" y="103"/>
                    </a:cubicBezTo>
                    <a:cubicBezTo>
                      <a:pt x="31" y="146"/>
                      <a:pt x="118" y="197"/>
                      <a:pt x="124" y="200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0"/>
                      <a:pt x="124" y="200"/>
                      <a:pt x="124" y="200"/>
                    </a:cubicBezTo>
                    <a:cubicBezTo>
                      <a:pt x="125" y="200"/>
                      <a:pt x="126" y="200"/>
                      <a:pt x="127" y="199"/>
                    </a:cubicBezTo>
                    <a:cubicBezTo>
                      <a:pt x="127" y="26"/>
                      <a:pt x="127" y="26"/>
                      <a:pt x="127" y="26"/>
                    </a:cubicBezTo>
                    <a:cubicBezTo>
                      <a:pt x="125" y="27"/>
                      <a:pt x="124" y="28"/>
                      <a:pt x="124" y="28"/>
                    </a:cubicBezTo>
                    <a:cubicBezTo>
                      <a:pt x="122" y="27"/>
                      <a:pt x="92" y="0"/>
                      <a:pt x="54" y="1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22" name="Freeform 155"/>
              <p:cNvSpPr/>
              <p:nvPr/>
            </p:nvSpPr>
            <p:spPr>
              <a:xfrm>
                <a:off x="1099656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0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23" name="Freeform 156"/>
              <p:cNvSpPr/>
              <p:nvPr/>
            </p:nvSpPr>
            <p:spPr>
              <a:xfrm>
                <a:off x="12015720" y="-1440"/>
                <a:ext cx="177480" cy="11088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5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4" y="35"/>
                      <a:pt x="55" y="34"/>
                      <a:pt x="56" y="33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24" name="Freeform 157"/>
              <p:cNvSpPr/>
              <p:nvPr/>
            </p:nvSpPr>
            <p:spPr>
              <a:xfrm>
                <a:off x="9979200" y="-1440"/>
                <a:ext cx="336240" cy="11088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06" h="35">
                    <a:moveTo>
                      <a:pt x="53" y="35"/>
                    </a:move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3" y="35"/>
                      <a:pt x="53" y="35"/>
                      <a:pt x="53" y="35"/>
                    </a:cubicBezTo>
                    <a:cubicBezTo>
                      <a:pt x="56" y="33"/>
                      <a:pt x="81" y="19"/>
                      <a:pt x="106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" y="19"/>
                      <a:pt x="50" y="33"/>
                      <a:pt x="53" y="35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25" name="Freeform 158"/>
              <p:cNvSpPr/>
              <p:nvPr/>
            </p:nvSpPr>
            <p:spPr>
              <a:xfrm>
                <a:off x="9248760" y="1760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4" y="201"/>
                    </a:moveTo>
                    <a:cubicBezTo>
                      <a:pt x="124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25" y="201"/>
                      <a:pt x="125" y="201"/>
                      <a:pt x="125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7" y="0"/>
                      <a:pt x="126" y="27"/>
                      <a:pt x="125" y="29"/>
                    </a:cubicBezTo>
                    <a:cubicBezTo>
                      <a:pt x="123" y="27"/>
                      <a:pt x="93" y="0"/>
                      <a:pt x="54" y="11"/>
                    </a:cubicBezTo>
                    <a:cubicBezTo>
                      <a:pt x="4" y="25"/>
                      <a:pt x="0" y="77"/>
                      <a:pt x="12" y="103"/>
                    </a:cubicBezTo>
                    <a:cubicBezTo>
                      <a:pt x="32" y="147"/>
                      <a:pt x="119" y="198"/>
                      <a:pt x="124" y="201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26" name="Freeform 159"/>
              <p:cNvSpPr/>
              <p:nvPr/>
            </p:nvSpPr>
            <p:spPr>
              <a:xfrm>
                <a:off x="10271160" y="176040"/>
                <a:ext cx="788760" cy="63936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8" h="201">
                    <a:moveTo>
                      <a:pt x="236" y="103"/>
                    </a:moveTo>
                    <a:cubicBezTo>
                      <a:pt x="248" y="77"/>
                      <a:pt x="245" y="25"/>
                      <a:pt x="194" y="11"/>
                    </a:cubicBezTo>
                    <a:cubicBezTo>
                      <a:pt x="156" y="0"/>
                      <a:pt x="125" y="27"/>
                      <a:pt x="124" y="29"/>
                    </a:cubicBezTo>
                    <a:cubicBezTo>
                      <a:pt x="122" y="27"/>
                      <a:pt x="92" y="0"/>
                      <a:pt x="53" y="11"/>
                    </a:cubicBezTo>
                    <a:cubicBezTo>
                      <a:pt x="3" y="25"/>
                      <a:pt x="0" y="77"/>
                      <a:pt x="11" y="103"/>
                    </a:cubicBezTo>
                    <a:cubicBezTo>
                      <a:pt x="31" y="147"/>
                      <a:pt x="118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6" y="147"/>
                      <a:pt x="236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  <p:sp>
            <p:nvSpPr>
              <p:cNvPr id="627" name="Freeform 160"/>
              <p:cNvSpPr/>
              <p:nvPr/>
            </p:nvSpPr>
            <p:spPr>
              <a:xfrm>
                <a:off x="11282400" y="176040"/>
                <a:ext cx="790200" cy="63936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249" h="201">
                    <a:moveTo>
                      <a:pt x="12" y="103"/>
                    </a:moveTo>
                    <a:cubicBezTo>
                      <a:pt x="32" y="147"/>
                      <a:pt x="119" y="198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24" y="201"/>
                      <a:pt x="124" y="201"/>
                      <a:pt x="124" y="201"/>
                    </a:cubicBezTo>
                    <a:cubicBezTo>
                      <a:pt x="130" y="198"/>
                      <a:pt x="217" y="147"/>
                      <a:pt x="237" y="103"/>
                    </a:cubicBezTo>
                    <a:cubicBezTo>
                      <a:pt x="249" y="77"/>
                      <a:pt x="245" y="25"/>
                      <a:pt x="195" y="11"/>
                    </a:cubicBezTo>
                    <a:cubicBezTo>
                      <a:pt x="156" y="0"/>
                      <a:pt x="126" y="27"/>
                      <a:pt x="124" y="29"/>
                    </a:cubicBezTo>
                    <a:cubicBezTo>
                      <a:pt x="123" y="27"/>
                      <a:pt x="92" y="0"/>
                      <a:pt x="54" y="11"/>
                    </a:cubicBezTo>
                    <a:cubicBezTo>
                      <a:pt x="3" y="25"/>
                      <a:pt x="0" y="77"/>
                      <a:pt x="12" y="103"/>
                    </a:cubicBezTo>
                    <a:close/>
                  </a:path>
                </a:pathLst>
              </a:custGeom>
              <a:solidFill>
                <a:schemeClr val="bg2">
                  <a:lumMod val="60000"/>
                  <a:lumOff val="40000"/>
                  <a:alpha val="2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</p:grpSp>
      <p:sp>
        <p:nvSpPr>
          <p:cNvPr id="628" name="Freeform 170"/>
          <p:cNvSpPr/>
          <p:nvPr/>
        </p:nvSpPr>
        <p:spPr>
          <a:xfrm>
            <a:off x="435240" y="676440"/>
            <a:ext cx="3654360" cy="5505120"/>
          </a:xfrm>
          <a:custGeom>
            <a:avLst/>
            <a:gdLst>
              <a:gd name="textAreaLeft" fmla="*/ 0 w 3654360"/>
              <a:gd name="textAreaRight" fmla="*/ 3654720 w 3654360"/>
              <a:gd name="textAreaTop" fmla="*/ 0 h 5505120"/>
              <a:gd name="textAreaBottom" fmla="*/ 5505480 h 5505120"/>
            </a:gdLst>
            <a:ahLst/>
            <a:rect l="textAreaLeft" t="textAreaTop" r="textAreaRight" b="textAreaBottom"/>
            <a:pathLst>
              <a:path w="1172" h="1815">
                <a:moveTo>
                  <a:pt x="42" y="885"/>
                </a:moveTo>
                <a:cubicBezTo>
                  <a:pt x="74" y="863"/>
                  <a:pt x="90" y="821"/>
                  <a:pt x="90" y="756"/>
                </a:cubicBezTo>
                <a:cubicBezTo>
                  <a:pt x="90" y="680"/>
                  <a:pt x="68" y="589"/>
                  <a:pt x="49" y="509"/>
                </a:cubicBezTo>
                <a:cubicBezTo>
                  <a:pt x="39" y="468"/>
                  <a:pt x="30" y="429"/>
                  <a:pt x="25" y="398"/>
                </a:cubicBezTo>
                <a:cubicBezTo>
                  <a:pt x="22" y="378"/>
                  <a:pt x="21" y="358"/>
                  <a:pt x="21" y="339"/>
                </a:cubicBezTo>
                <a:cubicBezTo>
                  <a:pt x="21" y="339"/>
                  <a:pt x="21" y="339"/>
                  <a:pt x="21" y="339"/>
                </a:cubicBezTo>
                <a:cubicBezTo>
                  <a:pt x="21" y="270"/>
                  <a:pt x="40" y="211"/>
                  <a:pt x="78" y="169"/>
                </a:cubicBezTo>
                <a:cubicBezTo>
                  <a:pt x="181" y="54"/>
                  <a:pt x="314" y="80"/>
                  <a:pt x="454" y="107"/>
                </a:cubicBezTo>
                <a:cubicBezTo>
                  <a:pt x="463" y="108"/>
                  <a:pt x="471" y="110"/>
                  <a:pt x="480" y="112"/>
                </a:cubicBezTo>
                <a:cubicBezTo>
                  <a:pt x="533" y="122"/>
                  <a:pt x="552" y="88"/>
                  <a:pt x="556" y="80"/>
                </a:cubicBezTo>
                <a:cubicBezTo>
                  <a:pt x="586" y="0"/>
                  <a:pt x="586" y="0"/>
                  <a:pt x="586" y="0"/>
                </a:cubicBezTo>
                <a:cubicBezTo>
                  <a:pt x="616" y="80"/>
                  <a:pt x="616" y="80"/>
                  <a:pt x="616" y="80"/>
                </a:cubicBezTo>
                <a:cubicBezTo>
                  <a:pt x="620" y="88"/>
                  <a:pt x="639" y="122"/>
                  <a:pt x="692" y="112"/>
                </a:cubicBezTo>
                <a:cubicBezTo>
                  <a:pt x="701" y="110"/>
                  <a:pt x="709" y="108"/>
                  <a:pt x="718" y="107"/>
                </a:cubicBezTo>
                <a:cubicBezTo>
                  <a:pt x="858" y="80"/>
                  <a:pt x="991" y="54"/>
                  <a:pt x="1094" y="169"/>
                </a:cubicBezTo>
                <a:cubicBezTo>
                  <a:pt x="1132" y="211"/>
                  <a:pt x="1151" y="270"/>
                  <a:pt x="1151" y="339"/>
                </a:cubicBezTo>
                <a:cubicBezTo>
                  <a:pt x="1151" y="358"/>
                  <a:pt x="1150" y="378"/>
                  <a:pt x="1147" y="398"/>
                </a:cubicBezTo>
                <a:cubicBezTo>
                  <a:pt x="1142" y="429"/>
                  <a:pt x="1133" y="468"/>
                  <a:pt x="1123" y="509"/>
                </a:cubicBezTo>
                <a:cubicBezTo>
                  <a:pt x="1103" y="589"/>
                  <a:pt x="1082" y="680"/>
                  <a:pt x="1082" y="756"/>
                </a:cubicBezTo>
                <a:cubicBezTo>
                  <a:pt x="1082" y="756"/>
                  <a:pt x="1082" y="756"/>
                  <a:pt x="1082" y="756"/>
                </a:cubicBezTo>
                <a:cubicBezTo>
                  <a:pt x="1082" y="821"/>
                  <a:pt x="1097" y="863"/>
                  <a:pt x="1130" y="885"/>
                </a:cubicBezTo>
                <a:cubicBezTo>
                  <a:pt x="1172" y="912"/>
                  <a:pt x="1172" y="912"/>
                  <a:pt x="1172" y="912"/>
                </a:cubicBezTo>
                <a:cubicBezTo>
                  <a:pt x="1130" y="940"/>
                  <a:pt x="1130" y="940"/>
                  <a:pt x="1130" y="940"/>
                </a:cubicBezTo>
                <a:cubicBezTo>
                  <a:pt x="1097" y="961"/>
                  <a:pt x="1082" y="1003"/>
                  <a:pt x="1082" y="1068"/>
                </a:cubicBezTo>
                <a:cubicBezTo>
                  <a:pt x="1082" y="1144"/>
                  <a:pt x="1103" y="1235"/>
                  <a:pt x="1123" y="1315"/>
                </a:cubicBezTo>
                <a:cubicBezTo>
                  <a:pt x="1133" y="1356"/>
                  <a:pt x="1142" y="1395"/>
                  <a:pt x="1147" y="1426"/>
                </a:cubicBezTo>
                <a:cubicBezTo>
                  <a:pt x="1150" y="1446"/>
                  <a:pt x="1151" y="1466"/>
                  <a:pt x="1151" y="1485"/>
                </a:cubicBezTo>
                <a:cubicBezTo>
                  <a:pt x="1151" y="1554"/>
                  <a:pt x="1132" y="1613"/>
                  <a:pt x="1094" y="1655"/>
                </a:cubicBezTo>
                <a:cubicBezTo>
                  <a:pt x="991" y="1770"/>
                  <a:pt x="858" y="1744"/>
                  <a:pt x="718" y="1717"/>
                </a:cubicBezTo>
                <a:cubicBezTo>
                  <a:pt x="709" y="1716"/>
                  <a:pt x="701" y="1714"/>
                  <a:pt x="692" y="1713"/>
                </a:cubicBezTo>
                <a:cubicBezTo>
                  <a:pt x="638" y="1703"/>
                  <a:pt x="619" y="1733"/>
                  <a:pt x="616" y="1740"/>
                </a:cubicBezTo>
                <a:cubicBezTo>
                  <a:pt x="586" y="1815"/>
                  <a:pt x="586" y="1815"/>
                  <a:pt x="586" y="1815"/>
                </a:cubicBezTo>
                <a:cubicBezTo>
                  <a:pt x="556" y="1740"/>
                  <a:pt x="556" y="1740"/>
                  <a:pt x="556" y="1740"/>
                </a:cubicBezTo>
                <a:cubicBezTo>
                  <a:pt x="552" y="1733"/>
                  <a:pt x="534" y="1703"/>
                  <a:pt x="480" y="1713"/>
                </a:cubicBezTo>
                <a:cubicBezTo>
                  <a:pt x="471" y="1714"/>
                  <a:pt x="463" y="1716"/>
                  <a:pt x="454" y="1718"/>
                </a:cubicBezTo>
                <a:cubicBezTo>
                  <a:pt x="314" y="1744"/>
                  <a:pt x="181" y="1770"/>
                  <a:pt x="78" y="1655"/>
                </a:cubicBezTo>
                <a:cubicBezTo>
                  <a:pt x="40" y="1613"/>
                  <a:pt x="21" y="1554"/>
                  <a:pt x="21" y="1485"/>
                </a:cubicBezTo>
                <a:cubicBezTo>
                  <a:pt x="21" y="1466"/>
                  <a:pt x="22" y="1446"/>
                  <a:pt x="25" y="1426"/>
                </a:cubicBezTo>
                <a:cubicBezTo>
                  <a:pt x="30" y="1395"/>
                  <a:pt x="39" y="1356"/>
                  <a:pt x="49" y="1315"/>
                </a:cubicBezTo>
                <a:cubicBezTo>
                  <a:pt x="68" y="1235"/>
                  <a:pt x="90" y="1144"/>
                  <a:pt x="90" y="1068"/>
                </a:cubicBezTo>
                <a:cubicBezTo>
                  <a:pt x="90" y="1003"/>
                  <a:pt x="74" y="961"/>
                  <a:pt x="42" y="940"/>
                </a:cubicBezTo>
                <a:cubicBezTo>
                  <a:pt x="0" y="912"/>
                  <a:pt x="0" y="912"/>
                  <a:pt x="0" y="912"/>
                </a:cubicBezTo>
                <a:lnTo>
                  <a:pt x="42" y="885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body"/>
          </p:nvPr>
        </p:nvSpPr>
        <p:spPr>
          <a:xfrm>
            <a:off x="624240" y="975960"/>
            <a:ext cx="3276360" cy="4906080"/>
          </a:xfrm>
          <a:prstGeom prst="rect">
            <a:avLst/>
          </a:prstGeom>
          <a:solidFill>
            <a:srgbClr val="f9d9da"/>
          </a:solidFill>
          <a:ln w="50760">
            <a:solidFill>
              <a:srgbClr val="ffffff"/>
            </a:solidFill>
            <a:miter/>
          </a:ln>
        </p:spPr>
        <p:txBody>
          <a:bodyPr lIns="90000" rIns="90000" tIns="365760" bIns="45000" anchor="t">
            <a:no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0" name="Freeform 176"/>
          <p:cNvSpPr/>
          <p:nvPr/>
        </p:nvSpPr>
        <p:spPr>
          <a:xfrm rot="5400000">
            <a:off x="4783320" y="185040"/>
            <a:ext cx="2666160" cy="3743640"/>
          </a:xfrm>
          <a:custGeom>
            <a:avLst/>
            <a:gdLst>
              <a:gd name="textAreaLeft" fmla="*/ 0 w 2666160"/>
              <a:gd name="textAreaRight" fmla="*/ 2666520 w 2666160"/>
              <a:gd name="textAreaTop" fmla="*/ 0 h 3743640"/>
              <a:gd name="textAreaBottom" fmla="*/ 3744000 h 3743640"/>
            </a:gdLst>
            <a:ahLst/>
            <a:rect l="textAreaLeft" t="textAreaTop" r="textAreaRight" b="textAreaBottom"/>
            <a:pathLst>
              <a:path w="1172" h="1815">
                <a:moveTo>
                  <a:pt x="42" y="885"/>
                </a:moveTo>
                <a:cubicBezTo>
                  <a:pt x="74" y="863"/>
                  <a:pt x="90" y="821"/>
                  <a:pt x="90" y="756"/>
                </a:cubicBezTo>
                <a:cubicBezTo>
                  <a:pt x="90" y="680"/>
                  <a:pt x="68" y="589"/>
                  <a:pt x="49" y="509"/>
                </a:cubicBezTo>
                <a:cubicBezTo>
                  <a:pt x="39" y="468"/>
                  <a:pt x="30" y="429"/>
                  <a:pt x="25" y="398"/>
                </a:cubicBezTo>
                <a:cubicBezTo>
                  <a:pt x="22" y="378"/>
                  <a:pt x="21" y="358"/>
                  <a:pt x="21" y="339"/>
                </a:cubicBezTo>
                <a:cubicBezTo>
                  <a:pt x="21" y="339"/>
                  <a:pt x="21" y="339"/>
                  <a:pt x="21" y="339"/>
                </a:cubicBezTo>
                <a:cubicBezTo>
                  <a:pt x="21" y="270"/>
                  <a:pt x="40" y="211"/>
                  <a:pt x="78" y="169"/>
                </a:cubicBezTo>
                <a:cubicBezTo>
                  <a:pt x="181" y="54"/>
                  <a:pt x="314" y="80"/>
                  <a:pt x="454" y="107"/>
                </a:cubicBezTo>
                <a:cubicBezTo>
                  <a:pt x="463" y="108"/>
                  <a:pt x="471" y="110"/>
                  <a:pt x="480" y="112"/>
                </a:cubicBezTo>
                <a:cubicBezTo>
                  <a:pt x="533" y="122"/>
                  <a:pt x="552" y="88"/>
                  <a:pt x="556" y="80"/>
                </a:cubicBezTo>
                <a:cubicBezTo>
                  <a:pt x="586" y="0"/>
                  <a:pt x="586" y="0"/>
                  <a:pt x="586" y="0"/>
                </a:cubicBezTo>
                <a:cubicBezTo>
                  <a:pt x="616" y="80"/>
                  <a:pt x="616" y="80"/>
                  <a:pt x="616" y="80"/>
                </a:cubicBezTo>
                <a:cubicBezTo>
                  <a:pt x="620" y="88"/>
                  <a:pt x="639" y="122"/>
                  <a:pt x="692" y="112"/>
                </a:cubicBezTo>
                <a:cubicBezTo>
                  <a:pt x="701" y="110"/>
                  <a:pt x="709" y="108"/>
                  <a:pt x="718" y="107"/>
                </a:cubicBezTo>
                <a:cubicBezTo>
                  <a:pt x="858" y="80"/>
                  <a:pt x="991" y="54"/>
                  <a:pt x="1094" y="169"/>
                </a:cubicBezTo>
                <a:cubicBezTo>
                  <a:pt x="1132" y="211"/>
                  <a:pt x="1151" y="270"/>
                  <a:pt x="1151" y="339"/>
                </a:cubicBezTo>
                <a:cubicBezTo>
                  <a:pt x="1151" y="358"/>
                  <a:pt x="1150" y="378"/>
                  <a:pt x="1147" y="398"/>
                </a:cubicBezTo>
                <a:cubicBezTo>
                  <a:pt x="1142" y="429"/>
                  <a:pt x="1133" y="468"/>
                  <a:pt x="1123" y="509"/>
                </a:cubicBezTo>
                <a:cubicBezTo>
                  <a:pt x="1103" y="589"/>
                  <a:pt x="1082" y="680"/>
                  <a:pt x="1082" y="756"/>
                </a:cubicBezTo>
                <a:cubicBezTo>
                  <a:pt x="1082" y="756"/>
                  <a:pt x="1082" y="756"/>
                  <a:pt x="1082" y="756"/>
                </a:cubicBezTo>
                <a:cubicBezTo>
                  <a:pt x="1082" y="821"/>
                  <a:pt x="1097" y="863"/>
                  <a:pt x="1130" y="885"/>
                </a:cubicBezTo>
                <a:cubicBezTo>
                  <a:pt x="1172" y="912"/>
                  <a:pt x="1172" y="912"/>
                  <a:pt x="1172" y="912"/>
                </a:cubicBezTo>
                <a:cubicBezTo>
                  <a:pt x="1130" y="940"/>
                  <a:pt x="1130" y="940"/>
                  <a:pt x="1130" y="940"/>
                </a:cubicBezTo>
                <a:cubicBezTo>
                  <a:pt x="1097" y="961"/>
                  <a:pt x="1082" y="1003"/>
                  <a:pt x="1082" y="1068"/>
                </a:cubicBezTo>
                <a:cubicBezTo>
                  <a:pt x="1082" y="1144"/>
                  <a:pt x="1103" y="1235"/>
                  <a:pt x="1123" y="1315"/>
                </a:cubicBezTo>
                <a:cubicBezTo>
                  <a:pt x="1133" y="1356"/>
                  <a:pt x="1142" y="1395"/>
                  <a:pt x="1147" y="1426"/>
                </a:cubicBezTo>
                <a:cubicBezTo>
                  <a:pt x="1150" y="1446"/>
                  <a:pt x="1151" y="1466"/>
                  <a:pt x="1151" y="1485"/>
                </a:cubicBezTo>
                <a:cubicBezTo>
                  <a:pt x="1151" y="1554"/>
                  <a:pt x="1132" y="1613"/>
                  <a:pt x="1094" y="1655"/>
                </a:cubicBezTo>
                <a:cubicBezTo>
                  <a:pt x="991" y="1770"/>
                  <a:pt x="858" y="1744"/>
                  <a:pt x="718" y="1717"/>
                </a:cubicBezTo>
                <a:cubicBezTo>
                  <a:pt x="709" y="1716"/>
                  <a:pt x="701" y="1714"/>
                  <a:pt x="692" y="1713"/>
                </a:cubicBezTo>
                <a:cubicBezTo>
                  <a:pt x="638" y="1703"/>
                  <a:pt x="619" y="1733"/>
                  <a:pt x="616" y="1740"/>
                </a:cubicBezTo>
                <a:cubicBezTo>
                  <a:pt x="586" y="1815"/>
                  <a:pt x="586" y="1815"/>
                  <a:pt x="586" y="1815"/>
                </a:cubicBezTo>
                <a:cubicBezTo>
                  <a:pt x="556" y="1740"/>
                  <a:pt x="556" y="1740"/>
                  <a:pt x="556" y="1740"/>
                </a:cubicBezTo>
                <a:cubicBezTo>
                  <a:pt x="552" y="1733"/>
                  <a:pt x="534" y="1703"/>
                  <a:pt x="480" y="1713"/>
                </a:cubicBezTo>
                <a:cubicBezTo>
                  <a:pt x="471" y="1714"/>
                  <a:pt x="463" y="1716"/>
                  <a:pt x="454" y="1718"/>
                </a:cubicBezTo>
                <a:cubicBezTo>
                  <a:pt x="314" y="1744"/>
                  <a:pt x="181" y="1770"/>
                  <a:pt x="78" y="1655"/>
                </a:cubicBezTo>
                <a:cubicBezTo>
                  <a:pt x="40" y="1613"/>
                  <a:pt x="21" y="1554"/>
                  <a:pt x="21" y="1485"/>
                </a:cubicBezTo>
                <a:cubicBezTo>
                  <a:pt x="21" y="1466"/>
                  <a:pt x="22" y="1446"/>
                  <a:pt x="25" y="1426"/>
                </a:cubicBezTo>
                <a:cubicBezTo>
                  <a:pt x="30" y="1395"/>
                  <a:pt x="39" y="1356"/>
                  <a:pt x="49" y="1315"/>
                </a:cubicBezTo>
                <a:cubicBezTo>
                  <a:pt x="68" y="1235"/>
                  <a:pt x="90" y="1144"/>
                  <a:pt x="90" y="1068"/>
                </a:cubicBezTo>
                <a:cubicBezTo>
                  <a:pt x="90" y="1003"/>
                  <a:pt x="74" y="961"/>
                  <a:pt x="42" y="940"/>
                </a:cubicBezTo>
                <a:cubicBezTo>
                  <a:pt x="0" y="912"/>
                  <a:pt x="0" y="912"/>
                  <a:pt x="0" y="912"/>
                </a:cubicBezTo>
                <a:lnTo>
                  <a:pt x="42" y="885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469760" y="880200"/>
            <a:ext cx="3292560" cy="2354040"/>
          </a:xfrm>
          <a:prstGeom prst="rect">
            <a:avLst/>
          </a:prstGeom>
          <a:solidFill>
            <a:srgbClr val="f9d9da"/>
          </a:solidFill>
          <a:ln w="50760">
            <a:solidFill>
              <a:srgbClr val="ffffff"/>
            </a:solidFill>
            <a:miter/>
          </a:ln>
        </p:spPr>
        <p:txBody>
          <a:bodyPr lIns="90000" rIns="90000" tIns="365760" bIns="45000" anchor="t">
            <a:no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2" name="Freeform 179"/>
          <p:cNvSpPr/>
          <p:nvPr/>
        </p:nvSpPr>
        <p:spPr>
          <a:xfrm rot="5400000">
            <a:off x="4783320" y="2979360"/>
            <a:ext cx="2666160" cy="3743640"/>
          </a:xfrm>
          <a:custGeom>
            <a:avLst/>
            <a:gdLst>
              <a:gd name="textAreaLeft" fmla="*/ 0 w 2666160"/>
              <a:gd name="textAreaRight" fmla="*/ 2666520 w 2666160"/>
              <a:gd name="textAreaTop" fmla="*/ 0 h 3743640"/>
              <a:gd name="textAreaBottom" fmla="*/ 3744000 h 3743640"/>
            </a:gdLst>
            <a:ahLst/>
            <a:rect l="textAreaLeft" t="textAreaTop" r="textAreaRight" b="textAreaBottom"/>
            <a:pathLst>
              <a:path w="1172" h="1815">
                <a:moveTo>
                  <a:pt x="42" y="885"/>
                </a:moveTo>
                <a:cubicBezTo>
                  <a:pt x="74" y="863"/>
                  <a:pt x="90" y="821"/>
                  <a:pt x="90" y="756"/>
                </a:cubicBezTo>
                <a:cubicBezTo>
                  <a:pt x="90" y="680"/>
                  <a:pt x="68" y="589"/>
                  <a:pt x="49" y="509"/>
                </a:cubicBezTo>
                <a:cubicBezTo>
                  <a:pt x="39" y="468"/>
                  <a:pt x="30" y="429"/>
                  <a:pt x="25" y="398"/>
                </a:cubicBezTo>
                <a:cubicBezTo>
                  <a:pt x="22" y="378"/>
                  <a:pt x="21" y="358"/>
                  <a:pt x="21" y="339"/>
                </a:cubicBezTo>
                <a:cubicBezTo>
                  <a:pt x="21" y="339"/>
                  <a:pt x="21" y="339"/>
                  <a:pt x="21" y="339"/>
                </a:cubicBezTo>
                <a:cubicBezTo>
                  <a:pt x="21" y="270"/>
                  <a:pt x="40" y="211"/>
                  <a:pt x="78" y="169"/>
                </a:cubicBezTo>
                <a:cubicBezTo>
                  <a:pt x="181" y="54"/>
                  <a:pt x="314" y="80"/>
                  <a:pt x="454" y="107"/>
                </a:cubicBezTo>
                <a:cubicBezTo>
                  <a:pt x="463" y="108"/>
                  <a:pt x="471" y="110"/>
                  <a:pt x="480" y="112"/>
                </a:cubicBezTo>
                <a:cubicBezTo>
                  <a:pt x="533" y="122"/>
                  <a:pt x="552" y="88"/>
                  <a:pt x="556" y="80"/>
                </a:cubicBezTo>
                <a:cubicBezTo>
                  <a:pt x="586" y="0"/>
                  <a:pt x="586" y="0"/>
                  <a:pt x="586" y="0"/>
                </a:cubicBezTo>
                <a:cubicBezTo>
                  <a:pt x="616" y="80"/>
                  <a:pt x="616" y="80"/>
                  <a:pt x="616" y="80"/>
                </a:cubicBezTo>
                <a:cubicBezTo>
                  <a:pt x="620" y="88"/>
                  <a:pt x="639" y="122"/>
                  <a:pt x="692" y="112"/>
                </a:cubicBezTo>
                <a:cubicBezTo>
                  <a:pt x="701" y="110"/>
                  <a:pt x="709" y="108"/>
                  <a:pt x="718" y="107"/>
                </a:cubicBezTo>
                <a:cubicBezTo>
                  <a:pt x="858" y="80"/>
                  <a:pt x="991" y="54"/>
                  <a:pt x="1094" y="169"/>
                </a:cubicBezTo>
                <a:cubicBezTo>
                  <a:pt x="1132" y="211"/>
                  <a:pt x="1151" y="270"/>
                  <a:pt x="1151" y="339"/>
                </a:cubicBezTo>
                <a:cubicBezTo>
                  <a:pt x="1151" y="358"/>
                  <a:pt x="1150" y="378"/>
                  <a:pt x="1147" y="398"/>
                </a:cubicBezTo>
                <a:cubicBezTo>
                  <a:pt x="1142" y="429"/>
                  <a:pt x="1133" y="468"/>
                  <a:pt x="1123" y="509"/>
                </a:cubicBezTo>
                <a:cubicBezTo>
                  <a:pt x="1103" y="589"/>
                  <a:pt x="1082" y="680"/>
                  <a:pt x="1082" y="756"/>
                </a:cubicBezTo>
                <a:cubicBezTo>
                  <a:pt x="1082" y="756"/>
                  <a:pt x="1082" y="756"/>
                  <a:pt x="1082" y="756"/>
                </a:cubicBezTo>
                <a:cubicBezTo>
                  <a:pt x="1082" y="821"/>
                  <a:pt x="1097" y="863"/>
                  <a:pt x="1130" y="885"/>
                </a:cubicBezTo>
                <a:cubicBezTo>
                  <a:pt x="1172" y="912"/>
                  <a:pt x="1172" y="912"/>
                  <a:pt x="1172" y="912"/>
                </a:cubicBezTo>
                <a:cubicBezTo>
                  <a:pt x="1130" y="940"/>
                  <a:pt x="1130" y="940"/>
                  <a:pt x="1130" y="940"/>
                </a:cubicBezTo>
                <a:cubicBezTo>
                  <a:pt x="1097" y="961"/>
                  <a:pt x="1082" y="1003"/>
                  <a:pt x="1082" y="1068"/>
                </a:cubicBezTo>
                <a:cubicBezTo>
                  <a:pt x="1082" y="1144"/>
                  <a:pt x="1103" y="1235"/>
                  <a:pt x="1123" y="1315"/>
                </a:cubicBezTo>
                <a:cubicBezTo>
                  <a:pt x="1133" y="1356"/>
                  <a:pt x="1142" y="1395"/>
                  <a:pt x="1147" y="1426"/>
                </a:cubicBezTo>
                <a:cubicBezTo>
                  <a:pt x="1150" y="1446"/>
                  <a:pt x="1151" y="1466"/>
                  <a:pt x="1151" y="1485"/>
                </a:cubicBezTo>
                <a:cubicBezTo>
                  <a:pt x="1151" y="1554"/>
                  <a:pt x="1132" y="1613"/>
                  <a:pt x="1094" y="1655"/>
                </a:cubicBezTo>
                <a:cubicBezTo>
                  <a:pt x="991" y="1770"/>
                  <a:pt x="858" y="1744"/>
                  <a:pt x="718" y="1717"/>
                </a:cubicBezTo>
                <a:cubicBezTo>
                  <a:pt x="709" y="1716"/>
                  <a:pt x="701" y="1714"/>
                  <a:pt x="692" y="1713"/>
                </a:cubicBezTo>
                <a:cubicBezTo>
                  <a:pt x="638" y="1703"/>
                  <a:pt x="619" y="1733"/>
                  <a:pt x="616" y="1740"/>
                </a:cubicBezTo>
                <a:cubicBezTo>
                  <a:pt x="586" y="1815"/>
                  <a:pt x="586" y="1815"/>
                  <a:pt x="586" y="1815"/>
                </a:cubicBezTo>
                <a:cubicBezTo>
                  <a:pt x="556" y="1740"/>
                  <a:pt x="556" y="1740"/>
                  <a:pt x="556" y="1740"/>
                </a:cubicBezTo>
                <a:cubicBezTo>
                  <a:pt x="552" y="1733"/>
                  <a:pt x="534" y="1703"/>
                  <a:pt x="480" y="1713"/>
                </a:cubicBezTo>
                <a:cubicBezTo>
                  <a:pt x="471" y="1714"/>
                  <a:pt x="463" y="1716"/>
                  <a:pt x="454" y="1718"/>
                </a:cubicBezTo>
                <a:cubicBezTo>
                  <a:pt x="314" y="1744"/>
                  <a:pt x="181" y="1770"/>
                  <a:pt x="78" y="1655"/>
                </a:cubicBezTo>
                <a:cubicBezTo>
                  <a:pt x="40" y="1613"/>
                  <a:pt x="21" y="1554"/>
                  <a:pt x="21" y="1485"/>
                </a:cubicBezTo>
                <a:cubicBezTo>
                  <a:pt x="21" y="1466"/>
                  <a:pt x="22" y="1446"/>
                  <a:pt x="25" y="1426"/>
                </a:cubicBezTo>
                <a:cubicBezTo>
                  <a:pt x="30" y="1395"/>
                  <a:pt x="39" y="1356"/>
                  <a:pt x="49" y="1315"/>
                </a:cubicBezTo>
                <a:cubicBezTo>
                  <a:pt x="68" y="1235"/>
                  <a:pt x="90" y="1144"/>
                  <a:pt x="90" y="1068"/>
                </a:cubicBezTo>
                <a:cubicBezTo>
                  <a:pt x="90" y="1003"/>
                  <a:pt x="74" y="961"/>
                  <a:pt x="42" y="940"/>
                </a:cubicBezTo>
                <a:cubicBezTo>
                  <a:pt x="0" y="912"/>
                  <a:pt x="0" y="912"/>
                  <a:pt x="0" y="912"/>
                </a:cubicBezTo>
                <a:lnTo>
                  <a:pt x="42" y="885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body"/>
          </p:nvPr>
        </p:nvSpPr>
        <p:spPr>
          <a:xfrm>
            <a:off x="4469760" y="3674160"/>
            <a:ext cx="3292560" cy="2354040"/>
          </a:xfrm>
          <a:prstGeom prst="rect">
            <a:avLst/>
          </a:prstGeom>
          <a:solidFill>
            <a:srgbClr val="f9d9da"/>
          </a:solidFill>
          <a:ln w="50760">
            <a:solidFill>
              <a:srgbClr val="ffffff"/>
            </a:solidFill>
            <a:miter/>
          </a:ln>
        </p:spPr>
        <p:txBody>
          <a:bodyPr lIns="90000" rIns="90000" tIns="365760" bIns="45000" anchor="t">
            <a:no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4" name="Freeform 182"/>
          <p:cNvSpPr/>
          <p:nvPr/>
        </p:nvSpPr>
        <p:spPr>
          <a:xfrm>
            <a:off x="8118720" y="676440"/>
            <a:ext cx="3654360" cy="5505120"/>
          </a:xfrm>
          <a:custGeom>
            <a:avLst/>
            <a:gdLst>
              <a:gd name="textAreaLeft" fmla="*/ 0 w 3654360"/>
              <a:gd name="textAreaRight" fmla="*/ 3654720 w 3654360"/>
              <a:gd name="textAreaTop" fmla="*/ 0 h 5505120"/>
              <a:gd name="textAreaBottom" fmla="*/ 5505480 h 5505120"/>
            </a:gdLst>
            <a:ahLst/>
            <a:rect l="textAreaLeft" t="textAreaTop" r="textAreaRight" b="textAreaBottom"/>
            <a:pathLst>
              <a:path w="1172" h="1815">
                <a:moveTo>
                  <a:pt x="42" y="885"/>
                </a:moveTo>
                <a:cubicBezTo>
                  <a:pt x="74" y="863"/>
                  <a:pt x="90" y="821"/>
                  <a:pt x="90" y="756"/>
                </a:cubicBezTo>
                <a:cubicBezTo>
                  <a:pt x="90" y="680"/>
                  <a:pt x="68" y="589"/>
                  <a:pt x="49" y="509"/>
                </a:cubicBezTo>
                <a:cubicBezTo>
                  <a:pt x="39" y="468"/>
                  <a:pt x="30" y="429"/>
                  <a:pt x="25" y="398"/>
                </a:cubicBezTo>
                <a:cubicBezTo>
                  <a:pt x="22" y="378"/>
                  <a:pt x="21" y="358"/>
                  <a:pt x="21" y="339"/>
                </a:cubicBezTo>
                <a:cubicBezTo>
                  <a:pt x="21" y="339"/>
                  <a:pt x="21" y="339"/>
                  <a:pt x="21" y="339"/>
                </a:cubicBezTo>
                <a:cubicBezTo>
                  <a:pt x="21" y="270"/>
                  <a:pt x="40" y="211"/>
                  <a:pt x="78" y="169"/>
                </a:cubicBezTo>
                <a:cubicBezTo>
                  <a:pt x="181" y="54"/>
                  <a:pt x="314" y="80"/>
                  <a:pt x="454" y="107"/>
                </a:cubicBezTo>
                <a:cubicBezTo>
                  <a:pt x="463" y="108"/>
                  <a:pt x="471" y="110"/>
                  <a:pt x="480" y="112"/>
                </a:cubicBezTo>
                <a:cubicBezTo>
                  <a:pt x="533" y="122"/>
                  <a:pt x="552" y="88"/>
                  <a:pt x="556" y="80"/>
                </a:cubicBezTo>
                <a:cubicBezTo>
                  <a:pt x="586" y="0"/>
                  <a:pt x="586" y="0"/>
                  <a:pt x="586" y="0"/>
                </a:cubicBezTo>
                <a:cubicBezTo>
                  <a:pt x="616" y="80"/>
                  <a:pt x="616" y="80"/>
                  <a:pt x="616" y="80"/>
                </a:cubicBezTo>
                <a:cubicBezTo>
                  <a:pt x="620" y="88"/>
                  <a:pt x="639" y="122"/>
                  <a:pt x="692" y="112"/>
                </a:cubicBezTo>
                <a:cubicBezTo>
                  <a:pt x="701" y="110"/>
                  <a:pt x="709" y="108"/>
                  <a:pt x="718" y="107"/>
                </a:cubicBezTo>
                <a:cubicBezTo>
                  <a:pt x="858" y="80"/>
                  <a:pt x="991" y="54"/>
                  <a:pt x="1094" y="169"/>
                </a:cubicBezTo>
                <a:cubicBezTo>
                  <a:pt x="1132" y="211"/>
                  <a:pt x="1151" y="270"/>
                  <a:pt x="1151" y="339"/>
                </a:cubicBezTo>
                <a:cubicBezTo>
                  <a:pt x="1151" y="358"/>
                  <a:pt x="1150" y="378"/>
                  <a:pt x="1147" y="398"/>
                </a:cubicBezTo>
                <a:cubicBezTo>
                  <a:pt x="1142" y="429"/>
                  <a:pt x="1133" y="468"/>
                  <a:pt x="1123" y="509"/>
                </a:cubicBezTo>
                <a:cubicBezTo>
                  <a:pt x="1103" y="589"/>
                  <a:pt x="1082" y="680"/>
                  <a:pt x="1082" y="756"/>
                </a:cubicBezTo>
                <a:cubicBezTo>
                  <a:pt x="1082" y="756"/>
                  <a:pt x="1082" y="756"/>
                  <a:pt x="1082" y="756"/>
                </a:cubicBezTo>
                <a:cubicBezTo>
                  <a:pt x="1082" y="821"/>
                  <a:pt x="1097" y="863"/>
                  <a:pt x="1130" y="885"/>
                </a:cubicBezTo>
                <a:cubicBezTo>
                  <a:pt x="1172" y="912"/>
                  <a:pt x="1172" y="912"/>
                  <a:pt x="1172" y="912"/>
                </a:cubicBezTo>
                <a:cubicBezTo>
                  <a:pt x="1130" y="940"/>
                  <a:pt x="1130" y="940"/>
                  <a:pt x="1130" y="940"/>
                </a:cubicBezTo>
                <a:cubicBezTo>
                  <a:pt x="1097" y="961"/>
                  <a:pt x="1082" y="1003"/>
                  <a:pt x="1082" y="1068"/>
                </a:cubicBezTo>
                <a:cubicBezTo>
                  <a:pt x="1082" y="1144"/>
                  <a:pt x="1103" y="1235"/>
                  <a:pt x="1123" y="1315"/>
                </a:cubicBezTo>
                <a:cubicBezTo>
                  <a:pt x="1133" y="1356"/>
                  <a:pt x="1142" y="1395"/>
                  <a:pt x="1147" y="1426"/>
                </a:cubicBezTo>
                <a:cubicBezTo>
                  <a:pt x="1150" y="1446"/>
                  <a:pt x="1151" y="1466"/>
                  <a:pt x="1151" y="1485"/>
                </a:cubicBezTo>
                <a:cubicBezTo>
                  <a:pt x="1151" y="1554"/>
                  <a:pt x="1132" y="1613"/>
                  <a:pt x="1094" y="1655"/>
                </a:cubicBezTo>
                <a:cubicBezTo>
                  <a:pt x="991" y="1770"/>
                  <a:pt x="858" y="1744"/>
                  <a:pt x="718" y="1717"/>
                </a:cubicBezTo>
                <a:cubicBezTo>
                  <a:pt x="709" y="1716"/>
                  <a:pt x="701" y="1714"/>
                  <a:pt x="692" y="1713"/>
                </a:cubicBezTo>
                <a:cubicBezTo>
                  <a:pt x="638" y="1703"/>
                  <a:pt x="619" y="1733"/>
                  <a:pt x="616" y="1740"/>
                </a:cubicBezTo>
                <a:cubicBezTo>
                  <a:pt x="586" y="1815"/>
                  <a:pt x="586" y="1815"/>
                  <a:pt x="586" y="1815"/>
                </a:cubicBezTo>
                <a:cubicBezTo>
                  <a:pt x="556" y="1740"/>
                  <a:pt x="556" y="1740"/>
                  <a:pt x="556" y="1740"/>
                </a:cubicBezTo>
                <a:cubicBezTo>
                  <a:pt x="552" y="1733"/>
                  <a:pt x="534" y="1703"/>
                  <a:pt x="480" y="1713"/>
                </a:cubicBezTo>
                <a:cubicBezTo>
                  <a:pt x="471" y="1714"/>
                  <a:pt x="463" y="1716"/>
                  <a:pt x="454" y="1718"/>
                </a:cubicBezTo>
                <a:cubicBezTo>
                  <a:pt x="314" y="1744"/>
                  <a:pt x="181" y="1770"/>
                  <a:pt x="78" y="1655"/>
                </a:cubicBezTo>
                <a:cubicBezTo>
                  <a:pt x="40" y="1613"/>
                  <a:pt x="21" y="1554"/>
                  <a:pt x="21" y="1485"/>
                </a:cubicBezTo>
                <a:cubicBezTo>
                  <a:pt x="21" y="1466"/>
                  <a:pt x="22" y="1446"/>
                  <a:pt x="25" y="1426"/>
                </a:cubicBezTo>
                <a:cubicBezTo>
                  <a:pt x="30" y="1395"/>
                  <a:pt x="39" y="1356"/>
                  <a:pt x="49" y="1315"/>
                </a:cubicBezTo>
                <a:cubicBezTo>
                  <a:pt x="68" y="1235"/>
                  <a:pt x="90" y="1144"/>
                  <a:pt x="90" y="1068"/>
                </a:cubicBezTo>
                <a:cubicBezTo>
                  <a:pt x="90" y="1003"/>
                  <a:pt x="74" y="961"/>
                  <a:pt x="42" y="940"/>
                </a:cubicBezTo>
                <a:cubicBezTo>
                  <a:pt x="0" y="912"/>
                  <a:pt x="0" y="912"/>
                  <a:pt x="0" y="912"/>
                </a:cubicBezTo>
                <a:lnTo>
                  <a:pt x="42" y="885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body"/>
          </p:nvPr>
        </p:nvSpPr>
        <p:spPr>
          <a:xfrm>
            <a:off x="8307720" y="975960"/>
            <a:ext cx="3276360" cy="4906080"/>
          </a:xfrm>
          <a:prstGeom prst="rect">
            <a:avLst/>
          </a:prstGeom>
          <a:solidFill>
            <a:srgbClr val="f9d9da"/>
          </a:solidFill>
          <a:ln w="50760">
            <a:solidFill>
              <a:srgbClr val="ffffff"/>
            </a:solidFill>
            <a:miter/>
          </a:ln>
        </p:spPr>
        <p:txBody>
          <a:bodyPr lIns="90000" rIns="90000" tIns="365760" bIns="45000" anchor="t">
            <a:no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9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22" hidden="1"/>
          <p:cNvSpPr/>
          <p:nvPr/>
        </p:nvSpPr>
        <p:spPr>
          <a:xfrm flipH="1" flipV="1">
            <a:off x="10807560" y="1065960"/>
            <a:ext cx="1383840" cy="2166840"/>
          </a:xfrm>
          <a:custGeom>
            <a:avLst/>
            <a:gdLst>
              <a:gd name="textAreaLeft" fmla="*/ 360 w 1383840"/>
              <a:gd name="textAreaRight" fmla="*/ 1384560 w 1383840"/>
              <a:gd name="textAreaTop" fmla="*/ -360 h 2166840"/>
              <a:gd name="textAreaBottom" fmla="*/ 2166840 h 2166840"/>
            </a:gdLst>
            <a:ahLst/>
            <a:rect l="textAreaLeft" t="textAreaTop" r="textAreaRight" b="textAreaBottom"/>
            <a:pathLst>
              <a:path w="1384300" h="2167049">
                <a:moveTo>
                  <a:pt x="17187" y="2167049"/>
                </a:moveTo>
                <a:lnTo>
                  <a:pt x="0" y="2167049"/>
                </a:lnTo>
                <a:lnTo>
                  <a:pt x="0" y="1879736"/>
                </a:lnTo>
                <a:lnTo>
                  <a:pt x="123314" y="1550999"/>
                </a:lnTo>
                <a:cubicBezTo>
                  <a:pt x="168410" y="1433494"/>
                  <a:pt x="212488" y="1316669"/>
                  <a:pt x="250464" y="1199843"/>
                </a:cubicBezTo>
                <a:cubicBezTo>
                  <a:pt x="188076" y="1289499"/>
                  <a:pt x="82287" y="1433494"/>
                  <a:pt x="11762" y="1534018"/>
                </a:cubicBezTo>
                <a:lnTo>
                  <a:pt x="0" y="1548726"/>
                </a:lnTo>
                <a:lnTo>
                  <a:pt x="0" y="1512279"/>
                </a:lnTo>
                <a:lnTo>
                  <a:pt x="60587" y="1428400"/>
                </a:lnTo>
                <a:cubicBezTo>
                  <a:pt x="108057" y="1362855"/>
                  <a:pt x="155526" y="1297650"/>
                  <a:pt x="201639" y="1235162"/>
                </a:cubicBezTo>
                <a:cubicBezTo>
                  <a:pt x="212489" y="1216144"/>
                  <a:pt x="231477" y="1199843"/>
                  <a:pt x="231477" y="1178108"/>
                </a:cubicBezTo>
                <a:lnTo>
                  <a:pt x="0" y="1365667"/>
                </a:lnTo>
                <a:lnTo>
                  <a:pt x="0" y="1329417"/>
                </a:lnTo>
                <a:lnTo>
                  <a:pt x="179939" y="1180824"/>
                </a:lnTo>
                <a:cubicBezTo>
                  <a:pt x="188076" y="1175391"/>
                  <a:pt x="207064" y="1167240"/>
                  <a:pt x="204351" y="1153656"/>
                </a:cubicBezTo>
                <a:lnTo>
                  <a:pt x="0" y="1246276"/>
                </a:lnTo>
                <a:lnTo>
                  <a:pt x="0" y="1224474"/>
                </a:lnTo>
                <a:lnTo>
                  <a:pt x="201639" y="1129204"/>
                </a:lnTo>
                <a:lnTo>
                  <a:pt x="0" y="1160749"/>
                </a:lnTo>
                <a:lnTo>
                  <a:pt x="0" y="1131718"/>
                </a:lnTo>
                <a:lnTo>
                  <a:pt x="9727" y="1130223"/>
                </a:lnTo>
                <a:cubicBezTo>
                  <a:pt x="72115" y="1119695"/>
                  <a:pt x="133825" y="1107469"/>
                  <a:pt x="193501" y="1091168"/>
                </a:cubicBezTo>
                <a:cubicBezTo>
                  <a:pt x="166376" y="1087772"/>
                  <a:pt x="135690" y="1084545"/>
                  <a:pt x="102928" y="1081404"/>
                </a:cubicBezTo>
                <a:lnTo>
                  <a:pt x="0" y="1072159"/>
                </a:lnTo>
                <a:lnTo>
                  <a:pt x="0" y="1052490"/>
                </a:lnTo>
                <a:lnTo>
                  <a:pt x="2946" y="1052792"/>
                </a:lnTo>
                <a:cubicBezTo>
                  <a:pt x="73472" y="1059924"/>
                  <a:pt x="141963" y="1066716"/>
                  <a:pt x="196214" y="1072150"/>
                </a:cubicBezTo>
                <a:cubicBezTo>
                  <a:pt x="138573" y="1046340"/>
                  <a:pt x="79406" y="1021888"/>
                  <a:pt x="19391" y="998200"/>
                </a:cubicBezTo>
                <a:lnTo>
                  <a:pt x="0" y="990806"/>
                </a:lnTo>
                <a:lnTo>
                  <a:pt x="0" y="962359"/>
                </a:lnTo>
                <a:lnTo>
                  <a:pt x="193395" y="1034452"/>
                </a:lnTo>
                <a:lnTo>
                  <a:pt x="176842" y="1012554"/>
                </a:lnTo>
                <a:cubicBezTo>
                  <a:pt x="168216" y="1005642"/>
                  <a:pt x="157865" y="999422"/>
                  <a:pt x="148204" y="992510"/>
                </a:cubicBezTo>
                <a:cubicBezTo>
                  <a:pt x="105420" y="960716"/>
                  <a:pt x="59877" y="928232"/>
                  <a:pt x="13643" y="895402"/>
                </a:cubicBezTo>
                <a:lnTo>
                  <a:pt x="0" y="885646"/>
                </a:lnTo>
                <a:lnTo>
                  <a:pt x="0" y="854420"/>
                </a:lnTo>
                <a:lnTo>
                  <a:pt x="41261" y="884346"/>
                </a:lnTo>
                <a:lnTo>
                  <a:pt x="210792" y="999314"/>
                </a:lnTo>
                <a:lnTo>
                  <a:pt x="206600" y="988104"/>
                </a:lnTo>
                <a:cubicBezTo>
                  <a:pt x="195473" y="968665"/>
                  <a:pt x="175807" y="953114"/>
                  <a:pt x="159245" y="934452"/>
                </a:cubicBezTo>
                <a:lnTo>
                  <a:pt x="0" y="738974"/>
                </a:lnTo>
                <a:lnTo>
                  <a:pt x="0" y="692828"/>
                </a:lnTo>
                <a:lnTo>
                  <a:pt x="214450" y="956570"/>
                </a:lnTo>
                <a:cubicBezTo>
                  <a:pt x="219970" y="964863"/>
                  <a:pt x="231011" y="978687"/>
                  <a:pt x="242052" y="978687"/>
                </a:cubicBezTo>
                <a:cubicBezTo>
                  <a:pt x="164766" y="815572"/>
                  <a:pt x="93000" y="646929"/>
                  <a:pt x="15713" y="483814"/>
                </a:cubicBezTo>
                <a:lnTo>
                  <a:pt x="0" y="482959"/>
                </a:lnTo>
                <a:lnTo>
                  <a:pt x="0" y="387119"/>
                </a:lnTo>
                <a:lnTo>
                  <a:pt x="23994" y="381522"/>
                </a:lnTo>
                <a:cubicBezTo>
                  <a:pt x="65398" y="387051"/>
                  <a:pt x="32275" y="436815"/>
                  <a:pt x="35035" y="467226"/>
                </a:cubicBezTo>
                <a:cubicBezTo>
                  <a:pt x="35035" y="497637"/>
                  <a:pt x="73678" y="558460"/>
                  <a:pt x="93000" y="597165"/>
                </a:cubicBezTo>
                <a:cubicBezTo>
                  <a:pt x="139924" y="707751"/>
                  <a:pt x="186848" y="815572"/>
                  <a:pt x="236532" y="923394"/>
                </a:cubicBezTo>
                <a:cubicBezTo>
                  <a:pt x="244812" y="942746"/>
                  <a:pt x="253093" y="970393"/>
                  <a:pt x="272415" y="978687"/>
                </a:cubicBezTo>
                <a:cubicBezTo>
                  <a:pt x="242052" y="724339"/>
                  <a:pt x="186848" y="461697"/>
                  <a:pt x="148204" y="201820"/>
                </a:cubicBezTo>
                <a:cubicBezTo>
                  <a:pt x="115082" y="187996"/>
                  <a:pt x="57117" y="176938"/>
                  <a:pt x="62637" y="129939"/>
                </a:cubicBezTo>
                <a:cubicBezTo>
                  <a:pt x="65398" y="107822"/>
                  <a:pt x="95760" y="85704"/>
                  <a:pt x="128883" y="102292"/>
                </a:cubicBezTo>
                <a:cubicBezTo>
                  <a:pt x="134403" y="66352"/>
                  <a:pt x="197888" y="60822"/>
                  <a:pt x="206169" y="99528"/>
                </a:cubicBezTo>
                <a:cubicBezTo>
                  <a:pt x="217210" y="138233"/>
                  <a:pt x="178567" y="160350"/>
                  <a:pt x="175807" y="196290"/>
                </a:cubicBezTo>
                <a:cubicBezTo>
                  <a:pt x="173046" y="221172"/>
                  <a:pt x="186848" y="259877"/>
                  <a:pt x="192368" y="295818"/>
                </a:cubicBezTo>
                <a:cubicBezTo>
                  <a:pt x="228251" y="503167"/>
                  <a:pt x="266894" y="782396"/>
                  <a:pt x="308298" y="967628"/>
                </a:cubicBezTo>
                <a:cubicBezTo>
                  <a:pt x="319338" y="843219"/>
                  <a:pt x="330380" y="699457"/>
                  <a:pt x="344181" y="558460"/>
                </a:cubicBezTo>
                <a:cubicBezTo>
                  <a:pt x="349701" y="514225"/>
                  <a:pt x="366262" y="456168"/>
                  <a:pt x="357982" y="425756"/>
                </a:cubicBezTo>
                <a:cubicBezTo>
                  <a:pt x="346941" y="375993"/>
                  <a:pt x="275175" y="367699"/>
                  <a:pt x="277935" y="306876"/>
                </a:cubicBezTo>
                <a:cubicBezTo>
                  <a:pt x="283456" y="248819"/>
                  <a:pt x="363502" y="246054"/>
                  <a:pt x="380064" y="287524"/>
                </a:cubicBezTo>
                <a:cubicBezTo>
                  <a:pt x="399385" y="246054"/>
                  <a:pt x="476672" y="262642"/>
                  <a:pt x="473911" y="317935"/>
                </a:cubicBezTo>
                <a:cubicBezTo>
                  <a:pt x="471151" y="373228"/>
                  <a:pt x="396625" y="378757"/>
                  <a:pt x="380064" y="425756"/>
                </a:cubicBezTo>
                <a:cubicBezTo>
                  <a:pt x="369023" y="456168"/>
                  <a:pt x="371783" y="519755"/>
                  <a:pt x="366262" y="566754"/>
                </a:cubicBezTo>
                <a:cubicBezTo>
                  <a:pt x="355222" y="680104"/>
                  <a:pt x="344181" y="801749"/>
                  <a:pt x="333140" y="915100"/>
                </a:cubicBezTo>
                <a:cubicBezTo>
                  <a:pt x="330380" y="934452"/>
                  <a:pt x="316578" y="962099"/>
                  <a:pt x="335900" y="973157"/>
                </a:cubicBezTo>
                <a:cubicBezTo>
                  <a:pt x="418707" y="771338"/>
                  <a:pt x="490473" y="561224"/>
                  <a:pt x="570519" y="348346"/>
                </a:cubicBezTo>
                <a:cubicBezTo>
                  <a:pt x="581560" y="320700"/>
                  <a:pt x="603642" y="281995"/>
                  <a:pt x="603642" y="259877"/>
                </a:cubicBezTo>
                <a:cubicBezTo>
                  <a:pt x="600882" y="199055"/>
                  <a:pt x="515315" y="140997"/>
                  <a:pt x="545677" y="49764"/>
                </a:cubicBezTo>
                <a:cubicBezTo>
                  <a:pt x="553958" y="24882"/>
                  <a:pt x="581560" y="13823"/>
                  <a:pt x="606402" y="0"/>
                </a:cubicBezTo>
                <a:cubicBezTo>
                  <a:pt x="614683" y="0"/>
                  <a:pt x="622964" y="0"/>
                  <a:pt x="628484" y="0"/>
                </a:cubicBezTo>
                <a:cubicBezTo>
                  <a:pt x="664367" y="11059"/>
                  <a:pt x="694730" y="27647"/>
                  <a:pt x="697490" y="71881"/>
                </a:cubicBezTo>
                <a:cubicBezTo>
                  <a:pt x="766496" y="33176"/>
                  <a:pt x="843782" y="80175"/>
                  <a:pt x="827221" y="157585"/>
                </a:cubicBezTo>
                <a:cubicBezTo>
                  <a:pt x="810659" y="229466"/>
                  <a:pt x="694730" y="234995"/>
                  <a:pt x="634005" y="265407"/>
                </a:cubicBezTo>
                <a:cubicBezTo>
                  <a:pt x="548438" y="508696"/>
                  <a:pt x="446309" y="746456"/>
                  <a:pt x="369023" y="984216"/>
                </a:cubicBezTo>
                <a:cubicBezTo>
                  <a:pt x="432508" y="892983"/>
                  <a:pt x="540157" y="746456"/>
                  <a:pt x="611923" y="644164"/>
                </a:cubicBezTo>
                <a:cubicBezTo>
                  <a:pt x="634005" y="613753"/>
                  <a:pt x="686449" y="561224"/>
                  <a:pt x="689209" y="530813"/>
                </a:cubicBezTo>
                <a:cubicBezTo>
                  <a:pt x="694730" y="503167"/>
                  <a:pt x="683689" y="472756"/>
                  <a:pt x="683689" y="450638"/>
                </a:cubicBezTo>
                <a:cubicBezTo>
                  <a:pt x="683689" y="425756"/>
                  <a:pt x="686449" y="406404"/>
                  <a:pt x="705771" y="392581"/>
                </a:cubicBezTo>
                <a:cubicBezTo>
                  <a:pt x="744414" y="362169"/>
                  <a:pt x="791338" y="395345"/>
                  <a:pt x="788577" y="442344"/>
                </a:cubicBezTo>
                <a:cubicBezTo>
                  <a:pt x="841022" y="436815"/>
                  <a:pt x="863104" y="469991"/>
                  <a:pt x="857583" y="505931"/>
                </a:cubicBezTo>
                <a:cubicBezTo>
                  <a:pt x="846542" y="555695"/>
                  <a:pt x="763735" y="550166"/>
                  <a:pt x="705771" y="552930"/>
                </a:cubicBezTo>
                <a:cubicBezTo>
                  <a:pt x="611923" y="682869"/>
                  <a:pt x="512554" y="821102"/>
                  <a:pt x="418707" y="948276"/>
                </a:cubicBezTo>
                <a:cubicBezTo>
                  <a:pt x="407666" y="967628"/>
                  <a:pt x="388344" y="984216"/>
                  <a:pt x="388344" y="1006333"/>
                </a:cubicBezTo>
                <a:cubicBezTo>
                  <a:pt x="589841" y="845983"/>
                  <a:pt x="788577" y="682869"/>
                  <a:pt x="981794" y="514225"/>
                </a:cubicBezTo>
                <a:cubicBezTo>
                  <a:pt x="967992" y="422992"/>
                  <a:pt x="981794" y="306876"/>
                  <a:pt x="1072881" y="323464"/>
                </a:cubicBezTo>
                <a:cubicBezTo>
                  <a:pt x="1106004" y="331758"/>
                  <a:pt x="1125325" y="364934"/>
                  <a:pt x="1122565" y="414698"/>
                </a:cubicBezTo>
                <a:cubicBezTo>
                  <a:pt x="1166729" y="406404"/>
                  <a:pt x="1199852" y="431286"/>
                  <a:pt x="1205372" y="467226"/>
                </a:cubicBezTo>
                <a:cubicBezTo>
                  <a:pt x="1219173" y="566754"/>
                  <a:pt x="1092203" y="558460"/>
                  <a:pt x="1001115" y="544636"/>
                </a:cubicBezTo>
                <a:cubicBezTo>
                  <a:pt x="816180" y="691163"/>
                  <a:pt x="622964" y="854277"/>
                  <a:pt x="440789" y="1003569"/>
                </a:cubicBezTo>
                <a:cubicBezTo>
                  <a:pt x="432508" y="1009098"/>
                  <a:pt x="413186" y="1017392"/>
                  <a:pt x="415946" y="1031215"/>
                </a:cubicBezTo>
                <a:cubicBezTo>
                  <a:pt x="578800" y="953805"/>
                  <a:pt x="744414" y="881924"/>
                  <a:pt x="910028" y="807278"/>
                </a:cubicBezTo>
                <a:cubicBezTo>
                  <a:pt x="926589" y="757515"/>
                  <a:pt x="932109" y="671810"/>
                  <a:pt x="995595" y="677340"/>
                </a:cubicBezTo>
                <a:cubicBezTo>
                  <a:pt x="1025957" y="680104"/>
                  <a:pt x="1053559" y="713280"/>
                  <a:pt x="1034238" y="757515"/>
                </a:cubicBezTo>
                <a:cubicBezTo>
                  <a:pt x="1061840" y="765809"/>
                  <a:pt x="1078402" y="776867"/>
                  <a:pt x="1081162" y="804514"/>
                </a:cubicBezTo>
                <a:cubicBezTo>
                  <a:pt x="1083922" y="887453"/>
                  <a:pt x="967992" y="851513"/>
                  <a:pt x="921068" y="823866"/>
                </a:cubicBezTo>
                <a:cubicBezTo>
                  <a:pt x="839641" y="863954"/>
                  <a:pt x="754074" y="900585"/>
                  <a:pt x="668852" y="937908"/>
                </a:cubicBezTo>
                <a:lnTo>
                  <a:pt x="426233" y="1052541"/>
                </a:lnTo>
                <a:lnTo>
                  <a:pt x="439919" y="1049364"/>
                </a:lnTo>
                <a:lnTo>
                  <a:pt x="429786" y="1054364"/>
                </a:lnTo>
                <a:lnTo>
                  <a:pt x="642347" y="1021110"/>
                </a:lnTo>
                <a:lnTo>
                  <a:pt x="630067" y="1024289"/>
                </a:lnTo>
                <a:lnTo>
                  <a:pt x="789918" y="999473"/>
                </a:lnTo>
                <a:cubicBezTo>
                  <a:pt x="910286" y="979776"/>
                  <a:pt x="1030315" y="959400"/>
                  <a:pt x="1151023" y="939023"/>
                </a:cubicBezTo>
                <a:cubicBezTo>
                  <a:pt x="1186286" y="887402"/>
                  <a:pt x="1199848" y="770577"/>
                  <a:pt x="1292074" y="781444"/>
                </a:cubicBezTo>
                <a:cubicBezTo>
                  <a:pt x="1340900" y="784161"/>
                  <a:pt x="1373450" y="852083"/>
                  <a:pt x="1330049" y="900987"/>
                </a:cubicBezTo>
                <a:cubicBezTo>
                  <a:pt x="1362600" y="909137"/>
                  <a:pt x="1376162" y="933589"/>
                  <a:pt x="1384300" y="963475"/>
                </a:cubicBezTo>
                <a:cubicBezTo>
                  <a:pt x="1384300" y="966192"/>
                  <a:pt x="1384300" y="966192"/>
                  <a:pt x="1384300" y="968908"/>
                </a:cubicBezTo>
                <a:cubicBezTo>
                  <a:pt x="1378875" y="1044981"/>
                  <a:pt x="1300212" y="1047698"/>
                  <a:pt x="1237824" y="1009661"/>
                </a:cubicBezTo>
                <a:cubicBezTo>
                  <a:pt x="1216123" y="998794"/>
                  <a:pt x="1191711" y="968908"/>
                  <a:pt x="1167298" y="963475"/>
                </a:cubicBezTo>
                <a:cubicBezTo>
                  <a:pt x="1148310" y="960758"/>
                  <a:pt x="1102197" y="974342"/>
                  <a:pt x="1072360" y="979776"/>
                </a:cubicBezTo>
                <a:cubicBezTo>
                  <a:pt x="985559" y="993360"/>
                  <a:pt x="885195" y="1009661"/>
                  <a:pt x="795682" y="1025963"/>
                </a:cubicBezTo>
                <a:cubicBezTo>
                  <a:pt x="660056" y="1047698"/>
                  <a:pt x="540704" y="1063999"/>
                  <a:pt x="434916" y="1091168"/>
                </a:cubicBezTo>
                <a:cubicBezTo>
                  <a:pt x="616655" y="1112903"/>
                  <a:pt x="801107" y="1129204"/>
                  <a:pt x="982846" y="1148222"/>
                </a:cubicBezTo>
                <a:cubicBezTo>
                  <a:pt x="1026247" y="1115619"/>
                  <a:pt x="1083210" y="1055848"/>
                  <a:pt x="1104910" y="1134638"/>
                </a:cubicBezTo>
                <a:cubicBezTo>
                  <a:pt x="1110335" y="1156373"/>
                  <a:pt x="1088635" y="1161806"/>
                  <a:pt x="1080497" y="1178108"/>
                </a:cubicBezTo>
                <a:cubicBezTo>
                  <a:pt x="1104910" y="1207993"/>
                  <a:pt x="1077785" y="1237879"/>
                  <a:pt x="1053372" y="1237879"/>
                </a:cubicBezTo>
                <a:cubicBezTo>
                  <a:pt x="1012684" y="1240596"/>
                  <a:pt x="1009971" y="1186258"/>
                  <a:pt x="982846" y="1169957"/>
                </a:cubicBezTo>
                <a:cubicBezTo>
                  <a:pt x="801107" y="1153656"/>
                  <a:pt x="605805" y="1129204"/>
                  <a:pt x="429491" y="1118336"/>
                </a:cubicBezTo>
                <a:cubicBezTo>
                  <a:pt x="451191" y="1137355"/>
                  <a:pt x="486454" y="1145505"/>
                  <a:pt x="516292" y="1156373"/>
                </a:cubicBezTo>
                <a:cubicBezTo>
                  <a:pt x="687181" y="1221578"/>
                  <a:pt x="874345" y="1294933"/>
                  <a:pt x="1050659" y="1357421"/>
                </a:cubicBezTo>
                <a:cubicBezTo>
                  <a:pt x="1083210" y="1371006"/>
                  <a:pt x="1118472" y="1390024"/>
                  <a:pt x="1140173" y="1390024"/>
                </a:cubicBezTo>
                <a:cubicBezTo>
                  <a:pt x="1183573" y="1390024"/>
                  <a:pt x="1248674" y="1335686"/>
                  <a:pt x="1305637" y="1357421"/>
                </a:cubicBezTo>
                <a:cubicBezTo>
                  <a:pt x="1359887" y="1379156"/>
                  <a:pt x="1351750" y="1479680"/>
                  <a:pt x="1281224" y="1482397"/>
                </a:cubicBezTo>
                <a:cubicBezTo>
                  <a:pt x="1302924" y="1542168"/>
                  <a:pt x="1262236" y="1591072"/>
                  <a:pt x="1207986" y="1580205"/>
                </a:cubicBezTo>
                <a:cubicBezTo>
                  <a:pt x="1151023" y="1566620"/>
                  <a:pt x="1151023" y="1474247"/>
                  <a:pt x="1132035" y="1419909"/>
                </a:cubicBezTo>
                <a:cubicBezTo>
                  <a:pt x="896045" y="1327536"/>
                  <a:pt x="657343" y="1240596"/>
                  <a:pt x="421353" y="1148222"/>
                </a:cubicBezTo>
                <a:cubicBezTo>
                  <a:pt x="426778" y="1167240"/>
                  <a:pt x="448479" y="1178108"/>
                  <a:pt x="467466" y="1191692"/>
                </a:cubicBezTo>
                <a:cubicBezTo>
                  <a:pt x="551555" y="1254180"/>
                  <a:pt x="646493" y="1319385"/>
                  <a:pt x="736006" y="1384590"/>
                </a:cubicBezTo>
                <a:cubicBezTo>
                  <a:pt x="765844" y="1403608"/>
                  <a:pt x="817382" y="1452512"/>
                  <a:pt x="844507" y="1457945"/>
                </a:cubicBezTo>
                <a:cubicBezTo>
                  <a:pt x="882483" y="1463379"/>
                  <a:pt x="936733" y="1436210"/>
                  <a:pt x="977421" y="1449795"/>
                </a:cubicBezTo>
                <a:cubicBezTo>
                  <a:pt x="1028959" y="1468813"/>
                  <a:pt x="1020822" y="1566620"/>
                  <a:pt x="947583" y="1561187"/>
                </a:cubicBezTo>
                <a:cubicBezTo>
                  <a:pt x="958433" y="1623675"/>
                  <a:pt x="909608" y="1650843"/>
                  <a:pt x="866208" y="1631825"/>
                </a:cubicBezTo>
                <a:cubicBezTo>
                  <a:pt x="822807" y="1612807"/>
                  <a:pt x="839082" y="1528584"/>
                  <a:pt x="828232" y="1476964"/>
                </a:cubicBezTo>
                <a:cubicBezTo>
                  <a:pt x="687181" y="1373722"/>
                  <a:pt x="548842" y="1270481"/>
                  <a:pt x="402366" y="1175391"/>
                </a:cubicBezTo>
                <a:cubicBezTo>
                  <a:pt x="407791" y="1205276"/>
                  <a:pt x="434916" y="1224294"/>
                  <a:pt x="456616" y="1248746"/>
                </a:cubicBezTo>
                <a:cubicBezTo>
                  <a:pt x="575967" y="1392740"/>
                  <a:pt x="695318" y="1542168"/>
                  <a:pt x="817382" y="1691596"/>
                </a:cubicBezTo>
                <a:cubicBezTo>
                  <a:pt x="836370" y="1716048"/>
                  <a:pt x="860783" y="1754084"/>
                  <a:pt x="879770" y="1759518"/>
                </a:cubicBezTo>
                <a:cubicBezTo>
                  <a:pt x="939446" y="1781253"/>
                  <a:pt x="1007259" y="1756801"/>
                  <a:pt x="1058797" y="1789404"/>
                </a:cubicBezTo>
                <a:cubicBezTo>
                  <a:pt x="1126610" y="1830157"/>
                  <a:pt x="1096772" y="1963284"/>
                  <a:pt x="988271" y="1930681"/>
                </a:cubicBezTo>
                <a:cubicBezTo>
                  <a:pt x="999121" y="2031205"/>
                  <a:pt x="871633" y="2044790"/>
                  <a:pt x="841795" y="1979585"/>
                </a:cubicBezTo>
                <a:cubicBezTo>
                  <a:pt x="814670" y="1917097"/>
                  <a:pt x="849932" y="1849175"/>
                  <a:pt x="852645" y="1781253"/>
                </a:cubicBezTo>
                <a:cubicBezTo>
                  <a:pt x="703456" y="1601940"/>
                  <a:pt x="554267" y="1409042"/>
                  <a:pt x="402366" y="1227011"/>
                </a:cubicBezTo>
                <a:cubicBezTo>
                  <a:pt x="396941" y="1218861"/>
                  <a:pt x="386090" y="1205276"/>
                  <a:pt x="375240" y="1205276"/>
                </a:cubicBezTo>
                <a:cubicBezTo>
                  <a:pt x="451191" y="1365572"/>
                  <a:pt x="521717" y="1531301"/>
                  <a:pt x="597667" y="1691596"/>
                </a:cubicBezTo>
                <a:cubicBezTo>
                  <a:pt x="654631" y="1683446"/>
                  <a:pt x="708881" y="1773103"/>
                  <a:pt x="624793" y="1762235"/>
                </a:cubicBezTo>
                <a:cubicBezTo>
                  <a:pt x="619368" y="1783970"/>
                  <a:pt x="613943" y="1794838"/>
                  <a:pt x="589530" y="1792121"/>
                </a:cubicBezTo>
                <a:cubicBezTo>
                  <a:pt x="548842" y="1786687"/>
                  <a:pt x="581392" y="1737783"/>
                  <a:pt x="578680" y="1707898"/>
                </a:cubicBezTo>
                <a:cubicBezTo>
                  <a:pt x="578680" y="1678012"/>
                  <a:pt x="540704" y="1618241"/>
                  <a:pt x="521717" y="1580205"/>
                </a:cubicBezTo>
                <a:cubicBezTo>
                  <a:pt x="475604" y="1471530"/>
                  <a:pt x="429491" y="1365572"/>
                  <a:pt x="380665" y="1259614"/>
                </a:cubicBezTo>
                <a:cubicBezTo>
                  <a:pt x="372528" y="1240596"/>
                  <a:pt x="364390" y="1213427"/>
                  <a:pt x="345403" y="1205276"/>
                </a:cubicBezTo>
                <a:cubicBezTo>
                  <a:pt x="375240" y="1455229"/>
                  <a:pt x="429491" y="1713331"/>
                  <a:pt x="467466" y="1968717"/>
                </a:cubicBezTo>
                <a:cubicBezTo>
                  <a:pt x="500017" y="1982302"/>
                  <a:pt x="556980" y="1993169"/>
                  <a:pt x="551555" y="2039356"/>
                </a:cubicBezTo>
                <a:cubicBezTo>
                  <a:pt x="548842" y="2061091"/>
                  <a:pt x="519004" y="2082826"/>
                  <a:pt x="486454" y="2066525"/>
                </a:cubicBezTo>
                <a:cubicBezTo>
                  <a:pt x="481029" y="2101844"/>
                  <a:pt x="418641" y="2107278"/>
                  <a:pt x="410503" y="2069242"/>
                </a:cubicBezTo>
                <a:cubicBezTo>
                  <a:pt x="399653" y="2031205"/>
                  <a:pt x="437628" y="2009470"/>
                  <a:pt x="440341" y="1974151"/>
                </a:cubicBezTo>
                <a:cubicBezTo>
                  <a:pt x="443053" y="1949699"/>
                  <a:pt x="429491" y="1911663"/>
                  <a:pt x="424066" y="1876344"/>
                </a:cubicBezTo>
                <a:cubicBezTo>
                  <a:pt x="388803" y="1672578"/>
                  <a:pt x="350828" y="1398174"/>
                  <a:pt x="310140" y="1216144"/>
                </a:cubicBezTo>
                <a:cubicBezTo>
                  <a:pt x="299290" y="1338403"/>
                  <a:pt x="288439" y="1479680"/>
                  <a:pt x="274877" y="1618241"/>
                </a:cubicBezTo>
                <a:cubicBezTo>
                  <a:pt x="269452" y="1661711"/>
                  <a:pt x="253177" y="1718765"/>
                  <a:pt x="261314" y="1748651"/>
                </a:cubicBezTo>
                <a:cubicBezTo>
                  <a:pt x="272164" y="1797554"/>
                  <a:pt x="342690" y="1805705"/>
                  <a:pt x="339977" y="1865476"/>
                </a:cubicBezTo>
                <a:cubicBezTo>
                  <a:pt x="334553" y="1922530"/>
                  <a:pt x="255889" y="1925247"/>
                  <a:pt x="239614" y="1884494"/>
                </a:cubicBezTo>
                <a:cubicBezTo>
                  <a:pt x="220626" y="1925247"/>
                  <a:pt x="144676" y="1908946"/>
                  <a:pt x="147388" y="1854609"/>
                </a:cubicBezTo>
                <a:cubicBezTo>
                  <a:pt x="150101" y="1800271"/>
                  <a:pt x="223339" y="1794838"/>
                  <a:pt x="239614" y="1748651"/>
                </a:cubicBezTo>
                <a:cubicBezTo>
                  <a:pt x="250464" y="1718765"/>
                  <a:pt x="247752" y="1656277"/>
                  <a:pt x="253177" y="1610090"/>
                </a:cubicBezTo>
                <a:cubicBezTo>
                  <a:pt x="264027" y="1498698"/>
                  <a:pt x="274877" y="1379156"/>
                  <a:pt x="285727" y="1267764"/>
                </a:cubicBezTo>
                <a:cubicBezTo>
                  <a:pt x="288439" y="1248746"/>
                  <a:pt x="302002" y="1221578"/>
                  <a:pt x="283015" y="1210710"/>
                </a:cubicBezTo>
                <a:cubicBezTo>
                  <a:pt x="201639" y="1409042"/>
                  <a:pt x="131113" y="1615524"/>
                  <a:pt x="52450" y="1824723"/>
                </a:cubicBezTo>
                <a:cubicBezTo>
                  <a:pt x="41600" y="1851892"/>
                  <a:pt x="19899" y="1889928"/>
                  <a:pt x="19899" y="1911663"/>
                </a:cubicBezTo>
                <a:cubicBezTo>
                  <a:pt x="22612" y="1971434"/>
                  <a:pt x="106700" y="2028488"/>
                  <a:pt x="76863" y="2118145"/>
                </a:cubicBezTo>
                <a:cubicBezTo>
                  <a:pt x="68725" y="2142597"/>
                  <a:pt x="41600" y="2153465"/>
                  <a:pt x="17187" y="2167049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74" name="Freeform 20" hidden="1"/>
          <p:cNvSpPr/>
          <p:nvPr/>
        </p:nvSpPr>
        <p:spPr>
          <a:xfrm>
            <a:off x="0" y="4908960"/>
            <a:ext cx="1096920" cy="1948680"/>
          </a:xfrm>
          <a:custGeom>
            <a:avLst/>
            <a:gdLst>
              <a:gd name="textAreaLeft" fmla="*/ 0 w 1096920"/>
              <a:gd name="textAreaRight" fmla="*/ 1097280 w 1096920"/>
              <a:gd name="textAreaTop" fmla="*/ 0 h 1948680"/>
              <a:gd name="textAreaBottom" fmla="*/ 1949040 h 1948680"/>
            </a:gdLst>
            <a:ahLst/>
            <a:rect l="textAreaLeft" t="textAreaTop" r="textAreaRight" b="textAreaBottom"/>
            <a:pathLst>
              <a:path w="1097279" h="1949116">
                <a:moveTo>
                  <a:pt x="0" y="1695815"/>
                </a:moveTo>
                <a:lnTo>
                  <a:pt x="7867" y="1742679"/>
                </a:lnTo>
                <a:lnTo>
                  <a:pt x="42224" y="1949116"/>
                </a:lnTo>
                <a:lnTo>
                  <a:pt x="9113" y="1949116"/>
                </a:lnTo>
                <a:lnTo>
                  <a:pt x="0" y="1890647"/>
                </a:lnTo>
                <a:close/>
                <a:moveTo>
                  <a:pt x="0" y="1374109"/>
                </a:moveTo>
                <a:lnTo>
                  <a:pt x="92420" y="1572256"/>
                </a:lnTo>
                <a:cubicBezTo>
                  <a:pt x="133631" y="1663029"/>
                  <a:pt x="174458" y="1754186"/>
                  <a:pt x="216054" y="1844576"/>
                </a:cubicBezTo>
                <a:cubicBezTo>
                  <a:pt x="277678" y="1832320"/>
                  <a:pt x="342383" y="1936498"/>
                  <a:pt x="246866" y="1924242"/>
                </a:cubicBezTo>
                <a:cubicBezTo>
                  <a:pt x="243785" y="1934967"/>
                  <a:pt x="239933" y="1943393"/>
                  <a:pt x="233771" y="1948755"/>
                </a:cubicBezTo>
                <a:lnTo>
                  <a:pt x="232182" y="1949116"/>
                </a:lnTo>
                <a:lnTo>
                  <a:pt x="191813" y="1949116"/>
                </a:lnTo>
                <a:lnTo>
                  <a:pt x="185819" y="1942627"/>
                </a:lnTo>
                <a:cubicBezTo>
                  <a:pt x="176576" y="1923668"/>
                  <a:pt x="196796" y="1887473"/>
                  <a:pt x="194485" y="1859896"/>
                </a:cubicBezTo>
                <a:cubicBezTo>
                  <a:pt x="194485" y="1826192"/>
                  <a:pt x="151348" y="1761846"/>
                  <a:pt x="132861" y="1718949"/>
                </a:cubicBezTo>
                <a:cubicBezTo>
                  <a:pt x="105130" y="1659200"/>
                  <a:pt x="78940" y="1599450"/>
                  <a:pt x="52750" y="1540084"/>
                </a:cubicBezTo>
                <a:lnTo>
                  <a:pt x="0" y="1423822"/>
                </a:lnTo>
                <a:close/>
                <a:moveTo>
                  <a:pt x="0" y="1277040"/>
                </a:moveTo>
                <a:lnTo>
                  <a:pt x="4702" y="1291797"/>
                </a:lnTo>
                <a:cubicBezTo>
                  <a:pt x="16545" y="1313341"/>
                  <a:pt x="39654" y="1330577"/>
                  <a:pt x="55831" y="1351259"/>
                </a:cubicBezTo>
                <a:cubicBezTo>
                  <a:pt x="191404" y="1510591"/>
                  <a:pt x="326977" y="1676052"/>
                  <a:pt x="462550" y="1844576"/>
                </a:cubicBezTo>
                <a:cubicBezTo>
                  <a:pt x="484119" y="1872153"/>
                  <a:pt x="511850" y="1911986"/>
                  <a:pt x="533418" y="1918114"/>
                </a:cubicBezTo>
                <a:cubicBezTo>
                  <a:pt x="581947" y="1936499"/>
                  <a:pt x="637409" y="1927307"/>
                  <a:pt x="685505" y="1935781"/>
                </a:cubicBezTo>
                <a:lnTo>
                  <a:pt x="723012" y="1949116"/>
                </a:lnTo>
                <a:lnTo>
                  <a:pt x="501674" y="1949116"/>
                </a:lnTo>
                <a:lnTo>
                  <a:pt x="502606" y="1942627"/>
                </a:lnTo>
                <a:cubicBezTo>
                  <a:pt x="419414" y="1843044"/>
                  <a:pt x="335451" y="1739632"/>
                  <a:pt x="251102" y="1635836"/>
                </a:cubicBezTo>
                <a:lnTo>
                  <a:pt x="0" y="1330049"/>
                </a:lnTo>
                <a:close/>
                <a:moveTo>
                  <a:pt x="342383" y="447355"/>
                </a:moveTo>
                <a:cubicBezTo>
                  <a:pt x="373195" y="444291"/>
                  <a:pt x="382439" y="462676"/>
                  <a:pt x="394764" y="490252"/>
                </a:cubicBezTo>
                <a:cubicBezTo>
                  <a:pt x="431738" y="474932"/>
                  <a:pt x="450225" y="505573"/>
                  <a:pt x="450225" y="523957"/>
                </a:cubicBezTo>
                <a:cubicBezTo>
                  <a:pt x="450225" y="572983"/>
                  <a:pt x="385520" y="569919"/>
                  <a:pt x="345464" y="579111"/>
                </a:cubicBezTo>
                <a:cubicBezTo>
                  <a:pt x="237622" y="720058"/>
                  <a:pt x="132861" y="870198"/>
                  <a:pt x="28100" y="1014210"/>
                </a:cubicBezTo>
                <a:cubicBezTo>
                  <a:pt x="21938" y="1023403"/>
                  <a:pt x="13464" y="1033361"/>
                  <a:pt x="6532" y="1044085"/>
                </a:cubicBezTo>
                <a:lnTo>
                  <a:pt x="0" y="1056505"/>
                </a:lnTo>
                <a:lnTo>
                  <a:pt x="0" y="1010146"/>
                </a:lnTo>
                <a:lnTo>
                  <a:pt x="144416" y="816960"/>
                </a:lnTo>
                <a:cubicBezTo>
                  <a:pt x="204499" y="733081"/>
                  <a:pt x="263813" y="648053"/>
                  <a:pt x="323896" y="563790"/>
                </a:cubicBezTo>
                <a:cubicBezTo>
                  <a:pt x="305409" y="527021"/>
                  <a:pt x="290003" y="450419"/>
                  <a:pt x="342383" y="447355"/>
                </a:cubicBezTo>
                <a:close/>
                <a:moveTo>
                  <a:pt x="770671" y="263511"/>
                </a:moveTo>
                <a:cubicBezTo>
                  <a:pt x="835376" y="272703"/>
                  <a:pt x="860026" y="343177"/>
                  <a:pt x="853864" y="401394"/>
                </a:cubicBezTo>
                <a:cubicBezTo>
                  <a:pt x="989437" y="389138"/>
                  <a:pt x="1001762" y="579111"/>
                  <a:pt x="875432" y="597495"/>
                </a:cubicBezTo>
                <a:cubicBezTo>
                  <a:pt x="804564" y="606688"/>
                  <a:pt x="712128" y="566854"/>
                  <a:pt x="659747" y="576047"/>
                </a:cubicBezTo>
                <a:cubicBezTo>
                  <a:pt x="641260" y="579111"/>
                  <a:pt x="598123" y="618944"/>
                  <a:pt x="573474" y="640392"/>
                </a:cubicBezTo>
                <a:cubicBezTo>
                  <a:pt x="437901" y="750699"/>
                  <a:pt x="305409" y="861006"/>
                  <a:pt x="166754" y="971313"/>
                </a:cubicBezTo>
                <a:cubicBezTo>
                  <a:pt x="111292" y="1017274"/>
                  <a:pt x="55831" y="1060171"/>
                  <a:pt x="12694" y="1109197"/>
                </a:cubicBezTo>
                <a:cubicBezTo>
                  <a:pt x="200647" y="1029530"/>
                  <a:pt x="385520" y="943736"/>
                  <a:pt x="570392" y="861006"/>
                </a:cubicBezTo>
                <a:cubicBezTo>
                  <a:pt x="585798" y="805853"/>
                  <a:pt x="591961" y="716994"/>
                  <a:pt x="659747" y="713930"/>
                </a:cubicBezTo>
                <a:cubicBezTo>
                  <a:pt x="696722" y="713930"/>
                  <a:pt x="733696" y="753763"/>
                  <a:pt x="709047" y="805853"/>
                </a:cubicBezTo>
                <a:cubicBezTo>
                  <a:pt x="770671" y="805853"/>
                  <a:pt x="782996" y="906967"/>
                  <a:pt x="721372" y="919224"/>
                </a:cubicBezTo>
                <a:cubicBezTo>
                  <a:pt x="665910" y="931480"/>
                  <a:pt x="625854" y="882455"/>
                  <a:pt x="576555" y="885519"/>
                </a:cubicBezTo>
                <a:cubicBezTo>
                  <a:pt x="539580" y="885519"/>
                  <a:pt x="481037" y="928416"/>
                  <a:pt x="437901" y="946800"/>
                </a:cubicBezTo>
                <a:cubicBezTo>
                  <a:pt x="302327" y="1008082"/>
                  <a:pt x="145186" y="1072428"/>
                  <a:pt x="25019" y="1136773"/>
                </a:cubicBezTo>
                <a:cubicBezTo>
                  <a:pt x="299246" y="1096940"/>
                  <a:pt x="564230" y="1050979"/>
                  <a:pt x="835376" y="1008082"/>
                </a:cubicBezTo>
                <a:cubicBezTo>
                  <a:pt x="875432" y="949864"/>
                  <a:pt x="890838" y="821173"/>
                  <a:pt x="992518" y="830365"/>
                </a:cubicBezTo>
                <a:cubicBezTo>
                  <a:pt x="1047980" y="833429"/>
                  <a:pt x="1084954" y="910031"/>
                  <a:pt x="1038736" y="962121"/>
                </a:cubicBezTo>
                <a:cubicBezTo>
                  <a:pt x="1072629" y="974377"/>
                  <a:pt x="1088035" y="998890"/>
                  <a:pt x="1097279" y="1035659"/>
                </a:cubicBezTo>
                <a:cubicBezTo>
                  <a:pt x="1097279" y="1035659"/>
                  <a:pt x="1097279" y="1038723"/>
                  <a:pt x="1097279" y="1038723"/>
                </a:cubicBezTo>
                <a:cubicBezTo>
                  <a:pt x="1091117" y="1124517"/>
                  <a:pt x="1004843" y="1124517"/>
                  <a:pt x="933975" y="1084684"/>
                </a:cubicBezTo>
                <a:cubicBezTo>
                  <a:pt x="909325" y="1072428"/>
                  <a:pt x="881594" y="1038723"/>
                  <a:pt x="853864" y="1035659"/>
                </a:cubicBezTo>
                <a:cubicBezTo>
                  <a:pt x="832295" y="1032595"/>
                  <a:pt x="782996" y="1044851"/>
                  <a:pt x="749103" y="1050979"/>
                </a:cubicBezTo>
                <a:cubicBezTo>
                  <a:pt x="650504" y="1066299"/>
                  <a:pt x="539580" y="1084684"/>
                  <a:pt x="437901" y="1103068"/>
                </a:cubicBezTo>
                <a:cubicBezTo>
                  <a:pt x="283840" y="1127581"/>
                  <a:pt x="151348" y="1145966"/>
                  <a:pt x="34262" y="1176606"/>
                </a:cubicBezTo>
                <a:cubicBezTo>
                  <a:pt x="234541" y="1201119"/>
                  <a:pt x="444063" y="1216439"/>
                  <a:pt x="647423" y="1240952"/>
                </a:cubicBezTo>
                <a:cubicBezTo>
                  <a:pt x="696722" y="1204183"/>
                  <a:pt x="761427" y="1136773"/>
                  <a:pt x="782996" y="1225632"/>
                </a:cubicBezTo>
                <a:cubicBezTo>
                  <a:pt x="789158" y="1247080"/>
                  <a:pt x="767590" y="1253208"/>
                  <a:pt x="755265" y="1271593"/>
                </a:cubicBezTo>
                <a:cubicBezTo>
                  <a:pt x="782996" y="1305298"/>
                  <a:pt x="752184" y="1339003"/>
                  <a:pt x="727534" y="1339003"/>
                </a:cubicBezTo>
                <a:cubicBezTo>
                  <a:pt x="681316" y="1342067"/>
                  <a:pt x="678235" y="1280785"/>
                  <a:pt x="647423" y="1262401"/>
                </a:cubicBezTo>
                <a:cubicBezTo>
                  <a:pt x="444063" y="1244016"/>
                  <a:pt x="225297" y="1219503"/>
                  <a:pt x="28100" y="1204183"/>
                </a:cubicBezTo>
                <a:cubicBezTo>
                  <a:pt x="52749" y="1228696"/>
                  <a:pt x="89724" y="1234824"/>
                  <a:pt x="123617" y="1247080"/>
                </a:cubicBezTo>
                <a:cubicBezTo>
                  <a:pt x="317733" y="1320618"/>
                  <a:pt x="527256" y="1400284"/>
                  <a:pt x="724453" y="1473822"/>
                </a:cubicBezTo>
                <a:cubicBezTo>
                  <a:pt x="758346" y="1486079"/>
                  <a:pt x="801483" y="1507527"/>
                  <a:pt x="823052" y="1507527"/>
                </a:cubicBezTo>
                <a:cubicBezTo>
                  <a:pt x="872351" y="1510591"/>
                  <a:pt x="943219" y="1449309"/>
                  <a:pt x="1011005" y="1473822"/>
                </a:cubicBezTo>
                <a:cubicBezTo>
                  <a:pt x="1069548" y="1495271"/>
                  <a:pt x="1060305" y="1605578"/>
                  <a:pt x="983274" y="1611706"/>
                </a:cubicBezTo>
                <a:cubicBezTo>
                  <a:pt x="1007924" y="1679116"/>
                  <a:pt x="961706" y="1731205"/>
                  <a:pt x="900082" y="1718949"/>
                </a:cubicBezTo>
                <a:cubicBezTo>
                  <a:pt x="835376" y="1703628"/>
                  <a:pt x="835376" y="1599450"/>
                  <a:pt x="813808" y="1541232"/>
                </a:cubicBezTo>
                <a:cubicBezTo>
                  <a:pt x="551905" y="1437053"/>
                  <a:pt x="280759" y="1342067"/>
                  <a:pt x="15775" y="1240952"/>
                </a:cubicBezTo>
                <a:cubicBezTo>
                  <a:pt x="25019" y="1259336"/>
                  <a:pt x="49668" y="1274657"/>
                  <a:pt x="68156" y="1286913"/>
                </a:cubicBezTo>
                <a:cubicBezTo>
                  <a:pt x="163673" y="1357387"/>
                  <a:pt x="271515" y="1430925"/>
                  <a:pt x="370114" y="1501399"/>
                </a:cubicBezTo>
                <a:cubicBezTo>
                  <a:pt x="404007" y="1522848"/>
                  <a:pt x="459469" y="1578001"/>
                  <a:pt x="493362" y="1584129"/>
                </a:cubicBezTo>
                <a:cubicBezTo>
                  <a:pt x="533418" y="1590257"/>
                  <a:pt x="595042" y="1559617"/>
                  <a:pt x="641260" y="1574937"/>
                </a:cubicBezTo>
                <a:cubicBezTo>
                  <a:pt x="699803" y="1596386"/>
                  <a:pt x="690560" y="1703628"/>
                  <a:pt x="607367" y="1697500"/>
                </a:cubicBezTo>
                <a:cubicBezTo>
                  <a:pt x="619692" y="1767974"/>
                  <a:pt x="564230" y="1798615"/>
                  <a:pt x="518012" y="1777166"/>
                </a:cubicBezTo>
                <a:cubicBezTo>
                  <a:pt x="468713" y="1755718"/>
                  <a:pt x="484119" y="1663795"/>
                  <a:pt x="474875" y="1602514"/>
                </a:cubicBezTo>
                <a:cubicBezTo>
                  <a:pt x="396304" y="1545829"/>
                  <a:pt x="317733" y="1489143"/>
                  <a:pt x="238392" y="1433223"/>
                </a:cubicBezTo>
                <a:lnTo>
                  <a:pt x="0" y="1270382"/>
                </a:lnTo>
                <a:lnTo>
                  <a:pt x="0" y="1073676"/>
                </a:lnTo>
                <a:lnTo>
                  <a:pt x="128673" y="965281"/>
                </a:lnTo>
                <a:cubicBezTo>
                  <a:pt x="267471" y="849516"/>
                  <a:pt x="417103" y="727719"/>
                  <a:pt x="558068" y="612816"/>
                </a:cubicBezTo>
                <a:cubicBezTo>
                  <a:pt x="582717" y="591367"/>
                  <a:pt x="628935" y="566854"/>
                  <a:pt x="635098" y="545406"/>
                </a:cubicBezTo>
                <a:cubicBezTo>
                  <a:pt x="647423" y="514765"/>
                  <a:pt x="638179" y="477996"/>
                  <a:pt x="641260" y="450419"/>
                </a:cubicBezTo>
                <a:cubicBezTo>
                  <a:pt x="644341" y="364625"/>
                  <a:pt x="665910" y="254318"/>
                  <a:pt x="770671" y="263511"/>
                </a:cubicBezTo>
                <a:close/>
                <a:moveTo>
                  <a:pt x="70777" y="235050"/>
                </a:moveTo>
                <a:cubicBezTo>
                  <a:pt x="99163" y="243080"/>
                  <a:pt x="122946" y="266788"/>
                  <a:pt x="122946" y="300437"/>
                </a:cubicBezTo>
                <a:cubicBezTo>
                  <a:pt x="122946" y="367355"/>
                  <a:pt x="38363" y="389772"/>
                  <a:pt x="770" y="435317"/>
                </a:cubicBezTo>
                <a:lnTo>
                  <a:pt x="0" y="436584"/>
                </a:lnTo>
                <a:lnTo>
                  <a:pt x="0" y="256689"/>
                </a:lnTo>
                <a:lnTo>
                  <a:pt x="27143" y="235481"/>
                </a:lnTo>
                <a:cubicBezTo>
                  <a:pt x="41240" y="230940"/>
                  <a:pt x="56584" y="231035"/>
                  <a:pt x="70777" y="235050"/>
                </a:cubicBezTo>
                <a:close/>
                <a:moveTo>
                  <a:pt x="200647" y="0"/>
                </a:moveTo>
                <a:cubicBezTo>
                  <a:pt x="206810" y="0"/>
                  <a:pt x="216054" y="0"/>
                  <a:pt x="222216" y="0"/>
                </a:cubicBezTo>
                <a:cubicBezTo>
                  <a:pt x="222216" y="0"/>
                  <a:pt x="222216" y="3064"/>
                  <a:pt x="222216" y="3064"/>
                </a:cubicBezTo>
                <a:cubicBezTo>
                  <a:pt x="268434" y="6128"/>
                  <a:pt x="283840" y="33705"/>
                  <a:pt x="302327" y="64345"/>
                </a:cubicBezTo>
                <a:cubicBezTo>
                  <a:pt x="354708" y="12256"/>
                  <a:pt x="456388" y="55153"/>
                  <a:pt x="440982" y="137883"/>
                </a:cubicBezTo>
                <a:cubicBezTo>
                  <a:pt x="428657" y="214485"/>
                  <a:pt x="296165" y="242062"/>
                  <a:pt x="246866" y="275767"/>
                </a:cubicBezTo>
                <a:cubicBezTo>
                  <a:pt x="172917" y="471868"/>
                  <a:pt x="105130" y="671033"/>
                  <a:pt x="28100" y="870198"/>
                </a:cubicBezTo>
                <a:lnTo>
                  <a:pt x="0" y="937752"/>
                </a:lnTo>
                <a:lnTo>
                  <a:pt x="0" y="849367"/>
                </a:lnTo>
                <a:lnTo>
                  <a:pt x="222216" y="263511"/>
                </a:lnTo>
                <a:cubicBezTo>
                  <a:pt x="179079" y="199165"/>
                  <a:pt x="74318" y="52089"/>
                  <a:pt x="200647" y="0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75" name="Rectangle 7" hidden="1"/>
          <p:cNvSpPr/>
          <p:nvPr/>
        </p:nvSpPr>
        <p:spPr>
          <a:xfrm>
            <a:off x="0" y="0"/>
            <a:ext cx="12188520" cy="180360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cxnSp>
        <p:nvCxnSpPr>
          <p:cNvPr id="676" name="Straight Connector 9"/>
          <p:cNvCxnSpPr/>
          <p:nvPr/>
        </p:nvCxnSpPr>
        <p:spPr>
          <a:xfrm>
            <a:off x="1440" y="1803960"/>
            <a:ext cx="12189240" cy="360"/>
          </a:xfrm>
          <a:prstGeom prst="straightConnector1">
            <a:avLst/>
          </a:prstGeom>
          <a:ln w="50800">
            <a:solidFill>
              <a:srgbClr val="ffffff"/>
            </a:solidFill>
          </a:ln>
        </p:spPr>
      </p:cxnSp>
      <p:sp>
        <p:nvSpPr>
          <p:cNvPr id="677" name="Freeform 26"/>
          <p:cNvSpPr/>
          <p:nvPr/>
        </p:nvSpPr>
        <p:spPr>
          <a:xfrm flipH="1">
            <a:off x="4624920" y="4229280"/>
            <a:ext cx="2026800" cy="2628720"/>
          </a:xfrm>
          <a:custGeom>
            <a:avLst/>
            <a:gdLst>
              <a:gd name="textAreaLeft" fmla="*/ 360 w 2026800"/>
              <a:gd name="textAreaRight" fmla="*/ 2027520 w 2026800"/>
              <a:gd name="textAreaTop" fmla="*/ 0 h 2628720"/>
              <a:gd name="textAreaBottom" fmla="*/ 2629080 h 2628720"/>
            </a:gdLst>
            <a:ahLst/>
            <a:rect l="textAreaLeft" t="textAreaTop" r="textAreaRight" b="textAreaBottom"/>
            <a:pathLst>
              <a:path w="2027074" h="2628900">
                <a:moveTo>
                  <a:pt x="920309" y="0"/>
                </a:moveTo>
                <a:cubicBezTo>
                  <a:pt x="912226" y="0"/>
                  <a:pt x="900100" y="0"/>
                  <a:pt x="887974" y="0"/>
                </a:cubicBezTo>
                <a:cubicBezTo>
                  <a:pt x="851597" y="20242"/>
                  <a:pt x="811178" y="36436"/>
                  <a:pt x="799052" y="72871"/>
                </a:cubicBezTo>
                <a:cubicBezTo>
                  <a:pt x="754592" y="206467"/>
                  <a:pt x="879891" y="291483"/>
                  <a:pt x="883932" y="380547"/>
                </a:cubicBezTo>
                <a:cubicBezTo>
                  <a:pt x="883932" y="412935"/>
                  <a:pt x="851597" y="469612"/>
                  <a:pt x="835429" y="510095"/>
                </a:cubicBezTo>
                <a:cubicBezTo>
                  <a:pt x="718215" y="821819"/>
                  <a:pt x="613126" y="1129495"/>
                  <a:pt x="491869" y="1425025"/>
                </a:cubicBezTo>
                <a:cubicBezTo>
                  <a:pt x="463575" y="1408833"/>
                  <a:pt x="483786" y="1368349"/>
                  <a:pt x="487828" y="1340011"/>
                </a:cubicBezTo>
                <a:cubicBezTo>
                  <a:pt x="503995" y="1174027"/>
                  <a:pt x="520163" y="995899"/>
                  <a:pt x="536329" y="829916"/>
                </a:cubicBezTo>
                <a:cubicBezTo>
                  <a:pt x="544414" y="761094"/>
                  <a:pt x="540372" y="667982"/>
                  <a:pt x="556540" y="623449"/>
                </a:cubicBezTo>
                <a:cubicBezTo>
                  <a:pt x="580791" y="554626"/>
                  <a:pt x="689921" y="546530"/>
                  <a:pt x="693963" y="465563"/>
                </a:cubicBezTo>
                <a:cubicBezTo>
                  <a:pt x="698006" y="384595"/>
                  <a:pt x="584832" y="360305"/>
                  <a:pt x="556540" y="421031"/>
                </a:cubicBezTo>
                <a:cubicBezTo>
                  <a:pt x="532288" y="360305"/>
                  <a:pt x="415074" y="364354"/>
                  <a:pt x="406989" y="449369"/>
                </a:cubicBezTo>
                <a:cubicBezTo>
                  <a:pt x="402948" y="538434"/>
                  <a:pt x="508037" y="550579"/>
                  <a:pt x="524205" y="623449"/>
                </a:cubicBezTo>
                <a:cubicBezTo>
                  <a:pt x="536329" y="667982"/>
                  <a:pt x="512078" y="752997"/>
                  <a:pt x="503995" y="817771"/>
                </a:cubicBezTo>
                <a:cubicBezTo>
                  <a:pt x="483786" y="1024238"/>
                  <a:pt x="467617" y="1234753"/>
                  <a:pt x="451451" y="1416929"/>
                </a:cubicBezTo>
                <a:cubicBezTo>
                  <a:pt x="390822" y="1145688"/>
                  <a:pt x="334235" y="736804"/>
                  <a:pt x="281691" y="433176"/>
                </a:cubicBezTo>
                <a:cubicBezTo>
                  <a:pt x="273608" y="380547"/>
                  <a:pt x="253397" y="323870"/>
                  <a:pt x="257440" y="287434"/>
                </a:cubicBezTo>
                <a:cubicBezTo>
                  <a:pt x="261482" y="234806"/>
                  <a:pt x="318068" y="202419"/>
                  <a:pt x="301900" y="145742"/>
                </a:cubicBezTo>
                <a:cubicBezTo>
                  <a:pt x="289774" y="89064"/>
                  <a:pt x="196811" y="97162"/>
                  <a:pt x="188728" y="149790"/>
                </a:cubicBezTo>
                <a:cubicBezTo>
                  <a:pt x="140225" y="125499"/>
                  <a:pt x="95765" y="157887"/>
                  <a:pt x="91722" y="190274"/>
                </a:cubicBezTo>
                <a:cubicBezTo>
                  <a:pt x="83638" y="259096"/>
                  <a:pt x="168518" y="275289"/>
                  <a:pt x="217020" y="295532"/>
                </a:cubicBezTo>
                <a:cubicBezTo>
                  <a:pt x="273608" y="676078"/>
                  <a:pt x="354445" y="1060673"/>
                  <a:pt x="398906" y="1433123"/>
                </a:cubicBezTo>
                <a:cubicBezTo>
                  <a:pt x="370612" y="1420978"/>
                  <a:pt x="358486" y="1380494"/>
                  <a:pt x="346361" y="1352156"/>
                </a:cubicBezTo>
                <a:cubicBezTo>
                  <a:pt x="273608" y="1194269"/>
                  <a:pt x="204895" y="1036383"/>
                  <a:pt x="136183" y="874448"/>
                </a:cubicBezTo>
                <a:cubicBezTo>
                  <a:pt x="107889" y="817771"/>
                  <a:pt x="51303" y="728706"/>
                  <a:pt x="51303" y="684174"/>
                </a:cubicBezTo>
                <a:cubicBezTo>
                  <a:pt x="47262" y="639643"/>
                  <a:pt x="95765" y="566772"/>
                  <a:pt x="35135" y="558675"/>
                </a:cubicBezTo>
                <a:lnTo>
                  <a:pt x="0" y="566871"/>
                </a:lnTo>
                <a:lnTo>
                  <a:pt x="0" y="707213"/>
                </a:lnTo>
                <a:lnTo>
                  <a:pt x="23009" y="708465"/>
                </a:lnTo>
                <a:cubicBezTo>
                  <a:pt x="136183" y="947319"/>
                  <a:pt x="241272" y="1194269"/>
                  <a:pt x="354445" y="1433123"/>
                </a:cubicBezTo>
                <a:cubicBezTo>
                  <a:pt x="338277" y="1433123"/>
                  <a:pt x="322109" y="1412880"/>
                  <a:pt x="314026" y="1400737"/>
                </a:cubicBezTo>
                <a:lnTo>
                  <a:pt x="0" y="1014531"/>
                </a:lnTo>
                <a:lnTo>
                  <a:pt x="0" y="1082104"/>
                </a:lnTo>
                <a:lnTo>
                  <a:pt x="233188" y="1368349"/>
                </a:lnTo>
                <a:cubicBezTo>
                  <a:pt x="257440" y="1395676"/>
                  <a:pt x="286237" y="1418448"/>
                  <a:pt x="302531" y="1446913"/>
                </a:cubicBezTo>
                <a:lnTo>
                  <a:pt x="308670" y="1463328"/>
                </a:lnTo>
                <a:lnTo>
                  <a:pt x="60420" y="1294977"/>
                </a:lnTo>
                <a:lnTo>
                  <a:pt x="0" y="1251155"/>
                </a:lnTo>
                <a:lnTo>
                  <a:pt x="0" y="1296880"/>
                </a:lnTo>
                <a:lnTo>
                  <a:pt x="19978" y="1311166"/>
                </a:lnTo>
                <a:cubicBezTo>
                  <a:pt x="87680" y="1359240"/>
                  <a:pt x="154370" y="1406808"/>
                  <a:pt x="217020" y="1453365"/>
                </a:cubicBezTo>
                <a:cubicBezTo>
                  <a:pt x="231167" y="1463486"/>
                  <a:pt x="246324" y="1472594"/>
                  <a:pt x="258956" y="1482716"/>
                </a:cubicBezTo>
                <a:lnTo>
                  <a:pt x="283195" y="1514782"/>
                </a:lnTo>
                <a:lnTo>
                  <a:pt x="0" y="1409214"/>
                </a:lnTo>
                <a:lnTo>
                  <a:pt x="0" y="1450869"/>
                </a:lnTo>
                <a:lnTo>
                  <a:pt x="28395" y="1461697"/>
                </a:lnTo>
                <a:cubicBezTo>
                  <a:pt x="116277" y="1496384"/>
                  <a:pt x="202917" y="1532190"/>
                  <a:pt x="287323" y="1569984"/>
                </a:cubicBezTo>
                <a:cubicBezTo>
                  <a:pt x="207881" y="1562027"/>
                  <a:pt x="107588" y="1552081"/>
                  <a:pt x="4314" y="1541638"/>
                </a:cubicBezTo>
                <a:lnTo>
                  <a:pt x="0" y="1541195"/>
                </a:lnTo>
                <a:lnTo>
                  <a:pt x="0" y="1569997"/>
                </a:lnTo>
                <a:lnTo>
                  <a:pt x="150721" y="1583535"/>
                </a:lnTo>
                <a:cubicBezTo>
                  <a:pt x="198695" y="1588135"/>
                  <a:pt x="243630" y="1592860"/>
                  <a:pt x="283350" y="1597833"/>
                </a:cubicBezTo>
                <a:cubicBezTo>
                  <a:pt x="195964" y="1621703"/>
                  <a:pt x="105601" y="1639606"/>
                  <a:pt x="14244" y="1655022"/>
                </a:cubicBezTo>
                <a:lnTo>
                  <a:pt x="0" y="1657211"/>
                </a:lnTo>
                <a:lnTo>
                  <a:pt x="0" y="1699723"/>
                </a:lnTo>
                <a:lnTo>
                  <a:pt x="295267" y="1653530"/>
                </a:lnTo>
                <a:lnTo>
                  <a:pt x="0" y="1793037"/>
                </a:lnTo>
                <a:lnTo>
                  <a:pt x="0" y="1824962"/>
                </a:lnTo>
                <a:lnTo>
                  <a:pt x="299238" y="1689336"/>
                </a:lnTo>
                <a:cubicBezTo>
                  <a:pt x="303211" y="1709228"/>
                  <a:pt x="275406" y="1721163"/>
                  <a:pt x="263491" y="1729119"/>
                </a:cubicBezTo>
                <a:lnTo>
                  <a:pt x="0" y="1946709"/>
                </a:lnTo>
                <a:lnTo>
                  <a:pt x="0" y="1999791"/>
                </a:lnTo>
                <a:lnTo>
                  <a:pt x="338959" y="1725142"/>
                </a:lnTo>
                <a:cubicBezTo>
                  <a:pt x="338959" y="1756969"/>
                  <a:pt x="311155" y="1780839"/>
                  <a:pt x="295267" y="1808688"/>
                </a:cubicBezTo>
                <a:cubicBezTo>
                  <a:pt x="227742" y="1900191"/>
                  <a:pt x="158232" y="1995673"/>
                  <a:pt x="88720" y="2091653"/>
                </a:cubicBezTo>
                <a:lnTo>
                  <a:pt x="0" y="2214479"/>
                </a:lnTo>
                <a:lnTo>
                  <a:pt x="0" y="2267850"/>
                </a:lnTo>
                <a:lnTo>
                  <a:pt x="17224" y="2246312"/>
                </a:lnTo>
                <a:cubicBezTo>
                  <a:pt x="120496" y="2099112"/>
                  <a:pt x="275406" y="1888255"/>
                  <a:pt x="366763" y="1756969"/>
                </a:cubicBezTo>
                <a:cubicBezTo>
                  <a:pt x="311153" y="1928041"/>
                  <a:pt x="246608" y="2099112"/>
                  <a:pt x="180573" y="2271178"/>
                </a:cubicBezTo>
                <a:lnTo>
                  <a:pt x="46386" y="2628900"/>
                </a:lnTo>
                <a:lnTo>
                  <a:pt x="92636" y="2628900"/>
                </a:lnTo>
                <a:lnTo>
                  <a:pt x="244127" y="2216474"/>
                </a:lnTo>
                <a:cubicBezTo>
                  <a:pt x="299239" y="2066290"/>
                  <a:pt x="354847" y="1918094"/>
                  <a:pt x="414428" y="1772882"/>
                </a:cubicBezTo>
                <a:cubicBezTo>
                  <a:pt x="442231" y="1788796"/>
                  <a:pt x="422371" y="1828579"/>
                  <a:pt x="418399" y="1856428"/>
                </a:cubicBezTo>
                <a:cubicBezTo>
                  <a:pt x="402511" y="2019543"/>
                  <a:pt x="386623" y="2194592"/>
                  <a:pt x="370735" y="2357707"/>
                </a:cubicBezTo>
                <a:cubicBezTo>
                  <a:pt x="362791" y="2425340"/>
                  <a:pt x="366763" y="2516843"/>
                  <a:pt x="350875" y="2560606"/>
                </a:cubicBezTo>
                <a:cubicBezTo>
                  <a:pt x="344917" y="2577515"/>
                  <a:pt x="333745" y="2590693"/>
                  <a:pt x="320278" y="2602193"/>
                </a:cubicBezTo>
                <a:lnTo>
                  <a:pt x="282674" y="2628900"/>
                </a:lnTo>
                <a:lnTo>
                  <a:pt x="434855" y="2628900"/>
                </a:lnTo>
                <a:lnTo>
                  <a:pt x="407910" y="2605239"/>
                </a:lnTo>
                <a:cubicBezTo>
                  <a:pt x="396056" y="2592682"/>
                  <a:pt x="386623" y="2578509"/>
                  <a:pt x="382651" y="2560606"/>
                </a:cubicBezTo>
                <a:cubicBezTo>
                  <a:pt x="370735" y="2516843"/>
                  <a:pt x="394567" y="2433297"/>
                  <a:pt x="402511" y="2369643"/>
                </a:cubicBezTo>
                <a:cubicBezTo>
                  <a:pt x="422371" y="2166743"/>
                  <a:pt x="438260" y="1959867"/>
                  <a:pt x="454148" y="1780839"/>
                </a:cubicBezTo>
                <a:cubicBezTo>
                  <a:pt x="498834" y="1980754"/>
                  <a:pt x="541284" y="2256755"/>
                  <a:pt x="581501" y="2508141"/>
                </a:cubicBezTo>
                <a:lnTo>
                  <a:pt x="601033" y="2628900"/>
                </a:lnTo>
                <a:lnTo>
                  <a:pt x="643632" y="2628900"/>
                </a:lnTo>
                <a:lnTo>
                  <a:pt x="639282" y="2601882"/>
                </a:lnTo>
                <a:cubicBezTo>
                  <a:pt x="591431" y="2320659"/>
                  <a:pt x="538553" y="2039436"/>
                  <a:pt x="505785" y="1764925"/>
                </a:cubicBezTo>
                <a:cubicBezTo>
                  <a:pt x="533588" y="1776861"/>
                  <a:pt x="545505" y="1816645"/>
                  <a:pt x="557420" y="1844494"/>
                </a:cubicBezTo>
                <a:cubicBezTo>
                  <a:pt x="628917" y="1999651"/>
                  <a:pt x="696442" y="2154809"/>
                  <a:pt x="763967" y="2313945"/>
                </a:cubicBezTo>
                <a:cubicBezTo>
                  <a:pt x="791770" y="2369643"/>
                  <a:pt x="847380" y="2457167"/>
                  <a:pt x="847380" y="2500930"/>
                </a:cubicBezTo>
                <a:cubicBezTo>
                  <a:pt x="851351" y="2544692"/>
                  <a:pt x="803687" y="2616304"/>
                  <a:pt x="863268" y="2624261"/>
                </a:cubicBezTo>
                <a:cubicBezTo>
                  <a:pt x="899016" y="2628240"/>
                  <a:pt x="906960" y="2612325"/>
                  <a:pt x="914904" y="2580498"/>
                </a:cubicBezTo>
                <a:cubicBezTo>
                  <a:pt x="1038037" y="2596412"/>
                  <a:pt x="958597" y="2465125"/>
                  <a:pt x="875183" y="2477059"/>
                </a:cubicBezTo>
                <a:cubicBezTo>
                  <a:pt x="763967" y="2242334"/>
                  <a:pt x="660693" y="1999651"/>
                  <a:pt x="549476" y="1764925"/>
                </a:cubicBezTo>
                <a:cubicBezTo>
                  <a:pt x="565364" y="1764925"/>
                  <a:pt x="581253" y="1784818"/>
                  <a:pt x="589197" y="1796752"/>
                </a:cubicBezTo>
                <a:cubicBezTo>
                  <a:pt x="811631" y="2063306"/>
                  <a:pt x="1030093" y="2345773"/>
                  <a:pt x="1248555" y="2608347"/>
                </a:cubicBezTo>
                <a:lnTo>
                  <a:pt x="1245866" y="2628900"/>
                </a:lnTo>
                <a:lnTo>
                  <a:pt x="1559852" y="2628900"/>
                </a:lnTo>
                <a:lnTo>
                  <a:pt x="1550430" y="2620282"/>
                </a:lnTo>
                <a:cubicBezTo>
                  <a:pt x="1474961" y="2572541"/>
                  <a:pt x="1375660" y="2608347"/>
                  <a:pt x="1288275" y="2576519"/>
                </a:cubicBezTo>
                <a:cubicBezTo>
                  <a:pt x="1260472" y="2568562"/>
                  <a:pt x="1224723" y="2512865"/>
                  <a:pt x="1196918" y="2477059"/>
                </a:cubicBezTo>
                <a:cubicBezTo>
                  <a:pt x="1018176" y="2258247"/>
                  <a:pt x="843407" y="2039434"/>
                  <a:pt x="668637" y="1828579"/>
                </a:cubicBezTo>
                <a:cubicBezTo>
                  <a:pt x="636861" y="1792774"/>
                  <a:pt x="597141" y="1764925"/>
                  <a:pt x="589197" y="1721163"/>
                </a:cubicBezTo>
                <a:cubicBezTo>
                  <a:pt x="803687" y="1860407"/>
                  <a:pt x="1006261" y="2011586"/>
                  <a:pt x="1212806" y="2162766"/>
                </a:cubicBezTo>
                <a:cubicBezTo>
                  <a:pt x="1228694" y="2238355"/>
                  <a:pt x="1204862" y="2361686"/>
                  <a:pt x="1268416" y="2389534"/>
                </a:cubicBezTo>
                <a:cubicBezTo>
                  <a:pt x="1331968" y="2417383"/>
                  <a:pt x="1403464" y="2377600"/>
                  <a:pt x="1387576" y="2286097"/>
                </a:cubicBezTo>
                <a:cubicBezTo>
                  <a:pt x="1494822" y="2294053"/>
                  <a:pt x="1506737" y="2150831"/>
                  <a:pt x="1431268" y="2122982"/>
                </a:cubicBezTo>
                <a:cubicBezTo>
                  <a:pt x="1371688" y="2103089"/>
                  <a:pt x="1292248" y="2142873"/>
                  <a:pt x="1236638" y="2134916"/>
                </a:cubicBezTo>
                <a:cubicBezTo>
                  <a:pt x="1196918" y="2126960"/>
                  <a:pt x="1121450" y="2055349"/>
                  <a:pt x="1077757" y="2027500"/>
                </a:cubicBezTo>
                <a:cubicBezTo>
                  <a:pt x="946680" y="1932018"/>
                  <a:pt x="807660" y="1836537"/>
                  <a:pt x="684525" y="1745033"/>
                </a:cubicBezTo>
                <a:cubicBezTo>
                  <a:pt x="656722" y="1725142"/>
                  <a:pt x="624945" y="1709228"/>
                  <a:pt x="617001" y="1681379"/>
                </a:cubicBezTo>
                <a:cubicBezTo>
                  <a:pt x="962568" y="1816645"/>
                  <a:pt x="1312107" y="1943954"/>
                  <a:pt x="1657675" y="2079219"/>
                </a:cubicBezTo>
                <a:cubicBezTo>
                  <a:pt x="1685479" y="2158788"/>
                  <a:pt x="1685479" y="2294053"/>
                  <a:pt x="1768892" y="2313945"/>
                </a:cubicBezTo>
                <a:cubicBezTo>
                  <a:pt x="1848332" y="2329858"/>
                  <a:pt x="1907913" y="2258247"/>
                  <a:pt x="1876137" y="2170722"/>
                </a:cubicBezTo>
                <a:cubicBezTo>
                  <a:pt x="1979410" y="2166743"/>
                  <a:pt x="1991325" y="2019543"/>
                  <a:pt x="1911885" y="1987716"/>
                </a:cubicBezTo>
                <a:cubicBezTo>
                  <a:pt x="1828473" y="1955888"/>
                  <a:pt x="1733143" y="2035457"/>
                  <a:pt x="1669591" y="2035457"/>
                </a:cubicBezTo>
                <a:cubicBezTo>
                  <a:pt x="1637814" y="2035457"/>
                  <a:pt x="1586179" y="2007609"/>
                  <a:pt x="1538513" y="1987716"/>
                </a:cubicBezTo>
                <a:cubicBezTo>
                  <a:pt x="1280331" y="1896212"/>
                  <a:pt x="1006261" y="1788796"/>
                  <a:pt x="756023" y="1693315"/>
                </a:cubicBezTo>
                <a:cubicBezTo>
                  <a:pt x="712330" y="1677400"/>
                  <a:pt x="660693" y="1665466"/>
                  <a:pt x="628917" y="1637616"/>
                </a:cubicBezTo>
                <a:cubicBezTo>
                  <a:pt x="887100" y="1653530"/>
                  <a:pt x="1173086" y="1689336"/>
                  <a:pt x="1439212" y="1713206"/>
                </a:cubicBezTo>
                <a:cubicBezTo>
                  <a:pt x="1478932" y="1737076"/>
                  <a:pt x="1482905" y="1816645"/>
                  <a:pt x="1542486" y="1812666"/>
                </a:cubicBezTo>
                <a:cubicBezTo>
                  <a:pt x="1578235" y="1812666"/>
                  <a:pt x="1617955" y="1768903"/>
                  <a:pt x="1582206" y="1725142"/>
                </a:cubicBezTo>
                <a:cubicBezTo>
                  <a:pt x="1594123" y="1701270"/>
                  <a:pt x="1625899" y="1693315"/>
                  <a:pt x="1617955" y="1661487"/>
                </a:cubicBezTo>
                <a:cubicBezTo>
                  <a:pt x="1586179" y="1546113"/>
                  <a:pt x="1502766" y="1633637"/>
                  <a:pt x="1439212" y="1681379"/>
                </a:cubicBezTo>
                <a:cubicBezTo>
                  <a:pt x="1173086" y="1653530"/>
                  <a:pt x="902988" y="1629660"/>
                  <a:pt x="636861" y="1597833"/>
                </a:cubicBezTo>
                <a:cubicBezTo>
                  <a:pt x="791770" y="1558048"/>
                  <a:pt x="966541" y="1534178"/>
                  <a:pt x="1165142" y="1502351"/>
                </a:cubicBezTo>
                <a:cubicBezTo>
                  <a:pt x="1296219" y="1478479"/>
                  <a:pt x="1443185" y="1454609"/>
                  <a:pt x="1570291" y="1434718"/>
                </a:cubicBezTo>
                <a:cubicBezTo>
                  <a:pt x="1613982" y="1426761"/>
                  <a:pt x="1681507" y="1406869"/>
                  <a:pt x="1709311" y="1410848"/>
                </a:cubicBezTo>
                <a:cubicBezTo>
                  <a:pt x="1745060" y="1418804"/>
                  <a:pt x="1780807" y="1462567"/>
                  <a:pt x="1812585" y="1478479"/>
                </a:cubicBezTo>
                <a:cubicBezTo>
                  <a:pt x="1903941" y="1534178"/>
                  <a:pt x="2019130" y="1530200"/>
                  <a:pt x="2027074" y="1418804"/>
                </a:cubicBezTo>
                <a:cubicBezTo>
                  <a:pt x="2027074" y="1414826"/>
                  <a:pt x="2027074" y="1414826"/>
                  <a:pt x="2027074" y="1410848"/>
                </a:cubicBezTo>
                <a:cubicBezTo>
                  <a:pt x="2015157" y="1367085"/>
                  <a:pt x="1995298" y="1331279"/>
                  <a:pt x="1947633" y="1319345"/>
                </a:cubicBezTo>
                <a:cubicBezTo>
                  <a:pt x="2011186" y="1247733"/>
                  <a:pt x="1963522" y="1148273"/>
                  <a:pt x="1892025" y="1144294"/>
                </a:cubicBezTo>
                <a:cubicBezTo>
                  <a:pt x="1756975" y="1128381"/>
                  <a:pt x="1737116" y="1299452"/>
                  <a:pt x="1685479" y="1375042"/>
                </a:cubicBezTo>
                <a:cubicBezTo>
                  <a:pt x="1508723" y="1404881"/>
                  <a:pt x="1332961" y="1434718"/>
                  <a:pt x="1156702" y="1463561"/>
                </a:cubicBezTo>
                <a:lnTo>
                  <a:pt x="922627" y="1499900"/>
                </a:lnTo>
                <a:lnTo>
                  <a:pt x="940609" y="1495245"/>
                </a:lnTo>
                <a:lnTo>
                  <a:pt x="629349" y="1543940"/>
                </a:lnTo>
                <a:lnTo>
                  <a:pt x="644187" y="1536618"/>
                </a:lnTo>
                <a:lnTo>
                  <a:pt x="624147" y="1541270"/>
                </a:lnTo>
                <a:lnTo>
                  <a:pt x="979421" y="1373409"/>
                </a:lnTo>
                <a:cubicBezTo>
                  <a:pt x="1104214" y="1318756"/>
                  <a:pt x="1229513" y="1265116"/>
                  <a:pt x="1348749" y="1206414"/>
                </a:cubicBezTo>
                <a:cubicBezTo>
                  <a:pt x="1417461" y="1246898"/>
                  <a:pt x="1587221" y="1299526"/>
                  <a:pt x="1583180" y="1178076"/>
                </a:cubicBezTo>
                <a:cubicBezTo>
                  <a:pt x="1579138" y="1137592"/>
                  <a:pt x="1554886" y="1121399"/>
                  <a:pt x="1514467" y="1109254"/>
                </a:cubicBezTo>
                <a:cubicBezTo>
                  <a:pt x="1542760" y="1044479"/>
                  <a:pt x="1502341" y="995899"/>
                  <a:pt x="1457881" y="991851"/>
                </a:cubicBezTo>
                <a:cubicBezTo>
                  <a:pt x="1364917" y="983753"/>
                  <a:pt x="1356834" y="1109254"/>
                  <a:pt x="1332583" y="1182123"/>
                </a:cubicBezTo>
                <a:cubicBezTo>
                  <a:pt x="1090069" y="1291430"/>
                  <a:pt x="847555" y="1396688"/>
                  <a:pt x="609083" y="1510042"/>
                </a:cubicBezTo>
                <a:cubicBezTo>
                  <a:pt x="605041" y="1489800"/>
                  <a:pt x="633335" y="1477655"/>
                  <a:pt x="645461" y="1469559"/>
                </a:cubicBezTo>
                <a:cubicBezTo>
                  <a:pt x="912226" y="1250946"/>
                  <a:pt x="1195158" y="1012093"/>
                  <a:pt x="1465964" y="797528"/>
                </a:cubicBezTo>
                <a:cubicBezTo>
                  <a:pt x="1599347" y="817771"/>
                  <a:pt x="1785274" y="829916"/>
                  <a:pt x="1765064" y="684174"/>
                </a:cubicBezTo>
                <a:cubicBezTo>
                  <a:pt x="1756981" y="631546"/>
                  <a:pt x="1708478" y="595111"/>
                  <a:pt x="1643807" y="607256"/>
                </a:cubicBezTo>
                <a:cubicBezTo>
                  <a:pt x="1647849" y="534385"/>
                  <a:pt x="1619557" y="485804"/>
                  <a:pt x="1571054" y="473659"/>
                </a:cubicBezTo>
                <a:cubicBezTo>
                  <a:pt x="1437672" y="449369"/>
                  <a:pt x="1417461" y="619401"/>
                  <a:pt x="1437672" y="752997"/>
                </a:cubicBezTo>
                <a:cubicBezTo>
                  <a:pt x="1154738" y="999947"/>
                  <a:pt x="863723" y="1238800"/>
                  <a:pt x="568665" y="1473606"/>
                </a:cubicBezTo>
                <a:cubicBezTo>
                  <a:pt x="568665" y="1441220"/>
                  <a:pt x="596958" y="1416929"/>
                  <a:pt x="613126" y="1388591"/>
                </a:cubicBezTo>
                <a:cubicBezTo>
                  <a:pt x="750549" y="1202366"/>
                  <a:pt x="896058" y="999947"/>
                  <a:pt x="1033483" y="809674"/>
                </a:cubicBezTo>
                <a:cubicBezTo>
                  <a:pt x="1118361" y="805626"/>
                  <a:pt x="1239618" y="813722"/>
                  <a:pt x="1255786" y="740851"/>
                </a:cubicBezTo>
                <a:cubicBezTo>
                  <a:pt x="1263871" y="688223"/>
                  <a:pt x="1231535" y="639643"/>
                  <a:pt x="1154738" y="647739"/>
                </a:cubicBezTo>
                <a:cubicBezTo>
                  <a:pt x="1158781" y="578917"/>
                  <a:pt x="1090069" y="530336"/>
                  <a:pt x="1033483" y="574869"/>
                </a:cubicBezTo>
                <a:cubicBezTo>
                  <a:pt x="1005189" y="595111"/>
                  <a:pt x="1001148" y="623449"/>
                  <a:pt x="1001148" y="659884"/>
                </a:cubicBezTo>
                <a:cubicBezTo>
                  <a:pt x="1001148" y="692272"/>
                  <a:pt x="1017315" y="736804"/>
                  <a:pt x="1009231" y="777287"/>
                </a:cubicBezTo>
                <a:cubicBezTo>
                  <a:pt x="1005189" y="821819"/>
                  <a:pt x="928394" y="898739"/>
                  <a:pt x="896058" y="943270"/>
                </a:cubicBezTo>
                <a:cubicBezTo>
                  <a:pt x="790969" y="1093060"/>
                  <a:pt x="633335" y="1307624"/>
                  <a:pt x="540372" y="1441220"/>
                </a:cubicBezTo>
                <a:cubicBezTo>
                  <a:pt x="653545" y="1093060"/>
                  <a:pt x="803095" y="744900"/>
                  <a:pt x="928394" y="388644"/>
                </a:cubicBezTo>
                <a:cubicBezTo>
                  <a:pt x="1017315" y="344111"/>
                  <a:pt x="1187074" y="336015"/>
                  <a:pt x="1211326" y="230757"/>
                </a:cubicBezTo>
                <a:cubicBezTo>
                  <a:pt x="1235577" y="117403"/>
                  <a:pt x="1122404" y="48581"/>
                  <a:pt x="1021357" y="105258"/>
                </a:cubicBezTo>
                <a:cubicBezTo>
                  <a:pt x="1017315" y="40485"/>
                  <a:pt x="972854" y="16194"/>
                  <a:pt x="920309" y="0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78" name="Freeform 20"/>
          <p:cNvSpPr/>
          <p:nvPr/>
        </p:nvSpPr>
        <p:spPr>
          <a:xfrm>
            <a:off x="5715360" y="1838160"/>
            <a:ext cx="6474600" cy="5019480"/>
          </a:xfrm>
          <a:custGeom>
            <a:avLst/>
            <a:gdLst>
              <a:gd name="textAreaLeft" fmla="*/ 0 w 6474600"/>
              <a:gd name="textAreaRight" fmla="*/ 6474960 w 6474600"/>
              <a:gd name="textAreaTop" fmla="*/ 0 h 5019480"/>
              <a:gd name="textAreaBottom" fmla="*/ 5019840 h 5019480"/>
            </a:gdLst>
            <a:ahLst/>
            <a:rect l="textAreaLeft" t="textAreaTop" r="textAreaRight" b="textAreaBottom"/>
            <a:pathLst>
              <a:path w="6474908" h="5019902">
                <a:moveTo>
                  <a:pt x="542719" y="0"/>
                </a:moveTo>
                <a:lnTo>
                  <a:pt x="6474908" y="0"/>
                </a:lnTo>
                <a:lnTo>
                  <a:pt x="6474908" y="5019902"/>
                </a:lnTo>
                <a:lnTo>
                  <a:pt x="526551" y="5019902"/>
                </a:lnTo>
                <a:lnTo>
                  <a:pt x="465204" y="4976523"/>
                </a:lnTo>
                <a:cubicBezTo>
                  <a:pt x="406254" y="4930594"/>
                  <a:pt x="348780" y="4877231"/>
                  <a:pt x="292881" y="4816583"/>
                </a:cubicBezTo>
                <a:cubicBezTo>
                  <a:pt x="122821" y="4627549"/>
                  <a:pt x="53538" y="4331396"/>
                  <a:pt x="103926" y="4003738"/>
                </a:cubicBezTo>
                <a:cubicBezTo>
                  <a:pt x="122821" y="3874565"/>
                  <a:pt x="163761" y="3732789"/>
                  <a:pt x="207851" y="3584713"/>
                </a:cubicBezTo>
                <a:cubicBezTo>
                  <a:pt x="346418" y="3118430"/>
                  <a:pt x="425149" y="2775018"/>
                  <a:pt x="166911" y="2611189"/>
                </a:cubicBezTo>
                <a:cubicBezTo>
                  <a:pt x="0" y="2504070"/>
                  <a:pt x="0" y="2504070"/>
                  <a:pt x="0" y="2504070"/>
                </a:cubicBezTo>
                <a:cubicBezTo>
                  <a:pt x="166911" y="2400101"/>
                  <a:pt x="166911" y="2400101"/>
                  <a:pt x="166911" y="2400101"/>
                </a:cubicBezTo>
                <a:cubicBezTo>
                  <a:pt x="425149" y="2236272"/>
                  <a:pt x="346418" y="1892861"/>
                  <a:pt x="207851" y="1426578"/>
                </a:cubicBezTo>
                <a:cubicBezTo>
                  <a:pt x="163761" y="1275351"/>
                  <a:pt x="122821" y="1136726"/>
                  <a:pt x="103926" y="1007553"/>
                </a:cubicBezTo>
                <a:cubicBezTo>
                  <a:pt x="53538" y="679895"/>
                  <a:pt x="122821" y="380591"/>
                  <a:pt x="292881" y="194708"/>
                </a:cubicBezTo>
                <a:cubicBezTo>
                  <a:pt x="355473" y="127365"/>
                  <a:pt x="422050" y="71541"/>
                  <a:pt x="494107" y="26904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79" name="Rectangle 23"/>
          <p:cNvSpPr/>
          <p:nvPr/>
        </p:nvSpPr>
        <p:spPr>
          <a:xfrm>
            <a:off x="0" y="0"/>
            <a:ext cx="12188520" cy="180360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cxnSp>
        <p:nvCxnSpPr>
          <p:cNvPr id="680" name="Straight Connector 24"/>
          <p:cNvCxnSpPr/>
          <p:nvPr/>
        </p:nvCxnSpPr>
        <p:spPr>
          <a:xfrm>
            <a:off x="1440" y="1803960"/>
            <a:ext cx="12189240" cy="360"/>
          </a:xfrm>
          <a:prstGeom prst="straightConnector1">
            <a:avLst/>
          </a:prstGeom>
          <a:ln w="50800">
            <a:solidFill>
              <a:srgbClr val="ffffff"/>
            </a:solidFill>
          </a:ln>
        </p:spPr>
      </p:cxn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Master title style</a:t>
            </a:r>
            <a:endParaRPr b="0" lang="en-US" sz="34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1295280" y="2286000"/>
            <a:ext cx="3840120" cy="38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565a5c"/>
                </a:solidFill>
                <a:latin typeface="Century Gothic"/>
              </a:rPr>
              <a:t>Click to edit Master text styles</a:t>
            </a:r>
            <a:endParaRPr b="0" lang="en-US" sz="16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683" name="Freeform 21"/>
          <p:cNvSpPr/>
          <p:nvPr/>
        </p:nvSpPr>
        <p:spPr>
          <a:xfrm>
            <a:off x="5922720" y="1838160"/>
            <a:ext cx="6267240" cy="5019480"/>
          </a:xfrm>
          <a:custGeom>
            <a:avLst/>
            <a:gdLst>
              <a:gd name="textAreaLeft" fmla="*/ 0 w 6267240"/>
              <a:gd name="textAreaRight" fmla="*/ 6267600 w 6267240"/>
              <a:gd name="textAreaTop" fmla="*/ 0 h 5019480"/>
              <a:gd name="textAreaBottom" fmla="*/ 5019840 h 5019480"/>
            </a:gdLst>
            <a:ahLst/>
            <a:rect l="textAreaLeft" t="textAreaTop" r="textAreaRight" b="textAreaBottom"/>
            <a:pathLst>
              <a:path w="6267574" h="5019902">
                <a:moveTo>
                  <a:pt x="561605" y="0"/>
                </a:moveTo>
                <a:lnTo>
                  <a:pt x="6267574" y="0"/>
                </a:lnTo>
                <a:lnTo>
                  <a:pt x="6267574" y="5019902"/>
                </a:lnTo>
                <a:lnTo>
                  <a:pt x="538499" y="5019902"/>
                </a:lnTo>
                <a:lnTo>
                  <a:pt x="513419" y="5012291"/>
                </a:lnTo>
                <a:cubicBezTo>
                  <a:pt x="-339347" y="4712367"/>
                  <a:pt x="117108" y="3682650"/>
                  <a:pt x="162231" y="3473533"/>
                </a:cubicBezTo>
                <a:cubicBezTo>
                  <a:pt x="213801" y="3234542"/>
                  <a:pt x="387174" y="2828720"/>
                  <a:pt x="40426" y="2514684"/>
                </a:cubicBezTo>
                <a:lnTo>
                  <a:pt x="40426" y="2512230"/>
                </a:lnTo>
                <a:cubicBezTo>
                  <a:pt x="387174" y="2198194"/>
                  <a:pt x="213801" y="1792372"/>
                  <a:pt x="162231" y="1553381"/>
                </a:cubicBezTo>
                <a:cubicBezTo>
                  <a:pt x="117108" y="1344264"/>
                  <a:pt x="-339347" y="314548"/>
                  <a:pt x="513420" y="14623"/>
                </a:cubicBezTo>
                <a:close/>
              </a:path>
            </a:pathLst>
          </a:custGeom>
          <a:solidFill>
            <a:schemeClr val="bg1"/>
          </a:solidFill>
          <a:ln w="508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body"/>
          </p:nvPr>
        </p:nvSpPr>
        <p:spPr>
          <a:xfrm>
            <a:off x="5947200" y="1838160"/>
            <a:ext cx="6241320" cy="501948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90000" rIns="90000" tIns="274320" bIns="45000" anchor="t">
            <a:no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65a5c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565a5c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65a5c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565a5c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65a5c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65a5c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65a5c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65a5c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295280" y="1782360"/>
            <a:ext cx="6822000" cy="164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4000" spc="-1" strike="noStrike">
                <a:solidFill>
                  <a:srgbClr val="565a5c"/>
                </a:solidFill>
                <a:latin typeface="Century Gothic"/>
              </a:rPr>
              <a:t>唯美浪漫红动态</a:t>
            </a:r>
            <a:r>
              <a:rPr b="0" lang="en-US" sz="4000" spc="-1" strike="noStrike">
                <a:solidFill>
                  <a:srgbClr val="565a5c"/>
                </a:solidFill>
                <a:latin typeface="Century Gothic"/>
              </a:rPr>
              <a:t>PPT</a:t>
            </a:r>
            <a:r>
              <a:rPr b="0" lang="zh-CN" sz="4000" spc="-1" strike="noStrike">
                <a:solidFill>
                  <a:srgbClr val="565a5c"/>
                </a:solidFill>
                <a:latin typeface="Century Gothic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1295280" y="3819600"/>
            <a:ext cx="6192360" cy="91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Sub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icture Placeholder 4"/>
          <p:cNvSpPr/>
          <p:nvPr/>
        </p:nvSpPr>
        <p:spPr>
          <a:xfrm>
            <a:off x="8117640" y="-1440"/>
            <a:ext cx="4088160" cy="6859080"/>
          </a:xfrm>
          <a:custGeom>
            <a:avLst/>
            <a:gdLst>
              <a:gd name="textAreaLeft" fmla="*/ 0 w 4088160"/>
              <a:gd name="textAreaRight" fmla="*/ 4088520 w 4088160"/>
              <a:gd name="textAreaTop" fmla="*/ 0 h 6859080"/>
              <a:gd name="textAreaBottom" fmla="*/ 6859440 h 6859080"/>
            </a:gdLst>
            <a:ahLst/>
            <a:rect l="textAreaLeft" t="textAreaTop" r="textAreaRight" b="textAreaBottom"/>
            <a:pathLst>
              <a:path w="4088501" h="6859587">
                <a:moveTo>
                  <a:pt x="381124" y="0"/>
                </a:moveTo>
                <a:lnTo>
                  <a:pt x="4088501" y="0"/>
                </a:lnTo>
                <a:lnTo>
                  <a:pt x="4088501" y="6859587"/>
                </a:lnTo>
                <a:lnTo>
                  <a:pt x="379163" y="6859587"/>
                </a:lnTo>
                <a:lnTo>
                  <a:pt x="303828" y="6798612"/>
                </a:lnTo>
                <a:cubicBezTo>
                  <a:pt x="275352" y="6772887"/>
                  <a:pt x="247395" y="6744849"/>
                  <a:pt x="219963" y="6714340"/>
                </a:cubicBezTo>
                <a:cubicBezTo>
                  <a:pt x="21330" y="6492747"/>
                  <a:pt x="-33134" y="6145906"/>
                  <a:pt x="18126" y="5792641"/>
                </a:cubicBezTo>
                <a:cubicBezTo>
                  <a:pt x="111035" y="5179246"/>
                  <a:pt x="633247" y="3827207"/>
                  <a:pt x="27738" y="3432193"/>
                </a:cubicBezTo>
                <a:cubicBezTo>
                  <a:pt x="633247" y="3037179"/>
                  <a:pt x="111035" y="1681929"/>
                  <a:pt x="18126" y="1068533"/>
                </a:cubicBezTo>
                <a:cubicBezTo>
                  <a:pt x="-33134" y="715269"/>
                  <a:pt x="21330" y="368427"/>
                  <a:pt x="219963" y="146834"/>
                </a:cubicBezTo>
                <a:cubicBezTo>
                  <a:pt x="247395" y="116325"/>
                  <a:pt x="275353" y="88287"/>
                  <a:pt x="303828" y="62562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/>
          </p:nvPr>
        </p:nvSpPr>
        <p:spPr>
          <a:xfrm>
            <a:off x="6095880" y="5599080"/>
            <a:ext cx="4800240" cy="91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32" name="Picture Placeholder 1" descr=""/>
          <p:cNvPicPr/>
          <p:nvPr/>
        </p:nvPicPr>
        <p:blipFill>
          <a:blip r:embed="rId1"/>
          <a:srcRect l="-247791" t="-216880" r="-247791" b="-216880"/>
          <a:stretch/>
        </p:blipFill>
        <p:spPr>
          <a:xfrm>
            <a:off x="5940000" y="1624680"/>
            <a:ext cx="5047200" cy="3608640"/>
          </a:xfrm>
          <a:prstGeom prst="rect">
            <a:avLst/>
          </a:prstGeom>
          <a:ln w="50800">
            <a:solidFill>
              <a:srgbClr val="ffffff"/>
            </a:solidFill>
            <a:miter/>
          </a:ln>
        </p:spPr>
      </p:pic>
      <p:pic>
        <p:nvPicPr>
          <p:cNvPr id="733" name="Picture Placeholder 2" descr=""/>
          <p:cNvPicPr/>
          <p:nvPr/>
        </p:nvPicPr>
        <p:blipFill>
          <a:blip r:embed="rId2"/>
          <a:srcRect l="-145200" t="-327583" r="-145200" b="-327583"/>
          <a:stretch/>
        </p:blipFill>
        <p:spPr>
          <a:xfrm>
            <a:off x="1612440" y="876240"/>
            <a:ext cx="3308040" cy="5105160"/>
          </a:xfrm>
          <a:prstGeom prst="rect">
            <a:avLst/>
          </a:prstGeom>
          <a:ln w="508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71480" y="5452560"/>
            <a:ext cx="3200040" cy="10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Caption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8289000" y="5452560"/>
            <a:ext cx="3200040" cy="10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Caption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495680" y="5974200"/>
            <a:ext cx="320004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565a5c"/>
                </a:solidFill>
                <a:latin typeface="Century Gothic"/>
              </a:rPr>
              <a:t>Caption</a:t>
            </a:r>
            <a:endParaRPr b="0" lang="en-US" sz="1800" spc="-1" strike="noStrike">
              <a:solidFill>
                <a:srgbClr val="565a5c"/>
              </a:solidFill>
              <a:latin typeface="Century Gothic"/>
            </a:endParaRPr>
          </a:p>
        </p:txBody>
      </p:sp>
      <p:pic>
        <p:nvPicPr>
          <p:cNvPr id="738" name="Picture Placeholder 1" descr=""/>
          <p:cNvPicPr/>
          <p:nvPr/>
        </p:nvPicPr>
        <p:blipFill>
          <a:blip r:embed="rId1"/>
          <a:srcRect l="-152506" t="-131523" r="-152506" b="-131523"/>
          <a:stretch/>
        </p:blipFill>
        <p:spPr>
          <a:xfrm>
            <a:off x="667080" y="2714040"/>
            <a:ext cx="3432240" cy="2454120"/>
          </a:xfrm>
          <a:prstGeom prst="rect">
            <a:avLst/>
          </a:prstGeom>
          <a:ln w="50800">
            <a:solidFill>
              <a:srgbClr val="ffffff"/>
            </a:solidFill>
            <a:miter/>
          </a:ln>
        </p:spPr>
      </p:pic>
      <p:pic>
        <p:nvPicPr>
          <p:cNvPr id="739" name="Picture Placeholder 2" descr=""/>
          <p:cNvPicPr/>
          <p:nvPr/>
        </p:nvPicPr>
        <p:blipFill>
          <a:blip r:embed="rId2"/>
          <a:srcRect l="-93203" t="-204047" r="-93203" b="-204047"/>
          <a:stretch/>
        </p:blipFill>
        <p:spPr>
          <a:xfrm>
            <a:off x="4901400" y="2251440"/>
            <a:ext cx="2427120" cy="3435120"/>
          </a:xfrm>
          <a:prstGeom prst="rect">
            <a:avLst/>
          </a:prstGeom>
          <a:ln w="50800">
            <a:solidFill>
              <a:srgbClr val="ffffff"/>
            </a:solidFill>
            <a:miter/>
          </a:ln>
        </p:spPr>
      </p:pic>
      <p:pic>
        <p:nvPicPr>
          <p:cNvPr id="740" name="Picture Placeholder 3" descr=""/>
          <p:cNvPicPr/>
          <p:nvPr/>
        </p:nvPicPr>
        <p:blipFill>
          <a:blip r:embed="rId3"/>
          <a:srcRect l="-152506" t="-131523" r="-152506" b="-131523"/>
          <a:stretch/>
        </p:blipFill>
        <p:spPr>
          <a:xfrm>
            <a:off x="8172720" y="2714040"/>
            <a:ext cx="3432240" cy="2454120"/>
          </a:xfrm>
          <a:prstGeom prst="rect">
            <a:avLst/>
          </a:prstGeom>
          <a:ln w="508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Placeholder 1" descr=""/>
          <p:cNvPicPr/>
          <p:nvPr/>
        </p:nvPicPr>
        <p:blipFill>
          <a:blip r:embed="rId1"/>
          <a:srcRect l="-143331" t="-312833" r="-143331" b="-312833"/>
          <a:stretch/>
        </p:blipFill>
        <p:spPr>
          <a:xfrm>
            <a:off x="624240" y="975960"/>
            <a:ext cx="3276360" cy="4906080"/>
          </a:xfrm>
          <a:prstGeom prst="rect">
            <a:avLst/>
          </a:prstGeom>
          <a:ln w="50800">
            <a:solidFill>
              <a:srgbClr val="ffffff"/>
            </a:solidFill>
            <a:miter/>
          </a:ln>
        </p:spPr>
      </p:pic>
      <p:pic>
        <p:nvPicPr>
          <p:cNvPr id="742" name="Picture Placeholder 2" descr=""/>
          <p:cNvPicPr/>
          <p:nvPr/>
        </p:nvPicPr>
        <p:blipFill>
          <a:blip r:embed="rId2"/>
          <a:srcRect l="-144265" t="-124121" r="-144265" b="-124121"/>
          <a:stretch/>
        </p:blipFill>
        <p:spPr>
          <a:xfrm>
            <a:off x="4469760" y="880200"/>
            <a:ext cx="3292560" cy="2354040"/>
          </a:xfrm>
          <a:prstGeom prst="rect">
            <a:avLst/>
          </a:prstGeom>
          <a:ln w="50800">
            <a:solidFill>
              <a:srgbClr val="ffffff"/>
            </a:solidFill>
            <a:miter/>
          </a:ln>
        </p:spPr>
      </p:pic>
      <p:pic>
        <p:nvPicPr>
          <p:cNvPr id="743" name="Picture Placeholder 3" descr=""/>
          <p:cNvPicPr/>
          <p:nvPr/>
        </p:nvPicPr>
        <p:blipFill>
          <a:blip r:embed="rId3"/>
          <a:srcRect l="-144265" t="-124121" r="-144265" b="-124121"/>
          <a:stretch/>
        </p:blipFill>
        <p:spPr>
          <a:xfrm>
            <a:off x="4469760" y="3674160"/>
            <a:ext cx="3292560" cy="2354040"/>
          </a:xfrm>
          <a:prstGeom prst="rect">
            <a:avLst/>
          </a:prstGeom>
          <a:ln w="50800">
            <a:solidFill>
              <a:srgbClr val="ffffff"/>
            </a:solidFill>
            <a:miter/>
          </a:ln>
        </p:spPr>
      </p:pic>
      <p:pic>
        <p:nvPicPr>
          <p:cNvPr id="744" name="Picture Placeholder 4" descr=""/>
          <p:cNvPicPr/>
          <p:nvPr/>
        </p:nvPicPr>
        <p:blipFill>
          <a:blip r:embed="rId4"/>
          <a:srcRect l="-143331" t="-312833" r="-143331" b="-312833"/>
          <a:stretch/>
        </p:blipFill>
        <p:spPr>
          <a:xfrm>
            <a:off x="8307720" y="975960"/>
            <a:ext cx="3276360" cy="4906080"/>
          </a:xfrm>
          <a:prstGeom prst="rect">
            <a:avLst/>
          </a:prstGeom>
          <a:ln w="50800">
            <a:solidFill>
              <a:srgbClr val="ffffff"/>
            </a:solidFill>
            <a:miter/>
          </a:ln>
        </p:spPr>
      </p:pic>
      <p:sp>
        <p:nvSpPr>
          <p:cNvPr id="74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9600840" cy="129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3840120" cy="38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565a5c"/>
              </a:solidFill>
              <a:latin typeface="Century Gothic"/>
            </a:endParaRPr>
          </a:p>
        </p:txBody>
      </p:sp>
      <p:pic>
        <p:nvPicPr>
          <p:cNvPr id="748" name="Picture Placeholder 6" descr=""/>
          <p:cNvPicPr/>
          <p:nvPr/>
        </p:nvPicPr>
        <p:blipFill>
          <a:blip r:embed="rId1"/>
          <a:srcRect l="-318267" t="-321246" r="-318267" b="-321246"/>
          <a:stretch/>
        </p:blipFill>
        <p:spPr>
          <a:xfrm>
            <a:off x="5947200" y="1838160"/>
            <a:ext cx="624132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Heart Shapes 16x9">
  <a:themeElements>
    <a:clrScheme name="HeartShapes">
      <a:dk1>
        <a:srgbClr val="565a5c"/>
      </a:dk1>
      <a:lt1>
        <a:srgbClr val="ffffff"/>
      </a:lt1>
      <a:dk2>
        <a:srgbClr val="f03f46"/>
      </a:dk2>
      <a:lt2>
        <a:srgbClr val="f9d9da"/>
      </a:lt2>
      <a:accent1>
        <a:srgbClr val="f3b2b4"/>
      </a:accent1>
      <a:accent2>
        <a:srgbClr val="f03f46"/>
      </a:accent2>
      <a:accent3>
        <a:srgbClr val="f46d72"/>
      </a:accent3>
      <a:accent4>
        <a:srgbClr val="da93f7"/>
      </a:accent4>
      <a:accent5>
        <a:srgbClr val="ac60a7"/>
      </a:accent5>
      <a:accent6>
        <a:srgbClr val="c54777"/>
      </a:accent6>
      <a:hlink>
        <a:srgbClr val="f03f46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Heart Shapes 16x9">
  <a:themeElements>
    <a:clrScheme name="HeartShapes">
      <a:dk1>
        <a:srgbClr val="565a5c"/>
      </a:dk1>
      <a:lt1>
        <a:srgbClr val="ffffff"/>
      </a:lt1>
      <a:dk2>
        <a:srgbClr val="f03f46"/>
      </a:dk2>
      <a:lt2>
        <a:srgbClr val="f9d9da"/>
      </a:lt2>
      <a:accent1>
        <a:srgbClr val="f3b2b4"/>
      </a:accent1>
      <a:accent2>
        <a:srgbClr val="f03f46"/>
      </a:accent2>
      <a:accent3>
        <a:srgbClr val="f46d72"/>
      </a:accent3>
      <a:accent4>
        <a:srgbClr val="da93f7"/>
      </a:accent4>
      <a:accent5>
        <a:srgbClr val="ac60a7"/>
      </a:accent5>
      <a:accent6>
        <a:srgbClr val="c54777"/>
      </a:accent6>
      <a:hlink>
        <a:srgbClr val="f03f46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Heart Shapes 16x9">
  <a:themeElements>
    <a:clrScheme name="HeartShapes">
      <a:dk1>
        <a:srgbClr val="565a5c"/>
      </a:dk1>
      <a:lt1>
        <a:srgbClr val="ffffff"/>
      </a:lt1>
      <a:dk2>
        <a:srgbClr val="f03f46"/>
      </a:dk2>
      <a:lt2>
        <a:srgbClr val="f9d9da"/>
      </a:lt2>
      <a:accent1>
        <a:srgbClr val="f3b2b4"/>
      </a:accent1>
      <a:accent2>
        <a:srgbClr val="f03f46"/>
      </a:accent2>
      <a:accent3>
        <a:srgbClr val="f46d72"/>
      </a:accent3>
      <a:accent4>
        <a:srgbClr val="da93f7"/>
      </a:accent4>
      <a:accent5>
        <a:srgbClr val="ac60a7"/>
      </a:accent5>
      <a:accent6>
        <a:srgbClr val="c54777"/>
      </a:accent6>
      <a:hlink>
        <a:srgbClr val="f03f46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Heart Shapes 16x9">
  <a:themeElements>
    <a:clrScheme name="HeartShapes">
      <a:dk1>
        <a:srgbClr val="565a5c"/>
      </a:dk1>
      <a:lt1>
        <a:srgbClr val="ffffff"/>
      </a:lt1>
      <a:dk2>
        <a:srgbClr val="f03f46"/>
      </a:dk2>
      <a:lt2>
        <a:srgbClr val="f9d9da"/>
      </a:lt2>
      <a:accent1>
        <a:srgbClr val="f3b2b4"/>
      </a:accent1>
      <a:accent2>
        <a:srgbClr val="f03f46"/>
      </a:accent2>
      <a:accent3>
        <a:srgbClr val="f46d72"/>
      </a:accent3>
      <a:accent4>
        <a:srgbClr val="da93f7"/>
      </a:accent4>
      <a:accent5>
        <a:srgbClr val="ac60a7"/>
      </a:accent5>
      <a:accent6>
        <a:srgbClr val="c54777"/>
      </a:accent6>
      <a:hlink>
        <a:srgbClr val="f03f46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Heart Shapes 16x9">
  <a:themeElements>
    <a:clrScheme name="HeartShapes">
      <a:dk1>
        <a:srgbClr val="565a5c"/>
      </a:dk1>
      <a:lt1>
        <a:srgbClr val="ffffff"/>
      </a:lt1>
      <a:dk2>
        <a:srgbClr val="f03f46"/>
      </a:dk2>
      <a:lt2>
        <a:srgbClr val="f9d9da"/>
      </a:lt2>
      <a:accent1>
        <a:srgbClr val="f3b2b4"/>
      </a:accent1>
      <a:accent2>
        <a:srgbClr val="f03f46"/>
      </a:accent2>
      <a:accent3>
        <a:srgbClr val="f46d72"/>
      </a:accent3>
      <a:accent4>
        <a:srgbClr val="da93f7"/>
      </a:accent4>
      <a:accent5>
        <a:srgbClr val="ac60a7"/>
      </a:accent5>
      <a:accent6>
        <a:srgbClr val="c54777"/>
      </a:accent6>
      <a:hlink>
        <a:srgbClr val="f03f46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f03f46"/>
      </a:dk2>
      <a:lt2>
        <a:srgbClr val="f9d9da"/>
      </a:lt2>
      <a:accent1>
        <a:srgbClr val="f3b2b4"/>
      </a:accent1>
      <a:accent2>
        <a:srgbClr val="f03f46"/>
      </a:accent2>
      <a:accent3>
        <a:srgbClr val="f46d72"/>
      </a:accent3>
      <a:accent4>
        <a:srgbClr val="da93f7"/>
      </a:accent4>
      <a:accent5>
        <a:srgbClr val="ac60a7"/>
      </a:accent5>
      <a:accent6>
        <a:srgbClr val="c54777"/>
      </a:accent6>
      <a:hlink>
        <a:srgbClr val="f03f46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/>
</p:properties>
</file>

<file path=customXml/item3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7C1D5F340F01F94FA2FD29A5E6DC872E" ma:contentTypeVersion="0" ma:contentTypeDescription="Create a new document." ma:contentTypeScope="" ma:versionID="141aba3b8f8cb7f331be6546df69db50">
  <xsd:schema xmlns:xsd="http://www.w3.org/2001/XMLSchema" xmlns:xs="http://www.w3.org/2001/XMLSchema" xmlns:p="http://schemas.microsoft.com/office/2006/metadata/properties" targetNamespace="http://schemas.microsoft.com/office/2006/metadata/properties" ma:root="true" ma:fieldsID="f8e4ef66d87525153bd8907774ed28f8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Props1.xml><?xml version="1.0" encoding="utf-8"?>
<ds:datastoreItem xmlns:ds="http://schemas.openxmlformats.org/officeDocument/2006/customXml" ds:itemID="{E7BDFF65-7D4B-49E3-9B1F-4B3B9509C3F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9CFE93CC-2A71-437A-AF3E-8FAC68A5E311}">
  <ds:schemaRefs>
    <ds:schemaRef ds:uri="http://schemas.microsoft.com/office/2006/metadata/properties"/>
    <ds:schemaRef ds:uri="http://schemas.microsoft.com/office/infopath/2007/PartnerControls"/>
  </ds:schemaRefs>
</ds:datastoreItem>
</file>

<file path=customXml/itemProps3.xml><?xml version="1.0" encoding="utf-8"?>
<ds:datastoreItem xmlns:ds="http://schemas.openxmlformats.org/officeDocument/2006/customXml" ds:itemID="{B1A9C6AD-12D7-4B7D-9ABA-FA2E73A34B56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  <ds:schemaRef ds:uri="http://schemas.microsoft.com/office/infopath/2007/PartnerControl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54</Words>
  <Paragraphs>1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9T12:55:55Z</dcterms:created>
  <dc:creator/>
  <dc:description/>
  <dc:language>en-US</dc:language>
  <cp:lastModifiedBy/>
  <dcterms:modified xsi:type="dcterms:W3CDTF">2016-02-19T03:57:4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ampaignTags">
    <vt:lpwstr/>
  </property>
  <property fmtid="{D5CDD505-2E9C-101B-9397-08002B2CF9AE}" pid="3" name="ContentTypeId">
    <vt:lpwstr>0x0101007C1D5F340F01F94FA2FD29A5E6DC872E</vt:lpwstr>
  </property>
  <property fmtid="{D5CDD505-2E9C-101B-9397-08002B2CF9AE}" pid="4" name="FeatureTags">
    <vt:lpwstr/>
  </property>
  <property fmtid="{D5CDD505-2E9C-101B-9397-08002B2CF9AE}" pid="5" name="InternalTags">
    <vt:lpwstr/>
  </property>
  <property fmtid="{D5CDD505-2E9C-101B-9397-08002B2CF9AE}" pid="6" name="LocalizationTags">
    <vt:lpwstr/>
  </property>
  <property fmtid="{D5CDD505-2E9C-101B-9397-08002B2CF9AE}" pid="7" name="Notes">
    <vt:r8>2</vt:r8>
  </property>
  <property fmtid="{D5CDD505-2E9C-101B-9397-08002B2CF9AE}" pid="8" name="PresentationFormat">
    <vt:lpwstr>宽屏</vt:lpwstr>
  </property>
  <property fmtid="{D5CDD505-2E9C-101B-9397-08002B2CF9AE}" pid="9" name="ScenarioTags">
    <vt:lpwstr/>
  </property>
  <property fmtid="{D5CDD505-2E9C-101B-9397-08002B2CF9AE}" pid="10" name="Slides">
    <vt:r8>5</vt:r8>
  </property>
</Properties>
</file>