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CD920-DF94-435F-8655-0B83A6077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C2CB6-38FF-4DC3-AE72-8C517736A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1105D-F303-4314-959C-332D113F4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6FDC0-B52D-43BD-9415-35EABD53A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511DE-CE09-4BAA-8DCE-651F229A6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BB602-01F7-4111-86C3-629EB71BB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B8CD8-B17F-4C3F-9A08-C14C69D7B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A04B5-52ED-46F8-8210-18E52849B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4ED65-F43F-4099-8BF3-6FEC4A5AA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E082A-53CB-48CD-AC37-578B80358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106B9-A902-47E5-B31C-DFCD5B5CF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F58AD-83D3-4AC3-824C-23902DC01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E52C4-0F58-4322-AB45-4A4E842AB87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矩形 3"/>
          <p:cNvSpPr/>
          <p:nvPr/>
        </p:nvSpPr>
        <p:spPr>
          <a:xfrm rot="20245200">
            <a:off x="-1310760" y="1126800"/>
            <a:ext cx="11079000" cy="278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直接连接符 5"/>
          <p:cNvSpPr/>
          <p:nvPr/>
        </p:nvSpPr>
        <p:spPr>
          <a:xfrm flipV="1">
            <a:off x="-71280" y="-25560"/>
            <a:ext cx="6227640" cy="2662560"/>
          </a:xfrm>
          <a:prstGeom prst="line">
            <a:avLst/>
          </a:prstGeom>
          <a:ln w="792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直接连接符 6"/>
          <p:cNvSpPr/>
          <p:nvPr/>
        </p:nvSpPr>
        <p:spPr>
          <a:xfrm flipV="1">
            <a:off x="-106200" y="2133720"/>
            <a:ext cx="9358200" cy="4038480"/>
          </a:xfrm>
          <a:prstGeom prst="line">
            <a:avLst/>
          </a:prstGeom>
          <a:ln w="792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Box 10"/>
          <p:cNvSpPr/>
          <p:nvPr/>
        </p:nvSpPr>
        <p:spPr>
          <a:xfrm rot="20244600">
            <a:off x="1823400" y="2788920"/>
            <a:ext cx="3756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7f7f7f"/>
                </a:solidFill>
                <a:latin typeface="Broadway"/>
              </a:rPr>
              <a:t>现代橙色商务</a:t>
            </a:r>
            <a:r>
              <a:rPr b="0" lang="en-US" sz="4000" spc="-1" strike="noStrike">
                <a:solidFill>
                  <a:srgbClr val="7f7f7f"/>
                </a:solidFill>
                <a:latin typeface="Broadway"/>
              </a:rPr>
              <a:t>PPT</a:t>
            </a:r>
            <a:r>
              <a:rPr b="0" lang="zh-CN" sz="4000" spc="-1" strike="noStrike">
                <a:solidFill>
                  <a:srgbClr val="7f7f7f"/>
                </a:solidFill>
                <a:latin typeface="Broadway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Box 11"/>
          <p:cNvSpPr/>
          <p:nvPr/>
        </p:nvSpPr>
        <p:spPr>
          <a:xfrm rot="20206800">
            <a:off x="1829520" y="4137120"/>
            <a:ext cx="650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roadway"/>
              </a:rPr>
              <a:t>PowerPoint  Template  downlo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TextBox 12"/>
          <p:cNvSpPr/>
          <p:nvPr/>
        </p:nvSpPr>
        <p:spPr>
          <a:xfrm rot="3865200">
            <a:off x="7548840" y="499320"/>
            <a:ext cx="1755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0f0"/>
                </a:solidFill>
                <a:latin typeface="Broadway"/>
              </a:rPr>
              <a:t>LOG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任意多边形 1"/>
          <p:cNvSpPr/>
          <p:nvPr/>
        </p:nvSpPr>
        <p:spPr>
          <a:xfrm>
            <a:off x="0" y="-25560"/>
            <a:ext cx="9153360" cy="5505480"/>
          </a:xfrm>
          <a:custGeom>
            <a:avLst/>
            <a:gdLst/>
            <a:ahLst/>
            <a:rect l="l" t="t" r="r" b="b"/>
            <a:pathLst>
              <a:path w="9153053" h="5305331">
                <a:moveTo>
                  <a:pt x="0" y="5305331"/>
                </a:moveTo>
                <a:lnTo>
                  <a:pt x="0" y="0"/>
                </a:lnTo>
                <a:lnTo>
                  <a:pt x="9153053" y="0"/>
                </a:lnTo>
                <a:lnTo>
                  <a:pt x="9153053" y="4037846"/>
                </a:lnTo>
                <a:lnTo>
                  <a:pt x="0" y="530533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2"/>
          <p:cNvSpPr/>
          <p:nvPr/>
        </p:nvSpPr>
        <p:spPr>
          <a:xfrm rot="21152400">
            <a:off x="363240" y="217080"/>
            <a:ext cx="3082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Broadway"/>
              </a:rPr>
              <a:t>Add topic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4"/>
          <p:cNvSpPr/>
          <p:nvPr/>
        </p:nvSpPr>
        <p:spPr>
          <a:xfrm>
            <a:off x="6584400" y="969840"/>
            <a:ext cx="167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tex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直接连接符 5"/>
          <p:cNvSpPr/>
          <p:nvPr/>
        </p:nvSpPr>
        <p:spPr>
          <a:xfrm flipV="1">
            <a:off x="-9360" y="4292280"/>
            <a:ext cx="9153360" cy="1305000"/>
          </a:xfrm>
          <a:prstGeom prst="line">
            <a:avLst/>
          </a:prstGeom>
          <a:ln w="792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直接连接符 7"/>
          <p:cNvSpPr/>
          <p:nvPr/>
        </p:nvSpPr>
        <p:spPr>
          <a:xfrm flipV="1">
            <a:off x="-34920" y="36000"/>
            <a:ext cx="9153360" cy="1305000"/>
          </a:xfrm>
          <a:prstGeom prst="line">
            <a:avLst/>
          </a:prstGeom>
          <a:ln w="7920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8"/>
          <p:cNvSpPr/>
          <p:nvPr/>
        </p:nvSpPr>
        <p:spPr>
          <a:xfrm>
            <a:off x="6577920" y="1700280"/>
            <a:ext cx="167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tex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Box 9"/>
          <p:cNvSpPr/>
          <p:nvPr/>
        </p:nvSpPr>
        <p:spPr>
          <a:xfrm>
            <a:off x="6558840" y="2421000"/>
            <a:ext cx="167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tex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Box 10"/>
          <p:cNvSpPr/>
          <p:nvPr/>
        </p:nvSpPr>
        <p:spPr>
          <a:xfrm rot="21076800">
            <a:off x="6428880" y="4562640"/>
            <a:ext cx="252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tex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Box 11"/>
          <p:cNvSpPr/>
          <p:nvPr/>
        </p:nvSpPr>
        <p:spPr>
          <a:xfrm rot="21152400">
            <a:off x="502200" y="4721400"/>
            <a:ext cx="188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Broadway"/>
              </a:rPr>
              <a:t>Add tex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3T13:42:03Z</dcterms:created>
  <dc:creator>PPT STORE</dc:creator>
  <dc:description>
  ☆ 感谢您使用PPT STORE网站平台上发布的免费原创作品，作品仅供个人或公司使用，为了您和PPT STORE以及原创作者的利益，请勿复制、传播、销售，否则将承担法律责任！
  ☆ 其他网站或个人若进行转载发布PPT STORE平台的免费原创作品，请保留此文件和注释的完整性，并注明来源于 PPT STORE 官方网站：http://www.pptstore.net和PPT STORE 官方微博：http://weibo.com/pptstore
     未按照要求转发或发布，PPT STORE平台将和原创作者共同维权，索取赔偿！
  ☆ 感谢您支持原创设计事业，支持设计版权产品 ！
  ☆ 本模板由PPT STORE官方网站 原创设计
  ☆ PPT STORE 官方网站：http://www.pptstore.net
  ☆ PPT STORE 官方微博：http://weibo.com/pptstore</dc:description>
  <cp:keywords>欧美 现代 橙色 商务 PPT 模板</cp:keywords>
  <dc:language>en-US</dc:language>
  <cp:lastModifiedBy>a</cp:lastModifiedBy>
  <cp:lastPrinted>1899-12-30T00:00:00Z</cp:lastPrinted>
  <dcterms:modified xsi:type="dcterms:W3CDTF">2015-07-25T01:49:55Z</dcterms:modified>
  <cp:revision>11</cp:revision>
  <dc:subject>欧美橙色</dc:subject>
  <dc:title>欧美现代橙色商务PPT模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877</vt:lpwstr>
  </property>
</Properties>
</file>