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CB1-755C-4762-8935-CAF8F9EF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E05-4B2D-45A8-9BF5-C93DC4F9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B6F-0F1F-42EB-9919-7ACB1C0E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BF9-151A-4CBC-AA89-41144D99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529F-07E6-468C-BE65-59D15E48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1711-0261-4192-9CCA-9A5F45BB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DB6C-4ACD-45C1-AFCD-26391C29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9DA1-D06A-4119-91BD-F94A2238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416B-AB42-4476-88A1-1F0A3548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EB22-174F-4D59-9024-3DDE0CB5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1BEF-94EE-4376-BE70-72CC77F7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B5B-4261-4289-8697-6F1D6CC0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6E2C-B501-4907-8488-ECEA89ED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6B12-C100-4C38-AE3C-5EBF96F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8232-BD1F-4703-83B4-030764E9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1F39-0ACC-4AA3-BB1D-FF2FEB25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987A-378B-4C70-B474-AB57FB20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635-4FB9-465B-A336-08B4E632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F30-5B39-45F0-A33C-A8076F48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C2D-F47C-4D98-8F65-5A9632B0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04A-D11D-412E-98AD-DCED66E2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37F-0EC4-47AC-AF05-DD6CB2AA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5A2-41E6-41C8-98EB-A4E3F207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C0C-A9DD-4CF6-AE57-9EC9C817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7CCCF4-6004-4E77-93D9-0C1EAB825E6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B895F9-9F5C-4A00-ACA8-1BB14F51B3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9640" y="1989000"/>
            <a:ext cx="88545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雪花树叶线条图案咖啡色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pread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pread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pread</Template>
  <TotalTime>1</TotalTime>
  <Application>LibreOffice/7.4.7.2$Linux_X86_64 LibreOffice_project/40$Build-2</Application>
  <AppVersion>15.0000</AppVersion>
  <Words>14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0:30:55Z</dcterms:created>
  <dc:creator>admin</dc:creator>
  <dc:description/>
  <dc:language>en-US</dc:language>
  <cp:lastModifiedBy>王玉清</cp:lastModifiedBy>
  <dcterms:modified xsi:type="dcterms:W3CDTF">2016-02-24T03:38:00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